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jpeg" ContentType="image/jpeg"/>
  <Override PartName="/ppt/media/image12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audio1.wav" ContentType="audio/x-wav"/>
  <Override PartName="/ppt/media/image29.png" ContentType="image/png"/>
  <Override PartName="/ppt/media/image21.jpeg" ContentType="image/jpeg"/>
  <Override PartName="/ppt/media/image1.jpeg" ContentType="image/jpeg"/>
  <Override PartName="/ppt/media/image10.png" ContentType="image/png"/>
  <Override PartName="/ppt/media/image13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19.png" ContentType="image/png"/>
  <Override PartName="/ppt/media/image2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F3C9F4-BC32-4FBC-9AFE-3A8FF6BD9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2.xml"/><Relationship Id="rId24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726B4E-F4F3-4E7D-A0E6-CDBE21B7760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19FEB6-4AB7-49FE-9413-0D30E15254F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622-332C-420C-A8BD-2ED963DC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22C4-6E66-4382-AD88-471381AE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C7B-4B65-4709-9E81-BDA4C2D5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3B9-D252-41B3-BF65-15F2DEBC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592F-5369-43AB-9B20-90960151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F6B3-364C-4AB3-A036-FED6B2BD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3048-5B91-41C1-A4DB-135DF36B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DCAA-F4DD-4912-B1F5-6BA92BB4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4F9A-4D22-41FC-8439-95634972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00760" y="142920"/>
            <a:ext cx="314280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32D4-50BF-4E45-8252-C9597CD9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2720-44FC-4111-94D5-9E4FA69E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694-F3C9-4E1E-8B63-E33EE06B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2229-C201-42AD-876F-F171A5F4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63F2-2AAD-4E4B-9210-AB2408E0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BBCC-D91F-4216-9ACD-77A1664F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9120-D988-4BA6-89F2-76AF0D22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FE4B-7F24-4106-8E0A-E2068A6E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46153-2159-45A0-B36E-B0AD9A81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8C75F-49F7-427C-84EC-9B2965B4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3E12-3FFE-4AC3-A3CC-248D28AA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5896E-8BF9-4788-8F00-4F5E46EA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831FE-82DB-4D82-8E5C-A3398ECA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B50-F338-4221-992C-85B8A233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000760" y="142920"/>
            <a:ext cx="314280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94FB8-E802-4C47-8B1A-BE97ECF3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7B4ED-06E8-4ECE-8CC1-85DC2F6A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77407-FBF1-4BC4-87D4-9A7F8040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505E3-FF6B-4319-B9B5-49F1B243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36090-75B9-4412-949E-79BF54A3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E77EA-BBA3-4ABE-A380-D12306F6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79201-B26E-44BC-A584-13538509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78004-D7B5-4689-AC1C-F692AFB5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47DC2-1DDC-4827-8B43-DEF3704F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06616-DC9C-4BC5-8144-53F65185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EC1-AD39-466E-92E9-A712DE55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0073D-FEF8-493E-A9B8-264E4E85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5B1E8-84C8-4849-94BA-B23D847A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00760" y="142920"/>
            <a:ext cx="314280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027B5-7B0C-451A-A5D1-0546CEC7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15ED5-AEA2-4C4C-A179-27F787A3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DF8EF-A8C7-4C67-A2BE-089881A1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28F19-16A2-4DA1-9B65-8D3CDD58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E1EBA-83AB-4C82-90D4-31750BC2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AFDE3-7706-4E9E-BA05-529EC245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34F3A-5EE5-4CFC-BB85-0C616483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18FFB-5284-459B-9F8E-DC11AA06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334-D545-495A-BE3C-2A9571AC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CD2B4-956B-43F6-87A3-40E206BA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C6C57-D9B6-43A2-B17C-960B15EF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47876-339A-4C00-9FDF-7A9E9780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F0335-31E2-4EC1-AC47-BAF9ABA0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00760" y="142920"/>
            <a:ext cx="314280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9762E-7343-4214-933A-F3ED16DB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68127-77B5-4DF7-BA36-45BD1F12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FC1FC-FD48-4D4F-B54F-ECBEC9FE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44AAC-B78E-40E1-84EE-D87327E1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58D4D-15E3-48D1-9790-0E75ABB0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54A94-4E60-4B83-9EF9-8A460129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760" y="142920"/>
            <a:ext cx="314280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7246-6160-48DD-8941-B13687AE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CA308-2E50-4E10-B902-F333E40B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BD6E3-8919-428C-94DA-BACCAD58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B08F6-74D9-466C-9940-02333F31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F8934-8507-4570-9FD1-D98BD0C3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49BF6-A11F-4E58-9C1C-05ABC17C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651E6-5C97-46CD-82FF-C29225EC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000760" y="142920"/>
            <a:ext cx="314280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B5294-BC4D-42A3-A5F7-4E806774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7DEB1-7603-4CCA-B269-F48F457E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B5182-D7F7-4904-8EB3-7ED8BA7D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13255-5A1E-4D81-96C3-10887326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D296-FA7F-42CC-82F9-17054578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0CC38-18A7-4A4B-9789-B5D928C3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8A773-CCBF-44AA-AC12-742854A6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660D9-03B7-40A4-B221-ECEA9715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7BD6-FC41-49DE-83E5-99B5DDB1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760" y="-232200"/>
            <a:ext cx="31428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3570-B84C-41AB-BC19-33F21AF3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Administrator\桌面\ppt\666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Line 36"/>
          <p:cNvSpPr/>
          <p:nvPr/>
        </p:nvSpPr>
        <p:spPr>
          <a:xfrm>
            <a:off x="-7920" y="790560"/>
            <a:ext cx="9180360" cy="360"/>
          </a:xfrm>
          <a:prstGeom prst="line">
            <a:avLst/>
          </a:prstGeom>
          <a:ln w="152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" name="Line 36"/>
          <p:cNvSpPr/>
          <p:nvPr/>
        </p:nvSpPr>
        <p:spPr>
          <a:xfrm>
            <a:off x="55440" y="6438600"/>
            <a:ext cx="8999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00760" y="142920"/>
            <a:ext cx="3142800" cy="499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C48DA9-403E-4446-A12D-0CBA0178BC5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Administrator\桌面\ppt\666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Line 36"/>
          <p:cNvSpPr/>
          <p:nvPr/>
        </p:nvSpPr>
        <p:spPr>
          <a:xfrm>
            <a:off x="-7920" y="790560"/>
            <a:ext cx="9180360" cy="360"/>
          </a:xfrm>
          <a:prstGeom prst="line">
            <a:avLst/>
          </a:prstGeom>
          <a:ln w="152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Line 36"/>
          <p:cNvSpPr/>
          <p:nvPr/>
        </p:nvSpPr>
        <p:spPr>
          <a:xfrm>
            <a:off x="55440" y="6438600"/>
            <a:ext cx="8999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952DB4-3874-46F7-A00F-D928F902E18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Administrator\桌面\ppt\666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Line 36"/>
          <p:cNvSpPr/>
          <p:nvPr/>
        </p:nvSpPr>
        <p:spPr>
          <a:xfrm>
            <a:off x="-7920" y="790560"/>
            <a:ext cx="9180360" cy="360"/>
          </a:xfrm>
          <a:prstGeom prst="line">
            <a:avLst/>
          </a:prstGeom>
          <a:ln w="152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0" name="Line 36"/>
          <p:cNvSpPr/>
          <p:nvPr/>
        </p:nvSpPr>
        <p:spPr>
          <a:xfrm>
            <a:off x="55440" y="6438600"/>
            <a:ext cx="8999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760" y="142920"/>
            <a:ext cx="3142800" cy="499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788D79-4F2C-4B56-A6FB-8D5FB36268A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Documents and Settings\Administrator\桌面\ppt\666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3" name="Line 36"/>
          <p:cNvSpPr/>
          <p:nvPr/>
        </p:nvSpPr>
        <p:spPr>
          <a:xfrm>
            <a:off x="-7920" y="790560"/>
            <a:ext cx="9180360" cy="360"/>
          </a:xfrm>
          <a:prstGeom prst="line">
            <a:avLst/>
          </a:prstGeom>
          <a:ln w="152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4" name="Line 36"/>
          <p:cNvSpPr/>
          <p:nvPr/>
        </p:nvSpPr>
        <p:spPr>
          <a:xfrm>
            <a:off x="55440" y="6438600"/>
            <a:ext cx="8999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457200" y="142920"/>
            <a:ext cx="8229240" cy="5982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CDA0E0-E170-4BA7-851F-59DB6D0F1D3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Documents and Settings\Administrator\桌面\ppt\666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7" name="Line 36"/>
          <p:cNvSpPr/>
          <p:nvPr/>
        </p:nvSpPr>
        <p:spPr>
          <a:xfrm>
            <a:off x="-7920" y="790560"/>
            <a:ext cx="9180360" cy="360"/>
          </a:xfrm>
          <a:prstGeom prst="line">
            <a:avLst/>
          </a:prstGeom>
          <a:ln w="152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55440" y="6438600"/>
            <a:ext cx="8999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00760" y="142920"/>
            <a:ext cx="3142800" cy="499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B168A9-08F9-43C0-AF1E-C2759EAFCCF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Administrator\桌面\ppt\666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21" name="Line 36"/>
          <p:cNvSpPr/>
          <p:nvPr/>
        </p:nvSpPr>
        <p:spPr>
          <a:xfrm>
            <a:off x="-7920" y="790560"/>
            <a:ext cx="9180360" cy="360"/>
          </a:xfrm>
          <a:prstGeom prst="line">
            <a:avLst/>
          </a:prstGeom>
          <a:ln w="152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2" name="Line 36"/>
          <p:cNvSpPr/>
          <p:nvPr/>
        </p:nvSpPr>
        <p:spPr>
          <a:xfrm>
            <a:off x="55440" y="6438600"/>
            <a:ext cx="8999640" cy="360"/>
          </a:xfrm>
          <a:prstGeom prst="line">
            <a:avLst/>
          </a:prstGeom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760" y="142920"/>
            <a:ext cx="3142800" cy="499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D505EE-7BF3-4F2A-8988-3815CCD3DE3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file:///tmp/in/&#34588;&#34562;&#37319;&#34588;.f4v" TargetMode="External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6"/>
          <p:cNvSpPr/>
          <p:nvPr/>
        </p:nvSpPr>
        <p:spPr>
          <a:xfrm>
            <a:off x="0" y="206064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成什么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2760840" y="530064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audio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noFill/>
          </a:ln>
          <a:effectLst>
            <a:outerShdw dist="50760" dir="5400000" blurRad="50760" rotWithShape="0">
              <a:srgbClr val="948a54"/>
            </a:outerShdw>
          </a:effectLst>
        </p:spPr>
        <p:txBody>
          <a:bodyPr numCol="1" spcCol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字词乐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7"/>
          <p:cNvSpPr/>
          <p:nvPr/>
        </p:nvSpPr>
        <p:spPr>
          <a:xfrm>
            <a:off x="1785960" y="2786040"/>
            <a:ext cx="107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ī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"/>
          <p:cNvSpPr/>
          <p:nvPr/>
        </p:nvSpPr>
        <p:spPr>
          <a:xfrm>
            <a:off x="3429000" y="3571920"/>
            <a:ext cx="571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义： 劳苦，艰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"/>
          <p:cNvSpPr/>
          <p:nvPr/>
        </p:nvSpPr>
        <p:spPr>
          <a:xfrm>
            <a:off x="3429000" y="4714920"/>
            <a:ext cx="550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辛苦    辛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571760" y="3714840"/>
            <a:ext cx="1272960" cy="1285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noFill/>
          </a:ln>
          <a:effectLst>
            <a:outerShdw dist="50760" dir="5400000" blurRad="50760" rotWithShape="0">
              <a:srgbClr val="948a54"/>
            </a:outerShdw>
          </a:effectLst>
        </p:spPr>
        <p:txBody>
          <a:bodyPr numCol="1" spcCol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字词乐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矩形 7"/>
          <p:cNvSpPr/>
          <p:nvPr/>
        </p:nvSpPr>
        <p:spPr>
          <a:xfrm>
            <a:off x="1643040" y="2857680"/>
            <a:ext cx="107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á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3276720" y="3357720"/>
            <a:ext cx="417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义：疲劳，辛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"/>
          <p:cNvSpPr/>
          <p:nvPr/>
        </p:nvSpPr>
        <p:spPr>
          <a:xfrm>
            <a:off x="3276720" y="4643280"/>
            <a:ext cx="550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劳动     劳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1357200" y="3714840"/>
            <a:ext cx="1455480" cy="14284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noFill/>
          </a:ln>
          <a:effectLst>
            <a:outerShdw dist="50760" dir="5400000" blurRad="50760" rotWithShape="0">
              <a:srgbClr val="948a54"/>
            </a:outerShdw>
          </a:effectLst>
        </p:spPr>
        <p:txBody>
          <a:bodyPr numCol="1" spcCol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字词乐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7"/>
          <p:cNvSpPr/>
          <p:nvPr/>
        </p:nvSpPr>
        <p:spPr>
          <a:xfrm>
            <a:off x="1785960" y="2786040"/>
            <a:ext cx="107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ǎ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"/>
          <p:cNvSpPr/>
          <p:nvPr/>
        </p:nvSpPr>
        <p:spPr>
          <a:xfrm>
            <a:off x="3429000" y="3571920"/>
            <a:ext cx="571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义：用脚登在上面，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"/>
          <p:cNvSpPr/>
          <p:nvPr/>
        </p:nvSpPr>
        <p:spPr>
          <a:xfrm>
            <a:off x="3500280" y="4572000"/>
            <a:ext cx="550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踩水    踩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1428840" y="3714840"/>
            <a:ext cx="1344240" cy="1356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noFill/>
          </a:ln>
          <a:effectLst>
            <a:outerShdw dist="50760" dir="5400000" blurRad="50760" rotWithShape="0">
              <a:srgbClr val="948a54"/>
            </a:outerShdw>
          </a:effectLst>
        </p:spPr>
        <p:txBody>
          <a:bodyPr numCol="1" spcCol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字词乐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矩形 7"/>
          <p:cNvSpPr/>
          <p:nvPr/>
        </p:nvSpPr>
        <p:spPr>
          <a:xfrm>
            <a:off x="1785960" y="2786040"/>
            <a:ext cx="107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ì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"/>
          <p:cNvSpPr/>
          <p:nvPr/>
        </p:nvSpPr>
        <p:spPr>
          <a:xfrm>
            <a:off x="3143160" y="3143160"/>
            <a:ext cx="571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义：向前或向上移动、发  展，与“退”相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"/>
          <p:cNvSpPr/>
          <p:nvPr/>
        </p:nvSpPr>
        <p:spPr>
          <a:xfrm>
            <a:off x="3132000" y="4654440"/>
            <a:ext cx="550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进退     前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1428840" y="3714840"/>
            <a:ext cx="1323720" cy="1285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noFill/>
          </a:ln>
          <a:effectLst>
            <a:outerShdw dist="50760" dir="5400000" blurRad="50760" rotWithShape="0">
              <a:srgbClr val="948a54"/>
            </a:outerShdw>
          </a:effectLst>
        </p:spPr>
        <p:txBody>
          <a:bodyPr numCol="1" spcCol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字词乐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936720" y="20718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近义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1"/>
          <p:cNvSpPr/>
          <p:nvPr/>
        </p:nvSpPr>
        <p:spPr>
          <a:xfrm>
            <a:off x="1403280" y="2857680"/>
            <a:ext cx="249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神奇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2"/>
          <p:cNvSpPr/>
          <p:nvPr/>
        </p:nvSpPr>
        <p:spPr>
          <a:xfrm>
            <a:off x="5072040" y="2786040"/>
            <a:ext cx="249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辛苦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3"/>
          <p:cNvSpPr/>
          <p:nvPr/>
        </p:nvSpPr>
        <p:spPr>
          <a:xfrm>
            <a:off x="1357200" y="3857760"/>
            <a:ext cx="249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快活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4"/>
          <p:cNvSpPr/>
          <p:nvPr/>
        </p:nvSpPr>
        <p:spPr>
          <a:xfrm>
            <a:off x="5072040" y="3857760"/>
            <a:ext cx="249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喜欢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5"/>
          <p:cNvSpPr/>
          <p:nvPr/>
        </p:nvSpPr>
        <p:spPr>
          <a:xfrm>
            <a:off x="2843280" y="2928960"/>
            <a:ext cx="1428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奇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6"/>
          <p:cNvSpPr/>
          <p:nvPr/>
        </p:nvSpPr>
        <p:spPr>
          <a:xfrm>
            <a:off x="6572160" y="2786040"/>
            <a:ext cx="1428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辛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7"/>
          <p:cNvSpPr/>
          <p:nvPr/>
        </p:nvSpPr>
        <p:spPr>
          <a:xfrm>
            <a:off x="2857680" y="3929040"/>
            <a:ext cx="1428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快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8"/>
          <p:cNvSpPr/>
          <p:nvPr/>
        </p:nvSpPr>
        <p:spPr>
          <a:xfrm>
            <a:off x="6643800" y="3857760"/>
            <a:ext cx="1428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喜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9"/>
          <p:cNvSpPr/>
          <p:nvPr/>
        </p:nvSpPr>
        <p:spPr>
          <a:xfrm>
            <a:off x="1008000" y="46432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反义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0"/>
          <p:cNvSpPr/>
          <p:nvPr/>
        </p:nvSpPr>
        <p:spPr>
          <a:xfrm>
            <a:off x="1357200" y="5357880"/>
            <a:ext cx="249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劳碌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1"/>
          <p:cNvSpPr/>
          <p:nvPr/>
        </p:nvSpPr>
        <p:spPr>
          <a:xfrm>
            <a:off x="5143680" y="5286240"/>
            <a:ext cx="249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安全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2"/>
          <p:cNvSpPr/>
          <p:nvPr/>
        </p:nvSpPr>
        <p:spPr>
          <a:xfrm>
            <a:off x="2771640" y="5373720"/>
            <a:ext cx="1428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清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3"/>
          <p:cNvSpPr/>
          <p:nvPr/>
        </p:nvSpPr>
        <p:spPr>
          <a:xfrm>
            <a:off x="6643800" y="5300640"/>
            <a:ext cx="1428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危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noFill/>
          </a:ln>
          <a:effectLst>
            <a:outerShdw dist="50760" dir="5400000" blurRad="50760" rotWithShape="0">
              <a:srgbClr val="948a54"/>
            </a:outerShdw>
          </a:effectLst>
        </p:spPr>
        <p:txBody>
          <a:bodyPr numCol="1" spcCol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字词乐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9"/>
          <p:cNvSpPr/>
          <p:nvPr/>
        </p:nvSpPr>
        <p:spPr>
          <a:xfrm>
            <a:off x="3357720" y="1857240"/>
            <a:ext cx="1999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词语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8"/>
          <p:cNvSpPr/>
          <p:nvPr/>
        </p:nvSpPr>
        <p:spPr>
          <a:xfrm>
            <a:off x="3266640" y="250020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神奇：非常奇妙，不可思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3266640" y="335772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想来想去：本文指反复思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4297320" y="428616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劳碌：劳累，由于过度劳累而感到疲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2030760" y="514368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恶心：要呕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642960" y="2857680"/>
            <a:ext cx="7071840" cy="270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你们一定看过《西游记》吧！西游记里的孙悟空可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变，一会儿变成蚊子，一会儿变成大山，如果你们也有这样的本事，你们想变成什么呢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解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4"/>
          <p:cNvSpPr/>
          <p:nvPr/>
        </p:nvSpPr>
        <p:spPr>
          <a:xfrm>
            <a:off x="1384200" y="192888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趣导入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357120" y="2143080"/>
            <a:ext cx="8229240" cy="19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想借用一下您神奇的瓶子。”小老鼠说，“我不想做老鼠了，做老鼠一点儿也不快活，大家都不喜我。”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解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内容占位符 2"/>
          <p:cNvSpPr/>
          <p:nvPr/>
        </p:nvSpPr>
        <p:spPr>
          <a:xfrm>
            <a:off x="642960" y="4286160"/>
            <a:ext cx="60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内容占位符 2"/>
          <p:cNvSpPr/>
          <p:nvPr/>
        </p:nvSpPr>
        <p:spPr>
          <a:xfrm>
            <a:off x="214200" y="4214880"/>
            <a:ext cx="5500440" cy="85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老鼠为什么借魔瓶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内容占位符 2"/>
          <p:cNvSpPr/>
          <p:nvPr/>
        </p:nvSpPr>
        <p:spPr>
          <a:xfrm>
            <a:off x="785880" y="5214960"/>
            <a:ext cx="81068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做老鼠一点儿也不快活，大家都不喜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解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内容占位符 2"/>
          <p:cNvSpPr/>
          <p:nvPr/>
        </p:nvSpPr>
        <p:spPr>
          <a:xfrm>
            <a:off x="642960" y="4286160"/>
            <a:ext cx="60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内容占位符 2"/>
          <p:cNvSpPr/>
          <p:nvPr/>
        </p:nvSpPr>
        <p:spPr>
          <a:xfrm>
            <a:off x="357120" y="1857240"/>
            <a:ext cx="822924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一只蝴蝶吧！蝴蝶倒是很漂亮 ，但是蝴蝶都活不长久。还是不变成蝴蝶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内容占位符 2"/>
          <p:cNvSpPr/>
          <p:nvPr/>
        </p:nvSpPr>
        <p:spPr>
          <a:xfrm>
            <a:off x="285840" y="3571920"/>
            <a:ext cx="39286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老鼠为什么想变成蝴蝶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4" descr="4256453_101947032510_2"/>
          <p:cNvPicPr/>
          <p:nvPr/>
        </p:nvPicPr>
        <p:blipFill>
          <a:blip r:embed="rId1"/>
          <a:stretch/>
        </p:blipFill>
        <p:spPr>
          <a:xfrm>
            <a:off x="5000760" y="3857760"/>
            <a:ext cx="3571560" cy="14997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"/>
          <p:cNvSpPr/>
          <p:nvPr/>
        </p:nvSpPr>
        <p:spPr>
          <a:xfrm>
            <a:off x="6000840" y="3286080"/>
            <a:ext cx="171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漂  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5429160" y="5429160"/>
            <a:ext cx="243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活不长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13"/>
          <p:cNvSpPr/>
          <p:nvPr/>
        </p:nvSpPr>
        <p:spPr>
          <a:xfrm>
            <a:off x="1595880" y="4797360"/>
            <a:ext cx="1356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又为什么打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个念头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497440" cy="1302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要想活得长久，最好变成乌龟。可是，乌龟走路太慢，也不能变成乌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534960" y="3246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214200" y="3143160"/>
            <a:ext cx="4357440" cy="12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老鼠又想变成什么？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500800" y="2571840"/>
            <a:ext cx="235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活得长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5456160" y="5429160"/>
            <a:ext cx="2571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走路太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乌龟"/>
          <p:cNvPicPr/>
          <p:nvPr/>
        </p:nvPicPr>
        <p:blipFill>
          <a:blip r:embed="rId1"/>
          <a:stretch/>
        </p:blipFill>
        <p:spPr>
          <a:xfrm>
            <a:off x="4857840" y="3357720"/>
            <a:ext cx="3285720" cy="1999800"/>
          </a:xfrm>
          <a:prstGeom prst="rect">
            <a:avLst/>
          </a:prstGeom>
          <a:ln w="0">
            <a:noFill/>
          </a:ln>
        </p:spPr>
      </p:pic>
      <p:sp>
        <p:nvSpPr>
          <p:cNvPr id="386" name="矩形 10"/>
          <p:cNvSpPr/>
          <p:nvPr/>
        </p:nvSpPr>
        <p:spPr>
          <a:xfrm>
            <a:off x="1685880" y="4572000"/>
            <a:ext cx="141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为什么念头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打消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noFill/>
          </a:ln>
          <a:effectLst>
            <a:outerShdw dist="50760" dir="5400000" blurRad="50760" rotWithShape="0">
              <a:srgbClr val="948a54"/>
            </a:outerShdw>
          </a:effectLst>
        </p:spPr>
        <p:txBody>
          <a:bodyPr numCol="1" spcCol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资料宝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0" y="5734080"/>
            <a:ext cx="9143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endParaRPr b="1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826920" y="1989000"/>
            <a:ext cx="7632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4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4211640" y="4073400"/>
            <a:ext cx="4032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6" name="矩形 7"/>
          <p:cNvSpPr/>
          <p:nvPr/>
        </p:nvSpPr>
        <p:spPr>
          <a:xfrm>
            <a:off x="1214280" y="2060640"/>
            <a:ext cx="6714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蝴蝶的寿命长短不一，长的可以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月，最短的只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天，热带地区的蝴蝶寿命较短，一般只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乌龟是现存古老的爬行动物。特征为身上长有非常坚固的甲壳，受袭击时龟可以把头、尾及四肢缩回龟壳内（除海龟和鳄龟）。中国各地几乎均有乌龟分布。乌龟的自然寿命相对于其他动物一般较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214200" y="1571760"/>
            <a:ext cx="8929440" cy="2076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要想走路快，得变成蜜蜂。但是蜜蜂一天到晚飞来飞去，这里那里采花蜜，太辛苦，太劳碌，太累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857160" y="3429000"/>
            <a:ext cx="7929360" cy="2928600"/>
            <a:chOff x="857160" y="3429000"/>
            <a:chExt cx="7929360" cy="2928600"/>
          </a:xfrm>
        </p:grpSpPr>
        <p:pic>
          <p:nvPicPr>
            <p:cNvPr id="389" name="Picture 2" descr="2002122200614"/>
            <p:cNvPicPr/>
            <p:nvPr/>
          </p:nvPicPr>
          <p:blipFill>
            <a:blip r:embed="rId1"/>
            <a:stretch/>
          </p:blipFill>
          <p:spPr>
            <a:xfrm>
              <a:off x="857160" y="3429000"/>
              <a:ext cx="7929360" cy="2928600"/>
            </a:xfrm>
            <a:prstGeom prst="rect">
              <a:avLst/>
            </a:prstGeom>
            <a:ln w="38100">
              <a:solidFill>
                <a:srgbClr val="000000"/>
              </a:solidFill>
              <a:miter/>
            </a:ln>
          </p:spPr>
        </p:pic>
        <p:sp>
          <p:nvSpPr>
            <p:cNvPr id="390" name="Text Box 3"/>
            <p:cNvSpPr/>
            <p:nvPr/>
          </p:nvSpPr>
          <p:spPr>
            <a:xfrm>
              <a:off x="5572080" y="3500280"/>
              <a:ext cx="314280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</a:pPr>
              <a:r>
                <a:rPr b="1" lang="en-US" sz="4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    </a:t>
              </a:r>
              <a:r>
                <a:rPr b="1" lang="zh-CN" sz="2800" spc="-1" strike="noStrike">
                  <a:solidFill>
                    <a:srgbClr val="ffff00"/>
                  </a:solidFill>
                  <a:latin typeface="Arial"/>
                  <a:ea typeface="宋体"/>
                </a:rPr>
                <a:t>蜜蜂是勤劳的昆虫。为了酿造五百克蜜，一只蜜蜂通常要飞行十几万公里，相当于绕地球三四圈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11"/>
          <p:cNvPicPr/>
          <p:nvPr/>
        </p:nvPicPr>
        <p:blipFill>
          <a:blip r:embed="rId1"/>
          <a:stretch/>
        </p:blipFill>
        <p:spPr>
          <a:xfrm>
            <a:off x="4643280" y="2500200"/>
            <a:ext cx="3809520" cy="23490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5429160" y="1714680"/>
            <a:ext cx="1571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走路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>
            <a:hlinkClick r:id="rId2"/>
          </p:cNvPr>
          <p:cNvSpPr/>
          <p:nvPr/>
        </p:nvSpPr>
        <p:spPr>
          <a:xfrm>
            <a:off x="4000680" y="5000760"/>
            <a:ext cx="5143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太辛苦   太劳碌   太累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214200" y="1428840"/>
            <a:ext cx="378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时小老鼠为什么又想变成蜜蜂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285840" y="2857680"/>
            <a:ext cx="378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个“太”字 说明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357120" y="4143240"/>
            <a:ext cx="321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老鼠放弃了想当蜜蜂的想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28760" y="1500120"/>
            <a:ext cx="8429400" cy="1428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还是变蚂蚁吧！蚂蚁                     。哦，不行，蚂蚁会                     的呀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5286240" y="1486080"/>
            <a:ext cx="1928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爬得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3714840" y="2060640"/>
            <a:ext cx="172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被人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组合 10"/>
          <p:cNvGrpSpPr/>
          <p:nvPr/>
        </p:nvGrpSpPr>
        <p:grpSpPr>
          <a:xfrm>
            <a:off x="3000240" y="2857680"/>
            <a:ext cx="2928600" cy="3428640"/>
            <a:chOff x="3000240" y="2857680"/>
            <a:chExt cx="2928600" cy="3428640"/>
          </a:xfrm>
        </p:grpSpPr>
        <p:pic>
          <p:nvPicPr>
            <p:cNvPr id="401" name="Picture 3" descr="人"/>
            <p:cNvPicPr/>
            <p:nvPr/>
          </p:nvPicPr>
          <p:blipFill>
            <a:blip r:embed="rId1"/>
            <a:stretch/>
          </p:blipFill>
          <p:spPr>
            <a:xfrm>
              <a:off x="3000240" y="2857680"/>
              <a:ext cx="2928600" cy="19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2" descr="蚂蚁"/>
            <p:cNvPicPr/>
            <p:nvPr/>
          </p:nvPicPr>
          <p:blipFill>
            <a:blip r:embed="rId2"/>
            <a:stretch/>
          </p:blipFill>
          <p:spPr>
            <a:xfrm>
              <a:off x="3000240" y="4714920"/>
              <a:ext cx="2928600" cy="157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285840" y="1214280"/>
            <a:ext cx="5285880" cy="2660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变成鸟儿吧。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可是鸟儿吃虫子，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4572000" y="4365720"/>
            <a:ext cx="2428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点恶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3286080" y="1643040"/>
            <a:ext cx="485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鸟儿整天玩玩，唱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6" descr=""/>
          <p:cNvPicPr/>
          <p:nvPr/>
        </p:nvPicPr>
        <p:blipFill>
          <a:blip r:embed="rId1"/>
          <a:stretch/>
        </p:blipFill>
        <p:spPr>
          <a:xfrm>
            <a:off x="1928880" y="2214720"/>
            <a:ext cx="335736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402" dur="1" fill="hold"/>
                                        <p:tgtEl>
                                          <p:spTgt spid="406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304920" y="1052640"/>
            <a:ext cx="8659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成一头大象倒是                  。可是，那怎么走进现在的家呢？我喜欢现在的家，又舒服又安全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5143680" y="1484280"/>
            <a:ext cx="235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挺不错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7" descr=""/>
          <p:cNvPicPr/>
          <p:nvPr/>
        </p:nvPicPr>
        <p:blipFill>
          <a:blip r:embed="rId1"/>
          <a:stretch/>
        </p:blipFill>
        <p:spPr>
          <a:xfrm>
            <a:off x="3643200" y="3357720"/>
            <a:ext cx="471456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421" dur="1" fill="hold"/>
                                        <p:tgtEl>
                                          <p:spTgt spid="409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蚂蚁_副本"/>
          <p:cNvPicPr/>
          <p:nvPr/>
        </p:nvPicPr>
        <p:blipFill>
          <a:blip r:embed="rId1"/>
          <a:stretch/>
        </p:blipFill>
        <p:spPr>
          <a:xfrm>
            <a:off x="2643120" y="4357800"/>
            <a:ext cx="1239480" cy="1723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乌龟_副本_副本"/>
          <p:cNvPicPr/>
          <p:nvPr/>
        </p:nvPicPr>
        <p:blipFill>
          <a:blip r:embed="rId2"/>
          <a:stretch/>
        </p:blipFill>
        <p:spPr>
          <a:xfrm>
            <a:off x="6786720" y="928800"/>
            <a:ext cx="2041200" cy="1126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蜜蜂_副本"/>
          <p:cNvPicPr/>
          <p:nvPr/>
        </p:nvPicPr>
        <p:blipFill>
          <a:blip r:embed="rId3"/>
          <a:stretch/>
        </p:blipFill>
        <p:spPr>
          <a:xfrm>
            <a:off x="642960" y="4429080"/>
            <a:ext cx="2042640" cy="21110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蝴蝶_副本"/>
          <p:cNvPicPr/>
          <p:nvPr/>
        </p:nvPicPr>
        <p:blipFill>
          <a:blip r:embed="rId4"/>
          <a:stretch/>
        </p:blipFill>
        <p:spPr>
          <a:xfrm>
            <a:off x="142920" y="1000080"/>
            <a:ext cx="1714320" cy="1240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6" descr=""/>
          <p:cNvPicPr/>
          <p:nvPr/>
        </p:nvPicPr>
        <p:blipFill>
          <a:blip r:embed="rId5"/>
          <a:stretch/>
        </p:blipFill>
        <p:spPr>
          <a:xfrm>
            <a:off x="4500720" y="4429080"/>
            <a:ext cx="1856880" cy="11934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7" descr=""/>
          <p:cNvPicPr/>
          <p:nvPr/>
        </p:nvPicPr>
        <p:blipFill>
          <a:blip r:embed="rId6"/>
          <a:stretch/>
        </p:blipFill>
        <p:spPr>
          <a:xfrm>
            <a:off x="6786720" y="4286160"/>
            <a:ext cx="2161800" cy="20635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28760" y="2000160"/>
            <a:ext cx="8186400" cy="159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小老鼠想变成       ，因为      ，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可是        ，所以小老鼠没有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57120" y="1643040"/>
            <a:ext cx="8643600" cy="13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做老鼠是不太好。不过我至少知道该怎么做。变成别的东西，说不定更糟呢！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857160" y="3214800"/>
            <a:ext cx="4857480" cy="64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句话说明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250920" y="4000680"/>
            <a:ext cx="8786520" cy="2285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明了我们每个人都有各自的优点，要学会欣赏自己，做真实的自己才是最轻松快乐的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0" y="1357200"/>
            <a:ext cx="8643600" cy="2142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小老鼠笑了起来，说：“我变得快活了！您那魔瓶，真是神奇，让我想了很多事情。谢谢了！”说完，小老鼠蹦蹦跳跳地回家去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1" name="组合 7"/>
          <p:cNvGrpSpPr/>
          <p:nvPr/>
        </p:nvGrpSpPr>
        <p:grpSpPr>
          <a:xfrm>
            <a:off x="4786200" y="4071960"/>
            <a:ext cx="4357440" cy="2214000"/>
            <a:chOff x="4786200" y="4071960"/>
            <a:chExt cx="4357440" cy="2214000"/>
          </a:xfrm>
        </p:grpSpPr>
        <p:pic>
          <p:nvPicPr>
            <p:cNvPr id="422" name="Picture 4" descr="小老鼠"/>
            <p:cNvPicPr/>
            <p:nvPr/>
          </p:nvPicPr>
          <p:blipFill>
            <a:blip r:embed="rId1"/>
            <a:stretch/>
          </p:blipFill>
          <p:spPr>
            <a:xfrm>
              <a:off x="7215120" y="4280400"/>
              <a:ext cx="1928520" cy="200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AutoShape 2"/>
            <p:cNvSpPr/>
            <p:nvPr/>
          </p:nvSpPr>
          <p:spPr>
            <a:xfrm>
              <a:off x="4786200" y="4071960"/>
              <a:ext cx="2714400" cy="1042560"/>
            </a:xfrm>
            <a:prstGeom prst="flowChartMagneticTape">
              <a:avLst/>
            </a:prstGeom>
            <a:solidFill>
              <a:schemeClr val="accent3">
                <a:lumMod val="60000"/>
                <a:lumOff val="40000"/>
              </a:schemeClr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Arial"/>
                <a:ea typeface="宋体"/>
              </a:endParaRPr>
            </a:p>
          </p:txBody>
        </p:sp>
        <p:sp>
          <p:nvSpPr>
            <p:cNvPr id="424" name="Text Box 3"/>
            <p:cNvSpPr/>
            <p:nvPr/>
          </p:nvSpPr>
          <p:spPr>
            <a:xfrm>
              <a:off x="4857840" y="4280400"/>
              <a:ext cx="3142800" cy="14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得快活了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矩形 9"/>
          <p:cNvSpPr/>
          <p:nvPr/>
        </p:nvSpPr>
        <p:spPr>
          <a:xfrm>
            <a:off x="2228400" y="2997360"/>
            <a:ext cx="2000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蹦蹦跳跳”一词告诉了我们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0"/>
          <p:cNvSpPr/>
          <p:nvPr/>
        </p:nvSpPr>
        <p:spPr>
          <a:xfrm>
            <a:off x="455040" y="4357800"/>
            <a:ext cx="245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1"/>
          <p:cNvSpPr/>
          <p:nvPr/>
        </p:nvSpPr>
        <p:spPr>
          <a:xfrm>
            <a:off x="357120" y="4572000"/>
            <a:ext cx="400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学会了真确地看待  自己的优缺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5857920" y="3000240"/>
            <a:ext cx="328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老鼠的轻松与愉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642960" y="3857760"/>
            <a:ext cx="328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学会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梳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1476360" y="2492280"/>
            <a:ext cx="65512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761400" y="3358080"/>
            <a:ext cx="2037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684360" y="2101680"/>
            <a:ext cx="6071760" cy="200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老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借魔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象        小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蝴蝶      变成什么好     蚂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乌龟         蜜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做自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快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"/>
          <p:cNvPicPr/>
          <p:nvPr/>
        </p:nvPicPr>
        <p:blipFill>
          <a:blip r:embed="rId1"/>
          <a:stretch/>
        </p:blipFill>
        <p:spPr>
          <a:xfrm>
            <a:off x="7215120" y="2571840"/>
            <a:ext cx="1928520" cy="380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法点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950760" y="2066760"/>
            <a:ext cx="6860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714240" y="3731040"/>
            <a:ext cx="79671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言描写是塑造人物形象的重要手段。成功的语言描写总是能鲜明地展示人物的性格，生动地表现人物的思想感情，深刻地反映人物的内心活动。语言描写包括人物的独白和对话。独白是反映人物心理活动的重要手段。对话可以是两个人的对话，也可以是几个人的相互交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2"/>
          <p:cNvSpPr/>
          <p:nvPr/>
        </p:nvSpPr>
        <p:spPr>
          <a:xfrm>
            <a:off x="1214280" y="2286000"/>
            <a:ext cx="4071600" cy="1213920"/>
          </a:xfrm>
          <a:prstGeom prst="downArrowCallout">
            <a:avLst>
              <a:gd name="adj1" fmla="val 82302"/>
              <a:gd name="adj2" fmla="val 82287"/>
              <a:gd name="adj3" fmla="val 16667"/>
              <a:gd name="adj4" fmla="val 6666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8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习检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095480" y="22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0" name="Rectangle 10"/>
          <p:cNvSpPr/>
          <p:nvPr/>
        </p:nvSpPr>
        <p:spPr>
          <a:xfrm>
            <a:off x="32767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857240" y="2286000"/>
            <a:ext cx="3571560" cy="89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想变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9" descr=""/>
          <p:cNvPicPr/>
          <p:nvPr/>
        </p:nvPicPr>
        <p:blipFill>
          <a:blip r:embed="rId1"/>
          <a:stretch/>
        </p:blipFill>
        <p:spPr>
          <a:xfrm>
            <a:off x="2143080" y="3500280"/>
            <a:ext cx="1561680" cy="1447560"/>
          </a:xfrm>
          <a:prstGeom prst="rect">
            <a:avLst/>
          </a:prstGeom>
          <a:ln w="0">
            <a:noFill/>
          </a:ln>
        </p:spPr>
      </p:pic>
      <p:grpSp>
        <p:nvGrpSpPr>
          <p:cNvPr id="283" name="组合 9"/>
          <p:cNvGrpSpPr/>
          <p:nvPr/>
        </p:nvGrpSpPr>
        <p:grpSpPr>
          <a:xfrm>
            <a:off x="4929120" y="3143880"/>
            <a:ext cx="4000320" cy="3016800"/>
            <a:chOff x="4929120" y="3143880"/>
            <a:chExt cx="4000320" cy="3016800"/>
          </a:xfrm>
        </p:grpSpPr>
        <p:pic>
          <p:nvPicPr>
            <p:cNvPr id="284" name="Picture 2" descr="b"/>
            <p:cNvPicPr/>
            <p:nvPr/>
          </p:nvPicPr>
          <p:blipFill>
            <a:blip r:embed="rId2"/>
            <a:stretch/>
          </p:blipFill>
          <p:spPr>
            <a:xfrm>
              <a:off x="4999680" y="3526560"/>
              <a:ext cx="3804840" cy="250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" descr="蚂蚁_副本"/>
            <p:cNvPicPr/>
            <p:nvPr/>
          </p:nvPicPr>
          <p:blipFill>
            <a:blip r:embed="rId3"/>
            <a:stretch/>
          </p:blipFill>
          <p:spPr>
            <a:xfrm flipH="1">
              <a:off x="4972320" y="4931640"/>
              <a:ext cx="744480" cy="12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4" descr="乌龟_副本_副本"/>
            <p:cNvPicPr/>
            <p:nvPr/>
          </p:nvPicPr>
          <p:blipFill>
            <a:blip r:embed="rId4"/>
            <a:stretch/>
          </p:blipFill>
          <p:spPr>
            <a:xfrm>
              <a:off x="4929120" y="3782160"/>
              <a:ext cx="1225440" cy="90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5" descr="蜜蜂_副本"/>
            <p:cNvPicPr/>
            <p:nvPr/>
          </p:nvPicPr>
          <p:blipFill>
            <a:blip r:embed="rId5"/>
            <a:stretch/>
          </p:blipFill>
          <p:spPr>
            <a:xfrm>
              <a:off x="6258960" y="4101480"/>
              <a:ext cx="1226520" cy="150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3" descr="蝴蝶_副本"/>
            <p:cNvPicPr/>
            <p:nvPr/>
          </p:nvPicPr>
          <p:blipFill>
            <a:blip r:embed="rId6"/>
            <a:stretch/>
          </p:blipFill>
          <p:spPr>
            <a:xfrm rot="10800000">
              <a:off x="7031160" y="3143880"/>
              <a:ext cx="598320" cy="88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16" descr=""/>
            <p:cNvPicPr/>
            <p:nvPr/>
          </p:nvPicPr>
          <p:blipFill>
            <a:blip r:embed="rId7"/>
            <a:stretch/>
          </p:blipFill>
          <p:spPr>
            <a:xfrm>
              <a:off x="6730560" y="5442840"/>
              <a:ext cx="680040" cy="59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7" descr=""/>
            <p:cNvPicPr/>
            <p:nvPr/>
          </p:nvPicPr>
          <p:blipFill>
            <a:blip r:embed="rId8"/>
            <a:stretch/>
          </p:blipFill>
          <p:spPr>
            <a:xfrm>
              <a:off x="7631640" y="3587400"/>
              <a:ext cx="1297800" cy="1471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拓展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857160" y="3672000"/>
            <a:ext cx="770544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只蚂蚁能够举起超过自身体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倍的东西，还能够拖运超过自身体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7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倍的物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科学家们作了大量的研究、分析，证明蚂蚁体内是一座微型动物营养宝库，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克蚂蚁能产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92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千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7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千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热量。科学工作者发现，蚂蚁腿部肌肉是一部高效率的“发动机”，这个“肌肉发动机”又由几十亿台微妙的“小发动机”组成。所以，蚂蚁能产生如此非凡超常的力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内容占位符 2"/>
          <p:cNvSpPr/>
          <p:nvPr/>
        </p:nvSpPr>
        <p:spPr>
          <a:xfrm>
            <a:off x="3286080" y="98712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灵感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714240" y="3198240"/>
            <a:ext cx="6928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丽的蝴蝶、长寿的乌龟、自由飞翔的蜜蜂、爬得快的蚂蚁、自由玩唱的小鸟、硕壮的大象各有各的优点，令人羡慕，但它们也有各自的缺憾。庆幸小老鼠最后做了聪明的选择——还是做自己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组合 7"/>
          <p:cNvGrpSpPr/>
          <p:nvPr/>
        </p:nvGrpSpPr>
        <p:grpSpPr>
          <a:xfrm>
            <a:off x="4643280" y="4500720"/>
            <a:ext cx="3714480" cy="1785600"/>
            <a:chOff x="4643280" y="4500720"/>
            <a:chExt cx="3714480" cy="1785600"/>
          </a:xfrm>
        </p:grpSpPr>
        <p:pic>
          <p:nvPicPr>
            <p:cNvPr id="443" name="Picture 4" descr="小老鼠"/>
            <p:cNvPicPr/>
            <p:nvPr/>
          </p:nvPicPr>
          <p:blipFill>
            <a:blip r:embed="rId1"/>
            <a:stretch/>
          </p:blipFill>
          <p:spPr>
            <a:xfrm>
              <a:off x="6935400" y="4668840"/>
              <a:ext cx="1422360" cy="16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AutoShape 2"/>
            <p:cNvSpPr/>
            <p:nvPr/>
          </p:nvSpPr>
          <p:spPr>
            <a:xfrm>
              <a:off x="4643280" y="4500720"/>
              <a:ext cx="2501640" cy="928440"/>
            </a:xfrm>
            <a:prstGeom prst="flowChartMagneticTape">
              <a:avLst/>
            </a:prstGeom>
            <a:solidFill>
              <a:schemeClr val="accent3">
                <a:lumMod val="60000"/>
                <a:lumOff val="40000"/>
              </a:schemeClr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Arial"/>
                <a:ea typeface="宋体"/>
              </a:endParaRPr>
            </a:p>
          </p:txBody>
        </p:sp>
        <p:sp>
          <p:nvSpPr>
            <p:cNvPr id="445" name="Text Box 3"/>
            <p:cNvSpPr/>
            <p:nvPr/>
          </p:nvSpPr>
          <p:spPr>
            <a:xfrm>
              <a:off x="4714920" y="4572000"/>
              <a:ext cx="27856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599"/>
                </a:spcBef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得快活了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9"/>
          <p:cNvSpPr/>
          <p:nvPr/>
        </p:nvSpPr>
        <p:spPr>
          <a:xfrm>
            <a:off x="571680" y="1928880"/>
            <a:ext cx="228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辨字组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内容占位符 2"/>
          <p:cNvSpPr/>
          <p:nvPr/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  <a:alpha val="80000"/>
            </a:schemeClr>
          </a:solidFill>
          <a:ln w="0">
            <a:noFill/>
          </a:ln>
          <a:effectLst>
            <a:outerShdw algn="ctr" blurRad="50760" dir="5400000" dist="50760" rotWithShape="0">
              <a:schemeClr val="bg2">
                <a:lumMod val="50000"/>
              </a:schemeClr>
            </a:outerShdw>
          </a:effectLst>
          <a:scene3d>
            <a:camera prst="orthographicFront"/>
            <a:lightRig dir="t" rig="threePt"/>
          </a:scene3d>
          <a:sp3d>
            <a:bevelT prst="coolSlant" w="1651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随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571680" y="2579760"/>
            <a:ext cx="8572320" cy="21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借（    ）    师（    ）    辛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惜（    ）    帅（    ）    亲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彩（    ）    老（    ）    龟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踩（    ）    劳（    ）    电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1357200" y="2643120"/>
            <a:ext cx="11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借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1428840" y="3357720"/>
            <a:ext cx="11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4214880" y="2643120"/>
            <a:ext cx="11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老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4143240" y="3286080"/>
            <a:ext cx="11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帅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9"/>
          <p:cNvSpPr/>
          <p:nvPr/>
        </p:nvSpPr>
        <p:spPr>
          <a:xfrm>
            <a:off x="7072200" y="2571840"/>
            <a:ext cx="11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辛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7072200" y="3357720"/>
            <a:ext cx="11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亲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1357200" y="4786200"/>
            <a:ext cx="11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彩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1357200" y="5572080"/>
            <a:ext cx="11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踩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9"/>
          <p:cNvSpPr/>
          <p:nvPr/>
        </p:nvSpPr>
        <p:spPr>
          <a:xfrm>
            <a:off x="4214880" y="4786200"/>
            <a:ext cx="11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老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9"/>
          <p:cNvSpPr/>
          <p:nvPr/>
        </p:nvSpPr>
        <p:spPr>
          <a:xfrm>
            <a:off x="4214880" y="5572080"/>
            <a:ext cx="11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劳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9"/>
          <p:cNvSpPr/>
          <p:nvPr/>
        </p:nvSpPr>
        <p:spPr>
          <a:xfrm>
            <a:off x="7000920" y="4786200"/>
            <a:ext cx="11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乌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7072200" y="5500800"/>
            <a:ext cx="11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电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395280" y="2451240"/>
            <a:ext cx="7500600" cy="38574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noFill/>
          </a:ln>
          <a:effectLst>
            <a:outerShdw dist="50760" dir="5400000" blurRad="50760" rotWithShape="0">
              <a:srgbClr val="948a54"/>
            </a:outerShdw>
          </a:effectLst>
        </p:spPr>
        <p:txBody>
          <a:bodyPr numCol="1" spcCol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字词乐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7"/>
          <p:cNvSpPr/>
          <p:nvPr/>
        </p:nvSpPr>
        <p:spPr>
          <a:xfrm>
            <a:off x="2214720" y="2857680"/>
            <a:ext cx="5571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魔        瓶        咚        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ù        lèi          ě        zā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碌       累         恶        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8"/>
          <p:cNvSpPr/>
          <p:nvPr/>
        </p:nvSpPr>
        <p:spPr>
          <a:xfrm>
            <a:off x="2214720" y="2857680"/>
            <a:ext cx="5501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ó    píng     dōng     sh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6"/>
          <p:cNvSpPr/>
          <p:nvPr/>
        </p:nvSpPr>
        <p:spPr>
          <a:xfrm>
            <a:off x="3973680" y="1857240"/>
            <a:ext cx="71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 会 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noFill/>
          </a:ln>
          <a:effectLst>
            <a:outerShdw dist="50760" dir="5400000" blurRad="50760" rotWithShape="0">
              <a:srgbClr val="948a54"/>
            </a:outerShdw>
          </a:effectLst>
        </p:spPr>
        <p:txBody>
          <a:bodyPr numCol="1" spcCol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字词乐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3973680" y="1857240"/>
            <a:ext cx="71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 会 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428840" y="3643200"/>
            <a:ext cx="1571400" cy="1526760"/>
          </a:xfrm>
          <a:prstGeom prst="rect">
            <a:avLst/>
          </a:prstGeom>
          <a:ln w="0">
            <a:noFill/>
          </a:ln>
        </p:spPr>
      </p:pic>
      <p:sp>
        <p:nvSpPr>
          <p:cNvPr id="299" name="矩形 7"/>
          <p:cNvSpPr/>
          <p:nvPr/>
        </p:nvSpPr>
        <p:spPr>
          <a:xfrm>
            <a:off x="1785960" y="2786040"/>
            <a:ext cx="107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"/>
          <p:cNvSpPr/>
          <p:nvPr/>
        </p:nvSpPr>
        <p:spPr>
          <a:xfrm>
            <a:off x="3429000" y="3429000"/>
            <a:ext cx="571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义： 掌握某项专门技术的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"/>
          <p:cNvSpPr/>
          <p:nvPr/>
        </p:nvSpPr>
        <p:spPr>
          <a:xfrm>
            <a:off x="3429000" y="4714920"/>
            <a:ext cx="550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老师   师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noFill/>
          </a:ln>
          <a:effectLst>
            <a:outerShdw dist="50760" dir="5400000" blurRad="50760" rotWithShape="0">
              <a:srgbClr val="948a54"/>
            </a:outerShdw>
          </a:effectLst>
        </p:spPr>
        <p:txBody>
          <a:bodyPr numCol="1" spcCol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字词乐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7"/>
          <p:cNvSpPr/>
          <p:nvPr/>
        </p:nvSpPr>
        <p:spPr>
          <a:xfrm>
            <a:off x="1785960" y="2786040"/>
            <a:ext cx="107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i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2857680" y="3143160"/>
            <a:ext cx="574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暂时使用别人的财物等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暂时把财物等给别人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"/>
          <p:cNvSpPr/>
          <p:nvPr/>
        </p:nvSpPr>
        <p:spPr>
          <a:xfrm>
            <a:off x="2843280" y="4714920"/>
            <a:ext cx="550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借钱    借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214280" y="3571920"/>
            <a:ext cx="1558440" cy="1499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noFill/>
          </a:ln>
          <a:effectLst>
            <a:outerShdw dist="50760" dir="5400000" blurRad="50760" rotWithShape="0">
              <a:srgbClr val="948a54"/>
            </a:outerShdw>
          </a:effectLst>
        </p:spPr>
        <p:txBody>
          <a:bodyPr numCol="1" spcCol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字词乐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1916280" y="2786040"/>
            <a:ext cx="107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3429000" y="3429000"/>
            <a:ext cx="571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义：回话，回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"/>
          <p:cNvSpPr/>
          <p:nvPr/>
        </p:nvSpPr>
        <p:spPr>
          <a:xfrm>
            <a:off x="3429000" y="4500720"/>
            <a:ext cx="550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回答     口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643040" y="3643200"/>
            <a:ext cx="1298160" cy="12855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noFill/>
          </a:ln>
          <a:effectLst>
            <a:outerShdw dist="50760" dir="5400000" blurRad="50760" rotWithShape="0">
              <a:srgbClr val="948a54"/>
            </a:outerShdw>
          </a:effectLst>
        </p:spPr>
        <p:txBody>
          <a:bodyPr numCol="1" spcCol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字词乐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 7"/>
          <p:cNvSpPr/>
          <p:nvPr/>
        </p:nvSpPr>
        <p:spPr>
          <a:xfrm>
            <a:off x="1071720" y="2714760"/>
            <a:ext cx="107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u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2357280" y="3071880"/>
            <a:ext cx="646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义： 爬行动物的一科，腹 背都有硬甲，头尾和脚能缩入甲中，耐饥渴，寿命很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"/>
          <p:cNvSpPr/>
          <p:nvPr/>
        </p:nvSpPr>
        <p:spPr>
          <a:xfrm>
            <a:off x="2428920" y="4714920"/>
            <a:ext cx="550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乌龟      龟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785880" y="3643200"/>
            <a:ext cx="1369800" cy="1356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214800" y="1000080"/>
            <a:ext cx="2214360" cy="78552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noFill/>
          </a:ln>
          <a:effectLst>
            <a:outerShdw dist="50760" dir="5400000" blurRad="50760" rotWithShape="0">
              <a:srgbClr val="948a54"/>
            </a:outerShdw>
          </a:effectLst>
        </p:spPr>
        <p:txBody>
          <a:bodyPr numCol="1" spcCol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字词乐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6"/>
          <p:cNvSpPr/>
          <p:nvPr/>
        </p:nvSpPr>
        <p:spPr>
          <a:xfrm>
            <a:off x="3973680" y="1857240"/>
            <a:ext cx="711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 会 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7"/>
          <p:cNvSpPr/>
          <p:nvPr/>
        </p:nvSpPr>
        <p:spPr>
          <a:xfrm>
            <a:off x="1785960" y="2786040"/>
            <a:ext cx="1213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"/>
          <p:cNvSpPr/>
          <p:nvPr/>
        </p:nvSpPr>
        <p:spPr>
          <a:xfrm>
            <a:off x="3429000" y="3429000"/>
            <a:ext cx="5319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义： 迟缓，速度小，与“快”相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"/>
          <p:cNvSpPr/>
          <p:nvPr/>
        </p:nvSpPr>
        <p:spPr>
          <a:xfrm>
            <a:off x="3419640" y="4714920"/>
            <a:ext cx="550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快慢     缓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1428840" y="3643200"/>
            <a:ext cx="1442520" cy="14284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  <Words>2112</Words>
  <Paragraphs>19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/>
  <cp:keywords>第一PPT模板网-WWW.1PPT.COM</cp:keywords>
  <dc:language>en-US</dc:language>
  <cp:lastModifiedBy>123</cp:lastModifiedBy>
  <dcterms:modified xsi:type="dcterms:W3CDTF">2019-01-01T01:37:14Z</dcterms:modified>
  <cp:revision>14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全屏显示(4:3)</vt:lpwstr>
  </property>
  <property fmtid="{D5CDD505-2E9C-101B-9397-08002B2CF9AE}" pid="4" name="Slides">
    <vt:r8>33</vt:r8>
  </property>
</Properties>
</file>