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CCF-9680-4B3B-8484-872276FB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03F-0254-412A-B728-09C0329A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79C-9FCB-408B-986D-896B9201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953-F3BC-4E8B-BF00-8DD13A97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6962-9C32-4318-91BA-8D3BFFCF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AD95-1A0D-4511-8863-A488640A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8B4C-C061-4508-B8D3-89FE0153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02D8-7702-4229-AFEB-0A29EB98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0039-11EC-4F8D-B6F5-F88FA543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B064-3C41-44A5-BA19-B99C0240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B34A-2801-452A-9BF0-5E7FF682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31F-1C3E-4077-BC8A-F5695BD9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F548-4266-46FC-AB58-12F4385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7CC8-572D-4EBE-BB3C-D9004D1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E059-1122-46CF-8AA8-C6BC1C99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5017-D0BC-4E6A-A988-46F47DA9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1298-A013-45A9-8496-F6D0F9E7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93B-13FD-4B8B-8C71-64C088DB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B36-2A96-42DA-BAC6-520B98C2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A9A-0ACD-4D36-995E-4957389C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301-3251-46C7-BF9F-AACCC10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02C-6101-4689-8C6F-883FEC1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BB5-2229-4061-9AFC-15C9C5D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B8C-61FC-4442-9DCB-E724AD5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26668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F7B4B1-1040-494C-A084-BA844497505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4267F0-DD7E-46C3-97D3-323DDC47E1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audio" Target="file:///E:/&#21271;&#24072;&#22823;&#29256;/&#19968;&#24180;&#32423;&#19979;&#20876;/16%20&#24555;&#20048;/&#22823;&#23478;&#37117;&#24555;&#20048;/&#23186;&#20307;&#32032;&#26448;/&#35838;&#20214;&#31867;/&#12298;&#22823;&#23478;&#37117;&#24555;&#20048;&#12299;&#26391;&#35835;.MP3" TargetMode="External"/><Relationship Id="rId4" Type="http://schemas.microsoft.com/office/2007/relationships/media" Target="file:///E:/&#21271;&#24072;&#22823;&#29256;/&#19968;&#24180;&#32423;&#19979;&#20876;/16%20&#24555;&#20048;/&#22823;&#23478;&#37117;&#24555;&#20048;/&#23186;&#20307;&#32032;&#26448;/&#35838;&#20214;&#31867;/&#12298;&#22823;&#23478;&#37117;&#24555;&#20048;&#12299;&#26391;&#35835;.MP3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26668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大家都快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5320" y="5516640"/>
            <a:ext cx="56383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北师大小学语文一年级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2337120" y="6237360"/>
            <a:ext cx="44838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多特软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WWW.DUOT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大家都快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5">
            <a:hlinkClick r:id="rId1" action="ppaction://hlinksldjump"/>
          </p:cNvPr>
          <p:cNvSpPr/>
          <p:nvPr/>
        </p:nvSpPr>
        <p:spPr>
          <a:xfrm>
            <a:off x="609480" y="1447920"/>
            <a:ext cx="2209320" cy="837720"/>
          </a:xfrm>
          <a:prstGeom prst="cloudCallout">
            <a:avLst>
              <a:gd name="adj1" fmla="val 63722"/>
              <a:gd name="adj2" fmla="val 64773"/>
            </a:avLst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>
            <a:hlinkClick r:id="rId2" action="ppaction://hlinksldjump"/>
          </p:cNvPr>
          <p:cNvSpPr/>
          <p:nvPr/>
        </p:nvSpPr>
        <p:spPr>
          <a:xfrm>
            <a:off x="609480" y="2413080"/>
            <a:ext cx="2209320" cy="837720"/>
          </a:xfrm>
          <a:prstGeom prst="cloudCallout">
            <a:avLst>
              <a:gd name="adj1" fmla="val 66449"/>
              <a:gd name="adj2" fmla="val 55491"/>
            </a:avLst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>
            <a:hlinkClick r:id="rId3" action="ppaction://hlinksldjump"/>
          </p:cNvPr>
          <p:cNvSpPr/>
          <p:nvPr/>
        </p:nvSpPr>
        <p:spPr>
          <a:xfrm>
            <a:off x="533520" y="3378240"/>
            <a:ext cx="2514240" cy="837720"/>
          </a:xfrm>
          <a:prstGeom prst="cloudCallout">
            <a:avLst>
              <a:gd name="adj1" fmla="val 51579"/>
              <a:gd name="adj2" fmla="val 41667"/>
            </a:avLst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朗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>
            <a:hlinkClick r:id="rId4" action="ppaction://hlinksldjump"/>
          </p:cNvPr>
          <p:cNvSpPr/>
          <p:nvPr/>
        </p:nvSpPr>
        <p:spPr>
          <a:xfrm>
            <a:off x="533520" y="4343400"/>
            <a:ext cx="2437920" cy="837720"/>
          </a:xfrm>
          <a:prstGeom prst="cloudCallout">
            <a:avLst>
              <a:gd name="adj1" fmla="val 59245"/>
              <a:gd name="adj2" fmla="val 31440"/>
            </a:avLst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>
            <a:hlinkClick r:id="" action="ppaction://hlinkshowjump?jump=lastslide"/>
          </p:cNvPr>
          <p:cNvSpPr/>
          <p:nvPr/>
        </p:nvSpPr>
        <p:spPr>
          <a:xfrm>
            <a:off x="1371600" y="5791320"/>
            <a:ext cx="685440" cy="533160"/>
          </a:xfrm>
          <a:prstGeom prst="actionButtonEnd">
            <a:avLst/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00"/>
              </a:solidFill>
              <a:latin typeface="Times New Roman"/>
              <a:ea typeface="宋体"/>
            </a:endParaRPr>
          </a:p>
        </p:txBody>
      </p:sp>
      <p:pic>
        <p:nvPicPr>
          <p:cNvPr id="92" name="Picture 12" descr="E:\北师大版\一年级下册\16 快乐\大家都快乐\媒体素材\图形图像类\丢手绢.jpg"/>
          <p:cNvPicPr/>
          <p:nvPr/>
        </p:nvPicPr>
        <p:blipFill>
          <a:blip r:embed="rId5"/>
          <a:stretch/>
        </p:blipFill>
        <p:spPr>
          <a:xfrm>
            <a:off x="3645000" y="1447920"/>
            <a:ext cx="4355640" cy="5028840"/>
          </a:xfrm>
          <a:prstGeom prst="rect">
            <a:avLst/>
          </a:prstGeom>
          <a:ln w="9525">
            <a:noFill/>
          </a:ln>
        </p:spPr>
      </p:pic>
    </p:spTree>
  </p:cSld>
  <p:transition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读一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0880" y="2666880"/>
            <a:ext cx="845784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静 悄 悄    独 自   折 纸   踢 毽 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2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广 播    象 棋    乒 乓 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2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众 多   掰 开   丢 失   比 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320" y="2057400"/>
            <a:ext cx="2742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j@ng qi1o qi1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066680" y="1677960"/>
            <a:ext cx="6781320" cy="74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8" name="AutoShape 13">
            <a:hlinkClick r:id="rId1" action="ppaction://hlinksldjump"/>
          </p:cNvPr>
          <p:cNvSpPr/>
          <p:nvPr/>
        </p:nvSpPr>
        <p:spPr>
          <a:xfrm>
            <a:off x="8534520" y="6248520"/>
            <a:ext cx="533160" cy="533160"/>
          </a:xfrm>
          <a:prstGeom prst="actionButtonReturn">
            <a:avLst/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276720" y="2057400"/>
            <a:ext cx="1523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* z@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952880" y="205740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6 z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781680" y="205740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9 ji4n 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219320" y="350532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3ng b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276720" y="350532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i4ng q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334120" y="3505320"/>
            <a:ext cx="25142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p9ng p1ng qi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914400" y="5043600"/>
            <a:ext cx="2285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^ng du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2971800" y="504360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1i k1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4800600" y="5043600"/>
            <a:ext cx="1904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i&amp; sh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6705720" y="5043600"/>
            <a:ext cx="1904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! s4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读一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2666880"/>
            <a:ext cx="845784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静 悄 悄    独 自   折 纸   踢 毽 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2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广 播    象 棋    乒 乓 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2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众 多   掰 开   丢 失   比 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320" y="2057400"/>
            <a:ext cx="2742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j@ng qi1o qi1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066680" y="1677960"/>
            <a:ext cx="6781320" cy="74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14" name="AutoShape 6">
            <a:hlinkClick r:id="rId1" action="ppaction://hlinksldjump"/>
          </p:cNvPr>
          <p:cNvSpPr/>
          <p:nvPr/>
        </p:nvSpPr>
        <p:spPr>
          <a:xfrm>
            <a:off x="8534520" y="6248520"/>
            <a:ext cx="533160" cy="533160"/>
          </a:xfrm>
          <a:prstGeom prst="actionButtonReturn">
            <a:avLst/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76720" y="2057400"/>
            <a:ext cx="1523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* z@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952880" y="205740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6 z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81680" y="205740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9 ji4n 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219320" y="350532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3ng b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276720" y="350532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i4ng q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334120" y="3505320"/>
            <a:ext cx="25142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p9ng p1ng qi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914400" y="5043600"/>
            <a:ext cx="2285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^ng du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2971800" y="504360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1i k1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800600" y="5043600"/>
            <a:ext cx="1904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i&amp; sh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705720" y="5043600"/>
            <a:ext cx="1904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! s4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练一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213372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还  广  些  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众    跳    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066680" y="1677960"/>
            <a:ext cx="6781320" cy="74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9" name="AutoShape 6">
            <a:hlinkClick r:id="rId1" action="ppaction://hlinksldjump"/>
          </p:cNvPr>
          <p:cNvSpPr/>
          <p:nvPr/>
        </p:nvSpPr>
        <p:spPr>
          <a:xfrm>
            <a:off x="8381880" y="6095880"/>
            <a:ext cx="533160" cy="533160"/>
          </a:xfrm>
          <a:prstGeom prst="actionButtonReturn">
            <a:avLst/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05120" y="1295280"/>
            <a:ext cx="6019560" cy="350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个人玩，挺快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静悄悄地，独自一个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好折纸船、纸马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还可以踢毽子、听广播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两个人玩，真快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事儿，要两个人做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下象棋、打乒乓、讲故事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悄悄话儿一起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2" descr="D:\My Documents\模板\小语低_课件模板图片\内_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3" name="AutoShape 6">
            <a:hlinkClick r:id="rId2" action="ppaction://hlinksldjump"/>
          </p:cNvPr>
          <p:cNvSpPr/>
          <p:nvPr/>
        </p:nvSpPr>
        <p:spPr>
          <a:xfrm>
            <a:off x="8534520" y="6248520"/>
            <a:ext cx="533160" cy="533160"/>
          </a:xfrm>
          <a:prstGeom prst="actionButtonReturn">
            <a:avLst/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pic>
        <p:nvPicPr>
          <p:cNvPr id="13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248520" y="457200"/>
            <a:ext cx="456840" cy="456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1905120" y="1295280"/>
            <a:ext cx="5790960" cy="350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三个人玩，很快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三人成众玩法多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跳皮筋，掰手腕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过家家，学唱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许多人玩，最快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丢手绢，赛拔河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人人想出新玩法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大家都快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大家都快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想一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066680" y="1220760"/>
            <a:ext cx="6781320" cy="74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40" name="AutoShape 5">
            <a:hlinkClick r:id="rId1" action="ppaction://hlinksldjump"/>
          </p:cNvPr>
          <p:cNvSpPr/>
          <p:nvPr/>
        </p:nvSpPr>
        <p:spPr>
          <a:xfrm>
            <a:off x="8229600" y="5943600"/>
            <a:ext cx="533160" cy="533160"/>
          </a:xfrm>
          <a:prstGeom prst="actionButtonReturn">
            <a:avLst/>
          </a:prstGeom>
          <a:solidFill>
            <a:schemeClr val="accent1">
              <a:alpha val="5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2666880" y="1724040"/>
            <a:ext cx="6019560" cy="96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同学们，什么是快乐？你们生活的快乐吗？在什么时候你感到快乐呢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9" descr="E:\北师大版\共用插图\丁丁4.jpg"/>
          <p:cNvPicPr/>
          <p:nvPr/>
        </p:nvPicPr>
        <p:blipFill>
          <a:blip r:embed="rId2"/>
          <a:stretch/>
        </p:blipFill>
        <p:spPr>
          <a:xfrm>
            <a:off x="380880" y="4038480"/>
            <a:ext cx="2026800" cy="2209320"/>
          </a:xfrm>
          <a:prstGeom prst="rect">
            <a:avLst/>
          </a:prstGeom>
          <a:ln w="9525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小学语文低年级通用模板（北师大）">
  <a:themeElements>
    <a:clrScheme name="小学语文低年级通用模板（北师大） 1">
      <a:dk1>
        <a:srgbClr val="000000"/>
      </a:dk1>
      <a:lt1>
        <a:srgbClr val="ffffff"/>
      </a:lt1>
      <a:dk2>
        <a:srgbClr val="0000ff"/>
      </a:dk2>
      <a:lt2>
        <a:srgbClr val="ffff00"/>
      </a:lt2>
      <a:accent1>
        <a:srgbClr val="ff9900"/>
      </a:accent1>
      <a:accent2>
        <a:srgbClr val="00ffff"/>
      </a:accent2>
      <a:accent3>
        <a:srgbClr val="aaaaff"/>
      </a:accent3>
      <a:accent4>
        <a:srgbClr val="dadada"/>
      </a:accent4>
      <a:accent5>
        <a:srgbClr val="ffcaaa"/>
      </a:accent5>
      <a:accent6>
        <a:srgbClr val="00e7e7"/>
      </a:accent6>
      <a:hlink>
        <a:srgbClr val="ff00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小学语文低年级通用模板（北师大）">
  <a:themeElements>
    <a:clrScheme name="小学语文低年级通用模板（北师大） 1">
      <a:dk1>
        <a:srgbClr val="000000"/>
      </a:dk1>
      <a:lt1>
        <a:srgbClr val="ffffff"/>
      </a:lt1>
      <a:dk2>
        <a:srgbClr val="0000ff"/>
      </a:dk2>
      <a:lt2>
        <a:srgbClr val="ffff00"/>
      </a:lt2>
      <a:accent1>
        <a:srgbClr val="ff9900"/>
      </a:accent1>
      <a:accent2>
        <a:srgbClr val="00ffff"/>
      </a:accent2>
      <a:accent3>
        <a:srgbClr val="aaaaff"/>
      </a:accent3>
      <a:accent4>
        <a:srgbClr val="dadada"/>
      </a:accent4>
      <a:accent5>
        <a:srgbClr val="ffcaaa"/>
      </a:accent5>
      <a:accent6>
        <a:srgbClr val="00e7e7"/>
      </a:accent6>
      <a:hlink>
        <a:srgbClr val="ff00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wutao\Application Data\Microsoft\Templates\小学语文低年级通用模板（北师大）.pot</Template>
  <TotalTime>177</TotalTime>
  <Application>LibreOffice/7.4.7.2$Linux_X86_64 LibreOffice_project/40$Build-2</Application>
  <AppVersion>15.0000</AppVersion>
  <Words>371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1601-01-01T00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1:20:33Z</dcterms:modified>
  <cp:revision>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8</vt:r8>
  </property>
</Properties>
</file>