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153-71B8-4B67-B300-7ECED753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279-F72A-4949-A070-2EEFDE35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2D9-4018-42E1-8825-204189EE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017-0817-4B6C-8EA8-3291D7F8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4A0B-DC1F-42E2-8B32-0AF15693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8A55-F7D3-4423-BC33-64790AC3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A746-7715-4943-86E8-49AA5833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ABC5-C495-4574-AA6B-5D9DA69F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E558-5E7B-4F74-9EF7-93EAAC17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84280" y="0"/>
            <a:ext cx="822924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DD93-F493-4DF5-BE4E-C4356338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0D2D-CF31-4160-AF39-C798EFB7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622-A441-47EC-9896-36B0EB15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0E4B-170D-45B9-A3F8-7808E1F6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8705-4269-416D-B387-0CBACB19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2097-7DE5-4F60-86BA-3DB6D37C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6F82-D58A-42A1-B61A-BAF916CF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08B1-878C-4042-AC5B-63D4F79C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F4DAC-B7CE-4ECD-8353-21E7C04B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876A-10C1-46C4-BDBE-CD893CFA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74D18-04A7-4A2A-B9EA-AE060E2E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6969-64A2-46CC-8473-8FB1739D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80CB-FAA1-4625-BCAB-F9796AC0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F25-9C0C-4AF6-A542-A9F8525B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84280" y="0"/>
            <a:ext cx="822924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9876-B1E4-4178-BB6D-6AD2EA09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3615-AA17-42BA-A5FF-82337CF4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B590-AF36-4CB4-ABF3-A124B18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9C7A-958F-4A9A-AD12-2CF8DE82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4CCAA-71F9-461B-9FD2-C5623667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EE02-32FB-4075-AA6A-583B4448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F73B-9DC7-421B-B857-B8ACDBDA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6A5F9-CC46-44B8-A9CE-B6E24C25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1B3A-4705-4184-B036-EF3012CD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AA402-F6A6-4FB0-B948-E10510AA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803-9F21-400E-9D36-FD5F051E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6ADAA-4996-453C-B27F-B85C3A65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223FC-6A20-400E-A5BE-E8B8F7E1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84280" y="0"/>
            <a:ext cx="822924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BB83-EC99-4EEC-B366-347C8470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0C658-5A1D-41D3-AA61-5DDFE0BF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F1333-EA72-499A-9030-86A4F042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B450B-29DC-4A16-B7CB-ECFBB378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03CF-B312-4A54-B575-7C5CBD00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34F2-A4CD-466D-82D5-696E6D26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C770C-8F91-49CA-94BB-F71D4827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47427-1A12-42E6-AF1C-DC873F48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3B2-7637-4DBF-97D5-C96FFB12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0F5E-DF63-42FD-AC00-2D730D16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D45FB-E2E4-4705-B0BD-0BEFD8C1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0244E-64B6-4625-9F4A-62EFA920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BE149-BE6B-41C2-A5E7-0F87A243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84280" y="0"/>
            <a:ext cx="822924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9FD87-0C51-43B2-976E-8E4349B7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B7EB9-7E5E-4AC1-AAFD-83807B6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AD05E-F464-4B0A-BD23-21C49F8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F13A4-F91E-4134-839A-79CC2FAE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B739A-7A0C-4DFF-AA08-D72E9A36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A13D-C921-4E44-BA97-2B753318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4280" y="0"/>
            <a:ext cx="822924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EFD-8DBE-4B1C-B93E-07673A64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FA66-69C7-4893-B887-1DE05405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EAB-FDFA-4208-9F11-62C2710E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6D0-465A-4CB7-A389-7E0F18C0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B48-AD90-4E50-8A46-02AD3423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8F3F97-FDD0-45F7-967D-DAB0F24D54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E65C32-2581-4C7D-8B4A-C0418DA835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6C87D0-634C-4780-BA49-6D93F653DA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CD2681-C8B9-4F8F-86F8-B0F3076042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6202440"/>
            <a:ext cx="5206680" cy="655200"/>
            <a:chOff x="0" y="6202440"/>
            <a:chExt cx="5206680" cy="655200"/>
          </a:xfrm>
        </p:grpSpPr>
        <p:grpSp>
          <p:nvGrpSpPr>
            <p:cNvPr id="165" name="Group 3"/>
            <p:cNvGrpSpPr/>
            <p:nvPr/>
          </p:nvGrpSpPr>
          <p:grpSpPr>
            <a:xfrm>
              <a:off x="1055160" y="6202440"/>
              <a:ext cx="531720" cy="655200"/>
              <a:chOff x="1055160" y="6202440"/>
              <a:chExt cx="531720" cy="655200"/>
            </a:xfrm>
          </p:grpSpPr>
          <p:sp>
            <p:nvSpPr>
              <p:cNvPr id="166" name="未知"/>
              <p:cNvSpPr/>
              <p:nvPr/>
            </p:nvSpPr>
            <p:spPr>
              <a:xfrm rot="18580800">
                <a:off x="1133280" y="6222960"/>
                <a:ext cx="167040" cy="28224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 rot="2400000">
                <a:off x="1348560" y="6222960"/>
                <a:ext cx="167040" cy="28224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8" name="Rectangle 6"/>
              <p:cNvSpPr/>
              <p:nvPr/>
            </p:nvSpPr>
            <p:spPr>
              <a:xfrm>
                <a:off x="1321920" y="6467400"/>
                <a:ext cx="31680" cy="39024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69" name="Rectangle 7"/>
            <p:cNvSpPr/>
            <p:nvPr/>
          </p:nvSpPr>
          <p:spPr>
            <a:xfrm>
              <a:off x="0" y="6815160"/>
              <a:ext cx="1320480" cy="42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0" y="6705720"/>
              <a:ext cx="1320480" cy="5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 flipH="1">
              <a:off x="1320840" y="6756480"/>
              <a:ext cx="3885840" cy="6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72" name="Group 10"/>
          <p:cNvGrpSpPr/>
          <p:nvPr/>
        </p:nvGrpSpPr>
        <p:grpSpPr>
          <a:xfrm>
            <a:off x="0" y="0"/>
            <a:ext cx="9143640" cy="586800"/>
            <a:chOff x="0" y="0"/>
            <a:chExt cx="9143640" cy="586800"/>
          </a:xfrm>
        </p:grpSpPr>
        <p:sp>
          <p:nvSpPr>
            <p:cNvPr id="173" name="Rectangle 11"/>
            <p:cNvSpPr/>
            <p:nvPr/>
          </p:nvSpPr>
          <p:spPr>
            <a:xfrm>
              <a:off x="0" y="0"/>
              <a:ext cx="9143640" cy="3794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0" y="268920"/>
              <a:ext cx="914364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75" name="Group 18"/>
          <p:cNvGrpSpPr/>
          <p:nvPr/>
        </p:nvGrpSpPr>
        <p:grpSpPr>
          <a:xfrm>
            <a:off x="7795440" y="-15480"/>
            <a:ext cx="1239120" cy="573840"/>
            <a:chOff x="7795440" y="-15480"/>
            <a:chExt cx="1239120" cy="573840"/>
          </a:xfrm>
        </p:grpSpPr>
        <p:grpSp>
          <p:nvGrpSpPr>
            <p:cNvPr id="176" name="Group 19"/>
            <p:cNvGrpSpPr/>
            <p:nvPr/>
          </p:nvGrpSpPr>
          <p:grpSpPr>
            <a:xfrm>
              <a:off x="7795440" y="-15480"/>
              <a:ext cx="451440" cy="573840"/>
              <a:chOff x="7795440" y="-15480"/>
              <a:chExt cx="451440" cy="573840"/>
            </a:xfrm>
          </p:grpSpPr>
          <p:sp>
            <p:nvSpPr>
              <p:cNvPr id="177" name="未知"/>
              <p:cNvSpPr/>
              <p:nvPr/>
            </p:nvSpPr>
            <p:spPr>
              <a:xfrm rot="18580800">
                <a:off x="7865640" y="0"/>
                <a:ext cx="138600" cy="24840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 rot="2400000">
                <a:off x="8044560" y="0"/>
                <a:ext cx="138600" cy="24840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8022240" y="214920"/>
                <a:ext cx="26280" cy="343440"/>
              </a:xfrm>
              <a:prstGeom prst="rect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80" name="Group 23"/>
            <p:cNvGrpSpPr/>
            <p:nvPr/>
          </p:nvGrpSpPr>
          <p:grpSpPr>
            <a:xfrm>
              <a:off x="8188920" y="-15480"/>
              <a:ext cx="451800" cy="573840"/>
              <a:chOff x="8188920" y="-15480"/>
              <a:chExt cx="451800" cy="573840"/>
            </a:xfrm>
          </p:grpSpPr>
          <p:sp>
            <p:nvSpPr>
              <p:cNvPr id="181" name="未知"/>
              <p:cNvSpPr/>
              <p:nvPr/>
            </p:nvSpPr>
            <p:spPr>
              <a:xfrm rot="18580800">
                <a:off x="8259120" y="0"/>
                <a:ext cx="138600" cy="24840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 rot="2400000">
                <a:off x="8438400" y="0"/>
                <a:ext cx="138600" cy="24840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8416080" y="214920"/>
                <a:ext cx="26280" cy="343440"/>
              </a:xfrm>
              <a:prstGeom prst="rect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84" name="Group 27"/>
            <p:cNvGrpSpPr/>
            <p:nvPr/>
          </p:nvGrpSpPr>
          <p:grpSpPr>
            <a:xfrm>
              <a:off x="8582760" y="-15480"/>
              <a:ext cx="451800" cy="573840"/>
              <a:chOff x="8582760" y="-15480"/>
              <a:chExt cx="451800" cy="573840"/>
            </a:xfrm>
          </p:grpSpPr>
          <p:sp>
            <p:nvSpPr>
              <p:cNvPr id="185" name="未知"/>
              <p:cNvSpPr/>
              <p:nvPr/>
            </p:nvSpPr>
            <p:spPr>
              <a:xfrm rot="18580800">
                <a:off x="8652960" y="0"/>
                <a:ext cx="138600" cy="24840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 rot="2400000">
                <a:off x="8832240" y="0"/>
                <a:ext cx="138600" cy="24840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8809560" y="214920"/>
                <a:ext cx="26280" cy="343440"/>
              </a:xfrm>
              <a:prstGeom prst="rect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C826C5-B758-4183-8E67-5BA55DA8C4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026" descr="2009042317580015"/>
          <p:cNvPicPr/>
          <p:nvPr/>
        </p:nvPicPr>
        <p:blipFill>
          <a:blip r:embed="rId1"/>
          <a:stretch/>
        </p:blipFill>
        <p:spPr>
          <a:xfrm>
            <a:off x="-30240" y="0"/>
            <a:ext cx="9173880" cy="6930720"/>
          </a:xfrm>
          <a:prstGeom prst="rect">
            <a:avLst/>
          </a:prstGeom>
          <a:ln w="9525">
            <a:noFill/>
          </a:ln>
        </p:spPr>
      </p:pic>
      <p:sp>
        <p:nvSpPr>
          <p:cNvPr id="230" name="Text Box 1029"/>
          <p:cNvSpPr/>
          <p:nvPr/>
        </p:nvSpPr>
        <p:spPr>
          <a:xfrm>
            <a:off x="1352520" y="1357200"/>
            <a:ext cx="6408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家都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9"/>
          <p:cNvSpPr/>
          <p:nvPr/>
        </p:nvSpPr>
        <p:spPr>
          <a:xfrm>
            <a:off x="2857680" y="616572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1692360" y="1773360"/>
            <a:ext cx="7127640" cy="280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人玩，挺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悄悄地，独自一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可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……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34920" y="0"/>
          <a:ext cx="9021240" cy="6768720"/>
        </p:xfrm>
        <a:graphic>
          <a:graphicData uri="http://schemas.openxmlformats.org/presentationml/2006/ole">
            <p:oleObj progId="Paint.Picture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0"/>
                    <a:ext cx="9021240" cy="67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4"/>
          <p:cNvSpPr/>
          <p:nvPr/>
        </p:nvSpPr>
        <p:spPr>
          <a:xfrm>
            <a:off x="2987640" y="1628640"/>
            <a:ext cx="5903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人玩，真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些事儿，要两个人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象棋、打乒乓、讲故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悄悄话儿一起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1763640" y="2133720"/>
            <a:ext cx="68400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人玩，真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些事儿，要两个人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悄悄话儿一起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34920" y="-93600"/>
          <a:ext cx="9107280" cy="6953040"/>
        </p:xfrm>
        <a:graphic>
          <a:graphicData uri="http://schemas.openxmlformats.org/presentationml/2006/ole">
            <p:oleObj progId="Paint.Picture"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-93600"/>
                    <a:ext cx="9107280" cy="69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4"/>
          <p:cNvSpPr/>
          <p:nvPr/>
        </p:nvSpPr>
        <p:spPr>
          <a:xfrm>
            <a:off x="468360" y="2494080"/>
            <a:ext cx="4571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人玩，很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人成众玩法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跳皮筋，掰手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家家，学唱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2484360" y="1628640"/>
            <a:ext cx="532728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人玩，很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人成众玩法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305" name="Object 3"/>
          <p:cNvGraphicFramePr/>
          <p:nvPr/>
        </p:nvGraphicFramePr>
        <p:xfrm>
          <a:off x="1440" y="1440"/>
          <a:ext cx="9151560" cy="6813360"/>
        </p:xfrm>
        <a:graphic>
          <a:graphicData uri="http://schemas.openxmlformats.org/presentationml/2006/ole">
            <p:oleObj progId="Paint.Picture" r:id="rId1" spid="">
              <p:embed/>
              <p:pic>
                <p:nvPicPr>
                  <p:cNvPr id="3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9151560" cy="68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5"/>
          <p:cNvSpPr/>
          <p:nvPr/>
        </p:nvSpPr>
        <p:spPr>
          <a:xfrm>
            <a:off x="2411280" y="1486080"/>
            <a:ext cx="4571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人玩，更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丢手绢，赛拔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人想出新玩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家都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2627280" y="2133720"/>
            <a:ext cx="5544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人玩，更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人想出新玩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家都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2700360" y="1197000"/>
            <a:ext cx="590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人玩，挺快乐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700360" y="2205000"/>
            <a:ext cx="568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人玩，真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2627280" y="3284640"/>
            <a:ext cx="590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人玩，很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2627280" y="4221000"/>
            <a:ext cx="5832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人玩，更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4788000" y="1557360"/>
            <a:ext cx="79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4865040" y="3716280"/>
            <a:ext cx="40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4865040" y="2708280"/>
            <a:ext cx="40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4773600" y="4653000"/>
            <a:ext cx="590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5"/>
          <p:cNvSpPr/>
          <p:nvPr/>
        </p:nvSpPr>
        <p:spPr>
          <a:xfrm>
            <a:off x="1332000" y="1484280"/>
            <a:ext cx="489564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612720" y="333360"/>
            <a:ext cx="338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练一练 说一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492360" y="1628640"/>
            <a:ext cx="388728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挺喜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真喜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很喜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最喜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5"/>
          <p:cNvSpPr/>
          <p:nvPr/>
        </p:nvSpPr>
        <p:spPr>
          <a:xfrm>
            <a:off x="1332000" y="1484280"/>
            <a:ext cx="489564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612720" y="333360"/>
            <a:ext cx="338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练一练 说一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3492360" y="1628640"/>
            <a:ext cx="388728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挺喜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真喜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很喜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最喜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9"/>
          <p:cNvSpPr/>
          <p:nvPr/>
        </p:nvSpPr>
        <p:spPr>
          <a:xfrm>
            <a:off x="1317600" y="5877000"/>
            <a:ext cx="1079280" cy="21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2009042317580015"/>
          <p:cNvPicPr/>
          <p:nvPr/>
        </p:nvPicPr>
        <p:blipFill>
          <a:blip r:embed="rId1"/>
          <a:stretch/>
        </p:blipFill>
        <p:spPr>
          <a:xfrm>
            <a:off x="0" y="0"/>
            <a:ext cx="9251640" cy="6860880"/>
          </a:xfrm>
          <a:prstGeom prst="rect">
            <a:avLst/>
          </a:prstGeom>
          <a:ln w="9525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324000" y="46080"/>
            <a:ext cx="5256000" cy="280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人玩，挺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悄悄地，独自一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好折纸船、纸马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可以踢毽子、听广播……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96720" y="3718080"/>
            <a:ext cx="4606560" cy="118692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人玩，真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些事儿，要两个人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象棋、打乒乓、讲故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悄悄话儿一起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292720" y="981000"/>
            <a:ext cx="457164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人玩，很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人成众玩法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跳皮筋，掰手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家家，学唱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5219640" y="3789360"/>
            <a:ext cx="4571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人玩，最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丢手绢，赛拔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人想出新玩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家都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684360" y="260280"/>
            <a:ext cx="4752720" cy="280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人玩，挺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悄悄地，独自一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可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……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755640" y="3500280"/>
            <a:ext cx="4247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人玩，真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些事儿，要两个人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悄悄话儿一起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5724360" y="1197000"/>
            <a:ext cx="457164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人玩，很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人成众玩法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5651640" y="3573360"/>
            <a:ext cx="4571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人玩，最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人想出新玩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家都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3348000" y="189000"/>
            <a:ext cx="352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 家 都 快 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4360" y="260280"/>
            <a:ext cx="4752720" cy="280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人玩，挺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悄悄地，独自一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可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……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755640" y="3500280"/>
            <a:ext cx="4247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人玩，真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些事儿，要两个人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悄悄话儿一起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5219640" y="1197000"/>
            <a:ext cx="457164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人玩，很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人成众玩法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5219640" y="3429000"/>
            <a:ext cx="4571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人玩，最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人想出新玩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家都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3348000" y="189000"/>
            <a:ext cx="352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 家 都 快 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1658520" y="198900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堆积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3076200" y="198900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练书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000880" y="242100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3363480" y="242100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听音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5524200" y="189216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捉迷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1060200" y="419580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围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2379240" y="419580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翻花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3723840" y="419580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笑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6843240" y="189216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摸瞎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5547960" y="227664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玩沙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843240" y="227664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跳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5524200" y="376380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篮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6843240" y="376380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踢足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2009042317580015"/>
          <p:cNvPicPr/>
          <p:nvPr/>
        </p:nvPicPr>
        <p:blipFill>
          <a:blip r:embed="rId1"/>
          <a:stretch/>
        </p:blipFill>
        <p:spPr>
          <a:xfrm>
            <a:off x="108000" y="-22320"/>
            <a:ext cx="9143640" cy="6856200"/>
          </a:xfrm>
          <a:prstGeom prst="rect">
            <a:avLst/>
          </a:prstGeom>
          <a:ln w="9525">
            <a:noFill/>
          </a:ln>
        </p:spPr>
      </p:pic>
      <p:sp>
        <p:nvSpPr>
          <p:cNvPr id="347" name="Rectangle 3"/>
          <p:cNvSpPr/>
          <p:nvPr/>
        </p:nvSpPr>
        <p:spPr>
          <a:xfrm>
            <a:off x="324000" y="117360"/>
            <a:ext cx="5256000" cy="280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人玩，挺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悄悄地，独自一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好折纸船、纸马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可以踢毽子、听广播……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396720" y="3718080"/>
            <a:ext cx="4824000" cy="118692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人玩，真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些事儿，要两个人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象棋、打乒乓、讲故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悄悄话儿一起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5292720" y="981000"/>
            <a:ext cx="457164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人玩，很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人成众玩法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跳皮筋，掰手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家家，学唱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5219640" y="3789360"/>
            <a:ext cx="4571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人玩，最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丢手绢，赛拔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人想出新玩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家都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84280" y="0"/>
            <a:ext cx="8229240" cy="5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华文细黑"/>
            </a:endParaRPr>
          </a:p>
        </p:txBody>
      </p:sp>
      <p:grpSp>
        <p:nvGrpSpPr>
          <p:cNvPr id="352" name="Group 3"/>
          <p:cNvGrpSpPr/>
          <p:nvPr/>
        </p:nvGrpSpPr>
        <p:grpSpPr>
          <a:xfrm>
            <a:off x="2771640" y="1917720"/>
            <a:ext cx="3384360" cy="3362040"/>
            <a:chOff x="2771640" y="1917720"/>
            <a:chExt cx="3384360" cy="3362040"/>
          </a:xfrm>
        </p:grpSpPr>
        <p:sp>
          <p:nvSpPr>
            <p:cNvPr id="353" name="Rectangle 4"/>
            <p:cNvSpPr/>
            <p:nvPr/>
          </p:nvSpPr>
          <p:spPr>
            <a:xfrm>
              <a:off x="2775960" y="1917720"/>
              <a:ext cx="3368160" cy="336204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5"/>
            <p:cNvSpPr/>
            <p:nvPr/>
          </p:nvSpPr>
          <p:spPr>
            <a:xfrm>
              <a:off x="2771640" y="3602880"/>
              <a:ext cx="3384360" cy="36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55" name="Line 6"/>
            <p:cNvSpPr/>
            <p:nvPr/>
          </p:nvSpPr>
          <p:spPr>
            <a:xfrm>
              <a:off x="4453920" y="1929600"/>
              <a:ext cx="7920" cy="333828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56" name="Text Box 7"/>
          <p:cNvSpPr/>
          <p:nvPr/>
        </p:nvSpPr>
        <p:spPr>
          <a:xfrm>
            <a:off x="4782960" y="3321360"/>
            <a:ext cx="3776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2771640" y="3573360"/>
            <a:ext cx="3384360" cy="1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4500360" y="1917360"/>
            <a:ext cx="360" cy="3362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6013440" y="622440"/>
            <a:ext cx="3025440" cy="20156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9525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写的“      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好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1" descr="未命名"/>
          <p:cNvPicPr/>
          <p:nvPr/>
        </p:nvPicPr>
        <p:blipFill>
          <a:blip r:embed="rId1"/>
          <a:srcRect l="0" t="0" r="0" b="16662"/>
          <a:stretch/>
        </p:blipFill>
        <p:spPr>
          <a:xfrm>
            <a:off x="7597800" y="1125360"/>
            <a:ext cx="723600" cy="398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2771640" y="1917720"/>
            <a:ext cx="3384360" cy="3362040"/>
            <a:chOff x="2771640" y="1917720"/>
            <a:chExt cx="3384360" cy="3362040"/>
          </a:xfrm>
        </p:grpSpPr>
        <p:sp>
          <p:nvSpPr>
            <p:cNvPr id="362" name="Rectangle 3"/>
            <p:cNvSpPr/>
            <p:nvPr/>
          </p:nvSpPr>
          <p:spPr>
            <a:xfrm>
              <a:off x="2775960" y="1917720"/>
              <a:ext cx="3368160" cy="336204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"/>
            <p:cNvSpPr/>
            <p:nvPr/>
          </p:nvSpPr>
          <p:spPr>
            <a:xfrm>
              <a:off x="2771640" y="3602880"/>
              <a:ext cx="3384360" cy="36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4" name="Line 5"/>
            <p:cNvSpPr/>
            <p:nvPr/>
          </p:nvSpPr>
          <p:spPr>
            <a:xfrm>
              <a:off x="4453920" y="1929600"/>
              <a:ext cx="7920" cy="333828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65" name="Text Box 6"/>
          <p:cNvSpPr/>
          <p:nvPr/>
        </p:nvSpPr>
        <p:spPr>
          <a:xfrm>
            <a:off x="4709880" y="3249360"/>
            <a:ext cx="3776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7"/>
          <p:cNvSpPr/>
          <p:nvPr/>
        </p:nvSpPr>
        <p:spPr>
          <a:xfrm>
            <a:off x="2771640" y="3573360"/>
            <a:ext cx="3384360" cy="1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67" name="Line 8"/>
          <p:cNvSpPr/>
          <p:nvPr/>
        </p:nvSpPr>
        <p:spPr>
          <a:xfrm>
            <a:off x="4500360" y="1917360"/>
            <a:ext cx="360" cy="3362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2771640" y="1917720"/>
            <a:ext cx="3384360" cy="3362040"/>
            <a:chOff x="2771640" y="1917720"/>
            <a:chExt cx="3384360" cy="3362040"/>
          </a:xfrm>
        </p:grpSpPr>
        <p:sp>
          <p:nvSpPr>
            <p:cNvPr id="369" name="Rectangle 3"/>
            <p:cNvSpPr/>
            <p:nvPr/>
          </p:nvSpPr>
          <p:spPr>
            <a:xfrm>
              <a:off x="2775960" y="1917720"/>
              <a:ext cx="3368160" cy="336204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"/>
            <p:cNvSpPr/>
            <p:nvPr/>
          </p:nvSpPr>
          <p:spPr>
            <a:xfrm>
              <a:off x="2771640" y="3602880"/>
              <a:ext cx="3384360" cy="36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1" name="Line 5"/>
            <p:cNvSpPr/>
            <p:nvPr/>
          </p:nvSpPr>
          <p:spPr>
            <a:xfrm>
              <a:off x="4453920" y="1929600"/>
              <a:ext cx="7920" cy="333828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72" name="Text Box 6"/>
          <p:cNvSpPr/>
          <p:nvPr/>
        </p:nvSpPr>
        <p:spPr>
          <a:xfrm>
            <a:off x="4854240" y="3388320"/>
            <a:ext cx="3776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2771640" y="3573360"/>
            <a:ext cx="3384360" cy="1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4500360" y="1917360"/>
            <a:ext cx="360" cy="3362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2771640" y="1917720"/>
            <a:ext cx="3384360" cy="3362040"/>
            <a:chOff x="2771640" y="1917720"/>
            <a:chExt cx="3384360" cy="3362040"/>
          </a:xfrm>
        </p:grpSpPr>
        <p:sp>
          <p:nvSpPr>
            <p:cNvPr id="376" name="Rectangle 3"/>
            <p:cNvSpPr/>
            <p:nvPr/>
          </p:nvSpPr>
          <p:spPr>
            <a:xfrm>
              <a:off x="2775960" y="1917720"/>
              <a:ext cx="3368160" cy="336204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"/>
            <p:cNvSpPr/>
            <p:nvPr/>
          </p:nvSpPr>
          <p:spPr>
            <a:xfrm>
              <a:off x="2771640" y="3602880"/>
              <a:ext cx="3384360" cy="36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453920" y="1929600"/>
              <a:ext cx="7920" cy="333828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79" name="Text Box 6"/>
          <p:cNvSpPr/>
          <p:nvPr/>
        </p:nvSpPr>
        <p:spPr>
          <a:xfrm>
            <a:off x="4782960" y="3316680"/>
            <a:ext cx="3776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"/>
          <p:cNvSpPr/>
          <p:nvPr/>
        </p:nvSpPr>
        <p:spPr>
          <a:xfrm>
            <a:off x="2771640" y="3573360"/>
            <a:ext cx="3384360" cy="1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4500360" y="1917360"/>
            <a:ext cx="360" cy="3362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2771640" y="1917720"/>
            <a:ext cx="3384360" cy="3362040"/>
            <a:chOff x="2771640" y="1917720"/>
            <a:chExt cx="3384360" cy="3362040"/>
          </a:xfrm>
        </p:grpSpPr>
        <p:sp>
          <p:nvSpPr>
            <p:cNvPr id="383" name="Rectangle 3"/>
            <p:cNvSpPr/>
            <p:nvPr/>
          </p:nvSpPr>
          <p:spPr>
            <a:xfrm>
              <a:off x="2775960" y="1917720"/>
              <a:ext cx="3368160" cy="336204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4"/>
            <p:cNvSpPr/>
            <p:nvPr/>
          </p:nvSpPr>
          <p:spPr>
            <a:xfrm>
              <a:off x="2771640" y="3602880"/>
              <a:ext cx="3384360" cy="36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5" name="Line 5"/>
            <p:cNvSpPr/>
            <p:nvPr/>
          </p:nvSpPr>
          <p:spPr>
            <a:xfrm>
              <a:off x="4453920" y="1929600"/>
              <a:ext cx="7920" cy="333828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86" name="Text Box 6"/>
          <p:cNvSpPr/>
          <p:nvPr/>
        </p:nvSpPr>
        <p:spPr>
          <a:xfrm>
            <a:off x="4854240" y="3321360"/>
            <a:ext cx="3776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"/>
          <p:cNvSpPr/>
          <p:nvPr/>
        </p:nvSpPr>
        <p:spPr>
          <a:xfrm>
            <a:off x="2771640" y="3573360"/>
            <a:ext cx="3384360" cy="1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4500360" y="1917360"/>
            <a:ext cx="360" cy="3362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2771640" y="1917720"/>
            <a:ext cx="3384360" cy="3362040"/>
            <a:chOff x="2771640" y="1917720"/>
            <a:chExt cx="3384360" cy="3362040"/>
          </a:xfrm>
        </p:grpSpPr>
        <p:sp>
          <p:nvSpPr>
            <p:cNvPr id="390" name="Rectangle 3"/>
            <p:cNvSpPr/>
            <p:nvPr/>
          </p:nvSpPr>
          <p:spPr>
            <a:xfrm>
              <a:off x="2775960" y="1917720"/>
              <a:ext cx="3368160" cy="336204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"/>
            <p:cNvSpPr/>
            <p:nvPr/>
          </p:nvSpPr>
          <p:spPr>
            <a:xfrm>
              <a:off x="2771640" y="3602880"/>
              <a:ext cx="3384360" cy="36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2" name="Line 5"/>
            <p:cNvSpPr/>
            <p:nvPr/>
          </p:nvSpPr>
          <p:spPr>
            <a:xfrm>
              <a:off x="4453920" y="1929600"/>
              <a:ext cx="7920" cy="333828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93" name="Text Box 6"/>
          <p:cNvSpPr/>
          <p:nvPr/>
        </p:nvSpPr>
        <p:spPr>
          <a:xfrm>
            <a:off x="4709880" y="3249360"/>
            <a:ext cx="3776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"/>
          <p:cNvSpPr/>
          <p:nvPr/>
        </p:nvSpPr>
        <p:spPr>
          <a:xfrm>
            <a:off x="2771640" y="3573360"/>
            <a:ext cx="3384360" cy="1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95" name="Line 8"/>
          <p:cNvSpPr/>
          <p:nvPr/>
        </p:nvSpPr>
        <p:spPr>
          <a:xfrm>
            <a:off x="4500360" y="1917360"/>
            <a:ext cx="360" cy="3362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2771640" y="1917720"/>
            <a:ext cx="3384360" cy="3362040"/>
            <a:chOff x="2771640" y="1917720"/>
            <a:chExt cx="3384360" cy="3362040"/>
          </a:xfrm>
        </p:grpSpPr>
        <p:sp>
          <p:nvSpPr>
            <p:cNvPr id="397" name="Rectangle 3"/>
            <p:cNvSpPr/>
            <p:nvPr/>
          </p:nvSpPr>
          <p:spPr>
            <a:xfrm>
              <a:off x="2775960" y="1917720"/>
              <a:ext cx="3368160" cy="3362040"/>
            </a:xfrm>
            <a:prstGeom prst="rect">
              <a:avLst/>
            </a:prstGeom>
            <a:solidFill>
              <a:srgbClr val="ffffff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"/>
            <p:cNvSpPr/>
            <p:nvPr/>
          </p:nvSpPr>
          <p:spPr>
            <a:xfrm>
              <a:off x="2771640" y="3602880"/>
              <a:ext cx="3384360" cy="36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99" name="Line 5"/>
            <p:cNvSpPr/>
            <p:nvPr/>
          </p:nvSpPr>
          <p:spPr>
            <a:xfrm>
              <a:off x="4453920" y="1929600"/>
              <a:ext cx="7920" cy="3338280"/>
            </a:xfrm>
            <a:prstGeom prst="line">
              <a:avLst/>
            </a:prstGeom>
            <a:ln cap="rnd" w="1905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00" name="Text Box 6"/>
          <p:cNvSpPr/>
          <p:nvPr/>
        </p:nvSpPr>
        <p:spPr>
          <a:xfrm>
            <a:off x="4954320" y="3321360"/>
            <a:ext cx="3776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7"/>
          <p:cNvSpPr/>
          <p:nvPr/>
        </p:nvSpPr>
        <p:spPr>
          <a:xfrm>
            <a:off x="2771640" y="3573360"/>
            <a:ext cx="3384360" cy="1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4500360" y="1917360"/>
            <a:ext cx="360" cy="3362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09042317580015"/>
          <p:cNvPicPr/>
          <p:nvPr/>
        </p:nvPicPr>
        <p:blipFill>
          <a:blip r:embed="rId1"/>
          <a:stretch/>
        </p:blipFill>
        <p:spPr>
          <a:xfrm>
            <a:off x="108000" y="-22320"/>
            <a:ext cx="9143640" cy="6856200"/>
          </a:xfrm>
          <a:prstGeom prst="rect">
            <a:avLst/>
          </a:prstGeom>
          <a:ln w="9525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324000" y="117360"/>
            <a:ext cx="5256000" cy="280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人玩，挺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悄悄地，独自一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好折纸船、纸马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可以踢毽子、听广播……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6720" y="3718080"/>
            <a:ext cx="4824000" cy="118692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人玩，真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些事儿，要两个人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象棋、打乒乓、讲故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悄悄话儿一起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5292720" y="981000"/>
            <a:ext cx="457164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人玩，很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人成众玩法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跳皮筋，掰手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家家，学唱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5219640" y="3789360"/>
            <a:ext cx="4571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人玩，最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丢手绢，赛拔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人想出新玩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家都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-12600"/>
            <a:ext cx="7772040" cy="113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1080" y="1484280"/>
            <a:ext cx="8675280" cy="439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静悄悄     独自     折纸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踢毽子     听广播   下象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打乒乓     讲故事   跳皮筋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掰手腕     丢手绢   赛拔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5"/>
          <p:cNvSpPr/>
          <p:nvPr/>
        </p:nvSpPr>
        <p:spPr>
          <a:xfrm>
            <a:off x="1908000" y="148428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悄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4211640" y="148428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独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7"/>
          <p:cNvSpPr/>
          <p:nvPr/>
        </p:nvSpPr>
        <p:spPr>
          <a:xfrm>
            <a:off x="6443640" y="155736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折纸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1908000" y="250524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踢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0"/>
          <p:cNvSpPr/>
          <p:nvPr/>
        </p:nvSpPr>
        <p:spPr>
          <a:xfrm>
            <a:off x="4211640" y="256536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听广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1"/>
          <p:cNvSpPr/>
          <p:nvPr/>
        </p:nvSpPr>
        <p:spPr>
          <a:xfrm>
            <a:off x="6443640" y="257652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乒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1908000" y="357336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掰手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4284720" y="357336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赛拔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5"/>
          <p:cNvSpPr/>
          <p:nvPr/>
        </p:nvSpPr>
        <p:spPr>
          <a:xfrm>
            <a:off x="1908000" y="148428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悄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4211640" y="148428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独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7"/>
          <p:cNvSpPr/>
          <p:nvPr/>
        </p:nvSpPr>
        <p:spPr>
          <a:xfrm>
            <a:off x="6443640" y="155736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折纸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9"/>
          <p:cNvSpPr/>
          <p:nvPr/>
        </p:nvSpPr>
        <p:spPr>
          <a:xfrm>
            <a:off x="1908000" y="250524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踢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4211640" y="256536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听广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6443640" y="257652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乒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1908000" y="357336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掰手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4284720" y="357336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赛拔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1476360" y="836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3276720" y="836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广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5148360" y="836640"/>
            <a:ext cx="2376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讲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1476360" y="220500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众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3276720" y="220500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219640" y="2205000"/>
            <a:ext cx="223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唱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1476360" y="371628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3348000" y="371628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5292720" y="3716280"/>
            <a:ext cx="2158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547640" y="620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3708360" y="620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广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5724360" y="620640"/>
            <a:ext cx="2376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讲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547640" y="488160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众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3851280" y="4869000"/>
            <a:ext cx="1512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5796000" y="2433600"/>
            <a:ext cx="223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唱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1547640" y="400536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3708360" y="3284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5867280" y="4089240"/>
            <a:ext cx="2160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3708360" y="243360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1547640" y="322596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广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5940360" y="4941720"/>
            <a:ext cx="2376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讲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1547640" y="148428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众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3708360" y="148428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5724360" y="1568520"/>
            <a:ext cx="223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唱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5940360" y="32972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1547640" y="234936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3492360" y="4076640"/>
            <a:ext cx="2158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290" name="Object 4"/>
          <p:cNvGraphicFramePr/>
          <p:nvPr/>
        </p:nvGraphicFramePr>
        <p:xfrm>
          <a:off x="-30240" y="0"/>
          <a:ext cx="9212040" cy="6857640"/>
        </p:xfrm>
        <a:graphic>
          <a:graphicData uri="http://schemas.openxmlformats.org/presentationml/2006/ole">
            <p:oleObj progId="Paint.Picture" r:id="rId1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240" y="0"/>
                    <a:ext cx="9212040" cy="68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矩形 7"/>
          <p:cNvSpPr/>
          <p:nvPr/>
        </p:nvSpPr>
        <p:spPr>
          <a:xfrm>
            <a:off x="2771640" y="1773360"/>
            <a:ext cx="6048000" cy="120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60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人玩，挺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悄悄地，独自一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好折纸船、纸马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可以踢毽子、听广播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_2">
  <a:themeElements>
    <a:clrScheme name="默认设计模板_2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默认设计模板_3">
  <a:themeElements>
    <a:clrScheme name="默认设计模板_3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0</Pages>
  <Words>1176</Words>
  <Characters>0</Characters>
  <CharactersWithSpaces>0</CharactersWithSpaces>
  <Paragraphs>2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12-05-28T20:20:12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cp:lastPrinted>1899-12-30T00:00:00Z</cp:lastPrinted>
  <dcterms:modified xsi:type="dcterms:W3CDTF">2021-07-29T11:20:35Z</dcterms:modified>
  <cp:revision>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  <property fmtid="{D5CDD505-2E9C-101B-9397-08002B2CF9AE}" pid="3" name="PresentationFormat">
    <vt:lpwstr>全屏显示(4:3)</vt:lpwstr>
  </property>
  <property fmtid="{D5CDD505-2E9C-101B-9397-08002B2CF9AE}" pid="4" name="Slides">
    <vt:r8>30</vt:r8>
  </property>
</Properties>
</file>