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2-02-19T22:47:31.577000000" idx="2">
    <p:pos x="3959" y="360"/>
    <p:text/>
  </p:cm>
</p:cmLst>
</file>

<file path=ppt/comments/comment4.xml><?xml version="1.0" encoding="utf-8"?>
<p:cmLst xmlns:p="http://schemas.openxmlformats.org/presentationml/2006/main">
  <p:cm authorId="0" dt="2012-02-19T22:47:26.497000000" idx="1">
    <p:pos x="5398" y="251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7CE-8357-49BA-9400-DFB20FB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B8C-AEA7-4A9A-B8E7-63C3D75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93B-02E1-4615-9D6A-380E0449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63C-7798-4AEE-861C-18273A02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16DB-0055-4050-BA4F-DA4AF51F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658B-DE19-4B98-A92D-D907B2FE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7FD6-CA45-4BB5-8716-88F8A10F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C78D-27C8-4FDE-AB6A-7E464BE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CF6-9F9E-4014-B507-D7859D97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07A8-F8E9-4535-881F-03456A89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1D4-A9D6-43A8-AE83-6212CBB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92B-F87D-4933-98AC-77351101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D2AA-2689-4A80-A3BB-ECD5836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435-56B3-47EB-B60E-D06705E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103-BA9A-4BB8-B506-7867E9D1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2EA-7554-4CE3-92F9-89D9372D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CFB-9D85-4E42-9D4B-34EB711F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1E3-691D-41E3-A292-6879ED2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6CB-13A0-40F2-B697-B347F50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FC0-AB60-46FD-89BE-3A1530A2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B24-AED2-4B67-A4B3-C559A37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8E3-E99B-46ED-B45C-141F4791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8C0-497B-4631-A177-B5F0B7BB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479-5F2C-4C9A-80B5-E3B6C81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B29124-AA3F-44D9-BBC6-70EA62EFF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AC9D50-13FD-4C4A-A936-FBFDDAD00E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997360"/>
            <a:ext cx="8497440" cy="180000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692360" y="879480"/>
            <a:ext cx="5616360" cy="425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楷体_GB2312"/>
              </a:rPr>
              <a:t>（北师大版）一年级语文下册第十六单元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293480" y="6165720"/>
            <a:ext cx="6414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多特软件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-WWW.DUOT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923640" y="1413000"/>
            <a:ext cx="21013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谁认识它们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43360" y="2786040"/>
            <a:ext cx="3180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众     以     更      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973920" y="214200"/>
            <a:ext cx="2169720" cy="41724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学写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8"/>
          <p:cNvGrpSpPr/>
          <p:nvPr/>
        </p:nvGrpSpPr>
        <p:grpSpPr>
          <a:xfrm>
            <a:off x="2428920" y="2143080"/>
            <a:ext cx="5000400" cy="1285920"/>
            <a:chOff x="2428920" y="2143080"/>
            <a:chExt cx="5000400" cy="1285920"/>
          </a:xfrm>
        </p:grpSpPr>
        <p:grpSp>
          <p:nvGrpSpPr>
            <p:cNvPr id="113" name="Group 8"/>
            <p:cNvGrpSpPr/>
            <p:nvPr/>
          </p:nvGrpSpPr>
          <p:grpSpPr>
            <a:xfrm>
              <a:off x="3709800" y="2205000"/>
              <a:ext cx="1224000" cy="1224000"/>
              <a:chOff x="3709800" y="2205000"/>
              <a:chExt cx="1224000" cy="1224000"/>
            </a:xfrm>
          </p:grpSpPr>
          <p:sp>
            <p:nvSpPr>
              <p:cNvPr id="114" name="Rectangle 9"/>
              <p:cNvSpPr/>
              <p:nvPr/>
            </p:nvSpPr>
            <p:spPr>
              <a:xfrm>
                <a:off x="3710160" y="2205000"/>
                <a:ext cx="1223640" cy="122364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15" name="Line 10"/>
              <p:cNvSpPr/>
              <p:nvPr/>
            </p:nvSpPr>
            <p:spPr>
              <a:xfrm flipH="1">
                <a:off x="3709800" y="2817000"/>
                <a:ext cx="1224000" cy="3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16" name="Line 11"/>
              <p:cNvSpPr/>
              <p:nvPr/>
            </p:nvSpPr>
            <p:spPr>
              <a:xfrm>
                <a:off x="4322160" y="2235240"/>
                <a:ext cx="360" cy="11937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</p:grpSp>
        <p:grpSp>
          <p:nvGrpSpPr>
            <p:cNvPr id="117" name="Group 12"/>
            <p:cNvGrpSpPr/>
            <p:nvPr/>
          </p:nvGrpSpPr>
          <p:grpSpPr>
            <a:xfrm>
              <a:off x="2485800" y="2205000"/>
              <a:ext cx="1224000" cy="1224000"/>
              <a:chOff x="2485800" y="2205000"/>
              <a:chExt cx="1224000" cy="1224000"/>
            </a:xfrm>
          </p:grpSpPr>
          <p:sp>
            <p:nvSpPr>
              <p:cNvPr id="118" name="Rectangle 13"/>
              <p:cNvSpPr/>
              <p:nvPr/>
            </p:nvSpPr>
            <p:spPr>
              <a:xfrm>
                <a:off x="2486160" y="2205000"/>
                <a:ext cx="1223640" cy="122364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19" name="Line 14"/>
              <p:cNvSpPr/>
              <p:nvPr/>
            </p:nvSpPr>
            <p:spPr>
              <a:xfrm flipH="1">
                <a:off x="2485800" y="2817000"/>
                <a:ext cx="1224000" cy="3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20" name="Line 15"/>
              <p:cNvSpPr/>
              <p:nvPr/>
            </p:nvSpPr>
            <p:spPr>
              <a:xfrm>
                <a:off x="3098160" y="2235240"/>
                <a:ext cx="360" cy="11937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</p:grpSp>
        <p:grpSp>
          <p:nvGrpSpPr>
            <p:cNvPr id="121" name="Group 16"/>
            <p:cNvGrpSpPr/>
            <p:nvPr/>
          </p:nvGrpSpPr>
          <p:grpSpPr>
            <a:xfrm>
              <a:off x="4933800" y="2205000"/>
              <a:ext cx="1224000" cy="1224000"/>
              <a:chOff x="4933800" y="2205000"/>
              <a:chExt cx="1224000" cy="1224000"/>
            </a:xfrm>
          </p:grpSpPr>
          <p:sp>
            <p:nvSpPr>
              <p:cNvPr id="122" name="Rectangle 17"/>
              <p:cNvSpPr/>
              <p:nvPr/>
            </p:nvSpPr>
            <p:spPr>
              <a:xfrm>
                <a:off x="4933800" y="2205000"/>
                <a:ext cx="1223640" cy="122364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23" name="Line 18"/>
              <p:cNvSpPr/>
              <p:nvPr/>
            </p:nvSpPr>
            <p:spPr>
              <a:xfrm flipH="1">
                <a:off x="4933800" y="2817000"/>
                <a:ext cx="1224000" cy="3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24" name="Line 19"/>
              <p:cNvSpPr/>
              <p:nvPr/>
            </p:nvSpPr>
            <p:spPr>
              <a:xfrm>
                <a:off x="5546160" y="2235240"/>
                <a:ext cx="360" cy="11937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</p:grpSp>
        <p:grpSp>
          <p:nvGrpSpPr>
            <p:cNvPr id="125" name="Group 20"/>
            <p:cNvGrpSpPr/>
            <p:nvPr/>
          </p:nvGrpSpPr>
          <p:grpSpPr>
            <a:xfrm>
              <a:off x="6157800" y="2205000"/>
              <a:ext cx="1224000" cy="1224000"/>
              <a:chOff x="6157800" y="2205000"/>
              <a:chExt cx="1224000" cy="1224000"/>
            </a:xfrm>
          </p:grpSpPr>
          <p:sp>
            <p:nvSpPr>
              <p:cNvPr id="126" name="Rectangle 21"/>
              <p:cNvSpPr/>
              <p:nvPr/>
            </p:nvSpPr>
            <p:spPr>
              <a:xfrm>
                <a:off x="6157800" y="2205000"/>
                <a:ext cx="1223640" cy="122364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 flipH="1">
                <a:off x="6157800" y="2817000"/>
                <a:ext cx="1224000" cy="3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6770160" y="2235240"/>
                <a:ext cx="360" cy="1193760"/>
              </a:xfrm>
              <a:prstGeom prst="line">
                <a:avLst/>
              </a:prstGeom>
              <a:ln w="28575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1" lang="en-US" sz="3600" spc="-1" strike="noStrike">
                  <a:solidFill>
                    <a:srgbClr val="087229"/>
                  </a:solidFill>
                  <a:latin typeface="Arial"/>
                  <a:ea typeface="楷体_GB2312"/>
                </a:endParaRPr>
              </a:p>
            </p:txBody>
          </p:sp>
        </p:grpSp>
        <p:sp>
          <p:nvSpPr>
            <p:cNvPr id="129" name="Text Box 32"/>
            <p:cNvSpPr/>
            <p:nvPr/>
          </p:nvSpPr>
          <p:spPr>
            <a:xfrm>
              <a:off x="2428920" y="2143080"/>
              <a:ext cx="500040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众以更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40"/>
          <p:cNvSpPr/>
          <p:nvPr/>
        </p:nvSpPr>
        <p:spPr>
          <a:xfrm>
            <a:off x="3929040" y="692280"/>
            <a:ext cx="22888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规范写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7"/>
          <p:cNvSpPr/>
          <p:nvPr/>
        </p:nvSpPr>
        <p:spPr>
          <a:xfrm>
            <a:off x="3429000" y="3929040"/>
            <a:ext cx="3744720" cy="11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7200" spc="-1" strike="noStrike">
              <a:solidFill>
                <a:srgbClr val="ff3300"/>
              </a:solidFill>
              <a:latin typeface="Arial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"/>
          <p:cNvSpPr/>
          <p:nvPr/>
        </p:nvSpPr>
        <p:spPr>
          <a:xfrm>
            <a:off x="2556000" y="549360"/>
            <a:ext cx="107928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模板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moban/    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行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模板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hangye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节日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模板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jieri/           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素材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sucai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背景图片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beijing/      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图表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tubiao/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优秀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xiazai/        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教程： 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powerpoint/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ord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教程： 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word/              Excel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教程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excel/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资料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ziliao/                PPT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课件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kejian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范文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fanwen/            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试卷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shiti/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教案下载：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www.1ppt.com/jiaoan/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4" name="Picture 6" descr="《大家都快乐》_背景图1"/>
            <p:cNvPicPr/>
            <p:nvPr/>
          </p:nvPicPr>
          <p:blipFill>
            <a:blip r:embed="rId1"/>
            <a:srcRect l="48916" t="0" r="33888" b="0"/>
            <a:stretch/>
          </p:blipFill>
          <p:spPr>
            <a:xfrm>
              <a:off x="0" y="0"/>
              <a:ext cx="144108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35" name="Picture 5" descr="《大家都快乐》_背景图1"/>
            <p:cNvPicPr/>
            <p:nvPr/>
          </p:nvPicPr>
          <p:blipFill>
            <a:blip r:embed="rId2"/>
            <a:stretch/>
          </p:blipFill>
          <p:spPr>
            <a:xfrm>
              <a:off x="755640" y="0"/>
              <a:ext cx="838800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187280" y="1341360"/>
            <a:ext cx="669744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一个人玩，挺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正好（         ）、纸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还可以（        ）、（       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0" y="0"/>
            <a:ext cx="9164520" cy="6597360"/>
            <a:chOff x="0" y="0"/>
            <a:chExt cx="9164520" cy="6597360"/>
          </a:xfrm>
        </p:grpSpPr>
        <p:pic>
          <p:nvPicPr>
            <p:cNvPr id="139" name="Picture 8" descr="《大家都快乐》_背景图2"/>
            <p:cNvPicPr/>
            <p:nvPr/>
          </p:nvPicPr>
          <p:blipFill>
            <a:blip r:embed="rId1"/>
            <a:srcRect l="-425" t="0" r="15052" b="0"/>
            <a:stretch/>
          </p:blipFill>
          <p:spPr>
            <a:xfrm>
              <a:off x="1622520" y="0"/>
              <a:ext cx="7542000" cy="65973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0" name="Picture 9" descr="《大家都快乐》_背景图2"/>
            <p:cNvPicPr/>
            <p:nvPr/>
          </p:nvPicPr>
          <p:blipFill>
            <a:blip r:embed="rId2"/>
            <a:srcRect l="48183" t="0" r="14097" b="0"/>
            <a:stretch/>
          </p:blipFill>
          <p:spPr>
            <a:xfrm>
              <a:off x="0" y="0"/>
              <a:ext cx="1712520" cy="659736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143080" y="500040"/>
            <a:ext cx="688140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两个人玩，真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（      ）、（       ）、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1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44" name="Picture 9" descr="《大家都快乐》_背景图3"/>
            <p:cNvPicPr/>
            <p:nvPr/>
          </p:nvPicPr>
          <p:blipFill>
            <a:blip r:embed="rId1"/>
            <a:srcRect l="0" t="0" r="63897" b="79849"/>
            <a:stretch/>
          </p:blipFill>
          <p:spPr>
            <a:xfrm>
              <a:off x="0" y="0"/>
              <a:ext cx="9143640" cy="20073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5" name="Picture 8" descr="《大家都快乐》_背景图3"/>
            <p:cNvPicPr/>
            <p:nvPr/>
          </p:nvPicPr>
          <p:blipFill>
            <a:blip r:embed="rId2"/>
            <a:srcRect l="0" t="0" r="0" b="33524"/>
            <a:stretch/>
          </p:blipFill>
          <p:spPr>
            <a:xfrm>
              <a:off x="0" y="2012760"/>
              <a:ext cx="9143640" cy="4844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39640" y="620640"/>
            <a:ext cx="567504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三个人玩，很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三人成众玩法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（         ）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过家家，学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《大家都快乐》_背景图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357280" y="928800"/>
            <a:ext cx="600048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许多人玩，更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（       ），（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官方logo副本"/>
          <p:cNvPicPr/>
          <p:nvPr/>
        </p:nvPicPr>
        <p:blipFill>
          <a:blip r:embed="rId2"/>
          <a:stretch/>
        </p:blipFill>
        <p:spPr>
          <a:xfrm>
            <a:off x="0" y="6664320"/>
            <a:ext cx="250560" cy="1058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0051228114049696"/>
          <p:cNvPicPr/>
          <p:nvPr/>
        </p:nvPicPr>
        <p:blipFill>
          <a:blip r:embed="rId1"/>
          <a:srcRect l="0" t="0" r="0" b="3804"/>
          <a:stretch/>
        </p:blipFill>
        <p:spPr>
          <a:xfrm>
            <a:off x="0" y="0"/>
            <a:ext cx="9143640" cy="7035480"/>
          </a:xfrm>
          <a:prstGeom prst="rect">
            <a:avLst/>
          </a:prstGeom>
          <a:ln w="9525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71600" cy="20714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大家！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pic>
        <p:nvPicPr>
          <p:cNvPr id="154" name="Picture 6" descr="官方logo副本"/>
          <p:cNvPicPr/>
          <p:nvPr/>
        </p:nvPicPr>
        <p:blipFill>
          <a:blip r:embed="rId2"/>
          <a:stretch/>
        </p:blipFill>
        <p:spPr>
          <a:xfrm>
            <a:off x="0" y="6781680"/>
            <a:ext cx="178920" cy="7596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扩词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88960" y="1038240"/>
            <a:ext cx="23756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扩词，看谁最能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333880" y="2205000"/>
            <a:ext cx="4844520" cy="27226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话（　　）（　　）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跳（　　）（　　）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去（　　）（　　）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812680" y="2205000"/>
            <a:ext cx="360720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比较“真、很、更”的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3360" y="766800"/>
            <a:ext cx="9673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讨  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612880" y="3429000"/>
            <a:ext cx="41558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为什么“许多人玩，更快乐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484800" y="907920"/>
            <a:ext cx="21013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谁认识它们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588480" y="1916280"/>
            <a:ext cx="28238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众    以    更     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858400" y="3213000"/>
            <a:ext cx="21013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如何写好他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63400" y="2060640"/>
            <a:ext cx="26499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你们喜欢玩游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6880" y="3503520"/>
            <a:ext cx="24944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喜欢玩什么游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官方logo副本"/>
          <p:cNvPicPr/>
          <p:nvPr/>
        </p:nvPicPr>
        <p:blipFill>
          <a:blip r:embed="rId2"/>
          <a:stretch/>
        </p:blipFill>
        <p:spPr>
          <a:xfrm>
            <a:off x="539640" y="6381720"/>
            <a:ext cx="250560" cy="105840"/>
          </a:xfrm>
          <a:prstGeom prst="rect">
            <a:avLst/>
          </a:prstGeom>
          <a:ln w="9525">
            <a:noFill/>
          </a:ln>
        </p:spPr>
      </p:pic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仿说练习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778280" y="620640"/>
            <a:ext cx="4035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将句子补充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547640" y="2060640"/>
            <a:ext cx="6840000" cy="2942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我挺喜欢（　　　　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我真喜欢（　　　　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我很喜欢（　　　　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我最喜欢（　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偏旁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617000" y="836640"/>
            <a:ext cx="4035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按要求写偏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85240" y="2060640"/>
            <a:ext cx="2467080" cy="436860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口字旁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提手旁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巾字旁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食字旁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折文旁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门字框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20051228114025713"/>
          <p:cNvPicPr/>
          <p:nvPr/>
        </p:nvPicPr>
        <p:blipFill>
          <a:blip r:embed="rId1"/>
          <a:stretch/>
        </p:blipFill>
        <p:spPr>
          <a:xfrm>
            <a:off x="179280" y="189000"/>
            <a:ext cx="8964360" cy="6366960"/>
          </a:xfrm>
          <a:prstGeom prst="rect">
            <a:avLst/>
          </a:prstGeom>
          <a:ln w="9525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拓展学习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pic>
        <p:nvPicPr>
          <p:cNvPr id="174" name="Picture 7" descr="官方logo副本"/>
          <p:cNvPicPr/>
          <p:nvPr/>
        </p:nvPicPr>
        <p:blipFill>
          <a:blip r:embed="rId2"/>
          <a:stretch/>
        </p:blipFill>
        <p:spPr>
          <a:xfrm>
            <a:off x="179280" y="6594480"/>
            <a:ext cx="164880" cy="6948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557880" y="692280"/>
            <a:ext cx="21013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谁认识它们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657960" y="1989000"/>
            <a:ext cx="36100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些   话   象   棋   乒   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903480" y="3284640"/>
            <a:ext cx="29242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有好办法记住它们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43680" y="260280"/>
            <a:ext cx="1552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大家都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11280" y="1197000"/>
            <a:ext cx="525600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一个人玩，挺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静悄悄地，独自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正好折纸船、纸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782240" y="3933720"/>
            <a:ext cx="319860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两个人玩，真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有些事儿，要两个人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下象棋、打乒乓、讲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悄悄话儿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37440" y="0"/>
            <a:ext cx="2806200" cy="47592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初读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571680"/>
            <a:ext cx="385560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三个人玩，很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三人成众玩法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跳皮筋，掰手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过家家，学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284720" y="4005360"/>
            <a:ext cx="3855600" cy="27219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许多人玩，更快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丢手娟，赛拔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人人想出新玩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大家都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40360" y="282600"/>
            <a:ext cx="3093840" cy="5774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初读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词语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38480" y="1413000"/>
            <a:ext cx="3820320" cy="32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9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折纸船　踢毽子  跳皮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听广播   下象棋   打乒乓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掰手腕   丢手绢　赛拔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31200" y="549360"/>
            <a:ext cx="12783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互读生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课文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42960" y="928800"/>
            <a:ext cx="8286480" cy="33814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一个人玩， ──（挺）快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两个人玩，──（真）快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三个人玩，──（很）快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许多人玩，──（更）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58760" y="620640"/>
            <a:ext cx="12783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识字乐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50920" y="1654560"/>
            <a:ext cx="8243640" cy="33260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jìng  qiāo  dú   zhé   tī   guǎng bō  x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静  悄  独  折  踢  广  播  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qí  pīng  pāng zhòng bāi diū  s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棋  乒  乓  众  掰  丢  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21440" y="0"/>
            <a:ext cx="3022200" cy="3614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认读生字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2999880" cy="49968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词语宝库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1000080"/>
            <a:ext cx="7357680" cy="29703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621"/>
              </a:spcBef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静悄悄  独自  折纸  三人成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1"/>
              </a:spcBef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踢毽子  广播  象棋  众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1"/>
              </a:spcBef>
            </a:pPr>
            <a:r>
              <a:rPr b="1" lang="en-US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掰开   丢失   比赛   乒乓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89920" y="0"/>
            <a:ext cx="1953720" cy="417240"/>
          </a:xfrm>
          <a:prstGeom prst="rect">
            <a:avLst/>
          </a:prstGeom>
          <a:noFill/>
          <a:ln w="936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独立识字</a:t>
            </a:r>
            <a:endParaRPr b="0" lang="en-US" sz="4400" spc="-1" strike="noStrike">
              <a:solidFill>
                <a:srgbClr val="087229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85880" y="1714680"/>
            <a:ext cx="7571880" cy="179640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静   悄   独   折   踢   广   播   象   棋   乒   乓   众   掰   丢   拔  赛   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14680" y="642960"/>
            <a:ext cx="603216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抢读生字——我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  <Words>729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5-03-24T11:45:55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1:20:37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4</vt:r8>
  </property>
</Properties>
</file>