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A56-26B4-4100-9874-3F83823A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C9F-A541-42E7-B1E4-72169E01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721-E941-4F87-8970-6085070B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36C-71C6-49E5-820F-CCEAB323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769-D9D3-4F4B-81C3-CB4A9E7B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AA9-5C10-4459-87BB-6963C228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346-9D3C-49B5-AD17-0D821D61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8D9-C68B-47F8-8AA3-42467BEA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F94-562D-46FC-9A18-39F4FD53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9EF-9663-456F-BB44-B5534AD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268-8537-46AF-AA7F-526F74B1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D46-1403-4D3D-8D94-EEB3B0D3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735D23-D98C-4EC7-890C-513FAAC4867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7"/>
          <p:cNvSpPr/>
          <p:nvPr/>
        </p:nvSpPr>
        <p:spPr>
          <a:xfrm>
            <a:off x="6689880" y="5105520"/>
            <a:ext cx="549000" cy="53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274840" y="6093000"/>
            <a:ext cx="44640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多特软件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-WWW.DUOT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ftr" idx="12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90" name="Rectangle 1026"/>
          <p:cNvSpPr/>
          <p:nvPr/>
        </p:nvSpPr>
        <p:spPr>
          <a:xfrm>
            <a:off x="2070720" y="3139920"/>
            <a:ext cx="47984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来了，风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了，风藏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_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28"/>
          <p:cNvSpPr/>
          <p:nvPr/>
        </p:nvSpPr>
        <p:spPr>
          <a:xfrm>
            <a:off x="3336840" y="3276720"/>
            <a:ext cx="549000" cy="312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2895480" y="3124080"/>
            <a:ext cx="12189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雨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30"/>
          <p:cNvSpPr/>
          <p:nvPr/>
        </p:nvSpPr>
        <p:spPr>
          <a:xfrm>
            <a:off x="4191120" y="3124080"/>
            <a:ext cx="761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31"/>
          <p:cNvSpPr/>
          <p:nvPr/>
        </p:nvSpPr>
        <p:spPr>
          <a:xfrm>
            <a:off x="6858000" y="3124080"/>
            <a:ext cx="2285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斜斜的雨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91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ftr" idx="13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3139920"/>
            <a:ext cx="82706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来了，风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了，风藏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438280" y="3124080"/>
            <a:ext cx="159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886200" y="3124080"/>
            <a:ext cx="1066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477120" y="3200400"/>
            <a:ext cx="3047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呼呼直转的风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619280" y="1752480"/>
            <a:ext cx="70671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来了，风把旗子吹飘起来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藏在飘扬的旗子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619280" y="2971800"/>
            <a:ext cx="73116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来了，风把小树吹弯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藏在弯弯的树叶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619280" y="4191120"/>
            <a:ext cx="73292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来了，风把雨丝吹斜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藏在斜斜的雨丝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547640" y="5445000"/>
            <a:ext cx="65289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来了，风把风车吹转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藏在呼呼直转的风车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43200" y="990720"/>
            <a:ext cx="2590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  来  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15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107" name="Picture 7" descr="11"/>
          <p:cNvPicPr/>
          <p:nvPr/>
        </p:nvPicPr>
        <p:blipFill>
          <a:blip r:embed="rId1"/>
          <a:stretch/>
        </p:blipFill>
        <p:spPr>
          <a:xfrm>
            <a:off x="914400" y="0"/>
            <a:ext cx="7391160" cy="685764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8" descr="letter1"/>
          <p:cNvPicPr/>
          <p:nvPr/>
        </p:nvPicPr>
        <p:blipFill>
          <a:blip r:embed="rId2"/>
          <a:stretch/>
        </p:blipFill>
        <p:spPr>
          <a:xfrm>
            <a:off x="2895480" y="1143000"/>
            <a:ext cx="3809520" cy="4080960"/>
          </a:xfrm>
          <a:prstGeom prst="rect">
            <a:avLst/>
          </a:prstGeom>
          <a:ln w="9525">
            <a:noFill/>
          </a:ln>
        </p:spPr>
      </p:pic>
      <p:sp>
        <p:nvSpPr>
          <p:cNvPr id="109" name="WordArt 11"/>
          <p:cNvSpPr txBox="1"/>
          <p:nvPr/>
        </p:nvSpPr>
        <p:spPr>
          <a:xfrm>
            <a:off x="250920" y="549360"/>
            <a:ext cx="4140000" cy="13712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我还能画风！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ftr" idx="16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286000" y="271440"/>
            <a:ext cx="6324120" cy="304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水面起波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小草弯弯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花儿点头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柳条随风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姑娘长发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烟雾乐陶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429000" y="271440"/>
            <a:ext cx="5409720" cy="304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水面起波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小草弯弯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花儿点头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柳条随风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姑娘长发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中烟雾乐陶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533520" y="1981080"/>
            <a:ext cx="1980720" cy="1980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画风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808640" y="3139920"/>
            <a:ext cx="5526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来了，风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了，风藏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__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0"/>
          <p:cNvSpPr/>
          <p:nvPr/>
        </p:nvSpPr>
        <p:spPr>
          <a:xfrm>
            <a:off x="3203640" y="1989000"/>
            <a:ext cx="661680" cy="36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模板下载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moban/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行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模板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hangye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节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模板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jieri/           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素材下载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suca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背景图片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beijing/      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图表下载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tubiao/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优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下载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xiazai/        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教程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powerpoint/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教程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word/              Excel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教程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excel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资料下载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ziliao/                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课件下载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kejian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范文下载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fanwen/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试卷下载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shiti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教案下载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ww.1ppt.com/jiaoan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2916000" cy="5516280"/>
          </a:xfrm>
          <a:prstGeom prst="rect">
            <a:avLst/>
          </a:prstGeom>
          <a:ln w="9525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2771640" y="1341360"/>
            <a:ext cx="2952360" cy="5516280"/>
          </a:xfrm>
          <a:prstGeom prst="rect">
            <a:avLst/>
          </a:prstGeom>
          <a:ln w="9525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732640" y="1341360"/>
            <a:ext cx="3411000" cy="5516280"/>
          </a:xfrm>
          <a:prstGeom prst="rect">
            <a:avLst/>
          </a:prstGeom>
          <a:ln w="9525">
            <a:noFill/>
          </a:ln>
        </p:spPr>
      </p:pic>
      <p:sp>
        <p:nvSpPr>
          <p:cNvPr id="55" name="Text Box 7"/>
          <p:cNvSpPr/>
          <p:nvPr/>
        </p:nvSpPr>
        <p:spPr>
          <a:xfrm>
            <a:off x="6156360" y="692280"/>
            <a:ext cx="2987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宋        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95280" y="692280"/>
            <a:ext cx="2015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赵  小  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16360" y="692280"/>
            <a:ext cx="2303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陈　　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59" name="Picture 2" descr="图片2"/>
          <p:cNvPicPr/>
          <p:nvPr/>
        </p:nvPicPr>
        <p:blipFill>
          <a:blip r:embed="rId1"/>
          <a:stretch/>
        </p:blipFill>
        <p:spPr>
          <a:xfrm>
            <a:off x="304920" y="0"/>
            <a:ext cx="9219960" cy="7391160"/>
          </a:xfrm>
          <a:prstGeom prst="rect">
            <a:avLst/>
          </a:prstGeom>
          <a:ln w="9525">
            <a:noFill/>
          </a:ln>
        </p:spPr>
      </p:pic>
      <p:grpSp>
        <p:nvGrpSpPr>
          <p:cNvPr id="60" name="Group 8"/>
          <p:cNvGrpSpPr/>
          <p:nvPr/>
        </p:nvGrpSpPr>
        <p:grpSpPr>
          <a:xfrm>
            <a:off x="1981080" y="2590920"/>
            <a:ext cx="5181120" cy="2057040"/>
            <a:chOff x="1981080" y="2590920"/>
            <a:chExt cx="5181120" cy="2057040"/>
          </a:xfrm>
        </p:grpSpPr>
        <p:grpSp>
          <p:nvGrpSpPr>
            <p:cNvPr id="61" name="Group 6"/>
            <p:cNvGrpSpPr/>
            <p:nvPr/>
          </p:nvGrpSpPr>
          <p:grpSpPr>
            <a:xfrm>
              <a:off x="1981080" y="2590920"/>
              <a:ext cx="5181120" cy="2057040"/>
              <a:chOff x="1981080" y="2590920"/>
              <a:chExt cx="5181120" cy="2057040"/>
            </a:xfrm>
          </p:grpSpPr>
          <p:sp>
            <p:nvSpPr>
              <p:cNvPr id="62" name="Rectangle 4"/>
              <p:cNvSpPr/>
              <p:nvPr/>
            </p:nvSpPr>
            <p:spPr>
              <a:xfrm>
                <a:off x="1981080" y="2590920"/>
                <a:ext cx="5181120" cy="2057040"/>
              </a:xfrm>
              <a:prstGeom prst="rect">
                <a:avLst/>
              </a:prstGeom>
              <a:solidFill>
                <a:srgbClr val="edfef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zh-CN" sz="36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看不见它影子，摸不着它身子，有时会抖动树枝，有时会推倒房子</a:t>
                </a:r>
                <a:r>
                  <a:rPr b="0" lang="en-US" sz="36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5"/>
              <p:cNvSpPr/>
              <p:nvPr/>
            </p:nvSpPr>
            <p:spPr>
              <a:xfrm>
                <a:off x="1981080" y="2590920"/>
                <a:ext cx="5181120" cy="2057040"/>
              </a:xfrm>
              <a:prstGeom prst="rect">
                <a:avLst/>
              </a:prstGeom>
              <a:noFill/>
              <a:ln w="7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endParaRPr>
              </a:p>
            </p:txBody>
          </p:sp>
        </p:grpSp>
        <p:sp>
          <p:nvSpPr>
            <p:cNvPr id="64" name="Rectangle 7"/>
            <p:cNvSpPr/>
            <p:nvPr/>
          </p:nvSpPr>
          <p:spPr>
            <a:xfrm>
              <a:off x="1981080" y="2590920"/>
              <a:ext cx="5181120" cy="2057040"/>
            </a:xfrm>
            <a:prstGeom prst="rect">
              <a:avLst/>
            </a:prstGeom>
            <a:noFill/>
            <a:ln w="1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ahoma"/>
                <a:ea typeface="宋体"/>
              </a:endParaRPr>
            </a:p>
          </p:txBody>
        </p:sp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ftr" idx="6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66" name="Picture 2" descr="letter1"/>
          <p:cNvPicPr/>
          <p:nvPr/>
        </p:nvPicPr>
        <p:blipFill>
          <a:blip r:embed="rId1"/>
          <a:stretch/>
        </p:blipFill>
        <p:spPr>
          <a:xfrm>
            <a:off x="0" y="0"/>
            <a:ext cx="8915040" cy="6857640"/>
          </a:xfrm>
          <a:prstGeom prst="rect">
            <a:avLst/>
          </a:prstGeom>
          <a:ln w="9525">
            <a:noFill/>
          </a:ln>
        </p:spPr>
      </p:pic>
      <p:pic>
        <p:nvPicPr>
          <p:cNvPr id="67" name="Picture 3" descr="11"/>
          <p:cNvPicPr/>
          <p:nvPr/>
        </p:nvPicPr>
        <p:blipFill>
          <a:blip r:embed="rId2"/>
          <a:stretch/>
        </p:blipFill>
        <p:spPr>
          <a:xfrm>
            <a:off x="609480" y="0"/>
            <a:ext cx="7695720" cy="6857640"/>
          </a:xfrm>
          <a:prstGeom prst="rect">
            <a:avLst/>
          </a:prstGeom>
          <a:ln w="9525">
            <a:noFill/>
          </a:ln>
        </p:spPr>
      </p:pic>
      <p:pic>
        <p:nvPicPr>
          <p:cNvPr id="68" name="Picture 4" descr="letter1"/>
          <p:cNvPicPr/>
          <p:nvPr/>
        </p:nvPicPr>
        <p:blipFill>
          <a:blip r:embed="rId3"/>
          <a:stretch/>
        </p:blipFill>
        <p:spPr>
          <a:xfrm>
            <a:off x="3276720" y="1143000"/>
            <a:ext cx="3809520" cy="4080960"/>
          </a:xfrm>
          <a:prstGeom prst="rect">
            <a:avLst/>
          </a:prstGeom>
          <a:ln w="9525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838080" y="1523880"/>
            <a:ext cx="1294920" cy="990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风</a:t>
            </a:r>
            <a:r>
              <a: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!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ftr" idx="7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2133720"/>
            <a:ext cx="8778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来了，风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了，风藏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__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438280" y="2209680"/>
            <a:ext cx="2057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809880" y="2133720"/>
            <a:ext cx="1752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飘起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781680" y="2133720"/>
            <a:ext cx="2742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飘扬的旗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76" name="Picture 3" descr="3"/>
          <p:cNvPicPr/>
          <p:nvPr/>
        </p:nvPicPr>
        <p:blipFill>
          <a:blip r:embed="rId1"/>
          <a:stretch/>
        </p:blipFill>
        <p:spPr>
          <a:xfrm>
            <a:off x="1828800" y="0"/>
            <a:ext cx="7314840" cy="6857640"/>
          </a:xfrm>
          <a:prstGeom prst="rect">
            <a:avLst/>
          </a:prstGeom>
          <a:ln w="9525">
            <a:noFill/>
          </a:ln>
        </p:spPr>
      </p:pic>
      <p:pic>
        <p:nvPicPr>
          <p:cNvPr id="77" name="Picture 4" descr="3"/>
          <p:cNvPicPr/>
          <p:nvPr/>
        </p:nvPicPr>
        <p:blipFill>
          <a:blip r:embed="rId2"/>
          <a:stretch/>
        </p:blipFill>
        <p:spPr>
          <a:xfrm>
            <a:off x="0" y="792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04920" y="4343400"/>
            <a:ext cx="571464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她在大树旁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画了几棵弯弯的小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ftr" idx="9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1905120"/>
            <a:ext cx="9143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风来了，风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了，风藏在                      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133720" y="1828800"/>
            <a:ext cx="1447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小树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352680" y="1905120"/>
            <a:ext cx="159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715000" y="1828800"/>
            <a:ext cx="266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弯弯的小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ftr" idx="10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85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6" name="Rectangle 4"/>
          <p:cNvSpPr/>
          <p:nvPr/>
        </p:nvSpPr>
        <p:spPr>
          <a:xfrm>
            <a:off x="838080" y="871560"/>
            <a:ext cx="6705360" cy="200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他把画上的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擦去，画了几片乌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又画了几条斜斜的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88" name="Picture 2" descr="2"/>
          <p:cNvPicPr/>
          <p:nvPr/>
        </p:nvPicPr>
        <p:blipFill>
          <a:blip r:embed="rId1"/>
          <a:stretch/>
        </p:blipFill>
        <p:spPr>
          <a:xfrm>
            <a:off x="-22860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Blends">
  <a:themeElements>
    <a:clrScheme name="Blends 2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Presentation Designs\Blends.pot</Template>
  <TotalTime>206</TotalTime>
  <Application>LibreOffice/7.4.7.2$Linux_X86_64 LibreOffice_project/40$Build-2</Application>
  <AppVersion>15.0000</AppVersion>
  <Words>574</Words>
  <Paragraphs>7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1601-01-01T00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3:13:59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6</vt:r8>
  </property>
</Properties>
</file>