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7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8.png" ContentType="image/png"/>
  <Override PartName="/ppt/media/image25.gif" ContentType="image/gif"/>
  <Override PartName="/ppt/media/image30.png" ContentType="image/png"/>
  <Override PartName="/ppt/media/image13.gif" ContentType="image/gif"/>
  <Override PartName="/ppt/media/image31.jpeg" ContentType="image/jpeg"/>
  <Override PartName="/ppt/media/image22.gif" ContentType="image/gif"/>
  <Override PartName="/ppt/media/image6.png" ContentType="image/png"/>
  <Override PartName="/ppt/media/image29.png" ContentType="image/png"/>
  <Override PartName="/ppt/media/image20.jpeg" ContentType="image/jpeg"/>
  <Override PartName="/ppt/media/image26.gif" ContentType="image/gif"/>
  <Override PartName="/ppt/media/image12.jpeg" ContentType="image/jpe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32.png" ContentType="image/png"/>
  <Override PartName="/ppt/media/image14.jpeg" ContentType="image/jpeg"/>
  <Override PartName="/ppt/media/image15.jpeg" ContentType="image/jpeg"/>
  <Override PartName="/ppt/media/image16.gif" ContentType="image/gif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9FD-3ECB-4D1D-9855-534B9FA3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F23-EB3C-4071-B49B-E73CD80F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897-E3F9-4E03-BAC8-C3F5F089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CD3-2483-4857-90BD-A94F2937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C933-AFFB-4EEC-BDCA-D72CA134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69B2-F110-40FA-ACD2-071D90D2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8742-45F3-4143-9749-F250C3D9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E399-55E7-48EF-8B23-58D877D1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4475-796C-4C67-BFAC-ECD7A9B7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D1F-A757-4ADC-9CCB-C8C610AE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67BD-78D4-407E-9E9B-C3A2B7C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ABE-EB67-4B8A-9876-0ABD8745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C728-EFCD-459F-9883-A89C2055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42B-61F0-43F6-90AE-70111B04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9061-D726-48E9-8B1C-9B7B3B4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F903-1B85-42A3-B173-9B6475E1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165B-BB0D-402B-9C41-F340FAD7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390F-394E-4D03-9438-4413DC30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DCD2-2130-4ABD-8173-2E66F7C1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DABE-3237-44C9-B0FD-CF44F6E3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09FC-6B44-4E0B-BB64-1C2573F5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3F67-C638-4FF1-AFBA-DBCAADE9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15A-0A78-4C3E-9637-E9D2D4C1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0522-23AC-4171-A121-F6786B8D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F21B-F4F3-45F3-8E19-B5561B5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F12D-728A-42B6-8FD1-70DEC08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3CA0-4D5D-46AE-9465-20FAFEB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3A22-A5F8-4A00-A505-8F3F952A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648F-AF84-4DAB-9898-2132FD67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4FA5-8B75-4334-9CF3-37D817AC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622C-6A91-4CF1-87D8-F9469654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6DDC-0CEF-4B81-B36B-2F3F717F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DAC0-D499-4949-92C3-21A7A5D7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914-AFBE-4B4A-9E87-C0FDE07B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13C0-2C0D-426A-9146-0F24447E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8F2B5-56C2-407D-8FD1-C23F201D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D765-A5BD-4F44-8E0C-F4572A8C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BFAD-41AB-478E-B54A-A639BF3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E88D9-7BBF-4A86-BB78-5E47D9BC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05DC-6946-4B82-84F5-C8D7D547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86BA-F61C-4232-8E4D-2D25972F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C0F6E-2AB4-4A04-8626-715301B4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E06B-3815-4DE4-9C89-56C58CFB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89186-65FA-427E-9F8A-98C0AD7C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37A-A743-4F07-9609-9D825D5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42E51-D64B-4AB7-9082-6974A20E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6B49-A44F-40A1-998C-1231214D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E38C7-A098-4FFD-A333-95BE9A7D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D78B-86A8-4B30-B654-0C1D4A53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7D407-BA15-4D10-A8FF-93C2D9A0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F6F2C-64AA-4817-8CF5-D973B15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BC27-3A3A-4163-B25E-E5DD37E6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C738-A143-4E4A-9E16-E830440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8295-2588-46DD-AFC4-52B82FAD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D28A-EFC5-42CD-9611-20B2E252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731-6908-4A63-9508-512AE87F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00AB9-D67C-48B3-80B7-2DD846AF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F79-A407-46FE-949F-31614E5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664-67B0-4FD0-B216-DA7B9443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111-F306-4215-ACD2-A3645AC6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10AA64-A3ED-4E9D-863A-CB62CA09B3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FB541D-BF59-488F-93C7-DF9E08EB9C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3CAC90-E8FB-4A13-8040-756DBFF744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632307-5F24-4820-9045-F80DC1673C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35C247-3F98-49B9-AE77-0F9D3D68B6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file:///D:/&#30011;&#39118;/&#30011;&#39118;&#8212;&#8212;&#21019;&#26032;&#35838;/&#39118;02.wav" TargetMode="External"/><Relationship Id="rId4" Type="http://schemas.microsoft.com/office/2007/relationships/media" Target="file:///D:/&#30011;&#39118;/&#30011;&#39118;&#8212;&#8212;&#21019;&#26032;&#35838;/&#39118;02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D:/&#22768;&#38899;/&#32972;&#26223;&#38899;&#20048;.mid" TargetMode="External"/><Relationship Id="rId2" Type="http://schemas.microsoft.com/office/2007/relationships/media" Target="file:///D:/&#22768;&#38899;/&#32972;&#26223;&#38899;&#20048;.mid" TargetMode="External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audio" Target="file:///D:/&#25105;&#30340;&#25991;&#26723;/My%20Music/&#31179;&#26085;&#30340;&#31169;&#35821;.MP3" TargetMode="External"/><Relationship Id="rId5" Type="http://schemas.microsoft.com/office/2007/relationships/media" Target="file:///D:/&#25105;&#30340;&#25991;&#26723;/My%20Music/&#31179;&#26085;&#30340;&#31169;&#35821;.MP3" TargetMode="Externa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audio" Target="file:///D:/&#25105;&#30340;&#25991;&#26723;/My%20Music/&#31179;&#26085;&#30340;&#31169;&#35821;.MP3" TargetMode="External"/><Relationship Id="rId5" Type="http://schemas.microsoft.com/office/2007/relationships/media" Target="file:///D:/&#25105;&#30340;&#25991;&#26723;/My%20Music/&#31179;&#26085;&#30340;&#31169;&#35821;.MP3" TargetMode="Externa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letter1"/>
          <p:cNvPicPr/>
          <p:nvPr/>
        </p:nvPicPr>
        <p:blipFill>
          <a:blip r:embed="rId1"/>
          <a:stretch/>
        </p:blipFill>
        <p:spPr>
          <a:xfrm>
            <a:off x="523800" y="2608200"/>
            <a:ext cx="3409560" cy="39445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3" descr="new_pa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480000"/>
            <a:ext cx="674280" cy="377640"/>
          </a:xfrm>
          <a:prstGeom prst="rect">
            <a:avLst/>
          </a:prstGeom>
          <a:ln w="9525">
            <a:noFill/>
          </a:ln>
        </p:spPr>
      </p:pic>
      <p:sp>
        <p:nvSpPr>
          <p:cNvPr id="207" name="Text Box 4"/>
          <p:cNvSpPr/>
          <p:nvPr/>
        </p:nvSpPr>
        <p:spPr>
          <a:xfrm>
            <a:off x="1763640" y="611280"/>
            <a:ext cx="5758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028000" y="6553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矩形 8"/>
          <p:cNvSpPr/>
          <p:nvPr/>
        </p:nvSpPr>
        <p:spPr>
          <a:xfrm>
            <a:off x="4110120" y="587700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2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8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208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3"/>
          <p:cNvPicPr/>
          <p:nvPr/>
        </p:nvPicPr>
        <p:blipFill>
          <a:blip r:embed="rId1"/>
          <a:stretch/>
        </p:blipFill>
        <p:spPr>
          <a:xfrm>
            <a:off x="1828800" y="0"/>
            <a:ext cx="7314840" cy="6857640"/>
          </a:xfrm>
          <a:prstGeom prst="rect">
            <a:avLst/>
          </a:prstGeom>
          <a:ln w="9525">
            <a:noFill/>
          </a:ln>
        </p:spPr>
      </p:pic>
      <p:pic>
        <p:nvPicPr>
          <p:cNvPr id="266" name="Picture 3" descr="3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324000" y="4365720"/>
            <a:ext cx="5714640" cy="3639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陈丹说：“我也会画风了。”说着，她在大树旁边画了几棵弯弯的小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026" descr="2"/>
          <p:cNvPicPr/>
          <p:nvPr/>
        </p:nvPicPr>
        <p:blipFill>
          <a:blip r:embed="rId1"/>
          <a:stretch/>
        </p:blipFill>
        <p:spPr>
          <a:xfrm>
            <a:off x="-25236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9" name="Text Box 1027"/>
          <p:cNvSpPr/>
          <p:nvPr/>
        </p:nvSpPr>
        <p:spPr>
          <a:xfrm>
            <a:off x="179280" y="1268280"/>
            <a:ext cx="4824000" cy="3639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宋涛想了想，他把画上的太阳擦去，画上了几片乌云，又画了几条斜斜的雨丝，说：“下雨了，风把雨丝吹斜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2006926123451"/>
          <p:cNvPicPr/>
          <p:nvPr/>
        </p:nvPicPr>
        <p:blipFill>
          <a:blip r:embed="rId1"/>
          <a:stretch/>
        </p:blipFill>
        <p:spPr>
          <a:xfrm>
            <a:off x="-457200" y="-220680"/>
            <a:ext cx="9600840" cy="7111800"/>
          </a:xfrm>
          <a:prstGeom prst="rect">
            <a:avLst/>
          </a:prstGeom>
          <a:ln w="9525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1720" y="274680"/>
            <a:ext cx="8154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5867280"/>
            <a:ext cx="82292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风把雨丝吹斜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46280" y="836640"/>
            <a:ext cx="8064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宋涛、陈丹和赵小艺分别是怎样画风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042920" y="2781360"/>
            <a:ext cx="201744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宋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陈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赵小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2268360" y="3500280"/>
            <a:ext cx="590400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2339640" y="4365360"/>
            <a:ext cx="590400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2700000" y="5805360"/>
            <a:ext cx="511344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627280" y="2565360"/>
            <a:ext cx="5760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画上的太阳擦去，画了几片乌云，又画了几条斜斜的雨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700360" y="3789360"/>
            <a:ext cx="6049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大树旁画了几棵弯弯的小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916360" y="4437000"/>
            <a:ext cx="4825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了一根旗杆，旗子在空中飘着；画了个拿风车的小男孩，风车在呼呼地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50920" y="0"/>
            <a:ext cx="42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练笔：提示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762120" y="2209680"/>
            <a:ext cx="7391160" cy="15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799"/>
              </a:spcBef>
            </a:pPr>
            <a:endParaRPr b="1" lang="en-US" sz="9600" spc="-1" strike="noStrike">
              <a:solidFill>
                <a:schemeClr val="accent2"/>
              </a:solidFill>
              <a:latin typeface="Arial"/>
              <a:ea typeface="华文行楷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95280" y="2997360"/>
            <a:ext cx="8353080" cy="82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</a:pPr>
            <a:endParaRPr b="1" lang="en-US" sz="4800" spc="-1" strike="noStrike">
              <a:solidFill>
                <a:schemeClr val="accent2"/>
              </a:solidFill>
              <a:latin typeface="Arial"/>
              <a:ea typeface="华文行楷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431160" y="314172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雨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407200" y="314172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203640" y="3933720"/>
            <a:ext cx="3893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斜斜的雨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0" y="2492280"/>
            <a:ext cx="864036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把            吹          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藏在                            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0tTHsNf2tcTQoQ==_xI9GXRByXiqd"/>
          <p:cNvPicPr/>
          <p:nvPr/>
        </p:nvPicPr>
        <p:blipFill>
          <a:blip r:embed="rId1"/>
          <a:stretch/>
        </p:blipFill>
        <p:spPr>
          <a:xfrm>
            <a:off x="0" y="-46080"/>
            <a:ext cx="9143640" cy="6903720"/>
          </a:xfrm>
          <a:prstGeom prst="rect">
            <a:avLst/>
          </a:prstGeom>
          <a:ln w="9525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5791320"/>
            <a:ext cx="80006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转 动 的 风 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7811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292" name="Picture 3" descr="letter1"/>
          <p:cNvPicPr/>
          <p:nvPr/>
        </p:nvPicPr>
        <p:blipFill>
          <a:blip r:embed="rId2"/>
          <a:stretch/>
        </p:blipFill>
        <p:spPr>
          <a:xfrm>
            <a:off x="2916360" y="1125360"/>
            <a:ext cx="3809520" cy="4080960"/>
          </a:xfrm>
          <a:prstGeom prst="rect">
            <a:avLst/>
          </a:prstGeom>
          <a:ln w="9525">
            <a:noFill/>
          </a:ln>
        </p:spPr>
      </p:pic>
      <p:sp>
        <p:nvSpPr>
          <p:cNvPr id="293" name="WordArt 4"/>
          <p:cNvSpPr txBox="1"/>
          <p:nvPr/>
        </p:nvSpPr>
        <p:spPr>
          <a:xfrm>
            <a:off x="168120" y="836640"/>
            <a:ext cx="3200040" cy="13712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我还能画风！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059280" y="5300640"/>
            <a:ext cx="496836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张洁问：“你想怎样画风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说：“———————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97" name="Picture 4" descr="452714_144130007_2"/>
          <p:cNvPicPr/>
          <p:nvPr/>
        </p:nvPicPr>
        <p:blipFill>
          <a:blip r:embed="rId1"/>
          <a:srcRect l="0" t="4662" r="0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00" name="Picture 4" descr="20071211144945776_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2"/>
          <p:cNvSpPr txBox="1"/>
          <p:nvPr/>
        </p:nvSpPr>
        <p:spPr>
          <a:xfrm>
            <a:off x="1143000" y="1676520"/>
            <a:ext cx="7162560" cy="3200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生活中的风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new_pa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69360" y="6480000"/>
            <a:ext cx="674280" cy="37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2916000" cy="5516280"/>
          </a:xfrm>
          <a:prstGeom prst="rect">
            <a:avLst/>
          </a:prstGeom>
          <a:ln w="9525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771640" y="1341360"/>
            <a:ext cx="2952360" cy="5516280"/>
          </a:xfrm>
          <a:prstGeom prst="rect">
            <a:avLst/>
          </a:prstGeom>
          <a:ln w="9525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5732640" y="1341360"/>
            <a:ext cx="3411000" cy="5516280"/>
          </a:xfrm>
          <a:prstGeom prst="rect">
            <a:avLst/>
          </a:prstGeom>
          <a:ln w="9525">
            <a:noFill/>
          </a:ln>
        </p:spPr>
      </p:pic>
      <p:sp>
        <p:nvSpPr>
          <p:cNvPr id="213" name="Text Box 5"/>
          <p:cNvSpPr/>
          <p:nvPr/>
        </p:nvSpPr>
        <p:spPr>
          <a:xfrm>
            <a:off x="6156360" y="692280"/>
            <a:ext cx="2987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宋     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95280" y="69228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陈      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916360" y="692280"/>
            <a:ext cx="230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赵    小   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风车转"/>
          <p:cNvPicPr/>
          <p:nvPr/>
        </p:nvPicPr>
        <p:blipFill>
          <a:blip r:embed="rId1"/>
          <a:stretch/>
        </p:blipFill>
        <p:spPr>
          <a:xfrm>
            <a:off x="3606840" y="1600200"/>
            <a:ext cx="1955520" cy="3657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2666880" y="304920"/>
            <a:ext cx="3047760" cy="6400440"/>
            <a:chOff x="2666880" y="304920"/>
            <a:chExt cx="3047760" cy="6400440"/>
          </a:xfrm>
        </p:grpSpPr>
        <p:pic>
          <p:nvPicPr>
            <p:cNvPr id="306" name="Picture 3" descr="飘动的国旗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3047760" cy="20570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07" name="AutoShape 4"/>
            <p:cNvSpPr/>
            <p:nvPr/>
          </p:nvSpPr>
          <p:spPr>
            <a:xfrm>
              <a:off x="2743200" y="304920"/>
              <a:ext cx="151920" cy="6400440"/>
            </a:xfrm>
            <a:prstGeom prst="can">
              <a:avLst>
                <a:gd name="adj" fmla="val 75056"/>
              </a:avLst>
            </a:prstGeom>
            <a:solidFill>
              <a:schemeClr val="hlink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风吹树"/>
          <p:cNvPicPr/>
          <p:nvPr/>
        </p:nvPicPr>
        <p:blipFill>
          <a:blip r:embed="rId1"/>
          <a:stretch/>
        </p:blipFill>
        <p:spPr>
          <a:xfrm>
            <a:off x="457200" y="914400"/>
            <a:ext cx="4347720" cy="4952520"/>
          </a:xfrm>
          <a:prstGeom prst="rect">
            <a:avLst/>
          </a:prstGeom>
          <a:ln w="9525">
            <a:noFill/>
          </a:ln>
        </p:spPr>
      </p:pic>
      <p:sp>
        <p:nvSpPr>
          <p:cNvPr id="309" name="WordArt 3"/>
          <p:cNvSpPr txBox="1"/>
          <p:nvPr/>
        </p:nvSpPr>
        <p:spPr>
          <a:xfrm rot="5400000">
            <a:off x="5486760" y="2743200"/>
            <a:ext cx="3580920" cy="1294920"/>
          </a:xfrm>
          <a:prstGeom prst="rect">
            <a:avLst/>
          </a:prstGeom>
        </p:spPr>
        <p:txBody>
          <a:bodyPr wrap="none" lIns="90000" rIns="90000" tIns="45000" bIns="45000" anchor="t" anchorCtr="1" vert="vert" rot="5400000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风吹树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11" name="Text Box 3"/>
          <p:cNvSpPr/>
          <p:nvPr/>
        </p:nvSpPr>
        <p:spPr>
          <a:xfrm>
            <a:off x="3805200" y="620640"/>
            <a:ext cx="194580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小朋友正说着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着，忽然吹来一阵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中的景物好像都在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张张画显得更美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jd3"/>
          <p:cNvPicPr/>
          <p:nvPr/>
        </p:nvPicPr>
        <p:blipFill>
          <a:blip r:embed="rId1"/>
          <a:stretch/>
        </p:blipFill>
        <p:spPr>
          <a:xfrm>
            <a:off x="2819520" y="1600200"/>
            <a:ext cx="3192120" cy="441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gif002"/>
          <p:cNvPicPr/>
          <p:nvPr/>
        </p:nvPicPr>
        <p:blipFill>
          <a:blip r:embed="rId1"/>
          <a:stretch/>
        </p:blipFill>
        <p:spPr>
          <a:xfrm>
            <a:off x="1676520" y="228600"/>
            <a:ext cx="6476760" cy="6476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286000" y="271440"/>
            <a:ext cx="6324120" cy="211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水面起波涛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小草弯弯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花儿点头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柳条随风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姑娘长发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烟雾乐陶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图片6"/>
          <p:cNvPicPr/>
          <p:nvPr/>
        </p:nvPicPr>
        <p:blipFill>
          <a:blip r:embed="rId1"/>
          <a:stretch/>
        </p:blipFill>
        <p:spPr>
          <a:xfrm>
            <a:off x="0" y="-24300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16" name="Rectangle 4"/>
          <p:cNvSpPr/>
          <p:nvPr/>
        </p:nvSpPr>
        <p:spPr>
          <a:xfrm>
            <a:off x="3429000" y="271440"/>
            <a:ext cx="5409720" cy="211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水面起波涛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小草弯弯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花儿点头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柳条随风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姑娘长发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中烟雾乐陶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5"/>
          <p:cNvSpPr txBox="1"/>
          <p:nvPr/>
        </p:nvSpPr>
        <p:spPr>
          <a:xfrm>
            <a:off x="533520" y="1981080"/>
            <a:ext cx="1980720" cy="1980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画风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762120" y="2209680"/>
            <a:ext cx="7391160" cy="15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799"/>
              </a:spcBef>
            </a:pPr>
            <a:endParaRPr b="1" lang="en-US" sz="9600" spc="-1" strike="noStrike">
              <a:solidFill>
                <a:schemeClr val="accent2"/>
              </a:solidFill>
              <a:latin typeface="Arial"/>
              <a:ea typeface="华文行楷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395280" y="2997360"/>
            <a:ext cx="8353080" cy="82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</a:pPr>
            <a:endParaRPr b="1" lang="en-US" sz="4800" spc="-1" strike="noStrike">
              <a:solidFill>
                <a:schemeClr val="accent2"/>
              </a:solidFill>
              <a:latin typeface="Arial"/>
              <a:ea typeface="华文行楷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431160" y="314172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雨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407200" y="314172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203640" y="3933720"/>
            <a:ext cx="3893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斜斜的雨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0" y="2492280"/>
            <a:ext cx="864036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把            吹          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藏在                            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762120" y="2209680"/>
            <a:ext cx="7391160" cy="15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799"/>
              </a:spcBef>
            </a:pPr>
            <a:endParaRPr b="1" lang="en-US" sz="9600" spc="-1" strike="noStrike">
              <a:solidFill>
                <a:schemeClr val="accent2"/>
              </a:solidFill>
              <a:latin typeface="Arial"/>
              <a:ea typeface="华文行楷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95280" y="2997360"/>
            <a:ext cx="8353080" cy="82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</a:pPr>
            <a:endParaRPr b="1" lang="en-US" sz="4800" spc="-1" strike="noStrike">
              <a:solidFill>
                <a:schemeClr val="accent2"/>
              </a:solidFill>
              <a:latin typeface="Arial"/>
              <a:ea typeface="华文行楷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504240" y="69228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旗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5335200" y="69228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492440" y="1484280"/>
            <a:ext cx="86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飘着的旗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431520" y="314172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5406480" y="314172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203640" y="3933720"/>
            <a:ext cx="3893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呼呼转动的风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0" y="2492280"/>
            <a:ext cx="864036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把            吹          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藏在                            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0" y="0"/>
            <a:ext cx="864036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把            吹          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藏在                            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762120" y="2209680"/>
            <a:ext cx="7391160" cy="15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799"/>
              </a:spcBef>
            </a:pPr>
            <a:endParaRPr b="1" lang="en-US" sz="9600" spc="-1" strike="noStrike">
              <a:solidFill>
                <a:schemeClr val="accent2"/>
              </a:solidFill>
              <a:latin typeface="Arial"/>
              <a:ea typeface="华文行楷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79280" y="1125360"/>
            <a:ext cx="9143640" cy="176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，风把旗子吹起了，风藏在飘着的旗子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，风把风车吹转了，风藏在转动的风车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，风把小树吹弯了，风藏在弯弯的小树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，风把雨丝吹斜了，风藏在斜斜的雨丝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2438280" y="476280"/>
            <a:ext cx="4114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39640" y="4292640"/>
            <a:ext cx="183960" cy="100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</a:pPr>
            <a:endParaRPr b="1" lang="en-US" sz="6000" spc="-1" strike="noStrike">
              <a:solidFill>
                <a:srgbClr val="ff0000"/>
              </a:solidFill>
              <a:latin typeface="Arial"/>
              <a:ea typeface="仿宋_GB2312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447840" y="4037040"/>
            <a:ext cx="183960" cy="100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</a:pPr>
            <a:endParaRPr b="1" lang="en-US" sz="6000" spc="-1" strike="noStrike">
              <a:solidFill>
                <a:srgbClr val="ff0000"/>
              </a:solidFill>
              <a:latin typeface="Arial"/>
              <a:ea typeface="仿宋_GB2312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0" y="4365720"/>
            <a:ext cx="831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来了，风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了，风藏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-71280" y="0"/>
            <a:ext cx="9214920" cy="1645200"/>
            <a:chOff x="-71280" y="0"/>
            <a:chExt cx="9214920" cy="1645200"/>
          </a:xfrm>
        </p:grpSpPr>
        <p:grpSp>
          <p:nvGrpSpPr>
            <p:cNvPr id="217" name="Group 3"/>
            <p:cNvGrpSpPr/>
            <p:nvPr/>
          </p:nvGrpSpPr>
          <p:grpSpPr>
            <a:xfrm>
              <a:off x="-71280" y="0"/>
              <a:ext cx="3167640" cy="1643400"/>
              <a:chOff x="-71280" y="0"/>
              <a:chExt cx="3167640" cy="1643400"/>
            </a:xfrm>
          </p:grpSpPr>
          <p:sp>
            <p:nvSpPr>
              <p:cNvPr id="218" name="Text Box 4"/>
              <p:cNvSpPr/>
              <p:nvPr/>
            </p:nvSpPr>
            <p:spPr>
              <a:xfrm>
                <a:off x="1440" y="730800"/>
                <a:ext cx="3023280" cy="912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01"/>
                  </a:spcBef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陈  丹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5"/>
              <p:cNvSpPr/>
              <p:nvPr/>
            </p:nvSpPr>
            <p:spPr>
              <a:xfrm>
                <a:off x="-71280" y="0"/>
                <a:ext cx="316764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</a:pPr>
                <a:r>
                  <a:rPr b="1" lang="en-US" sz="40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chén dā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6"/>
            <p:cNvGrpSpPr/>
            <p:nvPr/>
          </p:nvGrpSpPr>
          <p:grpSpPr>
            <a:xfrm>
              <a:off x="2809440" y="0"/>
              <a:ext cx="3094920" cy="1596960"/>
              <a:chOff x="2809440" y="0"/>
              <a:chExt cx="3094920" cy="1596960"/>
            </a:xfrm>
          </p:grpSpPr>
          <p:sp>
            <p:nvSpPr>
              <p:cNvPr id="221" name="Text Box 7"/>
              <p:cNvSpPr/>
              <p:nvPr/>
            </p:nvSpPr>
            <p:spPr>
              <a:xfrm>
                <a:off x="2952360" y="684360"/>
                <a:ext cx="2952000" cy="912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01"/>
                  </a:spcBef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赵小艺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8"/>
              <p:cNvSpPr/>
              <p:nvPr/>
            </p:nvSpPr>
            <p:spPr>
              <a:xfrm>
                <a:off x="2809440" y="0"/>
                <a:ext cx="30945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</a:pPr>
                <a:r>
                  <a:rPr b="1" lang="en-US" sz="4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zhào </a:t>
                </a:r>
                <a:r>
                  <a:rPr b="1" lang="en-US" sz="4000" spc="-1" strike="noStrike">
                    <a:solidFill>
                      <a:schemeClr val="accent2"/>
                    </a:solidFill>
                    <a:latin typeface="Arial"/>
                    <a:ea typeface="仿宋_GB2312"/>
                  </a:rPr>
                  <a:t>  </a:t>
                </a:r>
                <a:r>
                  <a:rPr b="1" lang="en-US" sz="4000" spc="-1" strike="noStrike">
                    <a:solidFill>
                      <a:srgbClr val="0000cc"/>
                    </a:solidFill>
                    <a:latin typeface="Arial"/>
                    <a:ea typeface="仿宋_GB2312"/>
                  </a:rPr>
                  <a:t>yì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9"/>
            <p:cNvGrpSpPr/>
            <p:nvPr/>
          </p:nvGrpSpPr>
          <p:grpSpPr>
            <a:xfrm>
              <a:off x="5541120" y="0"/>
              <a:ext cx="3602520" cy="1645200"/>
              <a:chOff x="5541120" y="0"/>
              <a:chExt cx="3602520" cy="1645200"/>
            </a:xfrm>
          </p:grpSpPr>
          <p:sp>
            <p:nvSpPr>
              <p:cNvPr id="224" name="Text Box 10"/>
              <p:cNvSpPr/>
              <p:nvPr/>
            </p:nvSpPr>
            <p:spPr>
              <a:xfrm>
                <a:off x="6047280" y="732600"/>
                <a:ext cx="3024720" cy="912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01"/>
                  </a:spcBef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宋  涛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1"/>
              <p:cNvSpPr/>
              <p:nvPr/>
            </p:nvSpPr>
            <p:spPr>
              <a:xfrm>
                <a:off x="5541120" y="0"/>
                <a:ext cx="3602520" cy="8208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01"/>
                  </a:spcBef>
                </a:pPr>
                <a:r>
                  <a:rPr b="1" lang="en-US" sz="4000" spc="-1" strike="noStrike">
                    <a:solidFill>
                      <a:srgbClr val="0000cc"/>
                    </a:solidFill>
                    <a:latin typeface="Arial"/>
                    <a:ea typeface="仿宋_GB2312"/>
                  </a:rPr>
                  <a:t>sòng </a:t>
                </a:r>
                <a:r>
                  <a:rPr b="1" lang="en-US" sz="40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āo</a:t>
                </a:r>
                <a:r>
                  <a:rPr b="1" lang="en-US" sz="4800" spc="-1" strike="noStrike">
                    <a:solidFill>
                      <a:schemeClr val="accent2"/>
                    </a:solidFill>
                    <a:latin typeface="Arial Unicode MS"/>
                    <a:ea typeface="Arial Unicode MS"/>
                  </a:rPr>
                  <a:t>  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板7"/>
          <p:cNvPicPr/>
          <p:nvPr/>
        </p:nvPicPr>
        <p:blipFill>
          <a:blip r:embed="rId1"/>
          <a:stretch/>
        </p:blipFill>
        <p:spPr>
          <a:xfrm>
            <a:off x="0" y="0"/>
            <a:ext cx="9612000" cy="7389360"/>
          </a:xfrm>
          <a:prstGeom prst="rect">
            <a:avLst/>
          </a:prstGeom>
          <a:ln w="9525">
            <a:noFill/>
          </a:ln>
        </p:spPr>
      </p:pic>
      <p:sp>
        <p:nvSpPr>
          <p:cNvPr id="341" name="Text Box 3"/>
          <p:cNvSpPr/>
          <p:nvPr/>
        </p:nvSpPr>
        <p:spPr>
          <a:xfrm>
            <a:off x="895320" y="1728720"/>
            <a:ext cx="677196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线杆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杆（    ）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笔杆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板7"/>
          <p:cNvPicPr/>
          <p:nvPr/>
        </p:nvPicPr>
        <p:blipFill>
          <a:blip r:embed="rId1"/>
          <a:stretch/>
        </p:blipFill>
        <p:spPr>
          <a:xfrm>
            <a:off x="0" y="0"/>
            <a:ext cx="9756360" cy="7318080"/>
          </a:xfrm>
          <a:prstGeom prst="rect">
            <a:avLst/>
          </a:prstGeom>
          <a:ln w="9525">
            <a:noFill/>
          </a:ln>
        </p:spPr>
      </p:pic>
      <p:sp>
        <p:nvSpPr>
          <p:cNvPr id="343" name="Text Box 3"/>
          <p:cNvSpPr/>
          <p:nvPr/>
        </p:nvSpPr>
        <p:spPr>
          <a:xfrm>
            <a:off x="895320" y="1728720"/>
            <a:ext cx="677196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线杆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ān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杆（    ）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笔杆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板7"/>
          <p:cNvPicPr/>
          <p:nvPr/>
        </p:nvPicPr>
        <p:blipFill>
          <a:blip r:embed="rId1"/>
          <a:stretch/>
        </p:blipFill>
        <p:spPr>
          <a:xfrm>
            <a:off x="0" y="0"/>
            <a:ext cx="9756360" cy="7318080"/>
          </a:xfrm>
          <a:prstGeom prst="rect">
            <a:avLst/>
          </a:prstGeom>
          <a:ln w="9525">
            <a:noFill/>
          </a:ln>
        </p:spPr>
      </p:pic>
      <p:sp>
        <p:nvSpPr>
          <p:cNvPr id="345" name="Text Box 3"/>
          <p:cNvSpPr/>
          <p:nvPr/>
        </p:nvSpPr>
        <p:spPr>
          <a:xfrm>
            <a:off x="895320" y="1728720"/>
            <a:ext cx="6771960" cy="76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endParaRPr b="1" lang="en-US" sz="4400" spc="-1" strike="noStrike">
              <a:solidFill>
                <a:srgbClr val="ff0000"/>
              </a:solidFill>
              <a:latin typeface="Arial"/>
              <a:ea typeface="仿宋_GB2312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95320" y="1728720"/>
            <a:ext cx="677196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线杆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ān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杆（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ǎn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笔杆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板7"/>
          <p:cNvPicPr/>
          <p:nvPr/>
        </p:nvPicPr>
        <p:blipFill>
          <a:blip r:embed="rId1"/>
          <a:stretch/>
        </p:blipFill>
        <p:spPr>
          <a:xfrm>
            <a:off x="0" y="0"/>
            <a:ext cx="9756360" cy="7318080"/>
          </a:xfrm>
          <a:prstGeom prst="rect">
            <a:avLst/>
          </a:prstGeom>
          <a:ln w="9525">
            <a:noFill/>
          </a:ln>
        </p:spPr>
      </p:pic>
      <p:sp>
        <p:nvSpPr>
          <p:cNvPr id="348" name="Text Box 3"/>
          <p:cNvSpPr/>
          <p:nvPr/>
        </p:nvSpPr>
        <p:spPr>
          <a:xfrm>
            <a:off x="895320" y="1728720"/>
            <a:ext cx="6771960" cy="76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endParaRPr b="1" lang="en-US" sz="4400" spc="-1" strike="noStrike">
              <a:solidFill>
                <a:srgbClr val="ff0000"/>
              </a:solidFill>
              <a:latin typeface="Arial"/>
              <a:ea typeface="仿宋_GB2312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95320" y="1728720"/>
            <a:ext cx="677196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线杆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ān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杆（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ǎn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笔杆（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ǎ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图片21"/>
          <p:cNvPicPr/>
          <p:nvPr/>
        </p:nvPicPr>
        <p:blipFill>
          <a:blip r:embed="rId2"/>
          <a:stretch/>
        </p:blipFill>
        <p:spPr>
          <a:xfrm>
            <a:off x="3276720" y="2349360"/>
            <a:ext cx="552240" cy="552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-112680" y="3357720"/>
            <a:ext cx="979776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见她在房子前面画了一根旗杆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ā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旗子在空中飘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2"/>
          <p:cNvPicPr/>
          <p:nvPr/>
        </p:nvPicPr>
        <p:blipFill>
          <a:blip r:embed="rId1"/>
          <a:srcRect l="20294" t="23621" r="12202" b="17619"/>
          <a:stretch/>
        </p:blipFill>
        <p:spPr>
          <a:xfrm>
            <a:off x="1835280" y="0"/>
            <a:ext cx="2916000" cy="3311280"/>
          </a:xfrm>
          <a:prstGeom prst="rect">
            <a:avLst/>
          </a:prstGeom>
          <a:ln w="9525">
            <a:noFill/>
          </a:ln>
        </p:spPr>
      </p:pic>
      <p:sp>
        <p:nvSpPr>
          <p:cNvPr id="353" name="Text Box 4"/>
          <p:cNvSpPr/>
          <p:nvPr/>
        </p:nvSpPr>
        <p:spPr>
          <a:xfrm>
            <a:off x="376200" y="5400720"/>
            <a:ext cx="183960" cy="76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endParaRPr b="1" lang="en-US" sz="4400" spc="-1" strike="noStrike">
              <a:solidFill>
                <a:srgbClr val="ff0000"/>
              </a:solidFill>
              <a:latin typeface="Arial"/>
              <a:ea typeface="仿宋_GB2312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250920" y="5084640"/>
            <a:ext cx="928980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画了个拿风车的小男孩，风车在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呼地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Group 2"/>
          <p:cNvGraphicFramePr/>
          <p:nvPr/>
        </p:nvGraphicFramePr>
        <p:xfrm>
          <a:off x="2627280" y="2276640"/>
          <a:ext cx="2895120" cy="2960280"/>
        </p:xfrm>
        <a:graphic>
          <a:graphicData uri="http://schemas.openxmlformats.org/drawingml/2006/table">
            <a:tbl>
              <a:tblPr/>
              <a:tblGrid>
                <a:gridCol w="1447560"/>
                <a:gridCol w="144756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6" name="Picture 13" descr="我会写"/>
          <p:cNvPicPr/>
          <p:nvPr/>
        </p:nvPicPr>
        <p:blipFill>
          <a:blip r:embed="rId1"/>
          <a:stretch/>
        </p:blipFill>
        <p:spPr>
          <a:xfrm>
            <a:off x="0" y="0"/>
            <a:ext cx="2273040" cy="2349000"/>
          </a:xfrm>
          <a:prstGeom prst="rect">
            <a:avLst/>
          </a:prstGeom>
          <a:ln w="9525">
            <a:noFill/>
          </a:ln>
        </p:spPr>
      </p:pic>
      <p:sp>
        <p:nvSpPr>
          <p:cNvPr id="357" name="Rectangle 14"/>
          <p:cNvSpPr/>
          <p:nvPr/>
        </p:nvSpPr>
        <p:spPr>
          <a:xfrm>
            <a:off x="3976200" y="3364560"/>
            <a:ext cx="3182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Group 2"/>
          <p:cNvGraphicFramePr/>
          <p:nvPr/>
        </p:nvGraphicFramePr>
        <p:xfrm>
          <a:off x="2627280" y="2290680"/>
          <a:ext cx="2895120" cy="2945880"/>
        </p:xfrm>
        <a:graphic>
          <a:graphicData uri="http://schemas.openxmlformats.org/drawingml/2006/table">
            <a:tbl>
              <a:tblPr/>
              <a:tblGrid>
                <a:gridCol w="1447560"/>
                <a:gridCol w="1447560"/>
              </a:tblGrid>
              <a:tr h="149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Picture 13" descr="我会写"/>
          <p:cNvPicPr/>
          <p:nvPr/>
        </p:nvPicPr>
        <p:blipFill>
          <a:blip r:embed="rId1"/>
          <a:stretch/>
        </p:blipFill>
        <p:spPr>
          <a:xfrm>
            <a:off x="0" y="0"/>
            <a:ext cx="2273040" cy="2349000"/>
          </a:xfrm>
          <a:prstGeom prst="rect">
            <a:avLst/>
          </a:prstGeom>
          <a:ln w="9525">
            <a:noFill/>
          </a:ln>
        </p:spPr>
      </p:pic>
      <p:sp>
        <p:nvSpPr>
          <p:cNvPr id="360" name="Rectangle 14"/>
          <p:cNvSpPr/>
          <p:nvPr/>
        </p:nvSpPr>
        <p:spPr>
          <a:xfrm>
            <a:off x="3976200" y="3364560"/>
            <a:ext cx="3182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302520" y="2565360"/>
            <a:ext cx="2806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乌  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6" descr="图片21"/>
          <p:cNvPicPr/>
          <p:nvPr/>
        </p:nvPicPr>
        <p:blipFill>
          <a:blip r:embed="rId2"/>
          <a:stretch/>
        </p:blipFill>
        <p:spPr>
          <a:xfrm>
            <a:off x="6588000" y="3718080"/>
            <a:ext cx="552240" cy="552240"/>
          </a:xfrm>
          <a:prstGeom prst="rect">
            <a:avLst/>
          </a:prstGeom>
          <a:ln w="9525">
            <a:noFill/>
          </a:ln>
        </p:spPr>
      </p:pic>
      <p:pic>
        <p:nvPicPr>
          <p:cNvPr id="363" name="Picture 17" descr="图片21"/>
          <p:cNvPicPr/>
          <p:nvPr/>
        </p:nvPicPr>
        <p:blipFill>
          <a:blip r:embed="rId3"/>
          <a:stretch/>
        </p:blipFill>
        <p:spPr>
          <a:xfrm>
            <a:off x="7812000" y="3789360"/>
            <a:ext cx="552240" cy="552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65" name="Text Box 3"/>
          <p:cNvSpPr/>
          <p:nvPr/>
        </p:nvSpPr>
        <p:spPr>
          <a:xfrm>
            <a:off x="3805200" y="620640"/>
            <a:ext cx="194580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小朋友正说着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着，忽然吹来一阵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中的景物好像都在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张张画显得更美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小组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组内先分工，分角色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报展示：小组朗读课文的成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喜欢课文里的哪一个孩子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1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369" name="Object 3"/>
          <p:cNvGraphicFramePr/>
          <p:nvPr/>
        </p:nvGraphicFramePr>
        <p:xfrm>
          <a:off x="5796000" y="2708280"/>
          <a:ext cx="2895120" cy="2839680"/>
        </p:xfrm>
        <a:graphic>
          <a:graphicData uri="http://schemas.openxmlformats.org/presentationml/2006/ole">
            <p:oleObj progId="Paint.Picture" r:id="rId2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2708280"/>
                    <a:ext cx="2895120" cy="28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4"/>
          <p:cNvSpPr/>
          <p:nvPr/>
        </p:nvSpPr>
        <p:spPr>
          <a:xfrm>
            <a:off x="0" y="609480"/>
            <a:ext cx="6171840" cy="2437920"/>
          </a:xfrm>
          <a:prstGeom prst="cloudCallout">
            <a:avLst>
              <a:gd name="adj1" fmla="val 47069"/>
              <a:gd name="adj2" fmla="val 46616"/>
            </a:avLst>
          </a:prstGeom>
          <a:noFill/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143000" y="990720"/>
            <a:ext cx="426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还有别的办法画风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553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delay="0" evt="onClick">
                    <p:tgtEl>
                      <p:spTgt spid="373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delay="0"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24000" y="1413000"/>
            <a:ext cx="860400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宋      陈     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涛   丹   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-611280" y="3284640"/>
            <a:ext cx="64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我会认"/>
          <p:cNvPicPr/>
          <p:nvPr/>
        </p:nvPicPr>
        <p:blipFill>
          <a:blip r:embed="rId2"/>
          <a:stretch/>
        </p:blipFill>
        <p:spPr>
          <a:xfrm>
            <a:off x="0" y="0"/>
            <a:ext cx="1547280" cy="1547280"/>
          </a:xfrm>
          <a:prstGeom prst="rect">
            <a:avLst/>
          </a:prstGeom>
          <a:ln w="9525">
            <a:noFill/>
          </a:ln>
        </p:spPr>
      </p:pic>
      <p:sp>
        <p:nvSpPr>
          <p:cNvPr id="229" name="Text Box 5"/>
          <p:cNvSpPr/>
          <p:nvPr/>
        </p:nvSpPr>
        <p:spPr>
          <a:xfrm>
            <a:off x="4788000" y="2637000"/>
            <a:ext cx="2160360" cy="76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endParaRPr b="1" lang="en-US" sz="4400" spc="-1" strike="noStrike">
              <a:solidFill>
                <a:srgbClr val="006666"/>
              </a:solidFill>
              <a:latin typeface="Arial"/>
              <a:ea typeface="宋体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364000" y="3213000"/>
            <a:ext cx="1747440" cy="100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</a:pPr>
            <a:endParaRPr b="1" lang="en-US" sz="6000" spc="-1" strike="noStrike">
              <a:solidFill>
                <a:srgbClr val="0000cc"/>
              </a:solidFill>
              <a:latin typeface="Arial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375" name="Object 3"/>
          <p:cNvGraphicFramePr/>
          <p:nvPr/>
        </p:nvGraphicFramePr>
        <p:xfrm>
          <a:off x="5796000" y="2708280"/>
          <a:ext cx="2895120" cy="2839680"/>
        </p:xfrm>
        <a:graphic>
          <a:graphicData uri="http://schemas.openxmlformats.org/presentationml/2006/ole">
            <p:oleObj progId="Paint.Picture" r:id="rId2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2708280"/>
                    <a:ext cx="2895120" cy="28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AutoShape 4"/>
          <p:cNvSpPr/>
          <p:nvPr/>
        </p:nvSpPr>
        <p:spPr>
          <a:xfrm>
            <a:off x="0" y="609480"/>
            <a:ext cx="6171840" cy="2437920"/>
          </a:xfrm>
          <a:prstGeom prst="cloudCallout">
            <a:avLst>
              <a:gd name="adj1" fmla="val 47069"/>
              <a:gd name="adj2" fmla="val 46616"/>
            </a:avLst>
          </a:prstGeom>
          <a:noFill/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143000" y="990720"/>
            <a:ext cx="426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还能说说风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553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delay="0" evt="onClick">
                    <p:tgtEl>
                      <p:spTgt spid="379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delay="0"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3640" cy="164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79280" y="2997360"/>
            <a:ext cx="896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业超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喜爱画画的你：用你的画笔，画出不同的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喜爱游戏的你：做架纸飞机或风车，到草地上放飞你的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喜爱写日记的你：把你想到画风的办法写下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2" name="Text Box 3"/>
          <p:cNvSpPr/>
          <p:nvPr/>
        </p:nvSpPr>
        <p:spPr>
          <a:xfrm>
            <a:off x="2895480" y="941400"/>
            <a:ext cx="2396880" cy="100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</a:pPr>
            <a:endParaRPr b="1" lang="en-US" sz="6000" spc="-1" strike="noStrike">
              <a:solidFill>
                <a:srgbClr val="ff0000"/>
              </a:solidFill>
              <a:latin typeface="Arial"/>
              <a:ea typeface="仿宋_GB2312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111040" y="2924280"/>
            <a:ext cx="866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显得更美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808200" y="2246400"/>
            <a:ext cx="598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4427640" y="2924280"/>
            <a:ext cx="4032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忽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934240" y="2246400"/>
            <a:ext cx="434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图片21"/>
          <p:cNvPicPr/>
          <p:nvPr/>
        </p:nvPicPr>
        <p:blipFill>
          <a:blip r:embed="rId2"/>
          <a:stretch/>
        </p:blipFill>
        <p:spPr>
          <a:xfrm>
            <a:off x="828720" y="3860640"/>
            <a:ext cx="552240" cy="55224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9" descr="图片21"/>
          <p:cNvPicPr/>
          <p:nvPr/>
        </p:nvPicPr>
        <p:blipFill>
          <a:blip r:embed="rId3"/>
          <a:stretch/>
        </p:blipFill>
        <p:spPr>
          <a:xfrm>
            <a:off x="5796000" y="3860640"/>
            <a:ext cx="552240" cy="552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41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11124720" cy="6945120"/>
          </a:xfrm>
          <a:prstGeom prst="rect">
            <a:avLst/>
          </a:prstGeom>
          <a:ln w="9525">
            <a:noFill/>
          </a:ln>
        </p:spPr>
      </p:pic>
      <p:sp>
        <p:nvSpPr>
          <p:cNvPr id="242" name="Text Box 5"/>
          <p:cNvSpPr/>
          <p:nvPr/>
        </p:nvSpPr>
        <p:spPr>
          <a:xfrm>
            <a:off x="1476360" y="404640"/>
            <a:ext cx="280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2124000" y="260280"/>
            <a:ext cx="2376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916360" y="836640"/>
            <a:ext cx="496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接读课文，思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240000" y="2133720"/>
            <a:ext cx="5903640" cy="239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谁第一个提出画风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48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11124720" cy="6945120"/>
          </a:xfrm>
          <a:prstGeom prst="rect">
            <a:avLst/>
          </a:prstGeom>
          <a:ln w="9525">
            <a:noFill/>
          </a:ln>
        </p:spPr>
      </p:pic>
      <p:sp>
        <p:nvSpPr>
          <p:cNvPr id="249" name="Text Box 5"/>
          <p:cNvSpPr/>
          <p:nvPr/>
        </p:nvSpPr>
        <p:spPr>
          <a:xfrm>
            <a:off x="1476360" y="404640"/>
            <a:ext cx="280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124000" y="260280"/>
            <a:ext cx="2376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240000" y="1125360"/>
            <a:ext cx="5903640" cy="126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又是谁第一个把风画出来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她是怎么想怎么做的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鲜艳的五星红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迎风飘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20070419_559f6fb073f463b3bf03032o5fSfV8z5"/>
          <p:cNvPicPr/>
          <p:nvPr/>
        </p:nvPicPr>
        <p:blipFill>
          <a:blip r:embed="rId1"/>
          <a:stretch/>
        </p:blipFill>
        <p:spPr>
          <a:xfrm>
            <a:off x="0" y="457200"/>
            <a:ext cx="8915040" cy="3276360"/>
          </a:xfrm>
          <a:prstGeom prst="rect">
            <a:avLst/>
          </a:prstGeom>
          <a:ln w="9525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1828800" y="2514600"/>
            <a:ext cx="6400440" cy="175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鲜艳的五星红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迎风飘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20070419_559f6fb073f463b3bf03032o5fSfV8z5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1219320" y="5791320"/>
            <a:ext cx="7924320" cy="9140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赵小艺眨眨眼睛，想了想，说：“我能！”只见她在房子前面画了一根旗杆，旗子在空中飘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60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11124720" cy="6945120"/>
          </a:xfrm>
          <a:prstGeom prst="rect">
            <a:avLst/>
          </a:prstGeom>
          <a:ln w="9525">
            <a:noFill/>
          </a:ln>
        </p:spPr>
      </p:pic>
      <p:sp>
        <p:nvSpPr>
          <p:cNvPr id="261" name="Text Box 5"/>
          <p:cNvSpPr/>
          <p:nvPr/>
        </p:nvSpPr>
        <p:spPr>
          <a:xfrm>
            <a:off x="1476360" y="404640"/>
            <a:ext cx="280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124000" y="260280"/>
            <a:ext cx="2376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059280" y="549360"/>
            <a:ext cx="496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读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484360" y="1197000"/>
            <a:ext cx="7164000" cy="258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陈丹、和宋涛又是怎样画风的呢？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从什么地方可以看出有风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默认设计模板_2">
  <a:themeElements>
    <a:clrScheme name="默认设计模板_2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  <Pages>0</Pages>
  <Words>1029</Words>
  <Characters>0</Characters>
  <CharactersWithSpaces>0</CharactersWithSpaces>
  <Paragraphs>1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3-12-06T17:43:29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cp:lastPrinted>1899-12-30T00:00:00Z</cp:lastPrinted>
  <dcterms:modified xsi:type="dcterms:W3CDTF">2021-07-29T13:14:08Z</dcterms:modified>
  <cp:revision>1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MMClips">
    <vt:r8>4</vt:r8>
  </property>
  <property fmtid="{D5CDD505-2E9C-101B-9397-08002B2CF9AE}" pid="4" name="PresentationFormat">
    <vt:lpwstr>全屏显示(4:3)</vt:lpwstr>
  </property>
  <property fmtid="{D5CDD505-2E9C-101B-9397-08002B2CF9AE}" pid="5" name="Slides">
    <vt:r8>42</vt:r8>
  </property>
</Properties>
</file>