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69D75-EB6E-48AD-A4BD-176DE477B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470A62-6620-4F22-B9DC-0A46DC0AA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0D4-0B47-4954-8A65-B61E54C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E41-D0F8-41E9-A45A-EE97C20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6CF-EC9F-43BC-850C-BD713A1F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495-AAFF-49FC-B12D-0715DEC5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150-CEA1-42D2-BB2E-920FC15E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5C6A-C9E3-4FFB-857F-FC8ED1CD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738-1D33-46D6-8643-EA86C529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786-4099-4014-9F26-D162445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021-A199-4825-877D-1C70B682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0D3-CA6C-4BD4-B989-00EB979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1A4-BF47-4A6D-AE8D-B62323D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6E3-B8FE-4EC3-B15B-E07E5D9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9083-2E58-424F-BF86-2AC4660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059-C1F2-433D-8B72-E4C5C75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D906-DB3C-4C3E-9C8B-2BBAB658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1F4-7C87-4948-8513-B384332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BD87-C745-4C54-A6A9-D35DB8B0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E00-8CD4-4E8D-BDE4-4D390E5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B1E-6037-4533-BB9F-59896C37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13D-5A83-4709-B72F-7ED8800D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FA1-3C71-49DB-A722-2289CF7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36D-FFF9-40A0-9FED-C15AEE9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D25-88E4-4FE2-AB54-5BE5B6D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684-092B-40AE-B8BC-453075D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1" name="图片 6" descr=""/>
          <p:cNvPicPr/>
          <p:nvPr/>
        </p:nvPicPr>
        <p:blipFill>
          <a:blip r:embed="rId2"/>
          <a:stretch/>
        </p:blipFill>
        <p:spPr>
          <a:xfrm flipH="1">
            <a:off x="5455440" y="762480"/>
            <a:ext cx="3688560" cy="438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1720" y="1523880"/>
            <a:ext cx="4061160" cy="117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600" spc="-1" strike="noStrike">
                <a:solidFill>
                  <a:srgbClr val="71933a"/>
                </a:solidFill>
                <a:latin typeface="Arial"/>
              </a:rPr>
              <a:t>单击此处编辑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1720" y="2833920"/>
            <a:ext cx="4061160" cy="671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F428DC-7D35-4D15-BF02-4ED0CE0846FD}" type="slidenum">
              <a:rPr b="0" lang="en-US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44" name="组合 40"/>
          <p:cNvGrpSpPr/>
          <p:nvPr/>
        </p:nvGrpSpPr>
        <p:grpSpPr>
          <a:xfrm>
            <a:off x="8660160" y="12600"/>
            <a:ext cx="474480" cy="432360"/>
            <a:chOff x="8660160" y="12600"/>
            <a:chExt cx="474480" cy="432360"/>
          </a:xfrm>
        </p:grpSpPr>
        <p:sp>
          <p:nvSpPr>
            <p:cNvPr id="45" name="Freeform 17"/>
            <p:cNvSpPr/>
            <p:nvPr/>
          </p:nvSpPr>
          <p:spPr>
            <a:xfrm>
              <a:off x="8660160" y="12600"/>
              <a:ext cx="442080" cy="4258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1788" h="1722">
                  <a:moveTo>
                    <a:pt x="916" y="1299"/>
                  </a:moveTo>
                  <a:cubicBezTo>
                    <a:pt x="896" y="1383"/>
                    <a:pt x="873" y="1455"/>
                    <a:pt x="847" y="1514"/>
                  </a:cubicBezTo>
                  <a:cubicBezTo>
                    <a:pt x="866" y="1629"/>
                    <a:pt x="919" y="1722"/>
                    <a:pt x="1037" y="1722"/>
                  </a:cubicBezTo>
                  <a:cubicBezTo>
                    <a:pt x="1054" y="1722"/>
                    <a:pt x="1071" y="1720"/>
                    <a:pt x="1090" y="1717"/>
                  </a:cubicBezTo>
                  <a:cubicBezTo>
                    <a:pt x="1060" y="1711"/>
                    <a:pt x="1035" y="1698"/>
                    <a:pt x="1013" y="1677"/>
                  </a:cubicBezTo>
                  <a:cubicBezTo>
                    <a:pt x="970" y="1636"/>
                    <a:pt x="942" y="1568"/>
                    <a:pt x="928" y="1474"/>
                  </a:cubicBezTo>
                  <a:cubicBezTo>
                    <a:pt x="918" y="1417"/>
                    <a:pt x="915" y="1356"/>
                    <a:pt x="916" y="1299"/>
                  </a:cubicBezTo>
                  <a:moveTo>
                    <a:pt x="1336" y="1108"/>
                  </a:moveTo>
                  <a:cubicBezTo>
                    <a:pt x="1356" y="1122"/>
                    <a:pt x="1373" y="1136"/>
                    <a:pt x="1390" y="1150"/>
                  </a:cubicBezTo>
                  <a:cubicBezTo>
                    <a:pt x="1470" y="1178"/>
                    <a:pt x="1557" y="1200"/>
                    <a:pt x="1635" y="1200"/>
                  </a:cubicBezTo>
                  <a:cubicBezTo>
                    <a:pt x="1694" y="1200"/>
                    <a:pt x="1748" y="1187"/>
                    <a:pt x="1788" y="1154"/>
                  </a:cubicBezTo>
                  <a:cubicBezTo>
                    <a:pt x="1772" y="1161"/>
                    <a:pt x="1754" y="1167"/>
                    <a:pt x="1734" y="1170"/>
                  </a:cubicBezTo>
                  <a:cubicBezTo>
                    <a:pt x="1712" y="1174"/>
                    <a:pt x="1690" y="1176"/>
                    <a:pt x="1666" y="1176"/>
                  </a:cubicBezTo>
                  <a:cubicBezTo>
                    <a:pt x="1628" y="1176"/>
                    <a:pt x="1588" y="1171"/>
                    <a:pt x="1549" y="1164"/>
                  </a:cubicBezTo>
                  <a:cubicBezTo>
                    <a:pt x="1475" y="1153"/>
                    <a:pt x="1400" y="1131"/>
                    <a:pt x="1336" y="1108"/>
                  </a:cubicBezTo>
                  <a:moveTo>
                    <a:pt x="661" y="952"/>
                  </a:moveTo>
                  <a:cubicBezTo>
                    <a:pt x="657" y="953"/>
                    <a:pt x="653" y="953"/>
                    <a:pt x="648" y="954"/>
                  </a:cubicBezTo>
                  <a:cubicBezTo>
                    <a:pt x="580" y="967"/>
                    <a:pt x="520" y="973"/>
                    <a:pt x="467" y="974"/>
                  </a:cubicBezTo>
                  <a:cubicBezTo>
                    <a:pt x="278" y="1066"/>
                    <a:pt x="106" y="1218"/>
                    <a:pt x="232" y="1447"/>
                  </a:cubicBezTo>
                  <a:cubicBezTo>
                    <a:pt x="325" y="1616"/>
                    <a:pt x="423" y="1703"/>
                    <a:pt x="516" y="1703"/>
                  </a:cubicBezTo>
                  <a:cubicBezTo>
                    <a:pt x="518" y="1703"/>
                    <a:pt x="521" y="1703"/>
                    <a:pt x="523" y="1703"/>
                  </a:cubicBezTo>
                  <a:cubicBezTo>
                    <a:pt x="461" y="1667"/>
                    <a:pt x="397" y="1598"/>
                    <a:pt x="334" y="1497"/>
                  </a:cubicBezTo>
                  <a:cubicBezTo>
                    <a:pt x="281" y="1414"/>
                    <a:pt x="269" y="1333"/>
                    <a:pt x="296" y="1257"/>
                  </a:cubicBezTo>
                  <a:cubicBezTo>
                    <a:pt x="323" y="1182"/>
                    <a:pt x="386" y="1119"/>
                    <a:pt x="459" y="1067"/>
                  </a:cubicBezTo>
                  <a:cubicBezTo>
                    <a:pt x="522" y="1019"/>
                    <a:pt x="595" y="981"/>
                    <a:pt x="661" y="952"/>
                  </a:cubicBezTo>
                  <a:moveTo>
                    <a:pt x="1418" y="660"/>
                  </a:moveTo>
                  <a:cubicBezTo>
                    <a:pt x="1403" y="663"/>
                    <a:pt x="1388" y="667"/>
                    <a:pt x="1372" y="671"/>
                  </a:cubicBezTo>
                  <a:cubicBezTo>
                    <a:pt x="1369" y="673"/>
                    <a:pt x="1366" y="675"/>
                    <a:pt x="1363" y="677"/>
                  </a:cubicBezTo>
                  <a:cubicBezTo>
                    <a:pt x="1382" y="671"/>
                    <a:pt x="1400" y="665"/>
                    <a:pt x="1418" y="660"/>
                  </a:cubicBezTo>
                  <a:moveTo>
                    <a:pt x="580" y="121"/>
                  </a:moveTo>
                  <a:cubicBezTo>
                    <a:pt x="561" y="121"/>
                    <a:pt x="542" y="123"/>
                    <a:pt x="521" y="128"/>
                  </a:cubicBezTo>
                  <a:cubicBezTo>
                    <a:pt x="148" y="212"/>
                    <a:pt x="0" y="708"/>
                    <a:pt x="161" y="850"/>
                  </a:cubicBezTo>
                  <a:cubicBezTo>
                    <a:pt x="169" y="857"/>
                    <a:pt x="178" y="864"/>
                    <a:pt x="189" y="870"/>
                  </a:cubicBezTo>
                  <a:cubicBezTo>
                    <a:pt x="155" y="811"/>
                    <a:pt x="146" y="724"/>
                    <a:pt x="165" y="628"/>
                  </a:cubicBezTo>
                  <a:cubicBezTo>
                    <a:pt x="196" y="466"/>
                    <a:pt x="313" y="254"/>
                    <a:pt x="540" y="188"/>
                  </a:cubicBezTo>
                  <a:cubicBezTo>
                    <a:pt x="565" y="181"/>
                    <a:pt x="589" y="178"/>
                    <a:pt x="612" y="178"/>
                  </a:cubicBezTo>
                  <a:cubicBezTo>
                    <a:pt x="657" y="178"/>
                    <a:pt x="698" y="191"/>
                    <a:pt x="736" y="218"/>
                  </a:cubicBezTo>
                  <a:cubicBezTo>
                    <a:pt x="761" y="236"/>
                    <a:pt x="783" y="259"/>
                    <a:pt x="802" y="285"/>
                  </a:cubicBezTo>
                  <a:cubicBezTo>
                    <a:pt x="804" y="287"/>
                    <a:pt x="806" y="289"/>
                    <a:pt x="808" y="292"/>
                  </a:cubicBezTo>
                  <a:cubicBezTo>
                    <a:pt x="763" y="201"/>
                    <a:pt x="692" y="121"/>
                    <a:pt x="580" y="121"/>
                  </a:cubicBezTo>
                  <a:moveTo>
                    <a:pt x="1149" y="0"/>
                  </a:moveTo>
                  <a:cubicBezTo>
                    <a:pt x="1009" y="0"/>
                    <a:pt x="900" y="116"/>
                    <a:pt x="882" y="422"/>
                  </a:cubicBezTo>
                  <a:cubicBezTo>
                    <a:pt x="891" y="445"/>
                    <a:pt x="899" y="468"/>
                    <a:pt x="905" y="489"/>
                  </a:cubicBezTo>
                  <a:cubicBezTo>
                    <a:pt x="905" y="432"/>
                    <a:pt x="908" y="382"/>
                    <a:pt x="913" y="339"/>
                  </a:cubicBezTo>
                  <a:cubicBezTo>
                    <a:pt x="938" y="116"/>
                    <a:pt x="1032" y="46"/>
                    <a:pt x="1119" y="30"/>
                  </a:cubicBezTo>
                  <a:cubicBezTo>
                    <a:pt x="1133" y="28"/>
                    <a:pt x="1147" y="26"/>
                    <a:pt x="1163" y="26"/>
                  </a:cubicBezTo>
                  <a:cubicBezTo>
                    <a:pt x="1260" y="26"/>
                    <a:pt x="1378" y="78"/>
                    <a:pt x="1503" y="176"/>
                  </a:cubicBezTo>
                  <a:cubicBezTo>
                    <a:pt x="1507" y="179"/>
                    <a:pt x="1511" y="183"/>
                    <a:pt x="1515" y="186"/>
                  </a:cubicBezTo>
                  <a:cubicBezTo>
                    <a:pt x="1510" y="182"/>
                    <a:pt x="1506" y="178"/>
                    <a:pt x="1501" y="173"/>
                  </a:cubicBezTo>
                  <a:cubicBezTo>
                    <a:pt x="1384" y="69"/>
                    <a:pt x="1257" y="0"/>
                    <a:pt x="1149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" name="Freeform 18"/>
            <p:cNvSpPr/>
            <p:nvPr/>
          </p:nvSpPr>
          <p:spPr>
            <a:xfrm>
              <a:off x="8697600" y="20520"/>
              <a:ext cx="422280" cy="4158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707" h="1681">
                  <a:moveTo>
                    <a:pt x="810" y="1552"/>
                  </a:moveTo>
                  <a:cubicBezTo>
                    <a:pt x="824" y="1587"/>
                    <a:pt x="842" y="1618"/>
                    <a:pt x="866" y="1640"/>
                  </a:cubicBezTo>
                  <a:cubicBezTo>
                    <a:pt x="891" y="1664"/>
                    <a:pt x="921" y="1677"/>
                    <a:pt x="955" y="1681"/>
                  </a:cubicBezTo>
                  <a:cubicBezTo>
                    <a:pt x="997" y="1671"/>
                    <a:pt x="1036" y="1658"/>
                    <a:pt x="1071" y="1643"/>
                  </a:cubicBezTo>
                  <a:cubicBezTo>
                    <a:pt x="1064" y="1645"/>
                    <a:pt x="1057" y="1647"/>
                    <a:pt x="1050" y="1650"/>
                  </a:cubicBezTo>
                  <a:cubicBezTo>
                    <a:pt x="1038" y="1653"/>
                    <a:pt x="1026" y="1656"/>
                    <a:pt x="1014" y="1659"/>
                  </a:cubicBezTo>
                  <a:cubicBezTo>
                    <a:pt x="999" y="1661"/>
                    <a:pt x="985" y="1663"/>
                    <a:pt x="971" y="1663"/>
                  </a:cubicBezTo>
                  <a:cubicBezTo>
                    <a:pt x="926" y="1663"/>
                    <a:pt x="888" y="1648"/>
                    <a:pt x="858" y="1619"/>
                  </a:cubicBezTo>
                  <a:cubicBezTo>
                    <a:pt x="838" y="1601"/>
                    <a:pt x="823" y="1578"/>
                    <a:pt x="810" y="1552"/>
                  </a:cubicBezTo>
                  <a:moveTo>
                    <a:pt x="216" y="1123"/>
                  </a:moveTo>
                  <a:cubicBezTo>
                    <a:pt x="187" y="1154"/>
                    <a:pt x="164" y="1189"/>
                    <a:pt x="151" y="1227"/>
                  </a:cubicBezTo>
                  <a:cubicBezTo>
                    <a:pt x="124" y="1301"/>
                    <a:pt x="137" y="1380"/>
                    <a:pt x="188" y="1462"/>
                  </a:cubicBezTo>
                  <a:cubicBezTo>
                    <a:pt x="254" y="1566"/>
                    <a:pt x="320" y="1636"/>
                    <a:pt x="383" y="1670"/>
                  </a:cubicBezTo>
                  <a:cubicBezTo>
                    <a:pt x="395" y="1669"/>
                    <a:pt x="408" y="1665"/>
                    <a:pt x="420" y="1661"/>
                  </a:cubicBezTo>
                  <a:cubicBezTo>
                    <a:pt x="350" y="1632"/>
                    <a:pt x="277" y="1559"/>
                    <a:pt x="204" y="1445"/>
                  </a:cubicBezTo>
                  <a:cubicBezTo>
                    <a:pt x="152" y="1363"/>
                    <a:pt x="140" y="1283"/>
                    <a:pt x="167" y="1207"/>
                  </a:cubicBezTo>
                  <a:cubicBezTo>
                    <a:pt x="178" y="1177"/>
                    <a:pt x="195" y="1149"/>
                    <a:pt x="216" y="1123"/>
                  </a:cubicBezTo>
                  <a:moveTo>
                    <a:pt x="1684" y="1060"/>
                  </a:moveTo>
                  <a:cubicBezTo>
                    <a:pt x="1657" y="1099"/>
                    <a:pt x="1614" y="1123"/>
                    <a:pt x="1557" y="1134"/>
                  </a:cubicBezTo>
                  <a:cubicBezTo>
                    <a:pt x="1548" y="1135"/>
                    <a:pt x="1539" y="1137"/>
                    <a:pt x="1529" y="1138"/>
                  </a:cubicBezTo>
                  <a:cubicBezTo>
                    <a:pt x="1547" y="1137"/>
                    <a:pt x="1565" y="1135"/>
                    <a:pt x="1582" y="1132"/>
                  </a:cubicBezTo>
                  <a:cubicBezTo>
                    <a:pt x="1609" y="1127"/>
                    <a:pt x="1632" y="1119"/>
                    <a:pt x="1652" y="1108"/>
                  </a:cubicBezTo>
                  <a:cubicBezTo>
                    <a:pt x="1665" y="1095"/>
                    <a:pt x="1676" y="1079"/>
                    <a:pt x="1684" y="1060"/>
                  </a:cubicBezTo>
                  <a:moveTo>
                    <a:pt x="837" y="1279"/>
                  </a:moveTo>
                  <a:cubicBezTo>
                    <a:pt x="836" y="1275"/>
                    <a:pt x="819" y="1182"/>
                    <a:pt x="818" y="1155"/>
                  </a:cubicBezTo>
                  <a:cubicBezTo>
                    <a:pt x="824" y="1154"/>
                    <a:pt x="824" y="1154"/>
                    <a:pt x="824" y="1154"/>
                  </a:cubicBezTo>
                  <a:cubicBezTo>
                    <a:pt x="825" y="1181"/>
                    <a:pt x="843" y="1277"/>
                    <a:pt x="843" y="1278"/>
                  </a:cubicBezTo>
                  <a:cubicBezTo>
                    <a:pt x="837" y="1279"/>
                    <a:pt x="837" y="1279"/>
                    <a:pt x="837" y="1279"/>
                  </a:cubicBezTo>
                  <a:moveTo>
                    <a:pt x="822" y="909"/>
                  </a:moveTo>
                  <a:cubicBezTo>
                    <a:pt x="805" y="951"/>
                    <a:pt x="734" y="1129"/>
                    <a:pt x="693" y="1225"/>
                  </a:cubicBezTo>
                  <a:cubicBezTo>
                    <a:pt x="687" y="1292"/>
                    <a:pt x="683" y="1369"/>
                    <a:pt x="691" y="1441"/>
                  </a:cubicBezTo>
                  <a:cubicBezTo>
                    <a:pt x="727" y="1350"/>
                    <a:pt x="756" y="1231"/>
                    <a:pt x="778" y="1086"/>
                  </a:cubicBezTo>
                  <a:cubicBezTo>
                    <a:pt x="781" y="1065"/>
                    <a:pt x="783" y="1052"/>
                    <a:pt x="783" y="1052"/>
                  </a:cubicBezTo>
                  <a:cubicBezTo>
                    <a:pt x="803" y="1055"/>
                    <a:pt x="803" y="1055"/>
                    <a:pt x="803" y="1055"/>
                  </a:cubicBezTo>
                  <a:cubicBezTo>
                    <a:pt x="801" y="1067"/>
                    <a:pt x="800" y="1078"/>
                    <a:pt x="798" y="1089"/>
                  </a:cubicBezTo>
                  <a:cubicBezTo>
                    <a:pt x="786" y="1182"/>
                    <a:pt x="756" y="1495"/>
                    <a:pt x="871" y="1604"/>
                  </a:cubicBezTo>
                  <a:cubicBezTo>
                    <a:pt x="898" y="1629"/>
                    <a:pt x="930" y="1642"/>
                    <a:pt x="968" y="1642"/>
                  </a:cubicBezTo>
                  <a:cubicBezTo>
                    <a:pt x="947" y="1611"/>
                    <a:pt x="892" y="1521"/>
                    <a:pt x="875" y="1440"/>
                  </a:cubicBezTo>
                  <a:cubicBezTo>
                    <a:pt x="881" y="1439"/>
                    <a:pt x="881" y="1439"/>
                    <a:pt x="881" y="1439"/>
                  </a:cubicBezTo>
                  <a:cubicBezTo>
                    <a:pt x="899" y="1522"/>
                    <a:pt x="957" y="1614"/>
                    <a:pt x="975" y="1642"/>
                  </a:cubicBezTo>
                  <a:cubicBezTo>
                    <a:pt x="997" y="1642"/>
                    <a:pt x="1020" y="1638"/>
                    <a:pt x="1044" y="1630"/>
                  </a:cubicBezTo>
                  <a:cubicBezTo>
                    <a:pt x="1077" y="1620"/>
                    <a:pt x="1107" y="1609"/>
                    <a:pt x="1135" y="1596"/>
                  </a:cubicBezTo>
                  <a:cubicBezTo>
                    <a:pt x="973" y="1409"/>
                    <a:pt x="879" y="979"/>
                    <a:pt x="865" y="909"/>
                  </a:cubicBezTo>
                  <a:cubicBezTo>
                    <a:pt x="864" y="909"/>
                    <a:pt x="863" y="910"/>
                    <a:pt x="862" y="910"/>
                  </a:cubicBezTo>
                  <a:cubicBezTo>
                    <a:pt x="859" y="911"/>
                    <a:pt x="855" y="911"/>
                    <a:pt x="852" y="911"/>
                  </a:cubicBezTo>
                  <a:cubicBezTo>
                    <a:pt x="851" y="970"/>
                    <a:pt x="856" y="1287"/>
                    <a:pt x="1003" y="1540"/>
                  </a:cubicBezTo>
                  <a:cubicBezTo>
                    <a:pt x="998" y="1543"/>
                    <a:pt x="998" y="1543"/>
                    <a:pt x="998" y="1543"/>
                  </a:cubicBezTo>
                  <a:cubicBezTo>
                    <a:pt x="850" y="1289"/>
                    <a:pt x="845" y="972"/>
                    <a:pt x="846" y="911"/>
                  </a:cubicBezTo>
                  <a:cubicBezTo>
                    <a:pt x="846" y="911"/>
                    <a:pt x="845" y="911"/>
                    <a:pt x="845" y="911"/>
                  </a:cubicBezTo>
                  <a:cubicBezTo>
                    <a:pt x="837" y="911"/>
                    <a:pt x="829" y="910"/>
                    <a:pt x="822" y="909"/>
                  </a:cubicBezTo>
                  <a:moveTo>
                    <a:pt x="379" y="1494"/>
                  </a:moveTo>
                  <a:cubicBezTo>
                    <a:pt x="374" y="1491"/>
                    <a:pt x="374" y="1491"/>
                    <a:pt x="374" y="1491"/>
                  </a:cubicBezTo>
                  <a:cubicBezTo>
                    <a:pt x="409" y="1445"/>
                    <a:pt x="409" y="1445"/>
                    <a:pt x="409" y="1445"/>
                  </a:cubicBezTo>
                  <a:cubicBezTo>
                    <a:pt x="414" y="1449"/>
                    <a:pt x="414" y="1449"/>
                    <a:pt x="414" y="1449"/>
                  </a:cubicBezTo>
                  <a:cubicBezTo>
                    <a:pt x="379" y="1494"/>
                    <a:pt x="379" y="1494"/>
                    <a:pt x="379" y="1494"/>
                  </a:cubicBezTo>
                  <a:moveTo>
                    <a:pt x="548" y="1500"/>
                  </a:moveTo>
                  <a:cubicBezTo>
                    <a:pt x="543" y="1497"/>
                    <a:pt x="543" y="1497"/>
                    <a:pt x="543" y="1497"/>
                  </a:cubicBezTo>
                  <a:cubicBezTo>
                    <a:pt x="631" y="1344"/>
                    <a:pt x="631" y="1344"/>
                    <a:pt x="631" y="1344"/>
                  </a:cubicBezTo>
                  <a:cubicBezTo>
                    <a:pt x="636" y="1347"/>
                    <a:pt x="636" y="1347"/>
                    <a:pt x="636" y="1347"/>
                  </a:cubicBezTo>
                  <a:cubicBezTo>
                    <a:pt x="548" y="1500"/>
                    <a:pt x="548" y="1500"/>
                    <a:pt x="548" y="1500"/>
                  </a:cubicBezTo>
                  <a:moveTo>
                    <a:pt x="787" y="890"/>
                  </a:moveTo>
                  <a:cubicBezTo>
                    <a:pt x="729" y="945"/>
                    <a:pt x="326" y="1325"/>
                    <a:pt x="271" y="1506"/>
                  </a:cubicBezTo>
                  <a:cubicBezTo>
                    <a:pt x="331" y="1584"/>
                    <a:pt x="390" y="1633"/>
                    <a:pt x="446" y="1648"/>
                  </a:cubicBezTo>
                  <a:cubicBezTo>
                    <a:pt x="552" y="1586"/>
                    <a:pt x="647" y="1399"/>
                    <a:pt x="714" y="1078"/>
                  </a:cubicBezTo>
                  <a:cubicBezTo>
                    <a:pt x="709" y="1107"/>
                    <a:pt x="701" y="1152"/>
                    <a:pt x="695" y="1204"/>
                  </a:cubicBezTo>
                  <a:cubicBezTo>
                    <a:pt x="736" y="1105"/>
                    <a:pt x="800" y="947"/>
                    <a:pt x="816" y="907"/>
                  </a:cubicBezTo>
                  <a:cubicBezTo>
                    <a:pt x="811" y="905"/>
                    <a:pt x="807" y="903"/>
                    <a:pt x="803" y="901"/>
                  </a:cubicBezTo>
                  <a:cubicBezTo>
                    <a:pt x="758" y="956"/>
                    <a:pt x="469" y="1313"/>
                    <a:pt x="433" y="1417"/>
                  </a:cubicBezTo>
                  <a:cubicBezTo>
                    <a:pt x="428" y="1415"/>
                    <a:pt x="428" y="1415"/>
                    <a:pt x="428" y="1415"/>
                  </a:cubicBezTo>
                  <a:cubicBezTo>
                    <a:pt x="464" y="1310"/>
                    <a:pt x="748" y="958"/>
                    <a:pt x="797" y="898"/>
                  </a:cubicBezTo>
                  <a:cubicBezTo>
                    <a:pt x="794" y="896"/>
                    <a:pt x="790" y="893"/>
                    <a:pt x="787" y="890"/>
                  </a:cubicBezTo>
                  <a:moveTo>
                    <a:pt x="772" y="876"/>
                  </a:moveTo>
                  <a:cubicBezTo>
                    <a:pt x="466" y="1072"/>
                    <a:pt x="242" y="1354"/>
                    <a:pt x="204" y="1404"/>
                  </a:cubicBezTo>
                  <a:cubicBezTo>
                    <a:pt x="209" y="1414"/>
                    <a:pt x="215" y="1424"/>
                    <a:pt x="221" y="1434"/>
                  </a:cubicBezTo>
                  <a:cubicBezTo>
                    <a:pt x="236" y="1458"/>
                    <a:pt x="251" y="1480"/>
                    <a:pt x="266" y="1500"/>
                  </a:cubicBezTo>
                  <a:cubicBezTo>
                    <a:pt x="327" y="1317"/>
                    <a:pt x="723" y="942"/>
                    <a:pt x="782" y="887"/>
                  </a:cubicBezTo>
                  <a:cubicBezTo>
                    <a:pt x="779" y="883"/>
                    <a:pt x="775" y="879"/>
                    <a:pt x="772" y="876"/>
                  </a:cubicBezTo>
                  <a:moveTo>
                    <a:pt x="793" y="868"/>
                  </a:moveTo>
                  <a:cubicBezTo>
                    <a:pt x="799" y="875"/>
                    <a:pt x="807" y="881"/>
                    <a:pt x="816" y="884"/>
                  </a:cubicBezTo>
                  <a:cubicBezTo>
                    <a:pt x="810" y="879"/>
                    <a:pt x="802" y="874"/>
                    <a:pt x="793" y="868"/>
                  </a:cubicBezTo>
                  <a:moveTo>
                    <a:pt x="1041" y="1082"/>
                  </a:moveTo>
                  <a:cubicBezTo>
                    <a:pt x="940" y="934"/>
                    <a:pt x="940" y="934"/>
                    <a:pt x="940" y="934"/>
                  </a:cubicBezTo>
                  <a:cubicBezTo>
                    <a:pt x="945" y="931"/>
                    <a:pt x="945" y="931"/>
                    <a:pt x="945" y="931"/>
                  </a:cubicBezTo>
                  <a:cubicBezTo>
                    <a:pt x="1046" y="1078"/>
                    <a:pt x="1046" y="1078"/>
                    <a:pt x="1046" y="1078"/>
                  </a:cubicBezTo>
                  <a:cubicBezTo>
                    <a:pt x="1041" y="1082"/>
                    <a:pt x="1041" y="1082"/>
                    <a:pt x="1041" y="1082"/>
                  </a:cubicBezTo>
                  <a:moveTo>
                    <a:pt x="935" y="842"/>
                  </a:moveTo>
                  <a:cubicBezTo>
                    <a:pt x="931" y="854"/>
                    <a:pt x="926" y="864"/>
                    <a:pt x="920" y="873"/>
                  </a:cubicBezTo>
                  <a:cubicBezTo>
                    <a:pt x="960" y="888"/>
                    <a:pt x="1103" y="940"/>
                    <a:pt x="1146" y="944"/>
                  </a:cubicBezTo>
                  <a:cubicBezTo>
                    <a:pt x="1146" y="950"/>
                    <a:pt x="1146" y="950"/>
                    <a:pt x="1146" y="950"/>
                  </a:cubicBezTo>
                  <a:cubicBezTo>
                    <a:pt x="1101" y="946"/>
                    <a:pt x="953" y="892"/>
                    <a:pt x="915" y="878"/>
                  </a:cubicBezTo>
                  <a:cubicBezTo>
                    <a:pt x="909" y="886"/>
                    <a:pt x="902" y="893"/>
                    <a:pt x="893" y="898"/>
                  </a:cubicBezTo>
                  <a:cubicBezTo>
                    <a:pt x="914" y="944"/>
                    <a:pt x="1011" y="1155"/>
                    <a:pt x="1053" y="1230"/>
                  </a:cubicBezTo>
                  <a:cubicBezTo>
                    <a:pt x="1048" y="1233"/>
                    <a:pt x="1048" y="1233"/>
                    <a:pt x="1048" y="1233"/>
                  </a:cubicBezTo>
                  <a:cubicBezTo>
                    <a:pt x="1006" y="1158"/>
                    <a:pt x="909" y="947"/>
                    <a:pt x="887" y="901"/>
                  </a:cubicBezTo>
                  <a:cubicBezTo>
                    <a:pt x="882" y="904"/>
                    <a:pt x="876" y="906"/>
                    <a:pt x="871" y="908"/>
                  </a:cubicBezTo>
                  <a:cubicBezTo>
                    <a:pt x="884" y="975"/>
                    <a:pt x="978" y="1407"/>
                    <a:pt x="1141" y="1593"/>
                  </a:cubicBezTo>
                  <a:cubicBezTo>
                    <a:pt x="1169" y="1579"/>
                    <a:pt x="1194" y="1564"/>
                    <a:pt x="1216" y="1548"/>
                  </a:cubicBezTo>
                  <a:cubicBezTo>
                    <a:pt x="1218" y="1547"/>
                    <a:pt x="1219" y="1545"/>
                    <a:pt x="1220" y="1544"/>
                  </a:cubicBezTo>
                  <a:cubicBezTo>
                    <a:pt x="1194" y="1500"/>
                    <a:pt x="1089" y="1324"/>
                    <a:pt x="1082" y="1309"/>
                  </a:cubicBezTo>
                  <a:cubicBezTo>
                    <a:pt x="1087" y="1307"/>
                    <a:pt x="1087" y="1307"/>
                    <a:pt x="1087" y="1307"/>
                  </a:cubicBezTo>
                  <a:cubicBezTo>
                    <a:pt x="1094" y="1321"/>
                    <a:pt x="1198" y="1494"/>
                    <a:pt x="1225" y="1539"/>
                  </a:cubicBezTo>
                  <a:cubicBezTo>
                    <a:pt x="1259" y="1502"/>
                    <a:pt x="1281" y="1461"/>
                    <a:pt x="1290" y="1418"/>
                  </a:cubicBezTo>
                  <a:cubicBezTo>
                    <a:pt x="1241" y="1359"/>
                    <a:pt x="1144" y="1243"/>
                    <a:pt x="1125" y="1206"/>
                  </a:cubicBezTo>
                  <a:cubicBezTo>
                    <a:pt x="1130" y="1203"/>
                    <a:pt x="1130" y="1203"/>
                    <a:pt x="1130" y="1203"/>
                  </a:cubicBezTo>
                  <a:cubicBezTo>
                    <a:pt x="1149" y="1239"/>
                    <a:pt x="1242" y="1351"/>
                    <a:pt x="1291" y="1410"/>
                  </a:cubicBezTo>
                  <a:cubicBezTo>
                    <a:pt x="1313" y="1285"/>
                    <a:pt x="1228" y="1141"/>
                    <a:pt x="1008" y="1017"/>
                  </a:cubicBezTo>
                  <a:cubicBezTo>
                    <a:pt x="1042" y="1035"/>
                    <a:pt x="1104" y="1066"/>
                    <a:pt x="1178" y="1096"/>
                  </a:cubicBezTo>
                  <a:cubicBezTo>
                    <a:pt x="1142" y="1070"/>
                    <a:pt x="1101" y="1046"/>
                    <a:pt x="1055" y="1023"/>
                  </a:cubicBezTo>
                  <a:cubicBezTo>
                    <a:pt x="1038" y="1016"/>
                    <a:pt x="1029" y="1011"/>
                    <a:pt x="1029" y="1011"/>
                  </a:cubicBezTo>
                  <a:cubicBezTo>
                    <a:pt x="1037" y="993"/>
                    <a:pt x="1037" y="993"/>
                    <a:pt x="1037" y="993"/>
                  </a:cubicBezTo>
                  <a:cubicBezTo>
                    <a:pt x="1046" y="997"/>
                    <a:pt x="1055" y="1001"/>
                    <a:pt x="1064" y="1005"/>
                  </a:cubicBezTo>
                  <a:cubicBezTo>
                    <a:pt x="1128" y="1034"/>
                    <a:pt x="1330" y="1119"/>
                    <a:pt x="1489" y="1119"/>
                  </a:cubicBezTo>
                  <a:cubicBezTo>
                    <a:pt x="1512" y="1119"/>
                    <a:pt x="1533" y="1118"/>
                    <a:pt x="1553" y="1114"/>
                  </a:cubicBezTo>
                  <a:cubicBezTo>
                    <a:pt x="1577" y="1110"/>
                    <a:pt x="1597" y="1102"/>
                    <a:pt x="1615" y="1093"/>
                  </a:cubicBezTo>
                  <a:cubicBezTo>
                    <a:pt x="1536" y="1080"/>
                    <a:pt x="1244" y="1030"/>
                    <a:pt x="1198" y="1008"/>
                  </a:cubicBezTo>
                  <a:cubicBezTo>
                    <a:pt x="1201" y="1003"/>
                    <a:pt x="1201" y="1003"/>
                    <a:pt x="1201" y="1003"/>
                  </a:cubicBezTo>
                  <a:cubicBezTo>
                    <a:pt x="1246" y="1024"/>
                    <a:pt x="1559" y="1077"/>
                    <a:pt x="1624" y="1088"/>
                  </a:cubicBezTo>
                  <a:cubicBezTo>
                    <a:pt x="1658" y="1067"/>
                    <a:pt x="1681" y="1037"/>
                    <a:pt x="1693" y="995"/>
                  </a:cubicBezTo>
                  <a:cubicBezTo>
                    <a:pt x="1634" y="989"/>
                    <a:pt x="1351" y="961"/>
                    <a:pt x="1263" y="944"/>
                  </a:cubicBezTo>
                  <a:cubicBezTo>
                    <a:pt x="1265" y="939"/>
                    <a:pt x="1265" y="939"/>
                    <a:pt x="1265" y="939"/>
                  </a:cubicBezTo>
                  <a:cubicBezTo>
                    <a:pt x="1353" y="956"/>
                    <a:pt x="1637" y="983"/>
                    <a:pt x="1694" y="989"/>
                  </a:cubicBezTo>
                  <a:cubicBezTo>
                    <a:pt x="1695" y="984"/>
                    <a:pt x="1697" y="979"/>
                    <a:pt x="1698" y="973"/>
                  </a:cubicBezTo>
                  <a:cubicBezTo>
                    <a:pt x="1702" y="953"/>
                    <a:pt x="1704" y="933"/>
                    <a:pt x="1705" y="915"/>
                  </a:cubicBezTo>
                  <a:cubicBezTo>
                    <a:pt x="1612" y="887"/>
                    <a:pt x="1017" y="848"/>
                    <a:pt x="935" y="842"/>
                  </a:cubicBezTo>
                  <a:moveTo>
                    <a:pt x="549" y="957"/>
                  </a:moveTo>
                  <a:cubicBezTo>
                    <a:pt x="546" y="951"/>
                    <a:pt x="546" y="951"/>
                    <a:pt x="546" y="951"/>
                  </a:cubicBezTo>
                  <a:cubicBezTo>
                    <a:pt x="586" y="929"/>
                    <a:pt x="586" y="929"/>
                    <a:pt x="586" y="929"/>
                  </a:cubicBezTo>
                  <a:cubicBezTo>
                    <a:pt x="589" y="934"/>
                    <a:pt x="589" y="934"/>
                    <a:pt x="589" y="934"/>
                  </a:cubicBezTo>
                  <a:cubicBezTo>
                    <a:pt x="549" y="957"/>
                    <a:pt x="549" y="957"/>
                    <a:pt x="549" y="957"/>
                  </a:cubicBezTo>
                  <a:moveTo>
                    <a:pt x="754" y="836"/>
                  </a:moveTo>
                  <a:cubicBezTo>
                    <a:pt x="747" y="838"/>
                    <a:pt x="738" y="839"/>
                    <a:pt x="726" y="841"/>
                  </a:cubicBezTo>
                  <a:cubicBezTo>
                    <a:pt x="675" y="851"/>
                    <a:pt x="578" y="867"/>
                    <a:pt x="475" y="877"/>
                  </a:cubicBezTo>
                  <a:cubicBezTo>
                    <a:pt x="440" y="889"/>
                    <a:pt x="403" y="903"/>
                    <a:pt x="365" y="919"/>
                  </a:cubicBezTo>
                  <a:cubicBezTo>
                    <a:pt x="409" y="916"/>
                    <a:pt x="454" y="910"/>
                    <a:pt x="493" y="902"/>
                  </a:cubicBezTo>
                  <a:cubicBezTo>
                    <a:pt x="557" y="891"/>
                    <a:pt x="615" y="876"/>
                    <a:pt x="653" y="865"/>
                  </a:cubicBezTo>
                  <a:cubicBezTo>
                    <a:pt x="692" y="852"/>
                    <a:pt x="716" y="846"/>
                    <a:pt x="717" y="846"/>
                  </a:cubicBezTo>
                  <a:cubicBezTo>
                    <a:pt x="723" y="865"/>
                    <a:pt x="723" y="865"/>
                    <a:pt x="723" y="865"/>
                  </a:cubicBezTo>
                  <a:cubicBezTo>
                    <a:pt x="723" y="865"/>
                    <a:pt x="698" y="874"/>
                    <a:pt x="658" y="885"/>
                  </a:cubicBezTo>
                  <a:cubicBezTo>
                    <a:pt x="538" y="924"/>
                    <a:pt x="250" y="1036"/>
                    <a:pt x="186" y="1214"/>
                  </a:cubicBezTo>
                  <a:cubicBezTo>
                    <a:pt x="177" y="1239"/>
                    <a:pt x="173" y="1265"/>
                    <a:pt x="174" y="1291"/>
                  </a:cubicBezTo>
                  <a:cubicBezTo>
                    <a:pt x="224" y="1234"/>
                    <a:pt x="416" y="1020"/>
                    <a:pt x="497" y="984"/>
                  </a:cubicBezTo>
                  <a:cubicBezTo>
                    <a:pt x="500" y="989"/>
                    <a:pt x="500" y="989"/>
                    <a:pt x="500" y="989"/>
                  </a:cubicBezTo>
                  <a:cubicBezTo>
                    <a:pt x="418" y="1026"/>
                    <a:pt x="216" y="1252"/>
                    <a:pt x="174" y="1299"/>
                  </a:cubicBezTo>
                  <a:cubicBezTo>
                    <a:pt x="176" y="1332"/>
                    <a:pt x="185" y="1364"/>
                    <a:pt x="201" y="1398"/>
                  </a:cubicBezTo>
                  <a:cubicBezTo>
                    <a:pt x="245" y="1341"/>
                    <a:pt x="467" y="1064"/>
                    <a:pt x="769" y="871"/>
                  </a:cubicBezTo>
                  <a:cubicBezTo>
                    <a:pt x="762" y="861"/>
                    <a:pt x="756" y="849"/>
                    <a:pt x="754" y="836"/>
                  </a:cubicBezTo>
                  <a:moveTo>
                    <a:pt x="1373" y="798"/>
                  </a:moveTo>
                  <a:cubicBezTo>
                    <a:pt x="1185" y="798"/>
                    <a:pt x="984" y="811"/>
                    <a:pt x="939" y="814"/>
                  </a:cubicBezTo>
                  <a:cubicBezTo>
                    <a:pt x="939" y="822"/>
                    <a:pt x="938" y="829"/>
                    <a:pt x="936" y="836"/>
                  </a:cubicBezTo>
                  <a:cubicBezTo>
                    <a:pt x="1025" y="842"/>
                    <a:pt x="1605" y="881"/>
                    <a:pt x="1706" y="909"/>
                  </a:cubicBezTo>
                  <a:cubicBezTo>
                    <a:pt x="1707" y="880"/>
                    <a:pt x="1706" y="853"/>
                    <a:pt x="1702" y="828"/>
                  </a:cubicBezTo>
                  <a:cubicBezTo>
                    <a:pt x="1643" y="805"/>
                    <a:pt x="1511" y="798"/>
                    <a:pt x="1373" y="798"/>
                  </a:cubicBezTo>
                  <a:moveTo>
                    <a:pt x="845" y="873"/>
                  </a:moveTo>
                  <a:cubicBezTo>
                    <a:pt x="820" y="873"/>
                    <a:pt x="798" y="855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0" y="826"/>
                    <a:pt x="790" y="822"/>
                    <a:pt x="789" y="818"/>
                  </a:cubicBezTo>
                  <a:cubicBezTo>
                    <a:pt x="788" y="789"/>
                    <a:pt x="808" y="764"/>
                    <a:pt x="835" y="759"/>
                  </a:cubicBezTo>
                  <a:cubicBezTo>
                    <a:pt x="837" y="758"/>
                    <a:pt x="840" y="758"/>
                    <a:pt x="842" y="758"/>
                  </a:cubicBezTo>
                  <a:cubicBezTo>
                    <a:pt x="843" y="758"/>
                    <a:pt x="844" y="758"/>
                    <a:pt x="845" y="758"/>
                  </a:cubicBezTo>
                  <a:cubicBezTo>
                    <a:pt x="859" y="758"/>
                    <a:pt x="872" y="763"/>
                    <a:pt x="882" y="773"/>
                  </a:cubicBezTo>
                  <a:cubicBezTo>
                    <a:pt x="893" y="783"/>
                    <a:pt x="900" y="797"/>
                    <a:pt x="901" y="813"/>
                  </a:cubicBezTo>
                  <a:cubicBezTo>
                    <a:pt x="901" y="813"/>
                    <a:pt x="900" y="814"/>
                    <a:pt x="901" y="815"/>
                  </a:cubicBezTo>
                  <a:cubicBezTo>
                    <a:pt x="901" y="815"/>
                    <a:pt x="901" y="815"/>
                    <a:pt x="901" y="815"/>
                  </a:cubicBezTo>
                  <a:cubicBezTo>
                    <a:pt x="900" y="815"/>
                    <a:pt x="900" y="815"/>
                    <a:pt x="900" y="815"/>
                  </a:cubicBezTo>
                  <a:cubicBezTo>
                    <a:pt x="901" y="825"/>
                    <a:pt x="898" y="835"/>
                    <a:pt x="893" y="844"/>
                  </a:cubicBezTo>
                  <a:cubicBezTo>
                    <a:pt x="894" y="844"/>
                    <a:pt x="894" y="844"/>
                    <a:pt x="894" y="844"/>
                  </a:cubicBezTo>
                  <a:cubicBezTo>
                    <a:pt x="893" y="845"/>
                    <a:pt x="893" y="845"/>
                    <a:pt x="892" y="846"/>
                  </a:cubicBezTo>
                  <a:cubicBezTo>
                    <a:pt x="884" y="859"/>
                    <a:pt x="871" y="869"/>
                    <a:pt x="855" y="872"/>
                  </a:cubicBezTo>
                  <a:cubicBezTo>
                    <a:pt x="853" y="872"/>
                    <a:pt x="850" y="872"/>
                    <a:pt x="848" y="873"/>
                  </a:cubicBezTo>
                  <a:cubicBezTo>
                    <a:pt x="847" y="873"/>
                    <a:pt x="846" y="873"/>
                    <a:pt x="845" y="873"/>
                  </a:cubicBezTo>
                  <a:moveTo>
                    <a:pt x="841" y="746"/>
                  </a:moveTo>
                  <a:cubicBezTo>
                    <a:pt x="836" y="746"/>
                    <a:pt x="832" y="746"/>
                    <a:pt x="827" y="747"/>
                  </a:cubicBezTo>
                  <a:cubicBezTo>
                    <a:pt x="826" y="747"/>
                    <a:pt x="826" y="747"/>
                    <a:pt x="826" y="747"/>
                  </a:cubicBezTo>
                  <a:cubicBezTo>
                    <a:pt x="814" y="749"/>
                    <a:pt x="803" y="755"/>
                    <a:pt x="794" y="761"/>
                  </a:cubicBezTo>
                  <a:cubicBezTo>
                    <a:pt x="779" y="775"/>
                    <a:pt x="771" y="796"/>
                    <a:pt x="772" y="819"/>
                  </a:cubicBezTo>
                  <a:cubicBezTo>
                    <a:pt x="772" y="833"/>
                    <a:pt x="777" y="846"/>
                    <a:pt x="784" y="857"/>
                  </a:cubicBezTo>
                  <a:cubicBezTo>
                    <a:pt x="806" y="867"/>
                    <a:pt x="821" y="880"/>
                    <a:pt x="829" y="889"/>
                  </a:cubicBezTo>
                  <a:cubicBezTo>
                    <a:pt x="834" y="890"/>
                    <a:pt x="840" y="891"/>
                    <a:pt x="846" y="891"/>
                  </a:cubicBezTo>
                  <a:cubicBezTo>
                    <a:pt x="847" y="891"/>
                    <a:pt x="848" y="891"/>
                    <a:pt x="848" y="891"/>
                  </a:cubicBezTo>
                  <a:cubicBezTo>
                    <a:pt x="889" y="889"/>
                    <a:pt x="920" y="853"/>
                    <a:pt x="918" y="812"/>
                  </a:cubicBezTo>
                  <a:cubicBezTo>
                    <a:pt x="918" y="793"/>
                    <a:pt x="910" y="776"/>
                    <a:pt x="898" y="763"/>
                  </a:cubicBezTo>
                  <a:cubicBezTo>
                    <a:pt x="878" y="752"/>
                    <a:pt x="859" y="746"/>
                    <a:pt x="841" y="746"/>
                  </a:cubicBezTo>
                  <a:moveTo>
                    <a:pt x="845" y="739"/>
                  </a:moveTo>
                  <a:cubicBezTo>
                    <a:pt x="844" y="739"/>
                    <a:pt x="843" y="739"/>
                    <a:pt x="842" y="739"/>
                  </a:cubicBezTo>
                  <a:cubicBezTo>
                    <a:pt x="841" y="739"/>
                    <a:pt x="840" y="740"/>
                    <a:pt x="839" y="740"/>
                  </a:cubicBezTo>
                  <a:cubicBezTo>
                    <a:pt x="839" y="740"/>
                    <a:pt x="840" y="740"/>
                    <a:pt x="841" y="740"/>
                  </a:cubicBezTo>
                  <a:cubicBezTo>
                    <a:pt x="851" y="740"/>
                    <a:pt x="861" y="741"/>
                    <a:pt x="871" y="744"/>
                  </a:cubicBezTo>
                  <a:cubicBezTo>
                    <a:pt x="863" y="741"/>
                    <a:pt x="854" y="739"/>
                    <a:pt x="845" y="739"/>
                  </a:cubicBezTo>
                  <a:moveTo>
                    <a:pt x="221" y="475"/>
                  </a:moveTo>
                  <a:cubicBezTo>
                    <a:pt x="183" y="475"/>
                    <a:pt x="142" y="478"/>
                    <a:pt x="99" y="485"/>
                  </a:cubicBezTo>
                  <a:cubicBezTo>
                    <a:pt x="81" y="527"/>
                    <a:pt x="68" y="569"/>
                    <a:pt x="60" y="608"/>
                  </a:cubicBezTo>
                  <a:cubicBezTo>
                    <a:pt x="59" y="615"/>
                    <a:pt x="58" y="623"/>
                    <a:pt x="57" y="630"/>
                  </a:cubicBezTo>
                  <a:cubicBezTo>
                    <a:pt x="94" y="618"/>
                    <a:pt x="210" y="584"/>
                    <a:pt x="292" y="584"/>
                  </a:cubicBezTo>
                  <a:cubicBezTo>
                    <a:pt x="293" y="584"/>
                    <a:pt x="294" y="584"/>
                    <a:pt x="295" y="584"/>
                  </a:cubicBezTo>
                  <a:cubicBezTo>
                    <a:pt x="294" y="590"/>
                    <a:pt x="294" y="590"/>
                    <a:pt x="294" y="590"/>
                  </a:cubicBezTo>
                  <a:cubicBezTo>
                    <a:pt x="294" y="590"/>
                    <a:pt x="293" y="590"/>
                    <a:pt x="292" y="590"/>
                  </a:cubicBezTo>
                  <a:cubicBezTo>
                    <a:pt x="209" y="590"/>
                    <a:pt x="89" y="626"/>
                    <a:pt x="56" y="636"/>
                  </a:cubicBezTo>
                  <a:cubicBezTo>
                    <a:pt x="50" y="677"/>
                    <a:pt x="50" y="716"/>
                    <a:pt x="55" y="751"/>
                  </a:cubicBezTo>
                  <a:cubicBezTo>
                    <a:pt x="99" y="747"/>
                    <a:pt x="272" y="734"/>
                    <a:pt x="325" y="731"/>
                  </a:cubicBezTo>
                  <a:cubicBezTo>
                    <a:pt x="325" y="737"/>
                    <a:pt x="325" y="737"/>
                    <a:pt x="325" y="737"/>
                  </a:cubicBezTo>
                  <a:cubicBezTo>
                    <a:pt x="273" y="740"/>
                    <a:pt x="101" y="753"/>
                    <a:pt x="57" y="757"/>
                  </a:cubicBezTo>
                  <a:cubicBezTo>
                    <a:pt x="64" y="803"/>
                    <a:pt x="82" y="841"/>
                    <a:pt x="108" y="866"/>
                  </a:cubicBezTo>
                  <a:cubicBezTo>
                    <a:pt x="149" y="877"/>
                    <a:pt x="195" y="882"/>
                    <a:pt x="242" y="883"/>
                  </a:cubicBezTo>
                  <a:cubicBezTo>
                    <a:pt x="198" y="879"/>
                    <a:pt x="160" y="871"/>
                    <a:pt x="133" y="857"/>
                  </a:cubicBezTo>
                  <a:cubicBezTo>
                    <a:pt x="136" y="852"/>
                    <a:pt x="136" y="852"/>
                    <a:pt x="136" y="852"/>
                  </a:cubicBezTo>
                  <a:cubicBezTo>
                    <a:pt x="176" y="872"/>
                    <a:pt x="242" y="879"/>
                    <a:pt x="316" y="879"/>
                  </a:cubicBezTo>
                  <a:cubicBezTo>
                    <a:pt x="330" y="879"/>
                    <a:pt x="346" y="879"/>
                    <a:pt x="361" y="878"/>
                  </a:cubicBezTo>
                  <a:cubicBezTo>
                    <a:pt x="449" y="871"/>
                    <a:pt x="531" y="856"/>
                    <a:pt x="587" y="844"/>
                  </a:cubicBezTo>
                  <a:cubicBezTo>
                    <a:pt x="564" y="850"/>
                    <a:pt x="535" y="858"/>
                    <a:pt x="504" y="868"/>
                  </a:cubicBezTo>
                  <a:cubicBezTo>
                    <a:pt x="619" y="855"/>
                    <a:pt x="721" y="836"/>
                    <a:pt x="752" y="830"/>
                  </a:cubicBezTo>
                  <a:cubicBezTo>
                    <a:pt x="752" y="827"/>
                    <a:pt x="752" y="823"/>
                    <a:pt x="751" y="820"/>
                  </a:cubicBezTo>
                  <a:cubicBezTo>
                    <a:pt x="751" y="819"/>
                    <a:pt x="751" y="819"/>
                    <a:pt x="751" y="819"/>
                  </a:cubicBezTo>
                  <a:cubicBezTo>
                    <a:pt x="708" y="803"/>
                    <a:pt x="516" y="735"/>
                    <a:pt x="386" y="735"/>
                  </a:cubicBezTo>
                  <a:cubicBezTo>
                    <a:pt x="386" y="728"/>
                    <a:pt x="386" y="728"/>
                    <a:pt x="386" y="728"/>
                  </a:cubicBezTo>
                  <a:cubicBezTo>
                    <a:pt x="514" y="728"/>
                    <a:pt x="704" y="795"/>
                    <a:pt x="751" y="812"/>
                  </a:cubicBezTo>
                  <a:cubicBezTo>
                    <a:pt x="752" y="807"/>
                    <a:pt x="752" y="802"/>
                    <a:pt x="753" y="797"/>
                  </a:cubicBezTo>
                  <a:cubicBezTo>
                    <a:pt x="716" y="760"/>
                    <a:pt x="536" y="588"/>
                    <a:pt x="348" y="588"/>
                  </a:cubicBezTo>
                  <a:cubicBezTo>
                    <a:pt x="349" y="581"/>
                    <a:pt x="349" y="581"/>
                    <a:pt x="349" y="581"/>
                  </a:cubicBezTo>
                  <a:cubicBezTo>
                    <a:pt x="459" y="582"/>
                    <a:pt x="567" y="641"/>
                    <a:pt x="637" y="691"/>
                  </a:cubicBezTo>
                  <a:cubicBezTo>
                    <a:pt x="694" y="731"/>
                    <a:pt x="736" y="772"/>
                    <a:pt x="755" y="790"/>
                  </a:cubicBezTo>
                  <a:cubicBezTo>
                    <a:pt x="757" y="779"/>
                    <a:pt x="762" y="770"/>
                    <a:pt x="768" y="761"/>
                  </a:cubicBezTo>
                  <a:cubicBezTo>
                    <a:pt x="753" y="737"/>
                    <a:pt x="701" y="664"/>
                    <a:pt x="610" y="598"/>
                  </a:cubicBezTo>
                  <a:cubicBezTo>
                    <a:pt x="528" y="538"/>
                    <a:pt x="399" y="475"/>
                    <a:pt x="221" y="475"/>
                  </a:cubicBezTo>
                  <a:moveTo>
                    <a:pt x="270" y="366"/>
                  </a:moveTo>
                  <a:cubicBezTo>
                    <a:pt x="235" y="366"/>
                    <a:pt x="198" y="370"/>
                    <a:pt x="160" y="379"/>
                  </a:cubicBezTo>
                  <a:cubicBezTo>
                    <a:pt x="137" y="411"/>
                    <a:pt x="118" y="445"/>
                    <a:pt x="102" y="478"/>
                  </a:cubicBezTo>
                  <a:cubicBezTo>
                    <a:pt x="144" y="472"/>
                    <a:pt x="184" y="469"/>
                    <a:pt x="222" y="469"/>
                  </a:cubicBezTo>
                  <a:cubicBezTo>
                    <a:pt x="401" y="469"/>
                    <a:pt x="531" y="533"/>
                    <a:pt x="614" y="593"/>
                  </a:cubicBezTo>
                  <a:cubicBezTo>
                    <a:pt x="703" y="658"/>
                    <a:pt x="755" y="729"/>
                    <a:pt x="772" y="755"/>
                  </a:cubicBezTo>
                  <a:cubicBezTo>
                    <a:pt x="779" y="746"/>
                    <a:pt x="789" y="737"/>
                    <a:pt x="800" y="731"/>
                  </a:cubicBezTo>
                  <a:cubicBezTo>
                    <a:pt x="783" y="702"/>
                    <a:pt x="725" y="606"/>
                    <a:pt x="631" y="520"/>
                  </a:cubicBezTo>
                  <a:cubicBezTo>
                    <a:pt x="549" y="445"/>
                    <a:pt x="426" y="366"/>
                    <a:pt x="270" y="366"/>
                  </a:cubicBezTo>
                  <a:moveTo>
                    <a:pt x="1349" y="203"/>
                  </a:moveTo>
                  <a:cubicBezTo>
                    <a:pt x="1279" y="473"/>
                    <a:pt x="970" y="712"/>
                    <a:pt x="916" y="753"/>
                  </a:cubicBezTo>
                  <a:cubicBezTo>
                    <a:pt x="923" y="762"/>
                    <a:pt x="930" y="772"/>
                    <a:pt x="934" y="784"/>
                  </a:cubicBezTo>
                  <a:cubicBezTo>
                    <a:pt x="984" y="774"/>
                    <a:pt x="1211" y="728"/>
                    <a:pt x="1278" y="728"/>
                  </a:cubicBezTo>
                  <a:cubicBezTo>
                    <a:pt x="1278" y="734"/>
                    <a:pt x="1278" y="734"/>
                    <a:pt x="1278" y="734"/>
                  </a:cubicBezTo>
                  <a:cubicBezTo>
                    <a:pt x="1213" y="734"/>
                    <a:pt x="986" y="780"/>
                    <a:pt x="935" y="790"/>
                  </a:cubicBezTo>
                  <a:cubicBezTo>
                    <a:pt x="937" y="796"/>
                    <a:pt x="938" y="802"/>
                    <a:pt x="938" y="808"/>
                  </a:cubicBezTo>
                  <a:cubicBezTo>
                    <a:pt x="976" y="805"/>
                    <a:pt x="1118" y="796"/>
                    <a:pt x="1270" y="793"/>
                  </a:cubicBezTo>
                  <a:cubicBezTo>
                    <a:pt x="1307" y="792"/>
                    <a:pt x="1342" y="791"/>
                    <a:pt x="1375" y="791"/>
                  </a:cubicBezTo>
                  <a:cubicBezTo>
                    <a:pt x="1538" y="791"/>
                    <a:pt x="1647" y="801"/>
                    <a:pt x="1700" y="821"/>
                  </a:cubicBezTo>
                  <a:cubicBezTo>
                    <a:pt x="1695" y="791"/>
                    <a:pt x="1685" y="764"/>
                    <a:pt x="1671" y="740"/>
                  </a:cubicBezTo>
                  <a:cubicBezTo>
                    <a:pt x="1636" y="728"/>
                    <a:pt x="1569" y="725"/>
                    <a:pt x="1513" y="725"/>
                  </a:cubicBezTo>
                  <a:cubicBezTo>
                    <a:pt x="1459" y="725"/>
                    <a:pt x="1414" y="728"/>
                    <a:pt x="1413" y="728"/>
                  </a:cubicBezTo>
                  <a:cubicBezTo>
                    <a:pt x="1413" y="722"/>
                    <a:pt x="1413" y="722"/>
                    <a:pt x="1413" y="722"/>
                  </a:cubicBezTo>
                  <a:cubicBezTo>
                    <a:pt x="1417" y="722"/>
                    <a:pt x="1461" y="719"/>
                    <a:pt x="1514" y="719"/>
                  </a:cubicBezTo>
                  <a:cubicBezTo>
                    <a:pt x="1567" y="719"/>
                    <a:pt x="1629" y="722"/>
                    <a:pt x="1667" y="732"/>
                  </a:cubicBezTo>
                  <a:cubicBezTo>
                    <a:pt x="1658" y="719"/>
                    <a:pt x="1648" y="706"/>
                    <a:pt x="1637" y="695"/>
                  </a:cubicBezTo>
                  <a:cubicBezTo>
                    <a:pt x="1590" y="648"/>
                    <a:pt x="1519" y="623"/>
                    <a:pt x="1433" y="623"/>
                  </a:cubicBezTo>
                  <a:cubicBezTo>
                    <a:pt x="1403" y="623"/>
                    <a:pt x="1371" y="626"/>
                    <a:pt x="1337" y="632"/>
                  </a:cubicBezTo>
                  <a:cubicBezTo>
                    <a:pt x="1273" y="644"/>
                    <a:pt x="1203" y="667"/>
                    <a:pt x="1131" y="700"/>
                  </a:cubicBezTo>
                  <a:cubicBezTo>
                    <a:pt x="1122" y="682"/>
                    <a:pt x="1122" y="682"/>
                    <a:pt x="1122" y="682"/>
                  </a:cubicBezTo>
                  <a:cubicBezTo>
                    <a:pt x="1123" y="682"/>
                    <a:pt x="1139" y="673"/>
                    <a:pt x="1163" y="656"/>
                  </a:cubicBezTo>
                  <a:cubicBezTo>
                    <a:pt x="1142" y="662"/>
                    <a:pt x="1122" y="670"/>
                    <a:pt x="1100" y="678"/>
                  </a:cubicBezTo>
                  <a:cubicBezTo>
                    <a:pt x="1100" y="678"/>
                    <a:pt x="1223" y="615"/>
                    <a:pt x="1320" y="521"/>
                  </a:cubicBezTo>
                  <a:cubicBezTo>
                    <a:pt x="1368" y="468"/>
                    <a:pt x="1407" y="406"/>
                    <a:pt x="1411" y="344"/>
                  </a:cubicBezTo>
                  <a:cubicBezTo>
                    <a:pt x="1412" y="324"/>
                    <a:pt x="1409" y="305"/>
                    <a:pt x="1403" y="286"/>
                  </a:cubicBezTo>
                  <a:cubicBezTo>
                    <a:pt x="1384" y="343"/>
                    <a:pt x="1316" y="510"/>
                    <a:pt x="1153" y="625"/>
                  </a:cubicBezTo>
                  <a:cubicBezTo>
                    <a:pt x="1150" y="620"/>
                    <a:pt x="1150" y="620"/>
                    <a:pt x="1150" y="620"/>
                  </a:cubicBezTo>
                  <a:cubicBezTo>
                    <a:pt x="1320" y="500"/>
                    <a:pt x="1385" y="323"/>
                    <a:pt x="1400" y="276"/>
                  </a:cubicBezTo>
                  <a:cubicBezTo>
                    <a:pt x="1390" y="250"/>
                    <a:pt x="1373" y="226"/>
                    <a:pt x="1349" y="203"/>
                  </a:cubicBezTo>
                  <a:moveTo>
                    <a:pt x="461" y="152"/>
                  </a:moveTo>
                  <a:cubicBezTo>
                    <a:pt x="438" y="152"/>
                    <a:pt x="415" y="155"/>
                    <a:pt x="391" y="162"/>
                  </a:cubicBezTo>
                  <a:cubicBezTo>
                    <a:pt x="166" y="227"/>
                    <a:pt x="50" y="437"/>
                    <a:pt x="20" y="597"/>
                  </a:cubicBezTo>
                  <a:cubicBezTo>
                    <a:pt x="0" y="697"/>
                    <a:pt x="11" y="786"/>
                    <a:pt x="48" y="844"/>
                  </a:cubicBezTo>
                  <a:cubicBezTo>
                    <a:pt x="56" y="847"/>
                    <a:pt x="64" y="851"/>
                    <a:pt x="72" y="854"/>
                  </a:cubicBezTo>
                  <a:cubicBezTo>
                    <a:pt x="33" y="796"/>
                    <a:pt x="21" y="706"/>
                    <a:pt x="40" y="604"/>
                  </a:cubicBezTo>
                  <a:cubicBezTo>
                    <a:pt x="71" y="447"/>
                    <a:pt x="185" y="241"/>
                    <a:pt x="406" y="176"/>
                  </a:cubicBezTo>
                  <a:cubicBezTo>
                    <a:pt x="431" y="169"/>
                    <a:pt x="454" y="166"/>
                    <a:pt x="477" y="166"/>
                  </a:cubicBezTo>
                  <a:cubicBezTo>
                    <a:pt x="521" y="166"/>
                    <a:pt x="562" y="179"/>
                    <a:pt x="598" y="205"/>
                  </a:cubicBezTo>
                  <a:cubicBezTo>
                    <a:pt x="593" y="200"/>
                    <a:pt x="587" y="195"/>
                    <a:pt x="581" y="191"/>
                  </a:cubicBezTo>
                  <a:cubicBezTo>
                    <a:pt x="545" y="165"/>
                    <a:pt x="504" y="152"/>
                    <a:pt x="461" y="152"/>
                  </a:cubicBezTo>
                  <a:moveTo>
                    <a:pt x="1223" y="112"/>
                  </a:moveTo>
                  <a:cubicBezTo>
                    <a:pt x="1209" y="248"/>
                    <a:pt x="1121" y="409"/>
                    <a:pt x="1048" y="522"/>
                  </a:cubicBezTo>
                  <a:cubicBezTo>
                    <a:pt x="981" y="626"/>
                    <a:pt x="914" y="708"/>
                    <a:pt x="893" y="733"/>
                  </a:cubicBezTo>
                  <a:cubicBezTo>
                    <a:pt x="900" y="737"/>
                    <a:pt x="906" y="742"/>
                    <a:pt x="912" y="748"/>
                  </a:cubicBezTo>
                  <a:cubicBezTo>
                    <a:pt x="964" y="709"/>
                    <a:pt x="1276" y="468"/>
                    <a:pt x="1344" y="198"/>
                  </a:cubicBezTo>
                  <a:cubicBezTo>
                    <a:pt x="1338" y="192"/>
                    <a:pt x="1332" y="187"/>
                    <a:pt x="1325" y="182"/>
                  </a:cubicBezTo>
                  <a:cubicBezTo>
                    <a:pt x="1291" y="155"/>
                    <a:pt x="1257" y="131"/>
                    <a:pt x="1223" y="112"/>
                  </a:cubicBezTo>
                  <a:moveTo>
                    <a:pt x="1006" y="41"/>
                  </a:moveTo>
                  <a:cubicBezTo>
                    <a:pt x="993" y="41"/>
                    <a:pt x="979" y="42"/>
                    <a:pt x="967" y="44"/>
                  </a:cubicBezTo>
                  <a:cubicBezTo>
                    <a:pt x="953" y="47"/>
                    <a:pt x="940" y="50"/>
                    <a:pt x="928" y="55"/>
                  </a:cubicBezTo>
                  <a:cubicBezTo>
                    <a:pt x="909" y="85"/>
                    <a:pt x="858" y="164"/>
                    <a:pt x="854" y="193"/>
                  </a:cubicBezTo>
                  <a:cubicBezTo>
                    <a:pt x="848" y="193"/>
                    <a:pt x="848" y="193"/>
                    <a:pt x="848" y="193"/>
                  </a:cubicBezTo>
                  <a:cubicBezTo>
                    <a:pt x="852" y="164"/>
                    <a:pt x="896" y="94"/>
                    <a:pt x="918" y="60"/>
                  </a:cubicBezTo>
                  <a:cubicBezTo>
                    <a:pt x="805" y="116"/>
                    <a:pt x="758" y="288"/>
                    <a:pt x="780" y="565"/>
                  </a:cubicBezTo>
                  <a:cubicBezTo>
                    <a:pt x="760" y="567"/>
                    <a:pt x="760" y="567"/>
                    <a:pt x="760" y="567"/>
                  </a:cubicBezTo>
                  <a:cubicBezTo>
                    <a:pt x="759" y="566"/>
                    <a:pt x="751" y="511"/>
                    <a:pt x="728" y="443"/>
                  </a:cubicBezTo>
                  <a:cubicBezTo>
                    <a:pt x="728" y="468"/>
                    <a:pt x="728" y="495"/>
                    <a:pt x="728" y="522"/>
                  </a:cubicBezTo>
                  <a:cubicBezTo>
                    <a:pt x="728" y="522"/>
                    <a:pt x="722" y="449"/>
                    <a:pt x="696" y="362"/>
                  </a:cubicBezTo>
                  <a:cubicBezTo>
                    <a:pt x="670" y="308"/>
                    <a:pt x="635" y="256"/>
                    <a:pt x="589" y="222"/>
                  </a:cubicBezTo>
                  <a:cubicBezTo>
                    <a:pt x="558" y="201"/>
                    <a:pt x="525" y="189"/>
                    <a:pt x="490" y="187"/>
                  </a:cubicBezTo>
                  <a:cubicBezTo>
                    <a:pt x="524" y="206"/>
                    <a:pt x="584" y="244"/>
                    <a:pt x="618" y="292"/>
                  </a:cubicBezTo>
                  <a:cubicBezTo>
                    <a:pt x="613" y="295"/>
                    <a:pt x="613" y="295"/>
                    <a:pt x="613" y="295"/>
                  </a:cubicBezTo>
                  <a:cubicBezTo>
                    <a:pt x="576" y="243"/>
                    <a:pt x="506" y="202"/>
                    <a:pt x="476" y="186"/>
                  </a:cubicBezTo>
                  <a:cubicBezTo>
                    <a:pt x="456" y="186"/>
                    <a:pt x="434" y="189"/>
                    <a:pt x="412" y="196"/>
                  </a:cubicBezTo>
                  <a:cubicBezTo>
                    <a:pt x="381" y="205"/>
                    <a:pt x="353" y="217"/>
                    <a:pt x="326" y="231"/>
                  </a:cubicBezTo>
                  <a:cubicBezTo>
                    <a:pt x="392" y="248"/>
                    <a:pt x="624" y="314"/>
                    <a:pt x="686" y="441"/>
                  </a:cubicBezTo>
                  <a:cubicBezTo>
                    <a:pt x="681" y="444"/>
                    <a:pt x="681" y="444"/>
                    <a:pt x="681" y="444"/>
                  </a:cubicBezTo>
                  <a:cubicBezTo>
                    <a:pt x="617" y="314"/>
                    <a:pt x="373" y="249"/>
                    <a:pt x="318" y="235"/>
                  </a:cubicBezTo>
                  <a:cubicBezTo>
                    <a:pt x="256" y="270"/>
                    <a:pt x="205" y="318"/>
                    <a:pt x="165" y="372"/>
                  </a:cubicBezTo>
                  <a:cubicBezTo>
                    <a:pt x="201" y="363"/>
                    <a:pt x="236" y="360"/>
                    <a:pt x="270" y="360"/>
                  </a:cubicBezTo>
                  <a:cubicBezTo>
                    <a:pt x="428" y="360"/>
                    <a:pt x="553" y="440"/>
                    <a:pt x="636" y="516"/>
                  </a:cubicBezTo>
                  <a:cubicBezTo>
                    <a:pt x="730" y="602"/>
                    <a:pt x="789" y="699"/>
                    <a:pt x="805" y="728"/>
                  </a:cubicBezTo>
                  <a:cubicBezTo>
                    <a:pt x="810" y="726"/>
                    <a:pt x="815" y="724"/>
                    <a:pt x="820" y="722"/>
                  </a:cubicBezTo>
                  <a:cubicBezTo>
                    <a:pt x="814" y="675"/>
                    <a:pt x="789" y="457"/>
                    <a:pt x="830" y="247"/>
                  </a:cubicBezTo>
                  <a:cubicBezTo>
                    <a:pt x="836" y="248"/>
                    <a:pt x="836" y="248"/>
                    <a:pt x="836" y="248"/>
                  </a:cubicBezTo>
                  <a:cubicBezTo>
                    <a:pt x="796" y="457"/>
                    <a:pt x="820" y="673"/>
                    <a:pt x="826" y="721"/>
                  </a:cubicBezTo>
                  <a:cubicBezTo>
                    <a:pt x="831" y="720"/>
                    <a:pt x="836" y="719"/>
                    <a:pt x="841" y="719"/>
                  </a:cubicBezTo>
                  <a:cubicBezTo>
                    <a:pt x="841" y="719"/>
                    <a:pt x="841" y="719"/>
                    <a:pt x="841" y="719"/>
                  </a:cubicBezTo>
                  <a:cubicBezTo>
                    <a:pt x="854" y="670"/>
                    <a:pt x="918" y="436"/>
                    <a:pt x="975" y="301"/>
                  </a:cubicBezTo>
                  <a:cubicBezTo>
                    <a:pt x="981" y="303"/>
                    <a:pt x="981" y="303"/>
                    <a:pt x="981" y="303"/>
                  </a:cubicBezTo>
                  <a:cubicBezTo>
                    <a:pt x="925" y="436"/>
                    <a:pt x="861" y="667"/>
                    <a:pt x="847" y="719"/>
                  </a:cubicBezTo>
                  <a:cubicBezTo>
                    <a:pt x="862" y="720"/>
                    <a:pt x="876" y="723"/>
                    <a:pt x="888" y="730"/>
                  </a:cubicBezTo>
                  <a:cubicBezTo>
                    <a:pt x="908" y="706"/>
                    <a:pt x="975" y="623"/>
                    <a:pt x="1043" y="518"/>
                  </a:cubicBezTo>
                  <a:cubicBezTo>
                    <a:pt x="1116" y="406"/>
                    <a:pt x="1205" y="245"/>
                    <a:pt x="1218" y="108"/>
                  </a:cubicBezTo>
                  <a:cubicBezTo>
                    <a:pt x="1168" y="80"/>
                    <a:pt x="1120" y="60"/>
                    <a:pt x="1076" y="49"/>
                  </a:cubicBezTo>
                  <a:cubicBezTo>
                    <a:pt x="1010" y="207"/>
                    <a:pt x="1010" y="207"/>
                    <a:pt x="1010" y="207"/>
                  </a:cubicBezTo>
                  <a:cubicBezTo>
                    <a:pt x="1004" y="205"/>
                    <a:pt x="1004" y="205"/>
                    <a:pt x="1004" y="205"/>
                  </a:cubicBezTo>
                  <a:cubicBezTo>
                    <a:pt x="1070" y="48"/>
                    <a:pt x="1070" y="48"/>
                    <a:pt x="1070" y="48"/>
                  </a:cubicBezTo>
                  <a:cubicBezTo>
                    <a:pt x="1048" y="43"/>
                    <a:pt x="1027" y="41"/>
                    <a:pt x="1006" y="41"/>
                  </a:cubicBezTo>
                  <a:moveTo>
                    <a:pt x="1012" y="0"/>
                  </a:moveTo>
                  <a:cubicBezTo>
                    <a:pt x="997" y="0"/>
                    <a:pt x="982" y="2"/>
                    <a:pt x="969" y="4"/>
                  </a:cubicBezTo>
                  <a:cubicBezTo>
                    <a:pt x="907" y="16"/>
                    <a:pt x="840" y="56"/>
                    <a:pt x="800" y="165"/>
                  </a:cubicBezTo>
                  <a:cubicBezTo>
                    <a:pt x="841" y="71"/>
                    <a:pt x="904" y="35"/>
                    <a:pt x="963" y="24"/>
                  </a:cubicBezTo>
                  <a:cubicBezTo>
                    <a:pt x="977" y="22"/>
                    <a:pt x="991" y="20"/>
                    <a:pt x="1006" y="20"/>
                  </a:cubicBezTo>
                  <a:cubicBezTo>
                    <a:pt x="1101" y="20"/>
                    <a:pt x="1217" y="71"/>
                    <a:pt x="1338" y="166"/>
                  </a:cubicBezTo>
                  <a:cubicBezTo>
                    <a:pt x="1404" y="218"/>
                    <a:pt x="1435" y="278"/>
                    <a:pt x="1431" y="345"/>
                  </a:cubicBezTo>
                  <a:cubicBezTo>
                    <a:pt x="1431" y="347"/>
                    <a:pt x="1431" y="348"/>
                    <a:pt x="1431" y="349"/>
                  </a:cubicBezTo>
                  <a:cubicBezTo>
                    <a:pt x="1440" y="310"/>
                    <a:pt x="1438" y="270"/>
                    <a:pt x="1419" y="229"/>
                  </a:cubicBezTo>
                  <a:cubicBezTo>
                    <a:pt x="1403" y="201"/>
                    <a:pt x="1380" y="174"/>
                    <a:pt x="1348" y="149"/>
                  </a:cubicBezTo>
                  <a:cubicBezTo>
                    <a:pt x="1225" y="52"/>
                    <a:pt x="1107" y="0"/>
                    <a:pt x="1012" y="0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" name="Freeform 19"/>
            <p:cNvSpPr/>
            <p:nvPr/>
          </p:nvSpPr>
          <p:spPr>
            <a:xfrm>
              <a:off x="8696160" y="19080"/>
              <a:ext cx="436680" cy="4183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766" h="1691">
                  <a:moveTo>
                    <a:pt x="1092" y="1313"/>
                  </a:moveTo>
                  <a:cubicBezTo>
                    <a:pt x="1087" y="1315"/>
                    <a:pt x="1087" y="1315"/>
                    <a:pt x="1087" y="1315"/>
                  </a:cubicBezTo>
                  <a:cubicBezTo>
                    <a:pt x="1094" y="1330"/>
                    <a:pt x="1199" y="1506"/>
                    <a:pt x="1225" y="1550"/>
                  </a:cubicBezTo>
                  <a:cubicBezTo>
                    <a:pt x="1227" y="1548"/>
                    <a:pt x="1228" y="1547"/>
                    <a:pt x="1230" y="1545"/>
                  </a:cubicBezTo>
                  <a:cubicBezTo>
                    <a:pt x="1203" y="1500"/>
                    <a:pt x="1099" y="1327"/>
                    <a:pt x="1092" y="1313"/>
                  </a:cubicBezTo>
                  <a:moveTo>
                    <a:pt x="1135" y="1209"/>
                  </a:moveTo>
                  <a:cubicBezTo>
                    <a:pt x="1130" y="1212"/>
                    <a:pt x="1130" y="1212"/>
                    <a:pt x="1130" y="1212"/>
                  </a:cubicBezTo>
                  <a:cubicBezTo>
                    <a:pt x="1149" y="1249"/>
                    <a:pt x="1246" y="1365"/>
                    <a:pt x="1295" y="1424"/>
                  </a:cubicBezTo>
                  <a:cubicBezTo>
                    <a:pt x="1295" y="1421"/>
                    <a:pt x="1296" y="1418"/>
                    <a:pt x="1296" y="1416"/>
                  </a:cubicBezTo>
                  <a:cubicBezTo>
                    <a:pt x="1247" y="1357"/>
                    <a:pt x="1154" y="1245"/>
                    <a:pt x="1135" y="1209"/>
                  </a:cubicBezTo>
                  <a:moveTo>
                    <a:pt x="141" y="858"/>
                  </a:moveTo>
                  <a:cubicBezTo>
                    <a:pt x="138" y="863"/>
                    <a:pt x="138" y="863"/>
                    <a:pt x="138" y="863"/>
                  </a:cubicBezTo>
                  <a:cubicBezTo>
                    <a:pt x="165" y="877"/>
                    <a:pt x="203" y="885"/>
                    <a:pt x="247" y="889"/>
                  </a:cubicBezTo>
                  <a:cubicBezTo>
                    <a:pt x="254" y="889"/>
                    <a:pt x="261" y="889"/>
                    <a:pt x="267" y="889"/>
                  </a:cubicBezTo>
                  <a:cubicBezTo>
                    <a:pt x="300" y="889"/>
                    <a:pt x="333" y="887"/>
                    <a:pt x="366" y="884"/>
                  </a:cubicBezTo>
                  <a:cubicBezTo>
                    <a:pt x="351" y="885"/>
                    <a:pt x="335" y="885"/>
                    <a:pt x="321" y="885"/>
                  </a:cubicBezTo>
                  <a:cubicBezTo>
                    <a:pt x="247" y="885"/>
                    <a:pt x="181" y="878"/>
                    <a:pt x="141" y="858"/>
                  </a:cubicBezTo>
                  <a:moveTo>
                    <a:pt x="271" y="1506"/>
                  </a:moveTo>
                  <a:cubicBezTo>
                    <a:pt x="256" y="1486"/>
                    <a:pt x="241" y="1464"/>
                    <a:pt x="226" y="1440"/>
                  </a:cubicBezTo>
                  <a:cubicBezTo>
                    <a:pt x="220" y="1430"/>
                    <a:pt x="214" y="1420"/>
                    <a:pt x="209" y="1410"/>
                  </a:cubicBezTo>
                  <a:cubicBezTo>
                    <a:pt x="247" y="1360"/>
                    <a:pt x="471" y="1078"/>
                    <a:pt x="777" y="882"/>
                  </a:cubicBezTo>
                  <a:cubicBezTo>
                    <a:pt x="780" y="885"/>
                    <a:pt x="784" y="889"/>
                    <a:pt x="787" y="893"/>
                  </a:cubicBezTo>
                  <a:cubicBezTo>
                    <a:pt x="728" y="948"/>
                    <a:pt x="332" y="1323"/>
                    <a:pt x="271" y="1506"/>
                  </a:cubicBezTo>
                  <a:moveTo>
                    <a:pt x="821" y="890"/>
                  </a:moveTo>
                  <a:cubicBezTo>
                    <a:pt x="812" y="887"/>
                    <a:pt x="804" y="881"/>
                    <a:pt x="798" y="874"/>
                  </a:cubicBezTo>
                  <a:cubicBezTo>
                    <a:pt x="807" y="880"/>
                    <a:pt x="815" y="885"/>
                    <a:pt x="821" y="890"/>
                  </a:cubicBezTo>
                  <a:moveTo>
                    <a:pt x="1711" y="915"/>
                  </a:moveTo>
                  <a:cubicBezTo>
                    <a:pt x="1610" y="887"/>
                    <a:pt x="1030" y="848"/>
                    <a:pt x="941" y="842"/>
                  </a:cubicBezTo>
                  <a:cubicBezTo>
                    <a:pt x="943" y="835"/>
                    <a:pt x="944" y="828"/>
                    <a:pt x="944" y="820"/>
                  </a:cubicBezTo>
                  <a:cubicBezTo>
                    <a:pt x="989" y="817"/>
                    <a:pt x="1190" y="804"/>
                    <a:pt x="1378" y="804"/>
                  </a:cubicBezTo>
                  <a:cubicBezTo>
                    <a:pt x="1516" y="804"/>
                    <a:pt x="1648" y="811"/>
                    <a:pt x="1707" y="834"/>
                  </a:cubicBezTo>
                  <a:cubicBezTo>
                    <a:pt x="1711" y="859"/>
                    <a:pt x="1712" y="886"/>
                    <a:pt x="1711" y="915"/>
                  </a:cubicBezTo>
                  <a:moveTo>
                    <a:pt x="851" y="897"/>
                  </a:moveTo>
                  <a:cubicBezTo>
                    <a:pt x="845" y="897"/>
                    <a:pt x="839" y="896"/>
                    <a:pt x="834" y="895"/>
                  </a:cubicBezTo>
                  <a:cubicBezTo>
                    <a:pt x="826" y="886"/>
                    <a:pt x="811" y="873"/>
                    <a:pt x="789" y="863"/>
                  </a:cubicBezTo>
                  <a:cubicBezTo>
                    <a:pt x="782" y="852"/>
                    <a:pt x="777" y="839"/>
                    <a:pt x="777" y="825"/>
                  </a:cubicBezTo>
                  <a:cubicBezTo>
                    <a:pt x="776" y="802"/>
                    <a:pt x="784" y="781"/>
                    <a:pt x="799" y="767"/>
                  </a:cubicBezTo>
                  <a:cubicBezTo>
                    <a:pt x="808" y="761"/>
                    <a:pt x="819" y="755"/>
                    <a:pt x="831" y="753"/>
                  </a:cubicBezTo>
                  <a:cubicBezTo>
                    <a:pt x="832" y="753"/>
                    <a:pt x="832" y="753"/>
                    <a:pt x="832" y="753"/>
                  </a:cubicBezTo>
                  <a:cubicBezTo>
                    <a:pt x="837" y="752"/>
                    <a:pt x="841" y="752"/>
                    <a:pt x="846" y="752"/>
                  </a:cubicBezTo>
                  <a:cubicBezTo>
                    <a:pt x="864" y="752"/>
                    <a:pt x="883" y="758"/>
                    <a:pt x="903" y="769"/>
                  </a:cubicBezTo>
                  <a:cubicBezTo>
                    <a:pt x="915" y="782"/>
                    <a:pt x="923" y="799"/>
                    <a:pt x="923" y="818"/>
                  </a:cubicBezTo>
                  <a:cubicBezTo>
                    <a:pt x="925" y="859"/>
                    <a:pt x="894" y="895"/>
                    <a:pt x="853" y="897"/>
                  </a:cubicBezTo>
                  <a:cubicBezTo>
                    <a:pt x="853" y="897"/>
                    <a:pt x="852" y="897"/>
                    <a:pt x="851" y="897"/>
                  </a:cubicBezTo>
                  <a:moveTo>
                    <a:pt x="844" y="746"/>
                  </a:moveTo>
                  <a:cubicBezTo>
                    <a:pt x="845" y="746"/>
                    <a:pt x="846" y="745"/>
                    <a:pt x="847" y="745"/>
                  </a:cubicBezTo>
                  <a:cubicBezTo>
                    <a:pt x="848" y="745"/>
                    <a:pt x="849" y="745"/>
                    <a:pt x="850" y="745"/>
                  </a:cubicBezTo>
                  <a:cubicBezTo>
                    <a:pt x="859" y="745"/>
                    <a:pt x="868" y="747"/>
                    <a:pt x="876" y="750"/>
                  </a:cubicBezTo>
                  <a:cubicBezTo>
                    <a:pt x="866" y="747"/>
                    <a:pt x="856" y="746"/>
                    <a:pt x="846" y="746"/>
                  </a:cubicBezTo>
                  <a:cubicBezTo>
                    <a:pt x="845" y="746"/>
                    <a:pt x="844" y="746"/>
                    <a:pt x="844" y="746"/>
                  </a:cubicBezTo>
                  <a:moveTo>
                    <a:pt x="107" y="484"/>
                  </a:moveTo>
                  <a:cubicBezTo>
                    <a:pt x="123" y="451"/>
                    <a:pt x="142" y="417"/>
                    <a:pt x="165" y="385"/>
                  </a:cubicBezTo>
                  <a:cubicBezTo>
                    <a:pt x="203" y="376"/>
                    <a:pt x="240" y="372"/>
                    <a:pt x="275" y="372"/>
                  </a:cubicBezTo>
                  <a:cubicBezTo>
                    <a:pt x="431" y="372"/>
                    <a:pt x="554" y="451"/>
                    <a:pt x="636" y="526"/>
                  </a:cubicBezTo>
                  <a:cubicBezTo>
                    <a:pt x="730" y="612"/>
                    <a:pt x="788" y="708"/>
                    <a:pt x="805" y="737"/>
                  </a:cubicBezTo>
                  <a:cubicBezTo>
                    <a:pt x="794" y="743"/>
                    <a:pt x="784" y="752"/>
                    <a:pt x="777" y="761"/>
                  </a:cubicBezTo>
                  <a:cubicBezTo>
                    <a:pt x="760" y="735"/>
                    <a:pt x="708" y="664"/>
                    <a:pt x="619" y="599"/>
                  </a:cubicBezTo>
                  <a:cubicBezTo>
                    <a:pt x="536" y="539"/>
                    <a:pt x="406" y="475"/>
                    <a:pt x="227" y="475"/>
                  </a:cubicBezTo>
                  <a:cubicBezTo>
                    <a:pt x="189" y="475"/>
                    <a:pt x="149" y="478"/>
                    <a:pt x="107" y="484"/>
                  </a:cubicBezTo>
                  <a:moveTo>
                    <a:pt x="917" y="754"/>
                  </a:moveTo>
                  <a:cubicBezTo>
                    <a:pt x="911" y="748"/>
                    <a:pt x="905" y="743"/>
                    <a:pt x="898" y="739"/>
                  </a:cubicBezTo>
                  <a:cubicBezTo>
                    <a:pt x="919" y="714"/>
                    <a:pt x="986" y="632"/>
                    <a:pt x="1053" y="528"/>
                  </a:cubicBezTo>
                  <a:cubicBezTo>
                    <a:pt x="1126" y="415"/>
                    <a:pt x="1214" y="254"/>
                    <a:pt x="1228" y="118"/>
                  </a:cubicBezTo>
                  <a:cubicBezTo>
                    <a:pt x="1262" y="137"/>
                    <a:pt x="1296" y="161"/>
                    <a:pt x="1330" y="188"/>
                  </a:cubicBezTo>
                  <a:cubicBezTo>
                    <a:pt x="1337" y="193"/>
                    <a:pt x="1343" y="198"/>
                    <a:pt x="1349" y="204"/>
                  </a:cubicBezTo>
                  <a:cubicBezTo>
                    <a:pt x="1281" y="474"/>
                    <a:pt x="969" y="715"/>
                    <a:pt x="917" y="754"/>
                  </a:cubicBezTo>
                  <a:moveTo>
                    <a:pt x="1017" y="0"/>
                  </a:moveTo>
                  <a:cubicBezTo>
                    <a:pt x="1001" y="0"/>
                    <a:pt x="987" y="2"/>
                    <a:pt x="973" y="4"/>
                  </a:cubicBezTo>
                  <a:cubicBezTo>
                    <a:pt x="886" y="20"/>
                    <a:pt x="792" y="90"/>
                    <a:pt x="767" y="313"/>
                  </a:cubicBezTo>
                  <a:cubicBezTo>
                    <a:pt x="762" y="356"/>
                    <a:pt x="759" y="406"/>
                    <a:pt x="759" y="463"/>
                  </a:cubicBezTo>
                  <a:cubicBezTo>
                    <a:pt x="753" y="442"/>
                    <a:pt x="745" y="419"/>
                    <a:pt x="736" y="396"/>
                  </a:cubicBezTo>
                  <a:cubicBezTo>
                    <a:pt x="735" y="413"/>
                    <a:pt x="734" y="431"/>
                    <a:pt x="733" y="449"/>
                  </a:cubicBezTo>
                  <a:cubicBezTo>
                    <a:pt x="756" y="517"/>
                    <a:pt x="764" y="572"/>
                    <a:pt x="765" y="573"/>
                  </a:cubicBezTo>
                  <a:cubicBezTo>
                    <a:pt x="785" y="571"/>
                    <a:pt x="785" y="571"/>
                    <a:pt x="785" y="571"/>
                  </a:cubicBezTo>
                  <a:cubicBezTo>
                    <a:pt x="763" y="294"/>
                    <a:pt x="810" y="122"/>
                    <a:pt x="923" y="66"/>
                  </a:cubicBezTo>
                  <a:cubicBezTo>
                    <a:pt x="901" y="100"/>
                    <a:pt x="857" y="170"/>
                    <a:pt x="853" y="199"/>
                  </a:cubicBezTo>
                  <a:cubicBezTo>
                    <a:pt x="859" y="199"/>
                    <a:pt x="859" y="199"/>
                    <a:pt x="859" y="199"/>
                  </a:cubicBezTo>
                  <a:cubicBezTo>
                    <a:pt x="863" y="170"/>
                    <a:pt x="914" y="91"/>
                    <a:pt x="933" y="61"/>
                  </a:cubicBezTo>
                  <a:cubicBezTo>
                    <a:pt x="945" y="56"/>
                    <a:pt x="958" y="53"/>
                    <a:pt x="972" y="50"/>
                  </a:cubicBezTo>
                  <a:cubicBezTo>
                    <a:pt x="984" y="48"/>
                    <a:pt x="998" y="47"/>
                    <a:pt x="1011" y="47"/>
                  </a:cubicBezTo>
                  <a:cubicBezTo>
                    <a:pt x="1032" y="47"/>
                    <a:pt x="1053" y="49"/>
                    <a:pt x="1075" y="54"/>
                  </a:cubicBezTo>
                  <a:cubicBezTo>
                    <a:pt x="1009" y="211"/>
                    <a:pt x="1009" y="211"/>
                    <a:pt x="1009" y="211"/>
                  </a:cubicBezTo>
                  <a:cubicBezTo>
                    <a:pt x="1015" y="213"/>
                    <a:pt x="1015" y="213"/>
                    <a:pt x="1015" y="213"/>
                  </a:cubicBezTo>
                  <a:cubicBezTo>
                    <a:pt x="1081" y="55"/>
                    <a:pt x="1081" y="55"/>
                    <a:pt x="1081" y="55"/>
                  </a:cubicBezTo>
                  <a:cubicBezTo>
                    <a:pt x="1125" y="66"/>
                    <a:pt x="1173" y="86"/>
                    <a:pt x="1223" y="114"/>
                  </a:cubicBezTo>
                  <a:cubicBezTo>
                    <a:pt x="1210" y="251"/>
                    <a:pt x="1121" y="412"/>
                    <a:pt x="1048" y="524"/>
                  </a:cubicBezTo>
                  <a:cubicBezTo>
                    <a:pt x="980" y="629"/>
                    <a:pt x="913" y="712"/>
                    <a:pt x="893" y="736"/>
                  </a:cubicBezTo>
                  <a:cubicBezTo>
                    <a:pt x="881" y="729"/>
                    <a:pt x="867" y="726"/>
                    <a:pt x="852" y="725"/>
                  </a:cubicBezTo>
                  <a:cubicBezTo>
                    <a:pt x="866" y="673"/>
                    <a:pt x="930" y="442"/>
                    <a:pt x="986" y="309"/>
                  </a:cubicBezTo>
                  <a:cubicBezTo>
                    <a:pt x="980" y="307"/>
                    <a:pt x="980" y="307"/>
                    <a:pt x="980" y="307"/>
                  </a:cubicBezTo>
                  <a:cubicBezTo>
                    <a:pt x="923" y="442"/>
                    <a:pt x="859" y="676"/>
                    <a:pt x="846" y="725"/>
                  </a:cubicBezTo>
                  <a:cubicBezTo>
                    <a:pt x="846" y="725"/>
                    <a:pt x="846" y="725"/>
                    <a:pt x="846" y="725"/>
                  </a:cubicBezTo>
                  <a:cubicBezTo>
                    <a:pt x="841" y="725"/>
                    <a:pt x="836" y="726"/>
                    <a:pt x="831" y="727"/>
                  </a:cubicBezTo>
                  <a:cubicBezTo>
                    <a:pt x="825" y="679"/>
                    <a:pt x="801" y="463"/>
                    <a:pt x="841" y="254"/>
                  </a:cubicBezTo>
                  <a:cubicBezTo>
                    <a:pt x="835" y="253"/>
                    <a:pt x="835" y="253"/>
                    <a:pt x="835" y="253"/>
                  </a:cubicBezTo>
                  <a:cubicBezTo>
                    <a:pt x="794" y="463"/>
                    <a:pt x="819" y="681"/>
                    <a:pt x="825" y="728"/>
                  </a:cubicBezTo>
                  <a:cubicBezTo>
                    <a:pt x="820" y="730"/>
                    <a:pt x="815" y="732"/>
                    <a:pt x="810" y="734"/>
                  </a:cubicBezTo>
                  <a:cubicBezTo>
                    <a:pt x="794" y="705"/>
                    <a:pt x="735" y="608"/>
                    <a:pt x="641" y="522"/>
                  </a:cubicBezTo>
                  <a:cubicBezTo>
                    <a:pt x="558" y="446"/>
                    <a:pt x="433" y="366"/>
                    <a:pt x="275" y="366"/>
                  </a:cubicBezTo>
                  <a:cubicBezTo>
                    <a:pt x="241" y="366"/>
                    <a:pt x="206" y="369"/>
                    <a:pt x="170" y="378"/>
                  </a:cubicBezTo>
                  <a:cubicBezTo>
                    <a:pt x="210" y="324"/>
                    <a:pt x="261" y="276"/>
                    <a:pt x="323" y="241"/>
                  </a:cubicBezTo>
                  <a:cubicBezTo>
                    <a:pt x="378" y="255"/>
                    <a:pt x="622" y="320"/>
                    <a:pt x="686" y="450"/>
                  </a:cubicBezTo>
                  <a:cubicBezTo>
                    <a:pt x="691" y="447"/>
                    <a:pt x="691" y="447"/>
                    <a:pt x="691" y="447"/>
                  </a:cubicBezTo>
                  <a:cubicBezTo>
                    <a:pt x="629" y="320"/>
                    <a:pt x="397" y="254"/>
                    <a:pt x="331" y="237"/>
                  </a:cubicBezTo>
                  <a:cubicBezTo>
                    <a:pt x="358" y="223"/>
                    <a:pt x="386" y="211"/>
                    <a:pt x="417" y="202"/>
                  </a:cubicBezTo>
                  <a:cubicBezTo>
                    <a:pt x="439" y="195"/>
                    <a:pt x="461" y="192"/>
                    <a:pt x="481" y="192"/>
                  </a:cubicBezTo>
                  <a:cubicBezTo>
                    <a:pt x="511" y="208"/>
                    <a:pt x="581" y="249"/>
                    <a:pt x="618" y="301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589" y="250"/>
                    <a:pt x="529" y="212"/>
                    <a:pt x="495" y="193"/>
                  </a:cubicBezTo>
                  <a:cubicBezTo>
                    <a:pt x="530" y="195"/>
                    <a:pt x="563" y="207"/>
                    <a:pt x="594" y="228"/>
                  </a:cubicBezTo>
                  <a:cubicBezTo>
                    <a:pt x="640" y="262"/>
                    <a:pt x="675" y="314"/>
                    <a:pt x="701" y="368"/>
                  </a:cubicBezTo>
                  <a:cubicBezTo>
                    <a:pt x="691" y="335"/>
                    <a:pt x="678" y="299"/>
                    <a:pt x="662" y="266"/>
                  </a:cubicBezTo>
                  <a:cubicBezTo>
                    <a:pt x="660" y="263"/>
                    <a:pt x="658" y="261"/>
                    <a:pt x="656" y="259"/>
                  </a:cubicBezTo>
                  <a:cubicBezTo>
                    <a:pt x="637" y="233"/>
                    <a:pt x="615" y="210"/>
                    <a:pt x="590" y="192"/>
                  </a:cubicBezTo>
                  <a:cubicBezTo>
                    <a:pt x="552" y="165"/>
                    <a:pt x="511" y="152"/>
                    <a:pt x="466" y="152"/>
                  </a:cubicBezTo>
                  <a:cubicBezTo>
                    <a:pt x="443" y="152"/>
                    <a:pt x="419" y="155"/>
                    <a:pt x="394" y="162"/>
                  </a:cubicBezTo>
                  <a:cubicBezTo>
                    <a:pt x="167" y="228"/>
                    <a:pt x="50" y="440"/>
                    <a:pt x="19" y="602"/>
                  </a:cubicBezTo>
                  <a:cubicBezTo>
                    <a:pt x="0" y="698"/>
                    <a:pt x="9" y="785"/>
                    <a:pt x="43" y="844"/>
                  </a:cubicBezTo>
                  <a:cubicBezTo>
                    <a:pt x="46" y="846"/>
                    <a:pt x="50" y="848"/>
                    <a:pt x="53" y="850"/>
                  </a:cubicBezTo>
                  <a:cubicBezTo>
                    <a:pt x="16" y="792"/>
                    <a:pt x="5" y="703"/>
                    <a:pt x="25" y="603"/>
                  </a:cubicBezTo>
                  <a:cubicBezTo>
                    <a:pt x="55" y="443"/>
                    <a:pt x="171" y="233"/>
                    <a:pt x="396" y="168"/>
                  </a:cubicBezTo>
                  <a:cubicBezTo>
                    <a:pt x="420" y="161"/>
                    <a:pt x="443" y="158"/>
                    <a:pt x="466" y="158"/>
                  </a:cubicBezTo>
                  <a:cubicBezTo>
                    <a:pt x="509" y="158"/>
                    <a:pt x="550" y="171"/>
                    <a:pt x="586" y="197"/>
                  </a:cubicBezTo>
                  <a:cubicBezTo>
                    <a:pt x="592" y="201"/>
                    <a:pt x="598" y="206"/>
                    <a:pt x="603" y="211"/>
                  </a:cubicBezTo>
                  <a:cubicBezTo>
                    <a:pt x="567" y="185"/>
                    <a:pt x="526" y="172"/>
                    <a:pt x="482" y="172"/>
                  </a:cubicBezTo>
                  <a:cubicBezTo>
                    <a:pt x="459" y="172"/>
                    <a:pt x="436" y="175"/>
                    <a:pt x="411" y="182"/>
                  </a:cubicBezTo>
                  <a:cubicBezTo>
                    <a:pt x="190" y="247"/>
                    <a:pt x="76" y="453"/>
                    <a:pt x="45" y="610"/>
                  </a:cubicBezTo>
                  <a:cubicBezTo>
                    <a:pt x="26" y="712"/>
                    <a:pt x="38" y="802"/>
                    <a:pt x="77" y="860"/>
                  </a:cubicBezTo>
                  <a:cubicBezTo>
                    <a:pt x="89" y="865"/>
                    <a:pt x="100" y="869"/>
                    <a:pt x="113" y="872"/>
                  </a:cubicBezTo>
                  <a:cubicBezTo>
                    <a:pt x="87" y="847"/>
                    <a:pt x="69" y="809"/>
                    <a:pt x="62" y="763"/>
                  </a:cubicBezTo>
                  <a:cubicBezTo>
                    <a:pt x="106" y="759"/>
                    <a:pt x="278" y="746"/>
                    <a:pt x="330" y="743"/>
                  </a:cubicBezTo>
                  <a:cubicBezTo>
                    <a:pt x="330" y="737"/>
                    <a:pt x="330" y="737"/>
                    <a:pt x="330" y="737"/>
                  </a:cubicBezTo>
                  <a:cubicBezTo>
                    <a:pt x="277" y="740"/>
                    <a:pt x="104" y="753"/>
                    <a:pt x="60" y="757"/>
                  </a:cubicBezTo>
                  <a:cubicBezTo>
                    <a:pt x="55" y="722"/>
                    <a:pt x="55" y="683"/>
                    <a:pt x="61" y="642"/>
                  </a:cubicBezTo>
                  <a:cubicBezTo>
                    <a:pt x="94" y="632"/>
                    <a:pt x="214" y="596"/>
                    <a:pt x="297" y="596"/>
                  </a:cubicBezTo>
                  <a:cubicBezTo>
                    <a:pt x="298" y="596"/>
                    <a:pt x="299" y="596"/>
                    <a:pt x="299" y="596"/>
                  </a:cubicBezTo>
                  <a:cubicBezTo>
                    <a:pt x="300" y="590"/>
                    <a:pt x="300" y="590"/>
                    <a:pt x="300" y="590"/>
                  </a:cubicBezTo>
                  <a:cubicBezTo>
                    <a:pt x="299" y="590"/>
                    <a:pt x="298" y="590"/>
                    <a:pt x="297" y="590"/>
                  </a:cubicBezTo>
                  <a:cubicBezTo>
                    <a:pt x="215" y="590"/>
                    <a:pt x="99" y="624"/>
                    <a:pt x="62" y="636"/>
                  </a:cubicBezTo>
                  <a:cubicBezTo>
                    <a:pt x="63" y="629"/>
                    <a:pt x="64" y="621"/>
                    <a:pt x="65" y="614"/>
                  </a:cubicBezTo>
                  <a:cubicBezTo>
                    <a:pt x="73" y="575"/>
                    <a:pt x="86" y="533"/>
                    <a:pt x="104" y="491"/>
                  </a:cubicBezTo>
                  <a:cubicBezTo>
                    <a:pt x="147" y="484"/>
                    <a:pt x="188" y="481"/>
                    <a:pt x="226" y="481"/>
                  </a:cubicBezTo>
                  <a:cubicBezTo>
                    <a:pt x="404" y="481"/>
                    <a:pt x="533" y="544"/>
                    <a:pt x="615" y="604"/>
                  </a:cubicBezTo>
                  <a:cubicBezTo>
                    <a:pt x="706" y="670"/>
                    <a:pt x="758" y="743"/>
                    <a:pt x="773" y="767"/>
                  </a:cubicBezTo>
                  <a:cubicBezTo>
                    <a:pt x="767" y="776"/>
                    <a:pt x="762" y="785"/>
                    <a:pt x="760" y="796"/>
                  </a:cubicBezTo>
                  <a:cubicBezTo>
                    <a:pt x="741" y="778"/>
                    <a:pt x="699" y="737"/>
                    <a:pt x="642" y="697"/>
                  </a:cubicBezTo>
                  <a:cubicBezTo>
                    <a:pt x="572" y="647"/>
                    <a:pt x="464" y="588"/>
                    <a:pt x="354" y="587"/>
                  </a:cubicBezTo>
                  <a:cubicBezTo>
                    <a:pt x="353" y="594"/>
                    <a:pt x="353" y="594"/>
                    <a:pt x="353" y="594"/>
                  </a:cubicBezTo>
                  <a:cubicBezTo>
                    <a:pt x="541" y="594"/>
                    <a:pt x="721" y="766"/>
                    <a:pt x="758" y="803"/>
                  </a:cubicBezTo>
                  <a:cubicBezTo>
                    <a:pt x="757" y="808"/>
                    <a:pt x="757" y="813"/>
                    <a:pt x="756" y="818"/>
                  </a:cubicBezTo>
                  <a:cubicBezTo>
                    <a:pt x="709" y="801"/>
                    <a:pt x="519" y="734"/>
                    <a:pt x="391" y="734"/>
                  </a:cubicBezTo>
                  <a:cubicBezTo>
                    <a:pt x="391" y="741"/>
                    <a:pt x="391" y="741"/>
                    <a:pt x="391" y="741"/>
                  </a:cubicBezTo>
                  <a:cubicBezTo>
                    <a:pt x="521" y="741"/>
                    <a:pt x="713" y="809"/>
                    <a:pt x="756" y="825"/>
                  </a:cubicBezTo>
                  <a:cubicBezTo>
                    <a:pt x="756" y="826"/>
                    <a:pt x="756" y="826"/>
                    <a:pt x="756" y="826"/>
                  </a:cubicBezTo>
                  <a:cubicBezTo>
                    <a:pt x="757" y="829"/>
                    <a:pt x="757" y="833"/>
                    <a:pt x="757" y="836"/>
                  </a:cubicBezTo>
                  <a:cubicBezTo>
                    <a:pt x="726" y="842"/>
                    <a:pt x="624" y="861"/>
                    <a:pt x="509" y="874"/>
                  </a:cubicBezTo>
                  <a:cubicBezTo>
                    <a:pt x="500" y="877"/>
                    <a:pt x="490" y="880"/>
                    <a:pt x="480" y="883"/>
                  </a:cubicBezTo>
                  <a:cubicBezTo>
                    <a:pt x="583" y="873"/>
                    <a:pt x="680" y="857"/>
                    <a:pt x="731" y="847"/>
                  </a:cubicBezTo>
                  <a:cubicBezTo>
                    <a:pt x="743" y="845"/>
                    <a:pt x="752" y="844"/>
                    <a:pt x="759" y="842"/>
                  </a:cubicBezTo>
                  <a:cubicBezTo>
                    <a:pt x="761" y="855"/>
                    <a:pt x="767" y="867"/>
                    <a:pt x="774" y="877"/>
                  </a:cubicBezTo>
                  <a:cubicBezTo>
                    <a:pt x="472" y="1070"/>
                    <a:pt x="250" y="1347"/>
                    <a:pt x="206" y="1404"/>
                  </a:cubicBezTo>
                  <a:cubicBezTo>
                    <a:pt x="190" y="1370"/>
                    <a:pt x="181" y="1338"/>
                    <a:pt x="179" y="1305"/>
                  </a:cubicBezTo>
                  <a:cubicBezTo>
                    <a:pt x="221" y="1258"/>
                    <a:pt x="423" y="1032"/>
                    <a:pt x="505" y="995"/>
                  </a:cubicBezTo>
                  <a:cubicBezTo>
                    <a:pt x="502" y="990"/>
                    <a:pt x="502" y="990"/>
                    <a:pt x="502" y="990"/>
                  </a:cubicBezTo>
                  <a:cubicBezTo>
                    <a:pt x="421" y="1026"/>
                    <a:pt x="229" y="1240"/>
                    <a:pt x="179" y="1297"/>
                  </a:cubicBezTo>
                  <a:cubicBezTo>
                    <a:pt x="178" y="1271"/>
                    <a:pt x="182" y="1245"/>
                    <a:pt x="191" y="1220"/>
                  </a:cubicBezTo>
                  <a:cubicBezTo>
                    <a:pt x="255" y="1042"/>
                    <a:pt x="543" y="930"/>
                    <a:pt x="663" y="891"/>
                  </a:cubicBezTo>
                  <a:cubicBezTo>
                    <a:pt x="703" y="880"/>
                    <a:pt x="728" y="871"/>
                    <a:pt x="728" y="871"/>
                  </a:cubicBezTo>
                  <a:cubicBezTo>
                    <a:pt x="722" y="852"/>
                    <a:pt x="722" y="852"/>
                    <a:pt x="722" y="852"/>
                  </a:cubicBezTo>
                  <a:cubicBezTo>
                    <a:pt x="721" y="852"/>
                    <a:pt x="697" y="858"/>
                    <a:pt x="658" y="871"/>
                  </a:cubicBezTo>
                  <a:cubicBezTo>
                    <a:pt x="620" y="882"/>
                    <a:pt x="562" y="897"/>
                    <a:pt x="498" y="908"/>
                  </a:cubicBezTo>
                  <a:cubicBezTo>
                    <a:pt x="459" y="916"/>
                    <a:pt x="414" y="922"/>
                    <a:pt x="370" y="925"/>
                  </a:cubicBezTo>
                  <a:cubicBezTo>
                    <a:pt x="354" y="932"/>
                    <a:pt x="337" y="940"/>
                    <a:pt x="321" y="948"/>
                  </a:cubicBezTo>
                  <a:cubicBezTo>
                    <a:pt x="374" y="947"/>
                    <a:pt x="434" y="941"/>
                    <a:pt x="502" y="928"/>
                  </a:cubicBezTo>
                  <a:cubicBezTo>
                    <a:pt x="507" y="927"/>
                    <a:pt x="511" y="927"/>
                    <a:pt x="515" y="926"/>
                  </a:cubicBezTo>
                  <a:cubicBezTo>
                    <a:pt x="449" y="955"/>
                    <a:pt x="376" y="993"/>
                    <a:pt x="313" y="1041"/>
                  </a:cubicBezTo>
                  <a:cubicBezTo>
                    <a:pt x="240" y="1093"/>
                    <a:pt x="177" y="1156"/>
                    <a:pt x="150" y="1231"/>
                  </a:cubicBezTo>
                  <a:cubicBezTo>
                    <a:pt x="123" y="1307"/>
                    <a:pt x="135" y="1388"/>
                    <a:pt x="188" y="1471"/>
                  </a:cubicBezTo>
                  <a:cubicBezTo>
                    <a:pt x="251" y="1572"/>
                    <a:pt x="315" y="1641"/>
                    <a:pt x="377" y="1677"/>
                  </a:cubicBezTo>
                  <a:cubicBezTo>
                    <a:pt x="381" y="1677"/>
                    <a:pt x="384" y="1677"/>
                    <a:pt x="388" y="1676"/>
                  </a:cubicBezTo>
                  <a:cubicBezTo>
                    <a:pt x="325" y="1642"/>
                    <a:pt x="259" y="1572"/>
                    <a:pt x="193" y="1468"/>
                  </a:cubicBezTo>
                  <a:cubicBezTo>
                    <a:pt x="142" y="1386"/>
                    <a:pt x="129" y="1307"/>
                    <a:pt x="156" y="1233"/>
                  </a:cubicBezTo>
                  <a:cubicBezTo>
                    <a:pt x="169" y="1195"/>
                    <a:pt x="192" y="1160"/>
                    <a:pt x="221" y="1129"/>
                  </a:cubicBezTo>
                  <a:cubicBezTo>
                    <a:pt x="200" y="1155"/>
                    <a:pt x="183" y="1183"/>
                    <a:pt x="172" y="1213"/>
                  </a:cubicBezTo>
                  <a:cubicBezTo>
                    <a:pt x="145" y="1289"/>
                    <a:pt x="157" y="1369"/>
                    <a:pt x="209" y="1451"/>
                  </a:cubicBezTo>
                  <a:cubicBezTo>
                    <a:pt x="282" y="1565"/>
                    <a:pt x="355" y="1638"/>
                    <a:pt x="425" y="1667"/>
                  </a:cubicBezTo>
                  <a:cubicBezTo>
                    <a:pt x="434" y="1663"/>
                    <a:pt x="442" y="1659"/>
                    <a:pt x="451" y="1654"/>
                  </a:cubicBezTo>
                  <a:cubicBezTo>
                    <a:pt x="395" y="1639"/>
                    <a:pt x="336" y="1590"/>
                    <a:pt x="276" y="1512"/>
                  </a:cubicBezTo>
                  <a:cubicBezTo>
                    <a:pt x="331" y="1331"/>
                    <a:pt x="734" y="951"/>
                    <a:pt x="792" y="896"/>
                  </a:cubicBezTo>
                  <a:cubicBezTo>
                    <a:pt x="795" y="899"/>
                    <a:pt x="799" y="902"/>
                    <a:pt x="802" y="904"/>
                  </a:cubicBezTo>
                  <a:cubicBezTo>
                    <a:pt x="753" y="964"/>
                    <a:pt x="469" y="1316"/>
                    <a:pt x="433" y="1421"/>
                  </a:cubicBezTo>
                  <a:cubicBezTo>
                    <a:pt x="438" y="1423"/>
                    <a:pt x="438" y="1423"/>
                    <a:pt x="438" y="1423"/>
                  </a:cubicBezTo>
                  <a:cubicBezTo>
                    <a:pt x="474" y="1319"/>
                    <a:pt x="763" y="962"/>
                    <a:pt x="808" y="907"/>
                  </a:cubicBezTo>
                  <a:cubicBezTo>
                    <a:pt x="812" y="909"/>
                    <a:pt x="816" y="911"/>
                    <a:pt x="821" y="913"/>
                  </a:cubicBezTo>
                  <a:cubicBezTo>
                    <a:pt x="805" y="953"/>
                    <a:pt x="741" y="1111"/>
                    <a:pt x="700" y="1210"/>
                  </a:cubicBezTo>
                  <a:cubicBezTo>
                    <a:pt x="700" y="1217"/>
                    <a:pt x="699" y="1224"/>
                    <a:pt x="698" y="1231"/>
                  </a:cubicBezTo>
                  <a:cubicBezTo>
                    <a:pt x="739" y="1135"/>
                    <a:pt x="810" y="957"/>
                    <a:pt x="827" y="915"/>
                  </a:cubicBezTo>
                  <a:cubicBezTo>
                    <a:pt x="834" y="916"/>
                    <a:pt x="842" y="917"/>
                    <a:pt x="850" y="917"/>
                  </a:cubicBezTo>
                  <a:cubicBezTo>
                    <a:pt x="850" y="917"/>
                    <a:pt x="851" y="917"/>
                    <a:pt x="851" y="917"/>
                  </a:cubicBezTo>
                  <a:cubicBezTo>
                    <a:pt x="850" y="978"/>
                    <a:pt x="855" y="1295"/>
                    <a:pt x="1003" y="1549"/>
                  </a:cubicBezTo>
                  <a:cubicBezTo>
                    <a:pt x="1008" y="1546"/>
                    <a:pt x="1008" y="1546"/>
                    <a:pt x="1008" y="1546"/>
                  </a:cubicBezTo>
                  <a:cubicBezTo>
                    <a:pt x="861" y="1293"/>
                    <a:pt x="856" y="976"/>
                    <a:pt x="857" y="917"/>
                  </a:cubicBezTo>
                  <a:cubicBezTo>
                    <a:pt x="860" y="917"/>
                    <a:pt x="864" y="917"/>
                    <a:pt x="867" y="916"/>
                  </a:cubicBezTo>
                  <a:cubicBezTo>
                    <a:pt x="868" y="916"/>
                    <a:pt x="869" y="915"/>
                    <a:pt x="870" y="915"/>
                  </a:cubicBezTo>
                  <a:cubicBezTo>
                    <a:pt x="884" y="985"/>
                    <a:pt x="978" y="1415"/>
                    <a:pt x="1140" y="1602"/>
                  </a:cubicBezTo>
                  <a:cubicBezTo>
                    <a:pt x="1112" y="1615"/>
                    <a:pt x="1082" y="1626"/>
                    <a:pt x="1049" y="1636"/>
                  </a:cubicBezTo>
                  <a:cubicBezTo>
                    <a:pt x="1025" y="1644"/>
                    <a:pt x="1002" y="1648"/>
                    <a:pt x="980" y="1648"/>
                  </a:cubicBezTo>
                  <a:cubicBezTo>
                    <a:pt x="962" y="1620"/>
                    <a:pt x="904" y="1528"/>
                    <a:pt x="886" y="1445"/>
                  </a:cubicBezTo>
                  <a:cubicBezTo>
                    <a:pt x="880" y="1446"/>
                    <a:pt x="880" y="1446"/>
                    <a:pt x="880" y="1446"/>
                  </a:cubicBezTo>
                  <a:cubicBezTo>
                    <a:pt x="897" y="1527"/>
                    <a:pt x="952" y="1617"/>
                    <a:pt x="973" y="1648"/>
                  </a:cubicBezTo>
                  <a:cubicBezTo>
                    <a:pt x="935" y="1648"/>
                    <a:pt x="903" y="1635"/>
                    <a:pt x="876" y="1610"/>
                  </a:cubicBezTo>
                  <a:cubicBezTo>
                    <a:pt x="761" y="1501"/>
                    <a:pt x="791" y="1188"/>
                    <a:pt x="803" y="1095"/>
                  </a:cubicBezTo>
                  <a:cubicBezTo>
                    <a:pt x="805" y="1084"/>
                    <a:pt x="806" y="1073"/>
                    <a:pt x="808" y="1061"/>
                  </a:cubicBezTo>
                  <a:cubicBezTo>
                    <a:pt x="788" y="1058"/>
                    <a:pt x="788" y="1058"/>
                    <a:pt x="788" y="1058"/>
                  </a:cubicBezTo>
                  <a:cubicBezTo>
                    <a:pt x="788" y="1058"/>
                    <a:pt x="786" y="1071"/>
                    <a:pt x="783" y="1092"/>
                  </a:cubicBezTo>
                  <a:cubicBezTo>
                    <a:pt x="761" y="1237"/>
                    <a:pt x="732" y="1356"/>
                    <a:pt x="696" y="1447"/>
                  </a:cubicBezTo>
                  <a:cubicBezTo>
                    <a:pt x="697" y="1461"/>
                    <a:pt x="699" y="1475"/>
                    <a:pt x="701" y="1488"/>
                  </a:cubicBezTo>
                  <a:cubicBezTo>
                    <a:pt x="727" y="1429"/>
                    <a:pt x="750" y="1357"/>
                    <a:pt x="770" y="1273"/>
                  </a:cubicBezTo>
                  <a:cubicBezTo>
                    <a:pt x="769" y="1330"/>
                    <a:pt x="772" y="1391"/>
                    <a:pt x="782" y="1448"/>
                  </a:cubicBezTo>
                  <a:cubicBezTo>
                    <a:pt x="796" y="1542"/>
                    <a:pt x="824" y="1610"/>
                    <a:pt x="867" y="1651"/>
                  </a:cubicBezTo>
                  <a:cubicBezTo>
                    <a:pt x="889" y="1672"/>
                    <a:pt x="914" y="1685"/>
                    <a:pt x="944" y="1691"/>
                  </a:cubicBezTo>
                  <a:cubicBezTo>
                    <a:pt x="949" y="1690"/>
                    <a:pt x="954" y="1689"/>
                    <a:pt x="960" y="1687"/>
                  </a:cubicBezTo>
                  <a:cubicBezTo>
                    <a:pt x="960" y="1687"/>
                    <a:pt x="960" y="1687"/>
                    <a:pt x="960" y="1687"/>
                  </a:cubicBezTo>
                  <a:cubicBezTo>
                    <a:pt x="926" y="1683"/>
                    <a:pt x="896" y="1670"/>
                    <a:pt x="871" y="1646"/>
                  </a:cubicBezTo>
                  <a:cubicBezTo>
                    <a:pt x="847" y="1624"/>
                    <a:pt x="829" y="1593"/>
                    <a:pt x="815" y="1558"/>
                  </a:cubicBezTo>
                  <a:cubicBezTo>
                    <a:pt x="828" y="1584"/>
                    <a:pt x="843" y="1607"/>
                    <a:pt x="863" y="1625"/>
                  </a:cubicBezTo>
                  <a:cubicBezTo>
                    <a:pt x="893" y="1654"/>
                    <a:pt x="931" y="1669"/>
                    <a:pt x="976" y="1669"/>
                  </a:cubicBezTo>
                  <a:cubicBezTo>
                    <a:pt x="990" y="1669"/>
                    <a:pt x="1004" y="1667"/>
                    <a:pt x="1019" y="1665"/>
                  </a:cubicBezTo>
                  <a:cubicBezTo>
                    <a:pt x="1031" y="1662"/>
                    <a:pt x="1043" y="1659"/>
                    <a:pt x="1055" y="1656"/>
                  </a:cubicBezTo>
                  <a:cubicBezTo>
                    <a:pt x="1062" y="1653"/>
                    <a:pt x="1069" y="1651"/>
                    <a:pt x="1076" y="1649"/>
                  </a:cubicBezTo>
                  <a:cubicBezTo>
                    <a:pt x="1136" y="1623"/>
                    <a:pt x="1185" y="1591"/>
                    <a:pt x="1221" y="1554"/>
                  </a:cubicBezTo>
                  <a:cubicBezTo>
                    <a:pt x="1199" y="1570"/>
                    <a:pt x="1174" y="1585"/>
                    <a:pt x="1146" y="1599"/>
                  </a:cubicBezTo>
                  <a:cubicBezTo>
                    <a:pt x="983" y="1413"/>
                    <a:pt x="889" y="981"/>
                    <a:pt x="876" y="914"/>
                  </a:cubicBezTo>
                  <a:cubicBezTo>
                    <a:pt x="881" y="912"/>
                    <a:pt x="887" y="910"/>
                    <a:pt x="892" y="907"/>
                  </a:cubicBezTo>
                  <a:cubicBezTo>
                    <a:pt x="914" y="953"/>
                    <a:pt x="1011" y="1164"/>
                    <a:pt x="1053" y="1239"/>
                  </a:cubicBezTo>
                  <a:cubicBezTo>
                    <a:pt x="1058" y="1236"/>
                    <a:pt x="1058" y="1236"/>
                    <a:pt x="1058" y="1236"/>
                  </a:cubicBezTo>
                  <a:cubicBezTo>
                    <a:pt x="1016" y="1161"/>
                    <a:pt x="919" y="950"/>
                    <a:pt x="898" y="904"/>
                  </a:cubicBezTo>
                  <a:cubicBezTo>
                    <a:pt x="907" y="899"/>
                    <a:pt x="914" y="892"/>
                    <a:pt x="920" y="884"/>
                  </a:cubicBezTo>
                  <a:cubicBezTo>
                    <a:pt x="958" y="898"/>
                    <a:pt x="1106" y="952"/>
                    <a:pt x="1151" y="956"/>
                  </a:cubicBezTo>
                  <a:cubicBezTo>
                    <a:pt x="1151" y="950"/>
                    <a:pt x="1151" y="950"/>
                    <a:pt x="1151" y="950"/>
                  </a:cubicBezTo>
                  <a:cubicBezTo>
                    <a:pt x="1108" y="946"/>
                    <a:pt x="965" y="894"/>
                    <a:pt x="925" y="879"/>
                  </a:cubicBezTo>
                  <a:cubicBezTo>
                    <a:pt x="931" y="870"/>
                    <a:pt x="936" y="860"/>
                    <a:pt x="940" y="848"/>
                  </a:cubicBezTo>
                  <a:cubicBezTo>
                    <a:pt x="1022" y="854"/>
                    <a:pt x="1617" y="893"/>
                    <a:pt x="1710" y="921"/>
                  </a:cubicBezTo>
                  <a:cubicBezTo>
                    <a:pt x="1709" y="939"/>
                    <a:pt x="1707" y="959"/>
                    <a:pt x="1703" y="979"/>
                  </a:cubicBezTo>
                  <a:cubicBezTo>
                    <a:pt x="1702" y="985"/>
                    <a:pt x="1700" y="990"/>
                    <a:pt x="1699" y="995"/>
                  </a:cubicBezTo>
                  <a:cubicBezTo>
                    <a:pt x="1642" y="989"/>
                    <a:pt x="1358" y="962"/>
                    <a:pt x="1270" y="945"/>
                  </a:cubicBezTo>
                  <a:cubicBezTo>
                    <a:pt x="1268" y="950"/>
                    <a:pt x="1268" y="950"/>
                    <a:pt x="1268" y="950"/>
                  </a:cubicBezTo>
                  <a:cubicBezTo>
                    <a:pt x="1356" y="967"/>
                    <a:pt x="1639" y="995"/>
                    <a:pt x="1698" y="1001"/>
                  </a:cubicBezTo>
                  <a:cubicBezTo>
                    <a:pt x="1686" y="1043"/>
                    <a:pt x="1663" y="1073"/>
                    <a:pt x="1629" y="1094"/>
                  </a:cubicBezTo>
                  <a:cubicBezTo>
                    <a:pt x="1564" y="1083"/>
                    <a:pt x="1251" y="1030"/>
                    <a:pt x="1206" y="1009"/>
                  </a:cubicBezTo>
                  <a:cubicBezTo>
                    <a:pt x="1203" y="1014"/>
                    <a:pt x="1203" y="1014"/>
                    <a:pt x="1203" y="1014"/>
                  </a:cubicBezTo>
                  <a:cubicBezTo>
                    <a:pt x="1249" y="1036"/>
                    <a:pt x="1541" y="1086"/>
                    <a:pt x="1620" y="1099"/>
                  </a:cubicBezTo>
                  <a:cubicBezTo>
                    <a:pt x="1602" y="1108"/>
                    <a:pt x="1582" y="1116"/>
                    <a:pt x="1558" y="1120"/>
                  </a:cubicBezTo>
                  <a:cubicBezTo>
                    <a:pt x="1538" y="1124"/>
                    <a:pt x="1517" y="1125"/>
                    <a:pt x="1494" y="1125"/>
                  </a:cubicBezTo>
                  <a:cubicBezTo>
                    <a:pt x="1335" y="1125"/>
                    <a:pt x="1133" y="1040"/>
                    <a:pt x="1069" y="1011"/>
                  </a:cubicBezTo>
                  <a:cubicBezTo>
                    <a:pt x="1060" y="1007"/>
                    <a:pt x="1051" y="1003"/>
                    <a:pt x="1042" y="999"/>
                  </a:cubicBezTo>
                  <a:cubicBezTo>
                    <a:pt x="1034" y="1017"/>
                    <a:pt x="1034" y="1017"/>
                    <a:pt x="1034" y="1017"/>
                  </a:cubicBezTo>
                  <a:cubicBezTo>
                    <a:pt x="1034" y="1017"/>
                    <a:pt x="1043" y="1022"/>
                    <a:pt x="1060" y="1029"/>
                  </a:cubicBezTo>
                  <a:cubicBezTo>
                    <a:pt x="1106" y="1052"/>
                    <a:pt x="1147" y="1076"/>
                    <a:pt x="1183" y="1102"/>
                  </a:cubicBezTo>
                  <a:cubicBezTo>
                    <a:pt x="1202" y="1109"/>
                    <a:pt x="1223" y="1117"/>
                    <a:pt x="1244" y="1124"/>
                  </a:cubicBezTo>
                  <a:cubicBezTo>
                    <a:pt x="1227" y="1110"/>
                    <a:pt x="1210" y="1096"/>
                    <a:pt x="1190" y="1082"/>
                  </a:cubicBezTo>
                  <a:cubicBezTo>
                    <a:pt x="1254" y="1105"/>
                    <a:pt x="1329" y="1127"/>
                    <a:pt x="1403" y="1138"/>
                  </a:cubicBezTo>
                  <a:cubicBezTo>
                    <a:pt x="1442" y="1145"/>
                    <a:pt x="1482" y="1150"/>
                    <a:pt x="1520" y="1150"/>
                  </a:cubicBezTo>
                  <a:cubicBezTo>
                    <a:pt x="1544" y="1150"/>
                    <a:pt x="1566" y="1148"/>
                    <a:pt x="1588" y="1144"/>
                  </a:cubicBezTo>
                  <a:cubicBezTo>
                    <a:pt x="1608" y="1141"/>
                    <a:pt x="1626" y="1135"/>
                    <a:pt x="1642" y="1128"/>
                  </a:cubicBezTo>
                  <a:cubicBezTo>
                    <a:pt x="1647" y="1124"/>
                    <a:pt x="1652" y="1119"/>
                    <a:pt x="1657" y="1114"/>
                  </a:cubicBezTo>
                  <a:cubicBezTo>
                    <a:pt x="1637" y="1125"/>
                    <a:pt x="1614" y="1133"/>
                    <a:pt x="1587" y="1138"/>
                  </a:cubicBezTo>
                  <a:cubicBezTo>
                    <a:pt x="1570" y="1141"/>
                    <a:pt x="1552" y="1143"/>
                    <a:pt x="1534" y="1144"/>
                  </a:cubicBezTo>
                  <a:cubicBezTo>
                    <a:pt x="1544" y="1143"/>
                    <a:pt x="1553" y="1141"/>
                    <a:pt x="1562" y="1140"/>
                  </a:cubicBezTo>
                  <a:cubicBezTo>
                    <a:pt x="1619" y="1129"/>
                    <a:pt x="1662" y="1105"/>
                    <a:pt x="1689" y="1066"/>
                  </a:cubicBezTo>
                  <a:cubicBezTo>
                    <a:pt x="1695" y="1053"/>
                    <a:pt x="1700" y="1038"/>
                    <a:pt x="1704" y="1022"/>
                  </a:cubicBezTo>
                  <a:cubicBezTo>
                    <a:pt x="1766" y="769"/>
                    <a:pt x="1638" y="620"/>
                    <a:pt x="1405" y="620"/>
                  </a:cubicBezTo>
                  <a:cubicBezTo>
                    <a:pt x="1364" y="620"/>
                    <a:pt x="1319" y="624"/>
                    <a:pt x="1272" y="634"/>
                  </a:cubicBezTo>
                  <a:cubicBezTo>
                    <a:pt x="1254" y="639"/>
                    <a:pt x="1236" y="645"/>
                    <a:pt x="1217" y="651"/>
                  </a:cubicBezTo>
                  <a:cubicBezTo>
                    <a:pt x="1220" y="649"/>
                    <a:pt x="1223" y="647"/>
                    <a:pt x="1226" y="645"/>
                  </a:cubicBezTo>
                  <a:cubicBezTo>
                    <a:pt x="1207" y="650"/>
                    <a:pt x="1188" y="655"/>
                    <a:pt x="1168" y="662"/>
                  </a:cubicBezTo>
                  <a:cubicBezTo>
                    <a:pt x="1144" y="679"/>
                    <a:pt x="1128" y="688"/>
                    <a:pt x="1127" y="688"/>
                  </a:cubicBezTo>
                  <a:cubicBezTo>
                    <a:pt x="1136" y="706"/>
                    <a:pt x="1136" y="706"/>
                    <a:pt x="1136" y="706"/>
                  </a:cubicBezTo>
                  <a:cubicBezTo>
                    <a:pt x="1208" y="673"/>
                    <a:pt x="1278" y="650"/>
                    <a:pt x="1342" y="638"/>
                  </a:cubicBezTo>
                  <a:cubicBezTo>
                    <a:pt x="1376" y="632"/>
                    <a:pt x="1408" y="629"/>
                    <a:pt x="1438" y="629"/>
                  </a:cubicBezTo>
                  <a:cubicBezTo>
                    <a:pt x="1524" y="629"/>
                    <a:pt x="1595" y="654"/>
                    <a:pt x="1642" y="701"/>
                  </a:cubicBezTo>
                  <a:cubicBezTo>
                    <a:pt x="1653" y="712"/>
                    <a:pt x="1663" y="725"/>
                    <a:pt x="1672" y="738"/>
                  </a:cubicBezTo>
                  <a:cubicBezTo>
                    <a:pt x="1634" y="728"/>
                    <a:pt x="1572" y="725"/>
                    <a:pt x="1519" y="725"/>
                  </a:cubicBezTo>
                  <a:cubicBezTo>
                    <a:pt x="1466" y="725"/>
                    <a:pt x="1422" y="728"/>
                    <a:pt x="1418" y="728"/>
                  </a:cubicBezTo>
                  <a:cubicBezTo>
                    <a:pt x="1418" y="734"/>
                    <a:pt x="1418" y="734"/>
                    <a:pt x="1418" y="734"/>
                  </a:cubicBezTo>
                  <a:cubicBezTo>
                    <a:pt x="1419" y="734"/>
                    <a:pt x="1464" y="731"/>
                    <a:pt x="1518" y="731"/>
                  </a:cubicBezTo>
                  <a:cubicBezTo>
                    <a:pt x="1574" y="731"/>
                    <a:pt x="1641" y="734"/>
                    <a:pt x="1676" y="746"/>
                  </a:cubicBezTo>
                  <a:cubicBezTo>
                    <a:pt x="1690" y="770"/>
                    <a:pt x="1700" y="797"/>
                    <a:pt x="1705" y="827"/>
                  </a:cubicBezTo>
                  <a:cubicBezTo>
                    <a:pt x="1652" y="807"/>
                    <a:pt x="1543" y="797"/>
                    <a:pt x="1380" y="797"/>
                  </a:cubicBezTo>
                  <a:cubicBezTo>
                    <a:pt x="1347" y="797"/>
                    <a:pt x="1312" y="798"/>
                    <a:pt x="1275" y="799"/>
                  </a:cubicBezTo>
                  <a:cubicBezTo>
                    <a:pt x="1123" y="802"/>
                    <a:pt x="981" y="811"/>
                    <a:pt x="943" y="814"/>
                  </a:cubicBezTo>
                  <a:cubicBezTo>
                    <a:pt x="943" y="808"/>
                    <a:pt x="942" y="802"/>
                    <a:pt x="940" y="796"/>
                  </a:cubicBezTo>
                  <a:cubicBezTo>
                    <a:pt x="991" y="786"/>
                    <a:pt x="1218" y="740"/>
                    <a:pt x="1283" y="740"/>
                  </a:cubicBezTo>
                  <a:cubicBezTo>
                    <a:pt x="1283" y="734"/>
                    <a:pt x="1283" y="734"/>
                    <a:pt x="1283" y="734"/>
                  </a:cubicBezTo>
                  <a:cubicBezTo>
                    <a:pt x="1216" y="734"/>
                    <a:pt x="989" y="780"/>
                    <a:pt x="939" y="790"/>
                  </a:cubicBezTo>
                  <a:cubicBezTo>
                    <a:pt x="935" y="778"/>
                    <a:pt x="928" y="768"/>
                    <a:pt x="921" y="759"/>
                  </a:cubicBezTo>
                  <a:cubicBezTo>
                    <a:pt x="975" y="718"/>
                    <a:pt x="1284" y="479"/>
                    <a:pt x="1354" y="209"/>
                  </a:cubicBezTo>
                  <a:cubicBezTo>
                    <a:pt x="1378" y="232"/>
                    <a:pt x="1395" y="256"/>
                    <a:pt x="1405" y="282"/>
                  </a:cubicBezTo>
                  <a:cubicBezTo>
                    <a:pt x="1390" y="329"/>
                    <a:pt x="1325" y="506"/>
                    <a:pt x="1155" y="626"/>
                  </a:cubicBezTo>
                  <a:cubicBezTo>
                    <a:pt x="1158" y="631"/>
                    <a:pt x="1158" y="631"/>
                    <a:pt x="1158" y="631"/>
                  </a:cubicBezTo>
                  <a:cubicBezTo>
                    <a:pt x="1321" y="516"/>
                    <a:pt x="1389" y="349"/>
                    <a:pt x="1408" y="292"/>
                  </a:cubicBezTo>
                  <a:cubicBezTo>
                    <a:pt x="1414" y="311"/>
                    <a:pt x="1417" y="330"/>
                    <a:pt x="1416" y="350"/>
                  </a:cubicBezTo>
                  <a:cubicBezTo>
                    <a:pt x="1412" y="412"/>
                    <a:pt x="1373" y="474"/>
                    <a:pt x="1325" y="527"/>
                  </a:cubicBezTo>
                  <a:cubicBezTo>
                    <a:pt x="1377" y="477"/>
                    <a:pt x="1421" y="418"/>
                    <a:pt x="1436" y="355"/>
                  </a:cubicBezTo>
                  <a:cubicBezTo>
                    <a:pt x="1436" y="354"/>
                    <a:pt x="1436" y="353"/>
                    <a:pt x="1436" y="351"/>
                  </a:cubicBezTo>
                  <a:cubicBezTo>
                    <a:pt x="1440" y="284"/>
                    <a:pt x="1409" y="224"/>
                    <a:pt x="1343" y="172"/>
                  </a:cubicBezTo>
                  <a:cubicBezTo>
                    <a:pt x="1222" y="77"/>
                    <a:pt x="1106" y="26"/>
                    <a:pt x="1011" y="26"/>
                  </a:cubicBezTo>
                  <a:cubicBezTo>
                    <a:pt x="996" y="26"/>
                    <a:pt x="982" y="28"/>
                    <a:pt x="968" y="30"/>
                  </a:cubicBezTo>
                  <a:cubicBezTo>
                    <a:pt x="909" y="41"/>
                    <a:pt x="846" y="77"/>
                    <a:pt x="805" y="171"/>
                  </a:cubicBezTo>
                  <a:cubicBezTo>
                    <a:pt x="845" y="62"/>
                    <a:pt x="912" y="22"/>
                    <a:pt x="974" y="10"/>
                  </a:cubicBezTo>
                  <a:cubicBezTo>
                    <a:pt x="987" y="8"/>
                    <a:pt x="1002" y="6"/>
                    <a:pt x="1017" y="6"/>
                  </a:cubicBezTo>
                  <a:cubicBezTo>
                    <a:pt x="1112" y="6"/>
                    <a:pt x="1230" y="58"/>
                    <a:pt x="1353" y="155"/>
                  </a:cubicBezTo>
                  <a:cubicBezTo>
                    <a:pt x="1385" y="180"/>
                    <a:pt x="1408" y="207"/>
                    <a:pt x="1424" y="235"/>
                  </a:cubicBezTo>
                  <a:cubicBezTo>
                    <a:pt x="1412" y="210"/>
                    <a:pt x="1394" y="185"/>
                    <a:pt x="1369" y="160"/>
                  </a:cubicBezTo>
                  <a:cubicBezTo>
                    <a:pt x="1365" y="157"/>
                    <a:pt x="1361" y="153"/>
                    <a:pt x="1357" y="150"/>
                  </a:cubicBezTo>
                  <a:cubicBezTo>
                    <a:pt x="1232" y="52"/>
                    <a:pt x="1114" y="0"/>
                    <a:pt x="1017" y="0"/>
                  </a:cubicBezTo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" name="Freeform 20"/>
            <p:cNvSpPr/>
            <p:nvPr/>
          </p:nvSpPr>
          <p:spPr>
            <a:xfrm>
              <a:off x="8893800" y="209160"/>
              <a:ext cx="25200" cy="26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3" h="107">
                  <a:moveTo>
                    <a:pt x="4" y="72"/>
                  </a:moveTo>
                  <a:cubicBezTo>
                    <a:pt x="11" y="92"/>
                    <a:pt x="30" y="107"/>
                    <a:pt x="52" y="107"/>
                  </a:cubicBezTo>
                  <a:cubicBezTo>
                    <a:pt x="53" y="107"/>
                    <a:pt x="54" y="107"/>
                    <a:pt x="54" y="107"/>
                  </a:cubicBezTo>
                  <a:cubicBezTo>
                    <a:pt x="57" y="107"/>
                    <a:pt x="59" y="106"/>
                    <a:pt x="61" y="106"/>
                  </a:cubicBezTo>
                  <a:cubicBezTo>
                    <a:pt x="73" y="104"/>
                    <a:pt x="83" y="98"/>
                    <a:pt x="90" y="89"/>
                  </a:cubicBezTo>
                  <a:cubicBezTo>
                    <a:pt x="86" y="91"/>
                    <a:pt x="82" y="92"/>
                    <a:pt x="78" y="93"/>
                  </a:cubicBezTo>
                  <a:cubicBezTo>
                    <a:pt x="75" y="93"/>
                    <a:pt x="71" y="94"/>
                    <a:pt x="67" y="94"/>
                  </a:cubicBezTo>
                  <a:cubicBezTo>
                    <a:pt x="41" y="94"/>
                    <a:pt x="15" y="79"/>
                    <a:pt x="4" y="72"/>
                  </a:cubicBezTo>
                  <a:moveTo>
                    <a:pt x="4" y="33"/>
                  </a:moveTo>
                  <a:cubicBezTo>
                    <a:pt x="2" y="40"/>
                    <a:pt x="0" y="48"/>
                    <a:pt x="0" y="56"/>
                  </a:cubicBezTo>
                  <a:cubicBezTo>
                    <a:pt x="0" y="58"/>
                    <a:pt x="1" y="61"/>
                    <a:pt x="1" y="63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2" y="63"/>
                    <a:pt x="36" y="87"/>
                    <a:pt x="68" y="87"/>
                  </a:cubicBezTo>
                  <a:cubicBezTo>
                    <a:pt x="78" y="87"/>
                    <a:pt x="88" y="85"/>
                    <a:pt x="97" y="78"/>
                  </a:cubicBezTo>
                  <a:cubicBezTo>
                    <a:pt x="98" y="78"/>
                    <a:pt x="98" y="78"/>
                    <a:pt x="98" y="78"/>
                  </a:cubicBezTo>
                  <a:cubicBezTo>
                    <a:pt x="101" y="72"/>
                    <a:pt x="103" y="64"/>
                    <a:pt x="103" y="56"/>
                  </a:cubicBezTo>
                  <a:cubicBezTo>
                    <a:pt x="100" y="58"/>
                    <a:pt x="97" y="59"/>
                    <a:pt x="93" y="60"/>
                  </a:cubicBezTo>
                  <a:cubicBezTo>
                    <a:pt x="90" y="60"/>
                    <a:pt x="87" y="61"/>
                    <a:pt x="84" y="61"/>
                  </a:cubicBezTo>
                  <a:cubicBezTo>
                    <a:pt x="55" y="61"/>
                    <a:pt x="14" y="38"/>
                    <a:pt x="4" y="33"/>
                  </a:cubicBezTo>
                  <a:moveTo>
                    <a:pt x="25" y="8"/>
                  </a:moveTo>
                  <a:cubicBezTo>
                    <a:pt x="17" y="13"/>
                    <a:pt x="11" y="19"/>
                    <a:pt x="7" y="27"/>
                  </a:cubicBezTo>
                  <a:cubicBezTo>
                    <a:pt x="13" y="30"/>
                    <a:pt x="36" y="43"/>
                    <a:pt x="59" y="50"/>
                  </a:cubicBezTo>
                  <a:cubicBezTo>
                    <a:pt x="52" y="31"/>
                    <a:pt x="27" y="10"/>
                    <a:pt x="25" y="8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50" y="0"/>
                  </a:cubicBezTo>
                  <a:cubicBezTo>
                    <a:pt x="47" y="0"/>
                    <a:pt x="45" y="0"/>
                    <a:pt x="43" y="1"/>
                  </a:cubicBezTo>
                  <a:cubicBezTo>
                    <a:pt x="38" y="2"/>
                    <a:pt x="34" y="3"/>
                    <a:pt x="30" y="5"/>
                  </a:cubicBezTo>
                  <a:cubicBezTo>
                    <a:pt x="38" y="12"/>
                    <a:pt x="61" y="33"/>
                    <a:pt x="66" y="52"/>
                  </a:cubicBezTo>
                  <a:cubicBezTo>
                    <a:pt x="72" y="54"/>
                    <a:pt x="79" y="55"/>
                    <a:pt x="84" y="55"/>
                  </a:cubicBezTo>
                  <a:cubicBezTo>
                    <a:pt x="92" y="55"/>
                    <a:pt x="99" y="53"/>
                    <a:pt x="103" y="49"/>
                  </a:cubicBezTo>
                  <a:cubicBezTo>
                    <a:pt x="102" y="35"/>
                    <a:pt x="97" y="23"/>
                    <a:pt x="87" y="14"/>
                  </a:cubicBezTo>
                  <a:cubicBezTo>
                    <a:pt x="77" y="5"/>
                    <a:pt x="65" y="0"/>
                    <a:pt x="52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49" name="组合 45"/>
            <p:cNvGrpSpPr/>
            <p:nvPr/>
          </p:nvGrpSpPr>
          <p:grpSpPr>
            <a:xfrm>
              <a:off x="8694720" y="15480"/>
              <a:ext cx="439920" cy="429480"/>
              <a:chOff x="8694720" y="15480"/>
              <a:chExt cx="439920" cy="4294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8694720" y="15480"/>
                <a:ext cx="439920" cy="4294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1779" h="1737">
                    <a:moveTo>
                      <a:pt x="1688" y="700"/>
                    </a:moveTo>
                    <a:cubicBezTo>
                      <a:pt x="1624" y="636"/>
                      <a:pt x="1522" y="611"/>
                      <a:pt x="1399" y="626"/>
                    </a:cubicBezTo>
                    <a:cubicBezTo>
                      <a:pt x="1381" y="628"/>
                      <a:pt x="1363" y="630"/>
                      <a:pt x="1344" y="634"/>
                    </a:cubicBezTo>
                    <a:cubicBezTo>
                      <a:pt x="1306" y="641"/>
                      <a:pt x="1265" y="652"/>
                      <a:pt x="1223" y="666"/>
                    </a:cubicBezTo>
                    <a:cubicBezTo>
                      <a:pt x="1277" y="626"/>
                      <a:pt x="1346" y="566"/>
                      <a:pt x="1392" y="497"/>
                    </a:cubicBezTo>
                    <a:cubicBezTo>
                      <a:pt x="1427" y="451"/>
                      <a:pt x="1453" y="399"/>
                      <a:pt x="1457" y="345"/>
                    </a:cubicBezTo>
                    <a:cubicBezTo>
                      <a:pt x="1461" y="279"/>
                      <a:pt x="1430" y="218"/>
                      <a:pt x="1363" y="165"/>
                    </a:cubicBezTo>
                    <a:cubicBezTo>
                      <a:pt x="1219" y="52"/>
                      <a:pt x="1083" y="0"/>
                      <a:pt x="979" y="19"/>
                    </a:cubicBezTo>
                    <a:cubicBezTo>
                      <a:pt x="892" y="35"/>
                      <a:pt x="798" y="105"/>
                      <a:pt x="773" y="328"/>
                    </a:cubicBezTo>
                    <a:cubicBezTo>
                      <a:pt x="768" y="371"/>
                      <a:pt x="765" y="421"/>
                      <a:pt x="765" y="478"/>
                    </a:cubicBezTo>
                    <a:cubicBezTo>
                      <a:pt x="746" y="414"/>
                      <a:pt x="713" y="334"/>
                      <a:pt x="662" y="274"/>
                    </a:cubicBezTo>
                    <a:cubicBezTo>
                      <a:pt x="643" y="248"/>
                      <a:pt x="621" y="225"/>
                      <a:pt x="596" y="207"/>
                    </a:cubicBezTo>
                    <a:cubicBezTo>
                      <a:pt x="539" y="166"/>
                      <a:pt x="473" y="156"/>
                      <a:pt x="400" y="177"/>
                    </a:cubicBezTo>
                    <a:cubicBezTo>
                      <a:pt x="173" y="243"/>
                      <a:pt x="56" y="455"/>
                      <a:pt x="25" y="617"/>
                    </a:cubicBezTo>
                    <a:cubicBezTo>
                      <a:pt x="0" y="746"/>
                      <a:pt x="25" y="858"/>
                      <a:pt x="90" y="908"/>
                    </a:cubicBezTo>
                    <a:cubicBezTo>
                      <a:pt x="115" y="927"/>
                      <a:pt x="155" y="946"/>
                      <a:pt x="219" y="955"/>
                    </a:cubicBezTo>
                    <a:cubicBezTo>
                      <a:pt x="291" y="969"/>
                      <a:pt x="388" y="965"/>
                      <a:pt x="508" y="943"/>
                    </a:cubicBezTo>
                    <a:cubicBezTo>
                      <a:pt x="513" y="942"/>
                      <a:pt x="517" y="942"/>
                      <a:pt x="521" y="941"/>
                    </a:cubicBezTo>
                    <a:cubicBezTo>
                      <a:pt x="455" y="970"/>
                      <a:pt x="382" y="1008"/>
                      <a:pt x="319" y="1056"/>
                    </a:cubicBezTo>
                    <a:cubicBezTo>
                      <a:pt x="246" y="1108"/>
                      <a:pt x="183" y="1171"/>
                      <a:pt x="156" y="1246"/>
                    </a:cubicBezTo>
                    <a:cubicBezTo>
                      <a:pt x="129" y="1322"/>
                      <a:pt x="141" y="1403"/>
                      <a:pt x="194" y="1486"/>
                    </a:cubicBezTo>
                    <a:cubicBezTo>
                      <a:pt x="301" y="1656"/>
                      <a:pt x="410" y="1737"/>
                      <a:pt x="507" y="1719"/>
                    </a:cubicBezTo>
                    <a:cubicBezTo>
                      <a:pt x="561" y="1709"/>
                      <a:pt x="610" y="1668"/>
                      <a:pt x="653" y="1599"/>
                    </a:cubicBezTo>
                    <a:cubicBezTo>
                      <a:pt x="702" y="1531"/>
                      <a:pt x="744" y="1426"/>
                      <a:pt x="776" y="1288"/>
                    </a:cubicBezTo>
                    <a:cubicBezTo>
                      <a:pt x="775" y="1345"/>
                      <a:pt x="778" y="1406"/>
                      <a:pt x="788" y="1463"/>
                    </a:cubicBezTo>
                    <a:cubicBezTo>
                      <a:pt x="802" y="1557"/>
                      <a:pt x="830" y="1625"/>
                      <a:pt x="873" y="1666"/>
                    </a:cubicBezTo>
                    <a:cubicBezTo>
                      <a:pt x="913" y="1704"/>
                      <a:pt x="965" y="1717"/>
                      <a:pt x="1029" y="1705"/>
                    </a:cubicBezTo>
                    <a:cubicBezTo>
                      <a:pt x="1041" y="1703"/>
                      <a:pt x="1053" y="1700"/>
                      <a:pt x="1066" y="1696"/>
                    </a:cubicBezTo>
                    <a:cubicBezTo>
                      <a:pt x="1254" y="1639"/>
                      <a:pt x="1371" y="1529"/>
                      <a:pt x="1381" y="1402"/>
                    </a:cubicBezTo>
                    <a:cubicBezTo>
                      <a:pt x="1385" y="1348"/>
                      <a:pt x="1369" y="1295"/>
                      <a:pt x="1336" y="1243"/>
                    </a:cubicBezTo>
                    <a:cubicBezTo>
                      <a:pt x="1307" y="1192"/>
                      <a:pt x="1260" y="1142"/>
                      <a:pt x="1196" y="1097"/>
                    </a:cubicBezTo>
                    <a:cubicBezTo>
                      <a:pt x="1260" y="1120"/>
                      <a:pt x="1335" y="1142"/>
                      <a:pt x="1409" y="1153"/>
                    </a:cubicBezTo>
                    <a:cubicBezTo>
                      <a:pt x="1474" y="1165"/>
                      <a:pt x="1538" y="1169"/>
                      <a:pt x="1594" y="1159"/>
                    </a:cubicBezTo>
                    <a:cubicBezTo>
                      <a:pt x="1685" y="1142"/>
                      <a:pt x="1740" y="1089"/>
                      <a:pt x="1756" y="1001"/>
                    </a:cubicBezTo>
                    <a:cubicBezTo>
                      <a:pt x="1779" y="871"/>
                      <a:pt x="1756" y="767"/>
                      <a:pt x="1688" y="700"/>
                    </a:cubicBezTo>
                    <a:moveTo>
                      <a:pt x="1682" y="761"/>
                    </a:moveTo>
                    <a:cubicBezTo>
                      <a:pt x="1696" y="785"/>
                      <a:pt x="1706" y="812"/>
                      <a:pt x="1711" y="842"/>
                    </a:cubicBezTo>
                    <a:cubicBezTo>
                      <a:pt x="1647" y="818"/>
                      <a:pt x="1503" y="809"/>
                      <a:pt x="1281" y="814"/>
                    </a:cubicBezTo>
                    <a:cubicBezTo>
                      <a:pt x="1129" y="817"/>
                      <a:pt x="987" y="826"/>
                      <a:pt x="949" y="829"/>
                    </a:cubicBezTo>
                    <a:cubicBezTo>
                      <a:pt x="949" y="823"/>
                      <a:pt x="948" y="817"/>
                      <a:pt x="946" y="811"/>
                    </a:cubicBezTo>
                    <a:cubicBezTo>
                      <a:pt x="997" y="801"/>
                      <a:pt x="1224" y="755"/>
                      <a:pt x="1289" y="755"/>
                    </a:cubicBezTo>
                    <a:cubicBezTo>
                      <a:pt x="1289" y="749"/>
                      <a:pt x="1289" y="749"/>
                      <a:pt x="1289" y="749"/>
                    </a:cubicBezTo>
                    <a:cubicBezTo>
                      <a:pt x="1222" y="749"/>
                      <a:pt x="995" y="795"/>
                      <a:pt x="945" y="805"/>
                    </a:cubicBezTo>
                    <a:cubicBezTo>
                      <a:pt x="941" y="793"/>
                      <a:pt x="934" y="783"/>
                      <a:pt x="927" y="774"/>
                    </a:cubicBezTo>
                    <a:cubicBezTo>
                      <a:pt x="981" y="733"/>
                      <a:pt x="1290" y="494"/>
                      <a:pt x="1360" y="224"/>
                    </a:cubicBezTo>
                    <a:cubicBezTo>
                      <a:pt x="1384" y="247"/>
                      <a:pt x="1401" y="271"/>
                      <a:pt x="1411" y="297"/>
                    </a:cubicBezTo>
                    <a:cubicBezTo>
                      <a:pt x="1396" y="344"/>
                      <a:pt x="1331" y="521"/>
                      <a:pt x="1161" y="641"/>
                    </a:cubicBezTo>
                    <a:cubicBezTo>
                      <a:pt x="1164" y="646"/>
                      <a:pt x="1164" y="646"/>
                      <a:pt x="1164" y="646"/>
                    </a:cubicBezTo>
                    <a:cubicBezTo>
                      <a:pt x="1327" y="531"/>
                      <a:pt x="1395" y="364"/>
                      <a:pt x="1414" y="307"/>
                    </a:cubicBezTo>
                    <a:cubicBezTo>
                      <a:pt x="1420" y="326"/>
                      <a:pt x="1423" y="345"/>
                      <a:pt x="1422" y="365"/>
                    </a:cubicBezTo>
                    <a:cubicBezTo>
                      <a:pt x="1410" y="537"/>
                      <a:pt x="1136" y="702"/>
                      <a:pt x="1133" y="703"/>
                    </a:cubicBezTo>
                    <a:cubicBezTo>
                      <a:pt x="1142" y="721"/>
                      <a:pt x="1142" y="721"/>
                      <a:pt x="1142" y="721"/>
                    </a:cubicBezTo>
                    <a:cubicBezTo>
                      <a:pt x="1214" y="688"/>
                      <a:pt x="1284" y="665"/>
                      <a:pt x="1348" y="653"/>
                    </a:cubicBezTo>
                    <a:cubicBezTo>
                      <a:pt x="1477" y="630"/>
                      <a:pt x="1584" y="652"/>
                      <a:pt x="1648" y="716"/>
                    </a:cubicBezTo>
                    <a:cubicBezTo>
                      <a:pt x="1659" y="727"/>
                      <a:pt x="1669" y="740"/>
                      <a:pt x="1678" y="753"/>
                    </a:cubicBezTo>
                    <a:cubicBezTo>
                      <a:pt x="1603" y="733"/>
                      <a:pt x="1432" y="743"/>
                      <a:pt x="1424" y="743"/>
                    </a:cubicBezTo>
                    <a:cubicBezTo>
                      <a:pt x="1424" y="749"/>
                      <a:pt x="1424" y="749"/>
                      <a:pt x="1424" y="749"/>
                    </a:cubicBezTo>
                    <a:cubicBezTo>
                      <a:pt x="1426" y="749"/>
                      <a:pt x="1613" y="738"/>
                      <a:pt x="1682" y="761"/>
                    </a:cubicBezTo>
                    <a:moveTo>
                      <a:pt x="1717" y="930"/>
                    </a:moveTo>
                    <a:cubicBezTo>
                      <a:pt x="1616" y="902"/>
                      <a:pt x="1036" y="863"/>
                      <a:pt x="947" y="857"/>
                    </a:cubicBezTo>
                    <a:cubicBezTo>
                      <a:pt x="949" y="850"/>
                      <a:pt x="950" y="843"/>
                      <a:pt x="950" y="835"/>
                    </a:cubicBezTo>
                    <a:cubicBezTo>
                      <a:pt x="1029" y="829"/>
                      <a:pt x="1573" y="794"/>
                      <a:pt x="1713" y="849"/>
                    </a:cubicBezTo>
                    <a:cubicBezTo>
                      <a:pt x="1717" y="874"/>
                      <a:pt x="1718" y="901"/>
                      <a:pt x="1717" y="930"/>
                    </a:cubicBezTo>
                    <a:moveTo>
                      <a:pt x="1709" y="994"/>
                    </a:moveTo>
                    <a:cubicBezTo>
                      <a:pt x="1708" y="1000"/>
                      <a:pt x="1706" y="1005"/>
                      <a:pt x="1705" y="1010"/>
                    </a:cubicBezTo>
                    <a:cubicBezTo>
                      <a:pt x="1648" y="1004"/>
                      <a:pt x="1364" y="977"/>
                      <a:pt x="1276" y="960"/>
                    </a:cubicBezTo>
                    <a:cubicBezTo>
                      <a:pt x="1274" y="965"/>
                      <a:pt x="1274" y="965"/>
                      <a:pt x="1274" y="965"/>
                    </a:cubicBezTo>
                    <a:cubicBezTo>
                      <a:pt x="1362" y="982"/>
                      <a:pt x="1645" y="1010"/>
                      <a:pt x="1704" y="1016"/>
                    </a:cubicBezTo>
                    <a:cubicBezTo>
                      <a:pt x="1692" y="1058"/>
                      <a:pt x="1669" y="1088"/>
                      <a:pt x="1635" y="1109"/>
                    </a:cubicBezTo>
                    <a:cubicBezTo>
                      <a:pt x="1570" y="1098"/>
                      <a:pt x="1257" y="1045"/>
                      <a:pt x="1212" y="1024"/>
                    </a:cubicBezTo>
                    <a:cubicBezTo>
                      <a:pt x="1209" y="1029"/>
                      <a:pt x="1209" y="1029"/>
                      <a:pt x="1209" y="1029"/>
                    </a:cubicBezTo>
                    <a:cubicBezTo>
                      <a:pt x="1255" y="1051"/>
                      <a:pt x="1547" y="1101"/>
                      <a:pt x="1626" y="1114"/>
                    </a:cubicBezTo>
                    <a:cubicBezTo>
                      <a:pt x="1608" y="1123"/>
                      <a:pt x="1588" y="1131"/>
                      <a:pt x="1564" y="1135"/>
                    </a:cubicBezTo>
                    <a:cubicBezTo>
                      <a:pt x="1400" y="1165"/>
                      <a:pt x="1148" y="1059"/>
                      <a:pt x="1075" y="1026"/>
                    </a:cubicBezTo>
                    <a:cubicBezTo>
                      <a:pt x="1066" y="1022"/>
                      <a:pt x="1057" y="1018"/>
                      <a:pt x="1048" y="1014"/>
                    </a:cubicBezTo>
                    <a:cubicBezTo>
                      <a:pt x="1040" y="1032"/>
                      <a:pt x="1040" y="1032"/>
                      <a:pt x="1040" y="1032"/>
                    </a:cubicBezTo>
                    <a:cubicBezTo>
                      <a:pt x="1040" y="1032"/>
                      <a:pt x="1049" y="1037"/>
                      <a:pt x="1066" y="1044"/>
                    </a:cubicBezTo>
                    <a:cubicBezTo>
                      <a:pt x="1255" y="1136"/>
                      <a:pt x="1358" y="1258"/>
                      <a:pt x="1349" y="1380"/>
                    </a:cubicBezTo>
                    <a:cubicBezTo>
                      <a:pt x="1347" y="1407"/>
                      <a:pt x="1339" y="1434"/>
                      <a:pt x="1326" y="1459"/>
                    </a:cubicBezTo>
                    <a:cubicBezTo>
                      <a:pt x="1293" y="1420"/>
                      <a:pt x="1163" y="1267"/>
                      <a:pt x="1141" y="1224"/>
                    </a:cubicBezTo>
                    <a:cubicBezTo>
                      <a:pt x="1136" y="1227"/>
                      <a:pt x="1136" y="1227"/>
                      <a:pt x="1136" y="1227"/>
                    </a:cubicBezTo>
                    <a:cubicBezTo>
                      <a:pt x="1159" y="1271"/>
                      <a:pt x="1293" y="1429"/>
                      <a:pt x="1323" y="1465"/>
                    </a:cubicBezTo>
                    <a:cubicBezTo>
                      <a:pt x="1304" y="1500"/>
                      <a:pt x="1275" y="1533"/>
                      <a:pt x="1237" y="1562"/>
                    </a:cubicBezTo>
                    <a:cubicBezTo>
                      <a:pt x="1212" y="1520"/>
                      <a:pt x="1105" y="1342"/>
                      <a:pt x="1098" y="1328"/>
                    </a:cubicBezTo>
                    <a:cubicBezTo>
                      <a:pt x="1093" y="1330"/>
                      <a:pt x="1093" y="1330"/>
                      <a:pt x="1093" y="1330"/>
                    </a:cubicBezTo>
                    <a:cubicBezTo>
                      <a:pt x="1100" y="1345"/>
                      <a:pt x="1207" y="1524"/>
                      <a:pt x="1232" y="1566"/>
                    </a:cubicBezTo>
                    <a:cubicBezTo>
                      <a:pt x="1208" y="1583"/>
                      <a:pt x="1182" y="1599"/>
                      <a:pt x="1152" y="1614"/>
                    </a:cubicBezTo>
                    <a:cubicBezTo>
                      <a:pt x="989" y="1428"/>
                      <a:pt x="895" y="996"/>
                      <a:pt x="882" y="929"/>
                    </a:cubicBezTo>
                    <a:cubicBezTo>
                      <a:pt x="887" y="927"/>
                      <a:pt x="893" y="925"/>
                      <a:pt x="898" y="922"/>
                    </a:cubicBezTo>
                    <a:cubicBezTo>
                      <a:pt x="920" y="968"/>
                      <a:pt x="1017" y="1179"/>
                      <a:pt x="1059" y="1254"/>
                    </a:cubicBezTo>
                    <a:cubicBezTo>
                      <a:pt x="1064" y="1251"/>
                      <a:pt x="1064" y="1251"/>
                      <a:pt x="1064" y="1251"/>
                    </a:cubicBezTo>
                    <a:cubicBezTo>
                      <a:pt x="1022" y="1176"/>
                      <a:pt x="925" y="965"/>
                      <a:pt x="904" y="919"/>
                    </a:cubicBezTo>
                    <a:cubicBezTo>
                      <a:pt x="913" y="914"/>
                      <a:pt x="920" y="907"/>
                      <a:pt x="926" y="899"/>
                    </a:cubicBezTo>
                    <a:cubicBezTo>
                      <a:pt x="964" y="913"/>
                      <a:pt x="1112" y="967"/>
                      <a:pt x="1157" y="971"/>
                    </a:cubicBezTo>
                    <a:cubicBezTo>
                      <a:pt x="1157" y="965"/>
                      <a:pt x="1157" y="965"/>
                      <a:pt x="1157" y="965"/>
                    </a:cubicBezTo>
                    <a:cubicBezTo>
                      <a:pt x="1114" y="961"/>
                      <a:pt x="971" y="909"/>
                      <a:pt x="931" y="894"/>
                    </a:cubicBezTo>
                    <a:cubicBezTo>
                      <a:pt x="937" y="885"/>
                      <a:pt x="942" y="875"/>
                      <a:pt x="946" y="863"/>
                    </a:cubicBezTo>
                    <a:cubicBezTo>
                      <a:pt x="1028" y="869"/>
                      <a:pt x="1623" y="908"/>
                      <a:pt x="1716" y="936"/>
                    </a:cubicBezTo>
                    <a:cubicBezTo>
                      <a:pt x="1715" y="954"/>
                      <a:pt x="1713" y="974"/>
                      <a:pt x="1709" y="994"/>
                    </a:cubicBezTo>
                    <a:moveTo>
                      <a:pt x="986" y="1663"/>
                    </a:moveTo>
                    <a:cubicBezTo>
                      <a:pt x="968" y="1635"/>
                      <a:pt x="910" y="1543"/>
                      <a:pt x="892" y="1460"/>
                    </a:cubicBezTo>
                    <a:cubicBezTo>
                      <a:pt x="886" y="1461"/>
                      <a:pt x="886" y="1461"/>
                      <a:pt x="886" y="1461"/>
                    </a:cubicBezTo>
                    <a:cubicBezTo>
                      <a:pt x="903" y="1542"/>
                      <a:pt x="958" y="1632"/>
                      <a:pt x="979" y="1663"/>
                    </a:cubicBezTo>
                    <a:cubicBezTo>
                      <a:pt x="941" y="1663"/>
                      <a:pt x="909" y="1650"/>
                      <a:pt x="882" y="1625"/>
                    </a:cubicBezTo>
                    <a:cubicBezTo>
                      <a:pt x="767" y="1516"/>
                      <a:pt x="797" y="1203"/>
                      <a:pt x="809" y="1110"/>
                    </a:cubicBezTo>
                    <a:cubicBezTo>
                      <a:pt x="811" y="1099"/>
                      <a:pt x="812" y="1088"/>
                      <a:pt x="814" y="1076"/>
                    </a:cubicBezTo>
                    <a:cubicBezTo>
                      <a:pt x="794" y="1073"/>
                      <a:pt x="794" y="1073"/>
                      <a:pt x="794" y="1073"/>
                    </a:cubicBezTo>
                    <a:cubicBezTo>
                      <a:pt x="794" y="1073"/>
                      <a:pt x="792" y="1086"/>
                      <a:pt x="789" y="1107"/>
                    </a:cubicBezTo>
                    <a:cubicBezTo>
                      <a:pt x="738" y="1449"/>
                      <a:pt x="642" y="1650"/>
                      <a:pt x="519" y="1673"/>
                    </a:cubicBezTo>
                    <a:cubicBezTo>
                      <a:pt x="446" y="1686"/>
                      <a:pt x="365" y="1636"/>
                      <a:pt x="282" y="1527"/>
                    </a:cubicBezTo>
                    <a:cubicBezTo>
                      <a:pt x="337" y="1346"/>
                      <a:pt x="740" y="966"/>
                      <a:pt x="798" y="911"/>
                    </a:cubicBezTo>
                    <a:cubicBezTo>
                      <a:pt x="801" y="914"/>
                      <a:pt x="805" y="917"/>
                      <a:pt x="808" y="919"/>
                    </a:cubicBezTo>
                    <a:cubicBezTo>
                      <a:pt x="759" y="979"/>
                      <a:pt x="475" y="1331"/>
                      <a:pt x="439" y="1436"/>
                    </a:cubicBezTo>
                    <a:cubicBezTo>
                      <a:pt x="444" y="1438"/>
                      <a:pt x="444" y="1438"/>
                      <a:pt x="444" y="1438"/>
                    </a:cubicBezTo>
                    <a:cubicBezTo>
                      <a:pt x="480" y="1334"/>
                      <a:pt x="769" y="977"/>
                      <a:pt x="814" y="922"/>
                    </a:cubicBezTo>
                    <a:cubicBezTo>
                      <a:pt x="818" y="924"/>
                      <a:pt x="822" y="926"/>
                      <a:pt x="827" y="928"/>
                    </a:cubicBezTo>
                    <a:cubicBezTo>
                      <a:pt x="806" y="981"/>
                      <a:pt x="700" y="1244"/>
                      <a:pt x="676" y="1296"/>
                    </a:cubicBezTo>
                    <a:cubicBezTo>
                      <a:pt x="681" y="1299"/>
                      <a:pt x="681" y="1299"/>
                      <a:pt x="681" y="1299"/>
                    </a:cubicBezTo>
                    <a:cubicBezTo>
                      <a:pt x="706" y="1246"/>
                      <a:pt x="812" y="982"/>
                      <a:pt x="833" y="930"/>
                    </a:cubicBezTo>
                    <a:cubicBezTo>
                      <a:pt x="840" y="932"/>
                      <a:pt x="848" y="932"/>
                      <a:pt x="857" y="932"/>
                    </a:cubicBezTo>
                    <a:cubicBezTo>
                      <a:pt x="856" y="993"/>
                      <a:pt x="861" y="1310"/>
                      <a:pt x="1009" y="1564"/>
                    </a:cubicBezTo>
                    <a:cubicBezTo>
                      <a:pt x="1014" y="1561"/>
                      <a:pt x="1014" y="1561"/>
                      <a:pt x="1014" y="1561"/>
                    </a:cubicBezTo>
                    <a:cubicBezTo>
                      <a:pt x="867" y="1308"/>
                      <a:pt x="862" y="991"/>
                      <a:pt x="863" y="932"/>
                    </a:cubicBezTo>
                    <a:cubicBezTo>
                      <a:pt x="866" y="932"/>
                      <a:pt x="870" y="932"/>
                      <a:pt x="873" y="931"/>
                    </a:cubicBezTo>
                    <a:cubicBezTo>
                      <a:pt x="874" y="931"/>
                      <a:pt x="875" y="930"/>
                      <a:pt x="876" y="930"/>
                    </a:cubicBezTo>
                    <a:cubicBezTo>
                      <a:pt x="890" y="1000"/>
                      <a:pt x="984" y="1430"/>
                      <a:pt x="1146" y="1617"/>
                    </a:cubicBezTo>
                    <a:cubicBezTo>
                      <a:pt x="1118" y="1630"/>
                      <a:pt x="1088" y="1641"/>
                      <a:pt x="1055" y="1651"/>
                    </a:cubicBezTo>
                    <a:cubicBezTo>
                      <a:pt x="1031" y="1659"/>
                      <a:pt x="1008" y="1663"/>
                      <a:pt x="986" y="1663"/>
                    </a:cubicBezTo>
                    <a:moveTo>
                      <a:pt x="185" y="1320"/>
                    </a:moveTo>
                    <a:cubicBezTo>
                      <a:pt x="227" y="1273"/>
                      <a:pt x="429" y="1047"/>
                      <a:pt x="511" y="1010"/>
                    </a:cubicBezTo>
                    <a:cubicBezTo>
                      <a:pt x="508" y="1005"/>
                      <a:pt x="508" y="1005"/>
                      <a:pt x="508" y="1005"/>
                    </a:cubicBezTo>
                    <a:cubicBezTo>
                      <a:pt x="427" y="1041"/>
                      <a:pt x="235" y="1255"/>
                      <a:pt x="185" y="1312"/>
                    </a:cubicBezTo>
                    <a:cubicBezTo>
                      <a:pt x="184" y="1286"/>
                      <a:pt x="188" y="1260"/>
                      <a:pt x="197" y="1235"/>
                    </a:cubicBezTo>
                    <a:cubicBezTo>
                      <a:pt x="261" y="1057"/>
                      <a:pt x="549" y="945"/>
                      <a:pt x="669" y="906"/>
                    </a:cubicBezTo>
                    <a:cubicBezTo>
                      <a:pt x="709" y="895"/>
                      <a:pt x="734" y="886"/>
                      <a:pt x="734" y="886"/>
                    </a:cubicBezTo>
                    <a:cubicBezTo>
                      <a:pt x="728" y="867"/>
                      <a:pt x="728" y="867"/>
                      <a:pt x="728" y="867"/>
                    </a:cubicBezTo>
                    <a:cubicBezTo>
                      <a:pt x="727" y="867"/>
                      <a:pt x="703" y="873"/>
                      <a:pt x="664" y="886"/>
                    </a:cubicBezTo>
                    <a:cubicBezTo>
                      <a:pt x="626" y="897"/>
                      <a:pt x="568" y="912"/>
                      <a:pt x="504" y="923"/>
                    </a:cubicBezTo>
                    <a:cubicBezTo>
                      <a:pt x="379" y="946"/>
                      <a:pt x="212" y="960"/>
                      <a:pt x="130" y="896"/>
                    </a:cubicBezTo>
                    <a:cubicBezTo>
                      <a:pt x="98" y="871"/>
                      <a:pt x="77" y="830"/>
                      <a:pt x="68" y="778"/>
                    </a:cubicBezTo>
                    <a:cubicBezTo>
                      <a:pt x="112" y="774"/>
                      <a:pt x="284" y="761"/>
                      <a:pt x="336" y="758"/>
                    </a:cubicBezTo>
                    <a:cubicBezTo>
                      <a:pt x="336" y="752"/>
                      <a:pt x="336" y="752"/>
                      <a:pt x="336" y="752"/>
                    </a:cubicBezTo>
                    <a:cubicBezTo>
                      <a:pt x="283" y="755"/>
                      <a:pt x="110" y="768"/>
                      <a:pt x="66" y="772"/>
                    </a:cubicBezTo>
                    <a:cubicBezTo>
                      <a:pt x="61" y="737"/>
                      <a:pt x="61" y="698"/>
                      <a:pt x="67" y="657"/>
                    </a:cubicBezTo>
                    <a:cubicBezTo>
                      <a:pt x="101" y="647"/>
                      <a:pt x="222" y="610"/>
                      <a:pt x="305" y="611"/>
                    </a:cubicBezTo>
                    <a:cubicBezTo>
                      <a:pt x="306" y="605"/>
                      <a:pt x="306" y="605"/>
                      <a:pt x="306" y="605"/>
                    </a:cubicBezTo>
                    <a:cubicBezTo>
                      <a:pt x="223" y="604"/>
                      <a:pt x="105" y="639"/>
                      <a:pt x="68" y="651"/>
                    </a:cubicBezTo>
                    <a:cubicBezTo>
                      <a:pt x="69" y="644"/>
                      <a:pt x="70" y="636"/>
                      <a:pt x="71" y="629"/>
                    </a:cubicBezTo>
                    <a:cubicBezTo>
                      <a:pt x="79" y="590"/>
                      <a:pt x="92" y="548"/>
                      <a:pt x="110" y="506"/>
                    </a:cubicBezTo>
                    <a:cubicBezTo>
                      <a:pt x="352" y="469"/>
                      <a:pt x="521" y="546"/>
                      <a:pt x="621" y="619"/>
                    </a:cubicBezTo>
                    <a:cubicBezTo>
                      <a:pt x="712" y="685"/>
                      <a:pt x="764" y="758"/>
                      <a:pt x="779" y="782"/>
                    </a:cubicBezTo>
                    <a:cubicBezTo>
                      <a:pt x="773" y="791"/>
                      <a:pt x="768" y="800"/>
                      <a:pt x="766" y="811"/>
                    </a:cubicBezTo>
                    <a:cubicBezTo>
                      <a:pt x="747" y="793"/>
                      <a:pt x="705" y="752"/>
                      <a:pt x="648" y="712"/>
                    </a:cubicBezTo>
                    <a:cubicBezTo>
                      <a:pt x="578" y="662"/>
                      <a:pt x="470" y="603"/>
                      <a:pt x="360" y="602"/>
                    </a:cubicBezTo>
                    <a:cubicBezTo>
                      <a:pt x="359" y="609"/>
                      <a:pt x="359" y="609"/>
                      <a:pt x="359" y="609"/>
                    </a:cubicBezTo>
                    <a:cubicBezTo>
                      <a:pt x="547" y="609"/>
                      <a:pt x="727" y="781"/>
                      <a:pt x="764" y="818"/>
                    </a:cubicBezTo>
                    <a:cubicBezTo>
                      <a:pt x="763" y="823"/>
                      <a:pt x="763" y="828"/>
                      <a:pt x="762" y="833"/>
                    </a:cubicBezTo>
                    <a:cubicBezTo>
                      <a:pt x="715" y="816"/>
                      <a:pt x="525" y="749"/>
                      <a:pt x="397" y="749"/>
                    </a:cubicBezTo>
                    <a:cubicBezTo>
                      <a:pt x="397" y="756"/>
                      <a:pt x="397" y="756"/>
                      <a:pt x="397" y="756"/>
                    </a:cubicBezTo>
                    <a:cubicBezTo>
                      <a:pt x="527" y="756"/>
                      <a:pt x="719" y="824"/>
                      <a:pt x="762" y="840"/>
                    </a:cubicBezTo>
                    <a:cubicBezTo>
                      <a:pt x="762" y="841"/>
                      <a:pt x="762" y="841"/>
                      <a:pt x="762" y="841"/>
                    </a:cubicBezTo>
                    <a:cubicBezTo>
                      <a:pt x="763" y="844"/>
                      <a:pt x="763" y="848"/>
                      <a:pt x="763" y="851"/>
                    </a:cubicBezTo>
                    <a:cubicBezTo>
                      <a:pt x="695" y="865"/>
                      <a:pt x="281" y="940"/>
                      <a:pt x="147" y="873"/>
                    </a:cubicBezTo>
                    <a:cubicBezTo>
                      <a:pt x="144" y="878"/>
                      <a:pt x="144" y="878"/>
                      <a:pt x="144" y="878"/>
                    </a:cubicBezTo>
                    <a:cubicBezTo>
                      <a:pt x="269" y="941"/>
                      <a:pt x="621" y="884"/>
                      <a:pt x="737" y="862"/>
                    </a:cubicBezTo>
                    <a:cubicBezTo>
                      <a:pt x="749" y="860"/>
                      <a:pt x="758" y="859"/>
                      <a:pt x="765" y="857"/>
                    </a:cubicBezTo>
                    <a:cubicBezTo>
                      <a:pt x="767" y="870"/>
                      <a:pt x="773" y="882"/>
                      <a:pt x="780" y="892"/>
                    </a:cubicBezTo>
                    <a:cubicBezTo>
                      <a:pt x="478" y="1085"/>
                      <a:pt x="256" y="1362"/>
                      <a:pt x="212" y="1419"/>
                    </a:cubicBezTo>
                    <a:cubicBezTo>
                      <a:pt x="196" y="1385"/>
                      <a:pt x="187" y="1353"/>
                      <a:pt x="185" y="1320"/>
                    </a:cubicBezTo>
                    <a:moveTo>
                      <a:pt x="329" y="256"/>
                    </a:moveTo>
                    <a:cubicBezTo>
                      <a:pt x="384" y="270"/>
                      <a:pt x="628" y="335"/>
                      <a:pt x="692" y="465"/>
                    </a:cubicBezTo>
                    <a:cubicBezTo>
                      <a:pt x="697" y="462"/>
                      <a:pt x="697" y="462"/>
                      <a:pt x="697" y="462"/>
                    </a:cubicBezTo>
                    <a:cubicBezTo>
                      <a:pt x="635" y="335"/>
                      <a:pt x="403" y="269"/>
                      <a:pt x="337" y="252"/>
                    </a:cubicBezTo>
                    <a:cubicBezTo>
                      <a:pt x="364" y="238"/>
                      <a:pt x="392" y="226"/>
                      <a:pt x="423" y="217"/>
                    </a:cubicBezTo>
                    <a:cubicBezTo>
                      <a:pt x="445" y="210"/>
                      <a:pt x="467" y="207"/>
                      <a:pt x="487" y="207"/>
                    </a:cubicBezTo>
                    <a:cubicBezTo>
                      <a:pt x="517" y="223"/>
                      <a:pt x="587" y="264"/>
                      <a:pt x="624" y="316"/>
                    </a:cubicBezTo>
                    <a:cubicBezTo>
                      <a:pt x="629" y="313"/>
                      <a:pt x="629" y="313"/>
                      <a:pt x="629" y="313"/>
                    </a:cubicBezTo>
                    <a:cubicBezTo>
                      <a:pt x="595" y="265"/>
                      <a:pt x="535" y="227"/>
                      <a:pt x="501" y="208"/>
                    </a:cubicBezTo>
                    <a:cubicBezTo>
                      <a:pt x="536" y="210"/>
                      <a:pt x="569" y="222"/>
                      <a:pt x="600" y="243"/>
                    </a:cubicBezTo>
                    <a:cubicBezTo>
                      <a:pt x="732" y="338"/>
                      <a:pt x="770" y="586"/>
                      <a:pt x="771" y="588"/>
                    </a:cubicBezTo>
                    <a:cubicBezTo>
                      <a:pt x="791" y="586"/>
                      <a:pt x="791" y="586"/>
                      <a:pt x="791" y="586"/>
                    </a:cubicBezTo>
                    <a:cubicBezTo>
                      <a:pt x="769" y="309"/>
                      <a:pt x="816" y="137"/>
                      <a:pt x="929" y="81"/>
                    </a:cubicBezTo>
                    <a:cubicBezTo>
                      <a:pt x="907" y="115"/>
                      <a:pt x="863" y="185"/>
                      <a:pt x="859" y="214"/>
                    </a:cubicBezTo>
                    <a:cubicBezTo>
                      <a:pt x="865" y="214"/>
                      <a:pt x="865" y="214"/>
                      <a:pt x="865" y="214"/>
                    </a:cubicBezTo>
                    <a:cubicBezTo>
                      <a:pt x="869" y="185"/>
                      <a:pt x="920" y="106"/>
                      <a:pt x="939" y="76"/>
                    </a:cubicBezTo>
                    <a:cubicBezTo>
                      <a:pt x="951" y="71"/>
                      <a:pt x="964" y="68"/>
                      <a:pt x="978" y="65"/>
                    </a:cubicBezTo>
                    <a:cubicBezTo>
                      <a:pt x="1009" y="59"/>
                      <a:pt x="1044" y="61"/>
                      <a:pt x="1081" y="69"/>
                    </a:cubicBezTo>
                    <a:cubicBezTo>
                      <a:pt x="1015" y="226"/>
                      <a:pt x="1015" y="226"/>
                      <a:pt x="1015" y="226"/>
                    </a:cubicBezTo>
                    <a:cubicBezTo>
                      <a:pt x="1021" y="228"/>
                      <a:pt x="1021" y="228"/>
                      <a:pt x="1021" y="228"/>
                    </a:cubicBezTo>
                    <a:cubicBezTo>
                      <a:pt x="1087" y="70"/>
                      <a:pt x="1087" y="70"/>
                      <a:pt x="1087" y="70"/>
                    </a:cubicBezTo>
                    <a:cubicBezTo>
                      <a:pt x="1131" y="81"/>
                      <a:pt x="1179" y="101"/>
                      <a:pt x="1229" y="129"/>
                    </a:cubicBezTo>
                    <a:cubicBezTo>
                      <a:pt x="1216" y="266"/>
                      <a:pt x="1127" y="427"/>
                      <a:pt x="1054" y="539"/>
                    </a:cubicBezTo>
                    <a:cubicBezTo>
                      <a:pt x="986" y="644"/>
                      <a:pt x="919" y="727"/>
                      <a:pt x="899" y="751"/>
                    </a:cubicBezTo>
                    <a:cubicBezTo>
                      <a:pt x="887" y="744"/>
                      <a:pt x="873" y="741"/>
                      <a:pt x="858" y="740"/>
                    </a:cubicBezTo>
                    <a:cubicBezTo>
                      <a:pt x="872" y="688"/>
                      <a:pt x="936" y="457"/>
                      <a:pt x="992" y="324"/>
                    </a:cubicBezTo>
                    <a:cubicBezTo>
                      <a:pt x="986" y="322"/>
                      <a:pt x="986" y="322"/>
                      <a:pt x="986" y="322"/>
                    </a:cubicBezTo>
                    <a:cubicBezTo>
                      <a:pt x="929" y="457"/>
                      <a:pt x="865" y="691"/>
                      <a:pt x="852" y="740"/>
                    </a:cubicBezTo>
                    <a:cubicBezTo>
                      <a:pt x="852" y="740"/>
                      <a:pt x="852" y="740"/>
                      <a:pt x="852" y="740"/>
                    </a:cubicBezTo>
                    <a:cubicBezTo>
                      <a:pt x="847" y="740"/>
                      <a:pt x="842" y="741"/>
                      <a:pt x="837" y="742"/>
                    </a:cubicBezTo>
                    <a:cubicBezTo>
                      <a:pt x="831" y="694"/>
                      <a:pt x="807" y="478"/>
                      <a:pt x="847" y="269"/>
                    </a:cubicBezTo>
                    <a:cubicBezTo>
                      <a:pt x="841" y="268"/>
                      <a:pt x="841" y="268"/>
                      <a:pt x="841" y="268"/>
                    </a:cubicBezTo>
                    <a:cubicBezTo>
                      <a:pt x="800" y="478"/>
                      <a:pt x="825" y="696"/>
                      <a:pt x="831" y="743"/>
                    </a:cubicBezTo>
                    <a:cubicBezTo>
                      <a:pt x="826" y="745"/>
                      <a:pt x="821" y="747"/>
                      <a:pt x="816" y="749"/>
                    </a:cubicBezTo>
                    <a:cubicBezTo>
                      <a:pt x="800" y="720"/>
                      <a:pt x="741" y="623"/>
                      <a:pt x="647" y="537"/>
                    </a:cubicBezTo>
                    <a:cubicBezTo>
                      <a:pt x="546" y="445"/>
                      <a:pt x="383" y="347"/>
                      <a:pt x="176" y="393"/>
                    </a:cubicBezTo>
                    <a:cubicBezTo>
                      <a:pt x="216" y="339"/>
                      <a:pt x="267" y="291"/>
                      <a:pt x="329" y="256"/>
                    </a:cubicBezTo>
                    <a:moveTo>
                      <a:pt x="795" y="878"/>
                    </a:moveTo>
                    <a:cubicBezTo>
                      <a:pt x="788" y="867"/>
                      <a:pt x="783" y="854"/>
                      <a:pt x="783" y="840"/>
                    </a:cubicBezTo>
                    <a:cubicBezTo>
                      <a:pt x="782" y="817"/>
                      <a:pt x="790" y="796"/>
                      <a:pt x="805" y="782"/>
                    </a:cubicBezTo>
                    <a:cubicBezTo>
                      <a:pt x="814" y="776"/>
                      <a:pt x="825" y="770"/>
                      <a:pt x="837" y="768"/>
                    </a:cubicBezTo>
                    <a:cubicBezTo>
                      <a:pt x="838" y="768"/>
                      <a:pt x="838" y="768"/>
                      <a:pt x="838" y="768"/>
                    </a:cubicBezTo>
                    <a:cubicBezTo>
                      <a:pt x="860" y="764"/>
                      <a:pt x="884" y="770"/>
                      <a:pt x="909" y="784"/>
                    </a:cubicBezTo>
                    <a:cubicBezTo>
                      <a:pt x="921" y="797"/>
                      <a:pt x="929" y="814"/>
                      <a:pt x="929" y="833"/>
                    </a:cubicBezTo>
                    <a:cubicBezTo>
                      <a:pt x="931" y="874"/>
                      <a:pt x="900" y="910"/>
                      <a:pt x="859" y="912"/>
                    </a:cubicBezTo>
                    <a:cubicBezTo>
                      <a:pt x="853" y="913"/>
                      <a:pt x="846" y="912"/>
                      <a:pt x="840" y="910"/>
                    </a:cubicBezTo>
                    <a:cubicBezTo>
                      <a:pt x="832" y="901"/>
                      <a:pt x="817" y="888"/>
                      <a:pt x="795" y="878"/>
                    </a:cubicBezTo>
                    <a:moveTo>
                      <a:pt x="827" y="905"/>
                    </a:moveTo>
                    <a:cubicBezTo>
                      <a:pt x="818" y="902"/>
                      <a:pt x="810" y="896"/>
                      <a:pt x="804" y="889"/>
                    </a:cubicBezTo>
                    <a:cubicBezTo>
                      <a:pt x="813" y="895"/>
                      <a:pt x="821" y="900"/>
                      <a:pt x="827" y="905"/>
                    </a:cubicBezTo>
                    <a:moveTo>
                      <a:pt x="850" y="761"/>
                    </a:moveTo>
                    <a:cubicBezTo>
                      <a:pt x="851" y="761"/>
                      <a:pt x="852" y="760"/>
                      <a:pt x="853" y="760"/>
                    </a:cubicBezTo>
                    <a:cubicBezTo>
                      <a:pt x="863" y="760"/>
                      <a:pt x="873" y="762"/>
                      <a:pt x="882" y="765"/>
                    </a:cubicBezTo>
                    <a:cubicBezTo>
                      <a:pt x="871" y="762"/>
                      <a:pt x="860" y="760"/>
                      <a:pt x="850" y="761"/>
                    </a:cubicBezTo>
                    <a:moveTo>
                      <a:pt x="904" y="754"/>
                    </a:moveTo>
                    <a:cubicBezTo>
                      <a:pt x="925" y="729"/>
                      <a:pt x="992" y="647"/>
                      <a:pt x="1059" y="543"/>
                    </a:cubicBezTo>
                    <a:cubicBezTo>
                      <a:pt x="1132" y="430"/>
                      <a:pt x="1220" y="269"/>
                      <a:pt x="1234" y="133"/>
                    </a:cubicBezTo>
                    <a:cubicBezTo>
                      <a:pt x="1268" y="152"/>
                      <a:pt x="1302" y="176"/>
                      <a:pt x="1336" y="203"/>
                    </a:cubicBezTo>
                    <a:cubicBezTo>
                      <a:pt x="1343" y="208"/>
                      <a:pt x="1349" y="213"/>
                      <a:pt x="1355" y="219"/>
                    </a:cubicBezTo>
                    <a:cubicBezTo>
                      <a:pt x="1287" y="489"/>
                      <a:pt x="975" y="730"/>
                      <a:pt x="923" y="769"/>
                    </a:cubicBezTo>
                    <a:cubicBezTo>
                      <a:pt x="917" y="763"/>
                      <a:pt x="911" y="758"/>
                      <a:pt x="904" y="754"/>
                    </a:cubicBezTo>
                    <a:moveTo>
                      <a:pt x="171" y="400"/>
                    </a:moveTo>
                    <a:cubicBezTo>
                      <a:pt x="379" y="351"/>
                      <a:pt x="542" y="449"/>
                      <a:pt x="642" y="541"/>
                    </a:cubicBezTo>
                    <a:cubicBezTo>
                      <a:pt x="736" y="627"/>
                      <a:pt x="794" y="723"/>
                      <a:pt x="811" y="752"/>
                    </a:cubicBezTo>
                    <a:cubicBezTo>
                      <a:pt x="800" y="758"/>
                      <a:pt x="790" y="767"/>
                      <a:pt x="783" y="776"/>
                    </a:cubicBezTo>
                    <a:cubicBezTo>
                      <a:pt x="766" y="750"/>
                      <a:pt x="714" y="679"/>
                      <a:pt x="625" y="614"/>
                    </a:cubicBezTo>
                    <a:cubicBezTo>
                      <a:pt x="525" y="541"/>
                      <a:pt x="355" y="463"/>
                      <a:pt x="113" y="499"/>
                    </a:cubicBezTo>
                    <a:cubicBezTo>
                      <a:pt x="129" y="466"/>
                      <a:pt x="148" y="432"/>
                      <a:pt x="171" y="400"/>
                    </a:cubicBezTo>
                    <a:moveTo>
                      <a:pt x="783" y="897"/>
                    </a:moveTo>
                    <a:cubicBezTo>
                      <a:pt x="786" y="900"/>
                      <a:pt x="790" y="904"/>
                      <a:pt x="793" y="908"/>
                    </a:cubicBezTo>
                    <a:cubicBezTo>
                      <a:pt x="734" y="963"/>
                      <a:pt x="338" y="1338"/>
                      <a:pt x="277" y="1521"/>
                    </a:cubicBezTo>
                    <a:cubicBezTo>
                      <a:pt x="262" y="1501"/>
                      <a:pt x="247" y="1479"/>
                      <a:pt x="232" y="1455"/>
                    </a:cubicBezTo>
                    <a:cubicBezTo>
                      <a:pt x="226" y="1445"/>
                      <a:pt x="220" y="1435"/>
                      <a:pt x="215" y="1425"/>
                    </a:cubicBezTo>
                    <a:cubicBezTo>
                      <a:pt x="253" y="1375"/>
                      <a:pt x="477" y="1093"/>
                      <a:pt x="783" y="897"/>
                    </a:cubicBezTo>
                    <a:moveTo>
                      <a:pt x="980" y="25"/>
                    </a:moveTo>
                    <a:cubicBezTo>
                      <a:pt x="1082" y="6"/>
                      <a:pt x="1217" y="58"/>
                      <a:pt x="1359" y="170"/>
                    </a:cubicBezTo>
                    <a:cubicBezTo>
                      <a:pt x="1424" y="221"/>
                      <a:pt x="1455" y="280"/>
                      <a:pt x="1451" y="345"/>
                    </a:cubicBezTo>
                    <a:cubicBezTo>
                      <a:pt x="1449" y="371"/>
                      <a:pt x="1441" y="397"/>
                      <a:pt x="1430" y="423"/>
                    </a:cubicBezTo>
                    <a:cubicBezTo>
                      <a:pt x="1436" y="404"/>
                      <a:pt x="1441" y="385"/>
                      <a:pt x="1442" y="366"/>
                    </a:cubicBezTo>
                    <a:cubicBezTo>
                      <a:pt x="1446" y="299"/>
                      <a:pt x="1415" y="239"/>
                      <a:pt x="1349" y="187"/>
                    </a:cubicBezTo>
                    <a:cubicBezTo>
                      <a:pt x="1209" y="77"/>
                      <a:pt x="1076" y="27"/>
                      <a:pt x="974" y="45"/>
                    </a:cubicBezTo>
                    <a:cubicBezTo>
                      <a:pt x="915" y="56"/>
                      <a:pt x="852" y="92"/>
                      <a:pt x="811" y="186"/>
                    </a:cubicBezTo>
                    <a:cubicBezTo>
                      <a:pt x="851" y="77"/>
                      <a:pt x="918" y="37"/>
                      <a:pt x="980" y="25"/>
                    </a:cubicBezTo>
                    <a:moveTo>
                      <a:pt x="94" y="903"/>
                    </a:moveTo>
                    <a:cubicBezTo>
                      <a:pt x="31" y="854"/>
                      <a:pt x="6" y="745"/>
                      <a:pt x="31" y="618"/>
                    </a:cubicBezTo>
                    <a:cubicBezTo>
                      <a:pt x="61" y="458"/>
                      <a:pt x="177" y="248"/>
                      <a:pt x="402" y="183"/>
                    </a:cubicBezTo>
                    <a:cubicBezTo>
                      <a:pt x="473" y="163"/>
                      <a:pt x="537" y="172"/>
                      <a:pt x="592" y="212"/>
                    </a:cubicBezTo>
                    <a:cubicBezTo>
                      <a:pt x="598" y="216"/>
                      <a:pt x="604" y="221"/>
                      <a:pt x="609" y="226"/>
                    </a:cubicBezTo>
                    <a:cubicBezTo>
                      <a:pt x="553" y="186"/>
                      <a:pt x="489" y="177"/>
                      <a:pt x="417" y="197"/>
                    </a:cubicBezTo>
                    <a:cubicBezTo>
                      <a:pt x="196" y="262"/>
                      <a:pt x="82" y="468"/>
                      <a:pt x="51" y="625"/>
                    </a:cubicBezTo>
                    <a:cubicBezTo>
                      <a:pt x="27" y="752"/>
                      <a:pt x="52" y="862"/>
                      <a:pt x="117" y="912"/>
                    </a:cubicBezTo>
                    <a:cubicBezTo>
                      <a:pt x="128" y="921"/>
                      <a:pt x="140" y="928"/>
                      <a:pt x="154" y="934"/>
                    </a:cubicBezTo>
                    <a:cubicBezTo>
                      <a:pt x="131" y="927"/>
                      <a:pt x="111" y="917"/>
                      <a:pt x="94" y="903"/>
                    </a:cubicBezTo>
                    <a:moveTo>
                      <a:pt x="506" y="1713"/>
                    </a:moveTo>
                    <a:cubicBezTo>
                      <a:pt x="411" y="1730"/>
                      <a:pt x="305" y="1651"/>
                      <a:pt x="199" y="1483"/>
                    </a:cubicBezTo>
                    <a:cubicBezTo>
                      <a:pt x="148" y="1401"/>
                      <a:pt x="135" y="1322"/>
                      <a:pt x="162" y="1248"/>
                    </a:cubicBezTo>
                    <a:cubicBezTo>
                      <a:pt x="175" y="1210"/>
                      <a:pt x="198" y="1175"/>
                      <a:pt x="227" y="1144"/>
                    </a:cubicBezTo>
                    <a:cubicBezTo>
                      <a:pt x="206" y="1170"/>
                      <a:pt x="189" y="1198"/>
                      <a:pt x="178" y="1228"/>
                    </a:cubicBezTo>
                    <a:cubicBezTo>
                      <a:pt x="151" y="1304"/>
                      <a:pt x="163" y="1384"/>
                      <a:pt x="215" y="1466"/>
                    </a:cubicBezTo>
                    <a:cubicBezTo>
                      <a:pt x="320" y="1632"/>
                      <a:pt x="427" y="1710"/>
                      <a:pt x="523" y="1693"/>
                    </a:cubicBezTo>
                    <a:cubicBezTo>
                      <a:pt x="555" y="1687"/>
                      <a:pt x="584" y="1671"/>
                      <a:pt x="611" y="1646"/>
                    </a:cubicBezTo>
                    <a:cubicBezTo>
                      <a:pt x="579" y="1683"/>
                      <a:pt x="543" y="1706"/>
                      <a:pt x="506" y="1713"/>
                    </a:cubicBezTo>
                    <a:moveTo>
                      <a:pt x="1375" y="1401"/>
                    </a:moveTo>
                    <a:cubicBezTo>
                      <a:pt x="1366" y="1525"/>
                      <a:pt x="1249" y="1634"/>
                      <a:pt x="1064" y="1690"/>
                    </a:cubicBezTo>
                    <a:cubicBezTo>
                      <a:pt x="986" y="1714"/>
                      <a:pt x="923" y="1705"/>
                      <a:pt x="877" y="1661"/>
                    </a:cubicBezTo>
                    <a:cubicBezTo>
                      <a:pt x="853" y="1639"/>
                      <a:pt x="835" y="1608"/>
                      <a:pt x="821" y="1573"/>
                    </a:cubicBezTo>
                    <a:cubicBezTo>
                      <a:pt x="834" y="1599"/>
                      <a:pt x="849" y="1622"/>
                      <a:pt x="869" y="1640"/>
                    </a:cubicBezTo>
                    <a:cubicBezTo>
                      <a:pt x="909" y="1678"/>
                      <a:pt x="961" y="1691"/>
                      <a:pt x="1025" y="1680"/>
                    </a:cubicBezTo>
                    <a:cubicBezTo>
                      <a:pt x="1037" y="1677"/>
                      <a:pt x="1049" y="1674"/>
                      <a:pt x="1061" y="1671"/>
                    </a:cubicBezTo>
                    <a:cubicBezTo>
                      <a:pt x="1245" y="1614"/>
                      <a:pt x="1360" y="1506"/>
                      <a:pt x="1369" y="1381"/>
                    </a:cubicBezTo>
                    <a:cubicBezTo>
                      <a:pt x="1371" y="1359"/>
                      <a:pt x="1369" y="1337"/>
                      <a:pt x="1364" y="1315"/>
                    </a:cubicBezTo>
                    <a:cubicBezTo>
                      <a:pt x="1373" y="1344"/>
                      <a:pt x="1377" y="1373"/>
                      <a:pt x="1375" y="1401"/>
                    </a:cubicBezTo>
                    <a:moveTo>
                      <a:pt x="1750" y="1000"/>
                    </a:moveTo>
                    <a:cubicBezTo>
                      <a:pt x="1734" y="1085"/>
                      <a:pt x="1682" y="1137"/>
                      <a:pt x="1593" y="1153"/>
                    </a:cubicBezTo>
                    <a:cubicBezTo>
                      <a:pt x="1576" y="1156"/>
                      <a:pt x="1558" y="1158"/>
                      <a:pt x="1540" y="1159"/>
                    </a:cubicBezTo>
                    <a:cubicBezTo>
                      <a:pt x="1550" y="1158"/>
                      <a:pt x="1559" y="1156"/>
                      <a:pt x="1568" y="1155"/>
                    </a:cubicBezTo>
                    <a:cubicBezTo>
                      <a:pt x="1659" y="1138"/>
                      <a:pt x="1713" y="1085"/>
                      <a:pt x="1729" y="998"/>
                    </a:cubicBezTo>
                    <a:cubicBezTo>
                      <a:pt x="1752" y="870"/>
                      <a:pt x="1729" y="768"/>
                      <a:pt x="1662" y="702"/>
                    </a:cubicBezTo>
                    <a:cubicBezTo>
                      <a:pt x="1627" y="666"/>
                      <a:pt x="1579" y="642"/>
                      <a:pt x="1522" y="631"/>
                    </a:cubicBezTo>
                    <a:cubicBezTo>
                      <a:pt x="1589" y="640"/>
                      <a:pt x="1644" y="665"/>
                      <a:pt x="1684" y="704"/>
                    </a:cubicBezTo>
                    <a:cubicBezTo>
                      <a:pt x="1750" y="770"/>
                      <a:pt x="1773" y="872"/>
                      <a:pt x="1750" y="100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1" name="Freeform 7"/>
              <p:cNvSpPr/>
              <p:nvPr/>
            </p:nvSpPr>
            <p:spPr>
              <a:xfrm>
                <a:off x="8892720" y="208080"/>
                <a:ext cx="27720" cy="284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3" h="117">
                    <a:moveTo>
                      <a:pt x="67" y="115"/>
                    </a:moveTo>
                    <a:cubicBezTo>
                      <a:pt x="83" y="112"/>
                      <a:pt x="96" y="102"/>
                      <a:pt x="104" y="89"/>
                    </a:cubicBezTo>
                    <a:cubicBezTo>
                      <a:pt x="105" y="88"/>
                      <a:pt x="105" y="88"/>
                      <a:pt x="106" y="87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0" y="78"/>
                      <a:pt x="113" y="68"/>
                      <a:pt x="112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2" y="57"/>
                      <a:pt x="113" y="56"/>
                      <a:pt x="113" y="56"/>
                    </a:cubicBezTo>
                    <a:cubicBezTo>
                      <a:pt x="112" y="40"/>
                      <a:pt x="105" y="26"/>
                      <a:pt x="94" y="16"/>
                    </a:cubicBezTo>
                    <a:cubicBezTo>
                      <a:pt x="83" y="6"/>
                      <a:pt x="69" y="0"/>
                      <a:pt x="54" y="1"/>
                    </a:cubicBezTo>
                    <a:cubicBezTo>
                      <a:pt x="52" y="1"/>
                      <a:pt x="49" y="1"/>
                      <a:pt x="47" y="2"/>
                    </a:cubicBezTo>
                    <a:cubicBezTo>
                      <a:pt x="20" y="7"/>
                      <a:pt x="0" y="32"/>
                      <a:pt x="1" y="61"/>
                    </a:cubicBezTo>
                    <a:cubicBezTo>
                      <a:pt x="2" y="65"/>
                      <a:pt x="2" y="69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10" y="99"/>
                      <a:pt x="33" y="117"/>
                      <a:pt x="60" y="116"/>
                    </a:cubicBezTo>
                    <a:cubicBezTo>
                      <a:pt x="62" y="115"/>
                      <a:pt x="65" y="115"/>
                      <a:pt x="67" y="115"/>
                    </a:cubicBezTo>
                    <a:moveTo>
                      <a:pt x="48" y="6"/>
                    </a:moveTo>
                    <a:cubicBezTo>
                      <a:pt x="50" y="5"/>
                      <a:pt x="52" y="5"/>
                      <a:pt x="55" y="5"/>
                    </a:cubicBezTo>
                    <a:cubicBezTo>
                      <a:pt x="68" y="4"/>
                      <a:pt x="82" y="9"/>
                      <a:pt x="92" y="19"/>
                    </a:cubicBezTo>
                    <a:cubicBezTo>
                      <a:pt x="102" y="28"/>
                      <a:pt x="107" y="40"/>
                      <a:pt x="108" y="54"/>
                    </a:cubicBezTo>
                    <a:cubicBezTo>
                      <a:pt x="100" y="61"/>
                      <a:pt x="86" y="61"/>
                      <a:pt x="71" y="57"/>
                    </a:cubicBezTo>
                    <a:cubicBezTo>
                      <a:pt x="66" y="38"/>
                      <a:pt x="43" y="17"/>
                      <a:pt x="35" y="10"/>
                    </a:cubicBezTo>
                    <a:cubicBezTo>
                      <a:pt x="39" y="8"/>
                      <a:pt x="43" y="7"/>
                      <a:pt x="48" y="6"/>
                    </a:cubicBezTo>
                    <a:moveTo>
                      <a:pt x="30" y="13"/>
                    </a:moveTo>
                    <a:cubicBezTo>
                      <a:pt x="32" y="15"/>
                      <a:pt x="57" y="36"/>
                      <a:pt x="64" y="55"/>
                    </a:cubicBezTo>
                    <a:cubicBezTo>
                      <a:pt x="41" y="48"/>
                      <a:pt x="18" y="35"/>
                      <a:pt x="12" y="32"/>
                    </a:cubicBezTo>
                    <a:cubicBezTo>
                      <a:pt x="16" y="24"/>
                      <a:pt x="22" y="18"/>
                      <a:pt x="30" y="13"/>
                    </a:cubicBezTo>
                    <a:moveTo>
                      <a:pt x="6" y="68"/>
                    </a:moveTo>
                    <a:cubicBezTo>
                      <a:pt x="6" y="66"/>
                      <a:pt x="5" y="63"/>
                      <a:pt x="5" y="61"/>
                    </a:cubicBezTo>
                    <a:cubicBezTo>
                      <a:pt x="5" y="53"/>
                      <a:pt x="7" y="45"/>
                      <a:pt x="9" y="38"/>
                    </a:cubicBezTo>
                    <a:cubicBezTo>
                      <a:pt x="20" y="44"/>
                      <a:pt x="68" y="70"/>
                      <a:pt x="98" y="65"/>
                    </a:cubicBezTo>
                    <a:cubicBezTo>
                      <a:pt x="102" y="64"/>
                      <a:pt x="105" y="63"/>
                      <a:pt x="108" y="61"/>
                    </a:cubicBezTo>
                    <a:cubicBezTo>
                      <a:pt x="108" y="69"/>
                      <a:pt x="106" y="77"/>
                      <a:pt x="103" y="83"/>
                    </a:cubicBezTo>
                    <a:cubicBezTo>
                      <a:pt x="102" y="83"/>
                      <a:pt x="102" y="83"/>
                      <a:pt x="102" y="83"/>
                    </a:cubicBezTo>
                    <a:cubicBezTo>
                      <a:pt x="68" y="111"/>
                      <a:pt x="7" y="69"/>
                      <a:pt x="7" y="68"/>
                    </a:cubicBezTo>
                    <a:cubicBezTo>
                      <a:pt x="6" y="68"/>
                      <a:pt x="6" y="68"/>
                      <a:pt x="6" y="68"/>
                    </a:cubicBezTo>
                    <a:moveTo>
                      <a:pt x="9" y="77"/>
                    </a:moveTo>
                    <a:cubicBezTo>
                      <a:pt x="22" y="85"/>
                      <a:pt x="54" y="103"/>
                      <a:pt x="83" y="98"/>
                    </a:cubicBezTo>
                    <a:cubicBezTo>
                      <a:pt x="87" y="97"/>
                      <a:pt x="91" y="96"/>
                      <a:pt x="95" y="94"/>
                    </a:cubicBezTo>
                    <a:cubicBezTo>
                      <a:pt x="88" y="103"/>
                      <a:pt x="78" y="109"/>
                      <a:pt x="66" y="111"/>
                    </a:cubicBezTo>
                    <a:cubicBezTo>
                      <a:pt x="64" y="111"/>
                      <a:pt x="62" y="112"/>
                      <a:pt x="59" y="112"/>
                    </a:cubicBezTo>
                    <a:cubicBezTo>
                      <a:pt x="36" y="113"/>
                      <a:pt x="16" y="98"/>
                      <a:pt x="9" y="77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2" name="Freeform 8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" name="Freeform 9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7" name="Freeform 13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19" y="125"/>
                    </a:move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1" name="Freeform 21"/>
              <p:cNvSpPr/>
              <p:nvPr/>
            </p:nvSpPr>
            <p:spPr>
              <a:xfrm>
                <a:off x="8892720" y="208440"/>
                <a:ext cx="27720" cy="28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3" h="115">
                    <a:moveTo>
                      <a:pt x="57" y="111"/>
                    </a:moveTo>
                    <a:cubicBezTo>
                      <a:pt x="35" y="111"/>
                      <a:pt x="16" y="96"/>
                      <a:pt x="9" y="76"/>
                    </a:cubicBezTo>
                    <a:cubicBezTo>
                      <a:pt x="20" y="83"/>
                      <a:pt x="46" y="98"/>
                      <a:pt x="72" y="98"/>
                    </a:cubicBezTo>
                    <a:cubicBezTo>
                      <a:pt x="76" y="98"/>
                      <a:pt x="80" y="97"/>
                      <a:pt x="83" y="97"/>
                    </a:cubicBezTo>
                    <a:cubicBezTo>
                      <a:pt x="87" y="96"/>
                      <a:pt x="91" y="95"/>
                      <a:pt x="95" y="93"/>
                    </a:cubicBezTo>
                    <a:cubicBezTo>
                      <a:pt x="88" y="102"/>
                      <a:pt x="78" y="108"/>
                      <a:pt x="66" y="110"/>
                    </a:cubicBezTo>
                    <a:cubicBezTo>
                      <a:pt x="64" y="110"/>
                      <a:pt x="62" y="111"/>
                      <a:pt x="59" y="111"/>
                    </a:cubicBezTo>
                    <a:cubicBezTo>
                      <a:pt x="59" y="111"/>
                      <a:pt x="58" y="111"/>
                      <a:pt x="57" y="111"/>
                    </a:cubicBezTo>
                    <a:moveTo>
                      <a:pt x="6" y="67"/>
                    </a:moveTo>
                    <a:cubicBezTo>
                      <a:pt x="6" y="65"/>
                      <a:pt x="5" y="62"/>
                      <a:pt x="5" y="60"/>
                    </a:cubicBezTo>
                    <a:cubicBezTo>
                      <a:pt x="5" y="52"/>
                      <a:pt x="7" y="44"/>
                      <a:pt x="9" y="37"/>
                    </a:cubicBezTo>
                    <a:cubicBezTo>
                      <a:pt x="19" y="42"/>
                      <a:pt x="60" y="65"/>
                      <a:pt x="89" y="65"/>
                    </a:cubicBezTo>
                    <a:cubicBezTo>
                      <a:pt x="92" y="65"/>
                      <a:pt x="95" y="64"/>
                      <a:pt x="98" y="64"/>
                    </a:cubicBezTo>
                    <a:cubicBezTo>
                      <a:pt x="102" y="63"/>
                      <a:pt x="105" y="62"/>
                      <a:pt x="108" y="60"/>
                    </a:cubicBezTo>
                    <a:cubicBezTo>
                      <a:pt x="108" y="68"/>
                      <a:pt x="106" y="76"/>
                      <a:pt x="103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93" y="89"/>
                      <a:pt x="83" y="91"/>
                      <a:pt x="73" y="91"/>
                    </a:cubicBezTo>
                    <a:cubicBezTo>
                      <a:pt x="41" y="91"/>
                      <a:pt x="7" y="67"/>
                      <a:pt x="7" y="67"/>
                    </a:cubicBezTo>
                    <a:cubicBezTo>
                      <a:pt x="6" y="67"/>
                      <a:pt x="6" y="67"/>
                      <a:pt x="6" y="67"/>
                    </a:cubicBezTo>
                    <a:moveTo>
                      <a:pt x="64" y="54"/>
                    </a:moveTo>
                    <a:cubicBezTo>
                      <a:pt x="41" y="47"/>
                      <a:pt x="18" y="34"/>
                      <a:pt x="12" y="31"/>
                    </a:cubicBezTo>
                    <a:cubicBezTo>
                      <a:pt x="16" y="23"/>
                      <a:pt x="22" y="17"/>
                      <a:pt x="30" y="12"/>
                    </a:cubicBezTo>
                    <a:cubicBezTo>
                      <a:pt x="32" y="14"/>
                      <a:pt x="57" y="35"/>
                      <a:pt x="64" y="54"/>
                    </a:cubicBezTo>
                    <a:moveTo>
                      <a:pt x="89" y="59"/>
                    </a:moveTo>
                    <a:cubicBezTo>
                      <a:pt x="84" y="59"/>
                      <a:pt x="77" y="58"/>
                      <a:pt x="71" y="56"/>
                    </a:cubicBezTo>
                    <a:cubicBezTo>
                      <a:pt x="66" y="37"/>
                      <a:pt x="43" y="16"/>
                      <a:pt x="35" y="9"/>
                    </a:cubicBezTo>
                    <a:cubicBezTo>
                      <a:pt x="39" y="7"/>
                      <a:pt x="43" y="6"/>
                      <a:pt x="48" y="5"/>
                    </a:cubicBezTo>
                    <a:cubicBezTo>
                      <a:pt x="50" y="4"/>
                      <a:pt x="52" y="4"/>
                      <a:pt x="55" y="4"/>
                    </a:cubicBezTo>
                    <a:cubicBezTo>
                      <a:pt x="55" y="4"/>
                      <a:pt x="56" y="4"/>
                      <a:pt x="57" y="4"/>
                    </a:cubicBezTo>
                    <a:cubicBezTo>
                      <a:pt x="70" y="4"/>
                      <a:pt x="82" y="9"/>
                      <a:pt x="92" y="18"/>
                    </a:cubicBezTo>
                    <a:cubicBezTo>
                      <a:pt x="102" y="27"/>
                      <a:pt x="107" y="39"/>
                      <a:pt x="108" y="53"/>
                    </a:cubicBezTo>
                    <a:cubicBezTo>
                      <a:pt x="104" y="57"/>
                      <a:pt x="97" y="59"/>
                      <a:pt x="89" y="59"/>
                    </a:cubicBezTo>
                    <a:moveTo>
                      <a:pt x="57" y="0"/>
                    </a:moveTo>
                    <a:cubicBezTo>
                      <a:pt x="56" y="0"/>
                      <a:pt x="55" y="0"/>
                      <a:pt x="54" y="0"/>
                    </a:cubicBezTo>
                    <a:cubicBezTo>
                      <a:pt x="52" y="0"/>
                      <a:pt x="49" y="0"/>
                      <a:pt x="47" y="1"/>
                    </a:cubicBezTo>
                    <a:cubicBezTo>
                      <a:pt x="20" y="6"/>
                      <a:pt x="0" y="31"/>
                      <a:pt x="1" y="60"/>
                    </a:cubicBezTo>
                    <a:cubicBezTo>
                      <a:pt x="2" y="64"/>
                      <a:pt x="2" y="68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10" y="97"/>
                      <a:pt x="32" y="115"/>
                      <a:pt x="57" y="115"/>
                    </a:cubicBezTo>
                    <a:cubicBezTo>
                      <a:pt x="58" y="115"/>
                      <a:pt x="59" y="115"/>
                      <a:pt x="60" y="115"/>
                    </a:cubicBezTo>
                    <a:cubicBezTo>
                      <a:pt x="62" y="114"/>
                      <a:pt x="65" y="114"/>
                      <a:pt x="67" y="114"/>
                    </a:cubicBezTo>
                    <a:cubicBezTo>
                      <a:pt x="83" y="111"/>
                      <a:pt x="96" y="101"/>
                      <a:pt x="104" y="88"/>
                    </a:cubicBezTo>
                    <a:cubicBezTo>
                      <a:pt x="105" y="87"/>
                      <a:pt x="105" y="87"/>
                      <a:pt x="106" y="86"/>
                    </a:cubicBezTo>
                    <a:cubicBezTo>
                      <a:pt x="105" y="86"/>
                      <a:pt x="105" y="86"/>
                      <a:pt x="105" y="86"/>
                    </a:cubicBezTo>
                    <a:cubicBezTo>
                      <a:pt x="110" y="77"/>
                      <a:pt x="113" y="67"/>
                      <a:pt x="112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2" y="56"/>
                      <a:pt x="113" y="55"/>
                      <a:pt x="113" y="55"/>
                    </a:cubicBezTo>
                    <a:cubicBezTo>
                      <a:pt x="112" y="39"/>
                      <a:pt x="105" y="25"/>
                      <a:pt x="94" y="15"/>
                    </a:cubicBezTo>
                    <a:cubicBezTo>
                      <a:pt x="84" y="5"/>
                      <a:pt x="71" y="0"/>
                      <a:pt x="57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2" name="Freeform 22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3" name="Freeform 23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" name="Freeform 24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5" name="Freeform 25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7" name="Freeform 27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8" name="Freeform 28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6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" name="Freeform 29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71" name="组合 67"/>
          <p:cNvGrpSpPr/>
          <p:nvPr/>
        </p:nvGrpSpPr>
        <p:grpSpPr>
          <a:xfrm>
            <a:off x="-10080" y="4717080"/>
            <a:ext cx="434160" cy="423720"/>
            <a:chOff x="-10080" y="4717080"/>
            <a:chExt cx="434160" cy="423720"/>
          </a:xfrm>
        </p:grpSpPr>
        <p:sp>
          <p:nvSpPr>
            <p:cNvPr id="72" name="Freeform 35"/>
            <p:cNvSpPr/>
            <p:nvPr/>
          </p:nvSpPr>
          <p:spPr>
            <a:xfrm>
              <a:off x="-10080" y="4717080"/>
              <a:ext cx="434160" cy="42372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882" h="1836">
                  <a:moveTo>
                    <a:pt x="1809" y="790"/>
                  </a:moveTo>
                  <a:cubicBezTo>
                    <a:pt x="1750" y="713"/>
                    <a:pt x="1642" y="684"/>
                    <a:pt x="1488" y="702"/>
                  </a:cubicBezTo>
                  <a:cubicBezTo>
                    <a:pt x="1441" y="706"/>
                    <a:pt x="1388" y="716"/>
                    <a:pt x="1331" y="730"/>
                  </a:cubicBezTo>
                  <a:cubicBezTo>
                    <a:pt x="1390" y="695"/>
                    <a:pt x="1462" y="644"/>
                    <a:pt x="1510" y="579"/>
                  </a:cubicBezTo>
                  <a:cubicBezTo>
                    <a:pt x="1533" y="551"/>
                    <a:pt x="1552" y="520"/>
                    <a:pt x="1564" y="487"/>
                  </a:cubicBezTo>
                  <a:cubicBezTo>
                    <a:pt x="1586" y="425"/>
                    <a:pt x="1579" y="361"/>
                    <a:pt x="1543" y="298"/>
                  </a:cubicBezTo>
                  <a:cubicBezTo>
                    <a:pt x="1419" y="78"/>
                    <a:pt x="1149" y="0"/>
                    <a:pt x="947" y="37"/>
                  </a:cubicBezTo>
                  <a:cubicBezTo>
                    <a:pt x="848" y="55"/>
                    <a:pt x="775" y="100"/>
                    <a:pt x="747" y="162"/>
                  </a:cubicBezTo>
                  <a:cubicBezTo>
                    <a:pt x="730" y="200"/>
                    <a:pt x="726" y="247"/>
                    <a:pt x="731" y="297"/>
                  </a:cubicBezTo>
                  <a:cubicBezTo>
                    <a:pt x="734" y="390"/>
                    <a:pt x="772" y="499"/>
                    <a:pt x="815" y="595"/>
                  </a:cubicBezTo>
                  <a:cubicBezTo>
                    <a:pt x="771" y="538"/>
                    <a:pt x="719" y="477"/>
                    <a:pt x="660" y="427"/>
                  </a:cubicBezTo>
                  <a:cubicBezTo>
                    <a:pt x="569" y="346"/>
                    <a:pt x="464" y="289"/>
                    <a:pt x="357" y="308"/>
                  </a:cubicBezTo>
                  <a:cubicBezTo>
                    <a:pt x="302" y="318"/>
                    <a:pt x="248" y="349"/>
                    <a:pt x="199" y="399"/>
                  </a:cubicBezTo>
                  <a:cubicBezTo>
                    <a:pt x="54" y="548"/>
                    <a:pt x="0" y="675"/>
                    <a:pt x="43" y="767"/>
                  </a:cubicBezTo>
                  <a:cubicBezTo>
                    <a:pt x="67" y="817"/>
                    <a:pt x="119" y="855"/>
                    <a:pt x="196" y="881"/>
                  </a:cubicBezTo>
                  <a:cubicBezTo>
                    <a:pt x="267" y="910"/>
                    <a:pt x="374" y="930"/>
                    <a:pt x="532" y="929"/>
                  </a:cubicBezTo>
                  <a:cubicBezTo>
                    <a:pt x="480" y="941"/>
                    <a:pt x="426" y="956"/>
                    <a:pt x="376" y="977"/>
                  </a:cubicBezTo>
                  <a:cubicBezTo>
                    <a:pt x="284" y="1011"/>
                    <a:pt x="204" y="1059"/>
                    <a:pt x="172" y="1128"/>
                  </a:cubicBezTo>
                  <a:cubicBezTo>
                    <a:pt x="147" y="1182"/>
                    <a:pt x="155" y="1244"/>
                    <a:pt x="195" y="1312"/>
                  </a:cubicBezTo>
                  <a:cubicBezTo>
                    <a:pt x="297" y="1488"/>
                    <a:pt x="436" y="1578"/>
                    <a:pt x="566" y="1554"/>
                  </a:cubicBezTo>
                  <a:cubicBezTo>
                    <a:pt x="604" y="1547"/>
                    <a:pt x="657" y="1527"/>
                    <a:pt x="709" y="1472"/>
                  </a:cubicBezTo>
                  <a:cubicBezTo>
                    <a:pt x="748" y="1436"/>
                    <a:pt x="786" y="1383"/>
                    <a:pt x="818" y="1302"/>
                  </a:cubicBezTo>
                  <a:cubicBezTo>
                    <a:pt x="812" y="1363"/>
                    <a:pt x="808" y="1433"/>
                    <a:pt x="811" y="1501"/>
                  </a:cubicBezTo>
                  <a:cubicBezTo>
                    <a:pt x="814" y="1606"/>
                    <a:pt x="834" y="1709"/>
                    <a:pt x="888" y="1772"/>
                  </a:cubicBezTo>
                  <a:cubicBezTo>
                    <a:pt x="926" y="1816"/>
                    <a:pt x="979" y="1836"/>
                    <a:pt x="1044" y="1833"/>
                  </a:cubicBezTo>
                  <a:cubicBezTo>
                    <a:pt x="1068" y="1831"/>
                    <a:pt x="1092" y="1829"/>
                    <a:pt x="1115" y="1825"/>
                  </a:cubicBezTo>
                  <a:cubicBezTo>
                    <a:pt x="1232" y="1803"/>
                    <a:pt x="1312" y="1744"/>
                    <a:pt x="1346" y="1655"/>
                  </a:cubicBezTo>
                  <a:cubicBezTo>
                    <a:pt x="1374" y="1581"/>
                    <a:pt x="1369" y="1491"/>
                    <a:pt x="1333" y="1394"/>
                  </a:cubicBezTo>
                  <a:cubicBezTo>
                    <a:pt x="1315" y="1340"/>
                    <a:pt x="1288" y="1284"/>
                    <a:pt x="1251" y="1227"/>
                  </a:cubicBezTo>
                  <a:cubicBezTo>
                    <a:pt x="1303" y="1271"/>
                    <a:pt x="1378" y="1325"/>
                    <a:pt x="1457" y="1355"/>
                  </a:cubicBezTo>
                  <a:cubicBezTo>
                    <a:pt x="1512" y="1379"/>
                    <a:pt x="1572" y="1393"/>
                    <a:pt x="1626" y="1383"/>
                  </a:cubicBezTo>
                  <a:cubicBezTo>
                    <a:pt x="1626" y="1383"/>
                    <a:pt x="1626" y="1383"/>
                    <a:pt x="1626" y="1383"/>
                  </a:cubicBezTo>
                  <a:cubicBezTo>
                    <a:pt x="1692" y="1371"/>
                    <a:pt x="1744" y="1326"/>
                    <a:pt x="1780" y="1248"/>
                  </a:cubicBezTo>
                  <a:cubicBezTo>
                    <a:pt x="1872" y="1052"/>
                    <a:pt x="1882" y="884"/>
                    <a:pt x="1809" y="790"/>
                  </a:cubicBezTo>
                  <a:close/>
                  <a:moveTo>
                    <a:pt x="1768" y="808"/>
                  </a:moveTo>
                  <a:cubicBezTo>
                    <a:pt x="1795" y="844"/>
                    <a:pt x="1808" y="891"/>
                    <a:pt x="1809" y="947"/>
                  </a:cubicBezTo>
                  <a:cubicBezTo>
                    <a:pt x="1639" y="919"/>
                    <a:pt x="1639" y="919"/>
                    <a:pt x="1639" y="919"/>
                  </a:cubicBezTo>
                  <a:cubicBezTo>
                    <a:pt x="1638" y="925"/>
                    <a:pt x="1638" y="925"/>
                    <a:pt x="1638" y="925"/>
                  </a:cubicBezTo>
                  <a:cubicBezTo>
                    <a:pt x="1809" y="953"/>
                    <a:pt x="1809" y="953"/>
                    <a:pt x="1809" y="953"/>
                  </a:cubicBezTo>
                  <a:cubicBezTo>
                    <a:pt x="1809" y="999"/>
                    <a:pt x="1801" y="1051"/>
                    <a:pt x="1784" y="1107"/>
                  </a:cubicBezTo>
                  <a:cubicBezTo>
                    <a:pt x="1646" y="1126"/>
                    <a:pt x="1466" y="1076"/>
                    <a:pt x="1338" y="1030"/>
                  </a:cubicBezTo>
                  <a:cubicBezTo>
                    <a:pt x="1218" y="987"/>
                    <a:pt x="1120" y="940"/>
                    <a:pt x="1092" y="926"/>
                  </a:cubicBezTo>
                  <a:cubicBezTo>
                    <a:pt x="1095" y="912"/>
                    <a:pt x="1096" y="897"/>
                    <a:pt x="1093" y="883"/>
                  </a:cubicBezTo>
                  <a:cubicBezTo>
                    <a:pt x="1148" y="884"/>
                    <a:pt x="1391" y="894"/>
                    <a:pt x="1536" y="918"/>
                  </a:cubicBezTo>
                  <a:cubicBezTo>
                    <a:pt x="1537" y="912"/>
                    <a:pt x="1537" y="912"/>
                    <a:pt x="1537" y="912"/>
                  </a:cubicBezTo>
                  <a:cubicBezTo>
                    <a:pt x="1390" y="887"/>
                    <a:pt x="1143" y="878"/>
                    <a:pt x="1091" y="877"/>
                  </a:cubicBezTo>
                  <a:cubicBezTo>
                    <a:pt x="1091" y="876"/>
                    <a:pt x="1091" y="876"/>
                    <a:pt x="1091" y="876"/>
                  </a:cubicBezTo>
                  <a:cubicBezTo>
                    <a:pt x="1090" y="872"/>
                    <a:pt x="1088" y="867"/>
                    <a:pt x="1086" y="863"/>
                  </a:cubicBezTo>
                  <a:cubicBezTo>
                    <a:pt x="1133" y="845"/>
                    <a:pt x="1340" y="771"/>
                    <a:pt x="1556" y="762"/>
                  </a:cubicBezTo>
                  <a:cubicBezTo>
                    <a:pt x="1556" y="756"/>
                    <a:pt x="1556" y="756"/>
                    <a:pt x="1556" y="756"/>
                  </a:cubicBezTo>
                  <a:cubicBezTo>
                    <a:pt x="1339" y="765"/>
                    <a:pt x="1129" y="840"/>
                    <a:pt x="1083" y="857"/>
                  </a:cubicBezTo>
                  <a:cubicBezTo>
                    <a:pt x="1081" y="852"/>
                    <a:pt x="1078" y="848"/>
                    <a:pt x="1074" y="843"/>
                  </a:cubicBezTo>
                  <a:cubicBezTo>
                    <a:pt x="1099" y="820"/>
                    <a:pt x="1181" y="740"/>
                    <a:pt x="1245" y="626"/>
                  </a:cubicBezTo>
                  <a:cubicBezTo>
                    <a:pt x="1313" y="505"/>
                    <a:pt x="1372" y="321"/>
                    <a:pt x="1278" y="126"/>
                  </a:cubicBezTo>
                  <a:cubicBezTo>
                    <a:pt x="1341" y="153"/>
                    <a:pt x="1400" y="193"/>
                    <a:pt x="1448" y="246"/>
                  </a:cubicBezTo>
                  <a:cubicBezTo>
                    <a:pt x="1448" y="303"/>
                    <a:pt x="1441" y="560"/>
                    <a:pt x="1327" y="654"/>
                  </a:cubicBezTo>
                  <a:cubicBezTo>
                    <a:pt x="1331" y="659"/>
                    <a:pt x="1331" y="659"/>
                    <a:pt x="1331" y="659"/>
                  </a:cubicBezTo>
                  <a:cubicBezTo>
                    <a:pt x="1442" y="567"/>
                    <a:pt x="1454" y="322"/>
                    <a:pt x="1454" y="253"/>
                  </a:cubicBezTo>
                  <a:cubicBezTo>
                    <a:pt x="1475" y="276"/>
                    <a:pt x="1493" y="302"/>
                    <a:pt x="1509" y="330"/>
                  </a:cubicBezTo>
                  <a:cubicBezTo>
                    <a:pt x="1521" y="350"/>
                    <a:pt x="1529" y="371"/>
                    <a:pt x="1534" y="391"/>
                  </a:cubicBezTo>
                  <a:cubicBezTo>
                    <a:pt x="1525" y="424"/>
                    <a:pt x="1501" y="503"/>
                    <a:pt x="1458" y="552"/>
                  </a:cubicBezTo>
                  <a:cubicBezTo>
                    <a:pt x="1463" y="556"/>
                    <a:pt x="1463" y="556"/>
                    <a:pt x="1463" y="556"/>
                  </a:cubicBezTo>
                  <a:cubicBezTo>
                    <a:pt x="1502" y="512"/>
                    <a:pt x="1526" y="443"/>
                    <a:pt x="1537" y="405"/>
                  </a:cubicBezTo>
                  <a:cubicBezTo>
                    <a:pt x="1542" y="437"/>
                    <a:pt x="1539" y="469"/>
                    <a:pt x="1528" y="501"/>
                  </a:cubicBezTo>
                  <a:cubicBezTo>
                    <a:pt x="1472" y="660"/>
                    <a:pt x="1225" y="760"/>
                    <a:pt x="1223" y="761"/>
                  </a:cubicBezTo>
                  <a:cubicBezTo>
                    <a:pt x="1230" y="780"/>
                    <a:pt x="1230" y="780"/>
                    <a:pt x="1230" y="780"/>
                  </a:cubicBezTo>
                  <a:cubicBezTo>
                    <a:pt x="1294" y="759"/>
                    <a:pt x="1354" y="744"/>
                    <a:pt x="1409" y="734"/>
                  </a:cubicBezTo>
                  <a:cubicBezTo>
                    <a:pt x="1581" y="702"/>
                    <a:pt x="1699" y="724"/>
                    <a:pt x="1761" y="799"/>
                  </a:cubicBezTo>
                  <a:cubicBezTo>
                    <a:pt x="1722" y="785"/>
                    <a:pt x="1644" y="758"/>
                    <a:pt x="1614" y="761"/>
                  </a:cubicBezTo>
                  <a:cubicBezTo>
                    <a:pt x="1615" y="767"/>
                    <a:pt x="1615" y="767"/>
                    <a:pt x="1615" y="767"/>
                  </a:cubicBezTo>
                  <a:cubicBezTo>
                    <a:pt x="1645" y="764"/>
                    <a:pt x="1735" y="796"/>
                    <a:pt x="1768" y="808"/>
                  </a:cubicBezTo>
                  <a:close/>
                  <a:moveTo>
                    <a:pt x="1661" y="1327"/>
                  </a:moveTo>
                  <a:cubicBezTo>
                    <a:pt x="1611" y="1323"/>
                    <a:pt x="1421" y="1300"/>
                    <a:pt x="1262" y="1159"/>
                  </a:cubicBezTo>
                  <a:cubicBezTo>
                    <a:pt x="1258" y="1164"/>
                    <a:pt x="1258" y="1164"/>
                    <a:pt x="1258" y="1164"/>
                  </a:cubicBezTo>
                  <a:cubicBezTo>
                    <a:pt x="1410" y="1299"/>
                    <a:pt x="1591" y="1327"/>
                    <a:pt x="1652" y="1333"/>
                  </a:cubicBezTo>
                  <a:cubicBezTo>
                    <a:pt x="1635" y="1343"/>
                    <a:pt x="1618" y="1350"/>
                    <a:pt x="1599" y="1353"/>
                  </a:cubicBezTo>
                  <a:cubicBezTo>
                    <a:pt x="1599" y="1353"/>
                    <a:pt x="1599" y="1353"/>
                    <a:pt x="1599" y="1353"/>
                  </a:cubicBezTo>
                  <a:cubicBezTo>
                    <a:pt x="1425" y="1385"/>
                    <a:pt x="1196" y="1149"/>
                    <a:pt x="1193" y="1147"/>
                  </a:cubicBezTo>
                  <a:cubicBezTo>
                    <a:pt x="1178" y="1160"/>
                    <a:pt x="1178" y="1160"/>
                    <a:pt x="1178" y="1160"/>
                  </a:cubicBezTo>
                  <a:cubicBezTo>
                    <a:pt x="1313" y="1333"/>
                    <a:pt x="1365" y="1502"/>
                    <a:pt x="1320" y="1622"/>
                  </a:cubicBezTo>
                  <a:cubicBezTo>
                    <a:pt x="1309" y="1651"/>
                    <a:pt x="1292" y="1676"/>
                    <a:pt x="1271" y="1697"/>
                  </a:cubicBezTo>
                  <a:cubicBezTo>
                    <a:pt x="1274" y="1618"/>
                    <a:pt x="1224" y="1452"/>
                    <a:pt x="1222" y="1444"/>
                  </a:cubicBezTo>
                  <a:cubicBezTo>
                    <a:pt x="1216" y="1446"/>
                    <a:pt x="1216" y="1446"/>
                    <a:pt x="1216" y="1446"/>
                  </a:cubicBezTo>
                  <a:cubicBezTo>
                    <a:pt x="1217" y="1448"/>
                    <a:pt x="1271" y="1630"/>
                    <a:pt x="1265" y="1704"/>
                  </a:cubicBezTo>
                  <a:cubicBezTo>
                    <a:pt x="1244" y="1723"/>
                    <a:pt x="1220" y="1739"/>
                    <a:pt x="1191" y="1751"/>
                  </a:cubicBezTo>
                  <a:cubicBezTo>
                    <a:pt x="1200" y="1682"/>
                    <a:pt x="1175" y="1537"/>
                    <a:pt x="1119" y="1319"/>
                  </a:cubicBezTo>
                  <a:cubicBezTo>
                    <a:pt x="1080" y="1169"/>
                    <a:pt x="1038" y="1031"/>
                    <a:pt x="1026" y="994"/>
                  </a:cubicBezTo>
                  <a:cubicBezTo>
                    <a:pt x="1032" y="992"/>
                    <a:pt x="1038" y="990"/>
                    <a:pt x="1043" y="987"/>
                  </a:cubicBezTo>
                  <a:cubicBezTo>
                    <a:pt x="1065" y="1034"/>
                    <a:pt x="1163" y="1249"/>
                    <a:pt x="1178" y="1313"/>
                  </a:cubicBezTo>
                  <a:cubicBezTo>
                    <a:pt x="1184" y="1312"/>
                    <a:pt x="1184" y="1312"/>
                    <a:pt x="1184" y="1312"/>
                  </a:cubicBezTo>
                  <a:cubicBezTo>
                    <a:pt x="1169" y="1245"/>
                    <a:pt x="1070" y="1030"/>
                    <a:pt x="1048" y="983"/>
                  </a:cubicBezTo>
                  <a:cubicBezTo>
                    <a:pt x="1059" y="977"/>
                    <a:pt x="1068" y="969"/>
                    <a:pt x="1075" y="959"/>
                  </a:cubicBezTo>
                  <a:cubicBezTo>
                    <a:pt x="1099" y="979"/>
                    <a:pt x="1178" y="1043"/>
                    <a:pt x="1282" y="1106"/>
                  </a:cubicBezTo>
                  <a:cubicBezTo>
                    <a:pt x="1482" y="1228"/>
                    <a:pt x="1630" y="1257"/>
                    <a:pt x="1721" y="1259"/>
                  </a:cubicBezTo>
                  <a:cubicBezTo>
                    <a:pt x="1704" y="1289"/>
                    <a:pt x="1684" y="1311"/>
                    <a:pt x="1661" y="1327"/>
                  </a:cubicBezTo>
                  <a:close/>
                  <a:moveTo>
                    <a:pt x="967" y="1348"/>
                  </a:moveTo>
                  <a:cubicBezTo>
                    <a:pt x="971" y="1439"/>
                    <a:pt x="1009" y="1725"/>
                    <a:pt x="1017" y="1785"/>
                  </a:cubicBezTo>
                  <a:cubicBezTo>
                    <a:pt x="973" y="1783"/>
                    <a:pt x="937" y="1767"/>
                    <a:pt x="909" y="1738"/>
                  </a:cubicBezTo>
                  <a:cubicBezTo>
                    <a:pt x="904" y="1671"/>
                    <a:pt x="884" y="1350"/>
                    <a:pt x="895" y="1299"/>
                  </a:cubicBezTo>
                  <a:cubicBezTo>
                    <a:pt x="889" y="1298"/>
                    <a:pt x="889" y="1298"/>
                    <a:pt x="889" y="1298"/>
                  </a:cubicBezTo>
                  <a:cubicBezTo>
                    <a:pt x="878" y="1348"/>
                    <a:pt x="897" y="1650"/>
                    <a:pt x="902" y="1731"/>
                  </a:cubicBezTo>
                  <a:cubicBezTo>
                    <a:pt x="902" y="1731"/>
                    <a:pt x="902" y="1731"/>
                    <a:pt x="902" y="1731"/>
                  </a:cubicBezTo>
                  <a:cubicBezTo>
                    <a:pt x="786" y="1598"/>
                    <a:pt x="841" y="1264"/>
                    <a:pt x="860" y="1164"/>
                  </a:cubicBezTo>
                  <a:cubicBezTo>
                    <a:pt x="862" y="1155"/>
                    <a:pt x="864" y="1145"/>
                    <a:pt x="866" y="1135"/>
                  </a:cubicBezTo>
                  <a:cubicBezTo>
                    <a:pt x="846" y="1131"/>
                    <a:pt x="846" y="1131"/>
                    <a:pt x="846" y="1131"/>
                  </a:cubicBezTo>
                  <a:cubicBezTo>
                    <a:pt x="846" y="1131"/>
                    <a:pt x="844" y="1142"/>
                    <a:pt x="840" y="1160"/>
                  </a:cubicBezTo>
                  <a:cubicBezTo>
                    <a:pt x="794" y="1365"/>
                    <a:pt x="699" y="1496"/>
                    <a:pt x="579" y="1518"/>
                  </a:cubicBezTo>
                  <a:cubicBezTo>
                    <a:pt x="550" y="1523"/>
                    <a:pt x="520" y="1522"/>
                    <a:pt x="490" y="1515"/>
                  </a:cubicBezTo>
                  <a:cubicBezTo>
                    <a:pt x="521" y="1473"/>
                    <a:pt x="642" y="1308"/>
                    <a:pt x="679" y="1276"/>
                  </a:cubicBezTo>
                  <a:cubicBezTo>
                    <a:pt x="675" y="1271"/>
                    <a:pt x="675" y="1271"/>
                    <a:pt x="675" y="1271"/>
                  </a:cubicBezTo>
                  <a:cubicBezTo>
                    <a:pt x="637" y="1305"/>
                    <a:pt x="512" y="1474"/>
                    <a:pt x="484" y="1513"/>
                  </a:cubicBezTo>
                  <a:cubicBezTo>
                    <a:pt x="444" y="1502"/>
                    <a:pt x="405" y="1481"/>
                    <a:pt x="367" y="1450"/>
                  </a:cubicBezTo>
                  <a:cubicBezTo>
                    <a:pt x="403" y="1415"/>
                    <a:pt x="554" y="1268"/>
                    <a:pt x="567" y="1258"/>
                  </a:cubicBezTo>
                  <a:cubicBezTo>
                    <a:pt x="563" y="1253"/>
                    <a:pt x="563" y="1253"/>
                    <a:pt x="563" y="1253"/>
                  </a:cubicBezTo>
                  <a:cubicBezTo>
                    <a:pt x="550" y="1263"/>
                    <a:pt x="398" y="1412"/>
                    <a:pt x="363" y="1446"/>
                  </a:cubicBezTo>
                  <a:cubicBezTo>
                    <a:pt x="340" y="1427"/>
                    <a:pt x="317" y="1404"/>
                    <a:pt x="296" y="1378"/>
                  </a:cubicBezTo>
                  <a:cubicBezTo>
                    <a:pt x="442" y="1174"/>
                    <a:pt x="847" y="980"/>
                    <a:pt x="912" y="950"/>
                  </a:cubicBezTo>
                  <a:cubicBezTo>
                    <a:pt x="915" y="956"/>
                    <a:pt x="918" y="961"/>
                    <a:pt x="922" y="965"/>
                  </a:cubicBezTo>
                  <a:cubicBezTo>
                    <a:pt x="881" y="997"/>
                    <a:pt x="696" y="1143"/>
                    <a:pt x="631" y="1202"/>
                  </a:cubicBezTo>
                  <a:cubicBezTo>
                    <a:pt x="635" y="1207"/>
                    <a:pt x="635" y="1207"/>
                    <a:pt x="635" y="1207"/>
                  </a:cubicBezTo>
                  <a:cubicBezTo>
                    <a:pt x="700" y="1147"/>
                    <a:pt x="886" y="1001"/>
                    <a:pt x="926" y="970"/>
                  </a:cubicBezTo>
                  <a:cubicBezTo>
                    <a:pt x="934" y="977"/>
                    <a:pt x="942" y="983"/>
                    <a:pt x="951" y="988"/>
                  </a:cubicBezTo>
                  <a:cubicBezTo>
                    <a:pt x="946" y="1029"/>
                    <a:pt x="927" y="1187"/>
                    <a:pt x="934" y="1232"/>
                  </a:cubicBezTo>
                  <a:cubicBezTo>
                    <a:pt x="940" y="1232"/>
                    <a:pt x="940" y="1232"/>
                    <a:pt x="940" y="1232"/>
                  </a:cubicBezTo>
                  <a:cubicBezTo>
                    <a:pt x="934" y="1188"/>
                    <a:pt x="952" y="1034"/>
                    <a:pt x="957" y="991"/>
                  </a:cubicBezTo>
                  <a:cubicBezTo>
                    <a:pt x="968" y="995"/>
                    <a:pt x="979" y="998"/>
                    <a:pt x="991" y="998"/>
                  </a:cubicBezTo>
                  <a:cubicBezTo>
                    <a:pt x="1005" y="1082"/>
                    <a:pt x="1105" y="1679"/>
                    <a:pt x="1099" y="1778"/>
                  </a:cubicBezTo>
                  <a:cubicBezTo>
                    <a:pt x="1081" y="1781"/>
                    <a:pt x="1061" y="1784"/>
                    <a:pt x="1040" y="1785"/>
                  </a:cubicBezTo>
                  <a:cubicBezTo>
                    <a:pt x="1034" y="1785"/>
                    <a:pt x="1029" y="1785"/>
                    <a:pt x="1024" y="1785"/>
                  </a:cubicBezTo>
                  <a:cubicBezTo>
                    <a:pt x="1016" y="1728"/>
                    <a:pt x="977" y="1439"/>
                    <a:pt x="973" y="1348"/>
                  </a:cubicBezTo>
                  <a:lnTo>
                    <a:pt x="967" y="1348"/>
                  </a:lnTo>
                  <a:close/>
                  <a:moveTo>
                    <a:pt x="386" y="1079"/>
                  </a:moveTo>
                  <a:cubicBezTo>
                    <a:pt x="309" y="1115"/>
                    <a:pt x="234" y="1190"/>
                    <a:pt x="207" y="1218"/>
                  </a:cubicBezTo>
                  <a:cubicBezTo>
                    <a:pt x="200" y="1185"/>
                    <a:pt x="203" y="1155"/>
                    <a:pt x="215" y="1126"/>
                  </a:cubicBezTo>
                  <a:cubicBezTo>
                    <a:pt x="265" y="1019"/>
                    <a:pt x="447" y="965"/>
                    <a:pt x="592" y="938"/>
                  </a:cubicBezTo>
                  <a:cubicBezTo>
                    <a:pt x="643" y="929"/>
                    <a:pt x="687" y="923"/>
                    <a:pt x="715" y="921"/>
                  </a:cubicBezTo>
                  <a:cubicBezTo>
                    <a:pt x="726" y="920"/>
                    <a:pt x="738" y="919"/>
                    <a:pt x="749" y="917"/>
                  </a:cubicBezTo>
                  <a:cubicBezTo>
                    <a:pt x="748" y="897"/>
                    <a:pt x="748" y="897"/>
                    <a:pt x="748" y="897"/>
                  </a:cubicBezTo>
                  <a:cubicBezTo>
                    <a:pt x="748" y="897"/>
                    <a:pt x="735" y="898"/>
                    <a:pt x="713" y="900"/>
                  </a:cubicBezTo>
                  <a:cubicBezTo>
                    <a:pt x="366" y="929"/>
                    <a:pt x="145" y="882"/>
                    <a:pt x="92" y="768"/>
                  </a:cubicBezTo>
                  <a:cubicBezTo>
                    <a:pt x="59" y="699"/>
                    <a:pt x="89" y="606"/>
                    <a:pt x="179" y="496"/>
                  </a:cubicBezTo>
                  <a:cubicBezTo>
                    <a:pt x="371" y="509"/>
                    <a:pt x="841" y="818"/>
                    <a:pt x="909" y="863"/>
                  </a:cubicBezTo>
                  <a:cubicBezTo>
                    <a:pt x="907" y="867"/>
                    <a:pt x="905" y="871"/>
                    <a:pt x="904" y="875"/>
                  </a:cubicBezTo>
                  <a:cubicBezTo>
                    <a:pt x="833" y="841"/>
                    <a:pt x="418" y="641"/>
                    <a:pt x="306" y="630"/>
                  </a:cubicBezTo>
                  <a:cubicBezTo>
                    <a:pt x="305" y="636"/>
                    <a:pt x="305" y="636"/>
                    <a:pt x="305" y="636"/>
                  </a:cubicBezTo>
                  <a:cubicBezTo>
                    <a:pt x="416" y="647"/>
                    <a:pt x="837" y="850"/>
                    <a:pt x="902" y="881"/>
                  </a:cubicBezTo>
                  <a:cubicBezTo>
                    <a:pt x="901" y="886"/>
                    <a:pt x="900" y="891"/>
                    <a:pt x="900" y="896"/>
                  </a:cubicBezTo>
                  <a:cubicBezTo>
                    <a:pt x="842" y="887"/>
                    <a:pt x="557" y="844"/>
                    <a:pt x="500" y="832"/>
                  </a:cubicBezTo>
                  <a:cubicBezTo>
                    <a:pt x="498" y="838"/>
                    <a:pt x="498" y="838"/>
                    <a:pt x="498" y="838"/>
                  </a:cubicBezTo>
                  <a:cubicBezTo>
                    <a:pt x="556" y="850"/>
                    <a:pt x="842" y="894"/>
                    <a:pt x="899" y="902"/>
                  </a:cubicBezTo>
                  <a:cubicBezTo>
                    <a:pt x="899" y="910"/>
                    <a:pt x="900" y="918"/>
                    <a:pt x="902" y="926"/>
                  </a:cubicBezTo>
                  <a:cubicBezTo>
                    <a:pt x="842" y="940"/>
                    <a:pt x="529" y="1019"/>
                    <a:pt x="312" y="1225"/>
                  </a:cubicBezTo>
                  <a:cubicBezTo>
                    <a:pt x="316" y="1229"/>
                    <a:pt x="316" y="1229"/>
                    <a:pt x="316" y="1229"/>
                  </a:cubicBezTo>
                  <a:cubicBezTo>
                    <a:pt x="533" y="1024"/>
                    <a:pt x="845" y="946"/>
                    <a:pt x="904" y="932"/>
                  </a:cubicBezTo>
                  <a:cubicBezTo>
                    <a:pt x="905" y="937"/>
                    <a:pt x="907" y="941"/>
                    <a:pt x="909" y="945"/>
                  </a:cubicBezTo>
                  <a:cubicBezTo>
                    <a:pt x="843" y="975"/>
                    <a:pt x="439" y="1169"/>
                    <a:pt x="292" y="1373"/>
                  </a:cubicBezTo>
                  <a:cubicBezTo>
                    <a:pt x="273" y="1348"/>
                    <a:pt x="254" y="1321"/>
                    <a:pt x="237" y="1291"/>
                  </a:cubicBezTo>
                  <a:cubicBezTo>
                    <a:pt x="223" y="1268"/>
                    <a:pt x="214" y="1247"/>
                    <a:pt x="209" y="1226"/>
                  </a:cubicBezTo>
                  <a:cubicBezTo>
                    <a:pt x="232" y="1201"/>
                    <a:pt x="310" y="1121"/>
                    <a:pt x="388" y="1084"/>
                  </a:cubicBezTo>
                  <a:lnTo>
                    <a:pt x="386" y="1079"/>
                  </a:lnTo>
                  <a:close/>
                  <a:moveTo>
                    <a:pt x="361" y="352"/>
                  </a:moveTo>
                  <a:cubicBezTo>
                    <a:pt x="417" y="382"/>
                    <a:pt x="689" y="530"/>
                    <a:pt x="744" y="602"/>
                  </a:cubicBezTo>
                  <a:cubicBezTo>
                    <a:pt x="749" y="598"/>
                    <a:pt x="749" y="598"/>
                    <a:pt x="749" y="598"/>
                  </a:cubicBezTo>
                  <a:cubicBezTo>
                    <a:pt x="694" y="526"/>
                    <a:pt x="437" y="386"/>
                    <a:pt x="369" y="349"/>
                  </a:cubicBezTo>
                  <a:cubicBezTo>
                    <a:pt x="374" y="348"/>
                    <a:pt x="379" y="347"/>
                    <a:pt x="384" y="346"/>
                  </a:cubicBezTo>
                  <a:cubicBezTo>
                    <a:pt x="597" y="307"/>
                    <a:pt x="805" y="605"/>
                    <a:pt x="885" y="734"/>
                  </a:cubicBezTo>
                  <a:cubicBezTo>
                    <a:pt x="905" y="771"/>
                    <a:pt x="919" y="794"/>
                    <a:pt x="919" y="794"/>
                  </a:cubicBezTo>
                  <a:cubicBezTo>
                    <a:pt x="937" y="784"/>
                    <a:pt x="937" y="784"/>
                    <a:pt x="937" y="784"/>
                  </a:cubicBezTo>
                  <a:cubicBezTo>
                    <a:pt x="937" y="783"/>
                    <a:pt x="924" y="760"/>
                    <a:pt x="903" y="724"/>
                  </a:cubicBezTo>
                  <a:cubicBezTo>
                    <a:pt x="841" y="613"/>
                    <a:pt x="704" y="337"/>
                    <a:pt x="768" y="198"/>
                  </a:cubicBezTo>
                  <a:cubicBezTo>
                    <a:pt x="785" y="161"/>
                    <a:pt x="821" y="130"/>
                    <a:pt x="871" y="109"/>
                  </a:cubicBezTo>
                  <a:cubicBezTo>
                    <a:pt x="885" y="152"/>
                    <a:pt x="938" y="319"/>
                    <a:pt x="953" y="370"/>
                  </a:cubicBezTo>
                  <a:cubicBezTo>
                    <a:pt x="959" y="368"/>
                    <a:pt x="959" y="368"/>
                    <a:pt x="959" y="368"/>
                  </a:cubicBezTo>
                  <a:cubicBezTo>
                    <a:pt x="944" y="317"/>
                    <a:pt x="890" y="149"/>
                    <a:pt x="877" y="107"/>
                  </a:cubicBezTo>
                  <a:cubicBezTo>
                    <a:pt x="899" y="98"/>
                    <a:pt x="923" y="90"/>
                    <a:pt x="950" y="85"/>
                  </a:cubicBezTo>
                  <a:cubicBezTo>
                    <a:pt x="963" y="83"/>
                    <a:pt x="976" y="81"/>
                    <a:pt x="990" y="80"/>
                  </a:cubicBezTo>
                  <a:cubicBezTo>
                    <a:pt x="1008" y="111"/>
                    <a:pt x="1073" y="223"/>
                    <a:pt x="1092" y="306"/>
                  </a:cubicBezTo>
                  <a:cubicBezTo>
                    <a:pt x="1098" y="304"/>
                    <a:pt x="1098" y="304"/>
                    <a:pt x="1098" y="304"/>
                  </a:cubicBezTo>
                  <a:cubicBezTo>
                    <a:pt x="1079" y="222"/>
                    <a:pt x="1017" y="114"/>
                    <a:pt x="997" y="79"/>
                  </a:cubicBezTo>
                  <a:cubicBezTo>
                    <a:pt x="1046" y="75"/>
                    <a:pt x="1098" y="77"/>
                    <a:pt x="1150" y="87"/>
                  </a:cubicBezTo>
                  <a:cubicBezTo>
                    <a:pt x="1243" y="318"/>
                    <a:pt x="1206" y="504"/>
                    <a:pt x="1158" y="620"/>
                  </a:cubicBezTo>
                  <a:cubicBezTo>
                    <a:pt x="1114" y="725"/>
                    <a:pt x="1054" y="793"/>
                    <a:pt x="1033" y="814"/>
                  </a:cubicBezTo>
                  <a:cubicBezTo>
                    <a:pt x="1023" y="810"/>
                    <a:pt x="1012" y="808"/>
                    <a:pt x="1001" y="808"/>
                  </a:cubicBezTo>
                  <a:cubicBezTo>
                    <a:pt x="1015" y="785"/>
                    <a:pt x="1045" y="734"/>
                    <a:pt x="1071" y="668"/>
                  </a:cubicBezTo>
                  <a:cubicBezTo>
                    <a:pt x="1104" y="587"/>
                    <a:pt x="1138" y="467"/>
                    <a:pt x="1113" y="357"/>
                  </a:cubicBezTo>
                  <a:cubicBezTo>
                    <a:pt x="1107" y="358"/>
                    <a:pt x="1107" y="358"/>
                    <a:pt x="1107" y="358"/>
                  </a:cubicBezTo>
                  <a:cubicBezTo>
                    <a:pt x="1132" y="467"/>
                    <a:pt x="1098" y="585"/>
                    <a:pt x="1066" y="666"/>
                  </a:cubicBezTo>
                  <a:cubicBezTo>
                    <a:pt x="1038" y="735"/>
                    <a:pt x="1006" y="788"/>
                    <a:pt x="994" y="808"/>
                  </a:cubicBezTo>
                  <a:cubicBezTo>
                    <a:pt x="989" y="808"/>
                    <a:pt x="983" y="809"/>
                    <a:pt x="978" y="810"/>
                  </a:cubicBezTo>
                  <a:cubicBezTo>
                    <a:pt x="985" y="759"/>
                    <a:pt x="1006" y="556"/>
                    <a:pt x="976" y="428"/>
                  </a:cubicBezTo>
                  <a:cubicBezTo>
                    <a:pt x="970" y="430"/>
                    <a:pt x="970" y="430"/>
                    <a:pt x="970" y="430"/>
                  </a:cubicBezTo>
                  <a:cubicBezTo>
                    <a:pt x="1000" y="558"/>
                    <a:pt x="978" y="765"/>
                    <a:pt x="972" y="811"/>
                  </a:cubicBezTo>
                  <a:cubicBezTo>
                    <a:pt x="972" y="811"/>
                    <a:pt x="971" y="811"/>
                    <a:pt x="971" y="812"/>
                  </a:cubicBezTo>
                  <a:cubicBezTo>
                    <a:pt x="967" y="813"/>
                    <a:pt x="964" y="814"/>
                    <a:pt x="961" y="815"/>
                  </a:cubicBezTo>
                  <a:cubicBezTo>
                    <a:pt x="932" y="750"/>
                    <a:pt x="760" y="358"/>
                    <a:pt x="795" y="209"/>
                  </a:cubicBezTo>
                  <a:cubicBezTo>
                    <a:pt x="789" y="208"/>
                    <a:pt x="789" y="208"/>
                    <a:pt x="789" y="208"/>
                  </a:cubicBezTo>
                  <a:cubicBezTo>
                    <a:pt x="753" y="361"/>
                    <a:pt x="925" y="751"/>
                    <a:pt x="955" y="818"/>
                  </a:cubicBezTo>
                  <a:cubicBezTo>
                    <a:pt x="943" y="823"/>
                    <a:pt x="933" y="831"/>
                    <a:pt x="924" y="841"/>
                  </a:cubicBezTo>
                  <a:cubicBezTo>
                    <a:pt x="662" y="587"/>
                    <a:pt x="335" y="432"/>
                    <a:pt x="270" y="402"/>
                  </a:cubicBezTo>
                  <a:cubicBezTo>
                    <a:pt x="299" y="378"/>
                    <a:pt x="329" y="361"/>
                    <a:pt x="361" y="352"/>
                  </a:cubicBezTo>
                  <a:close/>
                  <a:moveTo>
                    <a:pt x="1269" y="122"/>
                  </a:moveTo>
                  <a:cubicBezTo>
                    <a:pt x="1367" y="317"/>
                    <a:pt x="1307" y="502"/>
                    <a:pt x="1239" y="623"/>
                  </a:cubicBezTo>
                  <a:cubicBezTo>
                    <a:pt x="1176" y="736"/>
                    <a:pt x="1095" y="816"/>
                    <a:pt x="1070" y="839"/>
                  </a:cubicBezTo>
                  <a:cubicBezTo>
                    <a:pt x="1061" y="829"/>
                    <a:pt x="1051" y="822"/>
                    <a:pt x="1039" y="817"/>
                  </a:cubicBezTo>
                  <a:cubicBezTo>
                    <a:pt x="1062" y="793"/>
                    <a:pt x="1120" y="726"/>
                    <a:pt x="1163" y="623"/>
                  </a:cubicBezTo>
                  <a:cubicBezTo>
                    <a:pt x="1212" y="506"/>
                    <a:pt x="1249" y="319"/>
                    <a:pt x="1157" y="88"/>
                  </a:cubicBezTo>
                  <a:cubicBezTo>
                    <a:pt x="1195" y="96"/>
                    <a:pt x="1233" y="107"/>
                    <a:pt x="1269" y="122"/>
                  </a:cubicBezTo>
                  <a:close/>
                  <a:moveTo>
                    <a:pt x="1071" y="882"/>
                  </a:moveTo>
                  <a:cubicBezTo>
                    <a:pt x="1074" y="892"/>
                    <a:pt x="1075" y="902"/>
                    <a:pt x="1073" y="912"/>
                  </a:cubicBezTo>
                  <a:cubicBezTo>
                    <a:pt x="1074" y="901"/>
                    <a:pt x="1073" y="890"/>
                    <a:pt x="1070" y="880"/>
                  </a:cubicBezTo>
                  <a:cubicBezTo>
                    <a:pt x="1071" y="880"/>
                    <a:pt x="1071" y="881"/>
                    <a:pt x="1071" y="882"/>
                  </a:cubicBezTo>
                  <a:close/>
                  <a:moveTo>
                    <a:pt x="942" y="852"/>
                  </a:moveTo>
                  <a:cubicBezTo>
                    <a:pt x="951" y="843"/>
                    <a:pt x="963" y="835"/>
                    <a:pt x="977" y="831"/>
                  </a:cubicBezTo>
                  <a:cubicBezTo>
                    <a:pt x="979" y="831"/>
                    <a:pt x="982" y="830"/>
                    <a:pt x="984" y="830"/>
                  </a:cubicBezTo>
                  <a:cubicBezTo>
                    <a:pt x="1004" y="826"/>
                    <a:pt x="1023" y="830"/>
                    <a:pt x="1038" y="839"/>
                  </a:cubicBezTo>
                  <a:cubicBezTo>
                    <a:pt x="1047" y="847"/>
                    <a:pt x="1055" y="856"/>
                    <a:pt x="1061" y="870"/>
                  </a:cubicBezTo>
                  <a:cubicBezTo>
                    <a:pt x="1070" y="891"/>
                    <a:pt x="1070" y="916"/>
                    <a:pt x="1061" y="944"/>
                  </a:cubicBezTo>
                  <a:cubicBezTo>
                    <a:pt x="1051" y="959"/>
                    <a:pt x="1036" y="970"/>
                    <a:pt x="1017" y="975"/>
                  </a:cubicBezTo>
                  <a:cubicBezTo>
                    <a:pt x="976" y="987"/>
                    <a:pt x="934" y="964"/>
                    <a:pt x="923" y="924"/>
                  </a:cubicBezTo>
                  <a:cubicBezTo>
                    <a:pt x="921" y="918"/>
                    <a:pt x="920" y="911"/>
                    <a:pt x="920" y="905"/>
                  </a:cubicBezTo>
                  <a:cubicBezTo>
                    <a:pt x="927" y="895"/>
                    <a:pt x="937" y="877"/>
                    <a:pt x="942" y="852"/>
                  </a:cubicBezTo>
                  <a:close/>
                  <a:moveTo>
                    <a:pt x="922" y="890"/>
                  </a:moveTo>
                  <a:cubicBezTo>
                    <a:pt x="924" y="881"/>
                    <a:pt x="927" y="872"/>
                    <a:pt x="933" y="864"/>
                  </a:cubicBezTo>
                  <a:cubicBezTo>
                    <a:pt x="929" y="874"/>
                    <a:pt x="926" y="883"/>
                    <a:pt x="922" y="890"/>
                  </a:cubicBezTo>
                  <a:close/>
                  <a:moveTo>
                    <a:pt x="264" y="406"/>
                  </a:moveTo>
                  <a:cubicBezTo>
                    <a:pt x="323" y="433"/>
                    <a:pt x="655" y="588"/>
                    <a:pt x="920" y="845"/>
                  </a:cubicBezTo>
                  <a:cubicBezTo>
                    <a:pt x="917" y="849"/>
                    <a:pt x="914" y="853"/>
                    <a:pt x="912" y="858"/>
                  </a:cubicBezTo>
                  <a:cubicBezTo>
                    <a:pt x="843" y="812"/>
                    <a:pt x="380" y="508"/>
                    <a:pt x="184" y="490"/>
                  </a:cubicBezTo>
                  <a:cubicBezTo>
                    <a:pt x="201" y="471"/>
                    <a:pt x="219" y="450"/>
                    <a:pt x="239" y="430"/>
                  </a:cubicBezTo>
                  <a:cubicBezTo>
                    <a:pt x="247" y="421"/>
                    <a:pt x="256" y="414"/>
                    <a:pt x="264" y="406"/>
                  </a:cubicBezTo>
                  <a:close/>
                  <a:moveTo>
                    <a:pt x="998" y="999"/>
                  </a:moveTo>
                  <a:cubicBezTo>
                    <a:pt x="1003" y="999"/>
                    <a:pt x="1008" y="998"/>
                    <a:pt x="1014" y="997"/>
                  </a:cubicBezTo>
                  <a:cubicBezTo>
                    <a:pt x="1016" y="997"/>
                    <a:pt x="1018" y="996"/>
                    <a:pt x="1020" y="996"/>
                  </a:cubicBezTo>
                  <a:cubicBezTo>
                    <a:pt x="1045" y="1074"/>
                    <a:pt x="1206" y="1604"/>
                    <a:pt x="1185" y="1754"/>
                  </a:cubicBezTo>
                  <a:cubicBezTo>
                    <a:pt x="1161" y="1764"/>
                    <a:pt x="1135" y="1772"/>
                    <a:pt x="1107" y="1777"/>
                  </a:cubicBezTo>
                  <a:cubicBezTo>
                    <a:pt x="1106" y="1777"/>
                    <a:pt x="1106" y="1777"/>
                    <a:pt x="1105" y="1777"/>
                  </a:cubicBezTo>
                  <a:cubicBezTo>
                    <a:pt x="1110" y="1671"/>
                    <a:pt x="1013" y="1089"/>
                    <a:pt x="998" y="999"/>
                  </a:cubicBezTo>
                  <a:close/>
                  <a:moveTo>
                    <a:pt x="1725" y="1253"/>
                  </a:moveTo>
                  <a:cubicBezTo>
                    <a:pt x="1566" y="1251"/>
                    <a:pt x="1399" y="1170"/>
                    <a:pt x="1286" y="1101"/>
                  </a:cubicBezTo>
                  <a:cubicBezTo>
                    <a:pt x="1181" y="1038"/>
                    <a:pt x="1102" y="973"/>
                    <a:pt x="1079" y="953"/>
                  </a:cubicBezTo>
                  <a:cubicBezTo>
                    <a:pt x="1080" y="952"/>
                    <a:pt x="1081" y="951"/>
                    <a:pt x="1082" y="949"/>
                  </a:cubicBezTo>
                  <a:cubicBezTo>
                    <a:pt x="1085" y="944"/>
                    <a:pt x="1088" y="938"/>
                    <a:pt x="1090" y="932"/>
                  </a:cubicBezTo>
                  <a:cubicBezTo>
                    <a:pt x="1120" y="947"/>
                    <a:pt x="1217" y="994"/>
                    <a:pt x="1335" y="1036"/>
                  </a:cubicBezTo>
                  <a:cubicBezTo>
                    <a:pt x="1464" y="1082"/>
                    <a:pt x="1643" y="1132"/>
                    <a:pt x="1782" y="1114"/>
                  </a:cubicBezTo>
                  <a:cubicBezTo>
                    <a:pt x="1770" y="1151"/>
                    <a:pt x="1755" y="1190"/>
                    <a:pt x="1737" y="1231"/>
                  </a:cubicBezTo>
                  <a:cubicBezTo>
                    <a:pt x="1733" y="1239"/>
                    <a:pt x="1729" y="1246"/>
                    <a:pt x="1725" y="1253"/>
                  </a:cubicBezTo>
                  <a:close/>
                  <a:moveTo>
                    <a:pt x="753" y="164"/>
                  </a:moveTo>
                  <a:cubicBezTo>
                    <a:pt x="780" y="105"/>
                    <a:pt x="851" y="61"/>
                    <a:pt x="948" y="43"/>
                  </a:cubicBezTo>
                  <a:cubicBezTo>
                    <a:pt x="1148" y="6"/>
                    <a:pt x="1415" y="83"/>
                    <a:pt x="1538" y="301"/>
                  </a:cubicBezTo>
                  <a:cubicBezTo>
                    <a:pt x="1573" y="363"/>
                    <a:pt x="1579" y="425"/>
                    <a:pt x="1558" y="485"/>
                  </a:cubicBezTo>
                  <a:cubicBezTo>
                    <a:pt x="1554" y="496"/>
                    <a:pt x="1549" y="507"/>
                    <a:pt x="1544" y="518"/>
                  </a:cubicBezTo>
                  <a:cubicBezTo>
                    <a:pt x="1545" y="514"/>
                    <a:pt x="1547" y="511"/>
                    <a:pt x="1548" y="508"/>
                  </a:cubicBezTo>
                  <a:cubicBezTo>
                    <a:pt x="1570" y="446"/>
                    <a:pt x="1563" y="383"/>
                    <a:pt x="1527" y="320"/>
                  </a:cubicBezTo>
                  <a:cubicBezTo>
                    <a:pt x="1406" y="105"/>
                    <a:pt x="1144" y="29"/>
                    <a:pt x="947" y="65"/>
                  </a:cubicBezTo>
                  <a:cubicBezTo>
                    <a:pt x="849" y="83"/>
                    <a:pt x="777" y="128"/>
                    <a:pt x="749" y="189"/>
                  </a:cubicBezTo>
                  <a:cubicBezTo>
                    <a:pt x="743" y="202"/>
                    <a:pt x="739" y="215"/>
                    <a:pt x="736" y="230"/>
                  </a:cubicBezTo>
                  <a:cubicBezTo>
                    <a:pt x="738" y="206"/>
                    <a:pt x="744" y="184"/>
                    <a:pt x="753" y="164"/>
                  </a:cubicBezTo>
                  <a:close/>
                  <a:moveTo>
                    <a:pt x="49" y="764"/>
                  </a:moveTo>
                  <a:cubicBezTo>
                    <a:pt x="7" y="675"/>
                    <a:pt x="60" y="550"/>
                    <a:pt x="204" y="404"/>
                  </a:cubicBezTo>
                  <a:cubicBezTo>
                    <a:pt x="252" y="354"/>
                    <a:pt x="304" y="324"/>
                    <a:pt x="358" y="314"/>
                  </a:cubicBezTo>
                  <a:cubicBezTo>
                    <a:pt x="423" y="302"/>
                    <a:pt x="486" y="319"/>
                    <a:pt x="546" y="352"/>
                  </a:cubicBezTo>
                  <a:cubicBezTo>
                    <a:pt x="493" y="327"/>
                    <a:pt x="437" y="315"/>
                    <a:pt x="380" y="326"/>
                  </a:cubicBezTo>
                  <a:cubicBezTo>
                    <a:pt x="325" y="336"/>
                    <a:pt x="273" y="366"/>
                    <a:pt x="224" y="415"/>
                  </a:cubicBezTo>
                  <a:cubicBezTo>
                    <a:pt x="82" y="560"/>
                    <a:pt x="30" y="686"/>
                    <a:pt x="73" y="777"/>
                  </a:cubicBezTo>
                  <a:cubicBezTo>
                    <a:pt x="85" y="802"/>
                    <a:pt x="105" y="828"/>
                    <a:pt x="138" y="850"/>
                  </a:cubicBezTo>
                  <a:cubicBezTo>
                    <a:pt x="95" y="828"/>
                    <a:pt x="65" y="799"/>
                    <a:pt x="49" y="764"/>
                  </a:cubicBezTo>
                  <a:close/>
                  <a:moveTo>
                    <a:pt x="564" y="1548"/>
                  </a:moveTo>
                  <a:cubicBezTo>
                    <a:pt x="437" y="1572"/>
                    <a:pt x="301" y="1482"/>
                    <a:pt x="200" y="1309"/>
                  </a:cubicBezTo>
                  <a:cubicBezTo>
                    <a:pt x="161" y="1243"/>
                    <a:pt x="154" y="1183"/>
                    <a:pt x="178" y="1131"/>
                  </a:cubicBezTo>
                  <a:cubicBezTo>
                    <a:pt x="194" y="1094"/>
                    <a:pt x="226" y="1063"/>
                    <a:pt x="265" y="1037"/>
                  </a:cubicBezTo>
                  <a:cubicBezTo>
                    <a:pt x="235" y="1060"/>
                    <a:pt x="211" y="1087"/>
                    <a:pt x="197" y="1118"/>
                  </a:cubicBezTo>
                  <a:cubicBezTo>
                    <a:pt x="172" y="1172"/>
                    <a:pt x="179" y="1234"/>
                    <a:pt x="219" y="1301"/>
                  </a:cubicBezTo>
                  <a:cubicBezTo>
                    <a:pt x="319" y="1473"/>
                    <a:pt x="455" y="1561"/>
                    <a:pt x="583" y="1538"/>
                  </a:cubicBezTo>
                  <a:cubicBezTo>
                    <a:pt x="600" y="1535"/>
                    <a:pt x="619" y="1529"/>
                    <a:pt x="641" y="1519"/>
                  </a:cubicBezTo>
                  <a:cubicBezTo>
                    <a:pt x="616" y="1533"/>
                    <a:pt x="591" y="1543"/>
                    <a:pt x="564" y="1548"/>
                  </a:cubicBezTo>
                  <a:close/>
                  <a:moveTo>
                    <a:pt x="1341" y="1653"/>
                  </a:moveTo>
                  <a:cubicBezTo>
                    <a:pt x="1308" y="1740"/>
                    <a:pt x="1229" y="1797"/>
                    <a:pt x="1113" y="1818"/>
                  </a:cubicBezTo>
                  <a:cubicBezTo>
                    <a:pt x="1091" y="1822"/>
                    <a:pt x="1068" y="1825"/>
                    <a:pt x="1043" y="1827"/>
                  </a:cubicBezTo>
                  <a:cubicBezTo>
                    <a:pt x="980" y="1830"/>
                    <a:pt x="930" y="1810"/>
                    <a:pt x="893" y="1768"/>
                  </a:cubicBezTo>
                  <a:cubicBezTo>
                    <a:pt x="867" y="1738"/>
                    <a:pt x="849" y="1699"/>
                    <a:pt x="837" y="1655"/>
                  </a:cubicBezTo>
                  <a:cubicBezTo>
                    <a:pt x="849" y="1689"/>
                    <a:pt x="865" y="1720"/>
                    <a:pt x="886" y="1744"/>
                  </a:cubicBezTo>
                  <a:cubicBezTo>
                    <a:pt x="924" y="1788"/>
                    <a:pt x="976" y="1809"/>
                    <a:pt x="1041" y="1805"/>
                  </a:cubicBezTo>
                  <a:cubicBezTo>
                    <a:pt x="1065" y="1804"/>
                    <a:pt x="1089" y="1801"/>
                    <a:pt x="1111" y="1797"/>
                  </a:cubicBezTo>
                  <a:cubicBezTo>
                    <a:pt x="1226" y="1776"/>
                    <a:pt x="1305" y="1718"/>
                    <a:pt x="1339" y="1630"/>
                  </a:cubicBezTo>
                  <a:cubicBezTo>
                    <a:pt x="1352" y="1595"/>
                    <a:pt x="1358" y="1556"/>
                    <a:pt x="1356" y="1515"/>
                  </a:cubicBezTo>
                  <a:cubicBezTo>
                    <a:pt x="1361" y="1565"/>
                    <a:pt x="1356" y="1611"/>
                    <a:pt x="1341" y="1653"/>
                  </a:cubicBezTo>
                  <a:close/>
                  <a:moveTo>
                    <a:pt x="1774" y="1246"/>
                  </a:moveTo>
                  <a:cubicBezTo>
                    <a:pt x="1739" y="1321"/>
                    <a:pt x="1689" y="1365"/>
                    <a:pt x="1625" y="1377"/>
                  </a:cubicBezTo>
                  <a:cubicBezTo>
                    <a:pt x="1598" y="1382"/>
                    <a:pt x="1569" y="1381"/>
                    <a:pt x="1540" y="1375"/>
                  </a:cubicBezTo>
                  <a:cubicBezTo>
                    <a:pt x="1561" y="1377"/>
                    <a:pt x="1582" y="1377"/>
                    <a:pt x="1602" y="1373"/>
                  </a:cubicBezTo>
                  <a:cubicBezTo>
                    <a:pt x="1602" y="1373"/>
                    <a:pt x="1602" y="1373"/>
                    <a:pt x="1602" y="1373"/>
                  </a:cubicBezTo>
                  <a:cubicBezTo>
                    <a:pt x="1668" y="1361"/>
                    <a:pt x="1719" y="1316"/>
                    <a:pt x="1755" y="1240"/>
                  </a:cubicBezTo>
                  <a:cubicBezTo>
                    <a:pt x="1844" y="1048"/>
                    <a:pt x="1854" y="885"/>
                    <a:pt x="1782" y="791"/>
                  </a:cubicBezTo>
                  <a:cubicBezTo>
                    <a:pt x="1748" y="747"/>
                    <a:pt x="1698" y="719"/>
                    <a:pt x="1633" y="707"/>
                  </a:cubicBezTo>
                  <a:cubicBezTo>
                    <a:pt x="1709" y="717"/>
                    <a:pt x="1767" y="745"/>
                    <a:pt x="1804" y="793"/>
                  </a:cubicBezTo>
                  <a:cubicBezTo>
                    <a:pt x="1876" y="886"/>
                    <a:pt x="1865" y="1051"/>
                    <a:pt x="1774" y="1246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206280" y="4911480"/>
              <a:ext cx="28440" cy="27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5" h="121">
                  <a:moveTo>
                    <a:pt x="41" y="117"/>
                  </a:moveTo>
                  <a:cubicBezTo>
                    <a:pt x="42" y="118"/>
                    <a:pt x="42" y="118"/>
                    <a:pt x="43" y="119"/>
                  </a:cubicBezTo>
                  <a:cubicBezTo>
                    <a:pt x="43" y="118"/>
                    <a:pt x="43" y="118"/>
                    <a:pt x="43" y="118"/>
                  </a:cubicBezTo>
                  <a:cubicBezTo>
                    <a:pt x="52" y="120"/>
                    <a:pt x="61" y="121"/>
                    <a:pt x="70" y="119"/>
                  </a:cubicBezTo>
                  <a:cubicBezTo>
                    <a:pt x="71" y="119"/>
                    <a:pt x="72" y="119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8"/>
                    <a:pt x="75" y="118"/>
                    <a:pt x="76" y="118"/>
                  </a:cubicBezTo>
                  <a:cubicBezTo>
                    <a:pt x="106" y="109"/>
                    <a:pt x="125" y="77"/>
                    <a:pt x="116" y="47"/>
                  </a:cubicBezTo>
                  <a:cubicBezTo>
                    <a:pt x="108" y="17"/>
                    <a:pt x="76" y="0"/>
                    <a:pt x="45" y="9"/>
                  </a:cubicBezTo>
                  <a:cubicBezTo>
                    <a:pt x="41" y="10"/>
                    <a:pt x="37" y="12"/>
                    <a:pt x="33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ubicBezTo>
                    <a:pt x="23" y="19"/>
                    <a:pt x="15" y="26"/>
                    <a:pt x="9" y="36"/>
                  </a:cubicBezTo>
                  <a:cubicBezTo>
                    <a:pt x="2" y="49"/>
                    <a:pt x="0" y="65"/>
                    <a:pt x="4" y="79"/>
                  </a:cubicBezTo>
                  <a:cubicBezTo>
                    <a:pt x="9" y="98"/>
                    <a:pt x="24" y="111"/>
                    <a:pt x="41" y="117"/>
                  </a:cubicBezTo>
                  <a:close/>
                  <a:moveTo>
                    <a:pt x="103" y="30"/>
                  </a:moveTo>
                  <a:cubicBezTo>
                    <a:pt x="107" y="36"/>
                    <a:pt x="110" y="42"/>
                    <a:pt x="112" y="48"/>
                  </a:cubicBezTo>
                  <a:cubicBezTo>
                    <a:pt x="120" y="76"/>
                    <a:pt x="104" y="104"/>
                    <a:pt x="77" y="113"/>
                  </a:cubicBezTo>
                  <a:cubicBezTo>
                    <a:pt x="67" y="107"/>
                    <a:pt x="64" y="92"/>
                    <a:pt x="64" y="77"/>
                  </a:cubicBezTo>
                  <a:cubicBezTo>
                    <a:pt x="83" y="67"/>
                    <a:pt x="98" y="39"/>
                    <a:pt x="103" y="30"/>
                  </a:cubicBezTo>
                  <a:close/>
                  <a:moveTo>
                    <a:pt x="98" y="26"/>
                  </a:moveTo>
                  <a:cubicBezTo>
                    <a:pt x="97" y="29"/>
                    <a:pt x="82" y="58"/>
                    <a:pt x="65" y="69"/>
                  </a:cubicBezTo>
                  <a:cubicBezTo>
                    <a:pt x="66" y="45"/>
                    <a:pt x="74" y="19"/>
                    <a:pt x="76" y="13"/>
                  </a:cubicBezTo>
                  <a:cubicBezTo>
                    <a:pt x="84" y="15"/>
                    <a:pt x="92" y="19"/>
                    <a:pt x="98" y="26"/>
                  </a:cubicBezTo>
                  <a:close/>
                  <a:moveTo>
                    <a:pt x="39" y="16"/>
                  </a:moveTo>
                  <a:cubicBezTo>
                    <a:pt x="38" y="15"/>
                    <a:pt x="38" y="15"/>
                    <a:pt x="38" y="15"/>
                  </a:cubicBezTo>
                  <a:cubicBezTo>
                    <a:pt x="41" y="14"/>
                    <a:pt x="43" y="13"/>
                    <a:pt x="46" y="13"/>
                  </a:cubicBezTo>
                  <a:cubicBezTo>
                    <a:pt x="47" y="12"/>
                    <a:pt x="49" y="12"/>
                    <a:pt x="51" y="11"/>
                  </a:cubicBezTo>
                  <a:cubicBezTo>
                    <a:pt x="57" y="10"/>
                    <a:pt x="64" y="10"/>
                    <a:pt x="70" y="11"/>
                  </a:cubicBezTo>
                  <a:cubicBezTo>
                    <a:pt x="66" y="24"/>
                    <a:pt x="47" y="91"/>
                    <a:pt x="69" y="115"/>
                  </a:cubicBezTo>
                  <a:cubicBezTo>
                    <a:pt x="61" y="116"/>
                    <a:pt x="53" y="116"/>
                    <a:pt x="46" y="11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10" y="86"/>
                    <a:pt x="38" y="16"/>
                    <a:pt x="39" y="16"/>
                  </a:cubicBezTo>
                  <a:close/>
                  <a:moveTo>
                    <a:pt x="8" y="78"/>
                  </a:moveTo>
                  <a:cubicBezTo>
                    <a:pt x="4" y="65"/>
                    <a:pt x="6" y="50"/>
                    <a:pt x="13" y="38"/>
                  </a:cubicBezTo>
                  <a:cubicBezTo>
                    <a:pt x="17" y="31"/>
                    <a:pt x="23" y="24"/>
                    <a:pt x="30" y="20"/>
                  </a:cubicBezTo>
                  <a:cubicBezTo>
                    <a:pt x="25" y="37"/>
                    <a:pt x="12" y="83"/>
                    <a:pt x="34" y="110"/>
                  </a:cubicBezTo>
                  <a:cubicBezTo>
                    <a:pt x="22" y="104"/>
                    <a:pt x="12" y="92"/>
                    <a:pt x="8" y="78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171720" y="4865040"/>
              <a:ext cx="7920" cy="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6" h="92">
                  <a:moveTo>
                    <a:pt x="86" y="8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74" y="92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47520" y="4893840"/>
              <a:ext cx="39600" cy="12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9" h="135">
                  <a:moveTo>
                    <a:pt x="0" y="12"/>
                  </a:moveTo>
                  <a:lnTo>
                    <a:pt x="407" y="135"/>
                  </a:lnTo>
                  <a:lnTo>
                    <a:pt x="409" y="120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39600" y="4854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" h="68">
                  <a:moveTo>
                    <a:pt x="133" y="57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126" y="68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113760" y="4938120"/>
              <a:ext cx="27360" cy="11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0" h="53">
                  <a:moveTo>
                    <a:pt x="120" y="5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92" y="7"/>
                    <a:pt x="4" y="46"/>
                    <a:pt x="0" y="4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3" y="53"/>
                    <a:pt x="94" y="13"/>
                    <a:pt x="120" y="5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169920" y="4953960"/>
              <a:ext cx="29160" cy="31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1" h="329">
                  <a:moveTo>
                    <a:pt x="289" y="0"/>
                  </a:moveTo>
                  <a:lnTo>
                    <a:pt x="0" y="320"/>
                  </a:lnTo>
                  <a:lnTo>
                    <a:pt x="12" y="329"/>
                  </a:lnTo>
                  <a:lnTo>
                    <a:pt x="301" y="1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03F721-591D-4BD5-87A0-D9384D3650B5}" type="slidenum">
              <a:rPr b="0" lang="en-US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39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1720" y="1523880"/>
            <a:ext cx="4061160" cy="117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600" spc="-1" strike="noStrike">
                <a:solidFill>
                  <a:srgbClr val="71933a"/>
                </a:solidFill>
                <a:latin typeface="Arial"/>
              </a:rPr>
              <a:t>口语交际  讲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"/>
          <p:cNvGrpSpPr/>
          <p:nvPr/>
        </p:nvGrpSpPr>
        <p:grpSpPr>
          <a:xfrm>
            <a:off x="467280" y="459720"/>
            <a:ext cx="1920600" cy="363960"/>
            <a:chOff x="467280" y="459720"/>
            <a:chExt cx="1920600" cy="363960"/>
          </a:xfrm>
        </p:grpSpPr>
        <p:sp>
          <p:nvSpPr>
            <p:cNvPr id="129" name="圆角矩形 4"/>
            <p:cNvSpPr/>
            <p:nvPr/>
          </p:nvSpPr>
          <p:spPr>
            <a:xfrm>
              <a:off x="467280" y="507240"/>
              <a:ext cx="1920600" cy="31176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30" name="文本框 1"/>
            <p:cNvSpPr/>
            <p:nvPr/>
          </p:nvSpPr>
          <p:spPr>
            <a:xfrm>
              <a:off x="855360" y="459720"/>
              <a:ext cx="114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八年级语文上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6"/>
          <p:cNvSpPr/>
          <p:nvPr/>
        </p:nvSpPr>
        <p:spPr>
          <a:xfrm>
            <a:off x="1182600" y="41259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7240" y="1152360"/>
            <a:ext cx="802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够流利准确地表达自己的观点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介绍清楚人物的性格特征或精神品质，介绍清楚事件的基本要素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在讲述中注意对象和场合氛围。（素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1"/>
          <p:cNvGrpSpPr/>
          <p:nvPr/>
        </p:nvGrpSpPr>
        <p:grpSpPr>
          <a:xfrm>
            <a:off x="-2880" y="41760"/>
            <a:ext cx="2006280" cy="516240"/>
            <a:chOff x="-2880" y="41760"/>
            <a:chExt cx="2006280" cy="516240"/>
          </a:xfrm>
        </p:grpSpPr>
        <p:sp>
          <p:nvSpPr>
            <p:cNvPr id="134" name="文本框 6"/>
            <p:cNvSpPr/>
            <p:nvPr/>
          </p:nvSpPr>
          <p:spPr>
            <a:xfrm>
              <a:off x="675360" y="417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直线连接符 9"/>
            <p:cNvCxnSpPr/>
            <p:nvPr/>
          </p:nvCxnSpPr>
          <p:spPr>
            <a:xfrm>
              <a:off x="-2880" y="52740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36" name="菱形 9"/>
            <p:cNvSpPr/>
            <p:nvPr/>
          </p:nvSpPr>
          <p:spPr>
            <a:xfrm>
              <a:off x="31680" y="17640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556200"/>
            <a:ext cx="553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注意讲述的对象和场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68360" y="1118160"/>
            <a:ext cx="82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为口语交际活动，讲述要有对象和场合意识。同样的内容，对象不同，讲述的方式就要有所不同。要根据讲述的对象、场合调整语速和表情等，还应该根据故事中角色的不同，适当变换语气语调，模拟角色的声音。要注意讲述的场合，根据场合的特点调整讲述的方式。在正式的场合进行讲述，要事先做好准备，斟酌言辞，想好开头和结尾，讲述时的语调要平缓自然，语气要庄重严肃；而日常聊天时的讲述就可以随意一些，语气语调不妨多些变化，甚至可以加一些幽默调侃的话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8"/>
          <p:cNvGrpSpPr/>
          <p:nvPr/>
        </p:nvGrpSpPr>
        <p:grpSpPr>
          <a:xfrm>
            <a:off x="0" y="-20160"/>
            <a:ext cx="2006280" cy="516240"/>
            <a:chOff x="0" y="-20160"/>
            <a:chExt cx="2006280" cy="516240"/>
          </a:xfrm>
        </p:grpSpPr>
        <p:sp>
          <p:nvSpPr>
            <p:cNvPr id="140" name="文本框 6"/>
            <p:cNvSpPr/>
            <p:nvPr/>
          </p:nvSpPr>
          <p:spPr>
            <a:xfrm>
              <a:off x="678600" y="-201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直线连接符 9"/>
            <p:cNvCxnSpPr/>
            <p:nvPr/>
          </p:nvCxnSpPr>
          <p:spPr>
            <a:xfrm>
              <a:off x="0" y="46548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42" name="菱形 10"/>
            <p:cNvSpPr/>
            <p:nvPr/>
          </p:nvSpPr>
          <p:spPr>
            <a:xfrm>
              <a:off x="34920" y="11448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36680" y="681120"/>
            <a:ext cx="788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要重点突出，条理清楚，运用一些叙事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65120" y="1394280"/>
            <a:ext cx="8143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管哪种讲述，最基本的要求都是重点突出、条理清楚，更要注意语言简洁，还要注意与听众互动。讲述者还需要运用一些叙事技巧，增强讲述的效果。比如，先叙述结果，再逐步讲述事件的发展过程，解答听众的疑惑，这样可能比按时间顺序讲述有更好的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8"/>
          <p:cNvGrpSpPr/>
          <p:nvPr/>
        </p:nvGrpSpPr>
        <p:grpSpPr>
          <a:xfrm>
            <a:off x="0" y="-20160"/>
            <a:ext cx="2006280" cy="516240"/>
            <a:chOff x="0" y="-20160"/>
            <a:chExt cx="2006280" cy="516240"/>
          </a:xfrm>
        </p:grpSpPr>
        <p:sp>
          <p:nvSpPr>
            <p:cNvPr id="146" name="文本框 6"/>
            <p:cNvSpPr/>
            <p:nvPr/>
          </p:nvSpPr>
          <p:spPr>
            <a:xfrm>
              <a:off x="678600" y="-201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直线连接符 9"/>
            <p:cNvCxnSpPr/>
            <p:nvPr/>
          </p:nvCxnSpPr>
          <p:spPr>
            <a:xfrm>
              <a:off x="0" y="46548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48" name="菱形 7"/>
            <p:cNvSpPr/>
            <p:nvPr/>
          </p:nvSpPr>
          <p:spPr>
            <a:xfrm>
              <a:off x="34920" y="11448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8360" y="738360"/>
            <a:ext cx="498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注意口语表达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68360" y="1394280"/>
            <a:ext cx="808308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述时，要多用口语，避免过于书面化的表达，尽量不用生僻词语和专门术语；要多用短句，少用长句；多用单句，少用复句。有时为了强调，提醒听者注意，可以适当重复说一些话。还可以借助说话的停顿、语速、语气、语调和动作、表情，增强讲述的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8"/>
          <p:cNvGrpSpPr/>
          <p:nvPr/>
        </p:nvGrpSpPr>
        <p:grpSpPr>
          <a:xfrm>
            <a:off x="0" y="-20160"/>
            <a:ext cx="2006280" cy="516240"/>
            <a:chOff x="0" y="-20160"/>
            <a:chExt cx="2006280" cy="516240"/>
          </a:xfrm>
        </p:grpSpPr>
        <p:sp>
          <p:nvSpPr>
            <p:cNvPr id="152" name="文本框 6"/>
            <p:cNvSpPr/>
            <p:nvPr/>
          </p:nvSpPr>
          <p:spPr>
            <a:xfrm>
              <a:off x="678600" y="-201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线连接符 9"/>
            <p:cNvCxnSpPr/>
            <p:nvPr/>
          </p:nvCxnSpPr>
          <p:spPr>
            <a:xfrm>
              <a:off x="0" y="46548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54" name="菱形 7"/>
            <p:cNvSpPr/>
            <p:nvPr/>
          </p:nvSpPr>
          <p:spPr>
            <a:xfrm>
              <a:off x="34920" y="11448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55640" y="903600"/>
            <a:ext cx="791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外，讲述人物时，可以增加一些别的内容，如外貌、行动、语言、心理等，以此突出人物的某种性格特征或精神品质。讲述故事时，要交代清楚故事的来龙去脉、前因后果，还要把故事中的人物、时间、地点等要素表述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8"/>
          <p:cNvGrpSpPr/>
          <p:nvPr/>
        </p:nvGrpSpPr>
        <p:grpSpPr>
          <a:xfrm>
            <a:off x="0" y="-20160"/>
            <a:ext cx="2006280" cy="516240"/>
            <a:chOff x="0" y="-20160"/>
            <a:chExt cx="2006280" cy="516240"/>
          </a:xfrm>
        </p:grpSpPr>
        <p:sp>
          <p:nvSpPr>
            <p:cNvPr id="157" name="文本框 6"/>
            <p:cNvSpPr/>
            <p:nvPr/>
          </p:nvSpPr>
          <p:spPr>
            <a:xfrm>
              <a:off x="678600" y="-201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直线连接符 9"/>
            <p:cNvCxnSpPr/>
            <p:nvPr/>
          </p:nvCxnSpPr>
          <p:spPr>
            <a:xfrm>
              <a:off x="0" y="46548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59" name="菱形 6"/>
            <p:cNvSpPr/>
            <p:nvPr/>
          </p:nvSpPr>
          <p:spPr>
            <a:xfrm>
              <a:off x="34920" y="114480"/>
              <a:ext cx="35064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826920" y="685800"/>
            <a:ext cx="7200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下列题目中选一个，讲给你的同学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经历过这样一件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这样一位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印象最深的一次出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喜欢的一位老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本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最爱听的一首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美丽的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9"/>
          <p:cNvGrpSpPr/>
          <p:nvPr/>
        </p:nvGrpSpPr>
        <p:grpSpPr>
          <a:xfrm>
            <a:off x="44280" y="-39240"/>
            <a:ext cx="2006640" cy="516240"/>
            <a:chOff x="44280" y="-39240"/>
            <a:chExt cx="2006640" cy="516240"/>
          </a:xfrm>
        </p:grpSpPr>
        <p:sp>
          <p:nvSpPr>
            <p:cNvPr id="162" name="文本框 6"/>
            <p:cNvSpPr/>
            <p:nvPr/>
          </p:nvSpPr>
          <p:spPr>
            <a:xfrm>
              <a:off x="723240" y="-392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直线连接符 9"/>
            <p:cNvCxnSpPr/>
            <p:nvPr/>
          </p:nvCxnSpPr>
          <p:spPr>
            <a:xfrm>
              <a:off x="44280" y="4438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64" name="菱形 13"/>
            <p:cNvSpPr/>
            <p:nvPr/>
          </p:nvSpPr>
          <p:spPr>
            <a:xfrm>
              <a:off x="79200" y="94320"/>
              <a:ext cx="350640" cy="3495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468360" y="1821960"/>
            <a:ext cx="82800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喜欢的一位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最喜欢的老师就是我们班的班主任——程老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我眼中，程老师是一个非常和蔼可亲的人。在她眼里，所有的学生都是同样优秀的，她都会用同样的笑容、同样的眼神、同样的心灵真诚地去对待每一个学生。她很勤奋，认真备课并批改作业，对工作一丝不苟；她很勤劳，每天都早早地来到学校，帮助我们打扫保洁区；她很关心我们的身体，天冷了，会提醒我们多穿几件衣服，天热了，会提醒我们不要因为穿太少而着凉；她还非常关心我们的学习，不论是语文、数学，还是英语，她都一视同仁，教育我们不要偏科。我们不会做的题，她会耐心地教我们；我们做错的题，她会耐心地纠正我们。我们考砸了，她会鼓励我们；我们考好了，她会表扬我们。她时常教我们一些做人的道理，诲人不倦。她的每一个动作、每一个眼神、每一个笑容、每一句话，我都深深地记在脑海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34920" y="-20160"/>
            <a:ext cx="2008080" cy="516240"/>
            <a:chOff x="34920" y="-20160"/>
            <a:chExt cx="2008080" cy="516240"/>
          </a:xfrm>
        </p:grpSpPr>
        <p:sp>
          <p:nvSpPr>
            <p:cNvPr id="167" name="文本框 6"/>
            <p:cNvSpPr/>
            <p:nvPr/>
          </p:nvSpPr>
          <p:spPr>
            <a:xfrm>
              <a:off x="714600" y="-201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直线连接符 9"/>
            <p:cNvCxnSpPr/>
            <p:nvPr/>
          </p:nvCxnSpPr>
          <p:spPr>
            <a:xfrm>
              <a:off x="34920" y="46548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69" name="菱形 9"/>
            <p:cNvSpPr/>
            <p:nvPr/>
          </p:nvSpPr>
          <p:spPr>
            <a:xfrm>
              <a:off x="69840" y="114480"/>
              <a:ext cx="350280" cy="3506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0" name="矩形 7"/>
          <p:cNvSpPr/>
          <p:nvPr/>
        </p:nvSpPr>
        <p:spPr>
          <a:xfrm>
            <a:off x="685800" y="504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478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09:11:39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18T06:26:1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9</vt:r8>
  </property>
</Properties>
</file>