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DA6479-B3E8-4D40-A0B9-27E616CD8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B99F554-FB9E-4275-AB23-AC70B27954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3CF-1E76-4990-A680-782DC240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EE6-9893-484B-8160-44394EAD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BA3-66AE-40EE-97B2-05C684EA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78D-AA26-4C96-ADB6-882D1908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13E8-6CBB-4D8D-B650-62685CE7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2C7-0C40-40CF-A093-D4DD7A59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1B0-D8C3-4181-A989-49E81A30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181B-365C-4F27-AB2B-37FB26E4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588D-9646-4A4F-82EE-E2877C1B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F3F9-9BE6-4B58-92E7-4B9ECD6E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DB65-2A5D-4DE5-B537-52E69E3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6E3-EE6D-46CA-9FF7-E827610D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0C35-4785-435D-BDFC-55582CD9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3E57-392E-47FD-816A-7F0CB8E6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6CBE-3087-4EC8-873A-A164553A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57C1-565B-4B68-98F9-F3469594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0513-37E7-4E3B-9147-D39527C9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728-F048-4212-A6AE-F62FB707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2FD-24ED-4C0E-B20D-8F5953DD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8D0-583F-44E8-BB0A-10151BAC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3FD-1773-4A6D-878E-4E31E68B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DB6-4504-4565-8B48-6C893A0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B85-E3CA-413F-8BB8-7CA5A7AB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CFC-F792-4EB4-B07F-39366D4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611280" y="1600200"/>
            <a:ext cx="2665080" cy="4852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1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1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ACEF27F-E5B5-44F2-BF94-80717B36DB17}" type="slidenum">
              <a:rPr b="0" lang="en-US" sz="11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C:\Users\Administrator\Desktop\未标题-22.png"/>
          <p:cNvPicPr/>
          <p:nvPr/>
        </p:nvPicPr>
        <p:blipFill>
          <a:blip r:embed="rId3"/>
          <a:stretch/>
        </p:blipFill>
        <p:spPr>
          <a:xfrm>
            <a:off x="0" y="3332160"/>
            <a:ext cx="9145080" cy="1920600"/>
          </a:xfrm>
          <a:prstGeom prst="rect">
            <a:avLst/>
          </a:prstGeom>
          <a:ln w="9525">
            <a:noFill/>
          </a:ln>
        </p:spPr>
      </p:pic>
      <p:sp>
        <p:nvSpPr>
          <p:cNvPr id="43" name="矩形 7"/>
          <p:cNvSpPr/>
          <p:nvPr/>
        </p:nvSpPr>
        <p:spPr>
          <a:xfrm>
            <a:off x="0" y="3460680"/>
            <a:ext cx="9143640" cy="1701360"/>
          </a:xfrm>
          <a:prstGeom prst="rect">
            <a:avLst/>
          </a:prstGeom>
          <a:solidFill>
            <a:schemeClr val="bg1">
              <a:alpha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1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1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01A4AC7-168E-434F-9A2F-8D492B4B1D50}" type="slidenum">
              <a:rPr b="0" lang="en-US" sz="11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副标题 2"/>
          <p:cNvSpPr/>
          <p:nvPr/>
        </p:nvSpPr>
        <p:spPr>
          <a:xfrm>
            <a:off x="1881360" y="2859840"/>
            <a:ext cx="5381280" cy="43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J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五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标题 1"/>
          <p:cNvSpPr/>
          <p:nvPr/>
        </p:nvSpPr>
        <p:spPr>
          <a:xfrm>
            <a:off x="1881360" y="1707480"/>
            <a:ext cx="5381280" cy="777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漫画的启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连接符 3"/>
          <p:cNvCxnSpPr/>
          <p:nvPr/>
        </p:nvCxnSpPr>
        <p:spPr>
          <a:xfrm>
            <a:off x="2553840" y="2571480"/>
            <a:ext cx="4034160" cy="3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sp>
        <p:nvSpPr>
          <p:cNvPr id="94" name="矩形 4"/>
          <p:cNvSpPr/>
          <p:nvPr/>
        </p:nvSpPr>
        <p:spPr>
          <a:xfrm>
            <a:off x="0" y="422784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53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微软雅黑"/>
                  <a:ea typeface="微软雅黑"/>
                </a:rPr>
                <a:t>素材积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5" name="流程图: 可选过程 1"/>
          <p:cNvSpPr/>
          <p:nvPr/>
        </p:nvSpPr>
        <p:spPr>
          <a:xfrm>
            <a:off x="535680" y="1463040"/>
            <a:ext cx="8108640" cy="1071360"/>
          </a:xfrm>
          <a:prstGeom prst="flowChartAlternateProcess">
            <a:avLst/>
          </a:prstGeom>
          <a:solidFill>
            <a:srgbClr val="ffffff"/>
          </a:solidFill>
          <a:ln w="28575">
            <a:solidFill>
              <a:srgbClr val="4472c4"/>
            </a:solidFill>
            <a:prstDash val="sysDash"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每人口中的“文明”在哪里？当我看到这组漫画时，总会想起“文明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4"/>
          <p:cNvSpPr/>
          <p:nvPr/>
        </p:nvSpPr>
        <p:spPr>
          <a:xfrm>
            <a:off x="649080" y="756000"/>
            <a:ext cx="17470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好开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流程图: 可选过程 5"/>
          <p:cNvSpPr/>
          <p:nvPr/>
        </p:nvSpPr>
        <p:spPr>
          <a:xfrm>
            <a:off x="535680" y="2936160"/>
            <a:ext cx="8108280" cy="964080"/>
          </a:xfrm>
          <a:prstGeom prst="flowChartAlternateProcess">
            <a:avLst/>
          </a:prstGeom>
          <a:solidFill>
            <a:srgbClr val="ffffff"/>
          </a:solidFill>
          <a:ln w="28575">
            <a:solidFill>
              <a:srgbClr val="4472c4"/>
            </a:solidFill>
            <a:prstDash val="sysDash"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偶尔的一次，这张漫画映入了我的眼帘。它似乎具有强大的引力，吸引着我的眼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59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微软雅黑"/>
                  <a:ea typeface="微软雅黑"/>
                </a:rPr>
                <a:t>素材积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1" name="流程图: 可选过程 1"/>
          <p:cNvSpPr/>
          <p:nvPr/>
        </p:nvSpPr>
        <p:spPr>
          <a:xfrm>
            <a:off x="535680" y="1463040"/>
            <a:ext cx="8108640" cy="1071360"/>
          </a:xfrm>
          <a:prstGeom prst="flowChartAlternateProcess">
            <a:avLst/>
          </a:prstGeom>
          <a:solidFill>
            <a:srgbClr val="ffffff"/>
          </a:solidFill>
          <a:ln w="28575">
            <a:solidFill>
              <a:srgbClr val="4472c4"/>
            </a:solidFill>
            <a:prstDash val="sysDash"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只要人人都从我做起，从生活中做起，那我们的生活环境将会越来越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"/>
          <p:cNvSpPr/>
          <p:nvPr/>
        </p:nvSpPr>
        <p:spPr>
          <a:xfrm>
            <a:off x="649080" y="756000"/>
            <a:ext cx="17470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好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流程图: 可选过程 5"/>
          <p:cNvSpPr/>
          <p:nvPr/>
        </p:nvSpPr>
        <p:spPr>
          <a:xfrm>
            <a:off x="535680" y="2936160"/>
            <a:ext cx="8108280" cy="964080"/>
          </a:xfrm>
          <a:prstGeom prst="flowChartAlternateProcess">
            <a:avLst/>
          </a:prstGeom>
          <a:solidFill>
            <a:srgbClr val="ffffff"/>
          </a:solidFill>
          <a:ln w="28575">
            <a:solidFill>
              <a:srgbClr val="4472c4"/>
            </a:solidFill>
            <a:prstDash val="sysDash"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虽然这是一张简单的漫画，可是它却含有非常深的意义，深刻地刻在我的心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65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微软雅黑"/>
                  <a:ea typeface="微软雅黑"/>
                </a:rPr>
                <a:t>拓展延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7" name="圆角矩形 2"/>
          <p:cNvSpPr/>
          <p:nvPr/>
        </p:nvSpPr>
        <p:spPr>
          <a:xfrm>
            <a:off x="2111760" y="605880"/>
            <a:ext cx="2569320" cy="45252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好书推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7" descr="A000220150821A35PPIC"/>
          <p:cNvPicPr/>
          <p:nvPr/>
        </p:nvPicPr>
        <p:blipFill>
          <a:blip r:embed="rId1"/>
          <a:stretch/>
        </p:blipFill>
        <p:spPr>
          <a:xfrm>
            <a:off x="4570200" y="788400"/>
            <a:ext cx="669240" cy="3783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1"/>
          <p:cNvSpPr/>
          <p:nvPr/>
        </p:nvSpPr>
        <p:spPr>
          <a:xfrm>
            <a:off x="722880" y="1359720"/>
            <a:ext cx="46137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小王子》是法国作家安托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埃克苏佩里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写成的著名儿童文学短篇小说。本书的主人公是来自外星球的小王子。书中以一位飞行员作为故事叙述者，讲述了小王子从自己星球出发前往地球经历了各种风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图片 3"/>
          <p:cNvSpPr/>
          <p:nvPr/>
        </p:nvSpPr>
        <p:spPr>
          <a:xfrm>
            <a:off x="6034680" y="879120"/>
            <a:ext cx="2248920" cy="3384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72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微软雅黑"/>
                  <a:ea typeface="微软雅黑"/>
                </a:rPr>
                <a:t>拓展延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4" name="圆角矩形 2"/>
          <p:cNvSpPr/>
          <p:nvPr/>
        </p:nvSpPr>
        <p:spPr>
          <a:xfrm>
            <a:off x="2111760" y="605880"/>
            <a:ext cx="2569320" cy="45252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好书推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7" descr="A000220150821A35PPIC"/>
          <p:cNvPicPr/>
          <p:nvPr/>
        </p:nvPicPr>
        <p:blipFill>
          <a:blip r:embed="rId1"/>
          <a:stretch/>
        </p:blipFill>
        <p:spPr>
          <a:xfrm>
            <a:off x="4570200" y="788400"/>
            <a:ext cx="669240" cy="3783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"/>
          <p:cNvSpPr/>
          <p:nvPr/>
        </p:nvSpPr>
        <p:spPr>
          <a:xfrm>
            <a:off x="722880" y="1359720"/>
            <a:ext cx="46137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以小王子的孩子式的眼光，透视出成人的空虚、盲目，愚妄和死板教条，用浅显天真的语言写出了人类的孤独寂寞、没有根基随风流浪的命运。同时，也表达出作者对金钱关系的批判，对真善美的讴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图片 3"/>
          <p:cNvSpPr/>
          <p:nvPr/>
        </p:nvSpPr>
        <p:spPr>
          <a:xfrm>
            <a:off x="6034680" y="879120"/>
            <a:ext cx="2248920" cy="3384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96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华文彩云"/>
                  <a:ea typeface="华文彩云"/>
                </a:rPr>
                <a:t>习作导入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8" name="文本框 4"/>
          <p:cNvSpPr/>
          <p:nvPr/>
        </p:nvSpPr>
        <p:spPr>
          <a:xfrm>
            <a:off x="649080" y="3335400"/>
            <a:ext cx="3386880" cy="47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幅漫画讽刺了那些自私而又不思进取的人，只等坐享其成，却不付出劳动，让人鄙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61640" y="1582920"/>
            <a:ext cx="2651400" cy="175176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746240" y="1582920"/>
            <a:ext cx="2563200" cy="173952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01" name="内容占位符 2"/>
          <p:cNvSpPr/>
          <p:nvPr/>
        </p:nvSpPr>
        <p:spPr>
          <a:xfrm>
            <a:off x="4457160" y="3409920"/>
            <a:ext cx="3482280" cy="130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幅漫画讽刺了那些自私、没有公德心，更没有爱心的人，给世人以警示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8"/>
          <p:cNvSpPr/>
          <p:nvPr/>
        </p:nvSpPr>
        <p:spPr>
          <a:xfrm>
            <a:off x="1172160" y="786600"/>
            <a:ext cx="5349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能读懂下面的漫画吗？从中受到什么启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4" dur="1" fill="hold"/>
                                        <p:tgtEl>
                                          <p:spTgt spid="9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4" dur="1" fill="hold"/>
                                        <p:tgtEl>
                                          <p:spTgt spid="10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04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华文彩云"/>
                  <a:ea typeface="华文彩云"/>
                </a:rPr>
                <a:t>写作要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6" name="Text Box 5"/>
          <p:cNvSpPr/>
          <p:nvPr/>
        </p:nvSpPr>
        <p:spPr>
          <a:xfrm>
            <a:off x="722880" y="1216800"/>
            <a:ext cx="5288760" cy="47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次习作的主题是“漫画中的启示”。我们看多许多的漫画书，也看过许多的漫画图片，找出你认为让你印象深刻的漫画写一写，并说出为什么让你印象深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" descr="1557a82ec43e214"/>
          <p:cNvPicPr/>
          <p:nvPr/>
        </p:nvPicPr>
        <p:blipFill>
          <a:blip r:embed="rId1"/>
          <a:stretch/>
        </p:blipFill>
        <p:spPr>
          <a:xfrm>
            <a:off x="6171120" y="690480"/>
            <a:ext cx="164844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09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华文彩云"/>
                  <a:ea typeface="华文彩云"/>
                </a:rPr>
                <a:t>审题指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1" name="文本框 1"/>
          <p:cNvSpPr/>
          <p:nvPr/>
        </p:nvSpPr>
        <p:spPr>
          <a:xfrm>
            <a:off x="722880" y="734400"/>
            <a:ext cx="750708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抓关键词语，定准写作范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先说一说这幅漫画是什么内容？注意它应该是我们比较熟悉的场景，能够引起大家的共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仔细分析，确定写作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出你的理解（好笑、教育意义、警示作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附加条件，明确写作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出这幅漫画的启示作用，同学你从中学习到了什么，把你的感受说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13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华文彩云"/>
                  <a:ea typeface="华文彩云"/>
                </a:rPr>
                <a:t>思路指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5" name="矩形标注 7"/>
          <p:cNvSpPr/>
          <p:nvPr/>
        </p:nvSpPr>
        <p:spPr>
          <a:xfrm>
            <a:off x="1486080" y="825840"/>
            <a:ext cx="3428640" cy="342360"/>
          </a:xfrm>
          <a:prstGeom prst="wedgeRectCallout">
            <a:avLst>
              <a:gd name="adj1" fmla="val -56350"/>
              <a:gd name="adj2" fmla="val -3359"/>
            </a:avLst>
          </a:prstGeom>
          <a:noFill/>
          <a:ln w="28575">
            <a:solidFill>
              <a:srgbClr val="4472c4"/>
            </a:solidFill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我应该怎么来写，才能描写出漫画的内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s://timgsa.baidu.com/timg?image&amp;quality=80&amp;size=b9999_10000&amp;sec=1552142212845&amp;di=36a0ac180e695fc55332fa3f7c7015e3&amp;imgtype=0&amp;src=http%3A%2F%2Fbpic.588ku.com%2Felement_origin_min_pic%2F17%2F02%2F08%2Ff196cfb0a49d10019890a383a7d6f6de.jpg"/>
          <p:cNvPicPr/>
          <p:nvPr/>
        </p:nvPicPr>
        <p:blipFill>
          <a:blip r:embed="rId1"/>
          <a:stretch/>
        </p:blipFill>
        <p:spPr>
          <a:xfrm>
            <a:off x="369720" y="649440"/>
            <a:ext cx="964080" cy="13125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4"/>
          <p:cNvSpPr/>
          <p:nvPr/>
        </p:nvSpPr>
        <p:spPr>
          <a:xfrm>
            <a:off x="2748600" y="1648800"/>
            <a:ext cx="5105520" cy="342360"/>
          </a:xfrm>
          <a:prstGeom prst="wedgeRectCallout">
            <a:avLst>
              <a:gd name="adj1" fmla="val 45903"/>
              <a:gd name="adj2" fmla="val 105319"/>
            </a:avLst>
          </a:prstGeom>
          <a:noFill/>
          <a:ln w="28575">
            <a:solidFill>
              <a:srgbClr val="4472c4"/>
            </a:solidFill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你可以仔细观察，用心体会，用上一些修辞手法，比如：比喻、拟人等加以辅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3" descr="1557a82ec43e214"/>
          <p:cNvPicPr/>
          <p:nvPr/>
        </p:nvPicPr>
        <p:blipFill>
          <a:blip r:embed="rId2"/>
          <a:stretch/>
        </p:blipFill>
        <p:spPr>
          <a:xfrm>
            <a:off x="8057520" y="2035080"/>
            <a:ext cx="556200" cy="127116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4"/>
          <p:cNvSpPr/>
          <p:nvPr/>
        </p:nvSpPr>
        <p:spPr>
          <a:xfrm>
            <a:off x="3244680" y="3359520"/>
            <a:ext cx="4609440" cy="342360"/>
          </a:xfrm>
          <a:prstGeom prst="wedgeRectCallout">
            <a:avLst>
              <a:gd name="adj1" fmla="val 45903"/>
              <a:gd name="adj2" fmla="val 105319"/>
            </a:avLst>
          </a:prstGeom>
          <a:noFill/>
          <a:ln w="28575">
            <a:solidFill>
              <a:srgbClr val="4472c4"/>
            </a:solidFill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这样也可以，注意语气，加上一些感叹词，显得更有真情实感，发人深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9" descr="1557a82ec43e214"/>
          <p:cNvPicPr/>
          <p:nvPr/>
        </p:nvPicPr>
        <p:blipFill>
          <a:blip r:embed="rId3"/>
          <a:stretch/>
        </p:blipFill>
        <p:spPr>
          <a:xfrm>
            <a:off x="8057520" y="3783960"/>
            <a:ext cx="556200" cy="1271160"/>
          </a:xfrm>
          <a:prstGeom prst="rect">
            <a:avLst/>
          </a:prstGeom>
          <a:ln w="0">
            <a:noFill/>
          </a:ln>
        </p:spPr>
      </p:pic>
      <p:grpSp>
        <p:nvGrpSpPr>
          <p:cNvPr id="121" name="组合 14"/>
          <p:cNvGrpSpPr/>
          <p:nvPr/>
        </p:nvGrpSpPr>
        <p:grpSpPr>
          <a:xfrm>
            <a:off x="258480" y="2326320"/>
            <a:ext cx="4782240" cy="1312920"/>
            <a:chOff x="258480" y="2326320"/>
            <a:chExt cx="4782240" cy="1312920"/>
          </a:xfrm>
        </p:grpSpPr>
        <p:sp>
          <p:nvSpPr>
            <p:cNvPr id="122" name="矩形标注 8"/>
            <p:cNvSpPr/>
            <p:nvPr/>
          </p:nvSpPr>
          <p:spPr>
            <a:xfrm>
              <a:off x="1374840" y="2494800"/>
              <a:ext cx="3665880" cy="409680"/>
            </a:xfrm>
            <a:prstGeom prst="wedgeRectCallout">
              <a:avLst>
                <a:gd name="adj1" fmla="val -56350"/>
                <a:gd name="adj2" fmla="val -3359"/>
              </a:avLst>
            </a:prstGeom>
            <a:solidFill>
              <a:srgbClr val="ffffff"/>
            </a:solidFill>
            <a:ln w="28575">
              <a:solidFill>
                <a:srgbClr val="4472c4"/>
              </a:solidFill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不想只写漫画的内容，我还想出自己对它的感受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2" descr="https://timgsa.baidu.com/timg?image&amp;quality=80&amp;size=b9999_10000&amp;sec=1552142212845&amp;di=36a0ac180e695fc55332fa3f7c7015e3&amp;imgtype=0&amp;src=http%3A%2F%2Fbpic.588ku.com%2Felement_origin_min_pic%2F17%2F02%2F08%2Ff196cfb0a49d10019890a383a7d6f6de.jpg"/>
            <p:cNvPicPr/>
            <p:nvPr/>
          </p:nvPicPr>
          <p:blipFill>
            <a:blip r:embed="rId4"/>
            <a:stretch/>
          </p:blipFill>
          <p:spPr>
            <a:xfrm>
              <a:off x="258480" y="2326320"/>
              <a:ext cx="964080" cy="131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25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微软雅黑"/>
                  <a:ea typeface="微软雅黑"/>
                </a:rPr>
                <a:t>技法点拨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7" name="圆角矩形 1"/>
          <p:cNvSpPr/>
          <p:nvPr/>
        </p:nvSpPr>
        <p:spPr>
          <a:xfrm>
            <a:off x="1002600" y="1139040"/>
            <a:ext cx="7351200" cy="685800"/>
          </a:xfrm>
          <a:prstGeom prst="roundRect">
            <a:avLst>
              <a:gd name="adj" fmla="val 16667"/>
            </a:avLst>
          </a:prstGeom>
          <a:noFill/>
          <a:ln w="28575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那是一年的今天，我看了著名漫画家华君武爷爷所画的一幅漫画。 该漫画的画面虽然简单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但内容却让人深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"/>
          <p:cNvSpPr/>
          <p:nvPr/>
        </p:nvSpPr>
        <p:spPr>
          <a:xfrm>
            <a:off x="690840" y="579240"/>
            <a:ext cx="65361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选取给你印象最深的一幅漫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1002600" y="2456280"/>
            <a:ext cx="7351200" cy="990720"/>
          </a:xfrm>
          <a:prstGeom prst="roundRect">
            <a:avLst>
              <a:gd name="adj" fmla="val 16667"/>
            </a:avLst>
          </a:prstGeom>
          <a:noFill/>
          <a:ln w="28575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在一个车站旁有 两个上车处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其中一个是普通乘客上车处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而另一个则是母子上 车处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.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可奇怪的是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在母子上车处站的都是一些四肢健全、衣冠 楚楚的“绅士”，而真正的母子却被挤到了“荒无人烟”的普 通乘客上车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5"/>
          <p:cNvSpPr/>
          <p:nvPr/>
        </p:nvSpPr>
        <p:spPr>
          <a:xfrm>
            <a:off x="690840" y="1896840"/>
            <a:ext cx="65361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讲清楚这幅漫画的内容是什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6"/>
          <p:cNvSpPr/>
          <p:nvPr/>
        </p:nvSpPr>
        <p:spPr>
          <a:xfrm>
            <a:off x="1002600" y="4070880"/>
            <a:ext cx="7351200" cy="841320"/>
          </a:xfrm>
          <a:prstGeom prst="roundRect">
            <a:avLst>
              <a:gd name="adj" fmla="val 16667"/>
            </a:avLst>
          </a:prstGeom>
          <a:noFill/>
          <a:ln w="28575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漫画上面的那些“绅士”真没公德心。他们的行为是那么的 令人鄙夷啊！所以我呼吁：作为新一代的小学生，从现在开始我们要学会 关心他人、帮助他人的好学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7"/>
          <p:cNvSpPr/>
          <p:nvPr/>
        </p:nvSpPr>
        <p:spPr>
          <a:xfrm>
            <a:off x="690840" y="3518640"/>
            <a:ext cx="65361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出自己的真实感情，理解这幅漫画的意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34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微软雅黑"/>
                  <a:ea typeface="微软雅黑"/>
                </a:rPr>
                <a:t>范文点评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136" name="直接连接符 6"/>
          <p:cNvCxnSpPr/>
          <p:nvPr/>
        </p:nvCxnSpPr>
        <p:spPr>
          <a:xfrm>
            <a:off x="6656760" y="961200"/>
            <a:ext cx="20880" cy="3771000"/>
          </a:xfrm>
          <a:prstGeom prst="straightConnector1">
            <a:avLst/>
          </a:prstGeom>
          <a:ln w="25400">
            <a:solidFill>
              <a:srgbClr val="00b0f0"/>
            </a:solidFill>
          </a:ln>
        </p:spPr>
      </p:cxnSp>
      <p:sp>
        <p:nvSpPr>
          <p:cNvPr id="137" name="矩形 10"/>
          <p:cNvSpPr/>
          <p:nvPr/>
        </p:nvSpPr>
        <p:spPr>
          <a:xfrm>
            <a:off x="604800" y="651960"/>
            <a:ext cx="598320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文明只差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今天，我看了一幅有趣的漫画《文明只差一步》。看了之后，我深有感触。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漫画里面的大概内容是这样的：一个女同学和一个男同学走在放学的路上，突然看到路边的一个垃圾桶旁堆了许多垃圾，还散发者一阵阵难闻的恶臭。女同学提议说要把垃圾捡回垃圾桶里，而男同学望着女同学的书包，突然灵机一动，便从自己的书包里取出笔和纸，用笔在纸上端端正正地写上：文明只差一步。女同学则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6915600" y="1253160"/>
            <a:ext cx="20484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开头简练，引出下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40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微软雅黑"/>
                  <a:ea typeface="微软雅黑"/>
                </a:rPr>
                <a:t>范文点评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142" name="直接连接符 6"/>
          <p:cNvCxnSpPr/>
          <p:nvPr/>
        </p:nvCxnSpPr>
        <p:spPr>
          <a:xfrm>
            <a:off x="6656760" y="961200"/>
            <a:ext cx="20880" cy="3771000"/>
          </a:xfrm>
          <a:prstGeom prst="straightConnector1">
            <a:avLst/>
          </a:prstGeom>
          <a:ln w="25400">
            <a:solidFill>
              <a:srgbClr val="00b0f0"/>
            </a:solidFill>
          </a:ln>
        </p:spPr>
      </p:cxnSp>
      <p:sp>
        <p:nvSpPr>
          <p:cNvPr id="143" name="矩形 10"/>
          <p:cNvSpPr/>
          <p:nvPr/>
        </p:nvSpPr>
        <p:spPr>
          <a:xfrm>
            <a:off x="590400" y="838440"/>
            <a:ext cx="60742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垃圾桶外的垃圾一件一件地捡回垃圾桶里。最后，他们一起把写有“文明只差一步”的纸贴在了垃圾桶上。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完了这幅漫画，我想到了许多。在现实生活中，那些不讲文明、破坏环境的人又很多，他们为了贪图方便，就把垃圾随意扔在垃圾桶旁，有些人甚至更过分，不管有没有垃圾桶，随便一处地方都可以丢垃圾。他们没有想过，就是因为自己贪一时的方便，而对环境造成了多大的危害，而且垃圾还会对健康造成影响。最后，深受其害的也是自己。在社会上，真正能像两个小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6878520" y="1672560"/>
            <a:ext cx="20484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描绘漫画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11"/>
          <p:cNvGrpSpPr/>
          <p:nvPr/>
        </p:nvGrpSpPr>
        <p:grpSpPr>
          <a:xfrm>
            <a:off x="258480" y="167760"/>
            <a:ext cx="1751040" cy="501120"/>
            <a:chOff x="258480" y="167760"/>
            <a:chExt cx="1751040" cy="501120"/>
          </a:xfrm>
        </p:grpSpPr>
        <p:sp>
          <p:nvSpPr>
            <p:cNvPr id="146" name="文本框 1"/>
            <p:cNvSpPr/>
            <p:nvPr/>
          </p:nvSpPr>
          <p:spPr>
            <a:xfrm>
              <a:off x="1005480" y="167760"/>
              <a:ext cx="100404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" rig="threePt"/>
              </a:scene3d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700" spc="-1" strike="noStrike">
                  <a:solidFill>
                    <a:schemeClr val="accent5"/>
                  </a:solidFill>
                  <a:latin typeface="微软雅黑"/>
                  <a:ea typeface="微软雅黑"/>
                </a:rPr>
                <a:t>范文点评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五边形 4"/>
            <p:cNvSpPr/>
            <p:nvPr/>
          </p:nvSpPr>
          <p:spPr>
            <a:xfrm>
              <a:off x="258480" y="247680"/>
              <a:ext cx="389880" cy="324360"/>
            </a:xfrm>
            <a:prstGeom prst="homePlate">
              <a:avLst>
                <a:gd name="adj" fmla="val 50000"/>
              </a:avLst>
            </a:prstGeom>
            <a:solidFill>
              <a:schemeClr val="accent6"/>
            </a:solidFill>
            <a:ln w="28575">
              <a:solidFill>
                <a:srgbClr val="7030a0"/>
              </a:solidFill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148" name="直接连接符 6"/>
          <p:cNvCxnSpPr/>
          <p:nvPr/>
        </p:nvCxnSpPr>
        <p:spPr>
          <a:xfrm>
            <a:off x="6656760" y="961200"/>
            <a:ext cx="20880" cy="3771000"/>
          </a:xfrm>
          <a:prstGeom prst="straightConnector1">
            <a:avLst/>
          </a:prstGeom>
          <a:ln w="25400">
            <a:solidFill>
              <a:srgbClr val="00b0f0"/>
            </a:solidFill>
          </a:ln>
        </p:spPr>
      </p:cxnSp>
      <p:sp>
        <p:nvSpPr>
          <p:cNvPr id="149" name="矩形 10"/>
          <p:cNvSpPr/>
          <p:nvPr/>
        </p:nvSpPr>
        <p:spPr>
          <a:xfrm>
            <a:off x="630360" y="910080"/>
            <a:ext cx="58759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那样做的也是大有人在，但是也有许多人都有把垃圾丢在垃圾桶旁的坏习惯。他们都不知道，其实文明离他们仅有一步之遥。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完这幅漫画，我懂得了一个道理：我们要保护环境，要向漫画中的两个小同学学习。只要人人都迈出文明的一小步，我们的居住环境将会变得更加美好，更加清洁！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6775200" y="1187640"/>
            <a:ext cx="2269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联系实际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6840360" y="1983600"/>
            <a:ext cx="22035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出启示，点明主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  <Words>1587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00Z</dcterms:created>
  <dc:creator>第一PPT模板网-WWW.1PPT.COM</dc:creator>
  <dc:description/>
  <dc:language>en-US</dc:language>
  <cp:lastModifiedBy>123</cp:lastModifiedBy>
  <dcterms:modified xsi:type="dcterms:W3CDTF">2021-04-06T07:35:22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440</vt:lpwstr>
  </property>
  <property fmtid="{D5CDD505-2E9C-101B-9397-08002B2CF9AE}" pid="3" name="Notes">
    <vt:r8>1</vt:r8>
  </property>
  <property fmtid="{D5CDD505-2E9C-101B-9397-08002B2CF9AE}" pid="4" name="PresentationFormat">
    <vt:lpwstr>全屏显示(16:9)</vt:lpwstr>
  </property>
  <property fmtid="{D5CDD505-2E9C-101B-9397-08002B2CF9AE}" pid="5" name="Slides">
    <vt:r8>14</vt:r8>
  </property>
</Properties>
</file>