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0240B3-BD2A-41DF-A58D-F42D730C0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F5BE82F-4F59-4522-AFA9-23F615AD41D5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CD34080-9E24-40B0-911C-7B015174ADD5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74904A2-54EE-4B62-B414-17854F57A81D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3A48BCA-387D-4D42-82B2-107AF0B98732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DE32FFB-1177-4D37-8216-D34624A22617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506267F-3F62-4697-AC60-3D6F2003157A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F8F3712-31B3-4757-818A-8133FF0F63F0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E304D54-EF44-44C0-B349-D95415A436EC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3B4ABA6-BE4A-4B18-BE06-E1207484C5DE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76AF812-E4EB-4565-8A14-27CFE89B9880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32B9038-EDEC-41B8-8D84-F27349A6514A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DDB561C-B276-4563-8753-0D09E649C9F6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0F40B32-49A8-4BA8-9EDE-309DB03964D6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D3D8581-4C3A-4B91-A0B9-351B63230745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757-FAAB-4D58-80AF-710BA568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1D1-2A13-4689-BC2D-C1F366D3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6B8-4D19-45A0-A8A8-B1E638FB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4DB-53F4-4B71-93F9-56374093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A31-BCC5-4EA1-B320-215E03D9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6DA-54EA-44DE-9D03-9C89DB72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2CE-1198-4F1C-BFE7-88630462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190-24BE-41A1-8683-A7FED20D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841680"/>
            <a:ext cx="6857640" cy="82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639-D636-474A-B88D-69D97497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DEC-DC79-4178-8EC7-E5EF84FB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0AD-E9F3-48F2-9BFE-56A248FF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729-063C-41F1-94CB-B251E738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ca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img.hb.aicdn.com/6a03f7ee06395d2b9039f54a47833f9553961195d1a7-L2BdiF"/>
          <p:cNvPicPr/>
          <p:nvPr/>
        </p:nvPicPr>
        <p:blipFill>
          <a:blip r:embed="rId2"/>
          <a:stretch/>
        </p:blipFill>
        <p:spPr>
          <a:xfrm>
            <a:off x="107280" y="-47520"/>
            <a:ext cx="8741160" cy="5619240"/>
          </a:xfrm>
          <a:prstGeom prst="rect">
            <a:avLst/>
          </a:prstGeom>
          <a:ln w="9525">
            <a:noFill/>
          </a:ln>
        </p:spPr>
      </p:pic>
      <p:sp>
        <p:nvSpPr>
          <p:cNvPr id="1" name="任意多边形: 形状 9"/>
          <p:cNvSpPr/>
          <p:nvPr/>
        </p:nvSpPr>
        <p:spPr>
          <a:xfrm>
            <a:off x="565560" y="0"/>
            <a:ext cx="510480" cy="968760"/>
          </a:xfrm>
          <a:custGeom>
            <a:avLst/>
            <a:gdLst>
              <a:gd name="textAreaLeft" fmla="*/ 0 w 510480"/>
              <a:gd name="textAreaRight" fmla="*/ 510840 w 510480"/>
              <a:gd name="textAreaTop" fmla="*/ 0 h 968760"/>
              <a:gd name="textAreaBottom" fmla="*/ 969120 h 968760"/>
            </a:gdLst>
            <a:ahLst/>
            <a:rect l="textAreaLeft" t="textAreaTop" r="textAreaRight" b="textAreaBottom"/>
            <a:pathLst>
              <a:path w="613459" h="1493134">
                <a:moveTo>
                  <a:pt x="34724" y="509286"/>
                </a:moveTo>
                <a:lnTo>
                  <a:pt x="613459" y="1493134"/>
                </a:lnTo>
                <a:lnTo>
                  <a:pt x="324091" y="590309"/>
                </a:lnTo>
                <a:lnTo>
                  <a:pt x="324091" y="300942"/>
                </a:lnTo>
                <a:lnTo>
                  <a:pt x="219919" y="0"/>
                </a:lnTo>
                <a:lnTo>
                  <a:pt x="0" y="46299"/>
                </a:lnTo>
                <a:lnTo>
                  <a:pt x="34724" y="509286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" name="任意多边形: 形状 10"/>
          <p:cNvSpPr/>
          <p:nvPr/>
        </p:nvSpPr>
        <p:spPr>
          <a:xfrm>
            <a:off x="1163160" y="-10800"/>
            <a:ext cx="385560" cy="412920"/>
          </a:xfrm>
          <a:custGeom>
            <a:avLst/>
            <a:gdLst>
              <a:gd name="textAreaLeft" fmla="*/ 0 w 385560"/>
              <a:gd name="textAreaRight" fmla="*/ 385920 w 38556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462987" h="544010">
                <a:moveTo>
                  <a:pt x="462987" y="34724"/>
                </a:moveTo>
                <a:lnTo>
                  <a:pt x="300941" y="544010"/>
                </a:lnTo>
                <a:lnTo>
                  <a:pt x="0" y="451413"/>
                </a:lnTo>
                <a:lnTo>
                  <a:pt x="127321" y="138897"/>
                </a:lnTo>
                <a:lnTo>
                  <a:pt x="324091" y="0"/>
                </a:lnTo>
                <a:lnTo>
                  <a:pt x="462987" y="34724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" name="任意多边形: 形状 11"/>
          <p:cNvSpPr/>
          <p:nvPr/>
        </p:nvSpPr>
        <p:spPr>
          <a:xfrm>
            <a:off x="1539360" y="0"/>
            <a:ext cx="541440" cy="968760"/>
          </a:xfrm>
          <a:custGeom>
            <a:avLst/>
            <a:gdLst>
              <a:gd name="textAreaLeft" fmla="*/ 0 w 541440"/>
              <a:gd name="textAreaRight" fmla="*/ 541800 w 541440"/>
              <a:gd name="textAreaTop" fmla="*/ 0 h 968760"/>
              <a:gd name="textAreaBottom" fmla="*/ 969120 h 968760"/>
            </a:gdLst>
            <a:ahLst/>
            <a:rect l="textAreaLeft" t="textAreaTop" r="textAreaRight" b="textAreaBottom"/>
            <a:pathLst>
              <a:path w="544010" h="6724891">
                <a:moveTo>
                  <a:pt x="544010" y="104172"/>
                </a:moveTo>
                <a:lnTo>
                  <a:pt x="312517" y="6724891"/>
                </a:lnTo>
                <a:lnTo>
                  <a:pt x="0" y="6724891"/>
                </a:lnTo>
                <a:lnTo>
                  <a:pt x="0" y="6528121"/>
                </a:lnTo>
                <a:lnTo>
                  <a:pt x="219919" y="0"/>
                </a:lnTo>
                <a:lnTo>
                  <a:pt x="544010" y="104172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" name="任意多边形: 形状 12"/>
          <p:cNvSpPr/>
          <p:nvPr/>
        </p:nvSpPr>
        <p:spPr>
          <a:xfrm>
            <a:off x="2733840" y="-24840"/>
            <a:ext cx="192600" cy="547200"/>
          </a:xfrm>
          <a:custGeom>
            <a:avLst/>
            <a:gdLst>
              <a:gd name="textAreaLeft" fmla="*/ 0 w 192600"/>
              <a:gd name="textAreaRight" fmla="*/ 192960 w 192600"/>
              <a:gd name="textAreaTop" fmla="*/ 0 h 547200"/>
              <a:gd name="textAreaBottom" fmla="*/ 547560 h 547200"/>
            </a:gdLst>
            <a:ahLst/>
            <a:rect l="textAreaLeft" t="textAreaTop" r="textAreaRight" b="textAreaBottom"/>
            <a:pathLst>
              <a:path w="231494" h="682906">
                <a:moveTo>
                  <a:pt x="0" y="69448"/>
                </a:moveTo>
                <a:lnTo>
                  <a:pt x="69448" y="682906"/>
                </a:lnTo>
                <a:lnTo>
                  <a:pt x="231494" y="555585"/>
                </a:lnTo>
                <a:lnTo>
                  <a:pt x="162046" y="0"/>
                </a:lnTo>
                <a:lnTo>
                  <a:pt x="0" y="69448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5" name="任意多边形: 形状 13"/>
          <p:cNvSpPr/>
          <p:nvPr/>
        </p:nvSpPr>
        <p:spPr>
          <a:xfrm>
            <a:off x="7947360" y="-6120"/>
            <a:ext cx="384120" cy="612720"/>
          </a:xfrm>
          <a:custGeom>
            <a:avLst/>
            <a:gdLst>
              <a:gd name="textAreaLeft" fmla="*/ 0 w 384120"/>
              <a:gd name="textAreaRight" fmla="*/ 384480 w 38412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462987" h="763929">
                <a:moveTo>
                  <a:pt x="0" y="34724"/>
                </a:moveTo>
                <a:lnTo>
                  <a:pt x="11575" y="763929"/>
                </a:lnTo>
                <a:lnTo>
                  <a:pt x="439838" y="763929"/>
                </a:lnTo>
                <a:lnTo>
                  <a:pt x="462987" y="0"/>
                </a:lnTo>
                <a:lnTo>
                  <a:pt x="0" y="34724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6" name="任意多边形: 形状 14"/>
          <p:cNvSpPr/>
          <p:nvPr/>
        </p:nvSpPr>
        <p:spPr>
          <a:xfrm>
            <a:off x="8469000" y="267840"/>
            <a:ext cx="712800" cy="380520"/>
          </a:xfrm>
          <a:custGeom>
            <a:avLst/>
            <a:gdLst>
              <a:gd name="textAreaLeft" fmla="*/ 0 w 712800"/>
              <a:gd name="textAreaRight" fmla="*/ 713160 w 712800"/>
              <a:gd name="textAreaTop" fmla="*/ 0 h 380520"/>
              <a:gd name="textAreaBottom" fmla="*/ 380880 h 380520"/>
            </a:gdLst>
            <a:ahLst/>
            <a:rect l="textAreaLeft" t="textAreaTop" r="textAreaRight" b="textAreaBottom"/>
            <a:pathLst>
              <a:path w="856526" h="474562">
                <a:moveTo>
                  <a:pt x="648182" y="0"/>
                </a:moveTo>
                <a:lnTo>
                  <a:pt x="0" y="219919"/>
                </a:lnTo>
                <a:lnTo>
                  <a:pt x="57873" y="474562"/>
                </a:lnTo>
                <a:lnTo>
                  <a:pt x="856526" y="196770"/>
                </a:lnTo>
                <a:lnTo>
                  <a:pt x="648182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7" name="任意多边形: 形状 15"/>
          <p:cNvSpPr/>
          <p:nvPr/>
        </p:nvSpPr>
        <p:spPr>
          <a:xfrm>
            <a:off x="8497440" y="1401480"/>
            <a:ext cx="603360" cy="241200"/>
          </a:xfrm>
          <a:custGeom>
            <a:avLst/>
            <a:gdLst>
              <a:gd name="textAreaLeft" fmla="*/ 0 w 603360"/>
              <a:gd name="textAreaRight" fmla="*/ 603720 w 603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647982" h="219919">
                <a:moveTo>
                  <a:pt x="0" y="0"/>
                </a:moveTo>
                <a:lnTo>
                  <a:pt x="647982" y="46298"/>
                </a:lnTo>
                <a:lnTo>
                  <a:pt x="590309" y="219919"/>
                </a:lnTo>
                <a:lnTo>
                  <a:pt x="23149" y="185194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8" name="任意多边形: 形状 16"/>
          <p:cNvSpPr/>
          <p:nvPr/>
        </p:nvSpPr>
        <p:spPr>
          <a:xfrm>
            <a:off x="8497440" y="1884600"/>
            <a:ext cx="606960" cy="166320"/>
          </a:xfrm>
          <a:custGeom>
            <a:avLst/>
            <a:gdLst>
              <a:gd name="textAreaLeft" fmla="*/ 0 w 606960"/>
              <a:gd name="textAreaRight" fmla="*/ 607320 w 60696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729205" h="208344">
                <a:moveTo>
                  <a:pt x="0" y="23149"/>
                </a:moveTo>
                <a:lnTo>
                  <a:pt x="729205" y="0"/>
                </a:lnTo>
                <a:lnTo>
                  <a:pt x="694481" y="138896"/>
                </a:lnTo>
                <a:lnTo>
                  <a:pt x="590309" y="208344"/>
                </a:lnTo>
                <a:lnTo>
                  <a:pt x="57873" y="208344"/>
                </a:lnTo>
                <a:lnTo>
                  <a:pt x="0" y="23149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9" name="任意多边形: 形状 17"/>
          <p:cNvSpPr/>
          <p:nvPr/>
        </p:nvSpPr>
        <p:spPr>
          <a:xfrm>
            <a:off x="8391600" y="2358720"/>
            <a:ext cx="703440" cy="268560"/>
          </a:xfrm>
          <a:custGeom>
            <a:avLst/>
            <a:gdLst>
              <a:gd name="textAreaLeft" fmla="*/ 0 w 703440"/>
              <a:gd name="textAreaRight" fmla="*/ 703800 w 703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844952" h="335666">
                <a:moveTo>
                  <a:pt x="92598" y="23149"/>
                </a:moveTo>
                <a:lnTo>
                  <a:pt x="844952" y="0"/>
                </a:lnTo>
                <a:lnTo>
                  <a:pt x="752355" y="335666"/>
                </a:lnTo>
                <a:lnTo>
                  <a:pt x="0" y="243068"/>
                </a:lnTo>
                <a:lnTo>
                  <a:pt x="92598" y="23149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0" name="任意多边形: 形状 18"/>
          <p:cNvSpPr/>
          <p:nvPr/>
        </p:nvSpPr>
        <p:spPr>
          <a:xfrm>
            <a:off x="8381880" y="2887200"/>
            <a:ext cx="663840" cy="250920"/>
          </a:xfrm>
          <a:custGeom>
            <a:avLst/>
            <a:gdLst>
              <a:gd name="textAreaLeft" fmla="*/ 0 w 663840"/>
              <a:gd name="textAreaRight" fmla="*/ 664200 w 6638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798653" h="312516">
                <a:moveTo>
                  <a:pt x="0" y="11575"/>
                </a:moveTo>
                <a:lnTo>
                  <a:pt x="787078" y="69448"/>
                </a:lnTo>
                <a:lnTo>
                  <a:pt x="798653" y="219919"/>
                </a:lnTo>
                <a:lnTo>
                  <a:pt x="717630" y="312516"/>
                </a:lnTo>
                <a:lnTo>
                  <a:pt x="335665" y="289367"/>
                </a:lnTo>
                <a:lnTo>
                  <a:pt x="138896" y="243068"/>
                </a:lnTo>
                <a:lnTo>
                  <a:pt x="92597" y="23149"/>
                </a:lnTo>
                <a:lnTo>
                  <a:pt x="231493" y="0"/>
                </a:lnTo>
              </a:path>
            </a:pathLst>
          </a:custGeom>
          <a:noFill/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1" name="任意多边形: 形状 19"/>
          <p:cNvSpPr/>
          <p:nvPr/>
        </p:nvSpPr>
        <p:spPr>
          <a:xfrm>
            <a:off x="8372520" y="2906280"/>
            <a:ext cx="682920" cy="241200"/>
          </a:xfrm>
          <a:custGeom>
            <a:avLst/>
            <a:gdLst>
              <a:gd name="textAreaLeft" fmla="*/ 0 w 682920"/>
              <a:gd name="textAreaRight" fmla="*/ 683280 w 6829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821803" h="300942">
                <a:moveTo>
                  <a:pt x="0" y="11575"/>
                </a:moveTo>
                <a:lnTo>
                  <a:pt x="821803" y="0"/>
                </a:lnTo>
                <a:lnTo>
                  <a:pt x="729205" y="300942"/>
                </a:lnTo>
                <a:lnTo>
                  <a:pt x="173620" y="277793"/>
                </a:lnTo>
                <a:lnTo>
                  <a:pt x="0" y="11575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2" name="任意多边形: 形状 20"/>
          <p:cNvSpPr/>
          <p:nvPr/>
        </p:nvSpPr>
        <p:spPr>
          <a:xfrm>
            <a:off x="8478360" y="3398040"/>
            <a:ext cx="548640" cy="287640"/>
          </a:xfrm>
          <a:custGeom>
            <a:avLst/>
            <a:gdLst>
              <a:gd name="textAreaLeft" fmla="*/ 0 w 548640"/>
              <a:gd name="textAreaRight" fmla="*/ 549000 w 548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659757" h="358815">
                <a:moveTo>
                  <a:pt x="0" y="0"/>
                </a:moveTo>
                <a:lnTo>
                  <a:pt x="659757" y="104172"/>
                </a:lnTo>
                <a:lnTo>
                  <a:pt x="625033" y="347240"/>
                </a:lnTo>
                <a:lnTo>
                  <a:pt x="92598" y="358815"/>
                </a:lnTo>
                <a:lnTo>
                  <a:pt x="11575" y="69448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3" name="任意多边形: 形状 21"/>
          <p:cNvSpPr/>
          <p:nvPr/>
        </p:nvSpPr>
        <p:spPr>
          <a:xfrm>
            <a:off x="8314200" y="3992040"/>
            <a:ext cx="741240" cy="167400"/>
          </a:xfrm>
          <a:custGeom>
            <a:avLst/>
            <a:gdLst>
              <a:gd name="textAreaLeft" fmla="*/ 0 w 741240"/>
              <a:gd name="textAreaRight" fmla="*/ 741600 w 741240"/>
              <a:gd name="textAreaTop" fmla="*/ 0 h 167400"/>
              <a:gd name="textAreaBottom" fmla="*/ 167760 h 167400"/>
            </a:gdLst>
            <a:ahLst/>
            <a:rect l="textAreaLeft" t="textAreaTop" r="textAreaRight" b="textAreaBottom"/>
            <a:pathLst>
              <a:path w="891251" h="208345">
                <a:moveTo>
                  <a:pt x="138896" y="81023"/>
                </a:moveTo>
                <a:lnTo>
                  <a:pt x="891251" y="0"/>
                </a:lnTo>
                <a:lnTo>
                  <a:pt x="879676" y="208345"/>
                </a:lnTo>
                <a:lnTo>
                  <a:pt x="0" y="208345"/>
                </a:lnTo>
                <a:lnTo>
                  <a:pt x="138896" y="81023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4" name="任意多边形: 形状 22"/>
          <p:cNvSpPr/>
          <p:nvPr/>
        </p:nvSpPr>
        <p:spPr>
          <a:xfrm>
            <a:off x="8671320" y="4438800"/>
            <a:ext cx="498600" cy="297360"/>
          </a:xfrm>
          <a:custGeom>
            <a:avLst/>
            <a:gdLst>
              <a:gd name="textAreaLeft" fmla="*/ 0 w 498600"/>
              <a:gd name="textAreaRight" fmla="*/ 498960 w 498600"/>
              <a:gd name="textAreaTop" fmla="*/ 0 h 297360"/>
              <a:gd name="textAreaBottom" fmla="*/ 297720 h 297360"/>
            </a:gdLst>
            <a:ahLst/>
            <a:rect l="textAreaLeft" t="textAreaTop" r="textAreaRight" b="textAreaBottom"/>
            <a:pathLst>
              <a:path w="509286" h="370390">
                <a:moveTo>
                  <a:pt x="486137" y="173620"/>
                </a:moveTo>
                <a:lnTo>
                  <a:pt x="428263" y="370390"/>
                </a:lnTo>
                <a:lnTo>
                  <a:pt x="0" y="0"/>
                </a:lnTo>
                <a:lnTo>
                  <a:pt x="509286" y="46299"/>
                </a:lnTo>
                <a:lnTo>
                  <a:pt x="486137" y="17362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5" name="任意多边形: 形状 23"/>
          <p:cNvSpPr/>
          <p:nvPr/>
        </p:nvSpPr>
        <p:spPr>
          <a:xfrm>
            <a:off x="8410680" y="4717080"/>
            <a:ext cx="500760" cy="407880"/>
          </a:xfrm>
          <a:custGeom>
            <a:avLst/>
            <a:gdLst>
              <a:gd name="textAreaLeft" fmla="*/ 0 w 500760"/>
              <a:gd name="textAreaRight" fmla="*/ 501120 w 50076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601883" h="509286">
                <a:moveTo>
                  <a:pt x="162045" y="0"/>
                </a:moveTo>
                <a:lnTo>
                  <a:pt x="601883" y="428263"/>
                </a:lnTo>
                <a:lnTo>
                  <a:pt x="0" y="509286"/>
                </a:lnTo>
                <a:lnTo>
                  <a:pt x="46298" y="162045"/>
                </a:lnTo>
                <a:lnTo>
                  <a:pt x="162045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6" name="任意多边形: 形状 24"/>
          <p:cNvSpPr/>
          <p:nvPr/>
        </p:nvSpPr>
        <p:spPr>
          <a:xfrm>
            <a:off x="6163920" y="30960"/>
            <a:ext cx="423360" cy="343800"/>
          </a:xfrm>
          <a:custGeom>
            <a:avLst/>
            <a:gdLst>
              <a:gd name="textAreaLeft" fmla="*/ 0 w 423360"/>
              <a:gd name="textAreaRight" fmla="*/ 423720 w 423360"/>
              <a:gd name="textAreaTop" fmla="*/ 0 h 343800"/>
              <a:gd name="textAreaBottom" fmla="*/ 344160 h 343800"/>
            </a:gdLst>
            <a:ahLst/>
            <a:rect l="textAreaLeft" t="textAreaTop" r="textAreaRight" b="textAreaBottom"/>
            <a:pathLst>
              <a:path w="509287" h="428263">
                <a:moveTo>
                  <a:pt x="57874" y="23149"/>
                </a:moveTo>
                <a:lnTo>
                  <a:pt x="0" y="428263"/>
                </a:lnTo>
                <a:lnTo>
                  <a:pt x="474562" y="347241"/>
                </a:lnTo>
                <a:lnTo>
                  <a:pt x="509287" y="0"/>
                </a:lnTo>
                <a:lnTo>
                  <a:pt x="57874" y="23149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7" name="任意多边形: 形状 25"/>
          <p:cNvSpPr/>
          <p:nvPr/>
        </p:nvSpPr>
        <p:spPr>
          <a:xfrm>
            <a:off x="4256640" y="-10800"/>
            <a:ext cx="394920" cy="254520"/>
          </a:xfrm>
          <a:custGeom>
            <a:avLst/>
            <a:gdLst>
              <a:gd name="textAreaLeft" fmla="*/ 0 w 394920"/>
              <a:gd name="textAreaRight" fmla="*/ 395280 w 394920"/>
              <a:gd name="textAreaTop" fmla="*/ 0 h 254520"/>
              <a:gd name="textAreaBottom" fmla="*/ 254880 h 254520"/>
            </a:gdLst>
            <a:ahLst/>
            <a:rect l="textAreaLeft" t="textAreaTop" r="textAreaRight" b="textAreaBottom"/>
            <a:pathLst>
              <a:path w="474562" h="428263">
                <a:moveTo>
                  <a:pt x="0" y="0"/>
                </a:moveTo>
                <a:lnTo>
                  <a:pt x="57874" y="428263"/>
                </a:lnTo>
                <a:lnTo>
                  <a:pt x="416689" y="393539"/>
                </a:lnTo>
                <a:lnTo>
                  <a:pt x="474562" y="57873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8" name="任意多边形: 形状 26"/>
          <p:cNvSpPr/>
          <p:nvPr/>
        </p:nvSpPr>
        <p:spPr>
          <a:xfrm>
            <a:off x="5595840" y="-10800"/>
            <a:ext cx="308160" cy="375840"/>
          </a:xfrm>
          <a:custGeom>
            <a:avLst/>
            <a:gdLst>
              <a:gd name="textAreaLeft" fmla="*/ 0 w 308160"/>
              <a:gd name="textAreaRight" fmla="*/ 308520 w 308160"/>
              <a:gd name="textAreaTop" fmla="*/ 0 h 375840"/>
              <a:gd name="textAreaBottom" fmla="*/ 376200 h 375840"/>
            </a:gdLst>
            <a:ahLst/>
            <a:rect l="textAreaLeft" t="textAreaTop" r="textAreaRight" b="textAreaBottom"/>
            <a:pathLst>
              <a:path w="370390" h="486137">
                <a:moveTo>
                  <a:pt x="0" y="0"/>
                </a:moveTo>
                <a:lnTo>
                  <a:pt x="0" y="486137"/>
                </a:lnTo>
                <a:lnTo>
                  <a:pt x="335666" y="451413"/>
                </a:lnTo>
                <a:lnTo>
                  <a:pt x="370390" y="11575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9" name="任意多边形: 形状 27"/>
          <p:cNvSpPr/>
          <p:nvPr/>
        </p:nvSpPr>
        <p:spPr>
          <a:xfrm>
            <a:off x="3196800" y="21600"/>
            <a:ext cx="259200" cy="371160"/>
          </a:xfrm>
          <a:custGeom>
            <a:avLst/>
            <a:gdLst>
              <a:gd name="textAreaLeft" fmla="*/ 0 w 259200"/>
              <a:gd name="textAreaRight" fmla="*/ 259560 w 25920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312516" h="462988">
                <a:moveTo>
                  <a:pt x="0" y="57874"/>
                </a:moveTo>
                <a:lnTo>
                  <a:pt x="23149" y="462988"/>
                </a:lnTo>
                <a:lnTo>
                  <a:pt x="312516" y="405114"/>
                </a:lnTo>
                <a:lnTo>
                  <a:pt x="243068" y="0"/>
                </a:lnTo>
                <a:lnTo>
                  <a:pt x="0" y="57874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0" name="任意多边形: 形状 28"/>
          <p:cNvSpPr/>
          <p:nvPr/>
        </p:nvSpPr>
        <p:spPr>
          <a:xfrm>
            <a:off x="3677760" y="-10800"/>
            <a:ext cx="308160" cy="422280"/>
          </a:xfrm>
          <a:custGeom>
            <a:avLst/>
            <a:gdLst>
              <a:gd name="textAreaLeft" fmla="*/ 0 w 308160"/>
              <a:gd name="textAreaRight" fmla="*/ 308520 w 30816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370390" h="659757">
                <a:moveTo>
                  <a:pt x="370390" y="127322"/>
                </a:moveTo>
                <a:lnTo>
                  <a:pt x="277793" y="659757"/>
                </a:lnTo>
                <a:lnTo>
                  <a:pt x="0" y="601884"/>
                </a:lnTo>
                <a:lnTo>
                  <a:pt x="115747" y="0"/>
                </a:lnTo>
                <a:lnTo>
                  <a:pt x="370390" y="127322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1" name="任意多边形: 形状 29"/>
          <p:cNvSpPr/>
          <p:nvPr/>
        </p:nvSpPr>
        <p:spPr>
          <a:xfrm>
            <a:off x="6926040" y="-10800"/>
            <a:ext cx="249840" cy="339120"/>
          </a:xfrm>
          <a:custGeom>
            <a:avLst/>
            <a:gdLst>
              <a:gd name="textAreaLeft" fmla="*/ 0 w 249840"/>
              <a:gd name="textAreaRight" fmla="*/ 250200 w 249840"/>
              <a:gd name="textAreaTop" fmla="*/ 0 h 339120"/>
              <a:gd name="textAreaBottom" fmla="*/ 339480 h 339120"/>
            </a:gdLst>
            <a:ahLst/>
            <a:rect l="textAreaLeft" t="textAreaTop" r="textAreaRight" b="textAreaBottom"/>
            <a:pathLst>
              <a:path w="300942" h="497711">
                <a:moveTo>
                  <a:pt x="0" y="115746"/>
                </a:moveTo>
                <a:lnTo>
                  <a:pt x="11575" y="497711"/>
                </a:lnTo>
                <a:lnTo>
                  <a:pt x="300942" y="486136"/>
                </a:lnTo>
                <a:lnTo>
                  <a:pt x="254643" y="0"/>
                </a:lnTo>
                <a:lnTo>
                  <a:pt x="0" y="115746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2" name="任意多边形: 形状 30"/>
          <p:cNvSpPr/>
          <p:nvPr/>
        </p:nvSpPr>
        <p:spPr>
          <a:xfrm>
            <a:off x="2328840" y="2520"/>
            <a:ext cx="126000" cy="372240"/>
          </a:xfrm>
          <a:custGeom>
            <a:avLst/>
            <a:gdLst>
              <a:gd name="textAreaLeft" fmla="*/ 0 w 126000"/>
              <a:gd name="textAreaRight" fmla="*/ 126360 w 126000"/>
              <a:gd name="textAreaTop" fmla="*/ 0 h 372240"/>
              <a:gd name="textAreaBottom" fmla="*/ 372600 h 372240"/>
            </a:gdLst>
            <a:ahLst/>
            <a:rect l="textAreaLeft" t="textAreaTop" r="textAreaRight" b="textAreaBottom"/>
            <a:pathLst>
              <a:path w="150471" h="462987">
                <a:moveTo>
                  <a:pt x="0" y="23149"/>
                </a:moveTo>
                <a:lnTo>
                  <a:pt x="11575" y="462987"/>
                </a:lnTo>
                <a:lnTo>
                  <a:pt x="150471" y="462987"/>
                </a:lnTo>
                <a:lnTo>
                  <a:pt x="92598" y="0"/>
                </a:lnTo>
                <a:lnTo>
                  <a:pt x="0" y="23149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3" name="任意多边形: 形状 1023"/>
          <p:cNvSpPr/>
          <p:nvPr/>
        </p:nvSpPr>
        <p:spPr>
          <a:xfrm>
            <a:off x="7416360" y="11880"/>
            <a:ext cx="173520" cy="455760"/>
          </a:xfrm>
          <a:custGeom>
            <a:avLst/>
            <a:gdLst>
              <a:gd name="textAreaLeft" fmla="*/ 0 w 173520"/>
              <a:gd name="textAreaRight" fmla="*/ 173880 w 17352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208345" h="567159">
                <a:moveTo>
                  <a:pt x="34724" y="0"/>
                </a:moveTo>
                <a:lnTo>
                  <a:pt x="0" y="567159"/>
                </a:lnTo>
                <a:lnTo>
                  <a:pt x="208345" y="520860"/>
                </a:lnTo>
                <a:lnTo>
                  <a:pt x="208345" y="23149"/>
                </a:lnTo>
                <a:lnTo>
                  <a:pt x="34724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4" name="任意多边形: 形状 1024"/>
          <p:cNvSpPr/>
          <p:nvPr/>
        </p:nvSpPr>
        <p:spPr>
          <a:xfrm>
            <a:off x="-1080" y="54720"/>
            <a:ext cx="500760" cy="371160"/>
          </a:xfrm>
          <a:custGeom>
            <a:avLst/>
            <a:gdLst>
              <a:gd name="textAreaLeft" fmla="*/ 0 w 500760"/>
              <a:gd name="textAreaRight" fmla="*/ 501120 w 50076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601884" h="462988">
                <a:moveTo>
                  <a:pt x="104172" y="0"/>
                </a:moveTo>
                <a:lnTo>
                  <a:pt x="601884" y="335666"/>
                </a:lnTo>
                <a:lnTo>
                  <a:pt x="428263" y="462988"/>
                </a:lnTo>
                <a:lnTo>
                  <a:pt x="0" y="312517"/>
                </a:lnTo>
                <a:lnTo>
                  <a:pt x="104172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5" name="任意多边形: 形状 1026"/>
          <p:cNvSpPr/>
          <p:nvPr/>
        </p:nvSpPr>
        <p:spPr>
          <a:xfrm>
            <a:off x="-16560" y="631080"/>
            <a:ext cx="457920" cy="268560"/>
          </a:xfrm>
          <a:custGeom>
            <a:avLst/>
            <a:gdLst>
              <a:gd name="textAreaLeft" fmla="*/ 0 w 457920"/>
              <a:gd name="textAreaRight" fmla="*/ 458280 w 45792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625032" h="335666">
                <a:moveTo>
                  <a:pt x="92597" y="0"/>
                </a:moveTo>
                <a:lnTo>
                  <a:pt x="625032" y="150471"/>
                </a:lnTo>
                <a:lnTo>
                  <a:pt x="601883" y="335666"/>
                </a:lnTo>
                <a:lnTo>
                  <a:pt x="0" y="196769"/>
                </a:lnTo>
                <a:lnTo>
                  <a:pt x="92597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6" name="任意多边形: 形状 1027"/>
          <p:cNvSpPr/>
          <p:nvPr/>
        </p:nvSpPr>
        <p:spPr>
          <a:xfrm>
            <a:off x="-1080" y="1150200"/>
            <a:ext cx="674640" cy="231840"/>
          </a:xfrm>
          <a:custGeom>
            <a:avLst/>
            <a:gdLst>
              <a:gd name="textAreaLeft" fmla="*/ 0 w 674640"/>
              <a:gd name="textAreaRight" fmla="*/ 675000 w 6746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810228" h="289367">
                <a:moveTo>
                  <a:pt x="0" y="0"/>
                </a:moveTo>
                <a:lnTo>
                  <a:pt x="23149" y="289367"/>
                </a:lnTo>
                <a:lnTo>
                  <a:pt x="810228" y="254643"/>
                </a:lnTo>
                <a:lnTo>
                  <a:pt x="729205" y="92598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7" name="任意多边形: 形状 1028"/>
          <p:cNvSpPr/>
          <p:nvPr/>
        </p:nvSpPr>
        <p:spPr>
          <a:xfrm>
            <a:off x="8280" y="1643040"/>
            <a:ext cx="453240" cy="250920"/>
          </a:xfrm>
          <a:custGeom>
            <a:avLst/>
            <a:gdLst>
              <a:gd name="textAreaLeft" fmla="*/ 0 w 453240"/>
              <a:gd name="textAreaRight" fmla="*/ 453600 w 4532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544010" h="312517">
                <a:moveTo>
                  <a:pt x="0" y="104172"/>
                </a:moveTo>
                <a:lnTo>
                  <a:pt x="544010" y="0"/>
                </a:lnTo>
                <a:lnTo>
                  <a:pt x="544010" y="312517"/>
                </a:lnTo>
                <a:lnTo>
                  <a:pt x="46298" y="300942"/>
                </a:lnTo>
                <a:lnTo>
                  <a:pt x="57873" y="104172"/>
                </a:lnTo>
                <a:lnTo>
                  <a:pt x="57873" y="81023"/>
                </a:lnTo>
              </a:path>
            </a:pathLst>
          </a:custGeom>
          <a:noFill/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8" name="任意多边形: 形状 1029"/>
          <p:cNvSpPr/>
          <p:nvPr/>
        </p:nvSpPr>
        <p:spPr>
          <a:xfrm>
            <a:off x="27360" y="2190600"/>
            <a:ext cx="414000" cy="315000"/>
          </a:xfrm>
          <a:custGeom>
            <a:avLst/>
            <a:gdLst>
              <a:gd name="textAreaLeft" fmla="*/ 0 w 414000"/>
              <a:gd name="textAreaRight" fmla="*/ 414360 w 414000"/>
              <a:gd name="textAreaTop" fmla="*/ 0 h 315000"/>
              <a:gd name="textAreaBottom" fmla="*/ 315360 h 315000"/>
            </a:gdLst>
            <a:ahLst/>
            <a:rect l="textAreaLeft" t="textAreaTop" r="textAreaRight" b="textAreaBottom"/>
            <a:pathLst>
              <a:path w="497711" h="393539">
                <a:moveTo>
                  <a:pt x="0" y="0"/>
                </a:moveTo>
                <a:lnTo>
                  <a:pt x="497711" y="23149"/>
                </a:lnTo>
                <a:lnTo>
                  <a:pt x="393539" y="393539"/>
                </a:lnTo>
                <a:lnTo>
                  <a:pt x="57873" y="393539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9" name="任意多边形: 形状 1030"/>
          <p:cNvSpPr/>
          <p:nvPr/>
        </p:nvSpPr>
        <p:spPr>
          <a:xfrm>
            <a:off x="-29880" y="1670400"/>
            <a:ext cx="433080" cy="223560"/>
          </a:xfrm>
          <a:custGeom>
            <a:avLst/>
            <a:gdLst>
              <a:gd name="textAreaLeft" fmla="*/ 0 w 433080"/>
              <a:gd name="textAreaRight" fmla="*/ 433440 w 43308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520861" h="277793">
                <a:moveTo>
                  <a:pt x="0" y="0"/>
                </a:moveTo>
                <a:lnTo>
                  <a:pt x="520861" y="11575"/>
                </a:lnTo>
                <a:lnTo>
                  <a:pt x="497711" y="254643"/>
                </a:lnTo>
                <a:lnTo>
                  <a:pt x="11575" y="277793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0" name="任意多边形: 形状 1031"/>
          <p:cNvSpPr/>
          <p:nvPr/>
        </p:nvSpPr>
        <p:spPr>
          <a:xfrm>
            <a:off x="-10800" y="2794320"/>
            <a:ext cx="510480" cy="204480"/>
          </a:xfrm>
          <a:custGeom>
            <a:avLst/>
            <a:gdLst>
              <a:gd name="textAreaLeft" fmla="*/ 0 w 510480"/>
              <a:gd name="textAreaRight" fmla="*/ 510840 w 51048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613459" h="254643">
                <a:moveTo>
                  <a:pt x="46299" y="0"/>
                </a:moveTo>
                <a:lnTo>
                  <a:pt x="613459" y="57874"/>
                </a:lnTo>
                <a:lnTo>
                  <a:pt x="497712" y="254643"/>
                </a:lnTo>
                <a:lnTo>
                  <a:pt x="0" y="243068"/>
                </a:lnTo>
                <a:lnTo>
                  <a:pt x="46299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1" name="任意多边形: 形状 1032"/>
          <p:cNvSpPr/>
          <p:nvPr/>
        </p:nvSpPr>
        <p:spPr>
          <a:xfrm>
            <a:off x="66600" y="3360960"/>
            <a:ext cx="336600" cy="138960"/>
          </a:xfrm>
          <a:custGeom>
            <a:avLst/>
            <a:gdLst>
              <a:gd name="textAreaLeft" fmla="*/ 0 w 336600"/>
              <a:gd name="textAreaRight" fmla="*/ 336960 w 336600"/>
              <a:gd name="textAreaTop" fmla="*/ 0 h 138960"/>
              <a:gd name="textAreaBottom" fmla="*/ 139320 h 138960"/>
            </a:gdLst>
            <a:ahLst/>
            <a:rect l="textAreaLeft" t="textAreaTop" r="textAreaRight" b="textAreaBottom"/>
            <a:pathLst>
              <a:path w="405114" h="173620">
                <a:moveTo>
                  <a:pt x="0" y="0"/>
                </a:moveTo>
                <a:lnTo>
                  <a:pt x="405114" y="23149"/>
                </a:lnTo>
                <a:lnTo>
                  <a:pt x="347240" y="162045"/>
                </a:lnTo>
                <a:lnTo>
                  <a:pt x="34724" y="173620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2" name="任意多边形: 形状 1033"/>
          <p:cNvSpPr/>
          <p:nvPr/>
        </p:nvSpPr>
        <p:spPr>
          <a:xfrm>
            <a:off x="18000" y="3806280"/>
            <a:ext cx="394920" cy="204480"/>
          </a:xfrm>
          <a:custGeom>
            <a:avLst/>
            <a:gdLst>
              <a:gd name="textAreaLeft" fmla="*/ 0 w 394920"/>
              <a:gd name="textAreaRight" fmla="*/ 395280 w 39492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474562" h="254643">
                <a:moveTo>
                  <a:pt x="34724" y="0"/>
                </a:moveTo>
                <a:lnTo>
                  <a:pt x="474562" y="34724"/>
                </a:lnTo>
                <a:lnTo>
                  <a:pt x="462988" y="254643"/>
                </a:lnTo>
                <a:lnTo>
                  <a:pt x="0" y="196769"/>
                </a:lnTo>
                <a:lnTo>
                  <a:pt x="34724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3" name="任意多边形: 形状 1034"/>
          <p:cNvSpPr/>
          <p:nvPr/>
        </p:nvSpPr>
        <p:spPr>
          <a:xfrm>
            <a:off x="27360" y="4270680"/>
            <a:ext cx="337680" cy="380520"/>
          </a:xfrm>
          <a:custGeom>
            <a:avLst/>
            <a:gdLst>
              <a:gd name="textAreaLeft" fmla="*/ 0 w 337680"/>
              <a:gd name="textAreaRight" fmla="*/ 338040 w 337680"/>
              <a:gd name="textAreaTop" fmla="*/ 0 h 380520"/>
              <a:gd name="textAreaBottom" fmla="*/ 380880 h 380520"/>
            </a:gdLst>
            <a:ahLst/>
            <a:rect l="textAreaLeft" t="textAreaTop" r="textAreaRight" b="textAreaBottom"/>
            <a:pathLst>
              <a:path w="405114" h="474562">
                <a:moveTo>
                  <a:pt x="0" y="0"/>
                </a:moveTo>
                <a:lnTo>
                  <a:pt x="11575" y="474562"/>
                </a:lnTo>
                <a:lnTo>
                  <a:pt x="381965" y="208344"/>
                </a:lnTo>
                <a:lnTo>
                  <a:pt x="405114" y="23149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4" name="任意多边形: 形状 1035"/>
          <p:cNvSpPr/>
          <p:nvPr/>
        </p:nvSpPr>
        <p:spPr>
          <a:xfrm>
            <a:off x="114480" y="4736160"/>
            <a:ext cx="453240" cy="396000"/>
          </a:xfrm>
          <a:custGeom>
            <a:avLst/>
            <a:gdLst>
              <a:gd name="textAreaLeft" fmla="*/ 0 w 453240"/>
              <a:gd name="textAreaRight" fmla="*/ 453600 w 45324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544010" h="567159">
                <a:moveTo>
                  <a:pt x="347241" y="0"/>
                </a:moveTo>
                <a:lnTo>
                  <a:pt x="0" y="347240"/>
                </a:lnTo>
                <a:lnTo>
                  <a:pt x="544010" y="567159"/>
                </a:lnTo>
                <a:lnTo>
                  <a:pt x="347241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5" name="任意多边形: 形状 1036"/>
          <p:cNvSpPr/>
          <p:nvPr/>
        </p:nvSpPr>
        <p:spPr>
          <a:xfrm>
            <a:off x="798840" y="4819680"/>
            <a:ext cx="289080" cy="320040"/>
          </a:xfrm>
          <a:custGeom>
            <a:avLst/>
            <a:gdLst>
              <a:gd name="textAreaLeft" fmla="*/ 0 w 289080"/>
              <a:gd name="textAreaRight" fmla="*/ 289440 w 289080"/>
              <a:gd name="textAreaTop" fmla="*/ 0 h 320040"/>
              <a:gd name="textAreaBottom" fmla="*/ 320400 h 320040"/>
            </a:gdLst>
            <a:ahLst/>
            <a:rect l="textAreaLeft" t="textAreaTop" r="textAreaRight" b="textAreaBottom"/>
            <a:pathLst>
              <a:path w="347240" h="532436">
                <a:moveTo>
                  <a:pt x="231493" y="0"/>
                </a:moveTo>
                <a:lnTo>
                  <a:pt x="347240" y="509286"/>
                </a:lnTo>
                <a:lnTo>
                  <a:pt x="104172" y="532436"/>
                </a:lnTo>
                <a:lnTo>
                  <a:pt x="0" y="23149"/>
                </a:lnTo>
                <a:lnTo>
                  <a:pt x="231493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6" name="任意多边形: 形状 1037"/>
          <p:cNvSpPr/>
          <p:nvPr/>
        </p:nvSpPr>
        <p:spPr>
          <a:xfrm>
            <a:off x="1347840" y="4707720"/>
            <a:ext cx="327240" cy="446040"/>
          </a:xfrm>
          <a:custGeom>
            <a:avLst/>
            <a:gdLst>
              <a:gd name="textAreaLeft" fmla="*/ 0 w 327240"/>
              <a:gd name="textAreaRight" fmla="*/ 327600 w 3272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393539" h="590309">
                <a:moveTo>
                  <a:pt x="0" y="0"/>
                </a:moveTo>
                <a:lnTo>
                  <a:pt x="23149" y="590309"/>
                </a:lnTo>
                <a:lnTo>
                  <a:pt x="393539" y="509286"/>
                </a:lnTo>
                <a:lnTo>
                  <a:pt x="347240" y="0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7" name="任意多边形: 形状 1038"/>
          <p:cNvSpPr/>
          <p:nvPr/>
        </p:nvSpPr>
        <p:spPr>
          <a:xfrm>
            <a:off x="5674680" y="4791240"/>
            <a:ext cx="279360" cy="35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335665" h="671332">
                <a:moveTo>
                  <a:pt x="11574" y="23149"/>
                </a:moveTo>
                <a:lnTo>
                  <a:pt x="0" y="671332"/>
                </a:lnTo>
                <a:lnTo>
                  <a:pt x="324091" y="532435"/>
                </a:lnTo>
                <a:lnTo>
                  <a:pt x="335665" y="0"/>
                </a:lnTo>
                <a:lnTo>
                  <a:pt x="11574" y="23149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8" name="任意多边形: 形状 1039"/>
          <p:cNvSpPr/>
          <p:nvPr/>
        </p:nvSpPr>
        <p:spPr>
          <a:xfrm>
            <a:off x="6783120" y="4707720"/>
            <a:ext cx="345960" cy="446040"/>
          </a:xfrm>
          <a:custGeom>
            <a:avLst/>
            <a:gdLst>
              <a:gd name="textAreaLeft" fmla="*/ 0 w 345960"/>
              <a:gd name="textAreaRight" fmla="*/ 346320 w 34596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16689" h="706056">
                <a:moveTo>
                  <a:pt x="0" y="81023"/>
                </a:moveTo>
                <a:lnTo>
                  <a:pt x="150471" y="706056"/>
                </a:lnTo>
                <a:lnTo>
                  <a:pt x="416689" y="567159"/>
                </a:lnTo>
                <a:lnTo>
                  <a:pt x="335666" y="0"/>
                </a:lnTo>
                <a:lnTo>
                  <a:pt x="0" y="81023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9" name="任意多边形: 形状 1040"/>
          <p:cNvSpPr/>
          <p:nvPr/>
        </p:nvSpPr>
        <p:spPr>
          <a:xfrm>
            <a:off x="7909200" y="4773240"/>
            <a:ext cx="209160" cy="351000"/>
          </a:xfrm>
          <a:custGeom>
            <a:avLst/>
            <a:gdLst>
              <a:gd name="textAreaLeft" fmla="*/ 0 w 209160"/>
              <a:gd name="textAreaRight" fmla="*/ 209520 w 20916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243069" h="509286">
                <a:moveTo>
                  <a:pt x="243069" y="11574"/>
                </a:moveTo>
                <a:lnTo>
                  <a:pt x="243069" y="509286"/>
                </a:lnTo>
                <a:lnTo>
                  <a:pt x="0" y="486136"/>
                </a:lnTo>
                <a:lnTo>
                  <a:pt x="0" y="0"/>
                </a:lnTo>
                <a:lnTo>
                  <a:pt x="243069" y="11574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0" name="任意多边形: 形状 1041"/>
          <p:cNvSpPr/>
          <p:nvPr/>
        </p:nvSpPr>
        <p:spPr>
          <a:xfrm>
            <a:off x="7409160" y="4726800"/>
            <a:ext cx="162720" cy="435240"/>
          </a:xfrm>
          <a:custGeom>
            <a:avLst/>
            <a:gdLst>
              <a:gd name="textAreaLeft" fmla="*/ 0 w 162720"/>
              <a:gd name="textAreaRight" fmla="*/ 163080 w 16272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196769" h="544010">
                <a:moveTo>
                  <a:pt x="11574" y="0"/>
                </a:moveTo>
                <a:lnTo>
                  <a:pt x="0" y="532436"/>
                </a:lnTo>
                <a:lnTo>
                  <a:pt x="150471" y="544010"/>
                </a:lnTo>
                <a:lnTo>
                  <a:pt x="196769" y="34724"/>
                </a:lnTo>
                <a:lnTo>
                  <a:pt x="11574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1" name="任意多边形: 形状 1042"/>
          <p:cNvSpPr/>
          <p:nvPr/>
        </p:nvSpPr>
        <p:spPr>
          <a:xfrm>
            <a:off x="6242400" y="4744800"/>
            <a:ext cx="337680" cy="379440"/>
          </a:xfrm>
          <a:custGeom>
            <a:avLst/>
            <a:gdLst>
              <a:gd name="textAreaLeft" fmla="*/ 0 w 337680"/>
              <a:gd name="textAreaRight" fmla="*/ 338040 w 33768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405114" h="532435">
                <a:moveTo>
                  <a:pt x="0" y="69448"/>
                </a:moveTo>
                <a:lnTo>
                  <a:pt x="69448" y="520860"/>
                </a:lnTo>
                <a:lnTo>
                  <a:pt x="405114" y="532435"/>
                </a:lnTo>
                <a:lnTo>
                  <a:pt x="196770" y="0"/>
                </a:lnTo>
                <a:lnTo>
                  <a:pt x="0" y="69448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2" name="任意多边形: 形状 1043"/>
          <p:cNvSpPr/>
          <p:nvPr/>
        </p:nvSpPr>
        <p:spPr>
          <a:xfrm>
            <a:off x="2253960" y="4680360"/>
            <a:ext cx="173520" cy="371160"/>
          </a:xfrm>
          <a:custGeom>
            <a:avLst/>
            <a:gdLst>
              <a:gd name="textAreaLeft" fmla="*/ 0 w 173520"/>
              <a:gd name="textAreaRight" fmla="*/ 173880 w 17352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208344" h="462987">
                <a:moveTo>
                  <a:pt x="0" y="46299"/>
                </a:moveTo>
                <a:lnTo>
                  <a:pt x="11575" y="462987"/>
                </a:lnTo>
                <a:lnTo>
                  <a:pt x="208344" y="462987"/>
                </a:lnTo>
                <a:lnTo>
                  <a:pt x="138896" y="0"/>
                </a:lnTo>
                <a:lnTo>
                  <a:pt x="34724" y="104172"/>
                </a:lnTo>
                <a:lnTo>
                  <a:pt x="0" y="46299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3" name="任意多边形: 形状 1044"/>
          <p:cNvSpPr/>
          <p:nvPr/>
        </p:nvSpPr>
        <p:spPr>
          <a:xfrm>
            <a:off x="2755080" y="4605480"/>
            <a:ext cx="181800" cy="492480"/>
          </a:xfrm>
          <a:custGeom>
            <a:avLst/>
            <a:gdLst>
              <a:gd name="textAreaLeft" fmla="*/ 0 w 181800"/>
              <a:gd name="textAreaRight" fmla="*/ 182160 w 181800"/>
              <a:gd name="textAreaTop" fmla="*/ 0 h 492480"/>
              <a:gd name="textAreaBottom" fmla="*/ 492840 h 492480"/>
            </a:gdLst>
            <a:ahLst/>
            <a:rect l="textAreaLeft" t="textAreaTop" r="textAreaRight" b="textAreaBottom"/>
            <a:pathLst>
              <a:path w="219919" h="613459">
                <a:moveTo>
                  <a:pt x="104173" y="0"/>
                </a:moveTo>
                <a:lnTo>
                  <a:pt x="0" y="567160"/>
                </a:lnTo>
                <a:lnTo>
                  <a:pt x="150471" y="613459"/>
                </a:lnTo>
                <a:lnTo>
                  <a:pt x="219919" y="208345"/>
                </a:lnTo>
                <a:lnTo>
                  <a:pt x="104173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4" name="任意多边形: 形状 1045"/>
          <p:cNvSpPr/>
          <p:nvPr/>
        </p:nvSpPr>
        <p:spPr>
          <a:xfrm>
            <a:off x="3381480" y="4726800"/>
            <a:ext cx="192600" cy="407880"/>
          </a:xfrm>
          <a:custGeom>
            <a:avLst/>
            <a:gdLst>
              <a:gd name="textAreaLeft" fmla="*/ 0 w 192600"/>
              <a:gd name="textAreaRight" fmla="*/ 192960 w 19260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231494" h="509286">
                <a:moveTo>
                  <a:pt x="0" y="0"/>
                </a:moveTo>
                <a:lnTo>
                  <a:pt x="0" y="497712"/>
                </a:lnTo>
                <a:lnTo>
                  <a:pt x="231494" y="509286"/>
                </a:lnTo>
                <a:lnTo>
                  <a:pt x="138896" y="0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5" name="任意多边形: 形状 1046"/>
          <p:cNvSpPr/>
          <p:nvPr/>
        </p:nvSpPr>
        <p:spPr>
          <a:xfrm>
            <a:off x="3949200" y="4782600"/>
            <a:ext cx="404280" cy="371160"/>
          </a:xfrm>
          <a:custGeom>
            <a:avLst/>
            <a:gdLst>
              <a:gd name="textAreaLeft" fmla="*/ 0 w 404280"/>
              <a:gd name="textAreaRight" fmla="*/ 404640 w 40428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486137" h="462988">
                <a:moveTo>
                  <a:pt x="0" y="0"/>
                </a:moveTo>
                <a:lnTo>
                  <a:pt x="23150" y="462988"/>
                </a:lnTo>
                <a:lnTo>
                  <a:pt x="486137" y="405114"/>
                </a:lnTo>
                <a:lnTo>
                  <a:pt x="358815" y="23150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6" name="任意多边形: 形状 1047"/>
          <p:cNvSpPr/>
          <p:nvPr/>
        </p:nvSpPr>
        <p:spPr>
          <a:xfrm>
            <a:off x="4777920" y="4763520"/>
            <a:ext cx="356760" cy="379440"/>
          </a:xfrm>
          <a:custGeom>
            <a:avLst/>
            <a:gdLst>
              <a:gd name="textAreaLeft" fmla="*/ 0 w 356760"/>
              <a:gd name="textAreaRight" fmla="*/ 357120 w 35676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428263" h="544010">
                <a:moveTo>
                  <a:pt x="0" y="0"/>
                </a:moveTo>
                <a:lnTo>
                  <a:pt x="81023" y="544010"/>
                </a:lnTo>
                <a:lnTo>
                  <a:pt x="428263" y="497711"/>
                </a:lnTo>
                <a:lnTo>
                  <a:pt x="416689" y="34724"/>
                </a:lnTo>
                <a:lnTo>
                  <a:pt x="92597" y="23149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7" name="任意多边形: 形状 8"/>
          <p:cNvSpPr/>
          <p:nvPr/>
        </p:nvSpPr>
        <p:spPr>
          <a:xfrm>
            <a:off x="244080" y="153720"/>
            <a:ext cx="8681760" cy="4827600"/>
          </a:xfrm>
          <a:custGeom>
            <a:avLst/>
            <a:gdLst>
              <a:gd name="textAreaLeft" fmla="*/ 0 w 8681760"/>
              <a:gd name="textAreaRight" fmla="*/ 8682120 w 8681760"/>
              <a:gd name="textAreaTop" fmla="*/ 0 h 4827600"/>
              <a:gd name="textAreaBottom" fmla="*/ 4827960 h 4827600"/>
            </a:gdLst>
            <a:ahLst/>
            <a:rect l="textAreaLeft" t="textAreaTop" r="textAreaRight" b="textAreaBottom"/>
            <a:pathLst>
              <a:path w="10606444" h="6795989">
                <a:moveTo>
                  <a:pt x="36774" y="906177"/>
                </a:moveTo>
                <a:cubicBezTo>
                  <a:pt x="8386" y="1157189"/>
                  <a:pt x="-3566" y="1591977"/>
                  <a:pt x="916" y="1919189"/>
                </a:cubicBezTo>
                <a:cubicBezTo>
                  <a:pt x="5398" y="2246401"/>
                  <a:pt x="50222" y="2599013"/>
                  <a:pt x="63669" y="2869448"/>
                </a:cubicBezTo>
                <a:cubicBezTo>
                  <a:pt x="77116" y="3139883"/>
                  <a:pt x="83092" y="3138389"/>
                  <a:pt x="81598" y="3541801"/>
                </a:cubicBezTo>
                <a:cubicBezTo>
                  <a:pt x="80104" y="3945213"/>
                  <a:pt x="60681" y="4816284"/>
                  <a:pt x="54704" y="5289919"/>
                </a:cubicBezTo>
                <a:cubicBezTo>
                  <a:pt x="48728" y="5763554"/>
                  <a:pt x="-22990" y="6149037"/>
                  <a:pt x="45739" y="6383613"/>
                </a:cubicBezTo>
                <a:cubicBezTo>
                  <a:pt x="114468" y="6618189"/>
                  <a:pt x="226527" y="6654048"/>
                  <a:pt x="467080" y="6697377"/>
                </a:cubicBezTo>
                <a:cubicBezTo>
                  <a:pt x="707633" y="6740706"/>
                  <a:pt x="1489057" y="6643589"/>
                  <a:pt x="1489057" y="6643589"/>
                </a:cubicBezTo>
                <a:cubicBezTo>
                  <a:pt x="1880516" y="6624166"/>
                  <a:pt x="2255539" y="6555436"/>
                  <a:pt x="2815833" y="6580836"/>
                </a:cubicBezTo>
                <a:cubicBezTo>
                  <a:pt x="3376127" y="6606236"/>
                  <a:pt x="4138127" y="6773577"/>
                  <a:pt x="4850821" y="6795989"/>
                </a:cubicBezTo>
                <a:lnTo>
                  <a:pt x="7091998" y="6715307"/>
                </a:lnTo>
                <a:lnTo>
                  <a:pt x="8418774" y="6688413"/>
                </a:lnTo>
                <a:lnTo>
                  <a:pt x="9862092" y="6661519"/>
                </a:lnTo>
                <a:cubicBezTo>
                  <a:pt x="10193786" y="6648072"/>
                  <a:pt x="10284927" y="6698871"/>
                  <a:pt x="10408939" y="6607730"/>
                </a:cubicBezTo>
                <a:cubicBezTo>
                  <a:pt x="10532951" y="6516589"/>
                  <a:pt x="10598692" y="6432919"/>
                  <a:pt x="10606163" y="6114672"/>
                </a:cubicBezTo>
                <a:cubicBezTo>
                  <a:pt x="10613634" y="5796425"/>
                  <a:pt x="10470198" y="5221189"/>
                  <a:pt x="10453763" y="4698248"/>
                </a:cubicBezTo>
                <a:cubicBezTo>
                  <a:pt x="10437328" y="4175307"/>
                  <a:pt x="10485139" y="3580648"/>
                  <a:pt x="10507551" y="2977024"/>
                </a:cubicBezTo>
                <a:cubicBezTo>
                  <a:pt x="10529963" y="2373401"/>
                  <a:pt x="10585245" y="1521754"/>
                  <a:pt x="10588233" y="1076507"/>
                </a:cubicBezTo>
                <a:cubicBezTo>
                  <a:pt x="10591221" y="631260"/>
                  <a:pt x="10606162" y="466907"/>
                  <a:pt x="10525480" y="305542"/>
                </a:cubicBezTo>
                <a:cubicBezTo>
                  <a:pt x="10444798" y="144177"/>
                  <a:pt x="10264009" y="135213"/>
                  <a:pt x="10104139" y="108319"/>
                </a:cubicBezTo>
                <a:cubicBezTo>
                  <a:pt x="9944269" y="81425"/>
                  <a:pt x="9859104" y="138201"/>
                  <a:pt x="9566257" y="144177"/>
                </a:cubicBezTo>
                <a:cubicBezTo>
                  <a:pt x="9273410" y="150153"/>
                  <a:pt x="8878963" y="153142"/>
                  <a:pt x="8347057" y="144177"/>
                </a:cubicBezTo>
                <a:cubicBezTo>
                  <a:pt x="7815151" y="135212"/>
                  <a:pt x="6900750" y="114295"/>
                  <a:pt x="6374821" y="90389"/>
                </a:cubicBezTo>
                <a:cubicBezTo>
                  <a:pt x="5848892" y="66483"/>
                  <a:pt x="5632245" y="-8223"/>
                  <a:pt x="5191480" y="742"/>
                </a:cubicBezTo>
                <a:cubicBezTo>
                  <a:pt x="4750715" y="9707"/>
                  <a:pt x="4381668" y="121765"/>
                  <a:pt x="3730233" y="144177"/>
                </a:cubicBezTo>
                <a:cubicBezTo>
                  <a:pt x="3078798" y="166589"/>
                  <a:pt x="1805810" y="135213"/>
                  <a:pt x="1282869" y="135213"/>
                </a:cubicBezTo>
                <a:cubicBezTo>
                  <a:pt x="759928" y="135213"/>
                  <a:pt x="777857" y="97859"/>
                  <a:pt x="592586" y="144177"/>
                </a:cubicBezTo>
                <a:cubicBezTo>
                  <a:pt x="407315" y="190495"/>
                  <a:pt x="263880" y="283131"/>
                  <a:pt x="171245" y="413119"/>
                </a:cubicBezTo>
                <a:cubicBezTo>
                  <a:pt x="78610" y="543107"/>
                  <a:pt x="65162" y="655165"/>
                  <a:pt x="36774" y="906177"/>
                </a:cubicBezTo>
                <a:close/>
              </a:path>
            </a:pathLst>
          </a:custGeom>
          <a:solidFill>
            <a:srgbClr val="ffffff"/>
          </a:solidFill>
          <a:ln w="19050">
            <a:noFill/>
          </a:ln>
          <a:effectLst>
            <a:outerShdw algn="ctr" blurRad="11448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8" name="任意多边形: 形状 58"/>
          <p:cNvSpPr/>
          <p:nvPr/>
        </p:nvSpPr>
        <p:spPr>
          <a:xfrm>
            <a:off x="0" y="0"/>
            <a:ext cx="9143640" cy="514296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2960"/>
              <a:gd name="textAreaBottom" fmla="*/ 5143320 h 5142960"/>
            </a:gdLst>
            <a:ahLst/>
            <a:rect l="textAreaLeft" t="textAreaTop" r="textAreaRight" b="textAreaBottom"/>
            <a:pathLst>
              <a:path w="12231934" h="6891211">
                <a:moveTo>
                  <a:pt x="6027841" y="46537"/>
                </a:moveTo>
                <a:cubicBezTo>
                  <a:pt x="5531635" y="55502"/>
                  <a:pt x="5116169" y="167560"/>
                  <a:pt x="4382796" y="189972"/>
                </a:cubicBezTo>
                <a:cubicBezTo>
                  <a:pt x="3649423" y="212384"/>
                  <a:pt x="2216317" y="181008"/>
                  <a:pt x="1627600" y="181008"/>
                </a:cubicBezTo>
                <a:cubicBezTo>
                  <a:pt x="1038883" y="181008"/>
                  <a:pt x="1059067" y="143654"/>
                  <a:pt x="850492" y="189972"/>
                </a:cubicBezTo>
                <a:cubicBezTo>
                  <a:pt x="641918" y="236290"/>
                  <a:pt x="480441" y="328926"/>
                  <a:pt x="376155" y="458914"/>
                </a:cubicBezTo>
                <a:cubicBezTo>
                  <a:pt x="271868" y="588902"/>
                  <a:pt x="256728" y="700960"/>
                  <a:pt x="224770" y="951972"/>
                </a:cubicBezTo>
                <a:cubicBezTo>
                  <a:pt x="192811" y="1202984"/>
                  <a:pt x="179356" y="1637772"/>
                  <a:pt x="184401" y="1964984"/>
                </a:cubicBezTo>
                <a:cubicBezTo>
                  <a:pt x="189447" y="2292196"/>
                  <a:pt x="239909" y="2644808"/>
                  <a:pt x="255048" y="2915243"/>
                </a:cubicBezTo>
                <a:cubicBezTo>
                  <a:pt x="270186" y="3185678"/>
                  <a:pt x="276914" y="3184184"/>
                  <a:pt x="275232" y="3587596"/>
                </a:cubicBezTo>
                <a:cubicBezTo>
                  <a:pt x="273550" y="3991008"/>
                  <a:pt x="251684" y="4862079"/>
                  <a:pt x="244955" y="5335714"/>
                </a:cubicBezTo>
                <a:cubicBezTo>
                  <a:pt x="238227" y="5809349"/>
                  <a:pt x="157489" y="6194832"/>
                  <a:pt x="234862" y="6429408"/>
                </a:cubicBezTo>
                <a:cubicBezTo>
                  <a:pt x="312236" y="6663984"/>
                  <a:pt x="438390" y="6699843"/>
                  <a:pt x="709200" y="6743172"/>
                </a:cubicBezTo>
                <a:cubicBezTo>
                  <a:pt x="980010" y="6786501"/>
                  <a:pt x="1859723" y="6689384"/>
                  <a:pt x="1859723" y="6689384"/>
                </a:cubicBezTo>
                <a:cubicBezTo>
                  <a:pt x="2300420" y="6669961"/>
                  <a:pt x="2722614" y="6601231"/>
                  <a:pt x="3353382" y="6626631"/>
                </a:cubicBezTo>
                <a:cubicBezTo>
                  <a:pt x="3984150" y="6652031"/>
                  <a:pt x="4841995" y="6819372"/>
                  <a:pt x="5644333" y="6841784"/>
                </a:cubicBezTo>
                <a:lnTo>
                  <a:pt x="8167407" y="6761102"/>
                </a:lnTo>
                <a:lnTo>
                  <a:pt x="9661067" y="6734208"/>
                </a:lnTo>
                <a:lnTo>
                  <a:pt x="11285927" y="6707314"/>
                </a:lnTo>
                <a:cubicBezTo>
                  <a:pt x="11659341" y="6693867"/>
                  <a:pt x="11761946" y="6744666"/>
                  <a:pt x="11901557" y="6653525"/>
                </a:cubicBezTo>
                <a:cubicBezTo>
                  <a:pt x="12041167" y="6562384"/>
                  <a:pt x="12115177" y="6478714"/>
                  <a:pt x="12123588" y="6160467"/>
                </a:cubicBezTo>
                <a:cubicBezTo>
                  <a:pt x="12131998" y="5842220"/>
                  <a:pt x="11970521" y="5266984"/>
                  <a:pt x="11952019" y="4744043"/>
                </a:cubicBezTo>
                <a:cubicBezTo>
                  <a:pt x="11933516" y="4221102"/>
                  <a:pt x="11987341" y="3626443"/>
                  <a:pt x="12012572" y="3022819"/>
                </a:cubicBezTo>
                <a:cubicBezTo>
                  <a:pt x="12037803" y="2419196"/>
                  <a:pt x="12100039" y="1567549"/>
                  <a:pt x="12103402" y="1122302"/>
                </a:cubicBezTo>
                <a:cubicBezTo>
                  <a:pt x="12106766" y="677055"/>
                  <a:pt x="12123587" y="512702"/>
                  <a:pt x="12032756" y="351337"/>
                </a:cubicBezTo>
                <a:cubicBezTo>
                  <a:pt x="11941926" y="189972"/>
                  <a:pt x="11738397" y="181008"/>
                  <a:pt x="11558419" y="154114"/>
                </a:cubicBezTo>
                <a:cubicBezTo>
                  <a:pt x="11378440" y="127220"/>
                  <a:pt x="11282563" y="183996"/>
                  <a:pt x="10952881" y="189972"/>
                </a:cubicBezTo>
                <a:cubicBezTo>
                  <a:pt x="10623200" y="195948"/>
                  <a:pt x="10179139" y="198937"/>
                  <a:pt x="9580329" y="189972"/>
                </a:cubicBezTo>
                <a:cubicBezTo>
                  <a:pt x="8981519" y="181007"/>
                  <a:pt x="7952104" y="160090"/>
                  <a:pt x="7360023" y="136184"/>
                </a:cubicBezTo>
                <a:cubicBezTo>
                  <a:pt x="6767942" y="112278"/>
                  <a:pt x="6524045" y="37572"/>
                  <a:pt x="6027841" y="46537"/>
                </a:cubicBezTo>
                <a:close/>
                <a:moveTo>
                  <a:pt x="0" y="0"/>
                </a:moveTo>
                <a:lnTo>
                  <a:pt x="12231934" y="0"/>
                </a:lnTo>
                <a:lnTo>
                  <a:pt x="12231934" y="6891211"/>
                </a:lnTo>
                <a:lnTo>
                  <a:pt x="0" y="6891211"/>
                </a:lnTo>
                <a:close/>
              </a:path>
            </a:pathLst>
          </a:custGeom>
          <a:solidFill>
            <a:srgbClr val="e1ffff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9360">
            <a:noFill/>
          </a:ln>
        </p:spPr>
        <p:txBody>
          <a:bodyPr lIns="68760" rIns="68760" tIns="34200" bIns="3420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5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900" spc="-1" strike="noStrike">
                <a:solidFill>
                  <a:srgbClr val="8b8b8b"/>
                </a:solidFill>
                <a:latin typeface="华康方圆体W7"/>
                <a:ea typeface="华康方圆体W7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900" spc="-1" strike="noStrike">
                <a:solidFill>
                  <a:srgbClr val="8b8b8b"/>
                </a:solidFill>
                <a:latin typeface="华康方圆体W7"/>
                <a:ea typeface="华康方圆体W7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900" spc="-1" strike="noStrike">
                <a:solidFill>
                  <a:srgbClr val="8b8b8b"/>
                </a:solidFill>
                <a:latin typeface="华康方圆体W7"/>
                <a:ea typeface="华康方圆体W7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29840ED-2963-4CA1-B314-865FD3CA6A2A}" type="slidenum">
              <a:rPr b="0" lang="en-US" sz="900" spc="-1" strike="noStrike">
                <a:solidFill>
                  <a:srgbClr val="8b8b8b"/>
                </a:solidFill>
                <a:latin typeface="华康方圆体W7"/>
                <a:ea typeface="华康方圆体W7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华康方圆体W7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华康方圆体W7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华康方圆体W7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华康方圆体W7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华康方圆体W7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华康方圆体W7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华康方圆体W7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康方圆体W7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康方圆体W7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康方圆体W7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康方圆体W7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康方圆体W7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康方圆体W7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ca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26"/>
          <p:cNvGrpSpPr/>
          <p:nvPr/>
        </p:nvGrpSpPr>
        <p:grpSpPr>
          <a:xfrm>
            <a:off x="2579040" y="1343160"/>
            <a:ext cx="4344120" cy="2578320"/>
            <a:chOff x="2579040" y="1343160"/>
            <a:chExt cx="4344120" cy="2578320"/>
          </a:xfrm>
        </p:grpSpPr>
        <p:pic>
          <p:nvPicPr>
            <p:cNvPr id="97" name="图片 14" descr=""/>
            <p:cNvPicPr/>
            <p:nvPr/>
          </p:nvPicPr>
          <p:blipFill>
            <a:blip r:embed="rId1"/>
            <a:stretch/>
          </p:blipFill>
          <p:spPr>
            <a:xfrm>
              <a:off x="3994920" y="1343160"/>
              <a:ext cx="1888200" cy="97128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98" name="组合 9"/>
            <p:cNvGrpSpPr/>
            <p:nvPr/>
          </p:nvGrpSpPr>
          <p:grpSpPr>
            <a:xfrm>
              <a:off x="2579040" y="1864440"/>
              <a:ext cx="4344120" cy="2057040"/>
              <a:chOff x="2579040" y="1864440"/>
              <a:chExt cx="4344120" cy="2057040"/>
            </a:xfrm>
          </p:grpSpPr>
          <p:sp>
            <p:nvSpPr>
              <p:cNvPr id="99" name="圆角矩形 16"/>
              <p:cNvSpPr/>
              <p:nvPr/>
            </p:nvSpPr>
            <p:spPr>
              <a:xfrm>
                <a:off x="2579040" y="2522880"/>
                <a:ext cx="4344120" cy="1398600"/>
              </a:xfrm>
              <a:prstGeom prst="roundRect">
                <a:avLst>
                  <a:gd name="adj" fmla="val 16667"/>
                </a:avLst>
              </a:prstGeom>
              <a:solidFill>
                <a:srgbClr val="1c9a98"/>
              </a:solidFill>
              <a:ln w="1905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chemeClr val="lt1"/>
                  </a:solidFill>
                  <a:latin typeface="楷体"/>
                  <a:ea typeface="楷体"/>
                </a:endParaRPr>
              </a:p>
            </p:txBody>
          </p:sp>
          <p:grpSp>
            <p:nvGrpSpPr>
              <p:cNvPr id="100" name="组合 17"/>
              <p:cNvGrpSpPr/>
              <p:nvPr/>
            </p:nvGrpSpPr>
            <p:grpSpPr>
              <a:xfrm>
                <a:off x="2895480" y="1864440"/>
                <a:ext cx="3696840" cy="698760"/>
                <a:chOff x="2895480" y="1864440"/>
                <a:chExt cx="3696840" cy="698760"/>
              </a:xfrm>
            </p:grpSpPr>
            <p:cxnSp>
              <p:nvCxnSpPr>
                <p:cNvPr id="101" name="直接连接符 18"/>
                <p:cNvCxnSpPr/>
                <p:nvPr/>
              </p:nvCxnSpPr>
              <p:spPr>
                <a:xfrm flipV="1">
                  <a:off x="2895480" y="1864440"/>
                  <a:ext cx="1717200" cy="699120"/>
                </a:xfrm>
                <a:prstGeom prst="straightConnector1">
                  <a:avLst/>
                </a:prstGeom>
                <a:ln w="38100">
                  <a:solidFill>
                    <a:srgbClr val="1c9997"/>
                  </a:solidFill>
                  <a:round/>
                </a:ln>
              </p:spPr>
            </p:cxnSp>
            <p:cxnSp>
              <p:nvCxnSpPr>
                <p:cNvPr id="102" name="直接连接符 19"/>
                <p:cNvCxnSpPr/>
                <p:nvPr/>
              </p:nvCxnSpPr>
              <p:spPr>
                <a:xfrm flipH="1" flipV="1">
                  <a:off x="4612320" y="1864440"/>
                  <a:ext cx="1980360" cy="699120"/>
                </a:xfrm>
                <a:prstGeom prst="straightConnector1">
                  <a:avLst/>
                </a:prstGeom>
                <a:ln w="38100">
                  <a:solidFill>
                    <a:srgbClr val="1c9a98"/>
                  </a:solidFill>
                  <a:round/>
                </a:ln>
              </p:spPr>
            </p:cxnSp>
          </p:grpSp>
        </p:grpSp>
      </p:grpSp>
      <p:pic>
        <p:nvPicPr>
          <p:cNvPr id="103" name="图片 21" descr=""/>
          <p:cNvPicPr/>
          <p:nvPr/>
        </p:nvPicPr>
        <p:blipFill>
          <a:blip r:embed="rId2"/>
          <a:stretch/>
        </p:blipFill>
        <p:spPr>
          <a:xfrm rot="20819400">
            <a:off x="7192440" y="3165480"/>
            <a:ext cx="1558080" cy="1515240"/>
          </a:xfrm>
          <a:prstGeom prst="rect">
            <a:avLst/>
          </a:prstGeom>
          <a:ln w="9525">
            <a:noFill/>
          </a:ln>
        </p:spPr>
      </p:pic>
      <p:sp>
        <p:nvSpPr>
          <p:cNvPr id="104" name="任意多边形: 形状 27"/>
          <p:cNvSpPr/>
          <p:nvPr/>
        </p:nvSpPr>
        <p:spPr>
          <a:xfrm>
            <a:off x="2544480" y="734760"/>
            <a:ext cx="4840560" cy="294840"/>
          </a:xfrm>
          <a:custGeom>
            <a:avLst/>
            <a:gdLst>
              <a:gd name="textAreaLeft" fmla="*/ 0 w 4840560"/>
              <a:gd name="textAreaRight" fmla="*/ 4840920 w 4840560"/>
              <a:gd name="textAreaTop" fmla="*/ 0 h 294840"/>
              <a:gd name="textAreaBottom" fmla="*/ 295200 h 294840"/>
            </a:gdLst>
            <a:ahLst/>
            <a:rect l="textAreaLeft" t="textAreaTop" r="textAreaRight" b="textAreaBottom"/>
            <a:pathLst>
              <a:path w="10606444" h="6795989">
                <a:moveTo>
                  <a:pt x="36774" y="906177"/>
                </a:moveTo>
                <a:cubicBezTo>
                  <a:pt x="8386" y="1157189"/>
                  <a:pt x="-3566" y="1591977"/>
                  <a:pt x="916" y="1919189"/>
                </a:cubicBezTo>
                <a:cubicBezTo>
                  <a:pt x="5398" y="2246401"/>
                  <a:pt x="50222" y="2599013"/>
                  <a:pt x="63669" y="2869448"/>
                </a:cubicBezTo>
                <a:cubicBezTo>
                  <a:pt x="77116" y="3139883"/>
                  <a:pt x="83092" y="3138389"/>
                  <a:pt x="81598" y="3541801"/>
                </a:cubicBezTo>
                <a:cubicBezTo>
                  <a:pt x="80104" y="3945213"/>
                  <a:pt x="60681" y="4816284"/>
                  <a:pt x="54704" y="5289919"/>
                </a:cubicBezTo>
                <a:cubicBezTo>
                  <a:pt x="48728" y="5763554"/>
                  <a:pt x="-22990" y="6149037"/>
                  <a:pt x="45739" y="6383613"/>
                </a:cubicBezTo>
                <a:cubicBezTo>
                  <a:pt x="114468" y="6618189"/>
                  <a:pt x="226527" y="6654048"/>
                  <a:pt x="467080" y="6697377"/>
                </a:cubicBezTo>
                <a:cubicBezTo>
                  <a:pt x="707633" y="6740706"/>
                  <a:pt x="1489057" y="6643589"/>
                  <a:pt x="1489057" y="6643589"/>
                </a:cubicBezTo>
                <a:cubicBezTo>
                  <a:pt x="1880516" y="6624166"/>
                  <a:pt x="2255539" y="6555436"/>
                  <a:pt x="2815833" y="6580836"/>
                </a:cubicBezTo>
                <a:cubicBezTo>
                  <a:pt x="3376127" y="6606236"/>
                  <a:pt x="4138127" y="6773577"/>
                  <a:pt x="4850821" y="6795989"/>
                </a:cubicBezTo>
                <a:lnTo>
                  <a:pt x="7091998" y="6715307"/>
                </a:lnTo>
                <a:lnTo>
                  <a:pt x="8418774" y="6688413"/>
                </a:lnTo>
                <a:lnTo>
                  <a:pt x="9862092" y="6661519"/>
                </a:lnTo>
                <a:cubicBezTo>
                  <a:pt x="10193786" y="6648072"/>
                  <a:pt x="10284927" y="6698871"/>
                  <a:pt x="10408939" y="6607730"/>
                </a:cubicBezTo>
                <a:cubicBezTo>
                  <a:pt x="10532951" y="6516589"/>
                  <a:pt x="10598692" y="6432919"/>
                  <a:pt x="10606163" y="6114672"/>
                </a:cubicBezTo>
                <a:cubicBezTo>
                  <a:pt x="10613634" y="5796425"/>
                  <a:pt x="10470198" y="5221189"/>
                  <a:pt x="10453763" y="4698248"/>
                </a:cubicBezTo>
                <a:cubicBezTo>
                  <a:pt x="10437328" y="4175307"/>
                  <a:pt x="10485139" y="3580648"/>
                  <a:pt x="10507551" y="2977024"/>
                </a:cubicBezTo>
                <a:cubicBezTo>
                  <a:pt x="10529963" y="2373401"/>
                  <a:pt x="10585245" y="1521754"/>
                  <a:pt x="10588233" y="1076507"/>
                </a:cubicBezTo>
                <a:cubicBezTo>
                  <a:pt x="10591221" y="631260"/>
                  <a:pt x="10606162" y="466907"/>
                  <a:pt x="10525480" y="305542"/>
                </a:cubicBezTo>
                <a:cubicBezTo>
                  <a:pt x="10444798" y="144177"/>
                  <a:pt x="10264009" y="135213"/>
                  <a:pt x="10104139" y="108319"/>
                </a:cubicBezTo>
                <a:cubicBezTo>
                  <a:pt x="9944269" y="81425"/>
                  <a:pt x="9859104" y="138201"/>
                  <a:pt x="9566257" y="144177"/>
                </a:cubicBezTo>
                <a:cubicBezTo>
                  <a:pt x="9273410" y="150153"/>
                  <a:pt x="8878963" y="153142"/>
                  <a:pt x="8347057" y="144177"/>
                </a:cubicBezTo>
                <a:cubicBezTo>
                  <a:pt x="7815151" y="135212"/>
                  <a:pt x="6900750" y="114295"/>
                  <a:pt x="6374821" y="90389"/>
                </a:cubicBezTo>
                <a:cubicBezTo>
                  <a:pt x="5848892" y="66483"/>
                  <a:pt x="5632245" y="-8223"/>
                  <a:pt x="5191480" y="742"/>
                </a:cubicBezTo>
                <a:cubicBezTo>
                  <a:pt x="4750715" y="9707"/>
                  <a:pt x="4381668" y="121765"/>
                  <a:pt x="3730233" y="144177"/>
                </a:cubicBezTo>
                <a:cubicBezTo>
                  <a:pt x="3078798" y="166589"/>
                  <a:pt x="1805810" y="135213"/>
                  <a:pt x="1282869" y="135213"/>
                </a:cubicBezTo>
                <a:cubicBezTo>
                  <a:pt x="759928" y="135213"/>
                  <a:pt x="777857" y="97859"/>
                  <a:pt x="592586" y="144177"/>
                </a:cubicBezTo>
                <a:cubicBezTo>
                  <a:pt x="407315" y="190495"/>
                  <a:pt x="263880" y="283131"/>
                  <a:pt x="171245" y="413119"/>
                </a:cubicBezTo>
                <a:cubicBezTo>
                  <a:pt x="78610" y="543107"/>
                  <a:pt x="65162" y="655165"/>
                  <a:pt x="36774" y="906177"/>
                </a:cubicBez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华康方圆体W7"/>
                <a:ea typeface="华康方圆体W7"/>
              </a:rPr>
              <a:t>五年级上册 第二单元  习作指导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0" descr=""/>
          <p:cNvPicPr/>
          <p:nvPr/>
        </p:nvPicPr>
        <p:blipFill>
          <a:blip r:embed="rId3"/>
          <a:stretch/>
        </p:blipFill>
        <p:spPr>
          <a:xfrm>
            <a:off x="444240" y="458280"/>
            <a:ext cx="1759320" cy="1767600"/>
          </a:xfrm>
          <a:prstGeom prst="rect">
            <a:avLst/>
          </a:prstGeom>
          <a:ln w="9525">
            <a:noFill/>
          </a:ln>
        </p:spPr>
      </p:pic>
      <p:sp>
        <p:nvSpPr>
          <p:cNvPr id="106" name="文本框 22"/>
          <p:cNvSpPr/>
          <p:nvPr/>
        </p:nvSpPr>
        <p:spPr>
          <a:xfrm>
            <a:off x="2804040" y="2841480"/>
            <a:ext cx="392292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漫画”老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0" y="425268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ca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1" descr=""/>
          <p:cNvPicPr/>
          <p:nvPr/>
        </p:nvPicPr>
        <p:blipFill>
          <a:blip r:embed="rId1"/>
          <a:stretch/>
        </p:blipFill>
        <p:spPr>
          <a:xfrm>
            <a:off x="3090240" y="762480"/>
            <a:ext cx="4349160" cy="686520"/>
          </a:xfrm>
          <a:prstGeom prst="rect">
            <a:avLst/>
          </a:prstGeom>
          <a:ln w="9525">
            <a:noFill/>
          </a:ln>
        </p:spPr>
      </p:pic>
      <p:pic>
        <p:nvPicPr>
          <p:cNvPr id="147" name="图片 43" descr=""/>
          <p:cNvPicPr/>
          <p:nvPr/>
        </p:nvPicPr>
        <p:blipFill>
          <a:blip r:embed="rId2"/>
          <a:stretch/>
        </p:blipFill>
        <p:spPr>
          <a:xfrm rot="19785600">
            <a:off x="266400" y="271440"/>
            <a:ext cx="746280" cy="912960"/>
          </a:xfrm>
          <a:prstGeom prst="rect">
            <a:avLst/>
          </a:prstGeom>
          <a:ln w="9525">
            <a:noFill/>
          </a:ln>
        </p:spPr>
      </p:pic>
      <p:sp>
        <p:nvSpPr>
          <p:cNvPr id="148" name="椭圆 17"/>
          <p:cNvSpPr/>
          <p:nvPr/>
        </p:nvSpPr>
        <p:spPr>
          <a:xfrm>
            <a:off x="4948200" y="714240"/>
            <a:ext cx="3130920" cy="3130920"/>
          </a:xfrm>
          <a:prstGeom prst="ellipse">
            <a:avLst/>
          </a:prstGeom>
          <a:noFill/>
          <a:ln cap="rnd" w="19050">
            <a:solidFill>
              <a:srgbClr val="ffffff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pic>
        <p:nvPicPr>
          <p:cNvPr id="149" name="图片 7" descr=""/>
          <p:cNvPicPr/>
          <p:nvPr/>
        </p:nvPicPr>
        <p:blipFill>
          <a:blip r:embed="rId3"/>
          <a:stretch/>
        </p:blipFill>
        <p:spPr>
          <a:xfrm>
            <a:off x="406080" y="3453840"/>
            <a:ext cx="1866600" cy="1266480"/>
          </a:xfrm>
          <a:prstGeom prst="rect">
            <a:avLst/>
          </a:prstGeom>
          <a:ln w="9525">
            <a:noFill/>
          </a:ln>
        </p:spPr>
      </p:pic>
      <p:sp>
        <p:nvSpPr>
          <p:cNvPr id="150" name="任意多边形: 形状 28"/>
          <p:cNvSpPr/>
          <p:nvPr/>
        </p:nvSpPr>
        <p:spPr>
          <a:xfrm>
            <a:off x="2378880" y="1310400"/>
            <a:ext cx="6158880" cy="3306240"/>
          </a:xfrm>
          <a:custGeom>
            <a:avLst/>
            <a:gdLst>
              <a:gd name="textAreaLeft" fmla="*/ 0 w 6158880"/>
              <a:gd name="textAreaRight" fmla="*/ 6159240 w 6158880"/>
              <a:gd name="textAreaTop" fmla="*/ 0 h 3306240"/>
              <a:gd name="textAreaBottom" fmla="*/ 3306600 h 3306240"/>
            </a:gdLst>
            <a:ahLst/>
            <a:rect l="textAreaLeft" t="textAreaTop" r="textAreaRight" b="textAreaBottom"/>
            <a:pathLst>
              <a:path w="2907720" h="1684498">
                <a:moveTo>
                  <a:pt x="316024" y="0"/>
                </a:moveTo>
                <a:cubicBezTo>
                  <a:pt x="216562" y="50533"/>
                  <a:pt x="117101" y="101066"/>
                  <a:pt x="75392" y="317634"/>
                </a:cubicBezTo>
                <a:cubicBezTo>
                  <a:pt x="33682" y="534203"/>
                  <a:pt x="-65778" y="1082843"/>
                  <a:pt x="65767" y="1299411"/>
                </a:cubicBezTo>
                <a:cubicBezTo>
                  <a:pt x="197312" y="1515980"/>
                  <a:pt x="458799" y="1557689"/>
                  <a:pt x="864664" y="1617045"/>
                </a:cubicBezTo>
                <a:cubicBezTo>
                  <a:pt x="1270529" y="1676401"/>
                  <a:pt x="2170492" y="1713298"/>
                  <a:pt x="2500959" y="1655546"/>
                </a:cubicBezTo>
                <a:cubicBezTo>
                  <a:pt x="2831426" y="1597794"/>
                  <a:pt x="2781696" y="1419727"/>
                  <a:pt x="2847468" y="1270535"/>
                </a:cubicBezTo>
                <a:cubicBezTo>
                  <a:pt x="2913240" y="1121343"/>
                  <a:pt x="2918053" y="941672"/>
                  <a:pt x="2895594" y="760396"/>
                </a:cubicBezTo>
                <a:cubicBezTo>
                  <a:pt x="2873135" y="579120"/>
                  <a:pt x="2802550" y="308008"/>
                  <a:pt x="2712714" y="182880"/>
                </a:cubicBezTo>
                <a:cubicBezTo>
                  <a:pt x="2622878" y="57752"/>
                  <a:pt x="2489729" y="33689"/>
                  <a:pt x="2356580" y="9626"/>
                </a:cubicBezTo>
              </a:path>
            </a:pathLst>
          </a:custGeom>
          <a:noFill/>
          <a:ln>
            <a:solidFill>
              <a:srgbClr val="5c934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51" name="文本框 20"/>
          <p:cNvSpPr/>
          <p:nvPr/>
        </p:nvSpPr>
        <p:spPr>
          <a:xfrm>
            <a:off x="3501720" y="500400"/>
            <a:ext cx="421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2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漫画”人物特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992880" y="526320"/>
            <a:ext cx="170208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写法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"/>
          <p:cNvSpPr/>
          <p:nvPr/>
        </p:nvSpPr>
        <p:spPr>
          <a:xfrm>
            <a:off x="3409920" y="1733400"/>
            <a:ext cx="5177520" cy="451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选择合适事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"/>
          <p:cNvSpPr/>
          <p:nvPr/>
        </p:nvSpPr>
        <p:spPr>
          <a:xfrm>
            <a:off x="3409920" y="2571840"/>
            <a:ext cx="5177520" cy="451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细节描写具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"/>
          <p:cNvSpPr/>
          <p:nvPr/>
        </p:nvSpPr>
        <p:spPr>
          <a:xfrm>
            <a:off x="3410280" y="3453840"/>
            <a:ext cx="5177520" cy="451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人物形象生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ca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1" descr=""/>
          <p:cNvPicPr/>
          <p:nvPr/>
        </p:nvPicPr>
        <p:blipFill>
          <a:blip r:embed="rId1"/>
          <a:stretch/>
        </p:blipFill>
        <p:spPr>
          <a:xfrm>
            <a:off x="1862640" y="1079280"/>
            <a:ext cx="4074120" cy="642600"/>
          </a:xfrm>
          <a:prstGeom prst="rect">
            <a:avLst/>
          </a:prstGeom>
          <a:ln w="9525">
            <a:noFill/>
          </a:ln>
        </p:spPr>
      </p:pic>
      <p:pic>
        <p:nvPicPr>
          <p:cNvPr id="157" name="图片 43" descr=""/>
          <p:cNvPicPr/>
          <p:nvPr/>
        </p:nvPicPr>
        <p:blipFill>
          <a:blip r:embed="rId2"/>
          <a:stretch/>
        </p:blipFill>
        <p:spPr>
          <a:xfrm rot="19785600">
            <a:off x="266400" y="271440"/>
            <a:ext cx="746280" cy="912960"/>
          </a:xfrm>
          <a:prstGeom prst="rect">
            <a:avLst/>
          </a:prstGeom>
          <a:ln w="9525">
            <a:noFill/>
          </a:ln>
        </p:spPr>
      </p:pic>
      <p:sp>
        <p:nvSpPr>
          <p:cNvPr id="158" name="椭圆 17"/>
          <p:cNvSpPr/>
          <p:nvPr/>
        </p:nvSpPr>
        <p:spPr>
          <a:xfrm>
            <a:off x="4948200" y="714240"/>
            <a:ext cx="3130920" cy="3130920"/>
          </a:xfrm>
          <a:prstGeom prst="ellipse">
            <a:avLst/>
          </a:prstGeom>
          <a:noFill/>
          <a:ln cap="rnd" w="19050">
            <a:solidFill>
              <a:srgbClr val="ffffff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pic>
        <p:nvPicPr>
          <p:cNvPr id="159" name="图片 7" descr=""/>
          <p:cNvPicPr/>
          <p:nvPr/>
        </p:nvPicPr>
        <p:blipFill>
          <a:blip r:embed="rId3"/>
          <a:stretch/>
        </p:blipFill>
        <p:spPr>
          <a:xfrm>
            <a:off x="6986520" y="3540960"/>
            <a:ext cx="1866600" cy="1266480"/>
          </a:xfrm>
          <a:prstGeom prst="rect">
            <a:avLst/>
          </a:prstGeom>
          <a:ln w="9525">
            <a:noFill/>
          </a:ln>
        </p:spPr>
      </p:pic>
      <p:sp>
        <p:nvSpPr>
          <p:cNvPr id="160" name="任意多边形: 形状 28"/>
          <p:cNvSpPr/>
          <p:nvPr/>
        </p:nvSpPr>
        <p:spPr>
          <a:xfrm>
            <a:off x="948960" y="1635480"/>
            <a:ext cx="6184080" cy="2631600"/>
          </a:xfrm>
          <a:custGeom>
            <a:avLst/>
            <a:gdLst>
              <a:gd name="textAreaLeft" fmla="*/ 0 w 6184080"/>
              <a:gd name="textAreaRight" fmla="*/ 6184440 w 6184080"/>
              <a:gd name="textAreaTop" fmla="*/ 0 h 2631600"/>
              <a:gd name="textAreaBottom" fmla="*/ 2631960 h 2631600"/>
            </a:gdLst>
            <a:ahLst/>
            <a:rect l="textAreaLeft" t="textAreaTop" r="textAreaRight" b="textAreaBottom"/>
            <a:pathLst>
              <a:path w="2907720" h="1684498">
                <a:moveTo>
                  <a:pt x="316024" y="0"/>
                </a:moveTo>
                <a:cubicBezTo>
                  <a:pt x="216562" y="50533"/>
                  <a:pt x="117101" y="101066"/>
                  <a:pt x="75392" y="317634"/>
                </a:cubicBezTo>
                <a:cubicBezTo>
                  <a:pt x="33682" y="534203"/>
                  <a:pt x="-65778" y="1082843"/>
                  <a:pt x="65767" y="1299411"/>
                </a:cubicBezTo>
                <a:cubicBezTo>
                  <a:pt x="197312" y="1515980"/>
                  <a:pt x="458799" y="1557689"/>
                  <a:pt x="864664" y="1617045"/>
                </a:cubicBezTo>
                <a:cubicBezTo>
                  <a:pt x="1270529" y="1676401"/>
                  <a:pt x="2170492" y="1713298"/>
                  <a:pt x="2500959" y="1655546"/>
                </a:cubicBezTo>
                <a:cubicBezTo>
                  <a:pt x="2831426" y="1597794"/>
                  <a:pt x="2781696" y="1419727"/>
                  <a:pt x="2847468" y="1270535"/>
                </a:cubicBezTo>
                <a:cubicBezTo>
                  <a:pt x="2913240" y="1121343"/>
                  <a:pt x="2918053" y="941672"/>
                  <a:pt x="2895594" y="760396"/>
                </a:cubicBezTo>
                <a:cubicBezTo>
                  <a:pt x="2873135" y="579120"/>
                  <a:pt x="2802550" y="308008"/>
                  <a:pt x="2712714" y="182880"/>
                </a:cubicBezTo>
                <a:cubicBezTo>
                  <a:pt x="2622878" y="57752"/>
                  <a:pt x="2489729" y="33689"/>
                  <a:pt x="2356580" y="9626"/>
                </a:cubicBezTo>
              </a:path>
            </a:pathLst>
          </a:custGeom>
          <a:noFill/>
          <a:ln>
            <a:solidFill>
              <a:srgbClr val="5c934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61" name="文本框 13"/>
          <p:cNvSpPr/>
          <p:nvPr/>
        </p:nvSpPr>
        <p:spPr>
          <a:xfrm>
            <a:off x="992880" y="526320"/>
            <a:ext cx="170208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写法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"/>
          <p:cNvSpPr/>
          <p:nvPr/>
        </p:nvSpPr>
        <p:spPr>
          <a:xfrm>
            <a:off x="7133400" y="3119040"/>
            <a:ext cx="1770840" cy="451800"/>
          </a:xfrm>
          <a:prstGeom prst="rect">
            <a:avLst/>
          </a:prstGeom>
          <a:noFill/>
          <a:ln w="9525">
            <a:solidFill>
              <a:srgbClr val="1b93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画”生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"/>
          <p:cNvSpPr/>
          <p:nvPr/>
        </p:nvSpPr>
        <p:spPr>
          <a:xfrm>
            <a:off x="989280" y="1647720"/>
            <a:ext cx="5820480" cy="891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其时进来的是一个黑瘦的先生，八字须，戴着眼镜，挟着一迭大大小小的书。一将书放在讲台上，便用了缓慢而很有顿挫的声调，向学生介绍自己道：“我就是叫作藤野严九郎的……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                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选自鲁迅《藤野先生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2"/>
          <p:cNvSpPr/>
          <p:nvPr/>
        </p:nvSpPr>
        <p:spPr>
          <a:xfrm>
            <a:off x="7081920" y="1987560"/>
            <a:ext cx="1675440" cy="451800"/>
          </a:xfrm>
          <a:prstGeom prst="rect">
            <a:avLst/>
          </a:prstGeom>
          <a:noFill/>
          <a:ln w="9525">
            <a:solidFill>
              <a:srgbClr val="1b93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画”具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3501720" y="500400"/>
            <a:ext cx="421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2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漫画”人物特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11" descr=""/>
          <p:cNvPicPr/>
          <p:nvPr/>
        </p:nvPicPr>
        <p:blipFill>
          <a:blip r:embed="rId1"/>
          <a:stretch/>
        </p:blipFill>
        <p:spPr>
          <a:xfrm>
            <a:off x="1856880" y="1039680"/>
            <a:ext cx="4074120" cy="642600"/>
          </a:xfrm>
          <a:prstGeom prst="rect">
            <a:avLst/>
          </a:prstGeom>
          <a:ln w="9525">
            <a:noFill/>
          </a:ln>
        </p:spPr>
      </p:pic>
      <p:pic>
        <p:nvPicPr>
          <p:cNvPr id="167" name="图片 43" descr=""/>
          <p:cNvPicPr/>
          <p:nvPr/>
        </p:nvPicPr>
        <p:blipFill>
          <a:blip r:embed="rId2"/>
          <a:stretch/>
        </p:blipFill>
        <p:spPr>
          <a:xfrm rot="19785600">
            <a:off x="266400" y="271440"/>
            <a:ext cx="746280" cy="912960"/>
          </a:xfrm>
          <a:prstGeom prst="rect">
            <a:avLst/>
          </a:prstGeom>
          <a:ln w="9525">
            <a:noFill/>
          </a:ln>
        </p:spPr>
      </p:pic>
      <p:sp>
        <p:nvSpPr>
          <p:cNvPr id="168" name="椭圆 17"/>
          <p:cNvSpPr/>
          <p:nvPr/>
        </p:nvSpPr>
        <p:spPr>
          <a:xfrm>
            <a:off x="4502520" y="1039680"/>
            <a:ext cx="3130920" cy="3130920"/>
          </a:xfrm>
          <a:prstGeom prst="ellipse">
            <a:avLst/>
          </a:prstGeom>
          <a:noFill/>
          <a:ln cap="rnd" w="19050">
            <a:solidFill>
              <a:srgbClr val="ffffff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pic>
        <p:nvPicPr>
          <p:cNvPr id="169" name="图片 7" descr=""/>
          <p:cNvPicPr/>
          <p:nvPr/>
        </p:nvPicPr>
        <p:blipFill>
          <a:blip r:embed="rId3"/>
          <a:stretch/>
        </p:blipFill>
        <p:spPr>
          <a:xfrm>
            <a:off x="6986520" y="3540960"/>
            <a:ext cx="1866600" cy="1266480"/>
          </a:xfrm>
          <a:prstGeom prst="rect">
            <a:avLst/>
          </a:prstGeom>
          <a:ln w="9525">
            <a:noFill/>
          </a:ln>
        </p:spPr>
      </p:pic>
      <p:sp>
        <p:nvSpPr>
          <p:cNvPr id="170" name="任意多边形: 形状 28"/>
          <p:cNvSpPr/>
          <p:nvPr/>
        </p:nvSpPr>
        <p:spPr>
          <a:xfrm>
            <a:off x="948960" y="1603800"/>
            <a:ext cx="6183720" cy="3232800"/>
          </a:xfrm>
          <a:custGeom>
            <a:avLst/>
            <a:gdLst>
              <a:gd name="textAreaLeft" fmla="*/ 0 w 6183720"/>
              <a:gd name="textAreaRight" fmla="*/ 6184080 w 6183720"/>
              <a:gd name="textAreaTop" fmla="*/ 0 h 3232800"/>
              <a:gd name="textAreaBottom" fmla="*/ 3233160 h 3232800"/>
            </a:gdLst>
            <a:ahLst/>
            <a:rect l="textAreaLeft" t="textAreaTop" r="textAreaRight" b="textAreaBottom"/>
            <a:pathLst>
              <a:path w="2907720" h="1684498">
                <a:moveTo>
                  <a:pt x="316024" y="0"/>
                </a:moveTo>
                <a:cubicBezTo>
                  <a:pt x="216562" y="50533"/>
                  <a:pt x="117101" y="101066"/>
                  <a:pt x="75392" y="317634"/>
                </a:cubicBezTo>
                <a:cubicBezTo>
                  <a:pt x="33682" y="534203"/>
                  <a:pt x="-65778" y="1082843"/>
                  <a:pt x="65767" y="1299411"/>
                </a:cubicBezTo>
                <a:cubicBezTo>
                  <a:pt x="197312" y="1515980"/>
                  <a:pt x="458799" y="1557689"/>
                  <a:pt x="864664" y="1617045"/>
                </a:cubicBezTo>
                <a:cubicBezTo>
                  <a:pt x="1270529" y="1676401"/>
                  <a:pt x="2170492" y="1713298"/>
                  <a:pt x="2500959" y="1655546"/>
                </a:cubicBezTo>
                <a:cubicBezTo>
                  <a:pt x="2831426" y="1597794"/>
                  <a:pt x="2781696" y="1419727"/>
                  <a:pt x="2847468" y="1270535"/>
                </a:cubicBezTo>
                <a:cubicBezTo>
                  <a:pt x="2913240" y="1121343"/>
                  <a:pt x="2918053" y="941672"/>
                  <a:pt x="2895594" y="760396"/>
                </a:cubicBezTo>
                <a:cubicBezTo>
                  <a:pt x="2873135" y="579120"/>
                  <a:pt x="2802550" y="308008"/>
                  <a:pt x="2712714" y="182880"/>
                </a:cubicBezTo>
                <a:cubicBezTo>
                  <a:pt x="2622878" y="57752"/>
                  <a:pt x="2489729" y="33689"/>
                  <a:pt x="2356580" y="9626"/>
                </a:cubicBezTo>
              </a:path>
            </a:pathLst>
          </a:custGeom>
          <a:noFill/>
          <a:ln>
            <a:solidFill>
              <a:srgbClr val="5c934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71" name="文本框 13"/>
          <p:cNvSpPr/>
          <p:nvPr/>
        </p:nvSpPr>
        <p:spPr>
          <a:xfrm>
            <a:off x="992880" y="526320"/>
            <a:ext cx="170208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写法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"/>
          <p:cNvSpPr/>
          <p:nvPr/>
        </p:nvSpPr>
        <p:spPr>
          <a:xfrm>
            <a:off x="7133400" y="2955600"/>
            <a:ext cx="1701720" cy="451800"/>
          </a:xfrm>
          <a:prstGeom prst="rect">
            <a:avLst/>
          </a:prstGeom>
          <a:noFill/>
          <a:ln w="9525">
            <a:solidFill>
              <a:srgbClr val="1b93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画”生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"/>
          <p:cNvSpPr/>
          <p:nvPr/>
        </p:nvSpPr>
        <p:spPr>
          <a:xfrm>
            <a:off x="7133400" y="2124720"/>
            <a:ext cx="1702080" cy="451800"/>
          </a:xfrm>
          <a:prstGeom prst="rect">
            <a:avLst/>
          </a:prstGeom>
          <a:noFill/>
          <a:ln w="9525">
            <a:solidFill>
              <a:srgbClr val="1b93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画”具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"/>
          <p:cNvSpPr/>
          <p:nvPr/>
        </p:nvSpPr>
        <p:spPr>
          <a:xfrm>
            <a:off x="1126800" y="1727640"/>
            <a:ext cx="5724000" cy="72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在清华时，在校内林荫道上，在熙往攘来的学生之流中，会见到陈师去上课。身着长袍，朴素无华，肘下夹着一个布包，里面装满了讲课时用的书籍和资料。不认识他的人，恐怕大都把他看成是琉璃厂某一个书店的到清华来送书的老板，绝不会知道，他就是名扬海内外的大学者。他同当时清华留洋归来的大多数西装革履、发光鉴人的教授，迥乎不同。在这一方面，他也给我留下了毕生难忘的印象，令我受益无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                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选自季羡林《真话能走多远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1"/>
          <p:cNvSpPr/>
          <p:nvPr/>
        </p:nvSpPr>
        <p:spPr>
          <a:xfrm>
            <a:off x="3501720" y="500400"/>
            <a:ext cx="421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2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漫画”人物特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1" descr=""/>
          <p:cNvPicPr/>
          <p:nvPr/>
        </p:nvPicPr>
        <p:blipFill>
          <a:blip r:embed="rId1"/>
          <a:stretch/>
        </p:blipFill>
        <p:spPr>
          <a:xfrm>
            <a:off x="1863360" y="936000"/>
            <a:ext cx="4074120" cy="642600"/>
          </a:xfrm>
          <a:prstGeom prst="rect">
            <a:avLst/>
          </a:prstGeom>
          <a:ln w="9525">
            <a:noFill/>
          </a:ln>
        </p:spPr>
      </p:pic>
      <p:pic>
        <p:nvPicPr>
          <p:cNvPr id="177" name="图片 43" descr=""/>
          <p:cNvPicPr/>
          <p:nvPr/>
        </p:nvPicPr>
        <p:blipFill>
          <a:blip r:embed="rId2"/>
          <a:stretch/>
        </p:blipFill>
        <p:spPr>
          <a:xfrm rot="19785600">
            <a:off x="266400" y="271440"/>
            <a:ext cx="746280" cy="912960"/>
          </a:xfrm>
          <a:prstGeom prst="rect">
            <a:avLst/>
          </a:prstGeom>
          <a:ln w="9525">
            <a:noFill/>
          </a:ln>
        </p:spPr>
      </p:pic>
      <p:sp>
        <p:nvSpPr>
          <p:cNvPr id="178" name="椭圆 17"/>
          <p:cNvSpPr/>
          <p:nvPr/>
        </p:nvSpPr>
        <p:spPr>
          <a:xfrm>
            <a:off x="4948200" y="714240"/>
            <a:ext cx="3130920" cy="3130920"/>
          </a:xfrm>
          <a:prstGeom prst="ellipse">
            <a:avLst/>
          </a:prstGeom>
          <a:noFill/>
          <a:ln cap="rnd" w="19050">
            <a:solidFill>
              <a:srgbClr val="ffffff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pic>
        <p:nvPicPr>
          <p:cNvPr id="179" name="图片 7" descr=""/>
          <p:cNvPicPr/>
          <p:nvPr/>
        </p:nvPicPr>
        <p:blipFill>
          <a:blip r:embed="rId3"/>
          <a:stretch/>
        </p:blipFill>
        <p:spPr>
          <a:xfrm>
            <a:off x="6986520" y="3540960"/>
            <a:ext cx="1866600" cy="1266480"/>
          </a:xfrm>
          <a:prstGeom prst="rect">
            <a:avLst/>
          </a:prstGeom>
          <a:ln w="9525">
            <a:noFill/>
          </a:ln>
        </p:spPr>
      </p:pic>
      <p:sp>
        <p:nvSpPr>
          <p:cNvPr id="180" name="任意多边形: 形状 28"/>
          <p:cNvSpPr/>
          <p:nvPr/>
        </p:nvSpPr>
        <p:spPr>
          <a:xfrm>
            <a:off x="1079280" y="1499760"/>
            <a:ext cx="6053400" cy="3411360"/>
          </a:xfrm>
          <a:custGeom>
            <a:avLst/>
            <a:gdLst>
              <a:gd name="textAreaLeft" fmla="*/ 0 w 6053400"/>
              <a:gd name="textAreaRight" fmla="*/ 6053760 w 6053400"/>
              <a:gd name="textAreaTop" fmla="*/ 0 h 3411360"/>
              <a:gd name="textAreaBottom" fmla="*/ 3411720 h 3411360"/>
            </a:gdLst>
            <a:ahLst/>
            <a:rect l="textAreaLeft" t="textAreaTop" r="textAreaRight" b="textAreaBottom"/>
            <a:pathLst>
              <a:path w="2907720" h="1684498">
                <a:moveTo>
                  <a:pt x="316024" y="0"/>
                </a:moveTo>
                <a:cubicBezTo>
                  <a:pt x="216562" y="50533"/>
                  <a:pt x="117101" y="101066"/>
                  <a:pt x="75392" y="317634"/>
                </a:cubicBezTo>
                <a:cubicBezTo>
                  <a:pt x="33682" y="534203"/>
                  <a:pt x="-65778" y="1082843"/>
                  <a:pt x="65767" y="1299411"/>
                </a:cubicBezTo>
                <a:cubicBezTo>
                  <a:pt x="197312" y="1515980"/>
                  <a:pt x="458799" y="1557689"/>
                  <a:pt x="864664" y="1617045"/>
                </a:cubicBezTo>
                <a:cubicBezTo>
                  <a:pt x="1270529" y="1676401"/>
                  <a:pt x="2170492" y="1713298"/>
                  <a:pt x="2500959" y="1655546"/>
                </a:cubicBezTo>
                <a:cubicBezTo>
                  <a:pt x="2831426" y="1597794"/>
                  <a:pt x="2781696" y="1419727"/>
                  <a:pt x="2847468" y="1270535"/>
                </a:cubicBezTo>
                <a:cubicBezTo>
                  <a:pt x="2913240" y="1121343"/>
                  <a:pt x="2918053" y="941672"/>
                  <a:pt x="2895594" y="760396"/>
                </a:cubicBezTo>
                <a:cubicBezTo>
                  <a:pt x="2873135" y="579120"/>
                  <a:pt x="2802550" y="308008"/>
                  <a:pt x="2712714" y="182880"/>
                </a:cubicBezTo>
                <a:cubicBezTo>
                  <a:pt x="2622878" y="57752"/>
                  <a:pt x="2489729" y="33689"/>
                  <a:pt x="2356580" y="9626"/>
                </a:cubicBezTo>
              </a:path>
            </a:pathLst>
          </a:custGeom>
          <a:noFill/>
          <a:ln>
            <a:solidFill>
              <a:srgbClr val="5c934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81" name="文本框 13"/>
          <p:cNvSpPr/>
          <p:nvPr/>
        </p:nvSpPr>
        <p:spPr>
          <a:xfrm>
            <a:off x="992880" y="526320"/>
            <a:ext cx="170208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写法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"/>
          <p:cNvSpPr/>
          <p:nvPr/>
        </p:nvSpPr>
        <p:spPr>
          <a:xfrm>
            <a:off x="7133400" y="2955600"/>
            <a:ext cx="1723320" cy="451800"/>
          </a:xfrm>
          <a:prstGeom prst="rect">
            <a:avLst/>
          </a:prstGeom>
          <a:noFill/>
          <a:ln w="9525">
            <a:solidFill>
              <a:srgbClr val="1b93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画”生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2"/>
          <p:cNvSpPr/>
          <p:nvPr/>
        </p:nvSpPr>
        <p:spPr>
          <a:xfrm>
            <a:off x="7087680" y="2071800"/>
            <a:ext cx="1815120" cy="451800"/>
          </a:xfrm>
          <a:prstGeom prst="rect">
            <a:avLst/>
          </a:prstGeom>
          <a:noFill/>
          <a:ln w="9525">
            <a:solidFill>
              <a:srgbClr val="1b93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画”具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3"/>
          <p:cNvSpPr/>
          <p:nvPr/>
        </p:nvSpPr>
        <p:spPr>
          <a:xfrm>
            <a:off x="1497960" y="1499760"/>
            <a:ext cx="5346000" cy="72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她从来不打骂我们。仅仅有一次，她的教鞭好像要落下来，我用石板一迎，教鞭轻轻地敲在石板边上，大伙笑了，她也笑了。我用儿童的狡猾的眼光察觉，她爱我们，并没有真正要打的意思。孩子们是多么善于观察这一点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在课外的时候，她教我们跳舞，我现在还记得她把我打扮成女孩子表演跳舞的情景。在假日里，她把我们带到她的家里和女朋友的家里。在她的女朋友的园子里，她还让我们观察蜜蜂；也是在那时候，我认识了蜂王，并且平生第一次吃了蜂蜜。——选自魏巍《我的老师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1"/>
          <p:cNvSpPr/>
          <p:nvPr/>
        </p:nvSpPr>
        <p:spPr>
          <a:xfrm>
            <a:off x="3501720" y="500400"/>
            <a:ext cx="421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2.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漫画”人物特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ca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3" descr=""/>
          <p:cNvPicPr/>
          <p:nvPr/>
        </p:nvPicPr>
        <p:blipFill>
          <a:blip r:embed="rId1"/>
          <a:stretch/>
        </p:blipFill>
        <p:spPr>
          <a:xfrm>
            <a:off x="775080" y="1568160"/>
            <a:ext cx="1233000" cy="1298520"/>
          </a:xfrm>
          <a:prstGeom prst="rect">
            <a:avLst/>
          </a:prstGeom>
          <a:ln w="9525">
            <a:noFill/>
          </a:ln>
        </p:spPr>
      </p:pic>
      <p:pic>
        <p:nvPicPr>
          <p:cNvPr id="187" name="图片 7" descr=""/>
          <p:cNvPicPr/>
          <p:nvPr/>
        </p:nvPicPr>
        <p:blipFill>
          <a:blip r:embed="rId2"/>
          <a:stretch/>
        </p:blipFill>
        <p:spPr>
          <a:xfrm>
            <a:off x="2789640" y="1300320"/>
            <a:ext cx="1234440" cy="1659240"/>
          </a:xfrm>
          <a:prstGeom prst="rect">
            <a:avLst/>
          </a:prstGeom>
          <a:ln w="9525">
            <a:noFill/>
          </a:ln>
        </p:spPr>
      </p:pic>
      <p:pic>
        <p:nvPicPr>
          <p:cNvPr id="188" name="图片 10" descr=""/>
          <p:cNvPicPr/>
          <p:nvPr/>
        </p:nvPicPr>
        <p:blipFill>
          <a:blip r:embed="rId3"/>
          <a:stretch/>
        </p:blipFill>
        <p:spPr>
          <a:xfrm>
            <a:off x="4842360" y="1376280"/>
            <a:ext cx="1390320" cy="1513080"/>
          </a:xfrm>
          <a:prstGeom prst="rect">
            <a:avLst/>
          </a:prstGeom>
          <a:ln w="9525">
            <a:noFill/>
          </a:ln>
        </p:spPr>
      </p:pic>
      <p:pic>
        <p:nvPicPr>
          <p:cNvPr id="189" name="图片 11" descr=""/>
          <p:cNvPicPr/>
          <p:nvPr/>
        </p:nvPicPr>
        <p:blipFill>
          <a:blip r:embed="rId4"/>
          <a:stretch/>
        </p:blipFill>
        <p:spPr>
          <a:xfrm>
            <a:off x="6947280" y="1429920"/>
            <a:ext cx="1233000" cy="1433160"/>
          </a:xfrm>
          <a:prstGeom prst="rect">
            <a:avLst/>
          </a:prstGeom>
          <a:ln w="9525">
            <a:noFill/>
          </a:ln>
        </p:spPr>
      </p:pic>
      <p:pic>
        <p:nvPicPr>
          <p:cNvPr id="190" name="图片 23" descr=""/>
          <p:cNvPicPr/>
          <p:nvPr/>
        </p:nvPicPr>
        <p:blipFill>
          <a:blip r:embed="rId5"/>
          <a:stretch/>
        </p:blipFill>
        <p:spPr>
          <a:xfrm rot="20027400">
            <a:off x="216720" y="159480"/>
            <a:ext cx="770040" cy="947520"/>
          </a:xfrm>
          <a:prstGeom prst="rect">
            <a:avLst/>
          </a:prstGeom>
          <a:ln w="9525">
            <a:noFill/>
          </a:ln>
        </p:spPr>
      </p:pic>
      <p:sp>
        <p:nvSpPr>
          <p:cNvPr id="191" name="文本框 12"/>
          <p:cNvSpPr/>
          <p:nvPr/>
        </p:nvSpPr>
        <p:spPr>
          <a:xfrm>
            <a:off x="1053360" y="526320"/>
            <a:ext cx="170208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习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33240" y="3178080"/>
            <a:ext cx="1933200" cy="39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具体的事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787120" y="3164760"/>
            <a:ext cx="1933200" cy="39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夸张的写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721040" y="3164760"/>
            <a:ext cx="2169360" cy="39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细节描写生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947640" y="3164760"/>
            <a:ext cx="2096640" cy="39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突出人物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ca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24" descr=""/>
          <p:cNvPicPr/>
          <p:nvPr/>
        </p:nvPicPr>
        <p:blipFill>
          <a:blip r:embed="rId1"/>
          <a:stretch/>
        </p:blipFill>
        <p:spPr>
          <a:xfrm rot="20694000">
            <a:off x="292680" y="168840"/>
            <a:ext cx="752040" cy="898560"/>
          </a:xfrm>
          <a:prstGeom prst="rect">
            <a:avLst/>
          </a:prstGeom>
          <a:ln w="9525">
            <a:noFill/>
          </a:ln>
        </p:spPr>
      </p:pic>
      <p:pic>
        <p:nvPicPr>
          <p:cNvPr id="109" name="图片 5" descr="C:\Users\Administrator\Desktop\16pic_3782274_b.jpg16pic_3782274_b"/>
          <p:cNvPicPr/>
          <p:nvPr/>
        </p:nvPicPr>
        <p:blipFill>
          <a:blip r:embed="rId2">
            <a:lum contrast="17000"/>
          </a:blip>
          <a:stretch/>
        </p:blipFill>
        <p:spPr>
          <a:xfrm>
            <a:off x="4308840" y="812160"/>
            <a:ext cx="3345120" cy="3688200"/>
          </a:xfrm>
          <a:prstGeom prst="rect">
            <a:avLst/>
          </a:prstGeom>
          <a:ln w="9525">
            <a:noFill/>
          </a:ln>
        </p:spPr>
      </p:pic>
      <p:sp>
        <p:nvSpPr>
          <p:cNvPr id="110" name="文本框 11"/>
          <p:cNvSpPr/>
          <p:nvPr/>
        </p:nvSpPr>
        <p:spPr>
          <a:xfrm>
            <a:off x="992880" y="526320"/>
            <a:ext cx="267480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看漫画 猜人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ca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5" descr="C:\Users\Administrator\Desktop\11111.jpg11111"/>
          <p:cNvPicPr/>
          <p:nvPr/>
        </p:nvPicPr>
        <p:blipFill>
          <a:blip r:embed="rId1">
            <a:lum contrast="17000"/>
          </a:blip>
          <a:stretch/>
        </p:blipFill>
        <p:spPr>
          <a:xfrm>
            <a:off x="4337280" y="263160"/>
            <a:ext cx="3237120" cy="4641840"/>
          </a:xfrm>
          <a:prstGeom prst="rect">
            <a:avLst/>
          </a:prstGeom>
          <a:ln w="9525">
            <a:noFill/>
          </a:ln>
        </p:spPr>
      </p:pic>
      <p:pic>
        <p:nvPicPr>
          <p:cNvPr id="112" name="图片 24" descr=""/>
          <p:cNvPicPr/>
          <p:nvPr/>
        </p:nvPicPr>
        <p:blipFill>
          <a:blip r:embed="rId2"/>
          <a:stretch/>
        </p:blipFill>
        <p:spPr>
          <a:xfrm rot="20694000">
            <a:off x="292680" y="168840"/>
            <a:ext cx="752040" cy="898560"/>
          </a:xfrm>
          <a:prstGeom prst="rect">
            <a:avLst/>
          </a:prstGeom>
          <a:ln w="9525">
            <a:noFill/>
          </a:ln>
        </p:spPr>
      </p:pic>
      <p:sp>
        <p:nvSpPr>
          <p:cNvPr id="113" name="文本框 11"/>
          <p:cNvSpPr/>
          <p:nvPr/>
        </p:nvSpPr>
        <p:spPr>
          <a:xfrm>
            <a:off x="992880" y="526320"/>
            <a:ext cx="267480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看漫画 猜人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ca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5" descr="C:\Users\Administrator\Desktop\u=3261750648,18478132&amp;fm=26&amp;gp=0.jpgu=3261750648,18478132&amp;fm=26&amp;gp=0"/>
          <p:cNvPicPr/>
          <p:nvPr/>
        </p:nvPicPr>
        <p:blipFill>
          <a:blip r:embed="rId1">
            <a:lum contrast="17000"/>
          </a:blip>
          <a:stretch/>
        </p:blipFill>
        <p:spPr>
          <a:xfrm>
            <a:off x="3948120" y="721440"/>
            <a:ext cx="3974040" cy="4068000"/>
          </a:xfrm>
          <a:prstGeom prst="rect">
            <a:avLst/>
          </a:prstGeom>
          <a:ln w="9525">
            <a:noFill/>
          </a:ln>
        </p:spPr>
      </p:pic>
      <p:pic>
        <p:nvPicPr>
          <p:cNvPr id="115" name="图片 24" descr=""/>
          <p:cNvPicPr/>
          <p:nvPr/>
        </p:nvPicPr>
        <p:blipFill>
          <a:blip r:embed="rId2"/>
          <a:stretch/>
        </p:blipFill>
        <p:spPr>
          <a:xfrm rot="20694000">
            <a:off x="292680" y="168840"/>
            <a:ext cx="752040" cy="898560"/>
          </a:xfrm>
          <a:prstGeom prst="rect">
            <a:avLst/>
          </a:prstGeom>
          <a:ln w="9525">
            <a:noFill/>
          </a:ln>
        </p:spPr>
      </p:pic>
      <p:sp>
        <p:nvSpPr>
          <p:cNvPr id="116" name="文本框 11"/>
          <p:cNvSpPr/>
          <p:nvPr/>
        </p:nvSpPr>
        <p:spPr>
          <a:xfrm>
            <a:off x="992880" y="526320"/>
            <a:ext cx="267480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看漫画 猜人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ca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5" descr="C:\Users\Administrator\Desktop\364357d533264deb84927970e0f279d2.jpg364357d533264deb84927970e0f279d2"/>
          <p:cNvPicPr/>
          <p:nvPr/>
        </p:nvPicPr>
        <p:blipFill>
          <a:blip r:embed="rId1">
            <a:lum contrast="17000"/>
          </a:blip>
          <a:stretch/>
        </p:blipFill>
        <p:spPr>
          <a:xfrm>
            <a:off x="4470840" y="895320"/>
            <a:ext cx="3389400" cy="3564360"/>
          </a:xfrm>
          <a:prstGeom prst="rect">
            <a:avLst/>
          </a:prstGeom>
          <a:ln w="9525">
            <a:noFill/>
          </a:ln>
        </p:spPr>
      </p:pic>
      <p:pic>
        <p:nvPicPr>
          <p:cNvPr id="118" name="图片 24" descr=""/>
          <p:cNvPicPr/>
          <p:nvPr/>
        </p:nvPicPr>
        <p:blipFill>
          <a:blip r:embed="rId2"/>
          <a:stretch/>
        </p:blipFill>
        <p:spPr>
          <a:xfrm rot="20694000">
            <a:off x="292680" y="168840"/>
            <a:ext cx="752040" cy="898560"/>
          </a:xfrm>
          <a:prstGeom prst="rect">
            <a:avLst/>
          </a:prstGeom>
          <a:ln w="9525">
            <a:noFill/>
          </a:ln>
        </p:spPr>
      </p:pic>
      <p:sp>
        <p:nvSpPr>
          <p:cNvPr id="119" name="文本框 11"/>
          <p:cNvSpPr/>
          <p:nvPr/>
        </p:nvSpPr>
        <p:spPr>
          <a:xfrm>
            <a:off x="992880" y="526320"/>
            <a:ext cx="267480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看漫画 猜人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ca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5" descr="C:\Users\Administrator\Desktop\364357d533264deb84927970e0f279d2.jpg364357d533264deb84927970e0f279d2"/>
          <p:cNvPicPr/>
          <p:nvPr/>
        </p:nvPicPr>
        <p:blipFill>
          <a:blip r:embed="rId1">
            <a:lum contrast="17000"/>
          </a:blip>
          <a:stretch/>
        </p:blipFill>
        <p:spPr>
          <a:xfrm>
            <a:off x="6705720" y="1504800"/>
            <a:ext cx="1265400" cy="1332000"/>
          </a:xfrm>
          <a:prstGeom prst="rect">
            <a:avLst/>
          </a:prstGeom>
          <a:ln w="9525">
            <a:noFill/>
          </a:ln>
        </p:spPr>
      </p:pic>
      <p:pic>
        <p:nvPicPr>
          <p:cNvPr id="121" name="图片 24" descr=""/>
          <p:cNvPicPr/>
          <p:nvPr/>
        </p:nvPicPr>
        <p:blipFill>
          <a:blip r:embed="rId2"/>
          <a:stretch/>
        </p:blipFill>
        <p:spPr>
          <a:xfrm rot="20694000">
            <a:off x="292680" y="168840"/>
            <a:ext cx="752040" cy="898560"/>
          </a:xfrm>
          <a:prstGeom prst="rect">
            <a:avLst/>
          </a:prstGeom>
          <a:ln w="9525">
            <a:noFill/>
          </a:ln>
        </p:spPr>
      </p:pic>
      <p:sp>
        <p:nvSpPr>
          <p:cNvPr id="122" name="文本框 11"/>
          <p:cNvSpPr/>
          <p:nvPr/>
        </p:nvSpPr>
        <p:spPr>
          <a:xfrm>
            <a:off x="992880" y="526320"/>
            <a:ext cx="267480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看漫画 猜人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" descr="C:\Users\Administrator\Desktop\16pic_3782274_b.jpg16pic_3782274_b"/>
          <p:cNvPicPr/>
          <p:nvPr/>
        </p:nvPicPr>
        <p:blipFill>
          <a:blip r:embed="rId3">
            <a:lum contrast="17000"/>
          </a:blip>
          <a:stretch/>
        </p:blipFill>
        <p:spPr>
          <a:xfrm>
            <a:off x="992880" y="1569240"/>
            <a:ext cx="1090080" cy="1202040"/>
          </a:xfrm>
          <a:prstGeom prst="rect">
            <a:avLst/>
          </a:prstGeom>
          <a:ln w="9525">
            <a:noFill/>
          </a:ln>
        </p:spPr>
      </p:pic>
      <p:pic>
        <p:nvPicPr>
          <p:cNvPr id="124" name="图片 2" descr="C:\Users\Administrator\Desktop\11111.jpg11111"/>
          <p:cNvPicPr/>
          <p:nvPr/>
        </p:nvPicPr>
        <p:blipFill>
          <a:blip r:embed="rId4">
            <a:lum contrast="17000"/>
          </a:blip>
          <a:stretch/>
        </p:blipFill>
        <p:spPr>
          <a:xfrm>
            <a:off x="2627640" y="1369080"/>
            <a:ext cx="1116360" cy="1602360"/>
          </a:xfrm>
          <a:prstGeom prst="rect">
            <a:avLst/>
          </a:prstGeom>
          <a:ln w="9525">
            <a:noFill/>
          </a:ln>
        </p:spPr>
      </p:pic>
      <p:pic>
        <p:nvPicPr>
          <p:cNvPr id="125" name="图片 3" descr="C:\Users\Administrator\Desktop\u=3261750648,18478132&amp;fm=26&amp;gp=0.jpgu=3261750648,18478132&amp;fm=26&amp;gp=0"/>
          <p:cNvPicPr/>
          <p:nvPr/>
        </p:nvPicPr>
        <p:blipFill>
          <a:blip r:embed="rId5">
            <a:lum contrast="17000"/>
          </a:blip>
          <a:stretch/>
        </p:blipFill>
        <p:spPr>
          <a:xfrm>
            <a:off x="4200480" y="1262160"/>
            <a:ext cx="1775880" cy="1817640"/>
          </a:xfrm>
          <a:prstGeom prst="rect">
            <a:avLst/>
          </a:prstGeom>
          <a:ln w="9525">
            <a:noFill/>
          </a:ln>
        </p:spPr>
      </p:pic>
      <p:sp>
        <p:nvSpPr>
          <p:cNvPr id="126" name="文本框 4"/>
          <p:cNvSpPr/>
          <p:nvPr/>
        </p:nvSpPr>
        <p:spPr>
          <a:xfrm>
            <a:off x="3552840" y="3475440"/>
            <a:ext cx="2036880" cy="671400"/>
          </a:xfrm>
          <a:prstGeom prst="rect">
            <a:avLst/>
          </a:prstGeom>
          <a:solidFill>
            <a:srgbClr val="52c9c0"/>
          </a:solidFill>
          <a:ln w="9525">
            <a:solidFill>
              <a:srgbClr val="1b93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特点突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画风夸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ca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4" descr=""/>
          <p:cNvPicPr/>
          <p:nvPr/>
        </p:nvPicPr>
        <p:blipFill>
          <a:blip r:embed="rId1"/>
          <a:stretch/>
        </p:blipFill>
        <p:spPr>
          <a:xfrm rot="20694000">
            <a:off x="292680" y="168840"/>
            <a:ext cx="752040" cy="898560"/>
          </a:xfrm>
          <a:prstGeom prst="rect">
            <a:avLst/>
          </a:prstGeom>
          <a:ln w="9525">
            <a:noFill/>
          </a:ln>
        </p:spPr>
      </p:pic>
      <p:sp>
        <p:nvSpPr>
          <p:cNvPr id="128" name="文本框 11"/>
          <p:cNvSpPr/>
          <p:nvPr/>
        </p:nvSpPr>
        <p:spPr>
          <a:xfrm>
            <a:off x="992880" y="526320"/>
            <a:ext cx="170208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明确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2" descr="微信图片_20190707135502_副本"/>
          <p:cNvPicPr/>
          <p:nvPr/>
        </p:nvPicPr>
        <p:blipFill>
          <a:blip r:embed="rId2"/>
          <a:stretch/>
        </p:blipFill>
        <p:spPr>
          <a:xfrm>
            <a:off x="3110040" y="1639440"/>
            <a:ext cx="4719240" cy="2687040"/>
          </a:xfrm>
          <a:prstGeom prst="rect">
            <a:avLst/>
          </a:prstGeom>
          <a:ln w="9525">
            <a:noFill/>
          </a:ln>
        </p:spPr>
      </p:pic>
      <p:sp>
        <p:nvSpPr>
          <p:cNvPr id="130" name="文本框 1"/>
          <p:cNvSpPr/>
          <p:nvPr/>
        </p:nvSpPr>
        <p:spPr>
          <a:xfrm>
            <a:off x="5125680" y="1075680"/>
            <a:ext cx="9068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漫画”老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ca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椭圆 6"/>
          <p:cNvSpPr/>
          <p:nvPr/>
        </p:nvSpPr>
        <p:spPr>
          <a:xfrm>
            <a:off x="3632760" y="3576960"/>
            <a:ext cx="2128320" cy="527040"/>
          </a:xfrm>
          <a:prstGeom prst="ellipse">
            <a:avLst/>
          </a:prstGeom>
          <a:solidFill>
            <a:srgbClr val="52cac1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32" name="椭圆 3"/>
          <p:cNvSpPr/>
          <p:nvPr/>
        </p:nvSpPr>
        <p:spPr>
          <a:xfrm>
            <a:off x="4953600" y="2590200"/>
            <a:ext cx="925920" cy="450720"/>
          </a:xfrm>
          <a:prstGeom prst="ellipse">
            <a:avLst/>
          </a:prstGeom>
          <a:solidFill>
            <a:srgbClr val="52cac1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33" name="椭圆 4"/>
          <p:cNvSpPr/>
          <p:nvPr/>
        </p:nvSpPr>
        <p:spPr>
          <a:xfrm>
            <a:off x="1249920" y="3126960"/>
            <a:ext cx="1251000" cy="449640"/>
          </a:xfrm>
          <a:prstGeom prst="ellipse">
            <a:avLst/>
          </a:prstGeom>
          <a:solidFill>
            <a:srgbClr val="52cac1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34" name="椭圆 2"/>
          <p:cNvSpPr/>
          <p:nvPr/>
        </p:nvSpPr>
        <p:spPr>
          <a:xfrm>
            <a:off x="4833360" y="1967760"/>
            <a:ext cx="1509480" cy="525960"/>
          </a:xfrm>
          <a:prstGeom prst="ellipse">
            <a:avLst/>
          </a:prstGeom>
          <a:solidFill>
            <a:srgbClr val="52cac1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1189440" y="1345320"/>
            <a:ext cx="7014960" cy="1302480"/>
          </a:xfrm>
          <a:prstGeom prst="rect">
            <a:avLst/>
          </a:prstGeom>
          <a:noFill/>
          <a:ln w="9525">
            <a:solidFill>
              <a:srgbClr val="1b93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让我们把这些可爱的老师用文字“画”出来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先想想你的老师有什么突出的特点，如外貌、衣着、性格、喜好，再选择一两件能突出其特点的具体事情来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写完后，可以读给你写的老师听，问问他对你的习作有什么评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24" descr=""/>
          <p:cNvPicPr/>
          <p:nvPr/>
        </p:nvPicPr>
        <p:blipFill>
          <a:blip r:embed="rId1"/>
          <a:stretch/>
        </p:blipFill>
        <p:spPr>
          <a:xfrm rot="20694000">
            <a:off x="292680" y="168840"/>
            <a:ext cx="752040" cy="898560"/>
          </a:xfrm>
          <a:prstGeom prst="rect">
            <a:avLst/>
          </a:prstGeom>
          <a:ln w="9525">
            <a:noFill/>
          </a:ln>
        </p:spPr>
      </p:pic>
      <p:sp>
        <p:nvSpPr>
          <p:cNvPr id="137" name="文本框 11"/>
          <p:cNvSpPr/>
          <p:nvPr/>
        </p:nvSpPr>
        <p:spPr>
          <a:xfrm>
            <a:off x="1073520" y="526320"/>
            <a:ext cx="170208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审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ca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1" descr=""/>
          <p:cNvPicPr/>
          <p:nvPr/>
        </p:nvPicPr>
        <p:blipFill>
          <a:blip r:embed="rId1"/>
          <a:stretch/>
        </p:blipFill>
        <p:spPr>
          <a:xfrm>
            <a:off x="3112200" y="623880"/>
            <a:ext cx="4349160" cy="686520"/>
          </a:xfrm>
          <a:prstGeom prst="rect">
            <a:avLst/>
          </a:prstGeom>
          <a:ln w="9525">
            <a:noFill/>
          </a:ln>
        </p:spPr>
      </p:pic>
      <p:pic>
        <p:nvPicPr>
          <p:cNvPr id="139" name="图片 43" descr=""/>
          <p:cNvPicPr/>
          <p:nvPr/>
        </p:nvPicPr>
        <p:blipFill>
          <a:blip r:embed="rId2"/>
          <a:stretch/>
        </p:blipFill>
        <p:spPr>
          <a:xfrm rot="19785600">
            <a:off x="266400" y="271440"/>
            <a:ext cx="746280" cy="912960"/>
          </a:xfrm>
          <a:prstGeom prst="rect">
            <a:avLst/>
          </a:prstGeom>
          <a:ln w="9525">
            <a:noFill/>
          </a:ln>
        </p:spPr>
      </p:pic>
      <p:sp>
        <p:nvSpPr>
          <p:cNvPr id="140" name="椭圆 17"/>
          <p:cNvSpPr/>
          <p:nvPr/>
        </p:nvSpPr>
        <p:spPr>
          <a:xfrm>
            <a:off x="4948200" y="714240"/>
            <a:ext cx="3130920" cy="3130920"/>
          </a:xfrm>
          <a:prstGeom prst="ellipse">
            <a:avLst/>
          </a:prstGeom>
          <a:noFill/>
          <a:ln cap="rnd" w="19050">
            <a:solidFill>
              <a:srgbClr val="ffffff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pic>
        <p:nvPicPr>
          <p:cNvPr id="141" name="图片 7" descr=""/>
          <p:cNvPicPr/>
          <p:nvPr/>
        </p:nvPicPr>
        <p:blipFill>
          <a:blip r:embed="rId3"/>
          <a:stretch/>
        </p:blipFill>
        <p:spPr>
          <a:xfrm>
            <a:off x="406080" y="3453840"/>
            <a:ext cx="1866600" cy="1266480"/>
          </a:xfrm>
          <a:prstGeom prst="rect">
            <a:avLst/>
          </a:prstGeom>
          <a:ln w="9525">
            <a:noFill/>
          </a:ln>
        </p:spPr>
      </p:pic>
      <p:sp>
        <p:nvSpPr>
          <p:cNvPr id="142" name="任意多边形: 形状 28"/>
          <p:cNvSpPr/>
          <p:nvPr/>
        </p:nvSpPr>
        <p:spPr>
          <a:xfrm>
            <a:off x="2378880" y="1196640"/>
            <a:ext cx="6158880" cy="3420360"/>
          </a:xfrm>
          <a:custGeom>
            <a:avLst/>
            <a:gdLst>
              <a:gd name="textAreaLeft" fmla="*/ 0 w 6158880"/>
              <a:gd name="textAreaRight" fmla="*/ 6159240 w 6158880"/>
              <a:gd name="textAreaTop" fmla="*/ 0 h 3420360"/>
              <a:gd name="textAreaBottom" fmla="*/ 3420720 h 3420360"/>
            </a:gdLst>
            <a:ahLst/>
            <a:rect l="textAreaLeft" t="textAreaTop" r="textAreaRight" b="textAreaBottom"/>
            <a:pathLst>
              <a:path w="2907720" h="1684498">
                <a:moveTo>
                  <a:pt x="316024" y="0"/>
                </a:moveTo>
                <a:cubicBezTo>
                  <a:pt x="216562" y="50533"/>
                  <a:pt x="117101" y="101066"/>
                  <a:pt x="75392" y="317634"/>
                </a:cubicBezTo>
                <a:cubicBezTo>
                  <a:pt x="33682" y="534203"/>
                  <a:pt x="-65778" y="1082843"/>
                  <a:pt x="65767" y="1299411"/>
                </a:cubicBezTo>
                <a:cubicBezTo>
                  <a:pt x="197312" y="1515980"/>
                  <a:pt x="458799" y="1557689"/>
                  <a:pt x="864664" y="1617045"/>
                </a:cubicBezTo>
                <a:cubicBezTo>
                  <a:pt x="1270529" y="1676401"/>
                  <a:pt x="2170492" y="1713298"/>
                  <a:pt x="2500959" y="1655546"/>
                </a:cubicBezTo>
                <a:cubicBezTo>
                  <a:pt x="2831426" y="1597794"/>
                  <a:pt x="2781696" y="1419727"/>
                  <a:pt x="2847468" y="1270535"/>
                </a:cubicBezTo>
                <a:cubicBezTo>
                  <a:pt x="2913240" y="1121343"/>
                  <a:pt x="2918053" y="941672"/>
                  <a:pt x="2895594" y="760396"/>
                </a:cubicBezTo>
                <a:cubicBezTo>
                  <a:pt x="2873135" y="579120"/>
                  <a:pt x="2802550" y="308008"/>
                  <a:pt x="2712714" y="182880"/>
                </a:cubicBezTo>
                <a:cubicBezTo>
                  <a:pt x="2622878" y="57752"/>
                  <a:pt x="2489729" y="33689"/>
                  <a:pt x="2356580" y="9626"/>
                </a:cubicBezTo>
              </a:path>
            </a:pathLst>
          </a:custGeom>
          <a:noFill/>
          <a:ln>
            <a:solidFill>
              <a:srgbClr val="5c934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43" name="文本框 20"/>
          <p:cNvSpPr/>
          <p:nvPr/>
        </p:nvSpPr>
        <p:spPr>
          <a:xfrm>
            <a:off x="3650400" y="500400"/>
            <a:ext cx="421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寻找人物特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3"/>
          <p:cNvSpPr/>
          <p:nvPr/>
        </p:nvSpPr>
        <p:spPr>
          <a:xfrm>
            <a:off x="992880" y="526320"/>
            <a:ext cx="170208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写法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"/>
          <p:cNvSpPr/>
          <p:nvPr/>
        </p:nvSpPr>
        <p:spPr>
          <a:xfrm>
            <a:off x="2969280" y="1790640"/>
            <a:ext cx="5178960" cy="47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方圆体W7"/>
              </a:rPr>
              <a:t>想一想：你要写哪位老师？他有什么突出的特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  <Words>1047</Words>
  <Paragraphs>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08:02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4-03T00:41:58Z</dcterms:modified>
  <cp:revision>37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470</vt:lpwstr>
  </property>
  <property fmtid="{D5CDD505-2E9C-101B-9397-08002B2CF9AE}" pid="3" name="Notes">
    <vt:r8>14</vt:r8>
  </property>
  <property fmtid="{D5CDD505-2E9C-101B-9397-08002B2CF9AE}" pid="4" name="PresentationFormat">
    <vt:lpwstr>全屏显示(16:9)</vt:lpwstr>
  </property>
  <property fmtid="{D5CDD505-2E9C-101B-9397-08002B2CF9AE}" pid="5" name="Slides">
    <vt:r8>15</vt:r8>
  </property>
</Properties>
</file>