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F52E02-FE2A-48CE-A9A2-5EB084CC9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2F01A9-1846-46F5-BAB4-45AD4240D9D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5A65E6-28B4-4C21-B527-7327C2D2525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C42-60E3-4068-B9F9-9427CF2C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560" y="282528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259-7273-42D9-A32C-8A398EB7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31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03F-6075-4A07-893B-74E4AB71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5440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0624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256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5440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0624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E77-E325-4411-BE76-B4B5B67F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142E-BDDA-4FB5-AFC2-41B8F00B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ED23-FF99-4F0D-A36A-4C51130F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26F3-7AF6-443C-B9AF-B1AB49B7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AC0D-E276-402E-86FB-6EC573FD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D6BB-9C0B-473E-83D1-78D5100B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02560" y="332280"/>
            <a:ext cx="8138880" cy="15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06EA-F327-44E5-A4DD-C8BF7AD9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D4E8-B94F-4998-8540-22F9B364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75C-B705-4879-991C-024248B5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31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7236-0673-49A0-8726-C136C47B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FF9E-6819-41EC-A8D9-587AB7A9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2560" y="282528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B13D-8BE5-45CE-A445-F77FB05B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31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5F5F-883B-492A-8B38-C145BD2F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440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0624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256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440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0624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F86D-51A7-4968-8DC3-B0737C45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97E6-9D4E-456F-92A1-A9ADA5CA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FFC5-8783-4DAE-96F3-B2C2D8B1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6350-2A46-4189-8F6E-FD1960B2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83ED-5D5E-4883-ACC9-F453532A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A721-E0B6-46E9-A853-E01FEE49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58B-512D-4684-8D8E-7C04B520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2560" y="332280"/>
            <a:ext cx="8138880" cy="15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52809-8038-4552-AF39-4BE13BE7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3130-0807-489B-B736-5C5D0D3E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31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6CB8-DB49-468C-8698-1CA90B5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494B-3B3E-46A1-8E42-930EE84A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2560" y="282528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04D4-6D38-4FC7-BF4B-06ED992F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31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80F2E-DB65-4FF7-984A-A2E48AEE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5440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0624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256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5440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0624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3FE5-CC44-4381-94F9-16295169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C8A05-E913-4638-9C25-ACF9F34F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0BA83-2303-41FC-9BAC-09F270A6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B27B0-0596-45AB-92AD-048B31AF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317-999A-4126-BFF2-8BA6EB0A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67A7-028B-4786-B37C-F3BE5779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9626-4558-466D-BBA7-8C7DDB4C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02560" y="332280"/>
            <a:ext cx="8138880" cy="15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912A6-8A08-4624-BACF-C545003E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E2BC-7313-4EEF-BA6D-AB0CEF55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31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2CAB6-12F7-4503-8FC9-E9E9632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80FF-8D7D-4133-873F-59D58D41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2560" y="282528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F250C-372A-487E-9562-8D768758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31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A96FB-B5E2-4AA6-90C7-D63EF894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5440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0624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256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5440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0624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2F1F3-5D3F-41C7-AAFE-0556DD43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4B87B-DC1C-4983-A1B1-BB238589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B74-732B-42C0-8318-7AA35DBC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1FE2F-C455-465B-92D4-09A06770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3F0B9-FAE6-4203-A267-8C99B1F3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18CB2-56A7-4905-B3C0-8507ACAD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9ACCD-D2BE-4B4A-8D52-76CAF996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02560" y="332280"/>
            <a:ext cx="8138880" cy="15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71FFF-7FA1-47C3-A4B2-DC7EDCAF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CED8C-211C-4782-8A43-C8B9FE2E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31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33E6D-8CDF-458C-B5EE-E16E7C49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9304F-EEA7-42FB-BEEF-A407D80B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2560" y="282528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3D981-7329-4DD7-945E-D276850D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31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32148-2F24-4BE1-9F90-9580D854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02560" y="332280"/>
            <a:ext cx="8138880" cy="15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2F9-8080-495E-97ED-B53BF81F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5440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06240" y="71424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0256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5440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06240" y="2825280"/>
            <a:ext cx="26204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25EDB-7255-4B34-9B2A-191C36A7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E08-0053-414A-B952-AB6D658E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160" y="282528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F6A-8601-48A1-BC60-F1157493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3160" y="714240"/>
            <a:ext cx="39715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81388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0C7-07A8-43AB-A3E7-D780EF16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ea592"/>
          </a:solidFill>
          <a:ln>
            <a:solidFill>
              <a:srgbClr val="2d7a6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" name="任意多边形: 形状 59"/>
          <p:cNvSpPr/>
          <p:nvPr/>
        </p:nvSpPr>
        <p:spPr>
          <a:xfrm flipH="1" flipV="1" rot="19013400">
            <a:off x="8862120" y="189720"/>
            <a:ext cx="34200" cy="798120"/>
          </a:xfrm>
          <a:custGeom>
            <a:avLst/>
            <a:gdLst>
              <a:gd name="textAreaLeft" fmla="*/ -360 w 34200"/>
              <a:gd name="textAreaRight" fmla="*/ 34200 w 34200"/>
              <a:gd name="textAreaTop" fmla="*/ -360 h 798120"/>
              <a:gd name="textAreaBottom" fmla="*/ 798120 h 798120"/>
            </a:gdLst>
            <a:ahLst/>
            <a:rect l="textAreaLeft" t="textAreaTop" r="textAreaRight" b="textAreaBottom"/>
            <a:pathLst>
              <a:path w="114195" h="2643673">
                <a:moveTo>
                  <a:pt x="114195" y="0"/>
                </a:moveTo>
                <a:lnTo>
                  <a:pt x="114195" y="2624992"/>
                </a:lnTo>
                <a:lnTo>
                  <a:pt x="0" y="2643673"/>
                </a:lnTo>
                <a:lnTo>
                  <a:pt x="0" y="12219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" name="任意多边形: 形状 60"/>
          <p:cNvSpPr/>
          <p:nvPr/>
        </p:nvSpPr>
        <p:spPr>
          <a:xfrm flipH="1" flipV="1" rot="19013400">
            <a:off x="8894880" y="103680"/>
            <a:ext cx="34200" cy="703080"/>
          </a:xfrm>
          <a:custGeom>
            <a:avLst/>
            <a:gdLst>
              <a:gd name="textAreaLeft" fmla="*/ -360 w 34200"/>
              <a:gd name="textAreaRight" fmla="*/ 34200 w 34200"/>
              <a:gd name="textAreaTop" fmla="*/ -360 h 703080"/>
              <a:gd name="textAreaBottom" fmla="*/ 703080 h 703080"/>
            </a:gdLst>
            <a:ahLst/>
            <a:rect l="textAreaLeft" t="textAreaTop" r="textAreaRight" b="textAreaBottom"/>
            <a:pathLst>
              <a:path w="114195" h="2329218">
                <a:moveTo>
                  <a:pt x="114195" y="0"/>
                </a:moveTo>
                <a:lnTo>
                  <a:pt x="114195" y="2319214"/>
                </a:lnTo>
                <a:lnTo>
                  <a:pt x="27813" y="2329218"/>
                </a:lnTo>
                <a:lnTo>
                  <a:pt x="0" y="2298791"/>
                </a:lnTo>
                <a:lnTo>
                  <a:pt x="0" y="127736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" name="任意多边形: 形状 61"/>
          <p:cNvSpPr/>
          <p:nvPr/>
        </p:nvSpPr>
        <p:spPr>
          <a:xfrm flipH="1" flipV="1" rot="19013400">
            <a:off x="8926920" y="14040"/>
            <a:ext cx="34200" cy="613080"/>
          </a:xfrm>
          <a:custGeom>
            <a:avLst/>
            <a:gdLst>
              <a:gd name="textAreaLeft" fmla="*/ -360 w 34200"/>
              <a:gd name="textAreaRight" fmla="*/ 34200 w 34200"/>
              <a:gd name="textAreaTop" fmla="*/ -360 h 613080"/>
              <a:gd name="textAreaBottom" fmla="*/ 613080 h 613080"/>
            </a:gdLst>
            <a:ahLst/>
            <a:rect l="textAreaLeft" t="textAreaTop" r="textAreaRight" b="textAreaBottom"/>
            <a:pathLst>
              <a:path w="114195" h="2031683">
                <a:moveTo>
                  <a:pt x="114195" y="0"/>
                </a:moveTo>
                <a:lnTo>
                  <a:pt x="114195" y="2015314"/>
                </a:lnTo>
                <a:lnTo>
                  <a:pt x="32998" y="2031683"/>
                </a:lnTo>
                <a:lnTo>
                  <a:pt x="0" y="1995216"/>
                </a:lnTo>
                <a:lnTo>
                  <a:pt x="0" y="124974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" name="任意多边形: 形状 62"/>
          <p:cNvSpPr/>
          <p:nvPr/>
        </p:nvSpPr>
        <p:spPr>
          <a:xfrm flipH="1" flipV="1" rot="13114200">
            <a:off x="9047520" y="97200"/>
            <a:ext cx="34200" cy="287280"/>
          </a:xfrm>
          <a:custGeom>
            <a:avLst/>
            <a:gdLst>
              <a:gd name="textAreaLeft" fmla="*/ -360 w 34200"/>
              <a:gd name="textAreaRight" fmla="*/ 34200 w 342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w="114195" h="954066">
                <a:moveTo>
                  <a:pt x="114195" y="954066"/>
                </a:moveTo>
                <a:lnTo>
                  <a:pt x="1169" y="941812"/>
                </a:lnTo>
                <a:lnTo>
                  <a:pt x="0" y="940342"/>
                </a:lnTo>
                <a:lnTo>
                  <a:pt x="0" y="0"/>
                </a:lnTo>
                <a:lnTo>
                  <a:pt x="114195" y="143215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" name="任意多边形: 形状 63"/>
          <p:cNvSpPr/>
          <p:nvPr/>
        </p:nvSpPr>
        <p:spPr>
          <a:xfrm flipH="1" flipV="1" rot="13114200">
            <a:off x="8987400" y="-54000"/>
            <a:ext cx="34200" cy="361800"/>
          </a:xfrm>
          <a:custGeom>
            <a:avLst/>
            <a:gdLst>
              <a:gd name="textAreaLeft" fmla="*/ -360 w 34200"/>
              <a:gd name="textAreaRight" fmla="*/ 34200 w 34200"/>
              <a:gd name="textAreaTop" fmla="*/ -360 h 361800"/>
              <a:gd name="textAreaBottom" fmla="*/ 361800 h 361800"/>
            </a:gdLst>
            <a:ahLst/>
            <a:rect l="textAreaLeft" t="textAreaTop" r="textAreaRight" b="textAreaBottom"/>
            <a:pathLst>
              <a:path w="114195" h="1198786">
                <a:moveTo>
                  <a:pt x="114195" y="1198786"/>
                </a:moveTo>
                <a:lnTo>
                  <a:pt x="1169" y="1179710"/>
                </a:lnTo>
                <a:lnTo>
                  <a:pt x="0" y="1177421"/>
                </a:lnTo>
                <a:lnTo>
                  <a:pt x="0" y="91055"/>
                </a:lnTo>
                <a:lnTo>
                  <a:pt x="114195" y="0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" name="任意多边形: 形状 64"/>
          <p:cNvSpPr/>
          <p:nvPr/>
        </p:nvSpPr>
        <p:spPr>
          <a:xfrm flipH="1" flipV="1" rot="13114200">
            <a:off x="8872560" y="-42840"/>
            <a:ext cx="34200" cy="258480"/>
          </a:xfrm>
          <a:custGeom>
            <a:avLst/>
            <a:gdLst>
              <a:gd name="textAreaLeft" fmla="*/ -360 w 34200"/>
              <a:gd name="textAreaRight" fmla="*/ 34200 w 34200"/>
              <a:gd name="textAreaTop" fmla="*/ 360 h 258480"/>
              <a:gd name="textAreaBottom" fmla="*/ 259200 h 258480"/>
            </a:gdLst>
            <a:ahLst/>
            <a:rect l="textAreaLeft" t="textAreaTop" r="textAreaRight" b="textAreaBottom"/>
            <a:pathLst>
              <a:path w="114195" h="857436">
                <a:moveTo>
                  <a:pt x="114195" y="857436"/>
                </a:moveTo>
                <a:lnTo>
                  <a:pt x="1169" y="838360"/>
                </a:lnTo>
                <a:lnTo>
                  <a:pt x="0" y="836071"/>
                </a:lnTo>
                <a:lnTo>
                  <a:pt x="0" y="91055"/>
                </a:lnTo>
                <a:lnTo>
                  <a:pt x="114195" y="0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7" name="组合 65"/>
          <p:cNvGrpSpPr/>
          <p:nvPr/>
        </p:nvGrpSpPr>
        <p:grpSpPr>
          <a:xfrm>
            <a:off x="7955280" y="-23760"/>
            <a:ext cx="885960" cy="629280"/>
            <a:chOff x="7955280" y="-23760"/>
            <a:chExt cx="885960" cy="629280"/>
          </a:xfrm>
        </p:grpSpPr>
        <p:sp>
          <p:nvSpPr>
            <p:cNvPr id="8" name="任意多边形: 形状 69"/>
            <p:cNvSpPr/>
            <p:nvPr/>
          </p:nvSpPr>
          <p:spPr>
            <a:xfrm rot="12961800">
              <a:off x="8588880" y="-84960"/>
              <a:ext cx="34200" cy="7527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114195" h="2494226">
                  <a:moveTo>
                    <a:pt x="0" y="0"/>
                  </a:moveTo>
                  <a:lnTo>
                    <a:pt x="114195" y="37410"/>
                  </a:lnTo>
                  <a:lnTo>
                    <a:pt x="114195" y="2411160"/>
                  </a:lnTo>
                  <a:lnTo>
                    <a:pt x="0" y="2494226"/>
                  </a:lnTo>
                  <a:close/>
                </a:path>
              </a:pathLst>
            </a:cu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" name="任意多边形: 形状 70"/>
            <p:cNvSpPr/>
            <p:nvPr/>
          </p:nvSpPr>
          <p:spPr>
            <a:xfrm flipH="1" rot="8638200">
              <a:off x="8169480" y="-84240"/>
              <a:ext cx="34200" cy="74052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740520"/>
                <a:gd name="textAreaBottom" fmla="*/ 740880 h 740520"/>
              </a:gdLst>
              <a:ahLst/>
              <a:rect l="textAreaLeft" t="textAreaTop" r="textAreaRight" b="textAreaBottom"/>
              <a:pathLst>
                <a:path w="114195" h="2453574">
                  <a:moveTo>
                    <a:pt x="0" y="0"/>
                  </a:moveTo>
                  <a:lnTo>
                    <a:pt x="0" y="2453574"/>
                  </a:lnTo>
                  <a:lnTo>
                    <a:pt x="114195" y="2370508"/>
                  </a:lnTo>
                  <a:lnTo>
                    <a:pt x="114195" y="37410"/>
                  </a:lnTo>
                  <a:close/>
                </a:path>
              </a:pathLst>
            </a:cu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" name="组合 66"/>
          <p:cNvGrpSpPr/>
          <p:nvPr/>
        </p:nvGrpSpPr>
        <p:grpSpPr>
          <a:xfrm>
            <a:off x="7693920" y="-26280"/>
            <a:ext cx="886320" cy="629280"/>
            <a:chOff x="7693920" y="-26280"/>
            <a:chExt cx="886320" cy="629280"/>
          </a:xfrm>
        </p:grpSpPr>
        <p:sp>
          <p:nvSpPr>
            <p:cNvPr id="11" name="任意多边形: 形状 67"/>
            <p:cNvSpPr/>
            <p:nvPr/>
          </p:nvSpPr>
          <p:spPr>
            <a:xfrm rot="12961800">
              <a:off x="8327880" y="-87480"/>
              <a:ext cx="34200" cy="7527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114195" h="2494226">
                  <a:moveTo>
                    <a:pt x="0" y="0"/>
                  </a:moveTo>
                  <a:lnTo>
                    <a:pt x="114195" y="37410"/>
                  </a:lnTo>
                  <a:lnTo>
                    <a:pt x="114195" y="2411160"/>
                  </a:lnTo>
                  <a:lnTo>
                    <a:pt x="0" y="2494226"/>
                  </a:lnTo>
                  <a:close/>
                </a:path>
              </a:pathLst>
            </a:cu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2" name="任意多边形: 形状 68"/>
            <p:cNvSpPr/>
            <p:nvPr/>
          </p:nvSpPr>
          <p:spPr>
            <a:xfrm flipH="1" rot="8638200">
              <a:off x="7908120" y="-86760"/>
              <a:ext cx="34200" cy="74052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740520"/>
                <a:gd name="textAreaBottom" fmla="*/ 740880 h 740520"/>
              </a:gdLst>
              <a:ahLst/>
              <a:rect l="textAreaLeft" t="textAreaTop" r="textAreaRight" b="textAreaBottom"/>
              <a:pathLst>
                <a:path w="114195" h="2453574">
                  <a:moveTo>
                    <a:pt x="0" y="0"/>
                  </a:moveTo>
                  <a:lnTo>
                    <a:pt x="0" y="2453574"/>
                  </a:lnTo>
                  <a:lnTo>
                    <a:pt x="114195" y="2370508"/>
                  </a:lnTo>
                  <a:lnTo>
                    <a:pt x="114195" y="37410"/>
                  </a:lnTo>
                  <a:close/>
                </a:path>
              </a:pathLst>
            </a:cu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3" name="任意多边形: 形状 54"/>
          <p:cNvSpPr/>
          <p:nvPr/>
        </p:nvSpPr>
        <p:spPr>
          <a:xfrm flipH="1" rot="8182800">
            <a:off x="282600" y="4281480"/>
            <a:ext cx="86040" cy="1034640"/>
          </a:xfrm>
          <a:custGeom>
            <a:avLst/>
            <a:gdLst>
              <a:gd name="textAreaLeft" fmla="*/ -360 w 86040"/>
              <a:gd name="textAreaRight" fmla="*/ 86040 w 86040"/>
              <a:gd name="textAreaTop" fmla="*/ 0 h 1034640"/>
              <a:gd name="textAreaBottom" fmla="*/ 1035000 h 1034640"/>
            </a:gdLst>
            <a:ahLst/>
            <a:rect l="textAreaLeft" t="textAreaTop" r="textAreaRight" b="textAreaBottom"/>
            <a:pathLst>
              <a:path w="115200" h="1380051">
                <a:moveTo>
                  <a:pt x="115200" y="1380051"/>
                </a:moveTo>
                <a:lnTo>
                  <a:pt x="115200" y="0"/>
                </a:lnTo>
                <a:lnTo>
                  <a:pt x="0" y="109764"/>
                </a:lnTo>
                <a:lnTo>
                  <a:pt x="0" y="1259145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" name="任意多边形: 形状 56"/>
          <p:cNvSpPr/>
          <p:nvPr/>
        </p:nvSpPr>
        <p:spPr>
          <a:xfrm flipH="1" rot="8182800">
            <a:off x="96840" y="4743360"/>
            <a:ext cx="86040" cy="498600"/>
          </a:xfrm>
          <a:custGeom>
            <a:avLst/>
            <a:gdLst>
              <a:gd name="textAreaLeft" fmla="*/ -360 w 86040"/>
              <a:gd name="textAreaRight" fmla="*/ 86040 w 860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115200" h="665322">
                <a:moveTo>
                  <a:pt x="115200" y="665322"/>
                </a:moveTo>
                <a:lnTo>
                  <a:pt x="115200" y="0"/>
                </a:lnTo>
                <a:lnTo>
                  <a:pt x="0" y="109764"/>
                </a:lnTo>
                <a:lnTo>
                  <a:pt x="0" y="544417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5" name="直角三角形 57"/>
          <p:cNvSpPr/>
          <p:nvPr/>
        </p:nvSpPr>
        <p:spPr>
          <a:xfrm flipV="1" rot="10800000">
            <a:off x="7694640" y="4045320"/>
            <a:ext cx="1449360" cy="1098000"/>
          </a:xfrm>
          <a:prstGeom prst="rtTriangle">
            <a:avLst/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6" name="等腰三角形 35"/>
          <p:cNvSpPr/>
          <p:nvPr/>
        </p:nvSpPr>
        <p:spPr>
          <a:xfrm flipH="1" rot="10800000">
            <a:off x="-360" y="360"/>
            <a:ext cx="1022760" cy="491760"/>
          </a:xfrm>
          <a:prstGeom prst="triangl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7" name="图片 36" descr=""/>
          <p:cNvPicPr/>
          <p:nvPr/>
        </p:nvPicPr>
        <p:blipFill>
          <a:blip r:embed="rId2"/>
          <a:stretch/>
        </p:blipFill>
        <p:spPr>
          <a:xfrm flipH="1">
            <a:off x="360" y="0"/>
            <a:ext cx="521280" cy="967320"/>
          </a:xfrm>
          <a:prstGeom prst="rect">
            <a:avLst/>
          </a:prstGeom>
          <a:ln w="0">
            <a:noFill/>
          </a:ln>
        </p:spPr>
      </p:pic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</a:pPr>
            <a:r>
              <a:rPr b="1" lang="zh-CN" sz="1800" spc="199" strike="noStrike">
                <a:solidFill>
                  <a:srgbClr val="262626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1207080"/>
              </a:tabLst>
            </a:pPr>
            <a:r>
              <a:rPr b="0" lang="zh-CN" sz="1200" spc="148" strike="noStrike">
                <a:solidFill>
                  <a:srgbClr val="262626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1609560"/>
              </a:tabLst>
            </a:pPr>
            <a:r>
              <a:rPr b="0" lang="zh-CN" sz="1200" spc="148" strike="noStrike">
                <a:solidFill>
                  <a:srgbClr val="262626"/>
                </a:solidFill>
                <a:latin typeface="微软雅黑"/>
                <a:ea typeface="微软雅黑"/>
              </a:rPr>
              <a:t>第二级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1609560"/>
              </a:tabLst>
            </a:pPr>
            <a:r>
              <a:rPr b="0" lang="zh-CN" sz="1200" spc="148" strike="noStrike">
                <a:solidFill>
                  <a:srgbClr val="262626"/>
                </a:solidFill>
                <a:latin typeface="微软雅黑"/>
                <a:ea typeface="微软雅黑"/>
              </a:rPr>
              <a:t>第三级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1609560"/>
              </a:tabLst>
            </a:pPr>
            <a:r>
              <a:rPr b="0" lang="zh-CN" sz="1200" spc="148" strike="noStrike">
                <a:solidFill>
                  <a:srgbClr val="262626"/>
                </a:solidFill>
                <a:latin typeface="微软雅黑"/>
                <a:ea typeface="微软雅黑"/>
              </a:rPr>
              <a:t>第四级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1609560"/>
              </a:tabLst>
            </a:pPr>
            <a:r>
              <a:rPr b="0" lang="zh-CN" sz="1200" spc="148" strike="noStrike">
                <a:solidFill>
                  <a:srgbClr val="262626"/>
                </a:solidFill>
                <a:latin typeface="微软雅黑"/>
                <a:ea typeface="微软雅黑"/>
              </a:rPr>
              <a:t>第五级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2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</a:pPr>
            <a:fld id="{4765E9C2-40E5-4AC6-AABC-A515DE38D7B1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ea592"/>
          </a:solidFill>
          <a:ln>
            <a:solidFill>
              <a:srgbClr val="2d7a6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</a:pPr>
            <a:r>
              <a:rPr b="1" lang="zh-CN" sz="1800" spc="1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2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</a:pPr>
            <a:fld id="{9C6AB712-29B2-4291-B614-B4B2634CF407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ea592"/>
          </a:solidFill>
          <a:ln>
            <a:solidFill>
              <a:srgbClr val="2d7a6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</a:pPr>
            <a:r>
              <a:rPr b="1" lang="zh-CN" sz="1800" spc="1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2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</a:pPr>
            <a:fld id="{25F530A7-1C8E-40B4-90C6-474AB4E1A620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ea592"/>
          </a:solidFill>
          <a:ln>
            <a:solidFill>
              <a:srgbClr val="2d7a6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</a:pPr>
            <a:r>
              <a:rPr b="1" lang="zh-CN" sz="1800" spc="1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2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</a:pPr>
            <a:fld id="{07E67705-5B97-482C-8625-0938449A4648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ea592"/>
          </a:solidFill>
          <a:ln>
            <a:solidFill>
              <a:srgbClr val="2d7a6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86" name="直角三角形 4"/>
          <p:cNvSpPr/>
          <p:nvPr/>
        </p:nvSpPr>
        <p:spPr>
          <a:xfrm flipV="1">
            <a:off x="-3600" y="0"/>
            <a:ext cx="1621440" cy="1228320"/>
          </a:xfrm>
          <a:prstGeom prst="rtTriangle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87" name="直角三角形 5"/>
          <p:cNvSpPr/>
          <p:nvPr/>
        </p:nvSpPr>
        <p:spPr>
          <a:xfrm flipV="1">
            <a:off x="-3600" y="0"/>
            <a:ext cx="1418040" cy="1074240"/>
          </a:xfrm>
          <a:prstGeom prst="rtTriangle">
            <a:avLst/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188" name="组合 6"/>
          <p:cNvGrpSpPr/>
          <p:nvPr/>
        </p:nvGrpSpPr>
        <p:grpSpPr>
          <a:xfrm>
            <a:off x="8325720" y="3960720"/>
            <a:ext cx="851040" cy="1200240"/>
            <a:chOff x="8325720" y="3960720"/>
            <a:chExt cx="851040" cy="1200240"/>
          </a:xfrm>
        </p:grpSpPr>
        <p:sp>
          <p:nvSpPr>
            <p:cNvPr id="189" name="任意多边形: 形状 7"/>
            <p:cNvSpPr/>
            <p:nvPr/>
          </p:nvSpPr>
          <p:spPr>
            <a:xfrm flipH="1" rot="14038200">
              <a:off x="8727120" y="3770640"/>
              <a:ext cx="46440" cy="1018800"/>
            </a:xfrm>
            <a:custGeom>
              <a:avLst/>
              <a:gdLst>
                <a:gd name="textAreaLeft" fmla="*/ -360 w 46440"/>
                <a:gd name="textAreaRight" fmla="*/ 46440 w 46440"/>
                <a:gd name="textAreaTop" fmla="*/ 0 h 1018800"/>
                <a:gd name="textAreaBottom" fmla="*/ 1019160 h 1018800"/>
              </a:gdLst>
              <a:ahLst/>
              <a:rect l="textAreaLeft" t="textAreaTop" r="textAreaRight" b="textAreaBottom"/>
              <a:pathLst>
                <a:path w="114195" h="2494226">
                  <a:moveTo>
                    <a:pt x="0" y="0"/>
                  </a:moveTo>
                  <a:lnTo>
                    <a:pt x="114195" y="37410"/>
                  </a:lnTo>
                  <a:lnTo>
                    <a:pt x="114195" y="2411160"/>
                  </a:lnTo>
                  <a:lnTo>
                    <a:pt x="0" y="2494226"/>
                  </a:lnTo>
                  <a:close/>
                </a:path>
              </a:pathLst>
            </a:cu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90" name="任意多边形: 形状 8"/>
            <p:cNvSpPr/>
            <p:nvPr/>
          </p:nvSpPr>
          <p:spPr>
            <a:xfrm rot="18361800">
              <a:off x="8734680" y="4345920"/>
              <a:ext cx="46440" cy="10022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02240"/>
                <a:gd name="textAreaBottom" fmla="*/ 1002600 h 1002240"/>
              </a:gdLst>
              <a:ahLst/>
              <a:rect l="textAreaLeft" t="textAreaTop" r="textAreaRight" b="textAreaBottom"/>
              <a:pathLst>
                <a:path w="114195" h="2453574">
                  <a:moveTo>
                    <a:pt x="0" y="0"/>
                  </a:moveTo>
                  <a:lnTo>
                    <a:pt x="0" y="2453574"/>
                  </a:lnTo>
                  <a:lnTo>
                    <a:pt x="114195" y="2370508"/>
                  </a:lnTo>
                  <a:lnTo>
                    <a:pt x="114195" y="37410"/>
                  </a:lnTo>
                  <a:close/>
                </a:path>
              </a:pathLst>
            </a:cu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91" name="任意多边形: 形状 9"/>
            <p:cNvSpPr/>
            <p:nvPr/>
          </p:nvSpPr>
          <p:spPr>
            <a:xfrm flipH="1" rot="14038200">
              <a:off x="8836200" y="3982320"/>
              <a:ext cx="46440" cy="749160"/>
            </a:xfrm>
            <a:custGeom>
              <a:avLst/>
              <a:gdLst>
                <a:gd name="textAreaLeft" fmla="*/ -360 w 46440"/>
                <a:gd name="textAreaRight" fmla="*/ 46440 w 464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39051" h="2233595">
                  <a:moveTo>
                    <a:pt x="0" y="2233595"/>
                  </a:moveTo>
                  <a:lnTo>
                    <a:pt x="0" y="0"/>
                  </a:lnTo>
                  <a:lnTo>
                    <a:pt x="139051" y="45553"/>
                  </a:lnTo>
                  <a:lnTo>
                    <a:pt x="139051" y="2132449"/>
                  </a:lnTo>
                  <a:close/>
                </a:path>
              </a:pathLst>
            </a:cu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92" name="任意多边形: 形状 10"/>
            <p:cNvSpPr/>
            <p:nvPr/>
          </p:nvSpPr>
          <p:spPr>
            <a:xfrm rot="18361800">
              <a:off x="8843400" y="4398840"/>
              <a:ext cx="46440" cy="7326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732600"/>
                <a:gd name="textAreaBottom" fmla="*/ 732960 h 732600"/>
              </a:gdLst>
              <a:ahLst/>
              <a:rect l="textAreaLeft" t="textAreaTop" r="textAreaRight" b="textAreaBottom"/>
              <a:pathLst>
                <a:path w="139051" h="2184092">
                  <a:moveTo>
                    <a:pt x="139051" y="45553"/>
                  </a:moveTo>
                  <a:lnTo>
                    <a:pt x="0" y="0"/>
                  </a:lnTo>
                  <a:lnTo>
                    <a:pt x="0" y="2184092"/>
                  </a:lnTo>
                  <a:lnTo>
                    <a:pt x="139051" y="2082946"/>
                  </a:lnTo>
                  <a:close/>
                </a:path>
              </a:pathLst>
            </a:cu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dt" idx="13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2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4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5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</a:pPr>
            <a:fld id="{D6BADAAE-F16B-4BD9-9551-C792B7E85342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5"/>
          <p:cNvSpPr/>
          <p:nvPr/>
        </p:nvSpPr>
        <p:spPr>
          <a:xfrm>
            <a:off x="1403640" y="1491480"/>
            <a:ext cx="6217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写作：如何突出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"/>
          <p:cNvGrpSpPr/>
          <p:nvPr/>
        </p:nvGrpSpPr>
        <p:grpSpPr>
          <a:xfrm>
            <a:off x="611640" y="421200"/>
            <a:ext cx="1920600" cy="363960"/>
            <a:chOff x="611640" y="421200"/>
            <a:chExt cx="1920600" cy="363960"/>
          </a:xfrm>
        </p:grpSpPr>
        <p:sp>
          <p:nvSpPr>
            <p:cNvPr id="242" name="圆角矩形 6"/>
            <p:cNvSpPr/>
            <p:nvPr/>
          </p:nvSpPr>
          <p:spPr>
            <a:xfrm>
              <a:off x="611640" y="469080"/>
              <a:ext cx="1920600" cy="3124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3" name="文本框 1"/>
            <p:cNvSpPr/>
            <p:nvPr/>
          </p:nvSpPr>
          <p:spPr>
            <a:xfrm>
              <a:off x="999720" y="421200"/>
              <a:ext cx="1141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七年级语文上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8"/>
          <p:cNvSpPr/>
          <p:nvPr/>
        </p:nvSpPr>
        <p:spPr>
          <a:xfrm>
            <a:off x="2690280" y="408384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文本框 6"/>
          <p:cNvSpPr/>
          <p:nvPr/>
        </p:nvSpPr>
        <p:spPr>
          <a:xfrm>
            <a:off x="142920" y="734400"/>
            <a:ext cx="55004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我 的 书 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我有一个小巧玲珑的书包，它精致、漂亮。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书包是鲜红色的，中间画着一只活泼可爱的米老鼠，它戴着大大的太阳镜，胸前飘扬着一条鲜艳的红领巾，穿一件土黄色的衬衫，背着个小书包，甩着一条长长的尾巴。米老鼠扬着手，昂首阔步地向前走，好像在向我炫耀它的美丽，真是神气十足，可爱极了！②米老鼠下面还写着一句英文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Hell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！（你好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标注 6"/>
          <p:cNvSpPr/>
          <p:nvPr/>
        </p:nvSpPr>
        <p:spPr>
          <a:xfrm>
            <a:off x="5936040" y="1241280"/>
            <a:ext cx="2914200" cy="1071360"/>
          </a:xfrm>
          <a:prstGeom prst="wedgeRoundRectCallout">
            <a:avLst>
              <a:gd name="adj1" fmla="val -59229"/>
              <a:gd name="adj2" fmla="val 179"/>
              <a:gd name="adj3" fmla="val 16667"/>
            </a:avLst>
          </a:prstGeom>
          <a:solidFill>
            <a:srgbClr val="ffffff"/>
          </a:solidFill>
          <a:ln w="38100">
            <a:solidFill>
              <a:srgbClr val="1c981c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①“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小巧玲珑”“精致、漂亮”写出了书包的整体特点，同时点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直接连接符 12"/>
          <p:cNvCxnSpPr/>
          <p:nvPr/>
        </p:nvCxnSpPr>
        <p:spPr>
          <a:xfrm>
            <a:off x="5643360" y="1019880"/>
            <a:ext cx="360" cy="4072320"/>
          </a:xfrm>
          <a:prstGeom prst="straightConnector1">
            <a:avLst/>
          </a:prstGeom>
          <a:ln w="38100">
            <a:solidFill>
              <a:srgbClr val="1c981c"/>
            </a:solidFill>
          </a:ln>
        </p:spPr>
      </p:cxnSp>
      <p:sp>
        <p:nvSpPr>
          <p:cNvPr id="306" name="圆角矩形标注 10"/>
          <p:cNvSpPr/>
          <p:nvPr/>
        </p:nvSpPr>
        <p:spPr>
          <a:xfrm>
            <a:off x="6071760" y="3665160"/>
            <a:ext cx="2643120" cy="1222560"/>
          </a:xfrm>
          <a:prstGeom prst="wedgeRoundRectCallout">
            <a:avLst>
              <a:gd name="adj1" fmla="val -68568"/>
              <a:gd name="adj2" fmla="val 5354"/>
              <a:gd name="adj3" fmla="val 16667"/>
            </a:avLst>
          </a:prstGeom>
          <a:solidFill>
            <a:srgbClr val="ffffff"/>
          </a:solidFill>
          <a:ln w="38100">
            <a:solidFill>
              <a:srgbClr val="1c981c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②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抓住重点，描绘书包的外形，尤其突出了“米老鼠”可爱的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08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10" name="菱形 12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1"/>
          <p:cNvSpPr/>
          <p:nvPr/>
        </p:nvSpPr>
        <p:spPr>
          <a:xfrm>
            <a:off x="251640" y="511200"/>
            <a:ext cx="5760360" cy="14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书包一共有三个宽大的袋子，旁边还带着两个窄小的兜兜。第一个袋子里“住”满了说不尽的智慧——书本；第二个袋子里“住”着我心爱的文具；第三个袋子里则“住”着一对形影不离的“亲戚”——试卷和作业本；至于那两个狭小的兜兜嘛，“住”着各种各样的手工。不过有时候，一些文具变成了一个个调皮鬼，住厌了自己的地方，便敏捷地跑到我的手里，让我带着它们欢欢喜喜地搬新家去了。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直接连接符 12"/>
          <p:cNvCxnSpPr/>
          <p:nvPr/>
        </p:nvCxnSpPr>
        <p:spPr>
          <a:xfrm>
            <a:off x="5940360" y="411480"/>
            <a:ext cx="360" cy="4464720"/>
          </a:xfrm>
          <a:prstGeom prst="straightConnector1">
            <a:avLst/>
          </a:prstGeom>
          <a:ln w="47625">
            <a:solidFill>
              <a:srgbClr val="1c981c"/>
            </a:solidFill>
          </a:ln>
        </p:spPr>
      </p:cxnSp>
      <p:sp>
        <p:nvSpPr>
          <p:cNvPr id="313" name="圆角矩形标注 11"/>
          <p:cNvSpPr/>
          <p:nvPr/>
        </p:nvSpPr>
        <p:spPr>
          <a:xfrm>
            <a:off x="6302160" y="1928520"/>
            <a:ext cx="2785680" cy="1362960"/>
          </a:xfrm>
          <a:prstGeom prst="wedgeRoundRectCallout">
            <a:avLst>
              <a:gd name="adj1" fmla="val -58194"/>
              <a:gd name="adj2" fmla="val 5060"/>
              <a:gd name="adj3" fmla="val 16667"/>
            </a:avLst>
          </a:prstGeom>
          <a:solidFill>
            <a:srgbClr val="ffffff"/>
          </a:solidFill>
          <a:ln w="38100">
            <a:solidFill>
              <a:srgbClr val="1c981c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③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采用总分的写法，通过对书包结构的描述，道出书包的功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15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17" name="菱形 7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"/>
          <p:cNvSpPr/>
          <p:nvPr/>
        </p:nvSpPr>
        <p:spPr>
          <a:xfrm>
            <a:off x="26640" y="627480"/>
            <a:ext cx="650052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4079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书包默默地为我服务着。每天早晨，书包都载着一大堆书和文具，跟随着我去上学。当我从书包里抽出文具时，就觉得书包仿佛在一本正经地对我说：“老伙计，你一定要努力学习啊！只有勤劳的人才能品尝到成功的滋味！所谓‘一分耕耘，一分收获’嘛！我相信你一定能有收获的！”④这时，我便在心里暗暗下定决心：我一定要勤奋学习，不让我可爱的书包失望。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直接连接符 12"/>
          <p:cNvCxnSpPr/>
          <p:nvPr/>
        </p:nvCxnSpPr>
        <p:spPr>
          <a:xfrm flipH="1">
            <a:off x="6372000" y="571320"/>
            <a:ext cx="25920" cy="4376880"/>
          </a:xfrm>
          <a:prstGeom prst="straightConnector1">
            <a:avLst/>
          </a:prstGeom>
          <a:ln w="38100">
            <a:solidFill>
              <a:srgbClr val="1c981c"/>
            </a:solidFill>
          </a:ln>
        </p:spPr>
      </p:cxnSp>
      <p:sp>
        <p:nvSpPr>
          <p:cNvPr id="320" name="圆角矩形标注 4"/>
          <p:cNvSpPr/>
          <p:nvPr/>
        </p:nvSpPr>
        <p:spPr>
          <a:xfrm>
            <a:off x="6797520" y="3615480"/>
            <a:ext cx="1999800" cy="1092600"/>
          </a:xfrm>
          <a:prstGeom prst="wedgeRoundRectCallout">
            <a:avLst>
              <a:gd name="adj1" fmla="val -67743"/>
              <a:gd name="adj2" fmla="val 2595"/>
              <a:gd name="adj3" fmla="val 16667"/>
            </a:avLst>
          </a:prstGeom>
          <a:solidFill>
            <a:srgbClr val="ffffff"/>
          </a:solidFill>
          <a:ln w="38100">
            <a:solidFill>
              <a:srgbClr val="1c981c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⑤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暗下决心勉励自己好好学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标注 5"/>
          <p:cNvSpPr/>
          <p:nvPr/>
        </p:nvSpPr>
        <p:spPr>
          <a:xfrm>
            <a:off x="6666480" y="1379520"/>
            <a:ext cx="2262240" cy="1412640"/>
          </a:xfrm>
          <a:prstGeom prst="wedgeRoundRectCallout">
            <a:avLst>
              <a:gd name="adj1" fmla="val -58840"/>
              <a:gd name="adj2" fmla="val 76513"/>
              <a:gd name="adj3" fmla="val 16667"/>
            </a:avLst>
          </a:prstGeom>
          <a:solidFill>
            <a:srgbClr val="ffffff"/>
          </a:solidFill>
          <a:ln w="38100">
            <a:solidFill>
              <a:srgbClr val="1c981c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④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书包每天伴随“我”，不断提醒“我”努力学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23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25" name="菱形 9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107640" y="693000"/>
            <a:ext cx="5571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哦！书包，你虽小，但是你肚子里的知识是多么丰富、多么精彩、多么广博啊！我喜欢我的书包！⑥有了这么精致漂亮的书包，我怎么能不好好学习，以优异的成绩回馈它呢？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直接连接符 12"/>
          <p:cNvCxnSpPr/>
          <p:nvPr/>
        </p:nvCxnSpPr>
        <p:spPr>
          <a:xfrm>
            <a:off x="5786640" y="337680"/>
            <a:ext cx="9720" cy="2864880"/>
          </a:xfrm>
          <a:prstGeom prst="straightConnector1">
            <a:avLst/>
          </a:prstGeom>
          <a:ln w="38100">
            <a:solidFill>
              <a:srgbClr val="1c981c"/>
            </a:solidFill>
          </a:ln>
        </p:spPr>
      </p:cxnSp>
      <p:sp>
        <p:nvSpPr>
          <p:cNvPr id="328" name="圆角矩形标注 3"/>
          <p:cNvSpPr/>
          <p:nvPr/>
        </p:nvSpPr>
        <p:spPr>
          <a:xfrm>
            <a:off x="6188400" y="693000"/>
            <a:ext cx="2642760" cy="999720"/>
          </a:xfrm>
          <a:prstGeom prst="wedgeRoundRectCallout">
            <a:avLst>
              <a:gd name="adj1" fmla="val -65243"/>
              <a:gd name="adj2" fmla="val 7048"/>
              <a:gd name="adj3" fmla="val 16667"/>
            </a:avLst>
          </a:prstGeom>
          <a:solidFill>
            <a:srgbClr val="ffffff"/>
          </a:solidFill>
          <a:ln w="38100">
            <a:solidFill>
              <a:srgbClr val="1c981c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⑥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抒情，抒发了“我”对小书包的喜爱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251640" y="2986200"/>
            <a:ext cx="885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本文是一篇状物作文。作者对书包的外形、结构及盛放的物品分别展开了细致的描绘，在说明书包功用的同时，还适当穿插进了自己的心理活动描写，且把握得真实准确。全文语句流畅，脉络清晰，中心突出，文末的情感表达有一定的思想深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6"/>
          <p:cNvSpPr/>
          <p:nvPr/>
        </p:nvSpPr>
        <p:spPr>
          <a:xfrm>
            <a:off x="542520" y="2986560"/>
            <a:ext cx="56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点评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标注 4"/>
          <p:cNvSpPr/>
          <p:nvPr/>
        </p:nvSpPr>
        <p:spPr>
          <a:xfrm>
            <a:off x="6199560" y="1911960"/>
            <a:ext cx="2643120" cy="1074240"/>
          </a:xfrm>
          <a:prstGeom prst="wedgeRoundRectCallout">
            <a:avLst>
              <a:gd name="adj1" fmla="val -65853"/>
              <a:gd name="adj2" fmla="val 30319"/>
              <a:gd name="adj3" fmla="val 16667"/>
            </a:avLst>
          </a:prstGeom>
          <a:solidFill>
            <a:srgbClr val="ffffff"/>
          </a:solidFill>
          <a:ln w="38100">
            <a:solidFill>
              <a:srgbClr val="1c981c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⑦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以反问作结，再点书包精致漂亮的特点，呼应开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33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35" name="菱形 10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4"/>
          <p:cNvSpPr/>
          <p:nvPr/>
        </p:nvSpPr>
        <p:spPr>
          <a:xfrm>
            <a:off x="265320" y="1053720"/>
            <a:ext cx="86133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二、我们每天都和家人一起吃饭，在餐桌前，大家会谈论些什么？是当天发生的事，还是正在看的电视节目？请以《餐桌前的谈话》为题，自定立意，写一篇作文。不少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0"/>
          <p:cNvSpPr/>
          <p:nvPr/>
        </p:nvSpPr>
        <p:spPr>
          <a:xfrm>
            <a:off x="621360" y="597960"/>
            <a:ext cx="729720" cy="3639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原题重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39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0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41" name="菱形 7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3"/>
          <p:cNvSpPr/>
          <p:nvPr/>
        </p:nvSpPr>
        <p:spPr>
          <a:xfrm>
            <a:off x="668880" y="1479960"/>
            <a:ext cx="8337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地点是“餐桌前”，内容是“谈话”。参与的人有谁？谈话的内容是什么？是一次内容宽泛的聊天，还是一次有针对性的谈话？题目有很大的开放性，需要结合你自己的生活来确定写作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内容确定了，就需要考虑你想在文中表现什么，也就是文章的立意。比如，要写爸爸在餐桌前跟你语重心长地谈话，纠正你的错误，立意就可以放在生活的启示上；要写一家人热烈地讨论电视节目，立意可定在展现温馨的家庭氛围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"/>
          <p:cNvSpPr/>
          <p:nvPr/>
        </p:nvSpPr>
        <p:spPr>
          <a:xfrm>
            <a:off x="683640" y="630720"/>
            <a:ext cx="1151640" cy="719640"/>
          </a:xfrm>
          <a:prstGeom prst="ellipse">
            <a:avLst/>
          </a:prstGeom>
          <a:gradFill rotWithShape="0">
            <a:gsLst>
              <a:gs pos="0">
                <a:srgbClr val="9dc1cf"/>
              </a:gs>
              <a:gs pos="100000">
                <a:srgbClr val="90b6c4"/>
              </a:gs>
            </a:gsLst>
            <a:lin ang="5400000"/>
          </a:gradFill>
          <a:ln>
            <a:solidFill>
              <a:srgbClr val="14879e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344" name="文本框 4"/>
          <p:cNvSpPr/>
          <p:nvPr/>
        </p:nvSpPr>
        <p:spPr>
          <a:xfrm>
            <a:off x="827640" y="759960"/>
            <a:ext cx="8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提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46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48" name="菱形 8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文本框 6"/>
          <p:cNvSpPr/>
          <p:nvPr/>
        </p:nvSpPr>
        <p:spPr>
          <a:xfrm>
            <a:off x="213840" y="589320"/>
            <a:ext cx="5294160" cy="4651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餐桌前的谈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夕阳的余晖打在蜜糖色的地板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一家人就这样坐在餐桌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漾起难以言表的温馨。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题记①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你家吃完饭洗碗的人是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在我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洗碗的人是家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那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我家的家长是谁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?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那还用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当然是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可以查查户口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上面的户主写的是我的名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!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爸爸喝了一口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振振有词地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285840" y="1714320"/>
            <a:ext cx="72147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圆角矩形标注 6"/>
          <p:cNvSpPr/>
          <p:nvPr/>
        </p:nvSpPr>
        <p:spPr>
          <a:xfrm>
            <a:off x="6069960" y="1714320"/>
            <a:ext cx="2444400" cy="747000"/>
          </a:xfrm>
          <a:prstGeom prst="wedgeRoundRectCallout">
            <a:avLst>
              <a:gd name="adj1" fmla="val -59229"/>
              <a:gd name="adj2" fmla="val 179"/>
              <a:gd name="adj3" fmla="val 16667"/>
            </a:avLst>
          </a:prstGeom>
          <a:solidFill>
            <a:srgbClr val="ffffff"/>
          </a:solidFill>
          <a:ln w="38100">
            <a:solidFill>
              <a:srgbClr val="dad5c7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①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题记渲染了餐桌前温馨的气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直接连接符 12"/>
          <p:cNvCxnSpPr/>
          <p:nvPr/>
        </p:nvCxnSpPr>
        <p:spPr>
          <a:xfrm>
            <a:off x="5643360" y="785520"/>
            <a:ext cx="360" cy="4072320"/>
          </a:xfrm>
          <a:prstGeom prst="straightConnector1">
            <a:avLst/>
          </a:prstGeom>
          <a:ln w="38100">
            <a:solidFill>
              <a:srgbClr val="dad5c7"/>
            </a:solidFill>
          </a:ln>
        </p:spPr>
      </p:cxnSp>
      <p:sp>
        <p:nvSpPr>
          <p:cNvPr id="353" name="圆角矩形标注 11"/>
          <p:cNvSpPr/>
          <p:nvPr/>
        </p:nvSpPr>
        <p:spPr>
          <a:xfrm>
            <a:off x="6069960" y="2896200"/>
            <a:ext cx="2786040" cy="1063440"/>
          </a:xfrm>
          <a:prstGeom prst="wedgeRoundRectCallout">
            <a:avLst>
              <a:gd name="adj1" fmla="val -64471"/>
              <a:gd name="adj2" fmla="val -16686"/>
              <a:gd name="adj3" fmla="val 16667"/>
            </a:avLst>
          </a:prstGeom>
          <a:solidFill>
            <a:srgbClr val="ffffff"/>
          </a:solidFill>
          <a:ln w="38100">
            <a:solidFill>
              <a:srgbClr val="dad5c7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②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开篇就提出谈话的中心——“我”家的家长是谁呢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9"/>
          <p:cNvGrpSpPr/>
          <p:nvPr/>
        </p:nvGrpSpPr>
        <p:grpSpPr>
          <a:xfrm>
            <a:off x="19800" y="-20520"/>
            <a:ext cx="2006640" cy="516240"/>
            <a:chOff x="19800" y="-20520"/>
            <a:chExt cx="2006640" cy="516240"/>
          </a:xfrm>
        </p:grpSpPr>
        <p:sp>
          <p:nvSpPr>
            <p:cNvPr id="355" name="文本框 6"/>
            <p:cNvSpPr/>
            <p:nvPr/>
          </p:nvSpPr>
          <p:spPr>
            <a:xfrm>
              <a:off x="699120" y="-205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直线连接符 9"/>
            <p:cNvCxnSpPr/>
            <p:nvPr/>
          </p:nvCxnSpPr>
          <p:spPr>
            <a:xfrm>
              <a:off x="19800" y="46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57" name="菱形 13"/>
            <p:cNvSpPr/>
            <p:nvPr/>
          </p:nvSpPr>
          <p:spPr>
            <a:xfrm>
              <a:off x="55080" y="11268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1"/>
          <p:cNvSpPr/>
          <p:nvPr/>
        </p:nvSpPr>
        <p:spPr>
          <a:xfrm>
            <a:off x="214200" y="428760"/>
            <a:ext cx="56433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妈妈也说得有理有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孩子毕业手册上的‘家长意见栏’不都是我签名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说明我是家长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他们这样一句来一句去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各说各的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都坚持说自己是家长。我被他们的认真劲儿逗乐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笑得连饭都吃不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趁势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那我们索性来个民主选举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谁的票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谁就当家长。”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还是我闺女聪明。”爸爸连声夸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推了推眼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笑着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那我毛遂自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选自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”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直接连接符 12"/>
          <p:cNvCxnSpPr/>
          <p:nvPr/>
        </p:nvCxnSpPr>
        <p:spPr>
          <a:xfrm>
            <a:off x="5857560" y="621000"/>
            <a:ext cx="360" cy="4072320"/>
          </a:xfrm>
          <a:prstGeom prst="straightConnector1">
            <a:avLst/>
          </a:prstGeom>
          <a:ln w="38100">
            <a:solidFill>
              <a:srgbClr val="dad5c7"/>
            </a:solidFill>
          </a:ln>
        </p:spPr>
      </p:cxnSp>
      <p:sp>
        <p:nvSpPr>
          <p:cNvPr id="360" name="圆角矩形标注 5"/>
          <p:cNvSpPr/>
          <p:nvPr/>
        </p:nvSpPr>
        <p:spPr>
          <a:xfrm>
            <a:off x="6316920" y="1585080"/>
            <a:ext cx="2440080" cy="1000440"/>
          </a:xfrm>
          <a:prstGeom prst="wedgeRoundRectCallout">
            <a:avLst>
              <a:gd name="adj1" fmla="val -66731"/>
              <a:gd name="adj2" fmla="val 82296"/>
              <a:gd name="adj3" fmla="val 16667"/>
            </a:avLst>
          </a:prstGeom>
          <a:solidFill>
            <a:srgbClr val="ffffff"/>
          </a:solidFill>
          <a:ln w="38100">
            <a:solidFill>
              <a:srgbClr val="dad5c7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③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爸爸妈妈争当家长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为“我”提出民主选举埋下伏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圆角矩形标注 2"/>
          <p:cNvSpPr/>
          <p:nvPr/>
        </p:nvSpPr>
        <p:spPr>
          <a:xfrm>
            <a:off x="6292440" y="3291840"/>
            <a:ext cx="2175120" cy="1000440"/>
          </a:xfrm>
          <a:prstGeom prst="wedgeRoundRectCallout">
            <a:avLst>
              <a:gd name="adj1" fmla="val -66160"/>
              <a:gd name="adj2" fmla="val 49682"/>
              <a:gd name="adj3" fmla="val 16667"/>
            </a:avLst>
          </a:prstGeom>
          <a:solidFill>
            <a:srgbClr val="ffffff"/>
          </a:solidFill>
          <a:ln w="38100">
            <a:solidFill>
              <a:srgbClr val="dad5c7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④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爸爸的语言旨在让“我”不提反对意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63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4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65" name="菱形 9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1"/>
          <p:cNvSpPr/>
          <p:nvPr/>
        </p:nvSpPr>
        <p:spPr>
          <a:xfrm>
            <a:off x="71280" y="444600"/>
            <a:ext cx="650052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当家长是苦差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怎么好叫你受苦受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还是我来当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妈妈边说边夹给我一块鸡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还催促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吃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吃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”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比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——”我傻眼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还有你一票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爸爸妈妈把目光投向了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该投谁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爸爸和妈妈都很疼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对我来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谁当家长都一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可是现在我只有一种选择……想到这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脱口而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你们是不是都很想当家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可是家长只有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怎么办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也想当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不如……就让我当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”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直接连接符 12"/>
          <p:cNvCxnSpPr/>
          <p:nvPr/>
        </p:nvCxnSpPr>
        <p:spPr>
          <a:xfrm>
            <a:off x="6572160" y="571320"/>
            <a:ext cx="360" cy="4072320"/>
          </a:xfrm>
          <a:prstGeom prst="straightConnector1">
            <a:avLst/>
          </a:prstGeom>
          <a:ln w="38100">
            <a:solidFill>
              <a:srgbClr val="dad5c7"/>
            </a:solidFill>
          </a:ln>
        </p:spPr>
      </p:cxnSp>
      <p:sp>
        <p:nvSpPr>
          <p:cNvPr id="368" name="圆角矩形标注 4"/>
          <p:cNvSpPr/>
          <p:nvPr/>
        </p:nvSpPr>
        <p:spPr>
          <a:xfrm>
            <a:off x="6981840" y="1001880"/>
            <a:ext cx="2072160" cy="1236600"/>
          </a:xfrm>
          <a:prstGeom prst="wedgeRoundRectCallout">
            <a:avLst>
              <a:gd name="adj1" fmla="val -67743"/>
              <a:gd name="adj2" fmla="val 2595"/>
              <a:gd name="adj3" fmla="val 16667"/>
            </a:avLst>
          </a:prstGeom>
          <a:solidFill>
            <a:srgbClr val="ffffff"/>
          </a:solidFill>
          <a:ln w="38100">
            <a:solidFill>
              <a:srgbClr val="dad5c7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⑤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妈妈的动作和语言说明她也想得到“我”的支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圆角矩形标注 2"/>
          <p:cNvSpPr/>
          <p:nvPr/>
        </p:nvSpPr>
        <p:spPr>
          <a:xfrm>
            <a:off x="6981840" y="3556080"/>
            <a:ext cx="1978200" cy="1087560"/>
          </a:xfrm>
          <a:prstGeom prst="wedgeRoundRectCallout">
            <a:avLst>
              <a:gd name="adj1" fmla="val -67743"/>
              <a:gd name="adj2" fmla="val 2595"/>
              <a:gd name="adj3" fmla="val 16667"/>
            </a:avLst>
          </a:prstGeom>
          <a:solidFill>
            <a:srgbClr val="ffffff"/>
          </a:solidFill>
          <a:ln w="38100">
            <a:solidFill>
              <a:srgbClr val="dad5c7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⑥“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我”抓住机会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勇挑“家长”重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71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73" name="菱形 8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1"/>
          <p:cNvSpPr/>
          <p:nvPr/>
        </p:nvSpPr>
        <p:spPr>
          <a:xfrm>
            <a:off x="179640" y="414360"/>
            <a:ext cx="55717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爸爸妈妈都愣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随即低下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装作没听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将饭往嘴里塞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不说话就表示你们同意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哈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有三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当家长啦…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爸爸妈妈互相看了一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默契地笑了一下。我顿时有了一种不好的预感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果然，他们齐声说：“当家长就要洗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哎，姜还是老的辣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扒拉完碗里的饭，负责地收拾碗筷，准备履行我这个“家长”的职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太阳就要落山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夕阳照在脸上。幸福在心底流淌……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直接连接符 12"/>
          <p:cNvCxnSpPr/>
          <p:nvPr/>
        </p:nvCxnSpPr>
        <p:spPr>
          <a:xfrm>
            <a:off x="5786640" y="571320"/>
            <a:ext cx="9720" cy="4089240"/>
          </a:xfrm>
          <a:prstGeom prst="straightConnector1">
            <a:avLst/>
          </a:prstGeom>
          <a:ln w="38100">
            <a:solidFill>
              <a:srgbClr val="dad5c7"/>
            </a:solidFill>
          </a:ln>
        </p:spPr>
      </p:cxnSp>
      <p:sp>
        <p:nvSpPr>
          <p:cNvPr id="376" name="圆角矩形标注 3"/>
          <p:cNvSpPr/>
          <p:nvPr/>
        </p:nvSpPr>
        <p:spPr>
          <a:xfrm>
            <a:off x="6248880" y="3349800"/>
            <a:ext cx="2643120" cy="968760"/>
          </a:xfrm>
          <a:prstGeom prst="wedgeRoundRectCallout">
            <a:avLst>
              <a:gd name="adj1" fmla="val -65926"/>
              <a:gd name="adj2" fmla="val 60761"/>
              <a:gd name="adj3" fmla="val 16667"/>
            </a:avLst>
          </a:prstGeom>
          <a:solidFill>
            <a:srgbClr val="ffffff"/>
          </a:solidFill>
          <a:ln w="38100">
            <a:solidFill>
              <a:srgbClr val="dad5c7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⑦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结尾的环境描写温暖惬意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点明了幸福的主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78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80" name="菱形 7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3330"/>
          <p:cNvSpPr/>
          <p:nvPr/>
        </p:nvSpPr>
        <p:spPr>
          <a:xfrm>
            <a:off x="395640" y="1218240"/>
            <a:ext cx="8496720" cy="1531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ts val="384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借助课文，认识中心对于一篇文章的重要性。（重点）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4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从读到写，学习并体会如何提炼中心、梳理线索、安排详略。（难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4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写作实践，通过一件小事、一个场景、一个物品，表达自己的情感和思考。（素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1"/>
          <p:cNvGrpSpPr/>
          <p:nvPr/>
        </p:nvGrpSpPr>
        <p:grpSpPr>
          <a:xfrm>
            <a:off x="-20520" y="-20520"/>
            <a:ext cx="2006280" cy="516240"/>
            <a:chOff x="-20520" y="-20520"/>
            <a:chExt cx="2006280" cy="516240"/>
          </a:xfrm>
        </p:grpSpPr>
        <p:sp>
          <p:nvSpPr>
            <p:cNvPr id="247" name="文本框 6"/>
            <p:cNvSpPr/>
            <p:nvPr/>
          </p:nvSpPr>
          <p:spPr>
            <a:xfrm>
              <a:off x="658080" y="-205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直线连接符 9"/>
            <p:cNvCxnSpPr/>
            <p:nvPr/>
          </p:nvCxnSpPr>
          <p:spPr>
            <a:xfrm>
              <a:off x="-20520" y="46476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49" name="菱形 10"/>
            <p:cNvSpPr/>
            <p:nvPr/>
          </p:nvSpPr>
          <p:spPr>
            <a:xfrm>
              <a:off x="14400" y="114120"/>
              <a:ext cx="35064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2"/>
          <p:cNvSpPr/>
          <p:nvPr/>
        </p:nvSpPr>
        <p:spPr>
          <a:xfrm>
            <a:off x="539640" y="1347480"/>
            <a:ext cx="7949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章以提问开头设置悬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吸引读者的注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家庭成员一一亮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迅速展现在读者的眼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然展开全文。“谁是一家之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个问题既贯串全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又始终紧紧抓住读者的好奇心。选举的结果令人莞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家之温馨沁人心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足见作者选材之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"/>
          <p:cNvSpPr/>
          <p:nvPr/>
        </p:nvSpPr>
        <p:spPr>
          <a:xfrm>
            <a:off x="395640" y="584640"/>
            <a:ext cx="137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点评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84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5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86" name="菱形 7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4"/>
          <p:cNvSpPr/>
          <p:nvPr/>
        </p:nvSpPr>
        <p:spPr>
          <a:xfrm>
            <a:off x="395640" y="1059480"/>
            <a:ext cx="86133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三、亲爱的同学，你一定有走出校园的经历，或参观，或访问，或考察，或旅游，或做义工……其中的一幕场景、一个细节、一件物品、一段对话或一首民谣，都可能曾触动过你的内心，引发过你的思考……请以“走出校园”为中心内容，自拟题目，自定立意，写一篇作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0"/>
          <p:cNvSpPr/>
          <p:nvPr/>
        </p:nvSpPr>
        <p:spPr>
          <a:xfrm>
            <a:off x="621360" y="597960"/>
            <a:ext cx="729720" cy="3639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原题重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90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1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92" name="菱形 7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文本框 3"/>
          <p:cNvSpPr/>
          <p:nvPr/>
        </p:nvSpPr>
        <p:spPr>
          <a:xfrm>
            <a:off x="467640" y="1923840"/>
            <a:ext cx="83379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校园之外的经历中，有没有触动过你内心，引发过你思考的事件、场景、物品、歌曲或者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事件的过程或场景、物品、歌曲，自己当时的感受或思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结合某个同学的发言，谈谈其要表现的中心，说说材料的安排思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2"/>
          <p:cNvSpPr/>
          <p:nvPr/>
        </p:nvSpPr>
        <p:spPr>
          <a:xfrm>
            <a:off x="611640" y="771480"/>
            <a:ext cx="1151640" cy="719640"/>
          </a:xfrm>
          <a:prstGeom prst="ellipse">
            <a:avLst/>
          </a:prstGeom>
          <a:gradFill rotWithShape="0">
            <a:gsLst>
              <a:gs pos="0">
                <a:srgbClr val="9dc1cf"/>
              </a:gs>
              <a:gs pos="100000">
                <a:srgbClr val="90b6c4"/>
              </a:gs>
            </a:gsLst>
            <a:lin ang="5400000"/>
          </a:gradFill>
          <a:ln>
            <a:solidFill>
              <a:srgbClr val="14879e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395" name="文本框 4"/>
          <p:cNvSpPr/>
          <p:nvPr/>
        </p:nvSpPr>
        <p:spPr>
          <a:xfrm>
            <a:off x="755640" y="900720"/>
            <a:ext cx="8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提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97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99" name="菱形 8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4"/>
          <p:cNvSpPr/>
          <p:nvPr/>
        </p:nvSpPr>
        <p:spPr>
          <a:xfrm>
            <a:off x="323640" y="546480"/>
            <a:ext cx="85802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个不同寻常的假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首次看到这梦般的仙境，我不由惊叹于它的美。金色的阳光从缠绵的云层中丝丝缕缕地投射下来，紫色的天空仿佛触手可及，我在这苍茫的大草原上飞奔，想释放最真实的自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时，一块石头绊倒了我，我摔在地上，微微抬头，发现原来小草已经漫过头顶，向下看去，我欣喜若狂，仿佛看到了新世界的大门——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502920" y="597960"/>
            <a:ext cx="900360" cy="363960"/>
          </a:xfrm>
          <a:prstGeom prst="rect">
            <a:avLst/>
          </a:prstGeom>
          <a:gradFill rotWithShape="0">
            <a:gsLst>
              <a:gs pos="0">
                <a:srgbClr val="e7ebc6"/>
              </a:gs>
              <a:gs pos="100000">
                <a:srgbClr val="e0e6b9"/>
              </a:gs>
            </a:gsLst>
            <a:lin ang="5400000"/>
          </a:gradFill>
          <a:ln>
            <a:solidFill>
              <a:srgbClr val="ced788"/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例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403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4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05" name="菱形 7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文本框 4"/>
          <p:cNvSpPr/>
          <p:nvPr/>
        </p:nvSpPr>
        <p:spPr>
          <a:xfrm>
            <a:off x="294480" y="507240"/>
            <a:ext cx="8555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只蚂蚁站在一块石头上，不时走来走去，它身旁走过几支蚂蚁军队，原来这只是将军。如果不是亲眼见到，恐怕我永远也不会相信，一支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只蚂蚁组成的小队，抬起了一具蜜蜂的尸体，缓慢地向蚁洞移动。将军看到这一切，立刻跑到它们的身边，好像在为它们指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由蚂蚁请来的皇室音乐家们，开始为辛勤的蚂蚁演奏。蝈蝈是总指挥，在它的指挥下，乐队奏出了悠扬的乐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408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10" name="菱形 6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文本框 4"/>
          <p:cNvSpPr/>
          <p:nvPr/>
        </p:nvSpPr>
        <p:spPr>
          <a:xfrm>
            <a:off x="323640" y="955800"/>
            <a:ext cx="84538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这美妙的氛围下，屎壳郎也动了起来。只见它后脚脚着地，前脚滚着它的“宝贝”，动作是多么娴熟，不一会儿便走了很远，是定下了目标，要在太阳落山之前完成自己的任务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音乐家们演奏累了，停下来小歇。蚂蚁们也打算回巢休息，独角仙从泛黄的树叶下走了出来，从我面前大摇大摆地路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一惊，发现太阳已经落山了，想要站起来却发现脚已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413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15" name="菱形 6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文本框 5"/>
          <p:cNvSpPr/>
          <p:nvPr/>
        </p:nvSpPr>
        <p:spPr>
          <a:xfrm>
            <a:off x="689760" y="740880"/>
            <a:ext cx="8117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麻了，这一次的摔倒让我看到了一个新的世界，这个世界同样充满了生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这个不同寻常的假日，在这个不同寻常的一天，我明白了一个不同寻常的道理：当你遇到困难时，换一个角度思考问题，也许就会像我今天一样，因为一个小意外而看到了一个新的世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418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9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20" name="菱形 6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矩形 3"/>
          <p:cNvSpPr/>
          <p:nvPr/>
        </p:nvSpPr>
        <p:spPr>
          <a:xfrm>
            <a:off x="755640" y="1275480"/>
            <a:ext cx="77763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评：小作者用诗一般的语言将如画的景象细细描摹，为我们展现出一片不同的天地的迷人风光。动静结合的描写，新奇有趣的想象是文章的亮点，使读者如观其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423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4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25" name="菱形 6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500040" y="1214280"/>
            <a:ext cx="7772040" cy="23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04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200" spc="148" strike="noStrike">
                <a:solidFill>
                  <a:srgbClr val="26262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148" strike="noStrike">
                <a:solidFill>
                  <a:srgbClr val="262626"/>
                </a:solidFill>
                <a:latin typeface="微软雅黑"/>
                <a:ea typeface="微软雅黑"/>
              </a:rPr>
              <a:t>泰山不让细壤故能成其高；河海不择细流故能就其深。愿同学们善于发现，学会观察，多阅读、多积累、多写作，在作文的园地里勤于耕耘，播洒真情的种子，收获累累硕果。</a:t>
            </a:r>
            <a:endParaRPr b="0" lang="en-US" sz="1200" spc="148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500040" y="500040"/>
            <a:ext cx="1356840" cy="70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</a:pPr>
            <a:r>
              <a:rPr b="1" lang="zh-CN" sz="1800" spc="199" strike="noStrike">
                <a:solidFill>
                  <a:srgbClr val="262626"/>
                </a:solidFill>
                <a:latin typeface="微软雅黑"/>
                <a:ea typeface="微软雅黑"/>
              </a:rPr>
              <a:t>寄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" descr="MCj03943080000[1]"/>
          <p:cNvPicPr/>
          <p:nvPr/>
        </p:nvPicPr>
        <p:blipFill>
          <a:blip r:embed="rId1"/>
          <a:stretch/>
        </p:blipFill>
        <p:spPr>
          <a:xfrm>
            <a:off x="3348000" y="3795840"/>
            <a:ext cx="1897200" cy="791640"/>
          </a:xfrm>
          <a:prstGeom prst="rect">
            <a:avLst/>
          </a:prstGeom>
          <a:ln w="9525">
            <a:noFill/>
          </a:ln>
        </p:spPr>
      </p:pic>
      <p:grpSp>
        <p:nvGrpSpPr>
          <p:cNvPr id="429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430" name="文本框 6"/>
            <p:cNvSpPr/>
            <p:nvPr/>
          </p:nvSpPr>
          <p:spPr>
            <a:xfrm>
              <a:off x="69912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1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32" name="菱形 9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26"/>
          <p:cNvSpPr/>
          <p:nvPr/>
        </p:nvSpPr>
        <p:spPr>
          <a:xfrm>
            <a:off x="298440" y="1419480"/>
            <a:ext cx="85460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中心，是文章中传达出来的作者的基本观点、态度、情感和意图，也就是作者写文章的主旨所在。每篇文章都要有一个相对集中而明确的中心。有了中心，写文章也就有了主心骨。否则，文章就会像一盘散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那么，怎样才能突出文章中心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5"/>
          <p:cNvGrpSpPr/>
          <p:nvPr/>
        </p:nvGrpSpPr>
        <p:grpSpPr>
          <a:xfrm>
            <a:off x="3492000" y="560880"/>
            <a:ext cx="1778400" cy="635760"/>
            <a:chOff x="3492000" y="560880"/>
            <a:chExt cx="1778400" cy="635760"/>
          </a:xfrm>
        </p:grpSpPr>
        <p:sp>
          <p:nvSpPr>
            <p:cNvPr id="252" name="圆角矩形 8"/>
            <p:cNvSpPr/>
            <p:nvPr/>
          </p:nvSpPr>
          <p:spPr>
            <a:xfrm rot="555600">
              <a:off x="4729320" y="672480"/>
              <a:ext cx="453600" cy="41868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53" name="圆角矩形 9"/>
            <p:cNvSpPr/>
            <p:nvPr/>
          </p:nvSpPr>
          <p:spPr>
            <a:xfrm rot="20470800">
              <a:off x="4367160" y="676440"/>
              <a:ext cx="453600" cy="42048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54" name="圆角矩形 6"/>
            <p:cNvSpPr/>
            <p:nvPr/>
          </p:nvSpPr>
          <p:spPr>
            <a:xfrm rot="319200">
              <a:off x="3948480" y="678960"/>
              <a:ext cx="451800" cy="42048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55" name="圆角矩形 11"/>
            <p:cNvSpPr/>
            <p:nvPr/>
          </p:nvSpPr>
          <p:spPr>
            <a:xfrm rot="21148200">
              <a:off x="3538800" y="685080"/>
              <a:ext cx="451800" cy="4212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56" name="矩形 1"/>
            <p:cNvSpPr/>
            <p:nvPr/>
          </p:nvSpPr>
          <p:spPr>
            <a:xfrm>
              <a:off x="3492000" y="560880"/>
              <a:ext cx="177840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写作指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8"/>
          <p:cNvGrpSpPr/>
          <p:nvPr/>
        </p:nvGrpSpPr>
        <p:grpSpPr>
          <a:xfrm>
            <a:off x="35280" y="0"/>
            <a:ext cx="2006640" cy="516240"/>
            <a:chOff x="35280" y="0"/>
            <a:chExt cx="2006640" cy="516240"/>
          </a:xfrm>
        </p:grpSpPr>
        <p:sp>
          <p:nvSpPr>
            <p:cNvPr id="258" name="文本框 6"/>
            <p:cNvSpPr/>
            <p:nvPr/>
          </p:nvSpPr>
          <p:spPr>
            <a:xfrm>
              <a:off x="71424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直线连接符 9"/>
            <p:cNvCxnSpPr/>
            <p:nvPr/>
          </p:nvCxnSpPr>
          <p:spPr>
            <a:xfrm>
              <a:off x="35280" y="48564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60" name="菱形 14"/>
            <p:cNvSpPr/>
            <p:nvPr/>
          </p:nvSpPr>
          <p:spPr>
            <a:xfrm>
              <a:off x="70560" y="134640"/>
              <a:ext cx="35064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262" name="文本框 6"/>
            <p:cNvSpPr/>
            <p:nvPr/>
          </p:nvSpPr>
          <p:spPr>
            <a:xfrm>
              <a:off x="69876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3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64" name="菱形 6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265" name="文本框 8"/>
          <p:cNvSpPr/>
          <p:nvPr/>
        </p:nvSpPr>
        <p:spPr>
          <a:xfrm>
            <a:off x="3874320" y="681120"/>
            <a:ext cx="866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方法一　一条线索贯串全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9"/>
          <p:cNvSpPr/>
          <p:nvPr/>
        </p:nvSpPr>
        <p:spPr>
          <a:xfrm>
            <a:off x="388080" y="1635480"/>
            <a:ext cx="6861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郑振铎的《猫》：围绕着猫带给人的情感波澜这一线索，叙述了三次养猫的经历。叙述清晰，不蔓不枝，有效地突出了猫的命运带给“我”和家人的情感冲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10" descr=""/>
          <p:cNvPicPr/>
          <p:nvPr/>
        </p:nvPicPr>
        <p:blipFill>
          <a:blip r:embed="rId1"/>
          <a:stretch/>
        </p:blipFill>
        <p:spPr>
          <a:xfrm>
            <a:off x="6372360" y="127548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3"/>
          <p:cNvSpPr/>
          <p:nvPr/>
        </p:nvSpPr>
        <p:spPr>
          <a:xfrm>
            <a:off x="3755880" y="771480"/>
            <a:ext cx="2329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方法二　安排好内容的主次和详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4"/>
          <p:cNvSpPr/>
          <p:nvPr/>
        </p:nvSpPr>
        <p:spPr>
          <a:xfrm>
            <a:off x="1757880" y="1779840"/>
            <a:ext cx="740844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78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郑振铎的《猫》：前两只猫虽然可爱，但它们的亡失都是因为偶然的因素，对“我”的情感冲击较浅，所以略写；而第三只猫的受屈与死亡却引起了“我”深深的自责和反思，情感冲击最强，所以作者以最多的篇幅来详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5" descr=""/>
          <p:cNvPicPr/>
          <p:nvPr/>
        </p:nvPicPr>
        <p:blipFill>
          <a:blip r:embed="rId1"/>
          <a:stretch/>
        </p:blipFill>
        <p:spPr>
          <a:xfrm flipH="1">
            <a:off x="360" y="1981800"/>
            <a:ext cx="2123280" cy="3173400"/>
          </a:xfrm>
          <a:prstGeom prst="rect">
            <a:avLst/>
          </a:prstGeom>
          <a:ln w="0">
            <a:noFill/>
          </a:ln>
        </p:spPr>
      </p:pic>
      <p:grpSp>
        <p:nvGrpSpPr>
          <p:cNvPr id="271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272" name="文本框 6"/>
            <p:cNvSpPr/>
            <p:nvPr/>
          </p:nvSpPr>
          <p:spPr>
            <a:xfrm>
              <a:off x="69876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3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74" name="菱形 9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5" descr=""/>
          <p:cNvPicPr/>
          <p:nvPr/>
        </p:nvPicPr>
        <p:blipFill>
          <a:blip r:embed="rId1"/>
          <a:stretch/>
        </p:blipFill>
        <p:spPr>
          <a:xfrm>
            <a:off x="883080" y="681480"/>
            <a:ext cx="7505280" cy="4266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76" name="文本框 1"/>
          <p:cNvSpPr/>
          <p:nvPr/>
        </p:nvSpPr>
        <p:spPr>
          <a:xfrm>
            <a:off x="3543840" y="811080"/>
            <a:ext cx="2055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方法三　开门见山，点明题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2"/>
          <p:cNvSpPr/>
          <p:nvPr/>
        </p:nvSpPr>
        <p:spPr>
          <a:xfrm>
            <a:off x="927360" y="1476000"/>
            <a:ext cx="7416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如《雨的四季》一文中，作者开篇即说“我喜欢雨，无论什么季节的雨，我都喜欢”，其后围绕这一中心分别描绘了四个季节的雨的不同形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279" name="文本框 6"/>
            <p:cNvSpPr/>
            <p:nvPr/>
          </p:nvSpPr>
          <p:spPr>
            <a:xfrm>
              <a:off x="69876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81" name="菱形 8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图片 5" descr=""/>
          <p:cNvPicPr/>
          <p:nvPr/>
        </p:nvPicPr>
        <p:blipFill>
          <a:blip r:embed="rId1"/>
          <a:stretch/>
        </p:blipFill>
        <p:spPr>
          <a:xfrm>
            <a:off x="539640" y="555480"/>
            <a:ext cx="8064360" cy="4320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83" name="文本框 1"/>
          <p:cNvSpPr/>
          <p:nvPr/>
        </p:nvSpPr>
        <p:spPr>
          <a:xfrm>
            <a:off x="3837960" y="637920"/>
            <a:ext cx="1369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方法四　卒章显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"/>
          <p:cNvSpPr/>
          <p:nvPr/>
        </p:nvSpPr>
        <p:spPr>
          <a:xfrm>
            <a:off x="585000" y="1680120"/>
            <a:ext cx="8344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如《狼》一文，叙述了屠户与狼斗争的经过，结尾以议论的形式点题，突出人的智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467640" y="3619800"/>
            <a:ext cx="8488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还可以采用前后呼应、铺垫渲染、抑扬对比等技巧，突出中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287" name="文本框 6"/>
            <p:cNvSpPr/>
            <p:nvPr/>
          </p:nvSpPr>
          <p:spPr>
            <a:xfrm>
              <a:off x="69876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89" name="菱形 9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4"/>
          <p:cNvSpPr/>
          <p:nvPr/>
        </p:nvSpPr>
        <p:spPr>
          <a:xfrm>
            <a:off x="156960" y="1347480"/>
            <a:ext cx="89866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、书包是我们每个人都必备的学习用品，在上学和放学的路上，它与我们形影不离。假如要以“书包”为话题写一篇作文，请你想一想：可以从哪些角度确立中心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"/>
          <p:cNvSpPr/>
          <p:nvPr/>
        </p:nvSpPr>
        <p:spPr>
          <a:xfrm>
            <a:off x="762480" y="627480"/>
            <a:ext cx="729720" cy="3639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原题重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293" name="文本框 6"/>
            <p:cNvSpPr/>
            <p:nvPr/>
          </p:nvSpPr>
          <p:spPr>
            <a:xfrm>
              <a:off x="69876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95" name="菱形 7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椭圆 2"/>
          <p:cNvSpPr/>
          <p:nvPr/>
        </p:nvSpPr>
        <p:spPr>
          <a:xfrm>
            <a:off x="539640" y="555480"/>
            <a:ext cx="1151640" cy="719640"/>
          </a:xfrm>
          <a:prstGeom prst="ellipse">
            <a:avLst/>
          </a:prstGeom>
          <a:gradFill rotWithShape="0">
            <a:gsLst>
              <a:gs pos="0">
                <a:srgbClr val="9dc1cf"/>
              </a:gs>
              <a:gs pos="100000">
                <a:srgbClr val="90b6c4"/>
              </a:gs>
            </a:gsLst>
            <a:lin ang="5400000"/>
          </a:gradFill>
          <a:ln>
            <a:solidFill>
              <a:srgbClr val="14879e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97" name="文本框 3"/>
          <p:cNvSpPr/>
          <p:nvPr/>
        </p:nvSpPr>
        <p:spPr>
          <a:xfrm>
            <a:off x="467640" y="1479960"/>
            <a:ext cx="83379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将“我”的书包视作客观事物，着眼于介绍、说明，可以写写书包的功能、外观设计和内部构造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想象如果“我”是书包。让我们化身为书包，去听听它的心声：是为主人负担重而鸣不平，还是因主人乱扔乱放而暗自委屈？设身处地，发挥想象，看看你能想到些什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和书包”着眼于书包和主人的关系。你第一个书包是谁送给你的？你和书包之间有着怎样的故事？……都可以作为确立中心的角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"/>
          <p:cNvSpPr/>
          <p:nvPr/>
        </p:nvSpPr>
        <p:spPr>
          <a:xfrm>
            <a:off x="683640" y="684720"/>
            <a:ext cx="8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提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9"/>
          <p:cNvGrpSpPr/>
          <p:nvPr/>
        </p:nvGrpSpPr>
        <p:grpSpPr>
          <a:xfrm>
            <a:off x="19800" y="0"/>
            <a:ext cx="2006640" cy="516240"/>
            <a:chOff x="19800" y="0"/>
            <a:chExt cx="2006640" cy="516240"/>
          </a:xfrm>
        </p:grpSpPr>
        <p:sp>
          <p:nvSpPr>
            <p:cNvPr id="300" name="文本框 6"/>
            <p:cNvSpPr/>
            <p:nvPr/>
          </p:nvSpPr>
          <p:spPr>
            <a:xfrm>
              <a:off x="698760" y="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直线连接符 9"/>
            <p:cNvCxnSpPr/>
            <p:nvPr/>
          </p:nvCxnSpPr>
          <p:spPr>
            <a:xfrm>
              <a:off x="19800" y="4842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02" name="菱形 7"/>
            <p:cNvSpPr/>
            <p:nvPr/>
          </p:nvSpPr>
          <p:spPr>
            <a:xfrm>
              <a:off x="55080" y="13320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​​">
  <a:themeElements>
    <a:clrScheme name="1.1.1.1.1.1.20193213">
      <a:dk1>
        <a:srgbClr val="000000"/>
      </a:dk1>
      <a:lt1>
        <a:srgbClr val="ffffff"/>
      </a:lt1>
      <a:dk2>
        <a:srgbClr val="e6efe9"/>
      </a:dk2>
      <a:lt2>
        <a:srgbClr val="ffffff"/>
      </a:lt2>
      <a:accent1>
        <a:srgbClr val="3ea592"/>
      </a:accent1>
      <a:accent2>
        <a:srgbClr val="14879e"/>
      </a:accent2>
      <a:accent3>
        <a:srgbClr val="ced788"/>
      </a:accent3>
      <a:accent4>
        <a:srgbClr val="d7cd88"/>
      </a:accent4>
      <a:accent5>
        <a:srgbClr val="dad5c7"/>
      </a:accent5>
      <a:accent6>
        <a:srgbClr val="e6d093"/>
      </a:accent6>
      <a:hlink>
        <a:srgbClr val="658bd5"/>
      </a:hlink>
      <a:folHlink>
        <a:srgbClr val="a16a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​​">
  <a:themeElements>
    <a:clrScheme name="1.1.1.1.1.1.20193213">
      <a:dk1>
        <a:srgbClr val="000000"/>
      </a:dk1>
      <a:lt1>
        <a:srgbClr val="ffffff"/>
      </a:lt1>
      <a:dk2>
        <a:srgbClr val="e6efe9"/>
      </a:dk2>
      <a:lt2>
        <a:srgbClr val="ffffff"/>
      </a:lt2>
      <a:accent1>
        <a:srgbClr val="3ea592"/>
      </a:accent1>
      <a:accent2>
        <a:srgbClr val="14879e"/>
      </a:accent2>
      <a:accent3>
        <a:srgbClr val="ced788"/>
      </a:accent3>
      <a:accent4>
        <a:srgbClr val="d7cd88"/>
      </a:accent4>
      <a:accent5>
        <a:srgbClr val="dad5c7"/>
      </a:accent5>
      <a:accent6>
        <a:srgbClr val="e6d093"/>
      </a:accent6>
      <a:hlink>
        <a:srgbClr val="658bd5"/>
      </a:hlink>
      <a:folHlink>
        <a:srgbClr val="a16a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​​">
  <a:themeElements>
    <a:clrScheme name="1.1.1.1.1.1.20193213">
      <a:dk1>
        <a:srgbClr val="000000"/>
      </a:dk1>
      <a:lt1>
        <a:srgbClr val="ffffff"/>
      </a:lt1>
      <a:dk2>
        <a:srgbClr val="e6efe9"/>
      </a:dk2>
      <a:lt2>
        <a:srgbClr val="ffffff"/>
      </a:lt2>
      <a:accent1>
        <a:srgbClr val="3ea592"/>
      </a:accent1>
      <a:accent2>
        <a:srgbClr val="14879e"/>
      </a:accent2>
      <a:accent3>
        <a:srgbClr val="ced788"/>
      </a:accent3>
      <a:accent4>
        <a:srgbClr val="d7cd88"/>
      </a:accent4>
      <a:accent5>
        <a:srgbClr val="dad5c7"/>
      </a:accent5>
      <a:accent6>
        <a:srgbClr val="e6d093"/>
      </a:accent6>
      <a:hlink>
        <a:srgbClr val="658bd5"/>
      </a:hlink>
      <a:folHlink>
        <a:srgbClr val="a16a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​​">
  <a:themeElements>
    <a:clrScheme name="1.1.1.1.1.1.20193213">
      <a:dk1>
        <a:srgbClr val="000000"/>
      </a:dk1>
      <a:lt1>
        <a:srgbClr val="ffffff"/>
      </a:lt1>
      <a:dk2>
        <a:srgbClr val="e6efe9"/>
      </a:dk2>
      <a:lt2>
        <a:srgbClr val="ffffff"/>
      </a:lt2>
      <a:accent1>
        <a:srgbClr val="3ea592"/>
      </a:accent1>
      <a:accent2>
        <a:srgbClr val="14879e"/>
      </a:accent2>
      <a:accent3>
        <a:srgbClr val="ced788"/>
      </a:accent3>
      <a:accent4>
        <a:srgbClr val="d7cd88"/>
      </a:accent4>
      <a:accent5>
        <a:srgbClr val="dad5c7"/>
      </a:accent5>
      <a:accent6>
        <a:srgbClr val="e6d093"/>
      </a:accent6>
      <a:hlink>
        <a:srgbClr val="658bd5"/>
      </a:hlink>
      <a:folHlink>
        <a:srgbClr val="a16a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​​">
  <a:themeElements>
    <a:clrScheme name="1.1.1.1.1.1.20193213">
      <a:dk1>
        <a:srgbClr val="000000"/>
      </a:dk1>
      <a:lt1>
        <a:srgbClr val="ffffff"/>
      </a:lt1>
      <a:dk2>
        <a:srgbClr val="e6efe9"/>
      </a:dk2>
      <a:lt2>
        <a:srgbClr val="ffffff"/>
      </a:lt2>
      <a:accent1>
        <a:srgbClr val="3ea592"/>
      </a:accent1>
      <a:accent2>
        <a:srgbClr val="14879e"/>
      </a:accent2>
      <a:accent3>
        <a:srgbClr val="ced788"/>
      </a:accent3>
      <a:accent4>
        <a:srgbClr val="d7cd88"/>
      </a:accent4>
      <a:accent5>
        <a:srgbClr val="dad5c7"/>
      </a:accent5>
      <a:accent6>
        <a:srgbClr val="e6d093"/>
      </a:accent6>
      <a:hlink>
        <a:srgbClr val="658bd5"/>
      </a:hlink>
      <a:folHlink>
        <a:srgbClr val="a16a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e6efe9"/>
      </a:dk2>
      <a:lt2>
        <a:srgbClr val="ffffff"/>
      </a:lt2>
      <a:accent1>
        <a:srgbClr val="3ea592"/>
      </a:accent1>
      <a:accent2>
        <a:srgbClr val="14879e"/>
      </a:accent2>
      <a:accent3>
        <a:srgbClr val="ced788"/>
      </a:accent3>
      <a:accent4>
        <a:srgbClr val="d7cd88"/>
      </a:accent4>
      <a:accent5>
        <a:srgbClr val="dad5c7"/>
      </a:accent5>
      <a:accent6>
        <a:srgbClr val="e6d093"/>
      </a:accent6>
      <a:hlink>
        <a:srgbClr val="658bd5"/>
      </a:hlink>
      <a:folHlink>
        <a:srgbClr val="a16a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4064</Words>
  <Paragraphs>149</Paragraphs>
  <Company>Lenov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6T08:53:36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4-16T08:56:14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16:9)</vt:lpwstr>
  </property>
  <property fmtid="{D5CDD505-2E9C-101B-9397-08002B2CF9AE}" pid="4" name="Slides">
    <vt:r8>29</vt:r8>
  </property>
</Properties>
</file>