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9CB2C5-64C4-4D74-88A1-88B260C29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3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4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1CAF60-E589-4551-ADD3-B760FFE6F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2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D05BD7-6F0F-43B0-82D1-6E597A256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16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694ADE-3F2C-401A-A6AE-75D32D474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8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0AF793-593E-4D90-9F85-65247421C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8B9461-B67E-4DDD-A17F-BC33BFCD0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D1DC2D-4453-4D27-B77F-E1A14E099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31A-4CE2-4EA9-99B4-C7B3DD89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93B-A1BE-4901-8C9A-DCC91DF8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98C-CE0C-469D-8410-72366A64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D98-2138-4866-8C5A-BB6ADD34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DF4-3A31-42FB-8EFA-23480ADD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E0E-6D36-4064-9EFE-17BE5834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120-BE49-49CE-831D-0F8C96E1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BE9-8B7B-40A7-91CB-DCF4D51B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5DB-5868-489E-82C0-CC0481EA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A15-7E7B-4927-BB06-8BFEC8E3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533-D2D3-4FAF-9EF5-F67AFB0C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A53-743C-4251-8D32-7097E878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06A2-322E-4B6C-AF8A-EAD05B10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5AAA-7CCD-40B7-8927-777B8F6F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5FAA-450D-4C44-9A14-E17976C8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BE2E-972D-4C69-9EE5-21A09526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823A-EFCA-4EC9-834F-63891DA7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050F-D619-46C6-9337-2C466E13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A91C-9F0A-4728-89B9-E7ABA80A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09A9-FC8F-4967-9E0B-DA062472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AB3D-2790-444F-A582-DE34C34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736A-5BC2-4705-9D55-EC2360B7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C9B0-3911-48DB-967B-5A2C32B2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3C0E-0ACC-4201-ACF8-A09EC60B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75E65-108F-401B-8B5D-4BE159E4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5E75A-DD6E-4614-B985-561FEAC4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2925-7CC9-456F-B990-7F4DC8CC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F3A44-5583-41AC-AE20-5D875E39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8450-6E28-4373-894D-3C02D09F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BCD4-ACF2-4299-8D11-D716E748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AA0C-511B-4E67-BFA3-E8F2A1EA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C87CA-43E0-48B8-B599-DC1F570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E854-0AE6-42D2-A948-72E77FD9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5EC6-23EB-4C45-917C-CC70B942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CA238-5E0F-4E0E-A713-F40B5147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8BD83-CA69-4CFA-842D-09880600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直接连接符 3"/>
          <p:cNvCxnSpPr/>
          <p:nvPr/>
        </p:nvCxnSpPr>
        <p:spPr>
          <a:xfrm>
            <a:off x="428400" y="713160"/>
            <a:ext cx="8287200" cy="2520"/>
          </a:xfrm>
          <a:prstGeom prst="straightConnector1">
            <a:avLst/>
          </a:prstGeom>
          <a:ln w="31750">
            <a:solidFill>
              <a:srgbClr val="4a7ebb"/>
            </a:solidFill>
            <a:round/>
          </a:ln>
        </p:spPr>
      </p:cxnSp>
      <p:cxnSp>
        <p:nvCxnSpPr>
          <p:cNvPr id="1" name="直接连接符 11"/>
          <p:cNvCxnSpPr/>
          <p:nvPr/>
        </p:nvCxnSpPr>
        <p:spPr>
          <a:xfrm>
            <a:off x="428400" y="6356160"/>
            <a:ext cx="8287200" cy="2520"/>
          </a:xfrm>
          <a:prstGeom prst="straightConnector1">
            <a:avLst/>
          </a:prstGeom>
          <a:ln w="19050">
            <a:solidFill>
              <a:srgbClr val="4a7ebb"/>
            </a:solidFill>
            <a:round/>
          </a:ln>
        </p:spPr>
      </p:cxn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400" rIns="684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5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5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400" rIns="6840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B4A16E-D1DD-4B05-AB8F-4C7906637D22}" type="slidenum">
              <a:rPr b="0" lang="en-US" sz="9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0" y="5829480"/>
            <a:ext cx="9143640" cy="1028520"/>
          </a:xfrm>
          <a:prstGeom prst="rect">
            <a:avLst/>
          </a:prstGeom>
          <a:ln w="0">
            <a:noFill/>
          </a:ln>
        </p:spPr>
      </p:pic>
      <p:sp>
        <p:nvSpPr>
          <p:cNvPr id="83" name="矩形 4" hidden="1"/>
          <p:cNvSpPr/>
          <p:nvPr/>
        </p:nvSpPr>
        <p:spPr>
          <a:xfrm flipH="1">
            <a:off x="0" y="165240"/>
            <a:ext cx="2771280" cy="287640"/>
          </a:xfrm>
          <a:prstGeom prst="rect">
            <a:avLst/>
          </a:prstGeom>
          <a:gradFill rotWithShape="0">
            <a:gsLst>
              <a:gs pos="40000">
                <a:srgbClr val="63d6ff"/>
              </a:gs>
              <a:gs pos="100000">
                <a:srgbClr val="97e4ff">
                  <a:alpha val="7607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Impact"/>
                <a:ea typeface="微软雅黑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BB2B87-B86B-4BAD-A553-43482E8A7E35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560" y="2588400"/>
            <a:ext cx="8138880" cy="898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255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50" spc="5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40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8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9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1DF71D-D6E4-48CE-9094-ED87AE4E2372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tmp/in/7.&#20160;&#20040;&#27604;&#29454;&#35961;&#30340;&#36895;&#24230;&#26356;&#24555;&#65288;&#26391;&#35835;&#35270;&#39057;&#65289;.mp4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0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6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6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0" y="1175400"/>
            <a:ext cx="91436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7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什么比猎豹的速度更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线连接符 21"/>
          <p:cNvSpPr/>
          <p:nvPr/>
        </p:nvSpPr>
        <p:spPr>
          <a:xfrm>
            <a:off x="2232000" y="2021040"/>
            <a:ext cx="4679640" cy="360"/>
          </a:xfrm>
          <a:prstGeom prst="line">
            <a:avLst/>
          </a:prstGeom>
          <a:ln w="3810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98800" y="6453720"/>
            <a:ext cx="3438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icture 6"/>
          <p:cNvSpPr/>
          <p:nvPr/>
        </p:nvSpPr>
        <p:spPr>
          <a:xfrm>
            <a:off x="2152080" y="2421000"/>
            <a:ext cx="4839840" cy="31759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720" y="5807520"/>
            <a:ext cx="9142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512"/>
          <p:cNvSpPr/>
          <p:nvPr/>
        </p:nvSpPr>
        <p:spPr>
          <a:xfrm>
            <a:off x="2514600" y="1972800"/>
            <a:ext cx="615600" cy="6199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Malgun Gothic"/>
            </a:endParaRPr>
          </a:p>
        </p:txBody>
      </p:sp>
      <p:sp>
        <p:nvSpPr>
          <p:cNvPr id="278" name="矩形 14"/>
          <p:cNvSpPr/>
          <p:nvPr/>
        </p:nvSpPr>
        <p:spPr>
          <a:xfrm>
            <a:off x="863640" y="1251000"/>
            <a:ext cx="7416360" cy="7297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181440" rIns="181440" tIns="181440" bIns="181440" anchor="ctr">
            <a:noAutofit/>
          </a:bodyPr>
          <a:p>
            <a:pPr algn="ctr">
              <a:lnSpc>
                <a:spcPct val="150000"/>
              </a:lnSpc>
              <a:spcAft>
                <a:spcPts val="420"/>
              </a:spcAf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听范读，边听边画出文中的生字，注意生字的读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549600" y="82440"/>
            <a:ext cx="2044440" cy="78912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80" name="Picture 1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00280" y="2228760"/>
            <a:ext cx="40032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890640" y="1526040"/>
            <a:ext cx="685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想一想课文写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"/>
          <p:cNvSpPr/>
          <p:nvPr/>
        </p:nvSpPr>
        <p:spPr>
          <a:xfrm>
            <a:off x="947880" y="2404440"/>
            <a:ext cx="7078320" cy="5011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课文先后写了人、鸵鸟、猎豹、游隼、声速、喷气式飞机、火箭、流星体、光速比速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482760" y="1679760"/>
            <a:ext cx="80229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根据课文内容，按运动速度的快慢给下面的事物排序，照样子填序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498680" y="3048840"/>
            <a:ext cx="591156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光   游隼  火箭   猎豹   人  流星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鸵鸟   喷气式飞机   声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5"/>
          <p:cNvSpPr/>
          <p:nvPr/>
        </p:nvSpPr>
        <p:spPr>
          <a:xfrm>
            <a:off x="492120" y="4483080"/>
            <a:ext cx="821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  鸵鸟  猎豹  游隼  声音  喷气式飞机  火箭  流星体  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510000" y="82440"/>
            <a:ext cx="2123640" cy="7912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3"/>
          <p:cNvSpPr txBox="1"/>
          <p:nvPr/>
        </p:nvSpPr>
        <p:spPr>
          <a:xfrm rot="685800">
            <a:off x="7037280" y="4366440"/>
            <a:ext cx="1109160" cy="1566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Calibri"/>
                <a:ea typeface="宋体"/>
              </a:rPr>
              <a:t>？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5"/>
          <p:cNvGrpSpPr/>
          <p:nvPr/>
        </p:nvGrpSpPr>
        <p:grpSpPr>
          <a:xfrm>
            <a:off x="560520" y="1729440"/>
            <a:ext cx="8035560" cy="1602000"/>
            <a:chOff x="560520" y="1729440"/>
            <a:chExt cx="8035560" cy="1602000"/>
          </a:xfrm>
        </p:grpSpPr>
        <p:grpSp>
          <p:nvGrpSpPr>
            <p:cNvPr id="289" name="组合 4"/>
            <p:cNvGrpSpPr/>
            <p:nvPr/>
          </p:nvGrpSpPr>
          <p:grpSpPr>
            <a:xfrm>
              <a:off x="1179000" y="1729440"/>
              <a:ext cx="7417080" cy="1602000"/>
              <a:chOff x="1179000" y="1729440"/>
              <a:chExt cx="7417080" cy="1602000"/>
            </a:xfrm>
          </p:grpSpPr>
          <p:sp>
            <p:nvSpPr>
              <p:cNvPr id="290" name="矩形 2"/>
              <p:cNvSpPr/>
              <p:nvPr/>
            </p:nvSpPr>
            <p:spPr>
              <a:xfrm>
                <a:off x="1294200" y="1729440"/>
                <a:ext cx="140040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36a436"/>
                    </a:solidFill>
                    <a:latin typeface="微软雅黑"/>
                    <a:ea typeface="微软雅黑"/>
                  </a:rPr>
                  <a:t>讨论交流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矩形 9"/>
              <p:cNvSpPr/>
              <p:nvPr/>
            </p:nvSpPr>
            <p:spPr>
              <a:xfrm>
                <a:off x="1179000" y="2510640"/>
                <a:ext cx="741708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50000"/>
                  </a:lnSpc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作者是如何写出事物速度快的特点的？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2" name="图片 24" descr="花盆.png"/>
            <p:cNvPicPr/>
            <p:nvPr/>
          </p:nvPicPr>
          <p:blipFill>
            <a:blip r:embed="rId1"/>
            <a:stretch/>
          </p:blipFill>
          <p:spPr>
            <a:xfrm>
              <a:off x="560520" y="1807560"/>
              <a:ext cx="389520" cy="59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10"/>
          <p:cNvSpPr/>
          <p:nvPr/>
        </p:nvSpPr>
        <p:spPr>
          <a:xfrm>
            <a:off x="903240" y="2017080"/>
            <a:ext cx="74037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在奋力奔跑的时候，瞬时速度能够达到二十四千米每小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1"/>
          <p:cNvSpPr/>
          <p:nvPr/>
        </p:nvSpPr>
        <p:spPr>
          <a:xfrm>
            <a:off x="903240" y="3462840"/>
            <a:ext cx="74037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但是游隼向下俯冲时的速度更快，超过了三百二十千米每小时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9"/>
          <p:cNvSpPr/>
          <p:nvPr/>
        </p:nvSpPr>
        <p:spPr>
          <a:xfrm>
            <a:off x="4282200" y="506304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1" descr=""/>
          <p:cNvPicPr/>
          <p:nvPr/>
        </p:nvPicPr>
        <p:blipFill>
          <a:blip r:embed="rId1"/>
          <a:stretch/>
        </p:blipFill>
        <p:spPr>
          <a:xfrm>
            <a:off x="5869800" y="4462920"/>
            <a:ext cx="1950480" cy="1742760"/>
          </a:xfrm>
          <a:prstGeom prst="rect">
            <a:avLst/>
          </a:prstGeom>
          <a:ln cap="sq" w="127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grpSp>
        <p:nvGrpSpPr>
          <p:cNvPr id="297" name="组合 2"/>
          <p:cNvGrpSpPr/>
          <p:nvPr/>
        </p:nvGrpSpPr>
        <p:grpSpPr>
          <a:xfrm>
            <a:off x="471600" y="1049760"/>
            <a:ext cx="1380600" cy="765000"/>
            <a:chOff x="471600" y="1049760"/>
            <a:chExt cx="1380600" cy="765000"/>
          </a:xfrm>
        </p:grpSpPr>
        <p:sp>
          <p:nvSpPr>
            <p:cNvPr id="298" name="矩形 8"/>
            <p:cNvSpPr/>
            <p:nvPr/>
          </p:nvSpPr>
          <p:spPr>
            <a:xfrm>
              <a:off x="471600" y="1049760"/>
              <a:ext cx="1380600" cy="765000"/>
            </a:xfrm>
            <a:prstGeom prst="flowChartPunchedTape">
              <a:avLst/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99" name="矩形 14"/>
            <p:cNvSpPr txBox="1"/>
            <p:nvPr/>
          </p:nvSpPr>
          <p:spPr>
            <a:xfrm>
              <a:off x="522360" y="1153080"/>
              <a:ext cx="1261080" cy="6159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Wave2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列数字</a:t>
              </a:r>
              <a:endPara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Text Box 5"/>
          <p:cNvSpPr/>
          <p:nvPr/>
        </p:nvSpPr>
        <p:spPr>
          <a:xfrm>
            <a:off x="3613320" y="924840"/>
            <a:ext cx="4338360" cy="1060200"/>
          </a:xfrm>
          <a:prstGeom prst="callout1">
            <a:avLst>
              <a:gd name="adj1" fmla="val 105174"/>
              <a:gd name="adj2" fmla="val 64180"/>
              <a:gd name="adj3" fmla="val 124237"/>
              <a:gd name="adj4" fmla="val 72386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70ad47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数字作用是使说明具体化，准确无误，令读者信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774720" y="1968480"/>
            <a:ext cx="7903800" cy="500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用列数字的说明方法，写出我们生活中一样事物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"/>
          <p:cNvSpPr/>
          <p:nvPr/>
        </p:nvSpPr>
        <p:spPr>
          <a:xfrm>
            <a:off x="811080" y="1166400"/>
            <a:ext cx="119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练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808200" y="3497760"/>
            <a:ext cx="76528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已知最大的鲸约有十六万公斤重，最小的也有两千公斤。我国发现过一头近四万公斤重的鲸，约十七米长，一条舌头就有十几头大肥猪那么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6"/>
          <p:cNvSpPr/>
          <p:nvPr/>
        </p:nvSpPr>
        <p:spPr>
          <a:xfrm>
            <a:off x="1166760" y="5145480"/>
            <a:ext cx="69321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注意：一要符合实际，二要突出事物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组合 5"/>
          <p:cNvGrpSpPr/>
          <p:nvPr/>
        </p:nvGrpSpPr>
        <p:grpSpPr>
          <a:xfrm>
            <a:off x="568440" y="1411920"/>
            <a:ext cx="8299080" cy="4078440"/>
            <a:chOff x="568440" y="1411920"/>
            <a:chExt cx="8299080" cy="4078440"/>
          </a:xfrm>
        </p:grpSpPr>
        <p:sp>
          <p:nvSpPr>
            <p:cNvPr id="306" name="矩形 10"/>
            <p:cNvSpPr/>
            <p:nvPr/>
          </p:nvSpPr>
          <p:spPr>
            <a:xfrm>
              <a:off x="1054800" y="2252160"/>
              <a:ext cx="7812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比鸵鸟跑得更快的动物就要数猎豹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1"/>
            <p:cNvSpPr/>
            <p:nvPr/>
          </p:nvSpPr>
          <p:spPr>
            <a:xfrm>
              <a:off x="568440" y="3006360"/>
              <a:ext cx="5802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这个速度是汽车在高速公路上飞速行驶时速度的两到三倍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4"/>
            <p:cNvSpPr/>
            <p:nvPr/>
          </p:nvSpPr>
          <p:spPr>
            <a:xfrm>
              <a:off x="3269520" y="475344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图片 1" descr=""/>
            <p:cNvPicPr/>
            <p:nvPr/>
          </p:nvPicPr>
          <p:blipFill>
            <a:blip r:embed="rId1"/>
            <a:stretch/>
          </p:blipFill>
          <p:spPr>
            <a:xfrm>
              <a:off x="6446880" y="3712680"/>
              <a:ext cx="2060280" cy="1777680"/>
            </a:xfrm>
            <a:prstGeom prst="rect">
              <a:avLst/>
            </a:prstGeom>
            <a:ln w="0">
              <a:noFill/>
            </a:ln>
            <a:effectLst>
              <a:reflection algn="bl" blurRad="12700" dir="5400000" dist="5000" endPos="30000" rotWithShape="0" stA="30000" sy="-100000"/>
            </a:effectLst>
            <a:scene3d>
              <a:camera prst="perspectiveContrastingLeftFacing">
                <a:rot lat="300000" lon="19800000" rev="0"/>
              </a:camera>
              <a:lightRig dir="t" rig="threePt">
                <a:rot lat="0" lon="0" rev="2700000"/>
              </a:lightRig>
            </a:scene3d>
            <a:sp3d>
              <a:bevelT w="63500" h="50800"/>
            </a:sp3d>
          </p:spPr>
        </p:pic>
        <p:sp>
          <p:nvSpPr>
            <p:cNvPr id="310" name="图片 1"/>
            <p:cNvSpPr/>
            <p:nvPr/>
          </p:nvSpPr>
          <p:spPr>
            <a:xfrm>
              <a:off x="6455880" y="1411920"/>
              <a:ext cx="2094840" cy="2145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softEdge rad="1126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2"/>
          <p:cNvGrpSpPr/>
          <p:nvPr/>
        </p:nvGrpSpPr>
        <p:grpSpPr>
          <a:xfrm>
            <a:off x="471600" y="1049760"/>
            <a:ext cx="1380600" cy="765000"/>
            <a:chOff x="471600" y="1049760"/>
            <a:chExt cx="1380600" cy="765000"/>
          </a:xfrm>
        </p:grpSpPr>
        <p:sp>
          <p:nvSpPr>
            <p:cNvPr id="312" name="矩形 8"/>
            <p:cNvSpPr/>
            <p:nvPr/>
          </p:nvSpPr>
          <p:spPr>
            <a:xfrm>
              <a:off x="471600" y="1049760"/>
              <a:ext cx="1380600" cy="765000"/>
            </a:xfrm>
            <a:prstGeom prst="flowChartPunchedTape">
              <a:avLst/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3" name="矩形 15"/>
            <p:cNvSpPr txBox="1"/>
            <p:nvPr/>
          </p:nvSpPr>
          <p:spPr>
            <a:xfrm>
              <a:off x="522360" y="1153080"/>
              <a:ext cx="1261080" cy="6159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Wave2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作比较</a:t>
              </a:r>
              <a:endPara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Text Box 5"/>
          <p:cNvSpPr/>
          <p:nvPr/>
        </p:nvSpPr>
        <p:spPr>
          <a:xfrm>
            <a:off x="2863800" y="1164240"/>
            <a:ext cx="1539360" cy="658080"/>
          </a:xfrm>
          <a:prstGeom prst="callout1">
            <a:avLst>
              <a:gd name="adj1" fmla="val 100813"/>
              <a:gd name="adj2" fmla="val 48340"/>
              <a:gd name="adj3" fmla="val 161956"/>
              <a:gd name="adj4" fmla="val 70073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70ad47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更加直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"/>
          <p:cNvSpPr/>
          <p:nvPr/>
        </p:nvSpPr>
        <p:spPr>
          <a:xfrm>
            <a:off x="631800" y="992880"/>
            <a:ext cx="7946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！前面呼啸而过的东西是什么？跟它的速度一比，火箭就好像是静止的一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2"/>
          <p:cNvSpPr/>
          <p:nvPr/>
        </p:nvSpPr>
        <p:spPr>
          <a:xfrm>
            <a:off x="631800" y="2220480"/>
            <a:ext cx="7946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那是流星体！流星体是太空中一种较小的天体。有的流星体运动的瞬时速度能达到二十五万千米每小时，是火箭运动速度的六倍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3"/>
          <p:cNvSpPr/>
          <p:nvPr/>
        </p:nvSpPr>
        <p:spPr>
          <a:xfrm>
            <a:off x="631800" y="3443760"/>
            <a:ext cx="7946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过，还有比流星体运动速度快得多的东西，而且它就在我们身边。只要我们按下手电筒的开关，立刻会出现一束光柱。光的速度是惊人的，大约是三十万千米每秒，比流星体的速度要快几千倍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646200" y="5329800"/>
            <a:ext cx="7684560" cy="909720"/>
          </a:xfrm>
          <a:prstGeom prst="callout1">
            <a:avLst>
              <a:gd name="adj1" fmla="val 2009"/>
              <a:gd name="adj2" fmla="val 60625"/>
              <a:gd name="adj3" fmla="val -26547"/>
              <a:gd name="adj4" fmla="val 56577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70ad47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按照运动速度的快慢选取了不同的事物，都是一种事物要比另一种事物的速度快，依次排列，层层推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矩形 10"/>
          <p:cNvSpPr/>
          <p:nvPr/>
        </p:nvSpPr>
        <p:spPr>
          <a:xfrm>
            <a:off x="736560" y="1926000"/>
            <a:ext cx="75942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如果你对着一个以超音速移动的人大喊，他是什么都听不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4"/>
          <p:cNvSpPr/>
          <p:nvPr/>
        </p:nvSpPr>
        <p:spPr>
          <a:xfrm>
            <a:off x="4267800" y="567072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2"/>
          <p:cNvSpPr/>
          <p:nvPr/>
        </p:nvSpPr>
        <p:spPr>
          <a:xfrm>
            <a:off x="757080" y="3246840"/>
            <a:ext cx="7573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但是，如果你想到月球上去，就需要搭乘速度更快的工具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3"/>
          <p:cNvSpPr/>
          <p:nvPr/>
        </p:nvSpPr>
        <p:spPr>
          <a:xfrm>
            <a:off x="768240" y="4563360"/>
            <a:ext cx="7583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进入太空之后，即使关掉发动机，火箭仍可以继续前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2"/>
          <p:cNvGrpSpPr/>
          <p:nvPr/>
        </p:nvGrpSpPr>
        <p:grpSpPr>
          <a:xfrm>
            <a:off x="471600" y="1049760"/>
            <a:ext cx="1380600" cy="765000"/>
            <a:chOff x="471600" y="1049760"/>
            <a:chExt cx="1380600" cy="765000"/>
          </a:xfrm>
        </p:grpSpPr>
        <p:sp>
          <p:nvSpPr>
            <p:cNvPr id="324" name="矩形 8"/>
            <p:cNvSpPr/>
            <p:nvPr/>
          </p:nvSpPr>
          <p:spPr>
            <a:xfrm>
              <a:off x="471600" y="1049760"/>
              <a:ext cx="1380600" cy="765000"/>
            </a:xfrm>
            <a:prstGeom prst="flowChartPunchedTape">
              <a:avLst/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5" name="矩形 14"/>
            <p:cNvSpPr txBox="1"/>
            <p:nvPr/>
          </p:nvSpPr>
          <p:spPr>
            <a:xfrm>
              <a:off x="522360" y="1153080"/>
              <a:ext cx="1261080" cy="6159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Wave2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做假设</a:t>
              </a:r>
              <a:endPara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Text Box 5"/>
          <p:cNvSpPr/>
          <p:nvPr/>
        </p:nvSpPr>
        <p:spPr>
          <a:xfrm>
            <a:off x="3043080" y="1066680"/>
            <a:ext cx="3612960" cy="658080"/>
          </a:xfrm>
          <a:prstGeom prst="callout1">
            <a:avLst>
              <a:gd name="adj1" fmla="val 100813"/>
              <a:gd name="adj2" fmla="val 48340"/>
              <a:gd name="adj3" fmla="val 147257"/>
              <a:gd name="adj4" fmla="val 43404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70ad47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增强说明对象的说服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928800" y="2388960"/>
            <a:ext cx="7387920" cy="500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用做假设的说明方法，写出我们生活中一样事物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977760" y="3965760"/>
            <a:ext cx="73101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如果没有太阳，地球上将到处是黑暗，到处是寒冷，没有风霜雨露，没有草木野兽，自然也不会有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6"/>
          <p:cNvSpPr/>
          <p:nvPr/>
        </p:nvSpPr>
        <p:spPr>
          <a:xfrm>
            <a:off x="1166760" y="5202720"/>
            <a:ext cx="69321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注意：一要符合实际，二要突出事物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5"/>
          <p:cNvSpPr/>
          <p:nvPr/>
        </p:nvSpPr>
        <p:spPr>
          <a:xfrm>
            <a:off x="438120" y="2203560"/>
            <a:ext cx="753876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认识“鸵、赢”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生字，读准多音字“冠”，会写“冠、俯”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字，会写“猎豹、冠军”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借助关键词句，用较快的速度默读课文，记下所用的时间，了解课文的主要内容。（重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了解课文中介绍不同事物的速度时运用了哪些说明方法，体会它们的作用。（重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提出自己感兴趣的或不懂的问题，并通过读课文解决这些问题。（难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同侧圆角矩形 2"/>
          <p:cNvSpPr/>
          <p:nvPr/>
        </p:nvSpPr>
        <p:spPr>
          <a:xfrm>
            <a:off x="252360" y="982080"/>
            <a:ext cx="2007720" cy="535320"/>
          </a:xfrm>
          <a:prstGeom prst="round2SameRect">
            <a:avLst>
              <a:gd name="adj1" fmla="val 16667"/>
              <a:gd name="adj2" fmla="val 0"/>
            </a:avLst>
          </a:prstGeom>
          <a:pattFill prst="wdUpDiag">
            <a:fgClr>
              <a:srgbClr val="b4c7e7"/>
            </a:fgClr>
            <a:bgClr>
              <a:srgbClr val="b4c7e7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08000" y="1629720"/>
            <a:ext cx="2371320" cy="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1"/>
          <p:cNvSpPr/>
          <p:nvPr/>
        </p:nvSpPr>
        <p:spPr>
          <a:xfrm>
            <a:off x="558720" y="1392840"/>
            <a:ext cx="80499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完课文后，大家有什么感受？你认为谁最厉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"/>
          <p:cNvSpPr/>
          <p:nvPr/>
        </p:nvSpPr>
        <p:spPr>
          <a:xfrm>
            <a:off x="4430520" y="388836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万物比较谁更快，人类创造无人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矩形 3"/>
          <p:cNvSpPr/>
          <p:nvPr/>
        </p:nvSpPr>
        <p:spPr>
          <a:xfrm>
            <a:off x="739800" y="1905120"/>
            <a:ext cx="7649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们身边的交通工具也不停地变换，请你通过查阅资料，然后将你认为最理想的交通工具画下来，或者用一段话写下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06240" y="1030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主题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直线连接符 21"/>
          <p:cNvSpPr/>
          <p:nvPr/>
        </p:nvSpPr>
        <p:spPr>
          <a:xfrm flipV="1">
            <a:off x="323640" y="1627560"/>
            <a:ext cx="2073240" cy="8280"/>
          </a:xfrm>
          <a:prstGeom prst="line">
            <a:avLst/>
          </a:prstGeom>
          <a:ln w="3810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tretch/>
        </p:blipFill>
        <p:spPr>
          <a:xfrm>
            <a:off x="325440" y="1051920"/>
            <a:ext cx="2018880" cy="53316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539640" y="2709360"/>
            <a:ext cx="7922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"/>
          <p:cNvSpPr/>
          <p:nvPr/>
        </p:nvSpPr>
        <p:spPr>
          <a:xfrm>
            <a:off x="36360" y="1915560"/>
            <a:ext cx="9143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9640" y="2059560"/>
            <a:ext cx="80640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3"/>
          <p:cNvSpPr/>
          <p:nvPr/>
        </p:nvSpPr>
        <p:spPr>
          <a:xfrm>
            <a:off x="539640" y="2057400"/>
            <a:ext cx="80640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分别介绍了人、鸵鸟、猎豹、游隼、声音、喷气式飞机、火箭、流星体、光的速度，并进行了比较，得出光是宇宙中最快的东西的结论，表现了大千世界的多姿多彩，激发了我们探索宇宙奥秘的兴趣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4"/>
          <p:cNvSpPr/>
          <p:nvPr/>
        </p:nvSpPr>
        <p:spPr>
          <a:xfrm>
            <a:off x="644400" y="2144160"/>
            <a:ext cx="802908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出乎意料，让人很难相信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意为水盛大貌，引申为广大、繁多之意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飞鸟或飞机从空中迅速下降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乔木树干的上部及其枝叶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20"/>
          <p:cNvGrpSpPr/>
          <p:nvPr/>
        </p:nvGrpSpPr>
        <p:grpSpPr>
          <a:xfrm>
            <a:off x="570240" y="1145160"/>
            <a:ext cx="1772280" cy="672840"/>
            <a:chOff x="570240" y="1145160"/>
            <a:chExt cx="1772280" cy="672840"/>
          </a:xfrm>
        </p:grpSpPr>
        <p:sp>
          <p:nvSpPr>
            <p:cNvPr id="342" name="圆角矩形 21"/>
            <p:cNvSpPr/>
            <p:nvPr/>
          </p:nvSpPr>
          <p:spPr>
            <a:xfrm>
              <a:off x="915480" y="1145160"/>
              <a:ext cx="108036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9d9fa"/>
                </a:gs>
                <a:gs pos="100000">
                  <a:srgbClr val="d2e5fc"/>
                </a:gs>
              </a:gsLst>
              <a:lin ang="5400000"/>
            </a:gradFill>
            <a:ln w="0">
              <a:solidFill>
                <a:srgbClr val="a5a5a5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随堂练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线连接符 21"/>
            <p:cNvSpPr/>
            <p:nvPr/>
          </p:nvSpPr>
          <p:spPr>
            <a:xfrm>
              <a:off x="570240" y="1817640"/>
              <a:ext cx="1772280" cy="360"/>
            </a:xfrm>
            <a:prstGeom prst="line">
              <a:avLst/>
            </a:prstGeom>
            <a:ln w="38100">
              <a:solidFill>
                <a:srgbClr val="5b9bd5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44" name="组合 25"/>
          <p:cNvGrpSpPr/>
          <p:nvPr/>
        </p:nvGrpSpPr>
        <p:grpSpPr>
          <a:xfrm>
            <a:off x="3262320" y="1079640"/>
            <a:ext cx="2717280" cy="801720"/>
            <a:chOff x="3262320" y="1079640"/>
            <a:chExt cx="2717280" cy="801720"/>
          </a:xfrm>
        </p:grpSpPr>
        <p:pic>
          <p:nvPicPr>
            <p:cNvPr id="345" name="Picture 16" descr="C:\Users\Administrator\Desktop\对话框.png"/>
            <p:cNvPicPr/>
            <p:nvPr/>
          </p:nvPicPr>
          <p:blipFill>
            <a:blip r:embed="rId1"/>
            <a:stretch/>
          </p:blipFill>
          <p:spPr>
            <a:xfrm>
              <a:off x="3262320" y="1079640"/>
              <a:ext cx="2702880" cy="8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矩形 12"/>
            <p:cNvSpPr/>
            <p:nvPr/>
          </p:nvSpPr>
          <p:spPr>
            <a:xfrm>
              <a:off x="3364920" y="1142640"/>
              <a:ext cx="26146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根据意思写词语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矩形 5"/>
          <p:cNvSpPr/>
          <p:nvPr/>
        </p:nvSpPr>
        <p:spPr>
          <a:xfrm>
            <a:off x="5110200" y="24087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难以置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6"/>
          <p:cNvSpPr/>
          <p:nvPr/>
        </p:nvSpPr>
        <p:spPr>
          <a:xfrm>
            <a:off x="7292160" y="32702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浩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5549040" y="41061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俯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8"/>
          <p:cNvSpPr/>
          <p:nvPr/>
        </p:nvSpPr>
        <p:spPr>
          <a:xfrm>
            <a:off x="5199840" y="49233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树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2467080" y="3592800"/>
            <a:ext cx="627012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罗伯特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•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威尔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直以来都在美国南加利福尼亚从事儿童画创作。他的工作还包括了标志画、贺卡设计和漫画创作。《蓝鲸是最大的吗？》是他创作的第一本书，通过画笔，他让孩子们想象到了宇宙的巨大。自那时起的二十多年来，他一直在他的工作室里创作《妙想科学》。他说他的书旨在帮助孩子们探索这个神奇的世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icture 9"/>
          <p:cNvSpPr/>
          <p:nvPr/>
        </p:nvSpPr>
        <p:spPr>
          <a:xfrm>
            <a:off x="450000" y="2309040"/>
            <a:ext cx="2032560" cy="342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0" y="586440"/>
            <a:ext cx="1782360" cy="62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9"/>
          <p:cNvSpPr/>
          <p:nvPr/>
        </p:nvSpPr>
        <p:spPr>
          <a:xfrm>
            <a:off x="492120" y="914400"/>
            <a:ext cx="81151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游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名：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alco peregrinu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是中型 猛禽，共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亚种。体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1-5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厘米。翅长而尖，眼周黄色，颊有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粗著的垂直向下的黑色 髭纹，头至后颈灰黑色，其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上体蓝灰色，尾具数条黑色横带。下体白色，上胸有黑色细斑点，下胸至尾下覆羽密被黑色横斑。飞翔时翼下和尾下白色，密布白色横带，常在鼓翼飞翔时穿插着滑翔，也常在空中翱翔，野外容易识别。幼鸟上体暗褐色，下体淡黄褐色，胸、腹具黑褐色纵纹。主要栖息于山地、丘陵、半荒漠、沼泽与湖泊沿岸地带，也到开阔的农田、耕地和村屯附近活动。分布甚广，几乎遍布于世界各地。是阿拉伯联合酋长国和安哥拉的国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1" descr=""/>
          <p:cNvPicPr/>
          <p:nvPr/>
        </p:nvPicPr>
        <p:blipFill>
          <a:blip r:embed="rId1"/>
          <a:stretch/>
        </p:blipFill>
        <p:spPr>
          <a:xfrm>
            <a:off x="6838200" y="1497600"/>
            <a:ext cx="1508400" cy="1657440"/>
          </a:xfrm>
          <a:prstGeom prst="rect">
            <a:avLst/>
          </a:prstGeom>
          <a:ln w="0">
            <a:noFill/>
          </a:ln>
          <a:effectLst>
            <a:softEdge rad="6336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9"/>
          <p:cNvSpPr/>
          <p:nvPr/>
        </p:nvSpPr>
        <p:spPr>
          <a:xfrm>
            <a:off x="534960" y="840240"/>
            <a:ext cx="804204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流星体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流星体是太阳系内，小至沙尘，大至巨砾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为颗粒状的碎片。流星体进入地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或其他行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大气层之后，在路径上发光并被看见的阶段则被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为流星。许多流星来自相同的方向，并在一段时间内相继出现，则称为流星雨。在有记载的人类历史上，大约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万个流星体被重新发现过。其中大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流星体主要是由金属构成的，其余的流星体主要是由岩石构成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6883920" y="1738800"/>
            <a:ext cx="1590120" cy="1791000"/>
          </a:xfrm>
          <a:prstGeom prst="rect">
            <a:avLst/>
          </a:prstGeom>
          <a:ln w="0">
            <a:noFill/>
          </a:ln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"/>
          <p:cNvPicPr/>
          <p:nvPr/>
        </p:nvPicPr>
        <p:blipFill>
          <a:blip r:embed="rId1"/>
          <a:stretch/>
        </p:blipFill>
        <p:spPr>
          <a:xfrm>
            <a:off x="176040" y="613800"/>
            <a:ext cx="2018880" cy="533160"/>
          </a:xfrm>
          <a:prstGeom prst="rect">
            <a:avLst/>
          </a:prstGeom>
          <a:ln w="0">
            <a:noFill/>
          </a:ln>
        </p:spPr>
      </p:pic>
      <p:grpSp>
        <p:nvGrpSpPr>
          <p:cNvPr id="228" name="组合 5"/>
          <p:cNvGrpSpPr/>
          <p:nvPr/>
        </p:nvGrpSpPr>
        <p:grpSpPr>
          <a:xfrm>
            <a:off x="118800" y="1270440"/>
            <a:ext cx="2073240" cy="5760"/>
            <a:chOff x="118800" y="1270440"/>
            <a:chExt cx="2073240" cy="5760"/>
          </a:xfrm>
        </p:grpSpPr>
        <p:sp>
          <p:nvSpPr>
            <p:cNvPr id="229" name="直线连接符 21"/>
            <p:cNvSpPr/>
            <p:nvPr/>
          </p:nvSpPr>
          <p:spPr>
            <a:xfrm flipV="1">
              <a:off x="118800" y="1270440"/>
              <a:ext cx="2073240" cy="5760"/>
            </a:xfrm>
            <a:prstGeom prst="line">
              <a:avLst/>
            </a:prstGeom>
            <a:ln w="38100">
              <a:solidFill>
                <a:srgbClr val="93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30" name="矩形 14"/>
          <p:cNvSpPr/>
          <p:nvPr/>
        </p:nvSpPr>
        <p:spPr>
          <a:xfrm>
            <a:off x="3780000" y="1064880"/>
            <a:ext cx="18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33440" y="1962000"/>
            <a:ext cx="216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u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19" descr=""/>
          <p:cNvPicPr/>
          <p:nvPr/>
        </p:nvPicPr>
        <p:blipFill>
          <a:blip r:embed="rId2"/>
          <a:stretch/>
        </p:blipFill>
        <p:spPr>
          <a:xfrm>
            <a:off x="324000" y="2637360"/>
            <a:ext cx="840960" cy="8377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21" descr=""/>
          <p:cNvPicPr/>
          <p:nvPr/>
        </p:nvPicPr>
        <p:blipFill>
          <a:blip r:embed="rId3"/>
          <a:stretch/>
        </p:blipFill>
        <p:spPr>
          <a:xfrm>
            <a:off x="3587760" y="2637360"/>
            <a:ext cx="840960" cy="839880"/>
          </a:xfrm>
          <a:prstGeom prst="rect">
            <a:avLst/>
          </a:prstGeom>
          <a:ln w="0">
            <a:noFill/>
          </a:ln>
        </p:spPr>
      </p:pic>
      <p:sp>
        <p:nvSpPr>
          <p:cNvPr id="234" name="文本框 6"/>
          <p:cNvSpPr/>
          <p:nvPr/>
        </p:nvSpPr>
        <p:spPr>
          <a:xfrm>
            <a:off x="4480920" y="2711520"/>
            <a:ext cx="98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俯（俯冲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3"/>
          <p:cNvSpPr/>
          <p:nvPr/>
        </p:nvSpPr>
        <p:spPr>
          <a:xfrm>
            <a:off x="3564000" y="1962000"/>
            <a:ext cx="203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6"/>
          <p:cNvSpPr/>
          <p:nvPr/>
        </p:nvSpPr>
        <p:spPr>
          <a:xfrm>
            <a:off x="1235880" y="270720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冠（冠军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324000" y="3613320"/>
            <a:ext cx="187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é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19" descr=""/>
          <p:cNvPicPr/>
          <p:nvPr/>
        </p:nvPicPr>
        <p:blipFill>
          <a:blip r:embed="rId4"/>
          <a:stretch/>
        </p:blipFill>
        <p:spPr>
          <a:xfrm>
            <a:off x="318960" y="4381560"/>
            <a:ext cx="840960" cy="83988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6"/>
          <p:cNvSpPr/>
          <p:nvPr/>
        </p:nvSpPr>
        <p:spPr>
          <a:xfrm>
            <a:off x="1347480" y="4332960"/>
            <a:ext cx="523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枚（一枚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21" descr=""/>
          <p:cNvPicPr/>
          <p:nvPr/>
        </p:nvPicPr>
        <p:blipFill>
          <a:blip r:embed="rId5"/>
          <a:stretch/>
        </p:blipFill>
        <p:spPr>
          <a:xfrm>
            <a:off x="6251400" y="4366800"/>
            <a:ext cx="840960" cy="83988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"/>
          <p:cNvSpPr/>
          <p:nvPr/>
        </p:nvSpPr>
        <p:spPr>
          <a:xfrm>
            <a:off x="7163640" y="429480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浩（浩瀚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3"/>
          <p:cNvSpPr/>
          <p:nvPr/>
        </p:nvSpPr>
        <p:spPr>
          <a:xfrm>
            <a:off x="6210360" y="3486240"/>
            <a:ext cx="333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6151680" y="1890360"/>
            <a:ext cx="2307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ē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图片 19" descr=""/>
          <p:cNvPicPr/>
          <p:nvPr/>
        </p:nvPicPr>
        <p:blipFill>
          <a:blip r:embed="rId6"/>
          <a:stretch/>
        </p:blipFill>
        <p:spPr>
          <a:xfrm>
            <a:off x="6224760" y="2565360"/>
            <a:ext cx="840960" cy="83988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6"/>
          <p:cNvSpPr/>
          <p:nvPr/>
        </p:nvSpPr>
        <p:spPr>
          <a:xfrm>
            <a:off x="7097400" y="2637360"/>
            <a:ext cx="98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喷（喷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3492360" y="3566520"/>
            <a:ext cx="129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图片 19" descr=""/>
          <p:cNvPicPr/>
          <p:nvPr/>
        </p:nvPicPr>
        <p:blipFill>
          <a:blip r:embed="rId7"/>
          <a:stretch/>
        </p:blipFill>
        <p:spPr>
          <a:xfrm>
            <a:off x="3559320" y="4406760"/>
            <a:ext cx="840960" cy="837720"/>
          </a:xfrm>
          <a:prstGeom prst="rect">
            <a:avLst/>
          </a:prstGeom>
          <a:ln w="0">
            <a:noFill/>
          </a:ln>
        </p:spPr>
      </p:pic>
      <p:sp>
        <p:nvSpPr>
          <p:cNvPr id="248" name="文本框 6"/>
          <p:cNvSpPr/>
          <p:nvPr/>
        </p:nvSpPr>
        <p:spPr>
          <a:xfrm>
            <a:off x="4461840" y="435600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箭（火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1" descr=""/>
          <p:cNvPicPr/>
          <p:nvPr/>
        </p:nvPicPr>
        <p:blipFill>
          <a:blip r:embed="rId1"/>
          <a:stretch/>
        </p:blipFill>
        <p:spPr>
          <a:xfrm>
            <a:off x="176040" y="613800"/>
            <a:ext cx="2018880" cy="533160"/>
          </a:xfrm>
          <a:prstGeom prst="rect">
            <a:avLst/>
          </a:prstGeom>
          <a:ln w="0">
            <a:noFill/>
          </a:ln>
        </p:spPr>
      </p:pic>
      <p:grpSp>
        <p:nvGrpSpPr>
          <p:cNvPr id="250" name="组合 5"/>
          <p:cNvGrpSpPr/>
          <p:nvPr/>
        </p:nvGrpSpPr>
        <p:grpSpPr>
          <a:xfrm>
            <a:off x="118800" y="1270440"/>
            <a:ext cx="2073240" cy="5760"/>
            <a:chOff x="118800" y="1270440"/>
            <a:chExt cx="2073240" cy="5760"/>
          </a:xfrm>
        </p:grpSpPr>
        <p:sp>
          <p:nvSpPr>
            <p:cNvPr id="251" name="直线连接符 21"/>
            <p:cNvSpPr/>
            <p:nvPr/>
          </p:nvSpPr>
          <p:spPr>
            <a:xfrm flipV="1">
              <a:off x="118800" y="1270440"/>
              <a:ext cx="2073240" cy="5760"/>
            </a:xfrm>
            <a:prstGeom prst="line">
              <a:avLst/>
            </a:prstGeom>
            <a:ln w="38100">
              <a:solidFill>
                <a:srgbClr val="93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52" name="矩形 14"/>
          <p:cNvSpPr/>
          <p:nvPr/>
        </p:nvSpPr>
        <p:spPr>
          <a:xfrm>
            <a:off x="3780000" y="1064880"/>
            <a:ext cx="18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433440" y="1938960"/>
            <a:ext cx="216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ǒ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19" descr=""/>
          <p:cNvPicPr/>
          <p:nvPr/>
        </p:nvPicPr>
        <p:blipFill>
          <a:blip r:embed="rId2"/>
          <a:stretch/>
        </p:blipFill>
        <p:spPr>
          <a:xfrm>
            <a:off x="324000" y="2637360"/>
            <a:ext cx="840960" cy="83772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21" descr=""/>
          <p:cNvPicPr/>
          <p:nvPr/>
        </p:nvPicPr>
        <p:blipFill>
          <a:blip r:embed="rId3"/>
          <a:stretch/>
        </p:blipFill>
        <p:spPr>
          <a:xfrm>
            <a:off x="3587760" y="2637360"/>
            <a:ext cx="840960" cy="839880"/>
          </a:xfrm>
          <a:prstGeom prst="rect">
            <a:avLst/>
          </a:prstGeom>
          <a:ln w="0">
            <a:noFill/>
          </a:ln>
        </p:spPr>
      </p:pic>
      <p:sp>
        <p:nvSpPr>
          <p:cNvPr id="256" name="文本框 6"/>
          <p:cNvSpPr/>
          <p:nvPr/>
        </p:nvSpPr>
        <p:spPr>
          <a:xfrm>
            <a:off x="4676400" y="2646000"/>
            <a:ext cx="523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束（一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3"/>
          <p:cNvSpPr/>
          <p:nvPr/>
        </p:nvSpPr>
        <p:spPr>
          <a:xfrm>
            <a:off x="3564000" y="1938960"/>
            <a:ext cx="203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h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6"/>
          <p:cNvSpPr/>
          <p:nvPr/>
        </p:nvSpPr>
        <p:spPr>
          <a:xfrm>
            <a:off x="1202760" y="264168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筒（邮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324000" y="3613320"/>
            <a:ext cx="187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uā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9" descr=""/>
          <p:cNvPicPr/>
          <p:nvPr/>
        </p:nvPicPr>
        <p:blipFill>
          <a:blip r:embed="rId4"/>
          <a:stretch/>
        </p:blipFill>
        <p:spPr>
          <a:xfrm>
            <a:off x="318960" y="4370760"/>
            <a:ext cx="840960" cy="83988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6"/>
          <p:cNvSpPr/>
          <p:nvPr/>
        </p:nvSpPr>
        <p:spPr>
          <a:xfrm>
            <a:off x="1126800" y="4366800"/>
            <a:ext cx="98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圈（圆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6151680" y="1869120"/>
            <a:ext cx="2307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9" descr=""/>
          <p:cNvPicPr/>
          <p:nvPr/>
        </p:nvPicPr>
        <p:blipFill>
          <a:blip r:embed="rId5"/>
          <a:stretch/>
        </p:blipFill>
        <p:spPr>
          <a:xfrm>
            <a:off x="6224760" y="2565360"/>
            <a:ext cx="840960" cy="8398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6"/>
          <p:cNvSpPr/>
          <p:nvPr/>
        </p:nvSpPr>
        <p:spPr>
          <a:xfrm>
            <a:off x="7065720" y="2569680"/>
            <a:ext cx="98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赤（赤道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3492360" y="3566520"/>
            <a:ext cx="129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19" descr=""/>
          <p:cNvPicPr/>
          <p:nvPr/>
        </p:nvPicPr>
        <p:blipFill>
          <a:blip r:embed="rId6"/>
          <a:stretch/>
        </p:blipFill>
        <p:spPr>
          <a:xfrm>
            <a:off x="3559320" y="4394160"/>
            <a:ext cx="840960" cy="839880"/>
          </a:xfrm>
          <a:prstGeom prst="rect">
            <a:avLst/>
          </a:prstGeom>
          <a:ln w="0">
            <a:noFill/>
          </a:ln>
        </p:spPr>
      </p:pic>
      <p:sp>
        <p:nvSpPr>
          <p:cNvPr id="267" name="文本框 6"/>
          <p:cNvSpPr/>
          <p:nvPr/>
        </p:nvSpPr>
        <p:spPr>
          <a:xfrm>
            <a:off x="4471200" y="438984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置（设置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icture 8"/>
          <p:cNvSpPr/>
          <p:nvPr/>
        </p:nvSpPr>
        <p:spPr>
          <a:xfrm>
            <a:off x="5111640" y="1237680"/>
            <a:ext cx="2338200" cy="3917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14"/>
          <p:cNvGrpSpPr/>
          <p:nvPr/>
        </p:nvGrpSpPr>
        <p:grpSpPr>
          <a:xfrm>
            <a:off x="1409760" y="1119600"/>
            <a:ext cx="3166560" cy="1680120"/>
            <a:chOff x="1409760" y="1119600"/>
            <a:chExt cx="3166560" cy="1680120"/>
          </a:xfrm>
        </p:grpSpPr>
        <p:sp>
          <p:nvSpPr>
            <p:cNvPr id="270" name="云形标注 9"/>
            <p:cNvSpPr/>
            <p:nvPr/>
          </p:nvSpPr>
          <p:spPr>
            <a:xfrm>
              <a:off x="1409760" y="1119600"/>
              <a:ext cx="3166560" cy="1680120"/>
            </a:xfrm>
            <a:prstGeom prst="cloudCallout">
              <a:avLst>
                <a:gd name="adj1" fmla="val -44283"/>
                <a:gd name="adj2" fmla="val 70997"/>
              </a:avLst>
            </a:prstGeom>
            <a:solidFill>
              <a:schemeClr val="accent5">
                <a:lumMod val="20000"/>
                <a:lumOff val="80000"/>
              </a:schemeClr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271" name="矩形 13"/>
            <p:cNvSpPr/>
            <p:nvPr/>
          </p:nvSpPr>
          <p:spPr>
            <a:xfrm>
              <a:off x="1591920" y="1386720"/>
              <a:ext cx="281988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你知道宇宙中最快的物体是什么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矩形 16"/>
          <p:cNvSpPr/>
          <p:nvPr/>
        </p:nvSpPr>
        <p:spPr>
          <a:xfrm>
            <a:off x="5454000" y="5270400"/>
            <a:ext cx="65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答 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7"/>
          <p:cNvSpPr/>
          <p:nvPr/>
        </p:nvSpPr>
        <p:spPr>
          <a:xfrm>
            <a:off x="6752520" y="52344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光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519480" y="3469320"/>
            <a:ext cx="1239120" cy="2393640"/>
          </a:xfrm>
          <a:prstGeom prst="rect">
            <a:avLst/>
          </a:prstGeom>
          <a:ln w="0">
            <a:noFill/>
          </a:ln>
          <a:effectLst>
            <a:reflection algn="bl" dir="5400000" dist="50800" endPos="65000" rotWithShape="0" stA="0" sy="-10000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1"/>
          <p:cNvSpPr/>
          <p:nvPr/>
        </p:nvSpPr>
        <p:spPr>
          <a:xfrm>
            <a:off x="907920" y="4669200"/>
            <a:ext cx="7359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是不是觉得难以置信？下面就让我们走进课文了解一下吧！ 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icture 6"/>
          <p:cNvSpPr/>
          <p:nvPr/>
        </p:nvSpPr>
        <p:spPr>
          <a:xfrm>
            <a:off x="2163960" y="1067040"/>
            <a:ext cx="4839840" cy="36068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  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Office 主题​​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ges>0</Pages>
  <Words>2221</Words>
  <Characters>0</Characters>
  <CharactersWithSpaces>0</CharactersWithSpaces>
  <Paragraphs>1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8-13T07:29:50Z</dcterms:modified>
  <cp:revision>67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888</vt:lpwstr>
  </property>
  <property fmtid="{D5CDD505-2E9C-101B-9397-08002B2CF9AE}" pid="3" name="Notes">
    <vt:r8>8</vt:r8>
  </property>
  <property fmtid="{D5CDD505-2E9C-101B-9397-08002B2CF9AE}" pid="4" name="PresentationFormat">
    <vt:lpwstr>全屏显示(4:3)</vt:lpwstr>
  </property>
  <property fmtid="{D5CDD505-2E9C-101B-9397-08002B2CF9AE}" pid="5" name="Slides">
    <vt:r8>24</vt:r8>
  </property>
</Properties>
</file>