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8E030E-9287-4060-976F-D0482E256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F33A5D-53B2-464F-8667-5FDA0FE76A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EEA9A987-85D1-4B2C-9B06-EDCE161FB0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5E953F97-EF22-4F4C-B4B6-F7C0A67A9E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5F388D-942A-482F-9D3B-540A90CA1F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AC456D23-F274-484E-B169-8AFEBDAB75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ED308A9A-7D44-412F-96AE-3C166AE4A1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5D76AD38-2E50-40C1-889B-C5D92E112A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68F4C38D-4E11-457A-85A3-441A01FF85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FB8C8F4F-7B73-4A1F-B4C9-FB096BA7CD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DE754F8B-DD31-4C28-B4A9-E81C0FD402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0837EE1C-63E4-45E8-86CF-CF1710FBD4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2F613B2D-52BD-462F-B2DC-10AB45044D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27C0E07D-2EE6-4EA9-B63A-A795C7DEAF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420668-9256-4586-8028-2847E7C2E0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18.xml"/><Relationship Id="rId3" Type="http://schemas.openxmlformats.org/officeDocument/2006/relationships/slide" Target="slide25.xml"/><Relationship Id="rId4" Type="http://schemas.openxmlformats.org/officeDocument/2006/relationships/slide" Target="slide19.xml"/><Relationship Id="rId5" Type="http://schemas.openxmlformats.org/officeDocument/2006/relationships/slide" Target="slide22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27.xml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7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7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66"/>
          <p:cNvSpPr/>
          <p:nvPr/>
        </p:nvSpPr>
        <p:spPr>
          <a:xfrm>
            <a:off x="958680" y="1886040"/>
            <a:ext cx="722592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>
            <a:solidFill>
              <a:srgbClr val="539f36"/>
            </a:solidFill>
            <a:round/>
          </a:ln>
          <a:effectLst>
            <a:outerShdw blurRad="39960" dir="5400000" dist="2304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45" name="Picture 39" descr="구름"/>
          <p:cNvPicPr/>
          <p:nvPr/>
        </p:nvPicPr>
        <p:blipFill>
          <a:blip r:embed="rId1"/>
          <a:stretch/>
        </p:blipFill>
        <p:spPr>
          <a:xfrm>
            <a:off x="4795920" y="180000"/>
            <a:ext cx="682200" cy="363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구름"/>
          <p:cNvPicPr/>
          <p:nvPr/>
        </p:nvPicPr>
        <p:blipFill>
          <a:blip r:embed="rId2"/>
          <a:stretch/>
        </p:blipFill>
        <p:spPr>
          <a:xfrm>
            <a:off x="7236000" y="503640"/>
            <a:ext cx="1042560" cy="554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2170080" y="931320"/>
            <a:ext cx="653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什么比猎豹的速度更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3337"/>
          <p:cNvGrpSpPr/>
          <p:nvPr/>
        </p:nvGrpSpPr>
        <p:grpSpPr>
          <a:xfrm>
            <a:off x="1008000" y="698400"/>
            <a:ext cx="1180800" cy="1429560"/>
            <a:chOff x="1008000" y="698400"/>
            <a:chExt cx="1180800" cy="1429560"/>
          </a:xfrm>
        </p:grpSpPr>
        <p:sp>
          <p:nvSpPr>
            <p:cNvPr id="49" name="AutoShape 11"/>
            <p:cNvSpPr/>
            <p:nvPr/>
          </p:nvSpPr>
          <p:spPr>
            <a:xfrm>
              <a:off x="1008000" y="698400"/>
              <a:ext cx="1180800" cy="1429560"/>
            </a:xfrm>
            <a:prstGeom prst="diamond">
              <a:avLst/>
            </a:prstGeom>
            <a:solidFill>
              <a:srgbClr val="236b2a"/>
            </a:solidFill>
            <a:ln w="38100">
              <a:solidFill>
                <a:srgbClr val="ffffff"/>
              </a:solidFill>
              <a:miter/>
            </a:ln>
            <a:effectLst>
              <a:outerShdw rotWithShape="0" sy="5000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ffffff"/>
                </a:solidFill>
                <a:latin typeface="Calibri"/>
                <a:ea typeface="Gulim"/>
              </a:endParaRPr>
            </a:p>
          </p:txBody>
        </p:sp>
        <p:sp>
          <p:nvSpPr>
            <p:cNvPr id="50" name="文本框 13"/>
            <p:cNvSpPr/>
            <p:nvPr/>
          </p:nvSpPr>
          <p:spPr>
            <a:xfrm>
              <a:off x="1328760" y="714960"/>
              <a:ext cx="6840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6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7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图片 46" descr="枫叶副本"/>
          <p:cNvPicPr/>
          <p:nvPr/>
        </p:nvPicPr>
        <p:blipFill>
          <a:blip r:embed="rId3"/>
          <a:stretch/>
        </p:blipFill>
        <p:spPr>
          <a:xfrm>
            <a:off x="3854520" y="3087000"/>
            <a:ext cx="1058400" cy="1352160"/>
          </a:xfrm>
          <a:prstGeom prst="rect">
            <a:avLst/>
          </a:prstGeom>
          <a:ln w="0">
            <a:noFill/>
          </a:ln>
        </p:spPr>
      </p:pic>
      <p:sp>
        <p:nvSpPr>
          <p:cNvPr id="52" name="矩形 20"/>
          <p:cNvSpPr/>
          <p:nvPr/>
        </p:nvSpPr>
        <p:spPr>
          <a:xfrm>
            <a:off x="3056040" y="3226320"/>
            <a:ext cx="318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 一 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18"/>
          <p:cNvGrpSpPr/>
          <p:nvPr/>
        </p:nvGrpSpPr>
        <p:grpSpPr>
          <a:xfrm>
            <a:off x="884160" y="4789440"/>
            <a:ext cx="7419960" cy="831600"/>
            <a:chOff x="884160" y="4789440"/>
            <a:chExt cx="7419960" cy="831600"/>
          </a:xfrm>
        </p:grpSpPr>
        <p:sp>
          <p:nvSpPr>
            <p:cNvPr id="54" name="任意多边形 25"/>
            <p:cNvSpPr/>
            <p:nvPr/>
          </p:nvSpPr>
          <p:spPr>
            <a:xfrm>
              <a:off x="4060440" y="4876920"/>
              <a:ext cx="1774800" cy="744120"/>
            </a:xfrm>
            <a:custGeom>
              <a:avLst/>
              <a:gdLst>
                <a:gd name="textAreaLeft" fmla="*/ 0 w 1774800"/>
                <a:gd name="textAreaRight" fmla="*/ 1775160 w 177480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noFill/>
            <a:ln>
              <a:noFill/>
            </a:ln>
            <a:effectLst>
              <a:glow rad="101520">
                <a:srgbClr val="77933c">
                  <a:alpha val="60000"/>
                </a:srgbClr>
              </a:glo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3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读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26"/>
            <p:cNvSpPr/>
            <p:nvPr/>
          </p:nvSpPr>
          <p:spPr>
            <a:xfrm>
              <a:off x="6443640" y="4876920"/>
              <a:ext cx="1860480" cy="744120"/>
            </a:xfrm>
            <a:custGeom>
              <a:avLst/>
              <a:gdLst>
                <a:gd name="textAreaLeft" fmla="*/ 0 w 1860480"/>
                <a:gd name="textAreaRight" fmla="*/ 1860840 w 186048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noFill/>
            <a:ln>
              <a:noFill/>
            </a:ln>
            <a:effectLst>
              <a:glow rad="101520">
                <a:srgbClr val="77933c">
                  <a:alpha val="60000"/>
                </a:srgbClr>
              </a:glo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当堂检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图片 4" descr="小花2.png"/>
            <p:cNvPicPr/>
            <p:nvPr/>
          </p:nvPicPr>
          <p:blipFill>
            <a:blip r:embed="rId4"/>
            <a:stretch/>
          </p:blipFill>
          <p:spPr>
            <a:xfrm>
              <a:off x="3336840" y="4789440"/>
              <a:ext cx="8708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图片 4" descr="小花2.png"/>
            <p:cNvPicPr/>
            <p:nvPr/>
          </p:nvPicPr>
          <p:blipFill>
            <a:blip r:embed="rId5"/>
            <a:stretch/>
          </p:blipFill>
          <p:spPr>
            <a:xfrm>
              <a:off x="5774400" y="4789440"/>
              <a:ext cx="87084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任意多边形 29"/>
            <p:cNvSpPr/>
            <p:nvPr/>
          </p:nvSpPr>
          <p:spPr>
            <a:xfrm>
              <a:off x="1608120" y="4876920"/>
              <a:ext cx="1774800" cy="744120"/>
            </a:xfrm>
            <a:custGeom>
              <a:avLst/>
              <a:gdLst>
                <a:gd name="textAreaLeft" fmla="*/ 0 w 1774800"/>
                <a:gd name="textAreaRight" fmla="*/ 1775160 w 177480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noFill/>
            <a:ln>
              <a:noFill/>
            </a:ln>
            <a:effectLst>
              <a:glow rad="101520">
                <a:srgbClr val="77933c">
                  <a:alpha val="60000"/>
                </a:srgbClr>
              </a:glo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3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助读资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图片 4" descr="小花2.png"/>
            <p:cNvPicPr/>
            <p:nvPr/>
          </p:nvPicPr>
          <p:blipFill>
            <a:blip r:embed="rId6"/>
            <a:stretch/>
          </p:blipFill>
          <p:spPr>
            <a:xfrm>
              <a:off x="884160" y="4789440"/>
              <a:ext cx="87084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矩形 17"/>
          <p:cNvSpPr/>
          <p:nvPr/>
        </p:nvSpPr>
        <p:spPr>
          <a:xfrm>
            <a:off x="0" y="589968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8"/>
          <p:cNvSpPr/>
          <p:nvPr/>
        </p:nvSpPr>
        <p:spPr>
          <a:xfrm>
            <a:off x="2174760" y="3824640"/>
            <a:ext cx="255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鸵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0"/>
          <p:cNvSpPr/>
          <p:nvPr/>
        </p:nvSpPr>
        <p:spPr>
          <a:xfrm>
            <a:off x="2206800" y="4830120"/>
            <a:ext cx="242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驼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9"/>
          <p:cNvSpPr/>
          <p:nvPr/>
        </p:nvSpPr>
        <p:spPr>
          <a:xfrm>
            <a:off x="1008000" y="2952720"/>
            <a:ext cx="103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u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904680" y="4161600"/>
            <a:ext cx="1150920" cy="1549440"/>
            <a:chOff x="904680" y="4161600"/>
            <a:chExt cx="1150920" cy="1549440"/>
          </a:xfrm>
        </p:grpSpPr>
        <p:sp>
          <p:nvSpPr>
            <p:cNvPr id="105" name="Rectangle 4"/>
            <p:cNvSpPr/>
            <p:nvPr/>
          </p:nvSpPr>
          <p:spPr>
            <a:xfrm>
              <a:off x="905040" y="4161600"/>
              <a:ext cx="1150560" cy="1549080"/>
            </a:xfrm>
            <a:prstGeom prst="rect">
              <a:avLst/>
            </a:prstGeom>
            <a:noFill/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 flipH="1">
              <a:off x="904680" y="4936320"/>
              <a:ext cx="115092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1480320" y="4199760"/>
              <a:ext cx="360" cy="151128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108" name="矩形 3"/>
          <p:cNvSpPr/>
          <p:nvPr/>
        </p:nvSpPr>
        <p:spPr>
          <a:xfrm>
            <a:off x="905040" y="413388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280" y="-192600"/>
            <a:ext cx="304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0" name="TextBox 44"/>
          <p:cNvSpPr/>
          <p:nvPr/>
        </p:nvSpPr>
        <p:spPr>
          <a:xfrm>
            <a:off x="1224000" y="1392840"/>
            <a:ext cx="306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鸵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0716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Box 21"/>
          <p:cNvSpPr/>
          <p:nvPr/>
        </p:nvSpPr>
        <p:spPr>
          <a:xfrm>
            <a:off x="6972480" y="3845880"/>
            <a:ext cx="1436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输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4"/>
          <p:cNvSpPr/>
          <p:nvPr/>
        </p:nvSpPr>
        <p:spPr>
          <a:xfrm>
            <a:off x="6438960" y="4817520"/>
            <a:ext cx="254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共同双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5"/>
          <p:cNvSpPr/>
          <p:nvPr/>
        </p:nvSpPr>
        <p:spPr>
          <a:xfrm>
            <a:off x="5199120" y="2893320"/>
            <a:ext cx="1773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í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5160960" y="4161240"/>
            <a:ext cx="1150920" cy="1549440"/>
            <a:chOff x="5160960" y="4161240"/>
            <a:chExt cx="1150920" cy="1549440"/>
          </a:xfrm>
        </p:grpSpPr>
        <p:sp>
          <p:nvSpPr>
            <p:cNvPr id="116" name="Rectangle 4"/>
            <p:cNvSpPr/>
            <p:nvPr/>
          </p:nvSpPr>
          <p:spPr>
            <a:xfrm>
              <a:off x="5160960" y="4161240"/>
              <a:ext cx="1150560" cy="1549080"/>
            </a:xfrm>
            <a:prstGeom prst="rect">
              <a:avLst/>
            </a:prstGeom>
            <a:noFill/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17" name="Line 5"/>
            <p:cNvSpPr/>
            <p:nvPr/>
          </p:nvSpPr>
          <p:spPr>
            <a:xfrm flipH="1">
              <a:off x="5160960" y="4935960"/>
              <a:ext cx="115092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5736600" y="4199760"/>
              <a:ext cx="360" cy="151092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119" name="矩形 30"/>
          <p:cNvSpPr/>
          <p:nvPr/>
        </p:nvSpPr>
        <p:spPr>
          <a:xfrm>
            <a:off x="5151600" y="409788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4"/>
          <p:cNvSpPr/>
          <p:nvPr/>
        </p:nvSpPr>
        <p:spPr>
          <a:xfrm>
            <a:off x="5959440" y="1411920"/>
            <a:ext cx="157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赢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3"/>
          <p:cNvSpPr/>
          <p:nvPr/>
        </p:nvSpPr>
        <p:spPr>
          <a:xfrm>
            <a:off x="44280" y="-192600"/>
            <a:ext cx="304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679840" y="3845880"/>
            <a:ext cx="1436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夺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2174760" y="4817520"/>
            <a:ext cx="254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勇冠三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6"/>
          <p:cNvSpPr/>
          <p:nvPr/>
        </p:nvSpPr>
        <p:spPr>
          <a:xfrm>
            <a:off x="828720" y="2965320"/>
            <a:ext cx="1482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u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897120" y="4179960"/>
            <a:ext cx="1150920" cy="1549080"/>
            <a:chOff x="897120" y="4179960"/>
            <a:chExt cx="1150920" cy="1549080"/>
          </a:xfrm>
        </p:grpSpPr>
        <p:sp>
          <p:nvSpPr>
            <p:cNvPr id="126" name="Rectangle 4"/>
            <p:cNvSpPr/>
            <p:nvPr/>
          </p:nvSpPr>
          <p:spPr>
            <a:xfrm>
              <a:off x="897480" y="4179960"/>
              <a:ext cx="1150560" cy="1549080"/>
            </a:xfrm>
            <a:prstGeom prst="rect">
              <a:avLst/>
            </a:prstGeom>
            <a:noFill/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H="1">
              <a:off x="897120" y="4954320"/>
              <a:ext cx="115092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1473120" y="4218120"/>
              <a:ext cx="360" cy="151092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129" name="矩形 22"/>
          <p:cNvSpPr/>
          <p:nvPr/>
        </p:nvSpPr>
        <p:spPr>
          <a:xfrm>
            <a:off x="887400" y="411696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4"/>
          <p:cNvSpPr/>
          <p:nvPr/>
        </p:nvSpPr>
        <p:spPr>
          <a:xfrm>
            <a:off x="1554120" y="1431000"/>
            <a:ext cx="317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冠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0716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32" name="TextBox 32"/>
          <p:cNvSpPr/>
          <p:nvPr/>
        </p:nvSpPr>
        <p:spPr>
          <a:xfrm>
            <a:off x="6524640" y="3879720"/>
            <a:ext cx="255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隼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3"/>
          <p:cNvSpPr/>
          <p:nvPr/>
        </p:nvSpPr>
        <p:spPr>
          <a:xfrm>
            <a:off x="6475320" y="48092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隼集陈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4"/>
          <p:cNvSpPr/>
          <p:nvPr/>
        </p:nvSpPr>
        <p:spPr>
          <a:xfrm>
            <a:off x="5154480" y="291024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ǔ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5153400" y="4178880"/>
            <a:ext cx="1150920" cy="1549080"/>
            <a:chOff x="5153400" y="4178880"/>
            <a:chExt cx="1150920" cy="1549080"/>
          </a:xfrm>
        </p:grpSpPr>
        <p:sp>
          <p:nvSpPr>
            <p:cNvPr id="136" name="Rectangle 4"/>
            <p:cNvSpPr/>
            <p:nvPr/>
          </p:nvSpPr>
          <p:spPr>
            <a:xfrm>
              <a:off x="5153760" y="4178880"/>
              <a:ext cx="1150560" cy="1549080"/>
            </a:xfrm>
            <a:prstGeom prst="rect">
              <a:avLst/>
            </a:prstGeom>
            <a:noFill/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37" name="Line 5"/>
            <p:cNvSpPr/>
            <p:nvPr/>
          </p:nvSpPr>
          <p:spPr>
            <a:xfrm flipH="1">
              <a:off x="5153400" y="4953600"/>
              <a:ext cx="115092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>
              <a:off x="5729400" y="4217040"/>
              <a:ext cx="360" cy="151092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139" name="矩形 41"/>
          <p:cNvSpPr/>
          <p:nvPr/>
        </p:nvSpPr>
        <p:spPr>
          <a:xfrm>
            <a:off x="5153040" y="415080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4"/>
          <p:cNvSpPr/>
          <p:nvPr/>
        </p:nvSpPr>
        <p:spPr>
          <a:xfrm>
            <a:off x="5705640" y="1409760"/>
            <a:ext cx="184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游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3"/>
          <p:cNvSpPr/>
          <p:nvPr/>
        </p:nvSpPr>
        <p:spPr>
          <a:xfrm>
            <a:off x="44280" y="-192600"/>
            <a:ext cx="304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4897440" y="3826800"/>
            <a:ext cx="1436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瀚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4363920" y="4836600"/>
            <a:ext cx="254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浩瀚星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6"/>
          <p:cNvSpPr/>
          <p:nvPr/>
        </p:nvSpPr>
        <p:spPr>
          <a:xfrm>
            <a:off x="3117960" y="2906280"/>
            <a:ext cx="1203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3085200" y="4161240"/>
            <a:ext cx="1150920" cy="1549440"/>
            <a:chOff x="3085200" y="4161240"/>
            <a:chExt cx="1150920" cy="1549440"/>
          </a:xfrm>
        </p:grpSpPr>
        <p:sp>
          <p:nvSpPr>
            <p:cNvPr id="146" name="Rectangle 4"/>
            <p:cNvSpPr/>
            <p:nvPr/>
          </p:nvSpPr>
          <p:spPr>
            <a:xfrm>
              <a:off x="3085560" y="4161240"/>
              <a:ext cx="1150560" cy="1549080"/>
            </a:xfrm>
            <a:prstGeom prst="rect">
              <a:avLst/>
            </a:prstGeom>
            <a:noFill/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H="1">
              <a:off x="3085200" y="4935960"/>
              <a:ext cx="115092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48" name="Line 6"/>
            <p:cNvSpPr/>
            <p:nvPr/>
          </p:nvSpPr>
          <p:spPr>
            <a:xfrm>
              <a:off x="3661200" y="4199760"/>
              <a:ext cx="360" cy="1510920"/>
            </a:xfrm>
            <a:prstGeom prst="line">
              <a:avLst/>
            </a:prstGeom>
            <a:ln w="28575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149" name="矩形 22"/>
          <p:cNvSpPr/>
          <p:nvPr/>
        </p:nvSpPr>
        <p:spPr>
          <a:xfrm>
            <a:off x="3076560" y="409788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4"/>
          <p:cNvSpPr/>
          <p:nvPr/>
        </p:nvSpPr>
        <p:spPr>
          <a:xfrm>
            <a:off x="3975120" y="1411920"/>
            <a:ext cx="1757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浩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0716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3"/>
          <p:cNvSpPr/>
          <p:nvPr/>
        </p:nvSpPr>
        <p:spPr>
          <a:xfrm>
            <a:off x="2805120" y="4324320"/>
            <a:ext cx="569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5"/>
          <p:cNvGrpSpPr/>
          <p:nvPr/>
        </p:nvGrpSpPr>
        <p:grpSpPr>
          <a:xfrm>
            <a:off x="3355920" y="3797280"/>
            <a:ext cx="2795400" cy="1392120"/>
            <a:chOff x="3355920" y="3797280"/>
            <a:chExt cx="2795400" cy="1392120"/>
          </a:xfrm>
        </p:grpSpPr>
        <p:sp>
          <p:nvSpPr>
            <p:cNvPr id="154" name="左大括号 14"/>
            <p:cNvSpPr/>
            <p:nvPr/>
          </p:nvSpPr>
          <p:spPr>
            <a:xfrm>
              <a:off x="3355920" y="4142160"/>
              <a:ext cx="178920" cy="1047240"/>
            </a:xfrm>
            <a:prstGeom prst="leftBrace">
              <a:avLst>
                <a:gd name="adj1" fmla="val 8333"/>
                <a:gd name="adj2" fmla="val 50000"/>
              </a:avLst>
            </a:prstGeom>
            <a:noFill/>
            <a:ln>
              <a:solidFill>
                <a:srgbClr val="ff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5" name="TextBox 15"/>
            <p:cNvSpPr/>
            <p:nvPr/>
          </p:nvSpPr>
          <p:spPr>
            <a:xfrm>
              <a:off x="3544920" y="3797280"/>
              <a:ext cx="26064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guān(</a:t>
              </a:r>
              <a:r>
                <a:rPr b="1" lang="zh-CN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树冠</a:t>
              </a: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guàn(</a:t>
              </a:r>
              <a:r>
                <a:rPr b="1" lang="zh-CN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冠军</a:t>
              </a: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6"/>
          <p:cNvSpPr/>
          <p:nvPr/>
        </p:nvSpPr>
        <p:spPr>
          <a:xfrm>
            <a:off x="534960" y="1716480"/>
            <a:ext cx="7429320" cy="933120"/>
          </a:xfrm>
          <a:prstGeom prst="rect">
            <a:avLst/>
          </a:prstGeom>
          <a:solidFill>
            <a:srgbClr val="ffffff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一读下面的句子，看看你有什么发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在两条腿的动物里面，鸵鸟应该算是奔跑的世界冠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639720" y="3460680"/>
            <a:ext cx="55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20"/>
          <p:cNvGrpSpPr/>
          <p:nvPr/>
        </p:nvGrpSpPr>
        <p:grpSpPr>
          <a:xfrm>
            <a:off x="477720" y="5437800"/>
            <a:ext cx="8346600" cy="679320"/>
            <a:chOff x="477720" y="5437800"/>
            <a:chExt cx="8346600" cy="679320"/>
          </a:xfrm>
        </p:grpSpPr>
        <p:sp>
          <p:nvSpPr>
            <p:cNvPr id="159" name="矩形 17"/>
            <p:cNvSpPr/>
            <p:nvPr/>
          </p:nvSpPr>
          <p:spPr>
            <a:xfrm>
              <a:off x="477720" y="5437800"/>
              <a:ext cx="8346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：哪只猴子先爬到树冠</a:t>
              </a:r>
              <a:r>
                <a:rPr b="1" lang="en-US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(guān)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上，谁就是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guàn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军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7"/>
            <p:cNvSpPr/>
            <p:nvPr/>
          </p:nvSpPr>
          <p:spPr>
            <a:xfrm>
              <a:off x="6942240" y="5540040"/>
              <a:ext cx="535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7"/>
            <p:cNvSpPr/>
            <p:nvPr/>
          </p:nvSpPr>
          <p:spPr>
            <a:xfrm>
              <a:off x="4253400" y="5513760"/>
              <a:ext cx="535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0"/>
          <p:cNvGrpSpPr/>
          <p:nvPr/>
        </p:nvGrpSpPr>
        <p:grpSpPr>
          <a:xfrm>
            <a:off x="486000" y="987480"/>
            <a:ext cx="1464480" cy="672840"/>
            <a:chOff x="486000" y="987480"/>
            <a:chExt cx="1464480" cy="672840"/>
          </a:xfrm>
        </p:grpSpPr>
        <p:sp>
          <p:nvSpPr>
            <p:cNvPr id="163" name="圆角矩形 21"/>
            <p:cNvSpPr/>
            <p:nvPr/>
          </p:nvSpPr>
          <p:spPr>
            <a:xfrm>
              <a:off x="767520" y="9874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多音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线连接符 21"/>
            <p:cNvSpPr/>
            <p:nvPr/>
          </p:nvSpPr>
          <p:spPr>
            <a:xfrm>
              <a:off x="486000" y="1659960"/>
              <a:ext cx="146448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6567480" y="3737880"/>
            <a:ext cx="1793520" cy="1813680"/>
            <a:chOff x="6567480" y="3737880"/>
            <a:chExt cx="1793520" cy="1813680"/>
          </a:xfrm>
        </p:grpSpPr>
        <p:pic>
          <p:nvPicPr>
            <p:cNvPr id="166" name="Picture 14" descr="C:\Users\Administrator\Desktop\21579cb2206b352.jpg"/>
            <p:cNvPicPr/>
            <p:nvPr/>
          </p:nvPicPr>
          <p:blipFill>
            <a:blip r:embed="rId1"/>
            <a:stretch/>
          </p:blipFill>
          <p:spPr>
            <a:xfrm>
              <a:off x="6567480" y="3737880"/>
              <a:ext cx="1793520" cy="181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矩形 72"/>
            <p:cNvSpPr/>
            <p:nvPr/>
          </p:nvSpPr>
          <p:spPr>
            <a:xfrm>
              <a:off x="6797880" y="4182840"/>
              <a:ext cx="1488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注意加点字的读音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6289200" y="1071720"/>
            <a:ext cx="2653920" cy="1397880"/>
            <a:chOff x="6289200" y="1071720"/>
            <a:chExt cx="2653920" cy="1397880"/>
          </a:xfrm>
        </p:grpSpPr>
        <p:pic>
          <p:nvPicPr>
            <p:cNvPr id="169" name="Picture 15" descr="C:\Users\Administrator\Desktop\1.png"/>
            <p:cNvPicPr/>
            <p:nvPr/>
          </p:nvPicPr>
          <p:blipFill>
            <a:blip r:embed="rId2"/>
            <a:stretch/>
          </p:blipFill>
          <p:spPr>
            <a:xfrm>
              <a:off x="6289200" y="1071720"/>
              <a:ext cx="2653920" cy="13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矩形 28"/>
            <p:cNvSpPr/>
            <p:nvPr/>
          </p:nvSpPr>
          <p:spPr>
            <a:xfrm>
              <a:off x="6599160" y="1216800"/>
              <a:ext cx="158868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加点的字是多音字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4"/>
          <p:cNvSpPr/>
          <p:nvPr/>
        </p:nvSpPr>
        <p:spPr>
          <a:xfrm>
            <a:off x="644400" y="2144160"/>
            <a:ext cx="8029080" cy="262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出乎意料，让人很难相信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意为水盛大貌，引申为广大、繁多之意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飞鸟或飞机从空中迅速下降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乔木树干的上部及其枝叶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20"/>
          <p:cNvGrpSpPr/>
          <p:nvPr/>
        </p:nvGrpSpPr>
        <p:grpSpPr>
          <a:xfrm>
            <a:off x="570240" y="1145160"/>
            <a:ext cx="1772280" cy="672840"/>
            <a:chOff x="570240" y="1145160"/>
            <a:chExt cx="1772280" cy="672840"/>
          </a:xfrm>
        </p:grpSpPr>
        <p:sp>
          <p:nvSpPr>
            <p:cNvPr id="173" name="圆角矩形 21"/>
            <p:cNvSpPr/>
            <p:nvPr/>
          </p:nvSpPr>
          <p:spPr>
            <a:xfrm>
              <a:off x="915480" y="1145160"/>
              <a:ext cx="108036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解词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线连接符 21"/>
            <p:cNvSpPr/>
            <p:nvPr/>
          </p:nvSpPr>
          <p:spPr>
            <a:xfrm>
              <a:off x="570240" y="1817640"/>
              <a:ext cx="177228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5" name="组合 25"/>
          <p:cNvGrpSpPr/>
          <p:nvPr/>
        </p:nvGrpSpPr>
        <p:grpSpPr>
          <a:xfrm>
            <a:off x="3262320" y="1079640"/>
            <a:ext cx="2717280" cy="801720"/>
            <a:chOff x="3262320" y="1079640"/>
            <a:chExt cx="2717280" cy="801720"/>
          </a:xfrm>
        </p:grpSpPr>
        <p:pic>
          <p:nvPicPr>
            <p:cNvPr id="176" name="Picture 16" descr="C:\Users\Administrator\Desktop\对话框.png"/>
            <p:cNvPicPr/>
            <p:nvPr/>
          </p:nvPicPr>
          <p:blipFill>
            <a:blip r:embed="rId1"/>
            <a:stretch/>
          </p:blipFill>
          <p:spPr>
            <a:xfrm>
              <a:off x="3262320" y="1079640"/>
              <a:ext cx="2702880" cy="8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矩形 12"/>
            <p:cNvSpPr/>
            <p:nvPr/>
          </p:nvSpPr>
          <p:spPr>
            <a:xfrm>
              <a:off x="3364920" y="1142640"/>
              <a:ext cx="2614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根据意思写词语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矩形 5"/>
          <p:cNvSpPr/>
          <p:nvPr/>
        </p:nvSpPr>
        <p:spPr>
          <a:xfrm>
            <a:off x="5110200" y="24087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难以置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7292160" y="32702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浩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549040" y="41061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俯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5199840" y="49233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树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任意多边形 32"/>
          <p:cNvSpPr/>
          <p:nvPr/>
        </p:nvSpPr>
        <p:spPr>
          <a:xfrm>
            <a:off x="1004760" y="3024720"/>
            <a:ext cx="7338600" cy="1151280"/>
          </a:xfrm>
          <a:custGeom>
            <a:avLst/>
            <a:gdLst>
              <a:gd name="textAreaLeft" fmla="*/ 0 w 7338600"/>
              <a:gd name="textAreaRight" fmla="*/ 7338960 w 7338600"/>
              <a:gd name="textAreaTop" fmla="*/ 0 h 1151280"/>
              <a:gd name="textAreaBottom" fmla="*/ 1151640 h 1151280"/>
            </a:gdLst>
            <a:ahLst/>
            <a:rect l="textAreaLeft" t="textAreaTop" r="textAreaRight" b="textAreaBottom"/>
            <a:pathLst>
              <a:path w="6799134" h="976260">
                <a:moveTo>
                  <a:pt x="0" y="0"/>
                </a:moveTo>
                <a:lnTo>
                  <a:pt x="6799134" y="0"/>
                </a:lnTo>
                <a:lnTo>
                  <a:pt x="6799134" y="976260"/>
                </a:lnTo>
                <a:lnTo>
                  <a:pt x="0" y="9762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137160" rIns="137160" tIns="137160" bIns="137160" anchor="ctr">
            <a:noAutofit/>
          </a:bodyPr>
          <a:p>
            <a:pPr>
              <a:lnSpc>
                <a:spcPct val="150000"/>
              </a:lnSpc>
              <a:spcAft>
                <a:spcPts val="42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指名读课文，同学互评：字音是否正确，句子是否通顺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"/>
          <p:cNvGrpSpPr/>
          <p:nvPr/>
        </p:nvGrpSpPr>
        <p:grpSpPr>
          <a:xfrm>
            <a:off x="541440" y="1392840"/>
            <a:ext cx="2824920" cy="924480"/>
            <a:chOff x="541440" y="1392840"/>
            <a:chExt cx="2824920" cy="924480"/>
          </a:xfrm>
        </p:grpSpPr>
        <p:pic>
          <p:nvPicPr>
            <p:cNvPr id="184" name="Picture 8" descr=""/>
            <p:cNvPicPr/>
            <p:nvPr/>
          </p:nvPicPr>
          <p:blipFill>
            <a:blip r:embed="rId1"/>
            <a:stretch/>
          </p:blipFill>
          <p:spPr>
            <a:xfrm>
              <a:off x="541440" y="1392840"/>
              <a:ext cx="511560" cy="91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组合 10"/>
            <p:cNvGrpSpPr/>
            <p:nvPr/>
          </p:nvGrpSpPr>
          <p:grpSpPr>
            <a:xfrm>
              <a:off x="1078920" y="1408320"/>
              <a:ext cx="2287440" cy="909000"/>
              <a:chOff x="1078920" y="1408320"/>
              <a:chExt cx="2287440" cy="909000"/>
            </a:xfrm>
          </p:grpSpPr>
          <p:pic>
            <p:nvPicPr>
              <p:cNvPr id="186" name="Picture 10" descr="C:\Users\Administrator\Desktop\绿.png"/>
              <p:cNvPicPr/>
              <p:nvPr/>
            </p:nvPicPr>
            <p:blipFill>
              <a:blip r:embed="rId2"/>
              <a:stretch/>
            </p:blipFill>
            <p:spPr>
              <a:xfrm>
                <a:off x="1078920" y="1978560"/>
                <a:ext cx="2287440" cy="33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圆角矩形 12"/>
              <p:cNvSpPr/>
              <p:nvPr/>
            </p:nvSpPr>
            <p:spPr>
              <a:xfrm>
                <a:off x="1441080" y="1408320"/>
                <a:ext cx="1506960" cy="524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softEdge rad="3168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981"/>
                  </a:spcAf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检查自读情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890640" y="1526040"/>
            <a:ext cx="685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再读课文，想一想课文写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947880" y="2404440"/>
            <a:ext cx="7078320" cy="5011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先后写了人、鸵鸟、猎豹、游隼、声速、喷气式飞机、火箭、流星体、光速比速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191" name="圆角矩形 2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aphicFrame>
        <p:nvGraphicFramePr>
          <p:cNvPr id="193" name="Group 47"/>
          <p:cNvGraphicFramePr/>
          <p:nvPr/>
        </p:nvGraphicFramePr>
        <p:xfrm>
          <a:off x="1425600" y="2319840"/>
          <a:ext cx="899640" cy="1199880"/>
        </p:xfrm>
        <a:graphic>
          <a:graphicData uri="http://schemas.openxmlformats.org/drawingml/2006/table">
            <a:tbl>
              <a:tblPr/>
              <a:tblGrid>
                <a:gridCol w="446040"/>
                <a:gridCol w="453600"/>
              </a:tblGrid>
              <a:tr h="5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Group 47"/>
          <p:cNvGraphicFramePr/>
          <p:nvPr/>
        </p:nvGraphicFramePr>
        <p:xfrm>
          <a:off x="2763720" y="2319840"/>
          <a:ext cx="899640" cy="1199880"/>
        </p:xfrm>
        <a:graphic>
          <a:graphicData uri="http://schemas.openxmlformats.org/drawingml/2006/table">
            <a:tbl>
              <a:tblPr/>
              <a:tblGrid>
                <a:gridCol w="446040"/>
                <a:gridCol w="453600"/>
              </a:tblGrid>
              <a:tr h="5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Group 47"/>
          <p:cNvGraphicFramePr/>
          <p:nvPr/>
        </p:nvGraphicFramePr>
        <p:xfrm>
          <a:off x="4097160" y="2319840"/>
          <a:ext cx="899640" cy="1199880"/>
        </p:xfrm>
        <a:graphic>
          <a:graphicData uri="http://schemas.openxmlformats.org/drawingml/2006/table">
            <a:tbl>
              <a:tblPr/>
              <a:tblGrid>
                <a:gridCol w="446040"/>
                <a:gridCol w="453600"/>
              </a:tblGrid>
              <a:tr h="5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Group 47"/>
          <p:cNvGraphicFramePr/>
          <p:nvPr/>
        </p:nvGraphicFramePr>
        <p:xfrm>
          <a:off x="5429160" y="2319840"/>
          <a:ext cx="899640" cy="1199880"/>
        </p:xfrm>
        <a:graphic>
          <a:graphicData uri="http://schemas.openxmlformats.org/drawingml/2006/table">
            <a:tbl>
              <a:tblPr/>
              <a:tblGrid>
                <a:gridCol w="446040"/>
                <a:gridCol w="453600"/>
              </a:tblGrid>
              <a:tr h="5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Group 47"/>
          <p:cNvGraphicFramePr/>
          <p:nvPr/>
        </p:nvGraphicFramePr>
        <p:xfrm>
          <a:off x="6761160" y="2319840"/>
          <a:ext cx="899640" cy="1199880"/>
        </p:xfrm>
        <a:graphic>
          <a:graphicData uri="http://schemas.openxmlformats.org/drawingml/2006/table">
            <a:tbl>
              <a:tblPr/>
              <a:tblGrid>
                <a:gridCol w="446040"/>
                <a:gridCol w="453600"/>
              </a:tblGrid>
              <a:tr h="5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Group 47"/>
          <p:cNvGraphicFramePr/>
          <p:nvPr/>
        </p:nvGraphicFramePr>
        <p:xfrm>
          <a:off x="660240" y="4025880"/>
          <a:ext cx="899640" cy="1199880"/>
        </p:xfrm>
        <a:graphic>
          <a:graphicData uri="http://schemas.openxmlformats.org/drawingml/2006/table">
            <a:tbl>
              <a:tblPr/>
              <a:tblGrid>
                <a:gridCol w="446040"/>
                <a:gridCol w="453600"/>
              </a:tblGrid>
              <a:tr h="5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Group 47"/>
          <p:cNvGraphicFramePr/>
          <p:nvPr/>
        </p:nvGraphicFramePr>
        <p:xfrm>
          <a:off x="2098800" y="4021560"/>
          <a:ext cx="898200" cy="1199880"/>
        </p:xfrm>
        <a:graphic>
          <a:graphicData uri="http://schemas.openxmlformats.org/drawingml/2006/table">
            <a:tbl>
              <a:tblPr/>
              <a:tblGrid>
                <a:gridCol w="445320"/>
                <a:gridCol w="452880"/>
              </a:tblGrid>
              <a:tr h="5972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026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Group 47"/>
          <p:cNvGraphicFramePr/>
          <p:nvPr/>
        </p:nvGraphicFramePr>
        <p:xfrm>
          <a:off x="3425760" y="4021560"/>
          <a:ext cx="898200" cy="1199880"/>
        </p:xfrm>
        <a:graphic>
          <a:graphicData uri="http://schemas.openxmlformats.org/drawingml/2006/table">
            <a:tbl>
              <a:tblPr/>
              <a:tblGrid>
                <a:gridCol w="445320"/>
                <a:gridCol w="452880"/>
              </a:tblGrid>
              <a:tr h="5972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6026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Group 47"/>
          <p:cNvGraphicFramePr/>
          <p:nvPr/>
        </p:nvGraphicFramePr>
        <p:xfrm>
          <a:off x="4784760" y="4021560"/>
          <a:ext cx="899640" cy="1199880"/>
        </p:xfrm>
        <a:graphic>
          <a:graphicData uri="http://schemas.openxmlformats.org/drawingml/2006/table">
            <a:tbl>
              <a:tblPr/>
              <a:tblGrid>
                <a:gridCol w="446040"/>
                <a:gridCol w="453600"/>
              </a:tblGrid>
              <a:tr h="5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Group 47"/>
          <p:cNvGraphicFramePr/>
          <p:nvPr/>
        </p:nvGraphicFramePr>
        <p:xfrm>
          <a:off x="6148440" y="4021560"/>
          <a:ext cx="899640" cy="1199880"/>
        </p:xfrm>
        <a:graphic>
          <a:graphicData uri="http://schemas.openxmlformats.org/drawingml/2006/table">
            <a:tbl>
              <a:tblPr/>
              <a:tblGrid>
                <a:gridCol w="446040"/>
                <a:gridCol w="453600"/>
              </a:tblGrid>
              <a:tr h="5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03" name="矩形 44">
            <a:hlinkClick r:id="rId1" action="ppaction://hlinksldjump"/>
          </p:cNvPr>
          <p:cNvSpPr/>
          <p:nvPr/>
        </p:nvSpPr>
        <p:spPr>
          <a:xfrm>
            <a:off x="2388600" y="40258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5">
            <a:hlinkClick r:id="rId2" action="ppaction://hlinksldjump"/>
          </p:cNvPr>
          <p:cNvSpPr/>
          <p:nvPr/>
        </p:nvSpPr>
        <p:spPr>
          <a:xfrm>
            <a:off x="1706760" y="23274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6">
            <a:hlinkClick r:id="rId3" action="ppaction://hlinksldjump"/>
          </p:cNvPr>
          <p:cNvSpPr/>
          <p:nvPr/>
        </p:nvSpPr>
        <p:spPr>
          <a:xfrm>
            <a:off x="3715560" y="40179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7">
            <a:hlinkClick r:id="rId4" action="ppaction://hlinksldjump"/>
          </p:cNvPr>
          <p:cNvSpPr/>
          <p:nvPr/>
        </p:nvSpPr>
        <p:spPr>
          <a:xfrm>
            <a:off x="3045240" y="23292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8">
            <a:hlinkClick r:id="rId5" action="ppaction://hlinksldjump"/>
          </p:cNvPr>
          <p:cNvSpPr/>
          <p:nvPr/>
        </p:nvSpPr>
        <p:spPr>
          <a:xfrm>
            <a:off x="7054560" y="23331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9">
            <a:hlinkClick r:id="rId6" action="ppaction://hlinksldjump"/>
          </p:cNvPr>
          <p:cNvSpPr/>
          <p:nvPr/>
        </p:nvSpPr>
        <p:spPr>
          <a:xfrm>
            <a:off x="4378680" y="23292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0">
            <a:hlinkClick r:id="rId7" action="ppaction://hlinksldjump"/>
          </p:cNvPr>
          <p:cNvSpPr/>
          <p:nvPr/>
        </p:nvSpPr>
        <p:spPr>
          <a:xfrm>
            <a:off x="5709240" y="23292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51">
            <a:hlinkClick r:id="rId8" action="ppaction://hlinksldjump"/>
          </p:cNvPr>
          <p:cNvSpPr/>
          <p:nvPr/>
        </p:nvSpPr>
        <p:spPr>
          <a:xfrm>
            <a:off x="950760" y="40258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2">
            <a:hlinkClick r:id="rId9" action="ppaction://hlinksldjump"/>
          </p:cNvPr>
          <p:cNvSpPr/>
          <p:nvPr/>
        </p:nvSpPr>
        <p:spPr>
          <a:xfrm>
            <a:off x="5065920" y="40356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Group 47"/>
          <p:cNvGraphicFramePr/>
          <p:nvPr/>
        </p:nvGraphicFramePr>
        <p:xfrm>
          <a:off x="7502400" y="4025880"/>
          <a:ext cx="899640" cy="1199880"/>
        </p:xfrm>
        <a:graphic>
          <a:graphicData uri="http://schemas.openxmlformats.org/drawingml/2006/table">
            <a:tbl>
              <a:tblPr/>
              <a:tblGrid>
                <a:gridCol w="446040"/>
                <a:gridCol w="453600"/>
              </a:tblGrid>
              <a:tr h="5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8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13" name="矩形 54">
            <a:hlinkClick r:id="rId10" action="ppaction://hlinksldjump"/>
          </p:cNvPr>
          <p:cNvSpPr/>
          <p:nvPr/>
        </p:nvSpPr>
        <p:spPr>
          <a:xfrm>
            <a:off x="7793640" y="40179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5">
            <a:hlinkClick r:id="rId11" action="ppaction://hlinksldjump"/>
          </p:cNvPr>
          <p:cNvSpPr/>
          <p:nvPr/>
        </p:nvSpPr>
        <p:spPr>
          <a:xfrm>
            <a:off x="6438960" y="40356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delay="0" evt="onClick">
                    <p:tgtEl>
                      <p:spTgt spid="203"/>
                    </p:tgtEl>
                  </p:cond>
                </p:stCondLst>
                <p:childTnLst>
                  <p:par>
                    <p:cTn id="251" fill="hold">
                      <p:stCondLst>
                        <p:cond delay="0"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258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delay="0" evt="onClick">
                    <p:tgtEl>
                      <p:spTgt spid="205"/>
                    </p:tgtEl>
                  </p:cond>
                </p:stCondLst>
                <p:childTnLst>
                  <p:par>
                    <p:cTn id="265" fill="hold">
                      <p:stCondLst>
                        <p:cond delay="0"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delay="0" evt="onClick">
                    <p:tgtEl>
                      <p:spTgt spid="206"/>
                    </p:tgtEl>
                  </p:cond>
                </p:stCondLst>
                <p:childTnLst>
                  <p:par>
                    <p:cTn id="272" fill="hold">
                      <p:stCondLst>
                        <p:cond delay="0"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delay="0" evt="onClick">
                    <p:tgtEl>
                      <p:spTgt spid="207"/>
                    </p:tgtEl>
                  </p:cond>
                </p:stCondLst>
                <p:childTnLst>
                  <p:par>
                    <p:cTn id="279" fill="hold">
                      <p:stCondLst>
                        <p:cond delay="0"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delay="0" evt="onClick">
                    <p:tgtEl>
                      <p:spTgt spid="208"/>
                    </p:tgtEl>
                  </p:cond>
                </p:stCondLst>
                <p:childTnLst>
                  <p:par>
                    <p:cTn id="286" fill="hold">
                      <p:stCondLst>
                        <p:cond delay="0"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delay="0" evt="onClick">
                    <p:tgtEl>
                      <p:spTgt spid="209"/>
                    </p:tgtEl>
                  </p:cond>
                </p:stCondLst>
                <p:childTnLst>
                  <p:par>
                    <p:cTn id="293" fill="hold">
                      <p:stCondLst>
                        <p:cond delay="0"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delay="0" evt="onClick">
                    <p:tgtEl>
                      <p:spTgt spid="210"/>
                    </p:tgtEl>
                  </p:cond>
                </p:stCondLst>
                <p:childTnLst>
                  <p:par>
                    <p:cTn id="300" fill="hold">
                      <p:stCondLst>
                        <p:cond delay="0"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delay="0" evt="onClick">
                    <p:tgtEl>
                      <p:spTgt spid="211"/>
                    </p:tgtEl>
                  </p:cond>
                </p:stCondLst>
                <p:childTnLst>
                  <p:par>
                    <p:cTn id="307" fill="hold">
                      <p:stCondLst>
                        <p:cond delay="0"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delay="0" evt="onClick">
                    <p:tgtEl>
                      <p:spTgt spid="213"/>
                    </p:tgtEl>
                  </p:cond>
                </p:stCondLst>
                <p:childTnLst>
                  <p:par>
                    <p:cTn id="314" fill="hold">
                      <p:stCondLst>
                        <p:cond delay="0"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delay="0" evt="onClick">
                    <p:tgtEl>
                      <p:spTgt spid="214"/>
                    </p:tgtEl>
                  </p:cond>
                </p:stCondLst>
                <p:childTnLst>
                  <p:par>
                    <p:cTn id="321" fill="hold">
                      <p:stCondLst>
                        <p:cond delay="0"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3,63,63)"/>
                                      </p:to>
                                    </p:set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Group 47"/>
          <p:cNvGraphicFramePr/>
          <p:nvPr/>
        </p:nvGraphicFramePr>
        <p:xfrm>
          <a:off x="5478480" y="1786320"/>
          <a:ext cx="2590560" cy="3039120"/>
        </p:xfrm>
        <a:graphic>
          <a:graphicData uri="http://schemas.openxmlformats.org/drawingml/2006/table">
            <a:tbl>
              <a:tblPr/>
              <a:tblGrid>
                <a:gridCol w="1284120"/>
                <a:gridCol w="1306080"/>
              </a:tblGrid>
              <a:tr h="151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Freeform 38"/>
          <p:cNvSpPr/>
          <p:nvPr/>
        </p:nvSpPr>
        <p:spPr>
          <a:xfrm>
            <a:off x="6118200" y="2334600"/>
            <a:ext cx="194760" cy="590040"/>
          </a:xfrm>
          <a:custGeom>
            <a:avLst/>
            <a:gdLst>
              <a:gd name="textAreaLeft" fmla="*/ 0 w 194760"/>
              <a:gd name="textAreaRight" fmla="*/ 195120 w 194760"/>
              <a:gd name="textAreaTop" fmla="*/ 0 h 590040"/>
              <a:gd name="textAreaBottom" fmla="*/ 590400 h 590040"/>
            </a:gdLst>
            <a:ahLst/>
            <a:rect l="textAreaLeft" t="textAreaTop" r="textAreaRight" b="textAreaBottom"/>
            <a:pathLst>
              <a:path w="306" h="697">
                <a:moveTo>
                  <a:pt x="115" y="697"/>
                </a:moveTo>
                <a:lnTo>
                  <a:pt x="102" y="697"/>
                </a:lnTo>
                <a:lnTo>
                  <a:pt x="89" y="697"/>
                </a:lnTo>
                <a:lnTo>
                  <a:pt x="77" y="684"/>
                </a:lnTo>
                <a:lnTo>
                  <a:pt x="77" y="671"/>
                </a:lnTo>
                <a:lnTo>
                  <a:pt x="64" y="659"/>
                </a:lnTo>
                <a:lnTo>
                  <a:pt x="51" y="646"/>
                </a:lnTo>
                <a:lnTo>
                  <a:pt x="38" y="621"/>
                </a:lnTo>
                <a:lnTo>
                  <a:pt x="13" y="583"/>
                </a:lnTo>
                <a:lnTo>
                  <a:pt x="0" y="557"/>
                </a:lnTo>
                <a:lnTo>
                  <a:pt x="0" y="532"/>
                </a:lnTo>
                <a:lnTo>
                  <a:pt x="0" y="507"/>
                </a:lnTo>
                <a:lnTo>
                  <a:pt x="13" y="481"/>
                </a:lnTo>
                <a:lnTo>
                  <a:pt x="26" y="456"/>
                </a:lnTo>
                <a:lnTo>
                  <a:pt x="38" y="431"/>
                </a:lnTo>
                <a:lnTo>
                  <a:pt x="77" y="393"/>
                </a:lnTo>
                <a:lnTo>
                  <a:pt x="89" y="380"/>
                </a:lnTo>
                <a:lnTo>
                  <a:pt x="102" y="355"/>
                </a:lnTo>
                <a:lnTo>
                  <a:pt x="102" y="342"/>
                </a:lnTo>
                <a:lnTo>
                  <a:pt x="115" y="304"/>
                </a:lnTo>
                <a:lnTo>
                  <a:pt x="128" y="278"/>
                </a:lnTo>
                <a:lnTo>
                  <a:pt x="140" y="240"/>
                </a:lnTo>
                <a:lnTo>
                  <a:pt x="153" y="215"/>
                </a:lnTo>
                <a:lnTo>
                  <a:pt x="166" y="177"/>
                </a:lnTo>
                <a:lnTo>
                  <a:pt x="166" y="139"/>
                </a:lnTo>
                <a:lnTo>
                  <a:pt x="166" y="101"/>
                </a:lnTo>
                <a:lnTo>
                  <a:pt x="178" y="76"/>
                </a:lnTo>
                <a:lnTo>
                  <a:pt x="178" y="50"/>
                </a:lnTo>
                <a:lnTo>
                  <a:pt x="191" y="25"/>
                </a:lnTo>
                <a:lnTo>
                  <a:pt x="191" y="12"/>
                </a:lnTo>
                <a:lnTo>
                  <a:pt x="204" y="12"/>
                </a:lnTo>
                <a:lnTo>
                  <a:pt x="204" y="0"/>
                </a:lnTo>
                <a:lnTo>
                  <a:pt x="217" y="12"/>
                </a:lnTo>
                <a:lnTo>
                  <a:pt x="229" y="25"/>
                </a:lnTo>
                <a:lnTo>
                  <a:pt x="242" y="38"/>
                </a:lnTo>
                <a:lnTo>
                  <a:pt x="255" y="63"/>
                </a:lnTo>
                <a:lnTo>
                  <a:pt x="280" y="88"/>
                </a:lnTo>
                <a:lnTo>
                  <a:pt x="293" y="126"/>
                </a:lnTo>
                <a:lnTo>
                  <a:pt x="306" y="164"/>
                </a:lnTo>
                <a:lnTo>
                  <a:pt x="306" y="202"/>
                </a:lnTo>
                <a:lnTo>
                  <a:pt x="306" y="253"/>
                </a:lnTo>
                <a:lnTo>
                  <a:pt x="293" y="304"/>
                </a:lnTo>
                <a:lnTo>
                  <a:pt x="280" y="355"/>
                </a:lnTo>
                <a:lnTo>
                  <a:pt x="267" y="405"/>
                </a:lnTo>
                <a:lnTo>
                  <a:pt x="255" y="469"/>
                </a:lnTo>
                <a:lnTo>
                  <a:pt x="242" y="519"/>
                </a:lnTo>
                <a:lnTo>
                  <a:pt x="217" y="570"/>
                </a:lnTo>
                <a:lnTo>
                  <a:pt x="204" y="621"/>
                </a:lnTo>
                <a:lnTo>
                  <a:pt x="191" y="646"/>
                </a:lnTo>
                <a:lnTo>
                  <a:pt x="178" y="659"/>
                </a:lnTo>
                <a:lnTo>
                  <a:pt x="166" y="671"/>
                </a:lnTo>
                <a:lnTo>
                  <a:pt x="166" y="684"/>
                </a:lnTo>
                <a:lnTo>
                  <a:pt x="153" y="697"/>
                </a:lnTo>
                <a:lnTo>
                  <a:pt x="140" y="697"/>
                </a:lnTo>
                <a:lnTo>
                  <a:pt x="128" y="697"/>
                </a:lnTo>
                <a:lnTo>
                  <a:pt x="115" y="697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7" name="Freeform 39"/>
          <p:cNvSpPr/>
          <p:nvPr/>
        </p:nvSpPr>
        <p:spPr>
          <a:xfrm>
            <a:off x="6280200" y="2271240"/>
            <a:ext cx="1122120" cy="384840"/>
          </a:xfrm>
          <a:custGeom>
            <a:avLst/>
            <a:gdLst>
              <a:gd name="textAreaLeft" fmla="*/ 0 w 1122120"/>
              <a:gd name="textAreaRight" fmla="*/ 1122480 w 1122120"/>
              <a:gd name="textAreaTop" fmla="*/ 0 h 384840"/>
              <a:gd name="textAreaBottom" fmla="*/ 385200 h 384840"/>
            </a:gdLst>
            <a:ahLst/>
            <a:rect l="textAreaLeft" t="textAreaTop" r="textAreaRight" b="textAreaBottom"/>
            <a:pathLst>
              <a:path w="1768" h="456">
                <a:moveTo>
                  <a:pt x="1463" y="367"/>
                </a:moveTo>
                <a:lnTo>
                  <a:pt x="1425" y="393"/>
                </a:lnTo>
                <a:lnTo>
                  <a:pt x="1399" y="405"/>
                </a:lnTo>
                <a:lnTo>
                  <a:pt x="1387" y="418"/>
                </a:lnTo>
                <a:lnTo>
                  <a:pt x="1361" y="431"/>
                </a:lnTo>
                <a:lnTo>
                  <a:pt x="1348" y="443"/>
                </a:lnTo>
                <a:lnTo>
                  <a:pt x="1336" y="456"/>
                </a:lnTo>
                <a:lnTo>
                  <a:pt x="1323" y="456"/>
                </a:lnTo>
                <a:lnTo>
                  <a:pt x="1310" y="456"/>
                </a:lnTo>
                <a:lnTo>
                  <a:pt x="1310" y="443"/>
                </a:lnTo>
                <a:lnTo>
                  <a:pt x="1310" y="431"/>
                </a:lnTo>
                <a:lnTo>
                  <a:pt x="1323" y="405"/>
                </a:lnTo>
                <a:lnTo>
                  <a:pt x="1336" y="380"/>
                </a:lnTo>
                <a:lnTo>
                  <a:pt x="1348" y="354"/>
                </a:lnTo>
                <a:lnTo>
                  <a:pt x="1361" y="329"/>
                </a:lnTo>
                <a:lnTo>
                  <a:pt x="1374" y="304"/>
                </a:lnTo>
                <a:lnTo>
                  <a:pt x="1374" y="278"/>
                </a:lnTo>
                <a:lnTo>
                  <a:pt x="1387" y="253"/>
                </a:lnTo>
                <a:lnTo>
                  <a:pt x="1399" y="228"/>
                </a:lnTo>
                <a:lnTo>
                  <a:pt x="1399" y="215"/>
                </a:lnTo>
                <a:lnTo>
                  <a:pt x="1399" y="202"/>
                </a:lnTo>
                <a:lnTo>
                  <a:pt x="1399" y="190"/>
                </a:lnTo>
                <a:lnTo>
                  <a:pt x="1387" y="177"/>
                </a:lnTo>
                <a:lnTo>
                  <a:pt x="1374" y="177"/>
                </a:lnTo>
                <a:lnTo>
                  <a:pt x="1361" y="177"/>
                </a:lnTo>
                <a:lnTo>
                  <a:pt x="1336" y="164"/>
                </a:lnTo>
                <a:lnTo>
                  <a:pt x="1323" y="164"/>
                </a:lnTo>
                <a:lnTo>
                  <a:pt x="1310" y="164"/>
                </a:lnTo>
                <a:lnTo>
                  <a:pt x="1297" y="164"/>
                </a:lnTo>
                <a:lnTo>
                  <a:pt x="1272" y="164"/>
                </a:lnTo>
                <a:lnTo>
                  <a:pt x="1247" y="177"/>
                </a:lnTo>
                <a:lnTo>
                  <a:pt x="1221" y="177"/>
                </a:lnTo>
                <a:lnTo>
                  <a:pt x="1183" y="177"/>
                </a:lnTo>
                <a:lnTo>
                  <a:pt x="1145" y="177"/>
                </a:lnTo>
                <a:lnTo>
                  <a:pt x="1107" y="190"/>
                </a:lnTo>
                <a:lnTo>
                  <a:pt x="1056" y="190"/>
                </a:lnTo>
                <a:lnTo>
                  <a:pt x="1018" y="202"/>
                </a:lnTo>
                <a:lnTo>
                  <a:pt x="954" y="202"/>
                </a:lnTo>
                <a:lnTo>
                  <a:pt x="890" y="215"/>
                </a:lnTo>
                <a:lnTo>
                  <a:pt x="827" y="228"/>
                </a:lnTo>
                <a:lnTo>
                  <a:pt x="763" y="240"/>
                </a:lnTo>
                <a:lnTo>
                  <a:pt x="687" y="253"/>
                </a:lnTo>
                <a:lnTo>
                  <a:pt x="623" y="253"/>
                </a:lnTo>
                <a:lnTo>
                  <a:pt x="547" y="266"/>
                </a:lnTo>
                <a:lnTo>
                  <a:pt x="483" y="278"/>
                </a:lnTo>
                <a:lnTo>
                  <a:pt x="420" y="291"/>
                </a:lnTo>
                <a:lnTo>
                  <a:pt x="356" y="291"/>
                </a:lnTo>
                <a:lnTo>
                  <a:pt x="305" y="304"/>
                </a:lnTo>
                <a:lnTo>
                  <a:pt x="254" y="316"/>
                </a:lnTo>
                <a:lnTo>
                  <a:pt x="216" y="316"/>
                </a:lnTo>
                <a:lnTo>
                  <a:pt x="165" y="316"/>
                </a:lnTo>
                <a:lnTo>
                  <a:pt x="127" y="329"/>
                </a:lnTo>
                <a:lnTo>
                  <a:pt x="102" y="329"/>
                </a:lnTo>
                <a:lnTo>
                  <a:pt x="63" y="329"/>
                </a:lnTo>
                <a:lnTo>
                  <a:pt x="38" y="342"/>
                </a:lnTo>
                <a:lnTo>
                  <a:pt x="25" y="342"/>
                </a:lnTo>
                <a:lnTo>
                  <a:pt x="12" y="342"/>
                </a:lnTo>
                <a:lnTo>
                  <a:pt x="0" y="342"/>
                </a:lnTo>
                <a:lnTo>
                  <a:pt x="0" y="253"/>
                </a:lnTo>
                <a:lnTo>
                  <a:pt x="25" y="240"/>
                </a:lnTo>
                <a:lnTo>
                  <a:pt x="63" y="240"/>
                </a:lnTo>
                <a:lnTo>
                  <a:pt x="102" y="240"/>
                </a:lnTo>
                <a:lnTo>
                  <a:pt x="140" y="240"/>
                </a:lnTo>
                <a:lnTo>
                  <a:pt x="178" y="228"/>
                </a:lnTo>
                <a:lnTo>
                  <a:pt x="229" y="228"/>
                </a:lnTo>
                <a:lnTo>
                  <a:pt x="280" y="215"/>
                </a:lnTo>
                <a:lnTo>
                  <a:pt x="331" y="215"/>
                </a:lnTo>
                <a:lnTo>
                  <a:pt x="381" y="202"/>
                </a:lnTo>
                <a:lnTo>
                  <a:pt x="432" y="190"/>
                </a:lnTo>
                <a:lnTo>
                  <a:pt x="496" y="190"/>
                </a:lnTo>
                <a:lnTo>
                  <a:pt x="547" y="177"/>
                </a:lnTo>
                <a:lnTo>
                  <a:pt x="623" y="164"/>
                </a:lnTo>
                <a:lnTo>
                  <a:pt x="687" y="152"/>
                </a:lnTo>
                <a:lnTo>
                  <a:pt x="763" y="139"/>
                </a:lnTo>
                <a:lnTo>
                  <a:pt x="839" y="126"/>
                </a:lnTo>
                <a:lnTo>
                  <a:pt x="916" y="114"/>
                </a:lnTo>
                <a:lnTo>
                  <a:pt x="979" y="101"/>
                </a:lnTo>
                <a:lnTo>
                  <a:pt x="1043" y="101"/>
                </a:lnTo>
                <a:lnTo>
                  <a:pt x="1094" y="88"/>
                </a:lnTo>
                <a:lnTo>
                  <a:pt x="1145" y="88"/>
                </a:lnTo>
                <a:lnTo>
                  <a:pt x="1183" y="76"/>
                </a:lnTo>
                <a:lnTo>
                  <a:pt x="1221" y="76"/>
                </a:lnTo>
                <a:lnTo>
                  <a:pt x="1259" y="76"/>
                </a:lnTo>
                <a:lnTo>
                  <a:pt x="1310" y="63"/>
                </a:lnTo>
                <a:lnTo>
                  <a:pt x="1348" y="50"/>
                </a:lnTo>
                <a:lnTo>
                  <a:pt x="1387" y="38"/>
                </a:lnTo>
                <a:lnTo>
                  <a:pt x="1412" y="25"/>
                </a:lnTo>
                <a:lnTo>
                  <a:pt x="1437" y="12"/>
                </a:lnTo>
                <a:lnTo>
                  <a:pt x="1463" y="12"/>
                </a:lnTo>
                <a:lnTo>
                  <a:pt x="1476" y="0"/>
                </a:lnTo>
                <a:lnTo>
                  <a:pt x="1501" y="12"/>
                </a:lnTo>
                <a:lnTo>
                  <a:pt x="1514" y="12"/>
                </a:lnTo>
                <a:lnTo>
                  <a:pt x="1526" y="25"/>
                </a:lnTo>
                <a:lnTo>
                  <a:pt x="1539" y="38"/>
                </a:lnTo>
                <a:lnTo>
                  <a:pt x="1552" y="50"/>
                </a:lnTo>
                <a:lnTo>
                  <a:pt x="1577" y="63"/>
                </a:lnTo>
                <a:lnTo>
                  <a:pt x="1603" y="76"/>
                </a:lnTo>
                <a:lnTo>
                  <a:pt x="1628" y="101"/>
                </a:lnTo>
                <a:lnTo>
                  <a:pt x="1654" y="114"/>
                </a:lnTo>
                <a:lnTo>
                  <a:pt x="1679" y="139"/>
                </a:lnTo>
                <a:lnTo>
                  <a:pt x="1705" y="164"/>
                </a:lnTo>
                <a:lnTo>
                  <a:pt x="1730" y="177"/>
                </a:lnTo>
                <a:lnTo>
                  <a:pt x="1743" y="190"/>
                </a:lnTo>
                <a:lnTo>
                  <a:pt x="1755" y="202"/>
                </a:lnTo>
                <a:lnTo>
                  <a:pt x="1755" y="215"/>
                </a:lnTo>
                <a:lnTo>
                  <a:pt x="1768" y="228"/>
                </a:lnTo>
                <a:lnTo>
                  <a:pt x="1768" y="240"/>
                </a:lnTo>
                <a:lnTo>
                  <a:pt x="1755" y="253"/>
                </a:lnTo>
                <a:lnTo>
                  <a:pt x="1743" y="266"/>
                </a:lnTo>
                <a:lnTo>
                  <a:pt x="1730" y="266"/>
                </a:lnTo>
                <a:lnTo>
                  <a:pt x="1717" y="266"/>
                </a:lnTo>
                <a:lnTo>
                  <a:pt x="1692" y="266"/>
                </a:lnTo>
                <a:lnTo>
                  <a:pt x="1666" y="266"/>
                </a:lnTo>
                <a:lnTo>
                  <a:pt x="1641" y="278"/>
                </a:lnTo>
                <a:lnTo>
                  <a:pt x="1616" y="278"/>
                </a:lnTo>
                <a:lnTo>
                  <a:pt x="1590" y="291"/>
                </a:lnTo>
                <a:lnTo>
                  <a:pt x="1565" y="291"/>
                </a:lnTo>
                <a:lnTo>
                  <a:pt x="1539" y="304"/>
                </a:lnTo>
                <a:lnTo>
                  <a:pt x="1514" y="329"/>
                </a:lnTo>
                <a:lnTo>
                  <a:pt x="1488" y="342"/>
                </a:lnTo>
                <a:lnTo>
                  <a:pt x="1463" y="367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8" name="Freeform 40"/>
          <p:cNvSpPr/>
          <p:nvPr/>
        </p:nvSpPr>
        <p:spPr>
          <a:xfrm>
            <a:off x="6288120" y="2774880"/>
            <a:ext cx="452160" cy="202680"/>
          </a:xfrm>
          <a:custGeom>
            <a:avLst/>
            <a:gdLst>
              <a:gd name="textAreaLeft" fmla="*/ 0 w 452160"/>
              <a:gd name="textAreaRight" fmla="*/ 452520 w 452160"/>
              <a:gd name="textAreaTop" fmla="*/ 0 h 202680"/>
              <a:gd name="textAreaBottom" fmla="*/ 203040 h 202680"/>
            </a:gdLst>
            <a:ahLst/>
            <a:rect l="textAreaLeft" t="textAreaTop" r="textAreaRight" b="textAreaBottom"/>
            <a:pathLst>
              <a:path w="713" h="241">
                <a:moveTo>
                  <a:pt x="675" y="26"/>
                </a:moveTo>
                <a:lnTo>
                  <a:pt x="688" y="51"/>
                </a:lnTo>
                <a:lnTo>
                  <a:pt x="700" y="64"/>
                </a:lnTo>
                <a:lnTo>
                  <a:pt x="713" y="76"/>
                </a:lnTo>
                <a:lnTo>
                  <a:pt x="713" y="89"/>
                </a:lnTo>
                <a:lnTo>
                  <a:pt x="713" y="102"/>
                </a:lnTo>
                <a:lnTo>
                  <a:pt x="700" y="114"/>
                </a:lnTo>
                <a:lnTo>
                  <a:pt x="688" y="127"/>
                </a:lnTo>
                <a:lnTo>
                  <a:pt x="675" y="140"/>
                </a:lnTo>
                <a:lnTo>
                  <a:pt x="649" y="140"/>
                </a:lnTo>
                <a:lnTo>
                  <a:pt x="637" y="140"/>
                </a:lnTo>
                <a:lnTo>
                  <a:pt x="611" y="152"/>
                </a:lnTo>
                <a:lnTo>
                  <a:pt x="573" y="152"/>
                </a:lnTo>
                <a:lnTo>
                  <a:pt x="548" y="165"/>
                </a:lnTo>
                <a:lnTo>
                  <a:pt x="497" y="178"/>
                </a:lnTo>
                <a:lnTo>
                  <a:pt x="458" y="178"/>
                </a:lnTo>
                <a:lnTo>
                  <a:pt x="408" y="190"/>
                </a:lnTo>
                <a:lnTo>
                  <a:pt x="344" y="203"/>
                </a:lnTo>
                <a:lnTo>
                  <a:pt x="293" y="216"/>
                </a:lnTo>
                <a:lnTo>
                  <a:pt x="255" y="228"/>
                </a:lnTo>
                <a:lnTo>
                  <a:pt x="217" y="228"/>
                </a:lnTo>
                <a:lnTo>
                  <a:pt x="191" y="228"/>
                </a:lnTo>
                <a:lnTo>
                  <a:pt x="166" y="241"/>
                </a:lnTo>
                <a:lnTo>
                  <a:pt x="140" y="228"/>
                </a:lnTo>
                <a:lnTo>
                  <a:pt x="128" y="228"/>
                </a:lnTo>
                <a:lnTo>
                  <a:pt x="115" y="228"/>
                </a:lnTo>
                <a:lnTo>
                  <a:pt x="102" y="228"/>
                </a:lnTo>
                <a:lnTo>
                  <a:pt x="90" y="216"/>
                </a:lnTo>
                <a:lnTo>
                  <a:pt x="64" y="216"/>
                </a:lnTo>
                <a:lnTo>
                  <a:pt x="51" y="203"/>
                </a:lnTo>
                <a:lnTo>
                  <a:pt x="39" y="190"/>
                </a:lnTo>
                <a:lnTo>
                  <a:pt x="26" y="165"/>
                </a:lnTo>
                <a:lnTo>
                  <a:pt x="0" y="152"/>
                </a:lnTo>
                <a:lnTo>
                  <a:pt x="39" y="140"/>
                </a:lnTo>
                <a:lnTo>
                  <a:pt x="217" y="102"/>
                </a:lnTo>
                <a:lnTo>
                  <a:pt x="306" y="76"/>
                </a:lnTo>
                <a:lnTo>
                  <a:pt x="395" y="51"/>
                </a:lnTo>
                <a:lnTo>
                  <a:pt x="433" y="38"/>
                </a:lnTo>
                <a:lnTo>
                  <a:pt x="458" y="26"/>
                </a:lnTo>
                <a:lnTo>
                  <a:pt x="484" y="26"/>
                </a:lnTo>
                <a:lnTo>
                  <a:pt x="522" y="13"/>
                </a:lnTo>
                <a:lnTo>
                  <a:pt x="535" y="13"/>
                </a:lnTo>
                <a:lnTo>
                  <a:pt x="560" y="0"/>
                </a:lnTo>
                <a:lnTo>
                  <a:pt x="573" y="0"/>
                </a:lnTo>
                <a:lnTo>
                  <a:pt x="586" y="0"/>
                </a:lnTo>
                <a:lnTo>
                  <a:pt x="611" y="0"/>
                </a:lnTo>
                <a:lnTo>
                  <a:pt x="637" y="0"/>
                </a:lnTo>
                <a:lnTo>
                  <a:pt x="649" y="13"/>
                </a:lnTo>
                <a:lnTo>
                  <a:pt x="675" y="2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Freeform 41"/>
          <p:cNvSpPr/>
          <p:nvPr/>
        </p:nvSpPr>
        <p:spPr>
          <a:xfrm>
            <a:off x="6102360" y="3138840"/>
            <a:ext cx="637920" cy="257760"/>
          </a:xfrm>
          <a:custGeom>
            <a:avLst/>
            <a:gdLst>
              <a:gd name="textAreaLeft" fmla="*/ 0 w 637920"/>
              <a:gd name="textAreaRight" fmla="*/ 638280 w 637920"/>
              <a:gd name="textAreaTop" fmla="*/ 0 h 257760"/>
              <a:gd name="textAreaBottom" fmla="*/ 258120 h 257760"/>
            </a:gdLst>
            <a:ahLst/>
            <a:rect l="textAreaLeft" t="textAreaTop" r="textAreaRight" b="textAreaBottom"/>
            <a:pathLst>
              <a:path w="1005" h="304">
                <a:moveTo>
                  <a:pt x="153" y="292"/>
                </a:moveTo>
                <a:lnTo>
                  <a:pt x="114" y="304"/>
                </a:lnTo>
                <a:lnTo>
                  <a:pt x="89" y="292"/>
                </a:lnTo>
                <a:lnTo>
                  <a:pt x="63" y="292"/>
                </a:lnTo>
                <a:lnTo>
                  <a:pt x="38" y="266"/>
                </a:lnTo>
                <a:lnTo>
                  <a:pt x="25" y="266"/>
                </a:lnTo>
                <a:lnTo>
                  <a:pt x="13" y="253"/>
                </a:lnTo>
                <a:lnTo>
                  <a:pt x="0" y="241"/>
                </a:lnTo>
                <a:lnTo>
                  <a:pt x="13" y="228"/>
                </a:lnTo>
                <a:lnTo>
                  <a:pt x="13" y="215"/>
                </a:lnTo>
                <a:lnTo>
                  <a:pt x="25" y="215"/>
                </a:lnTo>
                <a:lnTo>
                  <a:pt x="38" y="215"/>
                </a:lnTo>
                <a:lnTo>
                  <a:pt x="51" y="203"/>
                </a:lnTo>
                <a:lnTo>
                  <a:pt x="63" y="203"/>
                </a:lnTo>
                <a:lnTo>
                  <a:pt x="89" y="190"/>
                </a:lnTo>
                <a:lnTo>
                  <a:pt x="102" y="190"/>
                </a:lnTo>
                <a:lnTo>
                  <a:pt x="140" y="177"/>
                </a:lnTo>
                <a:lnTo>
                  <a:pt x="165" y="177"/>
                </a:lnTo>
                <a:lnTo>
                  <a:pt x="191" y="165"/>
                </a:lnTo>
                <a:lnTo>
                  <a:pt x="229" y="152"/>
                </a:lnTo>
                <a:lnTo>
                  <a:pt x="267" y="139"/>
                </a:lnTo>
                <a:lnTo>
                  <a:pt x="318" y="127"/>
                </a:lnTo>
                <a:lnTo>
                  <a:pt x="356" y="114"/>
                </a:lnTo>
                <a:lnTo>
                  <a:pt x="407" y="101"/>
                </a:lnTo>
                <a:lnTo>
                  <a:pt x="458" y="89"/>
                </a:lnTo>
                <a:lnTo>
                  <a:pt x="496" y="76"/>
                </a:lnTo>
                <a:lnTo>
                  <a:pt x="534" y="76"/>
                </a:lnTo>
                <a:lnTo>
                  <a:pt x="585" y="63"/>
                </a:lnTo>
                <a:lnTo>
                  <a:pt x="611" y="51"/>
                </a:lnTo>
                <a:lnTo>
                  <a:pt x="649" y="38"/>
                </a:lnTo>
                <a:lnTo>
                  <a:pt x="687" y="38"/>
                </a:lnTo>
                <a:lnTo>
                  <a:pt x="712" y="25"/>
                </a:lnTo>
                <a:lnTo>
                  <a:pt x="738" y="25"/>
                </a:lnTo>
                <a:lnTo>
                  <a:pt x="763" y="13"/>
                </a:lnTo>
                <a:lnTo>
                  <a:pt x="789" y="13"/>
                </a:lnTo>
                <a:lnTo>
                  <a:pt x="801" y="13"/>
                </a:lnTo>
                <a:lnTo>
                  <a:pt x="827" y="0"/>
                </a:lnTo>
                <a:lnTo>
                  <a:pt x="840" y="0"/>
                </a:lnTo>
                <a:lnTo>
                  <a:pt x="852" y="0"/>
                </a:lnTo>
                <a:lnTo>
                  <a:pt x="865" y="0"/>
                </a:lnTo>
                <a:lnTo>
                  <a:pt x="916" y="0"/>
                </a:lnTo>
                <a:lnTo>
                  <a:pt x="941" y="0"/>
                </a:lnTo>
                <a:lnTo>
                  <a:pt x="967" y="13"/>
                </a:lnTo>
                <a:lnTo>
                  <a:pt x="980" y="25"/>
                </a:lnTo>
                <a:lnTo>
                  <a:pt x="992" y="38"/>
                </a:lnTo>
                <a:lnTo>
                  <a:pt x="1005" y="51"/>
                </a:lnTo>
                <a:lnTo>
                  <a:pt x="1005" y="63"/>
                </a:lnTo>
                <a:lnTo>
                  <a:pt x="992" y="76"/>
                </a:lnTo>
                <a:lnTo>
                  <a:pt x="980" y="76"/>
                </a:lnTo>
                <a:lnTo>
                  <a:pt x="967" y="89"/>
                </a:lnTo>
                <a:lnTo>
                  <a:pt x="954" y="89"/>
                </a:lnTo>
                <a:lnTo>
                  <a:pt x="929" y="101"/>
                </a:lnTo>
                <a:lnTo>
                  <a:pt x="916" y="114"/>
                </a:lnTo>
                <a:lnTo>
                  <a:pt x="890" y="114"/>
                </a:lnTo>
                <a:lnTo>
                  <a:pt x="865" y="127"/>
                </a:lnTo>
                <a:lnTo>
                  <a:pt x="827" y="139"/>
                </a:lnTo>
                <a:lnTo>
                  <a:pt x="801" y="152"/>
                </a:lnTo>
                <a:lnTo>
                  <a:pt x="763" y="152"/>
                </a:lnTo>
                <a:lnTo>
                  <a:pt x="712" y="165"/>
                </a:lnTo>
                <a:lnTo>
                  <a:pt x="674" y="177"/>
                </a:lnTo>
                <a:lnTo>
                  <a:pt x="623" y="190"/>
                </a:lnTo>
                <a:lnTo>
                  <a:pt x="534" y="215"/>
                </a:lnTo>
                <a:lnTo>
                  <a:pt x="458" y="228"/>
                </a:lnTo>
                <a:lnTo>
                  <a:pt x="382" y="241"/>
                </a:lnTo>
                <a:lnTo>
                  <a:pt x="343" y="253"/>
                </a:lnTo>
                <a:lnTo>
                  <a:pt x="318" y="266"/>
                </a:lnTo>
                <a:lnTo>
                  <a:pt x="292" y="266"/>
                </a:lnTo>
                <a:lnTo>
                  <a:pt x="254" y="279"/>
                </a:lnTo>
                <a:lnTo>
                  <a:pt x="242" y="279"/>
                </a:lnTo>
                <a:lnTo>
                  <a:pt x="216" y="279"/>
                </a:lnTo>
                <a:lnTo>
                  <a:pt x="191" y="292"/>
                </a:lnTo>
                <a:lnTo>
                  <a:pt x="178" y="292"/>
                </a:lnTo>
                <a:lnTo>
                  <a:pt x="165" y="292"/>
                </a:lnTo>
                <a:lnTo>
                  <a:pt x="153" y="29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0" name="Freeform 42"/>
          <p:cNvSpPr/>
          <p:nvPr/>
        </p:nvSpPr>
        <p:spPr>
          <a:xfrm>
            <a:off x="6748560" y="3363480"/>
            <a:ext cx="185400" cy="236880"/>
          </a:xfrm>
          <a:custGeom>
            <a:avLst/>
            <a:gdLst>
              <a:gd name="textAreaLeft" fmla="*/ 0 w 185400"/>
              <a:gd name="textAreaRight" fmla="*/ 185760 w 185400"/>
              <a:gd name="textAreaTop" fmla="*/ 0 h 236880"/>
              <a:gd name="textAreaBottom" fmla="*/ 237240 h 236880"/>
            </a:gdLst>
            <a:ahLst/>
            <a:rect l="textAreaLeft" t="textAreaTop" r="textAreaRight" b="textAreaBottom"/>
            <a:pathLst>
              <a:path w="292" h="279">
                <a:moveTo>
                  <a:pt x="12" y="13"/>
                </a:moveTo>
                <a:lnTo>
                  <a:pt x="25" y="13"/>
                </a:lnTo>
                <a:lnTo>
                  <a:pt x="38" y="0"/>
                </a:lnTo>
                <a:lnTo>
                  <a:pt x="51" y="0"/>
                </a:lnTo>
                <a:lnTo>
                  <a:pt x="63" y="0"/>
                </a:lnTo>
                <a:lnTo>
                  <a:pt x="76" y="0"/>
                </a:lnTo>
                <a:lnTo>
                  <a:pt x="101" y="0"/>
                </a:lnTo>
                <a:lnTo>
                  <a:pt x="127" y="0"/>
                </a:lnTo>
                <a:lnTo>
                  <a:pt x="165" y="0"/>
                </a:lnTo>
                <a:lnTo>
                  <a:pt x="203" y="13"/>
                </a:lnTo>
                <a:lnTo>
                  <a:pt x="229" y="38"/>
                </a:lnTo>
                <a:lnTo>
                  <a:pt x="254" y="64"/>
                </a:lnTo>
                <a:lnTo>
                  <a:pt x="267" y="102"/>
                </a:lnTo>
                <a:lnTo>
                  <a:pt x="280" y="127"/>
                </a:lnTo>
                <a:lnTo>
                  <a:pt x="292" y="165"/>
                </a:lnTo>
                <a:lnTo>
                  <a:pt x="292" y="178"/>
                </a:lnTo>
                <a:lnTo>
                  <a:pt x="292" y="203"/>
                </a:lnTo>
                <a:lnTo>
                  <a:pt x="292" y="216"/>
                </a:lnTo>
                <a:lnTo>
                  <a:pt x="280" y="228"/>
                </a:lnTo>
                <a:lnTo>
                  <a:pt x="280" y="241"/>
                </a:lnTo>
                <a:lnTo>
                  <a:pt x="280" y="254"/>
                </a:lnTo>
                <a:lnTo>
                  <a:pt x="254" y="266"/>
                </a:lnTo>
                <a:lnTo>
                  <a:pt x="254" y="279"/>
                </a:lnTo>
                <a:lnTo>
                  <a:pt x="241" y="279"/>
                </a:lnTo>
                <a:lnTo>
                  <a:pt x="229" y="279"/>
                </a:lnTo>
                <a:lnTo>
                  <a:pt x="216" y="266"/>
                </a:lnTo>
                <a:lnTo>
                  <a:pt x="203" y="254"/>
                </a:lnTo>
                <a:lnTo>
                  <a:pt x="191" y="241"/>
                </a:lnTo>
                <a:lnTo>
                  <a:pt x="178" y="228"/>
                </a:lnTo>
                <a:lnTo>
                  <a:pt x="152" y="203"/>
                </a:lnTo>
                <a:lnTo>
                  <a:pt x="114" y="165"/>
                </a:lnTo>
                <a:lnTo>
                  <a:pt x="76" y="140"/>
                </a:lnTo>
                <a:lnTo>
                  <a:pt x="51" y="102"/>
                </a:lnTo>
                <a:lnTo>
                  <a:pt x="38" y="76"/>
                </a:lnTo>
                <a:lnTo>
                  <a:pt x="12" y="51"/>
                </a:lnTo>
                <a:lnTo>
                  <a:pt x="12" y="38"/>
                </a:lnTo>
                <a:lnTo>
                  <a:pt x="0" y="26"/>
                </a:lnTo>
                <a:lnTo>
                  <a:pt x="12" y="1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1" name="Freeform 43"/>
          <p:cNvSpPr/>
          <p:nvPr/>
        </p:nvSpPr>
        <p:spPr>
          <a:xfrm>
            <a:off x="6781680" y="2967480"/>
            <a:ext cx="620280" cy="202680"/>
          </a:xfrm>
          <a:custGeom>
            <a:avLst/>
            <a:gdLst>
              <a:gd name="textAreaLeft" fmla="*/ 0 w 620280"/>
              <a:gd name="textAreaRight" fmla="*/ 620640 w 620280"/>
              <a:gd name="textAreaTop" fmla="*/ 0 h 202680"/>
              <a:gd name="textAreaBottom" fmla="*/ 203040 h 202680"/>
            </a:gdLst>
            <a:ahLst/>
            <a:rect l="textAreaLeft" t="textAreaTop" r="textAreaRight" b="textAreaBottom"/>
            <a:pathLst>
              <a:path w="979" h="241">
                <a:moveTo>
                  <a:pt x="534" y="190"/>
                </a:moveTo>
                <a:lnTo>
                  <a:pt x="483" y="203"/>
                </a:lnTo>
                <a:lnTo>
                  <a:pt x="432" y="203"/>
                </a:lnTo>
                <a:lnTo>
                  <a:pt x="381" y="216"/>
                </a:lnTo>
                <a:lnTo>
                  <a:pt x="343" y="216"/>
                </a:lnTo>
                <a:lnTo>
                  <a:pt x="305" y="216"/>
                </a:lnTo>
                <a:lnTo>
                  <a:pt x="267" y="228"/>
                </a:lnTo>
                <a:lnTo>
                  <a:pt x="229" y="228"/>
                </a:lnTo>
                <a:lnTo>
                  <a:pt x="203" y="228"/>
                </a:lnTo>
                <a:lnTo>
                  <a:pt x="178" y="241"/>
                </a:lnTo>
                <a:lnTo>
                  <a:pt x="152" y="241"/>
                </a:lnTo>
                <a:lnTo>
                  <a:pt x="127" y="241"/>
                </a:lnTo>
                <a:lnTo>
                  <a:pt x="114" y="241"/>
                </a:lnTo>
                <a:lnTo>
                  <a:pt x="101" y="241"/>
                </a:lnTo>
                <a:lnTo>
                  <a:pt x="89" y="241"/>
                </a:lnTo>
                <a:lnTo>
                  <a:pt x="76" y="241"/>
                </a:lnTo>
                <a:lnTo>
                  <a:pt x="63" y="241"/>
                </a:lnTo>
                <a:lnTo>
                  <a:pt x="50" y="241"/>
                </a:lnTo>
                <a:lnTo>
                  <a:pt x="38" y="228"/>
                </a:lnTo>
                <a:lnTo>
                  <a:pt x="25" y="216"/>
                </a:lnTo>
                <a:lnTo>
                  <a:pt x="12" y="203"/>
                </a:lnTo>
                <a:lnTo>
                  <a:pt x="0" y="190"/>
                </a:lnTo>
                <a:lnTo>
                  <a:pt x="0" y="178"/>
                </a:lnTo>
                <a:lnTo>
                  <a:pt x="12" y="178"/>
                </a:lnTo>
                <a:lnTo>
                  <a:pt x="25" y="165"/>
                </a:lnTo>
                <a:lnTo>
                  <a:pt x="38" y="165"/>
                </a:lnTo>
                <a:lnTo>
                  <a:pt x="50" y="165"/>
                </a:lnTo>
                <a:lnTo>
                  <a:pt x="76" y="152"/>
                </a:lnTo>
                <a:lnTo>
                  <a:pt x="101" y="152"/>
                </a:lnTo>
                <a:lnTo>
                  <a:pt x="127" y="140"/>
                </a:lnTo>
                <a:lnTo>
                  <a:pt x="152" y="140"/>
                </a:lnTo>
                <a:lnTo>
                  <a:pt x="178" y="127"/>
                </a:lnTo>
                <a:lnTo>
                  <a:pt x="216" y="127"/>
                </a:lnTo>
                <a:lnTo>
                  <a:pt x="254" y="114"/>
                </a:lnTo>
                <a:lnTo>
                  <a:pt x="292" y="102"/>
                </a:lnTo>
                <a:lnTo>
                  <a:pt x="330" y="102"/>
                </a:lnTo>
                <a:lnTo>
                  <a:pt x="381" y="89"/>
                </a:lnTo>
                <a:lnTo>
                  <a:pt x="419" y="76"/>
                </a:lnTo>
                <a:lnTo>
                  <a:pt x="470" y="64"/>
                </a:lnTo>
                <a:lnTo>
                  <a:pt x="547" y="51"/>
                </a:lnTo>
                <a:lnTo>
                  <a:pt x="610" y="38"/>
                </a:lnTo>
                <a:lnTo>
                  <a:pt x="674" y="26"/>
                </a:lnTo>
                <a:lnTo>
                  <a:pt x="725" y="13"/>
                </a:lnTo>
                <a:lnTo>
                  <a:pt x="763" y="13"/>
                </a:lnTo>
                <a:lnTo>
                  <a:pt x="801" y="0"/>
                </a:lnTo>
                <a:lnTo>
                  <a:pt x="827" y="0"/>
                </a:lnTo>
                <a:lnTo>
                  <a:pt x="852" y="13"/>
                </a:lnTo>
                <a:lnTo>
                  <a:pt x="877" y="13"/>
                </a:lnTo>
                <a:lnTo>
                  <a:pt x="903" y="13"/>
                </a:lnTo>
                <a:lnTo>
                  <a:pt x="928" y="26"/>
                </a:lnTo>
                <a:lnTo>
                  <a:pt x="954" y="38"/>
                </a:lnTo>
                <a:lnTo>
                  <a:pt x="966" y="51"/>
                </a:lnTo>
                <a:lnTo>
                  <a:pt x="979" y="64"/>
                </a:lnTo>
                <a:lnTo>
                  <a:pt x="979" y="89"/>
                </a:lnTo>
                <a:lnTo>
                  <a:pt x="966" y="102"/>
                </a:lnTo>
                <a:lnTo>
                  <a:pt x="954" y="114"/>
                </a:lnTo>
                <a:lnTo>
                  <a:pt x="941" y="114"/>
                </a:lnTo>
                <a:lnTo>
                  <a:pt x="916" y="127"/>
                </a:lnTo>
                <a:lnTo>
                  <a:pt x="890" y="127"/>
                </a:lnTo>
                <a:lnTo>
                  <a:pt x="865" y="140"/>
                </a:lnTo>
                <a:lnTo>
                  <a:pt x="839" y="140"/>
                </a:lnTo>
                <a:lnTo>
                  <a:pt x="801" y="152"/>
                </a:lnTo>
                <a:lnTo>
                  <a:pt x="776" y="152"/>
                </a:lnTo>
                <a:lnTo>
                  <a:pt x="725" y="165"/>
                </a:lnTo>
                <a:lnTo>
                  <a:pt x="687" y="178"/>
                </a:lnTo>
                <a:lnTo>
                  <a:pt x="636" y="178"/>
                </a:lnTo>
                <a:lnTo>
                  <a:pt x="585" y="190"/>
                </a:lnTo>
                <a:lnTo>
                  <a:pt x="534" y="19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Freeform 44"/>
          <p:cNvSpPr/>
          <p:nvPr/>
        </p:nvSpPr>
        <p:spPr>
          <a:xfrm>
            <a:off x="6886440" y="2719800"/>
            <a:ext cx="274320" cy="1362600"/>
          </a:xfrm>
          <a:custGeom>
            <a:avLst/>
            <a:gdLst>
              <a:gd name="textAreaLeft" fmla="*/ 0 w 274320"/>
              <a:gd name="textAreaRight" fmla="*/ 274680 w 274320"/>
              <a:gd name="textAreaTop" fmla="*/ 0 h 1362600"/>
              <a:gd name="textAreaBottom" fmla="*/ 1362960 h 1362600"/>
            </a:gdLst>
            <a:ahLst/>
            <a:rect l="textAreaLeft" t="textAreaTop" r="textAreaRight" b="textAreaBottom"/>
            <a:pathLst>
              <a:path w="433" h="1609">
                <a:moveTo>
                  <a:pt x="369" y="63"/>
                </a:moveTo>
                <a:lnTo>
                  <a:pt x="394" y="76"/>
                </a:lnTo>
                <a:lnTo>
                  <a:pt x="420" y="89"/>
                </a:lnTo>
                <a:lnTo>
                  <a:pt x="433" y="114"/>
                </a:lnTo>
                <a:lnTo>
                  <a:pt x="433" y="127"/>
                </a:lnTo>
                <a:lnTo>
                  <a:pt x="433" y="152"/>
                </a:lnTo>
                <a:lnTo>
                  <a:pt x="433" y="177"/>
                </a:lnTo>
                <a:lnTo>
                  <a:pt x="433" y="203"/>
                </a:lnTo>
                <a:lnTo>
                  <a:pt x="420" y="228"/>
                </a:lnTo>
                <a:lnTo>
                  <a:pt x="420" y="241"/>
                </a:lnTo>
                <a:lnTo>
                  <a:pt x="420" y="266"/>
                </a:lnTo>
                <a:lnTo>
                  <a:pt x="420" y="291"/>
                </a:lnTo>
                <a:lnTo>
                  <a:pt x="420" y="317"/>
                </a:lnTo>
                <a:lnTo>
                  <a:pt x="420" y="355"/>
                </a:lnTo>
                <a:lnTo>
                  <a:pt x="420" y="393"/>
                </a:lnTo>
                <a:lnTo>
                  <a:pt x="420" y="431"/>
                </a:lnTo>
                <a:lnTo>
                  <a:pt x="420" y="481"/>
                </a:lnTo>
                <a:lnTo>
                  <a:pt x="420" y="532"/>
                </a:lnTo>
                <a:lnTo>
                  <a:pt x="420" y="595"/>
                </a:lnTo>
                <a:lnTo>
                  <a:pt x="420" y="659"/>
                </a:lnTo>
                <a:lnTo>
                  <a:pt x="420" y="735"/>
                </a:lnTo>
                <a:lnTo>
                  <a:pt x="420" y="798"/>
                </a:lnTo>
                <a:lnTo>
                  <a:pt x="420" y="887"/>
                </a:lnTo>
                <a:lnTo>
                  <a:pt x="420" y="963"/>
                </a:lnTo>
                <a:lnTo>
                  <a:pt x="420" y="1052"/>
                </a:lnTo>
                <a:lnTo>
                  <a:pt x="433" y="1140"/>
                </a:lnTo>
                <a:lnTo>
                  <a:pt x="433" y="1216"/>
                </a:lnTo>
                <a:lnTo>
                  <a:pt x="433" y="1292"/>
                </a:lnTo>
                <a:lnTo>
                  <a:pt x="420" y="1356"/>
                </a:lnTo>
                <a:lnTo>
                  <a:pt x="420" y="1406"/>
                </a:lnTo>
                <a:lnTo>
                  <a:pt x="407" y="1444"/>
                </a:lnTo>
                <a:lnTo>
                  <a:pt x="407" y="1482"/>
                </a:lnTo>
                <a:lnTo>
                  <a:pt x="394" y="1508"/>
                </a:lnTo>
                <a:lnTo>
                  <a:pt x="382" y="1533"/>
                </a:lnTo>
                <a:lnTo>
                  <a:pt x="369" y="1546"/>
                </a:lnTo>
                <a:lnTo>
                  <a:pt x="356" y="1571"/>
                </a:lnTo>
                <a:lnTo>
                  <a:pt x="343" y="1584"/>
                </a:lnTo>
                <a:lnTo>
                  <a:pt x="331" y="1596"/>
                </a:lnTo>
                <a:lnTo>
                  <a:pt x="318" y="1609"/>
                </a:lnTo>
                <a:lnTo>
                  <a:pt x="305" y="1609"/>
                </a:lnTo>
                <a:lnTo>
                  <a:pt x="293" y="1609"/>
                </a:lnTo>
                <a:lnTo>
                  <a:pt x="280" y="1596"/>
                </a:lnTo>
                <a:lnTo>
                  <a:pt x="267" y="1584"/>
                </a:lnTo>
                <a:lnTo>
                  <a:pt x="267" y="1571"/>
                </a:lnTo>
                <a:lnTo>
                  <a:pt x="254" y="1558"/>
                </a:lnTo>
                <a:lnTo>
                  <a:pt x="242" y="1546"/>
                </a:lnTo>
                <a:lnTo>
                  <a:pt x="229" y="1508"/>
                </a:lnTo>
                <a:lnTo>
                  <a:pt x="204" y="1470"/>
                </a:lnTo>
                <a:lnTo>
                  <a:pt x="165" y="1444"/>
                </a:lnTo>
                <a:lnTo>
                  <a:pt x="114" y="1406"/>
                </a:lnTo>
                <a:lnTo>
                  <a:pt x="89" y="1394"/>
                </a:lnTo>
                <a:lnTo>
                  <a:pt x="64" y="1381"/>
                </a:lnTo>
                <a:lnTo>
                  <a:pt x="51" y="1368"/>
                </a:lnTo>
                <a:lnTo>
                  <a:pt x="25" y="1356"/>
                </a:lnTo>
                <a:lnTo>
                  <a:pt x="13" y="1343"/>
                </a:lnTo>
                <a:lnTo>
                  <a:pt x="13" y="1330"/>
                </a:lnTo>
                <a:lnTo>
                  <a:pt x="0" y="1330"/>
                </a:lnTo>
                <a:lnTo>
                  <a:pt x="0" y="1318"/>
                </a:lnTo>
                <a:lnTo>
                  <a:pt x="13" y="1318"/>
                </a:lnTo>
                <a:lnTo>
                  <a:pt x="25" y="1318"/>
                </a:lnTo>
                <a:lnTo>
                  <a:pt x="51" y="1318"/>
                </a:lnTo>
                <a:lnTo>
                  <a:pt x="64" y="1318"/>
                </a:lnTo>
                <a:lnTo>
                  <a:pt x="89" y="1318"/>
                </a:lnTo>
                <a:lnTo>
                  <a:pt x="114" y="1318"/>
                </a:lnTo>
                <a:lnTo>
                  <a:pt x="140" y="1330"/>
                </a:lnTo>
                <a:lnTo>
                  <a:pt x="165" y="1330"/>
                </a:lnTo>
                <a:lnTo>
                  <a:pt x="191" y="1330"/>
                </a:lnTo>
                <a:lnTo>
                  <a:pt x="204" y="1330"/>
                </a:lnTo>
                <a:lnTo>
                  <a:pt x="229" y="1330"/>
                </a:lnTo>
                <a:lnTo>
                  <a:pt x="242" y="1318"/>
                </a:lnTo>
                <a:lnTo>
                  <a:pt x="254" y="1318"/>
                </a:lnTo>
                <a:lnTo>
                  <a:pt x="254" y="1305"/>
                </a:lnTo>
                <a:lnTo>
                  <a:pt x="267" y="1305"/>
                </a:lnTo>
                <a:lnTo>
                  <a:pt x="267" y="1292"/>
                </a:lnTo>
                <a:lnTo>
                  <a:pt x="280" y="1267"/>
                </a:lnTo>
                <a:lnTo>
                  <a:pt x="280" y="1242"/>
                </a:lnTo>
                <a:lnTo>
                  <a:pt x="293" y="1216"/>
                </a:lnTo>
                <a:lnTo>
                  <a:pt x="293" y="1178"/>
                </a:lnTo>
                <a:lnTo>
                  <a:pt x="293" y="1140"/>
                </a:lnTo>
                <a:lnTo>
                  <a:pt x="305" y="1102"/>
                </a:lnTo>
                <a:lnTo>
                  <a:pt x="305" y="1052"/>
                </a:lnTo>
                <a:lnTo>
                  <a:pt x="305" y="988"/>
                </a:lnTo>
                <a:lnTo>
                  <a:pt x="305" y="938"/>
                </a:lnTo>
                <a:lnTo>
                  <a:pt x="305" y="874"/>
                </a:lnTo>
                <a:lnTo>
                  <a:pt x="305" y="811"/>
                </a:lnTo>
                <a:lnTo>
                  <a:pt x="305" y="735"/>
                </a:lnTo>
                <a:lnTo>
                  <a:pt x="305" y="671"/>
                </a:lnTo>
                <a:lnTo>
                  <a:pt x="305" y="583"/>
                </a:lnTo>
                <a:lnTo>
                  <a:pt x="305" y="519"/>
                </a:lnTo>
                <a:lnTo>
                  <a:pt x="293" y="456"/>
                </a:lnTo>
                <a:lnTo>
                  <a:pt x="293" y="393"/>
                </a:lnTo>
                <a:lnTo>
                  <a:pt x="293" y="329"/>
                </a:lnTo>
                <a:lnTo>
                  <a:pt x="280" y="291"/>
                </a:lnTo>
                <a:lnTo>
                  <a:pt x="280" y="253"/>
                </a:lnTo>
                <a:lnTo>
                  <a:pt x="280" y="215"/>
                </a:lnTo>
                <a:lnTo>
                  <a:pt x="267" y="190"/>
                </a:lnTo>
                <a:lnTo>
                  <a:pt x="254" y="152"/>
                </a:lnTo>
                <a:lnTo>
                  <a:pt x="242" y="114"/>
                </a:lnTo>
                <a:lnTo>
                  <a:pt x="229" y="89"/>
                </a:lnTo>
                <a:lnTo>
                  <a:pt x="216" y="76"/>
                </a:lnTo>
                <a:lnTo>
                  <a:pt x="204" y="76"/>
                </a:lnTo>
                <a:lnTo>
                  <a:pt x="191" y="51"/>
                </a:lnTo>
                <a:lnTo>
                  <a:pt x="191" y="38"/>
                </a:lnTo>
                <a:lnTo>
                  <a:pt x="191" y="25"/>
                </a:lnTo>
                <a:lnTo>
                  <a:pt x="191" y="13"/>
                </a:lnTo>
                <a:lnTo>
                  <a:pt x="204" y="13"/>
                </a:lnTo>
                <a:lnTo>
                  <a:pt x="229" y="0"/>
                </a:lnTo>
                <a:lnTo>
                  <a:pt x="254" y="13"/>
                </a:lnTo>
                <a:lnTo>
                  <a:pt x="280" y="25"/>
                </a:lnTo>
                <a:lnTo>
                  <a:pt x="318" y="25"/>
                </a:lnTo>
                <a:lnTo>
                  <a:pt x="343" y="38"/>
                </a:lnTo>
                <a:lnTo>
                  <a:pt x="369" y="6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Freeform 45"/>
          <p:cNvSpPr/>
          <p:nvPr/>
        </p:nvSpPr>
        <p:spPr>
          <a:xfrm>
            <a:off x="6539040" y="3268080"/>
            <a:ext cx="1050480" cy="1051560"/>
          </a:xfrm>
          <a:custGeom>
            <a:avLst/>
            <a:gdLst>
              <a:gd name="textAreaLeft" fmla="*/ 0 w 1050480"/>
              <a:gd name="textAreaRight" fmla="*/ 1050840 w 1050480"/>
              <a:gd name="textAreaTop" fmla="*/ 0 h 1051560"/>
              <a:gd name="textAreaBottom" fmla="*/ 1051920 h 1051560"/>
            </a:gdLst>
            <a:ahLst/>
            <a:rect l="textAreaLeft" t="textAreaTop" r="textAreaRight" b="textAreaBottom"/>
            <a:pathLst>
              <a:path w="1654" h="1242">
                <a:moveTo>
                  <a:pt x="343" y="1204"/>
                </a:moveTo>
                <a:lnTo>
                  <a:pt x="305" y="1191"/>
                </a:lnTo>
                <a:lnTo>
                  <a:pt x="267" y="1179"/>
                </a:lnTo>
                <a:lnTo>
                  <a:pt x="229" y="1166"/>
                </a:lnTo>
                <a:lnTo>
                  <a:pt x="203" y="1153"/>
                </a:lnTo>
                <a:lnTo>
                  <a:pt x="165" y="1141"/>
                </a:lnTo>
                <a:lnTo>
                  <a:pt x="140" y="1115"/>
                </a:lnTo>
                <a:lnTo>
                  <a:pt x="114" y="1090"/>
                </a:lnTo>
                <a:lnTo>
                  <a:pt x="102" y="1065"/>
                </a:lnTo>
                <a:lnTo>
                  <a:pt x="76" y="1039"/>
                </a:lnTo>
                <a:lnTo>
                  <a:pt x="63" y="1001"/>
                </a:lnTo>
                <a:lnTo>
                  <a:pt x="51" y="976"/>
                </a:lnTo>
                <a:lnTo>
                  <a:pt x="38" y="938"/>
                </a:lnTo>
                <a:lnTo>
                  <a:pt x="13" y="874"/>
                </a:lnTo>
                <a:lnTo>
                  <a:pt x="13" y="798"/>
                </a:lnTo>
                <a:lnTo>
                  <a:pt x="0" y="748"/>
                </a:lnTo>
                <a:lnTo>
                  <a:pt x="0" y="710"/>
                </a:lnTo>
                <a:lnTo>
                  <a:pt x="0" y="659"/>
                </a:lnTo>
                <a:lnTo>
                  <a:pt x="0" y="608"/>
                </a:lnTo>
                <a:lnTo>
                  <a:pt x="0" y="558"/>
                </a:lnTo>
                <a:lnTo>
                  <a:pt x="0" y="507"/>
                </a:lnTo>
                <a:lnTo>
                  <a:pt x="0" y="456"/>
                </a:lnTo>
                <a:lnTo>
                  <a:pt x="13" y="393"/>
                </a:lnTo>
                <a:lnTo>
                  <a:pt x="13" y="330"/>
                </a:lnTo>
                <a:lnTo>
                  <a:pt x="13" y="279"/>
                </a:lnTo>
                <a:lnTo>
                  <a:pt x="13" y="216"/>
                </a:lnTo>
                <a:lnTo>
                  <a:pt x="13" y="165"/>
                </a:lnTo>
                <a:lnTo>
                  <a:pt x="13" y="127"/>
                </a:lnTo>
                <a:lnTo>
                  <a:pt x="13" y="76"/>
                </a:lnTo>
                <a:lnTo>
                  <a:pt x="13" y="38"/>
                </a:lnTo>
                <a:lnTo>
                  <a:pt x="13" y="0"/>
                </a:lnTo>
                <a:lnTo>
                  <a:pt x="51" y="25"/>
                </a:lnTo>
                <a:lnTo>
                  <a:pt x="89" y="38"/>
                </a:lnTo>
                <a:lnTo>
                  <a:pt x="114" y="63"/>
                </a:lnTo>
                <a:lnTo>
                  <a:pt x="153" y="76"/>
                </a:lnTo>
                <a:lnTo>
                  <a:pt x="165" y="89"/>
                </a:lnTo>
                <a:lnTo>
                  <a:pt x="178" y="101"/>
                </a:lnTo>
                <a:lnTo>
                  <a:pt x="191" y="114"/>
                </a:lnTo>
                <a:lnTo>
                  <a:pt x="191" y="127"/>
                </a:lnTo>
                <a:lnTo>
                  <a:pt x="178" y="152"/>
                </a:lnTo>
                <a:lnTo>
                  <a:pt x="178" y="165"/>
                </a:lnTo>
                <a:lnTo>
                  <a:pt x="165" y="190"/>
                </a:lnTo>
                <a:lnTo>
                  <a:pt x="165" y="216"/>
                </a:lnTo>
                <a:lnTo>
                  <a:pt x="153" y="254"/>
                </a:lnTo>
                <a:lnTo>
                  <a:pt x="153" y="292"/>
                </a:lnTo>
                <a:lnTo>
                  <a:pt x="140" y="330"/>
                </a:lnTo>
                <a:lnTo>
                  <a:pt x="127" y="380"/>
                </a:lnTo>
                <a:lnTo>
                  <a:pt x="114" y="469"/>
                </a:lnTo>
                <a:lnTo>
                  <a:pt x="102" y="570"/>
                </a:lnTo>
                <a:lnTo>
                  <a:pt x="102" y="646"/>
                </a:lnTo>
                <a:lnTo>
                  <a:pt x="102" y="735"/>
                </a:lnTo>
                <a:lnTo>
                  <a:pt x="114" y="773"/>
                </a:lnTo>
                <a:lnTo>
                  <a:pt x="114" y="811"/>
                </a:lnTo>
                <a:lnTo>
                  <a:pt x="127" y="849"/>
                </a:lnTo>
                <a:lnTo>
                  <a:pt x="140" y="874"/>
                </a:lnTo>
                <a:lnTo>
                  <a:pt x="165" y="900"/>
                </a:lnTo>
                <a:lnTo>
                  <a:pt x="178" y="925"/>
                </a:lnTo>
                <a:lnTo>
                  <a:pt x="203" y="950"/>
                </a:lnTo>
                <a:lnTo>
                  <a:pt x="229" y="976"/>
                </a:lnTo>
                <a:lnTo>
                  <a:pt x="254" y="988"/>
                </a:lnTo>
                <a:lnTo>
                  <a:pt x="293" y="1014"/>
                </a:lnTo>
                <a:lnTo>
                  <a:pt x="331" y="1026"/>
                </a:lnTo>
                <a:lnTo>
                  <a:pt x="369" y="1039"/>
                </a:lnTo>
                <a:lnTo>
                  <a:pt x="420" y="1039"/>
                </a:lnTo>
                <a:lnTo>
                  <a:pt x="471" y="1052"/>
                </a:lnTo>
                <a:lnTo>
                  <a:pt x="522" y="1065"/>
                </a:lnTo>
                <a:lnTo>
                  <a:pt x="572" y="1065"/>
                </a:lnTo>
                <a:lnTo>
                  <a:pt x="687" y="1077"/>
                </a:lnTo>
                <a:lnTo>
                  <a:pt x="801" y="1077"/>
                </a:lnTo>
                <a:lnTo>
                  <a:pt x="929" y="1065"/>
                </a:lnTo>
                <a:lnTo>
                  <a:pt x="1056" y="1052"/>
                </a:lnTo>
                <a:lnTo>
                  <a:pt x="1107" y="1039"/>
                </a:lnTo>
                <a:lnTo>
                  <a:pt x="1158" y="1039"/>
                </a:lnTo>
                <a:lnTo>
                  <a:pt x="1209" y="1026"/>
                </a:lnTo>
                <a:lnTo>
                  <a:pt x="1259" y="1014"/>
                </a:lnTo>
                <a:lnTo>
                  <a:pt x="1285" y="1001"/>
                </a:lnTo>
                <a:lnTo>
                  <a:pt x="1323" y="988"/>
                </a:lnTo>
                <a:lnTo>
                  <a:pt x="1348" y="976"/>
                </a:lnTo>
                <a:lnTo>
                  <a:pt x="1361" y="963"/>
                </a:lnTo>
                <a:lnTo>
                  <a:pt x="1374" y="938"/>
                </a:lnTo>
                <a:lnTo>
                  <a:pt x="1387" y="925"/>
                </a:lnTo>
                <a:lnTo>
                  <a:pt x="1399" y="900"/>
                </a:lnTo>
                <a:lnTo>
                  <a:pt x="1412" y="862"/>
                </a:lnTo>
                <a:lnTo>
                  <a:pt x="1412" y="824"/>
                </a:lnTo>
                <a:lnTo>
                  <a:pt x="1425" y="786"/>
                </a:lnTo>
                <a:lnTo>
                  <a:pt x="1438" y="748"/>
                </a:lnTo>
                <a:lnTo>
                  <a:pt x="1438" y="697"/>
                </a:lnTo>
                <a:lnTo>
                  <a:pt x="1438" y="646"/>
                </a:lnTo>
                <a:lnTo>
                  <a:pt x="1450" y="608"/>
                </a:lnTo>
                <a:lnTo>
                  <a:pt x="1450" y="583"/>
                </a:lnTo>
                <a:lnTo>
                  <a:pt x="1450" y="545"/>
                </a:lnTo>
                <a:lnTo>
                  <a:pt x="1463" y="520"/>
                </a:lnTo>
                <a:lnTo>
                  <a:pt x="1463" y="507"/>
                </a:lnTo>
                <a:lnTo>
                  <a:pt x="1463" y="494"/>
                </a:lnTo>
                <a:lnTo>
                  <a:pt x="1476" y="482"/>
                </a:lnTo>
                <a:lnTo>
                  <a:pt x="1476" y="494"/>
                </a:lnTo>
                <a:lnTo>
                  <a:pt x="1488" y="507"/>
                </a:lnTo>
                <a:lnTo>
                  <a:pt x="1501" y="532"/>
                </a:lnTo>
                <a:lnTo>
                  <a:pt x="1501" y="558"/>
                </a:lnTo>
                <a:lnTo>
                  <a:pt x="1514" y="583"/>
                </a:lnTo>
                <a:lnTo>
                  <a:pt x="1527" y="621"/>
                </a:lnTo>
                <a:lnTo>
                  <a:pt x="1539" y="659"/>
                </a:lnTo>
                <a:lnTo>
                  <a:pt x="1552" y="710"/>
                </a:lnTo>
                <a:lnTo>
                  <a:pt x="1552" y="748"/>
                </a:lnTo>
                <a:lnTo>
                  <a:pt x="1565" y="786"/>
                </a:lnTo>
                <a:lnTo>
                  <a:pt x="1577" y="811"/>
                </a:lnTo>
                <a:lnTo>
                  <a:pt x="1590" y="849"/>
                </a:lnTo>
                <a:lnTo>
                  <a:pt x="1603" y="874"/>
                </a:lnTo>
                <a:lnTo>
                  <a:pt x="1616" y="887"/>
                </a:lnTo>
                <a:lnTo>
                  <a:pt x="1628" y="912"/>
                </a:lnTo>
                <a:lnTo>
                  <a:pt x="1641" y="938"/>
                </a:lnTo>
                <a:lnTo>
                  <a:pt x="1641" y="950"/>
                </a:lnTo>
                <a:lnTo>
                  <a:pt x="1654" y="976"/>
                </a:lnTo>
                <a:lnTo>
                  <a:pt x="1654" y="988"/>
                </a:lnTo>
                <a:lnTo>
                  <a:pt x="1654" y="1014"/>
                </a:lnTo>
                <a:lnTo>
                  <a:pt x="1641" y="1026"/>
                </a:lnTo>
                <a:lnTo>
                  <a:pt x="1641" y="1052"/>
                </a:lnTo>
                <a:lnTo>
                  <a:pt x="1628" y="1065"/>
                </a:lnTo>
                <a:lnTo>
                  <a:pt x="1616" y="1077"/>
                </a:lnTo>
                <a:lnTo>
                  <a:pt x="1590" y="1103"/>
                </a:lnTo>
                <a:lnTo>
                  <a:pt x="1577" y="1115"/>
                </a:lnTo>
                <a:lnTo>
                  <a:pt x="1552" y="1128"/>
                </a:lnTo>
                <a:lnTo>
                  <a:pt x="1501" y="1153"/>
                </a:lnTo>
                <a:lnTo>
                  <a:pt x="1450" y="1166"/>
                </a:lnTo>
                <a:lnTo>
                  <a:pt x="1412" y="1179"/>
                </a:lnTo>
                <a:lnTo>
                  <a:pt x="1387" y="1191"/>
                </a:lnTo>
                <a:lnTo>
                  <a:pt x="1336" y="1191"/>
                </a:lnTo>
                <a:lnTo>
                  <a:pt x="1298" y="1204"/>
                </a:lnTo>
                <a:lnTo>
                  <a:pt x="1247" y="1217"/>
                </a:lnTo>
                <a:lnTo>
                  <a:pt x="1183" y="1217"/>
                </a:lnTo>
                <a:lnTo>
                  <a:pt x="1119" y="1229"/>
                </a:lnTo>
                <a:lnTo>
                  <a:pt x="1056" y="1229"/>
                </a:lnTo>
                <a:lnTo>
                  <a:pt x="992" y="1229"/>
                </a:lnTo>
                <a:lnTo>
                  <a:pt x="941" y="1242"/>
                </a:lnTo>
                <a:lnTo>
                  <a:pt x="878" y="1242"/>
                </a:lnTo>
                <a:lnTo>
                  <a:pt x="827" y="1242"/>
                </a:lnTo>
                <a:lnTo>
                  <a:pt x="776" y="1242"/>
                </a:lnTo>
                <a:lnTo>
                  <a:pt x="738" y="1242"/>
                </a:lnTo>
                <a:lnTo>
                  <a:pt x="687" y="1242"/>
                </a:lnTo>
                <a:lnTo>
                  <a:pt x="649" y="1242"/>
                </a:lnTo>
                <a:lnTo>
                  <a:pt x="496" y="1229"/>
                </a:lnTo>
                <a:lnTo>
                  <a:pt x="420" y="1217"/>
                </a:lnTo>
                <a:lnTo>
                  <a:pt x="343" y="1204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4" name="Freeform 46"/>
          <p:cNvSpPr/>
          <p:nvPr/>
        </p:nvSpPr>
        <p:spPr>
          <a:xfrm>
            <a:off x="5950080" y="3257640"/>
            <a:ext cx="523440" cy="878040"/>
          </a:xfrm>
          <a:custGeom>
            <a:avLst/>
            <a:gdLst>
              <a:gd name="textAreaLeft" fmla="*/ 0 w 523440"/>
              <a:gd name="textAreaRight" fmla="*/ 523800 w 52344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827" h="1039">
                <a:moveTo>
                  <a:pt x="102" y="925"/>
                </a:moveTo>
                <a:lnTo>
                  <a:pt x="140" y="900"/>
                </a:lnTo>
                <a:lnTo>
                  <a:pt x="166" y="875"/>
                </a:lnTo>
                <a:lnTo>
                  <a:pt x="204" y="837"/>
                </a:lnTo>
                <a:lnTo>
                  <a:pt x="242" y="799"/>
                </a:lnTo>
                <a:lnTo>
                  <a:pt x="280" y="761"/>
                </a:lnTo>
                <a:lnTo>
                  <a:pt x="318" y="710"/>
                </a:lnTo>
                <a:lnTo>
                  <a:pt x="356" y="659"/>
                </a:lnTo>
                <a:lnTo>
                  <a:pt x="395" y="609"/>
                </a:lnTo>
                <a:lnTo>
                  <a:pt x="433" y="545"/>
                </a:lnTo>
                <a:lnTo>
                  <a:pt x="471" y="495"/>
                </a:lnTo>
                <a:lnTo>
                  <a:pt x="509" y="431"/>
                </a:lnTo>
                <a:lnTo>
                  <a:pt x="534" y="355"/>
                </a:lnTo>
                <a:lnTo>
                  <a:pt x="560" y="292"/>
                </a:lnTo>
                <a:lnTo>
                  <a:pt x="598" y="216"/>
                </a:lnTo>
                <a:lnTo>
                  <a:pt x="611" y="127"/>
                </a:lnTo>
                <a:lnTo>
                  <a:pt x="636" y="51"/>
                </a:lnTo>
                <a:lnTo>
                  <a:pt x="827" y="0"/>
                </a:lnTo>
                <a:lnTo>
                  <a:pt x="789" y="114"/>
                </a:lnTo>
                <a:lnTo>
                  <a:pt x="751" y="229"/>
                </a:lnTo>
                <a:lnTo>
                  <a:pt x="713" y="330"/>
                </a:lnTo>
                <a:lnTo>
                  <a:pt x="674" y="419"/>
                </a:lnTo>
                <a:lnTo>
                  <a:pt x="624" y="495"/>
                </a:lnTo>
                <a:lnTo>
                  <a:pt x="611" y="533"/>
                </a:lnTo>
                <a:lnTo>
                  <a:pt x="585" y="571"/>
                </a:lnTo>
                <a:lnTo>
                  <a:pt x="560" y="609"/>
                </a:lnTo>
                <a:lnTo>
                  <a:pt x="534" y="634"/>
                </a:lnTo>
                <a:lnTo>
                  <a:pt x="522" y="659"/>
                </a:lnTo>
                <a:lnTo>
                  <a:pt x="496" y="685"/>
                </a:lnTo>
                <a:lnTo>
                  <a:pt x="445" y="735"/>
                </a:lnTo>
                <a:lnTo>
                  <a:pt x="407" y="786"/>
                </a:lnTo>
                <a:lnTo>
                  <a:pt x="356" y="824"/>
                </a:lnTo>
                <a:lnTo>
                  <a:pt x="318" y="862"/>
                </a:lnTo>
                <a:lnTo>
                  <a:pt x="280" y="900"/>
                </a:lnTo>
                <a:lnTo>
                  <a:pt x="242" y="938"/>
                </a:lnTo>
                <a:lnTo>
                  <a:pt x="204" y="963"/>
                </a:lnTo>
                <a:lnTo>
                  <a:pt x="166" y="989"/>
                </a:lnTo>
                <a:lnTo>
                  <a:pt x="127" y="1001"/>
                </a:lnTo>
                <a:lnTo>
                  <a:pt x="89" y="1014"/>
                </a:lnTo>
                <a:lnTo>
                  <a:pt x="64" y="1027"/>
                </a:lnTo>
                <a:lnTo>
                  <a:pt x="51" y="1039"/>
                </a:lnTo>
                <a:lnTo>
                  <a:pt x="26" y="1039"/>
                </a:lnTo>
                <a:lnTo>
                  <a:pt x="13" y="1039"/>
                </a:lnTo>
                <a:lnTo>
                  <a:pt x="0" y="1027"/>
                </a:lnTo>
                <a:lnTo>
                  <a:pt x="0" y="1014"/>
                </a:lnTo>
                <a:lnTo>
                  <a:pt x="13" y="1001"/>
                </a:lnTo>
                <a:lnTo>
                  <a:pt x="26" y="1001"/>
                </a:lnTo>
                <a:lnTo>
                  <a:pt x="38" y="976"/>
                </a:lnTo>
                <a:lnTo>
                  <a:pt x="51" y="963"/>
                </a:lnTo>
                <a:lnTo>
                  <a:pt x="76" y="951"/>
                </a:lnTo>
                <a:lnTo>
                  <a:pt x="102" y="92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604800" y="2336760"/>
            <a:ext cx="20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冠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"/>
          <p:cNvSpPr/>
          <p:nvPr/>
        </p:nvSpPr>
        <p:spPr>
          <a:xfrm>
            <a:off x="5288040" y="4916880"/>
            <a:ext cx="325548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书写指导：冖上边没点，元字两横要短、竖弯钩的弯要长些、与寸字要写紧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3077280" y="255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4"/>
          <p:cNvSpPr/>
          <p:nvPr/>
        </p:nvSpPr>
        <p:spPr>
          <a:xfrm>
            <a:off x="2603520" y="1585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u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716040" y="4167720"/>
            <a:ext cx="23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6"/>
          <p:cNvSpPr/>
          <p:nvPr/>
        </p:nvSpPr>
        <p:spPr>
          <a:xfrm>
            <a:off x="716040" y="527688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夺冠   勇冠三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9"/>
          <p:cNvSpPr/>
          <p:nvPr/>
        </p:nvSpPr>
        <p:spPr>
          <a:xfrm>
            <a:off x="716040" y="5831280"/>
            <a:ext cx="451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小刚夺得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米跑冠军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0"/>
          <p:cNvSpPr/>
          <p:nvPr/>
        </p:nvSpPr>
        <p:spPr>
          <a:xfrm>
            <a:off x="716040" y="4722120"/>
            <a:ext cx="290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234" name="圆角矩形 32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236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972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Group 47"/>
          <p:cNvGraphicFramePr/>
          <p:nvPr/>
        </p:nvGraphicFramePr>
        <p:xfrm>
          <a:off x="5478480" y="1786320"/>
          <a:ext cx="2590560" cy="3039120"/>
        </p:xfrm>
        <a:graphic>
          <a:graphicData uri="http://schemas.openxmlformats.org/drawingml/2006/table">
            <a:tbl>
              <a:tblPr/>
              <a:tblGrid>
                <a:gridCol w="1284120"/>
                <a:gridCol w="1306080"/>
              </a:tblGrid>
              <a:tr h="151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24"/>
          <p:cNvSpPr/>
          <p:nvPr/>
        </p:nvSpPr>
        <p:spPr>
          <a:xfrm>
            <a:off x="5914800" y="217368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28"/>
          <p:cNvSpPr/>
          <p:nvPr/>
        </p:nvSpPr>
        <p:spPr>
          <a:xfrm>
            <a:off x="5940360" y="2334600"/>
            <a:ext cx="606240" cy="1191240"/>
          </a:xfrm>
          <a:custGeom>
            <a:avLst/>
            <a:gdLst>
              <a:gd name="textAreaLeft" fmla="*/ 0 w 606240"/>
              <a:gd name="textAreaRight" fmla="*/ 606600 w 6062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954" h="1407">
                <a:moveTo>
                  <a:pt x="0" y="1407"/>
                </a:moveTo>
                <a:lnTo>
                  <a:pt x="0" y="1394"/>
                </a:lnTo>
                <a:lnTo>
                  <a:pt x="0" y="1382"/>
                </a:lnTo>
                <a:lnTo>
                  <a:pt x="12" y="1382"/>
                </a:lnTo>
                <a:lnTo>
                  <a:pt x="25" y="1356"/>
                </a:lnTo>
                <a:lnTo>
                  <a:pt x="38" y="1344"/>
                </a:lnTo>
                <a:lnTo>
                  <a:pt x="51" y="1318"/>
                </a:lnTo>
                <a:lnTo>
                  <a:pt x="76" y="1293"/>
                </a:lnTo>
                <a:lnTo>
                  <a:pt x="102" y="1268"/>
                </a:lnTo>
                <a:lnTo>
                  <a:pt x="127" y="1230"/>
                </a:lnTo>
                <a:lnTo>
                  <a:pt x="165" y="1192"/>
                </a:lnTo>
                <a:lnTo>
                  <a:pt x="191" y="1153"/>
                </a:lnTo>
                <a:lnTo>
                  <a:pt x="229" y="1103"/>
                </a:lnTo>
                <a:lnTo>
                  <a:pt x="280" y="1052"/>
                </a:lnTo>
                <a:lnTo>
                  <a:pt x="318" y="989"/>
                </a:lnTo>
                <a:lnTo>
                  <a:pt x="369" y="913"/>
                </a:lnTo>
                <a:lnTo>
                  <a:pt x="420" y="837"/>
                </a:lnTo>
                <a:lnTo>
                  <a:pt x="470" y="773"/>
                </a:lnTo>
                <a:lnTo>
                  <a:pt x="521" y="697"/>
                </a:lnTo>
                <a:lnTo>
                  <a:pt x="560" y="621"/>
                </a:lnTo>
                <a:lnTo>
                  <a:pt x="598" y="558"/>
                </a:lnTo>
                <a:lnTo>
                  <a:pt x="636" y="495"/>
                </a:lnTo>
                <a:lnTo>
                  <a:pt x="661" y="431"/>
                </a:lnTo>
                <a:lnTo>
                  <a:pt x="687" y="381"/>
                </a:lnTo>
                <a:lnTo>
                  <a:pt x="712" y="317"/>
                </a:lnTo>
                <a:lnTo>
                  <a:pt x="725" y="267"/>
                </a:lnTo>
                <a:lnTo>
                  <a:pt x="738" y="228"/>
                </a:lnTo>
                <a:lnTo>
                  <a:pt x="750" y="178"/>
                </a:lnTo>
                <a:lnTo>
                  <a:pt x="763" y="152"/>
                </a:lnTo>
                <a:lnTo>
                  <a:pt x="763" y="114"/>
                </a:lnTo>
                <a:lnTo>
                  <a:pt x="763" y="89"/>
                </a:lnTo>
                <a:lnTo>
                  <a:pt x="763" y="76"/>
                </a:lnTo>
                <a:lnTo>
                  <a:pt x="763" y="51"/>
                </a:lnTo>
                <a:lnTo>
                  <a:pt x="750" y="38"/>
                </a:lnTo>
                <a:lnTo>
                  <a:pt x="750" y="26"/>
                </a:lnTo>
                <a:lnTo>
                  <a:pt x="750" y="13"/>
                </a:lnTo>
                <a:lnTo>
                  <a:pt x="763" y="0"/>
                </a:lnTo>
                <a:lnTo>
                  <a:pt x="776" y="0"/>
                </a:lnTo>
                <a:lnTo>
                  <a:pt x="789" y="0"/>
                </a:lnTo>
                <a:lnTo>
                  <a:pt x="801" y="0"/>
                </a:lnTo>
                <a:lnTo>
                  <a:pt x="814" y="0"/>
                </a:lnTo>
                <a:lnTo>
                  <a:pt x="827" y="0"/>
                </a:lnTo>
                <a:lnTo>
                  <a:pt x="839" y="13"/>
                </a:lnTo>
                <a:lnTo>
                  <a:pt x="852" y="26"/>
                </a:lnTo>
                <a:lnTo>
                  <a:pt x="878" y="38"/>
                </a:lnTo>
                <a:lnTo>
                  <a:pt x="890" y="51"/>
                </a:lnTo>
                <a:lnTo>
                  <a:pt x="928" y="89"/>
                </a:lnTo>
                <a:lnTo>
                  <a:pt x="941" y="127"/>
                </a:lnTo>
                <a:lnTo>
                  <a:pt x="954" y="152"/>
                </a:lnTo>
                <a:lnTo>
                  <a:pt x="954" y="178"/>
                </a:lnTo>
                <a:lnTo>
                  <a:pt x="954" y="203"/>
                </a:lnTo>
                <a:lnTo>
                  <a:pt x="954" y="216"/>
                </a:lnTo>
                <a:lnTo>
                  <a:pt x="941" y="254"/>
                </a:lnTo>
                <a:lnTo>
                  <a:pt x="928" y="279"/>
                </a:lnTo>
                <a:lnTo>
                  <a:pt x="903" y="330"/>
                </a:lnTo>
                <a:lnTo>
                  <a:pt x="878" y="368"/>
                </a:lnTo>
                <a:lnTo>
                  <a:pt x="852" y="431"/>
                </a:lnTo>
                <a:lnTo>
                  <a:pt x="814" y="495"/>
                </a:lnTo>
                <a:lnTo>
                  <a:pt x="776" y="558"/>
                </a:lnTo>
                <a:lnTo>
                  <a:pt x="738" y="621"/>
                </a:lnTo>
                <a:lnTo>
                  <a:pt x="649" y="748"/>
                </a:lnTo>
                <a:lnTo>
                  <a:pt x="572" y="862"/>
                </a:lnTo>
                <a:lnTo>
                  <a:pt x="470" y="976"/>
                </a:lnTo>
                <a:lnTo>
                  <a:pt x="432" y="1039"/>
                </a:lnTo>
                <a:lnTo>
                  <a:pt x="381" y="1090"/>
                </a:lnTo>
                <a:lnTo>
                  <a:pt x="343" y="1128"/>
                </a:lnTo>
                <a:lnTo>
                  <a:pt x="292" y="1179"/>
                </a:lnTo>
                <a:lnTo>
                  <a:pt x="254" y="1217"/>
                </a:lnTo>
                <a:lnTo>
                  <a:pt x="216" y="1255"/>
                </a:lnTo>
                <a:lnTo>
                  <a:pt x="191" y="1280"/>
                </a:lnTo>
                <a:lnTo>
                  <a:pt x="152" y="1306"/>
                </a:lnTo>
                <a:lnTo>
                  <a:pt x="127" y="1344"/>
                </a:lnTo>
                <a:lnTo>
                  <a:pt x="102" y="1356"/>
                </a:lnTo>
                <a:lnTo>
                  <a:pt x="76" y="1382"/>
                </a:lnTo>
                <a:lnTo>
                  <a:pt x="51" y="1394"/>
                </a:lnTo>
                <a:lnTo>
                  <a:pt x="38" y="1394"/>
                </a:lnTo>
                <a:lnTo>
                  <a:pt x="25" y="1407"/>
                </a:lnTo>
                <a:lnTo>
                  <a:pt x="12" y="1407"/>
                </a:lnTo>
                <a:lnTo>
                  <a:pt x="0" y="1407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Freeform 31"/>
          <p:cNvSpPr/>
          <p:nvPr/>
        </p:nvSpPr>
        <p:spPr>
          <a:xfrm>
            <a:off x="6950160" y="3537000"/>
            <a:ext cx="169560" cy="223920"/>
          </a:xfrm>
          <a:custGeom>
            <a:avLst/>
            <a:gdLst>
              <a:gd name="textAreaLeft" fmla="*/ 0 w 169560"/>
              <a:gd name="textAreaRight" fmla="*/ 169920 w 1695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67" h="266">
                <a:moveTo>
                  <a:pt x="0" y="0"/>
                </a:moveTo>
                <a:lnTo>
                  <a:pt x="64" y="12"/>
                </a:lnTo>
                <a:lnTo>
                  <a:pt x="115" y="25"/>
                </a:lnTo>
                <a:lnTo>
                  <a:pt x="127" y="38"/>
                </a:lnTo>
                <a:lnTo>
                  <a:pt x="153" y="38"/>
                </a:lnTo>
                <a:lnTo>
                  <a:pt x="165" y="50"/>
                </a:lnTo>
                <a:lnTo>
                  <a:pt x="178" y="50"/>
                </a:lnTo>
                <a:lnTo>
                  <a:pt x="204" y="63"/>
                </a:lnTo>
                <a:lnTo>
                  <a:pt x="229" y="88"/>
                </a:lnTo>
                <a:lnTo>
                  <a:pt x="242" y="101"/>
                </a:lnTo>
                <a:lnTo>
                  <a:pt x="254" y="114"/>
                </a:lnTo>
                <a:lnTo>
                  <a:pt x="267" y="126"/>
                </a:lnTo>
                <a:lnTo>
                  <a:pt x="267" y="152"/>
                </a:lnTo>
                <a:lnTo>
                  <a:pt x="267" y="202"/>
                </a:lnTo>
                <a:lnTo>
                  <a:pt x="267" y="228"/>
                </a:lnTo>
                <a:lnTo>
                  <a:pt x="254" y="253"/>
                </a:lnTo>
                <a:lnTo>
                  <a:pt x="242" y="266"/>
                </a:lnTo>
                <a:lnTo>
                  <a:pt x="229" y="266"/>
                </a:lnTo>
                <a:lnTo>
                  <a:pt x="216" y="266"/>
                </a:lnTo>
                <a:lnTo>
                  <a:pt x="204" y="266"/>
                </a:lnTo>
                <a:lnTo>
                  <a:pt x="178" y="253"/>
                </a:lnTo>
                <a:lnTo>
                  <a:pt x="165" y="240"/>
                </a:lnTo>
                <a:lnTo>
                  <a:pt x="153" y="228"/>
                </a:lnTo>
                <a:lnTo>
                  <a:pt x="127" y="202"/>
                </a:lnTo>
                <a:lnTo>
                  <a:pt x="115" y="177"/>
                </a:lnTo>
                <a:lnTo>
                  <a:pt x="89" y="152"/>
                </a:lnTo>
                <a:lnTo>
                  <a:pt x="64" y="101"/>
                </a:lnTo>
                <a:lnTo>
                  <a:pt x="38" y="76"/>
                </a:lnTo>
                <a:lnTo>
                  <a:pt x="25" y="63"/>
                </a:lnTo>
                <a:lnTo>
                  <a:pt x="25" y="38"/>
                </a:lnTo>
                <a:lnTo>
                  <a:pt x="13" y="25"/>
                </a:lnTo>
                <a:lnTo>
                  <a:pt x="13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Freeform 32"/>
          <p:cNvSpPr/>
          <p:nvPr/>
        </p:nvSpPr>
        <p:spPr>
          <a:xfrm>
            <a:off x="6659640" y="2603520"/>
            <a:ext cx="775800" cy="223920"/>
          </a:xfrm>
          <a:custGeom>
            <a:avLst/>
            <a:gdLst>
              <a:gd name="textAreaLeft" fmla="*/ 0 w 775800"/>
              <a:gd name="textAreaRight" fmla="*/ 776160 w 7758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221" h="266">
                <a:moveTo>
                  <a:pt x="0" y="178"/>
                </a:moveTo>
                <a:lnTo>
                  <a:pt x="89" y="165"/>
                </a:lnTo>
                <a:lnTo>
                  <a:pt x="153" y="165"/>
                </a:lnTo>
                <a:lnTo>
                  <a:pt x="229" y="152"/>
                </a:lnTo>
                <a:lnTo>
                  <a:pt x="293" y="152"/>
                </a:lnTo>
                <a:lnTo>
                  <a:pt x="318" y="140"/>
                </a:lnTo>
                <a:lnTo>
                  <a:pt x="356" y="140"/>
                </a:lnTo>
                <a:lnTo>
                  <a:pt x="394" y="127"/>
                </a:lnTo>
                <a:lnTo>
                  <a:pt x="445" y="114"/>
                </a:lnTo>
                <a:lnTo>
                  <a:pt x="496" y="102"/>
                </a:lnTo>
                <a:lnTo>
                  <a:pt x="547" y="89"/>
                </a:lnTo>
                <a:lnTo>
                  <a:pt x="598" y="76"/>
                </a:lnTo>
                <a:lnTo>
                  <a:pt x="662" y="64"/>
                </a:lnTo>
                <a:lnTo>
                  <a:pt x="725" y="51"/>
                </a:lnTo>
                <a:lnTo>
                  <a:pt x="776" y="51"/>
                </a:lnTo>
                <a:lnTo>
                  <a:pt x="827" y="38"/>
                </a:lnTo>
                <a:lnTo>
                  <a:pt x="878" y="26"/>
                </a:lnTo>
                <a:lnTo>
                  <a:pt x="916" y="13"/>
                </a:lnTo>
                <a:lnTo>
                  <a:pt x="967" y="13"/>
                </a:lnTo>
                <a:lnTo>
                  <a:pt x="1005" y="0"/>
                </a:lnTo>
                <a:lnTo>
                  <a:pt x="1031" y="0"/>
                </a:lnTo>
                <a:lnTo>
                  <a:pt x="1094" y="0"/>
                </a:lnTo>
                <a:lnTo>
                  <a:pt x="1132" y="0"/>
                </a:lnTo>
                <a:lnTo>
                  <a:pt x="1170" y="13"/>
                </a:lnTo>
                <a:lnTo>
                  <a:pt x="1196" y="38"/>
                </a:lnTo>
                <a:lnTo>
                  <a:pt x="1209" y="51"/>
                </a:lnTo>
                <a:lnTo>
                  <a:pt x="1221" y="76"/>
                </a:lnTo>
                <a:lnTo>
                  <a:pt x="1221" y="89"/>
                </a:lnTo>
                <a:lnTo>
                  <a:pt x="1209" y="89"/>
                </a:lnTo>
                <a:lnTo>
                  <a:pt x="1196" y="102"/>
                </a:lnTo>
                <a:lnTo>
                  <a:pt x="1183" y="102"/>
                </a:lnTo>
                <a:lnTo>
                  <a:pt x="1170" y="102"/>
                </a:lnTo>
                <a:lnTo>
                  <a:pt x="1145" y="114"/>
                </a:lnTo>
                <a:lnTo>
                  <a:pt x="1132" y="114"/>
                </a:lnTo>
                <a:lnTo>
                  <a:pt x="1107" y="114"/>
                </a:lnTo>
                <a:lnTo>
                  <a:pt x="1069" y="127"/>
                </a:lnTo>
                <a:lnTo>
                  <a:pt x="1043" y="127"/>
                </a:lnTo>
                <a:lnTo>
                  <a:pt x="1005" y="140"/>
                </a:lnTo>
                <a:lnTo>
                  <a:pt x="967" y="140"/>
                </a:lnTo>
                <a:lnTo>
                  <a:pt x="929" y="152"/>
                </a:lnTo>
                <a:lnTo>
                  <a:pt x="878" y="165"/>
                </a:lnTo>
                <a:lnTo>
                  <a:pt x="827" y="165"/>
                </a:lnTo>
                <a:lnTo>
                  <a:pt x="776" y="178"/>
                </a:lnTo>
                <a:lnTo>
                  <a:pt x="725" y="178"/>
                </a:lnTo>
                <a:lnTo>
                  <a:pt x="611" y="203"/>
                </a:lnTo>
                <a:lnTo>
                  <a:pt x="509" y="216"/>
                </a:lnTo>
                <a:lnTo>
                  <a:pt x="407" y="228"/>
                </a:lnTo>
                <a:lnTo>
                  <a:pt x="318" y="241"/>
                </a:lnTo>
                <a:lnTo>
                  <a:pt x="229" y="254"/>
                </a:lnTo>
                <a:lnTo>
                  <a:pt x="153" y="254"/>
                </a:lnTo>
                <a:lnTo>
                  <a:pt x="76" y="266"/>
                </a:lnTo>
                <a:lnTo>
                  <a:pt x="0" y="266"/>
                </a:lnTo>
                <a:lnTo>
                  <a:pt x="0" y="178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2" name="Freeform 33"/>
          <p:cNvSpPr/>
          <p:nvPr/>
        </p:nvSpPr>
        <p:spPr>
          <a:xfrm>
            <a:off x="6886440" y="2250000"/>
            <a:ext cx="240840" cy="223920"/>
          </a:xfrm>
          <a:custGeom>
            <a:avLst/>
            <a:gdLst>
              <a:gd name="textAreaLeft" fmla="*/ 0 w 240840"/>
              <a:gd name="textAreaRight" fmla="*/ 241200 w 24084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382" h="266">
                <a:moveTo>
                  <a:pt x="13" y="25"/>
                </a:moveTo>
                <a:lnTo>
                  <a:pt x="26" y="13"/>
                </a:lnTo>
                <a:lnTo>
                  <a:pt x="38" y="0"/>
                </a:lnTo>
                <a:lnTo>
                  <a:pt x="64" y="0"/>
                </a:lnTo>
                <a:lnTo>
                  <a:pt x="89" y="0"/>
                </a:lnTo>
                <a:lnTo>
                  <a:pt x="115" y="0"/>
                </a:lnTo>
                <a:lnTo>
                  <a:pt x="140" y="0"/>
                </a:lnTo>
                <a:lnTo>
                  <a:pt x="178" y="0"/>
                </a:lnTo>
                <a:lnTo>
                  <a:pt x="217" y="13"/>
                </a:lnTo>
                <a:lnTo>
                  <a:pt x="255" y="13"/>
                </a:lnTo>
                <a:lnTo>
                  <a:pt x="293" y="38"/>
                </a:lnTo>
                <a:lnTo>
                  <a:pt x="318" y="51"/>
                </a:lnTo>
                <a:lnTo>
                  <a:pt x="344" y="76"/>
                </a:lnTo>
                <a:lnTo>
                  <a:pt x="356" y="101"/>
                </a:lnTo>
                <a:lnTo>
                  <a:pt x="369" y="127"/>
                </a:lnTo>
                <a:lnTo>
                  <a:pt x="382" y="152"/>
                </a:lnTo>
                <a:lnTo>
                  <a:pt x="382" y="190"/>
                </a:lnTo>
                <a:lnTo>
                  <a:pt x="382" y="215"/>
                </a:lnTo>
                <a:lnTo>
                  <a:pt x="382" y="228"/>
                </a:lnTo>
                <a:lnTo>
                  <a:pt x="369" y="241"/>
                </a:lnTo>
                <a:lnTo>
                  <a:pt x="369" y="253"/>
                </a:lnTo>
                <a:lnTo>
                  <a:pt x="356" y="266"/>
                </a:lnTo>
                <a:lnTo>
                  <a:pt x="344" y="266"/>
                </a:lnTo>
                <a:lnTo>
                  <a:pt x="331" y="266"/>
                </a:lnTo>
                <a:lnTo>
                  <a:pt x="306" y="266"/>
                </a:lnTo>
                <a:lnTo>
                  <a:pt x="293" y="266"/>
                </a:lnTo>
                <a:lnTo>
                  <a:pt x="267" y="253"/>
                </a:lnTo>
                <a:lnTo>
                  <a:pt x="242" y="241"/>
                </a:lnTo>
                <a:lnTo>
                  <a:pt x="217" y="228"/>
                </a:lnTo>
                <a:lnTo>
                  <a:pt x="191" y="203"/>
                </a:lnTo>
                <a:lnTo>
                  <a:pt x="166" y="190"/>
                </a:lnTo>
                <a:lnTo>
                  <a:pt x="127" y="152"/>
                </a:lnTo>
                <a:lnTo>
                  <a:pt x="102" y="127"/>
                </a:lnTo>
                <a:lnTo>
                  <a:pt x="77" y="114"/>
                </a:lnTo>
                <a:lnTo>
                  <a:pt x="51" y="89"/>
                </a:lnTo>
                <a:lnTo>
                  <a:pt x="26" y="76"/>
                </a:lnTo>
                <a:lnTo>
                  <a:pt x="13" y="63"/>
                </a:lnTo>
                <a:lnTo>
                  <a:pt x="13" y="51"/>
                </a:lnTo>
                <a:lnTo>
                  <a:pt x="0" y="51"/>
                </a:lnTo>
                <a:lnTo>
                  <a:pt x="0" y="38"/>
                </a:lnTo>
                <a:lnTo>
                  <a:pt x="0" y="25"/>
                </a:lnTo>
                <a:lnTo>
                  <a:pt x="13" y="2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Freeform 35"/>
          <p:cNvSpPr/>
          <p:nvPr/>
        </p:nvSpPr>
        <p:spPr>
          <a:xfrm>
            <a:off x="6902280" y="3138840"/>
            <a:ext cx="703080" cy="247320"/>
          </a:xfrm>
          <a:custGeom>
            <a:avLst/>
            <a:gdLst>
              <a:gd name="textAreaLeft" fmla="*/ 0 w 703080"/>
              <a:gd name="textAreaRight" fmla="*/ 703440 w 70308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1107" h="291">
                <a:moveTo>
                  <a:pt x="1107" y="101"/>
                </a:moveTo>
                <a:lnTo>
                  <a:pt x="1107" y="101"/>
                </a:lnTo>
                <a:lnTo>
                  <a:pt x="1094" y="114"/>
                </a:lnTo>
                <a:lnTo>
                  <a:pt x="1081" y="126"/>
                </a:lnTo>
                <a:lnTo>
                  <a:pt x="1068" y="126"/>
                </a:lnTo>
                <a:lnTo>
                  <a:pt x="1043" y="126"/>
                </a:lnTo>
                <a:lnTo>
                  <a:pt x="1017" y="139"/>
                </a:lnTo>
                <a:lnTo>
                  <a:pt x="992" y="139"/>
                </a:lnTo>
                <a:lnTo>
                  <a:pt x="928" y="152"/>
                </a:lnTo>
                <a:lnTo>
                  <a:pt x="865" y="164"/>
                </a:lnTo>
                <a:lnTo>
                  <a:pt x="801" y="164"/>
                </a:lnTo>
                <a:lnTo>
                  <a:pt x="725" y="177"/>
                </a:lnTo>
                <a:lnTo>
                  <a:pt x="687" y="177"/>
                </a:lnTo>
                <a:lnTo>
                  <a:pt x="649" y="190"/>
                </a:lnTo>
                <a:lnTo>
                  <a:pt x="610" y="190"/>
                </a:lnTo>
                <a:lnTo>
                  <a:pt x="559" y="202"/>
                </a:lnTo>
                <a:lnTo>
                  <a:pt x="509" y="215"/>
                </a:lnTo>
                <a:lnTo>
                  <a:pt x="458" y="228"/>
                </a:lnTo>
                <a:lnTo>
                  <a:pt x="407" y="228"/>
                </a:lnTo>
                <a:lnTo>
                  <a:pt x="343" y="241"/>
                </a:lnTo>
                <a:lnTo>
                  <a:pt x="292" y="253"/>
                </a:lnTo>
                <a:lnTo>
                  <a:pt x="241" y="266"/>
                </a:lnTo>
                <a:lnTo>
                  <a:pt x="203" y="279"/>
                </a:lnTo>
                <a:lnTo>
                  <a:pt x="178" y="279"/>
                </a:lnTo>
                <a:lnTo>
                  <a:pt x="140" y="291"/>
                </a:lnTo>
                <a:lnTo>
                  <a:pt x="127" y="291"/>
                </a:lnTo>
                <a:lnTo>
                  <a:pt x="114" y="291"/>
                </a:lnTo>
                <a:lnTo>
                  <a:pt x="101" y="291"/>
                </a:lnTo>
                <a:lnTo>
                  <a:pt x="89" y="291"/>
                </a:lnTo>
                <a:lnTo>
                  <a:pt x="76" y="279"/>
                </a:lnTo>
                <a:lnTo>
                  <a:pt x="63" y="279"/>
                </a:lnTo>
                <a:lnTo>
                  <a:pt x="38" y="266"/>
                </a:lnTo>
                <a:lnTo>
                  <a:pt x="12" y="266"/>
                </a:lnTo>
                <a:lnTo>
                  <a:pt x="0" y="253"/>
                </a:lnTo>
                <a:lnTo>
                  <a:pt x="0" y="241"/>
                </a:lnTo>
                <a:lnTo>
                  <a:pt x="0" y="228"/>
                </a:lnTo>
                <a:lnTo>
                  <a:pt x="12" y="228"/>
                </a:lnTo>
                <a:lnTo>
                  <a:pt x="38" y="215"/>
                </a:lnTo>
                <a:lnTo>
                  <a:pt x="63" y="215"/>
                </a:lnTo>
                <a:lnTo>
                  <a:pt x="101" y="202"/>
                </a:lnTo>
                <a:lnTo>
                  <a:pt x="152" y="190"/>
                </a:lnTo>
                <a:lnTo>
                  <a:pt x="216" y="177"/>
                </a:lnTo>
                <a:lnTo>
                  <a:pt x="280" y="164"/>
                </a:lnTo>
                <a:lnTo>
                  <a:pt x="343" y="152"/>
                </a:lnTo>
                <a:lnTo>
                  <a:pt x="420" y="139"/>
                </a:lnTo>
                <a:lnTo>
                  <a:pt x="470" y="126"/>
                </a:lnTo>
                <a:lnTo>
                  <a:pt x="534" y="114"/>
                </a:lnTo>
                <a:lnTo>
                  <a:pt x="598" y="88"/>
                </a:lnTo>
                <a:lnTo>
                  <a:pt x="649" y="76"/>
                </a:lnTo>
                <a:lnTo>
                  <a:pt x="699" y="63"/>
                </a:lnTo>
                <a:lnTo>
                  <a:pt x="738" y="38"/>
                </a:lnTo>
                <a:lnTo>
                  <a:pt x="788" y="25"/>
                </a:lnTo>
                <a:lnTo>
                  <a:pt x="827" y="25"/>
                </a:lnTo>
                <a:lnTo>
                  <a:pt x="865" y="12"/>
                </a:lnTo>
                <a:lnTo>
                  <a:pt x="903" y="12"/>
                </a:lnTo>
                <a:lnTo>
                  <a:pt x="941" y="0"/>
                </a:lnTo>
                <a:lnTo>
                  <a:pt x="967" y="12"/>
                </a:lnTo>
                <a:lnTo>
                  <a:pt x="992" y="12"/>
                </a:lnTo>
                <a:lnTo>
                  <a:pt x="1017" y="12"/>
                </a:lnTo>
                <a:lnTo>
                  <a:pt x="1056" y="38"/>
                </a:lnTo>
                <a:lnTo>
                  <a:pt x="1068" y="50"/>
                </a:lnTo>
                <a:lnTo>
                  <a:pt x="1081" y="63"/>
                </a:lnTo>
                <a:lnTo>
                  <a:pt x="1094" y="76"/>
                </a:lnTo>
                <a:lnTo>
                  <a:pt x="1107" y="88"/>
                </a:lnTo>
                <a:lnTo>
                  <a:pt x="1107" y="10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Freeform 36"/>
          <p:cNvSpPr/>
          <p:nvPr/>
        </p:nvSpPr>
        <p:spPr>
          <a:xfrm>
            <a:off x="6264360" y="2914560"/>
            <a:ext cx="128160" cy="1318320"/>
          </a:xfrm>
          <a:custGeom>
            <a:avLst/>
            <a:gdLst>
              <a:gd name="textAreaLeft" fmla="*/ 0 w 128160"/>
              <a:gd name="textAreaRight" fmla="*/ 128520 w 128160"/>
              <a:gd name="textAreaTop" fmla="*/ 0 h 1318320"/>
              <a:gd name="textAreaBottom" fmla="*/ 1318680 h 1318320"/>
            </a:gdLst>
            <a:ahLst/>
            <a:rect l="textAreaLeft" t="textAreaTop" r="textAreaRight" b="textAreaBottom"/>
            <a:pathLst>
              <a:path w="203" h="1558">
                <a:moveTo>
                  <a:pt x="114" y="0"/>
                </a:moveTo>
                <a:lnTo>
                  <a:pt x="140" y="63"/>
                </a:lnTo>
                <a:lnTo>
                  <a:pt x="152" y="139"/>
                </a:lnTo>
                <a:lnTo>
                  <a:pt x="178" y="202"/>
                </a:lnTo>
                <a:lnTo>
                  <a:pt x="190" y="278"/>
                </a:lnTo>
                <a:lnTo>
                  <a:pt x="190" y="342"/>
                </a:lnTo>
                <a:lnTo>
                  <a:pt x="203" y="418"/>
                </a:lnTo>
                <a:lnTo>
                  <a:pt x="203" y="481"/>
                </a:lnTo>
                <a:lnTo>
                  <a:pt x="203" y="557"/>
                </a:lnTo>
                <a:lnTo>
                  <a:pt x="178" y="697"/>
                </a:lnTo>
                <a:lnTo>
                  <a:pt x="178" y="836"/>
                </a:lnTo>
                <a:lnTo>
                  <a:pt x="165" y="975"/>
                </a:lnTo>
                <a:lnTo>
                  <a:pt x="165" y="1115"/>
                </a:lnTo>
                <a:lnTo>
                  <a:pt x="165" y="1191"/>
                </a:lnTo>
                <a:lnTo>
                  <a:pt x="152" y="1254"/>
                </a:lnTo>
                <a:lnTo>
                  <a:pt x="152" y="1305"/>
                </a:lnTo>
                <a:lnTo>
                  <a:pt x="152" y="1355"/>
                </a:lnTo>
                <a:lnTo>
                  <a:pt x="140" y="1406"/>
                </a:lnTo>
                <a:lnTo>
                  <a:pt x="140" y="1444"/>
                </a:lnTo>
                <a:lnTo>
                  <a:pt x="127" y="1470"/>
                </a:lnTo>
                <a:lnTo>
                  <a:pt x="127" y="1495"/>
                </a:lnTo>
                <a:lnTo>
                  <a:pt x="114" y="1508"/>
                </a:lnTo>
                <a:lnTo>
                  <a:pt x="101" y="1533"/>
                </a:lnTo>
                <a:lnTo>
                  <a:pt x="101" y="1546"/>
                </a:lnTo>
                <a:lnTo>
                  <a:pt x="89" y="1558"/>
                </a:lnTo>
                <a:lnTo>
                  <a:pt x="76" y="1558"/>
                </a:lnTo>
                <a:lnTo>
                  <a:pt x="63" y="1558"/>
                </a:lnTo>
                <a:lnTo>
                  <a:pt x="51" y="1546"/>
                </a:lnTo>
                <a:lnTo>
                  <a:pt x="38" y="1533"/>
                </a:lnTo>
                <a:lnTo>
                  <a:pt x="25" y="1495"/>
                </a:lnTo>
                <a:lnTo>
                  <a:pt x="25" y="1470"/>
                </a:lnTo>
                <a:lnTo>
                  <a:pt x="12" y="1432"/>
                </a:lnTo>
                <a:lnTo>
                  <a:pt x="12" y="1406"/>
                </a:lnTo>
                <a:lnTo>
                  <a:pt x="0" y="1368"/>
                </a:lnTo>
                <a:lnTo>
                  <a:pt x="0" y="1330"/>
                </a:lnTo>
                <a:lnTo>
                  <a:pt x="12" y="1279"/>
                </a:lnTo>
                <a:lnTo>
                  <a:pt x="12" y="1229"/>
                </a:lnTo>
                <a:lnTo>
                  <a:pt x="12" y="1165"/>
                </a:lnTo>
                <a:lnTo>
                  <a:pt x="25" y="1089"/>
                </a:lnTo>
                <a:lnTo>
                  <a:pt x="38" y="1013"/>
                </a:lnTo>
                <a:lnTo>
                  <a:pt x="51" y="861"/>
                </a:lnTo>
                <a:lnTo>
                  <a:pt x="63" y="722"/>
                </a:lnTo>
                <a:lnTo>
                  <a:pt x="76" y="595"/>
                </a:lnTo>
                <a:lnTo>
                  <a:pt x="76" y="468"/>
                </a:lnTo>
                <a:lnTo>
                  <a:pt x="76" y="354"/>
                </a:lnTo>
                <a:lnTo>
                  <a:pt x="76" y="240"/>
                </a:lnTo>
                <a:lnTo>
                  <a:pt x="63" y="139"/>
                </a:lnTo>
                <a:lnTo>
                  <a:pt x="51" y="38"/>
                </a:lnTo>
                <a:lnTo>
                  <a:pt x="114" y="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Freeform 29"/>
          <p:cNvSpPr/>
          <p:nvPr/>
        </p:nvSpPr>
        <p:spPr>
          <a:xfrm>
            <a:off x="6384960" y="2698920"/>
            <a:ext cx="323640" cy="1502640"/>
          </a:xfrm>
          <a:custGeom>
            <a:avLst/>
            <a:gdLst>
              <a:gd name="textAreaLeft" fmla="*/ 0 w 323640"/>
              <a:gd name="textAreaRight" fmla="*/ 324000 w 323640"/>
              <a:gd name="textAreaTop" fmla="*/ 0 h 1502640"/>
              <a:gd name="textAreaBottom" fmla="*/ 1503000 h 1502640"/>
            </a:gdLst>
            <a:ahLst/>
            <a:rect l="textAreaLeft" t="textAreaTop" r="textAreaRight" b="textAreaBottom"/>
            <a:pathLst>
              <a:path w="509" h="1774">
                <a:moveTo>
                  <a:pt x="331" y="1318"/>
                </a:moveTo>
                <a:lnTo>
                  <a:pt x="319" y="1369"/>
                </a:lnTo>
                <a:lnTo>
                  <a:pt x="293" y="1407"/>
                </a:lnTo>
                <a:lnTo>
                  <a:pt x="268" y="1457"/>
                </a:lnTo>
                <a:lnTo>
                  <a:pt x="242" y="1495"/>
                </a:lnTo>
                <a:lnTo>
                  <a:pt x="217" y="1546"/>
                </a:lnTo>
                <a:lnTo>
                  <a:pt x="191" y="1584"/>
                </a:lnTo>
                <a:lnTo>
                  <a:pt x="166" y="1609"/>
                </a:lnTo>
                <a:lnTo>
                  <a:pt x="140" y="1647"/>
                </a:lnTo>
                <a:lnTo>
                  <a:pt x="115" y="1673"/>
                </a:lnTo>
                <a:lnTo>
                  <a:pt x="90" y="1711"/>
                </a:lnTo>
                <a:lnTo>
                  <a:pt x="64" y="1724"/>
                </a:lnTo>
                <a:lnTo>
                  <a:pt x="51" y="1749"/>
                </a:lnTo>
                <a:lnTo>
                  <a:pt x="39" y="1762"/>
                </a:lnTo>
                <a:lnTo>
                  <a:pt x="26" y="1774"/>
                </a:lnTo>
                <a:lnTo>
                  <a:pt x="13" y="1774"/>
                </a:lnTo>
                <a:lnTo>
                  <a:pt x="0" y="1762"/>
                </a:lnTo>
                <a:lnTo>
                  <a:pt x="0" y="1749"/>
                </a:lnTo>
                <a:lnTo>
                  <a:pt x="13" y="1736"/>
                </a:lnTo>
                <a:lnTo>
                  <a:pt x="13" y="1724"/>
                </a:lnTo>
                <a:lnTo>
                  <a:pt x="26" y="1698"/>
                </a:lnTo>
                <a:lnTo>
                  <a:pt x="39" y="1660"/>
                </a:lnTo>
                <a:lnTo>
                  <a:pt x="64" y="1622"/>
                </a:lnTo>
                <a:lnTo>
                  <a:pt x="90" y="1584"/>
                </a:lnTo>
                <a:lnTo>
                  <a:pt x="115" y="1546"/>
                </a:lnTo>
                <a:lnTo>
                  <a:pt x="128" y="1495"/>
                </a:lnTo>
                <a:lnTo>
                  <a:pt x="153" y="1445"/>
                </a:lnTo>
                <a:lnTo>
                  <a:pt x="179" y="1394"/>
                </a:lnTo>
                <a:lnTo>
                  <a:pt x="204" y="1343"/>
                </a:lnTo>
                <a:lnTo>
                  <a:pt x="217" y="1293"/>
                </a:lnTo>
                <a:lnTo>
                  <a:pt x="242" y="1229"/>
                </a:lnTo>
                <a:lnTo>
                  <a:pt x="255" y="1166"/>
                </a:lnTo>
                <a:lnTo>
                  <a:pt x="293" y="1052"/>
                </a:lnTo>
                <a:lnTo>
                  <a:pt x="319" y="938"/>
                </a:lnTo>
                <a:lnTo>
                  <a:pt x="331" y="849"/>
                </a:lnTo>
                <a:lnTo>
                  <a:pt x="344" y="761"/>
                </a:lnTo>
                <a:lnTo>
                  <a:pt x="357" y="672"/>
                </a:lnTo>
                <a:lnTo>
                  <a:pt x="357" y="570"/>
                </a:lnTo>
                <a:lnTo>
                  <a:pt x="357" y="482"/>
                </a:lnTo>
                <a:lnTo>
                  <a:pt x="357" y="380"/>
                </a:lnTo>
                <a:lnTo>
                  <a:pt x="357" y="330"/>
                </a:lnTo>
                <a:lnTo>
                  <a:pt x="357" y="292"/>
                </a:lnTo>
                <a:lnTo>
                  <a:pt x="357" y="254"/>
                </a:lnTo>
                <a:lnTo>
                  <a:pt x="357" y="216"/>
                </a:lnTo>
                <a:lnTo>
                  <a:pt x="357" y="178"/>
                </a:lnTo>
                <a:lnTo>
                  <a:pt x="357" y="140"/>
                </a:lnTo>
                <a:lnTo>
                  <a:pt x="357" y="114"/>
                </a:lnTo>
                <a:lnTo>
                  <a:pt x="344" y="89"/>
                </a:lnTo>
                <a:lnTo>
                  <a:pt x="344" y="76"/>
                </a:lnTo>
                <a:lnTo>
                  <a:pt x="344" y="51"/>
                </a:lnTo>
                <a:lnTo>
                  <a:pt x="344" y="38"/>
                </a:lnTo>
                <a:lnTo>
                  <a:pt x="344" y="26"/>
                </a:lnTo>
                <a:lnTo>
                  <a:pt x="357" y="13"/>
                </a:lnTo>
                <a:lnTo>
                  <a:pt x="369" y="0"/>
                </a:lnTo>
                <a:lnTo>
                  <a:pt x="382" y="0"/>
                </a:lnTo>
                <a:lnTo>
                  <a:pt x="395" y="13"/>
                </a:lnTo>
                <a:lnTo>
                  <a:pt x="420" y="13"/>
                </a:lnTo>
                <a:lnTo>
                  <a:pt x="433" y="26"/>
                </a:lnTo>
                <a:lnTo>
                  <a:pt x="458" y="38"/>
                </a:lnTo>
                <a:lnTo>
                  <a:pt x="484" y="51"/>
                </a:lnTo>
                <a:lnTo>
                  <a:pt x="509" y="64"/>
                </a:lnTo>
                <a:lnTo>
                  <a:pt x="509" y="152"/>
                </a:lnTo>
                <a:lnTo>
                  <a:pt x="509" y="228"/>
                </a:lnTo>
                <a:lnTo>
                  <a:pt x="509" y="292"/>
                </a:lnTo>
                <a:lnTo>
                  <a:pt x="497" y="368"/>
                </a:lnTo>
                <a:lnTo>
                  <a:pt x="497" y="431"/>
                </a:lnTo>
                <a:lnTo>
                  <a:pt x="497" y="494"/>
                </a:lnTo>
                <a:lnTo>
                  <a:pt x="497" y="545"/>
                </a:lnTo>
                <a:lnTo>
                  <a:pt x="484" y="596"/>
                </a:lnTo>
                <a:lnTo>
                  <a:pt x="484" y="646"/>
                </a:lnTo>
                <a:lnTo>
                  <a:pt x="484" y="697"/>
                </a:lnTo>
                <a:lnTo>
                  <a:pt x="484" y="735"/>
                </a:lnTo>
                <a:lnTo>
                  <a:pt x="471" y="786"/>
                </a:lnTo>
                <a:lnTo>
                  <a:pt x="471" y="811"/>
                </a:lnTo>
                <a:lnTo>
                  <a:pt x="471" y="849"/>
                </a:lnTo>
                <a:lnTo>
                  <a:pt x="458" y="875"/>
                </a:lnTo>
                <a:lnTo>
                  <a:pt x="458" y="900"/>
                </a:lnTo>
                <a:lnTo>
                  <a:pt x="433" y="1001"/>
                </a:lnTo>
                <a:lnTo>
                  <a:pt x="408" y="1103"/>
                </a:lnTo>
                <a:lnTo>
                  <a:pt x="382" y="1204"/>
                </a:lnTo>
                <a:lnTo>
                  <a:pt x="331" y="1318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Freeform 37"/>
          <p:cNvSpPr/>
          <p:nvPr/>
        </p:nvSpPr>
        <p:spPr>
          <a:xfrm>
            <a:off x="6620040" y="2893320"/>
            <a:ext cx="355320" cy="706680"/>
          </a:xfrm>
          <a:custGeom>
            <a:avLst/>
            <a:gdLst>
              <a:gd name="textAreaLeft" fmla="*/ 0 w 355320"/>
              <a:gd name="textAreaRight" fmla="*/ 355680 w 35532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560" h="837">
                <a:moveTo>
                  <a:pt x="0" y="786"/>
                </a:moveTo>
                <a:lnTo>
                  <a:pt x="77" y="697"/>
                </a:lnTo>
                <a:lnTo>
                  <a:pt x="115" y="647"/>
                </a:lnTo>
                <a:lnTo>
                  <a:pt x="153" y="609"/>
                </a:lnTo>
                <a:lnTo>
                  <a:pt x="179" y="571"/>
                </a:lnTo>
                <a:lnTo>
                  <a:pt x="204" y="520"/>
                </a:lnTo>
                <a:lnTo>
                  <a:pt x="229" y="482"/>
                </a:lnTo>
                <a:lnTo>
                  <a:pt x="255" y="444"/>
                </a:lnTo>
                <a:lnTo>
                  <a:pt x="293" y="380"/>
                </a:lnTo>
                <a:lnTo>
                  <a:pt x="331" y="317"/>
                </a:lnTo>
                <a:lnTo>
                  <a:pt x="357" y="266"/>
                </a:lnTo>
                <a:lnTo>
                  <a:pt x="369" y="203"/>
                </a:lnTo>
                <a:lnTo>
                  <a:pt x="395" y="165"/>
                </a:lnTo>
                <a:lnTo>
                  <a:pt x="395" y="127"/>
                </a:lnTo>
                <a:lnTo>
                  <a:pt x="395" y="89"/>
                </a:lnTo>
                <a:lnTo>
                  <a:pt x="395" y="64"/>
                </a:lnTo>
                <a:lnTo>
                  <a:pt x="395" y="51"/>
                </a:lnTo>
                <a:lnTo>
                  <a:pt x="395" y="38"/>
                </a:lnTo>
                <a:lnTo>
                  <a:pt x="395" y="26"/>
                </a:lnTo>
                <a:lnTo>
                  <a:pt x="408" y="13"/>
                </a:lnTo>
                <a:lnTo>
                  <a:pt x="420" y="0"/>
                </a:lnTo>
                <a:lnTo>
                  <a:pt x="433" y="0"/>
                </a:lnTo>
                <a:lnTo>
                  <a:pt x="446" y="0"/>
                </a:lnTo>
                <a:lnTo>
                  <a:pt x="458" y="13"/>
                </a:lnTo>
                <a:lnTo>
                  <a:pt x="484" y="26"/>
                </a:lnTo>
                <a:lnTo>
                  <a:pt x="509" y="38"/>
                </a:lnTo>
                <a:lnTo>
                  <a:pt x="522" y="64"/>
                </a:lnTo>
                <a:lnTo>
                  <a:pt x="547" y="76"/>
                </a:lnTo>
                <a:lnTo>
                  <a:pt x="560" y="102"/>
                </a:lnTo>
                <a:lnTo>
                  <a:pt x="560" y="114"/>
                </a:lnTo>
                <a:lnTo>
                  <a:pt x="560" y="140"/>
                </a:lnTo>
                <a:lnTo>
                  <a:pt x="560" y="152"/>
                </a:lnTo>
                <a:lnTo>
                  <a:pt x="547" y="190"/>
                </a:lnTo>
                <a:lnTo>
                  <a:pt x="535" y="216"/>
                </a:lnTo>
                <a:lnTo>
                  <a:pt x="522" y="254"/>
                </a:lnTo>
                <a:lnTo>
                  <a:pt x="509" y="292"/>
                </a:lnTo>
                <a:lnTo>
                  <a:pt x="458" y="368"/>
                </a:lnTo>
                <a:lnTo>
                  <a:pt x="408" y="431"/>
                </a:lnTo>
                <a:lnTo>
                  <a:pt x="357" y="494"/>
                </a:lnTo>
                <a:lnTo>
                  <a:pt x="318" y="558"/>
                </a:lnTo>
                <a:lnTo>
                  <a:pt x="293" y="596"/>
                </a:lnTo>
                <a:lnTo>
                  <a:pt x="268" y="621"/>
                </a:lnTo>
                <a:lnTo>
                  <a:pt x="229" y="659"/>
                </a:lnTo>
                <a:lnTo>
                  <a:pt x="191" y="685"/>
                </a:lnTo>
                <a:lnTo>
                  <a:pt x="153" y="723"/>
                </a:lnTo>
                <a:lnTo>
                  <a:pt x="115" y="761"/>
                </a:lnTo>
                <a:lnTo>
                  <a:pt x="64" y="799"/>
                </a:lnTo>
                <a:lnTo>
                  <a:pt x="13" y="837"/>
                </a:lnTo>
                <a:lnTo>
                  <a:pt x="0" y="78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Freeform 30"/>
          <p:cNvSpPr/>
          <p:nvPr/>
        </p:nvSpPr>
        <p:spPr>
          <a:xfrm>
            <a:off x="6764400" y="3299760"/>
            <a:ext cx="96480" cy="922680"/>
          </a:xfrm>
          <a:custGeom>
            <a:avLst/>
            <a:gdLst>
              <a:gd name="textAreaLeft" fmla="*/ 0 w 96480"/>
              <a:gd name="textAreaRight" fmla="*/ 96840 w 96480"/>
              <a:gd name="textAreaTop" fmla="*/ 0 h 922680"/>
              <a:gd name="textAreaBottom" fmla="*/ 923040 h 922680"/>
            </a:gdLst>
            <a:ahLst/>
            <a:rect l="textAreaLeft" t="textAreaTop" r="textAreaRight" b="textAreaBottom"/>
            <a:pathLst>
              <a:path w="153" h="1090">
                <a:moveTo>
                  <a:pt x="64" y="0"/>
                </a:moveTo>
                <a:lnTo>
                  <a:pt x="77" y="12"/>
                </a:lnTo>
                <a:lnTo>
                  <a:pt x="89" y="25"/>
                </a:lnTo>
                <a:lnTo>
                  <a:pt x="102" y="38"/>
                </a:lnTo>
                <a:lnTo>
                  <a:pt x="115" y="51"/>
                </a:lnTo>
                <a:lnTo>
                  <a:pt x="140" y="63"/>
                </a:lnTo>
                <a:lnTo>
                  <a:pt x="140" y="76"/>
                </a:lnTo>
                <a:lnTo>
                  <a:pt x="153" y="89"/>
                </a:lnTo>
                <a:lnTo>
                  <a:pt x="153" y="114"/>
                </a:lnTo>
                <a:lnTo>
                  <a:pt x="153" y="139"/>
                </a:lnTo>
                <a:lnTo>
                  <a:pt x="153" y="177"/>
                </a:lnTo>
                <a:lnTo>
                  <a:pt x="153" y="215"/>
                </a:lnTo>
                <a:lnTo>
                  <a:pt x="153" y="266"/>
                </a:lnTo>
                <a:lnTo>
                  <a:pt x="153" y="317"/>
                </a:lnTo>
                <a:lnTo>
                  <a:pt x="153" y="380"/>
                </a:lnTo>
                <a:lnTo>
                  <a:pt x="153" y="443"/>
                </a:lnTo>
                <a:lnTo>
                  <a:pt x="153" y="494"/>
                </a:lnTo>
                <a:lnTo>
                  <a:pt x="153" y="557"/>
                </a:lnTo>
                <a:lnTo>
                  <a:pt x="153" y="608"/>
                </a:lnTo>
                <a:lnTo>
                  <a:pt x="140" y="646"/>
                </a:lnTo>
                <a:lnTo>
                  <a:pt x="140" y="697"/>
                </a:lnTo>
                <a:lnTo>
                  <a:pt x="140" y="735"/>
                </a:lnTo>
                <a:lnTo>
                  <a:pt x="140" y="760"/>
                </a:lnTo>
                <a:lnTo>
                  <a:pt x="140" y="836"/>
                </a:lnTo>
                <a:lnTo>
                  <a:pt x="128" y="887"/>
                </a:lnTo>
                <a:lnTo>
                  <a:pt x="115" y="950"/>
                </a:lnTo>
                <a:lnTo>
                  <a:pt x="115" y="988"/>
                </a:lnTo>
                <a:lnTo>
                  <a:pt x="115" y="1014"/>
                </a:lnTo>
                <a:lnTo>
                  <a:pt x="102" y="1039"/>
                </a:lnTo>
                <a:lnTo>
                  <a:pt x="102" y="1052"/>
                </a:lnTo>
                <a:lnTo>
                  <a:pt x="102" y="1064"/>
                </a:lnTo>
                <a:lnTo>
                  <a:pt x="89" y="1077"/>
                </a:lnTo>
                <a:lnTo>
                  <a:pt x="89" y="1090"/>
                </a:lnTo>
                <a:lnTo>
                  <a:pt x="77" y="1090"/>
                </a:lnTo>
                <a:lnTo>
                  <a:pt x="64" y="1090"/>
                </a:lnTo>
                <a:lnTo>
                  <a:pt x="51" y="1077"/>
                </a:lnTo>
                <a:lnTo>
                  <a:pt x="51" y="1064"/>
                </a:lnTo>
                <a:lnTo>
                  <a:pt x="39" y="1052"/>
                </a:lnTo>
                <a:lnTo>
                  <a:pt x="39" y="1039"/>
                </a:lnTo>
                <a:lnTo>
                  <a:pt x="26" y="1014"/>
                </a:lnTo>
                <a:lnTo>
                  <a:pt x="13" y="1001"/>
                </a:lnTo>
                <a:lnTo>
                  <a:pt x="0" y="976"/>
                </a:lnTo>
                <a:lnTo>
                  <a:pt x="0" y="963"/>
                </a:lnTo>
                <a:lnTo>
                  <a:pt x="0" y="937"/>
                </a:lnTo>
                <a:lnTo>
                  <a:pt x="0" y="912"/>
                </a:lnTo>
                <a:lnTo>
                  <a:pt x="0" y="887"/>
                </a:lnTo>
                <a:lnTo>
                  <a:pt x="13" y="836"/>
                </a:lnTo>
                <a:lnTo>
                  <a:pt x="13" y="811"/>
                </a:lnTo>
                <a:lnTo>
                  <a:pt x="13" y="798"/>
                </a:lnTo>
                <a:lnTo>
                  <a:pt x="26" y="773"/>
                </a:lnTo>
                <a:lnTo>
                  <a:pt x="26" y="747"/>
                </a:lnTo>
                <a:lnTo>
                  <a:pt x="26" y="709"/>
                </a:lnTo>
                <a:lnTo>
                  <a:pt x="26" y="671"/>
                </a:lnTo>
                <a:lnTo>
                  <a:pt x="39" y="621"/>
                </a:lnTo>
                <a:lnTo>
                  <a:pt x="39" y="570"/>
                </a:lnTo>
                <a:lnTo>
                  <a:pt x="39" y="519"/>
                </a:lnTo>
                <a:lnTo>
                  <a:pt x="39" y="456"/>
                </a:lnTo>
                <a:lnTo>
                  <a:pt x="51" y="393"/>
                </a:lnTo>
                <a:lnTo>
                  <a:pt x="51" y="329"/>
                </a:lnTo>
                <a:lnTo>
                  <a:pt x="51" y="253"/>
                </a:lnTo>
                <a:lnTo>
                  <a:pt x="51" y="177"/>
                </a:lnTo>
                <a:lnTo>
                  <a:pt x="51" y="89"/>
                </a:lnTo>
                <a:lnTo>
                  <a:pt x="64" y="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8" name="Freeform 34"/>
          <p:cNvSpPr/>
          <p:nvPr/>
        </p:nvSpPr>
        <p:spPr>
          <a:xfrm>
            <a:off x="7048440" y="2851200"/>
            <a:ext cx="306000" cy="1532160"/>
          </a:xfrm>
          <a:custGeom>
            <a:avLst/>
            <a:gdLst>
              <a:gd name="textAreaLeft" fmla="*/ 0 w 306000"/>
              <a:gd name="textAreaRight" fmla="*/ 306360 w 306000"/>
              <a:gd name="textAreaTop" fmla="*/ 0 h 1532160"/>
              <a:gd name="textAreaBottom" fmla="*/ 1532520 h 1532160"/>
            </a:gdLst>
            <a:ahLst/>
            <a:rect l="textAreaLeft" t="textAreaTop" r="textAreaRight" b="textAreaBottom"/>
            <a:pathLst>
              <a:path w="483" h="1812">
                <a:moveTo>
                  <a:pt x="191" y="0"/>
                </a:moveTo>
                <a:lnTo>
                  <a:pt x="203" y="0"/>
                </a:lnTo>
                <a:lnTo>
                  <a:pt x="229" y="0"/>
                </a:lnTo>
                <a:lnTo>
                  <a:pt x="254" y="0"/>
                </a:lnTo>
                <a:lnTo>
                  <a:pt x="292" y="0"/>
                </a:lnTo>
                <a:lnTo>
                  <a:pt x="318" y="12"/>
                </a:lnTo>
                <a:lnTo>
                  <a:pt x="356" y="25"/>
                </a:lnTo>
                <a:lnTo>
                  <a:pt x="381" y="38"/>
                </a:lnTo>
                <a:lnTo>
                  <a:pt x="407" y="50"/>
                </a:lnTo>
                <a:lnTo>
                  <a:pt x="420" y="63"/>
                </a:lnTo>
                <a:lnTo>
                  <a:pt x="432" y="88"/>
                </a:lnTo>
                <a:lnTo>
                  <a:pt x="445" y="101"/>
                </a:lnTo>
                <a:lnTo>
                  <a:pt x="445" y="114"/>
                </a:lnTo>
                <a:lnTo>
                  <a:pt x="445" y="126"/>
                </a:lnTo>
                <a:lnTo>
                  <a:pt x="445" y="139"/>
                </a:lnTo>
                <a:lnTo>
                  <a:pt x="445" y="164"/>
                </a:lnTo>
                <a:lnTo>
                  <a:pt x="445" y="177"/>
                </a:lnTo>
                <a:lnTo>
                  <a:pt x="445" y="202"/>
                </a:lnTo>
                <a:lnTo>
                  <a:pt x="445" y="228"/>
                </a:lnTo>
                <a:lnTo>
                  <a:pt x="445" y="253"/>
                </a:lnTo>
                <a:lnTo>
                  <a:pt x="445" y="278"/>
                </a:lnTo>
                <a:lnTo>
                  <a:pt x="445" y="291"/>
                </a:lnTo>
                <a:lnTo>
                  <a:pt x="445" y="316"/>
                </a:lnTo>
                <a:lnTo>
                  <a:pt x="445" y="342"/>
                </a:lnTo>
                <a:lnTo>
                  <a:pt x="445" y="367"/>
                </a:lnTo>
                <a:lnTo>
                  <a:pt x="445" y="405"/>
                </a:lnTo>
                <a:lnTo>
                  <a:pt x="445" y="430"/>
                </a:lnTo>
                <a:lnTo>
                  <a:pt x="445" y="468"/>
                </a:lnTo>
                <a:lnTo>
                  <a:pt x="445" y="506"/>
                </a:lnTo>
                <a:lnTo>
                  <a:pt x="445" y="557"/>
                </a:lnTo>
                <a:lnTo>
                  <a:pt x="445" y="595"/>
                </a:lnTo>
                <a:lnTo>
                  <a:pt x="445" y="646"/>
                </a:lnTo>
                <a:lnTo>
                  <a:pt x="445" y="697"/>
                </a:lnTo>
                <a:lnTo>
                  <a:pt x="458" y="747"/>
                </a:lnTo>
                <a:lnTo>
                  <a:pt x="458" y="798"/>
                </a:lnTo>
                <a:lnTo>
                  <a:pt x="458" y="861"/>
                </a:lnTo>
                <a:lnTo>
                  <a:pt x="458" y="925"/>
                </a:lnTo>
                <a:lnTo>
                  <a:pt x="458" y="975"/>
                </a:lnTo>
                <a:lnTo>
                  <a:pt x="458" y="1039"/>
                </a:lnTo>
                <a:lnTo>
                  <a:pt x="470" y="1089"/>
                </a:lnTo>
                <a:lnTo>
                  <a:pt x="470" y="1127"/>
                </a:lnTo>
                <a:lnTo>
                  <a:pt x="470" y="1178"/>
                </a:lnTo>
                <a:lnTo>
                  <a:pt x="470" y="1216"/>
                </a:lnTo>
                <a:lnTo>
                  <a:pt x="470" y="1254"/>
                </a:lnTo>
                <a:lnTo>
                  <a:pt x="470" y="1292"/>
                </a:lnTo>
                <a:lnTo>
                  <a:pt x="470" y="1317"/>
                </a:lnTo>
                <a:lnTo>
                  <a:pt x="470" y="1355"/>
                </a:lnTo>
                <a:lnTo>
                  <a:pt x="483" y="1381"/>
                </a:lnTo>
                <a:lnTo>
                  <a:pt x="483" y="1393"/>
                </a:lnTo>
                <a:lnTo>
                  <a:pt x="483" y="1419"/>
                </a:lnTo>
                <a:lnTo>
                  <a:pt x="483" y="1431"/>
                </a:lnTo>
                <a:lnTo>
                  <a:pt x="483" y="1444"/>
                </a:lnTo>
                <a:lnTo>
                  <a:pt x="470" y="1495"/>
                </a:lnTo>
                <a:lnTo>
                  <a:pt x="458" y="1546"/>
                </a:lnTo>
                <a:lnTo>
                  <a:pt x="445" y="1622"/>
                </a:lnTo>
                <a:lnTo>
                  <a:pt x="432" y="1672"/>
                </a:lnTo>
                <a:lnTo>
                  <a:pt x="420" y="1710"/>
                </a:lnTo>
                <a:lnTo>
                  <a:pt x="407" y="1736"/>
                </a:lnTo>
                <a:lnTo>
                  <a:pt x="394" y="1761"/>
                </a:lnTo>
                <a:lnTo>
                  <a:pt x="381" y="1786"/>
                </a:lnTo>
                <a:lnTo>
                  <a:pt x="356" y="1799"/>
                </a:lnTo>
                <a:lnTo>
                  <a:pt x="343" y="1812"/>
                </a:lnTo>
                <a:lnTo>
                  <a:pt x="330" y="1812"/>
                </a:lnTo>
                <a:lnTo>
                  <a:pt x="318" y="1799"/>
                </a:lnTo>
                <a:lnTo>
                  <a:pt x="305" y="1786"/>
                </a:lnTo>
                <a:lnTo>
                  <a:pt x="292" y="1786"/>
                </a:lnTo>
                <a:lnTo>
                  <a:pt x="292" y="1761"/>
                </a:lnTo>
                <a:lnTo>
                  <a:pt x="280" y="1748"/>
                </a:lnTo>
                <a:lnTo>
                  <a:pt x="267" y="1736"/>
                </a:lnTo>
                <a:lnTo>
                  <a:pt x="267" y="1710"/>
                </a:lnTo>
                <a:lnTo>
                  <a:pt x="254" y="1685"/>
                </a:lnTo>
                <a:lnTo>
                  <a:pt x="229" y="1672"/>
                </a:lnTo>
                <a:lnTo>
                  <a:pt x="216" y="1647"/>
                </a:lnTo>
                <a:lnTo>
                  <a:pt x="191" y="1634"/>
                </a:lnTo>
                <a:lnTo>
                  <a:pt x="165" y="1609"/>
                </a:lnTo>
                <a:lnTo>
                  <a:pt x="114" y="1571"/>
                </a:lnTo>
                <a:lnTo>
                  <a:pt x="89" y="1558"/>
                </a:lnTo>
                <a:lnTo>
                  <a:pt x="63" y="1533"/>
                </a:lnTo>
                <a:lnTo>
                  <a:pt x="51" y="1520"/>
                </a:lnTo>
                <a:lnTo>
                  <a:pt x="25" y="1508"/>
                </a:lnTo>
                <a:lnTo>
                  <a:pt x="12" y="1495"/>
                </a:lnTo>
                <a:lnTo>
                  <a:pt x="0" y="1482"/>
                </a:lnTo>
                <a:lnTo>
                  <a:pt x="12" y="1482"/>
                </a:lnTo>
                <a:lnTo>
                  <a:pt x="12" y="1469"/>
                </a:lnTo>
                <a:lnTo>
                  <a:pt x="25" y="1469"/>
                </a:lnTo>
                <a:lnTo>
                  <a:pt x="38" y="1469"/>
                </a:lnTo>
                <a:lnTo>
                  <a:pt x="63" y="1469"/>
                </a:lnTo>
                <a:lnTo>
                  <a:pt x="89" y="1482"/>
                </a:lnTo>
                <a:lnTo>
                  <a:pt x="114" y="1482"/>
                </a:lnTo>
                <a:lnTo>
                  <a:pt x="152" y="1495"/>
                </a:lnTo>
                <a:lnTo>
                  <a:pt x="191" y="1495"/>
                </a:lnTo>
                <a:lnTo>
                  <a:pt x="216" y="1508"/>
                </a:lnTo>
                <a:lnTo>
                  <a:pt x="241" y="1508"/>
                </a:lnTo>
                <a:lnTo>
                  <a:pt x="267" y="1508"/>
                </a:lnTo>
                <a:lnTo>
                  <a:pt x="280" y="1508"/>
                </a:lnTo>
                <a:lnTo>
                  <a:pt x="292" y="1495"/>
                </a:lnTo>
                <a:lnTo>
                  <a:pt x="305" y="1495"/>
                </a:lnTo>
                <a:lnTo>
                  <a:pt x="318" y="1482"/>
                </a:lnTo>
                <a:lnTo>
                  <a:pt x="318" y="1457"/>
                </a:lnTo>
                <a:lnTo>
                  <a:pt x="330" y="1431"/>
                </a:lnTo>
                <a:lnTo>
                  <a:pt x="343" y="1393"/>
                </a:lnTo>
                <a:lnTo>
                  <a:pt x="343" y="1355"/>
                </a:lnTo>
                <a:lnTo>
                  <a:pt x="343" y="1343"/>
                </a:lnTo>
                <a:lnTo>
                  <a:pt x="356" y="1330"/>
                </a:lnTo>
                <a:lnTo>
                  <a:pt x="356" y="1305"/>
                </a:lnTo>
                <a:lnTo>
                  <a:pt x="356" y="1292"/>
                </a:lnTo>
                <a:lnTo>
                  <a:pt x="356" y="1267"/>
                </a:lnTo>
                <a:lnTo>
                  <a:pt x="356" y="1241"/>
                </a:lnTo>
                <a:lnTo>
                  <a:pt x="356" y="1203"/>
                </a:lnTo>
                <a:lnTo>
                  <a:pt x="356" y="1178"/>
                </a:lnTo>
                <a:lnTo>
                  <a:pt x="343" y="1140"/>
                </a:lnTo>
                <a:lnTo>
                  <a:pt x="343" y="1102"/>
                </a:lnTo>
                <a:lnTo>
                  <a:pt x="343" y="1051"/>
                </a:lnTo>
                <a:lnTo>
                  <a:pt x="343" y="1013"/>
                </a:lnTo>
                <a:lnTo>
                  <a:pt x="343" y="963"/>
                </a:lnTo>
                <a:lnTo>
                  <a:pt x="343" y="912"/>
                </a:lnTo>
                <a:lnTo>
                  <a:pt x="343" y="861"/>
                </a:lnTo>
                <a:lnTo>
                  <a:pt x="330" y="811"/>
                </a:lnTo>
                <a:lnTo>
                  <a:pt x="330" y="747"/>
                </a:lnTo>
                <a:lnTo>
                  <a:pt x="330" y="697"/>
                </a:lnTo>
                <a:lnTo>
                  <a:pt x="330" y="646"/>
                </a:lnTo>
                <a:lnTo>
                  <a:pt x="318" y="595"/>
                </a:lnTo>
                <a:lnTo>
                  <a:pt x="318" y="544"/>
                </a:lnTo>
                <a:lnTo>
                  <a:pt x="318" y="506"/>
                </a:lnTo>
                <a:lnTo>
                  <a:pt x="305" y="468"/>
                </a:lnTo>
                <a:lnTo>
                  <a:pt x="305" y="430"/>
                </a:lnTo>
                <a:lnTo>
                  <a:pt x="305" y="392"/>
                </a:lnTo>
                <a:lnTo>
                  <a:pt x="292" y="354"/>
                </a:lnTo>
                <a:lnTo>
                  <a:pt x="292" y="329"/>
                </a:lnTo>
                <a:lnTo>
                  <a:pt x="292" y="304"/>
                </a:lnTo>
                <a:lnTo>
                  <a:pt x="292" y="278"/>
                </a:lnTo>
                <a:lnTo>
                  <a:pt x="292" y="253"/>
                </a:lnTo>
                <a:lnTo>
                  <a:pt x="280" y="240"/>
                </a:lnTo>
                <a:lnTo>
                  <a:pt x="280" y="228"/>
                </a:lnTo>
                <a:lnTo>
                  <a:pt x="280" y="190"/>
                </a:lnTo>
                <a:lnTo>
                  <a:pt x="267" y="164"/>
                </a:lnTo>
                <a:lnTo>
                  <a:pt x="267" y="152"/>
                </a:lnTo>
                <a:lnTo>
                  <a:pt x="254" y="126"/>
                </a:lnTo>
                <a:lnTo>
                  <a:pt x="241" y="88"/>
                </a:lnTo>
                <a:lnTo>
                  <a:pt x="229" y="63"/>
                </a:lnTo>
                <a:lnTo>
                  <a:pt x="203" y="50"/>
                </a:lnTo>
                <a:lnTo>
                  <a:pt x="191" y="25"/>
                </a:lnTo>
                <a:lnTo>
                  <a:pt x="191" y="12"/>
                </a:lnTo>
                <a:lnTo>
                  <a:pt x="191" y="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604800" y="2336760"/>
            <a:ext cx="20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俯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5288040" y="4916880"/>
            <a:ext cx="318888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书写指导：左边亻比里边的要长，广字横短撇要长、与付字要写紧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3077280" y="255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5"/>
          <p:cNvSpPr/>
          <p:nvPr/>
        </p:nvSpPr>
        <p:spPr>
          <a:xfrm>
            <a:off x="2879640" y="1585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6"/>
          <p:cNvSpPr/>
          <p:nvPr/>
        </p:nvSpPr>
        <p:spPr>
          <a:xfrm>
            <a:off x="716040" y="4053240"/>
            <a:ext cx="23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9"/>
          <p:cNvSpPr/>
          <p:nvPr/>
        </p:nvSpPr>
        <p:spPr>
          <a:xfrm>
            <a:off x="716040" y="502704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俯视   前俯后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0"/>
          <p:cNvSpPr/>
          <p:nvPr/>
        </p:nvSpPr>
        <p:spPr>
          <a:xfrm>
            <a:off x="716040" y="5513760"/>
            <a:ext cx="4208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敌人的飞机向我军阵地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冲过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1"/>
          <p:cNvSpPr/>
          <p:nvPr/>
        </p:nvSpPr>
        <p:spPr>
          <a:xfrm>
            <a:off x="696960" y="4542480"/>
            <a:ext cx="290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258" name="圆角矩形 33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260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972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icture 8"/>
          <p:cNvSpPr/>
          <p:nvPr/>
        </p:nvSpPr>
        <p:spPr>
          <a:xfrm>
            <a:off x="5111640" y="1237680"/>
            <a:ext cx="2338200" cy="3917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r05"/>
          <p:cNvPicPr/>
          <p:nvPr/>
        </p:nvPicPr>
        <p:blipFill>
          <a:blip r:embed="rId2"/>
          <a:stretch/>
        </p:blipFill>
        <p:spPr>
          <a:xfrm>
            <a:off x="636480" y="3084120"/>
            <a:ext cx="1393560" cy="3100680"/>
          </a:xfrm>
          <a:prstGeom prst="rect">
            <a:avLst/>
          </a:prstGeom>
          <a:ln w="0">
            <a:noFill/>
          </a:ln>
        </p:spPr>
      </p:pic>
      <p:grpSp>
        <p:nvGrpSpPr>
          <p:cNvPr id="63" name="组合 14"/>
          <p:cNvGrpSpPr/>
          <p:nvPr/>
        </p:nvGrpSpPr>
        <p:grpSpPr>
          <a:xfrm>
            <a:off x="1409760" y="1119600"/>
            <a:ext cx="3166560" cy="1680120"/>
            <a:chOff x="1409760" y="1119600"/>
            <a:chExt cx="3166560" cy="1680120"/>
          </a:xfrm>
        </p:grpSpPr>
        <p:sp>
          <p:nvSpPr>
            <p:cNvPr id="64" name="云形标注 9"/>
            <p:cNvSpPr/>
            <p:nvPr/>
          </p:nvSpPr>
          <p:spPr>
            <a:xfrm>
              <a:off x="1409760" y="1119600"/>
              <a:ext cx="3166560" cy="1680120"/>
            </a:xfrm>
            <a:prstGeom prst="cloudCallout">
              <a:avLst>
                <a:gd name="adj1" fmla="val -44283"/>
                <a:gd name="adj2" fmla="val 70997"/>
              </a:avLst>
            </a:prstGeom>
            <a:solidFill>
              <a:schemeClr val="accent5">
                <a:lumMod val="20000"/>
                <a:lumOff val="80000"/>
              </a:scheme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" name="矩形 13"/>
            <p:cNvSpPr/>
            <p:nvPr/>
          </p:nvSpPr>
          <p:spPr>
            <a:xfrm>
              <a:off x="1591920" y="1386720"/>
              <a:ext cx="281988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你知道宇宙中最快的物体是什么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矩形 16"/>
          <p:cNvSpPr/>
          <p:nvPr/>
        </p:nvSpPr>
        <p:spPr>
          <a:xfrm>
            <a:off x="5454000" y="5270400"/>
            <a:ext cx="6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答 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7"/>
          <p:cNvSpPr/>
          <p:nvPr/>
        </p:nvSpPr>
        <p:spPr>
          <a:xfrm>
            <a:off x="6752520" y="52344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光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Group 47"/>
          <p:cNvGraphicFramePr/>
          <p:nvPr/>
        </p:nvGraphicFramePr>
        <p:xfrm>
          <a:off x="5478480" y="1786320"/>
          <a:ext cx="2590560" cy="3039120"/>
        </p:xfrm>
        <a:graphic>
          <a:graphicData uri="http://schemas.openxmlformats.org/drawingml/2006/table">
            <a:tbl>
              <a:tblPr/>
              <a:tblGrid>
                <a:gridCol w="1284120"/>
                <a:gridCol w="1306080"/>
              </a:tblGrid>
              <a:tr h="151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Freeform 50"/>
          <p:cNvSpPr/>
          <p:nvPr/>
        </p:nvSpPr>
        <p:spPr>
          <a:xfrm>
            <a:off x="5945040" y="2757960"/>
            <a:ext cx="153720" cy="761760"/>
          </a:xfrm>
          <a:custGeom>
            <a:avLst/>
            <a:gdLst>
              <a:gd name="textAreaLeft" fmla="*/ 0 w 153720"/>
              <a:gd name="textAreaRight" fmla="*/ 154080 w 1537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41" h="899">
                <a:moveTo>
                  <a:pt x="25" y="101"/>
                </a:moveTo>
                <a:lnTo>
                  <a:pt x="12" y="76"/>
                </a:lnTo>
                <a:lnTo>
                  <a:pt x="0" y="50"/>
                </a:lnTo>
                <a:lnTo>
                  <a:pt x="12" y="25"/>
                </a:lnTo>
                <a:lnTo>
                  <a:pt x="25" y="12"/>
                </a:lnTo>
                <a:lnTo>
                  <a:pt x="38" y="12"/>
                </a:lnTo>
                <a:lnTo>
                  <a:pt x="50" y="0"/>
                </a:lnTo>
                <a:lnTo>
                  <a:pt x="76" y="12"/>
                </a:lnTo>
                <a:lnTo>
                  <a:pt x="101" y="12"/>
                </a:lnTo>
                <a:lnTo>
                  <a:pt x="114" y="25"/>
                </a:lnTo>
                <a:lnTo>
                  <a:pt x="139" y="25"/>
                </a:lnTo>
                <a:lnTo>
                  <a:pt x="165" y="38"/>
                </a:lnTo>
                <a:lnTo>
                  <a:pt x="190" y="38"/>
                </a:lnTo>
                <a:lnTo>
                  <a:pt x="203" y="114"/>
                </a:lnTo>
                <a:lnTo>
                  <a:pt x="203" y="190"/>
                </a:lnTo>
                <a:lnTo>
                  <a:pt x="216" y="253"/>
                </a:lnTo>
                <a:lnTo>
                  <a:pt x="216" y="316"/>
                </a:lnTo>
                <a:lnTo>
                  <a:pt x="216" y="380"/>
                </a:lnTo>
                <a:lnTo>
                  <a:pt x="229" y="443"/>
                </a:lnTo>
                <a:lnTo>
                  <a:pt x="229" y="494"/>
                </a:lnTo>
                <a:lnTo>
                  <a:pt x="229" y="544"/>
                </a:lnTo>
                <a:lnTo>
                  <a:pt x="229" y="582"/>
                </a:lnTo>
                <a:lnTo>
                  <a:pt x="229" y="620"/>
                </a:lnTo>
                <a:lnTo>
                  <a:pt x="241" y="659"/>
                </a:lnTo>
                <a:lnTo>
                  <a:pt x="241" y="697"/>
                </a:lnTo>
                <a:lnTo>
                  <a:pt x="241" y="722"/>
                </a:lnTo>
                <a:lnTo>
                  <a:pt x="241" y="747"/>
                </a:lnTo>
                <a:lnTo>
                  <a:pt x="241" y="760"/>
                </a:lnTo>
                <a:lnTo>
                  <a:pt x="241" y="773"/>
                </a:lnTo>
                <a:lnTo>
                  <a:pt x="241" y="798"/>
                </a:lnTo>
                <a:lnTo>
                  <a:pt x="241" y="823"/>
                </a:lnTo>
                <a:lnTo>
                  <a:pt x="241" y="836"/>
                </a:lnTo>
                <a:lnTo>
                  <a:pt x="229" y="861"/>
                </a:lnTo>
                <a:lnTo>
                  <a:pt x="229" y="874"/>
                </a:lnTo>
                <a:lnTo>
                  <a:pt x="216" y="887"/>
                </a:lnTo>
                <a:lnTo>
                  <a:pt x="203" y="899"/>
                </a:lnTo>
                <a:lnTo>
                  <a:pt x="203" y="887"/>
                </a:lnTo>
                <a:lnTo>
                  <a:pt x="190" y="874"/>
                </a:lnTo>
                <a:lnTo>
                  <a:pt x="190" y="861"/>
                </a:lnTo>
                <a:lnTo>
                  <a:pt x="178" y="836"/>
                </a:lnTo>
                <a:lnTo>
                  <a:pt x="165" y="798"/>
                </a:lnTo>
                <a:lnTo>
                  <a:pt x="165" y="760"/>
                </a:lnTo>
                <a:lnTo>
                  <a:pt x="152" y="722"/>
                </a:lnTo>
                <a:lnTo>
                  <a:pt x="139" y="684"/>
                </a:lnTo>
                <a:lnTo>
                  <a:pt x="127" y="646"/>
                </a:lnTo>
                <a:lnTo>
                  <a:pt x="127" y="608"/>
                </a:lnTo>
                <a:lnTo>
                  <a:pt x="114" y="582"/>
                </a:lnTo>
                <a:lnTo>
                  <a:pt x="114" y="544"/>
                </a:lnTo>
                <a:lnTo>
                  <a:pt x="114" y="532"/>
                </a:lnTo>
                <a:lnTo>
                  <a:pt x="114" y="506"/>
                </a:lnTo>
                <a:lnTo>
                  <a:pt x="101" y="494"/>
                </a:lnTo>
                <a:lnTo>
                  <a:pt x="101" y="481"/>
                </a:lnTo>
                <a:lnTo>
                  <a:pt x="101" y="468"/>
                </a:lnTo>
                <a:lnTo>
                  <a:pt x="101" y="443"/>
                </a:lnTo>
                <a:lnTo>
                  <a:pt x="101" y="418"/>
                </a:lnTo>
                <a:lnTo>
                  <a:pt x="101" y="405"/>
                </a:lnTo>
                <a:lnTo>
                  <a:pt x="89" y="367"/>
                </a:lnTo>
                <a:lnTo>
                  <a:pt x="89" y="342"/>
                </a:lnTo>
                <a:lnTo>
                  <a:pt x="89" y="304"/>
                </a:lnTo>
                <a:lnTo>
                  <a:pt x="76" y="240"/>
                </a:lnTo>
                <a:lnTo>
                  <a:pt x="63" y="190"/>
                </a:lnTo>
                <a:lnTo>
                  <a:pt x="38" y="139"/>
                </a:lnTo>
                <a:lnTo>
                  <a:pt x="25" y="10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3" name="Freeform 51"/>
          <p:cNvSpPr/>
          <p:nvPr/>
        </p:nvSpPr>
        <p:spPr>
          <a:xfrm>
            <a:off x="6010200" y="2683800"/>
            <a:ext cx="420480" cy="577440"/>
          </a:xfrm>
          <a:custGeom>
            <a:avLst/>
            <a:gdLst>
              <a:gd name="textAreaLeft" fmla="*/ 0 w 420480"/>
              <a:gd name="textAreaRight" fmla="*/ 420840 w 42048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662" h="684">
                <a:moveTo>
                  <a:pt x="344" y="684"/>
                </a:moveTo>
                <a:lnTo>
                  <a:pt x="357" y="621"/>
                </a:lnTo>
                <a:lnTo>
                  <a:pt x="357" y="570"/>
                </a:lnTo>
                <a:lnTo>
                  <a:pt x="369" y="519"/>
                </a:lnTo>
                <a:lnTo>
                  <a:pt x="369" y="469"/>
                </a:lnTo>
                <a:lnTo>
                  <a:pt x="382" y="418"/>
                </a:lnTo>
                <a:lnTo>
                  <a:pt x="382" y="380"/>
                </a:lnTo>
                <a:lnTo>
                  <a:pt x="395" y="342"/>
                </a:lnTo>
                <a:lnTo>
                  <a:pt x="395" y="304"/>
                </a:lnTo>
                <a:lnTo>
                  <a:pt x="395" y="266"/>
                </a:lnTo>
                <a:lnTo>
                  <a:pt x="395" y="241"/>
                </a:lnTo>
                <a:lnTo>
                  <a:pt x="407" y="215"/>
                </a:lnTo>
                <a:lnTo>
                  <a:pt x="407" y="203"/>
                </a:lnTo>
                <a:lnTo>
                  <a:pt x="407" y="190"/>
                </a:lnTo>
                <a:lnTo>
                  <a:pt x="407" y="177"/>
                </a:lnTo>
                <a:lnTo>
                  <a:pt x="407" y="165"/>
                </a:lnTo>
                <a:lnTo>
                  <a:pt x="395" y="152"/>
                </a:lnTo>
                <a:lnTo>
                  <a:pt x="382" y="152"/>
                </a:lnTo>
                <a:lnTo>
                  <a:pt x="369" y="152"/>
                </a:lnTo>
                <a:lnTo>
                  <a:pt x="357" y="152"/>
                </a:lnTo>
                <a:lnTo>
                  <a:pt x="344" y="165"/>
                </a:lnTo>
                <a:lnTo>
                  <a:pt x="318" y="165"/>
                </a:lnTo>
                <a:lnTo>
                  <a:pt x="293" y="177"/>
                </a:lnTo>
                <a:lnTo>
                  <a:pt x="255" y="177"/>
                </a:lnTo>
                <a:lnTo>
                  <a:pt x="191" y="203"/>
                </a:lnTo>
                <a:lnTo>
                  <a:pt x="128" y="203"/>
                </a:lnTo>
                <a:lnTo>
                  <a:pt x="64" y="215"/>
                </a:lnTo>
                <a:lnTo>
                  <a:pt x="0" y="215"/>
                </a:lnTo>
                <a:lnTo>
                  <a:pt x="0" y="127"/>
                </a:lnTo>
                <a:lnTo>
                  <a:pt x="64" y="127"/>
                </a:lnTo>
                <a:lnTo>
                  <a:pt x="128" y="114"/>
                </a:lnTo>
                <a:lnTo>
                  <a:pt x="178" y="101"/>
                </a:lnTo>
                <a:lnTo>
                  <a:pt x="242" y="89"/>
                </a:lnTo>
                <a:lnTo>
                  <a:pt x="267" y="89"/>
                </a:lnTo>
                <a:lnTo>
                  <a:pt x="293" y="76"/>
                </a:lnTo>
                <a:lnTo>
                  <a:pt x="306" y="76"/>
                </a:lnTo>
                <a:lnTo>
                  <a:pt x="331" y="63"/>
                </a:lnTo>
                <a:lnTo>
                  <a:pt x="344" y="63"/>
                </a:lnTo>
                <a:lnTo>
                  <a:pt x="357" y="51"/>
                </a:lnTo>
                <a:lnTo>
                  <a:pt x="369" y="38"/>
                </a:lnTo>
                <a:lnTo>
                  <a:pt x="382" y="38"/>
                </a:lnTo>
                <a:lnTo>
                  <a:pt x="395" y="13"/>
                </a:lnTo>
                <a:lnTo>
                  <a:pt x="407" y="13"/>
                </a:lnTo>
                <a:lnTo>
                  <a:pt x="433" y="0"/>
                </a:lnTo>
                <a:lnTo>
                  <a:pt x="446" y="0"/>
                </a:lnTo>
                <a:lnTo>
                  <a:pt x="471" y="0"/>
                </a:lnTo>
                <a:lnTo>
                  <a:pt x="496" y="13"/>
                </a:lnTo>
                <a:lnTo>
                  <a:pt x="535" y="38"/>
                </a:lnTo>
                <a:lnTo>
                  <a:pt x="573" y="51"/>
                </a:lnTo>
                <a:lnTo>
                  <a:pt x="611" y="89"/>
                </a:lnTo>
                <a:lnTo>
                  <a:pt x="624" y="101"/>
                </a:lnTo>
                <a:lnTo>
                  <a:pt x="636" y="114"/>
                </a:lnTo>
                <a:lnTo>
                  <a:pt x="649" y="127"/>
                </a:lnTo>
                <a:lnTo>
                  <a:pt x="662" y="139"/>
                </a:lnTo>
                <a:lnTo>
                  <a:pt x="662" y="152"/>
                </a:lnTo>
                <a:lnTo>
                  <a:pt x="662" y="165"/>
                </a:lnTo>
                <a:lnTo>
                  <a:pt x="649" y="190"/>
                </a:lnTo>
                <a:lnTo>
                  <a:pt x="636" y="203"/>
                </a:lnTo>
                <a:lnTo>
                  <a:pt x="624" y="215"/>
                </a:lnTo>
                <a:lnTo>
                  <a:pt x="611" y="215"/>
                </a:lnTo>
                <a:lnTo>
                  <a:pt x="611" y="228"/>
                </a:lnTo>
                <a:lnTo>
                  <a:pt x="598" y="241"/>
                </a:lnTo>
                <a:lnTo>
                  <a:pt x="598" y="253"/>
                </a:lnTo>
                <a:lnTo>
                  <a:pt x="586" y="266"/>
                </a:lnTo>
                <a:lnTo>
                  <a:pt x="573" y="291"/>
                </a:lnTo>
                <a:lnTo>
                  <a:pt x="560" y="317"/>
                </a:lnTo>
                <a:lnTo>
                  <a:pt x="547" y="342"/>
                </a:lnTo>
                <a:lnTo>
                  <a:pt x="547" y="367"/>
                </a:lnTo>
                <a:lnTo>
                  <a:pt x="535" y="405"/>
                </a:lnTo>
                <a:lnTo>
                  <a:pt x="522" y="443"/>
                </a:lnTo>
                <a:lnTo>
                  <a:pt x="509" y="481"/>
                </a:lnTo>
                <a:lnTo>
                  <a:pt x="496" y="532"/>
                </a:lnTo>
                <a:lnTo>
                  <a:pt x="471" y="570"/>
                </a:lnTo>
                <a:lnTo>
                  <a:pt x="458" y="621"/>
                </a:lnTo>
                <a:lnTo>
                  <a:pt x="446" y="671"/>
                </a:lnTo>
                <a:lnTo>
                  <a:pt x="344" y="684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4" name="Freeform 53"/>
          <p:cNvSpPr/>
          <p:nvPr/>
        </p:nvSpPr>
        <p:spPr>
          <a:xfrm>
            <a:off x="6608880" y="2425680"/>
            <a:ext cx="588600" cy="236880"/>
          </a:xfrm>
          <a:custGeom>
            <a:avLst/>
            <a:gdLst>
              <a:gd name="textAreaLeft" fmla="*/ 0 w 588600"/>
              <a:gd name="textAreaRight" fmla="*/ 588960 w 588600"/>
              <a:gd name="textAreaTop" fmla="*/ 0 h 236880"/>
              <a:gd name="textAreaBottom" fmla="*/ 237240 h 236880"/>
            </a:gdLst>
            <a:ahLst/>
            <a:rect l="textAreaLeft" t="textAreaTop" r="textAreaRight" b="textAreaBottom"/>
            <a:pathLst>
              <a:path w="928" h="279">
                <a:moveTo>
                  <a:pt x="343" y="241"/>
                </a:moveTo>
                <a:lnTo>
                  <a:pt x="292" y="253"/>
                </a:lnTo>
                <a:lnTo>
                  <a:pt x="254" y="253"/>
                </a:lnTo>
                <a:lnTo>
                  <a:pt x="216" y="266"/>
                </a:lnTo>
                <a:lnTo>
                  <a:pt x="178" y="279"/>
                </a:lnTo>
                <a:lnTo>
                  <a:pt x="152" y="279"/>
                </a:lnTo>
                <a:lnTo>
                  <a:pt x="140" y="279"/>
                </a:lnTo>
                <a:lnTo>
                  <a:pt x="114" y="279"/>
                </a:lnTo>
                <a:lnTo>
                  <a:pt x="102" y="279"/>
                </a:lnTo>
                <a:lnTo>
                  <a:pt x="89" y="279"/>
                </a:lnTo>
                <a:lnTo>
                  <a:pt x="63" y="266"/>
                </a:lnTo>
                <a:lnTo>
                  <a:pt x="38" y="241"/>
                </a:lnTo>
                <a:lnTo>
                  <a:pt x="0" y="215"/>
                </a:lnTo>
                <a:lnTo>
                  <a:pt x="89" y="190"/>
                </a:lnTo>
                <a:lnTo>
                  <a:pt x="165" y="165"/>
                </a:lnTo>
                <a:lnTo>
                  <a:pt x="254" y="139"/>
                </a:lnTo>
                <a:lnTo>
                  <a:pt x="318" y="114"/>
                </a:lnTo>
                <a:lnTo>
                  <a:pt x="394" y="101"/>
                </a:lnTo>
                <a:lnTo>
                  <a:pt x="458" y="76"/>
                </a:lnTo>
                <a:lnTo>
                  <a:pt x="509" y="63"/>
                </a:lnTo>
                <a:lnTo>
                  <a:pt x="560" y="50"/>
                </a:lnTo>
                <a:lnTo>
                  <a:pt x="610" y="38"/>
                </a:lnTo>
                <a:lnTo>
                  <a:pt x="649" y="25"/>
                </a:lnTo>
                <a:lnTo>
                  <a:pt x="687" y="12"/>
                </a:lnTo>
                <a:lnTo>
                  <a:pt x="712" y="12"/>
                </a:lnTo>
                <a:lnTo>
                  <a:pt x="738" y="0"/>
                </a:lnTo>
                <a:lnTo>
                  <a:pt x="750" y="0"/>
                </a:lnTo>
                <a:lnTo>
                  <a:pt x="763" y="0"/>
                </a:lnTo>
                <a:lnTo>
                  <a:pt x="776" y="0"/>
                </a:lnTo>
                <a:lnTo>
                  <a:pt x="801" y="0"/>
                </a:lnTo>
                <a:lnTo>
                  <a:pt x="827" y="0"/>
                </a:lnTo>
                <a:lnTo>
                  <a:pt x="878" y="12"/>
                </a:lnTo>
                <a:lnTo>
                  <a:pt x="903" y="38"/>
                </a:lnTo>
                <a:lnTo>
                  <a:pt x="916" y="50"/>
                </a:lnTo>
                <a:lnTo>
                  <a:pt x="928" y="63"/>
                </a:lnTo>
                <a:lnTo>
                  <a:pt x="928" y="76"/>
                </a:lnTo>
                <a:lnTo>
                  <a:pt x="928" y="88"/>
                </a:lnTo>
                <a:lnTo>
                  <a:pt x="916" y="88"/>
                </a:lnTo>
                <a:lnTo>
                  <a:pt x="903" y="101"/>
                </a:lnTo>
                <a:lnTo>
                  <a:pt x="890" y="114"/>
                </a:lnTo>
                <a:lnTo>
                  <a:pt x="865" y="114"/>
                </a:lnTo>
                <a:lnTo>
                  <a:pt x="839" y="114"/>
                </a:lnTo>
                <a:lnTo>
                  <a:pt x="827" y="127"/>
                </a:lnTo>
                <a:lnTo>
                  <a:pt x="814" y="127"/>
                </a:lnTo>
                <a:lnTo>
                  <a:pt x="801" y="127"/>
                </a:lnTo>
                <a:lnTo>
                  <a:pt x="789" y="127"/>
                </a:lnTo>
                <a:lnTo>
                  <a:pt x="776" y="127"/>
                </a:lnTo>
                <a:lnTo>
                  <a:pt x="750" y="127"/>
                </a:lnTo>
                <a:lnTo>
                  <a:pt x="725" y="139"/>
                </a:lnTo>
                <a:lnTo>
                  <a:pt x="699" y="139"/>
                </a:lnTo>
                <a:lnTo>
                  <a:pt x="674" y="139"/>
                </a:lnTo>
                <a:lnTo>
                  <a:pt x="649" y="152"/>
                </a:lnTo>
                <a:lnTo>
                  <a:pt x="610" y="152"/>
                </a:lnTo>
                <a:lnTo>
                  <a:pt x="572" y="165"/>
                </a:lnTo>
                <a:lnTo>
                  <a:pt x="534" y="177"/>
                </a:lnTo>
                <a:lnTo>
                  <a:pt x="496" y="190"/>
                </a:lnTo>
                <a:lnTo>
                  <a:pt x="445" y="203"/>
                </a:lnTo>
                <a:lnTo>
                  <a:pt x="407" y="215"/>
                </a:lnTo>
                <a:lnTo>
                  <a:pt x="343" y="24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Freeform 54"/>
          <p:cNvSpPr/>
          <p:nvPr/>
        </p:nvSpPr>
        <p:spPr>
          <a:xfrm>
            <a:off x="6810480" y="2135880"/>
            <a:ext cx="169560" cy="793440"/>
          </a:xfrm>
          <a:custGeom>
            <a:avLst/>
            <a:gdLst>
              <a:gd name="textAreaLeft" fmla="*/ 0 w 169560"/>
              <a:gd name="textAreaRight" fmla="*/ 169920 w 16956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267" h="937">
                <a:moveTo>
                  <a:pt x="76" y="443"/>
                </a:moveTo>
                <a:lnTo>
                  <a:pt x="76" y="392"/>
                </a:lnTo>
                <a:lnTo>
                  <a:pt x="76" y="354"/>
                </a:lnTo>
                <a:lnTo>
                  <a:pt x="76" y="316"/>
                </a:lnTo>
                <a:lnTo>
                  <a:pt x="76" y="278"/>
                </a:lnTo>
                <a:lnTo>
                  <a:pt x="76" y="253"/>
                </a:lnTo>
                <a:lnTo>
                  <a:pt x="76" y="228"/>
                </a:lnTo>
                <a:lnTo>
                  <a:pt x="76" y="190"/>
                </a:lnTo>
                <a:lnTo>
                  <a:pt x="76" y="177"/>
                </a:lnTo>
                <a:lnTo>
                  <a:pt x="76" y="152"/>
                </a:lnTo>
                <a:lnTo>
                  <a:pt x="63" y="126"/>
                </a:lnTo>
                <a:lnTo>
                  <a:pt x="63" y="114"/>
                </a:lnTo>
                <a:lnTo>
                  <a:pt x="63" y="101"/>
                </a:lnTo>
                <a:lnTo>
                  <a:pt x="63" y="88"/>
                </a:lnTo>
                <a:lnTo>
                  <a:pt x="51" y="88"/>
                </a:lnTo>
                <a:lnTo>
                  <a:pt x="51" y="76"/>
                </a:lnTo>
                <a:lnTo>
                  <a:pt x="38" y="76"/>
                </a:lnTo>
                <a:lnTo>
                  <a:pt x="25" y="76"/>
                </a:lnTo>
                <a:lnTo>
                  <a:pt x="13" y="63"/>
                </a:lnTo>
                <a:lnTo>
                  <a:pt x="0" y="50"/>
                </a:lnTo>
                <a:lnTo>
                  <a:pt x="13" y="25"/>
                </a:lnTo>
                <a:lnTo>
                  <a:pt x="13" y="12"/>
                </a:lnTo>
                <a:lnTo>
                  <a:pt x="25" y="0"/>
                </a:lnTo>
                <a:lnTo>
                  <a:pt x="38" y="0"/>
                </a:lnTo>
                <a:lnTo>
                  <a:pt x="63" y="0"/>
                </a:lnTo>
                <a:lnTo>
                  <a:pt x="76" y="0"/>
                </a:lnTo>
                <a:lnTo>
                  <a:pt x="102" y="12"/>
                </a:lnTo>
                <a:lnTo>
                  <a:pt x="127" y="12"/>
                </a:lnTo>
                <a:lnTo>
                  <a:pt x="152" y="25"/>
                </a:lnTo>
                <a:lnTo>
                  <a:pt x="178" y="38"/>
                </a:lnTo>
                <a:lnTo>
                  <a:pt x="203" y="38"/>
                </a:lnTo>
                <a:lnTo>
                  <a:pt x="216" y="50"/>
                </a:lnTo>
                <a:lnTo>
                  <a:pt x="242" y="63"/>
                </a:lnTo>
                <a:lnTo>
                  <a:pt x="254" y="76"/>
                </a:lnTo>
                <a:lnTo>
                  <a:pt x="267" y="88"/>
                </a:lnTo>
                <a:lnTo>
                  <a:pt x="267" y="114"/>
                </a:lnTo>
                <a:lnTo>
                  <a:pt x="267" y="126"/>
                </a:lnTo>
                <a:lnTo>
                  <a:pt x="267" y="152"/>
                </a:lnTo>
                <a:lnTo>
                  <a:pt x="267" y="177"/>
                </a:lnTo>
                <a:lnTo>
                  <a:pt x="254" y="190"/>
                </a:lnTo>
                <a:lnTo>
                  <a:pt x="254" y="202"/>
                </a:lnTo>
                <a:lnTo>
                  <a:pt x="254" y="215"/>
                </a:lnTo>
                <a:lnTo>
                  <a:pt x="242" y="240"/>
                </a:lnTo>
                <a:lnTo>
                  <a:pt x="242" y="278"/>
                </a:lnTo>
                <a:lnTo>
                  <a:pt x="229" y="316"/>
                </a:lnTo>
                <a:lnTo>
                  <a:pt x="229" y="354"/>
                </a:lnTo>
                <a:lnTo>
                  <a:pt x="216" y="392"/>
                </a:lnTo>
                <a:lnTo>
                  <a:pt x="216" y="443"/>
                </a:lnTo>
                <a:lnTo>
                  <a:pt x="203" y="507"/>
                </a:lnTo>
                <a:lnTo>
                  <a:pt x="203" y="570"/>
                </a:lnTo>
                <a:lnTo>
                  <a:pt x="191" y="633"/>
                </a:lnTo>
                <a:lnTo>
                  <a:pt x="191" y="697"/>
                </a:lnTo>
                <a:lnTo>
                  <a:pt x="178" y="773"/>
                </a:lnTo>
                <a:lnTo>
                  <a:pt x="165" y="861"/>
                </a:lnTo>
                <a:lnTo>
                  <a:pt x="165" y="937"/>
                </a:lnTo>
                <a:lnTo>
                  <a:pt x="63" y="937"/>
                </a:lnTo>
                <a:lnTo>
                  <a:pt x="63" y="899"/>
                </a:lnTo>
                <a:lnTo>
                  <a:pt x="63" y="849"/>
                </a:lnTo>
                <a:lnTo>
                  <a:pt x="63" y="798"/>
                </a:lnTo>
                <a:lnTo>
                  <a:pt x="63" y="735"/>
                </a:lnTo>
                <a:lnTo>
                  <a:pt x="63" y="671"/>
                </a:lnTo>
                <a:lnTo>
                  <a:pt x="63" y="595"/>
                </a:lnTo>
                <a:lnTo>
                  <a:pt x="76" y="519"/>
                </a:lnTo>
                <a:lnTo>
                  <a:pt x="76" y="44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Freeform 55"/>
          <p:cNvSpPr/>
          <p:nvPr/>
        </p:nvSpPr>
        <p:spPr>
          <a:xfrm>
            <a:off x="6324480" y="2789640"/>
            <a:ext cx="1212480" cy="310680"/>
          </a:xfrm>
          <a:custGeom>
            <a:avLst/>
            <a:gdLst>
              <a:gd name="textAreaLeft" fmla="*/ 0 w 1212480"/>
              <a:gd name="textAreaRight" fmla="*/ 1212840 w 1212480"/>
              <a:gd name="textAreaTop" fmla="*/ 0 h 310680"/>
              <a:gd name="textAreaBottom" fmla="*/ 311040 h 310680"/>
            </a:gdLst>
            <a:ahLst/>
            <a:rect l="textAreaLeft" t="textAreaTop" r="textAreaRight" b="textAreaBottom"/>
            <a:pathLst>
              <a:path w="1909" h="367">
                <a:moveTo>
                  <a:pt x="1324" y="50"/>
                </a:moveTo>
                <a:lnTo>
                  <a:pt x="1400" y="38"/>
                </a:lnTo>
                <a:lnTo>
                  <a:pt x="1464" y="38"/>
                </a:lnTo>
                <a:lnTo>
                  <a:pt x="1527" y="25"/>
                </a:lnTo>
                <a:lnTo>
                  <a:pt x="1578" y="12"/>
                </a:lnTo>
                <a:lnTo>
                  <a:pt x="1616" y="12"/>
                </a:lnTo>
                <a:lnTo>
                  <a:pt x="1654" y="0"/>
                </a:lnTo>
                <a:lnTo>
                  <a:pt x="1680" y="0"/>
                </a:lnTo>
                <a:lnTo>
                  <a:pt x="1705" y="0"/>
                </a:lnTo>
                <a:lnTo>
                  <a:pt x="1731" y="0"/>
                </a:lnTo>
                <a:lnTo>
                  <a:pt x="1769" y="0"/>
                </a:lnTo>
                <a:lnTo>
                  <a:pt x="1794" y="12"/>
                </a:lnTo>
                <a:lnTo>
                  <a:pt x="1832" y="25"/>
                </a:lnTo>
                <a:lnTo>
                  <a:pt x="1871" y="38"/>
                </a:lnTo>
                <a:lnTo>
                  <a:pt x="1883" y="63"/>
                </a:lnTo>
                <a:lnTo>
                  <a:pt x="1896" y="76"/>
                </a:lnTo>
                <a:lnTo>
                  <a:pt x="1909" y="101"/>
                </a:lnTo>
                <a:lnTo>
                  <a:pt x="1896" y="114"/>
                </a:lnTo>
                <a:lnTo>
                  <a:pt x="1883" y="126"/>
                </a:lnTo>
                <a:lnTo>
                  <a:pt x="1871" y="126"/>
                </a:lnTo>
                <a:lnTo>
                  <a:pt x="1832" y="139"/>
                </a:lnTo>
                <a:lnTo>
                  <a:pt x="1807" y="139"/>
                </a:lnTo>
                <a:lnTo>
                  <a:pt x="1756" y="139"/>
                </a:lnTo>
                <a:lnTo>
                  <a:pt x="1705" y="152"/>
                </a:lnTo>
                <a:lnTo>
                  <a:pt x="1642" y="152"/>
                </a:lnTo>
                <a:lnTo>
                  <a:pt x="1514" y="152"/>
                </a:lnTo>
                <a:lnTo>
                  <a:pt x="1387" y="152"/>
                </a:lnTo>
                <a:lnTo>
                  <a:pt x="1260" y="164"/>
                </a:lnTo>
                <a:lnTo>
                  <a:pt x="1145" y="177"/>
                </a:lnTo>
                <a:lnTo>
                  <a:pt x="1082" y="190"/>
                </a:lnTo>
                <a:lnTo>
                  <a:pt x="1018" y="202"/>
                </a:lnTo>
                <a:lnTo>
                  <a:pt x="955" y="215"/>
                </a:lnTo>
                <a:lnTo>
                  <a:pt x="878" y="228"/>
                </a:lnTo>
                <a:lnTo>
                  <a:pt x="802" y="240"/>
                </a:lnTo>
                <a:lnTo>
                  <a:pt x="726" y="253"/>
                </a:lnTo>
                <a:lnTo>
                  <a:pt x="637" y="266"/>
                </a:lnTo>
                <a:lnTo>
                  <a:pt x="548" y="278"/>
                </a:lnTo>
                <a:lnTo>
                  <a:pt x="497" y="291"/>
                </a:lnTo>
                <a:lnTo>
                  <a:pt x="458" y="304"/>
                </a:lnTo>
                <a:lnTo>
                  <a:pt x="408" y="316"/>
                </a:lnTo>
                <a:lnTo>
                  <a:pt x="369" y="316"/>
                </a:lnTo>
                <a:lnTo>
                  <a:pt x="344" y="329"/>
                </a:lnTo>
                <a:lnTo>
                  <a:pt x="306" y="329"/>
                </a:lnTo>
                <a:lnTo>
                  <a:pt x="280" y="342"/>
                </a:lnTo>
                <a:lnTo>
                  <a:pt x="255" y="342"/>
                </a:lnTo>
                <a:lnTo>
                  <a:pt x="229" y="354"/>
                </a:lnTo>
                <a:lnTo>
                  <a:pt x="204" y="354"/>
                </a:lnTo>
                <a:lnTo>
                  <a:pt x="191" y="354"/>
                </a:lnTo>
                <a:lnTo>
                  <a:pt x="166" y="354"/>
                </a:lnTo>
                <a:lnTo>
                  <a:pt x="153" y="367"/>
                </a:lnTo>
                <a:lnTo>
                  <a:pt x="140" y="367"/>
                </a:lnTo>
                <a:lnTo>
                  <a:pt x="128" y="367"/>
                </a:lnTo>
                <a:lnTo>
                  <a:pt x="115" y="367"/>
                </a:lnTo>
                <a:lnTo>
                  <a:pt x="102" y="354"/>
                </a:lnTo>
                <a:lnTo>
                  <a:pt x="90" y="354"/>
                </a:lnTo>
                <a:lnTo>
                  <a:pt x="77" y="342"/>
                </a:lnTo>
                <a:lnTo>
                  <a:pt x="64" y="329"/>
                </a:lnTo>
                <a:lnTo>
                  <a:pt x="39" y="316"/>
                </a:lnTo>
                <a:lnTo>
                  <a:pt x="26" y="291"/>
                </a:lnTo>
                <a:lnTo>
                  <a:pt x="0" y="266"/>
                </a:lnTo>
                <a:lnTo>
                  <a:pt x="77" y="266"/>
                </a:lnTo>
                <a:lnTo>
                  <a:pt x="140" y="253"/>
                </a:lnTo>
                <a:lnTo>
                  <a:pt x="204" y="240"/>
                </a:lnTo>
                <a:lnTo>
                  <a:pt x="268" y="240"/>
                </a:lnTo>
                <a:lnTo>
                  <a:pt x="319" y="228"/>
                </a:lnTo>
                <a:lnTo>
                  <a:pt x="369" y="215"/>
                </a:lnTo>
                <a:lnTo>
                  <a:pt x="420" y="215"/>
                </a:lnTo>
                <a:lnTo>
                  <a:pt x="471" y="202"/>
                </a:lnTo>
                <a:lnTo>
                  <a:pt x="548" y="190"/>
                </a:lnTo>
                <a:lnTo>
                  <a:pt x="624" y="177"/>
                </a:lnTo>
                <a:lnTo>
                  <a:pt x="726" y="164"/>
                </a:lnTo>
                <a:lnTo>
                  <a:pt x="815" y="139"/>
                </a:lnTo>
                <a:lnTo>
                  <a:pt x="866" y="126"/>
                </a:lnTo>
                <a:lnTo>
                  <a:pt x="916" y="114"/>
                </a:lnTo>
                <a:lnTo>
                  <a:pt x="980" y="114"/>
                </a:lnTo>
                <a:lnTo>
                  <a:pt x="1031" y="101"/>
                </a:lnTo>
                <a:lnTo>
                  <a:pt x="1107" y="88"/>
                </a:lnTo>
                <a:lnTo>
                  <a:pt x="1171" y="76"/>
                </a:lnTo>
                <a:lnTo>
                  <a:pt x="1247" y="63"/>
                </a:lnTo>
                <a:lnTo>
                  <a:pt x="1324" y="5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7" name="Freeform 56"/>
          <p:cNvSpPr/>
          <p:nvPr/>
        </p:nvSpPr>
        <p:spPr>
          <a:xfrm>
            <a:off x="6559560" y="3229920"/>
            <a:ext cx="104400" cy="782640"/>
          </a:xfrm>
          <a:custGeom>
            <a:avLst/>
            <a:gdLst>
              <a:gd name="textAreaLeft" fmla="*/ 0 w 104400"/>
              <a:gd name="textAreaRight" fmla="*/ 104760 w 1044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66" h="925">
                <a:moveTo>
                  <a:pt x="13" y="102"/>
                </a:moveTo>
                <a:lnTo>
                  <a:pt x="0" y="63"/>
                </a:lnTo>
                <a:lnTo>
                  <a:pt x="13" y="38"/>
                </a:lnTo>
                <a:lnTo>
                  <a:pt x="13" y="13"/>
                </a:lnTo>
                <a:lnTo>
                  <a:pt x="26" y="0"/>
                </a:lnTo>
                <a:lnTo>
                  <a:pt x="39" y="0"/>
                </a:lnTo>
                <a:lnTo>
                  <a:pt x="51" y="0"/>
                </a:lnTo>
                <a:lnTo>
                  <a:pt x="77" y="13"/>
                </a:lnTo>
                <a:lnTo>
                  <a:pt x="89" y="13"/>
                </a:lnTo>
                <a:lnTo>
                  <a:pt x="115" y="25"/>
                </a:lnTo>
                <a:lnTo>
                  <a:pt x="140" y="38"/>
                </a:lnTo>
                <a:lnTo>
                  <a:pt x="166" y="51"/>
                </a:lnTo>
                <a:lnTo>
                  <a:pt x="166" y="114"/>
                </a:lnTo>
                <a:lnTo>
                  <a:pt x="166" y="178"/>
                </a:lnTo>
                <a:lnTo>
                  <a:pt x="166" y="241"/>
                </a:lnTo>
                <a:lnTo>
                  <a:pt x="166" y="304"/>
                </a:lnTo>
                <a:lnTo>
                  <a:pt x="166" y="355"/>
                </a:lnTo>
                <a:lnTo>
                  <a:pt x="153" y="406"/>
                </a:lnTo>
                <a:lnTo>
                  <a:pt x="153" y="456"/>
                </a:lnTo>
                <a:lnTo>
                  <a:pt x="153" y="507"/>
                </a:lnTo>
                <a:lnTo>
                  <a:pt x="153" y="545"/>
                </a:lnTo>
                <a:lnTo>
                  <a:pt x="153" y="583"/>
                </a:lnTo>
                <a:lnTo>
                  <a:pt x="153" y="621"/>
                </a:lnTo>
                <a:lnTo>
                  <a:pt x="153" y="659"/>
                </a:lnTo>
                <a:lnTo>
                  <a:pt x="140" y="684"/>
                </a:lnTo>
                <a:lnTo>
                  <a:pt x="140" y="710"/>
                </a:lnTo>
                <a:lnTo>
                  <a:pt x="140" y="735"/>
                </a:lnTo>
                <a:lnTo>
                  <a:pt x="140" y="760"/>
                </a:lnTo>
                <a:lnTo>
                  <a:pt x="140" y="798"/>
                </a:lnTo>
                <a:lnTo>
                  <a:pt x="128" y="836"/>
                </a:lnTo>
                <a:lnTo>
                  <a:pt x="128" y="862"/>
                </a:lnTo>
                <a:lnTo>
                  <a:pt x="115" y="887"/>
                </a:lnTo>
                <a:lnTo>
                  <a:pt x="115" y="900"/>
                </a:lnTo>
                <a:lnTo>
                  <a:pt x="102" y="912"/>
                </a:lnTo>
                <a:lnTo>
                  <a:pt x="102" y="925"/>
                </a:lnTo>
                <a:lnTo>
                  <a:pt x="89" y="925"/>
                </a:lnTo>
                <a:lnTo>
                  <a:pt x="77" y="912"/>
                </a:lnTo>
                <a:lnTo>
                  <a:pt x="77" y="900"/>
                </a:lnTo>
                <a:lnTo>
                  <a:pt x="64" y="887"/>
                </a:lnTo>
                <a:lnTo>
                  <a:pt x="64" y="874"/>
                </a:lnTo>
                <a:lnTo>
                  <a:pt x="51" y="862"/>
                </a:lnTo>
                <a:lnTo>
                  <a:pt x="51" y="836"/>
                </a:lnTo>
                <a:lnTo>
                  <a:pt x="51" y="811"/>
                </a:lnTo>
                <a:lnTo>
                  <a:pt x="39" y="786"/>
                </a:lnTo>
                <a:lnTo>
                  <a:pt x="39" y="760"/>
                </a:lnTo>
                <a:lnTo>
                  <a:pt x="26" y="722"/>
                </a:lnTo>
                <a:lnTo>
                  <a:pt x="26" y="684"/>
                </a:lnTo>
                <a:lnTo>
                  <a:pt x="26" y="646"/>
                </a:lnTo>
                <a:lnTo>
                  <a:pt x="26" y="596"/>
                </a:lnTo>
                <a:lnTo>
                  <a:pt x="26" y="558"/>
                </a:lnTo>
                <a:lnTo>
                  <a:pt x="39" y="507"/>
                </a:lnTo>
                <a:lnTo>
                  <a:pt x="39" y="469"/>
                </a:lnTo>
                <a:lnTo>
                  <a:pt x="39" y="418"/>
                </a:lnTo>
                <a:lnTo>
                  <a:pt x="39" y="380"/>
                </a:lnTo>
                <a:lnTo>
                  <a:pt x="39" y="342"/>
                </a:lnTo>
                <a:lnTo>
                  <a:pt x="39" y="317"/>
                </a:lnTo>
                <a:lnTo>
                  <a:pt x="39" y="279"/>
                </a:lnTo>
                <a:lnTo>
                  <a:pt x="39" y="254"/>
                </a:lnTo>
                <a:lnTo>
                  <a:pt x="39" y="203"/>
                </a:lnTo>
                <a:lnTo>
                  <a:pt x="26" y="165"/>
                </a:lnTo>
                <a:lnTo>
                  <a:pt x="13" y="127"/>
                </a:lnTo>
                <a:lnTo>
                  <a:pt x="13" y="10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Freeform 57"/>
          <p:cNvSpPr/>
          <p:nvPr/>
        </p:nvSpPr>
        <p:spPr>
          <a:xfrm>
            <a:off x="6923160" y="3960360"/>
            <a:ext cx="371160" cy="482400"/>
          </a:xfrm>
          <a:custGeom>
            <a:avLst/>
            <a:gdLst>
              <a:gd name="textAreaLeft" fmla="*/ 0 w 371160"/>
              <a:gd name="textAreaRight" fmla="*/ 371520 w 37116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585" h="570">
                <a:moveTo>
                  <a:pt x="0" y="12"/>
                </a:moveTo>
                <a:lnTo>
                  <a:pt x="0" y="12"/>
                </a:lnTo>
                <a:lnTo>
                  <a:pt x="13" y="0"/>
                </a:lnTo>
                <a:lnTo>
                  <a:pt x="25" y="0"/>
                </a:lnTo>
                <a:lnTo>
                  <a:pt x="51" y="0"/>
                </a:lnTo>
                <a:lnTo>
                  <a:pt x="64" y="12"/>
                </a:lnTo>
                <a:lnTo>
                  <a:pt x="89" y="12"/>
                </a:lnTo>
                <a:lnTo>
                  <a:pt x="127" y="25"/>
                </a:lnTo>
                <a:lnTo>
                  <a:pt x="165" y="38"/>
                </a:lnTo>
                <a:lnTo>
                  <a:pt x="229" y="63"/>
                </a:lnTo>
                <a:lnTo>
                  <a:pt x="293" y="88"/>
                </a:lnTo>
                <a:lnTo>
                  <a:pt x="343" y="114"/>
                </a:lnTo>
                <a:lnTo>
                  <a:pt x="394" y="139"/>
                </a:lnTo>
                <a:lnTo>
                  <a:pt x="432" y="165"/>
                </a:lnTo>
                <a:lnTo>
                  <a:pt x="471" y="203"/>
                </a:lnTo>
                <a:lnTo>
                  <a:pt x="496" y="228"/>
                </a:lnTo>
                <a:lnTo>
                  <a:pt x="522" y="266"/>
                </a:lnTo>
                <a:lnTo>
                  <a:pt x="547" y="291"/>
                </a:lnTo>
                <a:lnTo>
                  <a:pt x="560" y="329"/>
                </a:lnTo>
                <a:lnTo>
                  <a:pt x="572" y="380"/>
                </a:lnTo>
                <a:lnTo>
                  <a:pt x="572" y="431"/>
                </a:lnTo>
                <a:lnTo>
                  <a:pt x="585" y="456"/>
                </a:lnTo>
                <a:lnTo>
                  <a:pt x="585" y="481"/>
                </a:lnTo>
                <a:lnTo>
                  <a:pt x="585" y="494"/>
                </a:lnTo>
                <a:lnTo>
                  <a:pt x="585" y="519"/>
                </a:lnTo>
                <a:lnTo>
                  <a:pt x="585" y="532"/>
                </a:lnTo>
                <a:lnTo>
                  <a:pt x="585" y="545"/>
                </a:lnTo>
                <a:lnTo>
                  <a:pt x="585" y="557"/>
                </a:lnTo>
                <a:lnTo>
                  <a:pt x="572" y="557"/>
                </a:lnTo>
                <a:lnTo>
                  <a:pt x="572" y="570"/>
                </a:lnTo>
                <a:lnTo>
                  <a:pt x="560" y="570"/>
                </a:lnTo>
                <a:lnTo>
                  <a:pt x="547" y="570"/>
                </a:lnTo>
                <a:lnTo>
                  <a:pt x="534" y="570"/>
                </a:lnTo>
                <a:lnTo>
                  <a:pt x="522" y="570"/>
                </a:lnTo>
                <a:lnTo>
                  <a:pt x="509" y="557"/>
                </a:lnTo>
                <a:lnTo>
                  <a:pt x="483" y="545"/>
                </a:lnTo>
                <a:lnTo>
                  <a:pt x="471" y="519"/>
                </a:lnTo>
                <a:lnTo>
                  <a:pt x="432" y="494"/>
                </a:lnTo>
                <a:lnTo>
                  <a:pt x="407" y="456"/>
                </a:lnTo>
                <a:lnTo>
                  <a:pt x="369" y="418"/>
                </a:lnTo>
                <a:lnTo>
                  <a:pt x="331" y="380"/>
                </a:lnTo>
                <a:lnTo>
                  <a:pt x="280" y="329"/>
                </a:lnTo>
                <a:lnTo>
                  <a:pt x="242" y="279"/>
                </a:lnTo>
                <a:lnTo>
                  <a:pt x="203" y="241"/>
                </a:lnTo>
                <a:lnTo>
                  <a:pt x="178" y="203"/>
                </a:lnTo>
                <a:lnTo>
                  <a:pt x="140" y="177"/>
                </a:lnTo>
                <a:lnTo>
                  <a:pt x="114" y="139"/>
                </a:lnTo>
                <a:lnTo>
                  <a:pt x="89" y="126"/>
                </a:lnTo>
                <a:lnTo>
                  <a:pt x="76" y="101"/>
                </a:lnTo>
                <a:lnTo>
                  <a:pt x="51" y="88"/>
                </a:lnTo>
                <a:lnTo>
                  <a:pt x="38" y="63"/>
                </a:lnTo>
                <a:lnTo>
                  <a:pt x="25" y="50"/>
                </a:lnTo>
                <a:lnTo>
                  <a:pt x="13" y="38"/>
                </a:lnTo>
                <a:lnTo>
                  <a:pt x="0" y="38"/>
                </a:lnTo>
                <a:lnTo>
                  <a:pt x="0" y="25"/>
                </a:lnTo>
                <a:lnTo>
                  <a:pt x="0" y="1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9" name="Freeform 58"/>
          <p:cNvSpPr/>
          <p:nvPr/>
        </p:nvSpPr>
        <p:spPr>
          <a:xfrm>
            <a:off x="6624720" y="3166560"/>
            <a:ext cx="622080" cy="814680"/>
          </a:xfrm>
          <a:custGeom>
            <a:avLst/>
            <a:gdLst>
              <a:gd name="textAreaLeft" fmla="*/ 0 w 622080"/>
              <a:gd name="textAreaRight" fmla="*/ 622440 w 62208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980" h="963">
                <a:moveTo>
                  <a:pt x="445" y="178"/>
                </a:moveTo>
                <a:lnTo>
                  <a:pt x="382" y="190"/>
                </a:lnTo>
                <a:lnTo>
                  <a:pt x="318" y="203"/>
                </a:lnTo>
                <a:lnTo>
                  <a:pt x="255" y="203"/>
                </a:lnTo>
                <a:lnTo>
                  <a:pt x="204" y="203"/>
                </a:lnTo>
                <a:lnTo>
                  <a:pt x="153" y="216"/>
                </a:lnTo>
                <a:lnTo>
                  <a:pt x="102" y="216"/>
                </a:lnTo>
                <a:lnTo>
                  <a:pt x="51" y="216"/>
                </a:lnTo>
                <a:lnTo>
                  <a:pt x="0" y="216"/>
                </a:lnTo>
                <a:lnTo>
                  <a:pt x="0" y="127"/>
                </a:lnTo>
                <a:lnTo>
                  <a:pt x="77" y="127"/>
                </a:lnTo>
                <a:lnTo>
                  <a:pt x="140" y="127"/>
                </a:lnTo>
                <a:lnTo>
                  <a:pt x="204" y="127"/>
                </a:lnTo>
                <a:lnTo>
                  <a:pt x="255" y="114"/>
                </a:lnTo>
                <a:lnTo>
                  <a:pt x="280" y="114"/>
                </a:lnTo>
                <a:lnTo>
                  <a:pt x="306" y="101"/>
                </a:lnTo>
                <a:lnTo>
                  <a:pt x="344" y="101"/>
                </a:lnTo>
                <a:lnTo>
                  <a:pt x="369" y="101"/>
                </a:lnTo>
                <a:lnTo>
                  <a:pt x="407" y="89"/>
                </a:lnTo>
                <a:lnTo>
                  <a:pt x="445" y="89"/>
                </a:lnTo>
                <a:lnTo>
                  <a:pt x="484" y="76"/>
                </a:lnTo>
                <a:lnTo>
                  <a:pt x="535" y="63"/>
                </a:lnTo>
                <a:lnTo>
                  <a:pt x="573" y="63"/>
                </a:lnTo>
                <a:lnTo>
                  <a:pt x="611" y="63"/>
                </a:lnTo>
                <a:lnTo>
                  <a:pt x="636" y="51"/>
                </a:lnTo>
                <a:lnTo>
                  <a:pt x="662" y="51"/>
                </a:lnTo>
                <a:lnTo>
                  <a:pt x="687" y="38"/>
                </a:lnTo>
                <a:lnTo>
                  <a:pt x="700" y="38"/>
                </a:lnTo>
                <a:lnTo>
                  <a:pt x="713" y="25"/>
                </a:lnTo>
                <a:lnTo>
                  <a:pt x="725" y="25"/>
                </a:lnTo>
                <a:lnTo>
                  <a:pt x="725" y="13"/>
                </a:lnTo>
                <a:lnTo>
                  <a:pt x="738" y="13"/>
                </a:lnTo>
                <a:lnTo>
                  <a:pt x="764" y="0"/>
                </a:lnTo>
                <a:lnTo>
                  <a:pt x="776" y="0"/>
                </a:lnTo>
                <a:lnTo>
                  <a:pt x="789" y="0"/>
                </a:lnTo>
                <a:lnTo>
                  <a:pt x="802" y="0"/>
                </a:lnTo>
                <a:lnTo>
                  <a:pt x="814" y="13"/>
                </a:lnTo>
                <a:lnTo>
                  <a:pt x="840" y="25"/>
                </a:lnTo>
                <a:lnTo>
                  <a:pt x="878" y="51"/>
                </a:lnTo>
                <a:lnTo>
                  <a:pt x="916" y="76"/>
                </a:lnTo>
                <a:lnTo>
                  <a:pt x="954" y="89"/>
                </a:lnTo>
                <a:lnTo>
                  <a:pt x="967" y="114"/>
                </a:lnTo>
                <a:lnTo>
                  <a:pt x="980" y="127"/>
                </a:lnTo>
                <a:lnTo>
                  <a:pt x="980" y="139"/>
                </a:lnTo>
                <a:lnTo>
                  <a:pt x="980" y="152"/>
                </a:lnTo>
                <a:lnTo>
                  <a:pt x="954" y="178"/>
                </a:lnTo>
                <a:lnTo>
                  <a:pt x="954" y="203"/>
                </a:lnTo>
                <a:lnTo>
                  <a:pt x="942" y="216"/>
                </a:lnTo>
                <a:lnTo>
                  <a:pt x="942" y="241"/>
                </a:lnTo>
                <a:lnTo>
                  <a:pt x="942" y="279"/>
                </a:lnTo>
                <a:lnTo>
                  <a:pt x="942" y="317"/>
                </a:lnTo>
                <a:lnTo>
                  <a:pt x="929" y="368"/>
                </a:lnTo>
                <a:lnTo>
                  <a:pt x="942" y="406"/>
                </a:lnTo>
                <a:lnTo>
                  <a:pt x="942" y="469"/>
                </a:lnTo>
                <a:lnTo>
                  <a:pt x="942" y="532"/>
                </a:lnTo>
                <a:lnTo>
                  <a:pt x="942" y="583"/>
                </a:lnTo>
                <a:lnTo>
                  <a:pt x="929" y="634"/>
                </a:lnTo>
                <a:lnTo>
                  <a:pt x="929" y="684"/>
                </a:lnTo>
                <a:lnTo>
                  <a:pt x="929" y="722"/>
                </a:lnTo>
                <a:lnTo>
                  <a:pt x="929" y="760"/>
                </a:lnTo>
                <a:lnTo>
                  <a:pt x="916" y="798"/>
                </a:lnTo>
                <a:lnTo>
                  <a:pt x="916" y="836"/>
                </a:lnTo>
                <a:lnTo>
                  <a:pt x="903" y="862"/>
                </a:lnTo>
                <a:lnTo>
                  <a:pt x="903" y="887"/>
                </a:lnTo>
                <a:lnTo>
                  <a:pt x="891" y="912"/>
                </a:lnTo>
                <a:lnTo>
                  <a:pt x="891" y="925"/>
                </a:lnTo>
                <a:lnTo>
                  <a:pt x="878" y="938"/>
                </a:lnTo>
                <a:lnTo>
                  <a:pt x="878" y="950"/>
                </a:lnTo>
                <a:lnTo>
                  <a:pt x="865" y="963"/>
                </a:lnTo>
                <a:lnTo>
                  <a:pt x="853" y="963"/>
                </a:lnTo>
                <a:lnTo>
                  <a:pt x="840" y="950"/>
                </a:lnTo>
                <a:lnTo>
                  <a:pt x="827" y="938"/>
                </a:lnTo>
                <a:lnTo>
                  <a:pt x="814" y="925"/>
                </a:lnTo>
                <a:lnTo>
                  <a:pt x="814" y="912"/>
                </a:lnTo>
                <a:lnTo>
                  <a:pt x="802" y="887"/>
                </a:lnTo>
                <a:lnTo>
                  <a:pt x="802" y="874"/>
                </a:lnTo>
                <a:lnTo>
                  <a:pt x="789" y="824"/>
                </a:lnTo>
                <a:lnTo>
                  <a:pt x="776" y="786"/>
                </a:lnTo>
                <a:lnTo>
                  <a:pt x="776" y="748"/>
                </a:lnTo>
                <a:lnTo>
                  <a:pt x="789" y="710"/>
                </a:lnTo>
                <a:lnTo>
                  <a:pt x="789" y="684"/>
                </a:lnTo>
                <a:lnTo>
                  <a:pt x="789" y="634"/>
                </a:lnTo>
                <a:lnTo>
                  <a:pt x="802" y="596"/>
                </a:lnTo>
                <a:lnTo>
                  <a:pt x="802" y="532"/>
                </a:lnTo>
                <a:lnTo>
                  <a:pt x="802" y="482"/>
                </a:lnTo>
                <a:lnTo>
                  <a:pt x="789" y="431"/>
                </a:lnTo>
                <a:lnTo>
                  <a:pt x="789" y="368"/>
                </a:lnTo>
                <a:lnTo>
                  <a:pt x="789" y="292"/>
                </a:lnTo>
                <a:lnTo>
                  <a:pt x="776" y="266"/>
                </a:lnTo>
                <a:lnTo>
                  <a:pt x="776" y="241"/>
                </a:lnTo>
                <a:lnTo>
                  <a:pt x="776" y="216"/>
                </a:lnTo>
                <a:lnTo>
                  <a:pt x="764" y="190"/>
                </a:lnTo>
                <a:lnTo>
                  <a:pt x="764" y="178"/>
                </a:lnTo>
                <a:lnTo>
                  <a:pt x="751" y="165"/>
                </a:lnTo>
                <a:lnTo>
                  <a:pt x="751" y="152"/>
                </a:lnTo>
                <a:lnTo>
                  <a:pt x="738" y="152"/>
                </a:lnTo>
                <a:lnTo>
                  <a:pt x="725" y="139"/>
                </a:lnTo>
                <a:lnTo>
                  <a:pt x="713" y="139"/>
                </a:lnTo>
                <a:lnTo>
                  <a:pt x="687" y="139"/>
                </a:lnTo>
                <a:lnTo>
                  <a:pt x="649" y="152"/>
                </a:lnTo>
                <a:lnTo>
                  <a:pt x="611" y="152"/>
                </a:lnTo>
                <a:lnTo>
                  <a:pt x="560" y="165"/>
                </a:lnTo>
                <a:lnTo>
                  <a:pt x="509" y="165"/>
                </a:lnTo>
                <a:lnTo>
                  <a:pt x="445" y="178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Freeform 59"/>
          <p:cNvSpPr/>
          <p:nvPr/>
        </p:nvSpPr>
        <p:spPr>
          <a:xfrm>
            <a:off x="6049800" y="3198240"/>
            <a:ext cx="299520" cy="149760"/>
          </a:xfrm>
          <a:custGeom>
            <a:avLst/>
            <a:gdLst>
              <a:gd name="textAreaLeft" fmla="*/ 0 w 299520"/>
              <a:gd name="textAreaRight" fmla="*/ 299880 w 299520"/>
              <a:gd name="textAreaTop" fmla="*/ 0 h 149760"/>
              <a:gd name="textAreaBottom" fmla="*/ 150120 h 149760"/>
            </a:gdLst>
            <a:ahLst/>
            <a:rect l="textAreaLeft" t="textAreaTop" r="textAreaRight" b="textAreaBottom"/>
            <a:pathLst>
              <a:path w="471" h="178">
                <a:moveTo>
                  <a:pt x="229" y="25"/>
                </a:moveTo>
                <a:lnTo>
                  <a:pt x="267" y="13"/>
                </a:lnTo>
                <a:lnTo>
                  <a:pt x="305" y="0"/>
                </a:lnTo>
                <a:lnTo>
                  <a:pt x="356" y="0"/>
                </a:lnTo>
                <a:lnTo>
                  <a:pt x="394" y="0"/>
                </a:lnTo>
                <a:lnTo>
                  <a:pt x="407" y="0"/>
                </a:lnTo>
                <a:lnTo>
                  <a:pt x="432" y="0"/>
                </a:lnTo>
                <a:lnTo>
                  <a:pt x="445" y="0"/>
                </a:lnTo>
                <a:lnTo>
                  <a:pt x="445" y="13"/>
                </a:lnTo>
                <a:lnTo>
                  <a:pt x="458" y="13"/>
                </a:lnTo>
                <a:lnTo>
                  <a:pt x="471" y="25"/>
                </a:lnTo>
                <a:lnTo>
                  <a:pt x="471" y="38"/>
                </a:lnTo>
                <a:lnTo>
                  <a:pt x="471" y="51"/>
                </a:lnTo>
                <a:lnTo>
                  <a:pt x="458" y="51"/>
                </a:lnTo>
                <a:lnTo>
                  <a:pt x="458" y="63"/>
                </a:lnTo>
                <a:lnTo>
                  <a:pt x="445" y="76"/>
                </a:lnTo>
                <a:lnTo>
                  <a:pt x="420" y="76"/>
                </a:lnTo>
                <a:lnTo>
                  <a:pt x="407" y="89"/>
                </a:lnTo>
                <a:lnTo>
                  <a:pt x="382" y="89"/>
                </a:lnTo>
                <a:lnTo>
                  <a:pt x="356" y="101"/>
                </a:lnTo>
                <a:lnTo>
                  <a:pt x="318" y="114"/>
                </a:lnTo>
                <a:lnTo>
                  <a:pt x="293" y="114"/>
                </a:lnTo>
                <a:lnTo>
                  <a:pt x="242" y="127"/>
                </a:lnTo>
                <a:lnTo>
                  <a:pt x="203" y="140"/>
                </a:lnTo>
                <a:lnTo>
                  <a:pt x="165" y="152"/>
                </a:lnTo>
                <a:lnTo>
                  <a:pt x="114" y="152"/>
                </a:lnTo>
                <a:lnTo>
                  <a:pt x="51" y="165"/>
                </a:lnTo>
                <a:lnTo>
                  <a:pt x="0" y="178"/>
                </a:lnTo>
                <a:lnTo>
                  <a:pt x="0" y="51"/>
                </a:lnTo>
                <a:lnTo>
                  <a:pt x="64" y="51"/>
                </a:lnTo>
                <a:lnTo>
                  <a:pt x="127" y="51"/>
                </a:lnTo>
                <a:lnTo>
                  <a:pt x="178" y="38"/>
                </a:lnTo>
                <a:lnTo>
                  <a:pt x="229" y="2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Freeform 60"/>
          <p:cNvSpPr/>
          <p:nvPr/>
        </p:nvSpPr>
        <p:spPr>
          <a:xfrm>
            <a:off x="6365880" y="3433320"/>
            <a:ext cx="597960" cy="1019880"/>
          </a:xfrm>
          <a:custGeom>
            <a:avLst/>
            <a:gdLst>
              <a:gd name="textAreaLeft" fmla="*/ 0 w 597960"/>
              <a:gd name="textAreaRight" fmla="*/ 598320 w 597960"/>
              <a:gd name="textAreaTop" fmla="*/ 0 h 1019880"/>
              <a:gd name="textAreaBottom" fmla="*/ 1020240 h 1019880"/>
            </a:gdLst>
            <a:ahLst/>
            <a:rect l="textAreaLeft" t="textAreaTop" r="textAreaRight" b="textAreaBottom"/>
            <a:pathLst>
              <a:path w="942" h="1204">
                <a:moveTo>
                  <a:pt x="865" y="443"/>
                </a:moveTo>
                <a:lnTo>
                  <a:pt x="852" y="494"/>
                </a:lnTo>
                <a:lnTo>
                  <a:pt x="840" y="545"/>
                </a:lnTo>
                <a:lnTo>
                  <a:pt x="827" y="583"/>
                </a:lnTo>
                <a:lnTo>
                  <a:pt x="802" y="633"/>
                </a:lnTo>
                <a:lnTo>
                  <a:pt x="789" y="684"/>
                </a:lnTo>
                <a:lnTo>
                  <a:pt x="763" y="722"/>
                </a:lnTo>
                <a:lnTo>
                  <a:pt x="713" y="798"/>
                </a:lnTo>
                <a:lnTo>
                  <a:pt x="674" y="836"/>
                </a:lnTo>
                <a:lnTo>
                  <a:pt x="649" y="874"/>
                </a:lnTo>
                <a:lnTo>
                  <a:pt x="585" y="950"/>
                </a:lnTo>
                <a:lnTo>
                  <a:pt x="547" y="976"/>
                </a:lnTo>
                <a:lnTo>
                  <a:pt x="509" y="1001"/>
                </a:lnTo>
                <a:lnTo>
                  <a:pt x="471" y="1026"/>
                </a:lnTo>
                <a:lnTo>
                  <a:pt x="433" y="1052"/>
                </a:lnTo>
                <a:lnTo>
                  <a:pt x="394" y="1077"/>
                </a:lnTo>
                <a:lnTo>
                  <a:pt x="356" y="1090"/>
                </a:lnTo>
                <a:lnTo>
                  <a:pt x="280" y="1128"/>
                </a:lnTo>
                <a:lnTo>
                  <a:pt x="204" y="1153"/>
                </a:lnTo>
                <a:lnTo>
                  <a:pt x="140" y="1178"/>
                </a:lnTo>
                <a:lnTo>
                  <a:pt x="102" y="1191"/>
                </a:lnTo>
                <a:lnTo>
                  <a:pt x="76" y="1191"/>
                </a:lnTo>
                <a:lnTo>
                  <a:pt x="64" y="1204"/>
                </a:lnTo>
                <a:lnTo>
                  <a:pt x="38" y="1204"/>
                </a:lnTo>
                <a:lnTo>
                  <a:pt x="26" y="1204"/>
                </a:lnTo>
                <a:lnTo>
                  <a:pt x="13" y="1204"/>
                </a:lnTo>
                <a:lnTo>
                  <a:pt x="0" y="1204"/>
                </a:lnTo>
                <a:lnTo>
                  <a:pt x="0" y="1191"/>
                </a:lnTo>
                <a:lnTo>
                  <a:pt x="13" y="1191"/>
                </a:lnTo>
                <a:lnTo>
                  <a:pt x="26" y="1178"/>
                </a:lnTo>
                <a:lnTo>
                  <a:pt x="51" y="1166"/>
                </a:lnTo>
                <a:lnTo>
                  <a:pt x="76" y="1140"/>
                </a:lnTo>
                <a:lnTo>
                  <a:pt x="115" y="1115"/>
                </a:lnTo>
                <a:lnTo>
                  <a:pt x="153" y="1090"/>
                </a:lnTo>
                <a:lnTo>
                  <a:pt x="204" y="1064"/>
                </a:lnTo>
                <a:lnTo>
                  <a:pt x="255" y="1039"/>
                </a:lnTo>
                <a:lnTo>
                  <a:pt x="305" y="1001"/>
                </a:lnTo>
                <a:lnTo>
                  <a:pt x="356" y="976"/>
                </a:lnTo>
                <a:lnTo>
                  <a:pt x="394" y="938"/>
                </a:lnTo>
                <a:lnTo>
                  <a:pt x="433" y="900"/>
                </a:lnTo>
                <a:lnTo>
                  <a:pt x="471" y="862"/>
                </a:lnTo>
                <a:lnTo>
                  <a:pt x="509" y="824"/>
                </a:lnTo>
                <a:lnTo>
                  <a:pt x="547" y="786"/>
                </a:lnTo>
                <a:lnTo>
                  <a:pt x="573" y="747"/>
                </a:lnTo>
                <a:lnTo>
                  <a:pt x="611" y="709"/>
                </a:lnTo>
                <a:lnTo>
                  <a:pt x="636" y="659"/>
                </a:lnTo>
                <a:lnTo>
                  <a:pt x="662" y="608"/>
                </a:lnTo>
                <a:lnTo>
                  <a:pt x="687" y="557"/>
                </a:lnTo>
                <a:lnTo>
                  <a:pt x="700" y="507"/>
                </a:lnTo>
                <a:lnTo>
                  <a:pt x="713" y="456"/>
                </a:lnTo>
                <a:lnTo>
                  <a:pt x="725" y="393"/>
                </a:lnTo>
                <a:lnTo>
                  <a:pt x="738" y="342"/>
                </a:lnTo>
                <a:lnTo>
                  <a:pt x="751" y="291"/>
                </a:lnTo>
                <a:lnTo>
                  <a:pt x="751" y="241"/>
                </a:lnTo>
                <a:lnTo>
                  <a:pt x="751" y="203"/>
                </a:lnTo>
                <a:lnTo>
                  <a:pt x="751" y="165"/>
                </a:lnTo>
                <a:lnTo>
                  <a:pt x="751" y="139"/>
                </a:lnTo>
                <a:lnTo>
                  <a:pt x="751" y="114"/>
                </a:lnTo>
                <a:lnTo>
                  <a:pt x="738" y="89"/>
                </a:lnTo>
                <a:lnTo>
                  <a:pt x="725" y="63"/>
                </a:lnTo>
                <a:lnTo>
                  <a:pt x="725" y="38"/>
                </a:lnTo>
                <a:lnTo>
                  <a:pt x="725" y="13"/>
                </a:lnTo>
                <a:lnTo>
                  <a:pt x="738" y="0"/>
                </a:lnTo>
                <a:lnTo>
                  <a:pt x="751" y="0"/>
                </a:lnTo>
                <a:lnTo>
                  <a:pt x="763" y="0"/>
                </a:lnTo>
                <a:lnTo>
                  <a:pt x="776" y="0"/>
                </a:lnTo>
                <a:lnTo>
                  <a:pt x="814" y="13"/>
                </a:lnTo>
                <a:lnTo>
                  <a:pt x="852" y="38"/>
                </a:lnTo>
                <a:lnTo>
                  <a:pt x="891" y="63"/>
                </a:lnTo>
                <a:lnTo>
                  <a:pt x="903" y="76"/>
                </a:lnTo>
                <a:lnTo>
                  <a:pt x="916" y="76"/>
                </a:lnTo>
                <a:lnTo>
                  <a:pt x="929" y="89"/>
                </a:lnTo>
                <a:lnTo>
                  <a:pt x="929" y="101"/>
                </a:lnTo>
                <a:lnTo>
                  <a:pt x="942" y="114"/>
                </a:lnTo>
                <a:lnTo>
                  <a:pt x="942" y="139"/>
                </a:lnTo>
                <a:lnTo>
                  <a:pt x="929" y="152"/>
                </a:lnTo>
                <a:lnTo>
                  <a:pt x="929" y="177"/>
                </a:lnTo>
                <a:lnTo>
                  <a:pt x="916" y="203"/>
                </a:lnTo>
                <a:lnTo>
                  <a:pt x="916" y="215"/>
                </a:lnTo>
                <a:lnTo>
                  <a:pt x="903" y="228"/>
                </a:lnTo>
                <a:lnTo>
                  <a:pt x="903" y="253"/>
                </a:lnTo>
                <a:lnTo>
                  <a:pt x="891" y="291"/>
                </a:lnTo>
                <a:lnTo>
                  <a:pt x="891" y="317"/>
                </a:lnTo>
                <a:lnTo>
                  <a:pt x="878" y="355"/>
                </a:lnTo>
                <a:lnTo>
                  <a:pt x="865" y="405"/>
                </a:lnTo>
                <a:lnTo>
                  <a:pt x="865" y="44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2" name="Freeform 61"/>
          <p:cNvSpPr/>
          <p:nvPr/>
        </p:nvSpPr>
        <p:spPr>
          <a:xfrm>
            <a:off x="6931080" y="2618280"/>
            <a:ext cx="306000" cy="632520"/>
          </a:xfrm>
          <a:custGeom>
            <a:avLst/>
            <a:gdLst>
              <a:gd name="textAreaLeft" fmla="*/ 0 w 306000"/>
              <a:gd name="textAreaRight" fmla="*/ 306360 w 306000"/>
              <a:gd name="textAreaTop" fmla="*/ 0 h 632520"/>
              <a:gd name="textAreaBottom" fmla="*/ 632880 h 632520"/>
            </a:gdLst>
            <a:ahLst/>
            <a:rect l="textAreaLeft" t="textAreaTop" r="textAreaRight" b="textAreaBottom"/>
            <a:pathLst>
              <a:path w="483" h="747">
                <a:moveTo>
                  <a:pt x="0" y="747"/>
                </a:moveTo>
                <a:lnTo>
                  <a:pt x="25" y="697"/>
                </a:lnTo>
                <a:lnTo>
                  <a:pt x="51" y="633"/>
                </a:lnTo>
                <a:lnTo>
                  <a:pt x="89" y="583"/>
                </a:lnTo>
                <a:lnTo>
                  <a:pt x="114" y="545"/>
                </a:lnTo>
                <a:lnTo>
                  <a:pt x="140" y="494"/>
                </a:lnTo>
                <a:lnTo>
                  <a:pt x="152" y="456"/>
                </a:lnTo>
                <a:lnTo>
                  <a:pt x="178" y="418"/>
                </a:lnTo>
                <a:lnTo>
                  <a:pt x="203" y="380"/>
                </a:lnTo>
                <a:lnTo>
                  <a:pt x="216" y="342"/>
                </a:lnTo>
                <a:lnTo>
                  <a:pt x="229" y="317"/>
                </a:lnTo>
                <a:lnTo>
                  <a:pt x="241" y="291"/>
                </a:lnTo>
                <a:lnTo>
                  <a:pt x="254" y="266"/>
                </a:lnTo>
                <a:lnTo>
                  <a:pt x="267" y="241"/>
                </a:lnTo>
                <a:lnTo>
                  <a:pt x="267" y="228"/>
                </a:lnTo>
                <a:lnTo>
                  <a:pt x="280" y="215"/>
                </a:lnTo>
                <a:lnTo>
                  <a:pt x="280" y="203"/>
                </a:lnTo>
                <a:lnTo>
                  <a:pt x="280" y="165"/>
                </a:lnTo>
                <a:lnTo>
                  <a:pt x="292" y="127"/>
                </a:lnTo>
                <a:lnTo>
                  <a:pt x="280" y="101"/>
                </a:lnTo>
                <a:lnTo>
                  <a:pt x="280" y="76"/>
                </a:lnTo>
                <a:lnTo>
                  <a:pt x="267" y="51"/>
                </a:lnTo>
                <a:lnTo>
                  <a:pt x="267" y="38"/>
                </a:lnTo>
                <a:lnTo>
                  <a:pt x="267" y="13"/>
                </a:lnTo>
                <a:lnTo>
                  <a:pt x="280" y="13"/>
                </a:lnTo>
                <a:lnTo>
                  <a:pt x="280" y="0"/>
                </a:lnTo>
                <a:lnTo>
                  <a:pt x="292" y="0"/>
                </a:lnTo>
                <a:lnTo>
                  <a:pt x="305" y="0"/>
                </a:lnTo>
                <a:lnTo>
                  <a:pt x="318" y="13"/>
                </a:lnTo>
                <a:lnTo>
                  <a:pt x="356" y="25"/>
                </a:lnTo>
                <a:lnTo>
                  <a:pt x="394" y="38"/>
                </a:lnTo>
                <a:lnTo>
                  <a:pt x="432" y="63"/>
                </a:lnTo>
                <a:lnTo>
                  <a:pt x="458" y="89"/>
                </a:lnTo>
                <a:lnTo>
                  <a:pt x="470" y="101"/>
                </a:lnTo>
                <a:lnTo>
                  <a:pt x="483" y="127"/>
                </a:lnTo>
                <a:lnTo>
                  <a:pt x="483" y="139"/>
                </a:lnTo>
                <a:lnTo>
                  <a:pt x="470" y="177"/>
                </a:lnTo>
                <a:lnTo>
                  <a:pt x="458" y="215"/>
                </a:lnTo>
                <a:lnTo>
                  <a:pt x="432" y="253"/>
                </a:lnTo>
                <a:lnTo>
                  <a:pt x="419" y="291"/>
                </a:lnTo>
                <a:lnTo>
                  <a:pt x="394" y="317"/>
                </a:lnTo>
                <a:lnTo>
                  <a:pt x="369" y="355"/>
                </a:lnTo>
                <a:lnTo>
                  <a:pt x="343" y="380"/>
                </a:lnTo>
                <a:lnTo>
                  <a:pt x="318" y="418"/>
                </a:lnTo>
                <a:lnTo>
                  <a:pt x="280" y="469"/>
                </a:lnTo>
                <a:lnTo>
                  <a:pt x="254" y="507"/>
                </a:lnTo>
                <a:lnTo>
                  <a:pt x="216" y="557"/>
                </a:lnTo>
                <a:lnTo>
                  <a:pt x="178" y="608"/>
                </a:lnTo>
                <a:lnTo>
                  <a:pt x="140" y="646"/>
                </a:lnTo>
                <a:lnTo>
                  <a:pt x="114" y="684"/>
                </a:lnTo>
                <a:lnTo>
                  <a:pt x="89" y="709"/>
                </a:lnTo>
                <a:lnTo>
                  <a:pt x="51" y="735"/>
                </a:lnTo>
                <a:lnTo>
                  <a:pt x="38" y="747"/>
                </a:lnTo>
                <a:lnTo>
                  <a:pt x="12" y="747"/>
                </a:lnTo>
                <a:lnTo>
                  <a:pt x="0" y="747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Freeform 52"/>
          <p:cNvSpPr/>
          <p:nvPr/>
        </p:nvSpPr>
        <p:spPr>
          <a:xfrm>
            <a:off x="6543720" y="2747520"/>
            <a:ext cx="169560" cy="450360"/>
          </a:xfrm>
          <a:custGeom>
            <a:avLst/>
            <a:gdLst>
              <a:gd name="textAreaLeft" fmla="*/ 0 w 169560"/>
              <a:gd name="textAreaRight" fmla="*/ 169920 w 169560"/>
              <a:gd name="textAreaTop" fmla="*/ 0 h 450360"/>
              <a:gd name="textAreaBottom" fmla="*/ 450720 h 450360"/>
            </a:gdLst>
            <a:ahLst/>
            <a:rect l="textAreaLeft" t="textAreaTop" r="textAreaRight" b="textAreaBottom"/>
            <a:pathLst>
              <a:path w="267" h="532">
                <a:moveTo>
                  <a:pt x="0" y="13"/>
                </a:moveTo>
                <a:lnTo>
                  <a:pt x="13" y="13"/>
                </a:lnTo>
                <a:lnTo>
                  <a:pt x="13" y="0"/>
                </a:lnTo>
                <a:lnTo>
                  <a:pt x="25" y="0"/>
                </a:lnTo>
                <a:lnTo>
                  <a:pt x="38" y="0"/>
                </a:lnTo>
                <a:lnTo>
                  <a:pt x="64" y="0"/>
                </a:lnTo>
                <a:lnTo>
                  <a:pt x="76" y="0"/>
                </a:lnTo>
                <a:lnTo>
                  <a:pt x="102" y="0"/>
                </a:lnTo>
                <a:lnTo>
                  <a:pt x="127" y="0"/>
                </a:lnTo>
                <a:lnTo>
                  <a:pt x="165" y="25"/>
                </a:lnTo>
                <a:lnTo>
                  <a:pt x="191" y="38"/>
                </a:lnTo>
                <a:lnTo>
                  <a:pt x="204" y="38"/>
                </a:lnTo>
                <a:lnTo>
                  <a:pt x="216" y="51"/>
                </a:lnTo>
                <a:lnTo>
                  <a:pt x="229" y="51"/>
                </a:lnTo>
                <a:lnTo>
                  <a:pt x="229" y="63"/>
                </a:lnTo>
                <a:lnTo>
                  <a:pt x="242" y="76"/>
                </a:lnTo>
                <a:lnTo>
                  <a:pt x="242" y="89"/>
                </a:lnTo>
                <a:lnTo>
                  <a:pt x="242" y="114"/>
                </a:lnTo>
                <a:lnTo>
                  <a:pt x="242" y="139"/>
                </a:lnTo>
                <a:lnTo>
                  <a:pt x="254" y="177"/>
                </a:lnTo>
                <a:lnTo>
                  <a:pt x="254" y="215"/>
                </a:lnTo>
                <a:lnTo>
                  <a:pt x="254" y="253"/>
                </a:lnTo>
                <a:lnTo>
                  <a:pt x="267" y="317"/>
                </a:lnTo>
                <a:lnTo>
                  <a:pt x="267" y="367"/>
                </a:lnTo>
                <a:lnTo>
                  <a:pt x="267" y="405"/>
                </a:lnTo>
                <a:lnTo>
                  <a:pt x="267" y="443"/>
                </a:lnTo>
                <a:lnTo>
                  <a:pt x="267" y="481"/>
                </a:lnTo>
                <a:lnTo>
                  <a:pt x="267" y="494"/>
                </a:lnTo>
                <a:lnTo>
                  <a:pt x="267" y="519"/>
                </a:lnTo>
                <a:lnTo>
                  <a:pt x="254" y="519"/>
                </a:lnTo>
                <a:lnTo>
                  <a:pt x="254" y="532"/>
                </a:lnTo>
                <a:lnTo>
                  <a:pt x="242" y="532"/>
                </a:lnTo>
                <a:lnTo>
                  <a:pt x="242" y="519"/>
                </a:lnTo>
                <a:lnTo>
                  <a:pt x="229" y="507"/>
                </a:lnTo>
                <a:lnTo>
                  <a:pt x="216" y="494"/>
                </a:lnTo>
                <a:lnTo>
                  <a:pt x="216" y="481"/>
                </a:lnTo>
                <a:lnTo>
                  <a:pt x="204" y="456"/>
                </a:lnTo>
                <a:lnTo>
                  <a:pt x="191" y="431"/>
                </a:lnTo>
                <a:lnTo>
                  <a:pt x="191" y="405"/>
                </a:lnTo>
                <a:lnTo>
                  <a:pt x="165" y="342"/>
                </a:lnTo>
                <a:lnTo>
                  <a:pt x="140" y="291"/>
                </a:lnTo>
                <a:lnTo>
                  <a:pt x="127" y="228"/>
                </a:lnTo>
                <a:lnTo>
                  <a:pt x="114" y="177"/>
                </a:lnTo>
                <a:lnTo>
                  <a:pt x="102" y="152"/>
                </a:lnTo>
                <a:lnTo>
                  <a:pt x="89" y="127"/>
                </a:lnTo>
                <a:lnTo>
                  <a:pt x="89" y="114"/>
                </a:lnTo>
                <a:lnTo>
                  <a:pt x="76" y="101"/>
                </a:lnTo>
                <a:lnTo>
                  <a:pt x="64" y="89"/>
                </a:lnTo>
                <a:lnTo>
                  <a:pt x="51" y="76"/>
                </a:lnTo>
                <a:lnTo>
                  <a:pt x="51" y="63"/>
                </a:lnTo>
                <a:lnTo>
                  <a:pt x="38" y="63"/>
                </a:lnTo>
                <a:lnTo>
                  <a:pt x="13" y="51"/>
                </a:lnTo>
                <a:lnTo>
                  <a:pt x="0" y="38"/>
                </a:lnTo>
                <a:lnTo>
                  <a:pt x="0" y="25"/>
                </a:lnTo>
                <a:lnTo>
                  <a:pt x="0" y="1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604800" y="2336760"/>
            <a:ext cx="20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喷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"/>
          <p:cNvSpPr/>
          <p:nvPr/>
        </p:nvSpPr>
        <p:spPr>
          <a:xfrm>
            <a:off x="5154480" y="4942440"/>
            <a:ext cx="332244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书写指导：右边要写紧凑，十字稍小、居中，艹的横要长，贝字稍宽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4"/>
          <p:cNvSpPr/>
          <p:nvPr/>
        </p:nvSpPr>
        <p:spPr>
          <a:xfrm>
            <a:off x="3077280" y="255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2700360" y="1585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ē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9"/>
          <p:cNvSpPr/>
          <p:nvPr/>
        </p:nvSpPr>
        <p:spPr>
          <a:xfrm>
            <a:off x="716040" y="4167720"/>
            <a:ext cx="23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0"/>
          <p:cNvSpPr/>
          <p:nvPr/>
        </p:nvSpPr>
        <p:spPr>
          <a:xfrm>
            <a:off x="716040" y="527688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喷出   血口喷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1"/>
          <p:cNvSpPr/>
          <p:nvPr/>
        </p:nvSpPr>
        <p:spPr>
          <a:xfrm>
            <a:off x="716040" y="5831280"/>
            <a:ext cx="451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耕地的老牛累得直喷气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2"/>
          <p:cNvSpPr/>
          <p:nvPr/>
        </p:nvSpPr>
        <p:spPr>
          <a:xfrm>
            <a:off x="716040" y="4724280"/>
            <a:ext cx="290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283" name="圆角矩形 34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285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972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Group 47"/>
          <p:cNvGraphicFramePr/>
          <p:nvPr/>
        </p:nvGraphicFramePr>
        <p:xfrm>
          <a:off x="5478480" y="1786320"/>
          <a:ext cx="2590560" cy="3039120"/>
        </p:xfrm>
        <a:graphic>
          <a:graphicData uri="http://schemas.openxmlformats.org/drawingml/2006/table">
            <a:tbl>
              <a:tblPr/>
              <a:tblGrid>
                <a:gridCol w="1284120"/>
                <a:gridCol w="1306080"/>
              </a:tblGrid>
              <a:tr h="151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24"/>
          <p:cNvSpPr/>
          <p:nvPr/>
        </p:nvSpPr>
        <p:spPr>
          <a:xfrm>
            <a:off x="5868720" y="213156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8"/>
          <p:cNvSpPr/>
          <p:nvPr/>
        </p:nvSpPr>
        <p:spPr>
          <a:xfrm>
            <a:off x="5967360" y="2840400"/>
            <a:ext cx="669600" cy="310680"/>
          </a:xfrm>
          <a:custGeom>
            <a:avLst/>
            <a:gdLst>
              <a:gd name="textAreaLeft" fmla="*/ 0 w 669600"/>
              <a:gd name="textAreaRight" fmla="*/ 669960 w 669600"/>
              <a:gd name="textAreaTop" fmla="*/ 0 h 310680"/>
              <a:gd name="textAreaBottom" fmla="*/ 311040 h 310680"/>
            </a:gdLst>
            <a:ahLst/>
            <a:rect l="textAreaLeft" t="textAreaTop" r="textAreaRight" b="textAreaBottom"/>
            <a:pathLst>
              <a:path w="1056" h="367">
                <a:moveTo>
                  <a:pt x="446" y="139"/>
                </a:moveTo>
                <a:lnTo>
                  <a:pt x="496" y="126"/>
                </a:lnTo>
                <a:lnTo>
                  <a:pt x="547" y="114"/>
                </a:lnTo>
                <a:lnTo>
                  <a:pt x="598" y="101"/>
                </a:lnTo>
                <a:lnTo>
                  <a:pt x="636" y="88"/>
                </a:lnTo>
                <a:lnTo>
                  <a:pt x="687" y="76"/>
                </a:lnTo>
                <a:lnTo>
                  <a:pt x="725" y="63"/>
                </a:lnTo>
                <a:lnTo>
                  <a:pt x="751" y="50"/>
                </a:lnTo>
                <a:lnTo>
                  <a:pt x="789" y="50"/>
                </a:lnTo>
                <a:lnTo>
                  <a:pt x="814" y="38"/>
                </a:lnTo>
                <a:lnTo>
                  <a:pt x="840" y="38"/>
                </a:lnTo>
                <a:lnTo>
                  <a:pt x="865" y="25"/>
                </a:lnTo>
                <a:lnTo>
                  <a:pt x="891" y="25"/>
                </a:lnTo>
                <a:lnTo>
                  <a:pt x="904" y="25"/>
                </a:lnTo>
                <a:lnTo>
                  <a:pt x="916" y="12"/>
                </a:lnTo>
                <a:lnTo>
                  <a:pt x="929" y="12"/>
                </a:lnTo>
                <a:lnTo>
                  <a:pt x="942" y="12"/>
                </a:lnTo>
                <a:lnTo>
                  <a:pt x="954" y="0"/>
                </a:lnTo>
                <a:lnTo>
                  <a:pt x="980" y="12"/>
                </a:lnTo>
                <a:lnTo>
                  <a:pt x="993" y="12"/>
                </a:lnTo>
                <a:lnTo>
                  <a:pt x="1018" y="38"/>
                </a:lnTo>
                <a:lnTo>
                  <a:pt x="1031" y="63"/>
                </a:lnTo>
                <a:lnTo>
                  <a:pt x="1056" y="76"/>
                </a:lnTo>
                <a:lnTo>
                  <a:pt x="1056" y="88"/>
                </a:lnTo>
                <a:lnTo>
                  <a:pt x="1056" y="101"/>
                </a:lnTo>
                <a:lnTo>
                  <a:pt x="1056" y="114"/>
                </a:lnTo>
                <a:lnTo>
                  <a:pt x="1043" y="114"/>
                </a:lnTo>
                <a:lnTo>
                  <a:pt x="1031" y="126"/>
                </a:lnTo>
                <a:lnTo>
                  <a:pt x="1018" y="126"/>
                </a:lnTo>
                <a:lnTo>
                  <a:pt x="1005" y="139"/>
                </a:lnTo>
                <a:lnTo>
                  <a:pt x="980" y="152"/>
                </a:lnTo>
                <a:lnTo>
                  <a:pt x="954" y="152"/>
                </a:lnTo>
                <a:lnTo>
                  <a:pt x="916" y="164"/>
                </a:lnTo>
                <a:lnTo>
                  <a:pt x="891" y="177"/>
                </a:lnTo>
                <a:lnTo>
                  <a:pt x="853" y="190"/>
                </a:lnTo>
                <a:lnTo>
                  <a:pt x="814" y="190"/>
                </a:lnTo>
                <a:lnTo>
                  <a:pt x="776" y="202"/>
                </a:lnTo>
                <a:lnTo>
                  <a:pt x="725" y="215"/>
                </a:lnTo>
                <a:lnTo>
                  <a:pt x="675" y="228"/>
                </a:lnTo>
                <a:lnTo>
                  <a:pt x="624" y="240"/>
                </a:lnTo>
                <a:lnTo>
                  <a:pt x="560" y="253"/>
                </a:lnTo>
                <a:lnTo>
                  <a:pt x="509" y="278"/>
                </a:lnTo>
                <a:lnTo>
                  <a:pt x="471" y="291"/>
                </a:lnTo>
                <a:lnTo>
                  <a:pt x="420" y="291"/>
                </a:lnTo>
                <a:lnTo>
                  <a:pt x="382" y="304"/>
                </a:lnTo>
                <a:lnTo>
                  <a:pt x="344" y="316"/>
                </a:lnTo>
                <a:lnTo>
                  <a:pt x="306" y="329"/>
                </a:lnTo>
                <a:lnTo>
                  <a:pt x="280" y="329"/>
                </a:lnTo>
                <a:lnTo>
                  <a:pt x="242" y="342"/>
                </a:lnTo>
                <a:lnTo>
                  <a:pt x="229" y="342"/>
                </a:lnTo>
                <a:lnTo>
                  <a:pt x="204" y="354"/>
                </a:lnTo>
                <a:lnTo>
                  <a:pt x="178" y="354"/>
                </a:lnTo>
                <a:lnTo>
                  <a:pt x="166" y="354"/>
                </a:lnTo>
                <a:lnTo>
                  <a:pt x="153" y="354"/>
                </a:lnTo>
                <a:lnTo>
                  <a:pt x="140" y="354"/>
                </a:lnTo>
                <a:lnTo>
                  <a:pt x="127" y="367"/>
                </a:lnTo>
                <a:lnTo>
                  <a:pt x="115" y="354"/>
                </a:lnTo>
                <a:lnTo>
                  <a:pt x="89" y="354"/>
                </a:lnTo>
                <a:lnTo>
                  <a:pt x="64" y="342"/>
                </a:lnTo>
                <a:lnTo>
                  <a:pt x="51" y="329"/>
                </a:lnTo>
                <a:lnTo>
                  <a:pt x="26" y="304"/>
                </a:lnTo>
                <a:lnTo>
                  <a:pt x="13" y="291"/>
                </a:lnTo>
                <a:lnTo>
                  <a:pt x="0" y="278"/>
                </a:lnTo>
                <a:lnTo>
                  <a:pt x="0" y="266"/>
                </a:lnTo>
                <a:lnTo>
                  <a:pt x="13" y="266"/>
                </a:lnTo>
                <a:lnTo>
                  <a:pt x="13" y="253"/>
                </a:lnTo>
                <a:lnTo>
                  <a:pt x="26" y="253"/>
                </a:lnTo>
                <a:lnTo>
                  <a:pt x="38" y="253"/>
                </a:lnTo>
                <a:lnTo>
                  <a:pt x="64" y="240"/>
                </a:lnTo>
                <a:lnTo>
                  <a:pt x="89" y="240"/>
                </a:lnTo>
                <a:lnTo>
                  <a:pt x="115" y="228"/>
                </a:lnTo>
                <a:lnTo>
                  <a:pt x="140" y="228"/>
                </a:lnTo>
                <a:lnTo>
                  <a:pt x="166" y="215"/>
                </a:lnTo>
                <a:lnTo>
                  <a:pt x="204" y="202"/>
                </a:lnTo>
                <a:lnTo>
                  <a:pt x="242" y="190"/>
                </a:lnTo>
                <a:lnTo>
                  <a:pt x="293" y="177"/>
                </a:lnTo>
                <a:lnTo>
                  <a:pt x="344" y="164"/>
                </a:lnTo>
                <a:lnTo>
                  <a:pt x="382" y="152"/>
                </a:lnTo>
                <a:lnTo>
                  <a:pt x="446" y="139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Freeform 29"/>
          <p:cNvSpPr/>
          <p:nvPr/>
        </p:nvSpPr>
        <p:spPr>
          <a:xfrm>
            <a:off x="6621480" y="2313360"/>
            <a:ext cx="452160" cy="1009440"/>
          </a:xfrm>
          <a:custGeom>
            <a:avLst/>
            <a:gdLst>
              <a:gd name="textAreaLeft" fmla="*/ 0 w 452160"/>
              <a:gd name="textAreaRight" fmla="*/ 452520 w 4521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712" h="1191">
                <a:moveTo>
                  <a:pt x="470" y="63"/>
                </a:moveTo>
                <a:lnTo>
                  <a:pt x="458" y="38"/>
                </a:lnTo>
                <a:lnTo>
                  <a:pt x="458" y="25"/>
                </a:lnTo>
                <a:lnTo>
                  <a:pt x="458" y="12"/>
                </a:lnTo>
                <a:lnTo>
                  <a:pt x="470" y="0"/>
                </a:lnTo>
                <a:lnTo>
                  <a:pt x="483" y="0"/>
                </a:lnTo>
                <a:lnTo>
                  <a:pt x="496" y="0"/>
                </a:lnTo>
                <a:lnTo>
                  <a:pt x="509" y="0"/>
                </a:lnTo>
                <a:lnTo>
                  <a:pt x="521" y="0"/>
                </a:lnTo>
                <a:lnTo>
                  <a:pt x="560" y="25"/>
                </a:lnTo>
                <a:lnTo>
                  <a:pt x="598" y="50"/>
                </a:lnTo>
                <a:lnTo>
                  <a:pt x="623" y="63"/>
                </a:lnTo>
                <a:lnTo>
                  <a:pt x="649" y="76"/>
                </a:lnTo>
                <a:lnTo>
                  <a:pt x="661" y="88"/>
                </a:lnTo>
                <a:lnTo>
                  <a:pt x="674" y="101"/>
                </a:lnTo>
                <a:lnTo>
                  <a:pt x="687" y="114"/>
                </a:lnTo>
                <a:lnTo>
                  <a:pt x="699" y="126"/>
                </a:lnTo>
                <a:lnTo>
                  <a:pt x="712" y="139"/>
                </a:lnTo>
                <a:lnTo>
                  <a:pt x="712" y="152"/>
                </a:lnTo>
                <a:lnTo>
                  <a:pt x="712" y="164"/>
                </a:lnTo>
                <a:lnTo>
                  <a:pt x="712" y="177"/>
                </a:lnTo>
                <a:lnTo>
                  <a:pt x="699" y="202"/>
                </a:lnTo>
                <a:lnTo>
                  <a:pt x="699" y="228"/>
                </a:lnTo>
                <a:lnTo>
                  <a:pt x="687" y="253"/>
                </a:lnTo>
                <a:lnTo>
                  <a:pt x="674" y="279"/>
                </a:lnTo>
                <a:lnTo>
                  <a:pt x="661" y="317"/>
                </a:lnTo>
                <a:lnTo>
                  <a:pt x="636" y="355"/>
                </a:lnTo>
                <a:lnTo>
                  <a:pt x="547" y="507"/>
                </a:lnTo>
                <a:lnTo>
                  <a:pt x="509" y="595"/>
                </a:lnTo>
                <a:lnTo>
                  <a:pt x="458" y="684"/>
                </a:lnTo>
                <a:lnTo>
                  <a:pt x="432" y="722"/>
                </a:lnTo>
                <a:lnTo>
                  <a:pt x="407" y="760"/>
                </a:lnTo>
                <a:lnTo>
                  <a:pt x="343" y="849"/>
                </a:lnTo>
                <a:lnTo>
                  <a:pt x="267" y="937"/>
                </a:lnTo>
                <a:lnTo>
                  <a:pt x="191" y="1026"/>
                </a:lnTo>
                <a:lnTo>
                  <a:pt x="152" y="1064"/>
                </a:lnTo>
                <a:lnTo>
                  <a:pt x="127" y="1102"/>
                </a:lnTo>
                <a:lnTo>
                  <a:pt x="89" y="1140"/>
                </a:lnTo>
                <a:lnTo>
                  <a:pt x="63" y="1166"/>
                </a:lnTo>
                <a:lnTo>
                  <a:pt x="38" y="1178"/>
                </a:lnTo>
                <a:lnTo>
                  <a:pt x="25" y="1191"/>
                </a:lnTo>
                <a:lnTo>
                  <a:pt x="12" y="1191"/>
                </a:lnTo>
                <a:lnTo>
                  <a:pt x="0" y="1191"/>
                </a:lnTo>
                <a:lnTo>
                  <a:pt x="0" y="1178"/>
                </a:lnTo>
                <a:lnTo>
                  <a:pt x="12" y="1153"/>
                </a:lnTo>
                <a:lnTo>
                  <a:pt x="12" y="1140"/>
                </a:lnTo>
                <a:lnTo>
                  <a:pt x="25" y="1115"/>
                </a:lnTo>
                <a:lnTo>
                  <a:pt x="51" y="1077"/>
                </a:lnTo>
                <a:lnTo>
                  <a:pt x="76" y="1039"/>
                </a:lnTo>
                <a:lnTo>
                  <a:pt x="102" y="988"/>
                </a:lnTo>
                <a:lnTo>
                  <a:pt x="165" y="899"/>
                </a:lnTo>
                <a:lnTo>
                  <a:pt x="229" y="811"/>
                </a:lnTo>
                <a:lnTo>
                  <a:pt x="292" y="709"/>
                </a:lnTo>
                <a:lnTo>
                  <a:pt x="343" y="608"/>
                </a:lnTo>
                <a:lnTo>
                  <a:pt x="381" y="507"/>
                </a:lnTo>
                <a:lnTo>
                  <a:pt x="407" y="418"/>
                </a:lnTo>
                <a:lnTo>
                  <a:pt x="445" y="329"/>
                </a:lnTo>
                <a:lnTo>
                  <a:pt x="470" y="241"/>
                </a:lnTo>
                <a:lnTo>
                  <a:pt x="483" y="202"/>
                </a:lnTo>
                <a:lnTo>
                  <a:pt x="483" y="177"/>
                </a:lnTo>
                <a:lnTo>
                  <a:pt x="496" y="139"/>
                </a:lnTo>
                <a:lnTo>
                  <a:pt x="496" y="114"/>
                </a:lnTo>
                <a:lnTo>
                  <a:pt x="496" y="101"/>
                </a:lnTo>
                <a:lnTo>
                  <a:pt x="483" y="76"/>
                </a:lnTo>
                <a:lnTo>
                  <a:pt x="483" y="63"/>
                </a:lnTo>
                <a:lnTo>
                  <a:pt x="470" y="6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6291360" y="2271240"/>
            <a:ext cx="167760" cy="2156400"/>
          </a:xfrm>
          <a:custGeom>
            <a:avLst/>
            <a:gdLst>
              <a:gd name="textAreaLeft" fmla="*/ 0 w 167760"/>
              <a:gd name="textAreaRight" fmla="*/ 168120 w 167760"/>
              <a:gd name="textAreaTop" fmla="*/ 0 h 2156400"/>
              <a:gd name="textAreaBottom" fmla="*/ 2156760 h 2156400"/>
            </a:gdLst>
            <a:ahLst/>
            <a:rect l="textAreaLeft" t="textAreaTop" r="textAreaRight" b="textAreaBottom"/>
            <a:pathLst>
              <a:path w="267" h="2547">
                <a:moveTo>
                  <a:pt x="204" y="1761"/>
                </a:moveTo>
                <a:lnTo>
                  <a:pt x="191" y="1837"/>
                </a:lnTo>
                <a:lnTo>
                  <a:pt x="191" y="1901"/>
                </a:lnTo>
                <a:lnTo>
                  <a:pt x="191" y="1964"/>
                </a:lnTo>
                <a:lnTo>
                  <a:pt x="191" y="2027"/>
                </a:lnTo>
                <a:lnTo>
                  <a:pt x="191" y="2078"/>
                </a:lnTo>
                <a:lnTo>
                  <a:pt x="191" y="2142"/>
                </a:lnTo>
                <a:lnTo>
                  <a:pt x="178" y="2192"/>
                </a:lnTo>
                <a:lnTo>
                  <a:pt x="178" y="2230"/>
                </a:lnTo>
                <a:lnTo>
                  <a:pt x="178" y="2268"/>
                </a:lnTo>
                <a:lnTo>
                  <a:pt x="178" y="2306"/>
                </a:lnTo>
                <a:lnTo>
                  <a:pt x="166" y="2344"/>
                </a:lnTo>
                <a:lnTo>
                  <a:pt x="166" y="2370"/>
                </a:lnTo>
                <a:lnTo>
                  <a:pt x="166" y="2395"/>
                </a:lnTo>
                <a:lnTo>
                  <a:pt x="153" y="2420"/>
                </a:lnTo>
                <a:lnTo>
                  <a:pt x="153" y="2433"/>
                </a:lnTo>
                <a:lnTo>
                  <a:pt x="140" y="2446"/>
                </a:lnTo>
                <a:lnTo>
                  <a:pt x="127" y="2471"/>
                </a:lnTo>
                <a:lnTo>
                  <a:pt x="127" y="2484"/>
                </a:lnTo>
                <a:lnTo>
                  <a:pt x="115" y="2509"/>
                </a:lnTo>
                <a:lnTo>
                  <a:pt x="102" y="2522"/>
                </a:lnTo>
                <a:lnTo>
                  <a:pt x="102" y="2534"/>
                </a:lnTo>
                <a:lnTo>
                  <a:pt x="89" y="2547"/>
                </a:lnTo>
                <a:lnTo>
                  <a:pt x="89" y="2534"/>
                </a:lnTo>
                <a:lnTo>
                  <a:pt x="76" y="2534"/>
                </a:lnTo>
                <a:lnTo>
                  <a:pt x="76" y="2522"/>
                </a:lnTo>
                <a:lnTo>
                  <a:pt x="64" y="2509"/>
                </a:lnTo>
                <a:lnTo>
                  <a:pt x="64" y="2484"/>
                </a:lnTo>
                <a:lnTo>
                  <a:pt x="51" y="2471"/>
                </a:lnTo>
                <a:lnTo>
                  <a:pt x="51" y="2446"/>
                </a:lnTo>
                <a:lnTo>
                  <a:pt x="38" y="2420"/>
                </a:lnTo>
                <a:lnTo>
                  <a:pt x="38" y="2382"/>
                </a:lnTo>
                <a:lnTo>
                  <a:pt x="26" y="2357"/>
                </a:lnTo>
                <a:lnTo>
                  <a:pt x="26" y="2332"/>
                </a:lnTo>
                <a:lnTo>
                  <a:pt x="13" y="2306"/>
                </a:lnTo>
                <a:lnTo>
                  <a:pt x="13" y="2294"/>
                </a:lnTo>
                <a:lnTo>
                  <a:pt x="13" y="2281"/>
                </a:lnTo>
                <a:lnTo>
                  <a:pt x="13" y="2268"/>
                </a:lnTo>
                <a:lnTo>
                  <a:pt x="13" y="2256"/>
                </a:lnTo>
                <a:lnTo>
                  <a:pt x="13" y="2243"/>
                </a:lnTo>
                <a:lnTo>
                  <a:pt x="13" y="2230"/>
                </a:lnTo>
                <a:lnTo>
                  <a:pt x="13" y="2218"/>
                </a:lnTo>
                <a:lnTo>
                  <a:pt x="26" y="2192"/>
                </a:lnTo>
                <a:lnTo>
                  <a:pt x="26" y="2167"/>
                </a:lnTo>
                <a:lnTo>
                  <a:pt x="26" y="2142"/>
                </a:lnTo>
                <a:lnTo>
                  <a:pt x="38" y="2116"/>
                </a:lnTo>
                <a:lnTo>
                  <a:pt x="38" y="2078"/>
                </a:lnTo>
                <a:lnTo>
                  <a:pt x="38" y="2040"/>
                </a:lnTo>
                <a:lnTo>
                  <a:pt x="51" y="2002"/>
                </a:lnTo>
                <a:lnTo>
                  <a:pt x="51" y="1964"/>
                </a:lnTo>
                <a:lnTo>
                  <a:pt x="51" y="1913"/>
                </a:lnTo>
                <a:lnTo>
                  <a:pt x="64" y="1863"/>
                </a:lnTo>
                <a:lnTo>
                  <a:pt x="64" y="1812"/>
                </a:lnTo>
                <a:lnTo>
                  <a:pt x="64" y="1749"/>
                </a:lnTo>
                <a:lnTo>
                  <a:pt x="76" y="1685"/>
                </a:lnTo>
                <a:lnTo>
                  <a:pt x="76" y="1622"/>
                </a:lnTo>
                <a:lnTo>
                  <a:pt x="76" y="1546"/>
                </a:lnTo>
                <a:lnTo>
                  <a:pt x="89" y="1457"/>
                </a:lnTo>
                <a:lnTo>
                  <a:pt x="89" y="1369"/>
                </a:lnTo>
                <a:lnTo>
                  <a:pt x="102" y="1267"/>
                </a:lnTo>
                <a:lnTo>
                  <a:pt x="102" y="1153"/>
                </a:lnTo>
                <a:lnTo>
                  <a:pt x="115" y="1039"/>
                </a:lnTo>
                <a:lnTo>
                  <a:pt x="115" y="925"/>
                </a:lnTo>
                <a:lnTo>
                  <a:pt x="115" y="824"/>
                </a:lnTo>
                <a:lnTo>
                  <a:pt x="115" y="722"/>
                </a:lnTo>
                <a:lnTo>
                  <a:pt x="115" y="634"/>
                </a:lnTo>
                <a:lnTo>
                  <a:pt x="115" y="545"/>
                </a:lnTo>
                <a:lnTo>
                  <a:pt x="115" y="469"/>
                </a:lnTo>
                <a:lnTo>
                  <a:pt x="115" y="393"/>
                </a:lnTo>
                <a:lnTo>
                  <a:pt x="115" y="330"/>
                </a:lnTo>
                <a:lnTo>
                  <a:pt x="102" y="279"/>
                </a:lnTo>
                <a:lnTo>
                  <a:pt x="102" y="228"/>
                </a:lnTo>
                <a:lnTo>
                  <a:pt x="89" y="190"/>
                </a:lnTo>
                <a:lnTo>
                  <a:pt x="89" y="152"/>
                </a:lnTo>
                <a:lnTo>
                  <a:pt x="76" y="114"/>
                </a:lnTo>
                <a:lnTo>
                  <a:pt x="64" y="101"/>
                </a:lnTo>
                <a:lnTo>
                  <a:pt x="51" y="76"/>
                </a:lnTo>
                <a:lnTo>
                  <a:pt x="38" y="76"/>
                </a:lnTo>
                <a:lnTo>
                  <a:pt x="26" y="63"/>
                </a:lnTo>
                <a:lnTo>
                  <a:pt x="13" y="51"/>
                </a:lnTo>
                <a:lnTo>
                  <a:pt x="0" y="38"/>
                </a:lnTo>
                <a:lnTo>
                  <a:pt x="13" y="13"/>
                </a:lnTo>
                <a:lnTo>
                  <a:pt x="26" y="0"/>
                </a:lnTo>
                <a:lnTo>
                  <a:pt x="38" y="0"/>
                </a:lnTo>
                <a:lnTo>
                  <a:pt x="51" y="0"/>
                </a:lnTo>
                <a:lnTo>
                  <a:pt x="64" y="0"/>
                </a:lnTo>
                <a:lnTo>
                  <a:pt x="89" y="0"/>
                </a:lnTo>
                <a:lnTo>
                  <a:pt x="102" y="0"/>
                </a:lnTo>
                <a:lnTo>
                  <a:pt x="127" y="0"/>
                </a:lnTo>
                <a:lnTo>
                  <a:pt x="166" y="13"/>
                </a:lnTo>
                <a:lnTo>
                  <a:pt x="204" y="25"/>
                </a:lnTo>
                <a:lnTo>
                  <a:pt x="229" y="38"/>
                </a:lnTo>
                <a:lnTo>
                  <a:pt x="255" y="51"/>
                </a:lnTo>
                <a:lnTo>
                  <a:pt x="267" y="63"/>
                </a:lnTo>
                <a:lnTo>
                  <a:pt x="267" y="89"/>
                </a:lnTo>
                <a:lnTo>
                  <a:pt x="267" y="101"/>
                </a:lnTo>
                <a:lnTo>
                  <a:pt x="267" y="127"/>
                </a:lnTo>
                <a:lnTo>
                  <a:pt x="255" y="165"/>
                </a:lnTo>
                <a:lnTo>
                  <a:pt x="255" y="190"/>
                </a:lnTo>
                <a:lnTo>
                  <a:pt x="255" y="228"/>
                </a:lnTo>
                <a:lnTo>
                  <a:pt x="242" y="266"/>
                </a:lnTo>
                <a:lnTo>
                  <a:pt x="242" y="304"/>
                </a:lnTo>
                <a:lnTo>
                  <a:pt x="242" y="342"/>
                </a:lnTo>
                <a:lnTo>
                  <a:pt x="229" y="393"/>
                </a:lnTo>
                <a:lnTo>
                  <a:pt x="229" y="444"/>
                </a:lnTo>
                <a:lnTo>
                  <a:pt x="229" y="520"/>
                </a:lnTo>
                <a:lnTo>
                  <a:pt x="229" y="583"/>
                </a:lnTo>
                <a:lnTo>
                  <a:pt x="229" y="672"/>
                </a:lnTo>
                <a:lnTo>
                  <a:pt x="216" y="760"/>
                </a:lnTo>
                <a:lnTo>
                  <a:pt x="216" y="862"/>
                </a:lnTo>
                <a:lnTo>
                  <a:pt x="216" y="976"/>
                </a:lnTo>
                <a:lnTo>
                  <a:pt x="216" y="1090"/>
                </a:lnTo>
                <a:lnTo>
                  <a:pt x="204" y="1217"/>
                </a:lnTo>
                <a:lnTo>
                  <a:pt x="204" y="1343"/>
                </a:lnTo>
                <a:lnTo>
                  <a:pt x="204" y="1470"/>
                </a:lnTo>
                <a:lnTo>
                  <a:pt x="204" y="1609"/>
                </a:lnTo>
                <a:lnTo>
                  <a:pt x="204" y="176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Freeform 35"/>
          <p:cNvSpPr/>
          <p:nvPr/>
        </p:nvSpPr>
        <p:spPr>
          <a:xfrm>
            <a:off x="6807240" y="2861640"/>
            <a:ext cx="597960" cy="202680"/>
          </a:xfrm>
          <a:custGeom>
            <a:avLst/>
            <a:gdLst>
              <a:gd name="textAreaLeft" fmla="*/ 0 w 597960"/>
              <a:gd name="textAreaRight" fmla="*/ 598320 w 597960"/>
              <a:gd name="textAreaTop" fmla="*/ 0 h 202680"/>
              <a:gd name="textAreaBottom" fmla="*/ 203040 h 202680"/>
            </a:gdLst>
            <a:ahLst/>
            <a:rect l="textAreaLeft" t="textAreaTop" r="textAreaRight" b="textAreaBottom"/>
            <a:pathLst>
              <a:path w="942" h="241">
                <a:moveTo>
                  <a:pt x="433" y="76"/>
                </a:moveTo>
                <a:lnTo>
                  <a:pt x="509" y="63"/>
                </a:lnTo>
                <a:lnTo>
                  <a:pt x="573" y="38"/>
                </a:lnTo>
                <a:lnTo>
                  <a:pt x="636" y="25"/>
                </a:lnTo>
                <a:lnTo>
                  <a:pt x="687" y="13"/>
                </a:lnTo>
                <a:lnTo>
                  <a:pt x="726" y="13"/>
                </a:lnTo>
                <a:lnTo>
                  <a:pt x="764" y="0"/>
                </a:lnTo>
                <a:lnTo>
                  <a:pt x="789" y="0"/>
                </a:lnTo>
                <a:lnTo>
                  <a:pt x="815" y="0"/>
                </a:lnTo>
                <a:lnTo>
                  <a:pt x="853" y="0"/>
                </a:lnTo>
                <a:lnTo>
                  <a:pt x="878" y="0"/>
                </a:lnTo>
                <a:lnTo>
                  <a:pt x="904" y="13"/>
                </a:lnTo>
                <a:lnTo>
                  <a:pt x="916" y="25"/>
                </a:lnTo>
                <a:lnTo>
                  <a:pt x="929" y="51"/>
                </a:lnTo>
                <a:lnTo>
                  <a:pt x="942" y="76"/>
                </a:lnTo>
                <a:lnTo>
                  <a:pt x="942" y="89"/>
                </a:lnTo>
                <a:lnTo>
                  <a:pt x="942" y="101"/>
                </a:lnTo>
                <a:lnTo>
                  <a:pt x="929" y="114"/>
                </a:lnTo>
                <a:lnTo>
                  <a:pt x="904" y="127"/>
                </a:lnTo>
                <a:lnTo>
                  <a:pt x="878" y="127"/>
                </a:lnTo>
                <a:lnTo>
                  <a:pt x="853" y="139"/>
                </a:lnTo>
                <a:lnTo>
                  <a:pt x="815" y="152"/>
                </a:lnTo>
                <a:lnTo>
                  <a:pt x="764" y="165"/>
                </a:lnTo>
                <a:lnTo>
                  <a:pt x="713" y="190"/>
                </a:lnTo>
                <a:lnTo>
                  <a:pt x="649" y="203"/>
                </a:lnTo>
                <a:lnTo>
                  <a:pt x="573" y="203"/>
                </a:lnTo>
                <a:lnTo>
                  <a:pt x="497" y="215"/>
                </a:lnTo>
                <a:lnTo>
                  <a:pt x="420" y="228"/>
                </a:lnTo>
                <a:lnTo>
                  <a:pt x="331" y="228"/>
                </a:lnTo>
                <a:lnTo>
                  <a:pt x="229" y="241"/>
                </a:lnTo>
                <a:lnTo>
                  <a:pt x="115" y="241"/>
                </a:lnTo>
                <a:lnTo>
                  <a:pt x="0" y="241"/>
                </a:lnTo>
                <a:lnTo>
                  <a:pt x="0" y="190"/>
                </a:lnTo>
                <a:lnTo>
                  <a:pt x="39" y="177"/>
                </a:lnTo>
                <a:lnTo>
                  <a:pt x="77" y="165"/>
                </a:lnTo>
                <a:lnTo>
                  <a:pt x="128" y="165"/>
                </a:lnTo>
                <a:lnTo>
                  <a:pt x="178" y="152"/>
                </a:lnTo>
                <a:lnTo>
                  <a:pt x="229" y="139"/>
                </a:lnTo>
                <a:lnTo>
                  <a:pt x="293" y="114"/>
                </a:lnTo>
                <a:lnTo>
                  <a:pt x="357" y="101"/>
                </a:lnTo>
                <a:lnTo>
                  <a:pt x="433" y="7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Freeform 32"/>
          <p:cNvSpPr/>
          <p:nvPr/>
        </p:nvSpPr>
        <p:spPr>
          <a:xfrm>
            <a:off x="5894280" y="3022560"/>
            <a:ext cx="493200" cy="856800"/>
          </a:xfrm>
          <a:custGeom>
            <a:avLst/>
            <a:gdLst>
              <a:gd name="textAreaLeft" fmla="*/ 0 w 493200"/>
              <a:gd name="textAreaRight" fmla="*/ 493560 w 49320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776" h="1014">
                <a:moveTo>
                  <a:pt x="0" y="1014"/>
                </a:moveTo>
                <a:lnTo>
                  <a:pt x="0" y="1001"/>
                </a:lnTo>
                <a:lnTo>
                  <a:pt x="12" y="976"/>
                </a:lnTo>
                <a:lnTo>
                  <a:pt x="38" y="950"/>
                </a:lnTo>
                <a:lnTo>
                  <a:pt x="63" y="925"/>
                </a:lnTo>
                <a:lnTo>
                  <a:pt x="102" y="887"/>
                </a:lnTo>
                <a:lnTo>
                  <a:pt x="140" y="836"/>
                </a:lnTo>
                <a:lnTo>
                  <a:pt x="191" y="786"/>
                </a:lnTo>
                <a:lnTo>
                  <a:pt x="241" y="722"/>
                </a:lnTo>
                <a:lnTo>
                  <a:pt x="305" y="646"/>
                </a:lnTo>
                <a:lnTo>
                  <a:pt x="369" y="570"/>
                </a:lnTo>
                <a:lnTo>
                  <a:pt x="432" y="494"/>
                </a:lnTo>
                <a:lnTo>
                  <a:pt x="509" y="406"/>
                </a:lnTo>
                <a:lnTo>
                  <a:pt x="572" y="317"/>
                </a:lnTo>
                <a:lnTo>
                  <a:pt x="636" y="215"/>
                </a:lnTo>
                <a:lnTo>
                  <a:pt x="699" y="114"/>
                </a:lnTo>
                <a:lnTo>
                  <a:pt x="763" y="0"/>
                </a:lnTo>
                <a:lnTo>
                  <a:pt x="776" y="266"/>
                </a:lnTo>
                <a:lnTo>
                  <a:pt x="738" y="317"/>
                </a:lnTo>
                <a:lnTo>
                  <a:pt x="699" y="380"/>
                </a:lnTo>
                <a:lnTo>
                  <a:pt x="661" y="431"/>
                </a:lnTo>
                <a:lnTo>
                  <a:pt x="623" y="482"/>
                </a:lnTo>
                <a:lnTo>
                  <a:pt x="585" y="532"/>
                </a:lnTo>
                <a:lnTo>
                  <a:pt x="547" y="570"/>
                </a:lnTo>
                <a:lnTo>
                  <a:pt x="509" y="608"/>
                </a:lnTo>
                <a:lnTo>
                  <a:pt x="483" y="646"/>
                </a:lnTo>
                <a:lnTo>
                  <a:pt x="445" y="684"/>
                </a:lnTo>
                <a:lnTo>
                  <a:pt x="407" y="722"/>
                </a:lnTo>
                <a:lnTo>
                  <a:pt x="343" y="798"/>
                </a:lnTo>
                <a:lnTo>
                  <a:pt x="267" y="862"/>
                </a:lnTo>
                <a:lnTo>
                  <a:pt x="178" y="912"/>
                </a:lnTo>
                <a:lnTo>
                  <a:pt x="140" y="950"/>
                </a:lnTo>
                <a:lnTo>
                  <a:pt x="114" y="976"/>
                </a:lnTo>
                <a:lnTo>
                  <a:pt x="76" y="988"/>
                </a:lnTo>
                <a:lnTo>
                  <a:pt x="51" y="1001"/>
                </a:lnTo>
                <a:lnTo>
                  <a:pt x="38" y="1014"/>
                </a:lnTo>
                <a:lnTo>
                  <a:pt x="25" y="1014"/>
                </a:lnTo>
                <a:lnTo>
                  <a:pt x="12" y="1014"/>
                </a:lnTo>
                <a:lnTo>
                  <a:pt x="0" y="1014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3" name="Freeform 33"/>
          <p:cNvSpPr/>
          <p:nvPr/>
        </p:nvSpPr>
        <p:spPr>
          <a:xfrm>
            <a:off x="6396120" y="3323160"/>
            <a:ext cx="209160" cy="255600"/>
          </a:xfrm>
          <a:custGeom>
            <a:avLst/>
            <a:gdLst>
              <a:gd name="textAreaLeft" fmla="*/ 0 w 209160"/>
              <a:gd name="textAreaRight" fmla="*/ 209520 w 2091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30" h="304">
                <a:moveTo>
                  <a:pt x="292" y="266"/>
                </a:moveTo>
                <a:lnTo>
                  <a:pt x="292" y="291"/>
                </a:lnTo>
                <a:lnTo>
                  <a:pt x="279" y="291"/>
                </a:lnTo>
                <a:lnTo>
                  <a:pt x="267" y="304"/>
                </a:lnTo>
                <a:lnTo>
                  <a:pt x="267" y="291"/>
                </a:lnTo>
                <a:lnTo>
                  <a:pt x="254" y="291"/>
                </a:lnTo>
                <a:lnTo>
                  <a:pt x="241" y="279"/>
                </a:lnTo>
                <a:lnTo>
                  <a:pt x="229" y="266"/>
                </a:lnTo>
                <a:lnTo>
                  <a:pt x="216" y="253"/>
                </a:lnTo>
                <a:lnTo>
                  <a:pt x="203" y="241"/>
                </a:lnTo>
                <a:lnTo>
                  <a:pt x="190" y="228"/>
                </a:lnTo>
                <a:lnTo>
                  <a:pt x="165" y="203"/>
                </a:lnTo>
                <a:lnTo>
                  <a:pt x="152" y="177"/>
                </a:lnTo>
                <a:lnTo>
                  <a:pt x="127" y="165"/>
                </a:lnTo>
                <a:lnTo>
                  <a:pt x="114" y="127"/>
                </a:lnTo>
                <a:lnTo>
                  <a:pt x="89" y="101"/>
                </a:lnTo>
                <a:lnTo>
                  <a:pt x="63" y="76"/>
                </a:lnTo>
                <a:lnTo>
                  <a:pt x="25" y="38"/>
                </a:lnTo>
                <a:lnTo>
                  <a:pt x="0" y="0"/>
                </a:lnTo>
                <a:lnTo>
                  <a:pt x="38" y="0"/>
                </a:lnTo>
                <a:lnTo>
                  <a:pt x="89" y="0"/>
                </a:lnTo>
                <a:lnTo>
                  <a:pt x="127" y="0"/>
                </a:lnTo>
                <a:lnTo>
                  <a:pt x="152" y="13"/>
                </a:lnTo>
                <a:lnTo>
                  <a:pt x="190" y="13"/>
                </a:lnTo>
                <a:lnTo>
                  <a:pt x="216" y="25"/>
                </a:lnTo>
                <a:lnTo>
                  <a:pt x="241" y="38"/>
                </a:lnTo>
                <a:lnTo>
                  <a:pt x="267" y="51"/>
                </a:lnTo>
                <a:lnTo>
                  <a:pt x="292" y="76"/>
                </a:lnTo>
                <a:lnTo>
                  <a:pt x="318" y="101"/>
                </a:lnTo>
                <a:lnTo>
                  <a:pt x="330" y="139"/>
                </a:lnTo>
                <a:lnTo>
                  <a:pt x="330" y="165"/>
                </a:lnTo>
                <a:lnTo>
                  <a:pt x="330" y="203"/>
                </a:lnTo>
                <a:lnTo>
                  <a:pt x="318" y="228"/>
                </a:lnTo>
                <a:lnTo>
                  <a:pt x="318" y="253"/>
                </a:lnTo>
                <a:lnTo>
                  <a:pt x="292" y="26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Freeform 30"/>
          <p:cNvSpPr/>
          <p:nvPr/>
        </p:nvSpPr>
        <p:spPr>
          <a:xfrm>
            <a:off x="6524640" y="3022560"/>
            <a:ext cx="597960" cy="1104480"/>
          </a:xfrm>
          <a:custGeom>
            <a:avLst/>
            <a:gdLst>
              <a:gd name="textAreaLeft" fmla="*/ 0 w 597960"/>
              <a:gd name="textAreaRight" fmla="*/ 598320 w 597960"/>
              <a:gd name="textAreaTop" fmla="*/ 0 h 1104480"/>
              <a:gd name="textAreaBottom" fmla="*/ 1104840 h 1104480"/>
            </a:gdLst>
            <a:ahLst/>
            <a:rect l="textAreaLeft" t="textAreaTop" r="textAreaRight" b="textAreaBottom"/>
            <a:pathLst>
              <a:path w="942" h="1305">
                <a:moveTo>
                  <a:pt x="229" y="1255"/>
                </a:moveTo>
                <a:lnTo>
                  <a:pt x="178" y="1280"/>
                </a:lnTo>
                <a:lnTo>
                  <a:pt x="127" y="1293"/>
                </a:lnTo>
                <a:lnTo>
                  <a:pt x="89" y="1293"/>
                </a:lnTo>
                <a:lnTo>
                  <a:pt x="51" y="1305"/>
                </a:lnTo>
                <a:lnTo>
                  <a:pt x="26" y="1305"/>
                </a:lnTo>
                <a:lnTo>
                  <a:pt x="13" y="1305"/>
                </a:lnTo>
                <a:lnTo>
                  <a:pt x="0" y="1305"/>
                </a:lnTo>
                <a:lnTo>
                  <a:pt x="0" y="1293"/>
                </a:lnTo>
                <a:lnTo>
                  <a:pt x="0" y="1280"/>
                </a:lnTo>
                <a:lnTo>
                  <a:pt x="0" y="1267"/>
                </a:lnTo>
                <a:lnTo>
                  <a:pt x="13" y="1267"/>
                </a:lnTo>
                <a:lnTo>
                  <a:pt x="38" y="1255"/>
                </a:lnTo>
                <a:lnTo>
                  <a:pt x="76" y="1229"/>
                </a:lnTo>
                <a:lnTo>
                  <a:pt x="115" y="1216"/>
                </a:lnTo>
                <a:lnTo>
                  <a:pt x="153" y="1191"/>
                </a:lnTo>
                <a:lnTo>
                  <a:pt x="204" y="1178"/>
                </a:lnTo>
                <a:lnTo>
                  <a:pt x="255" y="1153"/>
                </a:lnTo>
                <a:lnTo>
                  <a:pt x="305" y="1128"/>
                </a:lnTo>
                <a:lnTo>
                  <a:pt x="356" y="1102"/>
                </a:lnTo>
                <a:lnTo>
                  <a:pt x="394" y="1077"/>
                </a:lnTo>
                <a:lnTo>
                  <a:pt x="445" y="1039"/>
                </a:lnTo>
                <a:lnTo>
                  <a:pt x="484" y="1001"/>
                </a:lnTo>
                <a:lnTo>
                  <a:pt x="522" y="963"/>
                </a:lnTo>
                <a:lnTo>
                  <a:pt x="560" y="925"/>
                </a:lnTo>
                <a:lnTo>
                  <a:pt x="598" y="887"/>
                </a:lnTo>
                <a:lnTo>
                  <a:pt x="623" y="849"/>
                </a:lnTo>
                <a:lnTo>
                  <a:pt x="649" y="811"/>
                </a:lnTo>
                <a:lnTo>
                  <a:pt x="674" y="760"/>
                </a:lnTo>
                <a:lnTo>
                  <a:pt x="700" y="722"/>
                </a:lnTo>
                <a:lnTo>
                  <a:pt x="713" y="672"/>
                </a:lnTo>
                <a:lnTo>
                  <a:pt x="738" y="621"/>
                </a:lnTo>
                <a:lnTo>
                  <a:pt x="751" y="570"/>
                </a:lnTo>
                <a:lnTo>
                  <a:pt x="751" y="520"/>
                </a:lnTo>
                <a:lnTo>
                  <a:pt x="763" y="456"/>
                </a:lnTo>
                <a:lnTo>
                  <a:pt x="763" y="393"/>
                </a:lnTo>
                <a:lnTo>
                  <a:pt x="763" y="330"/>
                </a:lnTo>
                <a:lnTo>
                  <a:pt x="763" y="253"/>
                </a:lnTo>
                <a:lnTo>
                  <a:pt x="763" y="165"/>
                </a:lnTo>
                <a:lnTo>
                  <a:pt x="751" y="89"/>
                </a:lnTo>
                <a:lnTo>
                  <a:pt x="751" y="0"/>
                </a:lnTo>
                <a:lnTo>
                  <a:pt x="776" y="13"/>
                </a:lnTo>
                <a:lnTo>
                  <a:pt x="814" y="38"/>
                </a:lnTo>
                <a:lnTo>
                  <a:pt x="840" y="51"/>
                </a:lnTo>
                <a:lnTo>
                  <a:pt x="865" y="63"/>
                </a:lnTo>
                <a:lnTo>
                  <a:pt x="891" y="76"/>
                </a:lnTo>
                <a:lnTo>
                  <a:pt x="903" y="89"/>
                </a:lnTo>
                <a:lnTo>
                  <a:pt x="929" y="101"/>
                </a:lnTo>
                <a:lnTo>
                  <a:pt x="929" y="114"/>
                </a:lnTo>
                <a:lnTo>
                  <a:pt x="942" y="127"/>
                </a:lnTo>
                <a:lnTo>
                  <a:pt x="942" y="152"/>
                </a:lnTo>
                <a:lnTo>
                  <a:pt x="942" y="177"/>
                </a:lnTo>
                <a:lnTo>
                  <a:pt x="942" y="203"/>
                </a:lnTo>
                <a:lnTo>
                  <a:pt x="942" y="241"/>
                </a:lnTo>
                <a:lnTo>
                  <a:pt x="942" y="279"/>
                </a:lnTo>
                <a:lnTo>
                  <a:pt x="942" y="330"/>
                </a:lnTo>
                <a:lnTo>
                  <a:pt x="929" y="380"/>
                </a:lnTo>
                <a:lnTo>
                  <a:pt x="916" y="494"/>
                </a:lnTo>
                <a:lnTo>
                  <a:pt x="903" y="596"/>
                </a:lnTo>
                <a:lnTo>
                  <a:pt x="878" y="684"/>
                </a:lnTo>
                <a:lnTo>
                  <a:pt x="840" y="760"/>
                </a:lnTo>
                <a:lnTo>
                  <a:pt x="827" y="811"/>
                </a:lnTo>
                <a:lnTo>
                  <a:pt x="802" y="849"/>
                </a:lnTo>
                <a:lnTo>
                  <a:pt x="776" y="887"/>
                </a:lnTo>
                <a:lnTo>
                  <a:pt x="751" y="925"/>
                </a:lnTo>
                <a:lnTo>
                  <a:pt x="725" y="963"/>
                </a:lnTo>
                <a:lnTo>
                  <a:pt x="700" y="988"/>
                </a:lnTo>
                <a:lnTo>
                  <a:pt x="623" y="1064"/>
                </a:lnTo>
                <a:lnTo>
                  <a:pt x="585" y="1090"/>
                </a:lnTo>
                <a:lnTo>
                  <a:pt x="547" y="1115"/>
                </a:lnTo>
                <a:lnTo>
                  <a:pt x="496" y="1140"/>
                </a:lnTo>
                <a:lnTo>
                  <a:pt x="445" y="1166"/>
                </a:lnTo>
                <a:lnTo>
                  <a:pt x="394" y="1191"/>
                </a:lnTo>
                <a:lnTo>
                  <a:pt x="344" y="1216"/>
                </a:lnTo>
                <a:lnTo>
                  <a:pt x="293" y="1242"/>
                </a:lnTo>
                <a:lnTo>
                  <a:pt x="229" y="125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Freeform 31"/>
          <p:cNvSpPr/>
          <p:nvPr/>
        </p:nvSpPr>
        <p:spPr>
          <a:xfrm>
            <a:off x="6694560" y="3333600"/>
            <a:ext cx="952200" cy="867600"/>
          </a:xfrm>
          <a:custGeom>
            <a:avLst/>
            <a:gdLst>
              <a:gd name="textAreaLeft" fmla="*/ 0 w 952200"/>
              <a:gd name="textAreaRight" fmla="*/ 952560 w 952200"/>
              <a:gd name="textAreaTop" fmla="*/ 0 h 867600"/>
              <a:gd name="textAreaBottom" fmla="*/ 867960 h 867600"/>
            </a:gdLst>
            <a:ahLst/>
            <a:rect l="textAreaLeft" t="textAreaTop" r="textAreaRight" b="textAreaBottom"/>
            <a:pathLst>
              <a:path w="1501" h="1026">
                <a:moveTo>
                  <a:pt x="916" y="1013"/>
                </a:moveTo>
                <a:lnTo>
                  <a:pt x="904" y="1013"/>
                </a:lnTo>
                <a:lnTo>
                  <a:pt x="891" y="1001"/>
                </a:lnTo>
                <a:lnTo>
                  <a:pt x="865" y="988"/>
                </a:lnTo>
                <a:lnTo>
                  <a:pt x="853" y="975"/>
                </a:lnTo>
                <a:lnTo>
                  <a:pt x="840" y="963"/>
                </a:lnTo>
                <a:lnTo>
                  <a:pt x="814" y="937"/>
                </a:lnTo>
                <a:lnTo>
                  <a:pt x="802" y="912"/>
                </a:lnTo>
                <a:lnTo>
                  <a:pt x="776" y="887"/>
                </a:lnTo>
                <a:lnTo>
                  <a:pt x="751" y="861"/>
                </a:lnTo>
                <a:lnTo>
                  <a:pt x="725" y="836"/>
                </a:lnTo>
                <a:lnTo>
                  <a:pt x="700" y="798"/>
                </a:lnTo>
                <a:lnTo>
                  <a:pt x="662" y="760"/>
                </a:lnTo>
                <a:lnTo>
                  <a:pt x="636" y="709"/>
                </a:lnTo>
                <a:lnTo>
                  <a:pt x="585" y="658"/>
                </a:lnTo>
                <a:lnTo>
                  <a:pt x="547" y="608"/>
                </a:lnTo>
                <a:lnTo>
                  <a:pt x="496" y="544"/>
                </a:lnTo>
                <a:lnTo>
                  <a:pt x="446" y="481"/>
                </a:lnTo>
                <a:lnTo>
                  <a:pt x="407" y="418"/>
                </a:lnTo>
                <a:lnTo>
                  <a:pt x="356" y="367"/>
                </a:lnTo>
                <a:lnTo>
                  <a:pt x="318" y="316"/>
                </a:lnTo>
                <a:lnTo>
                  <a:pt x="280" y="278"/>
                </a:lnTo>
                <a:lnTo>
                  <a:pt x="255" y="240"/>
                </a:lnTo>
                <a:lnTo>
                  <a:pt x="229" y="215"/>
                </a:lnTo>
                <a:lnTo>
                  <a:pt x="204" y="190"/>
                </a:lnTo>
                <a:lnTo>
                  <a:pt x="178" y="164"/>
                </a:lnTo>
                <a:lnTo>
                  <a:pt x="153" y="152"/>
                </a:lnTo>
                <a:lnTo>
                  <a:pt x="115" y="114"/>
                </a:lnTo>
                <a:lnTo>
                  <a:pt x="77" y="101"/>
                </a:lnTo>
                <a:lnTo>
                  <a:pt x="51" y="88"/>
                </a:lnTo>
                <a:lnTo>
                  <a:pt x="26" y="76"/>
                </a:lnTo>
                <a:lnTo>
                  <a:pt x="13" y="63"/>
                </a:lnTo>
                <a:lnTo>
                  <a:pt x="0" y="50"/>
                </a:lnTo>
                <a:lnTo>
                  <a:pt x="0" y="38"/>
                </a:lnTo>
                <a:lnTo>
                  <a:pt x="0" y="25"/>
                </a:lnTo>
                <a:lnTo>
                  <a:pt x="13" y="12"/>
                </a:lnTo>
                <a:lnTo>
                  <a:pt x="26" y="12"/>
                </a:lnTo>
                <a:lnTo>
                  <a:pt x="38" y="0"/>
                </a:lnTo>
                <a:lnTo>
                  <a:pt x="64" y="0"/>
                </a:lnTo>
                <a:lnTo>
                  <a:pt x="89" y="0"/>
                </a:lnTo>
                <a:lnTo>
                  <a:pt x="102" y="0"/>
                </a:lnTo>
                <a:lnTo>
                  <a:pt x="115" y="12"/>
                </a:lnTo>
                <a:lnTo>
                  <a:pt x="140" y="25"/>
                </a:lnTo>
                <a:lnTo>
                  <a:pt x="153" y="25"/>
                </a:lnTo>
                <a:lnTo>
                  <a:pt x="178" y="50"/>
                </a:lnTo>
                <a:lnTo>
                  <a:pt x="204" y="63"/>
                </a:lnTo>
                <a:lnTo>
                  <a:pt x="229" y="88"/>
                </a:lnTo>
                <a:lnTo>
                  <a:pt x="267" y="101"/>
                </a:lnTo>
                <a:lnTo>
                  <a:pt x="293" y="139"/>
                </a:lnTo>
                <a:lnTo>
                  <a:pt x="331" y="164"/>
                </a:lnTo>
                <a:lnTo>
                  <a:pt x="356" y="202"/>
                </a:lnTo>
                <a:lnTo>
                  <a:pt x="407" y="240"/>
                </a:lnTo>
                <a:lnTo>
                  <a:pt x="446" y="291"/>
                </a:lnTo>
                <a:lnTo>
                  <a:pt x="496" y="342"/>
                </a:lnTo>
                <a:lnTo>
                  <a:pt x="547" y="392"/>
                </a:lnTo>
                <a:lnTo>
                  <a:pt x="598" y="443"/>
                </a:lnTo>
                <a:lnTo>
                  <a:pt x="649" y="481"/>
                </a:lnTo>
                <a:lnTo>
                  <a:pt x="687" y="532"/>
                </a:lnTo>
                <a:lnTo>
                  <a:pt x="738" y="570"/>
                </a:lnTo>
                <a:lnTo>
                  <a:pt x="789" y="608"/>
                </a:lnTo>
                <a:lnTo>
                  <a:pt x="840" y="646"/>
                </a:lnTo>
                <a:lnTo>
                  <a:pt x="891" y="671"/>
                </a:lnTo>
                <a:lnTo>
                  <a:pt x="929" y="709"/>
                </a:lnTo>
                <a:lnTo>
                  <a:pt x="980" y="734"/>
                </a:lnTo>
                <a:lnTo>
                  <a:pt x="1018" y="760"/>
                </a:lnTo>
                <a:lnTo>
                  <a:pt x="1069" y="785"/>
                </a:lnTo>
                <a:lnTo>
                  <a:pt x="1120" y="798"/>
                </a:lnTo>
                <a:lnTo>
                  <a:pt x="1222" y="836"/>
                </a:lnTo>
                <a:lnTo>
                  <a:pt x="1323" y="861"/>
                </a:lnTo>
                <a:lnTo>
                  <a:pt x="1362" y="874"/>
                </a:lnTo>
                <a:lnTo>
                  <a:pt x="1400" y="899"/>
                </a:lnTo>
                <a:lnTo>
                  <a:pt x="1425" y="899"/>
                </a:lnTo>
                <a:lnTo>
                  <a:pt x="1451" y="912"/>
                </a:lnTo>
                <a:lnTo>
                  <a:pt x="1476" y="925"/>
                </a:lnTo>
                <a:lnTo>
                  <a:pt x="1489" y="937"/>
                </a:lnTo>
                <a:lnTo>
                  <a:pt x="1501" y="937"/>
                </a:lnTo>
                <a:lnTo>
                  <a:pt x="1501" y="950"/>
                </a:lnTo>
                <a:lnTo>
                  <a:pt x="1501" y="963"/>
                </a:lnTo>
                <a:lnTo>
                  <a:pt x="1489" y="963"/>
                </a:lnTo>
                <a:lnTo>
                  <a:pt x="1463" y="975"/>
                </a:lnTo>
                <a:lnTo>
                  <a:pt x="1438" y="988"/>
                </a:lnTo>
                <a:lnTo>
                  <a:pt x="1400" y="988"/>
                </a:lnTo>
                <a:lnTo>
                  <a:pt x="1362" y="1001"/>
                </a:lnTo>
                <a:lnTo>
                  <a:pt x="1311" y="1001"/>
                </a:lnTo>
                <a:lnTo>
                  <a:pt x="1247" y="1013"/>
                </a:lnTo>
                <a:lnTo>
                  <a:pt x="1196" y="1013"/>
                </a:lnTo>
                <a:lnTo>
                  <a:pt x="1133" y="1013"/>
                </a:lnTo>
                <a:lnTo>
                  <a:pt x="1094" y="1013"/>
                </a:lnTo>
                <a:lnTo>
                  <a:pt x="1043" y="1026"/>
                </a:lnTo>
                <a:lnTo>
                  <a:pt x="1005" y="1026"/>
                </a:lnTo>
                <a:lnTo>
                  <a:pt x="967" y="1026"/>
                </a:lnTo>
                <a:lnTo>
                  <a:pt x="942" y="1026"/>
                </a:lnTo>
                <a:lnTo>
                  <a:pt x="916" y="101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604800" y="2336760"/>
            <a:ext cx="20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183280" y="4916880"/>
            <a:ext cx="335088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书写指导：木字要窄长，攵的横在上撇靠下位置起笔、与下撇分开写，捺收笔要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"/>
          <p:cNvSpPr/>
          <p:nvPr/>
        </p:nvSpPr>
        <p:spPr>
          <a:xfrm>
            <a:off x="3077280" y="255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4"/>
          <p:cNvSpPr/>
          <p:nvPr/>
        </p:nvSpPr>
        <p:spPr>
          <a:xfrm>
            <a:off x="2719440" y="1585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5"/>
          <p:cNvSpPr/>
          <p:nvPr/>
        </p:nvSpPr>
        <p:spPr>
          <a:xfrm>
            <a:off x="716040" y="4040640"/>
            <a:ext cx="23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6"/>
          <p:cNvSpPr/>
          <p:nvPr/>
        </p:nvSpPr>
        <p:spPr>
          <a:xfrm>
            <a:off x="716040" y="500580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枚举   衔枚疾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9"/>
          <p:cNvSpPr/>
          <p:nvPr/>
        </p:nvSpPr>
        <p:spPr>
          <a:xfrm>
            <a:off x="706320" y="5488560"/>
            <a:ext cx="421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爸爸送给妈妈一枚好看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戒指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0"/>
          <p:cNvSpPr/>
          <p:nvPr/>
        </p:nvSpPr>
        <p:spPr>
          <a:xfrm>
            <a:off x="706320" y="4525560"/>
            <a:ext cx="290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305" name="圆角矩形 32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307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972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Group 66"/>
          <p:cNvGraphicFramePr/>
          <p:nvPr/>
        </p:nvGraphicFramePr>
        <p:xfrm>
          <a:off x="5478480" y="1786320"/>
          <a:ext cx="2590560" cy="3064680"/>
        </p:xfrm>
        <a:graphic>
          <a:graphicData uri="http://schemas.openxmlformats.org/drawingml/2006/table">
            <a:tbl>
              <a:tblPr/>
              <a:tblGrid>
                <a:gridCol w="1284120"/>
                <a:gridCol w="1306440"/>
              </a:tblGrid>
              <a:tr h="153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5389560" y="6411240"/>
            <a:ext cx="3682800" cy="418680"/>
          </a:xfrm>
          <a:prstGeom prst="rect">
            <a:avLst/>
          </a:prstGeom>
          <a:ln w="0">
            <a:noFill/>
          </a:ln>
        </p:spPr>
      </p:pic>
      <p:sp>
        <p:nvSpPr>
          <p:cNvPr id="310" name="Freeform 39"/>
          <p:cNvSpPr/>
          <p:nvPr/>
        </p:nvSpPr>
        <p:spPr>
          <a:xfrm>
            <a:off x="6188040" y="3352680"/>
            <a:ext cx="123480" cy="964800"/>
          </a:xfrm>
          <a:custGeom>
            <a:avLst/>
            <a:gdLst>
              <a:gd name="textAreaLeft" fmla="*/ 0 w 123480"/>
              <a:gd name="textAreaRight" fmla="*/ 123840 w 12348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195" h="1142">
                <a:moveTo>
                  <a:pt x="54" y="76"/>
                </a:moveTo>
                <a:lnTo>
                  <a:pt x="43" y="54"/>
                </a:lnTo>
                <a:lnTo>
                  <a:pt x="43" y="32"/>
                </a:lnTo>
                <a:lnTo>
                  <a:pt x="54" y="22"/>
                </a:lnTo>
                <a:lnTo>
                  <a:pt x="65" y="11"/>
                </a:lnTo>
                <a:lnTo>
                  <a:pt x="87" y="0"/>
                </a:lnTo>
                <a:lnTo>
                  <a:pt x="119" y="0"/>
                </a:lnTo>
                <a:lnTo>
                  <a:pt x="152" y="0"/>
                </a:lnTo>
                <a:lnTo>
                  <a:pt x="195" y="22"/>
                </a:lnTo>
                <a:lnTo>
                  <a:pt x="195" y="54"/>
                </a:lnTo>
                <a:lnTo>
                  <a:pt x="195" y="98"/>
                </a:lnTo>
                <a:lnTo>
                  <a:pt x="195" y="141"/>
                </a:lnTo>
                <a:lnTo>
                  <a:pt x="195" y="207"/>
                </a:lnTo>
                <a:lnTo>
                  <a:pt x="195" y="272"/>
                </a:lnTo>
                <a:lnTo>
                  <a:pt x="195" y="348"/>
                </a:lnTo>
                <a:lnTo>
                  <a:pt x="184" y="424"/>
                </a:lnTo>
                <a:lnTo>
                  <a:pt x="184" y="511"/>
                </a:lnTo>
                <a:lnTo>
                  <a:pt x="174" y="609"/>
                </a:lnTo>
                <a:lnTo>
                  <a:pt x="163" y="685"/>
                </a:lnTo>
                <a:lnTo>
                  <a:pt x="163" y="762"/>
                </a:lnTo>
                <a:lnTo>
                  <a:pt x="152" y="827"/>
                </a:lnTo>
                <a:lnTo>
                  <a:pt x="141" y="892"/>
                </a:lnTo>
                <a:lnTo>
                  <a:pt x="130" y="936"/>
                </a:lnTo>
                <a:lnTo>
                  <a:pt x="130" y="979"/>
                </a:lnTo>
                <a:lnTo>
                  <a:pt x="119" y="1012"/>
                </a:lnTo>
                <a:lnTo>
                  <a:pt x="119" y="1045"/>
                </a:lnTo>
                <a:lnTo>
                  <a:pt x="108" y="1066"/>
                </a:lnTo>
                <a:lnTo>
                  <a:pt x="97" y="1088"/>
                </a:lnTo>
                <a:lnTo>
                  <a:pt x="87" y="1110"/>
                </a:lnTo>
                <a:lnTo>
                  <a:pt x="87" y="1121"/>
                </a:lnTo>
                <a:lnTo>
                  <a:pt x="76" y="1132"/>
                </a:lnTo>
                <a:lnTo>
                  <a:pt x="76" y="1142"/>
                </a:lnTo>
                <a:lnTo>
                  <a:pt x="65" y="1142"/>
                </a:lnTo>
                <a:lnTo>
                  <a:pt x="54" y="1132"/>
                </a:lnTo>
                <a:lnTo>
                  <a:pt x="43" y="1121"/>
                </a:lnTo>
                <a:lnTo>
                  <a:pt x="32" y="1110"/>
                </a:lnTo>
                <a:lnTo>
                  <a:pt x="21" y="1088"/>
                </a:lnTo>
                <a:lnTo>
                  <a:pt x="10" y="1055"/>
                </a:lnTo>
                <a:lnTo>
                  <a:pt x="0" y="1023"/>
                </a:lnTo>
                <a:lnTo>
                  <a:pt x="0" y="1001"/>
                </a:lnTo>
                <a:lnTo>
                  <a:pt x="0" y="979"/>
                </a:lnTo>
                <a:lnTo>
                  <a:pt x="0" y="968"/>
                </a:lnTo>
                <a:lnTo>
                  <a:pt x="0" y="957"/>
                </a:lnTo>
                <a:lnTo>
                  <a:pt x="0" y="936"/>
                </a:lnTo>
                <a:lnTo>
                  <a:pt x="0" y="903"/>
                </a:lnTo>
                <a:lnTo>
                  <a:pt x="10" y="870"/>
                </a:lnTo>
                <a:lnTo>
                  <a:pt x="21" y="827"/>
                </a:lnTo>
                <a:lnTo>
                  <a:pt x="32" y="783"/>
                </a:lnTo>
                <a:lnTo>
                  <a:pt x="43" y="729"/>
                </a:lnTo>
                <a:lnTo>
                  <a:pt x="54" y="620"/>
                </a:lnTo>
                <a:lnTo>
                  <a:pt x="65" y="522"/>
                </a:lnTo>
                <a:lnTo>
                  <a:pt x="76" y="413"/>
                </a:lnTo>
                <a:lnTo>
                  <a:pt x="76" y="315"/>
                </a:lnTo>
                <a:lnTo>
                  <a:pt x="76" y="272"/>
                </a:lnTo>
                <a:lnTo>
                  <a:pt x="76" y="228"/>
                </a:lnTo>
                <a:lnTo>
                  <a:pt x="76" y="196"/>
                </a:lnTo>
                <a:lnTo>
                  <a:pt x="65" y="163"/>
                </a:lnTo>
                <a:lnTo>
                  <a:pt x="65" y="130"/>
                </a:lnTo>
                <a:lnTo>
                  <a:pt x="65" y="109"/>
                </a:lnTo>
                <a:lnTo>
                  <a:pt x="54" y="87"/>
                </a:lnTo>
                <a:lnTo>
                  <a:pt x="54" y="7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Freeform 40"/>
          <p:cNvSpPr/>
          <p:nvPr/>
        </p:nvSpPr>
        <p:spPr>
          <a:xfrm>
            <a:off x="6284880" y="3581280"/>
            <a:ext cx="226800" cy="101160"/>
          </a:xfrm>
          <a:custGeom>
            <a:avLst/>
            <a:gdLst>
              <a:gd name="textAreaLeft" fmla="*/ 0 w 226800"/>
              <a:gd name="textAreaRight" fmla="*/ 227160 w 22680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359" h="120">
                <a:moveTo>
                  <a:pt x="337" y="65"/>
                </a:moveTo>
                <a:lnTo>
                  <a:pt x="337" y="65"/>
                </a:lnTo>
                <a:lnTo>
                  <a:pt x="326" y="65"/>
                </a:lnTo>
                <a:lnTo>
                  <a:pt x="326" y="76"/>
                </a:lnTo>
                <a:lnTo>
                  <a:pt x="315" y="76"/>
                </a:lnTo>
                <a:lnTo>
                  <a:pt x="293" y="76"/>
                </a:lnTo>
                <a:lnTo>
                  <a:pt x="282" y="76"/>
                </a:lnTo>
                <a:lnTo>
                  <a:pt x="261" y="87"/>
                </a:lnTo>
                <a:lnTo>
                  <a:pt x="239" y="87"/>
                </a:lnTo>
                <a:lnTo>
                  <a:pt x="217" y="87"/>
                </a:lnTo>
                <a:lnTo>
                  <a:pt x="196" y="98"/>
                </a:lnTo>
                <a:lnTo>
                  <a:pt x="163" y="98"/>
                </a:lnTo>
                <a:lnTo>
                  <a:pt x="141" y="98"/>
                </a:lnTo>
                <a:lnTo>
                  <a:pt x="76" y="109"/>
                </a:lnTo>
                <a:lnTo>
                  <a:pt x="0" y="120"/>
                </a:lnTo>
                <a:lnTo>
                  <a:pt x="0" y="43"/>
                </a:lnTo>
                <a:lnTo>
                  <a:pt x="65" y="33"/>
                </a:lnTo>
                <a:lnTo>
                  <a:pt x="119" y="22"/>
                </a:lnTo>
                <a:lnTo>
                  <a:pt x="174" y="11"/>
                </a:lnTo>
                <a:lnTo>
                  <a:pt x="217" y="11"/>
                </a:lnTo>
                <a:lnTo>
                  <a:pt x="261" y="0"/>
                </a:lnTo>
                <a:lnTo>
                  <a:pt x="282" y="0"/>
                </a:lnTo>
                <a:lnTo>
                  <a:pt x="315" y="0"/>
                </a:lnTo>
                <a:lnTo>
                  <a:pt x="326" y="11"/>
                </a:lnTo>
                <a:lnTo>
                  <a:pt x="337" y="11"/>
                </a:lnTo>
                <a:lnTo>
                  <a:pt x="348" y="22"/>
                </a:lnTo>
                <a:lnTo>
                  <a:pt x="359" y="33"/>
                </a:lnTo>
                <a:lnTo>
                  <a:pt x="359" y="43"/>
                </a:lnTo>
                <a:lnTo>
                  <a:pt x="348" y="43"/>
                </a:lnTo>
                <a:lnTo>
                  <a:pt x="348" y="54"/>
                </a:lnTo>
                <a:lnTo>
                  <a:pt x="337" y="6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Freeform 41"/>
          <p:cNvSpPr/>
          <p:nvPr/>
        </p:nvSpPr>
        <p:spPr>
          <a:xfrm>
            <a:off x="6256440" y="3822840"/>
            <a:ext cx="261720" cy="109800"/>
          </a:xfrm>
          <a:custGeom>
            <a:avLst/>
            <a:gdLst>
              <a:gd name="textAreaLeft" fmla="*/ 0 w 261720"/>
              <a:gd name="textAreaRight" fmla="*/ 262080 w 26172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413" h="130">
                <a:moveTo>
                  <a:pt x="326" y="11"/>
                </a:moveTo>
                <a:lnTo>
                  <a:pt x="348" y="11"/>
                </a:lnTo>
                <a:lnTo>
                  <a:pt x="359" y="11"/>
                </a:lnTo>
                <a:lnTo>
                  <a:pt x="381" y="11"/>
                </a:lnTo>
                <a:lnTo>
                  <a:pt x="392" y="11"/>
                </a:lnTo>
                <a:lnTo>
                  <a:pt x="403" y="22"/>
                </a:lnTo>
                <a:lnTo>
                  <a:pt x="413" y="22"/>
                </a:lnTo>
                <a:lnTo>
                  <a:pt x="413" y="32"/>
                </a:lnTo>
                <a:lnTo>
                  <a:pt x="413" y="43"/>
                </a:lnTo>
                <a:lnTo>
                  <a:pt x="403" y="54"/>
                </a:lnTo>
                <a:lnTo>
                  <a:pt x="392" y="65"/>
                </a:lnTo>
                <a:lnTo>
                  <a:pt x="370" y="65"/>
                </a:lnTo>
                <a:lnTo>
                  <a:pt x="348" y="76"/>
                </a:lnTo>
                <a:lnTo>
                  <a:pt x="337" y="76"/>
                </a:lnTo>
                <a:lnTo>
                  <a:pt x="305" y="87"/>
                </a:lnTo>
                <a:lnTo>
                  <a:pt x="283" y="87"/>
                </a:lnTo>
                <a:lnTo>
                  <a:pt x="250" y="98"/>
                </a:lnTo>
                <a:lnTo>
                  <a:pt x="218" y="98"/>
                </a:lnTo>
                <a:lnTo>
                  <a:pt x="185" y="109"/>
                </a:lnTo>
                <a:lnTo>
                  <a:pt x="142" y="109"/>
                </a:lnTo>
                <a:lnTo>
                  <a:pt x="98" y="120"/>
                </a:lnTo>
                <a:lnTo>
                  <a:pt x="55" y="130"/>
                </a:lnTo>
                <a:lnTo>
                  <a:pt x="0" y="130"/>
                </a:lnTo>
                <a:lnTo>
                  <a:pt x="0" y="43"/>
                </a:lnTo>
                <a:lnTo>
                  <a:pt x="66" y="32"/>
                </a:lnTo>
                <a:lnTo>
                  <a:pt x="109" y="22"/>
                </a:lnTo>
                <a:lnTo>
                  <a:pt x="153" y="11"/>
                </a:lnTo>
                <a:lnTo>
                  <a:pt x="185" y="11"/>
                </a:lnTo>
                <a:lnTo>
                  <a:pt x="207" y="0"/>
                </a:lnTo>
                <a:lnTo>
                  <a:pt x="240" y="0"/>
                </a:lnTo>
                <a:lnTo>
                  <a:pt x="283" y="0"/>
                </a:lnTo>
                <a:lnTo>
                  <a:pt x="326" y="1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Freeform 42"/>
          <p:cNvSpPr/>
          <p:nvPr/>
        </p:nvSpPr>
        <p:spPr>
          <a:xfrm>
            <a:off x="6284880" y="3278880"/>
            <a:ext cx="406080" cy="1115280"/>
          </a:xfrm>
          <a:custGeom>
            <a:avLst/>
            <a:gdLst>
              <a:gd name="textAreaLeft" fmla="*/ 0 w 406080"/>
              <a:gd name="textAreaRight" fmla="*/ 406440 w 406080"/>
              <a:gd name="textAreaTop" fmla="*/ 0 h 1115280"/>
              <a:gd name="textAreaBottom" fmla="*/ 1115640 h 1115280"/>
            </a:gdLst>
            <a:ahLst/>
            <a:rect l="textAreaLeft" t="textAreaTop" r="textAreaRight" b="textAreaBottom"/>
            <a:pathLst>
              <a:path w="641" h="1317">
                <a:moveTo>
                  <a:pt x="402" y="1251"/>
                </a:moveTo>
                <a:lnTo>
                  <a:pt x="391" y="1229"/>
                </a:lnTo>
                <a:lnTo>
                  <a:pt x="391" y="1219"/>
                </a:lnTo>
                <a:lnTo>
                  <a:pt x="380" y="1208"/>
                </a:lnTo>
                <a:lnTo>
                  <a:pt x="369" y="1186"/>
                </a:lnTo>
                <a:lnTo>
                  <a:pt x="359" y="1175"/>
                </a:lnTo>
                <a:lnTo>
                  <a:pt x="348" y="1164"/>
                </a:lnTo>
                <a:lnTo>
                  <a:pt x="326" y="1153"/>
                </a:lnTo>
                <a:lnTo>
                  <a:pt x="304" y="1132"/>
                </a:lnTo>
                <a:lnTo>
                  <a:pt x="282" y="1121"/>
                </a:lnTo>
                <a:lnTo>
                  <a:pt x="261" y="1110"/>
                </a:lnTo>
                <a:lnTo>
                  <a:pt x="250" y="1099"/>
                </a:lnTo>
                <a:lnTo>
                  <a:pt x="239" y="1088"/>
                </a:lnTo>
                <a:lnTo>
                  <a:pt x="228" y="1077"/>
                </a:lnTo>
                <a:lnTo>
                  <a:pt x="217" y="1066"/>
                </a:lnTo>
                <a:lnTo>
                  <a:pt x="217" y="1055"/>
                </a:lnTo>
                <a:lnTo>
                  <a:pt x="228" y="1044"/>
                </a:lnTo>
                <a:lnTo>
                  <a:pt x="239" y="1044"/>
                </a:lnTo>
                <a:lnTo>
                  <a:pt x="250" y="1044"/>
                </a:lnTo>
                <a:lnTo>
                  <a:pt x="261" y="1044"/>
                </a:lnTo>
                <a:lnTo>
                  <a:pt x="282" y="1044"/>
                </a:lnTo>
                <a:lnTo>
                  <a:pt x="304" y="1044"/>
                </a:lnTo>
                <a:lnTo>
                  <a:pt x="337" y="1055"/>
                </a:lnTo>
                <a:lnTo>
                  <a:pt x="369" y="1055"/>
                </a:lnTo>
                <a:lnTo>
                  <a:pt x="391" y="1066"/>
                </a:lnTo>
                <a:lnTo>
                  <a:pt x="413" y="1055"/>
                </a:lnTo>
                <a:lnTo>
                  <a:pt x="424" y="1044"/>
                </a:lnTo>
                <a:lnTo>
                  <a:pt x="435" y="1034"/>
                </a:lnTo>
                <a:lnTo>
                  <a:pt x="435" y="1012"/>
                </a:lnTo>
                <a:lnTo>
                  <a:pt x="446" y="990"/>
                </a:lnTo>
                <a:lnTo>
                  <a:pt x="446" y="968"/>
                </a:lnTo>
                <a:lnTo>
                  <a:pt x="456" y="947"/>
                </a:lnTo>
                <a:lnTo>
                  <a:pt x="456" y="914"/>
                </a:lnTo>
                <a:lnTo>
                  <a:pt x="456" y="870"/>
                </a:lnTo>
                <a:lnTo>
                  <a:pt x="467" y="838"/>
                </a:lnTo>
                <a:lnTo>
                  <a:pt x="467" y="783"/>
                </a:lnTo>
                <a:lnTo>
                  <a:pt x="467" y="740"/>
                </a:lnTo>
                <a:lnTo>
                  <a:pt x="467" y="685"/>
                </a:lnTo>
                <a:lnTo>
                  <a:pt x="467" y="620"/>
                </a:lnTo>
                <a:lnTo>
                  <a:pt x="467" y="555"/>
                </a:lnTo>
                <a:lnTo>
                  <a:pt x="467" y="489"/>
                </a:lnTo>
                <a:lnTo>
                  <a:pt x="467" y="424"/>
                </a:lnTo>
                <a:lnTo>
                  <a:pt x="467" y="359"/>
                </a:lnTo>
                <a:lnTo>
                  <a:pt x="467" y="315"/>
                </a:lnTo>
                <a:lnTo>
                  <a:pt x="456" y="272"/>
                </a:lnTo>
                <a:lnTo>
                  <a:pt x="456" y="228"/>
                </a:lnTo>
                <a:lnTo>
                  <a:pt x="456" y="196"/>
                </a:lnTo>
                <a:lnTo>
                  <a:pt x="446" y="174"/>
                </a:lnTo>
                <a:lnTo>
                  <a:pt x="446" y="163"/>
                </a:lnTo>
                <a:lnTo>
                  <a:pt x="435" y="152"/>
                </a:lnTo>
                <a:lnTo>
                  <a:pt x="424" y="152"/>
                </a:lnTo>
                <a:lnTo>
                  <a:pt x="402" y="141"/>
                </a:lnTo>
                <a:lnTo>
                  <a:pt x="380" y="141"/>
                </a:lnTo>
                <a:lnTo>
                  <a:pt x="359" y="141"/>
                </a:lnTo>
                <a:lnTo>
                  <a:pt x="326" y="141"/>
                </a:lnTo>
                <a:lnTo>
                  <a:pt x="293" y="141"/>
                </a:lnTo>
                <a:lnTo>
                  <a:pt x="261" y="152"/>
                </a:lnTo>
                <a:lnTo>
                  <a:pt x="174" y="163"/>
                </a:lnTo>
                <a:lnTo>
                  <a:pt x="109" y="174"/>
                </a:lnTo>
                <a:lnTo>
                  <a:pt x="76" y="185"/>
                </a:lnTo>
                <a:lnTo>
                  <a:pt x="43" y="185"/>
                </a:lnTo>
                <a:lnTo>
                  <a:pt x="22" y="185"/>
                </a:lnTo>
                <a:lnTo>
                  <a:pt x="0" y="185"/>
                </a:lnTo>
                <a:lnTo>
                  <a:pt x="0" y="109"/>
                </a:lnTo>
                <a:lnTo>
                  <a:pt x="43" y="98"/>
                </a:lnTo>
                <a:lnTo>
                  <a:pt x="98" y="98"/>
                </a:lnTo>
                <a:lnTo>
                  <a:pt x="163" y="87"/>
                </a:lnTo>
                <a:lnTo>
                  <a:pt x="228" y="76"/>
                </a:lnTo>
                <a:lnTo>
                  <a:pt x="261" y="65"/>
                </a:lnTo>
                <a:lnTo>
                  <a:pt x="293" y="65"/>
                </a:lnTo>
                <a:lnTo>
                  <a:pt x="326" y="54"/>
                </a:lnTo>
                <a:lnTo>
                  <a:pt x="348" y="43"/>
                </a:lnTo>
                <a:lnTo>
                  <a:pt x="369" y="43"/>
                </a:lnTo>
                <a:lnTo>
                  <a:pt x="380" y="32"/>
                </a:lnTo>
                <a:lnTo>
                  <a:pt x="402" y="32"/>
                </a:lnTo>
                <a:lnTo>
                  <a:pt x="413" y="22"/>
                </a:lnTo>
                <a:lnTo>
                  <a:pt x="446" y="11"/>
                </a:lnTo>
                <a:lnTo>
                  <a:pt x="467" y="0"/>
                </a:lnTo>
                <a:lnTo>
                  <a:pt x="478" y="0"/>
                </a:lnTo>
                <a:lnTo>
                  <a:pt x="489" y="11"/>
                </a:lnTo>
                <a:lnTo>
                  <a:pt x="511" y="22"/>
                </a:lnTo>
                <a:lnTo>
                  <a:pt x="543" y="43"/>
                </a:lnTo>
                <a:lnTo>
                  <a:pt x="576" y="65"/>
                </a:lnTo>
                <a:lnTo>
                  <a:pt x="598" y="87"/>
                </a:lnTo>
                <a:lnTo>
                  <a:pt x="620" y="98"/>
                </a:lnTo>
                <a:lnTo>
                  <a:pt x="630" y="119"/>
                </a:lnTo>
                <a:lnTo>
                  <a:pt x="641" y="130"/>
                </a:lnTo>
                <a:lnTo>
                  <a:pt x="641" y="141"/>
                </a:lnTo>
                <a:lnTo>
                  <a:pt x="641" y="152"/>
                </a:lnTo>
                <a:lnTo>
                  <a:pt x="630" y="163"/>
                </a:lnTo>
                <a:lnTo>
                  <a:pt x="609" y="174"/>
                </a:lnTo>
                <a:lnTo>
                  <a:pt x="598" y="185"/>
                </a:lnTo>
                <a:lnTo>
                  <a:pt x="598" y="196"/>
                </a:lnTo>
                <a:lnTo>
                  <a:pt x="598" y="217"/>
                </a:lnTo>
                <a:lnTo>
                  <a:pt x="587" y="228"/>
                </a:lnTo>
                <a:lnTo>
                  <a:pt x="587" y="250"/>
                </a:lnTo>
                <a:lnTo>
                  <a:pt x="587" y="272"/>
                </a:lnTo>
                <a:lnTo>
                  <a:pt x="587" y="304"/>
                </a:lnTo>
                <a:lnTo>
                  <a:pt x="587" y="326"/>
                </a:lnTo>
                <a:lnTo>
                  <a:pt x="587" y="359"/>
                </a:lnTo>
                <a:lnTo>
                  <a:pt x="587" y="392"/>
                </a:lnTo>
                <a:lnTo>
                  <a:pt x="587" y="435"/>
                </a:lnTo>
                <a:lnTo>
                  <a:pt x="587" y="479"/>
                </a:lnTo>
                <a:lnTo>
                  <a:pt x="587" y="522"/>
                </a:lnTo>
                <a:lnTo>
                  <a:pt x="587" y="566"/>
                </a:lnTo>
                <a:lnTo>
                  <a:pt x="587" y="620"/>
                </a:lnTo>
                <a:lnTo>
                  <a:pt x="587" y="664"/>
                </a:lnTo>
                <a:lnTo>
                  <a:pt x="587" y="718"/>
                </a:lnTo>
                <a:lnTo>
                  <a:pt x="587" y="762"/>
                </a:lnTo>
                <a:lnTo>
                  <a:pt x="587" y="805"/>
                </a:lnTo>
                <a:lnTo>
                  <a:pt x="587" y="892"/>
                </a:lnTo>
                <a:lnTo>
                  <a:pt x="576" y="968"/>
                </a:lnTo>
                <a:lnTo>
                  <a:pt x="576" y="1034"/>
                </a:lnTo>
                <a:lnTo>
                  <a:pt x="565" y="1088"/>
                </a:lnTo>
                <a:lnTo>
                  <a:pt x="554" y="1142"/>
                </a:lnTo>
                <a:lnTo>
                  <a:pt x="543" y="1186"/>
                </a:lnTo>
                <a:lnTo>
                  <a:pt x="522" y="1219"/>
                </a:lnTo>
                <a:lnTo>
                  <a:pt x="511" y="1240"/>
                </a:lnTo>
                <a:lnTo>
                  <a:pt x="500" y="1262"/>
                </a:lnTo>
                <a:lnTo>
                  <a:pt x="489" y="1284"/>
                </a:lnTo>
                <a:lnTo>
                  <a:pt x="478" y="1295"/>
                </a:lnTo>
                <a:lnTo>
                  <a:pt x="467" y="1306"/>
                </a:lnTo>
                <a:lnTo>
                  <a:pt x="456" y="1317"/>
                </a:lnTo>
                <a:lnTo>
                  <a:pt x="446" y="1317"/>
                </a:lnTo>
                <a:lnTo>
                  <a:pt x="424" y="1317"/>
                </a:lnTo>
                <a:lnTo>
                  <a:pt x="413" y="1306"/>
                </a:lnTo>
                <a:lnTo>
                  <a:pt x="402" y="1284"/>
                </a:lnTo>
                <a:lnTo>
                  <a:pt x="402" y="125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Freeform 43"/>
          <p:cNvSpPr/>
          <p:nvPr/>
        </p:nvSpPr>
        <p:spPr>
          <a:xfrm>
            <a:off x="6802560" y="3378240"/>
            <a:ext cx="117000" cy="664200"/>
          </a:xfrm>
          <a:custGeom>
            <a:avLst/>
            <a:gdLst>
              <a:gd name="textAreaLeft" fmla="*/ 0 w 117000"/>
              <a:gd name="textAreaRight" fmla="*/ 117360 w 117000"/>
              <a:gd name="textAreaTop" fmla="*/ 0 h 664200"/>
              <a:gd name="textAreaBottom" fmla="*/ 664560 h 664200"/>
            </a:gdLst>
            <a:ahLst/>
            <a:rect l="textAreaLeft" t="textAreaTop" r="textAreaRight" b="textAreaBottom"/>
            <a:pathLst>
              <a:path w="185" h="784">
                <a:moveTo>
                  <a:pt x="22" y="88"/>
                </a:moveTo>
                <a:lnTo>
                  <a:pt x="11" y="66"/>
                </a:lnTo>
                <a:lnTo>
                  <a:pt x="0" y="44"/>
                </a:lnTo>
                <a:lnTo>
                  <a:pt x="0" y="33"/>
                </a:lnTo>
                <a:lnTo>
                  <a:pt x="11" y="22"/>
                </a:lnTo>
                <a:lnTo>
                  <a:pt x="11" y="11"/>
                </a:lnTo>
                <a:lnTo>
                  <a:pt x="22" y="11"/>
                </a:lnTo>
                <a:lnTo>
                  <a:pt x="44" y="0"/>
                </a:lnTo>
                <a:lnTo>
                  <a:pt x="76" y="11"/>
                </a:lnTo>
                <a:lnTo>
                  <a:pt x="131" y="22"/>
                </a:lnTo>
                <a:lnTo>
                  <a:pt x="152" y="33"/>
                </a:lnTo>
                <a:lnTo>
                  <a:pt x="174" y="44"/>
                </a:lnTo>
                <a:lnTo>
                  <a:pt x="174" y="55"/>
                </a:lnTo>
                <a:lnTo>
                  <a:pt x="185" y="66"/>
                </a:lnTo>
                <a:lnTo>
                  <a:pt x="185" y="88"/>
                </a:lnTo>
                <a:lnTo>
                  <a:pt x="185" y="109"/>
                </a:lnTo>
                <a:lnTo>
                  <a:pt x="185" y="131"/>
                </a:lnTo>
                <a:lnTo>
                  <a:pt x="185" y="153"/>
                </a:lnTo>
                <a:lnTo>
                  <a:pt x="185" y="185"/>
                </a:lnTo>
                <a:lnTo>
                  <a:pt x="185" y="229"/>
                </a:lnTo>
                <a:lnTo>
                  <a:pt x="174" y="294"/>
                </a:lnTo>
                <a:lnTo>
                  <a:pt x="163" y="370"/>
                </a:lnTo>
                <a:lnTo>
                  <a:pt x="163" y="436"/>
                </a:lnTo>
                <a:lnTo>
                  <a:pt x="163" y="512"/>
                </a:lnTo>
                <a:lnTo>
                  <a:pt x="163" y="545"/>
                </a:lnTo>
                <a:lnTo>
                  <a:pt x="163" y="577"/>
                </a:lnTo>
                <a:lnTo>
                  <a:pt x="163" y="610"/>
                </a:lnTo>
                <a:lnTo>
                  <a:pt x="163" y="632"/>
                </a:lnTo>
                <a:lnTo>
                  <a:pt x="163" y="664"/>
                </a:lnTo>
                <a:lnTo>
                  <a:pt x="152" y="686"/>
                </a:lnTo>
                <a:lnTo>
                  <a:pt x="152" y="708"/>
                </a:lnTo>
                <a:lnTo>
                  <a:pt x="152" y="719"/>
                </a:lnTo>
                <a:lnTo>
                  <a:pt x="142" y="740"/>
                </a:lnTo>
                <a:lnTo>
                  <a:pt x="142" y="762"/>
                </a:lnTo>
                <a:lnTo>
                  <a:pt x="131" y="773"/>
                </a:lnTo>
                <a:lnTo>
                  <a:pt x="120" y="784"/>
                </a:lnTo>
                <a:lnTo>
                  <a:pt x="109" y="784"/>
                </a:lnTo>
                <a:lnTo>
                  <a:pt x="98" y="784"/>
                </a:lnTo>
                <a:lnTo>
                  <a:pt x="87" y="773"/>
                </a:lnTo>
                <a:lnTo>
                  <a:pt x="76" y="762"/>
                </a:lnTo>
                <a:lnTo>
                  <a:pt x="65" y="740"/>
                </a:lnTo>
                <a:lnTo>
                  <a:pt x="55" y="719"/>
                </a:lnTo>
                <a:lnTo>
                  <a:pt x="55" y="708"/>
                </a:lnTo>
                <a:lnTo>
                  <a:pt x="44" y="697"/>
                </a:lnTo>
                <a:lnTo>
                  <a:pt x="44" y="675"/>
                </a:lnTo>
                <a:lnTo>
                  <a:pt x="44" y="653"/>
                </a:lnTo>
                <a:lnTo>
                  <a:pt x="44" y="621"/>
                </a:lnTo>
                <a:lnTo>
                  <a:pt x="33" y="588"/>
                </a:lnTo>
                <a:lnTo>
                  <a:pt x="44" y="555"/>
                </a:lnTo>
                <a:lnTo>
                  <a:pt x="44" y="512"/>
                </a:lnTo>
                <a:lnTo>
                  <a:pt x="44" y="458"/>
                </a:lnTo>
                <a:lnTo>
                  <a:pt x="55" y="425"/>
                </a:lnTo>
                <a:lnTo>
                  <a:pt x="55" y="381"/>
                </a:lnTo>
                <a:lnTo>
                  <a:pt x="55" y="349"/>
                </a:lnTo>
                <a:lnTo>
                  <a:pt x="55" y="316"/>
                </a:lnTo>
                <a:lnTo>
                  <a:pt x="55" y="283"/>
                </a:lnTo>
                <a:lnTo>
                  <a:pt x="55" y="251"/>
                </a:lnTo>
                <a:lnTo>
                  <a:pt x="55" y="229"/>
                </a:lnTo>
                <a:lnTo>
                  <a:pt x="55" y="175"/>
                </a:lnTo>
                <a:lnTo>
                  <a:pt x="44" y="142"/>
                </a:lnTo>
                <a:lnTo>
                  <a:pt x="33" y="109"/>
                </a:lnTo>
                <a:lnTo>
                  <a:pt x="22" y="88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Freeform 44"/>
          <p:cNvSpPr/>
          <p:nvPr/>
        </p:nvSpPr>
        <p:spPr>
          <a:xfrm>
            <a:off x="6946920" y="3196080"/>
            <a:ext cx="261720" cy="1307880"/>
          </a:xfrm>
          <a:custGeom>
            <a:avLst/>
            <a:gdLst>
              <a:gd name="textAreaLeft" fmla="*/ 0 w 261720"/>
              <a:gd name="textAreaRight" fmla="*/ 262080 w 261720"/>
              <a:gd name="textAreaTop" fmla="*/ 0 h 1307880"/>
              <a:gd name="textAreaBottom" fmla="*/ 1308240 h 1307880"/>
            </a:gdLst>
            <a:ahLst/>
            <a:rect l="textAreaLeft" t="textAreaTop" r="textAreaRight" b="textAreaBottom"/>
            <a:pathLst>
              <a:path w="414" h="1545">
                <a:moveTo>
                  <a:pt x="196" y="1469"/>
                </a:moveTo>
                <a:lnTo>
                  <a:pt x="196" y="1447"/>
                </a:lnTo>
                <a:lnTo>
                  <a:pt x="185" y="1436"/>
                </a:lnTo>
                <a:lnTo>
                  <a:pt x="174" y="1415"/>
                </a:lnTo>
                <a:lnTo>
                  <a:pt x="164" y="1393"/>
                </a:lnTo>
                <a:lnTo>
                  <a:pt x="153" y="1382"/>
                </a:lnTo>
                <a:lnTo>
                  <a:pt x="142" y="1360"/>
                </a:lnTo>
                <a:lnTo>
                  <a:pt x="120" y="1349"/>
                </a:lnTo>
                <a:lnTo>
                  <a:pt x="98" y="1338"/>
                </a:lnTo>
                <a:lnTo>
                  <a:pt x="77" y="1317"/>
                </a:lnTo>
                <a:lnTo>
                  <a:pt x="55" y="1306"/>
                </a:lnTo>
                <a:lnTo>
                  <a:pt x="44" y="1295"/>
                </a:lnTo>
                <a:lnTo>
                  <a:pt x="33" y="1273"/>
                </a:lnTo>
                <a:lnTo>
                  <a:pt x="22" y="1262"/>
                </a:lnTo>
                <a:lnTo>
                  <a:pt x="11" y="1262"/>
                </a:lnTo>
                <a:lnTo>
                  <a:pt x="0" y="1251"/>
                </a:lnTo>
                <a:lnTo>
                  <a:pt x="0" y="1240"/>
                </a:lnTo>
                <a:lnTo>
                  <a:pt x="0" y="1230"/>
                </a:lnTo>
                <a:lnTo>
                  <a:pt x="11" y="1230"/>
                </a:lnTo>
                <a:lnTo>
                  <a:pt x="22" y="1230"/>
                </a:lnTo>
                <a:lnTo>
                  <a:pt x="33" y="1230"/>
                </a:lnTo>
                <a:lnTo>
                  <a:pt x="55" y="1230"/>
                </a:lnTo>
                <a:lnTo>
                  <a:pt x="77" y="1230"/>
                </a:lnTo>
                <a:lnTo>
                  <a:pt x="109" y="1230"/>
                </a:lnTo>
                <a:lnTo>
                  <a:pt x="131" y="1240"/>
                </a:lnTo>
                <a:lnTo>
                  <a:pt x="164" y="1240"/>
                </a:lnTo>
                <a:lnTo>
                  <a:pt x="174" y="1240"/>
                </a:lnTo>
                <a:lnTo>
                  <a:pt x="196" y="1230"/>
                </a:lnTo>
                <a:lnTo>
                  <a:pt x="218" y="1219"/>
                </a:lnTo>
                <a:lnTo>
                  <a:pt x="229" y="1208"/>
                </a:lnTo>
                <a:lnTo>
                  <a:pt x="240" y="1186"/>
                </a:lnTo>
                <a:lnTo>
                  <a:pt x="251" y="1164"/>
                </a:lnTo>
                <a:lnTo>
                  <a:pt x="251" y="1153"/>
                </a:lnTo>
                <a:lnTo>
                  <a:pt x="251" y="1142"/>
                </a:lnTo>
                <a:lnTo>
                  <a:pt x="261" y="1121"/>
                </a:lnTo>
                <a:lnTo>
                  <a:pt x="261" y="1099"/>
                </a:lnTo>
                <a:lnTo>
                  <a:pt x="261" y="1077"/>
                </a:lnTo>
                <a:lnTo>
                  <a:pt x="261" y="1045"/>
                </a:lnTo>
                <a:lnTo>
                  <a:pt x="261" y="1023"/>
                </a:lnTo>
                <a:lnTo>
                  <a:pt x="261" y="990"/>
                </a:lnTo>
                <a:lnTo>
                  <a:pt x="261" y="947"/>
                </a:lnTo>
                <a:lnTo>
                  <a:pt x="261" y="914"/>
                </a:lnTo>
                <a:lnTo>
                  <a:pt x="261" y="870"/>
                </a:lnTo>
                <a:lnTo>
                  <a:pt x="261" y="816"/>
                </a:lnTo>
                <a:lnTo>
                  <a:pt x="261" y="772"/>
                </a:lnTo>
                <a:lnTo>
                  <a:pt x="251" y="718"/>
                </a:lnTo>
                <a:lnTo>
                  <a:pt x="251" y="664"/>
                </a:lnTo>
                <a:lnTo>
                  <a:pt x="251" y="598"/>
                </a:lnTo>
                <a:lnTo>
                  <a:pt x="251" y="544"/>
                </a:lnTo>
                <a:lnTo>
                  <a:pt x="251" y="490"/>
                </a:lnTo>
                <a:lnTo>
                  <a:pt x="240" y="435"/>
                </a:lnTo>
                <a:lnTo>
                  <a:pt x="240" y="392"/>
                </a:lnTo>
                <a:lnTo>
                  <a:pt x="240" y="348"/>
                </a:lnTo>
                <a:lnTo>
                  <a:pt x="229" y="305"/>
                </a:lnTo>
                <a:lnTo>
                  <a:pt x="229" y="272"/>
                </a:lnTo>
                <a:lnTo>
                  <a:pt x="229" y="239"/>
                </a:lnTo>
                <a:lnTo>
                  <a:pt x="218" y="207"/>
                </a:lnTo>
                <a:lnTo>
                  <a:pt x="218" y="174"/>
                </a:lnTo>
                <a:lnTo>
                  <a:pt x="207" y="152"/>
                </a:lnTo>
                <a:lnTo>
                  <a:pt x="207" y="130"/>
                </a:lnTo>
                <a:lnTo>
                  <a:pt x="196" y="120"/>
                </a:lnTo>
                <a:lnTo>
                  <a:pt x="196" y="109"/>
                </a:lnTo>
                <a:lnTo>
                  <a:pt x="185" y="98"/>
                </a:lnTo>
                <a:lnTo>
                  <a:pt x="185" y="87"/>
                </a:lnTo>
                <a:lnTo>
                  <a:pt x="164" y="76"/>
                </a:lnTo>
                <a:lnTo>
                  <a:pt x="142" y="54"/>
                </a:lnTo>
                <a:lnTo>
                  <a:pt x="142" y="43"/>
                </a:lnTo>
                <a:lnTo>
                  <a:pt x="142" y="22"/>
                </a:lnTo>
                <a:lnTo>
                  <a:pt x="153" y="11"/>
                </a:lnTo>
                <a:lnTo>
                  <a:pt x="164" y="11"/>
                </a:lnTo>
                <a:lnTo>
                  <a:pt x="185" y="0"/>
                </a:lnTo>
                <a:lnTo>
                  <a:pt x="218" y="0"/>
                </a:lnTo>
                <a:lnTo>
                  <a:pt x="240" y="0"/>
                </a:lnTo>
                <a:lnTo>
                  <a:pt x="272" y="11"/>
                </a:lnTo>
                <a:lnTo>
                  <a:pt x="316" y="22"/>
                </a:lnTo>
                <a:lnTo>
                  <a:pt x="348" y="43"/>
                </a:lnTo>
                <a:lnTo>
                  <a:pt x="370" y="65"/>
                </a:lnTo>
                <a:lnTo>
                  <a:pt x="392" y="87"/>
                </a:lnTo>
                <a:lnTo>
                  <a:pt x="403" y="109"/>
                </a:lnTo>
                <a:lnTo>
                  <a:pt x="414" y="120"/>
                </a:lnTo>
                <a:lnTo>
                  <a:pt x="414" y="141"/>
                </a:lnTo>
                <a:lnTo>
                  <a:pt x="414" y="152"/>
                </a:lnTo>
                <a:lnTo>
                  <a:pt x="403" y="174"/>
                </a:lnTo>
                <a:lnTo>
                  <a:pt x="392" y="185"/>
                </a:lnTo>
                <a:lnTo>
                  <a:pt x="381" y="196"/>
                </a:lnTo>
                <a:lnTo>
                  <a:pt x="381" y="207"/>
                </a:lnTo>
                <a:lnTo>
                  <a:pt x="381" y="228"/>
                </a:lnTo>
                <a:lnTo>
                  <a:pt x="381" y="250"/>
                </a:lnTo>
                <a:lnTo>
                  <a:pt x="381" y="272"/>
                </a:lnTo>
                <a:lnTo>
                  <a:pt x="381" y="294"/>
                </a:lnTo>
                <a:lnTo>
                  <a:pt x="381" y="326"/>
                </a:lnTo>
                <a:lnTo>
                  <a:pt x="381" y="359"/>
                </a:lnTo>
                <a:lnTo>
                  <a:pt x="381" y="402"/>
                </a:lnTo>
                <a:lnTo>
                  <a:pt x="381" y="435"/>
                </a:lnTo>
                <a:lnTo>
                  <a:pt x="381" y="490"/>
                </a:lnTo>
                <a:lnTo>
                  <a:pt x="381" y="533"/>
                </a:lnTo>
                <a:lnTo>
                  <a:pt x="381" y="587"/>
                </a:lnTo>
                <a:lnTo>
                  <a:pt x="392" y="642"/>
                </a:lnTo>
                <a:lnTo>
                  <a:pt x="392" y="696"/>
                </a:lnTo>
                <a:lnTo>
                  <a:pt x="392" y="762"/>
                </a:lnTo>
                <a:lnTo>
                  <a:pt x="392" y="816"/>
                </a:lnTo>
                <a:lnTo>
                  <a:pt x="403" y="870"/>
                </a:lnTo>
                <a:lnTo>
                  <a:pt x="403" y="925"/>
                </a:lnTo>
                <a:lnTo>
                  <a:pt x="403" y="968"/>
                </a:lnTo>
                <a:lnTo>
                  <a:pt x="403" y="1023"/>
                </a:lnTo>
                <a:lnTo>
                  <a:pt x="403" y="1066"/>
                </a:lnTo>
                <a:lnTo>
                  <a:pt x="403" y="1099"/>
                </a:lnTo>
                <a:lnTo>
                  <a:pt x="403" y="1142"/>
                </a:lnTo>
                <a:lnTo>
                  <a:pt x="403" y="1175"/>
                </a:lnTo>
                <a:lnTo>
                  <a:pt x="403" y="1208"/>
                </a:lnTo>
                <a:lnTo>
                  <a:pt x="403" y="1230"/>
                </a:lnTo>
                <a:lnTo>
                  <a:pt x="403" y="1251"/>
                </a:lnTo>
                <a:lnTo>
                  <a:pt x="392" y="1273"/>
                </a:lnTo>
                <a:lnTo>
                  <a:pt x="392" y="1295"/>
                </a:lnTo>
                <a:lnTo>
                  <a:pt x="392" y="1317"/>
                </a:lnTo>
                <a:lnTo>
                  <a:pt x="381" y="1371"/>
                </a:lnTo>
                <a:lnTo>
                  <a:pt x="359" y="1415"/>
                </a:lnTo>
                <a:lnTo>
                  <a:pt x="338" y="1458"/>
                </a:lnTo>
                <a:lnTo>
                  <a:pt x="327" y="1480"/>
                </a:lnTo>
                <a:lnTo>
                  <a:pt x="294" y="1512"/>
                </a:lnTo>
                <a:lnTo>
                  <a:pt x="272" y="1523"/>
                </a:lnTo>
                <a:lnTo>
                  <a:pt x="261" y="1534"/>
                </a:lnTo>
                <a:lnTo>
                  <a:pt x="240" y="1545"/>
                </a:lnTo>
                <a:lnTo>
                  <a:pt x="229" y="1534"/>
                </a:lnTo>
                <a:lnTo>
                  <a:pt x="207" y="1523"/>
                </a:lnTo>
                <a:lnTo>
                  <a:pt x="196" y="1502"/>
                </a:lnTo>
                <a:lnTo>
                  <a:pt x="196" y="1469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Freeform 45"/>
          <p:cNvSpPr/>
          <p:nvPr/>
        </p:nvSpPr>
        <p:spPr>
          <a:xfrm>
            <a:off x="6118200" y="2190600"/>
            <a:ext cx="434520" cy="626040"/>
          </a:xfrm>
          <a:custGeom>
            <a:avLst/>
            <a:gdLst>
              <a:gd name="textAreaLeft" fmla="*/ 0 w 434520"/>
              <a:gd name="textAreaRight" fmla="*/ 434880 w 434520"/>
              <a:gd name="textAreaTop" fmla="*/ 0 h 626040"/>
              <a:gd name="textAreaBottom" fmla="*/ 626400 h 626040"/>
            </a:gdLst>
            <a:ahLst/>
            <a:rect l="textAreaLeft" t="textAreaTop" r="textAreaRight" b="textAreaBottom"/>
            <a:pathLst>
              <a:path w="685" h="740">
                <a:moveTo>
                  <a:pt x="435" y="152"/>
                </a:moveTo>
                <a:lnTo>
                  <a:pt x="446" y="119"/>
                </a:lnTo>
                <a:lnTo>
                  <a:pt x="457" y="87"/>
                </a:lnTo>
                <a:lnTo>
                  <a:pt x="457" y="65"/>
                </a:lnTo>
                <a:lnTo>
                  <a:pt x="446" y="54"/>
                </a:lnTo>
                <a:lnTo>
                  <a:pt x="435" y="43"/>
                </a:lnTo>
                <a:lnTo>
                  <a:pt x="424" y="32"/>
                </a:lnTo>
                <a:lnTo>
                  <a:pt x="435" y="21"/>
                </a:lnTo>
                <a:lnTo>
                  <a:pt x="446" y="11"/>
                </a:lnTo>
                <a:lnTo>
                  <a:pt x="457" y="0"/>
                </a:lnTo>
                <a:lnTo>
                  <a:pt x="478" y="0"/>
                </a:lnTo>
                <a:lnTo>
                  <a:pt x="489" y="0"/>
                </a:lnTo>
                <a:lnTo>
                  <a:pt x="511" y="0"/>
                </a:lnTo>
                <a:lnTo>
                  <a:pt x="522" y="0"/>
                </a:lnTo>
                <a:lnTo>
                  <a:pt x="554" y="11"/>
                </a:lnTo>
                <a:lnTo>
                  <a:pt x="576" y="21"/>
                </a:lnTo>
                <a:lnTo>
                  <a:pt x="620" y="43"/>
                </a:lnTo>
                <a:lnTo>
                  <a:pt x="641" y="65"/>
                </a:lnTo>
                <a:lnTo>
                  <a:pt x="674" y="76"/>
                </a:lnTo>
                <a:lnTo>
                  <a:pt x="685" y="98"/>
                </a:lnTo>
                <a:lnTo>
                  <a:pt x="685" y="108"/>
                </a:lnTo>
                <a:lnTo>
                  <a:pt x="674" y="119"/>
                </a:lnTo>
                <a:lnTo>
                  <a:pt x="663" y="141"/>
                </a:lnTo>
                <a:lnTo>
                  <a:pt x="641" y="174"/>
                </a:lnTo>
                <a:lnTo>
                  <a:pt x="620" y="206"/>
                </a:lnTo>
                <a:lnTo>
                  <a:pt x="598" y="239"/>
                </a:lnTo>
                <a:lnTo>
                  <a:pt x="565" y="283"/>
                </a:lnTo>
                <a:lnTo>
                  <a:pt x="533" y="326"/>
                </a:lnTo>
                <a:lnTo>
                  <a:pt x="489" y="370"/>
                </a:lnTo>
                <a:lnTo>
                  <a:pt x="446" y="413"/>
                </a:lnTo>
                <a:lnTo>
                  <a:pt x="359" y="489"/>
                </a:lnTo>
                <a:lnTo>
                  <a:pt x="272" y="566"/>
                </a:lnTo>
                <a:lnTo>
                  <a:pt x="185" y="631"/>
                </a:lnTo>
                <a:lnTo>
                  <a:pt x="141" y="663"/>
                </a:lnTo>
                <a:lnTo>
                  <a:pt x="109" y="685"/>
                </a:lnTo>
                <a:lnTo>
                  <a:pt x="76" y="707"/>
                </a:lnTo>
                <a:lnTo>
                  <a:pt x="54" y="718"/>
                </a:lnTo>
                <a:lnTo>
                  <a:pt x="33" y="729"/>
                </a:lnTo>
                <a:lnTo>
                  <a:pt x="11" y="740"/>
                </a:lnTo>
                <a:lnTo>
                  <a:pt x="0" y="740"/>
                </a:lnTo>
                <a:lnTo>
                  <a:pt x="0" y="729"/>
                </a:lnTo>
                <a:lnTo>
                  <a:pt x="0" y="718"/>
                </a:lnTo>
                <a:lnTo>
                  <a:pt x="11" y="696"/>
                </a:lnTo>
                <a:lnTo>
                  <a:pt x="33" y="685"/>
                </a:lnTo>
                <a:lnTo>
                  <a:pt x="54" y="663"/>
                </a:lnTo>
                <a:lnTo>
                  <a:pt x="76" y="631"/>
                </a:lnTo>
                <a:lnTo>
                  <a:pt x="109" y="609"/>
                </a:lnTo>
                <a:lnTo>
                  <a:pt x="163" y="544"/>
                </a:lnTo>
                <a:lnTo>
                  <a:pt x="217" y="489"/>
                </a:lnTo>
                <a:lnTo>
                  <a:pt x="272" y="424"/>
                </a:lnTo>
                <a:lnTo>
                  <a:pt x="315" y="359"/>
                </a:lnTo>
                <a:lnTo>
                  <a:pt x="359" y="304"/>
                </a:lnTo>
                <a:lnTo>
                  <a:pt x="391" y="250"/>
                </a:lnTo>
                <a:lnTo>
                  <a:pt x="402" y="217"/>
                </a:lnTo>
                <a:lnTo>
                  <a:pt x="424" y="196"/>
                </a:lnTo>
                <a:lnTo>
                  <a:pt x="424" y="174"/>
                </a:lnTo>
                <a:lnTo>
                  <a:pt x="435" y="15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Freeform 46"/>
          <p:cNvSpPr/>
          <p:nvPr/>
        </p:nvSpPr>
        <p:spPr>
          <a:xfrm>
            <a:off x="6402240" y="2366280"/>
            <a:ext cx="358560" cy="128880"/>
          </a:xfrm>
          <a:custGeom>
            <a:avLst/>
            <a:gdLst>
              <a:gd name="textAreaLeft" fmla="*/ 0 w 358560"/>
              <a:gd name="textAreaRight" fmla="*/ 358920 w 35856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565" h="153">
                <a:moveTo>
                  <a:pt x="250" y="33"/>
                </a:moveTo>
                <a:lnTo>
                  <a:pt x="304" y="22"/>
                </a:lnTo>
                <a:lnTo>
                  <a:pt x="358" y="11"/>
                </a:lnTo>
                <a:lnTo>
                  <a:pt x="391" y="11"/>
                </a:lnTo>
                <a:lnTo>
                  <a:pt x="424" y="0"/>
                </a:lnTo>
                <a:lnTo>
                  <a:pt x="445" y="0"/>
                </a:lnTo>
                <a:lnTo>
                  <a:pt x="467" y="0"/>
                </a:lnTo>
                <a:lnTo>
                  <a:pt x="500" y="11"/>
                </a:lnTo>
                <a:lnTo>
                  <a:pt x="521" y="11"/>
                </a:lnTo>
                <a:lnTo>
                  <a:pt x="543" y="22"/>
                </a:lnTo>
                <a:lnTo>
                  <a:pt x="554" y="44"/>
                </a:lnTo>
                <a:lnTo>
                  <a:pt x="565" y="55"/>
                </a:lnTo>
                <a:lnTo>
                  <a:pt x="565" y="66"/>
                </a:lnTo>
                <a:lnTo>
                  <a:pt x="554" y="77"/>
                </a:lnTo>
                <a:lnTo>
                  <a:pt x="543" y="87"/>
                </a:lnTo>
                <a:lnTo>
                  <a:pt x="532" y="98"/>
                </a:lnTo>
                <a:lnTo>
                  <a:pt x="511" y="98"/>
                </a:lnTo>
                <a:lnTo>
                  <a:pt x="478" y="109"/>
                </a:lnTo>
                <a:lnTo>
                  <a:pt x="445" y="109"/>
                </a:lnTo>
                <a:lnTo>
                  <a:pt x="413" y="120"/>
                </a:lnTo>
                <a:lnTo>
                  <a:pt x="380" y="131"/>
                </a:lnTo>
                <a:lnTo>
                  <a:pt x="348" y="131"/>
                </a:lnTo>
                <a:lnTo>
                  <a:pt x="315" y="142"/>
                </a:lnTo>
                <a:lnTo>
                  <a:pt x="293" y="142"/>
                </a:lnTo>
                <a:lnTo>
                  <a:pt x="271" y="142"/>
                </a:lnTo>
                <a:lnTo>
                  <a:pt x="250" y="153"/>
                </a:lnTo>
                <a:lnTo>
                  <a:pt x="239" y="153"/>
                </a:lnTo>
                <a:lnTo>
                  <a:pt x="228" y="153"/>
                </a:lnTo>
                <a:lnTo>
                  <a:pt x="217" y="153"/>
                </a:lnTo>
                <a:lnTo>
                  <a:pt x="195" y="153"/>
                </a:lnTo>
                <a:lnTo>
                  <a:pt x="174" y="142"/>
                </a:lnTo>
                <a:lnTo>
                  <a:pt x="141" y="142"/>
                </a:lnTo>
                <a:lnTo>
                  <a:pt x="97" y="142"/>
                </a:lnTo>
                <a:lnTo>
                  <a:pt x="54" y="131"/>
                </a:lnTo>
                <a:lnTo>
                  <a:pt x="0" y="131"/>
                </a:lnTo>
                <a:lnTo>
                  <a:pt x="0" y="66"/>
                </a:lnTo>
                <a:lnTo>
                  <a:pt x="65" y="55"/>
                </a:lnTo>
                <a:lnTo>
                  <a:pt x="119" y="55"/>
                </a:lnTo>
                <a:lnTo>
                  <a:pt x="250" y="3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Freeform 47"/>
          <p:cNvSpPr/>
          <p:nvPr/>
        </p:nvSpPr>
        <p:spPr>
          <a:xfrm>
            <a:off x="6711840" y="2171880"/>
            <a:ext cx="358560" cy="590040"/>
          </a:xfrm>
          <a:custGeom>
            <a:avLst/>
            <a:gdLst>
              <a:gd name="textAreaLeft" fmla="*/ 0 w 358560"/>
              <a:gd name="textAreaRight" fmla="*/ 358920 w 358560"/>
              <a:gd name="textAreaTop" fmla="*/ 0 h 590040"/>
              <a:gd name="textAreaBottom" fmla="*/ 590400 h 590040"/>
            </a:gdLst>
            <a:ahLst/>
            <a:rect l="textAreaLeft" t="textAreaTop" r="textAreaRight" b="textAreaBottom"/>
            <a:pathLst>
              <a:path w="565" h="696">
                <a:moveTo>
                  <a:pt x="11" y="696"/>
                </a:moveTo>
                <a:lnTo>
                  <a:pt x="0" y="696"/>
                </a:lnTo>
                <a:lnTo>
                  <a:pt x="0" y="685"/>
                </a:lnTo>
                <a:lnTo>
                  <a:pt x="11" y="675"/>
                </a:lnTo>
                <a:lnTo>
                  <a:pt x="22" y="653"/>
                </a:lnTo>
                <a:lnTo>
                  <a:pt x="32" y="631"/>
                </a:lnTo>
                <a:lnTo>
                  <a:pt x="43" y="609"/>
                </a:lnTo>
                <a:lnTo>
                  <a:pt x="65" y="588"/>
                </a:lnTo>
                <a:lnTo>
                  <a:pt x="87" y="566"/>
                </a:lnTo>
                <a:lnTo>
                  <a:pt x="141" y="500"/>
                </a:lnTo>
                <a:lnTo>
                  <a:pt x="185" y="446"/>
                </a:lnTo>
                <a:lnTo>
                  <a:pt x="228" y="392"/>
                </a:lnTo>
                <a:lnTo>
                  <a:pt x="239" y="370"/>
                </a:lnTo>
                <a:lnTo>
                  <a:pt x="250" y="348"/>
                </a:lnTo>
                <a:lnTo>
                  <a:pt x="283" y="305"/>
                </a:lnTo>
                <a:lnTo>
                  <a:pt x="304" y="250"/>
                </a:lnTo>
                <a:lnTo>
                  <a:pt x="326" y="207"/>
                </a:lnTo>
                <a:lnTo>
                  <a:pt x="337" y="185"/>
                </a:lnTo>
                <a:lnTo>
                  <a:pt x="337" y="163"/>
                </a:lnTo>
                <a:lnTo>
                  <a:pt x="348" y="130"/>
                </a:lnTo>
                <a:lnTo>
                  <a:pt x="348" y="98"/>
                </a:lnTo>
                <a:lnTo>
                  <a:pt x="348" y="76"/>
                </a:lnTo>
                <a:lnTo>
                  <a:pt x="337" y="65"/>
                </a:lnTo>
                <a:lnTo>
                  <a:pt x="326" y="54"/>
                </a:lnTo>
                <a:lnTo>
                  <a:pt x="315" y="43"/>
                </a:lnTo>
                <a:lnTo>
                  <a:pt x="304" y="33"/>
                </a:lnTo>
                <a:lnTo>
                  <a:pt x="315" y="22"/>
                </a:lnTo>
                <a:lnTo>
                  <a:pt x="326" y="11"/>
                </a:lnTo>
                <a:lnTo>
                  <a:pt x="348" y="0"/>
                </a:lnTo>
                <a:lnTo>
                  <a:pt x="380" y="0"/>
                </a:lnTo>
                <a:lnTo>
                  <a:pt x="424" y="0"/>
                </a:lnTo>
                <a:lnTo>
                  <a:pt x="456" y="0"/>
                </a:lnTo>
                <a:lnTo>
                  <a:pt x="500" y="0"/>
                </a:lnTo>
                <a:lnTo>
                  <a:pt x="533" y="11"/>
                </a:lnTo>
                <a:lnTo>
                  <a:pt x="554" y="33"/>
                </a:lnTo>
                <a:lnTo>
                  <a:pt x="554" y="43"/>
                </a:lnTo>
                <a:lnTo>
                  <a:pt x="565" y="54"/>
                </a:lnTo>
                <a:lnTo>
                  <a:pt x="565" y="76"/>
                </a:lnTo>
                <a:lnTo>
                  <a:pt x="565" y="87"/>
                </a:lnTo>
                <a:lnTo>
                  <a:pt x="565" y="109"/>
                </a:lnTo>
                <a:lnTo>
                  <a:pt x="554" y="120"/>
                </a:lnTo>
                <a:lnTo>
                  <a:pt x="554" y="141"/>
                </a:lnTo>
                <a:lnTo>
                  <a:pt x="533" y="163"/>
                </a:lnTo>
                <a:lnTo>
                  <a:pt x="511" y="218"/>
                </a:lnTo>
                <a:lnTo>
                  <a:pt x="478" y="272"/>
                </a:lnTo>
                <a:lnTo>
                  <a:pt x="435" y="326"/>
                </a:lnTo>
                <a:lnTo>
                  <a:pt x="391" y="381"/>
                </a:lnTo>
                <a:lnTo>
                  <a:pt x="348" y="435"/>
                </a:lnTo>
                <a:lnTo>
                  <a:pt x="293" y="490"/>
                </a:lnTo>
                <a:lnTo>
                  <a:pt x="239" y="544"/>
                </a:lnTo>
                <a:lnTo>
                  <a:pt x="174" y="598"/>
                </a:lnTo>
                <a:lnTo>
                  <a:pt x="141" y="620"/>
                </a:lnTo>
                <a:lnTo>
                  <a:pt x="109" y="642"/>
                </a:lnTo>
                <a:lnTo>
                  <a:pt x="87" y="664"/>
                </a:lnTo>
                <a:lnTo>
                  <a:pt x="54" y="685"/>
                </a:lnTo>
                <a:lnTo>
                  <a:pt x="43" y="696"/>
                </a:lnTo>
                <a:lnTo>
                  <a:pt x="22" y="696"/>
                </a:lnTo>
                <a:lnTo>
                  <a:pt x="11" y="69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Freeform 48"/>
          <p:cNvSpPr/>
          <p:nvPr/>
        </p:nvSpPr>
        <p:spPr>
          <a:xfrm>
            <a:off x="6940440" y="2319840"/>
            <a:ext cx="420480" cy="128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663" h="152">
                <a:moveTo>
                  <a:pt x="32" y="54"/>
                </a:moveTo>
                <a:lnTo>
                  <a:pt x="97" y="44"/>
                </a:lnTo>
                <a:lnTo>
                  <a:pt x="163" y="33"/>
                </a:lnTo>
                <a:lnTo>
                  <a:pt x="228" y="22"/>
                </a:lnTo>
                <a:lnTo>
                  <a:pt x="293" y="11"/>
                </a:lnTo>
                <a:lnTo>
                  <a:pt x="358" y="11"/>
                </a:lnTo>
                <a:lnTo>
                  <a:pt x="402" y="0"/>
                </a:lnTo>
                <a:lnTo>
                  <a:pt x="456" y="0"/>
                </a:lnTo>
                <a:lnTo>
                  <a:pt x="500" y="0"/>
                </a:lnTo>
                <a:lnTo>
                  <a:pt x="532" y="0"/>
                </a:lnTo>
                <a:lnTo>
                  <a:pt x="565" y="0"/>
                </a:lnTo>
                <a:lnTo>
                  <a:pt x="587" y="11"/>
                </a:lnTo>
                <a:lnTo>
                  <a:pt x="619" y="11"/>
                </a:lnTo>
                <a:lnTo>
                  <a:pt x="641" y="22"/>
                </a:lnTo>
                <a:lnTo>
                  <a:pt x="652" y="33"/>
                </a:lnTo>
                <a:lnTo>
                  <a:pt x="663" y="44"/>
                </a:lnTo>
                <a:lnTo>
                  <a:pt x="663" y="54"/>
                </a:lnTo>
                <a:lnTo>
                  <a:pt x="663" y="65"/>
                </a:lnTo>
                <a:lnTo>
                  <a:pt x="652" y="76"/>
                </a:lnTo>
                <a:lnTo>
                  <a:pt x="641" y="87"/>
                </a:lnTo>
                <a:lnTo>
                  <a:pt x="630" y="87"/>
                </a:lnTo>
                <a:lnTo>
                  <a:pt x="608" y="98"/>
                </a:lnTo>
                <a:lnTo>
                  <a:pt x="587" y="109"/>
                </a:lnTo>
                <a:lnTo>
                  <a:pt x="554" y="109"/>
                </a:lnTo>
                <a:lnTo>
                  <a:pt x="521" y="120"/>
                </a:lnTo>
                <a:lnTo>
                  <a:pt x="478" y="120"/>
                </a:lnTo>
                <a:lnTo>
                  <a:pt x="434" y="131"/>
                </a:lnTo>
                <a:lnTo>
                  <a:pt x="380" y="141"/>
                </a:lnTo>
                <a:lnTo>
                  <a:pt x="315" y="141"/>
                </a:lnTo>
                <a:lnTo>
                  <a:pt x="250" y="141"/>
                </a:lnTo>
                <a:lnTo>
                  <a:pt x="174" y="152"/>
                </a:lnTo>
                <a:lnTo>
                  <a:pt x="87" y="152"/>
                </a:lnTo>
                <a:lnTo>
                  <a:pt x="0" y="152"/>
                </a:lnTo>
                <a:lnTo>
                  <a:pt x="32" y="54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0" name="Freeform 49"/>
          <p:cNvSpPr/>
          <p:nvPr/>
        </p:nvSpPr>
        <p:spPr>
          <a:xfrm>
            <a:off x="6402240" y="2594880"/>
            <a:ext cx="171000" cy="156240"/>
          </a:xfrm>
          <a:custGeom>
            <a:avLst/>
            <a:gdLst>
              <a:gd name="textAreaLeft" fmla="*/ 0 w 171000"/>
              <a:gd name="textAreaRight" fmla="*/ 171360 w 171000"/>
              <a:gd name="textAreaTop" fmla="*/ 0 h 156240"/>
              <a:gd name="textAreaBottom" fmla="*/ 156600 h 156240"/>
            </a:gdLst>
            <a:ahLst/>
            <a:rect l="textAreaLeft" t="textAreaTop" r="textAreaRight" b="textAreaBottom"/>
            <a:pathLst>
              <a:path w="271" h="185">
                <a:moveTo>
                  <a:pt x="0" y="22"/>
                </a:moveTo>
                <a:lnTo>
                  <a:pt x="0" y="22"/>
                </a:lnTo>
                <a:lnTo>
                  <a:pt x="11" y="11"/>
                </a:lnTo>
                <a:lnTo>
                  <a:pt x="21" y="11"/>
                </a:lnTo>
                <a:lnTo>
                  <a:pt x="32" y="11"/>
                </a:lnTo>
                <a:lnTo>
                  <a:pt x="43" y="11"/>
                </a:lnTo>
                <a:lnTo>
                  <a:pt x="65" y="0"/>
                </a:lnTo>
                <a:lnTo>
                  <a:pt x="87" y="0"/>
                </a:lnTo>
                <a:lnTo>
                  <a:pt x="119" y="11"/>
                </a:lnTo>
                <a:lnTo>
                  <a:pt x="152" y="11"/>
                </a:lnTo>
                <a:lnTo>
                  <a:pt x="184" y="33"/>
                </a:lnTo>
                <a:lnTo>
                  <a:pt x="228" y="55"/>
                </a:lnTo>
                <a:lnTo>
                  <a:pt x="250" y="77"/>
                </a:lnTo>
                <a:lnTo>
                  <a:pt x="261" y="98"/>
                </a:lnTo>
                <a:lnTo>
                  <a:pt x="271" y="109"/>
                </a:lnTo>
                <a:lnTo>
                  <a:pt x="271" y="120"/>
                </a:lnTo>
                <a:lnTo>
                  <a:pt x="271" y="131"/>
                </a:lnTo>
                <a:lnTo>
                  <a:pt x="271" y="142"/>
                </a:lnTo>
                <a:lnTo>
                  <a:pt x="261" y="164"/>
                </a:lnTo>
                <a:lnTo>
                  <a:pt x="250" y="175"/>
                </a:lnTo>
                <a:lnTo>
                  <a:pt x="239" y="185"/>
                </a:lnTo>
                <a:lnTo>
                  <a:pt x="228" y="185"/>
                </a:lnTo>
                <a:lnTo>
                  <a:pt x="217" y="185"/>
                </a:lnTo>
                <a:lnTo>
                  <a:pt x="206" y="185"/>
                </a:lnTo>
                <a:lnTo>
                  <a:pt x="184" y="175"/>
                </a:lnTo>
                <a:lnTo>
                  <a:pt x="174" y="164"/>
                </a:lnTo>
                <a:lnTo>
                  <a:pt x="152" y="153"/>
                </a:lnTo>
                <a:lnTo>
                  <a:pt x="141" y="142"/>
                </a:lnTo>
                <a:lnTo>
                  <a:pt x="119" y="131"/>
                </a:lnTo>
                <a:lnTo>
                  <a:pt x="97" y="109"/>
                </a:lnTo>
                <a:lnTo>
                  <a:pt x="76" y="88"/>
                </a:lnTo>
                <a:lnTo>
                  <a:pt x="54" y="77"/>
                </a:lnTo>
                <a:lnTo>
                  <a:pt x="43" y="66"/>
                </a:lnTo>
                <a:lnTo>
                  <a:pt x="21" y="55"/>
                </a:lnTo>
                <a:lnTo>
                  <a:pt x="11" y="44"/>
                </a:lnTo>
                <a:lnTo>
                  <a:pt x="11" y="33"/>
                </a:lnTo>
                <a:lnTo>
                  <a:pt x="0" y="33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Freeform 50"/>
          <p:cNvSpPr/>
          <p:nvPr/>
        </p:nvSpPr>
        <p:spPr>
          <a:xfrm>
            <a:off x="6981840" y="2577960"/>
            <a:ext cx="191880" cy="156240"/>
          </a:xfrm>
          <a:custGeom>
            <a:avLst/>
            <a:gdLst>
              <a:gd name="textAreaLeft" fmla="*/ 0 w 191880"/>
              <a:gd name="textAreaRight" fmla="*/ 192240 w 191880"/>
              <a:gd name="textAreaTop" fmla="*/ 0 h 156240"/>
              <a:gd name="textAreaBottom" fmla="*/ 156600 h 156240"/>
            </a:gdLst>
            <a:ahLst/>
            <a:rect l="textAreaLeft" t="textAreaTop" r="textAreaRight" b="textAreaBottom"/>
            <a:pathLst>
              <a:path w="304" h="185">
                <a:moveTo>
                  <a:pt x="0" y="21"/>
                </a:moveTo>
                <a:lnTo>
                  <a:pt x="0" y="21"/>
                </a:lnTo>
                <a:lnTo>
                  <a:pt x="11" y="11"/>
                </a:lnTo>
                <a:lnTo>
                  <a:pt x="22" y="11"/>
                </a:lnTo>
                <a:lnTo>
                  <a:pt x="43" y="11"/>
                </a:lnTo>
                <a:lnTo>
                  <a:pt x="65" y="0"/>
                </a:lnTo>
                <a:lnTo>
                  <a:pt x="87" y="0"/>
                </a:lnTo>
                <a:lnTo>
                  <a:pt x="109" y="0"/>
                </a:lnTo>
                <a:lnTo>
                  <a:pt x="163" y="11"/>
                </a:lnTo>
                <a:lnTo>
                  <a:pt x="206" y="21"/>
                </a:lnTo>
                <a:lnTo>
                  <a:pt x="239" y="43"/>
                </a:lnTo>
                <a:lnTo>
                  <a:pt x="272" y="76"/>
                </a:lnTo>
                <a:lnTo>
                  <a:pt x="283" y="87"/>
                </a:lnTo>
                <a:lnTo>
                  <a:pt x="293" y="109"/>
                </a:lnTo>
                <a:lnTo>
                  <a:pt x="293" y="119"/>
                </a:lnTo>
                <a:lnTo>
                  <a:pt x="304" y="130"/>
                </a:lnTo>
                <a:lnTo>
                  <a:pt x="304" y="152"/>
                </a:lnTo>
                <a:lnTo>
                  <a:pt x="304" y="163"/>
                </a:lnTo>
                <a:lnTo>
                  <a:pt x="293" y="174"/>
                </a:lnTo>
                <a:lnTo>
                  <a:pt x="283" y="174"/>
                </a:lnTo>
                <a:lnTo>
                  <a:pt x="272" y="185"/>
                </a:lnTo>
                <a:lnTo>
                  <a:pt x="261" y="185"/>
                </a:lnTo>
                <a:lnTo>
                  <a:pt x="250" y="185"/>
                </a:lnTo>
                <a:lnTo>
                  <a:pt x="228" y="185"/>
                </a:lnTo>
                <a:lnTo>
                  <a:pt x="217" y="174"/>
                </a:lnTo>
                <a:lnTo>
                  <a:pt x="206" y="163"/>
                </a:lnTo>
                <a:lnTo>
                  <a:pt x="185" y="152"/>
                </a:lnTo>
                <a:lnTo>
                  <a:pt x="163" y="141"/>
                </a:lnTo>
                <a:lnTo>
                  <a:pt x="141" y="119"/>
                </a:lnTo>
                <a:lnTo>
                  <a:pt x="109" y="109"/>
                </a:lnTo>
                <a:lnTo>
                  <a:pt x="87" y="87"/>
                </a:lnTo>
                <a:lnTo>
                  <a:pt x="65" y="76"/>
                </a:lnTo>
                <a:lnTo>
                  <a:pt x="43" y="65"/>
                </a:lnTo>
                <a:lnTo>
                  <a:pt x="22" y="54"/>
                </a:lnTo>
                <a:lnTo>
                  <a:pt x="11" y="43"/>
                </a:lnTo>
                <a:lnTo>
                  <a:pt x="0" y="32"/>
                </a:lnTo>
                <a:lnTo>
                  <a:pt x="0" y="2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Freeform 51"/>
          <p:cNvSpPr/>
          <p:nvPr/>
        </p:nvSpPr>
        <p:spPr>
          <a:xfrm>
            <a:off x="6402240" y="2853360"/>
            <a:ext cx="199800" cy="230400"/>
          </a:xfrm>
          <a:custGeom>
            <a:avLst/>
            <a:gdLst>
              <a:gd name="textAreaLeft" fmla="*/ 0 w 199800"/>
              <a:gd name="textAreaRight" fmla="*/ 200160 w 19980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315" h="272">
                <a:moveTo>
                  <a:pt x="282" y="272"/>
                </a:moveTo>
                <a:lnTo>
                  <a:pt x="250" y="250"/>
                </a:lnTo>
                <a:lnTo>
                  <a:pt x="206" y="229"/>
                </a:lnTo>
                <a:lnTo>
                  <a:pt x="174" y="207"/>
                </a:lnTo>
                <a:lnTo>
                  <a:pt x="141" y="185"/>
                </a:lnTo>
                <a:lnTo>
                  <a:pt x="119" y="163"/>
                </a:lnTo>
                <a:lnTo>
                  <a:pt x="97" y="142"/>
                </a:lnTo>
                <a:lnTo>
                  <a:pt x="76" y="120"/>
                </a:lnTo>
                <a:lnTo>
                  <a:pt x="54" y="109"/>
                </a:lnTo>
                <a:lnTo>
                  <a:pt x="43" y="98"/>
                </a:lnTo>
                <a:lnTo>
                  <a:pt x="32" y="87"/>
                </a:lnTo>
                <a:lnTo>
                  <a:pt x="21" y="65"/>
                </a:lnTo>
                <a:lnTo>
                  <a:pt x="11" y="55"/>
                </a:lnTo>
                <a:lnTo>
                  <a:pt x="0" y="55"/>
                </a:lnTo>
                <a:lnTo>
                  <a:pt x="0" y="44"/>
                </a:lnTo>
                <a:lnTo>
                  <a:pt x="0" y="33"/>
                </a:lnTo>
                <a:lnTo>
                  <a:pt x="0" y="22"/>
                </a:lnTo>
                <a:lnTo>
                  <a:pt x="11" y="22"/>
                </a:lnTo>
                <a:lnTo>
                  <a:pt x="11" y="11"/>
                </a:lnTo>
                <a:lnTo>
                  <a:pt x="21" y="11"/>
                </a:lnTo>
                <a:lnTo>
                  <a:pt x="43" y="11"/>
                </a:lnTo>
                <a:lnTo>
                  <a:pt x="54" y="11"/>
                </a:lnTo>
                <a:lnTo>
                  <a:pt x="76" y="11"/>
                </a:lnTo>
                <a:lnTo>
                  <a:pt x="97" y="0"/>
                </a:lnTo>
                <a:lnTo>
                  <a:pt x="141" y="11"/>
                </a:lnTo>
                <a:lnTo>
                  <a:pt x="184" y="11"/>
                </a:lnTo>
                <a:lnTo>
                  <a:pt x="228" y="33"/>
                </a:lnTo>
                <a:lnTo>
                  <a:pt x="271" y="55"/>
                </a:lnTo>
                <a:lnTo>
                  <a:pt x="293" y="65"/>
                </a:lnTo>
                <a:lnTo>
                  <a:pt x="304" y="87"/>
                </a:lnTo>
                <a:lnTo>
                  <a:pt x="315" y="109"/>
                </a:lnTo>
                <a:lnTo>
                  <a:pt x="315" y="131"/>
                </a:lnTo>
                <a:lnTo>
                  <a:pt x="315" y="163"/>
                </a:lnTo>
                <a:lnTo>
                  <a:pt x="304" y="196"/>
                </a:lnTo>
                <a:lnTo>
                  <a:pt x="293" y="229"/>
                </a:lnTo>
                <a:lnTo>
                  <a:pt x="282" y="27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3" name="Freeform 53"/>
          <p:cNvSpPr/>
          <p:nvPr/>
        </p:nvSpPr>
        <p:spPr>
          <a:xfrm>
            <a:off x="6823080" y="2751840"/>
            <a:ext cx="232920" cy="331920"/>
          </a:xfrm>
          <a:custGeom>
            <a:avLst/>
            <a:gdLst>
              <a:gd name="textAreaLeft" fmla="*/ 0 w 232920"/>
              <a:gd name="textAreaRight" fmla="*/ 233280 w 23292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369" h="392">
                <a:moveTo>
                  <a:pt x="98" y="392"/>
                </a:moveTo>
                <a:lnTo>
                  <a:pt x="0" y="392"/>
                </a:lnTo>
                <a:lnTo>
                  <a:pt x="43" y="327"/>
                </a:lnTo>
                <a:lnTo>
                  <a:pt x="76" y="262"/>
                </a:lnTo>
                <a:lnTo>
                  <a:pt x="109" y="207"/>
                </a:lnTo>
                <a:lnTo>
                  <a:pt x="141" y="164"/>
                </a:lnTo>
                <a:lnTo>
                  <a:pt x="152" y="120"/>
                </a:lnTo>
                <a:lnTo>
                  <a:pt x="163" y="88"/>
                </a:lnTo>
                <a:lnTo>
                  <a:pt x="163" y="66"/>
                </a:lnTo>
                <a:lnTo>
                  <a:pt x="163" y="55"/>
                </a:lnTo>
                <a:lnTo>
                  <a:pt x="141" y="44"/>
                </a:lnTo>
                <a:lnTo>
                  <a:pt x="130" y="33"/>
                </a:lnTo>
                <a:lnTo>
                  <a:pt x="119" y="22"/>
                </a:lnTo>
                <a:lnTo>
                  <a:pt x="130" y="11"/>
                </a:lnTo>
                <a:lnTo>
                  <a:pt x="130" y="0"/>
                </a:lnTo>
                <a:lnTo>
                  <a:pt x="141" y="0"/>
                </a:lnTo>
                <a:lnTo>
                  <a:pt x="163" y="0"/>
                </a:lnTo>
                <a:lnTo>
                  <a:pt x="185" y="0"/>
                </a:lnTo>
                <a:lnTo>
                  <a:pt x="217" y="0"/>
                </a:lnTo>
                <a:lnTo>
                  <a:pt x="250" y="11"/>
                </a:lnTo>
                <a:lnTo>
                  <a:pt x="282" y="22"/>
                </a:lnTo>
                <a:lnTo>
                  <a:pt x="315" y="44"/>
                </a:lnTo>
                <a:lnTo>
                  <a:pt x="337" y="66"/>
                </a:lnTo>
                <a:lnTo>
                  <a:pt x="359" y="88"/>
                </a:lnTo>
                <a:lnTo>
                  <a:pt x="359" y="98"/>
                </a:lnTo>
                <a:lnTo>
                  <a:pt x="369" y="109"/>
                </a:lnTo>
                <a:lnTo>
                  <a:pt x="369" y="120"/>
                </a:lnTo>
                <a:lnTo>
                  <a:pt x="359" y="120"/>
                </a:lnTo>
                <a:lnTo>
                  <a:pt x="359" y="142"/>
                </a:lnTo>
                <a:lnTo>
                  <a:pt x="337" y="164"/>
                </a:lnTo>
                <a:lnTo>
                  <a:pt x="315" y="185"/>
                </a:lnTo>
                <a:lnTo>
                  <a:pt x="293" y="218"/>
                </a:lnTo>
                <a:lnTo>
                  <a:pt x="250" y="251"/>
                </a:lnTo>
                <a:lnTo>
                  <a:pt x="206" y="294"/>
                </a:lnTo>
                <a:lnTo>
                  <a:pt x="152" y="349"/>
                </a:lnTo>
                <a:lnTo>
                  <a:pt x="98" y="39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Freeform 52"/>
          <p:cNvSpPr/>
          <p:nvPr/>
        </p:nvSpPr>
        <p:spPr>
          <a:xfrm>
            <a:off x="5904000" y="2946240"/>
            <a:ext cx="1704600" cy="285480"/>
          </a:xfrm>
          <a:custGeom>
            <a:avLst/>
            <a:gdLst>
              <a:gd name="textAreaLeft" fmla="*/ 0 w 1704600"/>
              <a:gd name="textAreaRight" fmla="*/ 1704960 w 1704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685" h="337">
                <a:moveTo>
                  <a:pt x="98" y="305"/>
                </a:moveTo>
                <a:lnTo>
                  <a:pt x="76" y="294"/>
                </a:lnTo>
                <a:lnTo>
                  <a:pt x="65" y="283"/>
                </a:lnTo>
                <a:lnTo>
                  <a:pt x="43" y="283"/>
                </a:lnTo>
                <a:lnTo>
                  <a:pt x="33" y="272"/>
                </a:lnTo>
                <a:lnTo>
                  <a:pt x="11" y="261"/>
                </a:lnTo>
                <a:lnTo>
                  <a:pt x="0" y="250"/>
                </a:lnTo>
                <a:lnTo>
                  <a:pt x="11" y="239"/>
                </a:lnTo>
                <a:lnTo>
                  <a:pt x="33" y="239"/>
                </a:lnTo>
                <a:lnTo>
                  <a:pt x="43" y="239"/>
                </a:lnTo>
                <a:lnTo>
                  <a:pt x="65" y="229"/>
                </a:lnTo>
                <a:lnTo>
                  <a:pt x="87" y="229"/>
                </a:lnTo>
                <a:lnTo>
                  <a:pt x="119" y="229"/>
                </a:lnTo>
                <a:lnTo>
                  <a:pt x="152" y="218"/>
                </a:lnTo>
                <a:lnTo>
                  <a:pt x="185" y="218"/>
                </a:lnTo>
                <a:lnTo>
                  <a:pt x="228" y="207"/>
                </a:lnTo>
                <a:lnTo>
                  <a:pt x="261" y="207"/>
                </a:lnTo>
                <a:lnTo>
                  <a:pt x="315" y="207"/>
                </a:lnTo>
                <a:lnTo>
                  <a:pt x="359" y="196"/>
                </a:lnTo>
                <a:lnTo>
                  <a:pt x="413" y="196"/>
                </a:lnTo>
                <a:lnTo>
                  <a:pt x="478" y="196"/>
                </a:lnTo>
                <a:lnTo>
                  <a:pt x="598" y="185"/>
                </a:lnTo>
                <a:lnTo>
                  <a:pt x="707" y="174"/>
                </a:lnTo>
                <a:lnTo>
                  <a:pt x="804" y="163"/>
                </a:lnTo>
                <a:lnTo>
                  <a:pt x="913" y="163"/>
                </a:lnTo>
                <a:lnTo>
                  <a:pt x="1000" y="152"/>
                </a:lnTo>
                <a:lnTo>
                  <a:pt x="1098" y="141"/>
                </a:lnTo>
                <a:lnTo>
                  <a:pt x="1174" y="141"/>
                </a:lnTo>
                <a:lnTo>
                  <a:pt x="1250" y="131"/>
                </a:lnTo>
                <a:lnTo>
                  <a:pt x="1413" y="120"/>
                </a:lnTo>
                <a:lnTo>
                  <a:pt x="1576" y="109"/>
                </a:lnTo>
                <a:lnTo>
                  <a:pt x="1750" y="76"/>
                </a:lnTo>
                <a:lnTo>
                  <a:pt x="1924" y="54"/>
                </a:lnTo>
                <a:lnTo>
                  <a:pt x="1979" y="44"/>
                </a:lnTo>
                <a:lnTo>
                  <a:pt x="2011" y="44"/>
                </a:lnTo>
                <a:lnTo>
                  <a:pt x="2055" y="33"/>
                </a:lnTo>
                <a:lnTo>
                  <a:pt x="2098" y="33"/>
                </a:lnTo>
                <a:lnTo>
                  <a:pt x="2131" y="22"/>
                </a:lnTo>
                <a:lnTo>
                  <a:pt x="2163" y="22"/>
                </a:lnTo>
                <a:lnTo>
                  <a:pt x="2196" y="22"/>
                </a:lnTo>
                <a:lnTo>
                  <a:pt x="2218" y="11"/>
                </a:lnTo>
                <a:lnTo>
                  <a:pt x="2250" y="11"/>
                </a:lnTo>
                <a:lnTo>
                  <a:pt x="2272" y="11"/>
                </a:lnTo>
                <a:lnTo>
                  <a:pt x="2294" y="0"/>
                </a:lnTo>
                <a:lnTo>
                  <a:pt x="2316" y="0"/>
                </a:lnTo>
                <a:lnTo>
                  <a:pt x="2348" y="0"/>
                </a:lnTo>
                <a:lnTo>
                  <a:pt x="2370" y="0"/>
                </a:lnTo>
                <a:lnTo>
                  <a:pt x="2392" y="0"/>
                </a:lnTo>
                <a:lnTo>
                  <a:pt x="2424" y="11"/>
                </a:lnTo>
                <a:lnTo>
                  <a:pt x="2468" y="22"/>
                </a:lnTo>
                <a:lnTo>
                  <a:pt x="2511" y="33"/>
                </a:lnTo>
                <a:lnTo>
                  <a:pt x="2544" y="54"/>
                </a:lnTo>
                <a:lnTo>
                  <a:pt x="2587" y="76"/>
                </a:lnTo>
                <a:lnTo>
                  <a:pt x="2620" y="98"/>
                </a:lnTo>
                <a:lnTo>
                  <a:pt x="2653" y="120"/>
                </a:lnTo>
                <a:lnTo>
                  <a:pt x="2674" y="141"/>
                </a:lnTo>
                <a:lnTo>
                  <a:pt x="2685" y="163"/>
                </a:lnTo>
                <a:lnTo>
                  <a:pt x="2685" y="174"/>
                </a:lnTo>
                <a:lnTo>
                  <a:pt x="2685" y="185"/>
                </a:lnTo>
                <a:lnTo>
                  <a:pt x="2674" y="185"/>
                </a:lnTo>
                <a:lnTo>
                  <a:pt x="2674" y="196"/>
                </a:lnTo>
                <a:lnTo>
                  <a:pt x="2663" y="196"/>
                </a:lnTo>
                <a:lnTo>
                  <a:pt x="2663" y="207"/>
                </a:lnTo>
                <a:lnTo>
                  <a:pt x="2653" y="207"/>
                </a:lnTo>
                <a:lnTo>
                  <a:pt x="2642" y="196"/>
                </a:lnTo>
                <a:lnTo>
                  <a:pt x="2631" y="196"/>
                </a:lnTo>
                <a:lnTo>
                  <a:pt x="2609" y="196"/>
                </a:lnTo>
                <a:lnTo>
                  <a:pt x="2587" y="196"/>
                </a:lnTo>
                <a:lnTo>
                  <a:pt x="2555" y="185"/>
                </a:lnTo>
                <a:lnTo>
                  <a:pt x="2522" y="185"/>
                </a:lnTo>
                <a:lnTo>
                  <a:pt x="2479" y="185"/>
                </a:lnTo>
                <a:lnTo>
                  <a:pt x="2403" y="174"/>
                </a:lnTo>
                <a:lnTo>
                  <a:pt x="2316" y="174"/>
                </a:lnTo>
                <a:lnTo>
                  <a:pt x="2229" y="174"/>
                </a:lnTo>
                <a:lnTo>
                  <a:pt x="2131" y="163"/>
                </a:lnTo>
                <a:lnTo>
                  <a:pt x="1935" y="174"/>
                </a:lnTo>
                <a:lnTo>
                  <a:pt x="1826" y="174"/>
                </a:lnTo>
                <a:lnTo>
                  <a:pt x="1728" y="185"/>
                </a:lnTo>
                <a:lnTo>
                  <a:pt x="1663" y="185"/>
                </a:lnTo>
                <a:lnTo>
                  <a:pt x="1598" y="185"/>
                </a:lnTo>
                <a:lnTo>
                  <a:pt x="1522" y="196"/>
                </a:lnTo>
                <a:lnTo>
                  <a:pt x="1435" y="207"/>
                </a:lnTo>
                <a:lnTo>
                  <a:pt x="1337" y="218"/>
                </a:lnTo>
                <a:lnTo>
                  <a:pt x="1239" y="229"/>
                </a:lnTo>
                <a:lnTo>
                  <a:pt x="1131" y="239"/>
                </a:lnTo>
                <a:lnTo>
                  <a:pt x="1011" y="250"/>
                </a:lnTo>
                <a:lnTo>
                  <a:pt x="946" y="250"/>
                </a:lnTo>
                <a:lnTo>
                  <a:pt x="891" y="261"/>
                </a:lnTo>
                <a:lnTo>
                  <a:pt x="837" y="261"/>
                </a:lnTo>
                <a:lnTo>
                  <a:pt x="783" y="272"/>
                </a:lnTo>
                <a:lnTo>
                  <a:pt x="728" y="272"/>
                </a:lnTo>
                <a:lnTo>
                  <a:pt x="685" y="283"/>
                </a:lnTo>
                <a:lnTo>
                  <a:pt x="641" y="283"/>
                </a:lnTo>
                <a:lnTo>
                  <a:pt x="598" y="294"/>
                </a:lnTo>
                <a:lnTo>
                  <a:pt x="565" y="294"/>
                </a:lnTo>
                <a:lnTo>
                  <a:pt x="522" y="294"/>
                </a:lnTo>
                <a:lnTo>
                  <a:pt x="489" y="305"/>
                </a:lnTo>
                <a:lnTo>
                  <a:pt x="467" y="305"/>
                </a:lnTo>
                <a:lnTo>
                  <a:pt x="435" y="305"/>
                </a:lnTo>
                <a:lnTo>
                  <a:pt x="413" y="316"/>
                </a:lnTo>
                <a:lnTo>
                  <a:pt x="391" y="316"/>
                </a:lnTo>
                <a:lnTo>
                  <a:pt x="370" y="316"/>
                </a:lnTo>
                <a:lnTo>
                  <a:pt x="337" y="316"/>
                </a:lnTo>
                <a:lnTo>
                  <a:pt x="304" y="326"/>
                </a:lnTo>
                <a:lnTo>
                  <a:pt x="283" y="326"/>
                </a:lnTo>
                <a:lnTo>
                  <a:pt x="261" y="326"/>
                </a:lnTo>
                <a:lnTo>
                  <a:pt x="239" y="337"/>
                </a:lnTo>
                <a:lnTo>
                  <a:pt x="217" y="337"/>
                </a:lnTo>
                <a:lnTo>
                  <a:pt x="206" y="337"/>
                </a:lnTo>
                <a:lnTo>
                  <a:pt x="196" y="337"/>
                </a:lnTo>
                <a:lnTo>
                  <a:pt x="174" y="326"/>
                </a:lnTo>
                <a:lnTo>
                  <a:pt x="141" y="316"/>
                </a:lnTo>
                <a:lnTo>
                  <a:pt x="98" y="30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773280" y="2336760"/>
            <a:ext cx="2450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火箭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230800" y="4885200"/>
            <a:ext cx="343008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书写指导：竹字要扁小，前字上边点和撇在横上、不要写成艹，一横平直要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"/>
          <p:cNvSpPr/>
          <p:nvPr/>
        </p:nvSpPr>
        <p:spPr>
          <a:xfrm>
            <a:off x="3192840" y="255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793960" y="1585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5"/>
          <p:cNvSpPr/>
          <p:nvPr/>
        </p:nvSpPr>
        <p:spPr>
          <a:xfrm>
            <a:off x="716040" y="4008960"/>
            <a:ext cx="23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6"/>
          <p:cNvSpPr/>
          <p:nvPr/>
        </p:nvSpPr>
        <p:spPr>
          <a:xfrm>
            <a:off x="716040" y="496764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令箭   光阴似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7"/>
          <p:cNvSpPr/>
          <p:nvPr/>
        </p:nvSpPr>
        <p:spPr>
          <a:xfrm>
            <a:off x="716040" y="5473800"/>
            <a:ext cx="43304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看到火箭飞上了蓝天，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们激动地跳起来欢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716040" y="4464000"/>
            <a:ext cx="290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334" name="圆角矩形 40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336" name="Picture 3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972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Group 47"/>
          <p:cNvGraphicFramePr/>
          <p:nvPr/>
        </p:nvGraphicFramePr>
        <p:xfrm>
          <a:off x="5478480" y="1786320"/>
          <a:ext cx="2590560" cy="3039120"/>
        </p:xfrm>
        <a:graphic>
          <a:graphicData uri="http://schemas.openxmlformats.org/drawingml/2006/table">
            <a:tbl>
              <a:tblPr/>
              <a:tblGrid>
                <a:gridCol w="1284120"/>
                <a:gridCol w="1306080"/>
              </a:tblGrid>
              <a:tr h="151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Freeform 36"/>
          <p:cNvSpPr/>
          <p:nvPr/>
        </p:nvSpPr>
        <p:spPr>
          <a:xfrm>
            <a:off x="6192720" y="2548440"/>
            <a:ext cx="226800" cy="279000"/>
          </a:xfrm>
          <a:custGeom>
            <a:avLst/>
            <a:gdLst>
              <a:gd name="textAreaLeft" fmla="*/ 0 w 226800"/>
              <a:gd name="textAreaRight" fmla="*/ 227160 w 226800"/>
              <a:gd name="textAreaTop" fmla="*/ 0 h 279000"/>
              <a:gd name="textAreaBottom" fmla="*/ 279360 h 279000"/>
            </a:gdLst>
            <a:ahLst/>
            <a:rect l="textAreaLeft" t="textAreaTop" r="textAreaRight" b="textAreaBottom"/>
            <a:pathLst>
              <a:path w="356" h="330">
                <a:moveTo>
                  <a:pt x="0" y="13"/>
                </a:moveTo>
                <a:lnTo>
                  <a:pt x="0" y="13"/>
                </a:lnTo>
                <a:lnTo>
                  <a:pt x="26" y="0"/>
                </a:lnTo>
                <a:lnTo>
                  <a:pt x="38" y="0"/>
                </a:lnTo>
                <a:lnTo>
                  <a:pt x="77" y="0"/>
                </a:lnTo>
                <a:lnTo>
                  <a:pt x="102" y="0"/>
                </a:lnTo>
                <a:lnTo>
                  <a:pt x="140" y="0"/>
                </a:lnTo>
                <a:lnTo>
                  <a:pt x="178" y="13"/>
                </a:lnTo>
                <a:lnTo>
                  <a:pt x="217" y="38"/>
                </a:lnTo>
                <a:lnTo>
                  <a:pt x="255" y="64"/>
                </a:lnTo>
                <a:lnTo>
                  <a:pt x="293" y="89"/>
                </a:lnTo>
                <a:lnTo>
                  <a:pt x="318" y="114"/>
                </a:lnTo>
                <a:lnTo>
                  <a:pt x="344" y="152"/>
                </a:lnTo>
                <a:lnTo>
                  <a:pt x="344" y="178"/>
                </a:lnTo>
                <a:lnTo>
                  <a:pt x="356" y="203"/>
                </a:lnTo>
                <a:lnTo>
                  <a:pt x="356" y="216"/>
                </a:lnTo>
                <a:lnTo>
                  <a:pt x="356" y="228"/>
                </a:lnTo>
                <a:lnTo>
                  <a:pt x="356" y="241"/>
                </a:lnTo>
                <a:lnTo>
                  <a:pt x="356" y="254"/>
                </a:lnTo>
                <a:lnTo>
                  <a:pt x="356" y="266"/>
                </a:lnTo>
                <a:lnTo>
                  <a:pt x="344" y="292"/>
                </a:lnTo>
                <a:lnTo>
                  <a:pt x="344" y="304"/>
                </a:lnTo>
                <a:lnTo>
                  <a:pt x="318" y="330"/>
                </a:lnTo>
                <a:lnTo>
                  <a:pt x="306" y="330"/>
                </a:lnTo>
                <a:lnTo>
                  <a:pt x="280" y="330"/>
                </a:lnTo>
                <a:lnTo>
                  <a:pt x="267" y="330"/>
                </a:lnTo>
                <a:lnTo>
                  <a:pt x="255" y="330"/>
                </a:lnTo>
                <a:lnTo>
                  <a:pt x="242" y="317"/>
                </a:lnTo>
                <a:lnTo>
                  <a:pt x="229" y="304"/>
                </a:lnTo>
                <a:lnTo>
                  <a:pt x="204" y="292"/>
                </a:lnTo>
                <a:lnTo>
                  <a:pt x="191" y="279"/>
                </a:lnTo>
                <a:lnTo>
                  <a:pt x="166" y="254"/>
                </a:lnTo>
                <a:lnTo>
                  <a:pt x="140" y="228"/>
                </a:lnTo>
                <a:lnTo>
                  <a:pt x="115" y="203"/>
                </a:lnTo>
                <a:lnTo>
                  <a:pt x="89" y="178"/>
                </a:lnTo>
                <a:lnTo>
                  <a:pt x="77" y="152"/>
                </a:lnTo>
                <a:lnTo>
                  <a:pt x="64" y="140"/>
                </a:lnTo>
                <a:lnTo>
                  <a:pt x="38" y="127"/>
                </a:lnTo>
                <a:lnTo>
                  <a:pt x="38" y="102"/>
                </a:lnTo>
                <a:lnTo>
                  <a:pt x="26" y="89"/>
                </a:lnTo>
                <a:lnTo>
                  <a:pt x="13" y="76"/>
                </a:lnTo>
                <a:lnTo>
                  <a:pt x="13" y="51"/>
                </a:lnTo>
                <a:lnTo>
                  <a:pt x="0" y="38"/>
                </a:lnTo>
                <a:lnTo>
                  <a:pt x="0" y="26"/>
                </a:lnTo>
                <a:lnTo>
                  <a:pt x="0" y="1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9" name="Freeform 37"/>
          <p:cNvSpPr/>
          <p:nvPr/>
        </p:nvSpPr>
        <p:spPr>
          <a:xfrm>
            <a:off x="6008760" y="3075480"/>
            <a:ext cx="225000" cy="279000"/>
          </a:xfrm>
          <a:custGeom>
            <a:avLst/>
            <a:gdLst>
              <a:gd name="textAreaLeft" fmla="*/ 0 w 225000"/>
              <a:gd name="textAreaRight" fmla="*/ 225360 w 225000"/>
              <a:gd name="textAreaTop" fmla="*/ 0 h 279000"/>
              <a:gd name="textAreaBottom" fmla="*/ 279360 h 279000"/>
            </a:gdLst>
            <a:ahLst/>
            <a:rect l="textAreaLeft" t="textAreaTop" r="textAreaRight" b="textAreaBottom"/>
            <a:pathLst>
              <a:path w="356" h="330">
                <a:moveTo>
                  <a:pt x="280" y="76"/>
                </a:moveTo>
                <a:lnTo>
                  <a:pt x="305" y="101"/>
                </a:lnTo>
                <a:lnTo>
                  <a:pt x="330" y="127"/>
                </a:lnTo>
                <a:lnTo>
                  <a:pt x="343" y="152"/>
                </a:lnTo>
                <a:lnTo>
                  <a:pt x="356" y="177"/>
                </a:lnTo>
                <a:lnTo>
                  <a:pt x="356" y="228"/>
                </a:lnTo>
                <a:lnTo>
                  <a:pt x="343" y="266"/>
                </a:lnTo>
                <a:lnTo>
                  <a:pt x="343" y="291"/>
                </a:lnTo>
                <a:lnTo>
                  <a:pt x="330" y="304"/>
                </a:lnTo>
                <a:lnTo>
                  <a:pt x="318" y="317"/>
                </a:lnTo>
                <a:lnTo>
                  <a:pt x="305" y="330"/>
                </a:lnTo>
                <a:lnTo>
                  <a:pt x="280" y="330"/>
                </a:lnTo>
                <a:lnTo>
                  <a:pt x="267" y="330"/>
                </a:lnTo>
                <a:lnTo>
                  <a:pt x="254" y="330"/>
                </a:lnTo>
                <a:lnTo>
                  <a:pt x="241" y="317"/>
                </a:lnTo>
                <a:lnTo>
                  <a:pt x="229" y="317"/>
                </a:lnTo>
                <a:lnTo>
                  <a:pt x="203" y="304"/>
                </a:lnTo>
                <a:lnTo>
                  <a:pt x="190" y="291"/>
                </a:lnTo>
                <a:lnTo>
                  <a:pt x="178" y="266"/>
                </a:lnTo>
                <a:lnTo>
                  <a:pt x="152" y="253"/>
                </a:lnTo>
                <a:lnTo>
                  <a:pt x="114" y="215"/>
                </a:lnTo>
                <a:lnTo>
                  <a:pt x="89" y="165"/>
                </a:lnTo>
                <a:lnTo>
                  <a:pt x="51" y="127"/>
                </a:lnTo>
                <a:lnTo>
                  <a:pt x="38" y="89"/>
                </a:lnTo>
                <a:lnTo>
                  <a:pt x="12" y="51"/>
                </a:lnTo>
                <a:lnTo>
                  <a:pt x="0" y="38"/>
                </a:lnTo>
                <a:lnTo>
                  <a:pt x="0" y="13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1" y="0"/>
                </a:lnTo>
                <a:lnTo>
                  <a:pt x="76" y="0"/>
                </a:lnTo>
                <a:lnTo>
                  <a:pt x="101" y="0"/>
                </a:lnTo>
                <a:lnTo>
                  <a:pt x="140" y="0"/>
                </a:lnTo>
                <a:lnTo>
                  <a:pt x="178" y="13"/>
                </a:lnTo>
                <a:lnTo>
                  <a:pt x="216" y="38"/>
                </a:lnTo>
                <a:lnTo>
                  <a:pt x="254" y="51"/>
                </a:lnTo>
                <a:lnTo>
                  <a:pt x="280" y="7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0" name="Freeform 38"/>
          <p:cNvSpPr/>
          <p:nvPr/>
        </p:nvSpPr>
        <p:spPr>
          <a:xfrm>
            <a:off x="5999040" y="3365640"/>
            <a:ext cx="363240" cy="943560"/>
          </a:xfrm>
          <a:custGeom>
            <a:avLst/>
            <a:gdLst>
              <a:gd name="textAreaLeft" fmla="*/ 0 w 363240"/>
              <a:gd name="textAreaRight" fmla="*/ 363600 w 363240"/>
              <a:gd name="textAreaTop" fmla="*/ 0 h 943560"/>
              <a:gd name="textAreaBottom" fmla="*/ 943920 h 943560"/>
            </a:gdLst>
            <a:ahLst/>
            <a:rect l="textAreaLeft" t="textAreaTop" r="textAreaRight" b="textAreaBottom"/>
            <a:pathLst>
              <a:path w="572" h="1115">
                <a:moveTo>
                  <a:pt x="76" y="1001"/>
                </a:moveTo>
                <a:lnTo>
                  <a:pt x="64" y="963"/>
                </a:lnTo>
                <a:lnTo>
                  <a:pt x="38" y="938"/>
                </a:lnTo>
                <a:lnTo>
                  <a:pt x="25" y="913"/>
                </a:lnTo>
                <a:lnTo>
                  <a:pt x="13" y="887"/>
                </a:lnTo>
                <a:lnTo>
                  <a:pt x="13" y="874"/>
                </a:lnTo>
                <a:lnTo>
                  <a:pt x="0" y="849"/>
                </a:lnTo>
                <a:lnTo>
                  <a:pt x="0" y="836"/>
                </a:lnTo>
                <a:lnTo>
                  <a:pt x="0" y="824"/>
                </a:lnTo>
                <a:lnTo>
                  <a:pt x="13" y="798"/>
                </a:lnTo>
                <a:lnTo>
                  <a:pt x="13" y="786"/>
                </a:lnTo>
                <a:lnTo>
                  <a:pt x="38" y="773"/>
                </a:lnTo>
                <a:lnTo>
                  <a:pt x="64" y="773"/>
                </a:lnTo>
                <a:lnTo>
                  <a:pt x="89" y="773"/>
                </a:lnTo>
                <a:lnTo>
                  <a:pt x="102" y="773"/>
                </a:lnTo>
                <a:lnTo>
                  <a:pt x="127" y="760"/>
                </a:lnTo>
                <a:lnTo>
                  <a:pt x="153" y="735"/>
                </a:lnTo>
                <a:lnTo>
                  <a:pt x="153" y="722"/>
                </a:lnTo>
                <a:lnTo>
                  <a:pt x="165" y="722"/>
                </a:lnTo>
                <a:lnTo>
                  <a:pt x="165" y="697"/>
                </a:lnTo>
                <a:lnTo>
                  <a:pt x="178" y="684"/>
                </a:lnTo>
                <a:lnTo>
                  <a:pt x="191" y="672"/>
                </a:lnTo>
                <a:lnTo>
                  <a:pt x="203" y="646"/>
                </a:lnTo>
                <a:lnTo>
                  <a:pt x="216" y="621"/>
                </a:lnTo>
                <a:lnTo>
                  <a:pt x="229" y="596"/>
                </a:lnTo>
                <a:lnTo>
                  <a:pt x="242" y="570"/>
                </a:lnTo>
                <a:lnTo>
                  <a:pt x="254" y="545"/>
                </a:lnTo>
                <a:lnTo>
                  <a:pt x="280" y="507"/>
                </a:lnTo>
                <a:lnTo>
                  <a:pt x="293" y="469"/>
                </a:lnTo>
                <a:lnTo>
                  <a:pt x="318" y="431"/>
                </a:lnTo>
                <a:lnTo>
                  <a:pt x="331" y="393"/>
                </a:lnTo>
                <a:lnTo>
                  <a:pt x="356" y="342"/>
                </a:lnTo>
                <a:lnTo>
                  <a:pt x="382" y="304"/>
                </a:lnTo>
                <a:lnTo>
                  <a:pt x="394" y="266"/>
                </a:lnTo>
                <a:lnTo>
                  <a:pt x="420" y="228"/>
                </a:lnTo>
                <a:lnTo>
                  <a:pt x="432" y="190"/>
                </a:lnTo>
                <a:lnTo>
                  <a:pt x="458" y="152"/>
                </a:lnTo>
                <a:lnTo>
                  <a:pt x="471" y="127"/>
                </a:lnTo>
                <a:lnTo>
                  <a:pt x="483" y="102"/>
                </a:lnTo>
                <a:lnTo>
                  <a:pt x="496" y="76"/>
                </a:lnTo>
                <a:lnTo>
                  <a:pt x="509" y="64"/>
                </a:lnTo>
                <a:lnTo>
                  <a:pt x="522" y="38"/>
                </a:lnTo>
                <a:lnTo>
                  <a:pt x="534" y="26"/>
                </a:lnTo>
                <a:lnTo>
                  <a:pt x="547" y="13"/>
                </a:lnTo>
                <a:lnTo>
                  <a:pt x="560" y="0"/>
                </a:lnTo>
                <a:lnTo>
                  <a:pt x="572" y="13"/>
                </a:lnTo>
                <a:lnTo>
                  <a:pt x="572" y="26"/>
                </a:lnTo>
                <a:lnTo>
                  <a:pt x="572" y="51"/>
                </a:lnTo>
                <a:lnTo>
                  <a:pt x="560" y="76"/>
                </a:lnTo>
                <a:lnTo>
                  <a:pt x="560" y="102"/>
                </a:lnTo>
                <a:lnTo>
                  <a:pt x="547" y="140"/>
                </a:lnTo>
                <a:lnTo>
                  <a:pt x="534" y="190"/>
                </a:lnTo>
                <a:lnTo>
                  <a:pt x="522" y="241"/>
                </a:lnTo>
                <a:lnTo>
                  <a:pt x="509" y="292"/>
                </a:lnTo>
                <a:lnTo>
                  <a:pt x="483" y="355"/>
                </a:lnTo>
                <a:lnTo>
                  <a:pt x="471" y="406"/>
                </a:lnTo>
                <a:lnTo>
                  <a:pt x="445" y="482"/>
                </a:lnTo>
                <a:lnTo>
                  <a:pt x="420" y="545"/>
                </a:lnTo>
                <a:lnTo>
                  <a:pt x="407" y="621"/>
                </a:lnTo>
                <a:lnTo>
                  <a:pt x="382" y="697"/>
                </a:lnTo>
                <a:lnTo>
                  <a:pt x="356" y="773"/>
                </a:lnTo>
                <a:lnTo>
                  <a:pt x="343" y="811"/>
                </a:lnTo>
                <a:lnTo>
                  <a:pt x="331" y="849"/>
                </a:lnTo>
                <a:lnTo>
                  <a:pt x="318" y="887"/>
                </a:lnTo>
                <a:lnTo>
                  <a:pt x="305" y="925"/>
                </a:lnTo>
                <a:lnTo>
                  <a:pt x="305" y="951"/>
                </a:lnTo>
                <a:lnTo>
                  <a:pt x="293" y="976"/>
                </a:lnTo>
                <a:lnTo>
                  <a:pt x="280" y="1001"/>
                </a:lnTo>
                <a:lnTo>
                  <a:pt x="267" y="1027"/>
                </a:lnTo>
                <a:lnTo>
                  <a:pt x="267" y="1039"/>
                </a:lnTo>
                <a:lnTo>
                  <a:pt x="254" y="1065"/>
                </a:lnTo>
                <a:lnTo>
                  <a:pt x="242" y="1077"/>
                </a:lnTo>
                <a:lnTo>
                  <a:pt x="242" y="1090"/>
                </a:lnTo>
                <a:lnTo>
                  <a:pt x="229" y="1103"/>
                </a:lnTo>
                <a:lnTo>
                  <a:pt x="216" y="1115"/>
                </a:lnTo>
                <a:lnTo>
                  <a:pt x="203" y="1115"/>
                </a:lnTo>
                <a:lnTo>
                  <a:pt x="191" y="1103"/>
                </a:lnTo>
                <a:lnTo>
                  <a:pt x="165" y="1103"/>
                </a:lnTo>
                <a:lnTo>
                  <a:pt x="153" y="1090"/>
                </a:lnTo>
                <a:lnTo>
                  <a:pt x="140" y="1077"/>
                </a:lnTo>
                <a:lnTo>
                  <a:pt x="114" y="1052"/>
                </a:lnTo>
                <a:lnTo>
                  <a:pt x="102" y="1027"/>
                </a:lnTo>
                <a:lnTo>
                  <a:pt x="76" y="100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Freeform 39"/>
          <p:cNvSpPr/>
          <p:nvPr/>
        </p:nvSpPr>
        <p:spPr>
          <a:xfrm>
            <a:off x="6435720" y="2688120"/>
            <a:ext cx="306000" cy="676800"/>
          </a:xfrm>
          <a:custGeom>
            <a:avLst/>
            <a:gdLst>
              <a:gd name="textAreaLeft" fmla="*/ 0 w 306000"/>
              <a:gd name="textAreaRight" fmla="*/ 306360 w 306000"/>
              <a:gd name="textAreaTop" fmla="*/ 0 h 676800"/>
              <a:gd name="textAreaBottom" fmla="*/ 677160 h 676800"/>
            </a:gdLst>
            <a:ahLst/>
            <a:rect l="textAreaLeft" t="textAreaTop" r="textAreaRight" b="textAreaBottom"/>
            <a:pathLst>
              <a:path w="483" h="798">
                <a:moveTo>
                  <a:pt x="0" y="798"/>
                </a:moveTo>
                <a:lnTo>
                  <a:pt x="0" y="798"/>
                </a:lnTo>
                <a:lnTo>
                  <a:pt x="0" y="786"/>
                </a:lnTo>
                <a:lnTo>
                  <a:pt x="0" y="773"/>
                </a:lnTo>
                <a:lnTo>
                  <a:pt x="13" y="747"/>
                </a:lnTo>
                <a:lnTo>
                  <a:pt x="25" y="735"/>
                </a:lnTo>
                <a:lnTo>
                  <a:pt x="38" y="709"/>
                </a:lnTo>
                <a:lnTo>
                  <a:pt x="51" y="684"/>
                </a:lnTo>
                <a:lnTo>
                  <a:pt x="76" y="646"/>
                </a:lnTo>
                <a:lnTo>
                  <a:pt x="102" y="621"/>
                </a:lnTo>
                <a:lnTo>
                  <a:pt x="114" y="583"/>
                </a:lnTo>
                <a:lnTo>
                  <a:pt x="140" y="545"/>
                </a:lnTo>
                <a:lnTo>
                  <a:pt x="165" y="507"/>
                </a:lnTo>
                <a:lnTo>
                  <a:pt x="178" y="456"/>
                </a:lnTo>
                <a:lnTo>
                  <a:pt x="203" y="405"/>
                </a:lnTo>
                <a:lnTo>
                  <a:pt x="216" y="355"/>
                </a:lnTo>
                <a:lnTo>
                  <a:pt x="242" y="304"/>
                </a:lnTo>
                <a:lnTo>
                  <a:pt x="254" y="266"/>
                </a:lnTo>
                <a:lnTo>
                  <a:pt x="267" y="215"/>
                </a:lnTo>
                <a:lnTo>
                  <a:pt x="280" y="190"/>
                </a:lnTo>
                <a:lnTo>
                  <a:pt x="280" y="152"/>
                </a:lnTo>
                <a:lnTo>
                  <a:pt x="293" y="127"/>
                </a:lnTo>
                <a:lnTo>
                  <a:pt x="293" y="101"/>
                </a:lnTo>
                <a:lnTo>
                  <a:pt x="280" y="76"/>
                </a:lnTo>
                <a:lnTo>
                  <a:pt x="280" y="63"/>
                </a:lnTo>
                <a:lnTo>
                  <a:pt x="267" y="51"/>
                </a:lnTo>
                <a:lnTo>
                  <a:pt x="254" y="25"/>
                </a:lnTo>
                <a:lnTo>
                  <a:pt x="267" y="13"/>
                </a:lnTo>
                <a:lnTo>
                  <a:pt x="280" y="0"/>
                </a:lnTo>
                <a:lnTo>
                  <a:pt x="293" y="0"/>
                </a:lnTo>
                <a:lnTo>
                  <a:pt x="305" y="0"/>
                </a:lnTo>
                <a:lnTo>
                  <a:pt x="343" y="0"/>
                </a:lnTo>
                <a:lnTo>
                  <a:pt x="382" y="13"/>
                </a:lnTo>
                <a:lnTo>
                  <a:pt x="407" y="38"/>
                </a:lnTo>
                <a:lnTo>
                  <a:pt x="445" y="63"/>
                </a:lnTo>
                <a:lnTo>
                  <a:pt x="471" y="76"/>
                </a:lnTo>
                <a:lnTo>
                  <a:pt x="483" y="101"/>
                </a:lnTo>
                <a:lnTo>
                  <a:pt x="483" y="114"/>
                </a:lnTo>
                <a:lnTo>
                  <a:pt x="483" y="127"/>
                </a:lnTo>
                <a:lnTo>
                  <a:pt x="483" y="152"/>
                </a:lnTo>
                <a:lnTo>
                  <a:pt x="471" y="177"/>
                </a:lnTo>
                <a:lnTo>
                  <a:pt x="458" y="215"/>
                </a:lnTo>
                <a:lnTo>
                  <a:pt x="433" y="253"/>
                </a:lnTo>
                <a:lnTo>
                  <a:pt x="407" y="304"/>
                </a:lnTo>
                <a:lnTo>
                  <a:pt x="382" y="355"/>
                </a:lnTo>
                <a:lnTo>
                  <a:pt x="356" y="418"/>
                </a:lnTo>
                <a:lnTo>
                  <a:pt x="318" y="469"/>
                </a:lnTo>
                <a:lnTo>
                  <a:pt x="293" y="507"/>
                </a:lnTo>
                <a:lnTo>
                  <a:pt x="267" y="557"/>
                </a:lnTo>
                <a:lnTo>
                  <a:pt x="229" y="595"/>
                </a:lnTo>
                <a:lnTo>
                  <a:pt x="203" y="633"/>
                </a:lnTo>
                <a:lnTo>
                  <a:pt x="178" y="671"/>
                </a:lnTo>
                <a:lnTo>
                  <a:pt x="140" y="709"/>
                </a:lnTo>
                <a:lnTo>
                  <a:pt x="114" y="735"/>
                </a:lnTo>
                <a:lnTo>
                  <a:pt x="89" y="760"/>
                </a:lnTo>
                <a:lnTo>
                  <a:pt x="64" y="773"/>
                </a:lnTo>
                <a:lnTo>
                  <a:pt x="51" y="786"/>
                </a:lnTo>
                <a:lnTo>
                  <a:pt x="25" y="798"/>
                </a:lnTo>
                <a:lnTo>
                  <a:pt x="13" y="798"/>
                </a:lnTo>
                <a:lnTo>
                  <a:pt x="0" y="798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2" name="Freeform 41"/>
          <p:cNvSpPr/>
          <p:nvPr/>
        </p:nvSpPr>
        <p:spPr>
          <a:xfrm>
            <a:off x="6621480" y="2827800"/>
            <a:ext cx="694800" cy="247320"/>
          </a:xfrm>
          <a:custGeom>
            <a:avLst/>
            <a:gdLst>
              <a:gd name="textAreaLeft" fmla="*/ 0 w 694800"/>
              <a:gd name="textAreaRight" fmla="*/ 695160 w 694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1094" h="291">
                <a:moveTo>
                  <a:pt x="521" y="88"/>
                </a:moveTo>
                <a:lnTo>
                  <a:pt x="598" y="63"/>
                </a:lnTo>
                <a:lnTo>
                  <a:pt x="661" y="50"/>
                </a:lnTo>
                <a:lnTo>
                  <a:pt x="725" y="38"/>
                </a:lnTo>
                <a:lnTo>
                  <a:pt x="776" y="25"/>
                </a:lnTo>
                <a:lnTo>
                  <a:pt x="827" y="12"/>
                </a:lnTo>
                <a:lnTo>
                  <a:pt x="865" y="12"/>
                </a:lnTo>
                <a:lnTo>
                  <a:pt x="903" y="0"/>
                </a:lnTo>
                <a:lnTo>
                  <a:pt x="916" y="0"/>
                </a:lnTo>
                <a:lnTo>
                  <a:pt x="966" y="0"/>
                </a:lnTo>
                <a:lnTo>
                  <a:pt x="992" y="0"/>
                </a:lnTo>
                <a:lnTo>
                  <a:pt x="1030" y="12"/>
                </a:lnTo>
                <a:lnTo>
                  <a:pt x="1056" y="12"/>
                </a:lnTo>
                <a:lnTo>
                  <a:pt x="1068" y="25"/>
                </a:lnTo>
                <a:lnTo>
                  <a:pt x="1094" y="38"/>
                </a:lnTo>
                <a:lnTo>
                  <a:pt x="1094" y="63"/>
                </a:lnTo>
                <a:lnTo>
                  <a:pt x="1094" y="88"/>
                </a:lnTo>
                <a:lnTo>
                  <a:pt x="1094" y="101"/>
                </a:lnTo>
                <a:lnTo>
                  <a:pt x="1094" y="114"/>
                </a:lnTo>
                <a:lnTo>
                  <a:pt x="1068" y="126"/>
                </a:lnTo>
                <a:lnTo>
                  <a:pt x="1056" y="126"/>
                </a:lnTo>
                <a:lnTo>
                  <a:pt x="1030" y="139"/>
                </a:lnTo>
                <a:lnTo>
                  <a:pt x="1005" y="152"/>
                </a:lnTo>
                <a:lnTo>
                  <a:pt x="966" y="164"/>
                </a:lnTo>
                <a:lnTo>
                  <a:pt x="916" y="177"/>
                </a:lnTo>
                <a:lnTo>
                  <a:pt x="827" y="202"/>
                </a:lnTo>
                <a:lnTo>
                  <a:pt x="725" y="228"/>
                </a:lnTo>
                <a:lnTo>
                  <a:pt x="610" y="240"/>
                </a:lnTo>
                <a:lnTo>
                  <a:pt x="496" y="253"/>
                </a:lnTo>
                <a:lnTo>
                  <a:pt x="432" y="253"/>
                </a:lnTo>
                <a:lnTo>
                  <a:pt x="381" y="266"/>
                </a:lnTo>
                <a:lnTo>
                  <a:pt x="330" y="266"/>
                </a:lnTo>
                <a:lnTo>
                  <a:pt x="292" y="278"/>
                </a:lnTo>
                <a:lnTo>
                  <a:pt x="254" y="278"/>
                </a:lnTo>
                <a:lnTo>
                  <a:pt x="216" y="278"/>
                </a:lnTo>
                <a:lnTo>
                  <a:pt x="203" y="278"/>
                </a:lnTo>
                <a:lnTo>
                  <a:pt x="178" y="291"/>
                </a:lnTo>
                <a:lnTo>
                  <a:pt x="165" y="278"/>
                </a:lnTo>
                <a:lnTo>
                  <a:pt x="152" y="278"/>
                </a:lnTo>
                <a:lnTo>
                  <a:pt x="127" y="278"/>
                </a:lnTo>
                <a:lnTo>
                  <a:pt x="114" y="278"/>
                </a:lnTo>
                <a:lnTo>
                  <a:pt x="63" y="266"/>
                </a:lnTo>
                <a:lnTo>
                  <a:pt x="0" y="253"/>
                </a:lnTo>
                <a:lnTo>
                  <a:pt x="38" y="228"/>
                </a:lnTo>
                <a:lnTo>
                  <a:pt x="63" y="202"/>
                </a:lnTo>
                <a:lnTo>
                  <a:pt x="101" y="190"/>
                </a:lnTo>
                <a:lnTo>
                  <a:pt x="140" y="177"/>
                </a:lnTo>
                <a:lnTo>
                  <a:pt x="165" y="177"/>
                </a:lnTo>
                <a:lnTo>
                  <a:pt x="190" y="164"/>
                </a:lnTo>
                <a:lnTo>
                  <a:pt x="229" y="164"/>
                </a:lnTo>
                <a:lnTo>
                  <a:pt x="267" y="152"/>
                </a:lnTo>
                <a:lnTo>
                  <a:pt x="330" y="139"/>
                </a:lnTo>
                <a:lnTo>
                  <a:pt x="381" y="126"/>
                </a:lnTo>
                <a:lnTo>
                  <a:pt x="445" y="101"/>
                </a:lnTo>
                <a:lnTo>
                  <a:pt x="521" y="88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Freeform 43"/>
          <p:cNvSpPr/>
          <p:nvPr/>
        </p:nvSpPr>
        <p:spPr>
          <a:xfrm>
            <a:off x="6524640" y="3782520"/>
            <a:ext cx="209160" cy="558360"/>
          </a:xfrm>
          <a:custGeom>
            <a:avLst/>
            <a:gdLst>
              <a:gd name="textAreaLeft" fmla="*/ 0 w 209160"/>
              <a:gd name="textAreaRight" fmla="*/ 209520 w 20916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331" h="659">
                <a:moveTo>
                  <a:pt x="38" y="102"/>
                </a:moveTo>
                <a:lnTo>
                  <a:pt x="13" y="76"/>
                </a:lnTo>
                <a:lnTo>
                  <a:pt x="13" y="64"/>
                </a:lnTo>
                <a:lnTo>
                  <a:pt x="0" y="51"/>
                </a:lnTo>
                <a:lnTo>
                  <a:pt x="0" y="38"/>
                </a:lnTo>
                <a:lnTo>
                  <a:pt x="0" y="26"/>
                </a:lnTo>
                <a:lnTo>
                  <a:pt x="13" y="13"/>
                </a:lnTo>
                <a:lnTo>
                  <a:pt x="25" y="13"/>
                </a:lnTo>
                <a:lnTo>
                  <a:pt x="38" y="0"/>
                </a:lnTo>
                <a:lnTo>
                  <a:pt x="51" y="0"/>
                </a:lnTo>
                <a:lnTo>
                  <a:pt x="76" y="0"/>
                </a:lnTo>
                <a:lnTo>
                  <a:pt x="102" y="13"/>
                </a:lnTo>
                <a:lnTo>
                  <a:pt x="127" y="13"/>
                </a:lnTo>
                <a:lnTo>
                  <a:pt x="165" y="26"/>
                </a:lnTo>
                <a:lnTo>
                  <a:pt x="216" y="38"/>
                </a:lnTo>
                <a:lnTo>
                  <a:pt x="229" y="102"/>
                </a:lnTo>
                <a:lnTo>
                  <a:pt x="242" y="178"/>
                </a:lnTo>
                <a:lnTo>
                  <a:pt x="254" y="228"/>
                </a:lnTo>
                <a:lnTo>
                  <a:pt x="267" y="292"/>
                </a:lnTo>
                <a:lnTo>
                  <a:pt x="280" y="342"/>
                </a:lnTo>
                <a:lnTo>
                  <a:pt x="280" y="393"/>
                </a:lnTo>
                <a:lnTo>
                  <a:pt x="293" y="444"/>
                </a:lnTo>
                <a:lnTo>
                  <a:pt x="305" y="482"/>
                </a:lnTo>
                <a:lnTo>
                  <a:pt x="305" y="520"/>
                </a:lnTo>
                <a:lnTo>
                  <a:pt x="318" y="545"/>
                </a:lnTo>
                <a:lnTo>
                  <a:pt x="318" y="571"/>
                </a:lnTo>
                <a:lnTo>
                  <a:pt x="318" y="596"/>
                </a:lnTo>
                <a:lnTo>
                  <a:pt x="318" y="621"/>
                </a:lnTo>
                <a:lnTo>
                  <a:pt x="331" y="634"/>
                </a:lnTo>
                <a:lnTo>
                  <a:pt x="318" y="647"/>
                </a:lnTo>
                <a:lnTo>
                  <a:pt x="305" y="659"/>
                </a:lnTo>
                <a:lnTo>
                  <a:pt x="280" y="659"/>
                </a:lnTo>
                <a:lnTo>
                  <a:pt x="254" y="659"/>
                </a:lnTo>
                <a:lnTo>
                  <a:pt x="242" y="647"/>
                </a:lnTo>
                <a:lnTo>
                  <a:pt x="229" y="647"/>
                </a:lnTo>
                <a:lnTo>
                  <a:pt x="216" y="621"/>
                </a:lnTo>
                <a:lnTo>
                  <a:pt x="203" y="596"/>
                </a:lnTo>
                <a:lnTo>
                  <a:pt x="191" y="558"/>
                </a:lnTo>
                <a:lnTo>
                  <a:pt x="178" y="520"/>
                </a:lnTo>
                <a:lnTo>
                  <a:pt x="165" y="469"/>
                </a:lnTo>
                <a:lnTo>
                  <a:pt x="153" y="406"/>
                </a:lnTo>
                <a:lnTo>
                  <a:pt x="140" y="355"/>
                </a:lnTo>
                <a:lnTo>
                  <a:pt x="127" y="304"/>
                </a:lnTo>
                <a:lnTo>
                  <a:pt x="114" y="254"/>
                </a:lnTo>
                <a:lnTo>
                  <a:pt x="102" y="216"/>
                </a:lnTo>
                <a:lnTo>
                  <a:pt x="89" y="178"/>
                </a:lnTo>
                <a:lnTo>
                  <a:pt x="63" y="152"/>
                </a:lnTo>
                <a:lnTo>
                  <a:pt x="51" y="127"/>
                </a:lnTo>
                <a:lnTo>
                  <a:pt x="38" y="10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4" name="Freeform 45"/>
          <p:cNvSpPr/>
          <p:nvPr/>
        </p:nvSpPr>
        <p:spPr>
          <a:xfrm>
            <a:off x="6613560" y="3666240"/>
            <a:ext cx="703080" cy="514080"/>
          </a:xfrm>
          <a:custGeom>
            <a:avLst/>
            <a:gdLst>
              <a:gd name="textAreaLeft" fmla="*/ 0 w 703080"/>
              <a:gd name="textAreaRight" fmla="*/ 703440 w 70308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1107" h="608">
                <a:moveTo>
                  <a:pt x="776" y="38"/>
                </a:moveTo>
                <a:lnTo>
                  <a:pt x="801" y="25"/>
                </a:lnTo>
                <a:lnTo>
                  <a:pt x="827" y="13"/>
                </a:lnTo>
                <a:lnTo>
                  <a:pt x="852" y="0"/>
                </a:lnTo>
                <a:lnTo>
                  <a:pt x="878" y="0"/>
                </a:lnTo>
                <a:lnTo>
                  <a:pt x="903" y="13"/>
                </a:lnTo>
                <a:lnTo>
                  <a:pt x="929" y="25"/>
                </a:lnTo>
                <a:lnTo>
                  <a:pt x="967" y="51"/>
                </a:lnTo>
                <a:lnTo>
                  <a:pt x="992" y="63"/>
                </a:lnTo>
                <a:lnTo>
                  <a:pt x="1018" y="76"/>
                </a:lnTo>
                <a:lnTo>
                  <a:pt x="1030" y="101"/>
                </a:lnTo>
                <a:lnTo>
                  <a:pt x="1056" y="127"/>
                </a:lnTo>
                <a:lnTo>
                  <a:pt x="1069" y="139"/>
                </a:lnTo>
                <a:lnTo>
                  <a:pt x="1081" y="152"/>
                </a:lnTo>
                <a:lnTo>
                  <a:pt x="1094" y="165"/>
                </a:lnTo>
                <a:lnTo>
                  <a:pt x="1107" y="177"/>
                </a:lnTo>
                <a:lnTo>
                  <a:pt x="1107" y="190"/>
                </a:lnTo>
                <a:lnTo>
                  <a:pt x="1107" y="203"/>
                </a:lnTo>
                <a:lnTo>
                  <a:pt x="1107" y="215"/>
                </a:lnTo>
                <a:lnTo>
                  <a:pt x="1094" y="228"/>
                </a:lnTo>
                <a:lnTo>
                  <a:pt x="1069" y="241"/>
                </a:lnTo>
                <a:lnTo>
                  <a:pt x="1043" y="241"/>
                </a:lnTo>
                <a:lnTo>
                  <a:pt x="1030" y="253"/>
                </a:lnTo>
                <a:lnTo>
                  <a:pt x="1018" y="253"/>
                </a:lnTo>
                <a:lnTo>
                  <a:pt x="1018" y="266"/>
                </a:lnTo>
                <a:lnTo>
                  <a:pt x="1005" y="279"/>
                </a:lnTo>
                <a:lnTo>
                  <a:pt x="992" y="291"/>
                </a:lnTo>
                <a:lnTo>
                  <a:pt x="979" y="304"/>
                </a:lnTo>
                <a:lnTo>
                  <a:pt x="967" y="317"/>
                </a:lnTo>
                <a:lnTo>
                  <a:pt x="954" y="342"/>
                </a:lnTo>
                <a:lnTo>
                  <a:pt x="941" y="367"/>
                </a:lnTo>
                <a:lnTo>
                  <a:pt x="916" y="393"/>
                </a:lnTo>
                <a:lnTo>
                  <a:pt x="903" y="418"/>
                </a:lnTo>
                <a:lnTo>
                  <a:pt x="890" y="456"/>
                </a:lnTo>
                <a:lnTo>
                  <a:pt x="878" y="494"/>
                </a:lnTo>
                <a:lnTo>
                  <a:pt x="865" y="519"/>
                </a:lnTo>
                <a:lnTo>
                  <a:pt x="840" y="570"/>
                </a:lnTo>
                <a:lnTo>
                  <a:pt x="827" y="608"/>
                </a:lnTo>
                <a:lnTo>
                  <a:pt x="700" y="608"/>
                </a:lnTo>
                <a:lnTo>
                  <a:pt x="712" y="558"/>
                </a:lnTo>
                <a:lnTo>
                  <a:pt x="725" y="519"/>
                </a:lnTo>
                <a:lnTo>
                  <a:pt x="725" y="481"/>
                </a:lnTo>
                <a:lnTo>
                  <a:pt x="738" y="431"/>
                </a:lnTo>
                <a:lnTo>
                  <a:pt x="750" y="405"/>
                </a:lnTo>
                <a:lnTo>
                  <a:pt x="750" y="367"/>
                </a:lnTo>
                <a:lnTo>
                  <a:pt x="763" y="342"/>
                </a:lnTo>
                <a:lnTo>
                  <a:pt x="763" y="304"/>
                </a:lnTo>
                <a:lnTo>
                  <a:pt x="776" y="279"/>
                </a:lnTo>
                <a:lnTo>
                  <a:pt x="776" y="266"/>
                </a:lnTo>
                <a:lnTo>
                  <a:pt x="776" y="241"/>
                </a:lnTo>
                <a:lnTo>
                  <a:pt x="776" y="228"/>
                </a:lnTo>
                <a:lnTo>
                  <a:pt x="776" y="215"/>
                </a:lnTo>
                <a:lnTo>
                  <a:pt x="776" y="203"/>
                </a:lnTo>
                <a:lnTo>
                  <a:pt x="776" y="190"/>
                </a:lnTo>
                <a:lnTo>
                  <a:pt x="763" y="190"/>
                </a:lnTo>
                <a:lnTo>
                  <a:pt x="750" y="177"/>
                </a:lnTo>
                <a:lnTo>
                  <a:pt x="725" y="190"/>
                </a:lnTo>
                <a:lnTo>
                  <a:pt x="700" y="190"/>
                </a:lnTo>
                <a:lnTo>
                  <a:pt x="661" y="190"/>
                </a:lnTo>
                <a:lnTo>
                  <a:pt x="623" y="190"/>
                </a:lnTo>
                <a:lnTo>
                  <a:pt x="572" y="190"/>
                </a:lnTo>
                <a:lnTo>
                  <a:pt x="521" y="203"/>
                </a:lnTo>
                <a:lnTo>
                  <a:pt x="471" y="203"/>
                </a:lnTo>
                <a:lnTo>
                  <a:pt x="407" y="215"/>
                </a:lnTo>
                <a:lnTo>
                  <a:pt x="331" y="228"/>
                </a:lnTo>
                <a:lnTo>
                  <a:pt x="254" y="228"/>
                </a:lnTo>
                <a:lnTo>
                  <a:pt x="178" y="241"/>
                </a:lnTo>
                <a:lnTo>
                  <a:pt x="89" y="253"/>
                </a:lnTo>
                <a:lnTo>
                  <a:pt x="0" y="266"/>
                </a:lnTo>
                <a:lnTo>
                  <a:pt x="0" y="165"/>
                </a:lnTo>
                <a:lnTo>
                  <a:pt x="38" y="165"/>
                </a:lnTo>
                <a:lnTo>
                  <a:pt x="89" y="165"/>
                </a:lnTo>
                <a:lnTo>
                  <a:pt x="153" y="152"/>
                </a:lnTo>
                <a:lnTo>
                  <a:pt x="203" y="152"/>
                </a:lnTo>
                <a:lnTo>
                  <a:pt x="267" y="139"/>
                </a:lnTo>
                <a:lnTo>
                  <a:pt x="331" y="127"/>
                </a:lnTo>
                <a:lnTo>
                  <a:pt x="394" y="114"/>
                </a:lnTo>
                <a:lnTo>
                  <a:pt x="458" y="101"/>
                </a:lnTo>
                <a:lnTo>
                  <a:pt x="521" y="89"/>
                </a:lnTo>
                <a:lnTo>
                  <a:pt x="585" y="76"/>
                </a:lnTo>
                <a:lnTo>
                  <a:pt x="636" y="76"/>
                </a:lnTo>
                <a:lnTo>
                  <a:pt x="674" y="63"/>
                </a:lnTo>
                <a:lnTo>
                  <a:pt x="712" y="51"/>
                </a:lnTo>
                <a:lnTo>
                  <a:pt x="738" y="51"/>
                </a:lnTo>
                <a:lnTo>
                  <a:pt x="763" y="38"/>
                </a:lnTo>
                <a:lnTo>
                  <a:pt x="776" y="38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5" name="Freeform 40"/>
          <p:cNvSpPr/>
          <p:nvPr/>
        </p:nvSpPr>
        <p:spPr>
          <a:xfrm>
            <a:off x="6856560" y="2247840"/>
            <a:ext cx="175680" cy="1191240"/>
          </a:xfrm>
          <a:custGeom>
            <a:avLst/>
            <a:gdLst>
              <a:gd name="textAreaLeft" fmla="*/ 0 w 175680"/>
              <a:gd name="textAreaRight" fmla="*/ 176040 w 17568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279" h="1407">
                <a:moveTo>
                  <a:pt x="25" y="114"/>
                </a:moveTo>
                <a:lnTo>
                  <a:pt x="12" y="89"/>
                </a:lnTo>
                <a:lnTo>
                  <a:pt x="0" y="64"/>
                </a:lnTo>
                <a:lnTo>
                  <a:pt x="0" y="51"/>
                </a:lnTo>
                <a:lnTo>
                  <a:pt x="0" y="26"/>
                </a:lnTo>
                <a:lnTo>
                  <a:pt x="12" y="13"/>
                </a:lnTo>
                <a:lnTo>
                  <a:pt x="25" y="0"/>
                </a:lnTo>
                <a:lnTo>
                  <a:pt x="38" y="0"/>
                </a:lnTo>
                <a:lnTo>
                  <a:pt x="63" y="13"/>
                </a:lnTo>
                <a:lnTo>
                  <a:pt x="89" y="13"/>
                </a:lnTo>
                <a:lnTo>
                  <a:pt x="114" y="26"/>
                </a:lnTo>
                <a:lnTo>
                  <a:pt x="139" y="38"/>
                </a:lnTo>
                <a:lnTo>
                  <a:pt x="165" y="51"/>
                </a:lnTo>
                <a:lnTo>
                  <a:pt x="190" y="64"/>
                </a:lnTo>
                <a:lnTo>
                  <a:pt x="216" y="64"/>
                </a:lnTo>
                <a:lnTo>
                  <a:pt x="241" y="76"/>
                </a:lnTo>
                <a:lnTo>
                  <a:pt x="254" y="89"/>
                </a:lnTo>
                <a:lnTo>
                  <a:pt x="267" y="102"/>
                </a:lnTo>
                <a:lnTo>
                  <a:pt x="279" y="114"/>
                </a:lnTo>
                <a:lnTo>
                  <a:pt x="279" y="127"/>
                </a:lnTo>
                <a:lnTo>
                  <a:pt x="279" y="152"/>
                </a:lnTo>
                <a:lnTo>
                  <a:pt x="279" y="178"/>
                </a:lnTo>
                <a:lnTo>
                  <a:pt x="267" y="203"/>
                </a:lnTo>
                <a:lnTo>
                  <a:pt x="254" y="216"/>
                </a:lnTo>
                <a:lnTo>
                  <a:pt x="254" y="228"/>
                </a:lnTo>
                <a:lnTo>
                  <a:pt x="254" y="241"/>
                </a:lnTo>
                <a:lnTo>
                  <a:pt x="241" y="266"/>
                </a:lnTo>
                <a:lnTo>
                  <a:pt x="241" y="292"/>
                </a:lnTo>
                <a:lnTo>
                  <a:pt x="241" y="317"/>
                </a:lnTo>
                <a:lnTo>
                  <a:pt x="229" y="342"/>
                </a:lnTo>
                <a:lnTo>
                  <a:pt x="229" y="368"/>
                </a:lnTo>
                <a:lnTo>
                  <a:pt x="229" y="406"/>
                </a:lnTo>
                <a:lnTo>
                  <a:pt x="229" y="444"/>
                </a:lnTo>
                <a:lnTo>
                  <a:pt x="216" y="482"/>
                </a:lnTo>
                <a:lnTo>
                  <a:pt x="216" y="520"/>
                </a:lnTo>
                <a:lnTo>
                  <a:pt x="216" y="571"/>
                </a:lnTo>
                <a:lnTo>
                  <a:pt x="216" y="609"/>
                </a:lnTo>
                <a:lnTo>
                  <a:pt x="216" y="659"/>
                </a:lnTo>
                <a:lnTo>
                  <a:pt x="203" y="773"/>
                </a:lnTo>
                <a:lnTo>
                  <a:pt x="190" y="875"/>
                </a:lnTo>
                <a:lnTo>
                  <a:pt x="190" y="963"/>
                </a:lnTo>
                <a:lnTo>
                  <a:pt x="190" y="1065"/>
                </a:lnTo>
                <a:lnTo>
                  <a:pt x="178" y="1153"/>
                </a:lnTo>
                <a:lnTo>
                  <a:pt x="178" y="1242"/>
                </a:lnTo>
                <a:lnTo>
                  <a:pt x="178" y="1318"/>
                </a:lnTo>
                <a:lnTo>
                  <a:pt x="178" y="1407"/>
                </a:lnTo>
                <a:lnTo>
                  <a:pt x="50" y="1407"/>
                </a:lnTo>
                <a:lnTo>
                  <a:pt x="50" y="1331"/>
                </a:lnTo>
                <a:lnTo>
                  <a:pt x="50" y="1255"/>
                </a:lnTo>
                <a:lnTo>
                  <a:pt x="50" y="1179"/>
                </a:lnTo>
                <a:lnTo>
                  <a:pt x="50" y="1115"/>
                </a:lnTo>
                <a:lnTo>
                  <a:pt x="50" y="1039"/>
                </a:lnTo>
                <a:lnTo>
                  <a:pt x="50" y="976"/>
                </a:lnTo>
                <a:lnTo>
                  <a:pt x="50" y="913"/>
                </a:lnTo>
                <a:lnTo>
                  <a:pt x="50" y="862"/>
                </a:lnTo>
                <a:lnTo>
                  <a:pt x="50" y="799"/>
                </a:lnTo>
                <a:lnTo>
                  <a:pt x="50" y="748"/>
                </a:lnTo>
                <a:lnTo>
                  <a:pt x="50" y="685"/>
                </a:lnTo>
                <a:lnTo>
                  <a:pt x="50" y="634"/>
                </a:lnTo>
                <a:lnTo>
                  <a:pt x="50" y="596"/>
                </a:lnTo>
                <a:lnTo>
                  <a:pt x="50" y="545"/>
                </a:lnTo>
                <a:lnTo>
                  <a:pt x="50" y="507"/>
                </a:lnTo>
                <a:lnTo>
                  <a:pt x="50" y="457"/>
                </a:lnTo>
                <a:lnTo>
                  <a:pt x="50" y="419"/>
                </a:lnTo>
                <a:lnTo>
                  <a:pt x="50" y="381"/>
                </a:lnTo>
                <a:lnTo>
                  <a:pt x="50" y="355"/>
                </a:lnTo>
                <a:lnTo>
                  <a:pt x="50" y="317"/>
                </a:lnTo>
                <a:lnTo>
                  <a:pt x="50" y="292"/>
                </a:lnTo>
                <a:lnTo>
                  <a:pt x="50" y="266"/>
                </a:lnTo>
                <a:lnTo>
                  <a:pt x="38" y="241"/>
                </a:lnTo>
                <a:lnTo>
                  <a:pt x="38" y="216"/>
                </a:lnTo>
                <a:lnTo>
                  <a:pt x="38" y="178"/>
                </a:lnTo>
                <a:lnTo>
                  <a:pt x="38" y="152"/>
                </a:lnTo>
                <a:lnTo>
                  <a:pt x="25" y="127"/>
                </a:lnTo>
                <a:lnTo>
                  <a:pt x="25" y="114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6" name="Freeform 42"/>
          <p:cNvSpPr/>
          <p:nvPr/>
        </p:nvSpPr>
        <p:spPr>
          <a:xfrm>
            <a:off x="6362640" y="3278880"/>
            <a:ext cx="1236240" cy="342720"/>
          </a:xfrm>
          <a:custGeom>
            <a:avLst/>
            <a:gdLst>
              <a:gd name="textAreaLeft" fmla="*/ 0 w 1236240"/>
              <a:gd name="textAreaRight" fmla="*/ 1236600 w 12362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947" h="405">
                <a:moveTo>
                  <a:pt x="993" y="127"/>
                </a:moveTo>
                <a:lnTo>
                  <a:pt x="1082" y="114"/>
                </a:lnTo>
                <a:lnTo>
                  <a:pt x="1171" y="89"/>
                </a:lnTo>
                <a:lnTo>
                  <a:pt x="1247" y="76"/>
                </a:lnTo>
                <a:lnTo>
                  <a:pt x="1311" y="63"/>
                </a:lnTo>
                <a:lnTo>
                  <a:pt x="1374" y="50"/>
                </a:lnTo>
                <a:lnTo>
                  <a:pt x="1425" y="38"/>
                </a:lnTo>
                <a:lnTo>
                  <a:pt x="1476" y="38"/>
                </a:lnTo>
                <a:lnTo>
                  <a:pt x="1514" y="25"/>
                </a:lnTo>
                <a:lnTo>
                  <a:pt x="1553" y="12"/>
                </a:lnTo>
                <a:lnTo>
                  <a:pt x="1591" y="12"/>
                </a:lnTo>
                <a:lnTo>
                  <a:pt x="1616" y="12"/>
                </a:lnTo>
                <a:lnTo>
                  <a:pt x="1642" y="0"/>
                </a:lnTo>
                <a:lnTo>
                  <a:pt x="1667" y="0"/>
                </a:lnTo>
                <a:lnTo>
                  <a:pt x="1693" y="0"/>
                </a:lnTo>
                <a:lnTo>
                  <a:pt x="1718" y="0"/>
                </a:lnTo>
                <a:lnTo>
                  <a:pt x="1731" y="0"/>
                </a:lnTo>
                <a:lnTo>
                  <a:pt x="1756" y="0"/>
                </a:lnTo>
                <a:lnTo>
                  <a:pt x="1782" y="12"/>
                </a:lnTo>
                <a:lnTo>
                  <a:pt x="1807" y="12"/>
                </a:lnTo>
                <a:lnTo>
                  <a:pt x="1820" y="38"/>
                </a:lnTo>
                <a:lnTo>
                  <a:pt x="1845" y="50"/>
                </a:lnTo>
                <a:lnTo>
                  <a:pt x="1871" y="76"/>
                </a:lnTo>
                <a:lnTo>
                  <a:pt x="1896" y="89"/>
                </a:lnTo>
                <a:lnTo>
                  <a:pt x="1909" y="114"/>
                </a:lnTo>
                <a:lnTo>
                  <a:pt x="1934" y="139"/>
                </a:lnTo>
                <a:lnTo>
                  <a:pt x="1934" y="152"/>
                </a:lnTo>
                <a:lnTo>
                  <a:pt x="1947" y="165"/>
                </a:lnTo>
                <a:lnTo>
                  <a:pt x="1934" y="177"/>
                </a:lnTo>
                <a:lnTo>
                  <a:pt x="1922" y="177"/>
                </a:lnTo>
                <a:lnTo>
                  <a:pt x="1896" y="190"/>
                </a:lnTo>
                <a:lnTo>
                  <a:pt x="1871" y="190"/>
                </a:lnTo>
                <a:lnTo>
                  <a:pt x="1832" y="190"/>
                </a:lnTo>
                <a:lnTo>
                  <a:pt x="1794" y="190"/>
                </a:lnTo>
                <a:lnTo>
                  <a:pt x="1743" y="190"/>
                </a:lnTo>
                <a:lnTo>
                  <a:pt x="1693" y="190"/>
                </a:lnTo>
                <a:lnTo>
                  <a:pt x="1629" y="190"/>
                </a:lnTo>
                <a:lnTo>
                  <a:pt x="1553" y="190"/>
                </a:lnTo>
                <a:lnTo>
                  <a:pt x="1489" y="190"/>
                </a:lnTo>
                <a:lnTo>
                  <a:pt x="1400" y="203"/>
                </a:lnTo>
                <a:lnTo>
                  <a:pt x="1311" y="215"/>
                </a:lnTo>
                <a:lnTo>
                  <a:pt x="1222" y="215"/>
                </a:lnTo>
                <a:lnTo>
                  <a:pt x="1120" y="228"/>
                </a:lnTo>
                <a:lnTo>
                  <a:pt x="1006" y="241"/>
                </a:lnTo>
                <a:lnTo>
                  <a:pt x="955" y="253"/>
                </a:lnTo>
                <a:lnTo>
                  <a:pt x="904" y="266"/>
                </a:lnTo>
                <a:lnTo>
                  <a:pt x="802" y="279"/>
                </a:lnTo>
                <a:lnTo>
                  <a:pt x="713" y="291"/>
                </a:lnTo>
                <a:lnTo>
                  <a:pt x="637" y="304"/>
                </a:lnTo>
                <a:lnTo>
                  <a:pt x="560" y="317"/>
                </a:lnTo>
                <a:lnTo>
                  <a:pt x="497" y="329"/>
                </a:lnTo>
                <a:lnTo>
                  <a:pt x="446" y="355"/>
                </a:lnTo>
                <a:lnTo>
                  <a:pt x="395" y="367"/>
                </a:lnTo>
                <a:lnTo>
                  <a:pt x="344" y="380"/>
                </a:lnTo>
                <a:lnTo>
                  <a:pt x="306" y="380"/>
                </a:lnTo>
                <a:lnTo>
                  <a:pt x="280" y="393"/>
                </a:lnTo>
                <a:lnTo>
                  <a:pt x="242" y="393"/>
                </a:lnTo>
                <a:lnTo>
                  <a:pt x="217" y="405"/>
                </a:lnTo>
                <a:lnTo>
                  <a:pt x="204" y="405"/>
                </a:lnTo>
                <a:lnTo>
                  <a:pt x="191" y="405"/>
                </a:lnTo>
                <a:lnTo>
                  <a:pt x="179" y="405"/>
                </a:lnTo>
                <a:lnTo>
                  <a:pt x="166" y="405"/>
                </a:lnTo>
                <a:lnTo>
                  <a:pt x="140" y="405"/>
                </a:lnTo>
                <a:lnTo>
                  <a:pt x="115" y="393"/>
                </a:lnTo>
                <a:lnTo>
                  <a:pt x="89" y="367"/>
                </a:lnTo>
                <a:lnTo>
                  <a:pt x="64" y="355"/>
                </a:lnTo>
                <a:lnTo>
                  <a:pt x="39" y="342"/>
                </a:lnTo>
                <a:lnTo>
                  <a:pt x="26" y="317"/>
                </a:lnTo>
                <a:lnTo>
                  <a:pt x="0" y="279"/>
                </a:lnTo>
                <a:lnTo>
                  <a:pt x="39" y="279"/>
                </a:lnTo>
                <a:lnTo>
                  <a:pt x="77" y="279"/>
                </a:lnTo>
                <a:lnTo>
                  <a:pt x="115" y="279"/>
                </a:lnTo>
                <a:lnTo>
                  <a:pt x="166" y="266"/>
                </a:lnTo>
                <a:lnTo>
                  <a:pt x="204" y="266"/>
                </a:lnTo>
                <a:lnTo>
                  <a:pt x="268" y="253"/>
                </a:lnTo>
                <a:lnTo>
                  <a:pt x="318" y="241"/>
                </a:lnTo>
                <a:lnTo>
                  <a:pt x="382" y="228"/>
                </a:lnTo>
                <a:lnTo>
                  <a:pt x="446" y="228"/>
                </a:lnTo>
                <a:lnTo>
                  <a:pt x="509" y="215"/>
                </a:lnTo>
                <a:lnTo>
                  <a:pt x="586" y="203"/>
                </a:lnTo>
                <a:lnTo>
                  <a:pt x="662" y="190"/>
                </a:lnTo>
                <a:lnTo>
                  <a:pt x="738" y="177"/>
                </a:lnTo>
                <a:lnTo>
                  <a:pt x="827" y="165"/>
                </a:lnTo>
                <a:lnTo>
                  <a:pt x="904" y="139"/>
                </a:lnTo>
                <a:lnTo>
                  <a:pt x="993" y="127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7" name="Freeform 44"/>
          <p:cNvSpPr/>
          <p:nvPr/>
        </p:nvSpPr>
        <p:spPr>
          <a:xfrm>
            <a:off x="6678720" y="4127400"/>
            <a:ext cx="564840" cy="126720"/>
          </a:xfrm>
          <a:custGeom>
            <a:avLst/>
            <a:gdLst>
              <a:gd name="textAreaLeft" fmla="*/ 0 w 564840"/>
              <a:gd name="textAreaRight" fmla="*/ 565200 w 5648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90" h="152">
                <a:moveTo>
                  <a:pt x="356" y="25"/>
                </a:moveTo>
                <a:lnTo>
                  <a:pt x="509" y="13"/>
                </a:lnTo>
                <a:lnTo>
                  <a:pt x="585" y="13"/>
                </a:lnTo>
                <a:lnTo>
                  <a:pt x="661" y="0"/>
                </a:lnTo>
                <a:lnTo>
                  <a:pt x="712" y="0"/>
                </a:lnTo>
                <a:lnTo>
                  <a:pt x="738" y="13"/>
                </a:lnTo>
                <a:lnTo>
                  <a:pt x="776" y="13"/>
                </a:lnTo>
                <a:lnTo>
                  <a:pt x="801" y="13"/>
                </a:lnTo>
                <a:lnTo>
                  <a:pt x="827" y="13"/>
                </a:lnTo>
                <a:lnTo>
                  <a:pt x="839" y="25"/>
                </a:lnTo>
                <a:lnTo>
                  <a:pt x="852" y="25"/>
                </a:lnTo>
                <a:lnTo>
                  <a:pt x="865" y="25"/>
                </a:lnTo>
                <a:lnTo>
                  <a:pt x="877" y="63"/>
                </a:lnTo>
                <a:lnTo>
                  <a:pt x="890" y="76"/>
                </a:lnTo>
                <a:lnTo>
                  <a:pt x="890" y="101"/>
                </a:lnTo>
                <a:lnTo>
                  <a:pt x="877" y="101"/>
                </a:lnTo>
                <a:lnTo>
                  <a:pt x="852" y="114"/>
                </a:lnTo>
                <a:lnTo>
                  <a:pt x="827" y="114"/>
                </a:lnTo>
                <a:lnTo>
                  <a:pt x="801" y="114"/>
                </a:lnTo>
                <a:lnTo>
                  <a:pt x="763" y="127"/>
                </a:lnTo>
                <a:lnTo>
                  <a:pt x="712" y="127"/>
                </a:lnTo>
                <a:lnTo>
                  <a:pt x="661" y="127"/>
                </a:lnTo>
                <a:lnTo>
                  <a:pt x="610" y="139"/>
                </a:lnTo>
                <a:lnTo>
                  <a:pt x="547" y="139"/>
                </a:lnTo>
                <a:lnTo>
                  <a:pt x="470" y="139"/>
                </a:lnTo>
                <a:lnTo>
                  <a:pt x="394" y="152"/>
                </a:lnTo>
                <a:lnTo>
                  <a:pt x="305" y="152"/>
                </a:lnTo>
                <a:lnTo>
                  <a:pt x="216" y="152"/>
                </a:lnTo>
                <a:lnTo>
                  <a:pt x="114" y="152"/>
                </a:lnTo>
                <a:lnTo>
                  <a:pt x="0" y="152"/>
                </a:lnTo>
                <a:lnTo>
                  <a:pt x="0" y="63"/>
                </a:lnTo>
                <a:lnTo>
                  <a:pt x="63" y="63"/>
                </a:lnTo>
                <a:lnTo>
                  <a:pt x="101" y="51"/>
                </a:lnTo>
                <a:lnTo>
                  <a:pt x="152" y="51"/>
                </a:lnTo>
                <a:lnTo>
                  <a:pt x="203" y="51"/>
                </a:lnTo>
                <a:lnTo>
                  <a:pt x="280" y="38"/>
                </a:lnTo>
                <a:lnTo>
                  <a:pt x="356" y="2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8" name="TextBox 2"/>
          <p:cNvSpPr/>
          <p:nvPr/>
        </p:nvSpPr>
        <p:spPr>
          <a:xfrm>
            <a:off x="604800" y="2336760"/>
            <a:ext cx="20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浩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"/>
          <p:cNvSpPr/>
          <p:nvPr/>
        </p:nvSpPr>
        <p:spPr>
          <a:xfrm>
            <a:off x="5192640" y="4916880"/>
            <a:ext cx="3322440" cy="63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书写指导：告字首笔有一短撇，中竖与下横要长，中竖下不出头，下边口字要扁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3077280" y="255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24"/>
          <p:cNvSpPr/>
          <p:nvPr/>
        </p:nvSpPr>
        <p:spPr>
          <a:xfrm>
            <a:off x="2679840" y="1585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5"/>
          <p:cNvSpPr/>
          <p:nvPr/>
        </p:nvSpPr>
        <p:spPr>
          <a:xfrm>
            <a:off x="716040" y="4040640"/>
            <a:ext cx="23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6"/>
          <p:cNvSpPr/>
          <p:nvPr/>
        </p:nvSpPr>
        <p:spPr>
          <a:xfrm>
            <a:off x="716040" y="501444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浩荡   浩如烟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9"/>
          <p:cNvSpPr/>
          <p:nvPr/>
        </p:nvSpPr>
        <p:spPr>
          <a:xfrm>
            <a:off x="716040" y="5501160"/>
            <a:ext cx="4195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我梦想着在浩瀚的天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翱翔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0"/>
          <p:cNvSpPr/>
          <p:nvPr/>
        </p:nvSpPr>
        <p:spPr>
          <a:xfrm>
            <a:off x="716040" y="4529520"/>
            <a:ext cx="290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357" name="圆角矩形 32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359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972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Group 66"/>
          <p:cNvGraphicFramePr/>
          <p:nvPr/>
        </p:nvGraphicFramePr>
        <p:xfrm>
          <a:off x="5478480" y="1786320"/>
          <a:ext cx="2590560" cy="3045600"/>
        </p:xfrm>
        <a:graphic>
          <a:graphicData uri="http://schemas.openxmlformats.org/drawingml/2006/table">
            <a:tbl>
              <a:tblPr/>
              <a:tblGrid>
                <a:gridCol w="1284120"/>
                <a:gridCol w="1306440"/>
              </a:tblGrid>
              <a:tr h="151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5389560" y="6411240"/>
            <a:ext cx="3682800" cy="418680"/>
          </a:xfrm>
          <a:prstGeom prst="rect">
            <a:avLst/>
          </a:prstGeom>
          <a:ln w="0">
            <a:noFill/>
          </a:ln>
        </p:spPr>
      </p:pic>
      <p:sp>
        <p:nvSpPr>
          <p:cNvPr id="362" name="Freeform 54"/>
          <p:cNvSpPr/>
          <p:nvPr/>
        </p:nvSpPr>
        <p:spPr>
          <a:xfrm>
            <a:off x="6232680" y="3016080"/>
            <a:ext cx="123480" cy="1252800"/>
          </a:xfrm>
          <a:custGeom>
            <a:avLst/>
            <a:gdLst>
              <a:gd name="textAreaLeft" fmla="*/ 0 w 123480"/>
              <a:gd name="textAreaRight" fmla="*/ 123840 w 123480"/>
              <a:gd name="textAreaTop" fmla="*/ 0 h 1252800"/>
              <a:gd name="textAreaBottom" fmla="*/ 1253160 h 1252800"/>
            </a:gdLst>
            <a:ahLst/>
            <a:rect l="textAreaLeft" t="textAreaTop" r="textAreaRight" b="textAreaBottom"/>
            <a:pathLst>
              <a:path w="195" h="1480">
                <a:moveTo>
                  <a:pt x="195" y="22"/>
                </a:moveTo>
                <a:lnTo>
                  <a:pt x="195" y="131"/>
                </a:lnTo>
                <a:lnTo>
                  <a:pt x="195" y="229"/>
                </a:lnTo>
                <a:lnTo>
                  <a:pt x="195" y="327"/>
                </a:lnTo>
                <a:lnTo>
                  <a:pt x="195" y="414"/>
                </a:lnTo>
                <a:lnTo>
                  <a:pt x="195" y="501"/>
                </a:lnTo>
                <a:lnTo>
                  <a:pt x="195" y="577"/>
                </a:lnTo>
                <a:lnTo>
                  <a:pt x="195" y="653"/>
                </a:lnTo>
                <a:lnTo>
                  <a:pt x="185" y="730"/>
                </a:lnTo>
                <a:lnTo>
                  <a:pt x="185" y="806"/>
                </a:lnTo>
                <a:lnTo>
                  <a:pt x="185" y="871"/>
                </a:lnTo>
                <a:lnTo>
                  <a:pt x="185" y="925"/>
                </a:lnTo>
                <a:lnTo>
                  <a:pt x="185" y="980"/>
                </a:lnTo>
                <a:lnTo>
                  <a:pt x="174" y="1034"/>
                </a:lnTo>
                <a:lnTo>
                  <a:pt x="174" y="1089"/>
                </a:lnTo>
                <a:lnTo>
                  <a:pt x="174" y="1132"/>
                </a:lnTo>
                <a:lnTo>
                  <a:pt x="174" y="1176"/>
                </a:lnTo>
                <a:lnTo>
                  <a:pt x="174" y="1208"/>
                </a:lnTo>
                <a:lnTo>
                  <a:pt x="163" y="1241"/>
                </a:lnTo>
                <a:lnTo>
                  <a:pt x="163" y="1274"/>
                </a:lnTo>
                <a:lnTo>
                  <a:pt x="163" y="1306"/>
                </a:lnTo>
                <a:lnTo>
                  <a:pt x="163" y="1328"/>
                </a:lnTo>
                <a:lnTo>
                  <a:pt x="152" y="1361"/>
                </a:lnTo>
                <a:lnTo>
                  <a:pt x="152" y="1383"/>
                </a:lnTo>
                <a:lnTo>
                  <a:pt x="152" y="1404"/>
                </a:lnTo>
                <a:lnTo>
                  <a:pt x="141" y="1415"/>
                </a:lnTo>
                <a:lnTo>
                  <a:pt x="141" y="1437"/>
                </a:lnTo>
                <a:lnTo>
                  <a:pt x="141" y="1448"/>
                </a:lnTo>
                <a:lnTo>
                  <a:pt x="141" y="1459"/>
                </a:lnTo>
                <a:lnTo>
                  <a:pt x="130" y="1470"/>
                </a:lnTo>
                <a:lnTo>
                  <a:pt x="130" y="1480"/>
                </a:lnTo>
                <a:lnTo>
                  <a:pt x="109" y="1470"/>
                </a:lnTo>
                <a:lnTo>
                  <a:pt x="87" y="1459"/>
                </a:lnTo>
                <a:lnTo>
                  <a:pt x="76" y="1437"/>
                </a:lnTo>
                <a:lnTo>
                  <a:pt x="54" y="1415"/>
                </a:lnTo>
                <a:lnTo>
                  <a:pt x="32" y="1372"/>
                </a:lnTo>
                <a:lnTo>
                  <a:pt x="22" y="1339"/>
                </a:lnTo>
                <a:lnTo>
                  <a:pt x="11" y="1317"/>
                </a:lnTo>
                <a:lnTo>
                  <a:pt x="11" y="1295"/>
                </a:lnTo>
                <a:lnTo>
                  <a:pt x="0" y="1285"/>
                </a:lnTo>
                <a:lnTo>
                  <a:pt x="0" y="1274"/>
                </a:lnTo>
                <a:lnTo>
                  <a:pt x="0" y="1252"/>
                </a:lnTo>
                <a:lnTo>
                  <a:pt x="0" y="1241"/>
                </a:lnTo>
                <a:lnTo>
                  <a:pt x="11" y="1219"/>
                </a:lnTo>
                <a:lnTo>
                  <a:pt x="11" y="1187"/>
                </a:lnTo>
                <a:lnTo>
                  <a:pt x="11" y="1165"/>
                </a:lnTo>
                <a:lnTo>
                  <a:pt x="22" y="1132"/>
                </a:lnTo>
                <a:lnTo>
                  <a:pt x="22" y="1089"/>
                </a:lnTo>
                <a:lnTo>
                  <a:pt x="32" y="1045"/>
                </a:lnTo>
                <a:lnTo>
                  <a:pt x="32" y="1002"/>
                </a:lnTo>
                <a:lnTo>
                  <a:pt x="43" y="936"/>
                </a:lnTo>
                <a:lnTo>
                  <a:pt x="54" y="871"/>
                </a:lnTo>
                <a:lnTo>
                  <a:pt x="54" y="795"/>
                </a:lnTo>
                <a:lnTo>
                  <a:pt x="65" y="719"/>
                </a:lnTo>
                <a:lnTo>
                  <a:pt x="65" y="632"/>
                </a:lnTo>
                <a:lnTo>
                  <a:pt x="65" y="545"/>
                </a:lnTo>
                <a:lnTo>
                  <a:pt x="76" y="458"/>
                </a:lnTo>
                <a:lnTo>
                  <a:pt x="76" y="392"/>
                </a:lnTo>
                <a:lnTo>
                  <a:pt x="65" y="327"/>
                </a:lnTo>
                <a:lnTo>
                  <a:pt x="65" y="262"/>
                </a:lnTo>
                <a:lnTo>
                  <a:pt x="65" y="218"/>
                </a:lnTo>
                <a:lnTo>
                  <a:pt x="54" y="175"/>
                </a:lnTo>
                <a:lnTo>
                  <a:pt x="54" y="142"/>
                </a:lnTo>
                <a:lnTo>
                  <a:pt x="43" y="109"/>
                </a:lnTo>
                <a:lnTo>
                  <a:pt x="43" y="88"/>
                </a:lnTo>
                <a:lnTo>
                  <a:pt x="32" y="66"/>
                </a:lnTo>
                <a:lnTo>
                  <a:pt x="32" y="44"/>
                </a:lnTo>
                <a:lnTo>
                  <a:pt x="32" y="33"/>
                </a:lnTo>
                <a:lnTo>
                  <a:pt x="32" y="22"/>
                </a:lnTo>
                <a:lnTo>
                  <a:pt x="43" y="11"/>
                </a:lnTo>
                <a:lnTo>
                  <a:pt x="43" y="0"/>
                </a:lnTo>
                <a:lnTo>
                  <a:pt x="54" y="0"/>
                </a:lnTo>
                <a:lnTo>
                  <a:pt x="65" y="0"/>
                </a:lnTo>
                <a:lnTo>
                  <a:pt x="76" y="0"/>
                </a:lnTo>
                <a:lnTo>
                  <a:pt x="98" y="0"/>
                </a:lnTo>
                <a:lnTo>
                  <a:pt x="119" y="0"/>
                </a:lnTo>
                <a:lnTo>
                  <a:pt x="141" y="11"/>
                </a:lnTo>
                <a:lnTo>
                  <a:pt x="163" y="11"/>
                </a:lnTo>
                <a:lnTo>
                  <a:pt x="195" y="2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3" name="Freeform 55"/>
          <p:cNvSpPr/>
          <p:nvPr/>
        </p:nvSpPr>
        <p:spPr>
          <a:xfrm>
            <a:off x="6315120" y="2878560"/>
            <a:ext cx="1028520" cy="154692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1546920"/>
              <a:gd name="textAreaBottom" fmla="*/ 1547280 h 1546920"/>
            </a:gdLst>
            <a:ahLst/>
            <a:rect l="textAreaLeft" t="textAreaTop" r="textAreaRight" b="textAreaBottom"/>
            <a:pathLst>
              <a:path w="1620" h="1828">
                <a:moveTo>
                  <a:pt x="1566" y="1654"/>
                </a:moveTo>
                <a:lnTo>
                  <a:pt x="1544" y="1698"/>
                </a:lnTo>
                <a:lnTo>
                  <a:pt x="1533" y="1731"/>
                </a:lnTo>
                <a:lnTo>
                  <a:pt x="1511" y="1763"/>
                </a:lnTo>
                <a:lnTo>
                  <a:pt x="1479" y="1785"/>
                </a:lnTo>
                <a:lnTo>
                  <a:pt x="1457" y="1807"/>
                </a:lnTo>
                <a:lnTo>
                  <a:pt x="1435" y="1818"/>
                </a:lnTo>
                <a:lnTo>
                  <a:pt x="1414" y="1828"/>
                </a:lnTo>
                <a:lnTo>
                  <a:pt x="1403" y="1818"/>
                </a:lnTo>
                <a:lnTo>
                  <a:pt x="1381" y="1807"/>
                </a:lnTo>
                <a:lnTo>
                  <a:pt x="1370" y="1796"/>
                </a:lnTo>
                <a:lnTo>
                  <a:pt x="1359" y="1785"/>
                </a:lnTo>
                <a:lnTo>
                  <a:pt x="1359" y="1763"/>
                </a:lnTo>
                <a:lnTo>
                  <a:pt x="1359" y="1752"/>
                </a:lnTo>
                <a:lnTo>
                  <a:pt x="1370" y="1731"/>
                </a:lnTo>
                <a:lnTo>
                  <a:pt x="1370" y="1709"/>
                </a:lnTo>
                <a:lnTo>
                  <a:pt x="1359" y="1687"/>
                </a:lnTo>
                <a:lnTo>
                  <a:pt x="1359" y="1665"/>
                </a:lnTo>
                <a:lnTo>
                  <a:pt x="1337" y="1643"/>
                </a:lnTo>
                <a:lnTo>
                  <a:pt x="1327" y="1622"/>
                </a:lnTo>
                <a:lnTo>
                  <a:pt x="1305" y="1600"/>
                </a:lnTo>
                <a:lnTo>
                  <a:pt x="1272" y="1578"/>
                </a:lnTo>
                <a:lnTo>
                  <a:pt x="1250" y="1556"/>
                </a:lnTo>
                <a:lnTo>
                  <a:pt x="1218" y="1535"/>
                </a:lnTo>
                <a:lnTo>
                  <a:pt x="1196" y="1513"/>
                </a:lnTo>
                <a:lnTo>
                  <a:pt x="1174" y="1491"/>
                </a:lnTo>
                <a:lnTo>
                  <a:pt x="1153" y="1480"/>
                </a:lnTo>
                <a:lnTo>
                  <a:pt x="1142" y="1458"/>
                </a:lnTo>
                <a:lnTo>
                  <a:pt x="1131" y="1448"/>
                </a:lnTo>
                <a:lnTo>
                  <a:pt x="1131" y="1437"/>
                </a:lnTo>
                <a:lnTo>
                  <a:pt x="1142" y="1426"/>
                </a:lnTo>
                <a:lnTo>
                  <a:pt x="1153" y="1426"/>
                </a:lnTo>
                <a:lnTo>
                  <a:pt x="1164" y="1426"/>
                </a:lnTo>
                <a:lnTo>
                  <a:pt x="1185" y="1437"/>
                </a:lnTo>
                <a:lnTo>
                  <a:pt x="1207" y="1437"/>
                </a:lnTo>
                <a:lnTo>
                  <a:pt x="1229" y="1437"/>
                </a:lnTo>
                <a:lnTo>
                  <a:pt x="1261" y="1448"/>
                </a:lnTo>
                <a:lnTo>
                  <a:pt x="1283" y="1458"/>
                </a:lnTo>
                <a:lnTo>
                  <a:pt x="1316" y="1469"/>
                </a:lnTo>
                <a:lnTo>
                  <a:pt x="1337" y="1469"/>
                </a:lnTo>
                <a:lnTo>
                  <a:pt x="1359" y="1480"/>
                </a:lnTo>
                <a:lnTo>
                  <a:pt x="1370" y="1480"/>
                </a:lnTo>
                <a:lnTo>
                  <a:pt x="1392" y="1469"/>
                </a:lnTo>
                <a:lnTo>
                  <a:pt x="1403" y="1469"/>
                </a:lnTo>
                <a:lnTo>
                  <a:pt x="1414" y="1458"/>
                </a:lnTo>
                <a:lnTo>
                  <a:pt x="1424" y="1448"/>
                </a:lnTo>
                <a:lnTo>
                  <a:pt x="1424" y="1426"/>
                </a:lnTo>
                <a:lnTo>
                  <a:pt x="1435" y="1393"/>
                </a:lnTo>
                <a:lnTo>
                  <a:pt x="1435" y="1361"/>
                </a:lnTo>
                <a:lnTo>
                  <a:pt x="1446" y="1306"/>
                </a:lnTo>
                <a:lnTo>
                  <a:pt x="1446" y="1252"/>
                </a:lnTo>
                <a:lnTo>
                  <a:pt x="1446" y="1197"/>
                </a:lnTo>
                <a:lnTo>
                  <a:pt x="1446" y="1121"/>
                </a:lnTo>
                <a:lnTo>
                  <a:pt x="1446" y="1045"/>
                </a:lnTo>
                <a:lnTo>
                  <a:pt x="1446" y="980"/>
                </a:lnTo>
                <a:lnTo>
                  <a:pt x="1446" y="925"/>
                </a:lnTo>
                <a:lnTo>
                  <a:pt x="1446" y="871"/>
                </a:lnTo>
                <a:lnTo>
                  <a:pt x="1446" y="816"/>
                </a:lnTo>
                <a:lnTo>
                  <a:pt x="1446" y="773"/>
                </a:lnTo>
                <a:lnTo>
                  <a:pt x="1435" y="729"/>
                </a:lnTo>
                <a:lnTo>
                  <a:pt x="1435" y="686"/>
                </a:lnTo>
                <a:lnTo>
                  <a:pt x="1424" y="621"/>
                </a:lnTo>
                <a:lnTo>
                  <a:pt x="1414" y="533"/>
                </a:lnTo>
                <a:lnTo>
                  <a:pt x="1414" y="446"/>
                </a:lnTo>
                <a:lnTo>
                  <a:pt x="1403" y="359"/>
                </a:lnTo>
                <a:lnTo>
                  <a:pt x="1392" y="316"/>
                </a:lnTo>
                <a:lnTo>
                  <a:pt x="1392" y="272"/>
                </a:lnTo>
                <a:lnTo>
                  <a:pt x="1381" y="240"/>
                </a:lnTo>
                <a:lnTo>
                  <a:pt x="1370" y="218"/>
                </a:lnTo>
                <a:lnTo>
                  <a:pt x="1370" y="196"/>
                </a:lnTo>
                <a:lnTo>
                  <a:pt x="1359" y="174"/>
                </a:lnTo>
                <a:lnTo>
                  <a:pt x="1348" y="163"/>
                </a:lnTo>
                <a:lnTo>
                  <a:pt x="1337" y="153"/>
                </a:lnTo>
                <a:lnTo>
                  <a:pt x="1316" y="153"/>
                </a:lnTo>
                <a:lnTo>
                  <a:pt x="1294" y="142"/>
                </a:lnTo>
                <a:lnTo>
                  <a:pt x="1272" y="142"/>
                </a:lnTo>
                <a:lnTo>
                  <a:pt x="1250" y="142"/>
                </a:lnTo>
                <a:lnTo>
                  <a:pt x="1229" y="142"/>
                </a:lnTo>
                <a:lnTo>
                  <a:pt x="1218" y="142"/>
                </a:lnTo>
                <a:lnTo>
                  <a:pt x="1196" y="142"/>
                </a:lnTo>
                <a:lnTo>
                  <a:pt x="1164" y="142"/>
                </a:lnTo>
                <a:lnTo>
                  <a:pt x="1142" y="153"/>
                </a:lnTo>
                <a:lnTo>
                  <a:pt x="1109" y="153"/>
                </a:lnTo>
                <a:lnTo>
                  <a:pt x="1077" y="153"/>
                </a:lnTo>
                <a:lnTo>
                  <a:pt x="1033" y="153"/>
                </a:lnTo>
                <a:lnTo>
                  <a:pt x="957" y="163"/>
                </a:lnTo>
                <a:lnTo>
                  <a:pt x="870" y="174"/>
                </a:lnTo>
                <a:lnTo>
                  <a:pt x="772" y="185"/>
                </a:lnTo>
                <a:lnTo>
                  <a:pt x="685" y="207"/>
                </a:lnTo>
                <a:lnTo>
                  <a:pt x="620" y="207"/>
                </a:lnTo>
                <a:lnTo>
                  <a:pt x="555" y="218"/>
                </a:lnTo>
                <a:lnTo>
                  <a:pt x="489" y="229"/>
                </a:lnTo>
                <a:lnTo>
                  <a:pt x="402" y="240"/>
                </a:lnTo>
                <a:lnTo>
                  <a:pt x="316" y="251"/>
                </a:lnTo>
                <a:lnTo>
                  <a:pt x="218" y="272"/>
                </a:lnTo>
                <a:lnTo>
                  <a:pt x="109" y="283"/>
                </a:lnTo>
                <a:lnTo>
                  <a:pt x="0" y="294"/>
                </a:lnTo>
                <a:lnTo>
                  <a:pt x="0" y="185"/>
                </a:lnTo>
                <a:lnTo>
                  <a:pt x="11" y="185"/>
                </a:lnTo>
                <a:lnTo>
                  <a:pt x="33" y="185"/>
                </a:lnTo>
                <a:lnTo>
                  <a:pt x="55" y="185"/>
                </a:lnTo>
                <a:lnTo>
                  <a:pt x="87" y="185"/>
                </a:lnTo>
                <a:lnTo>
                  <a:pt x="120" y="185"/>
                </a:lnTo>
                <a:lnTo>
                  <a:pt x="152" y="185"/>
                </a:lnTo>
                <a:lnTo>
                  <a:pt x="185" y="174"/>
                </a:lnTo>
                <a:lnTo>
                  <a:pt x="229" y="174"/>
                </a:lnTo>
                <a:lnTo>
                  <a:pt x="272" y="163"/>
                </a:lnTo>
                <a:lnTo>
                  <a:pt x="316" y="163"/>
                </a:lnTo>
                <a:lnTo>
                  <a:pt x="370" y="153"/>
                </a:lnTo>
                <a:lnTo>
                  <a:pt x="424" y="153"/>
                </a:lnTo>
                <a:lnTo>
                  <a:pt x="479" y="142"/>
                </a:lnTo>
                <a:lnTo>
                  <a:pt x="533" y="131"/>
                </a:lnTo>
                <a:lnTo>
                  <a:pt x="598" y="120"/>
                </a:lnTo>
                <a:lnTo>
                  <a:pt x="663" y="109"/>
                </a:lnTo>
                <a:lnTo>
                  <a:pt x="740" y="98"/>
                </a:lnTo>
                <a:lnTo>
                  <a:pt x="794" y="98"/>
                </a:lnTo>
                <a:lnTo>
                  <a:pt x="859" y="87"/>
                </a:lnTo>
                <a:lnTo>
                  <a:pt x="913" y="76"/>
                </a:lnTo>
                <a:lnTo>
                  <a:pt x="957" y="76"/>
                </a:lnTo>
                <a:lnTo>
                  <a:pt x="1000" y="66"/>
                </a:lnTo>
                <a:lnTo>
                  <a:pt x="1044" y="55"/>
                </a:lnTo>
                <a:lnTo>
                  <a:pt x="1087" y="55"/>
                </a:lnTo>
                <a:lnTo>
                  <a:pt x="1120" y="44"/>
                </a:lnTo>
                <a:lnTo>
                  <a:pt x="1142" y="44"/>
                </a:lnTo>
                <a:lnTo>
                  <a:pt x="1174" y="33"/>
                </a:lnTo>
                <a:lnTo>
                  <a:pt x="1196" y="33"/>
                </a:lnTo>
                <a:lnTo>
                  <a:pt x="1207" y="33"/>
                </a:lnTo>
                <a:lnTo>
                  <a:pt x="1218" y="22"/>
                </a:lnTo>
                <a:lnTo>
                  <a:pt x="1229" y="22"/>
                </a:lnTo>
                <a:lnTo>
                  <a:pt x="1240" y="22"/>
                </a:lnTo>
                <a:lnTo>
                  <a:pt x="1250" y="0"/>
                </a:lnTo>
                <a:lnTo>
                  <a:pt x="1261" y="0"/>
                </a:lnTo>
                <a:lnTo>
                  <a:pt x="1283" y="0"/>
                </a:lnTo>
                <a:lnTo>
                  <a:pt x="1294" y="0"/>
                </a:lnTo>
                <a:lnTo>
                  <a:pt x="1305" y="11"/>
                </a:lnTo>
                <a:lnTo>
                  <a:pt x="1327" y="11"/>
                </a:lnTo>
                <a:lnTo>
                  <a:pt x="1348" y="22"/>
                </a:lnTo>
                <a:lnTo>
                  <a:pt x="1370" y="33"/>
                </a:lnTo>
                <a:lnTo>
                  <a:pt x="1392" y="44"/>
                </a:lnTo>
                <a:lnTo>
                  <a:pt x="1424" y="55"/>
                </a:lnTo>
                <a:lnTo>
                  <a:pt x="1457" y="66"/>
                </a:lnTo>
                <a:lnTo>
                  <a:pt x="1490" y="87"/>
                </a:lnTo>
                <a:lnTo>
                  <a:pt x="1522" y="98"/>
                </a:lnTo>
                <a:lnTo>
                  <a:pt x="1544" y="109"/>
                </a:lnTo>
                <a:lnTo>
                  <a:pt x="1566" y="131"/>
                </a:lnTo>
                <a:lnTo>
                  <a:pt x="1587" y="142"/>
                </a:lnTo>
                <a:lnTo>
                  <a:pt x="1598" y="153"/>
                </a:lnTo>
                <a:lnTo>
                  <a:pt x="1609" y="163"/>
                </a:lnTo>
                <a:lnTo>
                  <a:pt x="1609" y="185"/>
                </a:lnTo>
                <a:lnTo>
                  <a:pt x="1609" y="207"/>
                </a:lnTo>
                <a:lnTo>
                  <a:pt x="1587" y="240"/>
                </a:lnTo>
                <a:lnTo>
                  <a:pt x="1577" y="251"/>
                </a:lnTo>
                <a:lnTo>
                  <a:pt x="1577" y="261"/>
                </a:lnTo>
                <a:lnTo>
                  <a:pt x="1566" y="283"/>
                </a:lnTo>
                <a:lnTo>
                  <a:pt x="1566" y="305"/>
                </a:lnTo>
                <a:lnTo>
                  <a:pt x="1566" y="327"/>
                </a:lnTo>
                <a:lnTo>
                  <a:pt x="1566" y="359"/>
                </a:lnTo>
                <a:lnTo>
                  <a:pt x="1566" y="392"/>
                </a:lnTo>
                <a:lnTo>
                  <a:pt x="1566" y="425"/>
                </a:lnTo>
                <a:lnTo>
                  <a:pt x="1566" y="468"/>
                </a:lnTo>
                <a:lnTo>
                  <a:pt x="1577" y="523"/>
                </a:lnTo>
                <a:lnTo>
                  <a:pt x="1577" y="577"/>
                </a:lnTo>
                <a:lnTo>
                  <a:pt x="1587" y="642"/>
                </a:lnTo>
                <a:lnTo>
                  <a:pt x="1587" y="708"/>
                </a:lnTo>
                <a:lnTo>
                  <a:pt x="1587" y="784"/>
                </a:lnTo>
                <a:lnTo>
                  <a:pt x="1598" y="860"/>
                </a:lnTo>
                <a:lnTo>
                  <a:pt x="1598" y="947"/>
                </a:lnTo>
                <a:lnTo>
                  <a:pt x="1609" y="1034"/>
                </a:lnTo>
                <a:lnTo>
                  <a:pt x="1609" y="1110"/>
                </a:lnTo>
                <a:lnTo>
                  <a:pt x="1609" y="1186"/>
                </a:lnTo>
                <a:lnTo>
                  <a:pt x="1620" y="1252"/>
                </a:lnTo>
                <a:lnTo>
                  <a:pt x="1620" y="1306"/>
                </a:lnTo>
                <a:lnTo>
                  <a:pt x="1620" y="1361"/>
                </a:lnTo>
                <a:lnTo>
                  <a:pt x="1620" y="1404"/>
                </a:lnTo>
                <a:lnTo>
                  <a:pt x="1620" y="1437"/>
                </a:lnTo>
                <a:lnTo>
                  <a:pt x="1620" y="1491"/>
                </a:lnTo>
                <a:lnTo>
                  <a:pt x="1598" y="1556"/>
                </a:lnTo>
                <a:lnTo>
                  <a:pt x="1587" y="1611"/>
                </a:lnTo>
                <a:lnTo>
                  <a:pt x="1566" y="1654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4" name="Freeform 56"/>
          <p:cNvSpPr/>
          <p:nvPr/>
        </p:nvSpPr>
        <p:spPr>
          <a:xfrm>
            <a:off x="6494400" y="3164400"/>
            <a:ext cx="496440" cy="183960"/>
          </a:xfrm>
          <a:custGeom>
            <a:avLst/>
            <a:gdLst>
              <a:gd name="textAreaLeft" fmla="*/ 0 w 496440"/>
              <a:gd name="textAreaRight" fmla="*/ 496800 w 4964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783" h="217">
                <a:moveTo>
                  <a:pt x="750" y="98"/>
                </a:moveTo>
                <a:lnTo>
                  <a:pt x="739" y="108"/>
                </a:lnTo>
                <a:lnTo>
                  <a:pt x="717" y="108"/>
                </a:lnTo>
                <a:lnTo>
                  <a:pt x="696" y="119"/>
                </a:lnTo>
                <a:lnTo>
                  <a:pt x="663" y="130"/>
                </a:lnTo>
                <a:lnTo>
                  <a:pt x="620" y="141"/>
                </a:lnTo>
                <a:lnTo>
                  <a:pt x="576" y="141"/>
                </a:lnTo>
                <a:lnTo>
                  <a:pt x="522" y="163"/>
                </a:lnTo>
                <a:lnTo>
                  <a:pt x="467" y="174"/>
                </a:lnTo>
                <a:lnTo>
                  <a:pt x="413" y="185"/>
                </a:lnTo>
                <a:lnTo>
                  <a:pt x="348" y="195"/>
                </a:lnTo>
                <a:lnTo>
                  <a:pt x="304" y="195"/>
                </a:lnTo>
                <a:lnTo>
                  <a:pt x="261" y="206"/>
                </a:lnTo>
                <a:lnTo>
                  <a:pt x="217" y="206"/>
                </a:lnTo>
                <a:lnTo>
                  <a:pt x="185" y="217"/>
                </a:lnTo>
                <a:lnTo>
                  <a:pt x="152" y="217"/>
                </a:lnTo>
                <a:lnTo>
                  <a:pt x="130" y="217"/>
                </a:lnTo>
                <a:lnTo>
                  <a:pt x="87" y="217"/>
                </a:lnTo>
                <a:lnTo>
                  <a:pt x="54" y="206"/>
                </a:lnTo>
                <a:lnTo>
                  <a:pt x="33" y="195"/>
                </a:lnTo>
                <a:lnTo>
                  <a:pt x="22" y="195"/>
                </a:lnTo>
                <a:lnTo>
                  <a:pt x="0" y="174"/>
                </a:lnTo>
                <a:lnTo>
                  <a:pt x="0" y="163"/>
                </a:lnTo>
                <a:lnTo>
                  <a:pt x="0" y="152"/>
                </a:lnTo>
                <a:lnTo>
                  <a:pt x="65" y="130"/>
                </a:lnTo>
                <a:lnTo>
                  <a:pt x="141" y="108"/>
                </a:lnTo>
                <a:lnTo>
                  <a:pt x="206" y="98"/>
                </a:lnTo>
                <a:lnTo>
                  <a:pt x="261" y="76"/>
                </a:lnTo>
                <a:lnTo>
                  <a:pt x="315" y="65"/>
                </a:lnTo>
                <a:lnTo>
                  <a:pt x="370" y="54"/>
                </a:lnTo>
                <a:lnTo>
                  <a:pt x="413" y="43"/>
                </a:lnTo>
                <a:lnTo>
                  <a:pt x="457" y="32"/>
                </a:lnTo>
                <a:lnTo>
                  <a:pt x="500" y="21"/>
                </a:lnTo>
                <a:lnTo>
                  <a:pt x="533" y="21"/>
                </a:lnTo>
                <a:lnTo>
                  <a:pt x="554" y="10"/>
                </a:lnTo>
                <a:lnTo>
                  <a:pt x="587" y="10"/>
                </a:lnTo>
                <a:lnTo>
                  <a:pt x="609" y="0"/>
                </a:lnTo>
                <a:lnTo>
                  <a:pt x="620" y="0"/>
                </a:lnTo>
                <a:lnTo>
                  <a:pt x="641" y="0"/>
                </a:lnTo>
                <a:lnTo>
                  <a:pt x="674" y="0"/>
                </a:lnTo>
                <a:lnTo>
                  <a:pt x="696" y="0"/>
                </a:lnTo>
                <a:lnTo>
                  <a:pt x="717" y="0"/>
                </a:lnTo>
                <a:lnTo>
                  <a:pt x="739" y="10"/>
                </a:lnTo>
                <a:lnTo>
                  <a:pt x="761" y="21"/>
                </a:lnTo>
                <a:lnTo>
                  <a:pt x="772" y="32"/>
                </a:lnTo>
                <a:lnTo>
                  <a:pt x="783" y="43"/>
                </a:lnTo>
                <a:lnTo>
                  <a:pt x="783" y="54"/>
                </a:lnTo>
                <a:lnTo>
                  <a:pt x="783" y="65"/>
                </a:lnTo>
                <a:lnTo>
                  <a:pt x="783" y="76"/>
                </a:lnTo>
                <a:lnTo>
                  <a:pt x="772" y="87"/>
                </a:lnTo>
                <a:lnTo>
                  <a:pt x="750" y="98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Freeform 57"/>
          <p:cNvSpPr/>
          <p:nvPr/>
        </p:nvSpPr>
        <p:spPr>
          <a:xfrm>
            <a:off x="6473880" y="3532680"/>
            <a:ext cx="131400" cy="423000"/>
          </a:xfrm>
          <a:custGeom>
            <a:avLst/>
            <a:gdLst>
              <a:gd name="textAreaLeft" fmla="*/ 0 w 131400"/>
              <a:gd name="textAreaRight" fmla="*/ 131760 w 131400"/>
              <a:gd name="textAreaTop" fmla="*/ 0 h 423000"/>
              <a:gd name="textAreaBottom" fmla="*/ 423360 h 423000"/>
            </a:gdLst>
            <a:ahLst/>
            <a:rect l="textAreaLeft" t="textAreaTop" r="textAreaRight" b="textAreaBottom"/>
            <a:pathLst>
              <a:path w="207" h="500">
                <a:moveTo>
                  <a:pt x="163" y="22"/>
                </a:moveTo>
                <a:lnTo>
                  <a:pt x="163" y="76"/>
                </a:lnTo>
                <a:lnTo>
                  <a:pt x="174" y="130"/>
                </a:lnTo>
                <a:lnTo>
                  <a:pt x="185" y="185"/>
                </a:lnTo>
                <a:lnTo>
                  <a:pt x="185" y="228"/>
                </a:lnTo>
                <a:lnTo>
                  <a:pt x="196" y="272"/>
                </a:lnTo>
                <a:lnTo>
                  <a:pt x="196" y="315"/>
                </a:lnTo>
                <a:lnTo>
                  <a:pt x="196" y="348"/>
                </a:lnTo>
                <a:lnTo>
                  <a:pt x="196" y="381"/>
                </a:lnTo>
                <a:lnTo>
                  <a:pt x="207" y="413"/>
                </a:lnTo>
                <a:lnTo>
                  <a:pt x="207" y="435"/>
                </a:lnTo>
                <a:lnTo>
                  <a:pt x="207" y="457"/>
                </a:lnTo>
                <a:lnTo>
                  <a:pt x="196" y="479"/>
                </a:lnTo>
                <a:lnTo>
                  <a:pt x="196" y="490"/>
                </a:lnTo>
                <a:lnTo>
                  <a:pt x="196" y="500"/>
                </a:lnTo>
                <a:lnTo>
                  <a:pt x="185" y="500"/>
                </a:lnTo>
                <a:lnTo>
                  <a:pt x="174" y="500"/>
                </a:lnTo>
                <a:lnTo>
                  <a:pt x="152" y="490"/>
                </a:lnTo>
                <a:lnTo>
                  <a:pt x="142" y="479"/>
                </a:lnTo>
                <a:lnTo>
                  <a:pt x="131" y="457"/>
                </a:lnTo>
                <a:lnTo>
                  <a:pt x="120" y="435"/>
                </a:lnTo>
                <a:lnTo>
                  <a:pt x="109" y="403"/>
                </a:lnTo>
                <a:lnTo>
                  <a:pt x="98" y="370"/>
                </a:lnTo>
                <a:lnTo>
                  <a:pt x="87" y="326"/>
                </a:lnTo>
                <a:lnTo>
                  <a:pt x="76" y="283"/>
                </a:lnTo>
                <a:lnTo>
                  <a:pt x="66" y="239"/>
                </a:lnTo>
                <a:lnTo>
                  <a:pt x="66" y="207"/>
                </a:lnTo>
                <a:lnTo>
                  <a:pt x="55" y="174"/>
                </a:lnTo>
                <a:lnTo>
                  <a:pt x="44" y="141"/>
                </a:lnTo>
                <a:lnTo>
                  <a:pt x="44" y="120"/>
                </a:lnTo>
                <a:lnTo>
                  <a:pt x="33" y="98"/>
                </a:lnTo>
                <a:lnTo>
                  <a:pt x="33" y="87"/>
                </a:lnTo>
                <a:lnTo>
                  <a:pt x="11" y="65"/>
                </a:lnTo>
                <a:lnTo>
                  <a:pt x="0" y="43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33" y="0"/>
                </a:lnTo>
                <a:lnTo>
                  <a:pt x="55" y="0"/>
                </a:lnTo>
                <a:lnTo>
                  <a:pt x="76" y="0"/>
                </a:lnTo>
                <a:lnTo>
                  <a:pt x="98" y="0"/>
                </a:lnTo>
                <a:lnTo>
                  <a:pt x="131" y="11"/>
                </a:lnTo>
                <a:lnTo>
                  <a:pt x="163" y="2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6" name="Freeform 58"/>
          <p:cNvSpPr/>
          <p:nvPr/>
        </p:nvSpPr>
        <p:spPr>
          <a:xfrm>
            <a:off x="6535800" y="3469320"/>
            <a:ext cx="482400" cy="340560"/>
          </a:xfrm>
          <a:custGeom>
            <a:avLst/>
            <a:gdLst>
              <a:gd name="textAreaLeft" fmla="*/ 0 w 482400"/>
              <a:gd name="textAreaRight" fmla="*/ 482760 w 482400"/>
              <a:gd name="textAreaTop" fmla="*/ 0 h 340560"/>
              <a:gd name="textAreaBottom" fmla="*/ 340920 h 340560"/>
            </a:gdLst>
            <a:ahLst/>
            <a:rect l="textAreaLeft" t="textAreaTop" r="textAreaRight" b="textAreaBottom"/>
            <a:pathLst>
              <a:path w="761" h="402">
                <a:moveTo>
                  <a:pt x="761" y="141"/>
                </a:moveTo>
                <a:lnTo>
                  <a:pt x="761" y="152"/>
                </a:lnTo>
                <a:lnTo>
                  <a:pt x="750" y="163"/>
                </a:lnTo>
                <a:lnTo>
                  <a:pt x="729" y="174"/>
                </a:lnTo>
                <a:lnTo>
                  <a:pt x="718" y="185"/>
                </a:lnTo>
                <a:lnTo>
                  <a:pt x="707" y="196"/>
                </a:lnTo>
                <a:lnTo>
                  <a:pt x="696" y="217"/>
                </a:lnTo>
                <a:lnTo>
                  <a:pt x="674" y="239"/>
                </a:lnTo>
                <a:lnTo>
                  <a:pt x="663" y="272"/>
                </a:lnTo>
                <a:lnTo>
                  <a:pt x="642" y="304"/>
                </a:lnTo>
                <a:lnTo>
                  <a:pt x="620" y="348"/>
                </a:lnTo>
                <a:lnTo>
                  <a:pt x="598" y="402"/>
                </a:lnTo>
                <a:lnTo>
                  <a:pt x="511" y="402"/>
                </a:lnTo>
                <a:lnTo>
                  <a:pt x="511" y="348"/>
                </a:lnTo>
                <a:lnTo>
                  <a:pt x="522" y="304"/>
                </a:lnTo>
                <a:lnTo>
                  <a:pt x="522" y="261"/>
                </a:lnTo>
                <a:lnTo>
                  <a:pt x="522" y="228"/>
                </a:lnTo>
                <a:lnTo>
                  <a:pt x="522" y="196"/>
                </a:lnTo>
                <a:lnTo>
                  <a:pt x="522" y="174"/>
                </a:lnTo>
                <a:lnTo>
                  <a:pt x="522" y="163"/>
                </a:lnTo>
                <a:lnTo>
                  <a:pt x="522" y="152"/>
                </a:lnTo>
                <a:lnTo>
                  <a:pt x="511" y="141"/>
                </a:lnTo>
                <a:lnTo>
                  <a:pt x="489" y="141"/>
                </a:lnTo>
                <a:lnTo>
                  <a:pt x="478" y="141"/>
                </a:lnTo>
                <a:lnTo>
                  <a:pt x="446" y="141"/>
                </a:lnTo>
                <a:lnTo>
                  <a:pt x="435" y="141"/>
                </a:lnTo>
                <a:lnTo>
                  <a:pt x="424" y="141"/>
                </a:lnTo>
                <a:lnTo>
                  <a:pt x="413" y="141"/>
                </a:lnTo>
                <a:lnTo>
                  <a:pt x="392" y="141"/>
                </a:lnTo>
                <a:lnTo>
                  <a:pt x="370" y="141"/>
                </a:lnTo>
                <a:lnTo>
                  <a:pt x="348" y="141"/>
                </a:lnTo>
                <a:lnTo>
                  <a:pt x="326" y="152"/>
                </a:lnTo>
                <a:lnTo>
                  <a:pt x="305" y="152"/>
                </a:lnTo>
                <a:lnTo>
                  <a:pt x="272" y="152"/>
                </a:lnTo>
                <a:lnTo>
                  <a:pt x="239" y="152"/>
                </a:lnTo>
                <a:lnTo>
                  <a:pt x="207" y="163"/>
                </a:lnTo>
                <a:lnTo>
                  <a:pt x="174" y="163"/>
                </a:lnTo>
                <a:lnTo>
                  <a:pt x="87" y="174"/>
                </a:lnTo>
                <a:lnTo>
                  <a:pt x="0" y="185"/>
                </a:lnTo>
                <a:lnTo>
                  <a:pt x="0" y="98"/>
                </a:lnTo>
                <a:lnTo>
                  <a:pt x="65" y="87"/>
                </a:lnTo>
                <a:lnTo>
                  <a:pt x="120" y="87"/>
                </a:lnTo>
                <a:lnTo>
                  <a:pt x="174" y="87"/>
                </a:lnTo>
                <a:lnTo>
                  <a:pt x="218" y="76"/>
                </a:lnTo>
                <a:lnTo>
                  <a:pt x="272" y="76"/>
                </a:lnTo>
                <a:lnTo>
                  <a:pt x="305" y="65"/>
                </a:lnTo>
                <a:lnTo>
                  <a:pt x="348" y="65"/>
                </a:lnTo>
                <a:lnTo>
                  <a:pt x="381" y="65"/>
                </a:lnTo>
                <a:lnTo>
                  <a:pt x="413" y="54"/>
                </a:lnTo>
                <a:lnTo>
                  <a:pt x="435" y="54"/>
                </a:lnTo>
                <a:lnTo>
                  <a:pt x="457" y="43"/>
                </a:lnTo>
                <a:lnTo>
                  <a:pt x="489" y="43"/>
                </a:lnTo>
                <a:lnTo>
                  <a:pt x="500" y="43"/>
                </a:lnTo>
                <a:lnTo>
                  <a:pt x="522" y="32"/>
                </a:lnTo>
                <a:lnTo>
                  <a:pt x="533" y="32"/>
                </a:lnTo>
                <a:lnTo>
                  <a:pt x="544" y="21"/>
                </a:lnTo>
                <a:lnTo>
                  <a:pt x="555" y="21"/>
                </a:lnTo>
                <a:lnTo>
                  <a:pt x="565" y="11"/>
                </a:lnTo>
                <a:lnTo>
                  <a:pt x="587" y="11"/>
                </a:lnTo>
                <a:lnTo>
                  <a:pt x="598" y="0"/>
                </a:lnTo>
                <a:lnTo>
                  <a:pt x="620" y="11"/>
                </a:lnTo>
                <a:lnTo>
                  <a:pt x="642" y="21"/>
                </a:lnTo>
                <a:lnTo>
                  <a:pt x="663" y="43"/>
                </a:lnTo>
                <a:lnTo>
                  <a:pt x="696" y="65"/>
                </a:lnTo>
                <a:lnTo>
                  <a:pt x="718" y="87"/>
                </a:lnTo>
                <a:lnTo>
                  <a:pt x="739" y="109"/>
                </a:lnTo>
                <a:lnTo>
                  <a:pt x="750" y="130"/>
                </a:lnTo>
                <a:lnTo>
                  <a:pt x="761" y="14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7" name="Freeform 59"/>
          <p:cNvSpPr/>
          <p:nvPr/>
        </p:nvSpPr>
        <p:spPr>
          <a:xfrm>
            <a:off x="6576840" y="3763440"/>
            <a:ext cx="393480" cy="128880"/>
          </a:xfrm>
          <a:custGeom>
            <a:avLst/>
            <a:gdLst>
              <a:gd name="textAreaLeft" fmla="*/ 0 w 393480"/>
              <a:gd name="textAreaRight" fmla="*/ 393840 w 3934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620" h="152">
                <a:moveTo>
                  <a:pt x="0" y="65"/>
                </a:moveTo>
                <a:lnTo>
                  <a:pt x="33" y="54"/>
                </a:lnTo>
                <a:lnTo>
                  <a:pt x="66" y="54"/>
                </a:lnTo>
                <a:lnTo>
                  <a:pt x="98" y="54"/>
                </a:lnTo>
                <a:lnTo>
                  <a:pt x="142" y="43"/>
                </a:lnTo>
                <a:lnTo>
                  <a:pt x="229" y="33"/>
                </a:lnTo>
                <a:lnTo>
                  <a:pt x="327" y="22"/>
                </a:lnTo>
                <a:lnTo>
                  <a:pt x="370" y="11"/>
                </a:lnTo>
                <a:lnTo>
                  <a:pt x="413" y="11"/>
                </a:lnTo>
                <a:lnTo>
                  <a:pt x="457" y="11"/>
                </a:lnTo>
                <a:lnTo>
                  <a:pt x="490" y="0"/>
                </a:lnTo>
                <a:lnTo>
                  <a:pt x="511" y="0"/>
                </a:lnTo>
                <a:lnTo>
                  <a:pt x="544" y="0"/>
                </a:lnTo>
                <a:lnTo>
                  <a:pt x="555" y="0"/>
                </a:lnTo>
                <a:lnTo>
                  <a:pt x="577" y="11"/>
                </a:lnTo>
                <a:lnTo>
                  <a:pt x="598" y="22"/>
                </a:lnTo>
                <a:lnTo>
                  <a:pt x="609" y="33"/>
                </a:lnTo>
                <a:lnTo>
                  <a:pt x="620" y="43"/>
                </a:lnTo>
                <a:lnTo>
                  <a:pt x="620" y="65"/>
                </a:lnTo>
                <a:lnTo>
                  <a:pt x="609" y="76"/>
                </a:lnTo>
                <a:lnTo>
                  <a:pt x="598" y="76"/>
                </a:lnTo>
                <a:lnTo>
                  <a:pt x="577" y="87"/>
                </a:lnTo>
                <a:lnTo>
                  <a:pt x="555" y="87"/>
                </a:lnTo>
                <a:lnTo>
                  <a:pt x="533" y="98"/>
                </a:lnTo>
                <a:lnTo>
                  <a:pt x="500" y="98"/>
                </a:lnTo>
                <a:lnTo>
                  <a:pt x="468" y="109"/>
                </a:lnTo>
                <a:lnTo>
                  <a:pt x="424" y="109"/>
                </a:lnTo>
                <a:lnTo>
                  <a:pt x="370" y="120"/>
                </a:lnTo>
                <a:lnTo>
                  <a:pt x="327" y="120"/>
                </a:lnTo>
                <a:lnTo>
                  <a:pt x="272" y="131"/>
                </a:lnTo>
                <a:lnTo>
                  <a:pt x="207" y="131"/>
                </a:lnTo>
                <a:lnTo>
                  <a:pt x="142" y="141"/>
                </a:lnTo>
                <a:lnTo>
                  <a:pt x="66" y="152"/>
                </a:lnTo>
                <a:lnTo>
                  <a:pt x="0" y="152"/>
                </a:lnTo>
                <a:lnTo>
                  <a:pt x="0" y="6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Freeform 60"/>
          <p:cNvSpPr/>
          <p:nvPr/>
        </p:nvSpPr>
        <p:spPr>
          <a:xfrm>
            <a:off x="6004080" y="2233080"/>
            <a:ext cx="504360" cy="711000"/>
          </a:xfrm>
          <a:custGeom>
            <a:avLst/>
            <a:gdLst>
              <a:gd name="textAreaLeft" fmla="*/ 0 w 504360"/>
              <a:gd name="textAreaRight" fmla="*/ 504720 w 504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794" h="838">
                <a:moveTo>
                  <a:pt x="565" y="55"/>
                </a:moveTo>
                <a:lnTo>
                  <a:pt x="565" y="33"/>
                </a:lnTo>
                <a:lnTo>
                  <a:pt x="565" y="22"/>
                </a:lnTo>
                <a:lnTo>
                  <a:pt x="576" y="11"/>
                </a:lnTo>
                <a:lnTo>
                  <a:pt x="598" y="0"/>
                </a:lnTo>
                <a:lnTo>
                  <a:pt x="631" y="0"/>
                </a:lnTo>
                <a:lnTo>
                  <a:pt x="652" y="11"/>
                </a:lnTo>
                <a:lnTo>
                  <a:pt x="685" y="22"/>
                </a:lnTo>
                <a:lnTo>
                  <a:pt x="718" y="44"/>
                </a:lnTo>
                <a:lnTo>
                  <a:pt x="750" y="77"/>
                </a:lnTo>
                <a:lnTo>
                  <a:pt x="772" y="98"/>
                </a:lnTo>
                <a:lnTo>
                  <a:pt x="783" y="120"/>
                </a:lnTo>
                <a:lnTo>
                  <a:pt x="794" y="131"/>
                </a:lnTo>
                <a:lnTo>
                  <a:pt x="783" y="142"/>
                </a:lnTo>
                <a:lnTo>
                  <a:pt x="783" y="164"/>
                </a:lnTo>
                <a:lnTo>
                  <a:pt x="772" y="175"/>
                </a:lnTo>
                <a:lnTo>
                  <a:pt x="750" y="196"/>
                </a:lnTo>
                <a:lnTo>
                  <a:pt x="739" y="218"/>
                </a:lnTo>
                <a:lnTo>
                  <a:pt x="718" y="240"/>
                </a:lnTo>
                <a:lnTo>
                  <a:pt x="696" y="273"/>
                </a:lnTo>
                <a:lnTo>
                  <a:pt x="674" y="305"/>
                </a:lnTo>
                <a:lnTo>
                  <a:pt x="620" y="381"/>
                </a:lnTo>
                <a:lnTo>
                  <a:pt x="554" y="447"/>
                </a:lnTo>
                <a:lnTo>
                  <a:pt x="489" y="512"/>
                </a:lnTo>
                <a:lnTo>
                  <a:pt x="424" y="577"/>
                </a:lnTo>
                <a:lnTo>
                  <a:pt x="391" y="610"/>
                </a:lnTo>
                <a:lnTo>
                  <a:pt x="359" y="643"/>
                </a:lnTo>
                <a:lnTo>
                  <a:pt x="283" y="697"/>
                </a:lnTo>
                <a:lnTo>
                  <a:pt x="217" y="740"/>
                </a:lnTo>
                <a:lnTo>
                  <a:pt x="141" y="784"/>
                </a:lnTo>
                <a:lnTo>
                  <a:pt x="109" y="806"/>
                </a:lnTo>
                <a:lnTo>
                  <a:pt x="76" y="817"/>
                </a:lnTo>
                <a:lnTo>
                  <a:pt x="54" y="828"/>
                </a:lnTo>
                <a:lnTo>
                  <a:pt x="33" y="838"/>
                </a:lnTo>
                <a:lnTo>
                  <a:pt x="22" y="838"/>
                </a:lnTo>
                <a:lnTo>
                  <a:pt x="11" y="838"/>
                </a:lnTo>
                <a:lnTo>
                  <a:pt x="0" y="838"/>
                </a:lnTo>
                <a:lnTo>
                  <a:pt x="0" y="828"/>
                </a:lnTo>
                <a:lnTo>
                  <a:pt x="11" y="817"/>
                </a:lnTo>
                <a:lnTo>
                  <a:pt x="22" y="806"/>
                </a:lnTo>
                <a:lnTo>
                  <a:pt x="33" y="784"/>
                </a:lnTo>
                <a:lnTo>
                  <a:pt x="54" y="773"/>
                </a:lnTo>
                <a:lnTo>
                  <a:pt x="76" y="751"/>
                </a:lnTo>
                <a:lnTo>
                  <a:pt x="109" y="730"/>
                </a:lnTo>
                <a:lnTo>
                  <a:pt x="163" y="675"/>
                </a:lnTo>
                <a:lnTo>
                  <a:pt x="217" y="621"/>
                </a:lnTo>
                <a:lnTo>
                  <a:pt x="283" y="555"/>
                </a:lnTo>
                <a:lnTo>
                  <a:pt x="315" y="523"/>
                </a:lnTo>
                <a:lnTo>
                  <a:pt x="348" y="490"/>
                </a:lnTo>
                <a:lnTo>
                  <a:pt x="402" y="414"/>
                </a:lnTo>
                <a:lnTo>
                  <a:pt x="446" y="338"/>
                </a:lnTo>
                <a:lnTo>
                  <a:pt x="489" y="273"/>
                </a:lnTo>
                <a:lnTo>
                  <a:pt x="533" y="218"/>
                </a:lnTo>
                <a:lnTo>
                  <a:pt x="544" y="185"/>
                </a:lnTo>
                <a:lnTo>
                  <a:pt x="554" y="164"/>
                </a:lnTo>
                <a:lnTo>
                  <a:pt x="565" y="142"/>
                </a:lnTo>
                <a:lnTo>
                  <a:pt x="576" y="120"/>
                </a:lnTo>
                <a:lnTo>
                  <a:pt x="576" y="98"/>
                </a:lnTo>
                <a:lnTo>
                  <a:pt x="576" y="77"/>
                </a:lnTo>
                <a:lnTo>
                  <a:pt x="576" y="66"/>
                </a:lnTo>
                <a:lnTo>
                  <a:pt x="565" y="5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9" name="Freeform 61"/>
          <p:cNvSpPr/>
          <p:nvPr/>
        </p:nvSpPr>
        <p:spPr>
          <a:xfrm>
            <a:off x="6356520" y="2427840"/>
            <a:ext cx="420480" cy="118080"/>
          </a:xfrm>
          <a:custGeom>
            <a:avLst/>
            <a:gdLst>
              <a:gd name="textAreaLeft" fmla="*/ 0 w 420480"/>
              <a:gd name="textAreaRight" fmla="*/ 420840 w 420480"/>
              <a:gd name="textAreaTop" fmla="*/ 0 h 118080"/>
              <a:gd name="textAreaBottom" fmla="*/ 118440 h 118080"/>
            </a:gdLst>
            <a:ahLst/>
            <a:rect l="textAreaLeft" t="textAreaTop" r="textAreaRight" b="textAreaBottom"/>
            <a:pathLst>
              <a:path w="664" h="141">
                <a:moveTo>
                  <a:pt x="294" y="33"/>
                </a:moveTo>
                <a:lnTo>
                  <a:pt x="337" y="22"/>
                </a:lnTo>
                <a:lnTo>
                  <a:pt x="381" y="22"/>
                </a:lnTo>
                <a:lnTo>
                  <a:pt x="414" y="11"/>
                </a:lnTo>
                <a:lnTo>
                  <a:pt x="435" y="11"/>
                </a:lnTo>
                <a:lnTo>
                  <a:pt x="468" y="0"/>
                </a:lnTo>
                <a:lnTo>
                  <a:pt x="490" y="0"/>
                </a:lnTo>
                <a:lnTo>
                  <a:pt x="501" y="0"/>
                </a:lnTo>
                <a:lnTo>
                  <a:pt x="522" y="0"/>
                </a:lnTo>
                <a:lnTo>
                  <a:pt x="544" y="0"/>
                </a:lnTo>
                <a:lnTo>
                  <a:pt x="566" y="0"/>
                </a:lnTo>
                <a:lnTo>
                  <a:pt x="588" y="0"/>
                </a:lnTo>
                <a:lnTo>
                  <a:pt x="620" y="11"/>
                </a:lnTo>
                <a:lnTo>
                  <a:pt x="642" y="22"/>
                </a:lnTo>
                <a:lnTo>
                  <a:pt x="653" y="22"/>
                </a:lnTo>
                <a:lnTo>
                  <a:pt x="664" y="33"/>
                </a:lnTo>
                <a:lnTo>
                  <a:pt x="664" y="44"/>
                </a:lnTo>
                <a:lnTo>
                  <a:pt x="664" y="54"/>
                </a:lnTo>
                <a:lnTo>
                  <a:pt x="653" y="65"/>
                </a:lnTo>
                <a:lnTo>
                  <a:pt x="642" y="76"/>
                </a:lnTo>
                <a:lnTo>
                  <a:pt x="620" y="87"/>
                </a:lnTo>
                <a:lnTo>
                  <a:pt x="588" y="109"/>
                </a:lnTo>
                <a:lnTo>
                  <a:pt x="555" y="120"/>
                </a:lnTo>
                <a:lnTo>
                  <a:pt x="511" y="131"/>
                </a:lnTo>
                <a:lnTo>
                  <a:pt x="468" y="131"/>
                </a:lnTo>
                <a:lnTo>
                  <a:pt x="457" y="141"/>
                </a:lnTo>
                <a:lnTo>
                  <a:pt x="446" y="141"/>
                </a:lnTo>
                <a:lnTo>
                  <a:pt x="424" y="141"/>
                </a:lnTo>
                <a:lnTo>
                  <a:pt x="414" y="141"/>
                </a:lnTo>
                <a:lnTo>
                  <a:pt x="392" y="141"/>
                </a:lnTo>
                <a:lnTo>
                  <a:pt x="359" y="141"/>
                </a:lnTo>
                <a:lnTo>
                  <a:pt x="305" y="141"/>
                </a:lnTo>
                <a:lnTo>
                  <a:pt x="240" y="141"/>
                </a:lnTo>
                <a:lnTo>
                  <a:pt x="174" y="141"/>
                </a:lnTo>
                <a:lnTo>
                  <a:pt x="87" y="141"/>
                </a:lnTo>
                <a:lnTo>
                  <a:pt x="0" y="141"/>
                </a:lnTo>
                <a:lnTo>
                  <a:pt x="0" y="65"/>
                </a:lnTo>
                <a:lnTo>
                  <a:pt x="66" y="65"/>
                </a:lnTo>
                <a:lnTo>
                  <a:pt x="142" y="54"/>
                </a:lnTo>
                <a:lnTo>
                  <a:pt x="218" y="44"/>
                </a:lnTo>
                <a:lnTo>
                  <a:pt x="294" y="3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0" name="Freeform 62"/>
          <p:cNvSpPr/>
          <p:nvPr/>
        </p:nvSpPr>
        <p:spPr>
          <a:xfrm>
            <a:off x="6350040" y="2694600"/>
            <a:ext cx="205920" cy="194400"/>
          </a:xfrm>
          <a:custGeom>
            <a:avLst/>
            <a:gdLst>
              <a:gd name="textAreaLeft" fmla="*/ 0 w 205920"/>
              <a:gd name="textAreaRight" fmla="*/ 206280 w 20592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326" h="228">
                <a:moveTo>
                  <a:pt x="0" y="10"/>
                </a:moveTo>
                <a:lnTo>
                  <a:pt x="43" y="10"/>
                </a:lnTo>
                <a:lnTo>
                  <a:pt x="76" y="0"/>
                </a:lnTo>
                <a:lnTo>
                  <a:pt x="108" y="0"/>
                </a:lnTo>
                <a:lnTo>
                  <a:pt x="141" y="0"/>
                </a:lnTo>
                <a:lnTo>
                  <a:pt x="174" y="10"/>
                </a:lnTo>
                <a:lnTo>
                  <a:pt x="195" y="10"/>
                </a:lnTo>
                <a:lnTo>
                  <a:pt x="217" y="21"/>
                </a:lnTo>
                <a:lnTo>
                  <a:pt x="239" y="32"/>
                </a:lnTo>
                <a:lnTo>
                  <a:pt x="261" y="54"/>
                </a:lnTo>
                <a:lnTo>
                  <a:pt x="282" y="76"/>
                </a:lnTo>
                <a:lnTo>
                  <a:pt x="304" y="98"/>
                </a:lnTo>
                <a:lnTo>
                  <a:pt x="315" y="108"/>
                </a:lnTo>
                <a:lnTo>
                  <a:pt x="315" y="119"/>
                </a:lnTo>
                <a:lnTo>
                  <a:pt x="326" y="152"/>
                </a:lnTo>
                <a:lnTo>
                  <a:pt x="326" y="163"/>
                </a:lnTo>
                <a:lnTo>
                  <a:pt x="326" y="185"/>
                </a:lnTo>
                <a:lnTo>
                  <a:pt x="315" y="195"/>
                </a:lnTo>
                <a:lnTo>
                  <a:pt x="304" y="206"/>
                </a:lnTo>
                <a:lnTo>
                  <a:pt x="293" y="217"/>
                </a:lnTo>
                <a:lnTo>
                  <a:pt x="271" y="228"/>
                </a:lnTo>
                <a:lnTo>
                  <a:pt x="250" y="228"/>
                </a:lnTo>
                <a:lnTo>
                  <a:pt x="228" y="228"/>
                </a:lnTo>
                <a:lnTo>
                  <a:pt x="206" y="217"/>
                </a:lnTo>
                <a:lnTo>
                  <a:pt x="184" y="195"/>
                </a:lnTo>
                <a:lnTo>
                  <a:pt x="163" y="174"/>
                </a:lnTo>
                <a:lnTo>
                  <a:pt x="130" y="141"/>
                </a:lnTo>
                <a:lnTo>
                  <a:pt x="87" y="108"/>
                </a:lnTo>
                <a:lnTo>
                  <a:pt x="43" y="65"/>
                </a:lnTo>
                <a:lnTo>
                  <a:pt x="0" y="1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Freeform 63"/>
          <p:cNvSpPr/>
          <p:nvPr/>
        </p:nvSpPr>
        <p:spPr>
          <a:xfrm>
            <a:off x="6723000" y="2152800"/>
            <a:ext cx="447480" cy="651600"/>
          </a:xfrm>
          <a:custGeom>
            <a:avLst/>
            <a:gdLst>
              <a:gd name="textAreaLeft" fmla="*/ 0 w 447480"/>
              <a:gd name="textAreaRight" fmla="*/ 447840 w 447480"/>
              <a:gd name="textAreaTop" fmla="*/ 0 h 651600"/>
              <a:gd name="textAreaBottom" fmla="*/ 651960 h 651600"/>
            </a:gdLst>
            <a:ahLst/>
            <a:rect l="textAreaLeft" t="textAreaTop" r="textAreaRight" b="textAreaBottom"/>
            <a:pathLst>
              <a:path w="706" h="772">
                <a:moveTo>
                  <a:pt x="0" y="761"/>
                </a:moveTo>
                <a:lnTo>
                  <a:pt x="0" y="761"/>
                </a:lnTo>
                <a:lnTo>
                  <a:pt x="0" y="750"/>
                </a:lnTo>
                <a:lnTo>
                  <a:pt x="11" y="740"/>
                </a:lnTo>
                <a:lnTo>
                  <a:pt x="21" y="729"/>
                </a:lnTo>
                <a:lnTo>
                  <a:pt x="32" y="707"/>
                </a:lnTo>
                <a:lnTo>
                  <a:pt x="54" y="685"/>
                </a:lnTo>
                <a:lnTo>
                  <a:pt x="76" y="663"/>
                </a:lnTo>
                <a:lnTo>
                  <a:pt x="108" y="642"/>
                </a:lnTo>
                <a:lnTo>
                  <a:pt x="163" y="587"/>
                </a:lnTo>
                <a:lnTo>
                  <a:pt x="217" y="533"/>
                </a:lnTo>
                <a:lnTo>
                  <a:pt x="271" y="467"/>
                </a:lnTo>
                <a:lnTo>
                  <a:pt x="304" y="435"/>
                </a:lnTo>
                <a:lnTo>
                  <a:pt x="337" y="391"/>
                </a:lnTo>
                <a:lnTo>
                  <a:pt x="358" y="359"/>
                </a:lnTo>
                <a:lnTo>
                  <a:pt x="391" y="326"/>
                </a:lnTo>
                <a:lnTo>
                  <a:pt x="413" y="293"/>
                </a:lnTo>
                <a:lnTo>
                  <a:pt x="435" y="261"/>
                </a:lnTo>
                <a:lnTo>
                  <a:pt x="445" y="239"/>
                </a:lnTo>
                <a:lnTo>
                  <a:pt x="467" y="206"/>
                </a:lnTo>
                <a:lnTo>
                  <a:pt x="478" y="185"/>
                </a:lnTo>
                <a:lnTo>
                  <a:pt x="489" y="163"/>
                </a:lnTo>
                <a:lnTo>
                  <a:pt x="489" y="130"/>
                </a:lnTo>
                <a:lnTo>
                  <a:pt x="500" y="97"/>
                </a:lnTo>
                <a:lnTo>
                  <a:pt x="489" y="65"/>
                </a:lnTo>
                <a:lnTo>
                  <a:pt x="489" y="43"/>
                </a:lnTo>
                <a:lnTo>
                  <a:pt x="478" y="21"/>
                </a:lnTo>
                <a:lnTo>
                  <a:pt x="489" y="10"/>
                </a:lnTo>
                <a:lnTo>
                  <a:pt x="500" y="0"/>
                </a:lnTo>
                <a:lnTo>
                  <a:pt x="522" y="0"/>
                </a:lnTo>
                <a:lnTo>
                  <a:pt x="554" y="0"/>
                </a:lnTo>
                <a:lnTo>
                  <a:pt x="576" y="10"/>
                </a:lnTo>
                <a:lnTo>
                  <a:pt x="608" y="21"/>
                </a:lnTo>
                <a:lnTo>
                  <a:pt x="641" y="43"/>
                </a:lnTo>
                <a:lnTo>
                  <a:pt x="674" y="65"/>
                </a:lnTo>
                <a:lnTo>
                  <a:pt x="695" y="87"/>
                </a:lnTo>
                <a:lnTo>
                  <a:pt x="706" y="97"/>
                </a:lnTo>
                <a:lnTo>
                  <a:pt x="706" y="108"/>
                </a:lnTo>
                <a:lnTo>
                  <a:pt x="706" y="130"/>
                </a:lnTo>
                <a:lnTo>
                  <a:pt x="695" y="163"/>
                </a:lnTo>
                <a:lnTo>
                  <a:pt x="674" y="195"/>
                </a:lnTo>
                <a:lnTo>
                  <a:pt x="652" y="228"/>
                </a:lnTo>
                <a:lnTo>
                  <a:pt x="619" y="282"/>
                </a:lnTo>
                <a:lnTo>
                  <a:pt x="576" y="337"/>
                </a:lnTo>
                <a:lnTo>
                  <a:pt x="522" y="391"/>
                </a:lnTo>
                <a:lnTo>
                  <a:pt x="467" y="446"/>
                </a:lnTo>
                <a:lnTo>
                  <a:pt x="402" y="511"/>
                </a:lnTo>
                <a:lnTo>
                  <a:pt x="326" y="576"/>
                </a:lnTo>
                <a:lnTo>
                  <a:pt x="261" y="631"/>
                </a:lnTo>
                <a:lnTo>
                  <a:pt x="184" y="685"/>
                </a:lnTo>
                <a:lnTo>
                  <a:pt x="141" y="707"/>
                </a:lnTo>
                <a:lnTo>
                  <a:pt x="108" y="729"/>
                </a:lnTo>
                <a:lnTo>
                  <a:pt x="76" y="750"/>
                </a:lnTo>
                <a:lnTo>
                  <a:pt x="54" y="761"/>
                </a:lnTo>
                <a:lnTo>
                  <a:pt x="32" y="761"/>
                </a:lnTo>
                <a:lnTo>
                  <a:pt x="21" y="772"/>
                </a:lnTo>
                <a:lnTo>
                  <a:pt x="11" y="772"/>
                </a:lnTo>
                <a:lnTo>
                  <a:pt x="0" y="76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2" name="Freeform 64"/>
          <p:cNvSpPr/>
          <p:nvPr/>
        </p:nvSpPr>
        <p:spPr>
          <a:xfrm>
            <a:off x="7018200" y="2317680"/>
            <a:ext cx="525240" cy="156240"/>
          </a:xfrm>
          <a:custGeom>
            <a:avLst/>
            <a:gdLst>
              <a:gd name="textAreaLeft" fmla="*/ 0 w 525240"/>
              <a:gd name="textAreaRight" fmla="*/ 525600 w 525240"/>
              <a:gd name="textAreaTop" fmla="*/ 0 h 156240"/>
              <a:gd name="textAreaBottom" fmla="*/ 156600 h 156240"/>
            </a:gdLst>
            <a:ahLst/>
            <a:rect l="textAreaLeft" t="textAreaTop" r="textAreaRight" b="textAreaBottom"/>
            <a:pathLst>
              <a:path w="826" h="185">
                <a:moveTo>
                  <a:pt x="381" y="55"/>
                </a:moveTo>
                <a:lnTo>
                  <a:pt x="446" y="33"/>
                </a:lnTo>
                <a:lnTo>
                  <a:pt x="489" y="33"/>
                </a:lnTo>
                <a:lnTo>
                  <a:pt x="533" y="22"/>
                </a:lnTo>
                <a:lnTo>
                  <a:pt x="576" y="11"/>
                </a:lnTo>
                <a:lnTo>
                  <a:pt x="609" y="11"/>
                </a:lnTo>
                <a:lnTo>
                  <a:pt x="631" y="11"/>
                </a:lnTo>
                <a:lnTo>
                  <a:pt x="652" y="0"/>
                </a:lnTo>
                <a:lnTo>
                  <a:pt x="674" y="0"/>
                </a:lnTo>
                <a:lnTo>
                  <a:pt x="696" y="11"/>
                </a:lnTo>
                <a:lnTo>
                  <a:pt x="718" y="11"/>
                </a:lnTo>
                <a:lnTo>
                  <a:pt x="750" y="22"/>
                </a:lnTo>
                <a:lnTo>
                  <a:pt x="772" y="33"/>
                </a:lnTo>
                <a:lnTo>
                  <a:pt x="794" y="66"/>
                </a:lnTo>
                <a:lnTo>
                  <a:pt x="816" y="77"/>
                </a:lnTo>
                <a:lnTo>
                  <a:pt x="816" y="98"/>
                </a:lnTo>
                <a:lnTo>
                  <a:pt x="826" y="109"/>
                </a:lnTo>
                <a:lnTo>
                  <a:pt x="816" y="109"/>
                </a:lnTo>
                <a:lnTo>
                  <a:pt x="805" y="120"/>
                </a:lnTo>
                <a:lnTo>
                  <a:pt x="783" y="120"/>
                </a:lnTo>
                <a:lnTo>
                  <a:pt x="761" y="131"/>
                </a:lnTo>
                <a:lnTo>
                  <a:pt x="739" y="131"/>
                </a:lnTo>
                <a:lnTo>
                  <a:pt x="707" y="142"/>
                </a:lnTo>
                <a:lnTo>
                  <a:pt x="663" y="142"/>
                </a:lnTo>
                <a:lnTo>
                  <a:pt x="620" y="153"/>
                </a:lnTo>
                <a:lnTo>
                  <a:pt x="565" y="164"/>
                </a:lnTo>
                <a:lnTo>
                  <a:pt x="511" y="164"/>
                </a:lnTo>
                <a:lnTo>
                  <a:pt x="446" y="175"/>
                </a:lnTo>
                <a:lnTo>
                  <a:pt x="370" y="175"/>
                </a:lnTo>
                <a:lnTo>
                  <a:pt x="294" y="185"/>
                </a:lnTo>
                <a:lnTo>
                  <a:pt x="196" y="185"/>
                </a:lnTo>
                <a:lnTo>
                  <a:pt x="98" y="185"/>
                </a:lnTo>
                <a:lnTo>
                  <a:pt x="0" y="185"/>
                </a:lnTo>
                <a:lnTo>
                  <a:pt x="0" y="98"/>
                </a:lnTo>
                <a:lnTo>
                  <a:pt x="76" y="98"/>
                </a:lnTo>
                <a:lnTo>
                  <a:pt x="174" y="87"/>
                </a:lnTo>
                <a:lnTo>
                  <a:pt x="272" y="77"/>
                </a:lnTo>
                <a:lnTo>
                  <a:pt x="381" y="5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3" name="Freeform 65"/>
          <p:cNvSpPr/>
          <p:nvPr/>
        </p:nvSpPr>
        <p:spPr>
          <a:xfrm>
            <a:off x="7032600" y="2593080"/>
            <a:ext cx="234720" cy="211320"/>
          </a:xfrm>
          <a:custGeom>
            <a:avLst/>
            <a:gdLst>
              <a:gd name="textAreaLeft" fmla="*/ 0 w 234720"/>
              <a:gd name="textAreaRight" fmla="*/ 235080 w 234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370" h="250">
                <a:moveTo>
                  <a:pt x="304" y="65"/>
                </a:moveTo>
                <a:lnTo>
                  <a:pt x="326" y="76"/>
                </a:lnTo>
                <a:lnTo>
                  <a:pt x="337" y="87"/>
                </a:lnTo>
                <a:lnTo>
                  <a:pt x="348" y="109"/>
                </a:lnTo>
                <a:lnTo>
                  <a:pt x="359" y="120"/>
                </a:lnTo>
                <a:lnTo>
                  <a:pt x="370" y="141"/>
                </a:lnTo>
                <a:lnTo>
                  <a:pt x="370" y="152"/>
                </a:lnTo>
                <a:lnTo>
                  <a:pt x="370" y="174"/>
                </a:lnTo>
                <a:lnTo>
                  <a:pt x="359" y="185"/>
                </a:lnTo>
                <a:lnTo>
                  <a:pt x="348" y="218"/>
                </a:lnTo>
                <a:lnTo>
                  <a:pt x="337" y="239"/>
                </a:lnTo>
                <a:lnTo>
                  <a:pt x="326" y="250"/>
                </a:lnTo>
                <a:lnTo>
                  <a:pt x="315" y="250"/>
                </a:lnTo>
                <a:lnTo>
                  <a:pt x="304" y="250"/>
                </a:lnTo>
                <a:lnTo>
                  <a:pt x="293" y="250"/>
                </a:lnTo>
                <a:lnTo>
                  <a:pt x="272" y="239"/>
                </a:lnTo>
                <a:lnTo>
                  <a:pt x="250" y="228"/>
                </a:lnTo>
                <a:lnTo>
                  <a:pt x="228" y="218"/>
                </a:lnTo>
                <a:lnTo>
                  <a:pt x="206" y="196"/>
                </a:lnTo>
                <a:lnTo>
                  <a:pt x="174" y="174"/>
                </a:lnTo>
                <a:lnTo>
                  <a:pt x="141" y="141"/>
                </a:lnTo>
                <a:lnTo>
                  <a:pt x="109" y="120"/>
                </a:lnTo>
                <a:lnTo>
                  <a:pt x="76" y="98"/>
                </a:lnTo>
                <a:lnTo>
                  <a:pt x="54" y="76"/>
                </a:lnTo>
                <a:lnTo>
                  <a:pt x="33" y="54"/>
                </a:lnTo>
                <a:lnTo>
                  <a:pt x="22" y="43"/>
                </a:lnTo>
                <a:lnTo>
                  <a:pt x="11" y="33"/>
                </a:lnTo>
                <a:lnTo>
                  <a:pt x="0" y="22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43" y="0"/>
                </a:lnTo>
                <a:lnTo>
                  <a:pt x="65" y="0"/>
                </a:lnTo>
                <a:lnTo>
                  <a:pt x="87" y="0"/>
                </a:lnTo>
                <a:lnTo>
                  <a:pt x="119" y="0"/>
                </a:lnTo>
                <a:lnTo>
                  <a:pt x="163" y="0"/>
                </a:lnTo>
                <a:lnTo>
                  <a:pt x="217" y="11"/>
                </a:lnTo>
                <a:lnTo>
                  <a:pt x="261" y="33"/>
                </a:lnTo>
                <a:lnTo>
                  <a:pt x="304" y="6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TextBox 2"/>
          <p:cNvSpPr/>
          <p:nvPr/>
        </p:nvSpPr>
        <p:spPr>
          <a:xfrm>
            <a:off x="552600" y="2336760"/>
            <a:ext cx="340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手电筒 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"/>
          <p:cNvSpPr/>
          <p:nvPr/>
        </p:nvSpPr>
        <p:spPr>
          <a:xfrm>
            <a:off x="5230800" y="4885200"/>
            <a:ext cx="356688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书写指导：竹字扁宽，同字下框方正、横折钩的横起笔要轻、转折到竖要重、内有短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4"/>
          <p:cNvSpPr/>
          <p:nvPr/>
        </p:nvSpPr>
        <p:spPr>
          <a:xfrm>
            <a:off x="3591360" y="255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6"/>
          <p:cNvSpPr/>
          <p:nvPr/>
        </p:nvSpPr>
        <p:spPr>
          <a:xfrm>
            <a:off x="3130560" y="1585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ǒ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716040" y="4008960"/>
            <a:ext cx="23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9"/>
          <p:cNvSpPr/>
          <p:nvPr/>
        </p:nvSpPr>
        <p:spPr>
          <a:xfrm>
            <a:off x="716040" y="496764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筒裙   万花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0"/>
          <p:cNvSpPr/>
          <p:nvPr/>
        </p:nvSpPr>
        <p:spPr>
          <a:xfrm>
            <a:off x="716040" y="5473800"/>
            <a:ext cx="43304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爷爷借助手电筒微弱的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安全地回到了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1"/>
          <p:cNvSpPr/>
          <p:nvPr/>
        </p:nvSpPr>
        <p:spPr>
          <a:xfrm>
            <a:off x="716040" y="4464000"/>
            <a:ext cx="290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383" name="圆角矩形 33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385" name="Picture 3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972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Group 47"/>
          <p:cNvGraphicFramePr/>
          <p:nvPr/>
        </p:nvGraphicFramePr>
        <p:xfrm>
          <a:off x="5478480" y="1786320"/>
          <a:ext cx="2590560" cy="3039120"/>
        </p:xfrm>
        <a:graphic>
          <a:graphicData uri="http://schemas.openxmlformats.org/drawingml/2006/table">
            <a:tbl>
              <a:tblPr/>
              <a:tblGrid>
                <a:gridCol w="1284120"/>
                <a:gridCol w="1306080"/>
              </a:tblGrid>
              <a:tr h="151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Rectangle 24"/>
          <p:cNvSpPr/>
          <p:nvPr/>
        </p:nvSpPr>
        <p:spPr>
          <a:xfrm>
            <a:off x="5976720" y="220572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9"/>
          <p:cNvSpPr/>
          <p:nvPr/>
        </p:nvSpPr>
        <p:spPr>
          <a:xfrm>
            <a:off x="6303960" y="3005640"/>
            <a:ext cx="172800" cy="478080"/>
          </a:xfrm>
          <a:custGeom>
            <a:avLst/>
            <a:gdLst>
              <a:gd name="textAreaLeft" fmla="*/ 0 w 172800"/>
              <a:gd name="textAreaRight" fmla="*/ 173160 w 17280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72" h="566">
                <a:moveTo>
                  <a:pt x="98" y="11"/>
                </a:moveTo>
                <a:lnTo>
                  <a:pt x="152" y="33"/>
                </a:lnTo>
                <a:lnTo>
                  <a:pt x="163" y="33"/>
                </a:lnTo>
                <a:lnTo>
                  <a:pt x="185" y="44"/>
                </a:lnTo>
                <a:lnTo>
                  <a:pt x="196" y="55"/>
                </a:lnTo>
                <a:lnTo>
                  <a:pt x="196" y="76"/>
                </a:lnTo>
                <a:lnTo>
                  <a:pt x="207" y="87"/>
                </a:lnTo>
                <a:lnTo>
                  <a:pt x="207" y="120"/>
                </a:lnTo>
                <a:lnTo>
                  <a:pt x="218" y="142"/>
                </a:lnTo>
                <a:lnTo>
                  <a:pt x="229" y="174"/>
                </a:lnTo>
                <a:lnTo>
                  <a:pt x="229" y="218"/>
                </a:lnTo>
                <a:lnTo>
                  <a:pt x="239" y="261"/>
                </a:lnTo>
                <a:lnTo>
                  <a:pt x="250" y="305"/>
                </a:lnTo>
                <a:lnTo>
                  <a:pt x="250" y="349"/>
                </a:lnTo>
                <a:lnTo>
                  <a:pt x="250" y="381"/>
                </a:lnTo>
                <a:lnTo>
                  <a:pt x="261" y="414"/>
                </a:lnTo>
                <a:lnTo>
                  <a:pt x="261" y="446"/>
                </a:lnTo>
                <a:lnTo>
                  <a:pt x="261" y="468"/>
                </a:lnTo>
                <a:lnTo>
                  <a:pt x="272" y="490"/>
                </a:lnTo>
                <a:lnTo>
                  <a:pt x="272" y="501"/>
                </a:lnTo>
                <a:lnTo>
                  <a:pt x="272" y="534"/>
                </a:lnTo>
                <a:lnTo>
                  <a:pt x="261" y="555"/>
                </a:lnTo>
                <a:lnTo>
                  <a:pt x="261" y="566"/>
                </a:lnTo>
                <a:lnTo>
                  <a:pt x="239" y="566"/>
                </a:lnTo>
                <a:lnTo>
                  <a:pt x="229" y="566"/>
                </a:lnTo>
                <a:lnTo>
                  <a:pt x="218" y="555"/>
                </a:lnTo>
                <a:lnTo>
                  <a:pt x="207" y="544"/>
                </a:lnTo>
                <a:lnTo>
                  <a:pt x="196" y="512"/>
                </a:lnTo>
                <a:lnTo>
                  <a:pt x="185" y="490"/>
                </a:lnTo>
                <a:lnTo>
                  <a:pt x="163" y="457"/>
                </a:lnTo>
                <a:lnTo>
                  <a:pt x="152" y="414"/>
                </a:lnTo>
                <a:lnTo>
                  <a:pt x="142" y="359"/>
                </a:lnTo>
                <a:lnTo>
                  <a:pt x="131" y="316"/>
                </a:lnTo>
                <a:lnTo>
                  <a:pt x="120" y="272"/>
                </a:lnTo>
                <a:lnTo>
                  <a:pt x="98" y="229"/>
                </a:lnTo>
                <a:lnTo>
                  <a:pt x="87" y="196"/>
                </a:lnTo>
                <a:lnTo>
                  <a:pt x="76" y="164"/>
                </a:lnTo>
                <a:lnTo>
                  <a:pt x="55" y="131"/>
                </a:lnTo>
                <a:lnTo>
                  <a:pt x="44" y="109"/>
                </a:lnTo>
                <a:lnTo>
                  <a:pt x="33" y="87"/>
                </a:lnTo>
                <a:lnTo>
                  <a:pt x="11" y="66"/>
                </a:lnTo>
                <a:lnTo>
                  <a:pt x="11" y="55"/>
                </a:lnTo>
                <a:lnTo>
                  <a:pt x="0" y="44"/>
                </a:lnTo>
                <a:lnTo>
                  <a:pt x="0" y="33"/>
                </a:lnTo>
                <a:lnTo>
                  <a:pt x="0" y="22"/>
                </a:lnTo>
                <a:lnTo>
                  <a:pt x="11" y="11"/>
                </a:lnTo>
                <a:lnTo>
                  <a:pt x="33" y="11"/>
                </a:lnTo>
                <a:lnTo>
                  <a:pt x="55" y="0"/>
                </a:lnTo>
                <a:lnTo>
                  <a:pt x="76" y="11"/>
                </a:lnTo>
                <a:lnTo>
                  <a:pt x="98" y="1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Freeform 33"/>
          <p:cNvSpPr/>
          <p:nvPr/>
        </p:nvSpPr>
        <p:spPr>
          <a:xfrm>
            <a:off x="6442200" y="2508120"/>
            <a:ext cx="690120" cy="238680"/>
          </a:xfrm>
          <a:custGeom>
            <a:avLst/>
            <a:gdLst>
              <a:gd name="textAreaLeft" fmla="*/ 0 w 690120"/>
              <a:gd name="textAreaRight" fmla="*/ 690480 w 690120"/>
              <a:gd name="textAreaTop" fmla="*/ 0 h 238680"/>
              <a:gd name="textAreaBottom" fmla="*/ 239040 h 238680"/>
            </a:gdLst>
            <a:ahLst/>
            <a:rect l="textAreaLeft" t="textAreaTop" r="textAreaRight" b="textAreaBottom"/>
            <a:pathLst>
              <a:path w="1087" h="283">
                <a:moveTo>
                  <a:pt x="674" y="206"/>
                </a:moveTo>
                <a:lnTo>
                  <a:pt x="619" y="217"/>
                </a:lnTo>
                <a:lnTo>
                  <a:pt x="576" y="228"/>
                </a:lnTo>
                <a:lnTo>
                  <a:pt x="532" y="228"/>
                </a:lnTo>
                <a:lnTo>
                  <a:pt x="489" y="239"/>
                </a:lnTo>
                <a:lnTo>
                  <a:pt x="445" y="250"/>
                </a:lnTo>
                <a:lnTo>
                  <a:pt x="413" y="261"/>
                </a:lnTo>
                <a:lnTo>
                  <a:pt x="369" y="261"/>
                </a:lnTo>
                <a:lnTo>
                  <a:pt x="337" y="272"/>
                </a:lnTo>
                <a:lnTo>
                  <a:pt x="315" y="272"/>
                </a:lnTo>
                <a:lnTo>
                  <a:pt x="282" y="283"/>
                </a:lnTo>
                <a:lnTo>
                  <a:pt x="261" y="283"/>
                </a:lnTo>
                <a:lnTo>
                  <a:pt x="239" y="283"/>
                </a:lnTo>
                <a:lnTo>
                  <a:pt x="217" y="283"/>
                </a:lnTo>
                <a:lnTo>
                  <a:pt x="206" y="283"/>
                </a:lnTo>
                <a:lnTo>
                  <a:pt x="184" y="283"/>
                </a:lnTo>
                <a:lnTo>
                  <a:pt x="174" y="283"/>
                </a:lnTo>
                <a:lnTo>
                  <a:pt x="141" y="283"/>
                </a:lnTo>
                <a:lnTo>
                  <a:pt x="108" y="272"/>
                </a:lnTo>
                <a:lnTo>
                  <a:pt x="76" y="272"/>
                </a:lnTo>
                <a:lnTo>
                  <a:pt x="43" y="261"/>
                </a:lnTo>
                <a:lnTo>
                  <a:pt x="21" y="250"/>
                </a:lnTo>
                <a:lnTo>
                  <a:pt x="11" y="239"/>
                </a:lnTo>
                <a:lnTo>
                  <a:pt x="0" y="228"/>
                </a:lnTo>
                <a:lnTo>
                  <a:pt x="0" y="217"/>
                </a:lnTo>
                <a:lnTo>
                  <a:pt x="0" y="206"/>
                </a:lnTo>
                <a:lnTo>
                  <a:pt x="11" y="206"/>
                </a:lnTo>
                <a:lnTo>
                  <a:pt x="21" y="196"/>
                </a:lnTo>
                <a:lnTo>
                  <a:pt x="43" y="196"/>
                </a:lnTo>
                <a:lnTo>
                  <a:pt x="65" y="185"/>
                </a:lnTo>
                <a:lnTo>
                  <a:pt x="97" y="174"/>
                </a:lnTo>
                <a:lnTo>
                  <a:pt x="130" y="163"/>
                </a:lnTo>
                <a:lnTo>
                  <a:pt x="174" y="163"/>
                </a:lnTo>
                <a:lnTo>
                  <a:pt x="228" y="152"/>
                </a:lnTo>
                <a:lnTo>
                  <a:pt x="271" y="141"/>
                </a:lnTo>
                <a:lnTo>
                  <a:pt x="326" y="130"/>
                </a:lnTo>
                <a:lnTo>
                  <a:pt x="380" y="119"/>
                </a:lnTo>
                <a:lnTo>
                  <a:pt x="445" y="98"/>
                </a:lnTo>
                <a:lnTo>
                  <a:pt x="511" y="87"/>
                </a:lnTo>
                <a:lnTo>
                  <a:pt x="576" y="65"/>
                </a:lnTo>
                <a:lnTo>
                  <a:pt x="652" y="43"/>
                </a:lnTo>
                <a:lnTo>
                  <a:pt x="717" y="32"/>
                </a:lnTo>
                <a:lnTo>
                  <a:pt x="772" y="21"/>
                </a:lnTo>
                <a:lnTo>
                  <a:pt x="826" y="11"/>
                </a:lnTo>
                <a:lnTo>
                  <a:pt x="880" y="0"/>
                </a:lnTo>
                <a:lnTo>
                  <a:pt x="924" y="0"/>
                </a:lnTo>
                <a:lnTo>
                  <a:pt x="956" y="0"/>
                </a:lnTo>
                <a:lnTo>
                  <a:pt x="989" y="0"/>
                </a:lnTo>
                <a:lnTo>
                  <a:pt x="1011" y="11"/>
                </a:lnTo>
                <a:lnTo>
                  <a:pt x="1032" y="21"/>
                </a:lnTo>
                <a:lnTo>
                  <a:pt x="1043" y="32"/>
                </a:lnTo>
                <a:lnTo>
                  <a:pt x="1065" y="43"/>
                </a:lnTo>
                <a:lnTo>
                  <a:pt x="1065" y="54"/>
                </a:lnTo>
                <a:lnTo>
                  <a:pt x="1076" y="65"/>
                </a:lnTo>
                <a:lnTo>
                  <a:pt x="1087" y="65"/>
                </a:lnTo>
                <a:lnTo>
                  <a:pt x="1087" y="76"/>
                </a:lnTo>
                <a:lnTo>
                  <a:pt x="1087" y="87"/>
                </a:lnTo>
                <a:lnTo>
                  <a:pt x="1076" y="87"/>
                </a:lnTo>
                <a:lnTo>
                  <a:pt x="1065" y="98"/>
                </a:lnTo>
                <a:lnTo>
                  <a:pt x="1054" y="98"/>
                </a:lnTo>
                <a:lnTo>
                  <a:pt x="1043" y="108"/>
                </a:lnTo>
                <a:lnTo>
                  <a:pt x="1022" y="108"/>
                </a:lnTo>
                <a:lnTo>
                  <a:pt x="1000" y="119"/>
                </a:lnTo>
                <a:lnTo>
                  <a:pt x="978" y="130"/>
                </a:lnTo>
                <a:lnTo>
                  <a:pt x="956" y="141"/>
                </a:lnTo>
                <a:lnTo>
                  <a:pt x="924" y="141"/>
                </a:lnTo>
                <a:lnTo>
                  <a:pt x="891" y="152"/>
                </a:lnTo>
                <a:lnTo>
                  <a:pt x="848" y="163"/>
                </a:lnTo>
                <a:lnTo>
                  <a:pt x="815" y="174"/>
                </a:lnTo>
                <a:lnTo>
                  <a:pt x="772" y="185"/>
                </a:lnTo>
                <a:lnTo>
                  <a:pt x="717" y="196"/>
                </a:lnTo>
                <a:lnTo>
                  <a:pt x="674" y="20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Freeform 34"/>
          <p:cNvSpPr/>
          <p:nvPr/>
        </p:nvSpPr>
        <p:spPr>
          <a:xfrm>
            <a:off x="6380280" y="2876400"/>
            <a:ext cx="896400" cy="425160"/>
          </a:xfrm>
          <a:custGeom>
            <a:avLst/>
            <a:gdLst>
              <a:gd name="textAreaLeft" fmla="*/ 0 w 896400"/>
              <a:gd name="textAreaRight" fmla="*/ 896760 w 8964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1413" h="501">
                <a:moveTo>
                  <a:pt x="1087" y="22"/>
                </a:moveTo>
                <a:lnTo>
                  <a:pt x="1120" y="0"/>
                </a:lnTo>
                <a:lnTo>
                  <a:pt x="1141" y="0"/>
                </a:lnTo>
                <a:lnTo>
                  <a:pt x="1152" y="0"/>
                </a:lnTo>
                <a:lnTo>
                  <a:pt x="1163" y="0"/>
                </a:lnTo>
                <a:lnTo>
                  <a:pt x="1174" y="0"/>
                </a:lnTo>
                <a:lnTo>
                  <a:pt x="1196" y="0"/>
                </a:lnTo>
                <a:lnTo>
                  <a:pt x="1207" y="11"/>
                </a:lnTo>
                <a:lnTo>
                  <a:pt x="1228" y="22"/>
                </a:lnTo>
                <a:lnTo>
                  <a:pt x="1250" y="33"/>
                </a:lnTo>
                <a:lnTo>
                  <a:pt x="1304" y="65"/>
                </a:lnTo>
                <a:lnTo>
                  <a:pt x="1337" y="87"/>
                </a:lnTo>
                <a:lnTo>
                  <a:pt x="1359" y="98"/>
                </a:lnTo>
                <a:lnTo>
                  <a:pt x="1370" y="120"/>
                </a:lnTo>
                <a:lnTo>
                  <a:pt x="1391" y="131"/>
                </a:lnTo>
                <a:lnTo>
                  <a:pt x="1402" y="141"/>
                </a:lnTo>
                <a:lnTo>
                  <a:pt x="1413" y="152"/>
                </a:lnTo>
                <a:lnTo>
                  <a:pt x="1413" y="163"/>
                </a:lnTo>
                <a:lnTo>
                  <a:pt x="1413" y="174"/>
                </a:lnTo>
                <a:lnTo>
                  <a:pt x="1413" y="196"/>
                </a:lnTo>
                <a:lnTo>
                  <a:pt x="1402" y="207"/>
                </a:lnTo>
                <a:lnTo>
                  <a:pt x="1380" y="207"/>
                </a:lnTo>
                <a:lnTo>
                  <a:pt x="1359" y="207"/>
                </a:lnTo>
                <a:lnTo>
                  <a:pt x="1348" y="218"/>
                </a:lnTo>
                <a:lnTo>
                  <a:pt x="1326" y="228"/>
                </a:lnTo>
                <a:lnTo>
                  <a:pt x="1304" y="261"/>
                </a:lnTo>
                <a:lnTo>
                  <a:pt x="1272" y="294"/>
                </a:lnTo>
                <a:lnTo>
                  <a:pt x="1239" y="326"/>
                </a:lnTo>
                <a:lnTo>
                  <a:pt x="1196" y="381"/>
                </a:lnTo>
                <a:lnTo>
                  <a:pt x="1174" y="403"/>
                </a:lnTo>
                <a:lnTo>
                  <a:pt x="1152" y="435"/>
                </a:lnTo>
                <a:lnTo>
                  <a:pt x="1120" y="468"/>
                </a:lnTo>
                <a:lnTo>
                  <a:pt x="1098" y="501"/>
                </a:lnTo>
                <a:lnTo>
                  <a:pt x="1076" y="490"/>
                </a:lnTo>
                <a:lnTo>
                  <a:pt x="1054" y="479"/>
                </a:lnTo>
                <a:lnTo>
                  <a:pt x="1033" y="479"/>
                </a:lnTo>
                <a:lnTo>
                  <a:pt x="1011" y="479"/>
                </a:lnTo>
                <a:lnTo>
                  <a:pt x="1011" y="468"/>
                </a:lnTo>
                <a:lnTo>
                  <a:pt x="1000" y="479"/>
                </a:lnTo>
                <a:lnTo>
                  <a:pt x="1000" y="490"/>
                </a:lnTo>
                <a:lnTo>
                  <a:pt x="1011" y="457"/>
                </a:lnTo>
                <a:lnTo>
                  <a:pt x="1022" y="413"/>
                </a:lnTo>
                <a:lnTo>
                  <a:pt x="1043" y="381"/>
                </a:lnTo>
                <a:lnTo>
                  <a:pt x="1054" y="348"/>
                </a:lnTo>
                <a:lnTo>
                  <a:pt x="1065" y="326"/>
                </a:lnTo>
                <a:lnTo>
                  <a:pt x="1065" y="294"/>
                </a:lnTo>
                <a:lnTo>
                  <a:pt x="1076" y="272"/>
                </a:lnTo>
                <a:lnTo>
                  <a:pt x="1087" y="250"/>
                </a:lnTo>
                <a:lnTo>
                  <a:pt x="1098" y="228"/>
                </a:lnTo>
                <a:lnTo>
                  <a:pt x="1098" y="207"/>
                </a:lnTo>
                <a:lnTo>
                  <a:pt x="1109" y="196"/>
                </a:lnTo>
                <a:lnTo>
                  <a:pt x="1109" y="185"/>
                </a:lnTo>
                <a:lnTo>
                  <a:pt x="1109" y="174"/>
                </a:lnTo>
                <a:lnTo>
                  <a:pt x="1109" y="163"/>
                </a:lnTo>
                <a:lnTo>
                  <a:pt x="1109" y="152"/>
                </a:lnTo>
                <a:lnTo>
                  <a:pt x="1098" y="141"/>
                </a:lnTo>
                <a:lnTo>
                  <a:pt x="1087" y="141"/>
                </a:lnTo>
                <a:lnTo>
                  <a:pt x="1076" y="141"/>
                </a:lnTo>
                <a:lnTo>
                  <a:pt x="1065" y="141"/>
                </a:lnTo>
                <a:lnTo>
                  <a:pt x="1054" y="141"/>
                </a:lnTo>
                <a:lnTo>
                  <a:pt x="1043" y="141"/>
                </a:lnTo>
                <a:lnTo>
                  <a:pt x="1022" y="141"/>
                </a:lnTo>
                <a:lnTo>
                  <a:pt x="1011" y="152"/>
                </a:lnTo>
                <a:lnTo>
                  <a:pt x="989" y="152"/>
                </a:lnTo>
                <a:lnTo>
                  <a:pt x="957" y="152"/>
                </a:lnTo>
                <a:lnTo>
                  <a:pt x="935" y="163"/>
                </a:lnTo>
                <a:lnTo>
                  <a:pt x="902" y="163"/>
                </a:lnTo>
                <a:lnTo>
                  <a:pt x="870" y="163"/>
                </a:lnTo>
                <a:lnTo>
                  <a:pt x="837" y="174"/>
                </a:lnTo>
                <a:lnTo>
                  <a:pt x="793" y="185"/>
                </a:lnTo>
                <a:lnTo>
                  <a:pt x="761" y="185"/>
                </a:lnTo>
                <a:lnTo>
                  <a:pt x="717" y="196"/>
                </a:lnTo>
                <a:lnTo>
                  <a:pt x="663" y="207"/>
                </a:lnTo>
                <a:lnTo>
                  <a:pt x="619" y="207"/>
                </a:lnTo>
                <a:lnTo>
                  <a:pt x="511" y="228"/>
                </a:lnTo>
                <a:lnTo>
                  <a:pt x="413" y="239"/>
                </a:lnTo>
                <a:lnTo>
                  <a:pt x="326" y="250"/>
                </a:lnTo>
                <a:lnTo>
                  <a:pt x="250" y="261"/>
                </a:lnTo>
                <a:lnTo>
                  <a:pt x="185" y="272"/>
                </a:lnTo>
                <a:lnTo>
                  <a:pt x="119" y="272"/>
                </a:lnTo>
                <a:lnTo>
                  <a:pt x="65" y="272"/>
                </a:lnTo>
                <a:lnTo>
                  <a:pt x="11" y="283"/>
                </a:lnTo>
                <a:lnTo>
                  <a:pt x="0" y="196"/>
                </a:lnTo>
                <a:lnTo>
                  <a:pt x="217" y="185"/>
                </a:lnTo>
                <a:lnTo>
                  <a:pt x="326" y="163"/>
                </a:lnTo>
                <a:lnTo>
                  <a:pt x="424" y="152"/>
                </a:lnTo>
                <a:lnTo>
                  <a:pt x="641" y="120"/>
                </a:lnTo>
                <a:lnTo>
                  <a:pt x="750" y="98"/>
                </a:lnTo>
                <a:lnTo>
                  <a:pt x="859" y="76"/>
                </a:lnTo>
                <a:lnTo>
                  <a:pt x="902" y="65"/>
                </a:lnTo>
                <a:lnTo>
                  <a:pt x="957" y="54"/>
                </a:lnTo>
                <a:lnTo>
                  <a:pt x="989" y="43"/>
                </a:lnTo>
                <a:lnTo>
                  <a:pt x="1022" y="33"/>
                </a:lnTo>
                <a:lnTo>
                  <a:pt x="1043" y="33"/>
                </a:lnTo>
                <a:lnTo>
                  <a:pt x="1065" y="22"/>
                </a:lnTo>
                <a:lnTo>
                  <a:pt x="1076" y="22"/>
                </a:lnTo>
                <a:lnTo>
                  <a:pt x="1087" y="2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1" name="Freeform 30"/>
          <p:cNvSpPr/>
          <p:nvPr/>
        </p:nvSpPr>
        <p:spPr>
          <a:xfrm>
            <a:off x="6442200" y="3263760"/>
            <a:ext cx="690120" cy="183960"/>
          </a:xfrm>
          <a:custGeom>
            <a:avLst/>
            <a:gdLst>
              <a:gd name="textAreaLeft" fmla="*/ 0 w 690120"/>
              <a:gd name="textAreaRight" fmla="*/ 690480 w 6901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087" h="218">
                <a:moveTo>
                  <a:pt x="0" y="131"/>
                </a:moveTo>
                <a:lnTo>
                  <a:pt x="21" y="120"/>
                </a:lnTo>
                <a:lnTo>
                  <a:pt x="32" y="120"/>
                </a:lnTo>
                <a:lnTo>
                  <a:pt x="54" y="120"/>
                </a:lnTo>
                <a:lnTo>
                  <a:pt x="87" y="120"/>
                </a:lnTo>
                <a:lnTo>
                  <a:pt x="108" y="109"/>
                </a:lnTo>
                <a:lnTo>
                  <a:pt x="141" y="109"/>
                </a:lnTo>
                <a:lnTo>
                  <a:pt x="174" y="98"/>
                </a:lnTo>
                <a:lnTo>
                  <a:pt x="206" y="98"/>
                </a:lnTo>
                <a:lnTo>
                  <a:pt x="250" y="87"/>
                </a:lnTo>
                <a:lnTo>
                  <a:pt x="293" y="87"/>
                </a:lnTo>
                <a:lnTo>
                  <a:pt x="337" y="76"/>
                </a:lnTo>
                <a:lnTo>
                  <a:pt x="380" y="65"/>
                </a:lnTo>
                <a:lnTo>
                  <a:pt x="435" y="65"/>
                </a:lnTo>
                <a:lnTo>
                  <a:pt x="489" y="54"/>
                </a:lnTo>
                <a:lnTo>
                  <a:pt x="543" y="44"/>
                </a:lnTo>
                <a:lnTo>
                  <a:pt x="608" y="33"/>
                </a:lnTo>
                <a:lnTo>
                  <a:pt x="663" y="33"/>
                </a:lnTo>
                <a:lnTo>
                  <a:pt x="717" y="22"/>
                </a:lnTo>
                <a:lnTo>
                  <a:pt x="772" y="11"/>
                </a:lnTo>
                <a:lnTo>
                  <a:pt x="815" y="11"/>
                </a:lnTo>
                <a:lnTo>
                  <a:pt x="859" y="11"/>
                </a:lnTo>
                <a:lnTo>
                  <a:pt x="902" y="0"/>
                </a:lnTo>
                <a:lnTo>
                  <a:pt x="935" y="0"/>
                </a:lnTo>
                <a:lnTo>
                  <a:pt x="967" y="0"/>
                </a:lnTo>
                <a:lnTo>
                  <a:pt x="1000" y="0"/>
                </a:lnTo>
                <a:lnTo>
                  <a:pt x="1022" y="0"/>
                </a:lnTo>
                <a:lnTo>
                  <a:pt x="1043" y="0"/>
                </a:lnTo>
                <a:lnTo>
                  <a:pt x="1054" y="11"/>
                </a:lnTo>
                <a:lnTo>
                  <a:pt x="1076" y="11"/>
                </a:lnTo>
                <a:lnTo>
                  <a:pt x="1087" y="22"/>
                </a:lnTo>
                <a:lnTo>
                  <a:pt x="1087" y="44"/>
                </a:lnTo>
                <a:lnTo>
                  <a:pt x="1087" y="54"/>
                </a:lnTo>
                <a:lnTo>
                  <a:pt x="1076" y="65"/>
                </a:lnTo>
                <a:lnTo>
                  <a:pt x="1065" y="76"/>
                </a:lnTo>
                <a:lnTo>
                  <a:pt x="1065" y="87"/>
                </a:lnTo>
                <a:lnTo>
                  <a:pt x="1043" y="87"/>
                </a:lnTo>
                <a:lnTo>
                  <a:pt x="1032" y="87"/>
                </a:lnTo>
                <a:lnTo>
                  <a:pt x="1011" y="98"/>
                </a:lnTo>
                <a:lnTo>
                  <a:pt x="989" y="98"/>
                </a:lnTo>
                <a:lnTo>
                  <a:pt x="967" y="98"/>
                </a:lnTo>
                <a:lnTo>
                  <a:pt x="935" y="98"/>
                </a:lnTo>
                <a:lnTo>
                  <a:pt x="891" y="98"/>
                </a:lnTo>
                <a:lnTo>
                  <a:pt x="859" y="109"/>
                </a:lnTo>
                <a:lnTo>
                  <a:pt x="815" y="109"/>
                </a:lnTo>
                <a:lnTo>
                  <a:pt x="772" y="109"/>
                </a:lnTo>
                <a:lnTo>
                  <a:pt x="717" y="120"/>
                </a:lnTo>
                <a:lnTo>
                  <a:pt x="663" y="120"/>
                </a:lnTo>
                <a:lnTo>
                  <a:pt x="587" y="131"/>
                </a:lnTo>
                <a:lnTo>
                  <a:pt x="521" y="141"/>
                </a:lnTo>
                <a:lnTo>
                  <a:pt x="435" y="163"/>
                </a:lnTo>
                <a:lnTo>
                  <a:pt x="348" y="174"/>
                </a:lnTo>
                <a:lnTo>
                  <a:pt x="250" y="185"/>
                </a:lnTo>
                <a:lnTo>
                  <a:pt x="141" y="196"/>
                </a:lnTo>
                <a:lnTo>
                  <a:pt x="21" y="218"/>
                </a:lnTo>
                <a:lnTo>
                  <a:pt x="0" y="13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Freeform 28"/>
          <p:cNvSpPr/>
          <p:nvPr/>
        </p:nvSpPr>
        <p:spPr>
          <a:xfrm>
            <a:off x="6656400" y="2175840"/>
            <a:ext cx="171000" cy="2332080"/>
          </a:xfrm>
          <a:custGeom>
            <a:avLst/>
            <a:gdLst>
              <a:gd name="textAreaLeft" fmla="*/ 0 w 171000"/>
              <a:gd name="textAreaRight" fmla="*/ 171360 w 171000"/>
              <a:gd name="textAreaTop" fmla="*/ 0 h 2332080"/>
              <a:gd name="textAreaBottom" fmla="*/ 2332440 h 2332080"/>
            </a:gdLst>
            <a:ahLst/>
            <a:rect l="textAreaLeft" t="textAreaTop" r="textAreaRight" b="textAreaBottom"/>
            <a:pathLst>
              <a:path w="271" h="2753">
                <a:moveTo>
                  <a:pt x="0" y="22"/>
                </a:moveTo>
                <a:lnTo>
                  <a:pt x="11" y="11"/>
                </a:lnTo>
                <a:lnTo>
                  <a:pt x="21" y="0"/>
                </a:lnTo>
                <a:lnTo>
                  <a:pt x="32" y="0"/>
                </a:lnTo>
                <a:lnTo>
                  <a:pt x="43" y="0"/>
                </a:lnTo>
                <a:lnTo>
                  <a:pt x="65" y="0"/>
                </a:lnTo>
                <a:lnTo>
                  <a:pt x="87" y="0"/>
                </a:lnTo>
                <a:lnTo>
                  <a:pt x="108" y="0"/>
                </a:lnTo>
                <a:lnTo>
                  <a:pt x="141" y="11"/>
                </a:lnTo>
                <a:lnTo>
                  <a:pt x="163" y="11"/>
                </a:lnTo>
                <a:lnTo>
                  <a:pt x="184" y="22"/>
                </a:lnTo>
                <a:lnTo>
                  <a:pt x="206" y="33"/>
                </a:lnTo>
                <a:lnTo>
                  <a:pt x="228" y="43"/>
                </a:lnTo>
                <a:lnTo>
                  <a:pt x="239" y="43"/>
                </a:lnTo>
                <a:lnTo>
                  <a:pt x="250" y="54"/>
                </a:lnTo>
                <a:lnTo>
                  <a:pt x="261" y="54"/>
                </a:lnTo>
                <a:lnTo>
                  <a:pt x="271" y="65"/>
                </a:lnTo>
                <a:lnTo>
                  <a:pt x="271" y="76"/>
                </a:lnTo>
                <a:lnTo>
                  <a:pt x="271" y="98"/>
                </a:lnTo>
                <a:lnTo>
                  <a:pt x="271" y="109"/>
                </a:lnTo>
                <a:lnTo>
                  <a:pt x="271" y="130"/>
                </a:lnTo>
                <a:lnTo>
                  <a:pt x="261" y="152"/>
                </a:lnTo>
                <a:lnTo>
                  <a:pt x="250" y="185"/>
                </a:lnTo>
                <a:lnTo>
                  <a:pt x="239" y="218"/>
                </a:lnTo>
                <a:lnTo>
                  <a:pt x="239" y="250"/>
                </a:lnTo>
                <a:lnTo>
                  <a:pt x="239" y="272"/>
                </a:lnTo>
                <a:lnTo>
                  <a:pt x="228" y="294"/>
                </a:lnTo>
                <a:lnTo>
                  <a:pt x="228" y="326"/>
                </a:lnTo>
                <a:lnTo>
                  <a:pt x="228" y="370"/>
                </a:lnTo>
                <a:lnTo>
                  <a:pt x="228" y="413"/>
                </a:lnTo>
                <a:lnTo>
                  <a:pt x="228" y="479"/>
                </a:lnTo>
                <a:lnTo>
                  <a:pt x="228" y="544"/>
                </a:lnTo>
                <a:lnTo>
                  <a:pt x="228" y="620"/>
                </a:lnTo>
                <a:lnTo>
                  <a:pt x="228" y="707"/>
                </a:lnTo>
                <a:lnTo>
                  <a:pt x="228" y="794"/>
                </a:lnTo>
                <a:lnTo>
                  <a:pt x="228" y="903"/>
                </a:lnTo>
                <a:lnTo>
                  <a:pt x="228" y="1012"/>
                </a:lnTo>
                <a:lnTo>
                  <a:pt x="228" y="1132"/>
                </a:lnTo>
                <a:lnTo>
                  <a:pt x="228" y="1262"/>
                </a:lnTo>
                <a:lnTo>
                  <a:pt x="228" y="1404"/>
                </a:lnTo>
                <a:lnTo>
                  <a:pt x="228" y="1545"/>
                </a:lnTo>
                <a:lnTo>
                  <a:pt x="228" y="1621"/>
                </a:lnTo>
                <a:lnTo>
                  <a:pt x="228" y="1698"/>
                </a:lnTo>
                <a:lnTo>
                  <a:pt x="228" y="1763"/>
                </a:lnTo>
                <a:lnTo>
                  <a:pt x="228" y="1828"/>
                </a:lnTo>
                <a:lnTo>
                  <a:pt x="228" y="1893"/>
                </a:lnTo>
                <a:lnTo>
                  <a:pt x="228" y="1959"/>
                </a:lnTo>
                <a:lnTo>
                  <a:pt x="228" y="2013"/>
                </a:lnTo>
                <a:lnTo>
                  <a:pt x="217" y="2078"/>
                </a:lnTo>
                <a:lnTo>
                  <a:pt x="217" y="2133"/>
                </a:lnTo>
                <a:lnTo>
                  <a:pt x="217" y="2187"/>
                </a:lnTo>
                <a:lnTo>
                  <a:pt x="217" y="2231"/>
                </a:lnTo>
                <a:lnTo>
                  <a:pt x="217" y="2285"/>
                </a:lnTo>
                <a:lnTo>
                  <a:pt x="217" y="2329"/>
                </a:lnTo>
                <a:lnTo>
                  <a:pt x="217" y="2372"/>
                </a:lnTo>
                <a:lnTo>
                  <a:pt x="217" y="2416"/>
                </a:lnTo>
                <a:lnTo>
                  <a:pt x="217" y="2448"/>
                </a:lnTo>
                <a:lnTo>
                  <a:pt x="217" y="2481"/>
                </a:lnTo>
                <a:lnTo>
                  <a:pt x="217" y="2525"/>
                </a:lnTo>
                <a:lnTo>
                  <a:pt x="217" y="2546"/>
                </a:lnTo>
                <a:lnTo>
                  <a:pt x="206" y="2579"/>
                </a:lnTo>
                <a:lnTo>
                  <a:pt x="206" y="2612"/>
                </a:lnTo>
                <a:lnTo>
                  <a:pt x="206" y="2633"/>
                </a:lnTo>
                <a:lnTo>
                  <a:pt x="206" y="2655"/>
                </a:lnTo>
                <a:lnTo>
                  <a:pt x="206" y="2677"/>
                </a:lnTo>
                <a:lnTo>
                  <a:pt x="206" y="2688"/>
                </a:lnTo>
                <a:lnTo>
                  <a:pt x="206" y="2710"/>
                </a:lnTo>
                <a:lnTo>
                  <a:pt x="206" y="2720"/>
                </a:lnTo>
                <a:lnTo>
                  <a:pt x="195" y="2731"/>
                </a:lnTo>
                <a:lnTo>
                  <a:pt x="195" y="2742"/>
                </a:lnTo>
                <a:lnTo>
                  <a:pt x="195" y="2753"/>
                </a:lnTo>
                <a:lnTo>
                  <a:pt x="184" y="2742"/>
                </a:lnTo>
                <a:lnTo>
                  <a:pt x="174" y="2731"/>
                </a:lnTo>
                <a:lnTo>
                  <a:pt x="163" y="2720"/>
                </a:lnTo>
                <a:lnTo>
                  <a:pt x="152" y="2710"/>
                </a:lnTo>
                <a:lnTo>
                  <a:pt x="141" y="2688"/>
                </a:lnTo>
                <a:lnTo>
                  <a:pt x="130" y="2666"/>
                </a:lnTo>
                <a:lnTo>
                  <a:pt x="119" y="2633"/>
                </a:lnTo>
                <a:lnTo>
                  <a:pt x="108" y="2601"/>
                </a:lnTo>
                <a:lnTo>
                  <a:pt x="87" y="2535"/>
                </a:lnTo>
                <a:lnTo>
                  <a:pt x="76" y="2492"/>
                </a:lnTo>
                <a:lnTo>
                  <a:pt x="76" y="2459"/>
                </a:lnTo>
                <a:lnTo>
                  <a:pt x="76" y="2416"/>
                </a:lnTo>
                <a:lnTo>
                  <a:pt x="76" y="2383"/>
                </a:lnTo>
                <a:lnTo>
                  <a:pt x="76" y="2340"/>
                </a:lnTo>
                <a:lnTo>
                  <a:pt x="87" y="2307"/>
                </a:lnTo>
                <a:lnTo>
                  <a:pt x="87" y="2285"/>
                </a:lnTo>
                <a:lnTo>
                  <a:pt x="87" y="2253"/>
                </a:lnTo>
                <a:lnTo>
                  <a:pt x="87" y="2220"/>
                </a:lnTo>
                <a:lnTo>
                  <a:pt x="87" y="2187"/>
                </a:lnTo>
                <a:lnTo>
                  <a:pt x="87" y="2144"/>
                </a:lnTo>
                <a:lnTo>
                  <a:pt x="98" y="2089"/>
                </a:lnTo>
                <a:lnTo>
                  <a:pt x="98" y="2035"/>
                </a:lnTo>
                <a:lnTo>
                  <a:pt x="98" y="1970"/>
                </a:lnTo>
                <a:lnTo>
                  <a:pt x="98" y="1904"/>
                </a:lnTo>
                <a:lnTo>
                  <a:pt x="98" y="1828"/>
                </a:lnTo>
                <a:lnTo>
                  <a:pt x="98" y="1752"/>
                </a:lnTo>
                <a:lnTo>
                  <a:pt x="98" y="1676"/>
                </a:lnTo>
                <a:lnTo>
                  <a:pt x="98" y="1578"/>
                </a:lnTo>
                <a:lnTo>
                  <a:pt x="108" y="1480"/>
                </a:lnTo>
                <a:lnTo>
                  <a:pt x="108" y="1382"/>
                </a:lnTo>
                <a:lnTo>
                  <a:pt x="108" y="1273"/>
                </a:lnTo>
                <a:lnTo>
                  <a:pt x="108" y="1164"/>
                </a:lnTo>
                <a:lnTo>
                  <a:pt x="108" y="1066"/>
                </a:lnTo>
                <a:lnTo>
                  <a:pt x="108" y="979"/>
                </a:lnTo>
                <a:lnTo>
                  <a:pt x="108" y="881"/>
                </a:lnTo>
                <a:lnTo>
                  <a:pt x="108" y="805"/>
                </a:lnTo>
                <a:lnTo>
                  <a:pt x="108" y="718"/>
                </a:lnTo>
                <a:lnTo>
                  <a:pt x="98" y="653"/>
                </a:lnTo>
                <a:lnTo>
                  <a:pt x="98" y="577"/>
                </a:lnTo>
                <a:lnTo>
                  <a:pt x="98" y="522"/>
                </a:lnTo>
                <a:lnTo>
                  <a:pt x="98" y="468"/>
                </a:lnTo>
                <a:lnTo>
                  <a:pt x="98" y="413"/>
                </a:lnTo>
                <a:lnTo>
                  <a:pt x="98" y="370"/>
                </a:lnTo>
                <a:lnTo>
                  <a:pt x="98" y="326"/>
                </a:lnTo>
                <a:lnTo>
                  <a:pt x="98" y="294"/>
                </a:lnTo>
                <a:lnTo>
                  <a:pt x="98" y="261"/>
                </a:lnTo>
                <a:lnTo>
                  <a:pt x="98" y="239"/>
                </a:lnTo>
                <a:lnTo>
                  <a:pt x="87" y="207"/>
                </a:lnTo>
                <a:lnTo>
                  <a:pt x="87" y="174"/>
                </a:lnTo>
                <a:lnTo>
                  <a:pt x="76" y="152"/>
                </a:lnTo>
                <a:lnTo>
                  <a:pt x="65" y="120"/>
                </a:lnTo>
                <a:lnTo>
                  <a:pt x="65" y="109"/>
                </a:lnTo>
                <a:lnTo>
                  <a:pt x="54" y="87"/>
                </a:lnTo>
                <a:lnTo>
                  <a:pt x="43" y="76"/>
                </a:lnTo>
                <a:lnTo>
                  <a:pt x="21" y="65"/>
                </a:lnTo>
                <a:lnTo>
                  <a:pt x="11" y="54"/>
                </a:lnTo>
                <a:lnTo>
                  <a:pt x="11" y="33"/>
                </a:lnTo>
                <a:lnTo>
                  <a:pt x="0" y="2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Freeform 31"/>
          <p:cNvSpPr/>
          <p:nvPr/>
        </p:nvSpPr>
        <p:spPr>
          <a:xfrm>
            <a:off x="6006960" y="3365640"/>
            <a:ext cx="752040" cy="884520"/>
          </a:xfrm>
          <a:custGeom>
            <a:avLst/>
            <a:gdLst>
              <a:gd name="textAreaLeft" fmla="*/ 0 w 752040"/>
              <a:gd name="textAreaRight" fmla="*/ 752400 w 75204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1185" h="1044">
                <a:moveTo>
                  <a:pt x="0" y="1034"/>
                </a:moveTo>
                <a:lnTo>
                  <a:pt x="0" y="1034"/>
                </a:lnTo>
                <a:lnTo>
                  <a:pt x="0" y="1012"/>
                </a:lnTo>
                <a:lnTo>
                  <a:pt x="11" y="1001"/>
                </a:lnTo>
                <a:lnTo>
                  <a:pt x="32" y="990"/>
                </a:lnTo>
                <a:lnTo>
                  <a:pt x="54" y="968"/>
                </a:lnTo>
                <a:lnTo>
                  <a:pt x="76" y="946"/>
                </a:lnTo>
                <a:lnTo>
                  <a:pt x="108" y="925"/>
                </a:lnTo>
                <a:lnTo>
                  <a:pt x="152" y="903"/>
                </a:lnTo>
                <a:lnTo>
                  <a:pt x="185" y="870"/>
                </a:lnTo>
                <a:lnTo>
                  <a:pt x="228" y="849"/>
                </a:lnTo>
                <a:lnTo>
                  <a:pt x="282" y="816"/>
                </a:lnTo>
                <a:lnTo>
                  <a:pt x="326" y="772"/>
                </a:lnTo>
                <a:lnTo>
                  <a:pt x="380" y="729"/>
                </a:lnTo>
                <a:lnTo>
                  <a:pt x="445" y="685"/>
                </a:lnTo>
                <a:lnTo>
                  <a:pt x="500" y="642"/>
                </a:lnTo>
                <a:lnTo>
                  <a:pt x="565" y="587"/>
                </a:lnTo>
                <a:lnTo>
                  <a:pt x="630" y="533"/>
                </a:lnTo>
                <a:lnTo>
                  <a:pt x="696" y="468"/>
                </a:lnTo>
                <a:lnTo>
                  <a:pt x="761" y="402"/>
                </a:lnTo>
                <a:lnTo>
                  <a:pt x="815" y="337"/>
                </a:lnTo>
                <a:lnTo>
                  <a:pt x="880" y="261"/>
                </a:lnTo>
                <a:lnTo>
                  <a:pt x="956" y="174"/>
                </a:lnTo>
                <a:lnTo>
                  <a:pt x="1022" y="87"/>
                </a:lnTo>
                <a:lnTo>
                  <a:pt x="1087" y="0"/>
                </a:lnTo>
                <a:lnTo>
                  <a:pt x="1130" y="65"/>
                </a:lnTo>
                <a:lnTo>
                  <a:pt x="1185" y="141"/>
                </a:lnTo>
                <a:lnTo>
                  <a:pt x="1120" y="217"/>
                </a:lnTo>
                <a:lnTo>
                  <a:pt x="1054" y="294"/>
                </a:lnTo>
                <a:lnTo>
                  <a:pt x="989" y="370"/>
                </a:lnTo>
                <a:lnTo>
                  <a:pt x="924" y="435"/>
                </a:lnTo>
                <a:lnTo>
                  <a:pt x="859" y="489"/>
                </a:lnTo>
                <a:lnTo>
                  <a:pt x="804" y="555"/>
                </a:lnTo>
                <a:lnTo>
                  <a:pt x="739" y="609"/>
                </a:lnTo>
                <a:lnTo>
                  <a:pt x="674" y="653"/>
                </a:lnTo>
                <a:lnTo>
                  <a:pt x="619" y="696"/>
                </a:lnTo>
                <a:lnTo>
                  <a:pt x="554" y="740"/>
                </a:lnTo>
                <a:lnTo>
                  <a:pt x="500" y="783"/>
                </a:lnTo>
                <a:lnTo>
                  <a:pt x="435" y="827"/>
                </a:lnTo>
                <a:lnTo>
                  <a:pt x="380" y="859"/>
                </a:lnTo>
                <a:lnTo>
                  <a:pt x="326" y="892"/>
                </a:lnTo>
                <a:lnTo>
                  <a:pt x="272" y="925"/>
                </a:lnTo>
                <a:lnTo>
                  <a:pt x="217" y="946"/>
                </a:lnTo>
                <a:lnTo>
                  <a:pt x="163" y="979"/>
                </a:lnTo>
                <a:lnTo>
                  <a:pt x="119" y="1001"/>
                </a:lnTo>
                <a:lnTo>
                  <a:pt x="87" y="1012"/>
                </a:lnTo>
                <a:lnTo>
                  <a:pt x="54" y="1023"/>
                </a:lnTo>
                <a:lnTo>
                  <a:pt x="32" y="1034"/>
                </a:lnTo>
                <a:lnTo>
                  <a:pt x="11" y="1044"/>
                </a:lnTo>
                <a:lnTo>
                  <a:pt x="0" y="1044"/>
                </a:lnTo>
                <a:lnTo>
                  <a:pt x="0" y="1034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4" name="Freeform 32"/>
          <p:cNvSpPr/>
          <p:nvPr/>
        </p:nvSpPr>
        <p:spPr>
          <a:xfrm>
            <a:off x="6759720" y="3412080"/>
            <a:ext cx="910800" cy="727920"/>
          </a:xfrm>
          <a:custGeom>
            <a:avLst/>
            <a:gdLst>
              <a:gd name="textAreaLeft" fmla="*/ 0 w 910800"/>
              <a:gd name="textAreaRight" fmla="*/ 911160 w 910800"/>
              <a:gd name="textAreaTop" fmla="*/ 0 h 727920"/>
              <a:gd name="textAreaBottom" fmla="*/ 728280 h 727920"/>
            </a:gdLst>
            <a:ahLst/>
            <a:rect l="textAreaLeft" t="textAreaTop" r="textAreaRight" b="textAreaBottom"/>
            <a:pathLst>
              <a:path w="1435" h="860">
                <a:moveTo>
                  <a:pt x="902" y="860"/>
                </a:moveTo>
                <a:lnTo>
                  <a:pt x="859" y="849"/>
                </a:lnTo>
                <a:lnTo>
                  <a:pt x="815" y="827"/>
                </a:lnTo>
                <a:lnTo>
                  <a:pt x="793" y="816"/>
                </a:lnTo>
                <a:lnTo>
                  <a:pt x="772" y="805"/>
                </a:lnTo>
                <a:lnTo>
                  <a:pt x="750" y="784"/>
                </a:lnTo>
                <a:lnTo>
                  <a:pt x="728" y="773"/>
                </a:lnTo>
                <a:lnTo>
                  <a:pt x="717" y="762"/>
                </a:lnTo>
                <a:lnTo>
                  <a:pt x="706" y="740"/>
                </a:lnTo>
                <a:lnTo>
                  <a:pt x="674" y="729"/>
                </a:lnTo>
                <a:lnTo>
                  <a:pt x="652" y="697"/>
                </a:lnTo>
                <a:lnTo>
                  <a:pt x="619" y="675"/>
                </a:lnTo>
                <a:lnTo>
                  <a:pt x="587" y="642"/>
                </a:lnTo>
                <a:lnTo>
                  <a:pt x="543" y="610"/>
                </a:lnTo>
                <a:lnTo>
                  <a:pt x="500" y="566"/>
                </a:lnTo>
                <a:lnTo>
                  <a:pt x="456" y="522"/>
                </a:lnTo>
                <a:lnTo>
                  <a:pt x="402" y="468"/>
                </a:lnTo>
                <a:lnTo>
                  <a:pt x="348" y="425"/>
                </a:lnTo>
                <a:lnTo>
                  <a:pt x="282" y="359"/>
                </a:lnTo>
                <a:lnTo>
                  <a:pt x="217" y="305"/>
                </a:lnTo>
                <a:lnTo>
                  <a:pt x="152" y="240"/>
                </a:lnTo>
                <a:lnTo>
                  <a:pt x="76" y="163"/>
                </a:lnTo>
                <a:lnTo>
                  <a:pt x="0" y="87"/>
                </a:lnTo>
                <a:lnTo>
                  <a:pt x="32" y="0"/>
                </a:lnTo>
                <a:lnTo>
                  <a:pt x="108" y="76"/>
                </a:lnTo>
                <a:lnTo>
                  <a:pt x="185" y="142"/>
                </a:lnTo>
                <a:lnTo>
                  <a:pt x="272" y="207"/>
                </a:lnTo>
                <a:lnTo>
                  <a:pt x="369" y="272"/>
                </a:lnTo>
                <a:lnTo>
                  <a:pt x="467" y="337"/>
                </a:lnTo>
                <a:lnTo>
                  <a:pt x="565" y="392"/>
                </a:lnTo>
                <a:lnTo>
                  <a:pt x="663" y="446"/>
                </a:lnTo>
                <a:lnTo>
                  <a:pt x="772" y="501"/>
                </a:lnTo>
                <a:lnTo>
                  <a:pt x="880" y="544"/>
                </a:lnTo>
                <a:lnTo>
                  <a:pt x="989" y="588"/>
                </a:lnTo>
                <a:lnTo>
                  <a:pt x="1109" y="631"/>
                </a:lnTo>
                <a:lnTo>
                  <a:pt x="1217" y="653"/>
                </a:lnTo>
                <a:lnTo>
                  <a:pt x="1261" y="675"/>
                </a:lnTo>
                <a:lnTo>
                  <a:pt x="1304" y="686"/>
                </a:lnTo>
                <a:lnTo>
                  <a:pt x="1348" y="697"/>
                </a:lnTo>
                <a:lnTo>
                  <a:pt x="1380" y="718"/>
                </a:lnTo>
                <a:lnTo>
                  <a:pt x="1402" y="729"/>
                </a:lnTo>
                <a:lnTo>
                  <a:pt x="1424" y="729"/>
                </a:lnTo>
                <a:lnTo>
                  <a:pt x="1435" y="740"/>
                </a:lnTo>
                <a:lnTo>
                  <a:pt x="1435" y="751"/>
                </a:lnTo>
                <a:lnTo>
                  <a:pt x="1424" y="762"/>
                </a:lnTo>
                <a:lnTo>
                  <a:pt x="1402" y="762"/>
                </a:lnTo>
                <a:lnTo>
                  <a:pt x="1380" y="773"/>
                </a:lnTo>
                <a:lnTo>
                  <a:pt x="1359" y="784"/>
                </a:lnTo>
                <a:lnTo>
                  <a:pt x="1315" y="795"/>
                </a:lnTo>
                <a:lnTo>
                  <a:pt x="1272" y="805"/>
                </a:lnTo>
                <a:lnTo>
                  <a:pt x="1228" y="816"/>
                </a:lnTo>
                <a:lnTo>
                  <a:pt x="1174" y="827"/>
                </a:lnTo>
                <a:lnTo>
                  <a:pt x="1120" y="838"/>
                </a:lnTo>
                <a:lnTo>
                  <a:pt x="1076" y="849"/>
                </a:lnTo>
                <a:lnTo>
                  <a:pt x="1033" y="849"/>
                </a:lnTo>
                <a:lnTo>
                  <a:pt x="1000" y="860"/>
                </a:lnTo>
                <a:lnTo>
                  <a:pt x="967" y="860"/>
                </a:lnTo>
                <a:lnTo>
                  <a:pt x="935" y="860"/>
                </a:lnTo>
                <a:lnTo>
                  <a:pt x="902" y="86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604800" y="2336760"/>
            <a:ext cx="20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束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2"/>
          <p:cNvSpPr/>
          <p:nvPr/>
        </p:nvSpPr>
        <p:spPr>
          <a:xfrm>
            <a:off x="5167440" y="4899960"/>
            <a:ext cx="358740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书写指导：上窄下宽，口字要扁，中竖贯穿上下、要长，下边撇和捺在口下起笔、要舒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4"/>
          <p:cNvSpPr/>
          <p:nvPr/>
        </p:nvSpPr>
        <p:spPr>
          <a:xfrm>
            <a:off x="3077280" y="255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4"/>
          <p:cNvSpPr/>
          <p:nvPr/>
        </p:nvSpPr>
        <p:spPr>
          <a:xfrm>
            <a:off x="2700360" y="1585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h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5"/>
          <p:cNvSpPr/>
          <p:nvPr/>
        </p:nvSpPr>
        <p:spPr>
          <a:xfrm>
            <a:off x="716040" y="4008960"/>
            <a:ext cx="23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独体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6"/>
          <p:cNvSpPr/>
          <p:nvPr/>
        </p:nvSpPr>
        <p:spPr>
          <a:xfrm>
            <a:off x="716040" y="496764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束缚   束手束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9"/>
          <p:cNvSpPr/>
          <p:nvPr/>
        </p:nvSpPr>
        <p:spPr>
          <a:xfrm>
            <a:off x="716040" y="5473800"/>
            <a:ext cx="43304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黑夜里，汽车照在马路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一束光柱特别耀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0"/>
          <p:cNvSpPr/>
          <p:nvPr/>
        </p:nvSpPr>
        <p:spPr>
          <a:xfrm>
            <a:off x="716040" y="4464000"/>
            <a:ext cx="290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404" name="圆角矩形 32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406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972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407" name="Picture 2" descr=""/>
          <p:cNvPicPr/>
          <p:nvPr/>
        </p:nvPicPr>
        <p:blipFill>
          <a:blip r:embed="rId3"/>
          <a:stretch/>
        </p:blipFill>
        <p:spPr>
          <a:xfrm>
            <a:off x="6369120" y="6335280"/>
            <a:ext cx="271908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Group 47"/>
          <p:cNvGraphicFramePr/>
          <p:nvPr/>
        </p:nvGraphicFramePr>
        <p:xfrm>
          <a:off x="5478480" y="1786320"/>
          <a:ext cx="2590560" cy="3039120"/>
        </p:xfrm>
        <a:graphic>
          <a:graphicData uri="http://schemas.openxmlformats.org/drawingml/2006/table">
            <a:tbl>
              <a:tblPr/>
              <a:tblGrid>
                <a:gridCol w="1284120"/>
                <a:gridCol w="1306080"/>
              </a:tblGrid>
              <a:tr h="151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Freeform 46"/>
          <p:cNvSpPr/>
          <p:nvPr/>
        </p:nvSpPr>
        <p:spPr>
          <a:xfrm>
            <a:off x="6175440" y="3509280"/>
            <a:ext cx="177480" cy="556200"/>
          </a:xfrm>
          <a:custGeom>
            <a:avLst/>
            <a:gdLst>
              <a:gd name="textAreaLeft" fmla="*/ 0 w 177480"/>
              <a:gd name="textAreaRight" fmla="*/ 177840 w 177480"/>
              <a:gd name="textAreaTop" fmla="*/ 0 h 556200"/>
              <a:gd name="textAreaBottom" fmla="*/ 556560 h 556200"/>
            </a:gdLst>
            <a:ahLst/>
            <a:rect l="textAreaLeft" t="textAreaTop" r="textAreaRight" b="textAreaBottom"/>
            <a:pathLst>
              <a:path w="280" h="658">
                <a:moveTo>
                  <a:pt x="153" y="126"/>
                </a:moveTo>
                <a:lnTo>
                  <a:pt x="166" y="101"/>
                </a:lnTo>
                <a:lnTo>
                  <a:pt x="178" y="76"/>
                </a:lnTo>
                <a:lnTo>
                  <a:pt x="191" y="50"/>
                </a:lnTo>
                <a:lnTo>
                  <a:pt x="191" y="38"/>
                </a:lnTo>
                <a:lnTo>
                  <a:pt x="204" y="12"/>
                </a:lnTo>
                <a:lnTo>
                  <a:pt x="216" y="12"/>
                </a:lnTo>
                <a:lnTo>
                  <a:pt x="216" y="0"/>
                </a:lnTo>
                <a:lnTo>
                  <a:pt x="229" y="0"/>
                </a:lnTo>
                <a:lnTo>
                  <a:pt x="242" y="12"/>
                </a:lnTo>
                <a:lnTo>
                  <a:pt x="242" y="25"/>
                </a:lnTo>
                <a:lnTo>
                  <a:pt x="255" y="50"/>
                </a:lnTo>
                <a:lnTo>
                  <a:pt x="267" y="76"/>
                </a:lnTo>
                <a:lnTo>
                  <a:pt x="267" y="101"/>
                </a:lnTo>
                <a:lnTo>
                  <a:pt x="280" y="139"/>
                </a:lnTo>
                <a:lnTo>
                  <a:pt x="280" y="190"/>
                </a:lnTo>
                <a:lnTo>
                  <a:pt x="267" y="240"/>
                </a:lnTo>
                <a:lnTo>
                  <a:pt x="267" y="304"/>
                </a:lnTo>
                <a:lnTo>
                  <a:pt x="242" y="367"/>
                </a:lnTo>
                <a:lnTo>
                  <a:pt x="216" y="430"/>
                </a:lnTo>
                <a:lnTo>
                  <a:pt x="204" y="468"/>
                </a:lnTo>
                <a:lnTo>
                  <a:pt x="191" y="506"/>
                </a:lnTo>
                <a:lnTo>
                  <a:pt x="178" y="532"/>
                </a:lnTo>
                <a:lnTo>
                  <a:pt x="166" y="557"/>
                </a:lnTo>
                <a:lnTo>
                  <a:pt x="153" y="582"/>
                </a:lnTo>
                <a:lnTo>
                  <a:pt x="140" y="595"/>
                </a:lnTo>
                <a:lnTo>
                  <a:pt x="127" y="608"/>
                </a:lnTo>
                <a:lnTo>
                  <a:pt x="115" y="620"/>
                </a:lnTo>
                <a:lnTo>
                  <a:pt x="89" y="633"/>
                </a:lnTo>
                <a:lnTo>
                  <a:pt x="76" y="646"/>
                </a:lnTo>
                <a:lnTo>
                  <a:pt x="64" y="646"/>
                </a:lnTo>
                <a:lnTo>
                  <a:pt x="51" y="658"/>
                </a:lnTo>
                <a:lnTo>
                  <a:pt x="51" y="646"/>
                </a:lnTo>
                <a:lnTo>
                  <a:pt x="38" y="633"/>
                </a:lnTo>
                <a:lnTo>
                  <a:pt x="26" y="608"/>
                </a:lnTo>
                <a:lnTo>
                  <a:pt x="13" y="582"/>
                </a:lnTo>
                <a:lnTo>
                  <a:pt x="0" y="544"/>
                </a:lnTo>
                <a:lnTo>
                  <a:pt x="0" y="519"/>
                </a:lnTo>
                <a:lnTo>
                  <a:pt x="0" y="481"/>
                </a:lnTo>
                <a:lnTo>
                  <a:pt x="0" y="456"/>
                </a:lnTo>
                <a:lnTo>
                  <a:pt x="0" y="430"/>
                </a:lnTo>
                <a:lnTo>
                  <a:pt x="13" y="405"/>
                </a:lnTo>
                <a:lnTo>
                  <a:pt x="38" y="367"/>
                </a:lnTo>
                <a:lnTo>
                  <a:pt x="64" y="329"/>
                </a:lnTo>
                <a:lnTo>
                  <a:pt x="89" y="291"/>
                </a:lnTo>
                <a:lnTo>
                  <a:pt x="115" y="240"/>
                </a:lnTo>
                <a:lnTo>
                  <a:pt x="140" y="190"/>
                </a:lnTo>
                <a:lnTo>
                  <a:pt x="153" y="12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0" name="Freeform 47"/>
          <p:cNvSpPr/>
          <p:nvPr/>
        </p:nvSpPr>
        <p:spPr>
          <a:xfrm>
            <a:off x="7080120" y="3498840"/>
            <a:ext cx="379080" cy="461160"/>
          </a:xfrm>
          <a:custGeom>
            <a:avLst/>
            <a:gdLst>
              <a:gd name="textAreaLeft" fmla="*/ 0 w 379080"/>
              <a:gd name="textAreaRight" fmla="*/ 379440 w 379080"/>
              <a:gd name="textAreaTop" fmla="*/ 0 h 461160"/>
              <a:gd name="textAreaBottom" fmla="*/ 461520 h 461160"/>
            </a:gdLst>
            <a:ahLst/>
            <a:rect l="textAreaLeft" t="textAreaTop" r="textAreaRight" b="textAreaBottom"/>
            <a:pathLst>
              <a:path w="598" h="545">
                <a:moveTo>
                  <a:pt x="51" y="0"/>
                </a:moveTo>
                <a:lnTo>
                  <a:pt x="76" y="0"/>
                </a:lnTo>
                <a:lnTo>
                  <a:pt x="115" y="13"/>
                </a:lnTo>
                <a:lnTo>
                  <a:pt x="140" y="13"/>
                </a:lnTo>
                <a:lnTo>
                  <a:pt x="178" y="25"/>
                </a:lnTo>
                <a:lnTo>
                  <a:pt x="191" y="25"/>
                </a:lnTo>
                <a:lnTo>
                  <a:pt x="216" y="38"/>
                </a:lnTo>
                <a:lnTo>
                  <a:pt x="242" y="51"/>
                </a:lnTo>
                <a:lnTo>
                  <a:pt x="267" y="63"/>
                </a:lnTo>
                <a:lnTo>
                  <a:pt x="293" y="89"/>
                </a:lnTo>
                <a:lnTo>
                  <a:pt x="331" y="101"/>
                </a:lnTo>
                <a:lnTo>
                  <a:pt x="369" y="127"/>
                </a:lnTo>
                <a:lnTo>
                  <a:pt x="407" y="152"/>
                </a:lnTo>
                <a:lnTo>
                  <a:pt x="445" y="177"/>
                </a:lnTo>
                <a:lnTo>
                  <a:pt x="483" y="203"/>
                </a:lnTo>
                <a:lnTo>
                  <a:pt x="509" y="241"/>
                </a:lnTo>
                <a:lnTo>
                  <a:pt x="534" y="266"/>
                </a:lnTo>
                <a:lnTo>
                  <a:pt x="560" y="291"/>
                </a:lnTo>
                <a:lnTo>
                  <a:pt x="573" y="329"/>
                </a:lnTo>
                <a:lnTo>
                  <a:pt x="585" y="355"/>
                </a:lnTo>
                <a:lnTo>
                  <a:pt x="598" y="380"/>
                </a:lnTo>
                <a:lnTo>
                  <a:pt x="598" y="418"/>
                </a:lnTo>
                <a:lnTo>
                  <a:pt x="598" y="443"/>
                </a:lnTo>
                <a:lnTo>
                  <a:pt x="598" y="469"/>
                </a:lnTo>
                <a:lnTo>
                  <a:pt x="598" y="494"/>
                </a:lnTo>
                <a:lnTo>
                  <a:pt x="598" y="507"/>
                </a:lnTo>
                <a:lnTo>
                  <a:pt x="598" y="519"/>
                </a:lnTo>
                <a:lnTo>
                  <a:pt x="585" y="532"/>
                </a:lnTo>
                <a:lnTo>
                  <a:pt x="585" y="545"/>
                </a:lnTo>
                <a:lnTo>
                  <a:pt x="573" y="545"/>
                </a:lnTo>
                <a:lnTo>
                  <a:pt x="560" y="545"/>
                </a:lnTo>
                <a:lnTo>
                  <a:pt x="560" y="532"/>
                </a:lnTo>
                <a:lnTo>
                  <a:pt x="547" y="532"/>
                </a:lnTo>
                <a:lnTo>
                  <a:pt x="522" y="519"/>
                </a:lnTo>
                <a:lnTo>
                  <a:pt x="509" y="507"/>
                </a:lnTo>
                <a:lnTo>
                  <a:pt x="496" y="494"/>
                </a:lnTo>
                <a:lnTo>
                  <a:pt x="471" y="481"/>
                </a:lnTo>
                <a:lnTo>
                  <a:pt x="445" y="456"/>
                </a:lnTo>
                <a:lnTo>
                  <a:pt x="420" y="443"/>
                </a:lnTo>
                <a:lnTo>
                  <a:pt x="394" y="418"/>
                </a:lnTo>
                <a:lnTo>
                  <a:pt x="369" y="393"/>
                </a:lnTo>
                <a:lnTo>
                  <a:pt x="344" y="367"/>
                </a:lnTo>
                <a:lnTo>
                  <a:pt x="280" y="304"/>
                </a:lnTo>
                <a:lnTo>
                  <a:pt x="216" y="241"/>
                </a:lnTo>
                <a:lnTo>
                  <a:pt x="153" y="190"/>
                </a:lnTo>
                <a:lnTo>
                  <a:pt x="102" y="139"/>
                </a:lnTo>
                <a:lnTo>
                  <a:pt x="89" y="114"/>
                </a:lnTo>
                <a:lnTo>
                  <a:pt x="64" y="101"/>
                </a:lnTo>
                <a:lnTo>
                  <a:pt x="51" y="89"/>
                </a:lnTo>
                <a:lnTo>
                  <a:pt x="38" y="63"/>
                </a:lnTo>
                <a:lnTo>
                  <a:pt x="25" y="51"/>
                </a:lnTo>
                <a:lnTo>
                  <a:pt x="13" y="38"/>
                </a:lnTo>
                <a:lnTo>
                  <a:pt x="0" y="25"/>
                </a:lnTo>
                <a:lnTo>
                  <a:pt x="0" y="13"/>
                </a:lnTo>
                <a:lnTo>
                  <a:pt x="0" y="0"/>
                </a:lnTo>
                <a:lnTo>
                  <a:pt x="13" y="0"/>
                </a:lnTo>
                <a:lnTo>
                  <a:pt x="38" y="0"/>
                </a:lnTo>
                <a:lnTo>
                  <a:pt x="51" y="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1" name="Freeform 48"/>
          <p:cNvSpPr/>
          <p:nvPr/>
        </p:nvSpPr>
        <p:spPr>
          <a:xfrm>
            <a:off x="6434280" y="2607840"/>
            <a:ext cx="694800" cy="268560"/>
          </a:xfrm>
          <a:custGeom>
            <a:avLst/>
            <a:gdLst>
              <a:gd name="textAreaLeft" fmla="*/ 0 w 694800"/>
              <a:gd name="textAreaRight" fmla="*/ 695160 w 69480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094" h="317">
                <a:moveTo>
                  <a:pt x="1094" y="89"/>
                </a:moveTo>
                <a:lnTo>
                  <a:pt x="1094" y="102"/>
                </a:lnTo>
                <a:lnTo>
                  <a:pt x="1082" y="114"/>
                </a:lnTo>
                <a:lnTo>
                  <a:pt x="1069" y="127"/>
                </a:lnTo>
                <a:lnTo>
                  <a:pt x="1056" y="140"/>
                </a:lnTo>
                <a:lnTo>
                  <a:pt x="1043" y="140"/>
                </a:lnTo>
                <a:lnTo>
                  <a:pt x="1018" y="152"/>
                </a:lnTo>
                <a:lnTo>
                  <a:pt x="1005" y="152"/>
                </a:lnTo>
                <a:lnTo>
                  <a:pt x="980" y="152"/>
                </a:lnTo>
                <a:lnTo>
                  <a:pt x="954" y="165"/>
                </a:lnTo>
                <a:lnTo>
                  <a:pt x="929" y="165"/>
                </a:lnTo>
                <a:lnTo>
                  <a:pt x="904" y="178"/>
                </a:lnTo>
                <a:lnTo>
                  <a:pt x="878" y="190"/>
                </a:lnTo>
                <a:lnTo>
                  <a:pt x="802" y="203"/>
                </a:lnTo>
                <a:lnTo>
                  <a:pt x="725" y="216"/>
                </a:lnTo>
                <a:lnTo>
                  <a:pt x="636" y="241"/>
                </a:lnTo>
                <a:lnTo>
                  <a:pt x="547" y="266"/>
                </a:lnTo>
                <a:lnTo>
                  <a:pt x="496" y="279"/>
                </a:lnTo>
                <a:lnTo>
                  <a:pt x="446" y="292"/>
                </a:lnTo>
                <a:lnTo>
                  <a:pt x="407" y="292"/>
                </a:lnTo>
                <a:lnTo>
                  <a:pt x="369" y="304"/>
                </a:lnTo>
                <a:lnTo>
                  <a:pt x="344" y="304"/>
                </a:lnTo>
                <a:lnTo>
                  <a:pt x="318" y="317"/>
                </a:lnTo>
                <a:lnTo>
                  <a:pt x="293" y="317"/>
                </a:lnTo>
                <a:lnTo>
                  <a:pt x="280" y="317"/>
                </a:lnTo>
                <a:lnTo>
                  <a:pt x="242" y="317"/>
                </a:lnTo>
                <a:lnTo>
                  <a:pt x="217" y="304"/>
                </a:lnTo>
                <a:lnTo>
                  <a:pt x="178" y="304"/>
                </a:lnTo>
                <a:lnTo>
                  <a:pt x="140" y="292"/>
                </a:lnTo>
                <a:lnTo>
                  <a:pt x="102" y="279"/>
                </a:lnTo>
                <a:lnTo>
                  <a:pt x="64" y="266"/>
                </a:lnTo>
                <a:lnTo>
                  <a:pt x="38" y="254"/>
                </a:lnTo>
                <a:lnTo>
                  <a:pt x="26" y="241"/>
                </a:lnTo>
                <a:lnTo>
                  <a:pt x="13" y="241"/>
                </a:lnTo>
                <a:lnTo>
                  <a:pt x="0" y="228"/>
                </a:lnTo>
                <a:lnTo>
                  <a:pt x="0" y="216"/>
                </a:lnTo>
                <a:lnTo>
                  <a:pt x="0" y="203"/>
                </a:lnTo>
                <a:lnTo>
                  <a:pt x="13" y="203"/>
                </a:lnTo>
                <a:lnTo>
                  <a:pt x="26" y="190"/>
                </a:lnTo>
                <a:lnTo>
                  <a:pt x="38" y="190"/>
                </a:lnTo>
                <a:lnTo>
                  <a:pt x="51" y="190"/>
                </a:lnTo>
                <a:lnTo>
                  <a:pt x="77" y="190"/>
                </a:lnTo>
                <a:lnTo>
                  <a:pt x="89" y="190"/>
                </a:lnTo>
                <a:lnTo>
                  <a:pt x="102" y="190"/>
                </a:lnTo>
                <a:lnTo>
                  <a:pt x="115" y="178"/>
                </a:lnTo>
                <a:lnTo>
                  <a:pt x="127" y="178"/>
                </a:lnTo>
                <a:lnTo>
                  <a:pt x="140" y="178"/>
                </a:lnTo>
                <a:lnTo>
                  <a:pt x="178" y="165"/>
                </a:lnTo>
                <a:lnTo>
                  <a:pt x="229" y="165"/>
                </a:lnTo>
                <a:lnTo>
                  <a:pt x="293" y="152"/>
                </a:lnTo>
                <a:lnTo>
                  <a:pt x="356" y="127"/>
                </a:lnTo>
                <a:lnTo>
                  <a:pt x="433" y="114"/>
                </a:lnTo>
                <a:lnTo>
                  <a:pt x="509" y="89"/>
                </a:lnTo>
                <a:lnTo>
                  <a:pt x="598" y="76"/>
                </a:lnTo>
                <a:lnTo>
                  <a:pt x="662" y="51"/>
                </a:lnTo>
                <a:lnTo>
                  <a:pt x="738" y="38"/>
                </a:lnTo>
                <a:lnTo>
                  <a:pt x="789" y="26"/>
                </a:lnTo>
                <a:lnTo>
                  <a:pt x="840" y="13"/>
                </a:lnTo>
                <a:lnTo>
                  <a:pt x="878" y="0"/>
                </a:lnTo>
                <a:lnTo>
                  <a:pt x="916" y="0"/>
                </a:lnTo>
                <a:lnTo>
                  <a:pt x="942" y="0"/>
                </a:lnTo>
                <a:lnTo>
                  <a:pt x="980" y="0"/>
                </a:lnTo>
                <a:lnTo>
                  <a:pt x="1005" y="0"/>
                </a:lnTo>
                <a:lnTo>
                  <a:pt x="1031" y="13"/>
                </a:lnTo>
                <a:lnTo>
                  <a:pt x="1056" y="26"/>
                </a:lnTo>
                <a:lnTo>
                  <a:pt x="1082" y="38"/>
                </a:lnTo>
                <a:lnTo>
                  <a:pt x="1094" y="51"/>
                </a:lnTo>
                <a:lnTo>
                  <a:pt x="1094" y="64"/>
                </a:lnTo>
                <a:lnTo>
                  <a:pt x="1094" y="89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2" name="Freeform 49"/>
          <p:cNvSpPr/>
          <p:nvPr/>
        </p:nvSpPr>
        <p:spPr>
          <a:xfrm>
            <a:off x="6684840" y="2135880"/>
            <a:ext cx="193320" cy="996480"/>
          </a:xfrm>
          <a:custGeom>
            <a:avLst/>
            <a:gdLst>
              <a:gd name="textAreaLeft" fmla="*/ 0 w 193320"/>
              <a:gd name="textAreaRight" fmla="*/ 193680 w 193320"/>
              <a:gd name="textAreaTop" fmla="*/ 0 h 996480"/>
              <a:gd name="textAreaBottom" fmla="*/ 996840 h 996480"/>
            </a:gdLst>
            <a:ahLst/>
            <a:rect l="textAreaLeft" t="textAreaTop" r="textAreaRight" b="textAreaBottom"/>
            <a:pathLst>
              <a:path w="305" h="1178">
                <a:moveTo>
                  <a:pt x="0" y="25"/>
                </a:moveTo>
                <a:lnTo>
                  <a:pt x="12" y="12"/>
                </a:lnTo>
                <a:lnTo>
                  <a:pt x="25" y="0"/>
                </a:lnTo>
                <a:lnTo>
                  <a:pt x="51" y="0"/>
                </a:lnTo>
                <a:lnTo>
                  <a:pt x="89" y="0"/>
                </a:lnTo>
                <a:lnTo>
                  <a:pt x="140" y="12"/>
                </a:lnTo>
                <a:lnTo>
                  <a:pt x="178" y="25"/>
                </a:lnTo>
                <a:lnTo>
                  <a:pt x="203" y="50"/>
                </a:lnTo>
                <a:lnTo>
                  <a:pt x="241" y="63"/>
                </a:lnTo>
                <a:lnTo>
                  <a:pt x="254" y="76"/>
                </a:lnTo>
                <a:lnTo>
                  <a:pt x="280" y="88"/>
                </a:lnTo>
                <a:lnTo>
                  <a:pt x="292" y="101"/>
                </a:lnTo>
                <a:lnTo>
                  <a:pt x="305" y="114"/>
                </a:lnTo>
                <a:lnTo>
                  <a:pt x="305" y="126"/>
                </a:lnTo>
                <a:lnTo>
                  <a:pt x="292" y="139"/>
                </a:lnTo>
                <a:lnTo>
                  <a:pt x="292" y="152"/>
                </a:lnTo>
                <a:lnTo>
                  <a:pt x="280" y="177"/>
                </a:lnTo>
                <a:lnTo>
                  <a:pt x="267" y="202"/>
                </a:lnTo>
                <a:lnTo>
                  <a:pt x="267" y="240"/>
                </a:lnTo>
                <a:lnTo>
                  <a:pt x="254" y="304"/>
                </a:lnTo>
                <a:lnTo>
                  <a:pt x="241" y="329"/>
                </a:lnTo>
                <a:lnTo>
                  <a:pt x="241" y="354"/>
                </a:lnTo>
                <a:lnTo>
                  <a:pt x="241" y="392"/>
                </a:lnTo>
                <a:lnTo>
                  <a:pt x="241" y="418"/>
                </a:lnTo>
                <a:lnTo>
                  <a:pt x="241" y="456"/>
                </a:lnTo>
                <a:lnTo>
                  <a:pt x="241" y="494"/>
                </a:lnTo>
                <a:lnTo>
                  <a:pt x="241" y="545"/>
                </a:lnTo>
                <a:lnTo>
                  <a:pt x="241" y="595"/>
                </a:lnTo>
                <a:lnTo>
                  <a:pt x="229" y="646"/>
                </a:lnTo>
                <a:lnTo>
                  <a:pt x="229" y="709"/>
                </a:lnTo>
                <a:lnTo>
                  <a:pt x="229" y="773"/>
                </a:lnTo>
                <a:lnTo>
                  <a:pt x="229" y="849"/>
                </a:lnTo>
                <a:lnTo>
                  <a:pt x="229" y="925"/>
                </a:lnTo>
                <a:lnTo>
                  <a:pt x="229" y="1001"/>
                </a:lnTo>
                <a:lnTo>
                  <a:pt x="229" y="1089"/>
                </a:lnTo>
                <a:lnTo>
                  <a:pt x="229" y="1178"/>
                </a:lnTo>
                <a:lnTo>
                  <a:pt x="101" y="1178"/>
                </a:lnTo>
                <a:lnTo>
                  <a:pt x="101" y="1064"/>
                </a:lnTo>
                <a:lnTo>
                  <a:pt x="101" y="963"/>
                </a:lnTo>
                <a:lnTo>
                  <a:pt x="101" y="874"/>
                </a:lnTo>
                <a:lnTo>
                  <a:pt x="101" y="773"/>
                </a:lnTo>
                <a:lnTo>
                  <a:pt x="89" y="697"/>
                </a:lnTo>
                <a:lnTo>
                  <a:pt x="89" y="621"/>
                </a:lnTo>
                <a:lnTo>
                  <a:pt x="89" y="545"/>
                </a:lnTo>
                <a:lnTo>
                  <a:pt x="89" y="481"/>
                </a:lnTo>
                <a:lnTo>
                  <a:pt x="89" y="430"/>
                </a:lnTo>
                <a:lnTo>
                  <a:pt x="89" y="380"/>
                </a:lnTo>
                <a:lnTo>
                  <a:pt x="76" y="329"/>
                </a:lnTo>
                <a:lnTo>
                  <a:pt x="76" y="291"/>
                </a:lnTo>
                <a:lnTo>
                  <a:pt x="76" y="253"/>
                </a:lnTo>
                <a:lnTo>
                  <a:pt x="76" y="228"/>
                </a:lnTo>
                <a:lnTo>
                  <a:pt x="76" y="215"/>
                </a:lnTo>
                <a:lnTo>
                  <a:pt x="76" y="202"/>
                </a:lnTo>
                <a:lnTo>
                  <a:pt x="63" y="164"/>
                </a:lnTo>
                <a:lnTo>
                  <a:pt x="51" y="139"/>
                </a:lnTo>
                <a:lnTo>
                  <a:pt x="38" y="114"/>
                </a:lnTo>
                <a:lnTo>
                  <a:pt x="25" y="88"/>
                </a:lnTo>
                <a:lnTo>
                  <a:pt x="12" y="63"/>
                </a:lnTo>
                <a:lnTo>
                  <a:pt x="0" y="50"/>
                </a:lnTo>
                <a:lnTo>
                  <a:pt x="0" y="38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3" name="Freeform 50"/>
          <p:cNvSpPr/>
          <p:nvPr/>
        </p:nvSpPr>
        <p:spPr>
          <a:xfrm>
            <a:off x="6021360" y="2984400"/>
            <a:ext cx="1552320" cy="384840"/>
          </a:xfrm>
          <a:custGeom>
            <a:avLst/>
            <a:gdLst>
              <a:gd name="textAreaLeft" fmla="*/ 0 w 1552320"/>
              <a:gd name="textAreaRight" fmla="*/ 1552680 w 1552320"/>
              <a:gd name="textAreaTop" fmla="*/ 0 h 384840"/>
              <a:gd name="textAreaBottom" fmla="*/ 385200 h 384840"/>
            </a:gdLst>
            <a:ahLst/>
            <a:rect l="textAreaLeft" t="textAreaTop" r="textAreaRight" b="textAreaBottom"/>
            <a:pathLst>
              <a:path w="2443" h="456">
                <a:moveTo>
                  <a:pt x="153" y="456"/>
                </a:moveTo>
                <a:lnTo>
                  <a:pt x="140" y="456"/>
                </a:lnTo>
                <a:lnTo>
                  <a:pt x="115" y="443"/>
                </a:lnTo>
                <a:lnTo>
                  <a:pt x="89" y="418"/>
                </a:lnTo>
                <a:lnTo>
                  <a:pt x="51" y="380"/>
                </a:lnTo>
                <a:lnTo>
                  <a:pt x="39" y="367"/>
                </a:lnTo>
                <a:lnTo>
                  <a:pt x="26" y="354"/>
                </a:lnTo>
                <a:lnTo>
                  <a:pt x="13" y="342"/>
                </a:lnTo>
                <a:lnTo>
                  <a:pt x="0" y="329"/>
                </a:lnTo>
                <a:lnTo>
                  <a:pt x="0" y="316"/>
                </a:lnTo>
                <a:lnTo>
                  <a:pt x="0" y="304"/>
                </a:lnTo>
                <a:lnTo>
                  <a:pt x="13" y="304"/>
                </a:lnTo>
                <a:lnTo>
                  <a:pt x="26" y="304"/>
                </a:lnTo>
                <a:lnTo>
                  <a:pt x="39" y="291"/>
                </a:lnTo>
                <a:lnTo>
                  <a:pt x="64" y="291"/>
                </a:lnTo>
                <a:lnTo>
                  <a:pt x="102" y="278"/>
                </a:lnTo>
                <a:lnTo>
                  <a:pt x="140" y="278"/>
                </a:lnTo>
                <a:lnTo>
                  <a:pt x="191" y="266"/>
                </a:lnTo>
                <a:lnTo>
                  <a:pt x="242" y="266"/>
                </a:lnTo>
                <a:lnTo>
                  <a:pt x="293" y="253"/>
                </a:lnTo>
                <a:lnTo>
                  <a:pt x="331" y="253"/>
                </a:lnTo>
                <a:lnTo>
                  <a:pt x="369" y="253"/>
                </a:lnTo>
                <a:lnTo>
                  <a:pt x="408" y="240"/>
                </a:lnTo>
                <a:lnTo>
                  <a:pt x="458" y="240"/>
                </a:lnTo>
                <a:lnTo>
                  <a:pt x="509" y="240"/>
                </a:lnTo>
                <a:lnTo>
                  <a:pt x="560" y="228"/>
                </a:lnTo>
                <a:lnTo>
                  <a:pt x="611" y="215"/>
                </a:lnTo>
                <a:lnTo>
                  <a:pt x="675" y="215"/>
                </a:lnTo>
                <a:lnTo>
                  <a:pt x="738" y="202"/>
                </a:lnTo>
                <a:lnTo>
                  <a:pt x="815" y="190"/>
                </a:lnTo>
                <a:lnTo>
                  <a:pt x="878" y="177"/>
                </a:lnTo>
                <a:lnTo>
                  <a:pt x="955" y="177"/>
                </a:lnTo>
                <a:lnTo>
                  <a:pt x="1044" y="164"/>
                </a:lnTo>
                <a:lnTo>
                  <a:pt x="1120" y="139"/>
                </a:lnTo>
                <a:lnTo>
                  <a:pt x="1209" y="126"/>
                </a:lnTo>
                <a:lnTo>
                  <a:pt x="1298" y="114"/>
                </a:lnTo>
                <a:lnTo>
                  <a:pt x="1387" y="101"/>
                </a:lnTo>
                <a:lnTo>
                  <a:pt x="1476" y="88"/>
                </a:lnTo>
                <a:lnTo>
                  <a:pt x="1553" y="76"/>
                </a:lnTo>
                <a:lnTo>
                  <a:pt x="1629" y="63"/>
                </a:lnTo>
                <a:lnTo>
                  <a:pt x="1705" y="50"/>
                </a:lnTo>
                <a:lnTo>
                  <a:pt x="1769" y="38"/>
                </a:lnTo>
                <a:lnTo>
                  <a:pt x="1820" y="38"/>
                </a:lnTo>
                <a:lnTo>
                  <a:pt x="1871" y="25"/>
                </a:lnTo>
                <a:lnTo>
                  <a:pt x="1921" y="25"/>
                </a:lnTo>
                <a:lnTo>
                  <a:pt x="1972" y="12"/>
                </a:lnTo>
                <a:lnTo>
                  <a:pt x="2011" y="12"/>
                </a:lnTo>
                <a:lnTo>
                  <a:pt x="2036" y="0"/>
                </a:lnTo>
                <a:lnTo>
                  <a:pt x="2061" y="0"/>
                </a:lnTo>
                <a:lnTo>
                  <a:pt x="2087" y="0"/>
                </a:lnTo>
                <a:lnTo>
                  <a:pt x="2112" y="0"/>
                </a:lnTo>
                <a:lnTo>
                  <a:pt x="2125" y="0"/>
                </a:lnTo>
                <a:lnTo>
                  <a:pt x="2150" y="0"/>
                </a:lnTo>
                <a:lnTo>
                  <a:pt x="2201" y="12"/>
                </a:lnTo>
                <a:lnTo>
                  <a:pt x="2252" y="25"/>
                </a:lnTo>
                <a:lnTo>
                  <a:pt x="2303" y="50"/>
                </a:lnTo>
                <a:lnTo>
                  <a:pt x="2329" y="63"/>
                </a:lnTo>
                <a:lnTo>
                  <a:pt x="2354" y="76"/>
                </a:lnTo>
                <a:lnTo>
                  <a:pt x="2379" y="76"/>
                </a:lnTo>
                <a:lnTo>
                  <a:pt x="2392" y="88"/>
                </a:lnTo>
                <a:lnTo>
                  <a:pt x="2418" y="101"/>
                </a:lnTo>
                <a:lnTo>
                  <a:pt x="2430" y="114"/>
                </a:lnTo>
                <a:lnTo>
                  <a:pt x="2430" y="126"/>
                </a:lnTo>
                <a:lnTo>
                  <a:pt x="2443" y="139"/>
                </a:lnTo>
                <a:lnTo>
                  <a:pt x="2443" y="164"/>
                </a:lnTo>
                <a:lnTo>
                  <a:pt x="2443" y="177"/>
                </a:lnTo>
                <a:lnTo>
                  <a:pt x="2430" y="190"/>
                </a:lnTo>
                <a:lnTo>
                  <a:pt x="2405" y="202"/>
                </a:lnTo>
                <a:lnTo>
                  <a:pt x="2392" y="202"/>
                </a:lnTo>
                <a:lnTo>
                  <a:pt x="2379" y="202"/>
                </a:lnTo>
                <a:lnTo>
                  <a:pt x="2354" y="202"/>
                </a:lnTo>
                <a:lnTo>
                  <a:pt x="2341" y="202"/>
                </a:lnTo>
                <a:lnTo>
                  <a:pt x="2316" y="202"/>
                </a:lnTo>
                <a:lnTo>
                  <a:pt x="2290" y="202"/>
                </a:lnTo>
                <a:lnTo>
                  <a:pt x="2265" y="202"/>
                </a:lnTo>
                <a:lnTo>
                  <a:pt x="2227" y="202"/>
                </a:lnTo>
                <a:lnTo>
                  <a:pt x="2189" y="190"/>
                </a:lnTo>
                <a:lnTo>
                  <a:pt x="2150" y="190"/>
                </a:lnTo>
                <a:lnTo>
                  <a:pt x="2100" y="190"/>
                </a:lnTo>
                <a:lnTo>
                  <a:pt x="2036" y="190"/>
                </a:lnTo>
                <a:lnTo>
                  <a:pt x="1960" y="202"/>
                </a:lnTo>
                <a:lnTo>
                  <a:pt x="1883" y="202"/>
                </a:lnTo>
                <a:lnTo>
                  <a:pt x="1794" y="202"/>
                </a:lnTo>
                <a:lnTo>
                  <a:pt x="1705" y="215"/>
                </a:lnTo>
                <a:lnTo>
                  <a:pt x="1603" y="215"/>
                </a:lnTo>
                <a:lnTo>
                  <a:pt x="1514" y="215"/>
                </a:lnTo>
                <a:lnTo>
                  <a:pt x="1425" y="228"/>
                </a:lnTo>
                <a:lnTo>
                  <a:pt x="1336" y="228"/>
                </a:lnTo>
                <a:lnTo>
                  <a:pt x="1260" y="240"/>
                </a:lnTo>
                <a:lnTo>
                  <a:pt x="1184" y="253"/>
                </a:lnTo>
                <a:lnTo>
                  <a:pt x="1107" y="253"/>
                </a:lnTo>
                <a:lnTo>
                  <a:pt x="1044" y="266"/>
                </a:lnTo>
                <a:lnTo>
                  <a:pt x="904" y="291"/>
                </a:lnTo>
                <a:lnTo>
                  <a:pt x="764" y="316"/>
                </a:lnTo>
                <a:lnTo>
                  <a:pt x="624" y="354"/>
                </a:lnTo>
                <a:lnTo>
                  <a:pt x="484" y="380"/>
                </a:lnTo>
                <a:lnTo>
                  <a:pt x="420" y="405"/>
                </a:lnTo>
                <a:lnTo>
                  <a:pt x="357" y="418"/>
                </a:lnTo>
                <a:lnTo>
                  <a:pt x="306" y="431"/>
                </a:lnTo>
                <a:lnTo>
                  <a:pt x="268" y="443"/>
                </a:lnTo>
                <a:lnTo>
                  <a:pt x="229" y="443"/>
                </a:lnTo>
                <a:lnTo>
                  <a:pt x="191" y="456"/>
                </a:lnTo>
                <a:lnTo>
                  <a:pt x="166" y="456"/>
                </a:lnTo>
                <a:lnTo>
                  <a:pt x="153" y="45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4" name="Freeform 51"/>
          <p:cNvSpPr/>
          <p:nvPr/>
        </p:nvSpPr>
        <p:spPr>
          <a:xfrm>
            <a:off x="6256440" y="3187800"/>
            <a:ext cx="444240" cy="1222920"/>
          </a:xfrm>
          <a:custGeom>
            <a:avLst/>
            <a:gdLst>
              <a:gd name="textAreaLeft" fmla="*/ 0 w 444240"/>
              <a:gd name="textAreaRight" fmla="*/ 444600 w 444240"/>
              <a:gd name="textAreaTop" fmla="*/ 0 h 1222920"/>
              <a:gd name="textAreaBottom" fmla="*/ 1223280 h 1222920"/>
            </a:gdLst>
            <a:ahLst/>
            <a:rect l="textAreaLeft" t="textAreaTop" r="textAreaRight" b="textAreaBottom"/>
            <a:pathLst>
              <a:path w="700" h="1445">
                <a:moveTo>
                  <a:pt x="662" y="419"/>
                </a:moveTo>
                <a:lnTo>
                  <a:pt x="649" y="495"/>
                </a:lnTo>
                <a:lnTo>
                  <a:pt x="636" y="583"/>
                </a:lnTo>
                <a:lnTo>
                  <a:pt x="624" y="634"/>
                </a:lnTo>
                <a:lnTo>
                  <a:pt x="611" y="685"/>
                </a:lnTo>
                <a:lnTo>
                  <a:pt x="598" y="735"/>
                </a:lnTo>
                <a:lnTo>
                  <a:pt x="586" y="786"/>
                </a:lnTo>
                <a:lnTo>
                  <a:pt x="560" y="849"/>
                </a:lnTo>
                <a:lnTo>
                  <a:pt x="547" y="900"/>
                </a:lnTo>
                <a:lnTo>
                  <a:pt x="522" y="951"/>
                </a:lnTo>
                <a:lnTo>
                  <a:pt x="497" y="1001"/>
                </a:lnTo>
                <a:lnTo>
                  <a:pt x="471" y="1039"/>
                </a:lnTo>
                <a:lnTo>
                  <a:pt x="446" y="1090"/>
                </a:lnTo>
                <a:lnTo>
                  <a:pt x="420" y="1128"/>
                </a:lnTo>
                <a:lnTo>
                  <a:pt x="395" y="1166"/>
                </a:lnTo>
                <a:lnTo>
                  <a:pt x="357" y="1204"/>
                </a:lnTo>
                <a:lnTo>
                  <a:pt x="331" y="1242"/>
                </a:lnTo>
                <a:lnTo>
                  <a:pt x="293" y="1268"/>
                </a:lnTo>
                <a:lnTo>
                  <a:pt x="268" y="1293"/>
                </a:lnTo>
                <a:lnTo>
                  <a:pt x="229" y="1318"/>
                </a:lnTo>
                <a:lnTo>
                  <a:pt x="204" y="1344"/>
                </a:lnTo>
                <a:lnTo>
                  <a:pt x="166" y="1369"/>
                </a:lnTo>
                <a:lnTo>
                  <a:pt x="140" y="1382"/>
                </a:lnTo>
                <a:lnTo>
                  <a:pt x="115" y="1407"/>
                </a:lnTo>
                <a:lnTo>
                  <a:pt x="89" y="1420"/>
                </a:lnTo>
                <a:lnTo>
                  <a:pt x="64" y="1432"/>
                </a:lnTo>
                <a:lnTo>
                  <a:pt x="51" y="1432"/>
                </a:lnTo>
                <a:lnTo>
                  <a:pt x="39" y="1445"/>
                </a:lnTo>
                <a:lnTo>
                  <a:pt x="26" y="1445"/>
                </a:lnTo>
                <a:lnTo>
                  <a:pt x="13" y="1445"/>
                </a:lnTo>
                <a:lnTo>
                  <a:pt x="0" y="1445"/>
                </a:lnTo>
                <a:lnTo>
                  <a:pt x="0" y="1432"/>
                </a:lnTo>
                <a:lnTo>
                  <a:pt x="13" y="1432"/>
                </a:lnTo>
                <a:lnTo>
                  <a:pt x="13" y="1420"/>
                </a:lnTo>
                <a:lnTo>
                  <a:pt x="26" y="1407"/>
                </a:lnTo>
                <a:lnTo>
                  <a:pt x="39" y="1382"/>
                </a:lnTo>
                <a:lnTo>
                  <a:pt x="51" y="1369"/>
                </a:lnTo>
                <a:lnTo>
                  <a:pt x="77" y="1344"/>
                </a:lnTo>
                <a:lnTo>
                  <a:pt x="102" y="1318"/>
                </a:lnTo>
                <a:lnTo>
                  <a:pt x="166" y="1255"/>
                </a:lnTo>
                <a:lnTo>
                  <a:pt x="217" y="1204"/>
                </a:lnTo>
                <a:lnTo>
                  <a:pt x="268" y="1128"/>
                </a:lnTo>
                <a:lnTo>
                  <a:pt x="293" y="1090"/>
                </a:lnTo>
                <a:lnTo>
                  <a:pt x="318" y="1052"/>
                </a:lnTo>
                <a:lnTo>
                  <a:pt x="357" y="976"/>
                </a:lnTo>
                <a:lnTo>
                  <a:pt x="395" y="887"/>
                </a:lnTo>
                <a:lnTo>
                  <a:pt x="433" y="799"/>
                </a:lnTo>
                <a:lnTo>
                  <a:pt x="458" y="697"/>
                </a:lnTo>
                <a:lnTo>
                  <a:pt x="471" y="634"/>
                </a:lnTo>
                <a:lnTo>
                  <a:pt x="484" y="571"/>
                </a:lnTo>
                <a:lnTo>
                  <a:pt x="484" y="495"/>
                </a:lnTo>
                <a:lnTo>
                  <a:pt x="497" y="419"/>
                </a:lnTo>
                <a:lnTo>
                  <a:pt x="497" y="330"/>
                </a:lnTo>
                <a:lnTo>
                  <a:pt x="497" y="229"/>
                </a:lnTo>
                <a:lnTo>
                  <a:pt x="497" y="114"/>
                </a:lnTo>
                <a:lnTo>
                  <a:pt x="497" y="0"/>
                </a:lnTo>
                <a:lnTo>
                  <a:pt x="535" y="0"/>
                </a:lnTo>
                <a:lnTo>
                  <a:pt x="573" y="13"/>
                </a:lnTo>
                <a:lnTo>
                  <a:pt x="611" y="26"/>
                </a:lnTo>
                <a:lnTo>
                  <a:pt x="636" y="38"/>
                </a:lnTo>
                <a:lnTo>
                  <a:pt x="662" y="64"/>
                </a:lnTo>
                <a:lnTo>
                  <a:pt x="675" y="89"/>
                </a:lnTo>
                <a:lnTo>
                  <a:pt x="687" y="102"/>
                </a:lnTo>
                <a:lnTo>
                  <a:pt x="700" y="127"/>
                </a:lnTo>
                <a:lnTo>
                  <a:pt x="700" y="140"/>
                </a:lnTo>
                <a:lnTo>
                  <a:pt x="700" y="165"/>
                </a:lnTo>
                <a:lnTo>
                  <a:pt x="700" y="191"/>
                </a:lnTo>
                <a:lnTo>
                  <a:pt x="687" y="216"/>
                </a:lnTo>
                <a:lnTo>
                  <a:pt x="687" y="229"/>
                </a:lnTo>
                <a:lnTo>
                  <a:pt x="687" y="241"/>
                </a:lnTo>
                <a:lnTo>
                  <a:pt x="675" y="267"/>
                </a:lnTo>
                <a:lnTo>
                  <a:pt x="675" y="292"/>
                </a:lnTo>
                <a:lnTo>
                  <a:pt x="675" y="317"/>
                </a:lnTo>
                <a:lnTo>
                  <a:pt x="662" y="343"/>
                </a:lnTo>
                <a:lnTo>
                  <a:pt x="662" y="381"/>
                </a:lnTo>
                <a:lnTo>
                  <a:pt x="662" y="419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5" name="Freeform 52"/>
          <p:cNvSpPr/>
          <p:nvPr/>
        </p:nvSpPr>
        <p:spPr>
          <a:xfrm>
            <a:off x="6684840" y="3166560"/>
            <a:ext cx="298080" cy="1297080"/>
          </a:xfrm>
          <a:custGeom>
            <a:avLst/>
            <a:gdLst>
              <a:gd name="textAreaLeft" fmla="*/ 0 w 298080"/>
              <a:gd name="textAreaRight" fmla="*/ 298440 w 29808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470" h="1533">
                <a:moveTo>
                  <a:pt x="241" y="0"/>
                </a:moveTo>
                <a:lnTo>
                  <a:pt x="292" y="13"/>
                </a:lnTo>
                <a:lnTo>
                  <a:pt x="330" y="13"/>
                </a:lnTo>
                <a:lnTo>
                  <a:pt x="369" y="25"/>
                </a:lnTo>
                <a:lnTo>
                  <a:pt x="407" y="25"/>
                </a:lnTo>
                <a:lnTo>
                  <a:pt x="419" y="38"/>
                </a:lnTo>
                <a:lnTo>
                  <a:pt x="432" y="51"/>
                </a:lnTo>
                <a:lnTo>
                  <a:pt x="445" y="76"/>
                </a:lnTo>
                <a:lnTo>
                  <a:pt x="458" y="89"/>
                </a:lnTo>
                <a:lnTo>
                  <a:pt x="458" y="114"/>
                </a:lnTo>
                <a:lnTo>
                  <a:pt x="470" y="139"/>
                </a:lnTo>
                <a:lnTo>
                  <a:pt x="458" y="178"/>
                </a:lnTo>
                <a:lnTo>
                  <a:pt x="458" y="216"/>
                </a:lnTo>
                <a:lnTo>
                  <a:pt x="458" y="241"/>
                </a:lnTo>
                <a:lnTo>
                  <a:pt x="458" y="279"/>
                </a:lnTo>
                <a:lnTo>
                  <a:pt x="445" y="317"/>
                </a:lnTo>
                <a:lnTo>
                  <a:pt x="445" y="368"/>
                </a:lnTo>
                <a:lnTo>
                  <a:pt x="445" y="431"/>
                </a:lnTo>
                <a:lnTo>
                  <a:pt x="458" y="494"/>
                </a:lnTo>
                <a:lnTo>
                  <a:pt x="458" y="570"/>
                </a:lnTo>
                <a:lnTo>
                  <a:pt x="458" y="646"/>
                </a:lnTo>
                <a:lnTo>
                  <a:pt x="458" y="735"/>
                </a:lnTo>
                <a:lnTo>
                  <a:pt x="458" y="811"/>
                </a:lnTo>
                <a:lnTo>
                  <a:pt x="470" y="887"/>
                </a:lnTo>
                <a:lnTo>
                  <a:pt x="470" y="950"/>
                </a:lnTo>
                <a:lnTo>
                  <a:pt x="470" y="1014"/>
                </a:lnTo>
                <a:lnTo>
                  <a:pt x="470" y="1077"/>
                </a:lnTo>
                <a:lnTo>
                  <a:pt x="470" y="1128"/>
                </a:lnTo>
                <a:lnTo>
                  <a:pt x="470" y="1166"/>
                </a:lnTo>
                <a:lnTo>
                  <a:pt x="470" y="1242"/>
                </a:lnTo>
                <a:lnTo>
                  <a:pt x="458" y="1318"/>
                </a:lnTo>
                <a:lnTo>
                  <a:pt x="432" y="1381"/>
                </a:lnTo>
                <a:lnTo>
                  <a:pt x="407" y="1432"/>
                </a:lnTo>
                <a:lnTo>
                  <a:pt x="381" y="1457"/>
                </a:lnTo>
                <a:lnTo>
                  <a:pt x="369" y="1470"/>
                </a:lnTo>
                <a:lnTo>
                  <a:pt x="356" y="1495"/>
                </a:lnTo>
                <a:lnTo>
                  <a:pt x="343" y="1508"/>
                </a:lnTo>
                <a:lnTo>
                  <a:pt x="330" y="1508"/>
                </a:lnTo>
                <a:lnTo>
                  <a:pt x="318" y="1521"/>
                </a:lnTo>
                <a:lnTo>
                  <a:pt x="305" y="1533"/>
                </a:lnTo>
                <a:lnTo>
                  <a:pt x="292" y="1521"/>
                </a:lnTo>
                <a:lnTo>
                  <a:pt x="280" y="1521"/>
                </a:lnTo>
                <a:lnTo>
                  <a:pt x="267" y="1508"/>
                </a:lnTo>
                <a:lnTo>
                  <a:pt x="267" y="1495"/>
                </a:lnTo>
                <a:lnTo>
                  <a:pt x="254" y="1483"/>
                </a:lnTo>
                <a:lnTo>
                  <a:pt x="254" y="1470"/>
                </a:lnTo>
                <a:lnTo>
                  <a:pt x="254" y="1445"/>
                </a:lnTo>
                <a:lnTo>
                  <a:pt x="241" y="1419"/>
                </a:lnTo>
                <a:lnTo>
                  <a:pt x="229" y="1407"/>
                </a:lnTo>
                <a:lnTo>
                  <a:pt x="216" y="1381"/>
                </a:lnTo>
                <a:lnTo>
                  <a:pt x="203" y="1356"/>
                </a:lnTo>
                <a:lnTo>
                  <a:pt x="190" y="1331"/>
                </a:lnTo>
                <a:lnTo>
                  <a:pt x="165" y="1318"/>
                </a:lnTo>
                <a:lnTo>
                  <a:pt x="140" y="1293"/>
                </a:lnTo>
                <a:lnTo>
                  <a:pt x="114" y="1267"/>
                </a:lnTo>
                <a:lnTo>
                  <a:pt x="89" y="1255"/>
                </a:lnTo>
                <a:lnTo>
                  <a:pt x="63" y="1229"/>
                </a:lnTo>
                <a:lnTo>
                  <a:pt x="38" y="1217"/>
                </a:lnTo>
                <a:lnTo>
                  <a:pt x="25" y="1204"/>
                </a:lnTo>
                <a:lnTo>
                  <a:pt x="12" y="1179"/>
                </a:lnTo>
                <a:lnTo>
                  <a:pt x="0" y="1179"/>
                </a:lnTo>
                <a:lnTo>
                  <a:pt x="0" y="1166"/>
                </a:lnTo>
                <a:lnTo>
                  <a:pt x="0" y="1153"/>
                </a:lnTo>
                <a:lnTo>
                  <a:pt x="0" y="1141"/>
                </a:lnTo>
                <a:lnTo>
                  <a:pt x="12" y="1141"/>
                </a:lnTo>
                <a:lnTo>
                  <a:pt x="25" y="1141"/>
                </a:lnTo>
                <a:lnTo>
                  <a:pt x="51" y="1153"/>
                </a:lnTo>
                <a:lnTo>
                  <a:pt x="63" y="1153"/>
                </a:lnTo>
                <a:lnTo>
                  <a:pt x="101" y="1153"/>
                </a:lnTo>
                <a:lnTo>
                  <a:pt x="127" y="1166"/>
                </a:lnTo>
                <a:lnTo>
                  <a:pt x="152" y="1179"/>
                </a:lnTo>
                <a:lnTo>
                  <a:pt x="190" y="1179"/>
                </a:lnTo>
                <a:lnTo>
                  <a:pt x="216" y="1179"/>
                </a:lnTo>
                <a:lnTo>
                  <a:pt x="229" y="1179"/>
                </a:lnTo>
                <a:lnTo>
                  <a:pt x="254" y="1179"/>
                </a:lnTo>
                <a:lnTo>
                  <a:pt x="267" y="1179"/>
                </a:lnTo>
                <a:lnTo>
                  <a:pt x="280" y="1179"/>
                </a:lnTo>
                <a:lnTo>
                  <a:pt x="280" y="1166"/>
                </a:lnTo>
                <a:lnTo>
                  <a:pt x="292" y="1153"/>
                </a:lnTo>
                <a:lnTo>
                  <a:pt x="292" y="1128"/>
                </a:lnTo>
                <a:lnTo>
                  <a:pt x="292" y="1103"/>
                </a:lnTo>
                <a:lnTo>
                  <a:pt x="305" y="1077"/>
                </a:lnTo>
                <a:lnTo>
                  <a:pt x="305" y="1026"/>
                </a:lnTo>
                <a:lnTo>
                  <a:pt x="305" y="988"/>
                </a:lnTo>
                <a:lnTo>
                  <a:pt x="318" y="925"/>
                </a:lnTo>
                <a:lnTo>
                  <a:pt x="318" y="824"/>
                </a:lnTo>
                <a:lnTo>
                  <a:pt x="318" y="710"/>
                </a:lnTo>
                <a:lnTo>
                  <a:pt x="318" y="583"/>
                </a:lnTo>
                <a:lnTo>
                  <a:pt x="318" y="456"/>
                </a:lnTo>
                <a:lnTo>
                  <a:pt x="305" y="380"/>
                </a:lnTo>
                <a:lnTo>
                  <a:pt x="305" y="330"/>
                </a:lnTo>
                <a:lnTo>
                  <a:pt x="292" y="266"/>
                </a:lnTo>
                <a:lnTo>
                  <a:pt x="280" y="203"/>
                </a:lnTo>
                <a:lnTo>
                  <a:pt x="267" y="152"/>
                </a:lnTo>
                <a:lnTo>
                  <a:pt x="267" y="101"/>
                </a:lnTo>
                <a:lnTo>
                  <a:pt x="254" y="51"/>
                </a:lnTo>
                <a:lnTo>
                  <a:pt x="241" y="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6" name="TextBox 2"/>
          <p:cNvSpPr/>
          <p:nvPr/>
        </p:nvSpPr>
        <p:spPr>
          <a:xfrm>
            <a:off x="604800" y="2336760"/>
            <a:ext cx="20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赤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5202360" y="4916880"/>
            <a:ext cx="331272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书写指导：土字要扁宽、下横要长，下边中间左是撇右是竖钩，两边是左短撇右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4"/>
          <p:cNvSpPr/>
          <p:nvPr/>
        </p:nvSpPr>
        <p:spPr>
          <a:xfrm>
            <a:off x="3077280" y="255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24"/>
          <p:cNvSpPr/>
          <p:nvPr/>
        </p:nvSpPr>
        <p:spPr>
          <a:xfrm>
            <a:off x="2755800" y="1585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716040" y="4091400"/>
            <a:ext cx="23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独体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716040" y="503964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赤贫　 赤手空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9"/>
          <p:cNvSpPr/>
          <p:nvPr/>
        </p:nvSpPr>
        <p:spPr>
          <a:xfrm>
            <a:off x="716040" y="5513760"/>
            <a:ext cx="4084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赤道把地球分为南北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半球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0"/>
          <p:cNvSpPr/>
          <p:nvPr/>
        </p:nvSpPr>
        <p:spPr>
          <a:xfrm>
            <a:off x="706320" y="4565520"/>
            <a:ext cx="290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425" name="圆角矩形 32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427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972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Group 47"/>
          <p:cNvGraphicFramePr/>
          <p:nvPr/>
        </p:nvGraphicFramePr>
        <p:xfrm>
          <a:off x="5478480" y="1786320"/>
          <a:ext cx="2590560" cy="3039120"/>
        </p:xfrm>
        <a:graphic>
          <a:graphicData uri="http://schemas.openxmlformats.org/drawingml/2006/table">
            <a:tbl>
              <a:tblPr/>
              <a:tblGrid>
                <a:gridCol w="1284120"/>
                <a:gridCol w="1306080"/>
              </a:tblGrid>
              <a:tr h="151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Freeform 28"/>
          <p:cNvSpPr/>
          <p:nvPr/>
        </p:nvSpPr>
        <p:spPr>
          <a:xfrm>
            <a:off x="6148440" y="2324160"/>
            <a:ext cx="137880" cy="1906920"/>
          </a:xfrm>
          <a:custGeom>
            <a:avLst/>
            <a:gdLst>
              <a:gd name="textAreaLeft" fmla="*/ 0 w 137880"/>
              <a:gd name="textAreaRight" fmla="*/ 138240 w 137880"/>
              <a:gd name="textAreaTop" fmla="*/ 0 h 1906920"/>
              <a:gd name="textAreaBottom" fmla="*/ 1907280 h 1906920"/>
            </a:gdLst>
            <a:ahLst/>
            <a:rect l="textAreaLeft" t="textAreaTop" r="textAreaRight" b="textAreaBottom"/>
            <a:pathLst>
              <a:path w="217" h="2253">
                <a:moveTo>
                  <a:pt x="32" y="141"/>
                </a:moveTo>
                <a:lnTo>
                  <a:pt x="22" y="109"/>
                </a:lnTo>
                <a:lnTo>
                  <a:pt x="22" y="87"/>
                </a:lnTo>
                <a:lnTo>
                  <a:pt x="22" y="65"/>
                </a:lnTo>
                <a:lnTo>
                  <a:pt x="22" y="43"/>
                </a:lnTo>
                <a:lnTo>
                  <a:pt x="22" y="33"/>
                </a:lnTo>
                <a:lnTo>
                  <a:pt x="32" y="22"/>
                </a:lnTo>
                <a:lnTo>
                  <a:pt x="32" y="11"/>
                </a:lnTo>
                <a:lnTo>
                  <a:pt x="43" y="11"/>
                </a:lnTo>
                <a:lnTo>
                  <a:pt x="54" y="0"/>
                </a:lnTo>
                <a:lnTo>
                  <a:pt x="65" y="0"/>
                </a:lnTo>
                <a:lnTo>
                  <a:pt x="76" y="11"/>
                </a:lnTo>
                <a:lnTo>
                  <a:pt x="98" y="11"/>
                </a:lnTo>
                <a:lnTo>
                  <a:pt x="119" y="22"/>
                </a:lnTo>
                <a:lnTo>
                  <a:pt x="152" y="33"/>
                </a:lnTo>
                <a:lnTo>
                  <a:pt x="185" y="43"/>
                </a:lnTo>
                <a:lnTo>
                  <a:pt x="217" y="65"/>
                </a:lnTo>
                <a:lnTo>
                  <a:pt x="217" y="218"/>
                </a:lnTo>
                <a:lnTo>
                  <a:pt x="206" y="359"/>
                </a:lnTo>
                <a:lnTo>
                  <a:pt x="206" y="490"/>
                </a:lnTo>
                <a:lnTo>
                  <a:pt x="206" y="620"/>
                </a:lnTo>
                <a:lnTo>
                  <a:pt x="206" y="740"/>
                </a:lnTo>
                <a:lnTo>
                  <a:pt x="196" y="849"/>
                </a:lnTo>
                <a:lnTo>
                  <a:pt x="196" y="958"/>
                </a:lnTo>
                <a:lnTo>
                  <a:pt x="196" y="1045"/>
                </a:lnTo>
                <a:lnTo>
                  <a:pt x="196" y="1132"/>
                </a:lnTo>
                <a:lnTo>
                  <a:pt x="185" y="1219"/>
                </a:lnTo>
                <a:lnTo>
                  <a:pt x="185" y="1284"/>
                </a:lnTo>
                <a:lnTo>
                  <a:pt x="185" y="1349"/>
                </a:lnTo>
                <a:lnTo>
                  <a:pt x="185" y="1404"/>
                </a:lnTo>
                <a:lnTo>
                  <a:pt x="185" y="1458"/>
                </a:lnTo>
                <a:lnTo>
                  <a:pt x="185" y="1491"/>
                </a:lnTo>
                <a:lnTo>
                  <a:pt x="185" y="1523"/>
                </a:lnTo>
                <a:lnTo>
                  <a:pt x="185" y="1632"/>
                </a:lnTo>
                <a:lnTo>
                  <a:pt x="185" y="1752"/>
                </a:lnTo>
                <a:lnTo>
                  <a:pt x="174" y="1872"/>
                </a:lnTo>
                <a:lnTo>
                  <a:pt x="174" y="1991"/>
                </a:lnTo>
                <a:lnTo>
                  <a:pt x="163" y="2046"/>
                </a:lnTo>
                <a:lnTo>
                  <a:pt x="163" y="2100"/>
                </a:lnTo>
                <a:lnTo>
                  <a:pt x="163" y="2144"/>
                </a:lnTo>
                <a:lnTo>
                  <a:pt x="152" y="2176"/>
                </a:lnTo>
                <a:lnTo>
                  <a:pt x="152" y="2209"/>
                </a:lnTo>
                <a:lnTo>
                  <a:pt x="141" y="2231"/>
                </a:lnTo>
                <a:lnTo>
                  <a:pt x="141" y="2242"/>
                </a:lnTo>
                <a:lnTo>
                  <a:pt x="141" y="2253"/>
                </a:lnTo>
                <a:lnTo>
                  <a:pt x="130" y="2253"/>
                </a:lnTo>
                <a:lnTo>
                  <a:pt x="119" y="2253"/>
                </a:lnTo>
                <a:lnTo>
                  <a:pt x="109" y="2242"/>
                </a:lnTo>
                <a:lnTo>
                  <a:pt x="98" y="2231"/>
                </a:lnTo>
                <a:lnTo>
                  <a:pt x="87" y="2220"/>
                </a:lnTo>
                <a:lnTo>
                  <a:pt x="76" y="2198"/>
                </a:lnTo>
                <a:lnTo>
                  <a:pt x="65" y="2176"/>
                </a:lnTo>
                <a:lnTo>
                  <a:pt x="54" y="2144"/>
                </a:lnTo>
                <a:lnTo>
                  <a:pt x="43" y="2122"/>
                </a:lnTo>
                <a:lnTo>
                  <a:pt x="32" y="2089"/>
                </a:lnTo>
                <a:lnTo>
                  <a:pt x="22" y="2068"/>
                </a:lnTo>
                <a:lnTo>
                  <a:pt x="11" y="2057"/>
                </a:lnTo>
                <a:lnTo>
                  <a:pt x="11" y="2035"/>
                </a:lnTo>
                <a:lnTo>
                  <a:pt x="0" y="2013"/>
                </a:lnTo>
                <a:lnTo>
                  <a:pt x="0" y="2002"/>
                </a:lnTo>
                <a:lnTo>
                  <a:pt x="11" y="1991"/>
                </a:lnTo>
                <a:lnTo>
                  <a:pt x="11" y="1981"/>
                </a:lnTo>
                <a:lnTo>
                  <a:pt x="11" y="1959"/>
                </a:lnTo>
                <a:lnTo>
                  <a:pt x="11" y="1926"/>
                </a:lnTo>
                <a:lnTo>
                  <a:pt x="11" y="1893"/>
                </a:lnTo>
                <a:lnTo>
                  <a:pt x="22" y="1850"/>
                </a:lnTo>
                <a:lnTo>
                  <a:pt x="32" y="1806"/>
                </a:lnTo>
                <a:lnTo>
                  <a:pt x="32" y="1752"/>
                </a:lnTo>
                <a:lnTo>
                  <a:pt x="43" y="1687"/>
                </a:lnTo>
                <a:lnTo>
                  <a:pt x="43" y="1654"/>
                </a:lnTo>
                <a:lnTo>
                  <a:pt x="43" y="1611"/>
                </a:lnTo>
                <a:lnTo>
                  <a:pt x="54" y="1578"/>
                </a:lnTo>
                <a:lnTo>
                  <a:pt x="54" y="1534"/>
                </a:lnTo>
                <a:lnTo>
                  <a:pt x="54" y="1491"/>
                </a:lnTo>
                <a:lnTo>
                  <a:pt x="54" y="1447"/>
                </a:lnTo>
                <a:lnTo>
                  <a:pt x="54" y="1393"/>
                </a:lnTo>
                <a:lnTo>
                  <a:pt x="54" y="1338"/>
                </a:lnTo>
                <a:lnTo>
                  <a:pt x="65" y="1284"/>
                </a:lnTo>
                <a:lnTo>
                  <a:pt x="65" y="1230"/>
                </a:lnTo>
                <a:lnTo>
                  <a:pt x="65" y="1175"/>
                </a:lnTo>
                <a:lnTo>
                  <a:pt x="65" y="1110"/>
                </a:lnTo>
                <a:lnTo>
                  <a:pt x="65" y="1045"/>
                </a:lnTo>
                <a:lnTo>
                  <a:pt x="65" y="979"/>
                </a:lnTo>
                <a:lnTo>
                  <a:pt x="65" y="903"/>
                </a:lnTo>
                <a:lnTo>
                  <a:pt x="65" y="838"/>
                </a:lnTo>
                <a:lnTo>
                  <a:pt x="65" y="762"/>
                </a:lnTo>
                <a:lnTo>
                  <a:pt x="65" y="696"/>
                </a:lnTo>
                <a:lnTo>
                  <a:pt x="65" y="631"/>
                </a:lnTo>
                <a:lnTo>
                  <a:pt x="65" y="577"/>
                </a:lnTo>
                <a:lnTo>
                  <a:pt x="65" y="522"/>
                </a:lnTo>
                <a:lnTo>
                  <a:pt x="65" y="468"/>
                </a:lnTo>
                <a:lnTo>
                  <a:pt x="54" y="413"/>
                </a:lnTo>
                <a:lnTo>
                  <a:pt x="54" y="370"/>
                </a:lnTo>
                <a:lnTo>
                  <a:pt x="54" y="326"/>
                </a:lnTo>
                <a:lnTo>
                  <a:pt x="54" y="294"/>
                </a:lnTo>
                <a:lnTo>
                  <a:pt x="54" y="261"/>
                </a:lnTo>
                <a:lnTo>
                  <a:pt x="43" y="228"/>
                </a:lnTo>
                <a:lnTo>
                  <a:pt x="43" y="207"/>
                </a:lnTo>
                <a:lnTo>
                  <a:pt x="43" y="174"/>
                </a:lnTo>
                <a:lnTo>
                  <a:pt x="32" y="163"/>
                </a:lnTo>
                <a:lnTo>
                  <a:pt x="32" y="14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0" name="Freeform 29"/>
          <p:cNvSpPr/>
          <p:nvPr/>
        </p:nvSpPr>
        <p:spPr>
          <a:xfrm>
            <a:off x="6230880" y="2214000"/>
            <a:ext cx="1248840" cy="2145960"/>
          </a:xfrm>
          <a:custGeom>
            <a:avLst/>
            <a:gdLst>
              <a:gd name="textAreaLeft" fmla="*/ 0 w 1248840"/>
              <a:gd name="textAreaRight" fmla="*/ 1249200 w 1248840"/>
              <a:gd name="textAreaTop" fmla="*/ 0 h 2145960"/>
              <a:gd name="textAreaBottom" fmla="*/ 2146320 h 2145960"/>
            </a:gdLst>
            <a:ahLst/>
            <a:rect l="textAreaLeft" t="textAreaTop" r="textAreaRight" b="textAreaBottom"/>
            <a:pathLst>
              <a:path w="1968" h="2536">
                <a:moveTo>
                  <a:pt x="1816" y="77"/>
                </a:moveTo>
                <a:lnTo>
                  <a:pt x="1848" y="98"/>
                </a:lnTo>
                <a:lnTo>
                  <a:pt x="1870" y="109"/>
                </a:lnTo>
                <a:lnTo>
                  <a:pt x="1903" y="131"/>
                </a:lnTo>
                <a:lnTo>
                  <a:pt x="1925" y="142"/>
                </a:lnTo>
                <a:lnTo>
                  <a:pt x="1935" y="153"/>
                </a:lnTo>
                <a:lnTo>
                  <a:pt x="1946" y="153"/>
                </a:lnTo>
                <a:lnTo>
                  <a:pt x="1957" y="164"/>
                </a:lnTo>
                <a:lnTo>
                  <a:pt x="1968" y="174"/>
                </a:lnTo>
                <a:lnTo>
                  <a:pt x="1968" y="185"/>
                </a:lnTo>
                <a:lnTo>
                  <a:pt x="1957" y="207"/>
                </a:lnTo>
                <a:lnTo>
                  <a:pt x="1946" y="218"/>
                </a:lnTo>
                <a:lnTo>
                  <a:pt x="1935" y="229"/>
                </a:lnTo>
                <a:lnTo>
                  <a:pt x="1925" y="240"/>
                </a:lnTo>
                <a:lnTo>
                  <a:pt x="1914" y="262"/>
                </a:lnTo>
                <a:lnTo>
                  <a:pt x="1903" y="283"/>
                </a:lnTo>
                <a:lnTo>
                  <a:pt x="1903" y="316"/>
                </a:lnTo>
                <a:lnTo>
                  <a:pt x="1903" y="349"/>
                </a:lnTo>
                <a:lnTo>
                  <a:pt x="1903" y="403"/>
                </a:lnTo>
                <a:lnTo>
                  <a:pt x="1903" y="447"/>
                </a:lnTo>
                <a:lnTo>
                  <a:pt x="1903" y="512"/>
                </a:lnTo>
                <a:lnTo>
                  <a:pt x="1914" y="642"/>
                </a:lnTo>
                <a:lnTo>
                  <a:pt x="1914" y="762"/>
                </a:lnTo>
                <a:lnTo>
                  <a:pt x="1925" y="893"/>
                </a:lnTo>
                <a:lnTo>
                  <a:pt x="1925" y="1034"/>
                </a:lnTo>
                <a:lnTo>
                  <a:pt x="1914" y="1165"/>
                </a:lnTo>
                <a:lnTo>
                  <a:pt x="1914" y="1306"/>
                </a:lnTo>
                <a:lnTo>
                  <a:pt x="1914" y="1448"/>
                </a:lnTo>
                <a:lnTo>
                  <a:pt x="1925" y="1589"/>
                </a:lnTo>
                <a:lnTo>
                  <a:pt x="1925" y="1654"/>
                </a:lnTo>
                <a:lnTo>
                  <a:pt x="1925" y="1720"/>
                </a:lnTo>
                <a:lnTo>
                  <a:pt x="1925" y="1785"/>
                </a:lnTo>
                <a:lnTo>
                  <a:pt x="1925" y="1839"/>
                </a:lnTo>
                <a:lnTo>
                  <a:pt x="1925" y="1883"/>
                </a:lnTo>
                <a:lnTo>
                  <a:pt x="1925" y="1937"/>
                </a:lnTo>
                <a:lnTo>
                  <a:pt x="1925" y="1981"/>
                </a:lnTo>
                <a:lnTo>
                  <a:pt x="1925" y="2014"/>
                </a:lnTo>
                <a:lnTo>
                  <a:pt x="1914" y="2090"/>
                </a:lnTo>
                <a:lnTo>
                  <a:pt x="1914" y="2166"/>
                </a:lnTo>
                <a:lnTo>
                  <a:pt x="1903" y="2242"/>
                </a:lnTo>
                <a:lnTo>
                  <a:pt x="1892" y="2307"/>
                </a:lnTo>
                <a:lnTo>
                  <a:pt x="1881" y="2373"/>
                </a:lnTo>
                <a:lnTo>
                  <a:pt x="1859" y="2416"/>
                </a:lnTo>
                <a:lnTo>
                  <a:pt x="1848" y="2438"/>
                </a:lnTo>
                <a:lnTo>
                  <a:pt x="1838" y="2460"/>
                </a:lnTo>
                <a:lnTo>
                  <a:pt x="1827" y="2482"/>
                </a:lnTo>
                <a:lnTo>
                  <a:pt x="1816" y="2492"/>
                </a:lnTo>
                <a:lnTo>
                  <a:pt x="1794" y="2514"/>
                </a:lnTo>
                <a:lnTo>
                  <a:pt x="1772" y="2525"/>
                </a:lnTo>
                <a:lnTo>
                  <a:pt x="1751" y="2536"/>
                </a:lnTo>
                <a:lnTo>
                  <a:pt x="1729" y="2536"/>
                </a:lnTo>
                <a:lnTo>
                  <a:pt x="1718" y="2525"/>
                </a:lnTo>
                <a:lnTo>
                  <a:pt x="1707" y="2503"/>
                </a:lnTo>
                <a:lnTo>
                  <a:pt x="1707" y="2471"/>
                </a:lnTo>
                <a:lnTo>
                  <a:pt x="1707" y="2438"/>
                </a:lnTo>
                <a:lnTo>
                  <a:pt x="1707" y="2405"/>
                </a:lnTo>
                <a:lnTo>
                  <a:pt x="1696" y="2384"/>
                </a:lnTo>
                <a:lnTo>
                  <a:pt x="1685" y="2351"/>
                </a:lnTo>
                <a:lnTo>
                  <a:pt x="1664" y="2307"/>
                </a:lnTo>
                <a:lnTo>
                  <a:pt x="1642" y="2264"/>
                </a:lnTo>
                <a:lnTo>
                  <a:pt x="1609" y="2220"/>
                </a:lnTo>
                <a:lnTo>
                  <a:pt x="1577" y="2177"/>
                </a:lnTo>
                <a:lnTo>
                  <a:pt x="1544" y="2122"/>
                </a:lnTo>
                <a:lnTo>
                  <a:pt x="1577" y="2133"/>
                </a:lnTo>
                <a:lnTo>
                  <a:pt x="1609" y="2133"/>
                </a:lnTo>
                <a:lnTo>
                  <a:pt x="1631" y="2144"/>
                </a:lnTo>
                <a:lnTo>
                  <a:pt x="1653" y="2144"/>
                </a:lnTo>
                <a:lnTo>
                  <a:pt x="1675" y="2144"/>
                </a:lnTo>
                <a:lnTo>
                  <a:pt x="1696" y="2144"/>
                </a:lnTo>
                <a:lnTo>
                  <a:pt x="1707" y="2144"/>
                </a:lnTo>
                <a:lnTo>
                  <a:pt x="1718" y="2144"/>
                </a:lnTo>
                <a:lnTo>
                  <a:pt x="1718" y="2133"/>
                </a:lnTo>
                <a:lnTo>
                  <a:pt x="1729" y="2122"/>
                </a:lnTo>
                <a:lnTo>
                  <a:pt x="1729" y="2112"/>
                </a:lnTo>
                <a:lnTo>
                  <a:pt x="1729" y="2090"/>
                </a:lnTo>
                <a:lnTo>
                  <a:pt x="1740" y="2068"/>
                </a:lnTo>
                <a:lnTo>
                  <a:pt x="1740" y="2035"/>
                </a:lnTo>
                <a:lnTo>
                  <a:pt x="1740" y="2003"/>
                </a:lnTo>
                <a:lnTo>
                  <a:pt x="1751" y="1959"/>
                </a:lnTo>
                <a:lnTo>
                  <a:pt x="1751" y="1905"/>
                </a:lnTo>
                <a:lnTo>
                  <a:pt x="1751" y="1861"/>
                </a:lnTo>
                <a:lnTo>
                  <a:pt x="1751" y="1796"/>
                </a:lnTo>
                <a:lnTo>
                  <a:pt x="1751" y="1731"/>
                </a:lnTo>
                <a:lnTo>
                  <a:pt x="1751" y="1665"/>
                </a:lnTo>
                <a:lnTo>
                  <a:pt x="1751" y="1589"/>
                </a:lnTo>
                <a:lnTo>
                  <a:pt x="1751" y="1513"/>
                </a:lnTo>
                <a:lnTo>
                  <a:pt x="1751" y="1426"/>
                </a:lnTo>
                <a:lnTo>
                  <a:pt x="1751" y="1339"/>
                </a:lnTo>
                <a:lnTo>
                  <a:pt x="1751" y="1263"/>
                </a:lnTo>
                <a:lnTo>
                  <a:pt x="1751" y="1187"/>
                </a:lnTo>
                <a:lnTo>
                  <a:pt x="1751" y="1110"/>
                </a:lnTo>
                <a:lnTo>
                  <a:pt x="1751" y="1045"/>
                </a:lnTo>
                <a:lnTo>
                  <a:pt x="1751" y="980"/>
                </a:lnTo>
                <a:lnTo>
                  <a:pt x="1751" y="914"/>
                </a:lnTo>
                <a:lnTo>
                  <a:pt x="1751" y="860"/>
                </a:lnTo>
                <a:lnTo>
                  <a:pt x="1751" y="806"/>
                </a:lnTo>
                <a:lnTo>
                  <a:pt x="1751" y="762"/>
                </a:lnTo>
                <a:lnTo>
                  <a:pt x="1751" y="719"/>
                </a:lnTo>
                <a:lnTo>
                  <a:pt x="1751" y="675"/>
                </a:lnTo>
                <a:lnTo>
                  <a:pt x="1751" y="642"/>
                </a:lnTo>
                <a:lnTo>
                  <a:pt x="1751" y="610"/>
                </a:lnTo>
                <a:lnTo>
                  <a:pt x="1740" y="577"/>
                </a:lnTo>
                <a:lnTo>
                  <a:pt x="1740" y="555"/>
                </a:lnTo>
                <a:lnTo>
                  <a:pt x="1740" y="479"/>
                </a:lnTo>
                <a:lnTo>
                  <a:pt x="1729" y="414"/>
                </a:lnTo>
                <a:lnTo>
                  <a:pt x="1729" y="381"/>
                </a:lnTo>
                <a:lnTo>
                  <a:pt x="1729" y="359"/>
                </a:lnTo>
                <a:lnTo>
                  <a:pt x="1718" y="327"/>
                </a:lnTo>
                <a:lnTo>
                  <a:pt x="1718" y="305"/>
                </a:lnTo>
                <a:lnTo>
                  <a:pt x="1707" y="262"/>
                </a:lnTo>
                <a:lnTo>
                  <a:pt x="1696" y="229"/>
                </a:lnTo>
                <a:lnTo>
                  <a:pt x="1685" y="218"/>
                </a:lnTo>
                <a:lnTo>
                  <a:pt x="1675" y="207"/>
                </a:lnTo>
                <a:lnTo>
                  <a:pt x="1664" y="196"/>
                </a:lnTo>
                <a:lnTo>
                  <a:pt x="1653" y="196"/>
                </a:lnTo>
                <a:lnTo>
                  <a:pt x="1620" y="185"/>
                </a:lnTo>
                <a:lnTo>
                  <a:pt x="1588" y="174"/>
                </a:lnTo>
                <a:lnTo>
                  <a:pt x="1555" y="174"/>
                </a:lnTo>
                <a:lnTo>
                  <a:pt x="1522" y="174"/>
                </a:lnTo>
                <a:lnTo>
                  <a:pt x="1511" y="174"/>
                </a:lnTo>
                <a:lnTo>
                  <a:pt x="1501" y="174"/>
                </a:lnTo>
                <a:lnTo>
                  <a:pt x="1490" y="174"/>
                </a:lnTo>
                <a:lnTo>
                  <a:pt x="1479" y="174"/>
                </a:lnTo>
                <a:lnTo>
                  <a:pt x="1457" y="174"/>
                </a:lnTo>
                <a:lnTo>
                  <a:pt x="1446" y="174"/>
                </a:lnTo>
                <a:lnTo>
                  <a:pt x="1425" y="174"/>
                </a:lnTo>
                <a:lnTo>
                  <a:pt x="1392" y="174"/>
                </a:lnTo>
                <a:lnTo>
                  <a:pt x="1370" y="185"/>
                </a:lnTo>
                <a:lnTo>
                  <a:pt x="1338" y="185"/>
                </a:lnTo>
                <a:lnTo>
                  <a:pt x="1305" y="185"/>
                </a:lnTo>
                <a:lnTo>
                  <a:pt x="1272" y="185"/>
                </a:lnTo>
                <a:lnTo>
                  <a:pt x="1229" y="196"/>
                </a:lnTo>
                <a:lnTo>
                  <a:pt x="1196" y="196"/>
                </a:lnTo>
                <a:lnTo>
                  <a:pt x="1153" y="196"/>
                </a:lnTo>
                <a:lnTo>
                  <a:pt x="1098" y="207"/>
                </a:lnTo>
                <a:lnTo>
                  <a:pt x="1055" y="207"/>
                </a:lnTo>
                <a:lnTo>
                  <a:pt x="1001" y="207"/>
                </a:lnTo>
                <a:lnTo>
                  <a:pt x="946" y="218"/>
                </a:lnTo>
                <a:lnTo>
                  <a:pt x="892" y="218"/>
                </a:lnTo>
                <a:lnTo>
                  <a:pt x="827" y="229"/>
                </a:lnTo>
                <a:lnTo>
                  <a:pt x="772" y="229"/>
                </a:lnTo>
                <a:lnTo>
                  <a:pt x="707" y="240"/>
                </a:lnTo>
                <a:lnTo>
                  <a:pt x="631" y="240"/>
                </a:lnTo>
                <a:lnTo>
                  <a:pt x="566" y="251"/>
                </a:lnTo>
                <a:lnTo>
                  <a:pt x="490" y="251"/>
                </a:lnTo>
                <a:lnTo>
                  <a:pt x="413" y="262"/>
                </a:lnTo>
                <a:lnTo>
                  <a:pt x="337" y="262"/>
                </a:lnTo>
                <a:lnTo>
                  <a:pt x="250" y="272"/>
                </a:lnTo>
                <a:lnTo>
                  <a:pt x="174" y="283"/>
                </a:lnTo>
                <a:lnTo>
                  <a:pt x="87" y="283"/>
                </a:lnTo>
                <a:lnTo>
                  <a:pt x="0" y="294"/>
                </a:lnTo>
                <a:lnTo>
                  <a:pt x="0" y="185"/>
                </a:lnTo>
                <a:lnTo>
                  <a:pt x="109" y="185"/>
                </a:lnTo>
                <a:lnTo>
                  <a:pt x="218" y="174"/>
                </a:lnTo>
                <a:lnTo>
                  <a:pt x="316" y="164"/>
                </a:lnTo>
                <a:lnTo>
                  <a:pt x="424" y="164"/>
                </a:lnTo>
                <a:lnTo>
                  <a:pt x="468" y="153"/>
                </a:lnTo>
                <a:lnTo>
                  <a:pt x="522" y="153"/>
                </a:lnTo>
                <a:lnTo>
                  <a:pt x="577" y="142"/>
                </a:lnTo>
                <a:lnTo>
                  <a:pt x="631" y="142"/>
                </a:lnTo>
                <a:lnTo>
                  <a:pt x="696" y="131"/>
                </a:lnTo>
                <a:lnTo>
                  <a:pt x="761" y="131"/>
                </a:lnTo>
                <a:lnTo>
                  <a:pt x="827" y="120"/>
                </a:lnTo>
                <a:lnTo>
                  <a:pt x="903" y="109"/>
                </a:lnTo>
                <a:lnTo>
                  <a:pt x="979" y="109"/>
                </a:lnTo>
                <a:lnTo>
                  <a:pt x="1044" y="98"/>
                </a:lnTo>
                <a:lnTo>
                  <a:pt x="1109" y="87"/>
                </a:lnTo>
                <a:lnTo>
                  <a:pt x="1164" y="87"/>
                </a:lnTo>
                <a:lnTo>
                  <a:pt x="1229" y="87"/>
                </a:lnTo>
                <a:lnTo>
                  <a:pt x="1283" y="77"/>
                </a:lnTo>
                <a:lnTo>
                  <a:pt x="1338" y="77"/>
                </a:lnTo>
                <a:lnTo>
                  <a:pt x="1392" y="66"/>
                </a:lnTo>
                <a:lnTo>
                  <a:pt x="1435" y="66"/>
                </a:lnTo>
                <a:lnTo>
                  <a:pt x="1479" y="55"/>
                </a:lnTo>
                <a:lnTo>
                  <a:pt x="1511" y="55"/>
                </a:lnTo>
                <a:lnTo>
                  <a:pt x="1544" y="55"/>
                </a:lnTo>
                <a:lnTo>
                  <a:pt x="1566" y="44"/>
                </a:lnTo>
                <a:lnTo>
                  <a:pt x="1577" y="33"/>
                </a:lnTo>
                <a:lnTo>
                  <a:pt x="1598" y="33"/>
                </a:lnTo>
                <a:lnTo>
                  <a:pt x="1598" y="22"/>
                </a:lnTo>
                <a:lnTo>
                  <a:pt x="1609" y="11"/>
                </a:lnTo>
                <a:lnTo>
                  <a:pt x="1631" y="11"/>
                </a:lnTo>
                <a:lnTo>
                  <a:pt x="1642" y="0"/>
                </a:lnTo>
                <a:lnTo>
                  <a:pt x="1664" y="0"/>
                </a:lnTo>
                <a:lnTo>
                  <a:pt x="1675" y="0"/>
                </a:lnTo>
                <a:lnTo>
                  <a:pt x="1696" y="11"/>
                </a:lnTo>
                <a:lnTo>
                  <a:pt x="1707" y="22"/>
                </a:lnTo>
                <a:lnTo>
                  <a:pt x="1729" y="33"/>
                </a:lnTo>
                <a:lnTo>
                  <a:pt x="1762" y="44"/>
                </a:lnTo>
                <a:lnTo>
                  <a:pt x="1783" y="55"/>
                </a:lnTo>
                <a:lnTo>
                  <a:pt x="1816" y="77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1" name="Freeform 30"/>
          <p:cNvSpPr/>
          <p:nvPr/>
        </p:nvSpPr>
        <p:spPr>
          <a:xfrm>
            <a:off x="6445080" y="2610000"/>
            <a:ext cx="144000" cy="175320"/>
          </a:xfrm>
          <a:custGeom>
            <a:avLst/>
            <a:gdLst>
              <a:gd name="textAreaLeft" fmla="*/ 0 w 144000"/>
              <a:gd name="textAreaRight" fmla="*/ 144360 w 144000"/>
              <a:gd name="textAreaTop" fmla="*/ 0 h 175320"/>
              <a:gd name="textAreaBottom" fmla="*/ 175680 h 175320"/>
            </a:gdLst>
            <a:ahLst/>
            <a:rect l="textAreaLeft" t="textAreaTop" r="textAreaRight" b="textAreaBottom"/>
            <a:pathLst>
              <a:path w="229" h="207">
                <a:moveTo>
                  <a:pt x="229" y="120"/>
                </a:moveTo>
                <a:lnTo>
                  <a:pt x="229" y="153"/>
                </a:lnTo>
                <a:lnTo>
                  <a:pt x="229" y="174"/>
                </a:lnTo>
                <a:lnTo>
                  <a:pt x="218" y="185"/>
                </a:lnTo>
                <a:lnTo>
                  <a:pt x="218" y="196"/>
                </a:lnTo>
                <a:lnTo>
                  <a:pt x="207" y="207"/>
                </a:lnTo>
                <a:lnTo>
                  <a:pt x="196" y="196"/>
                </a:lnTo>
                <a:lnTo>
                  <a:pt x="174" y="185"/>
                </a:lnTo>
                <a:lnTo>
                  <a:pt x="153" y="164"/>
                </a:lnTo>
                <a:lnTo>
                  <a:pt x="120" y="142"/>
                </a:lnTo>
                <a:lnTo>
                  <a:pt x="87" y="109"/>
                </a:lnTo>
                <a:lnTo>
                  <a:pt x="44" y="66"/>
                </a:lnTo>
                <a:lnTo>
                  <a:pt x="0" y="22"/>
                </a:lnTo>
                <a:lnTo>
                  <a:pt x="22" y="11"/>
                </a:lnTo>
                <a:lnTo>
                  <a:pt x="55" y="0"/>
                </a:lnTo>
                <a:lnTo>
                  <a:pt x="87" y="0"/>
                </a:lnTo>
                <a:lnTo>
                  <a:pt x="131" y="11"/>
                </a:lnTo>
                <a:lnTo>
                  <a:pt x="153" y="22"/>
                </a:lnTo>
                <a:lnTo>
                  <a:pt x="174" y="33"/>
                </a:lnTo>
                <a:lnTo>
                  <a:pt x="185" y="44"/>
                </a:lnTo>
                <a:lnTo>
                  <a:pt x="196" y="55"/>
                </a:lnTo>
                <a:lnTo>
                  <a:pt x="207" y="66"/>
                </a:lnTo>
                <a:lnTo>
                  <a:pt x="218" y="87"/>
                </a:lnTo>
                <a:lnTo>
                  <a:pt x="229" y="98"/>
                </a:lnTo>
                <a:lnTo>
                  <a:pt x="229" y="12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2" name="Freeform 31"/>
          <p:cNvSpPr/>
          <p:nvPr/>
        </p:nvSpPr>
        <p:spPr>
          <a:xfrm>
            <a:off x="6886440" y="2461680"/>
            <a:ext cx="240840" cy="240840"/>
          </a:xfrm>
          <a:custGeom>
            <a:avLst/>
            <a:gdLst>
              <a:gd name="textAreaLeft" fmla="*/ 0 w 240840"/>
              <a:gd name="textAreaRight" fmla="*/ 241200 w 240840"/>
              <a:gd name="textAreaTop" fmla="*/ 0 h 240840"/>
              <a:gd name="textAreaBottom" fmla="*/ 241200 h 240840"/>
            </a:gdLst>
            <a:ahLst/>
            <a:rect l="textAreaLeft" t="textAreaTop" r="textAreaRight" b="textAreaBottom"/>
            <a:pathLst>
              <a:path w="381" h="283">
                <a:moveTo>
                  <a:pt x="381" y="120"/>
                </a:moveTo>
                <a:lnTo>
                  <a:pt x="370" y="120"/>
                </a:lnTo>
                <a:lnTo>
                  <a:pt x="359" y="142"/>
                </a:lnTo>
                <a:lnTo>
                  <a:pt x="337" y="153"/>
                </a:lnTo>
                <a:lnTo>
                  <a:pt x="305" y="174"/>
                </a:lnTo>
                <a:lnTo>
                  <a:pt x="218" y="207"/>
                </a:lnTo>
                <a:lnTo>
                  <a:pt x="174" y="218"/>
                </a:lnTo>
                <a:lnTo>
                  <a:pt x="120" y="240"/>
                </a:lnTo>
                <a:lnTo>
                  <a:pt x="87" y="250"/>
                </a:lnTo>
                <a:lnTo>
                  <a:pt x="65" y="261"/>
                </a:lnTo>
                <a:lnTo>
                  <a:pt x="44" y="272"/>
                </a:lnTo>
                <a:lnTo>
                  <a:pt x="33" y="272"/>
                </a:lnTo>
                <a:lnTo>
                  <a:pt x="22" y="272"/>
                </a:lnTo>
                <a:lnTo>
                  <a:pt x="11" y="283"/>
                </a:lnTo>
                <a:lnTo>
                  <a:pt x="0" y="272"/>
                </a:lnTo>
                <a:lnTo>
                  <a:pt x="0" y="261"/>
                </a:lnTo>
                <a:lnTo>
                  <a:pt x="11" y="250"/>
                </a:lnTo>
                <a:lnTo>
                  <a:pt x="22" y="240"/>
                </a:lnTo>
                <a:lnTo>
                  <a:pt x="33" y="229"/>
                </a:lnTo>
                <a:lnTo>
                  <a:pt x="54" y="207"/>
                </a:lnTo>
                <a:lnTo>
                  <a:pt x="76" y="196"/>
                </a:lnTo>
                <a:lnTo>
                  <a:pt x="109" y="174"/>
                </a:lnTo>
                <a:lnTo>
                  <a:pt x="131" y="153"/>
                </a:lnTo>
                <a:lnTo>
                  <a:pt x="152" y="131"/>
                </a:lnTo>
                <a:lnTo>
                  <a:pt x="174" y="109"/>
                </a:lnTo>
                <a:lnTo>
                  <a:pt x="185" y="98"/>
                </a:lnTo>
                <a:lnTo>
                  <a:pt x="196" y="76"/>
                </a:lnTo>
                <a:lnTo>
                  <a:pt x="207" y="65"/>
                </a:lnTo>
                <a:lnTo>
                  <a:pt x="207" y="55"/>
                </a:lnTo>
                <a:lnTo>
                  <a:pt x="207" y="44"/>
                </a:lnTo>
                <a:lnTo>
                  <a:pt x="196" y="33"/>
                </a:lnTo>
                <a:lnTo>
                  <a:pt x="196" y="22"/>
                </a:lnTo>
                <a:lnTo>
                  <a:pt x="196" y="11"/>
                </a:lnTo>
                <a:lnTo>
                  <a:pt x="218" y="0"/>
                </a:lnTo>
                <a:lnTo>
                  <a:pt x="228" y="0"/>
                </a:lnTo>
                <a:lnTo>
                  <a:pt x="250" y="11"/>
                </a:lnTo>
                <a:lnTo>
                  <a:pt x="272" y="22"/>
                </a:lnTo>
                <a:lnTo>
                  <a:pt x="305" y="33"/>
                </a:lnTo>
                <a:lnTo>
                  <a:pt x="337" y="55"/>
                </a:lnTo>
                <a:lnTo>
                  <a:pt x="359" y="76"/>
                </a:lnTo>
                <a:lnTo>
                  <a:pt x="370" y="98"/>
                </a:lnTo>
                <a:lnTo>
                  <a:pt x="381" y="12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3" name="Freeform 33"/>
          <p:cNvSpPr/>
          <p:nvPr/>
        </p:nvSpPr>
        <p:spPr>
          <a:xfrm>
            <a:off x="6480000" y="2749680"/>
            <a:ext cx="544320" cy="192240"/>
          </a:xfrm>
          <a:custGeom>
            <a:avLst/>
            <a:gdLst>
              <a:gd name="textAreaLeft" fmla="*/ 0 w 544320"/>
              <a:gd name="textAreaRight" fmla="*/ 544680 w 54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859" h="228">
                <a:moveTo>
                  <a:pt x="358" y="97"/>
                </a:moveTo>
                <a:lnTo>
                  <a:pt x="402" y="87"/>
                </a:lnTo>
                <a:lnTo>
                  <a:pt x="445" y="76"/>
                </a:lnTo>
                <a:lnTo>
                  <a:pt x="489" y="65"/>
                </a:lnTo>
                <a:lnTo>
                  <a:pt x="522" y="54"/>
                </a:lnTo>
                <a:lnTo>
                  <a:pt x="554" y="43"/>
                </a:lnTo>
                <a:lnTo>
                  <a:pt x="587" y="43"/>
                </a:lnTo>
                <a:lnTo>
                  <a:pt x="619" y="32"/>
                </a:lnTo>
                <a:lnTo>
                  <a:pt x="641" y="32"/>
                </a:lnTo>
                <a:lnTo>
                  <a:pt x="663" y="21"/>
                </a:lnTo>
                <a:lnTo>
                  <a:pt x="685" y="21"/>
                </a:lnTo>
                <a:lnTo>
                  <a:pt x="706" y="10"/>
                </a:lnTo>
                <a:lnTo>
                  <a:pt x="717" y="10"/>
                </a:lnTo>
                <a:lnTo>
                  <a:pt x="728" y="10"/>
                </a:lnTo>
                <a:lnTo>
                  <a:pt x="739" y="0"/>
                </a:lnTo>
                <a:lnTo>
                  <a:pt x="750" y="0"/>
                </a:lnTo>
                <a:lnTo>
                  <a:pt x="761" y="0"/>
                </a:lnTo>
                <a:lnTo>
                  <a:pt x="772" y="0"/>
                </a:lnTo>
                <a:lnTo>
                  <a:pt x="782" y="10"/>
                </a:lnTo>
                <a:lnTo>
                  <a:pt x="804" y="10"/>
                </a:lnTo>
                <a:lnTo>
                  <a:pt x="826" y="21"/>
                </a:lnTo>
                <a:lnTo>
                  <a:pt x="848" y="32"/>
                </a:lnTo>
                <a:lnTo>
                  <a:pt x="848" y="54"/>
                </a:lnTo>
                <a:lnTo>
                  <a:pt x="859" y="65"/>
                </a:lnTo>
                <a:lnTo>
                  <a:pt x="848" y="65"/>
                </a:lnTo>
                <a:lnTo>
                  <a:pt x="837" y="76"/>
                </a:lnTo>
                <a:lnTo>
                  <a:pt x="815" y="87"/>
                </a:lnTo>
                <a:lnTo>
                  <a:pt x="804" y="87"/>
                </a:lnTo>
                <a:lnTo>
                  <a:pt x="782" y="97"/>
                </a:lnTo>
                <a:lnTo>
                  <a:pt x="772" y="97"/>
                </a:lnTo>
                <a:lnTo>
                  <a:pt x="750" y="108"/>
                </a:lnTo>
                <a:lnTo>
                  <a:pt x="717" y="119"/>
                </a:lnTo>
                <a:lnTo>
                  <a:pt x="695" y="119"/>
                </a:lnTo>
                <a:lnTo>
                  <a:pt x="663" y="130"/>
                </a:lnTo>
                <a:lnTo>
                  <a:pt x="630" y="141"/>
                </a:lnTo>
                <a:lnTo>
                  <a:pt x="587" y="141"/>
                </a:lnTo>
                <a:lnTo>
                  <a:pt x="554" y="152"/>
                </a:lnTo>
                <a:lnTo>
                  <a:pt x="511" y="163"/>
                </a:lnTo>
                <a:lnTo>
                  <a:pt x="424" y="185"/>
                </a:lnTo>
                <a:lnTo>
                  <a:pt x="348" y="195"/>
                </a:lnTo>
                <a:lnTo>
                  <a:pt x="282" y="206"/>
                </a:lnTo>
                <a:lnTo>
                  <a:pt x="228" y="217"/>
                </a:lnTo>
                <a:lnTo>
                  <a:pt x="185" y="217"/>
                </a:lnTo>
                <a:lnTo>
                  <a:pt x="141" y="228"/>
                </a:lnTo>
                <a:lnTo>
                  <a:pt x="108" y="217"/>
                </a:lnTo>
                <a:lnTo>
                  <a:pt x="87" y="217"/>
                </a:lnTo>
                <a:lnTo>
                  <a:pt x="65" y="217"/>
                </a:lnTo>
                <a:lnTo>
                  <a:pt x="54" y="206"/>
                </a:lnTo>
                <a:lnTo>
                  <a:pt x="32" y="206"/>
                </a:lnTo>
                <a:lnTo>
                  <a:pt x="21" y="206"/>
                </a:lnTo>
                <a:lnTo>
                  <a:pt x="11" y="195"/>
                </a:lnTo>
                <a:lnTo>
                  <a:pt x="11" y="185"/>
                </a:lnTo>
                <a:lnTo>
                  <a:pt x="0" y="185"/>
                </a:lnTo>
                <a:lnTo>
                  <a:pt x="11" y="185"/>
                </a:lnTo>
                <a:lnTo>
                  <a:pt x="21" y="174"/>
                </a:lnTo>
                <a:lnTo>
                  <a:pt x="43" y="174"/>
                </a:lnTo>
                <a:lnTo>
                  <a:pt x="54" y="163"/>
                </a:lnTo>
                <a:lnTo>
                  <a:pt x="76" y="163"/>
                </a:lnTo>
                <a:lnTo>
                  <a:pt x="98" y="152"/>
                </a:lnTo>
                <a:lnTo>
                  <a:pt x="119" y="152"/>
                </a:lnTo>
                <a:lnTo>
                  <a:pt x="141" y="141"/>
                </a:lnTo>
                <a:lnTo>
                  <a:pt x="174" y="141"/>
                </a:lnTo>
                <a:lnTo>
                  <a:pt x="206" y="130"/>
                </a:lnTo>
                <a:lnTo>
                  <a:pt x="239" y="119"/>
                </a:lnTo>
                <a:lnTo>
                  <a:pt x="271" y="119"/>
                </a:lnTo>
                <a:lnTo>
                  <a:pt x="315" y="108"/>
                </a:lnTo>
                <a:lnTo>
                  <a:pt x="358" y="97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4" name="Freeform 36"/>
          <p:cNvSpPr/>
          <p:nvPr/>
        </p:nvSpPr>
        <p:spPr>
          <a:xfrm>
            <a:off x="6603840" y="3282840"/>
            <a:ext cx="323640" cy="367920"/>
          </a:xfrm>
          <a:custGeom>
            <a:avLst/>
            <a:gdLst>
              <a:gd name="textAreaLeft" fmla="*/ 0 w 323640"/>
              <a:gd name="textAreaRight" fmla="*/ 324000 w 323640"/>
              <a:gd name="textAreaTop" fmla="*/ 0 h 367920"/>
              <a:gd name="textAreaBottom" fmla="*/ 368280 h 367920"/>
            </a:gdLst>
            <a:ahLst/>
            <a:rect l="textAreaLeft" t="textAreaTop" r="textAreaRight" b="textAreaBottom"/>
            <a:pathLst>
              <a:path w="511" h="435">
                <a:moveTo>
                  <a:pt x="381" y="391"/>
                </a:moveTo>
                <a:lnTo>
                  <a:pt x="348" y="413"/>
                </a:lnTo>
                <a:lnTo>
                  <a:pt x="337" y="424"/>
                </a:lnTo>
                <a:lnTo>
                  <a:pt x="316" y="435"/>
                </a:lnTo>
                <a:lnTo>
                  <a:pt x="305" y="435"/>
                </a:lnTo>
                <a:lnTo>
                  <a:pt x="294" y="435"/>
                </a:lnTo>
                <a:lnTo>
                  <a:pt x="294" y="424"/>
                </a:lnTo>
                <a:lnTo>
                  <a:pt x="283" y="413"/>
                </a:lnTo>
                <a:lnTo>
                  <a:pt x="283" y="402"/>
                </a:lnTo>
                <a:lnTo>
                  <a:pt x="283" y="391"/>
                </a:lnTo>
                <a:lnTo>
                  <a:pt x="272" y="370"/>
                </a:lnTo>
                <a:lnTo>
                  <a:pt x="261" y="348"/>
                </a:lnTo>
                <a:lnTo>
                  <a:pt x="240" y="337"/>
                </a:lnTo>
                <a:lnTo>
                  <a:pt x="207" y="326"/>
                </a:lnTo>
                <a:lnTo>
                  <a:pt x="196" y="315"/>
                </a:lnTo>
                <a:lnTo>
                  <a:pt x="185" y="304"/>
                </a:lnTo>
                <a:lnTo>
                  <a:pt x="174" y="294"/>
                </a:lnTo>
                <a:lnTo>
                  <a:pt x="185" y="283"/>
                </a:lnTo>
                <a:lnTo>
                  <a:pt x="196" y="283"/>
                </a:lnTo>
                <a:lnTo>
                  <a:pt x="207" y="283"/>
                </a:lnTo>
                <a:lnTo>
                  <a:pt x="240" y="294"/>
                </a:lnTo>
                <a:lnTo>
                  <a:pt x="261" y="294"/>
                </a:lnTo>
                <a:lnTo>
                  <a:pt x="283" y="294"/>
                </a:lnTo>
                <a:lnTo>
                  <a:pt x="294" y="283"/>
                </a:lnTo>
                <a:lnTo>
                  <a:pt x="305" y="283"/>
                </a:lnTo>
                <a:lnTo>
                  <a:pt x="316" y="272"/>
                </a:lnTo>
                <a:lnTo>
                  <a:pt x="327" y="250"/>
                </a:lnTo>
                <a:lnTo>
                  <a:pt x="337" y="228"/>
                </a:lnTo>
                <a:lnTo>
                  <a:pt x="337" y="196"/>
                </a:lnTo>
                <a:lnTo>
                  <a:pt x="348" y="174"/>
                </a:lnTo>
                <a:lnTo>
                  <a:pt x="348" y="152"/>
                </a:lnTo>
                <a:lnTo>
                  <a:pt x="348" y="130"/>
                </a:lnTo>
                <a:lnTo>
                  <a:pt x="337" y="119"/>
                </a:lnTo>
                <a:lnTo>
                  <a:pt x="327" y="109"/>
                </a:lnTo>
                <a:lnTo>
                  <a:pt x="316" y="109"/>
                </a:lnTo>
                <a:lnTo>
                  <a:pt x="294" y="109"/>
                </a:lnTo>
                <a:lnTo>
                  <a:pt x="283" y="109"/>
                </a:lnTo>
                <a:lnTo>
                  <a:pt x="261" y="109"/>
                </a:lnTo>
                <a:lnTo>
                  <a:pt x="240" y="119"/>
                </a:lnTo>
                <a:lnTo>
                  <a:pt x="207" y="119"/>
                </a:lnTo>
                <a:lnTo>
                  <a:pt x="153" y="130"/>
                </a:lnTo>
                <a:lnTo>
                  <a:pt x="98" y="141"/>
                </a:lnTo>
                <a:lnTo>
                  <a:pt x="44" y="141"/>
                </a:lnTo>
                <a:lnTo>
                  <a:pt x="0" y="141"/>
                </a:lnTo>
                <a:lnTo>
                  <a:pt x="0" y="76"/>
                </a:lnTo>
                <a:lnTo>
                  <a:pt x="44" y="76"/>
                </a:lnTo>
                <a:lnTo>
                  <a:pt x="98" y="65"/>
                </a:lnTo>
                <a:lnTo>
                  <a:pt x="196" y="54"/>
                </a:lnTo>
                <a:lnTo>
                  <a:pt x="240" y="43"/>
                </a:lnTo>
                <a:lnTo>
                  <a:pt x="272" y="32"/>
                </a:lnTo>
                <a:lnTo>
                  <a:pt x="294" y="32"/>
                </a:lnTo>
                <a:lnTo>
                  <a:pt x="305" y="21"/>
                </a:lnTo>
                <a:lnTo>
                  <a:pt x="316" y="21"/>
                </a:lnTo>
                <a:lnTo>
                  <a:pt x="327" y="11"/>
                </a:lnTo>
                <a:lnTo>
                  <a:pt x="337" y="0"/>
                </a:lnTo>
                <a:lnTo>
                  <a:pt x="359" y="0"/>
                </a:lnTo>
                <a:lnTo>
                  <a:pt x="381" y="0"/>
                </a:lnTo>
                <a:lnTo>
                  <a:pt x="392" y="11"/>
                </a:lnTo>
                <a:lnTo>
                  <a:pt x="424" y="21"/>
                </a:lnTo>
                <a:lnTo>
                  <a:pt x="446" y="43"/>
                </a:lnTo>
                <a:lnTo>
                  <a:pt x="468" y="65"/>
                </a:lnTo>
                <a:lnTo>
                  <a:pt x="490" y="87"/>
                </a:lnTo>
                <a:lnTo>
                  <a:pt x="500" y="98"/>
                </a:lnTo>
                <a:lnTo>
                  <a:pt x="511" y="109"/>
                </a:lnTo>
                <a:lnTo>
                  <a:pt x="500" y="119"/>
                </a:lnTo>
                <a:lnTo>
                  <a:pt x="500" y="130"/>
                </a:lnTo>
                <a:lnTo>
                  <a:pt x="479" y="141"/>
                </a:lnTo>
                <a:lnTo>
                  <a:pt x="479" y="152"/>
                </a:lnTo>
                <a:lnTo>
                  <a:pt x="468" y="174"/>
                </a:lnTo>
                <a:lnTo>
                  <a:pt x="457" y="206"/>
                </a:lnTo>
                <a:lnTo>
                  <a:pt x="446" y="250"/>
                </a:lnTo>
                <a:lnTo>
                  <a:pt x="435" y="283"/>
                </a:lnTo>
                <a:lnTo>
                  <a:pt x="424" y="326"/>
                </a:lnTo>
                <a:lnTo>
                  <a:pt x="403" y="359"/>
                </a:lnTo>
                <a:lnTo>
                  <a:pt x="381" y="39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5" name="Freeform 37"/>
          <p:cNvSpPr/>
          <p:nvPr/>
        </p:nvSpPr>
        <p:spPr>
          <a:xfrm>
            <a:off x="6203880" y="3926520"/>
            <a:ext cx="1117080" cy="185760"/>
          </a:xfrm>
          <a:custGeom>
            <a:avLst/>
            <a:gdLst>
              <a:gd name="textAreaLeft" fmla="*/ 0 w 1117080"/>
              <a:gd name="textAreaRight" fmla="*/ 1117440 w 11170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761" h="218">
                <a:moveTo>
                  <a:pt x="206" y="109"/>
                </a:moveTo>
                <a:lnTo>
                  <a:pt x="217" y="109"/>
                </a:lnTo>
                <a:lnTo>
                  <a:pt x="239" y="98"/>
                </a:lnTo>
                <a:lnTo>
                  <a:pt x="261" y="98"/>
                </a:lnTo>
                <a:lnTo>
                  <a:pt x="283" y="98"/>
                </a:lnTo>
                <a:lnTo>
                  <a:pt x="315" y="98"/>
                </a:lnTo>
                <a:lnTo>
                  <a:pt x="348" y="98"/>
                </a:lnTo>
                <a:lnTo>
                  <a:pt x="380" y="88"/>
                </a:lnTo>
                <a:lnTo>
                  <a:pt x="424" y="88"/>
                </a:lnTo>
                <a:lnTo>
                  <a:pt x="456" y="88"/>
                </a:lnTo>
                <a:lnTo>
                  <a:pt x="500" y="77"/>
                </a:lnTo>
                <a:lnTo>
                  <a:pt x="554" y="77"/>
                </a:lnTo>
                <a:lnTo>
                  <a:pt x="598" y="77"/>
                </a:lnTo>
                <a:lnTo>
                  <a:pt x="652" y="66"/>
                </a:lnTo>
                <a:lnTo>
                  <a:pt x="706" y="66"/>
                </a:lnTo>
                <a:lnTo>
                  <a:pt x="772" y="55"/>
                </a:lnTo>
                <a:lnTo>
                  <a:pt x="826" y="55"/>
                </a:lnTo>
                <a:lnTo>
                  <a:pt x="891" y="44"/>
                </a:lnTo>
                <a:lnTo>
                  <a:pt x="946" y="44"/>
                </a:lnTo>
                <a:lnTo>
                  <a:pt x="1000" y="33"/>
                </a:lnTo>
                <a:lnTo>
                  <a:pt x="1054" y="33"/>
                </a:lnTo>
                <a:lnTo>
                  <a:pt x="1109" y="22"/>
                </a:lnTo>
                <a:lnTo>
                  <a:pt x="1152" y="22"/>
                </a:lnTo>
                <a:lnTo>
                  <a:pt x="1196" y="22"/>
                </a:lnTo>
                <a:lnTo>
                  <a:pt x="1239" y="11"/>
                </a:lnTo>
                <a:lnTo>
                  <a:pt x="1272" y="11"/>
                </a:lnTo>
                <a:lnTo>
                  <a:pt x="1315" y="11"/>
                </a:lnTo>
                <a:lnTo>
                  <a:pt x="1348" y="11"/>
                </a:lnTo>
                <a:lnTo>
                  <a:pt x="1370" y="11"/>
                </a:lnTo>
                <a:lnTo>
                  <a:pt x="1402" y="11"/>
                </a:lnTo>
                <a:lnTo>
                  <a:pt x="1424" y="11"/>
                </a:lnTo>
                <a:lnTo>
                  <a:pt x="1446" y="0"/>
                </a:lnTo>
                <a:lnTo>
                  <a:pt x="1468" y="0"/>
                </a:lnTo>
                <a:lnTo>
                  <a:pt x="1500" y="11"/>
                </a:lnTo>
                <a:lnTo>
                  <a:pt x="1533" y="11"/>
                </a:lnTo>
                <a:lnTo>
                  <a:pt x="1576" y="22"/>
                </a:lnTo>
                <a:lnTo>
                  <a:pt x="1609" y="33"/>
                </a:lnTo>
                <a:lnTo>
                  <a:pt x="1652" y="55"/>
                </a:lnTo>
                <a:lnTo>
                  <a:pt x="1685" y="77"/>
                </a:lnTo>
                <a:lnTo>
                  <a:pt x="1718" y="98"/>
                </a:lnTo>
                <a:lnTo>
                  <a:pt x="1761" y="131"/>
                </a:lnTo>
                <a:lnTo>
                  <a:pt x="1696" y="131"/>
                </a:lnTo>
                <a:lnTo>
                  <a:pt x="1620" y="131"/>
                </a:lnTo>
                <a:lnTo>
                  <a:pt x="1554" y="131"/>
                </a:lnTo>
                <a:lnTo>
                  <a:pt x="1500" y="131"/>
                </a:lnTo>
                <a:lnTo>
                  <a:pt x="1435" y="131"/>
                </a:lnTo>
                <a:lnTo>
                  <a:pt x="1381" y="131"/>
                </a:lnTo>
                <a:lnTo>
                  <a:pt x="1337" y="131"/>
                </a:lnTo>
                <a:lnTo>
                  <a:pt x="1283" y="131"/>
                </a:lnTo>
                <a:lnTo>
                  <a:pt x="1239" y="131"/>
                </a:lnTo>
                <a:lnTo>
                  <a:pt x="1207" y="131"/>
                </a:lnTo>
                <a:lnTo>
                  <a:pt x="1163" y="131"/>
                </a:lnTo>
                <a:lnTo>
                  <a:pt x="1130" y="131"/>
                </a:lnTo>
                <a:lnTo>
                  <a:pt x="1109" y="131"/>
                </a:lnTo>
                <a:lnTo>
                  <a:pt x="1076" y="142"/>
                </a:lnTo>
                <a:lnTo>
                  <a:pt x="1054" y="142"/>
                </a:lnTo>
                <a:lnTo>
                  <a:pt x="1044" y="142"/>
                </a:lnTo>
                <a:lnTo>
                  <a:pt x="1011" y="142"/>
                </a:lnTo>
                <a:lnTo>
                  <a:pt x="967" y="153"/>
                </a:lnTo>
                <a:lnTo>
                  <a:pt x="913" y="153"/>
                </a:lnTo>
                <a:lnTo>
                  <a:pt x="848" y="164"/>
                </a:lnTo>
                <a:lnTo>
                  <a:pt x="783" y="164"/>
                </a:lnTo>
                <a:lnTo>
                  <a:pt x="706" y="175"/>
                </a:lnTo>
                <a:lnTo>
                  <a:pt x="620" y="175"/>
                </a:lnTo>
                <a:lnTo>
                  <a:pt x="522" y="185"/>
                </a:lnTo>
                <a:lnTo>
                  <a:pt x="424" y="196"/>
                </a:lnTo>
                <a:lnTo>
                  <a:pt x="348" y="196"/>
                </a:lnTo>
                <a:lnTo>
                  <a:pt x="261" y="207"/>
                </a:lnTo>
                <a:lnTo>
                  <a:pt x="196" y="207"/>
                </a:lnTo>
                <a:lnTo>
                  <a:pt x="130" y="218"/>
                </a:lnTo>
                <a:lnTo>
                  <a:pt x="87" y="218"/>
                </a:lnTo>
                <a:lnTo>
                  <a:pt x="43" y="218"/>
                </a:lnTo>
                <a:lnTo>
                  <a:pt x="0" y="218"/>
                </a:lnTo>
                <a:lnTo>
                  <a:pt x="0" y="120"/>
                </a:lnTo>
                <a:lnTo>
                  <a:pt x="54" y="120"/>
                </a:lnTo>
                <a:lnTo>
                  <a:pt x="98" y="120"/>
                </a:lnTo>
                <a:lnTo>
                  <a:pt x="152" y="109"/>
                </a:lnTo>
                <a:lnTo>
                  <a:pt x="206" y="109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6" name="Freeform 38"/>
          <p:cNvSpPr/>
          <p:nvPr/>
        </p:nvSpPr>
        <p:spPr>
          <a:xfrm>
            <a:off x="6327720" y="2950560"/>
            <a:ext cx="840960" cy="249480"/>
          </a:xfrm>
          <a:custGeom>
            <a:avLst/>
            <a:gdLst>
              <a:gd name="textAreaLeft" fmla="*/ 0 w 840960"/>
              <a:gd name="textAreaRight" fmla="*/ 841320 w 84096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1326" h="294">
                <a:moveTo>
                  <a:pt x="10" y="207"/>
                </a:moveTo>
                <a:lnTo>
                  <a:pt x="10" y="207"/>
                </a:lnTo>
                <a:lnTo>
                  <a:pt x="21" y="196"/>
                </a:lnTo>
                <a:lnTo>
                  <a:pt x="32" y="196"/>
                </a:lnTo>
                <a:lnTo>
                  <a:pt x="54" y="185"/>
                </a:lnTo>
                <a:lnTo>
                  <a:pt x="87" y="185"/>
                </a:lnTo>
                <a:lnTo>
                  <a:pt x="130" y="174"/>
                </a:lnTo>
                <a:lnTo>
                  <a:pt x="141" y="174"/>
                </a:lnTo>
                <a:lnTo>
                  <a:pt x="152" y="174"/>
                </a:lnTo>
                <a:lnTo>
                  <a:pt x="173" y="174"/>
                </a:lnTo>
                <a:lnTo>
                  <a:pt x="195" y="163"/>
                </a:lnTo>
                <a:lnTo>
                  <a:pt x="217" y="163"/>
                </a:lnTo>
                <a:lnTo>
                  <a:pt x="250" y="163"/>
                </a:lnTo>
                <a:lnTo>
                  <a:pt x="271" y="152"/>
                </a:lnTo>
                <a:lnTo>
                  <a:pt x="304" y="152"/>
                </a:lnTo>
                <a:lnTo>
                  <a:pt x="347" y="141"/>
                </a:lnTo>
                <a:lnTo>
                  <a:pt x="380" y="131"/>
                </a:lnTo>
                <a:lnTo>
                  <a:pt x="424" y="131"/>
                </a:lnTo>
                <a:lnTo>
                  <a:pt x="467" y="120"/>
                </a:lnTo>
                <a:lnTo>
                  <a:pt x="510" y="109"/>
                </a:lnTo>
                <a:lnTo>
                  <a:pt x="565" y="98"/>
                </a:lnTo>
                <a:lnTo>
                  <a:pt x="619" y="87"/>
                </a:lnTo>
                <a:lnTo>
                  <a:pt x="674" y="87"/>
                </a:lnTo>
                <a:lnTo>
                  <a:pt x="717" y="76"/>
                </a:lnTo>
                <a:lnTo>
                  <a:pt x="771" y="65"/>
                </a:lnTo>
                <a:lnTo>
                  <a:pt x="826" y="54"/>
                </a:lnTo>
                <a:lnTo>
                  <a:pt x="869" y="43"/>
                </a:lnTo>
                <a:lnTo>
                  <a:pt x="913" y="33"/>
                </a:lnTo>
                <a:lnTo>
                  <a:pt x="945" y="33"/>
                </a:lnTo>
                <a:lnTo>
                  <a:pt x="978" y="22"/>
                </a:lnTo>
                <a:lnTo>
                  <a:pt x="1011" y="22"/>
                </a:lnTo>
                <a:lnTo>
                  <a:pt x="1043" y="11"/>
                </a:lnTo>
                <a:lnTo>
                  <a:pt x="1076" y="11"/>
                </a:lnTo>
                <a:lnTo>
                  <a:pt x="1098" y="11"/>
                </a:lnTo>
                <a:lnTo>
                  <a:pt x="1119" y="11"/>
                </a:lnTo>
                <a:lnTo>
                  <a:pt x="1141" y="0"/>
                </a:lnTo>
                <a:lnTo>
                  <a:pt x="1152" y="0"/>
                </a:lnTo>
                <a:lnTo>
                  <a:pt x="1163" y="0"/>
                </a:lnTo>
                <a:lnTo>
                  <a:pt x="1174" y="0"/>
                </a:lnTo>
                <a:lnTo>
                  <a:pt x="1206" y="11"/>
                </a:lnTo>
                <a:lnTo>
                  <a:pt x="1239" y="22"/>
                </a:lnTo>
                <a:lnTo>
                  <a:pt x="1261" y="33"/>
                </a:lnTo>
                <a:lnTo>
                  <a:pt x="1293" y="54"/>
                </a:lnTo>
                <a:lnTo>
                  <a:pt x="1304" y="76"/>
                </a:lnTo>
                <a:lnTo>
                  <a:pt x="1315" y="76"/>
                </a:lnTo>
                <a:lnTo>
                  <a:pt x="1326" y="87"/>
                </a:lnTo>
                <a:lnTo>
                  <a:pt x="1326" y="98"/>
                </a:lnTo>
                <a:lnTo>
                  <a:pt x="1326" y="109"/>
                </a:lnTo>
                <a:lnTo>
                  <a:pt x="1315" y="109"/>
                </a:lnTo>
                <a:lnTo>
                  <a:pt x="1304" y="120"/>
                </a:lnTo>
                <a:lnTo>
                  <a:pt x="1293" y="120"/>
                </a:lnTo>
                <a:lnTo>
                  <a:pt x="1272" y="120"/>
                </a:lnTo>
                <a:lnTo>
                  <a:pt x="1250" y="131"/>
                </a:lnTo>
                <a:lnTo>
                  <a:pt x="1228" y="131"/>
                </a:lnTo>
                <a:lnTo>
                  <a:pt x="1206" y="131"/>
                </a:lnTo>
                <a:lnTo>
                  <a:pt x="1174" y="141"/>
                </a:lnTo>
                <a:lnTo>
                  <a:pt x="1141" y="141"/>
                </a:lnTo>
                <a:lnTo>
                  <a:pt x="1108" y="141"/>
                </a:lnTo>
                <a:lnTo>
                  <a:pt x="1065" y="141"/>
                </a:lnTo>
                <a:lnTo>
                  <a:pt x="1011" y="141"/>
                </a:lnTo>
                <a:lnTo>
                  <a:pt x="956" y="152"/>
                </a:lnTo>
                <a:lnTo>
                  <a:pt x="880" y="152"/>
                </a:lnTo>
                <a:lnTo>
                  <a:pt x="815" y="163"/>
                </a:lnTo>
                <a:lnTo>
                  <a:pt x="728" y="174"/>
                </a:lnTo>
                <a:lnTo>
                  <a:pt x="641" y="185"/>
                </a:lnTo>
                <a:lnTo>
                  <a:pt x="554" y="207"/>
                </a:lnTo>
                <a:lnTo>
                  <a:pt x="500" y="218"/>
                </a:lnTo>
                <a:lnTo>
                  <a:pt x="456" y="228"/>
                </a:lnTo>
                <a:lnTo>
                  <a:pt x="413" y="239"/>
                </a:lnTo>
                <a:lnTo>
                  <a:pt x="380" y="239"/>
                </a:lnTo>
                <a:lnTo>
                  <a:pt x="347" y="250"/>
                </a:lnTo>
                <a:lnTo>
                  <a:pt x="304" y="261"/>
                </a:lnTo>
                <a:lnTo>
                  <a:pt x="282" y="261"/>
                </a:lnTo>
                <a:lnTo>
                  <a:pt x="250" y="272"/>
                </a:lnTo>
                <a:lnTo>
                  <a:pt x="228" y="272"/>
                </a:lnTo>
                <a:lnTo>
                  <a:pt x="206" y="272"/>
                </a:lnTo>
                <a:lnTo>
                  <a:pt x="184" y="283"/>
                </a:lnTo>
                <a:lnTo>
                  <a:pt x="173" y="283"/>
                </a:lnTo>
                <a:lnTo>
                  <a:pt x="163" y="283"/>
                </a:lnTo>
                <a:lnTo>
                  <a:pt x="152" y="283"/>
                </a:lnTo>
                <a:lnTo>
                  <a:pt x="141" y="283"/>
                </a:lnTo>
                <a:lnTo>
                  <a:pt x="119" y="294"/>
                </a:lnTo>
                <a:lnTo>
                  <a:pt x="97" y="283"/>
                </a:lnTo>
                <a:lnTo>
                  <a:pt x="76" y="272"/>
                </a:lnTo>
                <a:lnTo>
                  <a:pt x="54" y="250"/>
                </a:lnTo>
                <a:lnTo>
                  <a:pt x="32" y="239"/>
                </a:lnTo>
                <a:lnTo>
                  <a:pt x="10" y="228"/>
                </a:lnTo>
                <a:lnTo>
                  <a:pt x="10" y="218"/>
                </a:lnTo>
                <a:lnTo>
                  <a:pt x="0" y="218"/>
                </a:lnTo>
                <a:lnTo>
                  <a:pt x="0" y="207"/>
                </a:lnTo>
                <a:lnTo>
                  <a:pt x="10" y="207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7" name="Freeform 32"/>
          <p:cNvSpPr/>
          <p:nvPr/>
        </p:nvSpPr>
        <p:spPr>
          <a:xfrm>
            <a:off x="6286680" y="2398320"/>
            <a:ext cx="537840" cy="1214640"/>
          </a:xfrm>
          <a:custGeom>
            <a:avLst/>
            <a:gdLst>
              <a:gd name="textAreaLeft" fmla="*/ 0 w 537840"/>
              <a:gd name="textAreaRight" fmla="*/ 538200 w 53784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848" h="1436">
                <a:moveTo>
                  <a:pt x="0" y="1436"/>
                </a:moveTo>
                <a:lnTo>
                  <a:pt x="0" y="1426"/>
                </a:lnTo>
                <a:lnTo>
                  <a:pt x="11" y="1404"/>
                </a:lnTo>
                <a:lnTo>
                  <a:pt x="33" y="1393"/>
                </a:lnTo>
                <a:lnTo>
                  <a:pt x="55" y="1371"/>
                </a:lnTo>
                <a:lnTo>
                  <a:pt x="76" y="1349"/>
                </a:lnTo>
                <a:lnTo>
                  <a:pt x="109" y="1317"/>
                </a:lnTo>
                <a:lnTo>
                  <a:pt x="142" y="1295"/>
                </a:lnTo>
                <a:lnTo>
                  <a:pt x="218" y="1230"/>
                </a:lnTo>
                <a:lnTo>
                  <a:pt x="294" y="1154"/>
                </a:lnTo>
                <a:lnTo>
                  <a:pt x="359" y="1077"/>
                </a:lnTo>
                <a:lnTo>
                  <a:pt x="381" y="1034"/>
                </a:lnTo>
                <a:lnTo>
                  <a:pt x="413" y="979"/>
                </a:lnTo>
                <a:lnTo>
                  <a:pt x="468" y="892"/>
                </a:lnTo>
                <a:lnTo>
                  <a:pt x="522" y="805"/>
                </a:lnTo>
                <a:lnTo>
                  <a:pt x="544" y="762"/>
                </a:lnTo>
                <a:lnTo>
                  <a:pt x="566" y="707"/>
                </a:lnTo>
                <a:lnTo>
                  <a:pt x="576" y="664"/>
                </a:lnTo>
                <a:lnTo>
                  <a:pt x="587" y="609"/>
                </a:lnTo>
                <a:lnTo>
                  <a:pt x="620" y="511"/>
                </a:lnTo>
                <a:lnTo>
                  <a:pt x="631" y="424"/>
                </a:lnTo>
                <a:lnTo>
                  <a:pt x="642" y="337"/>
                </a:lnTo>
                <a:lnTo>
                  <a:pt x="653" y="261"/>
                </a:lnTo>
                <a:lnTo>
                  <a:pt x="653" y="218"/>
                </a:lnTo>
                <a:lnTo>
                  <a:pt x="663" y="185"/>
                </a:lnTo>
                <a:lnTo>
                  <a:pt x="663" y="152"/>
                </a:lnTo>
                <a:lnTo>
                  <a:pt x="663" y="131"/>
                </a:lnTo>
                <a:lnTo>
                  <a:pt x="663" y="109"/>
                </a:lnTo>
                <a:lnTo>
                  <a:pt x="663" y="87"/>
                </a:lnTo>
                <a:lnTo>
                  <a:pt x="653" y="65"/>
                </a:lnTo>
                <a:lnTo>
                  <a:pt x="653" y="44"/>
                </a:lnTo>
                <a:lnTo>
                  <a:pt x="653" y="33"/>
                </a:lnTo>
                <a:lnTo>
                  <a:pt x="653" y="11"/>
                </a:lnTo>
                <a:lnTo>
                  <a:pt x="663" y="0"/>
                </a:lnTo>
                <a:lnTo>
                  <a:pt x="674" y="0"/>
                </a:lnTo>
                <a:lnTo>
                  <a:pt x="685" y="0"/>
                </a:lnTo>
                <a:lnTo>
                  <a:pt x="707" y="11"/>
                </a:lnTo>
                <a:lnTo>
                  <a:pt x="740" y="22"/>
                </a:lnTo>
                <a:lnTo>
                  <a:pt x="761" y="33"/>
                </a:lnTo>
                <a:lnTo>
                  <a:pt x="783" y="44"/>
                </a:lnTo>
                <a:lnTo>
                  <a:pt x="805" y="54"/>
                </a:lnTo>
                <a:lnTo>
                  <a:pt x="816" y="65"/>
                </a:lnTo>
                <a:lnTo>
                  <a:pt x="827" y="76"/>
                </a:lnTo>
                <a:lnTo>
                  <a:pt x="837" y="87"/>
                </a:lnTo>
                <a:lnTo>
                  <a:pt x="848" y="87"/>
                </a:lnTo>
                <a:lnTo>
                  <a:pt x="848" y="98"/>
                </a:lnTo>
                <a:lnTo>
                  <a:pt x="848" y="120"/>
                </a:lnTo>
                <a:lnTo>
                  <a:pt x="848" y="141"/>
                </a:lnTo>
                <a:lnTo>
                  <a:pt x="827" y="174"/>
                </a:lnTo>
                <a:lnTo>
                  <a:pt x="827" y="185"/>
                </a:lnTo>
                <a:lnTo>
                  <a:pt x="816" y="207"/>
                </a:lnTo>
                <a:lnTo>
                  <a:pt x="816" y="229"/>
                </a:lnTo>
                <a:lnTo>
                  <a:pt x="805" y="250"/>
                </a:lnTo>
                <a:lnTo>
                  <a:pt x="794" y="283"/>
                </a:lnTo>
                <a:lnTo>
                  <a:pt x="794" y="316"/>
                </a:lnTo>
                <a:lnTo>
                  <a:pt x="783" y="348"/>
                </a:lnTo>
                <a:lnTo>
                  <a:pt x="783" y="392"/>
                </a:lnTo>
                <a:lnTo>
                  <a:pt x="772" y="446"/>
                </a:lnTo>
                <a:lnTo>
                  <a:pt x="772" y="490"/>
                </a:lnTo>
                <a:lnTo>
                  <a:pt x="750" y="577"/>
                </a:lnTo>
                <a:lnTo>
                  <a:pt x="718" y="664"/>
                </a:lnTo>
                <a:lnTo>
                  <a:pt x="685" y="762"/>
                </a:lnTo>
                <a:lnTo>
                  <a:pt x="642" y="849"/>
                </a:lnTo>
                <a:lnTo>
                  <a:pt x="587" y="947"/>
                </a:lnTo>
                <a:lnTo>
                  <a:pt x="533" y="1023"/>
                </a:lnTo>
                <a:lnTo>
                  <a:pt x="479" y="1110"/>
                </a:lnTo>
                <a:lnTo>
                  <a:pt x="403" y="1186"/>
                </a:lnTo>
                <a:lnTo>
                  <a:pt x="326" y="1251"/>
                </a:lnTo>
                <a:lnTo>
                  <a:pt x="294" y="1284"/>
                </a:lnTo>
                <a:lnTo>
                  <a:pt x="261" y="1306"/>
                </a:lnTo>
                <a:lnTo>
                  <a:pt x="218" y="1339"/>
                </a:lnTo>
                <a:lnTo>
                  <a:pt x="185" y="1360"/>
                </a:lnTo>
                <a:lnTo>
                  <a:pt x="142" y="1382"/>
                </a:lnTo>
                <a:lnTo>
                  <a:pt x="109" y="1404"/>
                </a:lnTo>
                <a:lnTo>
                  <a:pt x="76" y="1415"/>
                </a:lnTo>
                <a:lnTo>
                  <a:pt x="55" y="1426"/>
                </a:lnTo>
                <a:lnTo>
                  <a:pt x="33" y="1436"/>
                </a:lnTo>
                <a:lnTo>
                  <a:pt x="22" y="1436"/>
                </a:lnTo>
                <a:lnTo>
                  <a:pt x="11" y="1436"/>
                </a:lnTo>
                <a:lnTo>
                  <a:pt x="0" y="143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8" name="Freeform 34"/>
          <p:cNvSpPr/>
          <p:nvPr/>
        </p:nvSpPr>
        <p:spPr>
          <a:xfrm>
            <a:off x="6824520" y="3043800"/>
            <a:ext cx="496440" cy="431280"/>
          </a:xfrm>
          <a:custGeom>
            <a:avLst/>
            <a:gdLst>
              <a:gd name="textAreaLeft" fmla="*/ 0 w 496440"/>
              <a:gd name="textAreaRight" fmla="*/ 496800 w 496440"/>
              <a:gd name="textAreaTop" fmla="*/ 0 h 431280"/>
              <a:gd name="textAreaBottom" fmla="*/ 431640 h 431280"/>
            </a:gdLst>
            <a:ahLst/>
            <a:rect l="textAreaLeft" t="textAreaTop" r="textAreaRight" b="textAreaBottom"/>
            <a:pathLst>
              <a:path w="783" h="511">
                <a:moveTo>
                  <a:pt x="0" y="32"/>
                </a:moveTo>
                <a:lnTo>
                  <a:pt x="66" y="0"/>
                </a:lnTo>
                <a:lnTo>
                  <a:pt x="76" y="0"/>
                </a:lnTo>
                <a:lnTo>
                  <a:pt x="87" y="22"/>
                </a:lnTo>
                <a:lnTo>
                  <a:pt x="98" y="32"/>
                </a:lnTo>
                <a:lnTo>
                  <a:pt x="120" y="43"/>
                </a:lnTo>
                <a:lnTo>
                  <a:pt x="142" y="65"/>
                </a:lnTo>
                <a:lnTo>
                  <a:pt x="163" y="87"/>
                </a:lnTo>
                <a:lnTo>
                  <a:pt x="185" y="119"/>
                </a:lnTo>
                <a:lnTo>
                  <a:pt x="218" y="141"/>
                </a:lnTo>
                <a:lnTo>
                  <a:pt x="250" y="174"/>
                </a:lnTo>
                <a:lnTo>
                  <a:pt x="283" y="207"/>
                </a:lnTo>
                <a:lnTo>
                  <a:pt x="316" y="228"/>
                </a:lnTo>
                <a:lnTo>
                  <a:pt x="359" y="261"/>
                </a:lnTo>
                <a:lnTo>
                  <a:pt x="403" y="283"/>
                </a:lnTo>
                <a:lnTo>
                  <a:pt x="457" y="315"/>
                </a:lnTo>
                <a:lnTo>
                  <a:pt x="500" y="337"/>
                </a:lnTo>
                <a:lnTo>
                  <a:pt x="555" y="359"/>
                </a:lnTo>
                <a:lnTo>
                  <a:pt x="609" y="381"/>
                </a:lnTo>
                <a:lnTo>
                  <a:pt x="653" y="402"/>
                </a:lnTo>
                <a:lnTo>
                  <a:pt x="685" y="413"/>
                </a:lnTo>
                <a:lnTo>
                  <a:pt x="718" y="435"/>
                </a:lnTo>
                <a:lnTo>
                  <a:pt x="740" y="446"/>
                </a:lnTo>
                <a:lnTo>
                  <a:pt x="761" y="457"/>
                </a:lnTo>
                <a:lnTo>
                  <a:pt x="772" y="468"/>
                </a:lnTo>
                <a:lnTo>
                  <a:pt x="783" y="468"/>
                </a:lnTo>
                <a:lnTo>
                  <a:pt x="783" y="479"/>
                </a:lnTo>
                <a:lnTo>
                  <a:pt x="772" y="489"/>
                </a:lnTo>
                <a:lnTo>
                  <a:pt x="761" y="489"/>
                </a:lnTo>
                <a:lnTo>
                  <a:pt x="740" y="489"/>
                </a:lnTo>
                <a:lnTo>
                  <a:pt x="707" y="500"/>
                </a:lnTo>
                <a:lnTo>
                  <a:pt x="674" y="500"/>
                </a:lnTo>
                <a:lnTo>
                  <a:pt x="642" y="500"/>
                </a:lnTo>
                <a:lnTo>
                  <a:pt x="609" y="511"/>
                </a:lnTo>
                <a:lnTo>
                  <a:pt x="566" y="511"/>
                </a:lnTo>
                <a:lnTo>
                  <a:pt x="533" y="511"/>
                </a:lnTo>
                <a:lnTo>
                  <a:pt x="511" y="511"/>
                </a:lnTo>
                <a:lnTo>
                  <a:pt x="490" y="500"/>
                </a:lnTo>
                <a:lnTo>
                  <a:pt x="468" y="500"/>
                </a:lnTo>
                <a:lnTo>
                  <a:pt x="457" y="500"/>
                </a:lnTo>
                <a:lnTo>
                  <a:pt x="446" y="489"/>
                </a:lnTo>
                <a:lnTo>
                  <a:pt x="435" y="489"/>
                </a:lnTo>
                <a:lnTo>
                  <a:pt x="424" y="479"/>
                </a:lnTo>
                <a:lnTo>
                  <a:pt x="413" y="479"/>
                </a:lnTo>
                <a:lnTo>
                  <a:pt x="392" y="457"/>
                </a:lnTo>
                <a:lnTo>
                  <a:pt x="381" y="446"/>
                </a:lnTo>
                <a:lnTo>
                  <a:pt x="359" y="424"/>
                </a:lnTo>
                <a:lnTo>
                  <a:pt x="337" y="402"/>
                </a:lnTo>
                <a:lnTo>
                  <a:pt x="305" y="370"/>
                </a:lnTo>
                <a:lnTo>
                  <a:pt x="272" y="348"/>
                </a:lnTo>
                <a:lnTo>
                  <a:pt x="250" y="304"/>
                </a:lnTo>
                <a:lnTo>
                  <a:pt x="218" y="272"/>
                </a:lnTo>
                <a:lnTo>
                  <a:pt x="174" y="228"/>
                </a:lnTo>
                <a:lnTo>
                  <a:pt x="142" y="185"/>
                </a:lnTo>
                <a:lnTo>
                  <a:pt x="98" y="141"/>
                </a:lnTo>
                <a:lnTo>
                  <a:pt x="55" y="87"/>
                </a:lnTo>
                <a:lnTo>
                  <a:pt x="0" y="32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9" name="Freeform 35"/>
          <p:cNvSpPr/>
          <p:nvPr/>
        </p:nvSpPr>
        <p:spPr>
          <a:xfrm>
            <a:off x="6562800" y="3346560"/>
            <a:ext cx="523440" cy="516240"/>
          </a:xfrm>
          <a:custGeom>
            <a:avLst/>
            <a:gdLst>
              <a:gd name="textAreaLeft" fmla="*/ 0 w 523440"/>
              <a:gd name="textAreaRight" fmla="*/ 523800 w 52344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826" h="609">
                <a:moveTo>
                  <a:pt x="0" y="0"/>
                </a:moveTo>
                <a:lnTo>
                  <a:pt x="131" y="0"/>
                </a:lnTo>
                <a:lnTo>
                  <a:pt x="131" y="76"/>
                </a:lnTo>
                <a:lnTo>
                  <a:pt x="141" y="141"/>
                </a:lnTo>
                <a:lnTo>
                  <a:pt x="141" y="196"/>
                </a:lnTo>
                <a:lnTo>
                  <a:pt x="141" y="250"/>
                </a:lnTo>
                <a:lnTo>
                  <a:pt x="141" y="294"/>
                </a:lnTo>
                <a:lnTo>
                  <a:pt x="152" y="326"/>
                </a:lnTo>
                <a:lnTo>
                  <a:pt x="152" y="348"/>
                </a:lnTo>
                <a:lnTo>
                  <a:pt x="152" y="370"/>
                </a:lnTo>
                <a:lnTo>
                  <a:pt x="174" y="413"/>
                </a:lnTo>
                <a:lnTo>
                  <a:pt x="196" y="446"/>
                </a:lnTo>
                <a:lnTo>
                  <a:pt x="218" y="457"/>
                </a:lnTo>
                <a:lnTo>
                  <a:pt x="250" y="479"/>
                </a:lnTo>
                <a:lnTo>
                  <a:pt x="294" y="490"/>
                </a:lnTo>
                <a:lnTo>
                  <a:pt x="326" y="500"/>
                </a:lnTo>
                <a:lnTo>
                  <a:pt x="370" y="500"/>
                </a:lnTo>
                <a:lnTo>
                  <a:pt x="413" y="500"/>
                </a:lnTo>
                <a:lnTo>
                  <a:pt x="457" y="500"/>
                </a:lnTo>
                <a:lnTo>
                  <a:pt x="511" y="490"/>
                </a:lnTo>
                <a:lnTo>
                  <a:pt x="598" y="479"/>
                </a:lnTo>
                <a:lnTo>
                  <a:pt x="609" y="468"/>
                </a:lnTo>
                <a:lnTo>
                  <a:pt x="631" y="457"/>
                </a:lnTo>
                <a:lnTo>
                  <a:pt x="642" y="446"/>
                </a:lnTo>
                <a:lnTo>
                  <a:pt x="652" y="435"/>
                </a:lnTo>
                <a:lnTo>
                  <a:pt x="674" y="424"/>
                </a:lnTo>
                <a:lnTo>
                  <a:pt x="685" y="403"/>
                </a:lnTo>
                <a:lnTo>
                  <a:pt x="696" y="381"/>
                </a:lnTo>
                <a:lnTo>
                  <a:pt x="696" y="348"/>
                </a:lnTo>
                <a:lnTo>
                  <a:pt x="707" y="326"/>
                </a:lnTo>
                <a:lnTo>
                  <a:pt x="707" y="305"/>
                </a:lnTo>
                <a:lnTo>
                  <a:pt x="718" y="283"/>
                </a:lnTo>
                <a:lnTo>
                  <a:pt x="729" y="272"/>
                </a:lnTo>
                <a:lnTo>
                  <a:pt x="729" y="261"/>
                </a:lnTo>
                <a:lnTo>
                  <a:pt x="739" y="250"/>
                </a:lnTo>
                <a:lnTo>
                  <a:pt x="750" y="250"/>
                </a:lnTo>
                <a:lnTo>
                  <a:pt x="761" y="250"/>
                </a:lnTo>
                <a:lnTo>
                  <a:pt x="761" y="261"/>
                </a:lnTo>
                <a:lnTo>
                  <a:pt x="761" y="272"/>
                </a:lnTo>
                <a:lnTo>
                  <a:pt x="772" y="283"/>
                </a:lnTo>
                <a:lnTo>
                  <a:pt x="772" y="305"/>
                </a:lnTo>
                <a:lnTo>
                  <a:pt x="783" y="315"/>
                </a:lnTo>
                <a:lnTo>
                  <a:pt x="783" y="337"/>
                </a:lnTo>
                <a:lnTo>
                  <a:pt x="783" y="381"/>
                </a:lnTo>
                <a:lnTo>
                  <a:pt x="794" y="424"/>
                </a:lnTo>
                <a:lnTo>
                  <a:pt x="805" y="457"/>
                </a:lnTo>
                <a:lnTo>
                  <a:pt x="816" y="490"/>
                </a:lnTo>
                <a:lnTo>
                  <a:pt x="826" y="500"/>
                </a:lnTo>
                <a:lnTo>
                  <a:pt x="826" y="511"/>
                </a:lnTo>
                <a:lnTo>
                  <a:pt x="826" y="522"/>
                </a:lnTo>
                <a:lnTo>
                  <a:pt x="816" y="533"/>
                </a:lnTo>
                <a:lnTo>
                  <a:pt x="805" y="544"/>
                </a:lnTo>
                <a:lnTo>
                  <a:pt x="783" y="544"/>
                </a:lnTo>
                <a:lnTo>
                  <a:pt x="761" y="555"/>
                </a:lnTo>
                <a:lnTo>
                  <a:pt x="739" y="566"/>
                </a:lnTo>
                <a:lnTo>
                  <a:pt x="707" y="577"/>
                </a:lnTo>
                <a:lnTo>
                  <a:pt x="674" y="588"/>
                </a:lnTo>
                <a:lnTo>
                  <a:pt x="631" y="598"/>
                </a:lnTo>
                <a:lnTo>
                  <a:pt x="598" y="598"/>
                </a:lnTo>
                <a:lnTo>
                  <a:pt x="555" y="609"/>
                </a:lnTo>
                <a:lnTo>
                  <a:pt x="511" y="609"/>
                </a:lnTo>
                <a:lnTo>
                  <a:pt x="457" y="609"/>
                </a:lnTo>
                <a:lnTo>
                  <a:pt x="402" y="609"/>
                </a:lnTo>
                <a:lnTo>
                  <a:pt x="359" y="609"/>
                </a:lnTo>
                <a:lnTo>
                  <a:pt x="305" y="609"/>
                </a:lnTo>
                <a:lnTo>
                  <a:pt x="261" y="598"/>
                </a:lnTo>
                <a:lnTo>
                  <a:pt x="228" y="588"/>
                </a:lnTo>
                <a:lnTo>
                  <a:pt x="196" y="577"/>
                </a:lnTo>
                <a:lnTo>
                  <a:pt x="163" y="555"/>
                </a:lnTo>
                <a:lnTo>
                  <a:pt x="141" y="544"/>
                </a:lnTo>
                <a:lnTo>
                  <a:pt x="120" y="522"/>
                </a:lnTo>
                <a:lnTo>
                  <a:pt x="109" y="511"/>
                </a:lnTo>
                <a:lnTo>
                  <a:pt x="98" y="490"/>
                </a:lnTo>
                <a:lnTo>
                  <a:pt x="87" y="479"/>
                </a:lnTo>
                <a:lnTo>
                  <a:pt x="87" y="457"/>
                </a:lnTo>
                <a:lnTo>
                  <a:pt x="76" y="435"/>
                </a:lnTo>
                <a:lnTo>
                  <a:pt x="65" y="403"/>
                </a:lnTo>
                <a:lnTo>
                  <a:pt x="55" y="381"/>
                </a:lnTo>
                <a:lnTo>
                  <a:pt x="55" y="348"/>
                </a:lnTo>
                <a:lnTo>
                  <a:pt x="44" y="315"/>
                </a:lnTo>
                <a:lnTo>
                  <a:pt x="33" y="283"/>
                </a:lnTo>
                <a:lnTo>
                  <a:pt x="33" y="239"/>
                </a:lnTo>
                <a:lnTo>
                  <a:pt x="22" y="196"/>
                </a:lnTo>
                <a:lnTo>
                  <a:pt x="22" y="152"/>
                </a:lnTo>
                <a:lnTo>
                  <a:pt x="11" y="109"/>
                </a:lnTo>
                <a:lnTo>
                  <a:pt x="11" y="54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604800" y="2336760"/>
            <a:ext cx="20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七圈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2"/>
          <p:cNvSpPr/>
          <p:nvPr/>
        </p:nvSpPr>
        <p:spPr>
          <a:xfrm>
            <a:off x="5105520" y="4885200"/>
            <a:ext cx="362880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书写指导：外框要宽大，卷字上边是左点右撇、中间一长撇贯穿两横，下边横折钩不封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4"/>
          <p:cNvSpPr/>
          <p:nvPr/>
        </p:nvSpPr>
        <p:spPr>
          <a:xfrm>
            <a:off x="3077280" y="255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25"/>
          <p:cNvSpPr/>
          <p:nvPr/>
        </p:nvSpPr>
        <p:spPr>
          <a:xfrm>
            <a:off x="2541600" y="1585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uā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6"/>
          <p:cNvSpPr/>
          <p:nvPr/>
        </p:nvSpPr>
        <p:spPr>
          <a:xfrm>
            <a:off x="716040" y="4008960"/>
            <a:ext cx="23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全包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9"/>
          <p:cNvSpPr/>
          <p:nvPr/>
        </p:nvSpPr>
        <p:spPr>
          <a:xfrm>
            <a:off x="716040" y="496764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圈阅   圈起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30"/>
          <p:cNvSpPr/>
          <p:nvPr/>
        </p:nvSpPr>
        <p:spPr>
          <a:xfrm>
            <a:off x="716040" y="5473800"/>
            <a:ext cx="43304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今天早晨我围着操场跑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七圈，真是累死我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31"/>
          <p:cNvSpPr/>
          <p:nvPr/>
        </p:nvSpPr>
        <p:spPr>
          <a:xfrm>
            <a:off x="716040" y="4464000"/>
            <a:ext cx="290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449" name="圆角矩形 33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451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972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452" name="Picture 2" descr=""/>
          <p:cNvPicPr/>
          <p:nvPr/>
        </p:nvPicPr>
        <p:blipFill>
          <a:blip r:embed="rId3"/>
          <a:stretch/>
        </p:blipFill>
        <p:spPr>
          <a:xfrm>
            <a:off x="6369120" y="6335280"/>
            <a:ext cx="271908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Group 47"/>
          <p:cNvGraphicFramePr/>
          <p:nvPr/>
        </p:nvGraphicFramePr>
        <p:xfrm>
          <a:off x="5478480" y="1786320"/>
          <a:ext cx="2590560" cy="3039120"/>
        </p:xfrm>
        <a:graphic>
          <a:graphicData uri="http://schemas.openxmlformats.org/drawingml/2006/table">
            <a:tbl>
              <a:tblPr/>
              <a:tblGrid>
                <a:gridCol w="1284120"/>
                <a:gridCol w="1306080"/>
              </a:tblGrid>
              <a:tr h="151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900" spc="-1" strike="noStrike">
                        <a:solidFill>
                          <a:srgbClr val="ffffff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Freeform 28"/>
          <p:cNvSpPr/>
          <p:nvPr/>
        </p:nvSpPr>
        <p:spPr>
          <a:xfrm>
            <a:off x="6237360" y="2425680"/>
            <a:ext cx="201240" cy="450360"/>
          </a:xfrm>
          <a:custGeom>
            <a:avLst/>
            <a:gdLst>
              <a:gd name="textAreaLeft" fmla="*/ 0 w 201240"/>
              <a:gd name="textAreaRight" fmla="*/ 201600 w 201240"/>
              <a:gd name="textAreaTop" fmla="*/ 0 h 450360"/>
              <a:gd name="textAreaBottom" fmla="*/ 450720 h 450360"/>
            </a:gdLst>
            <a:ahLst/>
            <a:rect l="textAreaLeft" t="textAreaTop" r="textAreaRight" b="textAreaBottom"/>
            <a:pathLst>
              <a:path w="318" h="532">
                <a:moveTo>
                  <a:pt x="38" y="63"/>
                </a:moveTo>
                <a:lnTo>
                  <a:pt x="25" y="50"/>
                </a:lnTo>
                <a:lnTo>
                  <a:pt x="12" y="38"/>
                </a:lnTo>
                <a:lnTo>
                  <a:pt x="12" y="25"/>
                </a:lnTo>
                <a:lnTo>
                  <a:pt x="0" y="12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63" y="0"/>
                </a:lnTo>
                <a:lnTo>
                  <a:pt x="89" y="0"/>
                </a:lnTo>
                <a:lnTo>
                  <a:pt x="114" y="0"/>
                </a:lnTo>
                <a:lnTo>
                  <a:pt x="140" y="0"/>
                </a:lnTo>
                <a:lnTo>
                  <a:pt x="178" y="12"/>
                </a:lnTo>
                <a:lnTo>
                  <a:pt x="216" y="25"/>
                </a:lnTo>
                <a:lnTo>
                  <a:pt x="229" y="88"/>
                </a:lnTo>
                <a:lnTo>
                  <a:pt x="241" y="139"/>
                </a:lnTo>
                <a:lnTo>
                  <a:pt x="254" y="190"/>
                </a:lnTo>
                <a:lnTo>
                  <a:pt x="267" y="241"/>
                </a:lnTo>
                <a:lnTo>
                  <a:pt x="280" y="279"/>
                </a:lnTo>
                <a:lnTo>
                  <a:pt x="292" y="329"/>
                </a:lnTo>
                <a:lnTo>
                  <a:pt x="292" y="355"/>
                </a:lnTo>
                <a:lnTo>
                  <a:pt x="305" y="393"/>
                </a:lnTo>
                <a:lnTo>
                  <a:pt x="305" y="418"/>
                </a:lnTo>
                <a:lnTo>
                  <a:pt x="318" y="456"/>
                </a:lnTo>
                <a:lnTo>
                  <a:pt x="318" y="469"/>
                </a:lnTo>
                <a:lnTo>
                  <a:pt x="318" y="494"/>
                </a:lnTo>
                <a:lnTo>
                  <a:pt x="318" y="507"/>
                </a:lnTo>
                <a:lnTo>
                  <a:pt x="318" y="519"/>
                </a:lnTo>
                <a:lnTo>
                  <a:pt x="318" y="532"/>
                </a:lnTo>
                <a:lnTo>
                  <a:pt x="305" y="532"/>
                </a:lnTo>
                <a:lnTo>
                  <a:pt x="292" y="519"/>
                </a:lnTo>
                <a:lnTo>
                  <a:pt x="280" y="507"/>
                </a:lnTo>
                <a:lnTo>
                  <a:pt x="267" y="481"/>
                </a:lnTo>
                <a:lnTo>
                  <a:pt x="254" y="456"/>
                </a:lnTo>
                <a:lnTo>
                  <a:pt x="229" y="418"/>
                </a:lnTo>
                <a:lnTo>
                  <a:pt x="216" y="367"/>
                </a:lnTo>
                <a:lnTo>
                  <a:pt x="191" y="317"/>
                </a:lnTo>
                <a:lnTo>
                  <a:pt x="165" y="253"/>
                </a:lnTo>
                <a:lnTo>
                  <a:pt x="152" y="215"/>
                </a:lnTo>
                <a:lnTo>
                  <a:pt x="127" y="165"/>
                </a:lnTo>
                <a:lnTo>
                  <a:pt x="101" y="127"/>
                </a:lnTo>
                <a:lnTo>
                  <a:pt x="89" y="101"/>
                </a:lnTo>
                <a:lnTo>
                  <a:pt x="63" y="76"/>
                </a:lnTo>
                <a:lnTo>
                  <a:pt x="51" y="63"/>
                </a:lnTo>
                <a:lnTo>
                  <a:pt x="38" y="6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55" name="Freeform 29"/>
          <p:cNvSpPr/>
          <p:nvPr/>
        </p:nvSpPr>
        <p:spPr>
          <a:xfrm>
            <a:off x="6300720" y="2275560"/>
            <a:ext cx="1066320" cy="471600"/>
          </a:xfrm>
          <a:custGeom>
            <a:avLst/>
            <a:gdLst>
              <a:gd name="textAreaLeft" fmla="*/ 0 w 1066320"/>
              <a:gd name="textAreaRight" fmla="*/ 1066680 w 106632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680" h="558">
                <a:moveTo>
                  <a:pt x="39" y="317"/>
                </a:moveTo>
                <a:lnTo>
                  <a:pt x="0" y="190"/>
                </a:lnTo>
                <a:lnTo>
                  <a:pt x="115" y="190"/>
                </a:lnTo>
                <a:lnTo>
                  <a:pt x="229" y="178"/>
                </a:lnTo>
                <a:lnTo>
                  <a:pt x="331" y="165"/>
                </a:lnTo>
                <a:lnTo>
                  <a:pt x="458" y="152"/>
                </a:lnTo>
                <a:lnTo>
                  <a:pt x="573" y="140"/>
                </a:lnTo>
                <a:lnTo>
                  <a:pt x="700" y="127"/>
                </a:lnTo>
                <a:lnTo>
                  <a:pt x="840" y="114"/>
                </a:lnTo>
                <a:lnTo>
                  <a:pt x="993" y="89"/>
                </a:lnTo>
                <a:lnTo>
                  <a:pt x="1056" y="76"/>
                </a:lnTo>
                <a:lnTo>
                  <a:pt x="1120" y="64"/>
                </a:lnTo>
                <a:lnTo>
                  <a:pt x="1184" y="51"/>
                </a:lnTo>
                <a:lnTo>
                  <a:pt x="1222" y="51"/>
                </a:lnTo>
                <a:lnTo>
                  <a:pt x="1260" y="38"/>
                </a:lnTo>
                <a:lnTo>
                  <a:pt x="1298" y="38"/>
                </a:lnTo>
                <a:lnTo>
                  <a:pt x="1311" y="26"/>
                </a:lnTo>
                <a:lnTo>
                  <a:pt x="1324" y="26"/>
                </a:lnTo>
                <a:lnTo>
                  <a:pt x="1336" y="13"/>
                </a:lnTo>
                <a:lnTo>
                  <a:pt x="1349" y="0"/>
                </a:lnTo>
                <a:lnTo>
                  <a:pt x="1374" y="0"/>
                </a:lnTo>
                <a:lnTo>
                  <a:pt x="1400" y="0"/>
                </a:lnTo>
                <a:lnTo>
                  <a:pt x="1425" y="13"/>
                </a:lnTo>
                <a:lnTo>
                  <a:pt x="1464" y="26"/>
                </a:lnTo>
                <a:lnTo>
                  <a:pt x="1502" y="51"/>
                </a:lnTo>
                <a:lnTo>
                  <a:pt x="1565" y="76"/>
                </a:lnTo>
                <a:lnTo>
                  <a:pt x="1591" y="102"/>
                </a:lnTo>
                <a:lnTo>
                  <a:pt x="1616" y="114"/>
                </a:lnTo>
                <a:lnTo>
                  <a:pt x="1629" y="127"/>
                </a:lnTo>
                <a:lnTo>
                  <a:pt x="1642" y="152"/>
                </a:lnTo>
                <a:lnTo>
                  <a:pt x="1654" y="165"/>
                </a:lnTo>
                <a:lnTo>
                  <a:pt x="1667" y="165"/>
                </a:lnTo>
                <a:lnTo>
                  <a:pt x="1667" y="178"/>
                </a:lnTo>
                <a:lnTo>
                  <a:pt x="1680" y="190"/>
                </a:lnTo>
                <a:lnTo>
                  <a:pt x="1667" y="203"/>
                </a:lnTo>
                <a:lnTo>
                  <a:pt x="1654" y="216"/>
                </a:lnTo>
                <a:lnTo>
                  <a:pt x="1642" y="216"/>
                </a:lnTo>
                <a:lnTo>
                  <a:pt x="1616" y="228"/>
                </a:lnTo>
                <a:lnTo>
                  <a:pt x="1603" y="228"/>
                </a:lnTo>
                <a:lnTo>
                  <a:pt x="1591" y="228"/>
                </a:lnTo>
                <a:lnTo>
                  <a:pt x="1565" y="254"/>
                </a:lnTo>
                <a:lnTo>
                  <a:pt x="1553" y="266"/>
                </a:lnTo>
                <a:lnTo>
                  <a:pt x="1527" y="292"/>
                </a:lnTo>
                <a:lnTo>
                  <a:pt x="1514" y="317"/>
                </a:lnTo>
                <a:lnTo>
                  <a:pt x="1489" y="355"/>
                </a:lnTo>
                <a:lnTo>
                  <a:pt x="1464" y="406"/>
                </a:lnTo>
                <a:lnTo>
                  <a:pt x="1438" y="444"/>
                </a:lnTo>
                <a:lnTo>
                  <a:pt x="1413" y="482"/>
                </a:lnTo>
                <a:lnTo>
                  <a:pt x="1387" y="507"/>
                </a:lnTo>
                <a:lnTo>
                  <a:pt x="1362" y="533"/>
                </a:lnTo>
                <a:lnTo>
                  <a:pt x="1349" y="545"/>
                </a:lnTo>
                <a:lnTo>
                  <a:pt x="1336" y="558"/>
                </a:lnTo>
                <a:lnTo>
                  <a:pt x="1324" y="558"/>
                </a:lnTo>
                <a:lnTo>
                  <a:pt x="1298" y="558"/>
                </a:lnTo>
                <a:lnTo>
                  <a:pt x="1285" y="558"/>
                </a:lnTo>
                <a:lnTo>
                  <a:pt x="1273" y="545"/>
                </a:lnTo>
                <a:lnTo>
                  <a:pt x="1260" y="533"/>
                </a:lnTo>
                <a:lnTo>
                  <a:pt x="1260" y="520"/>
                </a:lnTo>
                <a:lnTo>
                  <a:pt x="1260" y="507"/>
                </a:lnTo>
                <a:lnTo>
                  <a:pt x="1260" y="495"/>
                </a:lnTo>
                <a:lnTo>
                  <a:pt x="1273" y="482"/>
                </a:lnTo>
                <a:lnTo>
                  <a:pt x="1273" y="457"/>
                </a:lnTo>
                <a:lnTo>
                  <a:pt x="1285" y="431"/>
                </a:lnTo>
                <a:lnTo>
                  <a:pt x="1298" y="406"/>
                </a:lnTo>
                <a:lnTo>
                  <a:pt x="1324" y="368"/>
                </a:lnTo>
                <a:lnTo>
                  <a:pt x="1336" y="330"/>
                </a:lnTo>
                <a:lnTo>
                  <a:pt x="1349" y="305"/>
                </a:lnTo>
                <a:lnTo>
                  <a:pt x="1362" y="266"/>
                </a:lnTo>
                <a:lnTo>
                  <a:pt x="1374" y="241"/>
                </a:lnTo>
                <a:lnTo>
                  <a:pt x="1387" y="216"/>
                </a:lnTo>
                <a:lnTo>
                  <a:pt x="1387" y="203"/>
                </a:lnTo>
                <a:lnTo>
                  <a:pt x="1387" y="190"/>
                </a:lnTo>
                <a:lnTo>
                  <a:pt x="1387" y="178"/>
                </a:lnTo>
                <a:lnTo>
                  <a:pt x="1387" y="165"/>
                </a:lnTo>
                <a:lnTo>
                  <a:pt x="1349" y="152"/>
                </a:lnTo>
                <a:lnTo>
                  <a:pt x="1336" y="152"/>
                </a:lnTo>
                <a:lnTo>
                  <a:pt x="1324" y="140"/>
                </a:lnTo>
                <a:lnTo>
                  <a:pt x="1311" y="152"/>
                </a:lnTo>
                <a:lnTo>
                  <a:pt x="1298" y="152"/>
                </a:lnTo>
                <a:lnTo>
                  <a:pt x="1285" y="152"/>
                </a:lnTo>
                <a:lnTo>
                  <a:pt x="1273" y="152"/>
                </a:lnTo>
                <a:lnTo>
                  <a:pt x="1260" y="152"/>
                </a:lnTo>
                <a:lnTo>
                  <a:pt x="1235" y="152"/>
                </a:lnTo>
                <a:lnTo>
                  <a:pt x="1209" y="152"/>
                </a:lnTo>
                <a:lnTo>
                  <a:pt x="1184" y="165"/>
                </a:lnTo>
                <a:lnTo>
                  <a:pt x="1158" y="165"/>
                </a:lnTo>
                <a:lnTo>
                  <a:pt x="1133" y="165"/>
                </a:lnTo>
                <a:lnTo>
                  <a:pt x="1095" y="178"/>
                </a:lnTo>
                <a:lnTo>
                  <a:pt x="1069" y="178"/>
                </a:lnTo>
                <a:lnTo>
                  <a:pt x="1031" y="178"/>
                </a:lnTo>
                <a:lnTo>
                  <a:pt x="993" y="190"/>
                </a:lnTo>
                <a:lnTo>
                  <a:pt x="942" y="190"/>
                </a:lnTo>
                <a:lnTo>
                  <a:pt x="904" y="203"/>
                </a:lnTo>
                <a:lnTo>
                  <a:pt x="853" y="203"/>
                </a:lnTo>
                <a:lnTo>
                  <a:pt x="815" y="216"/>
                </a:lnTo>
                <a:lnTo>
                  <a:pt x="764" y="216"/>
                </a:lnTo>
                <a:lnTo>
                  <a:pt x="700" y="228"/>
                </a:lnTo>
                <a:lnTo>
                  <a:pt x="649" y="228"/>
                </a:lnTo>
                <a:lnTo>
                  <a:pt x="586" y="241"/>
                </a:lnTo>
                <a:lnTo>
                  <a:pt x="535" y="241"/>
                </a:lnTo>
                <a:lnTo>
                  <a:pt x="471" y="254"/>
                </a:lnTo>
                <a:lnTo>
                  <a:pt x="408" y="266"/>
                </a:lnTo>
                <a:lnTo>
                  <a:pt x="331" y="279"/>
                </a:lnTo>
                <a:lnTo>
                  <a:pt x="268" y="279"/>
                </a:lnTo>
                <a:lnTo>
                  <a:pt x="191" y="292"/>
                </a:lnTo>
                <a:lnTo>
                  <a:pt x="115" y="305"/>
                </a:lnTo>
                <a:lnTo>
                  <a:pt x="39" y="317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56" name="Freeform 30"/>
          <p:cNvSpPr/>
          <p:nvPr/>
        </p:nvSpPr>
        <p:spPr>
          <a:xfrm>
            <a:off x="6600960" y="2436120"/>
            <a:ext cx="80640" cy="300240"/>
          </a:xfrm>
          <a:custGeom>
            <a:avLst/>
            <a:gdLst>
              <a:gd name="textAreaLeft" fmla="*/ 0 w 80640"/>
              <a:gd name="textAreaRight" fmla="*/ 81000 w 8064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27" h="355">
                <a:moveTo>
                  <a:pt x="38" y="355"/>
                </a:moveTo>
                <a:lnTo>
                  <a:pt x="26" y="292"/>
                </a:lnTo>
                <a:lnTo>
                  <a:pt x="26" y="241"/>
                </a:lnTo>
                <a:lnTo>
                  <a:pt x="13" y="178"/>
                </a:lnTo>
                <a:lnTo>
                  <a:pt x="13" y="127"/>
                </a:lnTo>
                <a:lnTo>
                  <a:pt x="13" y="89"/>
                </a:lnTo>
                <a:lnTo>
                  <a:pt x="13" y="51"/>
                </a:lnTo>
                <a:lnTo>
                  <a:pt x="0" y="26"/>
                </a:lnTo>
                <a:lnTo>
                  <a:pt x="0" y="0"/>
                </a:lnTo>
                <a:lnTo>
                  <a:pt x="89" y="0"/>
                </a:lnTo>
                <a:lnTo>
                  <a:pt x="102" y="89"/>
                </a:lnTo>
                <a:lnTo>
                  <a:pt x="115" y="178"/>
                </a:lnTo>
                <a:lnTo>
                  <a:pt x="127" y="267"/>
                </a:lnTo>
                <a:lnTo>
                  <a:pt x="127" y="355"/>
                </a:lnTo>
                <a:lnTo>
                  <a:pt x="38" y="355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57" name="Freeform 31"/>
          <p:cNvSpPr/>
          <p:nvPr/>
        </p:nvSpPr>
        <p:spPr>
          <a:xfrm>
            <a:off x="6851520" y="2394000"/>
            <a:ext cx="112320" cy="331920"/>
          </a:xfrm>
          <a:custGeom>
            <a:avLst/>
            <a:gdLst>
              <a:gd name="textAreaLeft" fmla="*/ 0 w 112320"/>
              <a:gd name="textAreaRight" fmla="*/ 112680 w 11232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78" h="393">
                <a:moveTo>
                  <a:pt x="0" y="0"/>
                </a:moveTo>
                <a:lnTo>
                  <a:pt x="50" y="12"/>
                </a:lnTo>
                <a:lnTo>
                  <a:pt x="76" y="38"/>
                </a:lnTo>
                <a:lnTo>
                  <a:pt x="114" y="50"/>
                </a:lnTo>
                <a:lnTo>
                  <a:pt x="140" y="63"/>
                </a:lnTo>
                <a:lnTo>
                  <a:pt x="152" y="76"/>
                </a:lnTo>
                <a:lnTo>
                  <a:pt x="165" y="88"/>
                </a:lnTo>
                <a:lnTo>
                  <a:pt x="178" y="101"/>
                </a:lnTo>
                <a:lnTo>
                  <a:pt x="178" y="114"/>
                </a:lnTo>
                <a:lnTo>
                  <a:pt x="165" y="139"/>
                </a:lnTo>
                <a:lnTo>
                  <a:pt x="152" y="165"/>
                </a:lnTo>
                <a:lnTo>
                  <a:pt x="140" y="190"/>
                </a:lnTo>
                <a:lnTo>
                  <a:pt x="127" y="228"/>
                </a:lnTo>
                <a:lnTo>
                  <a:pt x="114" y="279"/>
                </a:lnTo>
                <a:lnTo>
                  <a:pt x="89" y="329"/>
                </a:lnTo>
                <a:lnTo>
                  <a:pt x="63" y="393"/>
                </a:lnTo>
                <a:lnTo>
                  <a:pt x="0" y="393"/>
                </a:lnTo>
                <a:lnTo>
                  <a:pt x="12" y="317"/>
                </a:lnTo>
                <a:lnTo>
                  <a:pt x="25" y="266"/>
                </a:lnTo>
                <a:lnTo>
                  <a:pt x="25" y="203"/>
                </a:lnTo>
                <a:lnTo>
                  <a:pt x="25" y="152"/>
                </a:lnTo>
                <a:lnTo>
                  <a:pt x="25" y="101"/>
                </a:lnTo>
                <a:lnTo>
                  <a:pt x="25" y="63"/>
                </a:lnTo>
                <a:lnTo>
                  <a:pt x="12" y="2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58" name="Freeform 32"/>
          <p:cNvSpPr/>
          <p:nvPr/>
        </p:nvSpPr>
        <p:spPr>
          <a:xfrm>
            <a:off x="6415200" y="2639520"/>
            <a:ext cx="742680" cy="183960"/>
          </a:xfrm>
          <a:custGeom>
            <a:avLst/>
            <a:gdLst>
              <a:gd name="textAreaLeft" fmla="*/ 0 w 742680"/>
              <a:gd name="textAreaRight" fmla="*/ 743040 w 742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70" h="216">
                <a:moveTo>
                  <a:pt x="0" y="127"/>
                </a:moveTo>
                <a:lnTo>
                  <a:pt x="127" y="114"/>
                </a:lnTo>
                <a:lnTo>
                  <a:pt x="241" y="102"/>
                </a:lnTo>
                <a:lnTo>
                  <a:pt x="356" y="89"/>
                </a:lnTo>
                <a:lnTo>
                  <a:pt x="458" y="76"/>
                </a:lnTo>
                <a:lnTo>
                  <a:pt x="559" y="64"/>
                </a:lnTo>
                <a:lnTo>
                  <a:pt x="648" y="51"/>
                </a:lnTo>
                <a:lnTo>
                  <a:pt x="725" y="51"/>
                </a:lnTo>
                <a:lnTo>
                  <a:pt x="801" y="38"/>
                </a:lnTo>
                <a:lnTo>
                  <a:pt x="877" y="26"/>
                </a:lnTo>
                <a:lnTo>
                  <a:pt x="941" y="26"/>
                </a:lnTo>
                <a:lnTo>
                  <a:pt x="992" y="13"/>
                </a:lnTo>
                <a:lnTo>
                  <a:pt x="1043" y="13"/>
                </a:lnTo>
                <a:lnTo>
                  <a:pt x="1081" y="13"/>
                </a:lnTo>
                <a:lnTo>
                  <a:pt x="1119" y="13"/>
                </a:lnTo>
                <a:lnTo>
                  <a:pt x="1145" y="13"/>
                </a:lnTo>
                <a:lnTo>
                  <a:pt x="1170" y="0"/>
                </a:lnTo>
                <a:lnTo>
                  <a:pt x="1170" y="102"/>
                </a:lnTo>
                <a:lnTo>
                  <a:pt x="1119" y="102"/>
                </a:lnTo>
                <a:lnTo>
                  <a:pt x="1068" y="102"/>
                </a:lnTo>
                <a:lnTo>
                  <a:pt x="1017" y="102"/>
                </a:lnTo>
                <a:lnTo>
                  <a:pt x="979" y="102"/>
                </a:lnTo>
                <a:lnTo>
                  <a:pt x="890" y="102"/>
                </a:lnTo>
                <a:lnTo>
                  <a:pt x="814" y="102"/>
                </a:lnTo>
                <a:lnTo>
                  <a:pt x="788" y="114"/>
                </a:lnTo>
                <a:lnTo>
                  <a:pt x="763" y="114"/>
                </a:lnTo>
                <a:lnTo>
                  <a:pt x="737" y="114"/>
                </a:lnTo>
                <a:lnTo>
                  <a:pt x="699" y="127"/>
                </a:lnTo>
                <a:lnTo>
                  <a:pt x="674" y="127"/>
                </a:lnTo>
                <a:lnTo>
                  <a:pt x="623" y="127"/>
                </a:lnTo>
                <a:lnTo>
                  <a:pt x="585" y="140"/>
                </a:lnTo>
                <a:lnTo>
                  <a:pt x="534" y="152"/>
                </a:lnTo>
                <a:lnTo>
                  <a:pt x="483" y="152"/>
                </a:lnTo>
                <a:lnTo>
                  <a:pt x="432" y="165"/>
                </a:lnTo>
                <a:lnTo>
                  <a:pt x="369" y="165"/>
                </a:lnTo>
                <a:lnTo>
                  <a:pt x="305" y="178"/>
                </a:lnTo>
                <a:lnTo>
                  <a:pt x="229" y="190"/>
                </a:lnTo>
                <a:lnTo>
                  <a:pt x="165" y="203"/>
                </a:lnTo>
                <a:lnTo>
                  <a:pt x="89" y="203"/>
                </a:lnTo>
                <a:lnTo>
                  <a:pt x="0" y="216"/>
                </a:lnTo>
                <a:lnTo>
                  <a:pt x="0" y="127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59" name="Freeform 34"/>
          <p:cNvSpPr/>
          <p:nvPr/>
        </p:nvSpPr>
        <p:spPr>
          <a:xfrm>
            <a:off x="6261120" y="2918880"/>
            <a:ext cx="985320" cy="257760"/>
          </a:xfrm>
          <a:custGeom>
            <a:avLst/>
            <a:gdLst>
              <a:gd name="textAreaLeft" fmla="*/ 0 w 985320"/>
              <a:gd name="textAreaRight" fmla="*/ 985680 w 985320"/>
              <a:gd name="textAreaTop" fmla="*/ 0 h 257760"/>
              <a:gd name="textAreaBottom" fmla="*/ 258120 h 257760"/>
            </a:gdLst>
            <a:ahLst/>
            <a:rect l="textAreaLeft" t="textAreaTop" r="textAreaRight" b="textAreaBottom"/>
            <a:pathLst>
              <a:path w="1552" h="304">
                <a:moveTo>
                  <a:pt x="420" y="266"/>
                </a:moveTo>
                <a:lnTo>
                  <a:pt x="369" y="266"/>
                </a:lnTo>
                <a:lnTo>
                  <a:pt x="331" y="278"/>
                </a:lnTo>
                <a:lnTo>
                  <a:pt x="292" y="291"/>
                </a:lnTo>
                <a:lnTo>
                  <a:pt x="267" y="291"/>
                </a:lnTo>
                <a:lnTo>
                  <a:pt x="242" y="304"/>
                </a:lnTo>
                <a:lnTo>
                  <a:pt x="216" y="304"/>
                </a:lnTo>
                <a:lnTo>
                  <a:pt x="191" y="304"/>
                </a:lnTo>
                <a:lnTo>
                  <a:pt x="178" y="304"/>
                </a:lnTo>
                <a:lnTo>
                  <a:pt x="153" y="304"/>
                </a:lnTo>
                <a:lnTo>
                  <a:pt x="127" y="291"/>
                </a:lnTo>
                <a:lnTo>
                  <a:pt x="89" y="291"/>
                </a:lnTo>
                <a:lnTo>
                  <a:pt x="63" y="266"/>
                </a:lnTo>
                <a:lnTo>
                  <a:pt x="38" y="253"/>
                </a:lnTo>
                <a:lnTo>
                  <a:pt x="13" y="240"/>
                </a:lnTo>
                <a:lnTo>
                  <a:pt x="0" y="240"/>
                </a:lnTo>
                <a:lnTo>
                  <a:pt x="0" y="228"/>
                </a:lnTo>
                <a:lnTo>
                  <a:pt x="13" y="215"/>
                </a:lnTo>
                <a:lnTo>
                  <a:pt x="25" y="215"/>
                </a:lnTo>
                <a:lnTo>
                  <a:pt x="38" y="215"/>
                </a:lnTo>
                <a:lnTo>
                  <a:pt x="51" y="202"/>
                </a:lnTo>
                <a:lnTo>
                  <a:pt x="76" y="202"/>
                </a:lnTo>
                <a:lnTo>
                  <a:pt x="102" y="202"/>
                </a:lnTo>
                <a:lnTo>
                  <a:pt x="140" y="190"/>
                </a:lnTo>
                <a:lnTo>
                  <a:pt x="153" y="190"/>
                </a:lnTo>
                <a:lnTo>
                  <a:pt x="178" y="190"/>
                </a:lnTo>
                <a:lnTo>
                  <a:pt x="203" y="190"/>
                </a:lnTo>
                <a:lnTo>
                  <a:pt x="229" y="177"/>
                </a:lnTo>
                <a:lnTo>
                  <a:pt x="254" y="177"/>
                </a:lnTo>
                <a:lnTo>
                  <a:pt x="280" y="177"/>
                </a:lnTo>
                <a:lnTo>
                  <a:pt x="318" y="164"/>
                </a:lnTo>
                <a:lnTo>
                  <a:pt x="356" y="164"/>
                </a:lnTo>
                <a:lnTo>
                  <a:pt x="394" y="152"/>
                </a:lnTo>
                <a:lnTo>
                  <a:pt x="432" y="152"/>
                </a:lnTo>
                <a:lnTo>
                  <a:pt x="483" y="139"/>
                </a:lnTo>
                <a:lnTo>
                  <a:pt x="521" y="126"/>
                </a:lnTo>
                <a:lnTo>
                  <a:pt x="572" y="126"/>
                </a:lnTo>
                <a:lnTo>
                  <a:pt x="623" y="114"/>
                </a:lnTo>
                <a:lnTo>
                  <a:pt x="687" y="101"/>
                </a:lnTo>
                <a:lnTo>
                  <a:pt x="738" y="88"/>
                </a:lnTo>
                <a:lnTo>
                  <a:pt x="801" y="76"/>
                </a:lnTo>
                <a:lnTo>
                  <a:pt x="852" y="76"/>
                </a:lnTo>
                <a:lnTo>
                  <a:pt x="903" y="63"/>
                </a:lnTo>
                <a:lnTo>
                  <a:pt x="954" y="50"/>
                </a:lnTo>
                <a:lnTo>
                  <a:pt x="992" y="50"/>
                </a:lnTo>
                <a:lnTo>
                  <a:pt x="1043" y="38"/>
                </a:lnTo>
                <a:lnTo>
                  <a:pt x="1081" y="25"/>
                </a:lnTo>
                <a:lnTo>
                  <a:pt x="1119" y="25"/>
                </a:lnTo>
                <a:lnTo>
                  <a:pt x="1158" y="25"/>
                </a:lnTo>
                <a:lnTo>
                  <a:pt x="1183" y="12"/>
                </a:lnTo>
                <a:lnTo>
                  <a:pt x="1221" y="12"/>
                </a:lnTo>
                <a:lnTo>
                  <a:pt x="1247" y="12"/>
                </a:lnTo>
                <a:lnTo>
                  <a:pt x="1272" y="0"/>
                </a:lnTo>
                <a:lnTo>
                  <a:pt x="1298" y="0"/>
                </a:lnTo>
                <a:lnTo>
                  <a:pt x="1310" y="0"/>
                </a:lnTo>
                <a:lnTo>
                  <a:pt x="1336" y="0"/>
                </a:lnTo>
                <a:lnTo>
                  <a:pt x="1361" y="0"/>
                </a:lnTo>
                <a:lnTo>
                  <a:pt x="1399" y="0"/>
                </a:lnTo>
                <a:lnTo>
                  <a:pt x="1425" y="12"/>
                </a:lnTo>
                <a:lnTo>
                  <a:pt x="1450" y="12"/>
                </a:lnTo>
                <a:lnTo>
                  <a:pt x="1463" y="12"/>
                </a:lnTo>
                <a:lnTo>
                  <a:pt x="1488" y="25"/>
                </a:lnTo>
                <a:lnTo>
                  <a:pt x="1501" y="25"/>
                </a:lnTo>
                <a:lnTo>
                  <a:pt x="1514" y="38"/>
                </a:lnTo>
                <a:lnTo>
                  <a:pt x="1539" y="50"/>
                </a:lnTo>
                <a:lnTo>
                  <a:pt x="1552" y="63"/>
                </a:lnTo>
                <a:lnTo>
                  <a:pt x="1552" y="76"/>
                </a:lnTo>
                <a:lnTo>
                  <a:pt x="1552" y="88"/>
                </a:lnTo>
                <a:lnTo>
                  <a:pt x="1552" y="101"/>
                </a:lnTo>
                <a:lnTo>
                  <a:pt x="1539" y="114"/>
                </a:lnTo>
                <a:lnTo>
                  <a:pt x="1527" y="126"/>
                </a:lnTo>
                <a:lnTo>
                  <a:pt x="1501" y="126"/>
                </a:lnTo>
                <a:lnTo>
                  <a:pt x="1488" y="126"/>
                </a:lnTo>
                <a:lnTo>
                  <a:pt x="1463" y="126"/>
                </a:lnTo>
                <a:lnTo>
                  <a:pt x="1437" y="126"/>
                </a:lnTo>
                <a:lnTo>
                  <a:pt x="1412" y="126"/>
                </a:lnTo>
                <a:lnTo>
                  <a:pt x="1387" y="126"/>
                </a:lnTo>
                <a:lnTo>
                  <a:pt x="1348" y="126"/>
                </a:lnTo>
                <a:lnTo>
                  <a:pt x="1310" y="126"/>
                </a:lnTo>
                <a:lnTo>
                  <a:pt x="1272" y="126"/>
                </a:lnTo>
                <a:lnTo>
                  <a:pt x="1234" y="126"/>
                </a:lnTo>
                <a:lnTo>
                  <a:pt x="1196" y="139"/>
                </a:lnTo>
                <a:lnTo>
                  <a:pt x="1145" y="139"/>
                </a:lnTo>
                <a:lnTo>
                  <a:pt x="1094" y="139"/>
                </a:lnTo>
                <a:lnTo>
                  <a:pt x="1043" y="152"/>
                </a:lnTo>
                <a:lnTo>
                  <a:pt x="979" y="152"/>
                </a:lnTo>
                <a:lnTo>
                  <a:pt x="929" y="164"/>
                </a:lnTo>
                <a:lnTo>
                  <a:pt x="865" y="164"/>
                </a:lnTo>
                <a:lnTo>
                  <a:pt x="738" y="190"/>
                </a:lnTo>
                <a:lnTo>
                  <a:pt x="623" y="215"/>
                </a:lnTo>
                <a:lnTo>
                  <a:pt x="572" y="228"/>
                </a:lnTo>
                <a:lnTo>
                  <a:pt x="509" y="240"/>
                </a:lnTo>
                <a:lnTo>
                  <a:pt x="458" y="253"/>
                </a:lnTo>
                <a:lnTo>
                  <a:pt x="420" y="26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0" name="Freeform 35"/>
          <p:cNvSpPr/>
          <p:nvPr/>
        </p:nvSpPr>
        <p:spPr>
          <a:xfrm>
            <a:off x="6438960" y="3306240"/>
            <a:ext cx="128160" cy="888480"/>
          </a:xfrm>
          <a:custGeom>
            <a:avLst/>
            <a:gdLst>
              <a:gd name="textAreaLeft" fmla="*/ 0 w 128160"/>
              <a:gd name="textAreaRight" fmla="*/ 128520 w 128160"/>
              <a:gd name="textAreaTop" fmla="*/ 0 h 888480"/>
              <a:gd name="textAreaBottom" fmla="*/ 888840 h 888480"/>
            </a:gdLst>
            <a:ahLst/>
            <a:rect l="textAreaLeft" t="textAreaTop" r="textAreaRight" b="textAreaBottom"/>
            <a:pathLst>
              <a:path w="203" h="1052">
                <a:moveTo>
                  <a:pt x="12" y="101"/>
                </a:moveTo>
                <a:lnTo>
                  <a:pt x="12" y="63"/>
                </a:lnTo>
                <a:lnTo>
                  <a:pt x="0" y="38"/>
                </a:lnTo>
                <a:lnTo>
                  <a:pt x="12" y="25"/>
                </a:lnTo>
                <a:lnTo>
                  <a:pt x="25" y="13"/>
                </a:lnTo>
                <a:lnTo>
                  <a:pt x="25" y="0"/>
                </a:lnTo>
                <a:lnTo>
                  <a:pt x="38" y="0"/>
                </a:lnTo>
                <a:lnTo>
                  <a:pt x="51" y="0"/>
                </a:lnTo>
                <a:lnTo>
                  <a:pt x="76" y="0"/>
                </a:lnTo>
                <a:lnTo>
                  <a:pt x="89" y="13"/>
                </a:lnTo>
                <a:lnTo>
                  <a:pt x="114" y="13"/>
                </a:lnTo>
                <a:lnTo>
                  <a:pt x="140" y="25"/>
                </a:lnTo>
                <a:lnTo>
                  <a:pt x="165" y="25"/>
                </a:lnTo>
                <a:lnTo>
                  <a:pt x="203" y="1052"/>
                </a:lnTo>
                <a:lnTo>
                  <a:pt x="76" y="1052"/>
                </a:lnTo>
                <a:lnTo>
                  <a:pt x="76" y="988"/>
                </a:lnTo>
                <a:lnTo>
                  <a:pt x="76" y="925"/>
                </a:lnTo>
                <a:lnTo>
                  <a:pt x="76" y="861"/>
                </a:lnTo>
                <a:lnTo>
                  <a:pt x="76" y="811"/>
                </a:lnTo>
                <a:lnTo>
                  <a:pt x="76" y="760"/>
                </a:lnTo>
                <a:lnTo>
                  <a:pt x="76" y="709"/>
                </a:lnTo>
                <a:lnTo>
                  <a:pt x="76" y="659"/>
                </a:lnTo>
                <a:lnTo>
                  <a:pt x="76" y="608"/>
                </a:lnTo>
                <a:lnTo>
                  <a:pt x="76" y="570"/>
                </a:lnTo>
                <a:lnTo>
                  <a:pt x="76" y="532"/>
                </a:lnTo>
                <a:lnTo>
                  <a:pt x="76" y="494"/>
                </a:lnTo>
                <a:lnTo>
                  <a:pt x="76" y="456"/>
                </a:lnTo>
                <a:lnTo>
                  <a:pt x="76" y="431"/>
                </a:lnTo>
                <a:lnTo>
                  <a:pt x="76" y="393"/>
                </a:lnTo>
                <a:lnTo>
                  <a:pt x="76" y="367"/>
                </a:lnTo>
                <a:lnTo>
                  <a:pt x="63" y="342"/>
                </a:lnTo>
                <a:lnTo>
                  <a:pt x="63" y="304"/>
                </a:lnTo>
                <a:lnTo>
                  <a:pt x="63" y="253"/>
                </a:lnTo>
                <a:lnTo>
                  <a:pt x="51" y="215"/>
                </a:lnTo>
                <a:lnTo>
                  <a:pt x="38" y="190"/>
                </a:lnTo>
                <a:lnTo>
                  <a:pt x="38" y="152"/>
                </a:lnTo>
                <a:lnTo>
                  <a:pt x="25" y="127"/>
                </a:lnTo>
                <a:lnTo>
                  <a:pt x="25" y="114"/>
                </a:lnTo>
                <a:lnTo>
                  <a:pt x="12" y="10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1" name="Freeform 37"/>
          <p:cNvSpPr/>
          <p:nvPr/>
        </p:nvSpPr>
        <p:spPr>
          <a:xfrm>
            <a:off x="6512040" y="3433320"/>
            <a:ext cx="379080" cy="118080"/>
          </a:xfrm>
          <a:custGeom>
            <a:avLst/>
            <a:gdLst>
              <a:gd name="textAreaLeft" fmla="*/ 0 w 379080"/>
              <a:gd name="textAreaRight" fmla="*/ 379440 w 379080"/>
              <a:gd name="textAreaTop" fmla="*/ 0 h 118080"/>
              <a:gd name="textAreaBottom" fmla="*/ 118440 h 118080"/>
            </a:gdLst>
            <a:ahLst/>
            <a:rect l="textAreaLeft" t="textAreaTop" r="textAreaRight" b="textAreaBottom"/>
            <a:pathLst>
              <a:path w="598" h="139">
                <a:moveTo>
                  <a:pt x="306" y="38"/>
                </a:moveTo>
                <a:lnTo>
                  <a:pt x="344" y="25"/>
                </a:lnTo>
                <a:lnTo>
                  <a:pt x="382" y="13"/>
                </a:lnTo>
                <a:lnTo>
                  <a:pt x="420" y="13"/>
                </a:lnTo>
                <a:lnTo>
                  <a:pt x="458" y="0"/>
                </a:lnTo>
                <a:lnTo>
                  <a:pt x="484" y="0"/>
                </a:lnTo>
                <a:lnTo>
                  <a:pt x="509" y="0"/>
                </a:lnTo>
                <a:lnTo>
                  <a:pt x="522" y="13"/>
                </a:lnTo>
                <a:lnTo>
                  <a:pt x="535" y="13"/>
                </a:lnTo>
                <a:lnTo>
                  <a:pt x="560" y="25"/>
                </a:lnTo>
                <a:lnTo>
                  <a:pt x="573" y="38"/>
                </a:lnTo>
                <a:lnTo>
                  <a:pt x="585" y="51"/>
                </a:lnTo>
                <a:lnTo>
                  <a:pt x="598" y="51"/>
                </a:lnTo>
                <a:lnTo>
                  <a:pt x="585" y="63"/>
                </a:lnTo>
                <a:lnTo>
                  <a:pt x="573" y="63"/>
                </a:lnTo>
                <a:lnTo>
                  <a:pt x="560" y="76"/>
                </a:lnTo>
                <a:lnTo>
                  <a:pt x="535" y="76"/>
                </a:lnTo>
                <a:lnTo>
                  <a:pt x="496" y="89"/>
                </a:lnTo>
                <a:lnTo>
                  <a:pt x="458" y="89"/>
                </a:lnTo>
                <a:lnTo>
                  <a:pt x="407" y="101"/>
                </a:lnTo>
                <a:lnTo>
                  <a:pt x="356" y="101"/>
                </a:lnTo>
                <a:lnTo>
                  <a:pt x="306" y="114"/>
                </a:lnTo>
                <a:lnTo>
                  <a:pt x="242" y="114"/>
                </a:lnTo>
                <a:lnTo>
                  <a:pt x="191" y="127"/>
                </a:lnTo>
                <a:lnTo>
                  <a:pt x="153" y="127"/>
                </a:lnTo>
                <a:lnTo>
                  <a:pt x="102" y="127"/>
                </a:lnTo>
                <a:lnTo>
                  <a:pt x="64" y="139"/>
                </a:lnTo>
                <a:lnTo>
                  <a:pt x="26" y="139"/>
                </a:lnTo>
                <a:lnTo>
                  <a:pt x="0" y="139"/>
                </a:lnTo>
                <a:lnTo>
                  <a:pt x="0" y="63"/>
                </a:lnTo>
                <a:lnTo>
                  <a:pt x="64" y="63"/>
                </a:lnTo>
                <a:lnTo>
                  <a:pt x="127" y="63"/>
                </a:lnTo>
                <a:lnTo>
                  <a:pt x="217" y="51"/>
                </a:lnTo>
                <a:lnTo>
                  <a:pt x="306" y="38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2" name="Freeform 38"/>
          <p:cNvSpPr/>
          <p:nvPr/>
        </p:nvSpPr>
        <p:spPr>
          <a:xfrm>
            <a:off x="6512040" y="3638520"/>
            <a:ext cx="379080" cy="137160"/>
          </a:xfrm>
          <a:custGeom>
            <a:avLst/>
            <a:gdLst>
              <a:gd name="textAreaLeft" fmla="*/ 0 w 379080"/>
              <a:gd name="textAreaRight" fmla="*/ 379440 w 379080"/>
              <a:gd name="textAreaTop" fmla="*/ 0 h 137160"/>
              <a:gd name="textAreaBottom" fmla="*/ 137520 h 137160"/>
            </a:gdLst>
            <a:ahLst/>
            <a:rect l="textAreaLeft" t="textAreaTop" r="textAreaRight" b="textAreaBottom"/>
            <a:pathLst>
              <a:path w="598" h="164">
                <a:moveTo>
                  <a:pt x="0" y="88"/>
                </a:moveTo>
                <a:lnTo>
                  <a:pt x="26" y="88"/>
                </a:lnTo>
                <a:lnTo>
                  <a:pt x="51" y="88"/>
                </a:lnTo>
                <a:lnTo>
                  <a:pt x="77" y="76"/>
                </a:lnTo>
                <a:lnTo>
                  <a:pt x="115" y="76"/>
                </a:lnTo>
                <a:lnTo>
                  <a:pt x="153" y="76"/>
                </a:lnTo>
                <a:lnTo>
                  <a:pt x="191" y="63"/>
                </a:lnTo>
                <a:lnTo>
                  <a:pt x="242" y="50"/>
                </a:lnTo>
                <a:lnTo>
                  <a:pt x="293" y="38"/>
                </a:lnTo>
                <a:lnTo>
                  <a:pt x="331" y="25"/>
                </a:lnTo>
                <a:lnTo>
                  <a:pt x="382" y="25"/>
                </a:lnTo>
                <a:lnTo>
                  <a:pt x="407" y="12"/>
                </a:lnTo>
                <a:lnTo>
                  <a:pt x="446" y="12"/>
                </a:lnTo>
                <a:lnTo>
                  <a:pt x="471" y="0"/>
                </a:lnTo>
                <a:lnTo>
                  <a:pt x="496" y="0"/>
                </a:lnTo>
                <a:lnTo>
                  <a:pt x="522" y="0"/>
                </a:lnTo>
                <a:lnTo>
                  <a:pt x="535" y="12"/>
                </a:lnTo>
                <a:lnTo>
                  <a:pt x="560" y="12"/>
                </a:lnTo>
                <a:lnTo>
                  <a:pt x="573" y="25"/>
                </a:lnTo>
                <a:lnTo>
                  <a:pt x="585" y="38"/>
                </a:lnTo>
                <a:lnTo>
                  <a:pt x="598" y="50"/>
                </a:lnTo>
                <a:lnTo>
                  <a:pt x="585" y="50"/>
                </a:lnTo>
                <a:lnTo>
                  <a:pt x="585" y="63"/>
                </a:lnTo>
                <a:lnTo>
                  <a:pt x="573" y="63"/>
                </a:lnTo>
                <a:lnTo>
                  <a:pt x="560" y="63"/>
                </a:lnTo>
                <a:lnTo>
                  <a:pt x="535" y="76"/>
                </a:lnTo>
                <a:lnTo>
                  <a:pt x="509" y="76"/>
                </a:lnTo>
                <a:lnTo>
                  <a:pt x="484" y="88"/>
                </a:lnTo>
                <a:lnTo>
                  <a:pt x="446" y="88"/>
                </a:lnTo>
                <a:lnTo>
                  <a:pt x="407" y="101"/>
                </a:lnTo>
                <a:lnTo>
                  <a:pt x="356" y="101"/>
                </a:lnTo>
                <a:lnTo>
                  <a:pt x="306" y="114"/>
                </a:lnTo>
                <a:lnTo>
                  <a:pt x="255" y="126"/>
                </a:lnTo>
                <a:lnTo>
                  <a:pt x="204" y="139"/>
                </a:lnTo>
                <a:lnTo>
                  <a:pt x="140" y="139"/>
                </a:lnTo>
                <a:lnTo>
                  <a:pt x="64" y="152"/>
                </a:lnTo>
                <a:lnTo>
                  <a:pt x="0" y="164"/>
                </a:lnTo>
                <a:lnTo>
                  <a:pt x="0" y="88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3" name="Freeform 39"/>
          <p:cNvSpPr/>
          <p:nvPr/>
        </p:nvSpPr>
        <p:spPr>
          <a:xfrm>
            <a:off x="6512040" y="3862800"/>
            <a:ext cx="379080" cy="107640"/>
          </a:xfrm>
          <a:custGeom>
            <a:avLst/>
            <a:gdLst>
              <a:gd name="textAreaLeft" fmla="*/ 0 w 379080"/>
              <a:gd name="textAreaRight" fmla="*/ 379440 w 37908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598" h="126">
                <a:moveTo>
                  <a:pt x="369" y="101"/>
                </a:moveTo>
                <a:lnTo>
                  <a:pt x="267" y="114"/>
                </a:lnTo>
                <a:lnTo>
                  <a:pt x="166" y="114"/>
                </a:lnTo>
                <a:lnTo>
                  <a:pt x="77" y="126"/>
                </a:lnTo>
                <a:lnTo>
                  <a:pt x="0" y="126"/>
                </a:lnTo>
                <a:lnTo>
                  <a:pt x="0" y="50"/>
                </a:lnTo>
                <a:lnTo>
                  <a:pt x="77" y="50"/>
                </a:lnTo>
                <a:lnTo>
                  <a:pt x="140" y="38"/>
                </a:lnTo>
                <a:lnTo>
                  <a:pt x="204" y="25"/>
                </a:lnTo>
                <a:lnTo>
                  <a:pt x="267" y="25"/>
                </a:lnTo>
                <a:lnTo>
                  <a:pt x="318" y="12"/>
                </a:lnTo>
                <a:lnTo>
                  <a:pt x="369" y="0"/>
                </a:lnTo>
                <a:lnTo>
                  <a:pt x="395" y="0"/>
                </a:lnTo>
                <a:lnTo>
                  <a:pt x="420" y="0"/>
                </a:lnTo>
                <a:lnTo>
                  <a:pt x="433" y="0"/>
                </a:lnTo>
                <a:lnTo>
                  <a:pt x="446" y="0"/>
                </a:lnTo>
                <a:lnTo>
                  <a:pt x="496" y="0"/>
                </a:lnTo>
                <a:lnTo>
                  <a:pt x="522" y="0"/>
                </a:lnTo>
                <a:lnTo>
                  <a:pt x="547" y="12"/>
                </a:lnTo>
                <a:lnTo>
                  <a:pt x="573" y="12"/>
                </a:lnTo>
                <a:lnTo>
                  <a:pt x="585" y="25"/>
                </a:lnTo>
                <a:lnTo>
                  <a:pt x="585" y="38"/>
                </a:lnTo>
                <a:lnTo>
                  <a:pt x="598" y="38"/>
                </a:lnTo>
                <a:lnTo>
                  <a:pt x="585" y="50"/>
                </a:lnTo>
                <a:lnTo>
                  <a:pt x="573" y="50"/>
                </a:lnTo>
                <a:lnTo>
                  <a:pt x="560" y="63"/>
                </a:lnTo>
                <a:lnTo>
                  <a:pt x="535" y="63"/>
                </a:lnTo>
                <a:lnTo>
                  <a:pt x="509" y="76"/>
                </a:lnTo>
                <a:lnTo>
                  <a:pt x="471" y="88"/>
                </a:lnTo>
                <a:lnTo>
                  <a:pt x="420" y="88"/>
                </a:lnTo>
                <a:lnTo>
                  <a:pt x="369" y="101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4" name="Freeform 33"/>
          <p:cNvSpPr/>
          <p:nvPr/>
        </p:nvSpPr>
        <p:spPr>
          <a:xfrm>
            <a:off x="6600960" y="2768760"/>
            <a:ext cx="209160" cy="558360"/>
          </a:xfrm>
          <a:custGeom>
            <a:avLst/>
            <a:gdLst>
              <a:gd name="textAreaLeft" fmla="*/ 0 w 209160"/>
              <a:gd name="textAreaRight" fmla="*/ 209520 w 20916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331" h="659">
                <a:moveTo>
                  <a:pt x="127" y="64"/>
                </a:moveTo>
                <a:lnTo>
                  <a:pt x="127" y="38"/>
                </a:lnTo>
                <a:lnTo>
                  <a:pt x="115" y="26"/>
                </a:lnTo>
                <a:lnTo>
                  <a:pt x="127" y="13"/>
                </a:lnTo>
                <a:lnTo>
                  <a:pt x="127" y="0"/>
                </a:lnTo>
                <a:lnTo>
                  <a:pt x="140" y="0"/>
                </a:lnTo>
                <a:lnTo>
                  <a:pt x="153" y="0"/>
                </a:lnTo>
                <a:lnTo>
                  <a:pt x="166" y="0"/>
                </a:lnTo>
                <a:lnTo>
                  <a:pt x="204" y="13"/>
                </a:lnTo>
                <a:lnTo>
                  <a:pt x="242" y="38"/>
                </a:lnTo>
                <a:lnTo>
                  <a:pt x="255" y="51"/>
                </a:lnTo>
                <a:lnTo>
                  <a:pt x="280" y="64"/>
                </a:lnTo>
                <a:lnTo>
                  <a:pt x="293" y="76"/>
                </a:lnTo>
                <a:lnTo>
                  <a:pt x="306" y="89"/>
                </a:lnTo>
                <a:lnTo>
                  <a:pt x="318" y="89"/>
                </a:lnTo>
                <a:lnTo>
                  <a:pt x="318" y="102"/>
                </a:lnTo>
                <a:lnTo>
                  <a:pt x="331" y="114"/>
                </a:lnTo>
                <a:lnTo>
                  <a:pt x="331" y="127"/>
                </a:lnTo>
                <a:lnTo>
                  <a:pt x="331" y="140"/>
                </a:lnTo>
                <a:lnTo>
                  <a:pt x="318" y="152"/>
                </a:lnTo>
                <a:lnTo>
                  <a:pt x="318" y="165"/>
                </a:lnTo>
                <a:lnTo>
                  <a:pt x="306" y="190"/>
                </a:lnTo>
                <a:lnTo>
                  <a:pt x="293" y="216"/>
                </a:lnTo>
                <a:lnTo>
                  <a:pt x="280" y="241"/>
                </a:lnTo>
                <a:lnTo>
                  <a:pt x="267" y="279"/>
                </a:lnTo>
                <a:lnTo>
                  <a:pt x="242" y="304"/>
                </a:lnTo>
                <a:lnTo>
                  <a:pt x="229" y="355"/>
                </a:lnTo>
                <a:lnTo>
                  <a:pt x="204" y="393"/>
                </a:lnTo>
                <a:lnTo>
                  <a:pt x="178" y="444"/>
                </a:lnTo>
                <a:lnTo>
                  <a:pt x="153" y="494"/>
                </a:lnTo>
                <a:lnTo>
                  <a:pt x="127" y="545"/>
                </a:lnTo>
                <a:lnTo>
                  <a:pt x="102" y="596"/>
                </a:lnTo>
                <a:lnTo>
                  <a:pt x="77" y="659"/>
                </a:lnTo>
                <a:lnTo>
                  <a:pt x="0" y="659"/>
                </a:lnTo>
                <a:lnTo>
                  <a:pt x="26" y="596"/>
                </a:lnTo>
                <a:lnTo>
                  <a:pt x="38" y="532"/>
                </a:lnTo>
                <a:lnTo>
                  <a:pt x="51" y="469"/>
                </a:lnTo>
                <a:lnTo>
                  <a:pt x="64" y="418"/>
                </a:lnTo>
                <a:lnTo>
                  <a:pt x="77" y="368"/>
                </a:lnTo>
                <a:lnTo>
                  <a:pt x="89" y="317"/>
                </a:lnTo>
                <a:lnTo>
                  <a:pt x="102" y="279"/>
                </a:lnTo>
                <a:lnTo>
                  <a:pt x="115" y="228"/>
                </a:lnTo>
                <a:lnTo>
                  <a:pt x="115" y="203"/>
                </a:lnTo>
                <a:lnTo>
                  <a:pt x="127" y="165"/>
                </a:lnTo>
                <a:lnTo>
                  <a:pt x="127" y="140"/>
                </a:lnTo>
                <a:lnTo>
                  <a:pt x="127" y="114"/>
                </a:lnTo>
                <a:lnTo>
                  <a:pt x="127" y="102"/>
                </a:lnTo>
                <a:lnTo>
                  <a:pt x="127" y="89"/>
                </a:lnTo>
                <a:lnTo>
                  <a:pt x="127" y="76"/>
                </a:lnTo>
                <a:lnTo>
                  <a:pt x="127" y="64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5" name="Freeform 36"/>
          <p:cNvSpPr/>
          <p:nvPr/>
        </p:nvSpPr>
        <p:spPr>
          <a:xfrm>
            <a:off x="6488280" y="3187800"/>
            <a:ext cx="645840" cy="954360"/>
          </a:xfrm>
          <a:custGeom>
            <a:avLst/>
            <a:gdLst>
              <a:gd name="textAreaLeft" fmla="*/ 0 w 645840"/>
              <a:gd name="textAreaRight" fmla="*/ 646200 w 64584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1018" h="1128">
                <a:moveTo>
                  <a:pt x="687" y="26"/>
                </a:moveTo>
                <a:lnTo>
                  <a:pt x="700" y="13"/>
                </a:lnTo>
                <a:lnTo>
                  <a:pt x="725" y="0"/>
                </a:lnTo>
                <a:lnTo>
                  <a:pt x="738" y="0"/>
                </a:lnTo>
                <a:lnTo>
                  <a:pt x="763" y="0"/>
                </a:lnTo>
                <a:lnTo>
                  <a:pt x="789" y="13"/>
                </a:lnTo>
                <a:lnTo>
                  <a:pt x="827" y="26"/>
                </a:lnTo>
                <a:lnTo>
                  <a:pt x="852" y="38"/>
                </a:lnTo>
                <a:lnTo>
                  <a:pt x="865" y="51"/>
                </a:lnTo>
                <a:lnTo>
                  <a:pt x="891" y="64"/>
                </a:lnTo>
                <a:lnTo>
                  <a:pt x="916" y="76"/>
                </a:lnTo>
                <a:lnTo>
                  <a:pt x="942" y="89"/>
                </a:lnTo>
                <a:lnTo>
                  <a:pt x="967" y="102"/>
                </a:lnTo>
                <a:lnTo>
                  <a:pt x="980" y="114"/>
                </a:lnTo>
                <a:lnTo>
                  <a:pt x="992" y="127"/>
                </a:lnTo>
                <a:lnTo>
                  <a:pt x="1005" y="140"/>
                </a:lnTo>
                <a:lnTo>
                  <a:pt x="1018" y="140"/>
                </a:lnTo>
                <a:lnTo>
                  <a:pt x="1018" y="153"/>
                </a:lnTo>
                <a:lnTo>
                  <a:pt x="1005" y="191"/>
                </a:lnTo>
                <a:lnTo>
                  <a:pt x="992" y="203"/>
                </a:lnTo>
                <a:lnTo>
                  <a:pt x="980" y="229"/>
                </a:lnTo>
                <a:lnTo>
                  <a:pt x="967" y="229"/>
                </a:lnTo>
                <a:lnTo>
                  <a:pt x="967" y="241"/>
                </a:lnTo>
                <a:lnTo>
                  <a:pt x="954" y="267"/>
                </a:lnTo>
                <a:lnTo>
                  <a:pt x="954" y="292"/>
                </a:lnTo>
                <a:lnTo>
                  <a:pt x="954" y="330"/>
                </a:lnTo>
                <a:lnTo>
                  <a:pt x="942" y="368"/>
                </a:lnTo>
                <a:lnTo>
                  <a:pt x="942" y="419"/>
                </a:lnTo>
                <a:lnTo>
                  <a:pt x="929" y="469"/>
                </a:lnTo>
                <a:lnTo>
                  <a:pt x="929" y="533"/>
                </a:lnTo>
                <a:lnTo>
                  <a:pt x="929" y="596"/>
                </a:lnTo>
                <a:lnTo>
                  <a:pt x="916" y="672"/>
                </a:lnTo>
                <a:lnTo>
                  <a:pt x="916" y="748"/>
                </a:lnTo>
                <a:lnTo>
                  <a:pt x="916" y="824"/>
                </a:lnTo>
                <a:lnTo>
                  <a:pt x="903" y="925"/>
                </a:lnTo>
                <a:lnTo>
                  <a:pt x="903" y="1014"/>
                </a:lnTo>
                <a:lnTo>
                  <a:pt x="903" y="1128"/>
                </a:lnTo>
                <a:lnTo>
                  <a:pt x="776" y="1128"/>
                </a:lnTo>
                <a:lnTo>
                  <a:pt x="776" y="1014"/>
                </a:lnTo>
                <a:lnTo>
                  <a:pt x="776" y="925"/>
                </a:lnTo>
                <a:lnTo>
                  <a:pt x="776" y="824"/>
                </a:lnTo>
                <a:lnTo>
                  <a:pt x="776" y="748"/>
                </a:lnTo>
                <a:lnTo>
                  <a:pt x="776" y="659"/>
                </a:lnTo>
                <a:lnTo>
                  <a:pt x="776" y="583"/>
                </a:lnTo>
                <a:lnTo>
                  <a:pt x="776" y="520"/>
                </a:lnTo>
                <a:lnTo>
                  <a:pt x="763" y="457"/>
                </a:lnTo>
                <a:lnTo>
                  <a:pt x="763" y="406"/>
                </a:lnTo>
                <a:lnTo>
                  <a:pt x="763" y="355"/>
                </a:lnTo>
                <a:lnTo>
                  <a:pt x="763" y="317"/>
                </a:lnTo>
                <a:lnTo>
                  <a:pt x="763" y="279"/>
                </a:lnTo>
                <a:lnTo>
                  <a:pt x="763" y="241"/>
                </a:lnTo>
                <a:lnTo>
                  <a:pt x="763" y="216"/>
                </a:lnTo>
                <a:lnTo>
                  <a:pt x="751" y="203"/>
                </a:lnTo>
                <a:lnTo>
                  <a:pt x="751" y="191"/>
                </a:lnTo>
                <a:lnTo>
                  <a:pt x="738" y="165"/>
                </a:lnTo>
                <a:lnTo>
                  <a:pt x="713" y="153"/>
                </a:lnTo>
                <a:lnTo>
                  <a:pt x="687" y="140"/>
                </a:lnTo>
                <a:lnTo>
                  <a:pt x="662" y="140"/>
                </a:lnTo>
                <a:lnTo>
                  <a:pt x="649" y="140"/>
                </a:lnTo>
                <a:lnTo>
                  <a:pt x="636" y="140"/>
                </a:lnTo>
                <a:lnTo>
                  <a:pt x="623" y="140"/>
                </a:lnTo>
                <a:lnTo>
                  <a:pt x="598" y="140"/>
                </a:lnTo>
                <a:lnTo>
                  <a:pt x="573" y="153"/>
                </a:lnTo>
                <a:lnTo>
                  <a:pt x="534" y="153"/>
                </a:lnTo>
                <a:lnTo>
                  <a:pt x="509" y="165"/>
                </a:lnTo>
                <a:lnTo>
                  <a:pt x="458" y="165"/>
                </a:lnTo>
                <a:lnTo>
                  <a:pt x="420" y="178"/>
                </a:lnTo>
                <a:lnTo>
                  <a:pt x="369" y="191"/>
                </a:lnTo>
                <a:lnTo>
                  <a:pt x="318" y="191"/>
                </a:lnTo>
                <a:lnTo>
                  <a:pt x="267" y="203"/>
                </a:lnTo>
                <a:lnTo>
                  <a:pt x="204" y="216"/>
                </a:lnTo>
                <a:lnTo>
                  <a:pt x="140" y="229"/>
                </a:lnTo>
                <a:lnTo>
                  <a:pt x="76" y="241"/>
                </a:lnTo>
                <a:lnTo>
                  <a:pt x="0" y="254"/>
                </a:lnTo>
                <a:lnTo>
                  <a:pt x="0" y="165"/>
                </a:lnTo>
                <a:lnTo>
                  <a:pt x="76" y="153"/>
                </a:lnTo>
                <a:lnTo>
                  <a:pt x="140" y="140"/>
                </a:lnTo>
                <a:lnTo>
                  <a:pt x="216" y="127"/>
                </a:lnTo>
                <a:lnTo>
                  <a:pt x="267" y="114"/>
                </a:lnTo>
                <a:lnTo>
                  <a:pt x="331" y="114"/>
                </a:lnTo>
                <a:lnTo>
                  <a:pt x="382" y="102"/>
                </a:lnTo>
                <a:lnTo>
                  <a:pt x="433" y="89"/>
                </a:lnTo>
                <a:lnTo>
                  <a:pt x="484" y="76"/>
                </a:lnTo>
                <a:lnTo>
                  <a:pt x="522" y="76"/>
                </a:lnTo>
                <a:lnTo>
                  <a:pt x="560" y="64"/>
                </a:lnTo>
                <a:lnTo>
                  <a:pt x="598" y="51"/>
                </a:lnTo>
                <a:lnTo>
                  <a:pt x="623" y="51"/>
                </a:lnTo>
                <a:lnTo>
                  <a:pt x="636" y="38"/>
                </a:lnTo>
                <a:lnTo>
                  <a:pt x="662" y="38"/>
                </a:lnTo>
                <a:lnTo>
                  <a:pt x="674" y="26"/>
                </a:lnTo>
                <a:lnTo>
                  <a:pt x="687" y="26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6" name="Freeform 40"/>
          <p:cNvSpPr/>
          <p:nvPr/>
        </p:nvSpPr>
        <p:spPr>
          <a:xfrm>
            <a:off x="6002280" y="4013280"/>
            <a:ext cx="1568160" cy="30024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468" h="355">
                <a:moveTo>
                  <a:pt x="2455" y="203"/>
                </a:moveTo>
                <a:lnTo>
                  <a:pt x="2455" y="203"/>
                </a:lnTo>
                <a:lnTo>
                  <a:pt x="2430" y="216"/>
                </a:lnTo>
                <a:lnTo>
                  <a:pt x="2417" y="216"/>
                </a:lnTo>
                <a:lnTo>
                  <a:pt x="2379" y="216"/>
                </a:lnTo>
                <a:lnTo>
                  <a:pt x="2341" y="216"/>
                </a:lnTo>
                <a:lnTo>
                  <a:pt x="2290" y="216"/>
                </a:lnTo>
                <a:lnTo>
                  <a:pt x="2239" y="203"/>
                </a:lnTo>
                <a:lnTo>
                  <a:pt x="2175" y="203"/>
                </a:lnTo>
                <a:lnTo>
                  <a:pt x="2112" y="190"/>
                </a:lnTo>
                <a:lnTo>
                  <a:pt x="2061" y="190"/>
                </a:lnTo>
                <a:lnTo>
                  <a:pt x="2010" y="190"/>
                </a:lnTo>
                <a:lnTo>
                  <a:pt x="1959" y="178"/>
                </a:lnTo>
                <a:lnTo>
                  <a:pt x="1921" y="178"/>
                </a:lnTo>
                <a:lnTo>
                  <a:pt x="1895" y="178"/>
                </a:lnTo>
                <a:lnTo>
                  <a:pt x="1870" y="178"/>
                </a:lnTo>
                <a:lnTo>
                  <a:pt x="1857" y="178"/>
                </a:lnTo>
                <a:lnTo>
                  <a:pt x="1832" y="178"/>
                </a:lnTo>
                <a:lnTo>
                  <a:pt x="1806" y="178"/>
                </a:lnTo>
                <a:lnTo>
                  <a:pt x="1781" y="178"/>
                </a:lnTo>
                <a:lnTo>
                  <a:pt x="1743" y="178"/>
                </a:lnTo>
                <a:lnTo>
                  <a:pt x="1705" y="190"/>
                </a:lnTo>
                <a:lnTo>
                  <a:pt x="1654" y="190"/>
                </a:lnTo>
                <a:lnTo>
                  <a:pt x="1603" y="190"/>
                </a:lnTo>
                <a:lnTo>
                  <a:pt x="1552" y="203"/>
                </a:lnTo>
                <a:lnTo>
                  <a:pt x="1425" y="216"/>
                </a:lnTo>
                <a:lnTo>
                  <a:pt x="1285" y="216"/>
                </a:lnTo>
                <a:lnTo>
                  <a:pt x="1157" y="228"/>
                </a:lnTo>
                <a:lnTo>
                  <a:pt x="1018" y="254"/>
                </a:lnTo>
                <a:lnTo>
                  <a:pt x="878" y="266"/>
                </a:lnTo>
                <a:lnTo>
                  <a:pt x="738" y="279"/>
                </a:lnTo>
                <a:lnTo>
                  <a:pt x="610" y="304"/>
                </a:lnTo>
                <a:lnTo>
                  <a:pt x="483" y="330"/>
                </a:lnTo>
                <a:lnTo>
                  <a:pt x="432" y="330"/>
                </a:lnTo>
                <a:lnTo>
                  <a:pt x="381" y="342"/>
                </a:lnTo>
                <a:lnTo>
                  <a:pt x="343" y="342"/>
                </a:lnTo>
                <a:lnTo>
                  <a:pt x="305" y="355"/>
                </a:lnTo>
                <a:lnTo>
                  <a:pt x="267" y="355"/>
                </a:lnTo>
                <a:lnTo>
                  <a:pt x="241" y="355"/>
                </a:lnTo>
                <a:lnTo>
                  <a:pt x="229" y="355"/>
                </a:lnTo>
                <a:lnTo>
                  <a:pt x="216" y="355"/>
                </a:lnTo>
                <a:lnTo>
                  <a:pt x="191" y="355"/>
                </a:lnTo>
                <a:lnTo>
                  <a:pt x="165" y="355"/>
                </a:lnTo>
                <a:lnTo>
                  <a:pt x="127" y="342"/>
                </a:lnTo>
                <a:lnTo>
                  <a:pt x="89" y="330"/>
                </a:lnTo>
                <a:lnTo>
                  <a:pt x="76" y="317"/>
                </a:lnTo>
                <a:lnTo>
                  <a:pt x="51" y="304"/>
                </a:lnTo>
                <a:lnTo>
                  <a:pt x="38" y="304"/>
                </a:lnTo>
                <a:lnTo>
                  <a:pt x="25" y="292"/>
                </a:lnTo>
                <a:lnTo>
                  <a:pt x="12" y="292"/>
                </a:lnTo>
                <a:lnTo>
                  <a:pt x="12" y="279"/>
                </a:lnTo>
                <a:lnTo>
                  <a:pt x="0" y="279"/>
                </a:lnTo>
                <a:lnTo>
                  <a:pt x="0" y="266"/>
                </a:lnTo>
                <a:lnTo>
                  <a:pt x="0" y="254"/>
                </a:lnTo>
                <a:lnTo>
                  <a:pt x="12" y="241"/>
                </a:lnTo>
                <a:lnTo>
                  <a:pt x="25" y="241"/>
                </a:lnTo>
                <a:lnTo>
                  <a:pt x="38" y="241"/>
                </a:lnTo>
                <a:lnTo>
                  <a:pt x="51" y="241"/>
                </a:lnTo>
                <a:lnTo>
                  <a:pt x="76" y="241"/>
                </a:lnTo>
                <a:lnTo>
                  <a:pt x="89" y="241"/>
                </a:lnTo>
                <a:lnTo>
                  <a:pt x="102" y="241"/>
                </a:lnTo>
                <a:lnTo>
                  <a:pt x="114" y="241"/>
                </a:lnTo>
                <a:lnTo>
                  <a:pt x="140" y="228"/>
                </a:lnTo>
                <a:lnTo>
                  <a:pt x="165" y="228"/>
                </a:lnTo>
                <a:lnTo>
                  <a:pt x="191" y="228"/>
                </a:lnTo>
                <a:lnTo>
                  <a:pt x="216" y="228"/>
                </a:lnTo>
                <a:lnTo>
                  <a:pt x="254" y="228"/>
                </a:lnTo>
                <a:lnTo>
                  <a:pt x="280" y="216"/>
                </a:lnTo>
                <a:lnTo>
                  <a:pt x="318" y="216"/>
                </a:lnTo>
                <a:lnTo>
                  <a:pt x="356" y="216"/>
                </a:lnTo>
                <a:lnTo>
                  <a:pt x="407" y="203"/>
                </a:lnTo>
                <a:lnTo>
                  <a:pt x="458" y="203"/>
                </a:lnTo>
                <a:lnTo>
                  <a:pt x="496" y="190"/>
                </a:lnTo>
                <a:lnTo>
                  <a:pt x="560" y="190"/>
                </a:lnTo>
                <a:lnTo>
                  <a:pt x="610" y="178"/>
                </a:lnTo>
                <a:lnTo>
                  <a:pt x="839" y="152"/>
                </a:lnTo>
                <a:lnTo>
                  <a:pt x="1081" y="127"/>
                </a:lnTo>
                <a:lnTo>
                  <a:pt x="1323" y="89"/>
                </a:lnTo>
                <a:lnTo>
                  <a:pt x="1590" y="63"/>
                </a:lnTo>
                <a:lnTo>
                  <a:pt x="1641" y="51"/>
                </a:lnTo>
                <a:lnTo>
                  <a:pt x="1705" y="51"/>
                </a:lnTo>
                <a:lnTo>
                  <a:pt x="1755" y="38"/>
                </a:lnTo>
                <a:lnTo>
                  <a:pt x="1806" y="38"/>
                </a:lnTo>
                <a:lnTo>
                  <a:pt x="1857" y="25"/>
                </a:lnTo>
                <a:lnTo>
                  <a:pt x="1895" y="25"/>
                </a:lnTo>
                <a:lnTo>
                  <a:pt x="1946" y="25"/>
                </a:lnTo>
                <a:lnTo>
                  <a:pt x="1984" y="13"/>
                </a:lnTo>
                <a:lnTo>
                  <a:pt x="2010" y="13"/>
                </a:lnTo>
                <a:lnTo>
                  <a:pt x="2048" y="13"/>
                </a:lnTo>
                <a:lnTo>
                  <a:pt x="2073" y="13"/>
                </a:lnTo>
                <a:lnTo>
                  <a:pt x="2099" y="0"/>
                </a:lnTo>
                <a:lnTo>
                  <a:pt x="2124" y="0"/>
                </a:lnTo>
                <a:lnTo>
                  <a:pt x="2137" y="0"/>
                </a:lnTo>
                <a:lnTo>
                  <a:pt x="2150" y="0"/>
                </a:lnTo>
                <a:lnTo>
                  <a:pt x="2163" y="0"/>
                </a:lnTo>
                <a:lnTo>
                  <a:pt x="2201" y="0"/>
                </a:lnTo>
                <a:lnTo>
                  <a:pt x="2239" y="13"/>
                </a:lnTo>
                <a:lnTo>
                  <a:pt x="2290" y="38"/>
                </a:lnTo>
                <a:lnTo>
                  <a:pt x="2341" y="63"/>
                </a:lnTo>
                <a:lnTo>
                  <a:pt x="2353" y="76"/>
                </a:lnTo>
                <a:lnTo>
                  <a:pt x="2379" y="89"/>
                </a:lnTo>
                <a:lnTo>
                  <a:pt x="2404" y="89"/>
                </a:lnTo>
                <a:lnTo>
                  <a:pt x="2417" y="102"/>
                </a:lnTo>
                <a:lnTo>
                  <a:pt x="2430" y="114"/>
                </a:lnTo>
                <a:lnTo>
                  <a:pt x="2442" y="127"/>
                </a:lnTo>
                <a:lnTo>
                  <a:pt x="2455" y="140"/>
                </a:lnTo>
                <a:lnTo>
                  <a:pt x="2455" y="152"/>
                </a:lnTo>
                <a:lnTo>
                  <a:pt x="2468" y="165"/>
                </a:lnTo>
                <a:lnTo>
                  <a:pt x="2468" y="190"/>
                </a:lnTo>
                <a:lnTo>
                  <a:pt x="2455" y="203"/>
                </a:lnTo>
              </a:path>
            </a:pathLst>
          </a:custGeom>
          <a:solidFill>
            <a:srgbClr val="ff00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7" name="TextBox 2"/>
          <p:cNvSpPr/>
          <p:nvPr/>
        </p:nvSpPr>
        <p:spPr>
          <a:xfrm>
            <a:off x="366840" y="2336760"/>
            <a:ext cx="301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难以置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"/>
          <p:cNvSpPr/>
          <p:nvPr/>
        </p:nvSpPr>
        <p:spPr>
          <a:xfrm>
            <a:off x="5183280" y="4916880"/>
            <a:ext cx="340812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书写指导：罒要扁宽，十字横要长、竖稍向左拉，下框内是三横，外边一横最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"/>
          <p:cNvSpPr/>
          <p:nvPr/>
        </p:nvSpPr>
        <p:spPr>
          <a:xfrm>
            <a:off x="3372480" y="255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29"/>
          <p:cNvSpPr/>
          <p:nvPr/>
        </p:nvSpPr>
        <p:spPr>
          <a:xfrm>
            <a:off x="3079800" y="158544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0"/>
          <p:cNvSpPr/>
          <p:nvPr/>
        </p:nvSpPr>
        <p:spPr>
          <a:xfrm>
            <a:off x="706320" y="4015440"/>
            <a:ext cx="23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1"/>
          <p:cNvSpPr/>
          <p:nvPr/>
        </p:nvSpPr>
        <p:spPr>
          <a:xfrm>
            <a:off x="716040" y="499752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安置   置之不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2"/>
          <p:cNvSpPr/>
          <p:nvPr/>
        </p:nvSpPr>
        <p:spPr>
          <a:xfrm>
            <a:off x="716040" y="5488560"/>
            <a:ext cx="428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小明百米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秒，真是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难以置信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3"/>
          <p:cNvSpPr/>
          <p:nvPr/>
        </p:nvSpPr>
        <p:spPr>
          <a:xfrm>
            <a:off x="687240" y="4506480"/>
            <a:ext cx="290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476" name="圆角矩形 35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478" name="Picture 3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9720" y="939960"/>
            <a:ext cx="901440" cy="6832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11"/>
          <p:cNvSpPr/>
          <p:nvPr/>
        </p:nvSpPr>
        <p:spPr>
          <a:xfrm>
            <a:off x="1157400" y="2309400"/>
            <a:ext cx="7049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初读课文后，你感受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11"/>
          <p:cNvSpPr/>
          <p:nvPr/>
        </p:nvSpPr>
        <p:spPr>
          <a:xfrm>
            <a:off x="1227240" y="3304080"/>
            <a:ext cx="6708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完这篇课文，让我们对速度有了更多的了解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3"/>
          <p:cNvGrpSpPr/>
          <p:nvPr/>
        </p:nvGrpSpPr>
        <p:grpSpPr>
          <a:xfrm>
            <a:off x="704880" y="1418040"/>
            <a:ext cx="1832400" cy="633600"/>
            <a:chOff x="704880" y="1418040"/>
            <a:chExt cx="1832400" cy="633600"/>
          </a:xfrm>
        </p:grpSpPr>
        <p:sp>
          <p:nvSpPr>
            <p:cNvPr id="482" name="矩形 2"/>
            <p:cNvSpPr/>
            <p:nvPr/>
          </p:nvSpPr>
          <p:spPr>
            <a:xfrm>
              <a:off x="1502640" y="1418040"/>
              <a:ext cx="103464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11"/>
            <p:cNvSpPr/>
            <p:nvPr/>
          </p:nvSpPr>
          <p:spPr>
            <a:xfrm>
              <a:off x="704880" y="1453320"/>
              <a:ext cx="590040" cy="598320"/>
            </a:xfrm>
            <a:prstGeom prst="roundRect">
              <a:avLst>
                <a:gd name="adj" fmla="val 10000"/>
              </a:avLst>
            </a:prstGeom>
            <a:blipFill rotWithShape="0">
              <a:blip r:embed="rId1"/>
              <a:srcRect/>
              <a:stretch/>
            </a:blip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907920" y="4669200"/>
            <a:ext cx="7359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是不是觉得难以置信？下面就让我们走进课文了解一下吧！ 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icture 6"/>
          <p:cNvSpPr/>
          <p:nvPr/>
        </p:nvSpPr>
        <p:spPr>
          <a:xfrm>
            <a:off x="2163960" y="1067040"/>
            <a:ext cx="4839840" cy="36068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2467080" y="3386880"/>
            <a:ext cx="62701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罗伯特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•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威尔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直以来都在美国南加利福尼亚从事儿童画创作。他的工作还包括了标志画、贺卡设计和漫画创作。《蓝鲸是最大的吗？》是他创作的第一本书，通过画笔，他让孩子们想象到了宇宙的巨大。自那时起的二十多年来，他一直在他的工作室里创作《妙想科学》。他说他的书旨在帮助孩子们探索这个神奇的世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icture 9"/>
          <p:cNvSpPr/>
          <p:nvPr/>
        </p:nvSpPr>
        <p:spPr>
          <a:xfrm>
            <a:off x="450000" y="2309040"/>
            <a:ext cx="2032560" cy="342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Administrator\Desktop\3333\助读资料.png"/>
          <p:cNvPicPr/>
          <p:nvPr/>
        </p:nvPicPr>
        <p:blipFill>
          <a:blip r:embed="rId2"/>
          <a:stretch/>
        </p:blipFill>
        <p:spPr>
          <a:xfrm>
            <a:off x="3486240" y="91080"/>
            <a:ext cx="2171520" cy="75960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73" name="组合 20"/>
          <p:cNvGrpSpPr/>
          <p:nvPr/>
        </p:nvGrpSpPr>
        <p:grpSpPr>
          <a:xfrm>
            <a:off x="512280" y="1087200"/>
            <a:ext cx="1772280" cy="672840"/>
            <a:chOff x="512280" y="1087200"/>
            <a:chExt cx="1772280" cy="672840"/>
          </a:xfrm>
        </p:grpSpPr>
        <p:sp>
          <p:nvSpPr>
            <p:cNvPr id="74" name="圆角矩形 8"/>
            <p:cNvSpPr/>
            <p:nvPr/>
          </p:nvSpPr>
          <p:spPr>
            <a:xfrm>
              <a:off x="857520" y="1087200"/>
              <a:ext cx="108036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线连接符 21"/>
            <p:cNvSpPr/>
            <p:nvPr/>
          </p:nvSpPr>
          <p:spPr>
            <a:xfrm>
              <a:off x="512280" y="1759680"/>
              <a:ext cx="177228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9"/>
          <p:cNvSpPr/>
          <p:nvPr/>
        </p:nvSpPr>
        <p:spPr>
          <a:xfrm>
            <a:off x="492120" y="914400"/>
            <a:ext cx="81151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游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名：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alco peregrinu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是中型 猛禽，共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亚种。体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1-5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厘米。翅长而尖，眼周黄色，颊有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粗著的垂直向下的黑色 髭纹，头至后颈灰黑色，其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体蓝灰色，尾具数条黑色横带。下体白色，上胸有黑色细斑点，下胸至尾下覆羽密被黑色横斑。飞翔时翼下和尾下白色，密布白色横带，常在鼓翼飞翔时穿插着滑翔，也常在空中翱翔，野外容易识别。幼鸟上体暗褐色，下体淡黄褐色，胸、腹具黑褐色纵纹。主要栖息于山地、丘陵、半荒漠、沼泽与湖泊沿岸地带，也到开阔的农田、耕地和村屯附近活动。分布甚广，几乎遍布于世界各地。是阿拉伯联合酋长国和安哥拉的国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6838200" y="1497600"/>
            <a:ext cx="1508400" cy="1657440"/>
          </a:xfrm>
          <a:prstGeom prst="rect">
            <a:avLst/>
          </a:prstGeom>
          <a:ln w="0">
            <a:noFill/>
          </a:ln>
          <a:effectLst>
            <a:softEdge rad="6336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9"/>
          <p:cNvSpPr/>
          <p:nvPr/>
        </p:nvSpPr>
        <p:spPr>
          <a:xfrm>
            <a:off x="534960" y="840240"/>
            <a:ext cx="804204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流星体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流星体是太阳系内，小至沙尘，大至巨砾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为颗粒状的碎片。流星体进入地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或其他行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大气层之后，在路径上发光并被看见的阶段则被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为流星。许多流星来自相同的方向，并在一段时间内相继出现，则称为流星雨。在有记载的人类历史上，大约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个流星体被重新发现过。其中大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流星体主要是由金属构成的，其余的流星体主要是由岩石构成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883920" y="1738800"/>
            <a:ext cx="1590120" cy="1791000"/>
          </a:xfrm>
          <a:prstGeom prst="rect">
            <a:avLst/>
          </a:prstGeom>
          <a:ln w="0">
            <a:noFill/>
          </a:ln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577800" y="1924200"/>
            <a:ext cx="77292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认本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生字，会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生字，认识多音字“冠”理解生字组成的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默读课文，运用记时、带问题、抓课文表达特点和跳过不理解地方等方法加快默读速度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重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默读课文，能按照运动速度的快慢理清课文的条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18"/>
          <p:cNvSpPr/>
          <p:nvPr/>
        </p:nvSpPr>
        <p:spPr>
          <a:xfrm>
            <a:off x="1570680" y="1117440"/>
            <a:ext cx="729720" cy="363960"/>
          </a:xfrm>
          <a:custGeom>
            <a:avLst/>
            <a:gdLst>
              <a:gd name="textAreaLeft" fmla="*/ 0 w 729720"/>
              <a:gd name="textAreaRight" fmla="*/ 730080 w 729720"/>
              <a:gd name="textAreaTop" fmla="*/ 0 h 363960"/>
              <a:gd name="textAreaBottom" fmla="*/ 364320 h 363960"/>
            </a:gdLst>
            <a:ahLst/>
            <a:rect l="textAreaLeft" t="textAreaTop" r="textAreaRight" b="textAreaBottom"/>
            <a:pathLst>
              <a:path w="258980" h="54733">
                <a:moveTo>
                  <a:pt x="0" y="0"/>
                </a:moveTo>
                <a:lnTo>
                  <a:pt x="258980" y="0"/>
                </a:lnTo>
                <a:lnTo>
                  <a:pt x="258980" y="54733"/>
                </a:lnTo>
                <a:lnTo>
                  <a:pt x="0" y="5473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7"/>
          <p:cNvSpPr/>
          <p:nvPr/>
        </p:nvSpPr>
        <p:spPr>
          <a:xfrm>
            <a:off x="520200" y="1221120"/>
            <a:ext cx="443160" cy="495000"/>
          </a:xfrm>
          <a:prstGeom prst="roundRect">
            <a:avLst>
              <a:gd name="adj" fmla="val 10000"/>
            </a:avLst>
          </a:prstGeom>
          <a:blipFill rotWithShape="0">
            <a:blip r:embed="rId1"/>
            <a:srcRect/>
            <a:stretch/>
          </a:blip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任意多边形 6"/>
          <p:cNvSpPr/>
          <p:nvPr/>
        </p:nvSpPr>
        <p:spPr>
          <a:xfrm>
            <a:off x="963720" y="1663560"/>
            <a:ext cx="7149600" cy="4518720"/>
          </a:xfrm>
          <a:custGeom>
            <a:avLst/>
            <a:gdLst>
              <a:gd name="textAreaLeft" fmla="*/ 0 w 7149600"/>
              <a:gd name="textAreaRight" fmla="*/ 7149960 w 7149600"/>
              <a:gd name="textAreaTop" fmla="*/ 0 h 4518720"/>
              <a:gd name="textAreaBottom" fmla="*/ 4519080 h 4518720"/>
            </a:gdLst>
            <a:ahLst/>
            <a:rect l="textAreaLeft" t="textAreaTop" r="textAreaRight" b="textAreaBottom"/>
            <a:pathLst>
              <a:path w="7150138" h="4519594">
                <a:moveTo>
                  <a:pt x="0" y="451959"/>
                </a:moveTo>
                <a:cubicBezTo>
                  <a:pt x="0" y="202349"/>
                  <a:pt x="202349" y="0"/>
                  <a:pt x="451959" y="0"/>
                </a:cubicBezTo>
                <a:lnTo>
                  <a:pt x="6698179" y="0"/>
                </a:lnTo>
                <a:cubicBezTo>
                  <a:pt x="6947789" y="0"/>
                  <a:pt x="7150138" y="202349"/>
                  <a:pt x="7150138" y="451959"/>
                </a:cubicBezTo>
                <a:lnTo>
                  <a:pt x="7150138" y="4067635"/>
                </a:lnTo>
                <a:cubicBezTo>
                  <a:pt x="7150138" y="4317245"/>
                  <a:pt x="6947789" y="4519594"/>
                  <a:pt x="6698179" y="4519594"/>
                </a:cubicBezTo>
                <a:lnTo>
                  <a:pt x="451959" y="4519594"/>
                </a:lnTo>
                <a:cubicBezTo>
                  <a:pt x="202349" y="4519594"/>
                  <a:pt x="0" y="4317245"/>
                  <a:pt x="0" y="4067635"/>
                </a:cubicBezTo>
                <a:lnTo>
                  <a:pt x="0" y="451959"/>
                </a:lnTo>
                <a:close/>
              </a:path>
            </a:pathLst>
          </a:custGeom>
          <a:noFill/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>
              <a:hueOff val="0"/>
              <a:satOff val="0"/>
              <a:lumOff val="0"/>
              <a:alphaOff val="0"/>
            </a:schemeClr>
          </a:lnRef>
          <a:fillRef idx="1">
            <a:schemeClr val="accent2">
              <a:tint val="40000"/>
              <a:hueOff val="0"/>
              <a:satOff val="0"/>
              <a:lumOff val="0"/>
              <a:alphaOff val="0"/>
            </a:schemeClr>
          </a:fillRef>
          <a:effectRef idx="2">
            <a:schemeClr val="accent2"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55960" rIns="255960" tIns="255960" bIns="3419640" anchor="ctr">
            <a:noAutofit/>
            <a:scene3d>
              <a:camera prst="isometricOffAxis1Right"/>
              <a:lightRig dir="t" rig="threePt"/>
            </a:scene3d>
          </a:bodyPr>
          <a:p>
            <a:pPr>
              <a:lnSpc>
                <a:spcPct val="90000"/>
              </a:lnSpc>
              <a:spcAft>
                <a:spcPts val="1261"/>
              </a:spcAft>
            </a:pPr>
            <a:endParaRPr b="1" lang="en-US" sz="36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84" name="任意多边形 7"/>
          <p:cNvSpPr/>
          <p:nvPr/>
        </p:nvSpPr>
        <p:spPr>
          <a:xfrm>
            <a:off x="1125360" y="2779200"/>
            <a:ext cx="6825960" cy="2980080"/>
          </a:xfrm>
          <a:custGeom>
            <a:avLst/>
            <a:gdLst>
              <a:gd name="textAreaLeft" fmla="*/ 0 w 6825960"/>
              <a:gd name="textAreaRight" fmla="*/ 6826320 w 6825960"/>
              <a:gd name="textAreaTop" fmla="*/ 0 h 2980080"/>
              <a:gd name="textAreaBottom" fmla="*/ 2980440 h 2980080"/>
            </a:gdLst>
            <a:ahLst/>
            <a:rect l="textAreaLeft" t="textAreaTop" r="textAreaRight" b="textAreaBottom"/>
            <a:pathLst>
              <a:path w="6826475" h="2979224">
                <a:moveTo>
                  <a:pt x="0" y="297922"/>
                </a:moveTo>
                <a:cubicBezTo>
                  <a:pt x="0" y="133384"/>
                  <a:pt x="133384" y="0"/>
                  <a:pt x="297922" y="0"/>
                </a:cubicBezTo>
                <a:lnTo>
                  <a:pt x="6528553" y="0"/>
                </a:lnTo>
                <a:cubicBezTo>
                  <a:pt x="6693091" y="0"/>
                  <a:pt x="6826475" y="133384"/>
                  <a:pt x="6826475" y="297922"/>
                </a:cubicBezTo>
                <a:lnTo>
                  <a:pt x="6826475" y="2681302"/>
                </a:lnTo>
                <a:cubicBezTo>
                  <a:pt x="6826475" y="2845840"/>
                  <a:pt x="6693091" y="2979224"/>
                  <a:pt x="6528553" y="2979224"/>
                </a:cubicBezTo>
                <a:lnTo>
                  <a:pt x="297922" y="2979224"/>
                </a:lnTo>
                <a:cubicBezTo>
                  <a:pt x="133384" y="2979224"/>
                  <a:pt x="0" y="2845840"/>
                  <a:pt x="0" y="2681302"/>
                </a:cubicBezTo>
                <a:lnTo>
                  <a:pt x="0" y="297922"/>
                </a:lnTo>
                <a:close/>
              </a:path>
            </a:pathLst>
          </a:custGeom>
          <a:noFill/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>
              <a:shade val="80000"/>
              <a:hueOff val="0"/>
              <a:satOff val="0"/>
              <a:lumOff val="0"/>
              <a:alphaOff val="0"/>
            </a:schemeClr>
          </a:lnRef>
          <a:fillRef idx="3">
            <a:schemeClr val="lt1">
              <a:hueOff val="0"/>
              <a:satOff val="0"/>
              <a:lumOff val="0"/>
              <a:alphaOff val="0"/>
            </a:schemeClr>
          </a:fillRef>
          <a:effectRef idx="2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105120" rIns="105120" tIns="105120" bIns="105120" anchor="ctr">
            <a:noAutofit/>
          </a:bodyPr>
          <a:p>
            <a:pPr>
              <a:lnSpc>
                <a:spcPct val="150000"/>
              </a:lnSpc>
              <a:spcAft>
                <a:spcPts val="981"/>
              </a:spcAft>
              <a:tabLst>
                <a:tab algn="l" pos="0"/>
              </a:tabLst>
            </a:pPr>
            <a:endParaRPr b="1" lang="en-US" sz="2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992160" y="2652120"/>
            <a:ext cx="7218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Aft>
                <a:spcPts val="42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请同学们自由朗读课文，注意读准字音，读通句子，难读的地方多读几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923760" y="1261440"/>
            <a:ext cx="2287080" cy="1109160"/>
            <a:chOff x="923760" y="1261440"/>
            <a:chExt cx="2287080" cy="1109160"/>
          </a:xfrm>
        </p:grpSpPr>
        <p:grpSp>
          <p:nvGrpSpPr>
            <p:cNvPr id="87" name="组合 4"/>
            <p:cNvGrpSpPr/>
            <p:nvPr/>
          </p:nvGrpSpPr>
          <p:grpSpPr>
            <a:xfrm>
              <a:off x="923760" y="1261440"/>
              <a:ext cx="2287080" cy="1109160"/>
              <a:chOff x="923760" y="1261440"/>
              <a:chExt cx="2287080" cy="1109160"/>
            </a:xfrm>
          </p:grpSpPr>
          <p:pic>
            <p:nvPicPr>
              <p:cNvPr id="88" name="Picture 10" descr="C:\Users\Administrator\Desktop\绿.png"/>
              <p:cNvPicPr/>
              <p:nvPr/>
            </p:nvPicPr>
            <p:blipFill>
              <a:blip r:embed="rId1"/>
              <a:stretch/>
            </p:blipFill>
            <p:spPr>
              <a:xfrm>
                <a:off x="923760" y="2032200"/>
                <a:ext cx="2287080" cy="33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923760" y="1261440"/>
                <a:ext cx="618840" cy="104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" name="圆角矩形 16"/>
            <p:cNvSpPr/>
            <p:nvPr/>
          </p:nvSpPr>
          <p:spPr>
            <a:xfrm>
              <a:off x="1779480" y="1474920"/>
              <a:ext cx="1080360" cy="524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读提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26"/>
          <p:cNvGrpSpPr/>
          <p:nvPr/>
        </p:nvGrpSpPr>
        <p:grpSpPr>
          <a:xfrm>
            <a:off x="579240" y="1028880"/>
            <a:ext cx="1332000" cy="630720"/>
            <a:chOff x="579240" y="1028880"/>
            <a:chExt cx="1332000" cy="630720"/>
          </a:xfrm>
        </p:grpSpPr>
        <p:sp>
          <p:nvSpPr>
            <p:cNvPr id="92" name="圆角矩形 5"/>
            <p:cNvSpPr/>
            <p:nvPr/>
          </p:nvSpPr>
          <p:spPr>
            <a:xfrm>
              <a:off x="811800" y="1028880"/>
              <a:ext cx="86688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会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线连接符 21"/>
            <p:cNvSpPr/>
            <p:nvPr/>
          </p:nvSpPr>
          <p:spPr>
            <a:xfrm>
              <a:off x="579240" y="1659240"/>
              <a:ext cx="133200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4" name="矩形 8"/>
          <p:cNvSpPr/>
          <p:nvPr/>
        </p:nvSpPr>
        <p:spPr>
          <a:xfrm>
            <a:off x="479520" y="3206880"/>
            <a:ext cx="824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鸟   的   军   游 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1">
            <a:hlinkClick r:id="rId1" action="ppaction://hlinksldjump"/>
          </p:cNvPr>
          <p:cNvSpPr/>
          <p:nvPr/>
        </p:nvSpPr>
        <p:spPr>
          <a:xfrm>
            <a:off x="813240" y="3207600"/>
            <a:ext cx="72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662040" y="2736720"/>
            <a:ext cx="774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uó       yíng      guàn       sǔn          h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>
            <a:hlinkClick r:id="rId2" action="ppaction://hlinksldjump"/>
          </p:cNvPr>
          <p:cNvSpPr/>
          <p:nvPr/>
        </p:nvSpPr>
        <p:spPr>
          <a:xfrm>
            <a:off x="3828960" y="3206160"/>
            <a:ext cx="70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6">
            <a:hlinkClick r:id="rId3" action="ppaction://hlinksldjump"/>
          </p:cNvPr>
          <p:cNvSpPr/>
          <p:nvPr/>
        </p:nvSpPr>
        <p:spPr>
          <a:xfrm>
            <a:off x="7472880" y="3194280"/>
            <a:ext cx="71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7">
            <a:hlinkClick r:id="rId4" action="ppaction://hlinksldjump"/>
          </p:cNvPr>
          <p:cNvSpPr/>
          <p:nvPr/>
        </p:nvSpPr>
        <p:spPr>
          <a:xfrm>
            <a:off x="5362920" y="3207600"/>
            <a:ext cx="70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8">
            <a:hlinkClick r:id="rId5" action="ppaction://hlinksldjump"/>
          </p:cNvPr>
          <p:cNvSpPr/>
          <p:nvPr/>
        </p:nvSpPr>
        <p:spPr>
          <a:xfrm>
            <a:off x="2331720" y="3206880"/>
            <a:ext cx="72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  <Pages>0</Pages>
  <Words>2381</Words>
  <Characters>0</Characters>
  <CharactersWithSpaces>0</CharactersWithSpaces>
  <Paragraphs>2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8-13T07:41:28Z</dcterms:modified>
  <cp:revision>6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4</vt:r8>
  </property>
  <property fmtid="{D5CDD505-2E9C-101B-9397-08002B2CF9AE}" pid="3" name="KSOProductBuildVer">
    <vt:lpwstr>2052-10.1.0.5554</vt:lpwstr>
  </property>
  <property fmtid="{D5CDD505-2E9C-101B-9397-08002B2CF9AE}" pid="4" name="Notes">
    <vt:r8>15</vt:r8>
  </property>
  <property fmtid="{D5CDD505-2E9C-101B-9397-08002B2CF9AE}" pid="5" name="PresentationFormat">
    <vt:lpwstr>全屏显示(4:3)</vt:lpwstr>
  </property>
  <property fmtid="{D5CDD505-2E9C-101B-9397-08002B2CF9AE}" pid="6" name="Slides">
    <vt:r8>30</vt:r8>
  </property>
</Properties>
</file>