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2F1141-560A-4E65-8F64-5C266914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E05132-ECA0-405E-ACBE-FB5039656C5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66"/>
          <p:cNvSpPr/>
          <p:nvPr/>
        </p:nvSpPr>
        <p:spPr>
          <a:xfrm>
            <a:off x="958680" y="1886040"/>
            <a:ext cx="722592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>
            <a:solidFill>
              <a:srgbClr val="539f36"/>
            </a:solidFill>
            <a:round/>
          </a:ln>
          <a:effectLst>
            <a:outerShdw blurRad="39960" dir="5400000" dist="2304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45" name="Picture 39" descr="구름"/>
          <p:cNvPicPr/>
          <p:nvPr/>
        </p:nvPicPr>
        <p:blipFill>
          <a:blip r:embed="rId1"/>
          <a:stretch/>
        </p:blipFill>
        <p:spPr>
          <a:xfrm>
            <a:off x="4795920" y="180000"/>
            <a:ext cx="682200" cy="363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0" descr="구름"/>
          <p:cNvPicPr/>
          <p:nvPr/>
        </p:nvPicPr>
        <p:blipFill>
          <a:blip r:embed="rId2"/>
          <a:stretch/>
        </p:blipFill>
        <p:spPr>
          <a:xfrm>
            <a:off x="7236000" y="503640"/>
            <a:ext cx="1042560" cy="554040"/>
          </a:xfrm>
          <a:prstGeom prst="rect">
            <a:avLst/>
          </a:prstGeom>
          <a:ln w="0">
            <a:noFill/>
          </a:ln>
        </p:spPr>
      </p:pic>
      <p:grpSp>
        <p:nvGrpSpPr>
          <p:cNvPr id="47" name="组合 1"/>
          <p:cNvGrpSpPr/>
          <p:nvPr/>
        </p:nvGrpSpPr>
        <p:grpSpPr>
          <a:xfrm>
            <a:off x="371520" y="4945320"/>
            <a:ext cx="8438760" cy="831600"/>
            <a:chOff x="371520" y="4945320"/>
            <a:chExt cx="8438760" cy="831600"/>
          </a:xfrm>
        </p:grpSpPr>
        <p:sp>
          <p:nvSpPr>
            <p:cNvPr id="48" name="任意多边形 22"/>
            <p:cNvSpPr/>
            <p:nvPr/>
          </p:nvSpPr>
          <p:spPr>
            <a:xfrm>
              <a:off x="1015560" y="5032800"/>
              <a:ext cx="1579320" cy="744120"/>
            </a:xfrm>
            <a:custGeom>
              <a:avLst/>
              <a:gdLst>
                <a:gd name="textAreaLeft" fmla="*/ 0 w 1579320"/>
                <a:gd name="textAreaRight" fmla="*/ 1579680 w 157932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noFill/>
            <a:ln>
              <a:noFill/>
            </a:ln>
            <a:effectLst>
              <a:glow rad="101520">
                <a:srgbClr val="77933c">
                  <a:alpha val="6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3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品读释疑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24"/>
            <p:cNvSpPr/>
            <p:nvPr/>
          </p:nvSpPr>
          <p:spPr>
            <a:xfrm>
              <a:off x="3119400" y="5032800"/>
              <a:ext cx="1655640" cy="74412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0 h 744120"/>
                <a:gd name="textAreaBottom" fmla="*/ 744480 h 7441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noFill/>
            <a:ln>
              <a:noFill/>
            </a:ln>
            <a:effectLst>
              <a:glow rad="101520">
                <a:srgbClr val="77933c">
                  <a:alpha val="6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结构主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26"/>
            <p:cNvSpPr/>
            <p:nvPr/>
          </p:nvSpPr>
          <p:spPr>
            <a:xfrm>
              <a:off x="5180040" y="5009400"/>
              <a:ext cx="1712880" cy="767160"/>
            </a:xfrm>
            <a:custGeom>
              <a:avLst/>
              <a:gdLst>
                <a:gd name="textAreaLeft" fmla="*/ 0 w 1712880"/>
                <a:gd name="textAreaRight" fmla="*/ 1713240 w 1712880"/>
                <a:gd name="textAreaTop" fmla="*/ 0 h 767160"/>
                <a:gd name="textAreaBottom" fmla="*/ 767520 h 76716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noFill/>
            <a:ln>
              <a:noFill/>
            </a:ln>
            <a:effectLst>
              <a:glow rad="101520">
                <a:srgbClr val="77933c">
                  <a:alpha val="6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堂拓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图片 4" descr="小花2.png"/>
            <p:cNvPicPr/>
            <p:nvPr/>
          </p:nvPicPr>
          <p:blipFill>
            <a:blip r:embed="rId3"/>
            <a:stretch/>
          </p:blipFill>
          <p:spPr>
            <a:xfrm>
              <a:off x="371520" y="4945320"/>
              <a:ext cx="77508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4" descr="小花2.png"/>
            <p:cNvPicPr/>
            <p:nvPr/>
          </p:nvPicPr>
          <p:blipFill>
            <a:blip r:embed="rId4"/>
            <a:stretch/>
          </p:blipFill>
          <p:spPr>
            <a:xfrm>
              <a:off x="2523960" y="4945320"/>
              <a:ext cx="77508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图片 4" descr="小花2.png"/>
            <p:cNvPicPr/>
            <p:nvPr/>
          </p:nvPicPr>
          <p:blipFill>
            <a:blip r:embed="rId5"/>
            <a:stretch/>
          </p:blipFill>
          <p:spPr>
            <a:xfrm>
              <a:off x="4678200" y="4945320"/>
              <a:ext cx="775080" cy="83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任意多边形 30"/>
            <p:cNvSpPr/>
            <p:nvPr/>
          </p:nvSpPr>
          <p:spPr>
            <a:xfrm>
              <a:off x="7097400" y="5009400"/>
              <a:ext cx="1712880" cy="767160"/>
            </a:xfrm>
            <a:custGeom>
              <a:avLst/>
              <a:gdLst>
                <a:gd name="textAreaLeft" fmla="*/ 0 w 1712880"/>
                <a:gd name="textAreaRight" fmla="*/ 1713240 w 1712880"/>
                <a:gd name="textAreaTop" fmla="*/ 0 h 767160"/>
                <a:gd name="textAreaBottom" fmla="*/ 767520 h 76716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noFill/>
            <a:ln>
              <a:noFill/>
            </a:ln>
            <a:effectLst>
              <a:glow rad="101520">
                <a:srgbClr val="77933c">
                  <a:alpha val="60000"/>
                </a:srgbClr>
              </a:glow>
            </a:effectLst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当堂检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图片 4" descr="小花2.png"/>
            <p:cNvPicPr/>
            <p:nvPr/>
          </p:nvPicPr>
          <p:blipFill>
            <a:blip r:embed="rId6"/>
            <a:stretch/>
          </p:blipFill>
          <p:spPr>
            <a:xfrm>
              <a:off x="6595560" y="4945320"/>
              <a:ext cx="775080" cy="83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2"/>
          <p:cNvSpPr/>
          <p:nvPr/>
        </p:nvSpPr>
        <p:spPr>
          <a:xfrm>
            <a:off x="2209680" y="838080"/>
            <a:ext cx="6530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什么比猎豹的速度更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组合 13337"/>
          <p:cNvGrpSpPr/>
          <p:nvPr/>
        </p:nvGrpSpPr>
        <p:grpSpPr>
          <a:xfrm>
            <a:off x="1000080" y="639360"/>
            <a:ext cx="1180800" cy="1429200"/>
            <a:chOff x="1000080" y="639360"/>
            <a:chExt cx="1180800" cy="1429200"/>
          </a:xfrm>
        </p:grpSpPr>
        <p:sp>
          <p:nvSpPr>
            <p:cNvPr id="58" name="AutoShape 11"/>
            <p:cNvSpPr/>
            <p:nvPr/>
          </p:nvSpPr>
          <p:spPr>
            <a:xfrm>
              <a:off x="1000080" y="639360"/>
              <a:ext cx="1180800" cy="1429200"/>
            </a:xfrm>
            <a:prstGeom prst="diamond">
              <a:avLst/>
            </a:prstGeom>
            <a:solidFill>
              <a:srgbClr val="236b2a"/>
            </a:solidFill>
            <a:ln w="38100">
              <a:solidFill>
                <a:srgbClr val="ffffff"/>
              </a:solidFill>
              <a:miter/>
            </a:ln>
            <a:effectLst>
              <a:outerShdw rotWithShape="0" sy="5000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ffffff"/>
                </a:solidFill>
                <a:latin typeface="Calibri"/>
                <a:ea typeface="Gulim"/>
              </a:endParaRPr>
            </a:p>
          </p:txBody>
        </p:sp>
        <p:sp>
          <p:nvSpPr>
            <p:cNvPr id="59" name="文本框 13"/>
            <p:cNvSpPr/>
            <p:nvPr/>
          </p:nvSpPr>
          <p:spPr>
            <a:xfrm>
              <a:off x="1335240" y="857520"/>
              <a:ext cx="684000" cy="10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6600" spc="-1" strike="noStrike">
                  <a:solidFill>
                    <a:srgbClr val="ffffff"/>
                  </a:solidFill>
                  <a:latin typeface="方正大黑简体"/>
                  <a:ea typeface="方正大黑简体"/>
                </a:rPr>
                <a:t>7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6" descr="枫叶副本"/>
          <p:cNvPicPr/>
          <p:nvPr/>
        </p:nvPicPr>
        <p:blipFill>
          <a:blip r:embed="rId7"/>
          <a:stretch/>
        </p:blipFill>
        <p:spPr>
          <a:xfrm>
            <a:off x="3854520" y="3056040"/>
            <a:ext cx="1058400" cy="1352160"/>
          </a:xfrm>
          <a:prstGeom prst="rect">
            <a:avLst/>
          </a:prstGeom>
          <a:ln w="0">
            <a:noFill/>
          </a:ln>
        </p:spPr>
      </p:pic>
      <p:sp>
        <p:nvSpPr>
          <p:cNvPr id="61" name="矩形 23"/>
          <p:cNvSpPr/>
          <p:nvPr/>
        </p:nvSpPr>
        <p:spPr>
          <a:xfrm>
            <a:off x="3056040" y="3195360"/>
            <a:ext cx="318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 二 课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9"/>
          <p:cNvSpPr/>
          <p:nvPr/>
        </p:nvSpPr>
        <p:spPr>
          <a:xfrm>
            <a:off x="0" y="5936040"/>
            <a:ext cx="91436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10"/>
          <p:cNvSpPr/>
          <p:nvPr/>
        </p:nvSpPr>
        <p:spPr>
          <a:xfrm>
            <a:off x="736560" y="1926000"/>
            <a:ext cx="75942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你对着一个以超音速移动的人大喊，他是什么都听不见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4"/>
          <p:cNvSpPr/>
          <p:nvPr/>
        </p:nvSpPr>
        <p:spPr>
          <a:xfrm>
            <a:off x="4267800" y="567072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757080" y="3246840"/>
            <a:ext cx="75736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但是，如果你想到月球上去，就需要搭乘速度更快的工具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768240" y="4563360"/>
            <a:ext cx="7583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进入太空之后，即使关掉发动机，火箭仍可以继续前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2"/>
          <p:cNvGrpSpPr/>
          <p:nvPr/>
        </p:nvGrpSpPr>
        <p:grpSpPr>
          <a:xfrm>
            <a:off x="471600" y="1049760"/>
            <a:ext cx="1380600" cy="765000"/>
            <a:chOff x="471600" y="1049760"/>
            <a:chExt cx="1380600" cy="765000"/>
          </a:xfrm>
        </p:grpSpPr>
        <p:sp>
          <p:nvSpPr>
            <p:cNvPr id="117" name="矩形 8"/>
            <p:cNvSpPr/>
            <p:nvPr/>
          </p:nvSpPr>
          <p:spPr>
            <a:xfrm>
              <a:off x="471600" y="1049760"/>
              <a:ext cx="1380600" cy="765000"/>
            </a:xfrm>
            <a:prstGeom prst="flowChartPunchedTape">
              <a:avLst/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8" name="矩形 14"/>
            <p:cNvSpPr txBox="1"/>
            <p:nvPr/>
          </p:nvSpPr>
          <p:spPr>
            <a:xfrm>
              <a:off x="522360" y="1153080"/>
              <a:ext cx="1261080" cy="6159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Wave2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做假设</a:t>
              </a:r>
              <a:endPara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Text Box 5"/>
          <p:cNvSpPr/>
          <p:nvPr/>
        </p:nvSpPr>
        <p:spPr>
          <a:xfrm>
            <a:off x="3043080" y="1066680"/>
            <a:ext cx="3612960" cy="658080"/>
          </a:xfrm>
          <a:prstGeom prst="callout1">
            <a:avLst>
              <a:gd name="adj1" fmla="val 100813"/>
              <a:gd name="adj2" fmla="val 48340"/>
              <a:gd name="adj3" fmla="val 147257"/>
              <a:gd name="adj4" fmla="val 43404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f79646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会增强说明对象的说服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"/>
          <p:cNvSpPr/>
          <p:nvPr/>
        </p:nvSpPr>
        <p:spPr>
          <a:xfrm>
            <a:off x="928800" y="2388960"/>
            <a:ext cx="7387920" cy="50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用做假设的说明方法，写出我们生活中一样事物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927000" y="1301760"/>
            <a:ext cx="287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练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24" descr="花盆.png"/>
          <p:cNvPicPr/>
          <p:nvPr/>
        </p:nvPicPr>
        <p:blipFill>
          <a:blip r:embed="rId1"/>
          <a:stretch/>
        </p:blipFill>
        <p:spPr>
          <a:xfrm>
            <a:off x="619200" y="1270080"/>
            <a:ext cx="390240" cy="594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977760" y="3965760"/>
            <a:ext cx="73101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如果没有太阳，地球上将到处是黑暗，到处是寒冷，没有风霜雨露，没有草木野兽，自然也不会有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"/>
          <p:cNvSpPr/>
          <p:nvPr/>
        </p:nvSpPr>
        <p:spPr>
          <a:xfrm>
            <a:off x="1166760" y="5202720"/>
            <a:ext cx="69321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：一要符合实际，二要突出事物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1"/>
          <p:cNvSpPr/>
          <p:nvPr/>
        </p:nvSpPr>
        <p:spPr>
          <a:xfrm>
            <a:off x="558720" y="1392840"/>
            <a:ext cx="80499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读完课文后，大家有什么感受？你认为谁最厉害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4430520" y="3888360"/>
            <a:ext cx="29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物比较谁更快，人类创造无人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478320" y="76320"/>
            <a:ext cx="2187360" cy="77436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128" name="组合 13"/>
          <p:cNvGrpSpPr/>
          <p:nvPr/>
        </p:nvGrpSpPr>
        <p:grpSpPr>
          <a:xfrm>
            <a:off x="392400" y="1133280"/>
            <a:ext cx="1772280" cy="672480"/>
            <a:chOff x="392400" y="1133280"/>
            <a:chExt cx="1772280" cy="672480"/>
          </a:xfrm>
        </p:grpSpPr>
        <p:sp>
          <p:nvSpPr>
            <p:cNvPr id="129" name="圆角矩形 15"/>
            <p:cNvSpPr/>
            <p:nvPr/>
          </p:nvSpPr>
          <p:spPr>
            <a:xfrm>
              <a:off x="737640" y="113328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文结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线连接符 21"/>
            <p:cNvSpPr/>
            <p:nvPr/>
          </p:nvSpPr>
          <p:spPr>
            <a:xfrm>
              <a:off x="392400" y="1805400"/>
              <a:ext cx="17722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131" name="组合 16"/>
          <p:cNvGrpSpPr/>
          <p:nvPr/>
        </p:nvGrpSpPr>
        <p:grpSpPr>
          <a:xfrm>
            <a:off x="2824200" y="1900800"/>
            <a:ext cx="3712680" cy="821160"/>
            <a:chOff x="2824200" y="1900800"/>
            <a:chExt cx="3712680" cy="821160"/>
          </a:xfrm>
        </p:grpSpPr>
        <p:sp>
          <p:nvSpPr>
            <p:cNvPr id="132" name="圆角矩形 18"/>
            <p:cNvSpPr/>
            <p:nvPr/>
          </p:nvSpPr>
          <p:spPr>
            <a:xfrm>
              <a:off x="2824200" y="1941120"/>
              <a:ext cx="3712680" cy="596520"/>
            </a:xfrm>
            <a:prstGeom prst="roundRect">
              <a:avLst>
                <a:gd name="adj" fmla="val 16667"/>
              </a:avLst>
            </a:prstGeom>
            <a:solidFill>
              <a:schemeClr val="accent1">
                <a:lumMod val="20000"/>
                <a:lumOff val="80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3" name="矩形 1"/>
            <p:cNvSpPr/>
            <p:nvPr/>
          </p:nvSpPr>
          <p:spPr>
            <a:xfrm>
              <a:off x="3318840" y="1900800"/>
              <a:ext cx="26316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.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什么比猎豹的速度更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9"/>
          <p:cNvSpPr/>
          <p:nvPr/>
        </p:nvSpPr>
        <p:spPr>
          <a:xfrm>
            <a:off x="1393920" y="2997360"/>
            <a:ext cx="2960280" cy="1326960"/>
          </a:xfrm>
          <a:prstGeom prst="rect">
            <a:avLst/>
          </a:prstGeom>
          <a:noFill/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提高阅读速度的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着问题阅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了解课文表达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5143680" y="2827800"/>
            <a:ext cx="1906200" cy="1828440"/>
          </a:xfrm>
          <a:prstGeom prst="rect">
            <a:avLst/>
          </a:prstGeom>
          <a:noFill/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明方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数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做假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2081160" y="4851360"/>
            <a:ext cx="4982760" cy="1182960"/>
          </a:xfrm>
          <a:prstGeom prst="rect">
            <a:avLst/>
          </a:prstGeom>
          <a:noFill/>
          <a:ln w="63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万物比较谁更快   人类创造无人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阅读比较谁更快   运用方法勤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内容占位符 2"/>
          <p:cNvSpPr/>
          <p:nvPr/>
        </p:nvSpPr>
        <p:spPr>
          <a:xfrm>
            <a:off x="615960" y="2120760"/>
            <a:ext cx="792432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50000"/>
              </a:lnSpc>
              <a:spcBef>
                <a:spcPts val="241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者运用列数字、作比较、做假设等说明方法，采用由慢到快事例层层推进的写法，告诉我们比猎豹速度更快的有游隼、声音、喷气式飞机、火箭、流星体、光，而另人难以置信的是光轻易地握在人手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8"/>
          <p:cNvGrpSpPr/>
          <p:nvPr/>
        </p:nvGrpSpPr>
        <p:grpSpPr>
          <a:xfrm>
            <a:off x="444960" y="1292400"/>
            <a:ext cx="1772280" cy="672480"/>
            <a:chOff x="444960" y="1292400"/>
            <a:chExt cx="1772280" cy="672480"/>
          </a:xfrm>
        </p:grpSpPr>
        <p:sp>
          <p:nvSpPr>
            <p:cNvPr id="139" name="圆角矩形 9"/>
            <p:cNvSpPr/>
            <p:nvPr/>
          </p:nvSpPr>
          <p:spPr>
            <a:xfrm>
              <a:off x="790200" y="129240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文主旨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线连接符 21"/>
            <p:cNvSpPr/>
            <p:nvPr/>
          </p:nvSpPr>
          <p:spPr>
            <a:xfrm>
              <a:off x="444960" y="1964520"/>
              <a:ext cx="17722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"/>
          <p:cNvPicPr/>
          <p:nvPr/>
        </p:nvPicPr>
        <p:blipFill>
          <a:blip r:embed="rId1"/>
          <a:stretch/>
        </p:blipFill>
        <p:spPr>
          <a:xfrm>
            <a:off x="227160" y="673200"/>
            <a:ext cx="8618040" cy="5545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1"/>
          <p:cNvSpPr/>
          <p:nvPr/>
        </p:nvSpPr>
        <p:spPr>
          <a:xfrm>
            <a:off x="1628640" y="1500840"/>
            <a:ext cx="5803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运用说明方法写出事物的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677880" y="2415240"/>
            <a:ext cx="7841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课说明文为了说明“什么比猎豹的速度更快”按照速度快慢选取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种事物运用说明方法来说明。常用的说明方法有：列数字、举例子、打比方、作比较、做假设、分类别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2" descr=""/>
          <p:cNvPicPr/>
          <p:nvPr/>
        </p:nvPicPr>
        <p:blipFill>
          <a:blip r:embed="rId1"/>
          <a:stretch/>
        </p:blipFill>
        <p:spPr>
          <a:xfrm>
            <a:off x="227160" y="673200"/>
            <a:ext cx="8618040" cy="55454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1"/>
          <p:cNvSpPr/>
          <p:nvPr/>
        </p:nvSpPr>
        <p:spPr>
          <a:xfrm>
            <a:off x="1628640" y="1500840"/>
            <a:ext cx="5803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运用说明方法写出事物的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9"/>
          <p:cNvSpPr/>
          <p:nvPr/>
        </p:nvSpPr>
        <p:spPr>
          <a:xfrm>
            <a:off x="677880" y="2415240"/>
            <a:ext cx="7841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数字：引用的数字，一定要准确无误，其作用是使说明具体化，准确无误，令读者信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2" descr=""/>
          <p:cNvPicPr/>
          <p:nvPr/>
        </p:nvPicPr>
        <p:blipFill>
          <a:blip r:embed="rId1"/>
          <a:stretch/>
        </p:blipFill>
        <p:spPr>
          <a:xfrm>
            <a:off x="227160" y="673200"/>
            <a:ext cx="8618040" cy="5545440"/>
          </a:xfrm>
          <a:prstGeom prst="rect">
            <a:avLst/>
          </a:prstGeom>
          <a:ln w="0">
            <a:noFill/>
          </a:ln>
        </p:spPr>
      </p:pic>
      <p:sp>
        <p:nvSpPr>
          <p:cNvPr id="148" name="矩形 11"/>
          <p:cNvSpPr/>
          <p:nvPr/>
        </p:nvSpPr>
        <p:spPr>
          <a:xfrm>
            <a:off x="1628640" y="1500840"/>
            <a:ext cx="5803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运用说明方法写出事物的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9"/>
          <p:cNvSpPr/>
          <p:nvPr/>
        </p:nvSpPr>
        <p:spPr>
          <a:xfrm>
            <a:off x="677880" y="2415240"/>
            <a:ext cx="7841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举例子：举出实际事例来说明事物，使所要说明的事物具体化，以便读者理解。运用举事例的说明方法说明事物或事理，一要注意例子的代表性，二要注意例子的适量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2" descr=""/>
          <p:cNvPicPr/>
          <p:nvPr/>
        </p:nvPicPr>
        <p:blipFill>
          <a:blip r:embed="rId1"/>
          <a:stretch/>
        </p:blipFill>
        <p:spPr>
          <a:xfrm>
            <a:off x="227160" y="673200"/>
            <a:ext cx="8618040" cy="5545440"/>
          </a:xfrm>
          <a:prstGeom prst="rect">
            <a:avLst/>
          </a:prstGeom>
          <a:ln w="0">
            <a:noFill/>
          </a:ln>
        </p:spPr>
      </p:pic>
      <p:sp>
        <p:nvSpPr>
          <p:cNvPr id="151" name="矩形 11"/>
          <p:cNvSpPr/>
          <p:nvPr/>
        </p:nvSpPr>
        <p:spPr>
          <a:xfrm>
            <a:off x="1628640" y="1500840"/>
            <a:ext cx="58035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运用说明方法写出事物的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9"/>
          <p:cNvSpPr/>
          <p:nvPr/>
        </p:nvSpPr>
        <p:spPr>
          <a:xfrm>
            <a:off x="677880" y="2415240"/>
            <a:ext cx="78418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作比较：说明某些抽象的或者是人们比较陌生的事物，可以用具体的或者大家已经熟悉的事物和它比较，使读者通过比较得到具体而鲜明的印象，突出强调了说明对象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矩形 7"/>
          <p:cNvSpPr/>
          <p:nvPr/>
        </p:nvSpPr>
        <p:spPr>
          <a:xfrm>
            <a:off x="557280" y="1978920"/>
            <a:ext cx="8078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2080" indent="-262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赵州桥非常雄伟，全长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0.8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米，两端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9.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米，中部略窄，宽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米。和全桥只有一个大拱，长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7.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米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中国石拱桥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数字方法体现准确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"/>
          <p:cNvSpPr/>
          <p:nvPr/>
        </p:nvSpPr>
        <p:spPr>
          <a:xfrm>
            <a:off x="986040" y="1113480"/>
            <a:ext cx="6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举例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0"/>
          <p:cNvSpPr/>
          <p:nvPr/>
        </p:nvSpPr>
        <p:spPr>
          <a:xfrm>
            <a:off x="558720" y="5820840"/>
            <a:ext cx="633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ff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70"/>
          <p:cNvSpPr/>
          <p:nvPr/>
        </p:nvSpPr>
        <p:spPr>
          <a:xfrm>
            <a:off x="-3943440" y="713160"/>
            <a:ext cx="1895040" cy="18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64" name="Picture 72" descr=""/>
          <p:cNvPicPr/>
          <p:nvPr/>
        </p:nvPicPr>
        <p:blipFill>
          <a:blip r:embed="rId1"/>
          <a:stretch/>
        </p:blipFill>
        <p:spPr>
          <a:xfrm>
            <a:off x="-3943440" y="713160"/>
            <a:ext cx="1896840" cy="1811520"/>
          </a:xfrm>
          <a:prstGeom prst="rect">
            <a:avLst/>
          </a:prstGeom>
          <a:ln w="0">
            <a:noFill/>
          </a:ln>
        </p:spPr>
      </p:pic>
      <p:sp>
        <p:nvSpPr>
          <p:cNvPr id="65" name="任意多边形 18"/>
          <p:cNvSpPr/>
          <p:nvPr/>
        </p:nvSpPr>
        <p:spPr>
          <a:xfrm>
            <a:off x="1621800" y="1138680"/>
            <a:ext cx="729720" cy="363960"/>
          </a:xfrm>
          <a:custGeom>
            <a:avLst/>
            <a:gdLst>
              <a:gd name="textAreaLeft" fmla="*/ 0 w 729720"/>
              <a:gd name="textAreaRight" fmla="*/ 730080 w 729720"/>
              <a:gd name="textAreaTop" fmla="*/ 0 h 363960"/>
              <a:gd name="textAreaBottom" fmla="*/ 364320 h 363960"/>
            </a:gdLst>
            <a:ahLst/>
            <a:rect l="textAreaLeft" t="textAreaTop" r="textAreaRight" b="textAreaBottom"/>
            <a:pathLst>
              <a:path w="258980" h="54733">
                <a:moveTo>
                  <a:pt x="0" y="0"/>
                </a:moveTo>
                <a:lnTo>
                  <a:pt x="258980" y="0"/>
                </a:lnTo>
                <a:lnTo>
                  <a:pt x="258980" y="54733"/>
                </a:lnTo>
                <a:lnTo>
                  <a:pt x="0" y="5473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习目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 8"/>
          <p:cNvSpPr/>
          <p:nvPr/>
        </p:nvSpPr>
        <p:spPr>
          <a:xfrm>
            <a:off x="571320" y="1244160"/>
            <a:ext cx="443160" cy="495000"/>
          </a:xfrm>
          <a:prstGeom prst="roundRect">
            <a:avLst>
              <a:gd name="adj" fmla="val 10000"/>
            </a:avLst>
          </a:prstGeom>
          <a:blipFill rotWithShape="0">
            <a:blip r:embed="rId2"/>
            <a:srcRect/>
            <a:stretch/>
          </a:blipFill>
          <a:ln>
            <a:solidFill>
              <a:srgbClr val="ffffff"/>
            </a:solidFill>
            <a:round/>
          </a:ln>
        </p:spPr>
        <p:style>
          <a:lnRef idx="2">
            <a:schemeClr val="lt1">
              <a:hueOff val="0"/>
              <a:satOff val="0"/>
              <a:lumOff val="0"/>
              <a:alphaOff val="0"/>
            </a:schemeClr>
          </a:lnRef>
          <a:fillRef idx="0"/>
          <a:effectRef idx="0">
            <a:schemeClr val="accent1">
              <a:tint val="50000"/>
              <a:alpha val="9000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60520" y="1748520"/>
            <a:ext cx="78865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2080" indent="-262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默读课文，运用记时、带问题、抓课文表达方法和跳过不理解地方等方法加快默读速度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重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默读课文，能按照运动速度的快慢理清课文的条理，提出自己感兴趣或者不懂的问题与同学讨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习作者运用具体事例层层推进的表达方法，感受自然界的神奇与人类的创造力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难点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7"/>
          <p:cNvSpPr/>
          <p:nvPr/>
        </p:nvSpPr>
        <p:spPr>
          <a:xfrm>
            <a:off x="557280" y="2133720"/>
            <a:ext cx="79038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2080" indent="-262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云能预示天气。比如，在新疆地区，出现云就代表将要下雨。                                       ——《看云识天气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是根据大的范围列举相应的例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986040" y="1113480"/>
            <a:ext cx="6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举例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558720" y="5820840"/>
            <a:ext cx="633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ff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7"/>
          <p:cNvSpPr/>
          <p:nvPr/>
        </p:nvSpPr>
        <p:spPr>
          <a:xfrm>
            <a:off x="557280" y="1978920"/>
            <a:ext cx="8078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62080" indent="-262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永定河发水时，来势很猛，以前两岸河堤常被冲毁，但是这座桥却从没出过事，足见它的坚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r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中国石拱桥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运用比较方法，突出被说明对象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6040" y="1113480"/>
            <a:ext cx="65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举例：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558720" y="5820840"/>
            <a:ext cx="633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endParaRPr b="1" lang="en-US" sz="1800" spc="-1" strike="noStrike">
              <a:solidFill>
                <a:srgbClr val="ff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3"/>
          <p:cNvSpPr/>
          <p:nvPr/>
        </p:nvSpPr>
        <p:spPr>
          <a:xfrm>
            <a:off x="1170360" y="141804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练一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684360" y="2237400"/>
            <a:ext cx="78102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校的操场大家很熟悉，学习运用列数字，或者举例子，或者作比较的说明方法，写一句话，突出操场某一方面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矩形 1"/>
          <p:cNvSpPr/>
          <p:nvPr/>
        </p:nvSpPr>
        <p:spPr>
          <a:xfrm>
            <a:off x="927000" y="2154600"/>
            <a:ext cx="7302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们通过学习这篇课文，练习运用了提高阅读速度的方法：带着问题阅读；依据课文表达特点阅读。以后，大家多运用这些方法，相信大家一定能熟能生巧，阅读速度一定能不断突破自己的极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"/>
          <p:cNvGrpSpPr/>
          <p:nvPr/>
        </p:nvGrpSpPr>
        <p:grpSpPr>
          <a:xfrm>
            <a:off x="442800" y="1337760"/>
            <a:ext cx="1832400" cy="633600"/>
            <a:chOff x="442800" y="1337760"/>
            <a:chExt cx="1832400" cy="633600"/>
          </a:xfrm>
        </p:grpSpPr>
        <p:sp>
          <p:nvSpPr>
            <p:cNvPr id="166" name="矩形 2"/>
            <p:cNvSpPr/>
            <p:nvPr/>
          </p:nvSpPr>
          <p:spPr>
            <a:xfrm>
              <a:off x="1240560" y="1337760"/>
              <a:ext cx="1034640" cy="51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圆角矩形 4"/>
            <p:cNvSpPr/>
            <p:nvPr/>
          </p:nvSpPr>
          <p:spPr>
            <a:xfrm>
              <a:off x="442800" y="1373040"/>
              <a:ext cx="590040" cy="598320"/>
            </a:xfrm>
            <a:prstGeom prst="roundRect">
              <a:avLst>
                <a:gd name="adj" fmla="val 10000"/>
              </a:avLst>
            </a:prstGeom>
            <a:blipFill rotWithShape="0">
              <a:blip r:embed="rId1"/>
              <a:srcRect/>
              <a:stretch/>
            </a:blip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2">
                <a:tint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3"/>
          <p:cNvSpPr/>
          <p:nvPr/>
        </p:nvSpPr>
        <p:spPr>
          <a:xfrm>
            <a:off x="739800" y="1905120"/>
            <a:ext cx="76496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们身边的交通工具也不停地变换，请你通过查阅资料，然后将你认为最理想的交通工具画下来，或者用一段话写下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4206240" y="10306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主题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3"/>
          <p:cNvSpPr/>
          <p:nvPr/>
        </p:nvSpPr>
        <p:spPr>
          <a:xfrm>
            <a:off x="3513240" y="1445760"/>
            <a:ext cx="5214600" cy="132408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9525">
            <a:solidFill>
              <a:srgbClr val="f79646">
                <a:lumMod val="60000"/>
                <a:lumOff val="40000"/>
              </a:srgbClr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写高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中国南车制造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IT5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型高铁的试验速度达到了每小时六百零五公里，打破了法国高速列车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TGV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0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日创造的每小时五百七十四点八公里的世界纪录。中国以迅猛速度在国内推进新线路建设的同时，加强向海外推销，欲在铁路领域也领先国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333360" y="2290320"/>
            <a:ext cx="2989080" cy="26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矩形 1"/>
          <p:cNvSpPr/>
          <p:nvPr/>
        </p:nvSpPr>
        <p:spPr>
          <a:xfrm>
            <a:off x="458640" y="1875240"/>
            <a:ext cx="8267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《西游记》里的孙大圣，紧急关头常常拔下一把毫毛，再吹一口气，毫毛立刻变成了一群和自己一模一样的孙悟空。这当然是神话，不过用今天的科学名词来讲，那就是孙悟空能够快速地克隆自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我们知道，高等动物一般要通过雄性和雌性生殖细胞的结合，才能繁殖后代，人们把这种繁殖叫做有性繁殖。换句话说，每只动物都有自己的爸爸妈妈。如果不经过两性细胞结合而直接繁衍后代，就叫无性繁殖，也称克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6" descr=""/>
          <p:cNvPicPr/>
          <p:nvPr/>
        </p:nvPicPr>
        <p:blipFill>
          <a:blip r:embed="rId1"/>
          <a:stretch/>
        </p:blipFill>
        <p:spPr>
          <a:xfrm>
            <a:off x="3435480" y="194760"/>
            <a:ext cx="2273040" cy="60084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174" name="组合 11"/>
          <p:cNvGrpSpPr/>
          <p:nvPr/>
        </p:nvGrpSpPr>
        <p:grpSpPr>
          <a:xfrm>
            <a:off x="444600" y="1095120"/>
            <a:ext cx="1772280" cy="672480"/>
            <a:chOff x="444600" y="1095120"/>
            <a:chExt cx="1772280" cy="672480"/>
          </a:xfrm>
        </p:grpSpPr>
        <p:sp>
          <p:nvSpPr>
            <p:cNvPr id="175" name="圆角矩形 12"/>
            <p:cNvSpPr/>
            <p:nvPr/>
          </p:nvSpPr>
          <p:spPr>
            <a:xfrm>
              <a:off x="789840" y="1095120"/>
              <a:ext cx="1080360" cy="524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6cef0"/>
                </a:gs>
                <a:gs pos="100000">
                  <a:srgbClr val="d1e0f5"/>
                </a:gs>
              </a:gsLst>
              <a:lin ang="5400000"/>
            </a:gradFill>
            <a:ln w="0">
              <a:solidFill>
                <a:srgbClr val="9bbb59">
                  <a:lumMod val="75000"/>
                </a:srgbClr>
              </a:solidFill>
            </a:ln>
            <a:effectLst>
              <a:softEdge rad="31680"/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90000"/>
                </a:lnSpc>
                <a:spcAft>
                  <a:spcPts val="981"/>
                </a:spcAf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推荐阅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直线连接符 21"/>
            <p:cNvSpPr/>
            <p:nvPr/>
          </p:nvSpPr>
          <p:spPr>
            <a:xfrm>
              <a:off x="444600" y="1767240"/>
              <a:ext cx="1772280" cy="360"/>
            </a:xfrm>
            <a:prstGeom prst="line">
              <a:avLst/>
            </a:prstGeom>
            <a:ln w="38100">
              <a:solidFill>
                <a:srgbClr val="4f81bd">
                  <a:lumMod val="60000"/>
                  <a:lumOff val="40000"/>
                </a:srgbClr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77" name="矩形 1"/>
          <p:cNvSpPr/>
          <p:nvPr/>
        </p:nvSpPr>
        <p:spPr>
          <a:xfrm>
            <a:off x="4130280" y="121500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神奇的克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1"/>
          <p:cNvSpPr/>
          <p:nvPr/>
        </p:nvSpPr>
        <p:spPr>
          <a:xfrm>
            <a:off x="446040" y="1140840"/>
            <a:ext cx="8267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许多植物都有先天克隆的本领。例如，从一棵大柳树上剪下几根枝条插进土里，枝条就会长成一株株活泼可爱的小柳树；把马铃薯切成许多小块种进地里，就能收获许多新鲜的马铃薯；把仙人掌切成几块，每块落地不久就会生根，长成新的仙人掌……此外，一些植物还可以通过压条或嫁接培育后代。凡此种种，都是植物的克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一些单细胞微生物，如细菌，经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分钟左右的时间，就可以一分为二，再分为四个、八个……这就是低等生物的克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1"/>
          <p:cNvSpPr/>
          <p:nvPr/>
        </p:nvSpPr>
        <p:spPr>
          <a:xfrm>
            <a:off x="430200" y="1041480"/>
            <a:ext cx="8267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那么，高等动物可不可以克隆呢？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世纪开始，科学家在这方面进行了卓有成效的研究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9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，英国科学家成功地克隆出了世界上第一只克隆羊。这是一项了不起的成就，轰动了当时的科学界。科学家借用一名乡村歌手的名字，给这只克隆羊起名为“多利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克隆技术是一项可以造福于人类的科技成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们将克隆技术与其他科技成果结合，可以根据需要培育出优质、高产的粮食、蔬菜新品种；也可以培育大量品质优良的家畜，大大提高饲养效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1"/>
          <p:cNvSpPr/>
          <p:nvPr/>
        </p:nvSpPr>
        <p:spPr>
          <a:xfrm>
            <a:off x="430200" y="1041480"/>
            <a:ext cx="8267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克隆技术还可以挽救一些濒危物种，让一些濒临灭绝的动物免遭厄运，从而调节大自然的生态平衡。人们利用克隆技术能够培植人体的皮肤进行植皮手术；能够“制造”出人的耳朵、软骨、肝脏和心脏等人体“配件”，一旦病人需要，就能重新“装配”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神奇的克隆技术正向人类展示它诱人的前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457200" y="4296960"/>
            <a:ext cx="64227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克隆这项技术神奇在哪里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文章是按照怎样的顺序介绍克隆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482760" y="1679760"/>
            <a:ext cx="802296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根据课文内容，按运动速度的快慢给下面的事物排序，照样子填序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498680" y="3048840"/>
            <a:ext cx="59115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光   游隼  火箭   猎豹   人  流星体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鸵鸟   喷气式飞机   声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492120" y="4483080"/>
            <a:ext cx="821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  鸵鸟  猎豹  游隼  声音  喷气式飞机  火箭  流星体  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4"/>
          <p:cNvGrpSpPr/>
          <p:nvPr/>
        </p:nvGrpSpPr>
        <p:grpSpPr>
          <a:xfrm>
            <a:off x="6669000" y="5410080"/>
            <a:ext cx="2095560" cy="858960"/>
            <a:chOff x="6669000" y="5410080"/>
            <a:chExt cx="2095560" cy="858960"/>
          </a:xfrm>
        </p:grpSpPr>
        <p:pic>
          <p:nvPicPr>
            <p:cNvPr id="72" name="Picture 12" descr="C:\Users\Administrator\Desktop\81c83b3069976615a5dcb33b58b7eb2a.png"/>
            <p:cNvPicPr/>
            <p:nvPr/>
          </p:nvPicPr>
          <p:blipFill>
            <a:blip r:embed="rId1"/>
            <a:stretch/>
          </p:blipFill>
          <p:spPr>
            <a:xfrm>
              <a:off x="6669000" y="5410080"/>
              <a:ext cx="20955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矩形 7"/>
            <p:cNvSpPr/>
            <p:nvPr/>
          </p:nvSpPr>
          <p:spPr>
            <a:xfrm>
              <a:off x="7011360" y="5605920"/>
              <a:ext cx="15249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这是课后第</a:t>
              </a:r>
              <a:r>
                <a:rPr b="1" lang="en-US" sz="18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2</a:t>
              </a:r>
              <a:r>
                <a:rPr b="1" lang="zh-CN" sz="18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题哦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2" descr="C:\Users\Administrator\Desktop\可改图标 - 副本\品读释疑.png"/>
          <p:cNvPicPr/>
          <p:nvPr/>
        </p:nvPicPr>
        <p:blipFill>
          <a:blip r:embed="rId2"/>
          <a:stretch/>
        </p:blipFill>
        <p:spPr>
          <a:xfrm>
            <a:off x="3510000" y="82440"/>
            <a:ext cx="2123640" cy="791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1"/>
          <p:cNvSpPr/>
          <p:nvPr/>
        </p:nvSpPr>
        <p:spPr>
          <a:xfrm>
            <a:off x="458640" y="1494360"/>
            <a:ext cx="82674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天色微明，晨雾如轻纱般飘浮在黄海滩涂上。一群麋鹿悄无声息地向水塘边走去。不知从何处传来人的脚步声，警觉的麋鹿迅即蹦跳着遁入草丛……这是在著名的大丰麋鹿自然保护区出现的一幕。黄海滩涂这片广阔的土地，气候温和，林茂草丰，是麋鹿野生放养的理想场所。这里生活着世界上最大的麋鹿群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麋鹿是鹿的一种。它的外形很奇特：角似鹿，面似马，蹄似牛，尾似驴，所以又被称作“四不像”。我国古代神话小说《封神榜》中把“四不像”当作姜子牙的坐骑，更增添了它的神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"/>
          <p:cNvSpPr/>
          <p:nvPr/>
        </p:nvSpPr>
        <p:spPr>
          <a:xfrm>
            <a:off x="4306320" y="91440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麋 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1"/>
          <p:cNvSpPr/>
          <p:nvPr/>
        </p:nvSpPr>
        <p:spPr>
          <a:xfrm>
            <a:off x="458640" y="1134360"/>
            <a:ext cx="82674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与其他鹿科动物一样，麋鹿也是一种草食性哺乳动物。一般雄麋鹿体重可达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5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千克左右，角比较长，每两年脱换一次。麋鹿的角型是鹿科动物中独一无二的——站着的时候，麋鹿角的各枝尖都指向后方，而其他鹿的角尖都指向前方。雌麋鹿没有角，体形也较小。麋鹿的尾巴是鹿科动物中最长的。长尾巴用来驱赶蚊蝇，以适应沼泽环境中的生活。麋鹿蹄子宽大，行动轻快敏捷。它们常在水中站立、跋涉、潜游和觅食，甚至连隆冬季节也不例外。麋鹿的毛色在夏季是棕红色的，冬季脱毛后变成棕灰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1"/>
          <p:cNvSpPr/>
          <p:nvPr/>
        </p:nvSpPr>
        <p:spPr>
          <a:xfrm>
            <a:off x="458640" y="855000"/>
            <a:ext cx="8267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麋鹿的自然繁殖力很低，雌鹿的怀孕期比其他鹿类要长，超过九个半月，且每胎仅产一仔。雄性小鹿两岁时长角分杈，六岁时杈角才发育完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麋鹿的经历充满传奇色彩。据科学家考证，早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0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年前，我国黄河、长江中下游地区就有麋鹿，但汉朝以后逐渐减少，再后来竟然销声匿迹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6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，有人在北京南郊发现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2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头麋鹿，并撰文向全世界介绍。随后，数十头麋鹿被陆续盗往欧洲，在伦敦、巴黎和柏林等地动物园里展出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，“八国联军”入侵北京，最后一群麋鹿惨遭厄运，有的被杀戮，有的被装上西去的轮船。从此，麋鹿在国内几乎绝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1"/>
          <p:cNvSpPr/>
          <p:nvPr/>
        </p:nvSpPr>
        <p:spPr>
          <a:xfrm>
            <a:off x="458640" y="855000"/>
            <a:ext cx="826740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后来，流落在国外的麋鹿大部分相继死去，只有英国贝福特公爵在私人别墅乌邦寺动物园里饲养的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头麋鹿生长良好，并迅速繁殖。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6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，这里的麋鹿已增加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头，并向各国输出。至今，全世界麋鹿总数估计已经超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0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98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月，在世界自然基金会和我国林业部的努力下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头选自英国七家动物园的麋鹿返回故乡，被送到大丰麋鹿自然保护区放养。从此，麋鹿结束了它们大半个世纪在海外漂泊不定、颠沛流离的生涯，开始了回归故土、回归自然的新生活。如今，这群珍异动物正在祖国的土地上繁衍后代，茁壮成长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"/>
          <p:cNvSpPr/>
          <p:nvPr/>
        </p:nvSpPr>
        <p:spPr>
          <a:xfrm>
            <a:off x="757080" y="1439280"/>
            <a:ext cx="72165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文从哪些方面介绍了麋鹿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为什么说麋鹿的经历充满传奇色彩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 rot="685800">
            <a:off x="7037280" y="4366440"/>
            <a:ext cx="1109160" cy="156600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latin typeface="Calibri"/>
                <a:ea typeface="宋体"/>
              </a:rPr>
              <a:t>？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5"/>
          <p:cNvGrpSpPr/>
          <p:nvPr/>
        </p:nvGrpSpPr>
        <p:grpSpPr>
          <a:xfrm>
            <a:off x="560520" y="1729440"/>
            <a:ext cx="8035560" cy="1602000"/>
            <a:chOff x="560520" y="1729440"/>
            <a:chExt cx="8035560" cy="1602000"/>
          </a:xfrm>
        </p:grpSpPr>
        <p:grpSp>
          <p:nvGrpSpPr>
            <p:cNvPr id="77" name="组合 4"/>
            <p:cNvGrpSpPr/>
            <p:nvPr/>
          </p:nvGrpSpPr>
          <p:grpSpPr>
            <a:xfrm>
              <a:off x="1179000" y="1729440"/>
              <a:ext cx="7417080" cy="1602000"/>
              <a:chOff x="1179000" y="1729440"/>
              <a:chExt cx="7417080" cy="1602000"/>
            </a:xfrm>
          </p:grpSpPr>
          <p:sp>
            <p:nvSpPr>
              <p:cNvPr id="78" name="矩形 2"/>
              <p:cNvSpPr/>
              <p:nvPr/>
            </p:nvSpPr>
            <p:spPr>
              <a:xfrm>
                <a:off x="1294200" y="1729440"/>
                <a:ext cx="1400400" cy="57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3200" spc="-1" strike="noStrike">
                    <a:solidFill>
                      <a:srgbClr val="36a436"/>
                    </a:solidFill>
                    <a:latin typeface="微软雅黑"/>
                    <a:ea typeface="微软雅黑"/>
                  </a:rPr>
                  <a:t>讨论交流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矩形 9"/>
              <p:cNvSpPr/>
              <p:nvPr/>
            </p:nvSpPr>
            <p:spPr>
              <a:xfrm>
                <a:off x="1179000" y="2510640"/>
                <a:ext cx="741708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>
                  <a:lnSpc>
                    <a:spcPct val="150000"/>
                  </a:lnSpc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作者是如何写出事物速度快的特点的？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" name="图片 24" descr="花盆.png"/>
            <p:cNvPicPr/>
            <p:nvPr/>
          </p:nvPicPr>
          <p:blipFill>
            <a:blip r:embed="rId1"/>
            <a:stretch/>
          </p:blipFill>
          <p:spPr>
            <a:xfrm>
              <a:off x="560520" y="1807560"/>
              <a:ext cx="389520" cy="594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0"/>
          <p:cNvSpPr/>
          <p:nvPr/>
        </p:nvSpPr>
        <p:spPr>
          <a:xfrm>
            <a:off x="903240" y="2017080"/>
            <a:ext cx="74037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人在奋力奔跑的时候，瞬时速度能够达到二十四千米每小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1"/>
          <p:cNvSpPr/>
          <p:nvPr/>
        </p:nvSpPr>
        <p:spPr>
          <a:xfrm>
            <a:off x="903240" y="3462840"/>
            <a:ext cx="74037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但是游隼向下俯冲时的速度更快，超过了三百二十千米每小时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9"/>
          <p:cNvSpPr/>
          <p:nvPr/>
        </p:nvSpPr>
        <p:spPr>
          <a:xfrm>
            <a:off x="4282200" y="5063040"/>
            <a:ext cx="49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" descr=""/>
          <p:cNvPicPr/>
          <p:nvPr/>
        </p:nvPicPr>
        <p:blipFill>
          <a:blip r:embed="rId1"/>
          <a:stretch/>
        </p:blipFill>
        <p:spPr>
          <a:xfrm>
            <a:off x="5869800" y="4462920"/>
            <a:ext cx="1950480" cy="1742760"/>
          </a:xfrm>
          <a:prstGeom prst="rect">
            <a:avLst/>
          </a:prstGeom>
          <a:ln cap="sq" w="12700">
            <a:solidFill>
              <a:srgbClr val="ffffff"/>
            </a:solidFill>
            <a:miter/>
          </a:ln>
          <a:effectLst>
            <a:outerShdw algn="tl" blurRad="65160" dir="12889470" dist="50432" kx="195000" ky="145000" rotWithShape="0">
              <a:srgbClr val="000000">
                <a:alpha val="30000"/>
              </a:srgbClr>
            </a:outerShdw>
          </a:effectLst>
          <a:scene3d>
            <a:camera prst="orthographicFront">
              <a:rot lat="0" lon="0" rev="360000"/>
            </a:camera>
            <a:lightRig dir="t" rig="twoPt">
              <a:rot lat="0" lon="0" rev="7200000"/>
            </a:lightRig>
          </a:scene3d>
          <a:sp3d contourW="12700">
            <a:bevelT w="25400" h="19050"/>
            <a:contourClr>
              <a:srgbClr val="969696"/>
            </a:contourClr>
          </a:sp3d>
        </p:spPr>
      </p:pic>
      <p:grpSp>
        <p:nvGrpSpPr>
          <p:cNvPr id="85" name="组合 2"/>
          <p:cNvGrpSpPr/>
          <p:nvPr/>
        </p:nvGrpSpPr>
        <p:grpSpPr>
          <a:xfrm>
            <a:off x="471600" y="1049760"/>
            <a:ext cx="1380600" cy="765000"/>
            <a:chOff x="471600" y="1049760"/>
            <a:chExt cx="1380600" cy="765000"/>
          </a:xfrm>
        </p:grpSpPr>
        <p:sp>
          <p:nvSpPr>
            <p:cNvPr id="86" name="矩形 8"/>
            <p:cNvSpPr/>
            <p:nvPr/>
          </p:nvSpPr>
          <p:spPr>
            <a:xfrm>
              <a:off x="471600" y="1049760"/>
              <a:ext cx="1380600" cy="765000"/>
            </a:xfrm>
            <a:prstGeom prst="flowChartPunchedTape">
              <a:avLst/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87" name="矩形 14"/>
            <p:cNvSpPr txBox="1"/>
            <p:nvPr/>
          </p:nvSpPr>
          <p:spPr>
            <a:xfrm>
              <a:off x="522360" y="1153080"/>
              <a:ext cx="1261080" cy="6159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Wave2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列数字</a:t>
              </a:r>
              <a:endPara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Text Box 5"/>
          <p:cNvSpPr/>
          <p:nvPr/>
        </p:nvSpPr>
        <p:spPr>
          <a:xfrm>
            <a:off x="3613320" y="924840"/>
            <a:ext cx="4338360" cy="1060200"/>
          </a:xfrm>
          <a:prstGeom prst="callout1">
            <a:avLst>
              <a:gd name="adj1" fmla="val 105174"/>
              <a:gd name="adj2" fmla="val 64180"/>
              <a:gd name="adj3" fmla="val 124237"/>
              <a:gd name="adj4" fmla="val 72386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f79646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列数字作用是使说明具体化，准确无误，令读者信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774720" y="1968480"/>
            <a:ext cx="7903800" cy="500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用列数字的说明方法，写出我们生活中一样事物的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"/>
          <p:cNvSpPr/>
          <p:nvPr/>
        </p:nvSpPr>
        <p:spPr>
          <a:xfrm>
            <a:off x="811080" y="1166400"/>
            <a:ext cx="119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练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24" descr="花盆.png"/>
          <p:cNvPicPr/>
          <p:nvPr/>
        </p:nvPicPr>
        <p:blipFill>
          <a:blip r:embed="rId1"/>
          <a:stretch/>
        </p:blipFill>
        <p:spPr>
          <a:xfrm>
            <a:off x="474840" y="1134360"/>
            <a:ext cx="390240" cy="594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808200" y="3497760"/>
            <a:ext cx="7652880" cy="5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已知最大的鲸约有十六万公斤重，最小的也有两千公斤。我国发现过一头近四万公斤重的鲸，约十七米长，一条舌头就有十几头大肥猪那么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1166760" y="5145480"/>
            <a:ext cx="6932160" cy="363960"/>
          </a:xfrm>
          <a:prstGeom prst="rect">
            <a:avLst/>
          </a:prstGeom>
          <a:solidFill>
            <a:schemeClr val="accent6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注意：一要符合实际，二要突出事物特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组合 5"/>
          <p:cNvGrpSpPr/>
          <p:nvPr/>
        </p:nvGrpSpPr>
        <p:grpSpPr>
          <a:xfrm>
            <a:off x="568440" y="1411920"/>
            <a:ext cx="8299080" cy="4078440"/>
            <a:chOff x="568440" y="1411920"/>
            <a:chExt cx="8299080" cy="4078440"/>
          </a:xfrm>
        </p:grpSpPr>
        <p:sp>
          <p:nvSpPr>
            <p:cNvPr id="95" name="矩形 10"/>
            <p:cNvSpPr/>
            <p:nvPr/>
          </p:nvSpPr>
          <p:spPr>
            <a:xfrm>
              <a:off x="1054800" y="2252160"/>
              <a:ext cx="78127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比鸵鸟跑得更快的动物就要数猎豹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1"/>
            <p:cNvSpPr/>
            <p:nvPr/>
          </p:nvSpPr>
          <p:spPr>
            <a:xfrm>
              <a:off x="568440" y="3006360"/>
              <a:ext cx="580284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这个速度是汽车在高速公路上飞速行驶时速度的两到三倍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矩形 14"/>
            <p:cNvSpPr/>
            <p:nvPr/>
          </p:nvSpPr>
          <p:spPr>
            <a:xfrm>
              <a:off x="3269520" y="4753440"/>
              <a:ext cx="60768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图片 1" descr=""/>
            <p:cNvPicPr/>
            <p:nvPr/>
          </p:nvPicPr>
          <p:blipFill>
            <a:blip r:embed="rId1"/>
            <a:stretch/>
          </p:blipFill>
          <p:spPr>
            <a:xfrm>
              <a:off x="6446880" y="3712680"/>
              <a:ext cx="2060280" cy="1777680"/>
            </a:xfrm>
            <a:prstGeom prst="rect">
              <a:avLst/>
            </a:prstGeom>
            <a:ln w="0">
              <a:noFill/>
            </a:ln>
            <a:effectLst>
              <a:reflection algn="bl" blurRad="12700" dir="5400000" dist="5000" endPos="30000" rotWithShape="0" stA="30000" sy="-100000"/>
            </a:effectLst>
            <a:scene3d>
              <a:camera prst="perspectiveContrastingLeftFacing">
                <a:rot lat="300000" lon="19800000" rev="0"/>
              </a:camera>
              <a:lightRig dir="t" rig="threePt">
                <a:rot lat="0" lon="0" rev="2700000"/>
              </a:lightRig>
            </a:scene3d>
            <a:sp3d>
              <a:bevelT w="63500" h="50800"/>
            </a:sp3d>
          </p:spPr>
        </p:pic>
        <p:sp>
          <p:nvSpPr>
            <p:cNvPr id="99" name="图片 1"/>
            <p:cNvSpPr/>
            <p:nvPr/>
          </p:nvSpPr>
          <p:spPr>
            <a:xfrm>
              <a:off x="6455880" y="1411920"/>
              <a:ext cx="2094840" cy="21459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softEdge rad="112680"/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"/>
          <p:cNvGrpSpPr/>
          <p:nvPr/>
        </p:nvGrpSpPr>
        <p:grpSpPr>
          <a:xfrm>
            <a:off x="471600" y="1049760"/>
            <a:ext cx="1380600" cy="765000"/>
            <a:chOff x="471600" y="1049760"/>
            <a:chExt cx="1380600" cy="765000"/>
          </a:xfrm>
        </p:grpSpPr>
        <p:sp>
          <p:nvSpPr>
            <p:cNvPr id="101" name="矩形 8"/>
            <p:cNvSpPr/>
            <p:nvPr/>
          </p:nvSpPr>
          <p:spPr>
            <a:xfrm>
              <a:off x="471600" y="1049760"/>
              <a:ext cx="1380600" cy="765000"/>
            </a:xfrm>
            <a:prstGeom prst="flowChartPunchedTape">
              <a:avLst/>
            </a:prstGeom>
            <a:solidFill>
              <a:schemeClr val="accent6">
                <a:lumMod val="7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02" name="矩形 15"/>
            <p:cNvSpPr txBox="1"/>
            <p:nvPr/>
          </p:nvSpPr>
          <p:spPr>
            <a:xfrm>
              <a:off x="522360" y="1153080"/>
              <a:ext cx="1261080" cy="615960"/>
            </a:xfrm>
            <a:prstGeom prst="rect">
              <a:avLst/>
            </a:prstGeom>
          </p:spPr>
          <p:txBody>
            <a:bodyPr wrap="none" lIns="90000" rIns="90000" tIns="45000" bIns="45000" anchor="t" anchorCtr="1">
              <a:prstTxWarp prst="textWave2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ln w="0">
                    <a:noFill/>
                  </a:ln>
                  <a:solidFill>
                    <a:srgbClr val="ffffff"/>
                  </a:solidFill>
                  <a:latin typeface="微软雅黑"/>
                  <a:ea typeface="微软雅黑"/>
                </a:rPr>
                <a:t>作比较</a:t>
              </a:r>
              <a:endParaRPr b="0" lang="en-US" sz="24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" name="Text Box 5"/>
          <p:cNvSpPr/>
          <p:nvPr/>
        </p:nvSpPr>
        <p:spPr>
          <a:xfrm>
            <a:off x="2863800" y="1164240"/>
            <a:ext cx="1539360" cy="658080"/>
          </a:xfrm>
          <a:prstGeom prst="callout1">
            <a:avLst>
              <a:gd name="adj1" fmla="val 100813"/>
              <a:gd name="adj2" fmla="val 48340"/>
              <a:gd name="adj3" fmla="val 161956"/>
              <a:gd name="adj4" fmla="val 70073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f79646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更加直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"/>
          <p:cNvSpPr/>
          <p:nvPr/>
        </p:nvSpPr>
        <p:spPr>
          <a:xfrm>
            <a:off x="631800" y="992880"/>
            <a:ext cx="7946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！前面呼啸而过的东西是什么？跟它的速度一比，火箭就好像是静止的一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631800" y="2220480"/>
            <a:ext cx="7946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那是流星体！流星体是太空中一种较小的天体。有的流星体运动的瞬时速度能达到二十五万千米每小时，是火箭运动速度的六倍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631800" y="3443760"/>
            <a:ext cx="79466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过，还有比流星体运动速度快得多的东西，而且它就在我们身边。只要我们按下手电筒的开关，立刻会出现一束光柱。光的速度是惊人的，大约是三十万千米每秒，比流星体的速度要快几千倍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46200" y="5329800"/>
            <a:ext cx="7684560" cy="909720"/>
          </a:xfrm>
          <a:prstGeom prst="callout1">
            <a:avLst>
              <a:gd name="adj1" fmla="val 2009"/>
              <a:gd name="adj2" fmla="val 60625"/>
              <a:gd name="adj3" fmla="val -26547"/>
              <a:gd name="adj4" fmla="val 56577"/>
            </a:avLst>
          </a:prstGeom>
          <a:solidFill>
            <a:schemeClr val="accent6">
              <a:lumMod val="20000"/>
              <a:lumOff val="80000"/>
            </a:schemeClr>
          </a:solidFill>
          <a:ln w="19050">
            <a:solidFill>
              <a:srgbClr val="f79646">
                <a:lumMod val="60000"/>
                <a:lumOff val="4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按照运动速度的快慢选取了不同的事物，都是一种事物要比另一种事物的速度快，依次排列，层层推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23"/>
          <p:cNvSpPr/>
          <p:nvPr/>
        </p:nvSpPr>
        <p:spPr>
          <a:xfrm>
            <a:off x="719280" y="1922040"/>
            <a:ext cx="76402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定义：书海撷英须效率，提高阅读速度的方法很多，抓课文特点提高阅读速度是个好方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运用：本课课文有三个明显的特点：一是课题“什么比猎豹的速度更快”是一个问题，带着这个问题阅读速度会加快；二是课文按照运动速度的快慢选取了不同的事物，阅读时是一条思路；三是每个自然段表达方式也相近，都是一种事物要比另一种事物的速度快。抓住这些特点就能提高阅读的速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9"/>
          <p:cNvGrpSpPr/>
          <p:nvPr/>
        </p:nvGrpSpPr>
        <p:grpSpPr>
          <a:xfrm>
            <a:off x="674640" y="870120"/>
            <a:ext cx="9232560" cy="1113120"/>
            <a:chOff x="674640" y="870120"/>
            <a:chExt cx="9232560" cy="1113120"/>
          </a:xfrm>
        </p:grpSpPr>
        <p:sp>
          <p:nvSpPr>
            <p:cNvPr id="110" name="矩形 1"/>
            <p:cNvSpPr/>
            <p:nvPr/>
          </p:nvSpPr>
          <p:spPr>
            <a:xfrm>
              <a:off x="3753000" y="1018080"/>
              <a:ext cx="615420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抓课文特点提高阅读速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6" descr=""/>
            <p:cNvPicPr/>
            <p:nvPr/>
          </p:nvPicPr>
          <p:blipFill>
            <a:blip r:embed="rId1"/>
            <a:stretch/>
          </p:blipFill>
          <p:spPr>
            <a:xfrm>
              <a:off x="674640" y="870120"/>
              <a:ext cx="3078000" cy="11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2</TotalTime>
  <Application>LibreOffice/7.4.7.2$Linux_X86_64 LibreOffice_project/40$Build-2</Application>
  <AppVersion>15.0000</AppVersion>
  <Pages>0</Pages>
  <Words>4114</Words>
  <Characters>0</Characters>
  <CharactersWithSpaces>0</CharactersWithSpaces>
  <Paragraphs>13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08-13T07:49:24Z</dcterms:modified>
  <cp:revision>8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  <property fmtid="{D5CDD505-2E9C-101B-9397-08002B2CF9AE}" pid="3" name="Notes">
    <vt:r8>2</vt:r8>
  </property>
  <property fmtid="{D5CDD505-2E9C-101B-9397-08002B2CF9AE}" pid="4" name="PresentationFormat">
    <vt:lpwstr>全屏显示(4:3)</vt:lpwstr>
  </property>
  <property fmtid="{D5CDD505-2E9C-101B-9397-08002B2CF9AE}" pid="5" name="Slides">
    <vt:r8>35</vt:r8>
  </property>
</Properties>
</file>