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5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40.png" ContentType="image/png"/>
  <Override PartName="/ppt/media/image30.png" ContentType="image/png"/>
  <Override PartName="/ppt/media/image10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25.jpeg" ContentType="image/jpeg"/>
  <Override PartName="/ppt/media/image49.jpeg" ContentType="image/jpeg"/>
  <Override PartName="/ppt/media/image2.png" ContentType="image/png"/>
  <Override PartName="/ppt/media/image7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4.jpeg" ContentType="image/jpeg"/>
  <Override PartName="/ppt/media/image23.png" ContentType="image/png"/>
  <Override PartName="/ppt/media/image60.png" ContentType="image/png"/>
  <Override PartName="/ppt/media/image61.png" ContentType="image/png"/>
  <Override PartName="/ppt/media/image90.png" ContentType="image/png"/>
  <Override PartName="/ppt/media/image11.png" ContentType="image/png"/>
  <Override PartName="/ppt/media/image67.png" ContentType="image/png"/>
  <Override PartName="/ppt/media/image87.png" ContentType="image/png"/>
  <Override PartName="/ppt/media/image32.jpeg" ContentType="image/jpeg"/>
  <Override PartName="/ppt/media/image26.jpeg" ContentType="image/jpeg"/>
  <Override PartName="/ppt/media/image70.jpeg" ContentType="image/jpeg"/>
  <Override PartName="/ppt/media/image31.png" ContentType="image/png"/>
  <Override PartName="/ppt/media/image65.jpeg" ContentType="image/jpeg"/>
  <Override PartName="/ppt/media/image77.png" ContentType="image/png"/>
  <Override PartName="/ppt/media/image91.png" ContentType="image/png"/>
  <Override PartName="/ppt/media/image69.jpeg" ContentType="image/jpeg"/>
  <Override PartName="/ppt/media/image89.png" ContentType="image/png"/>
  <Override PartName="/ppt/media/image75.jpeg" ContentType="image/jpeg"/>
  <Override PartName="/ppt/media/image8.png" ContentType="image/png"/>
  <Override PartName="/ppt/media/image85.png" ContentType="image/png"/>
  <Override PartName="/ppt/media/image36.png" ContentType="image/png"/>
  <Override PartName="/ppt/media/image78.jpeg" ContentType="image/jpeg"/>
  <Override PartName="/ppt/media/image74.png" ContentType="image/png"/>
  <Override PartName="/ppt/media/image71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16.png" ContentType="image/png"/>
  <Override PartName="/ppt/media/image81.png" ContentType="image/png"/>
  <Override PartName="/ppt/media/image4.png" ContentType="image/png"/>
  <Override PartName="/ppt/media/image12.jpeg" ContentType="image/jpeg"/>
  <Override PartName="/ppt/media/image88.jpeg" ContentType="image/jpeg"/>
  <Override PartName="/ppt/media/image63.jpeg" ContentType="image/jpeg"/>
  <Override PartName="/ppt/media/image29.png" ContentType="image/png"/>
  <Override PartName="/ppt/media/image19.png" ContentType="image/png"/>
  <Override PartName="/ppt/media/image62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76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9.png" ContentType="image/png"/>
  <Override PartName="/ppt/media/image86.png" ContentType="image/png"/>
  <Override PartName="/ppt/media/image39.png" ContentType="image/png"/>
  <Override PartName="/ppt/media/image6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B49EB-B7EB-4A16-B74A-274AE7FA8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901114-939F-4A63-8A82-F1CDEDB80F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-144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e5ff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pic>
        <p:nvPicPr>
          <p:cNvPr id="2" name="图片 5" descr=""/>
          <p:cNvPicPr/>
          <p:nvPr/>
        </p:nvPicPr>
        <p:blipFill>
          <a:blip r:embed="rId2"/>
          <a:stretch/>
        </p:blipFill>
        <p:spPr>
          <a:xfrm>
            <a:off x="0" y="4303800"/>
            <a:ext cx="1379160" cy="83952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"/>
          <p:cNvPicPr/>
          <p:nvPr/>
        </p:nvPicPr>
        <p:blipFill>
          <a:blip r:embed="rId3"/>
          <a:stretch/>
        </p:blipFill>
        <p:spPr>
          <a:xfrm>
            <a:off x="7080840" y="4059360"/>
            <a:ext cx="2045880" cy="108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-144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e5ff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4" name="组合 5"/>
          <p:cNvGrpSpPr/>
          <p:nvPr/>
        </p:nvGrpSpPr>
        <p:grpSpPr>
          <a:xfrm>
            <a:off x="22320" y="4443480"/>
            <a:ext cx="9121320" cy="699840"/>
            <a:chOff x="22320" y="4443480"/>
            <a:chExt cx="9121320" cy="699840"/>
          </a:xfrm>
        </p:grpSpPr>
        <p:pic>
          <p:nvPicPr>
            <p:cNvPr id="45" name="图片 5" descr=""/>
            <p:cNvPicPr/>
            <p:nvPr/>
          </p:nvPicPr>
          <p:blipFill>
            <a:blip r:embed="rId2"/>
            <a:stretch/>
          </p:blipFill>
          <p:spPr>
            <a:xfrm>
              <a:off x="22320" y="4587840"/>
              <a:ext cx="4549320" cy="5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6" descr=""/>
            <p:cNvPicPr/>
            <p:nvPr/>
          </p:nvPicPr>
          <p:blipFill>
            <a:blip r:embed="rId3"/>
            <a:stretch/>
          </p:blipFill>
          <p:spPr>
            <a:xfrm>
              <a:off x="4572000" y="4732200"/>
              <a:ext cx="144000" cy="41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7" descr=""/>
            <p:cNvPicPr/>
            <p:nvPr/>
          </p:nvPicPr>
          <p:blipFill>
            <a:blip r:embed="rId4"/>
            <a:stretch/>
          </p:blipFill>
          <p:spPr>
            <a:xfrm>
              <a:off x="4716360" y="4443480"/>
              <a:ext cx="4427280" cy="6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图片 9" descr=""/>
          <p:cNvPicPr/>
          <p:nvPr/>
        </p:nvPicPr>
        <p:blipFill>
          <a:blip r:embed="rId5"/>
          <a:stretch/>
        </p:blipFill>
        <p:spPr>
          <a:xfrm rot="1378800">
            <a:off x="-87120" y="82440"/>
            <a:ext cx="964800" cy="67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-144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e5ff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89" name="组合 5"/>
          <p:cNvGrpSpPr/>
          <p:nvPr/>
        </p:nvGrpSpPr>
        <p:grpSpPr>
          <a:xfrm>
            <a:off x="0" y="4344840"/>
            <a:ext cx="9143640" cy="818640"/>
            <a:chOff x="0" y="4344840"/>
            <a:chExt cx="9143640" cy="818640"/>
          </a:xfrm>
        </p:grpSpPr>
        <p:grpSp>
          <p:nvGrpSpPr>
            <p:cNvPr id="90" name="组合 5"/>
            <p:cNvGrpSpPr/>
            <p:nvPr/>
          </p:nvGrpSpPr>
          <p:grpSpPr>
            <a:xfrm>
              <a:off x="0" y="4344840"/>
              <a:ext cx="7092000" cy="818640"/>
              <a:chOff x="0" y="4344840"/>
              <a:chExt cx="7092000" cy="818640"/>
            </a:xfrm>
          </p:grpSpPr>
          <p:pic>
            <p:nvPicPr>
              <p:cNvPr id="9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344840"/>
                <a:ext cx="5651640" cy="81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图片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4344840"/>
                <a:ext cx="1728000" cy="818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图片 3" descr=""/>
            <p:cNvPicPr/>
            <p:nvPr/>
          </p:nvPicPr>
          <p:blipFill>
            <a:blip r:embed="rId4"/>
            <a:stretch/>
          </p:blipFill>
          <p:spPr>
            <a:xfrm>
              <a:off x="7092360" y="4344840"/>
              <a:ext cx="2051280" cy="81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-144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" Target="slide1.xml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7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77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" Target="slide1.xml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22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57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88" descr=""/>
          <p:cNvPicPr/>
          <p:nvPr/>
        </p:nvPicPr>
        <p:blipFill>
          <a:blip r:embed="rId2"/>
          <a:stretch/>
        </p:blipFill>
        <p:spPr>
          <a:xfrm>
            <a:off x="177840" y="100080"/>
            <a:ext cx="2323800" cy="456840"/>
          </a:xfrm>
          <a:prstGeom prst="rect">
            <a:avLst/>
          </a:prstGeom>
          <a:ln w="0">
            <a:noFill/>
          </a:ln>
        </p:spPr>
      </p:pic>
      <p:grpSp>
        <p:nvGrpSpPr>
          <p:cNvPr id="179" name="组合 6"/>
          <p:cNvGrpSpPr/>
          <p:nvPr/>
        </p:nvGrpSpPr>
        <p:grpSpPr>
          <a:xfrm>
            <a:off x="4686480" y="2817720"/>
            <a:ext cx="4032000" cy="777600"/>
            <a:chOff x="4686480" y="2817720"/>
            <a:chExt cx="4032000" cy="777600"/>
          </a:xfrm>
        </p:grpSpPr>
        <p:sp>
          <p:nvSpPr>
            <p:cNvPr id="180" name="椭圆 61"/>
            <p:cNvSpPr/>
            <p:nvPr/>
          </p:nvSpPr>
          <p:spPr>
            <a:xfrm>
              <a:off x="6130800" y="2922480"/>
              <a:ext cx="631440" cy="62964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1" name="标题 1"/>
            <p:cNvSpPr/>
            <p:nvPr/>
          </p:nvSpPr>
          <p:spPr>
            <a:xfrm>
              <a:off x="4686480" y="2817720"/>
              <a:ext cx="403200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识字 </a:t>
              </a:r>
              <a:r>
                <a:rPr b="1" lang="en-US" sz="44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4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猜  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文本框 1">
            <a:hlinkClick r:id="rId3" action="ppaction://hlinksldjump"/>
          </p:cNvPr>
          <p:cNvSpPr/>
          <p:nvPr/>
        </p:nvSpPr>
        <p:spPr>
          <a:xfrm>
            <a:off x="7297560" y="2825640"/>
            <a:ext cx="7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993960" y="458784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75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75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75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" dur="75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3" descr=""/>
          <p:cNvPicPr/>
          <p:nvPr/>
        </p:nvPicPr>
        <p:blipFill>
          <a:blip r:embed="rId1"/>
          <a:stretch/>
        </p:blipFill>
        <p:spPr>
          <a:xfrm>
            <a:off x="5749920" y="800280"/>
            <a:ext cx="2277720" cy="227628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8"/>
          <p:cNvSpPr/>
          <p:nvPr/>
        </p:nvSpPr>
        <p:spPr>
          <a:xfrm>
            <a:off x="504720" y="27525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9"/>
          <p:cNvSpPr/>
          <p:nvPr/>
        </p:nvSpPr>
        <p:spPr>
          <a:xfrm>
            <a:off x="504720" y="20829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504720" y="3422520"/>
            <a:ext cx="225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1"/>
          <p:cNvSpPr/>
          <p:nvPr/>
        </p:nvSpPr>
        <p:spPr>
          <a:xfrm>
            <a:off x="1754280" y="27525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2"/>
          <p:cNvSpPr/>
          <p:nvPr/>
        </p:nvSpPr>
        <p:spPr>
          <a:xfrm>
            <a:off x="1816200" y="20829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3"/>
          <p:cNvSpPr/>
          <p:nvPr/>
        </p:nvSpPr>
        <p:spPr>
          <a:xfrm>
            <a:off x="2506680" y="3422520"/>
            <a:ext cx="6001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宀”宽度适中；“子”的长横与“宀”同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14"/>
          <p:cNvSpPr/>
          <p:nvPr/>
        </p:nvSpPr>
        <p:spPr>
          <a:xfrm>
            <a:off x="414360" y="128124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5"/>
          <p:cNvSpPr/>
          <p:nvPr/>
        </p:nvSpPr>
        <p:spPr>
          <a:xfrm>
            <a:off x="1643040" y="84312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45"/>
          <p:cNvGrpSpPr/>
          <p:nvPr/>
        </p:nvGrpSpPr>
        <p:grpSpPr>
          <a:xfrm>
            <a:off x="71280" y="41400"/>
            <a:ext cx="3328560" cy="819360"/>
            <a:chOff x="71280" y="41400"/>
            <a:chExt cx="3328560" cy="819360"/>
          </a:xfrm>
        </p:grpSpPr>
        <p:pic>
          <p:nvPicPr>
            <p:cNvPr id="414" name="图片 9" descr=""/>
            <p:cNvPicPr/>
            <p:nvPr/>
          </p:nvPicPr>
          <p:blipFill>
            <a:blip r:embed="rId2"/>
            <a:stretch/>
          </p:blipFill>
          <p:spPr>
            <a:xfrm>
              <a:off x="71280" y="41400"/>
              <a:ext cx="57744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文本框 44"/>
            <p:cNvSpPr/>
            <p:nvPr/>
          </p:nvSpPr>
          <p:spPr>
            <a:xfrm>
              <a:off x="520560" y="309960"/>
              <a:ext cx="287928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字书写指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图片 20"/>
          <p:cNvSpPr/>
          <p:nvPr/>
        </p:nvSpPr>
        <p:spPr>
          <a:xfrm>
            <a:off x="3265560" y="1280880"/>
            <a:ext cx="1692360" cy="1692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400">
            <a:solidFill>
              <a:srgbClr val="e7e6e6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: 形状 28"/>
          <p:cNvSpPr/>
          <p:nvPr/>
        </p:nvSpPr>
        <p:spPr>
          <a:xfrm>
            <a:off x="6627960" y="2630520"/>
            <a:ext cx="269640" cy="244080"/>
          </a:xfrm>
          <a:custGeom>
            <a:avLst/>
            <a:gdLst>
              <a:gd name="textAreaLeft" fmla="*/ 0 w 269640"/>
              <a:gd name="textAreaRight" fmla="*/ 270000 w 269640"/>
              <a:gd name="textAreaTop" fmla="*/ 0 h 244080"/>
              <a:gd name="textAreaBottom" fmla="*/ 244440 h 244080"/>
            </a:gdLst>
            <a:ahLst/>
            <a:rect l="textAreaLeft" t="textAreaTop" r="textAreaRight" b="textAreaBottom"/>
            <a:pathLst>
              <a:path w="268782" h="244632">
                <a:moveTo>
                  <a:pt x="9536" y="0"/>
                </a:moveTo>
                <a:lnTo>
                  <a:pt x="14622" y="0"/>
                </a:lnTo>
                <a:lnTo>
                  <a:pt x="19707" y="0"/>
                </a:lnTo>
                <a:lnTo>
                  <a:pt x="25429" y="0"/>
                </a:lnTo>
                <a:lnTo>
                  <a:pt x="33057" y="0"/>
                </a:lnTo>
                <a:lnTo>
                  <a:pt x="40686" y="1270"/>
                </a:lnTo>
                <a:lnTo>
                  <a:pt x="48950" y="2541"/>
                </a:lnTo>
                <a:lnTo>
                  <a:pt x="57214" y="3811"/>
                </a:lnTo>
                <a:lnTo>
                  <a:pt x="67386" y="5716"/>
                </a:lnTo>
                <a:lnTo>
                  <a:pt x="78193" y="8257"/>
                </a:lnTo>
                <a:lnTo>
                  <a:pt x="89000" y="10798"/>
                </a:lnTo>
                <a:lnTo>
                  <a:pt x="101714" y="13338"/>
                </a:lnTo>
                <a:lnTo>
                  <a:pt x="115064" y="17149"/>
                </a:lnTo>
                <a:lnTo>
                  <a:pt x="128414" y="20960"/>
                </a:lnTo>
                <a:lnTo>
                  <a:pt x="140493" y="22866"/>
                </a:lnTo>
                <a:lnTo>
                  <a:pt x="151936" y="25406"/>
                </a:lnTo>
                <a:lnTo>
                  <a:pt x="164014" y="27947"/>
                </a:lnTo>
                <a:lnTo>
                  <a:pt x="173550" y="30488"/>
                </a:lnTo>
                <a:lnTo>
                  <a:pt x="183722" y="31758"/>
                </a:lnTo>
                <a:lnTo>
                  <a:pt x="193257" y="33028"/>
                </a:lnTo>
                <a:lnTo>
                  <a:pt x="201521" y="34299"/>
                </a:lnTo>
                <a:lnTo>
                  <a:pt x="210421" y="35569"/>
                </a:lnTo>
                <a:lnTo>
                  <a:pt x="217414" y="35569"/>
                </a:lnTo>
                <a:lnTo>
                  <a:pt x="225043" y="36839"/>
                </a:lnTo>
                <a:lnTo>
                  <a:pt x="231400" y="36839"/>
                </a:lnTo>
                <a:lnTo>
                  <a:pt x="235850" y="35569"/>
                </a:lnTo>
                <a:lnTo>
                  <a:pt x="240936" y="35569"/>
                </a:lnTo>
                <a:lnTo>
                  <a:pt x="246021" y="34299"/>
                </a:lnTo>
                <a:lnTo>
                  <a:pt x="249200" y="33028"/>
                </a:lnTo>
                <a:lnTo>
                  <a:pt x="253014" y="31758"/>
                </a:lnTo>
                <a:lnTo>
                  <a:pt x="255557" y="29217"/>
                </a:lnTo>
                <a:lnTo>
                  <a:pt x="257845" y="27694"/>
                </a:lnTo>
                <a:lnTo>
                  <a:pt x="268782" y="64151"/>
                </a:lnTo>
                <a:lnTo>
                  <a:pt x="222206" y="244632"/>
                </a:lnTo>
                <a:lnTo>
                  <a:pt x="221229" y="240726"/>
                </a:lnTo>
                <a:lnTo>
                  <a:pt x="219957" y="234374"/>
                </a:lnTo>
                <a:lnTo>
                  <a:pt x="218686" y="228658"/>
                </a:lnTo>
                <a:lnTo>
                  <a:pt x="217414" y="222306"/>
                </a:lnTo>
                <a:lnTo>
                  <a:pt x="217414" y="214684"/>
                </a:lnTo>
                <a:lnTo>
                  <a:pt x="216143" y="207697"/>
                </a:lnTo>
                <a:lnTo>
                  <a:pt x="215507" y="200075"/>
                </a:lnTo>
                <a:lnTo>
                  <a:pt x="212964" y="191818"/>
                </a:lnTo>
                <a:lnTo>
                  <a:pt x="209150" y="184196"/>
                </a:lnTo>
                <a:lnTo>
                  <a:pt x="205336" y="177210"/>
                </a:lnTo>
                <a:lnTo>
                  <a:pt x="199614" y="168317"/>
                </a:lnTo>
                <a:lnTo>
                  <a:pt x="194529" y="161331"/>
                </a:lnTo>
                <a:lnTo>
                  <a:pt x="186900" y="153709"/>
                </a:lnTo>
                <a:lnTo>
                  <a:pt x="179907" y="145452"/>
                </a:lnTo>
                <a:lnTo>
                  <a:pt x="171007" y="136559"/>
                </a:lnTo>
                <a:lnTo>
                  <a:pt x="161472" y="129573"/>
                </a:lnTo>
                <a:lnTo>
                  <a:pt x="151936" y="120680"/>
                </a:lnTo>
                <a:lnTo>
                  <a:pt x="140493" y="113694"/>
                </a:lnTo>
                <a:lnTo>
                  <a:pt x="128414" y="104801"/>
                </a:lnTo>
                <a:lnTo>
                  <a:pt x="116336" y="96544"/>
                </a:lnTo>
                <a:lnTo>
                  <a:pt x="102986" y="87652"/>
                </a:lnTo>
                <a:lnTo>
                  <a:pt x="89000" y="79395"/>
                </a:lnTo>
                <a:lnTo>
                  <a:pt x="76922" y="71773"/>
                </a:lnTo>
                <a:lnTo>
                  <a:pt x="66114" y="64786"/>
                </a:lnTo>
                <a:lnTo>
                  <a:pt x="55307" y="57164"/>
                </a:lnTo>
                <a:lnTo>
                  <a:pt x="45136" y="51448"/>
                </a:lnTo>
                <a:lnTo>
                  <a:pt x="36872" y="45096"/>
                </a:lnTo>
                <a:lnTo>
                  <a:pt x="29243" y="38745"/>
                </a:lnTo>
                <a:lnTo>
                  <a:pt x="22250" y="34299"/>
                </a:lnTo>
                <a:lnTo>
                  <a:pt x="15893" y="29217"/>
                </a:lnTo>
                <a:lnTo>
                  <a:pt x="10807" y="24136"/>
                </a:lnTo>
                <a:lnTo>
                  <a:pt x="7629" y="20960"/>
                </a:lnTo>
                <a:lnTo>
                  <a:pt x="3814" y="15879"/>
                </a:lnTo>
                <a:lnTo>
                  <a:pt x="1272" y="13338"/>
                </a:lnTo>
                <a:lnTo>
                  <a:pt x="0" y="9527"/>
                </a:lnTo>
                <a:lnTo>
                  <a:pt x="0" y="6987"/>
                </a:lnTo>
                <a:lnTo>
                  <a:pt x="0" y="5081"/>
                </a:lnTo>
                <a:lnTo>
                  <a:pt x="1272" y="3811"/>
                </a:lnTo>
                <a:lnTo>
                  <a:pt x="3814" y="2541"/>
                </a:lnTo>
                <a:lnTo>
                  <a:pt x="6357" y="1270"/>
                </a:lnTo>
                <a:lnTo>
                  <a:pt x="9536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8" name="任意多边形: 形状 29"/>
          <p:cNvSpPr/>
          <p:nvPr/>
        </p:nvSpPr>
        <p:spPr>
          <a:xfrm>
            <a:off x="6770520" y="1855800"/>
            <a:ext cx="286920" cy="1044360"/>
          </a:xfrm>
          <a:custGeom>
            <a:avLst/>
            <a:gdLst>
              <a:gd name="textAreaLeft" fmla="*/ 0 w 286920"/>
              <a:gd name="textAreaRight" fmla="*/ 287280 w 2869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87343" h="1043569">
                <a:moveTo>
                  <a:pt x="10172" y="0"/>
                </a:moveTo>
                <a:lnTo>
                  <a:pt x="12079" y="0"/>
                </a:lnTo>
                <a:lnTo>
                  <a:pt x="15893" y="0"/>
                </a:lnTo>
                <a:lnTo>
                  <a:pt x="20979" y="0"/>
                </a:lnTo>
                <a:lnTo>
                  <a:pt x="26065" y="1270"/>
                </a:lnTo>
                <a:lnTo>
                  <a:pt x="30515" y="2541"/>
                </a:lnTo>
                <a:lnTo>
                  <a:pt x="36872" y="3811"/>
                </a:lnTo>
                <a:lnTo>
                  <a:pt x="42593" y="6352"/>
                </a:lnTo>
                <a:lnTo>
                  <a:pt x="48950" y="8257"/>
                </a:lnTo>
                <a:lnTo>
                  <a:pt x="56579" y="10798"/>
                </a:lnTo>
                <a:lnTo>
                  <a:pt x="63572" y="14609"/>
                </a:lnTo>
                <a:lnTo>
                  <a:pt x="72472" y="18420"/>
                </a:lnTo>
                <a:lnTo>
                  <a:pt x="79465" y="22231"/>
                </a:lnTo>
                <a:lnTo>
                  <a:pt x="87093" y="26677"/>
                </a:lnTo>
                <a:lnTo>
                  <a:pt x="95357" y="31758"/>
                </a:lnTo>
                <a:lnTo>
                  <a:pt x="102986" y="38110"/>
                </a:lnTo>
                <a:lnTo>
                  <a:pt x="109979" y="43826"/>
                </a:lnTo>
                <a:lnTo>
                  <a:pt x="117607" y="50178"/>
                </a:lnTo>
                <a:lnTo>
                  <a:pt x="124600" y="56529"/>
                </a:lnTo>
                <a:lnTo>
                  <a:pt x="132229" y="63516"/>
                </a:lnTo>
                <a:lnTo>
                  <a:pt x="139222" y="71138"/>
                </a:lnTo>
                <a:lnTo>
                  <a:pt x="146850" y="79395"/>
                </a:lnTo>
                <a:lnTo>
                  <a:pt x="153843" y="88287"/>
                </a:lnTo>
                <a:lnTo>
                  <a:pt x="161472" y="96544"/>
                </a:lnTo>
                <a:lnTo>
                  <a:pt x="169100" y="106072"/>
                </a:lnTo>
                <a:lnTo>
                  <a:pt x="174822" y="116234"/>
                </a:lnTo>
                <a:lnTo>
                  <a:pt x="182450" y="125762"/>
                </a:lnTo>
                <a:lnTo>
                  <a:pt x="189443" y="136560"/>
                </a:lnTo>
                <a:lnTo>
                  <a:pt x="195800" y="147993"/>
                </a:lnTo>
                <a:lnTo>
                  <a:pt x="202793" y="160061"/>
                </a:lnTo>
                <a:lnTo>
                  <a:pt x="209150" y="172129"/>
                </a:lnTo>
                <a:lnTo>
                  <a:pt x="215507" y="184832"/>
                </a:lnTo>
                <a:lnTo>
                  <a:pt x="219957" y="198170"/>
                </a:lnTo>
                <a:lnTo>
                  <a:pt x="226315" y="212779"/>
                </a:lnTo>
                <a:lnTo>
                  <a:pt x="231400" y="227388"/>
                </a:lnTo>
                <a:lnTo>
                  <a:pt x="235850" y="243267"/>
                </a:lnTo>
                <a:lnTo>
                  <a:pt x="240936" y="259146"/>
                </a:lnTo>
                <a:lnTo>
                  <a:pt x="246022" y="275025"/>
                </a:lnTo>
                <a:lnTo>
                  <a:pt x="249200" y="292174"/>
                </a:lnTo>
                <a:lnTo>
                  <a:pt x="254286" y="310594"/>
                </a:lnTo>
                <a:lnTo>
                  <a:pt x="258100" y="329013"/>
                </a:lnTo>
                <a:lnTo>
                  <a:pt x="261915" y="346798"/>
                </a:lnTo>
                <a:lnTo>
                  <a:pt x="265093" y="366488"/>
                </a:lnTo>
                <a:lnTo>
                  <a:pt x="268907" y="386178"/>
                </a:lnTo>
                <a:lnTo>
                  <a:pt x="272722" y="405868"/>
                </a:lnTo>
                <a:lnTo>
                  <a:pt x="275265" y="425558"/>
                </a:lnTo>
                <a:lnTo>
                  <a:pt x="277807" y="443342"/>
                </a:lnTo>
                <a:lnTo>
                  <a:pt x="280350" y="461762"/>
                </a:lnTo>
                <a:lnTo>
                  <a:pt x="280986" y="480182"/>
                </a:lnTo>
                <a:lnTo>
                  <a:pt x="283529" y="497331"/>
                </a:lnTo>
                <a:lnTo>
                  <a:pt x="284800" y="514480"/>
                </a:lnTo>
                <a:lnTo>
                  <a:pt x="286072" y="531630"/>
                </a:lnTo>
                <a:lnTo>
                  <a:pt x="287343" y="547509"/>
                </a:lnTo>
                <a:lnTo>
                  <a:pt x="287343" y="564658"/>
                </a:lnTo>
                <a:lnTo>
                  <a:pt x="287343" y="580537"/>
                </a:lnTo>
                <a:lnTo>
                  <a:pt x="287343" y="595146"/>
                </a:lnTo>
                <a:lnTo>
                  <a:pt x="287343" y="611025"/>
                </a:lnTo>
                <a:lnTo>
                  <a:pt x="287343" y="625633"/>
                </a:lnTo>
                <a:lnTo>
                  <a:pt x="286072" y="640242"/>
                </a:lnTo>
                <a:lnTo>
                  <a:pt x="283529" y="668189"/>
                </a:lnTo>
                <a:lnTo>
                  <a:pt x="280986" y="696771"/>
                </a:lnTo>
                <a:lnTo>
                  <a:pt x="277807" y="723448"/>
                </a:lnTo>
                <a:lnTo>
                  <a:pt x="273993" y="748855"/>
                </a:lnTo>
                <a:lnTo>
                  <a:pt x="270179" y="774896"/>
                </a:lnTo>
                <a:lnTo>
                  <a:pt x="265093" y="799032"/>
                </a:lnTo>
                <a:lnTo>
                  <a:pt x="260643" y="822533"/>
                </a:lnTo>
                <a:lnTo>
                  <a:pt x="254286" y="845399"/>
                </a:lnTo>
                <a:lnTo>
                  <a:pt x="251743" y="856832"/>
                </a:lnTo>
                <a:lnTo>
                  <a:pt x="248565" y="867630"/>
                </a:lnTo>
                <a:lnTo>
                  <a:pt x="244750" y="878427"/>
                </a:lnTo>
                <a:lnTo>
                  <a:pt x="240936" y="888590"/>
                </a:lnTo>
                <a:lnTo>
                  <a:pt x="237122" y="899388"/>
                </a:lnTo>
                <a:lnTo>
                  <a:pt x="233307" y="908915"/>
                </a:lnTo>
                <a:lnTo>
                  <a:pt x="230129" y="917807"/>
                </a:lnTo>
                <a:lnTo>
                  <a:pt x="225043" y="927335"/>
                </a:lnTo>
                <a:lnTo>
                  <a:pt x="221229" y="936227"/>
                </a:lnTo>
                <a:lnTo>
                  <a:pt x="216779" y="944484"/>
                </a:lnTo>
                <a:lnTo>
                  <a:pt x="211693" y="953376"/>
                </a:lnTo>
                <a:lnTo>
                  <a:pt x="206607" y="960363"/>
                </a:lnTo>
                <a:lnTo>
                  <a:pt x="202793" y="967985"/>
                </a:lnTo>
                <a:lnTo>
                  <a:pt x="197072" y="974972"/>
                </a:lnTo>
                <a:lnTo>
                  <a:pt x="191986" y="982594"/>
                </a:lnTo>
                <a:lnTo>
                  <a:pt x="186900" y="988310"/>
                </a:lnTo>
                <a:lnTo>
                  <a:pt x="182450" y="994662"/>
                </a:lnTo>
                <a:lnTo>
                  <a:pt x="176093" y="1001013"/>
                </a:lnTo>
                <a:lnTo>
                  <a:pt x="171007" y="1005460"/>
                </a:lnTo>
                <a:lnTo>
                  <a:pt x="166557" y="1011811"/>
                </a:lnTo>
                <a:lnTo>
                  <a:pt x="160200" y="1015622"/>
                </a:lnTo>
                <a:lnTo>
                  <a:pt x="155115" y="1020068"/>
                </a:lnTo>
                <a:lnTo>
                  <a:pt x="150665" y="1023879"/>
                </a:lnTo>
                <a:lnTo>
                  <a:pt x="145579" y="1027690"/>
                </a:lnTo>
                <a:lnTo>
                  <a:pt x="141765" y="1031501"/>
                </a:lnTo>
                <a:lnTo>
                  <a:pt x="137315" y="1034042"/>
                </a:lnTo>
                <a:lnTo>
                  <a:pt x="132229" y="1035947"/>
                </a:lnTo>
                <a:lnTo>
                  <a:pt x="128415" y="1038488"/>
                </a:lnTo>
                <a:lnTo>
                  <a:pt x="123329" y="1041029"/>
                </a:lnTo>
                <a:lnTo>
                  <a:pt x="120150" y="1042299"/>
                </a:lnTo>
                <a:lnTo>
                  <a:pt x="115065" y="1042299"/>
                </a:lnTo>
                <a:lnTo>
                  <a:pt x="111250" y="1043569"/>
                </a:lnTo>
                <a:lnTo>
                  <a:pt x="107436" y="1043569"/>
                </a:lnTo>
                <a:lnTo>
                  <a:pt x="104257" y="1043569"/>
                </a:lnTo>
                <a:lnTo>
                  <a:pt x="100443" y="1042299"/>
                </a:lnTo>
                <a:lnTo>
                  <a:pt x="97900" y="1041029"/>
                </a:lnTo>
                <a:lnTo>
                  <a:pt x="94086" y="1039758"/>
                </a:lnTo>
                <a:lnTo>
                  <a:pt x="91543" y="1037218"/>
                </a:lnTo>
                <a:lnTo>
                  <a:pt x="89636" y="1035312"/>
                </a:lnTo>
                <a:lnTo>
                  <a:pt x="87093" y="1031501"/>
                </a:lnTo>
                <a:lnTo>
                  <a:pt x="84550" y="1027690"/>
                </a:lnTo>
                <a:lnTo>
                  <a:pt x="83279" y="1023879"/>
                </a:lnTo>
                <a:lnTo>
                  <a:pt x="80736" y="1019433"/>
                </a:lnTo>
                <a:lnTo>
                  <a:pt x="80442" y="1018258"/>
                </a:lnTo>
                <a:lnTo>
                  <a:pt x="127018" y="837777"/>
                </a:lnTo>
                <a:lnTo>
                  <a:pt x="116081" y="801320"/>
                </a:lnTo>
                <a:lnTo>
                  <a:pt x="117607" y="800303"/>
                </a:lnTo>
                <a:lnTo>
                  <a:pt x="120150" y="797762"/>
                </a:lnTo>
                <a:lnTo>
                  <a:pt x="123329" y="794586"/>
                </a:lnTo>
                <a:lnTo>
                  <a:pt x="125872" y="790775"/>
                </a:lnTo>
                <a:lnTo>
                  <a:pt x="128415" y="786964"/>
                </a:lnTo>
                <a:lnTo>
                  <a:pt x="130957" y="783153"/>
                </a:lnTo>
                <a:lnTo>
                  <a:pt x="132229" y="779342"/>
                </a:lnTo>
                <a:lnTo>
                  <a:pt x="134772" y="774896"/>
                </a:lnTo>
                <a:lnTo>
                  <a:pt x="137315" y="769815"/>
                </a:lnTo>
                <a:lnTo>
                  <a:pt x="137950" y="763463"/>
                </a:lnTo>
                <a:lnTo>
                  <a:pt x="139222" y="759017"/>
                </a:lnTo>
                <a:lnTo>
                  <a:pt x="140493" y="752666"/>
                </a:lnTo>
                <a:lnTo>
                  <a:pt x="141765" y="746949"/>
                </a:lnTo>
                <a:lnTo>
                  <a:pt x="143036" y="739327"/>
                </a:lnTo>
                <a:lnTo>
                  <a:pt x="144307" y="731705"/>
                </a:lnTo>
                <a:lnTo>
                  <a:pt x="145579" y="724718"/>
                </a:lnTo>
                <a:lnTo>
                  <a:pt x="145579" y="715826"/>
                </a:lnTo>
                <a:lnTo>
                  <a:pt x="146850" y="708839"/>
                </a:lnTo>
                <a:lnTo>
                  <a:pt x="148122" y="698677"/>
                </a:lnTo>
                <a:lnTo>
                  <a:pt x="149393" y="690420"/>
                </a:lnTo>
                <a:lnTo>
                  <a:pt x="150665" y="680892"/>
                </a:lnTo>
                <a:lnTo>
                  <a:pt x="151936" y="669460"/>
                </a:lnTo>
                <a:lnTo>
                  <a:pt x="153207" y="659932"/>
                </a:lnTo>
                <a:lnTo>
                  <a:pt x="153843" y="649134"/>
                </a:lnTo>
                <a:lnTo>
                  <a:pt x="155115" y="636431"/>
                </a:lnTo>
                <a:lnTo>
                  <a:pt x="157657" y="624363"/>
                </a:lnTo>
                <a:lnTo>
                  <a:pt x="158929" y="612295"/>
                </a:lnTo>
                <a:lnTo>
                  <a:pt x="160200" y="600227"/>
                </a:lnTo>
                <a:lnTo>
                  <a:pt x="161472" y="586253"/>
                </a:lnTo>
                <a:lnTo>
                  <a:pt x="162743" y="572915"/>
                </a:lnTo>
                <a:lnTo>
                  <a:pt x="165286" y="544968"/>
                </a:lnTo>
                <a:lnTo>
                  <a:pt x="167829" y="518291"/>
                </a:lnTo>
                <a:lnTo>
                  <a:pt x="167829" y="490344"/>
                </a:lnTo>
                <a:lnTo>
                  <a:pt x="167829" y="463032"/>
                </a:lnTo>
                <a:lnTo>
                  <a:pt x="166557" y="436355"/>
                </a:lnTo>
                <a:lnTo>
                  <a:pt x="164015" y="409679"/>
                </a:lnTo>
                <a:lnTo>
                  <a:pt x="160200" y="382367"/>
                </a:lnTo>
                <a:lnTo>
                  <a:pt x="155115" y="355690"/>
                </a:lnTo>
                <a:lnTo>
                  <a:pt x="150665" y="329648"/>
                </a:lnTo>
                <a:lnTo>
                  <a:pt x="144307" y="304242"/>
                </a:lnTo>
                <a:lnTo>
                  <a:pt x="139222" y="281376"/>
                </a:lnTo>
                <a:lnTo>
                  <a:pt x="133500" y="259146"/>
                </a:lnTo>
                <a:lnTo>
                  <a:pt x="127143" y="236915"/>
                </a:lnTo>
                <a:lnTo>
                  <a:pt x="123329" y="227388"/>
                </a:lnTo>
                <a:lnTo>
                  <a:pt x="121422" y="217225"/>
                </a:lnTo>
                <a:lnTo>
                  <a:pt x="117607" y="207698"/>
                </a:lnTo>
                <a:lnTo>
                  <a:pt x="115065" y="198170"/>
                </a:lnTo>
                <a:lnTo>
                  <a:pt x="111250" y="189278"/>
                </a:lnTo>
                <a:lnTo>
                  <a:pt x="107436" y="181021"/>
                </a:lnTo>
                <a:lnTo>
                  <a:pt x="100443" y="165142"/>
                </a:lnTo>
                <a:lnTo>
                  <a:pt x="92815" y="149263"/>
                </a:lnTo>
                <a:lnTo>
                  <a:pt x="85822" y="134654"/>
                </a:lnTo>
                <a:lnTo>
                  <a:pt x="76922" y="120681"/>
                </a:lnTo>
                <a:lnTo>
                  <a:pt x="68657" y="107342"/>
                </a:lnTo>
                <a:lnTo>
                  <a:pt x="58486" y="95274"/>
                </a:lnTo>
                <a:lnTo>
                  <a:pt x="50222" y="84476"/>
                </a:lnTo>
                <a:lnTo>
                  <a:pt x="40686" y="74314"/>
                </a:lnTo>
                <a:lnTo>
                  <a:pt x="35600" y="69868"/>
                </a:lnTo>
                <a:lnTo>
                  <a:pt x="30515" y="64786"/>
                </a:lnTo>
                <a:lnTo>
                  <a:pt x="26700" y="59705"/>
                </a:lnTo>
                <a:lnTo>
                  <a:pt x="23522" y="55259"/>
                </a:lnTo>
                <a:lnTo>
                  <a:pt x="19708" y="51448"/>
                </a:lnTo>
                <a:lnTo>
                  <a:pt x="15893" y="46367"/>
                </a:lnTo>
                <a:lnTo>
                  <a:pt x="12079" y="42556"/>
                </a:lnTo>
                <a:lnTo>
                  <a:pt x="10172" y="39380"/>
                </a:lnTo>
                <a:lnTo>
                  <a:pt x="7629" y="34299"/>
                </a:lnTo>
                <a:lnTo>
                  <a:pt x="6358" y="30488"/>
                </a:lnTo>
                <a:lnTo>
                  <a:pt x="3815" y="26677"/>
                </a:lnTo>
                <a:lnTo>
                  <a:pt x="2543" y="24136"/>
                </a:lnTo>
                <a:lnTo>
                  <a:pt x="1272" y="20960"/>
                </a:lnTo>
                <a:lnTo>
                  <a:pt x="1272" y="17149"/>
                </a:lnTo>
                <a:lnTo>
                  <a:pt x="0" y="14609"/>
                </a:lnTo>
                <a:lnTo>
                  <a:pt x="0" y="10798"/>
                </a:lnTo>
                <a:lnTo>
                  <a:pt x="0" y="8257"/>
                </a:lnTo>
                <a:lnTo>
                  <a:pt x="1272" y="6352"/>
                </a:lnTo>
                <a:lnTo>
                  <a:pt x="2543" y="3811"/>
                </a:lnTo>
                <a:lnTo>
                  <a:pt x="3815" y="2541"/>
                </a:lnTo>
                <a:lnTo>
                  <a:pt x="6358" y="1270"/>
                </a:lnTo>
                <a:lnTo>
                  <a:pt x="10172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9" name="任意多边形: 形状 30"/>
          <p:cNvSpPr/>
          <p:nvPr/>
        </p:nvSpPr>
        <p:spPr>
          <a:xfrm>
            <a:off x="6859440" y="1633680"/>
            <a:ext cx="323640" cy="328320"/>
          </a:xfrm>
          <a:custGeom>
            <a:avLst/>
            <a:gdLst>
              <a:gd name="textAreaLeft" fmla="*/ 0 w 323640"/>
              <a:gd name="textAreaRight" fmla="*/ 324000 w 32364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324718" h="328555">
                <a:moveTo>
                  <a:pt x="291903" y="0"/>
                </a:moveTo>
                <a:lnTo>
                  <a:pt x="295544" y="2916"/>
                </a:lnTo>
                <a:lnTo>
                  <a:pt x="299984" y="7359"/>
                </a:lnTo>
                <a:lnTo>
                  <a:pt x="305057" y="12437"/>
                </a:lnTo>
                <a:lnTo>
                  <a:pt x="310131" y="16246"/>
                </a:lnTo>
                <a:lnTo>
                  <a:pt x="313302" y="21324"/>
                </a:lnTo>
                <a:lnTo>
                  <a:pt x="317108" y="24498"/>
                </a:lnTo>
                <a:lnTo>
                  <a:pt x="319644" y="28307"/>
                </a:lnTo>
                <a:lnTo>
                  <a:pt x="322181" y="30846"/>
                </a:lnTo>
                <a:lnTo>
                  <a:pt x="323450" y="34654"/>
                </a:lnTo>
                <a:lnTo>
                  <a:pt x="324718" y="37193"/>
                </a:lnTo>
                <a:lnTo>
                  <a:pt x="324718" y="39098"/>
                </a:lnTo>
                <a:lnTo>
                  <a:pt x="324718" y="41637"/>
                </a:lnTo>
                <a:lnTo>
                  <a:pt x="323450" y="44176"/>
                </a:lnTo>
                <a:lnTo>
                  <a:pt x="323450" y="46715"/>
                </a:lnTo>
                <a:lnTo>
                  <a:pt x="322181" y="49254"/>
                </a:lnTo>
                <a:lnTo>
                  <a:pt x="319644" y="53063"/>
                </a:lnTo>
                <a:lnTo>
                  <a:pt x="318376" y="54967"/>
                </a:lnTo>
                <a:lnTo>
                  <a:pt x="315839" y="57506"/>
                </a:lnTo>
                <a:lnTo>
                  <a:pt x="312034" y="60045"/>
                </a:lnTo>
                <a:lnTo>
                  <a:pt x="310131" y="63854"/>
                </a:lnTo>
                <a:lnTo>
                  <a:pt x="306326" y="66393"/>
                </a:lnTo>
                <a:lnTo>
                  <a:pt x="302521" y="68932"/>
                </a:lnTo>
                <a:lnTo>
                  <a:pt x="297447" y="70837"/>
                </a:lnTo>
                <a:lnTo>
                  <a:pt x="293007" y="74645"/>
                </a:lnTo>
                <a:lnTo>
                  <a:pt x="287934" y="77184"/>
                </a:lnTo>
                <a:lnTo>
                  <a:pt x="282860" y="80993"/>
                </a:lnTo>
                <a:lnTo>
                  <a:pt x="277152" y="83532"/>
                </a:lnTo>
                <a:lnTo>
                  <a:pt x="273347" y="84802"/>
                </a:lnTo>
                <a:lnTo>
                  <a:pt x="270810" y="86706"/>
                </a:lnTo>
                <a:lnTo>
                  <a:pt x="267005" y="89245"/>
                </a:lnTo>
                <a:lnTo>
                  <a:pt x="262565" y="91784"/>
                </a:lnTo>
                <a:lnTo>
                  <a:pt x="258760" y="95593"/>
                </a:lnTo>
                <a:lnTo>
                  <a:pt x="253686" y="99401"/>
                </a:lnTo>
                <a:lnTo>
                  <a:pt x="248612" y="102575"/>
                </a:lnTo>
                <a:lnTo>
                  <a:pt x="244173" y="107653"/>
                </a:lnTo>
                <a:lnTo>
                  <a:pt x="237831" y="112732"/>
                </a:lnTo>
                <a:lnTo>
                  <a:pt x="232757" y="117810"/>
                </a:lnTo>
                <a:lnTo>
                  <a:pt x="227049" y="123523"/>
                </a:lnTo>
                <a:lnTo>
                  <a:pt x="219438" y="128601"/>
                </a:lnTo>
                <a:lnTo>
                  <a:pt x="213731" y="135584"/>
                </a:lnTo>
                <a:lnTo>
                  <a:pt x="206120" y="141931"/>
                </a:lnTo>
                <a:lnTo>
                  <a:pt x="199144" y="149549"/>
                </a:lnTo>
                <a:lnTo>
                  <a:pt x="191533" y="156531"/>
                </a:lnTo>
                <a:lnTo>
                  <a:pt x="184557" y="164148"/>
                </a:lnTo>
                <a:lnTo>
                  <a:pt x="175678" y="172400"/>
                </a:lnTo>
                <a:lnTo>
                  <a:pt x="167433" y="181287"/>
                </a:lnTo>
                <a:lnTo>
                  <a:pt x="158554" y="190809"/>
                </a:lnTo>
                <a:lnTo>
                  <a:pt x="150309" y="199061"/>
                </a:lnTo>
                <a:lnTo>
                  <a:pt x="140162" y="209217"/>
                </a:lnTo>
                <a:lnTo>
                  <a:pt x="130648" y="220009"/>
                </a:lnTo>
                <a:lnTo>
                  <a:pt x="121135" y="230165"/>
                </a:lnTo>
                <a:lnTo>
                  <a:pt x="110988" y="240956"/>
                </a:lnTo>
                <a:lnTo>
                  <a:pt x="100206" y="253017"/>
                </a:lnTo>
                <a:lnTo>
                  <a:pt x="90059" y="263808"/>
                </a:lnTo>
                <a:lnTo>
                  <a:pt x="79277" y="276504"/>
                </a:lnTo>
                <a:lnTo>
                  <a:pt x="67227" y="288564"/>
                </a:lnTo>
                <a:lnTo>
                  <a:pt x="56445" y="301895"/>
                </a:lnTo>
                <a:lnTo>
                  <a:pt x="43761" y="315225"/>
                </a:lnTo>
                <a:lnTo>
                  <a:pt x="31711" y="328555"/>
                </a:lnTo>
                <a:lnTo>
                  <a:pt x="0" y="296816"/>
                </a:lnTo>
                <a:lnTo>
                  <a:pt x="10148" y="280947"/>
                </a:lnTo>
                <a:lnTo>
                  <a:pt x="18392" y="266347"/>
                </a:lnTo>
                <a:lnTo>
                  <a:pt x="26637" y="251747"/>
                </a:lnTo>
                <a:lnTo>
                  <a:pt x="35516" y="237148"/>
                </a:lnTo>
                <a:lnTo>
                  <a:pt x="42492" y="223817"/>
                </a:lnTo>
                <a:lnTo>
                  <a:pt x="50103" y="210487"/>
                </a:lnTo>
                <a:lnTo>
                  <a:pt x="57714" y="198426"/>
                </a:lnTo>
                <a:lnTo>
                  <a:pt x="64690" y="184461"/>
                </a:lnTo>
                <a:lnTo>
                  <a:pt x="71032" y="173670"/>
                </a:lnTo>
                <a:lnTo>
                  <a:pt x="76740" y="161609"/>
                </a:lnTo>
                <a:lnTo>
                  <a:pt x="83082" y="150818"/>
                </a:lnTo>
                <a:lnTo>
                  <a:pt x="89424" y="139392"/>
                </a:lnTo>
                <a:lnTo>
                  <a:pt x="93864" y="129871"/>
                </a:lnTo>
                <a:lnTo>
                  <a:pt x="98938" y="119714"/>
                </a:lnTo>
                <a:lnTo>
                  <a:pt x="104011" y="111462"/>
                </a:lnTo>
                <a:lnTo>
                  <a:pt x="107182" y="101941"/>
                </a:lnTo>
                <a:lnTo>
                  <a:pt x="112256" y="94323"/>
                </a:lnTo>
                <a:lnTo>
                  <a:pt x="116061" y="86071"/>
                </a:lnTo>
                <a:lnTo>
                  <a:pt x="118598" y="78454"/>
                </a:lnTo>
                <a:lnTo>
                  <a:pt x="121769" y="70837"/>
                </a:lnTo>
                <a:lnTo>
                  <a:pt x="124306" y="65124"/>
                </a:lnTo>
                <a:lnTo>
                  <a:pt x="126843" y="58776"/>
                </a:lnTo>
                <a:lnTo>
                  <a:pt x="128111" y="53063"/>
                </a:lnTo>
                <a:lnTo>
                  <a:pt x="129380" y="47985"/>
                </a:lnTo>
                <a:lnTo>
                  <a:pt x="131917" y="42906"/>
                </a:lnTo>
                <a:lnTo>
                  <a:pt x="131917" y="39098"/>
                </a:lnTo>
                <a:lnTo>
                  <a:pt x="133185" y="35924"/>
                </a:lnTo>
                <a:lnTo>
                  <a:pt x="133185" y="32115"/>
                </a:lnTo>
                <a:lnTo>
                  <a:pt x="133185" y="29576"/>
                </a:lnTo>
                <a:lnTo>
                  <a:pt x="133185" y="27037"/>
                </a:lnTo>
                <a:lnTo>
                  <a:pt x="131917" y="24498"/>
                </a:lnTo>
                <a:lnTo>
                  <a:pt x="130648" y="23228"/>
                </a:lnTo>
                <a:lnTo>
                  <a:pt x="129380" y="21959"/>
                </a:lnTo>
                <a:lnTo>
                  <a:pt x="126843" y="21324"/>
                </a:lnTo>
                <a:lnTo>
                  <a:pt x="125575" y="21324"/>
                </a:lnTo>
                <a:lnTo>
                  <a:pt x="123038" y="20055"/>
                </a:lnTo>
                <a:lnTo>
                  <a:pt x="121867" y="20055"/>
                </a:lnTo>
                <a:lnTo>
                  <a:pt x="128734" y="11939"/>
                </a:lnTo>
                <a:lnTo>
                  <a:pt x="291903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0" name="任意多边形: 形状 31"/>
          <p:cNvSpPr/>
          <p:nvPr/>
        </p:nvSpPr>
        <p:spPr>
          <a:xfrm>
            <a:off x="6464160" y="1550880"/>
            <a:ext cx="686880" cy="213840"/>
          </a:xfrm>
          <a:custGeom>
            <a:avLst/>
            <a:gdLst>
              <a:gd name="textAreaLeft" fmla="*/ 0 w 686880"/>
              <a:gd name="textAreaRight" fmla="*/ 687240 w 68688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687019" h="213919">
                <a:moveTo>
                  <a:pt x="544157" y="0"/>
                </a:moveTo>
                <a:lnTo>
                  <a:pt x="548596" y="0"/>
                </a:lnTo>
                <a:lnTo>
                  <a:pt x="551133" y="0"/>
                </a:lnTo>
                <a:lnTo>
                  <a:pt x="554938" y="1270"/>
                </a:lnTo>
                <a:lnTo>
                  <a:pt x="558744" y="1270"/>
                </a:lnTo>
                <a:lnTo>
                  <a:pt x="562549" y="3809"/>
                </a:lnTo>
                <a:lnTo>
                  <a:pt x="566988" y="5078"/>
                </a:lnTo>
                <a:lnTo>
                  <a:pt x="572062" y="7617"/>
                </a:lnTo>
                <a:lnTo>
                  <a:pt x="577136" y="9522"/>
                </a:lnTo>
                <a:lnTo>
                  <a:pt x="582844" y="13330"/>
                </a:lnTo>
                <a:lnTo>
                  <a:pt x="589186" y="15869"/>
                </a:lnTo>
                <a:lnTo>
                  <a:pt x="595528" y="19678"/>
                </a:lnTo>
                <a:lnTo>
                  <a:pt x="602504" y="24756"/>
                </a:lnTo>
                <a:lnTo>
                  <a:pt x="610115" y="29200"/>
                </a:lnTo>
                <a:lnTo>
                  <a:pt x="618360" y="34278"/>
                </a:lnTo>
                <a:lnTo>
                  <a:pt x="625970" y="39356"/>
                </a:lnTo>
                <a:lnTo>
                  <a:pt x="635484" y="45069"/>
                </a:lnTo>
                <a:lnTo>
                  <a:pt x="643728" y="51417"/>
                </a:lnTo>
                <a:lnTo>
                  <a:pt x="652607" y="57130"/>
                </a:lnTo>
                <a:lnTo>
                  <a:pt x="660852" y="63478"/>
                </a:lnTo>
                <a:lnTo>
                  <a:pt x="669731" y="69825"/>
                </a:lnTo>
                <a:lnTo>
                  <a:pt x="676708" y="74269"/>
                </a:lnTo>
                <a:lnTo>
                  <a:pt x="684318" y="80616"/>
                </a:lnTo>
                <a:lnTo>
                  <a:pt x="687019" y="82779"/>
                </a:lnTo>
                <a:lnTo>
                  <a:pt x="523850" y="94718"/>
                </a:lnTo>
                <a:lnTo>
                  <a:pt x="516983" y="102834"/>
                </a:lnTo>
                <a:lnTo>
                  <a:pt x="516251" y="102834"/>
                </a:lnTo>
                <a:lnTo>
                  <a:pt x="512446" y="102834"/>
                </a:lnTo>
                <a:lnTo>
                  <a:pt x="508641" y="102834"/>
                </a:lnTo>
                <a:lnTo>
                  <a:pt x="506104" y="102834"/>
                </a:lnTo>
                <a:lnTo>
                  <a:pt x="501030" y="102834"/>
                </a:lnTo>
                <a:lnTo>
                  <a:pt x="497859" y="102834"/>
                </a:lnTo>
                <a:lnTo>
                  <a:pt x="492785" y="104103"/>
                </a:lnTo>
                <a:lnTo>
                  <a:pt x="487711" y="104103"/>
                </a:lnTo>
                <a:lnTo>
                  <a:pt x="483272" y="104738"/>
                </a:lnTo>
                <a:lnTo>
                  <a:pt x="476930" y="106007"/>
                </a:lnTo>
                <a:lnTo>
                  <a:pt x="471856" y="106007"/>
                </a:lnTo>
                <a:lnTo>
                  <a:pt x="466148" y="108547"/>
                </a:lnTo>
                <a:lnTo>
                  <a:pt x="458538" y="109816"/>
                </a:lnTo>
                <a:lnTo>
                  <a:pt x="452830" y="111086"/>
                </a:lnTo>
                <a:lnTo>
                  <a:pt x="445219" y="112355"/>
                </a:lnTo>
                <a:lnTo>
                  <a:pt x="437608" y="114894"/>
                </a:lnTo>
                <a:lnTo>
                  <a:pt x="430632" y="117433"/>
                </a:lnTo>
                <a:lnTo>
                  <a:pt x="421753" y="119972"/>
                </a:lnTo>
                <a:lnTo>
                  <a:pt x="413508" y="121877"/>
                </a:lnTo>
                <a:lnTo>
                  <a:pt x="405264" y="124416"/>
                </a:lnTo>
                <a:lnTo>
                  <a:pt x="396385" y="126955"/>
                </a:lnTo>
                <a:lnTo>
                  <a:pt x="386871" y="129494"/>
                </a:lnTo>
                <a:lnTo>
                  <a:pt x="376724" y="133303"/>
                </a:lnTo>
                <a:lnTo>
                  <a:pt x="367211" y="135842"/>
                </a:lnTo>
                <a:lnTo>
                  <a:pt x="357697" y="139016"/>
                </a:lnTo>
                <a:lnTo>
                  <a:pt x="346282" y="142824"/>
                </a:lnTo>
                <a:lnTo>
                  <a:pt x="335500" y="146633"/>
                </a:lnTo>
                <a:lnTo>
                  <a:pt x="324718" y="150442"/>
                </a:lnTo>
                <a:lnTo>
                  <a:pt x="302521" y="157424"/>
                </a:lnTo>
                <a:lnTo>
                  <a:pt x="281592" y="165041"/>
                </a:lnTo>
                <a:lnTo>
                  <a:pt x="261297" y="172024"/>
                </a:lnTo>
                <a:lnTo>
                  <a:pt x="242904" y="178372"/>
                </a:lnTo>
                <a:lnTo>
                  <a:pt x="224512" y="184720"/>
                </a:lnTo>
                <a:lnTo>
                  <a:pt x="208657" y="189163"/>
                </a:lnTo>
                <a:lnTo>
                  <a:pt x="192801" y="194241"/>
                </a:lnTo>
                <a:lnTo>
                  <a:pt x="178215" y="198050"/>
                </a:lnTo>
                <a:lnTo>
                  <a:pt x="164896" y="201224"/>
                </a:lnTo>
                <a:lnTo>
                  <a:pt x="152212" y="205032"/>
                </a:lnTo>
                <a:lnTo>
                  <a:pt x="141430" y="207571"/>
                </a:lnTo>
                <a:lnTo>
                  <a:pt x="131917" y="210110"/>
                </a:lnTo>
                <a:lnTo>
                  <a:pt x="123038" y="211380"/>
                </a:lnTo>
                <a:lnTo>
                  <a:pt x="116061" y="212650"/>
                </a:lnTo>
                <a:lnTo>
                  <a:pt x="108451" y="213919"/>
                </a:lnTo>
                <a:lnTo>
                  <a:pt x="104011" y="213919"/>
                </a:lnTo>
                <a:lnTo>
                  <a:pt x="93864" y="213919"/>
                </a:lnTo>
                <a:lnTo>
                  <a:pt x="84351" y="211380"/>
                </a:lnTo>
                <a:lnTo>
                  <a:pt x="74203" y="208841"/>
                </a:lnTo>
                <a:lnTo>
                  <a:pt x="65958" y="205032"/>
                </a:lnTo>
                <a:lnTo>
                  <a:pt x="57079" y="201224"/>
                </a:lnTo>
                <a:lnTo>
                  <a:pt x="48835" y="195511"/>
                </a:lnTo>
                <a:lnTo>
                  <a:pt x="40590" y="189163"/>
                </a:lnTo>
                <a:lnTo>
                  <a:pt x="31711" y="182180"/>
                </a:lnTo>
                <a:lnTo>
                  <a:pt x="24735" y="174563"/>
                </a:lnTo>
                <a:lnTo>
                  <a:pt x="18392" y="167581"/>
                </a:lnTo>
                <a:lnTo>
                  <a:pt x="12050" y="159963"/>
                </a:lnTo>
                <a:lnTo>
                  <a:pt x="8879" y="152981"/>
                </a:lnTo>
                <a:lnTo>
                  <a:pt x="5074" y="145363"/>
                </a:lnTo>
                <a:lnTo>
                  <a:pt x="2537" y="139016"/>
                </a:lnTo>
                <a:lnTo>
                  <a:pt x="0" y="133303"/>
                </a:lnTo>
                <a:lnTo>
                  <a:pt x="0" y="126955"/>
                </a:lnTo>
                <a:lnTo>
                  <a:pt x="15855" y="126955"/>
                </a:lnTo>
                <a:lnTo>
                  <a:pt x="32979" y="125685"/>
                </a:lnTo>
                <a:lnTo>
                  <a:pt x="50103" y="124416"/>
                </a:lnTo>
                <a:lnTo>
                  <a:pt x="67227" y="123146"/>
                </a:lnTo>
                <a:lnTo>
                  <a:pt x="84351" y="121877"/>
                </a:lnTo>
                <a:lnTo>
                  <a:pt x="102743" y="119972"/>
                </a:lnTo>
                <a:lnTo>
                  <a:pt x="120501" y="117433"/>
                </a:lnTo>
                <a:lnTo>
                  <a:pt x="138893" y="114894"/>
                </a:lnTo>
                <a:lnTo>
                  <a:pt x="149041" y="113625"/>
                </a:lnTo>
                <a:lnTo>
                  <a:pt x="158554" y="111086"/>
                </a:lnTo>
                <a:lnTo>
                  <a:pt x="169336" y="108547"/>
                </a:lnTo>
                <a:lnTo>
                  <a:pt x="180751" y="107277"/>
                </a:lnTo>
                <a:lnTo>
                  <a:pt x="191533" y="104738"/>
                </a:lnTo>
                <a:lnTo>
                  <a:pt x="203583" y="102834"/>
                </a:lnTo>
                <a:lnTo>
                  <a:pt x="215633" y="99025"/>
                </a:lnTo>
                <a:lnTo>
                  <a:pt x="229586" y="96486"/>
                </a:lnTo>
                <a:lnTo>
                  <a:pt x="241636" y="93947"/>
                </a:lnTo>
                <a:lnTo>
                  <a:pt x="256223" y="90138"/>
                </a:lnTo>
                <a:lnTo>
                  <a:pt x="269542" y="86964"/>
                </a:lnTo>
                <a:lnTo>
                  <a:pt x="284128" y="83156"/>
                </a:lnTo>
                <a:lnTo>
                  <a:pt x="299984" y="79347"/>
                </a:lnTo>
                <a:lnTo>
                  <a:pt x="314571" y="75538"/>
                </a:lnTo>
                <a:lnTo>
                  <a:pt x="331695" y="72364"/>
                </a:lnTo>
                <a:lnTo>
                  <a:pt x="347550" y="67286"/>
                </a:lnTo>
                <a:lnTo>
                  <a:pt x="364674" y="63478"/>
                </a:lnTo>
                <a:lnTo>
                  <a:pt x="379261" y="58399"/>
                </a:lnTo>
                <a:lnTo>
                  <a:pt x="393848" y="55225"/>
                </a:lnTo>
                <a:lnTo>
                  <a:pt x="408435" y="51417"/>
                </a:lnTo>
                <a:lnTo>
                  <a:pt x="421119" y="47608"/>
                </a:lnTo>
                <a:lnTo>
                  <a:pt x="433169" y="43800"/>
                </a:lnTo>
                <a:lnTo>
                  <a:pt x="443951" y="40626"/>
                </a:lnTo>
                <a:lnTo>
                  <a:pt x="454732" y="36817"/>
                </a:lnTo>
                <a:lnTo>
                  <a:pt x="464880" y="34278"/>
                </a:lnTo>
                <a:lnTo>
                  <a:pt x="473125" y="30469"/>
                </a:lnTo>
                <a:lnTo>
                  <a:pt x="480735" y="27930"/>
                </a:lnTo>
                <a:lnTo>
                  <a:pt x="487711" y="25391"/>
                </a:lnTo>
                <a:lnTo>
                  <a:pt x="494054" y="23487"/>
                </a:lnTo>
                <a:lnTo>
                  <a:pt x="499127" y="20948"/>
                </a:lnTo>
                <a:lnTo>
                  <a:pt x="502298" y="18409"/>
                </a:lnTo>
                <a:lnTo>
                  <a:pt x="506104" y="15869"/>
                </a:lnTo>
                <a:lnTo>
                  <a:pt x="512446" y="12061"/>
                </a:lnTo>
                <a:lnTo>
                  <a:pt x="518154" y="8887"/>
                </a:lnTo>
                <a:lnTo>
                  <a:pt x="523227" y="6348"/>
                </a:lnTo>
                <a:lnTo>
                  <a:pt x="529570" y="3809"/>
                </a:lnTo>
                <a:lnTo>
                  <a:pt x="534009" y="2539"/>
                </a:lnTo>
                <a:lnTo>
                  <a:pt x="539083" y="1270"/>
                </a:lnTo>
                <a:lnTo>
                  <a:pt x="544157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1" name="任意多边形: 形状 32"/>
          <p:cNvSpPr/>
          <p:nvPr/>
        </p:nvSpPr>
        <p:spPr>
          <a:xfrm>
            <a:off x="7253280" y="1355760"/>
            <a:ext cx="348840" cy="190080"/>
          </a:xfrm>
          <a:custGeom>
            <a:avLst/>
            <a:gdLst>
              <a:gd name="textAreaLeft" fmla="*/ 0 w 348840"/>
              <a:gd name="textAreaRight" fmla="*/ 349200 w 34884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349126" h="190715">
                <a:moveTo>
                  <a:pt x="192051" y="0"/>
                </a:moveTo>
                <a:lnTo>
                  <a:pt x="308197" y="4741"/>
                </a:lnTo>
                <a:lnTo>
                  <a:pt x="312944" y="8817"/>
                </a:lnTo>
                <a:lnTo>
                  <a:pt x="321196" y="17085"/>
                </a:lnTo>
                <a:lnTo>
                  <a:pt x="327544" y="23446"/>
                </a:lnTo>
                <a:lnTo>
                  <a:pt x="333257" y="30442"/>
                </a:lnTo>
                <a:lnTo>
                  <a:pt x="338335" y="36802"/>
                </a:lnTo>
                <a:lnTo>
                  <a:pt x="342144" y="41890"/>
                </a:lnTo>
                <a:lnTo>
                  <a:pt x="345318" y="47614"/>
                </a:lnTo>
                <a:lnTo>
                  <a:pt x="347857" y="52702"/>
                </a:lnTo>
                <a:lnTo>
                  <a:pt x="349126" y="57790"/>
                </a:lnTo>
                <a:lnTo>
                  <a:pt x="349126" y="60970"/>
                </a:lnTo>
                <a:lnTo>
                  <a:pt x="349126" y="64786"/>
                </a:lnTo>
                <a:lnTo>
                  <a:pt x="347857" y="68602"/>
                </a:lnTo>
                <a:lnTo>
                  <a:pt x="346587" y="72418"/>
                </a:lnTo>
                <a:lnTo>
                  <a:pt x="345318" y="74962"/>
                </a:lnTo>
                <a:lnTo>
                  <a:pt x="343413" y="78142"/>
                </a:lnTo>
                <a:lnTo>
                  <a:pt x="340874" y="80686"/>
                </a:lnTo>
                <a:lnTo>
                  <a:pt x="338335" y="83230"/>
                </a:lnTo>
                <a:lnTo>
                  <a:pt x="334526" y="84502"/>
                </a:lnTo>
                <a:lnTo>
                  <a:pt x="330718" y="87046"/>
                </a:lnTo>
                <a:lnTo>
                  <a:pt x="326274" y="88318"/>
                </a:lnTo>
                <a:lnTo>
                  <a:pt x="321196" y="89590"/>
                </a:lnTo>
                <a:lnTo>
                  <a:pt x="316118" y="90862"/>
                </a:lnTo>
                <a:lnTo>
                  <a:pt x="310405" y="92134"/>
                </a:lnTo>
                <a:lnTo>
                  <a:pt x="304057" y="92770"/>
                </a:lnTo>
                <a:lnTo>
                  <a:pt x="297075" y="92770"/>
                </a:lnTo>
                <a:lnTo>
                  <a:pt x="289457" y="92770"/>
                </a:lnTo>
                <a:lnTo>
                  <a:pt x="281840" y="92770"/>
                </a:lnTo>
                <a:lnTo>
                  <a:pt x="273588" y="94042"/>
                </a:lnTo>
                <a:lnTo>
                  <a:pt x="265971" y="95314"/>
                </a:lnTo>
                <a:lnTo>
                  <a:pt x="256449" y="96586"/>
                </a:lnTo>
                <a:lnTo>
                  <a:pt x="248197" y="97858"/>
                </a:lnTo>
                <a:lnTo>
                  <a:pt x="238041" y="100402"/>
                </a:lnTo>
                <a:lnTo>
                  <a:pt x="228519" y="104218"/>
                </a:lnTo>
                <a:lnTo>
                  <a:pt x="217728" y="106762"/>
                </a:lnTo>
                <a:lnTo>
                  <a:pt x="207572" y="109942"/>
                </a:lnTo>
                <a:lnTo>
                  <a:pt x="195511" y="115030"/>
                </a:lnTo>
                <a:lnTo>
                  <a:pt x="184720" y="118846"/>
                </a:lnTo>
                <a:lnTo>
                  <a:pt x="172024" y="123934"/>
                </a:lnTo>
                <a:lnTo>
                  <a:pt x="159964" y="129659"/>
                </a:lnTo>
                <a:lnTo>
                  <a:pt x="146633" y="134747"/>
                </a:lnTo>
                <a:lnTo>
                  <a:pt x="133303" y="141743"/>
                </a:lnTo>
                <a:lnTo>
                  <a:pt x="119973" y="148103"/>
                </a:lnTo>
                <a:lnTo>
                  <a:pt x="106642" y="154463"/>
                </a:lnTo>
                <a:lnTo>
                  <a:pt x="93947" y="160187"/>
                </a:lnTo>
                <a:lnTo>
                  <a:pt x="81886" y="166547"/>
                </a:lnTo>
                <a:lnTo>
                  <a:pt x="71095" y="171635"/>
                </a:lnTo>
                <a:lnTo>
                  <a:pt x="60939" y="176087"/>
                </a:lnTo>
                <a:lnTo>
                  <a:pt x="51417" y="179903"/>
                </a:lnTo>
                <a:lnTo>
                  <a:pt x="43165" y="182447"/>
                </a:lnTo>
                <a:lnTo>
                  <a:pt x="35548" y="186263"/>
                </a:lnTo>
                <a:lnTo>
                  <a:pt x="27930" y="187535"/>
                </a:lnTo>
                <a:lnTo>
                  <a:pt x="22217" y="189443"/>
                </a:lnTo>
                <a:lnTo>
                  <a:pt x="15870" y="190715"/>
                </a:lnTo>
                <a:lnTo>
                  <a:pt x="11426" y="190715"/>
                </a:lnTo>
                <a:lnTo>
                  <a:pt x="7618" y="190715"/>
                </a:lnTo>
                <a:lnTo>
                  <a:pt x="5079" y="189443"/>
                </a:lnTo>
                <a:lnTo>
                  <a:pt x="2539" y="188171"/>
                </a:lnTo>
                <a:lnTo>
                  <a:pt x="1270" y="187535"/>
                </a:lnTo>
                <a:lnTo>
                  <a:pt x="0" y="184991"/>
                </a:lnTo>
                <a:lnTo>
                  <a:pt x="0" y="182447"/>
                </a:lnTo>
                <a:lnTo>
                  <a:pt x="1270" y="179903"/>
                </a:lnTo>
                <a:lnTo>
                  <a:pt x="2539" y="176087"/>
                </a:lnTo>
                <a:lnTo>
                  <a:pt x="3809" y="172271"/>
                </a:lnTo>
                <a:lnTo>
                  <a:pt x="6348" y="167819"/>
                </a:lnTo>
                <a:lnTo>
                  <a:pt x="8887" y="162731"/>
                </a:lnTo>
                <a:lnTo>
                  <a:pt x="11426" y="157643"/>
                </a:lnTo>
                <a:lnTo>
                  <a:pt x="14600" y="153191"/>
                </a:lnTo>
                <a:lnTo>
                  <a:pt x="19678" y="146831"/>
                </a:lnTo>
                <a:lnTo>
                  <a:pt x="24757" y="139835"/>
                </a:lnTo>
                <a:lnTo>
                  <a:pt x="29200" y="132203"/>
                </a:lnTo>
                <a:lnTo>
                  <a:pt x="35548" y="124570"/>
                </a:lnTo>
                <a:lnTo>
                  <a:pt x="41895" y="117574"/>
                </a:lnTo>
                <a:lnTo>
                  <a:pt x="48878" y="108670"/>
                </a:lnTo>
                <a:lnTo>
                  <a:pt x="56495" y="100402"/>
                </a:lnTo>
                <a:lnTo>
                  <a:pt x="63478" y="92134"/>
                </a:lnTo>
                <a:lnTo>
                  <a:pt x="71095" y="83230"/>
                </a:lnTo>
                <a:lnTo>
                  <a:pt x="76808" y="75598"/>
                </a:lnTo>
                <a:lnTo>
                  <a:pt x="83156" y="68602"/>
                </a:lnTo>
                <a:lnTo>
                  <a:pt x="88234" y="60970"/>
                </a:lnTo>
                <a:lnTo>
                  <a:pt x="91408" y="53974"/>
                </a:lnTo>
                <a:lnTo>
                  <a:pt x="95217" y="47614"/>
                </a:lnTo>
                <a:lnTo>
                  <a:pt x="99025" y="43162"/>
                </a:lnTo>
                <a:lnTo>
                  <a:pt x="100295" y="36802"/>
                </a:lnTo>
                <a:lnTo>
                  <a:pt x="102834" y="31714"/>
                </a:lnTo>
                <a:lnTo>
                  <a:pt x="102834" y="27262"/>
                </a:lnTo>
                <a:lnTo>
                  <a:pt x="102834" y="23446"/>
                </a:lnTo>
                <a:lnTo>
                  <a:pt x="102834" y="20589"/>
                </a:lnTo>
                <a:lnTo>
                  <a:pt x="192051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任意多边形: 形状 33"/>
          <p:cNvSpPr/>
          <p:nvPr/>
        </p:nvSpPr>
        <p:spPr>
          <a:xfrm>
            <a:off x="6337440" y="1219320"/>
            <a:ext cx="1223640" cy="252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252000"/>
              <a:gd name="textAreaBottom" fmla="*/ 252360 h 252000"/>
            </a:gdLst>
            <a:ahLst/>
            <a:rect l="textAreaLeft" t="textAreaTop" r="textAreaRight" b="textAreaBottom"/>
            <a:pathLst>
              <a:path w="1223541" h="253130">
                <a:moveTo>
                  <a:pt x="1006117" y="0"/>
                </a:moveTo>
                <a:lnTo>
                  <a:pt x="1011830" y="0"/>
                </a:lnTo>
                <a:lnTo>
                  <a:pt x="1015639" y="0"/>
                </a:lnTo>
                <a:lnTo>
                  <a:pt x="1019447" y="1272"/>
                </a:lnTo>
                <a:lnTo>
                  <a:pt x="1023891" y="2544"/>
                </a:lnTo>
                <a:lnTo>
                  <a:pt x="1028969" y="4452"/>
                </a:lnTo>
                <a:lnTo>
                  <a:pt x="1035317" y="8268"/>
                </a:lnTo>
                <a:lnTo>
                  <a:pt x="1042299" y="12084"/>
                </a:lnTo>
                <a:lnTo>
                  <a:pt x="1049917" y="15900"/>
                </a:lnTo>
                <a:lnTo>
                  <a:pt x="1058169" y="20352"/>
                </a:lnTo>
                <a:lnTo>
                  <a:pt x="1067055" y="26712"/>
                </a:lnTo>
                <a:lnTo>
                  <a:pt x="1076577" y="33072"/>
                </a:lnTo>
                <a:lnTo>
                  <a:pt x="1087368" y="38796"/>
                </a:lnTo>
                <a:lnTo>
                  <a:pt x="1098794" y="46428"/>
                </a:lnTo>
                <a:lnTo>
                  <a:pt x="1109585" y="54697"/>
                </a:lnTo>
                <a:lnTo>
                  <a:pt x="1122916" y="63601"/>
                </a:lnTo>
                <a:lnTo>
                  <a:pt x="1136246" y="73141"/>
                </a:lnTo>
                <a:lnTo>
                  <a:pt x="1149576" y="83317"/>
                </a:lnTo>
                <a:lnTo>
                  <a:pt x="1163541" y="92857"/>
                </a:lnTo>
                <a:lnTo>
                  <a:pt x="1176871" y="102397"/>
                </a:lnTo>
                <a:lnTo>
                  <a:pt x="1188932" y="112573"/>
                </a:lnTo>
                <a:lnTo>
                  <a:pt x="1199723" y="120841"/>
                </a:lnTo>
                <a:lnTo>
                  <a:pt x="1211149" y="129745"/>
                </a:lnTo>
                <a:lnTo>
                  <a:pt x="1219401" y="138013"/>
                </a:lnTo>
                <a:lnTo>
                  <a:pt x="1223541" y="141569"/>
                </a:lnTo>
                <a:lnTo>
                  <a:pt x="1107395" y="136828"/>
                </a:lnTo>
                <a:lnTo>
                  <a:pt x="1018178" y="157417"/>
                </a:lnTo>
                <a:lnTo>
                  <a:pt x="1018178" y="156458"/>
                </a:lnTo>
                <a:lnTo>
                  <a:pt x="1016908" y="152641"/>
                </a:lnTo>
                <a:lnTo>
                  <a:pt x="1014369" y="148825"/>
                </a:lnTo>
                <a:lnTo>
                  <a:pt x="1011830" y="146917"/>
                </a:lnTo>
                <a:lnTo>
                  <a:pt x="1008021" y="144373"/>
                </a:lnTo>
                <a:lnTo>
                  <a:pt x="1006117" y="141829"/>
                </a:lnTo>
                <a:lnTo>
                  <a:pt x="1001039" y="139285"/>
                </a:lnTo>
                <a:lnTo>
                  <a:pt x="997230" y="138013"/>
                </a:lnTo>
                <a:lnTo>
                  <a:pt x="992152" y="135469"/>
                </a:lnTo>
                <a:lnTo>
                  <a:pt x="987709" y="134197"/>
                </a:lnTo>
                <a:lnTo>
                  <a:pt x="981361" y="132925"/>
                </a:lnTo>
                <a:lnTo>
                  <a:pt x="976283" y="132289"/>
                </a:lnTo>
                <a:lnTo>
                  <a:pt x="970570" y="131017"/>
                </a:lnTo>
                <a:lnTo>
                  <a:pt x="962952" y="129745"/>
                </a:lnTo>
                <a:lnTo>
                  <a:pt x="957239" y="129745"/>
                </a:lnTo>
                <a:lnTo>
                  <a:pt x="949622" y="128473"/>
                </a:lnTo>
                <a:lnTo>
                  <a:pt x="942640" y="128473"/>
                </a:lnTo>
                <a:lnTo>
                  <a:pt x="933753" y="127201"/>
                </a:lnTo>
                <a:lnTo>
                  <a:pt x="925501" y="127201"/>
                </a:lnTo>
                <a:lnTo>
                  <a:pt x="916614" y="127201"/>
                </a:lnTo>
                <a:lnTo>
                  <a:pt x="911536" y="127201"/>
                </a:lnTo>
                <a:lnTo>
                  <a:pt x="907092" y="127201"/>
                </a:lnTo>
                <a:lnTo>
                  <a:pt x="900745" y="127201"/>
                </a:lnTo>
                <a:lnTo>
                  <a:pt x="895032" y="128473"/>
                </a:lnTo>
                <a:lnTo>
                  <a:pt x="887414" y="128473"/>
                </a:lnTo>
                <a:lnTo>
                  <a:pt x="879797" y="129745"/>
                </a:lnTo>
                <a:lnTo>
                  <a:pt x="871545" y="129745"/>
                </a:lnTo>
                <a:lnTo>
                  <a:pt x="863293" y="131017"/>
                </a:lnTo>
                <a:lnTo>
                  <a:pt x="853137" y="132289"/>
                </a:lnTo>
                <a:lnTo>
                  <a:pt x="843615" y="132925"/>
                </a:lnTo>
                <a:lnTo>
                  <a:pt x="832189" y="134197"/>
                </a:lnTo>
                <a:lnTo>
                  <a:pt x="821398" y="135469"/>
                </a:lnTo>
                <a:lnTo>
                  <a:pt x="809337" y="136741"/>
                </a:lnTo>
                <a:lnTo>
                  <a:pt x="797276" y="139285"/>
                </a:lnTo>
                <a:lnTo>
                  <a:pt x="785216" y="140557"/>
                </a:lnTo>
                <a:lnTo>
                  <a:pt x="771251" y="143101"/>
                </a:lnTo>
                <a:lnTo>
                  <a:pt x="756651" y="144373"/>
                </a:lnTo>
                <a:lnTo>
                  <a:pt x="742051" y="146917"/>
                </a:lnTo>
                <a:lnTo>
                  <a:pt x="727451" y="148825"/>
                </a:lnTo>
                <a:lnTo>
                  <a:pt x="711582" y="151369"/>
                </a:lnTo>
                <a:lnTo>
                  <a:pt x="695713" y="153913"/>
                </a:lnTo>
                <a:lnTo>
                  <a:pt x="678574" y="156458"/>
                </a:lnTo>
                <a:lnTo>
                  <a:pt x="661435" y="159002"/>
                </a:lnTo>
                <a:lnTo>
                  <a:pt x="643026" y="162818"/>
                </a:lnTo>
                <a:lnTo>
                  <a:pt x="625253" y="164726"/>
                </a:lnTo>
                <a:lnTo>
                  <a:pt x="605575" y="168542"/>
                </a:lnTo>
                <a:lnTo>
                  <a:pt x="585897" y="171086"/>
                </a:lnTo>
                <a:lnTo>
                  <a:pt x="564949" y="174902"/>
                </a:lnTo>
                <a:lnTo>
                  <a:pt x="544636" y="178718"/>
                </a:lnTo>
                <a:lnTo>
                  <a:pt x="523689" y="181898"/>
                </a:lnTo>
                <a:lnTo>
                  <a:pt x="501472" y="185714"/>
                </a:lnTo>
                <a:lnTo>
                  <a:pt x="478620" y="189530"/>
                </a:lnTo>
                <a:lnTo>
                  <a:pt x="455133" y="193346"/>
                </a:lnTo>
                <a:lnTo>
                  <a:pt x="433551" y="196526"/>
                </a:lnTo>
                <a:lnTo>
                  <a:pt x="411334" y="200342"/>
                </a:lnTo>
                <a:lnTo>
                  <a:pt x="390386" y="204158"/>
                </a:lnTo>
                <a:lnTo>
                  <a:pt x="370073" y="207974"/>
                </a:lnTo>
                <a:lnTo>
                  <a:pt x="349126" y="211790"/>
                </a:lnTo>
                <a:lnTo>
                  <a:pt x="329448" y="213698"/>
                </a:lnTo>
                <a:lnTo>
                  <a:pt x="309770" y="217514"/>
                </a:lnTo>
                <a:lnTo>
                  <a:pt x="291996" y="220058"/>
                </a:lnTo>
                <a:lnTo>
                  <a:pt x="273588" y="223874"/>
                </a:lnTo>
                <a:lnTo>
                  <a:pt x="256449" y="226418"/>
                </a:lnTo>
                <a:lnTo>
                  <a:pt x="238040" y="228962"/>
                </a:lnTo>
                <a:lnTo>
                  <a:pt x="222171" y="230870"/>
                </a:lnTo>
                <a:lnTo>
                  <a:pt x="205032" y="233414"/>
                </a:lnTo>
                <a:lnTo>
                  <a:pt x="190432" y="234686"/>
                </a:lnTo>
                <a:lnTo>
                  <a:pt x="174563" y="237230"/>
                </a:lnTo>
                <a:lnTo>
                  <a:pt x="159963" y="239774"/>
                </a:lnTo>
                <a:lnTo>
                  <a:pt x="145363" y="241046"/>
                </a:lnTo>
                <a:lnTo>
                  <a:pt x="132033" y="243590"/>
                </a:lnTo>
                <a:lnTo>
                  <a:pt x="118703" y="244862"/>
                </a:lnTo>
                <a:lnTo>
                  <a:pt x="106007" y="245498"/>
                </a:lnTo>
                <a:lnTo>
                  <a:pt x="93947" y="246770"/>
                </a:lnTo>
                <a:lnTo>
                  <a:pt x="81886" y="248042"/>
                </a:lnTo>
                <a:lnTo>
                  <a:pt x="71095" y="249314"/>
                </a:lnTo>
                <a:lnTo>
                  <a:pt x="60938" y="250586"/>
                </a:lnTo>
                <a:lnTo>
                  <a:pt x="50147" y="250586"/>
                </a:lnTo>
                <a:lnTo>
                  <a:pt x="39991" y="251858"/>
                </a:lnTo>
                <a:lnTo>
                  <a:pt x="31739" y="251858"/>
                </a:lnTo>
                <a:lnTo>
                  <a:pt x="23487" y="253130"/>
                </a:lnTo>
                <a:lnTo>
                  <a:pt x="14600" y="253130"/>
                </a:lnTo>
                <a:lnTo>
                  <a:pt x="7617" y="253130"/>
                </a:lnTo>
                <a:lnTo>
                  <a:pt x="0" y="253130"/>
                </a:lnTo>
                <a:lnTo>
                  <a:pt x="0" y="189530"/>
                </a:lnTo>
                <a:lnTo>
                  <a:pt x="5078" y="189530"/>
                </a:lnTo>
                <a:lnTo>
                  <a:pt x="10791" y="189530"/>
                </a:lnTo>
                <a:lnTo>
                  <a:pt x="17139" y="188258"/>
                </a:lnTo>
                <a:lnTo>
                  <a:pt x="24122" y="188258"/>
                </a:lnTo>
                <a:lnTo>
                  <a:pt x="33008" y="188258"/>
                </a:lnTo>
                <a:lnTo>
                  <a:pt x="41260" y="186986"/>
                </a:lnTo>
                <a:lnTo>
                  <a:pt x="51417" y="185714"/>
                </a:lnTo>
                <a:lnTo>
                  <a:pt x="60938" y="184442"/>
                </a:lnTo>
                <a:lnTo>
                  <a:pt x="71730" y="183170"/>
                </a:lnTo>
                <a:lnTo>
                  <a:pt x="83156" y="181898"/>
                </a:lnTo>
                <a:lnTo>
                  <a:pt x="95216" y="180626"/>
                </a:lnTo>
                <a:lnTo>
                  <a:pt x="108546" y="178718"/>
                </a:lnTo>
                <a:lnTo>
                  <a:pt x="121877" y="177446"/>
                </a:lnTo>
                <a:lnTo>
                  <a:pt x="135207" y="174902"/>
                </a:lnTo>
                <a:lnTo>
                  <a:pt x="150442" y="172358"/>
                </a:lnTo>
                <a:lnTo>
                  <a:pt x="166311" y="169814"/>
                </a:lnTo>
                <a:lnTo>
                  <a:pt x="182180" y="167270"/>
                </a:lnTo>
                <a:lnTo>
                  <a:pt x="198684" y="164726"/>
                </a:lnTo>
                <a:lnTo>
                  <a:pt x="215823" y="162818"/>
                </a:lnTo>
                <a:lnTo>
                  <a:pt x="232962" y="159002"/>
                </a:lnTo>
                <a:lnTo>
                  <a:pt x="251371" y="156458"/>
                </a:lnTo>
                <a:lnTo>
                  <a:pt x="269779" y="152641"/>
                </a:lnTo>
                <a:lnTo>
                  <a:pt x="288188" y="150097"/>
                </a:lnTo>
                <a:lnTo>
                  <a:pt x="307866" y="146917"/>
                </a:lnTo>
                <a:lnTo>
                  <a:pt x="328178" y="144373"/>
                </a:lnTo>
                <a:lnTo>
                  <a:pt x="349126" y="140557"/>
                </a:lnTo>
                <a:lnTo>
                  <a:pt x="370073" y="136741"/>
                </a:lnTo>
                <a:lnTo>
                  <a:pt x="390386" y="132925"/>
                </a:lnTo>
                <a:lnTo>
                  <a:pt x="412603" y="129745"/>
                </a:lnTo>
                <a:lnTo>
                  <a:pt x="436090" y="125929"/>
                </a:lnTo>
                <a:lnTo>
                  <a:pt x="458942" y="122113"/>
                </a:lnTo>
                <a:lnTo>
                  <a:pt x="482428" y="118297"/>
                </a:lnTo>
                <a:lnTo>
                  <a:pt x="505280" y="115117"/>
                </a:lnTo>
                <a:lnTo>
                  <a:pt x="528767" y="111301"/>
                </a:lnTo>
                <a:lnTo>
                  <a:pt x="551619" y="107485"/>
                </a:lnTo>
                <a:lnTo>
                  <a:pt x="573836" y="103669"/>
                </a:lnTo>
                <a:lnTo>
                  <a:pt x="595418" y="99853"/>
                </a:lnTo>
                <a:lnTo>
                  <a:pt x="616366" y="96673"/>
                </a:lnTo>
                <a:lnTo>
                  <a:pt x="638583" y="92857"/>
                </a:lnTo>
                <a:lnTo>
                  <a:pt x="658896" y="90313"/>
                </a:lnTo>
                <a:lnTo>
                  <a:pt x="678574" y="86497"/>
                </a:lnTo>
                <a:lnTo>
                  <a:pt x="699521" y="83953"/>
                </a:lnTo>
                <a:lnTo>
                  <a:pt x="719199" y="80773"/>
                </a:lnTo>
                <a:lnTo>
                  <a:pt x="737608" y="78229"/>
                </a:lnTo>
                <a:lnTo>
                  <a:pt x="756651" y="75685"/>
                </a:lnTo>
                <a:lnTo>
                  <a:pt x="775059" y="71869"/>
                </a:lnTo>
                <a:lnTo>
                  <a:pt x="793468" y="69325"/>
                </a:lnTo>
                <a:lnTo>
                  <a:pt x="810607" y="67417"/>
                </a:lnTo>
                <a:lnTo>
                  <a:pt x="827746" y="64873"/>
                </a:lnTo>
                <a:lnTo>
                  <a:pt x="843615" y="62329"/>
                </a:lnTo>
                <a:lnTo>
                  <a:pt x="858215" y="59785"/>
                </a:lnTo>
                <a:lnTo>
                  <a:pt x="871545" y="57241"/>
                </a:lnTo>
                <a:lnTo>
                  <a:pt x="884875" y="53425"/>
                </a:lnTo>
                <a:lnTo>
                  <a:pt x="896936" y="51517"/>
                </a:lnTo>
                <a:lnTo>
                  <a:pt x="908362" y="48972"/>
                </a:lnTo>
                <a:lnTo>
                  <a:pt x="919153" y="46428"/>
                </a:lnTo>
                <a:lnTo>
                  <a:pt x="927405" y="43884"/>
                </a:lnTo>
                <a:lnTo>
                  <a:pt x="936292" y="40068"/>
                </a:lnTo>
                <a:lnTo>
                  <a:pt x="943274" y="37524"/>
                </a:lnTo>
                <a:lnTo>
                  <a:pt x="950892" y="35616"/>
                </a:lnTo>
                <a:lnTo>
                  <a:pt x="955970" y="31800"/>
                </a:lnTo>
                <a:lnTo>
                  <a:pt x="960413" y="29256"/>
                </a:lnTo>
                <a:lnTo>
                  <a:pt x="965492" y="25440"/>
                </a:lnTo>
                <a:lnTo>
                  <a:pt x="968031" y="22896"/>
                </a:lnTo>
                <a:lnTo>
                  <a:pt x="973109" y="17172"/>
                </a:lnTo>
                <a:lnTo>
                  <a:pt x="977552" y="13356"/>
                </a:lnTo>
                <a:lnTo>
                  <a:pt x="983900" y="8268"/>
                </a:lnTo>
                <a:lnTo>
                  <a:pt x="988978" y="5724"/>
                </a:lnTo>
                <a:lnTo>
                  <a:pt x="994691" y="3816"/>
                </a:lnTo>
                <a:lnTo>
                  <a:pt x="999769" y="1272"/>
                </a:lnTo>
                <a:lnTo>
                  <a:pt x="1006117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3" name="Freeform 5"/>
          <p:cNvSpPr/>
          <p:nvPr/>
        </p:nvSpPr>
        <p:spPr>
          <a:xfrm>
            <a:off x="6021360" y="1954080"/>
            <a:ext cx="1671120" cy="275760"/>
          </a:xfrm>
          <a:custGeom>
            <a:avLst/>
            <a:gdLst>
              <a:gd name="textAreaLeft" fmla="*/ 0 w 1671120"/>
              <a:gd name="textAreaRight" fmla="*/ 1671480 w 16711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2634" h="437">
                <a:moveTo>
                  <a:pt x="2354" y="219"/>
                </a:moveTo>
                <a:lnTo>
                  <a:pt x="2321" y="217"/>
                </a:lnTo>
                <a:lnTo>
                  <a:pt x="2290" y="215"/>
                </a:lnTo>
                <a:lnTo>
                  <a:pt x="2259" y="212"/>
                </a:lnTo>
                <a:lnTo>
                  <a:pt x="2229" y="212"/>
                </a:lnTo>
                <a:lnTo>
                  <a:pt x="2200" y="210"/>
                </a:lnTo>
                <a:lnTo>
                  <a:pt x="2171" y="208"/>
                </a:lnTo>
                <a:lnTo>
                  <a:pt x="2142" y="206"/>
                </a:lnTo>
                <a:lnTo>
                  <a:pt x="2115" y="204"/>
                </a:lnTo>
                <a:lnTo>
                  <a:pt x="2088" y="204"/>
                </a:lnTo>
                <a:lnTo>
                  <a:pt x="2063" y="202"/>
                </a:lnTo>
                <a:lnTo>
                  <a:pt x="2038" y="202"/>
                </a:lnTo>
                <a:lnTo>
                  <a:pt x="2013" y="202"/>
                </a:lnTo>
                <a:lnTo>
                  <a:pt x="1990" y="200"/>
                </a:lnTo>
                <a:lnTo>
                  <a:pt x="1967" y="200"/>
                </a:lnTo>
                <a:lnTo>
                  <a:pt x="1944" y="200"/>
                </a:lnTo>
                <a:lnTo>
                  <a:pt x="1923" y="200"/>
                </a:lnTo>
                <a:lnTo>
                  <a:pt x="1902" y="200"/>
                </a:lnTo>
                <a:lnTo>
                  <a:pt x="1881" y="200"/>
                </a:lnTo>
                <a:lnTo>
                  <a:pt x="1858" y="202"/>
                </a:lnTo>
                <a:lnTo>
                  <a:pt x="1834" y="202"/>
                </a:lnTo>
                <a:lnTo>
                  <a:pt x="1811" y="204"/>
                </a:lnTo>
                <a:lnTo>
                  <a:pt x="1788" y="204"/>
                </a:lnTo>
                <a:lnTo>
                  <a:pt x="1765" y="206"/>
                </a:lnTo>
                <a:lnTo>
                  <a:pt x="1740" y="208"/>
                </a:lnTo>
                <a:lnTo>
                  <a:pt x="1715" y="210"/>
                </a:lnTo>
                <a:lnTo>
                  <a:pt x="1688" y="212"/>
                </a:lnTo>
                <a:lnTo>
                  <a:pt x="1663" y="213"/>
                </a:lnTo>
                <a:lnTo>
                  <a:pt x="1636" y="217"/>
                </a:lnTo>
                <a:lnTo>
                  <a:pt x="1610" y="219"/>
                </a:lnTo>
                <a:lnTo>
                  <a:pt x="1583" y="223"/>
                </a:lnTo>
                <a:lnTo>
                  <a:pt x="1554" y="227"/>
                </a:lnTo>
                <a:lnTo>
                  <a:pt x="1525" y="231"/>
                </a:lnTo>
                <a:lnTo>
                  <a:pt x="1510" y="233"/>
                </a:lnTo>
                <a:lnTo>
                  <a:pt x="1496" y="235"/>
                </a:lnTo>
                <a:lnTo>
                  <a:pt x="1479" y="237"/>
                </a:lnTo>
                <a:lnTo>
                  <a:pt x="1463" y="240"/>
                </a:lnTo>
                <a:lnTo>
                  <a:pt x="1446" y="242"/>
                </a:lnTo>
                <a:lnTo>
                  <a:pt x="1429" y="244"/>
                </a:lnTo>
                <a:lnTo>
                  <a:pt x="1411" y="248"/>
                </a:lnTo>
                <a:lnTo>
                  <a:pt x="1394" y="250"/>
                </a:lnTo>
                <a:lnTo>
                  <a:pt x="1375" y="252"/>
                </a:lnTo>
                <a:lnTo>
                  <a:pt x="1356" y="256"/>
                </a:lnTo>
                <a:lnTo>
                  <a:pt x="1336" y="260"/>
                </a:lnTo>
                <a:lnTo>
                  <a:pt x="1317" y="262"/>
                </a:lnTo>
                <a:lnTo>
                  <a:pt x="1296" y="265"/>
                </a:lnTo>
                <a:lnTo>
                  <a:pt x="1275" y="269"/>
                </a:lnTo>
                <a:lnTo>
                  <a:pt x="1254" y="273"/>
                </a:lnTo>
                <a:lnTo>
                  <a:pt x="1233" y="277"/>
                </a:lnTo>
                <a:lnTo>
                  <a:pt x="1210" y="279"/>
                </a:lnTo>
                <a:lnTo>
                  <a:pt x="1186" y="283"/>
                </a:lnTo>
                <a:lnTo>
                  <a:pt x="1163" y="289"/>
                </a:lnTo>
                <a:lnTo>
                  <a:pt x="1140" y="292"/>
                </a:lnTo>
                <a:lnTo>
                  <a:pt x="1115" y="296"/>
                </a:lnTo>
                <a:lnTo>
                  <a:pt x="1090" y="300"/>
                </a:lnTo>
                <a:lnTo>
                  <a:pt x="1065" y="304"/>
                </a:lnTo>
                <a:lnTo>
                  <a:pt x="1038" y="310"/>
                </a:lnTo>
                <a:lnTo>
                  <a:pt x="1013" y="314"/>
                </a:lnTo>
                <a:lnTo>
                  <a:pt x="986" y="319"/>
                </a:lnTo>
                <a:lnTo>
                  <a:pt x="960" y="323"/>
                </a:lnTo>
                <a:lnTo>
                  <a:pt x="931" y="329"/>
                </a:lnTo>
                <a:lnTo>
                  <a:pt x="904" y="335"/>
                </a:lnTo>
                <a:lnTo>
                  <a:pt x="875" y="339"/>
                </a:lnTo>
                <a:lnTo>
                  <a:pt x="844" y="344"/>
                </a:lnTo>
                <a:lnTo>
                  <a:pt x="815" y="350"/>
                </a:lnTo>
                <a:lnTo>
                  <a:pt x="786" y="356"/>
                </a:lnTo>
                <a:lnTo>
                  <a:pt x="758" y="360"/>
                </a:lnTo>
                <a:lnTo>
                  <a:pt x="729" y="365"/>
                </a:lnTo>
                <a:lnTo>
                  <a:pt x="702" y="371"/>
                </a:lnTo>
                <a:lnTo>
                  <a:pt x="675" y="375"/>
                </a:lnTo>
                <a:lnTo>
                  <a:pt x="650" y="379"/>
                </a:lnTo>
                <a:lnTo>
                  <a:pt x="625" y="385"/>
                </a:lnTo>
                <a:lnTo>
                  <a:pt x="602" y="389"/>
                </a:lnTo>
                <a:lnTo>
                  <a:pt x="579" y="392"/>
                </a:lnTo>
                <a:lnTo>
                  <a:pt x="556" y="396"/>
                </a:lnTo>
                <a:lnTo>
                  <a:pt x="535" y="400"/>
                </a:lnTo>
                <a:lnTo>
                  <a:pt x="513" y="402"/>
                </a:lnTo>
                <a:lnTo>
                  <a:pt x="494" y="406"/>
                </a:lnTo>
                <a:lnTo>
                  <a:pt x="475" y="410"/>
                </a:lnTo>
                <a:lnTo>
                  <a:pt x="456" y="412"/>
                </a:lnTo>
                <a:lnTo>
                  <a:pt x="438" y="415"/>
                </a:lnTo>
                <a:lnTo>
                  <a:pt x="423" y="417"/>
                </a:lnTo>
                <a:lnTo>
                  <a:pt x="406" y="419"/>
                </a:lnTo>
                <a:lnTo>
                  <a:pt x="390" y="423"/>
                </a:lnTo>
                <a:lnTo>
                  <a:pt x="377" y="425"/>
                </a:lnTo>
                <a:lnTo>
                  <a:pt x="363" y="427"/>
                </a:lnTo>
                <a:lnTo>
                  <a:pt x="350" y="429"/>
                </a:lnTo>
                <a:lnTo>
                  <a:pt x="338" y="429"/>
                </a:lnTo>
                <a:lnTo>
                  <a:pt x="327" y="431"/>
                </a:lnTo>
                <a:lnTo>
                  <a:pt x="317" y="433"/>
                </a:lnTo>
                <a:lnTo>
                  <a:pt x="308" y="433"/>
                </a:lnTo>
                <a:lnTo>
                  <a:pt x="298" y="435"/>
                </a:lnTo>
                <a:lnTo>
                  <a:pt x="290" y="435"/>
                </a:lnTo>
                <a:lnTo>
                  <a:pt x="285" y="437"/>
                </a:lnTo>
                <a:lnTo>
                  <a:pt x="277" y="437"/>
                </a:lnTo>
                <a:lnTo>
                  <a:pt x="271" y="437"/>
                </a:lnTo>
                <a:lnTo>
                  <a:pt x="267" y="437"/>
                </a:lnTo>
                <a:lnTo>
                  <a:pt x="250" y="437"/>
                </a:lnTo>
                <a:lnTo>
                  <a:pt x="231" y="433"/>
                </a:lnTo>
                <a:lnTo>
                  <a:pt x="212" y="429"/>
                </a:lnTo>
                <a:lnTo>
                  <a:pt x="190" y="423"/>
                </a:lnTo>
                <a:lnTo>
                  <a:pt x="169" y="417"/>
                </a:lnTo>
                <a:lnTo>
                  <a:pt x="146" y="408"/>
                </a:lnTo>
                <a:lnTo>
                  <a:pt x="123" y="398"/>
                </a:lnTo>
                <a:lnTo>
                  <a:pt x="98" y="387"/>
                </a:lnTo>
                <a:lnTo>
                  <a:pt x="87" y="381"/>
                </a:lnTo>
                <a:lnTo>
                  <a:pt x="75" y="375"/>
                </a:lnTo>
                <a:lnTo>
                  <a:pt x="65" y="369"/>
                </a:lnTo>
                <a:lnTo>
                  <a:pt x="56" y="364"/>
                </a:lnTo>
                <a:lnTo>
                  <a:pt x="46" y="360"/>
                </a:lnTo>
                <a:lnTo>
                  <a:pt x="38" y="354"/>
                </a:lnTo>
                <a:lnTo>
                  <a:pt x="31" y="350"/>
                </a:lnTo>
                <a:lnTo>
                  <a:pt x="25" y="344"/>
                </a:lnTo>
                <a:lnTo>
                  <a:pt x="19" y="340"/>
                </a:lnTo>
                <a:lnTo>
                  <a:pt x="13" y="337"/>
                </a:lnTo>
                <a:lnTo>
                  <a:pt x="10" y="333"/>
                </a:lnTo>
                <a:lnTo>
                  <a:pt x="6" y="329"/>
                </a:lnTo>
                <a:lnTo>
                  <a:pt x="4" y="325"/>
                </a:lnTo>
                <a:lnTo>
                  <a:pt x="2" y="323"/>
                </a:lnTo>
                <a:lnTo>
                  <a:pt x="0" y="319"/>
                </a:lnTo>
                <a:lnTo>
                  <a:pt x="0" y="317"/>
                </a:lnTo>
                <a:lnTo>
                  <a:pt x="0" y="315"/>
                </a:lnTo>
                <a:lnTo>
                  <a:pt x="2" y="314"/>
                </a:lnTo>
                <a:lnTo>
                  <a:pt x="4" y="312"/>
                </a:lnTo>
                <a:lnTo>
                  <a:pt x="6" y="308"/>
                </a:lnTo>
                <a:lnTo>
                  <a:pt x="10" y="306"/>
                </a:lnTo>
                <a:lnTo>
                  <a:pt x="13" y="304"/>
                </a:lnTo>
                <a:lnTo>
                  <a:pt x="19" y="302"/>
                </a:lnTo>
                <a:lnTo>
                  <a:pt x="25" y="300"/>
                </a:lnTo>
                <a:lnTo>
                  <a:pt x="31" y="296"/>
                </a:lnTo>
                <a:lnTo>
                  <a:pt x="38" y="294"/>
                </a:lnTo>
                <a:lnTo>
                  <a:pt x="46" y="292"/>
                </a:lnTo>
                <a:lnTo>
                  <a:pt x="56" y="290"/>
                </a:lnTo>
                <a:lnTo>
                  <a:pt x="65" y="287"/>
                </a:lnTo>
                <a:lnTo>
                  <a:pt x="75" y="285"/>
                </a:lnTo>
                <a:lnTo>
                  <a:pt x="87" y="283"/>
                </a:lnTo>
                <a:lnTo>
                  <a:pt x="98" y="281"/>
                </a:lnTo>
                <a:lnTo>
                  <a:pt x="104" y="279"/>
                </a:lnTo>
                <a:lnTo>
                  <a:pt x="112" y="279"/>
                </a:lnTo>
                <a:lnTo>
                  <a:pt x="119" y="277"/>
                </a:lnTo>
                <a:lnTo>
                  <a:pt x="129" y="275"/>
                </a:lnTo>
                <a:lnTo>
                  <a:pt x="138" y="275"/>
                </a:lnTo>
                <a:lnTo>
                  <a:pt x="148" y="273"/>
                </a:lnTo>
                <a:lnTo>
                  <a:pt x="160" y="271"/>
                </a:lnTo>
                <a:lnTo>
                  <a:pt x="171" y="269"/>
                </a:lnTo>
                <a:lnTo>
                  <a:pt x="183" y="269"/>
                </a:lnTo>
                <a:lnTo>
                  <a:pt x="194" y="267"/>
                </a:lnTo>
                <a:lnTo>
                  <a:pt x="208" y="265"/>
                </a:lnTo>
                <a:lnTo>
                  <a:pt x="223" y="264"/>
                </a:lnTo>
                <a:lnTo>
                  <a:pt x="237" y="262"/>
                </a:lnTo>
                <a:lnTo>
                  <a:pt x="252" y="260"/>
                </a:lnTo>
                <a:lnTo>
                  <a:pt x="269" y="258"/>
                </a:lnTo>
                <a:lnTo>
                  <a:pt x="287" y="256"/>
                </a:lnTo>
                <a:lnTo>
                  <a:pt x="304" y="252"/>
                </a:lnTo>
                <a:lnTo>
                  <a:pt x="321" y="250"/>
                </a:lnTo>
                <a:lnTo>
                  <a:pt x="340" y="248"/>
                </a:lnTo>
                <a:lnTo>
                  <a:pt x="360" y="246"/>
                </a:lnTo>
                <a:lnTo>
                  <a:pt x="379" y="242"/>
                </a:lnTo>
                <a:lnTo>
                  <a:pt x="400" y="240"/>
                </a:lnTo>
                <a:lnTo>
                  <a:pt x="421" y="238"/>
                </a:lnTo>
                <a:lnTo>
                  <a:pt x="444" y="235"/>
                </a:lnTo>
                <a:lnTo>
                  <a:pt x="467" y="233"/>
                </a:lnTo>
                <a:lnTo>
                  <a:pt x="490" y="231"/>
                </a:lnTo>
                <a:lnTo>
                  <a:pt x="515" y="227"/>
                </a:lnTo>
                <a:lnTo>
                  <a:pt x="540" y="223"/>
                </a:lnTo>
                <a:lnTo>
                  <a:pt x="565" y="221"/>
                </a:lnTo>
                <a:lnTo>
                  <a:pt x="592" y="217"/>
                </a:lnTo>
                <a:lnTo>
                  <a:pt x="619" y="215"/>
                </a:lnTo>
                <a:lnTo>
                  <a:pt x="646" y="212"/>
                </a:lnTo>
                <a:lnTo>
                  <a:pt x="702" y="206"/>
                </a:lnTo>
                <a:lnTo>
                  <a:pt x="760" y="198"/>
                </a:lnTo>
                <a:lnTo>
                  <a:pt x="817" y="192"/>
                </a:lnTo>
                <a:lnTo>
                  <a:pt x="875" y="185"/>
                </a:lnTo>
                <a:lnTo>
                  <a:pt x="935" y="177"/>
                </a:lnTo>
                <a:lnTo>
                  <a:pt x="992" y="169"/>
                </a:lnTo>
                <a:lnTo>
                  <a:pt x="1052" y="162"/>
                </a:lnTo>
                <a:lnTo>
                  <a:pt x="1111" y="154"/>
                </a:lnTo>
                <a:lnTo>
                  <a:pt x="1173" y="146"/>
                </a:lnTo>
                <a:lnTo>
                  <a:pt x="1235" y="137"/>
                </a:lnTo>
                <a:lnTo>
                  <a:pt x="1296" y="129"/>
                </a:lnTo>
                <a:lnTo>
                  <a:pt x="1358" y="119"/>
                </a:lnTo>
                <a:lnTo>
                  <a:pt x="1421" y="110"/>
                </a:lnTo>
                <a:lnTo>
                  <a:pt x="1483" y="100"/>
                </a:lnTo>
                <a:lnTo>
                  <a:pt x="1548" y="90"/>
                </a:lnTo>
                <a:lnTo>
                  <a:pt x="1611" y="81"/>
                </a:lnTo>
                <a:lnTo>
                  <a:pt x="1644" y="75"/>
                </a:lnTo>
                <a:lnTo>
                  <a:pt x="1675" y="71"/>
                </a:lnTo>
                <a:lnTo>
                  <a:pt x="1706" y="67"/>
                </a:lnTo>
                <a:lnTo>
                  <a:pt x="1735" y="61"/>
                </a:lnTo>
                <a:lnTo>
                  <a:pt x="1763" y="58"/>
                </a:lnTo>
                <a:lnTo>
                  <a:pt x="1792" y="54"/>
                </a:lnTo>
                <a:lnTo>
                  <a:pt x="1819" y="50"/>
                </a:lnTo>
                <a:lnTo>
                  <a:pt x="1846" y="46"/>
                </a:lnTo>
                <a:lnTo>
                  <a:pt x="1873" y="42"/>
                </a:lnTo>
                <a:lnTo>
                  <a:pt x="1898" y="38"/>
                </a:lnTo>
                <a:lnTo>
                  <a:pt x="1923" y="35"/>
                </a:lnTo>
                <a:lnTo>
                  <a:pt x="1946" y="31"/>
                </a:lnTo>
                <a:lnTo>
                  <a:pt x="1969" y="29"/>
                </a:lnTo>
                <a:lnTo>
                  <a:pt x="1990" y="25"/>
                </a:lnTo>
                <a:lnTo>
                  <a:pt x="2011" y="23"/>
                </a:lnTo>
                <a:lnTo>
                  <a:pt x="2033" y="21"/>
                </a:lnTo>
                <a:lnTo>
                  <a:pt x="2052" y="17"/>
                </a:lnTo>
                <a:lnTo>
                  <a:pt x="2071" y="15"/>
                </a:lnTo>
                <a:lnTo>
                  <a:pt x="2090" y="13"/>
                </a:lnTo>
                <a:lnTo>
                  <a:pt x="2108" y="11"/>
                </a:lnTo>
                <a:lnTo>
                  <a:pt x="2125" y="10"/>
                </a:lnTo>
                <a:lnTo>
                  <a:pt x="2140" y="8"/>
                </a:lnTo>
                <a:lnTo>
                  <a:pt x="2156" y="6"/>
                </a:lnTo>
                <a:lnTo>
                  <a:pt x="2171" y="6"/>
                </a:lnTo>
                <a:lnTo>
                  <a:pt x="2184" y="4"/>
                </a:lnTo>
                <a:lnTo>
                  <a:pt x="2198" y="2"/>
                </a:lnTo>
                <a:lnTo>
                  <a:pt x="2209" y="2"/>
                </a:lnTo>
                <a:lnTo>
                  <a:pt x="2221" y="2"/>
                </a:lnTo>
                <a:lnTo>
                  <a:pt x="2233" y="0"/>
                </a:lnTo>
                <a:lnTo>
                  <a:pt x="2242" y="0"/>
                </a:lnTo>
                <a:lnTo>
                  <a:pt x="2252" y="0"/>
                </a:lnTo>
                <a:lnTo>
                  <a:pt x="2259" y="0"/>
                </a:lnTo>
                <a:lnTo>
                  <a:pt x="2277" y="0"/>
                </a:lnTo>
                <a:lnTo>
                  <a:pt x="2292" y="2"/>
                </a:lnTo>
                <a:lnTo>
                  <a:pt x="2309" y="2"/>
                </a:lnTo>
                <a:lnTo>
                  <a:pt x="2325" y="6"/>
                </a:lnTo>
                <a:lnTo>
                  <a:pt x="2342" y="8"/>
                </a:lnTo>
                <a:lnTo>
                  <a:pt x="2358" y="11"/>
                </a:lnTo>
                <a:lnTo>
                  <a:pt x="2375" y="15"/>
                </a:lnTo>
                <a:lnTo>
                  <a:pt x="2390" y="21"/>
                </a:lnTo>
                <a:lnTo>
                  <a:pt x="2408" y="25"/>
                </a:lnTo>
                <a:lnTo>
                  <a:pt x="2423" y="31"/>
                </a:lnTo>
                <a:lnTo>
                  <a:pt x="2440" y="38"/>
                </a:lnTo>
                <a:lnTo>
                  <a:pt x="2456" y="46"/>
                </a:lnTo>
                <a:lnTo>
                  <a:pt x="2473" y="54"/>
                </a:lnTo>
                <a:lnTo>
                  <a:pt x="2488" y="61"/>
                </a:lnTo>
                <a:lnTo>
                  <a:pt x="2506" y="71"/>
                </a:lnTo>
                <a:lnTo>
                  <a:pt x="2521" y="81"/>
                </a:lnTo>
                <a:lnTo>
                  <a:pt x="2536" y="90"/>
                </a:lnTo>
                <a:lnTo>
                  <a:pt x="2552" y="100"/>
                </a:lnTo>
                <a:lnTo>
                  <a:pt x="2565" y="110"/>
                </a:lnTo>
                <a:lnTo>
                  <a:pt x="2577" y="119"/>
                </a:lnTo>
                <a:lnTo>
                  <a:pt x="2588" y="127"/>
                </a:lnTo>
                <a:lnTo>
                  <a:pt x="2598" y="137"/>
                </a:lnTo>
                <a:lnTo>
                  <a:pt x="2608" y="144"/>
                </a:lnTo>
                <a:lnTo>
                  <a:pt x="2615" y="152"/>
                </a:lnTo>
                <a:lnTo>
                  <a:pt x="2621" y="158"/>
                </a:lnTo>
                <a:lnTo>
                  <a:pt x="2627" y="165"/>
                </a:lnTo>
                <a:lnTo>
                  <a:pt x="2631" y="173"/>
                </a:lnTo>
                <a:lnTo>
                  <a:pt x="2633" y="179"/>
                </a:lnTo>
                <a:lnTo>
                  <a:pt x="2634" y="185"/>
                </a:lnTo>
                <a:lnTo>
                  <a:pt x="2634" y="190"/>
                </a:lnTo>
                <a:lnTo>
                  <a:pt x="2634" y="194"/>
                </a:lnTo>
                <a:lnTo>
                  <a:pt x="2633" y="200"/>
                </a:lnTo>
                <a:lnTo>
                  <a:pt x="2631" y="202"/>
                </a:lnTo>
                <a:lnTo>
                  <a:pt x="2629" y="204"/>
                </a:lnTo>
                <a:lnTo>
                  <a:pt x="2627" y="206"/>
                </a:lnTo>
                <a:lnTo>
                  <a:pt x="2625" y="208"/>
                </a:lnTo>
                <a:lnTo>
                  <a:pt x="2621" y="210"/>
                </a:lnTo>
                <a:lnTo>
                  <a:pt x="2617" y="212"/>
                </a:lnTo>
                <a:lnTo>
                  <a:pt x="2608" y="215"/>
                </a:lnTo>
                <a:lnTo>
                  <a:pt x="2598" y="217"/>
                </a:lnTo>
                <a:lnTo>
                  <a:pt x="2584" y="219"/>
                </a:lnTo>
                <a:lnTo>
                  <a:pt x="2571" y="221"/>
                </a:lnTo>
                <a:lnTo>
                  <a:pt x="2554" y="223"/>
                </a:lnTo>
                <a:lnTo>
                  <a:pt x="2534" y="225"/>
                </a:lnTo>
                <a:lnTo>
                  <a:pt x="2515" y="225"/>
                </a:lnTo>
                <a:lnTo>
                  <a:pt x="2492" y="225"/>
                </a:lnTo>
                <a:lnTo>
                  <a:pt x="2469" y="225"/>
                </a:lnTo>
                <a:lnTo>
                  <a:pt x="2442" y="223"/>
                </a:lnTo>
                <a:lnTo>
                  <a:pt x="2415" y="223"/>
                </a:lnTo>
                <a:lnTo>
                  <a:pt x="2384" y="221"/>
                </a:lnTo>
                <a:lnTo>
                  <a:pt x="2354" y="219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4" name="Freeform 6"/>
          <p:cNvSpPr/>
          <p:nvPr/>
        </p:nvSpPr>
        <p:spPr>
          <a:xfrm>
            <a:off x="6178680" y="1303200"/>
            <a:ext cx="198000" cy="412560"/>
          </a:xfrm>
          <a:custGeom>
            <a:avLst/>
            <a:gdLst>
              <a:gd name="textAreaLeft" fmla="*/ 0 w 198000"/>
              <a:gd name="textAreaRight" fmla="*/ 198360 w 198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2" h="653">
                <a:moveTo>
                  <a:pt x="125" y="653"/>
                </a:moveTo>
                <a:lnTo>
                  <a:pt x="121" y="653"/>
                </a:lnTo>
                <a:lnTo>
                  <a:pt x="115" y="651"/>
                </a:lnTo>
                <a:lnTo>
                  <a:pt x="112" y="651"/>
                </a:lnTo>
                <a:lnTo>
                  <a:pt x="106" y="649"/>
                </a:lnTo>
                <a:lnTo>
                  <a:pt x="102" y="645"/>
                </a:lnTo>
                <a:lnTo>
                  <a:pt x="96" y="643"/>
                </a:lnTo>
                <a:lnTo>
                  <a:pt x="90" y="639"/>
                </a:lnTo>
                <a:lnTo>
                  <a:pt x="87" y="633"/>
                </a:lnTo>
                <a:lnTo>
                  <a:pt x="81" y="630"/>
                </a:lnTo>
                <a:lnTo>
                  <a:pt x="75" y="624"/>
                </a:lnTo>
                <a:lnTo>
                  <a:pt x="71" y="618"/>
                </a:lnTo>
                <a:lnTo>
                  <a:pt x="65" y="610"/>
                </a:lnTo>
                <a:lnTo>
                  <a:pt x="60" y="603"/>
                </a:lnTo>
                <a:lnTo>
                  <a:pt x="56" y="595"/>
                </a:lnTo>
                <a:lnTo>
                  <a:pt x="50" y="587"/>
                </a:lnTo>
                <a:lnTo>
                  <a:pt x="44" y="578"/>
                </a:lnTo>
                <a:lnTo>
                  <a:pt x="35" y="560"/>
                </a:lnTo>
                <a:lnTo>
                  <a:pt x="25" y="543"/>
                </a:lnTo>
                <a:lnTo>
                  <a:pt x="17" y="528"/>
                </a:lnTo>
                <a:lnTo>
                  <a:pt x="12" y="512"/>
                </a:lnTo>
                <a:lnTo>
                  <a:pt x="6" y="499"/>
                </a:lnTo>
                <a:lnTo>
                  <a:pt x="4" y="487"/>
                </a:lnTo>
                <a:lnTo>
                  <a:pt x="0" y="476"/>
                </a:lnTo>
                <a:lnTo>
                  <a:pt x="0" y="466"/>
                </a:lnTo>
                <a:lnTo>
                  <a:pt x="0" y="462"/>
                </a:lnTo>
                <a:lnTo>
                  <a:pt x="2" y="456"/>
                </a:lnTo>
                <a:lnTo>
                  <a:pt x="2" y="451"/>
                </a:lnTo>
                <a:lnTo>
                  <a:pt x="4" y="447"/>
                </a:lnTo>
                <a:lnTo>
                  <a:pt x="6" y="441"/>
                </a:lnTo>
                <a:lnTo>
                  <a:pt x="10" y="435"/>
                </a:lnTo>
                <a:lnTo>
                  <a:pt x="12" y="430"/>
                </a:lnTo>
                <a:lnTo>
                  <a:pt x="15" y="424"/>
                </a:lnTo>
                <a:lnTo>
                  <a:pt x="19" y="418"/>
                </a:lnTo>
                <a:lnTo>
                  <a:pt x="25" y="412"/>
                </a:lnTo>
                <a:lnTo>
                  <a:pt x="31" y="406"/>
                </a:lnTo>
                <a:lnTo>
                  <a:pt x="37" y="399"/>
                </a:lnTo>
                <a:lnTo>
                  <a:pt x="42" y="393"/>
                </a:lnTo>
                <a:lnTo>
                  <a:pt x="48" y="385"/>
                </a:lnTo>
                <a:lnTo>
                  <a:pt x="56" y="379"/>
                </a:lnTo>
                <a:lnTo>
                  <a:pt x="64" y="372"/>
                </a:lnTo>
                <a:lnTo>
                  <a:pt x="71" y="364"/>
                </a:lnTo>
                <a:lnTo>
                  <a:pt x="79" y="356"/>
                </a:lnTo>
                <a:lnTo>
                  <a:pt x="85" y="349"/>
                </a:lnTo>
                <a:lnTo>
                  <a:pt x="92" y="339"/>
                </a:lnTo>
                <a:lnTo>
                  <a:pt x="98" y="328"/>
                </a:lnTo>
                <a:lnTo>
                  <a:pt x="104" y="318"/>
                </a:lnTo>
                <a:lnTo>
                  <a:pt x="110" y="304"/>
                </a:lnTo>
                <a:lnTo>
                  <a:pt x="115" y="293"/>
                </a:lnTo>
                <a:lnTo>
                  <a:pt x="121" y="279"/>
                </a:lnTo>
                <a:lnTo>
                  <a:pt x="125" y="266"/>
                </a:lnTo>
                <a:lnTo>
                  <a:pt x="131" y="251"/>
                </a:lnTo>
                <a:lnTo>
                  <a:pt x="135" y="235"/>
                </a:lnTo>
                <a:lnTo>
                  <a:pt x="139" y="220"/>
                </a:lnTo>
                <a:lnTo>
                  <a:pt x="142" y="202"/>
                </a:lnTo>
                <a:lnTo>
                  <a:pt x="146" y="185"/>
                </a:lnTo>
                <a:lnTo>
                  <a:pt x="150" y="166"/>
                </a:lnTo>
                <a:lnTo>
                  <a:pt x="154" y="149"/>
                </a:lnTo>
                <a:lnTo>
                  <a:pt x="156" y="131"/>
                </a:lnTo>
                <a:lnTo>
                  <a:pt x="160" y="116"/>
                </a:lnTo>
                <a:lnTo>
                  <a:pt x="162" y="101"/>
                </a:lnTo>
                <a:lnTo>
                  <a:pt x="165" y="87"/>
                </a:lnTo>
                <a:lnTo>
                  <a:pt x="167" y="74"/>
                </a:lnTo>
                <a:lnTo>
                  <a:pt x="171" y="62"/>
                </a:lnTo>
                <a:lnTo>
                  <a:pt x="173" y="52"/>
                </a:lnTo>
                <a:lnTo>
                  <a:pt x="177" y="43"/>
                </a:lnTo>
                <a:lnTo>
                  <a:pt x="179" y="33"/>
                </a:lnTo>
                <a:lnTo>
                  <a:pt x="181" y="25"/>
                </a:lnTo>
                <a:lnTo>
                  <a:pt x="185" y="20"/>
                </a:lnTo>
                <a:lnTo>
                  <a:pt x="187" y="14"/>
                </a:lnTo>
                <a:lnTo>
                  <a:pt x="189" y="10"/>
                </a:lnTo>
                <a:lnTo>
                  <a:pt x="192" y="6"/>
                </a:lnTo>
                <a:lnTo>
                  <a:pt x="194" y="4"/>
                </a:lnTo>
                <a:lnTo>
                  <a:pt x="198" y="2"/>
                </a:lnTo>
                <a:lnTo>
                  <a:pt x="204" y="0"/>
                </a:lnTo>
                <a:lnTo>
                  <a:pt x="210" y="2"/>
                </a:lnTo>
                <a:lnTo>
                  <a:pt x="215" y="2"/>
                </a:lnTo>
                <a:lnTo>
                  <a:pt x="221" y="6"/>
                </a:lnTo>
                <a:lnTo>
                  <a:pt x="229" y="10"/>
                </a:lnTo>
                <a:lnTo>
                  <a:pt x="235" y="16"/>
                </a:lnTo>
                <a:lnTo>
                  <a:pt x="242" y="24"/>
                </a:lnTo>
                <a:lnTo>
                  <a:pt x="250" y="31"/>
                </a:lnTo>
                <a:lnTo>
                  <a:pt x="258" y="41"/>
                </a:lnTo>
                <a:lnTo>
                  <a:pt x="263" y="52"/>
                </a:lnTo>
                <a:lnTo>
                  <a:pt x="271" y="64"/>
                </a:lnTo>
                <a:lnTo>
                  <a:pt x="277" y="77"/>
                </a:lnTo>
                <a:lnTo>
                  <a:pt x="283" y="91"/>
                </a:lnTo>
                <a:lnTo>
                  <a:pt x="288" y="106"/>
                </a:lnTo>
                <a:lnTo>
                  <a:pt x="292" y="124"/>
                </a:lnTo>
                <a:lnTo>
                  <a:pt x="296" y="141"/>
                </a:lnTo>
                <a:lnTo>
                  <a:pt x="302" y="158"/>
                </a:lnTo>
                <a:lnTo>
                  <a:pt x="304" y="176"/>
                </a:lnTo>
                <a:lnTo>
                  <a:pt x="308" y="195"/>
                </a:lnTo>
                <a:lnTo>
                  <a:pt x="310" y="212"/>
                </a:lnTo>
                <a:lnTo>
                  <a:pt x="310" y="231"/>
                </a:lnTo>
                <a:lnTo>
                  <a:pt x="312" y="253"/>
                </a:lnTo>
                <a:lnTo>
                  <a:pt x="312" y="272"/>
                </a:lnTo>
                <a:lnTo>
                  <a:pt x="312" y="283"/>
                </a:lnTo>
                <a:lnTo>
                  <a:pt x="310" y="293"/>
                </a:lnTo>
                <a:lnTo>
                  <a:pt x="310" y="304"/>
                </a:lnTo>
                <a:lnTo>
                  <a:pt x="308" y="318"/>
                </a:lnTo>
                <a:lnTo>
                  <a:pt x="304" y="329"/>
                </a:lnTo>
                <a:lnTo>
                  <a:pt x="302" y="343"/>
                </a:lnTo>
                <a:lnTo>
                  <a:pt x="298" y="356"/>
                </a:lnTo>
                <a:lnTo>
                  <a:pt x="292" y="370"/>
                </a:lnTo>
                <a:lnTo>
                  <a:pt x="288" y="385"/>
                </a:lnTo>
                <a:lnTo>
                  <a:pt x="283" y="401"/>
                </a:lnTo>
                <a:lnTo>
                  <a:pt x="277" y="416"/>
                </a:lnTo>
                <a:lnTo>
                  <a:pt x="269" y="431"/>
                </a:lnTo>
                <a:lnTo>
                  <a:pt x="262" y="449"/>
                </a:lnTo>
                <a:lnTo>
                  <a:pt x="254" y="466"/>
                </a:lnTo>
                <a:lnTo>
                  <a:pt x="246" y="483"/>
                </a:lnTo>
                <a:lnTo>
                  <a:pt x="237" y="503"/>
                </a:lnTo>
                <a:lnTo>
                  <a:pt x="227" y="520"/>
                </a:lnTo>
                <a:lnTo>
                  <a:pt x="219" y="537"/>
                </a:lnTo>
                <a:lnTo>
                  <a:pt x="210" y="555"/>
                </a:lnTo>
                <a:lnTo>
                  <a:pt x="202" y="568"/>
                </a:lnTo>
                <a:lnTo>
                  <a:pt x="194" y="582"/>
                </a:lnTo>
                <a:lnTo>
                  <a:pt x="187" y="595"/>
                </a:lnTo>
                <a:lnTo>
                  <a:pt x="179" y="605"/>
                </a:lnTo>
                <a:lnTo>
                  <a:pt x="171" y="616"/>
                </a:lnTo>
                <a:lnTo>
                  <a:pt x="165" y="624"/>
                </a:lnTo>
                <a:lnTo>
                  <a:pt x="158" y="632"/>
                </a:lnTo>
                <a:lnTo>
                  <a:pt x="152" y="637"/>
                </a:lnTo>
                <a:lnTo>
                  <a:pt x="146" y="643"/>
                </a:lnTo>
                <a:lnTo>
                  <a:pt x="140" y="647"/>
                </a:lnTo>
                <a:lnTo>
                  <a:pt x="135" y="651"/>
                </a:lnTo>
                <a:lnTo>
                  <a:pt x="131" y="653"/>
                </a:lnTo>
                <a:lnTo>
                  <a:pt x="125" y="653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Freeform 7"/>
          <p:cNvSpPr/>
          <p:nvPr/>
        </p:nvSpPr>
        <p:spPr>
          <a:xfrm>
            <a:off x="6692760" y="1028880"/>
            <a:ext cx="277560" cy="229680"/>
          </a:xfrm>
          <a:custGeom>
            <a:avLst/>
            <a:gdLst>
              <a:gd name="textAreaLeft" fmla="*/ 0 w 277560"/>
              <a:gd name="textAreaRight" fmla="*/ 277920 w 277560"/>
              <a:gd name="textAreaTop" fmla="*/ 0 h 229680"/>
              <a:gd name="textAreaBottom" fmla="*/ 230040 h 229680"/>
            </a:gdLst>
            <a:ahLst/>
            <a:rect l="textAreaLeft" t="textAreaTop" r="textAreaRight" b="textAreaBottom"/>
            <a:pathLst>
              <a:path w="438" h="361">
                <a:moveTo>
                  <a:pt x="0" y="0"/>
                </a:moveTo>
                <a:lnTo>
                  <a:pt x="32" y="0"/>
                </a:lnTo>
                <a:lnTo>
                  <a:pt x="63" y="2"/>
                </a:lnTo>
                <a:lnTo>
                  <a:pt x="92" y="3"/>
                </a:lnTo>
                <a:lnTo>
                  <a:pt x="121" y="5"/>
                </a:lnTo>
                <a:lnTo>
                  <a:pt x="148" y="7"/>
                </a:lnTo>
                <a:lnTo>
                  <a:pt x="173" y="11"/>
                </a:lnTo>
                <a:lnTo>
                  <a:pt x="196" y="13"/>
                </a:lnTo>
                <a:lnTo>
                  <a:pt x="219" y="17"/>
                </a:lnTo>
                <a:lnTo>
                  <a:pt x="240" y="23"/>
                </a:lnTo>
                <a:lnTo>
                  <a:pt x="261" y="27"/>
                </a:lnTo>
                <a:lnTo>
                  <a:pt x="280" y="32"/>
                </a:lnTo>
                <a:lnTo>
                  <a:pt x="298" y="38"/>
                </a:lnTo>
                <a:lnTo>
                  <a:pt x="313" y="46"/>
                </a:lnTo>
                <a:lnTo>
                  <a:pt x="328" y="53"/>
                </a:lnTo>
                <a:lnTo>
                  <a:pt x="344" y="61"/>
                </a:lnTo>
                <a:lnTo>
                  <a:pt x="355" y="69"/>
                </a:lnTo>
                <a:lnTo>
                  <a:pt x="367" y="78"/>
                </a:lnTo>
                <a:lnTo>
                  <a:pt x="377" y="86"/>
                </a:lnTo>
                <a:lnTo>
                  <a:pt x="386" y="96"/>
                </a:lnTo>
                <a:lnTo>
                  <a:pt x="396" y="105"/>
                </a:lnTo>
                <a:lnTo>
                  <a:pt x="403" y="115"/>
                </a:lnTo>
                <a:lnTo>
                  <a:pt x="409" y="125"/>
                </a:lnTo>
                <a:lnTo>
                  <a:pt x="417" y="134"/>
                </a:lnTo>
                <a:lnTo>
                  <a:pt x="423" y="144"/>
                </a:lnTo>
                <a:lnTo>
                  <a:pt x="427" y="154"/>
                </a:lnTo>
                <a:lnTo>
                  <a:pt x="430" y="165"/>
                </a:lnTo>
                <a:lnTo>
                  <a:pt x="432" y="175"/>
                </a:lnTo>
                <a:lnTo>
                  <a:pt x="436" y="186"/>
                </a:lnTo>
                <a:lnTo>
                  <a:pt x="436" y="196"/>
                </a:lnTo>
                <a:lnTo>
                  <a:pt x="438" y="207"/>
                </a:lnTo>
                <a:lnTo>
                  <a:pt x="438" y="219"/>
                </a:lnTo>
                <a:lnTo>
                  <a:pt x="436" y="230"/>
                </a:lnTo>
                <a:lnTo>
                  <a:pt x="434" y="242"/>
                </a:lnTo>
                <a:lnTo>
                  <a:pt x="432" y="254"/>
                </a:lnTo>
                <a:lnTo>
                  <a:pt x="430" y="263"/>
                </a:lnTo>
                <a:lnTo>
                  <a:pt x="428" y="275"/>
                </a:lnTo>
                <a:lnTo>
                  <a:pt x="427" y="284"/>
                </a:lnTo>
                <a:lnTo>
                  <a:pt x="423" y="292"/>
                </a:lnTo>
                <a:lnTo>
                  <a:pt x="421" y="302"/>
                </a:lnTo>
                <a:lnTo>
                  <a:pt x="417" y="309"/>
                </a:lnTo>
                <a:lnTo>
                  <a:pt x="415" y="317"/>
                </a:lnTo>
                <a:lnTo>
                  <a:pt x="411" y="323"/>
                </a:lnTo>
                <a:lnTo>
                  <a:pt x="407" y="331"/>
                </a:lnTo>
                <a:lnTo>
                  <a:pt x="403" y="336"/>
                </a:lnTo>
                <a:lnTo>
                  <a:pt x="396" y="346"/>
                </a:lnTo>
                <a:lnTo>
                  <a:pt x="386" y="356"/>
                </a:lnTo>
                <a:lnTo>
                  <a:pt x="380" y="359"/>
                </a:lnTo>
                <a:lnTo>
                  <a:pt x="375" y="361"/>
                </a:lnTo>
                <a:lnTo>
                  <a:pt x="367" y="361"/>
                </a:lnTo>
                <a:lnTo>
                  <a:pt x="359" y="359"/>
                </a:lnTo>
                <a:lnTo>
                  <a:pt x="350" y="356"/>
                </a:lnTo>
                <a:lnTo>
                  <a:pt x="338" y="352"/>
                </a:lnTo>
                <a:lnTo>
                  <a:pt x="327" y="346"/>
                </a:lnTo>
                <a:lnTo>
                  <a:pt x="315" y="338"/>
                </a:lnTo>
                <a:lnTo>
                  <a:pt x="300" y="329"/>
                </a:lnTo>
                <a:lnTo>
                  <a:pt x="286" y="319"/>
                </a:lnTo>
                <a:lnTo>
                  <a:pt x="271" y="307"/>
                </a:lnTo>
                <a:lnTo>
                  <a:pt x="253" y="294"/>
                </a:lnTo>
                <a:lnTo>
                  <a:pt x="234" y="279"/>
                </a:lnTo>
                <a:lnTo>
                  <a:pt x="215" y="261"/>
                </a:lnTo>
                <a:lnTo>
                  <a:pt x="196" y="244"/>
                </a:lnTo>
                <a:lnTo>
                  <a:pt x="175" y="225"/>
                </a:lnTo>
                <a:lnTo>
                  <a:pt x="153" y="205"/>
                </a:lnTo>
                <a:lnTo>
                  <a:pt x="134" y="186"/>
                </a:lnTo>
                <a:lnTo>
                  <a:pt x="115" y="167"/>
                </a:lnTo>
                <a:lnTo>
                  <a:pt x="98" y="150"/>
                </a:lnTo>
                <a:lnTo>
                  <a:pt x="82" y="134"/>
                </a:lnTo>
                <a:lnTo>
                  <a:pt x="67" y="117"/>
                </a:lnTo>
                <a:lnTo>
                  <a:pt x="55" y="102"/>
                </a:lnTo>
                <a:lnTo>
                  <a:pt x="44" y="88"/>
                </a:lnTo>
                <a:lnTo>
                  <a:pt x="32" y="75"/>
                </a:lnTo>
                <a:lnTo>
                  <a:pt x="25" y="61"/>
                </a:lnTo>
                <a:lnTo>
                  <a:pt x="17" y="50"/>
                </a:lnTo>
                <a:lnTo>
                  <a:pt x="11" y="38"/>
                </a:lnTo>
                <a:lnTo>
                  <a:pt x="5" y="27"/>
                </a:lnTo>
                <a:lnTo>
                  <a:pt x="2" y="1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3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图片 3" descr=""/>
          <p:cNvPicPr/>
          <p:nvPr/>
        </p:nvPicPr>
        <p:blipFill>
          <a:blip r:embed="rId1"/>
          <a:stretch/>
        </p:blipFill>
        <p:spPr>
          <a:xfrm>
            <a:off x="5894280" y="650880"/>
            <a:ext cx="2277720" cy="22762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: 形状 55"/>
          <p:cNvSpPr/>
          <p:nvPr/>
        </p:nvSpPr>
        <p:spPr>
          <a:xfrm>
            <a:off x="6194520" y="1571760"/>
            <a:ext cx="502920" cy="167760"/>
          </a:xfrm>
          <a:custGeom>
            <a:avLst/>
            <a:gdLst>
              <a:gd name="textAreaLeft" fmla="*/ 0 w 502920"/>
              <a:gd name="textAreaRight" fmla="*/ 503280 w 50292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502973" h="167480">
                <a:moveTo>
                  <a:pt x="184636" y="0"/>
                </a:moveTo>
                <a:lnTo>
                  <a:pt x="184045" y="1772"/>
                </a:lnTo>
                <a:lnTo>
                  <a:pt x="184045" y="3662"/>
                </a:lnTo>
                <a:lnTo>
                  <a:pt x="185306" y="6182"/>
                </a:lnTo>
                <a:lnTo>
                  <a:pt x="186567" y="8703"/>
                </a:lnTo>
                <a:lnTo>
                  <a:pt x="189088" y="11223"/>
                </a:lnTo>
                <a:lnTo>
                  <a:pt x="192239" y="13743"/>
                </a:lnTo>
                <a:lnTo>
                  <a:pt x="196021" y="16264"/>
                </a:lnTo>
                <a:lnTo>
                  <a:pt x="201063" y="17524"/>
                </a:lnTo>
                <a:lnTo>
                  <a:pt x="204728" y="18745"/>
                </a:lnTo>
                <a:lnTo>
                  <a:pt x="206736" y="19414"/>
                </a:lnTo>
                <a:lnTo>
                  <a:pt x="214299" y="21934"/>
                </a:lnTo>
                <a:lnTo>
                  <a:pt x="221233" y="24454"/>
                </a:lnTo>
                <a:lnTo>
                  <a:pt x="228796" y="25715"/>
                </a:lnTo>
                <a:lnTo>
                  <a:pt x="238251" y="28235"/>
                </a:lnTo>
                <a:lnTo>
                  <a:pt x="248335" y="29495"/>
                </a:lnTo>
                <a:lnTo>
                  <a:pt x="257790" y="30755"/>
                </a:lnTo>
                <a:lnTo>
                  <a:pt x="269765" y="33275"/>
                </a:lnTo>
                <a:lnTo>
                  <a:pt x="281110" y="34536"/>
                </a:lnTo>
                <a:lnTo>
                  <a:pt x="294347" y="35166"/>
                </a:lnTo>
                <a:lnTo>
                  <a:pt x="320819" y="37686"/>
                </a:lnTo>
                <a:lnTo>
                  <a:pt x="346031" y="41466"/>
                </a:lnTo>
                <a:lnTo>
                  <a:pt x="373133" y="42726"/>
                </a:lnTo>
                <a:lnTo>
                  <a:pt x="398345" y="45247"/>
                </a:lnTo>
                <a:lnTo>
                  <a:pt x="424817" y="46507"/>
                </a:lnTo>
                <a:lnTo>
                  <a:pt x="450659" y="46507"/>
                </a:lnTo>
                <a:lnTo>
                  <a:pt x="477131" y="47767"/>
                </a:lnTo>
                <a:lnTo>
                  <a:pt x="502973" y="47767"/>
                </a:lnTo>
                <a:lnTo>
                  <a:pt x="502973" y="110774"/>
                </a:lnTo>
                <a:lnTo>
                  <a:pt x="482174" y="110774"/>
                </a:lnTo>
                <a:lnTo>
                  <a:pt x="462635" y="110774"/>
                </a:lnTo>
                <a:lnTo>
                  <a:pt x="443096" y="110774"/>
                </a:lnTo>
                <a:lnTo>
                  <a:pt x="424817" y="112034"/>
                </a:lnTo>
                <a:lnTo>
                  <a:pt x="407169" y="112034"/>
                </a:lnTo>
                <a:lnTo>
                  <a:pt x="388890" y="112034"/>
                </a:lnTo>
                <a:lnTo>
                  <a:pt x="373133" y="113294"/>
                </a:lnTo>
                <a:lnTo>
                  <a:pt x="356115" y="113294"/>
                </a:lnTo>
                <a:lnTo>
                  <a:pt x="340358" y="114554"/>
                </a:lnTo>
                <a:lnTo>
                  <a:pt x="325861" y="115184"/>
                </a:lnTo>
                <a:lnTo>
                  <a:pt x="311364" y="115184"/>
                </a:lnTo>
                <a:lnTo>
                  <a:pt x="296868" y="116445"/>
                </a:lnTo>
                <a:lnTo>
                  <a:pt x="283001" y="117705"/>
                </a:lnTo>
                <a:lnTo>
                  <a:pt x="271026" y="118965"/>
                </a:lnTo>
                <a:lnTo>
                  <a:pt x="259050" y="120225"/>
                </a:lnTo>
                <a:lnTo>
                  <a:pt x="247075" y="121485"/>
                </a:lnTo>
                <a:lnTo>
                  <a:pt x="236360" y="122745"/>
                </a:lnTo>
                <a:lnTo>
                  <a:pt x="225014" y="125265"/>
                </a:lnTo>
                <a:lnTo>
                  <a:pt x="215560" y="126526"/>
                </a:lnTo>
                <a:lnTo>
                  <a:pt x="204845" y="129046"/>
                </a:lnTo>
                <a:lnTo>
                  <a:pt x="196021" y="130306"/>
                </a:lnTo>
                <a:lnTo>
                  <a:pt x="186567" y="132196"/>
                </a:lnTo>
                <a:lnTo>
                  <a:pt x="177743" y="133456"/>
                </a:lnTo>
                <a:lnTo>
                  <a:pt x="170809" y="135977"/>
                </a:lnTo>
                <a:lnTo>
                  <a:pt x="161985" y="138497"/>
                </a:lnTo>
                <a:lnTo>
                  <a:pt x="156313" y="139757"/>
                </a:lnTo>
                <a:lnTo>
                  <a:pt x="148749" y="142277"/>
                </a:lnTo>
                <a:lnTo>
                  <a:pt x="142446" y="144798"/>
                </a:lnTo>
                <a:lnTo>
                  <a:pt x="136774" y="146688"/>
                </a:lnTo>
                <a:lnTo>
                  <a:pt x="130471" y="147948"/>
                </a:lnTo>
                <a:lnTo>
                  <a:pt x="126059" y="150468"/>
                </a:lnTo>
                <a:lnTo>
                  <a:pt x="121016" y="152989"/>
                </a:lnTo>
                <a:lnTo>
                  <a:pt x="112192" y="158029"/>
                </a:lnTo>
                <a:lnTo>
                  <a:pt x="103998" y="161809"/>
                </a:lnTo>
                <a:lnTo>
                  <a:pt x="95174" y="163700"/>
                </a:lnTo>
                <a:lnTo>
                  <a:pt x="88241" y="166220"/>
                </a:lnTo>
                <a:lnTo>
                  <a:pt x="80678" y="167480"/>
                </a:lnTo>
                <a:lnTo>
                  <a:pt x="73744" y="167480"/>
                </a:lnTo>
                <a:lnTo>
                  <a:pt x="66181" y="166220"/>
                </a:lnTo>
                <a:lnTo>
                  <a:pt x="59248" y="164960"/>
                </a:lnTo>
                <a:lnTo>
                  <a:pt x="51684" y="162440"/>
                </a:lnTo>
                <a:lnTo>
                  <a:pt x="46011" y="159289"/>
                </a:lnTo>
                <a:lnTo>
                  <a:pt x="39709" y="155509"/>
                </a:lnTo>
                <a:lnTo>
                  <a:pt x="33406" y="149208"/>
                </a:lnTo>
                <a:lnTo>
                  <a:pt x="28994" y="143537"/>
                </a:lnTo>
                <a:lnTo>
                  <a:pt x="23951" y="135977"/>
                </a:lnTo>
                <a:lnTo>
                  <a:pt x="18909" y="127786"/>
                </a:lnTo>
                <a:lnTo>
                  <a:pt x="15757" y="117705"/>
                </a:lnTo>
                <a:lnTo>
                  <a:pt x="11976" y="108254"/>
                </a:lnTo>
                <a:lnTo>
                  <a:pt x="8194" y="99433"/>
                </a:lnTo>
                <a:lnTo>
                  <a:pt x="5673" y="91242"/>
                </a:lnTo>
                <a:lnTo>
                  <a:pt x="3152" y="82421"/>
                </a:lnTo>
                <a:lnTo>
                  <a:pt x="2624" y="79518"/>
                </a:lnTo>
                <a:lnTo>
                  <a:pt x="1891" y="75490"/>
                </a:lnTo>
                <a:lnTo>
                  <a:pt x="630" y="67929"/>
                </a:lnTo>
                <a:lnTo>
                  <a:pt x="0" y="60998"/>
                </a:lnTo>
                <a:lnTo>
                  <a:pt x="0" y="54698"/>
                </a:lnTo>
                <a:lnTo>
                  <a:pt x="0" y="52177"/>
                </a:lnTo>
                <a:lnTo>
                  <a:pt x="630" y="49027"/>
                </a:lnTo>
                <a:lnTo>
                  <a:pt x="630" y="46507"/>
                </a:lnTo>
                <a:lnTo>
                  <a:pt x="1891" y="43987"/>
                </a:lnTo>
                <a:lnTo>
                  <a:pt x="4412" y="41466"/>
                </a:lnTo>
                <a:lnTo>
                  <a:pt x="6933" y="37686"/>
                </a:lnTo>
                <a:lnTo>
                  <a:pt x="8194" y="35166"/>
                </a:lnTo>
                <a:lnTo>
                  <a:pt x="11976" y="32015"/>
                </a:lnTo>
                <a:lnTo>
                  <a:pt x="14497" y="29495"/>
                </a:lnTo>
                <a:lnTo>
                  <a:pt x="15718" y="28519"/>
                </a:lnTo>
                <a:lnTo>
                  <a:pt x="184636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8" name="任意多边形: 形状 56"/>
          <p:cNvSpPr/>
          <p:nvPr/>
        </p:nvSpPr>
        <p:spPr>
          <a:xfrm>
            <a:off x="6210360" y="961920"/>
            <a:ext cx="526680" cy="637920"/>
          </a:xfrm>
          <a:custGeom>
            <a:avLst/>
            <a:gdLst>
              <a:gd name="textAreaLeft" fmla="*/ 0 w 526680"/>
              <a:gd name="textAreaRight" fmla="*/ 527040 w 5266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525703" h="639174">
                <a:moveTo>
                  <a:pt x="363088" y="0"/>
                </a:moveTo>
                <a:lnTo>
                  <a:pt x="370651" y="0"/>
                </a:lnTo>
                <a:lnTo>
                  <a:pt x="378845" y="1260"/>
                </a:lnTo>
                <a:lnTo>
                  <a:pt x="383887" y="2520"/>
                </a:lnTo>
                <a:lnTo>
                  <a:pt x="388930" y="3780"/>
                </a:lnTo>
                <a:lnTo>
                  <a:pt x="393342" y="5041"/>
                </a:lnTo>
                <a:lnTo>
                  <a:pt x="399645" y="6301"/>
                </a:lnTo>
                <a:lnTo>
                  <a:pt x="405948" y="8191"/>
                </a:lnTo>
                <a:lnTo>
                  <a:pt x="411620" y="10711"/>
                </a:lnTo>
                <a:lnTo>
                  <a:pt x="424226" y="15752"/>
                </a:lnTo>
                <a:lnTo>
                  <a:pt x="436202" y="20792"/>
                </a:lnTo>
                <a:lnTo>
                  <a:pt x="446917" y="26463"/>
                </a:lnTo>
                <a:lnTo>
                  <a:pt x="457632" y="32764"/>
                </a:lnTo>
                <a:lnTo>
                  <a:pt x="467716" y="39064"/>
                </a:lnTo>
                <a:lnTo>
                  <a:pt x="477171" y="45995"/>
                </a:lnTo>
                <a:lnTo>
                  <a:pt x="485995" y="53556"/>
                </a:lnTo>
                <a:lnTo>
                  <a:pt x="494189" y="61747"/>
                </a:lnTo>
                <a:lnTo>
                  <a:pt x="501752" y="69308"/>
                </a:lnTo>
                <a:lnTo>
                  <a:pt x="507425" y="77499"/>
                </a:lnTo>
                <a:lnTo>
                  <a:pt x="513728" y="85059"/>
                </a:lnTo>
                <a:lnTo>
                  <a:pt x="517509" y="93250"/>
                </a:lnTo>
                <a:lnTo>
                  <a:pt x="520661" y="100811"/>
                </a:lnTo>
                <a:lnTo>
                  <a:pt x="523182" y="109002"/>
                </a:lnTo>
                <a:lnTo>
                  <a:pt x="525703" y="116563"/>
                </a:lnTo>
                <a:lnTo>
                  <a:pt x="525703" y="124754"/>
                </a:lnTo>
                <a:lnTo>
                  <a:pt x="525703" y="128534"/>
                </a:lnTo>
                <a:lnTo>
                  <a:pt x="524443" y="133575"/>
                </a:lnTo>
                <a:lnTo>
                  <a:pt x="521921" y="139245"/>
                </a:lnTo>
                <a:lnTo>
                  <a:pt x="520661" y="145546"/>
                </a:lnTo>
                <a:lnTo>
                  <a:pt x="517509" y="151217"/>
                </a:lnTo>
                <a:lnTo>
                  <a:pt x="513728" y="158777"/>
                </a:lnTo>
                <a:lnTo>
                  <a:pt x="508685" y="166338"/>
                </a:lnTo>
                <a:lnTo>
                  <a:pt x="503643" y="174529"/>
                </a:lnTo>
                <a:lnTo>
                  <a:pt x="497970" y="183350"/>
                </a:lnTo>
                <a:lnTo>
                  <a:pt x="491667" y="192801"/>
                </a:lnTo>
                <a:lnTo>
                  <a:pt x="484734" y="203512"/>
                </a:lnTo>
                <a:lnTo>
                  <a:pt x="477171" y="213593"/>
                </a:lnTo>
                <a:lnTo>
                  <a:pt x="468977" y="225565"/>
                </a:lnTo>
                <a:lnTo>
                  <a:pt x="460153" y="236276"/>
                </a:lnTo>
                <a:lnTo>
                  <a:pt x="450698" y="248247"/>
                </a:lnTo>
                <a:lnTo>
                  <a:pt x="439983" y="262109"/>
                </a:lnTo>
                <a:lnTo>
                  <a:pt x="417923" y="288572"/>
                </a:lnTo>
                <a:lnTo>
                  <a:pt x="395863" y="315034"/>
                </a:lnTo>
                <a:lnTo>
                  <a:pt x="351112" y="369850"/>
                </a:lnTo>
                <a:lnTo>
                  <a:pt x="305101" y="425297"/>
                </a:lnTo>
                <a:lnTo>
                  <a:pt x="282410" y="453650"/>
                </a:lnTo>
                <a:lnTo>
                  <a:pt x="259090" y="481373"/>
                </a:lnTo>
                <a:lnTo>
                  <a:pt x="248375" y="495864"/>
                </a:lnTo>
                <a:lnTo>
                  <a:pt x="237029" y="507836"/>
                </a:lnTo>
                <a:lnTo>
                  <a:pt x="227575" y="521067"/>
                </a:lnTo>
                <a:lnTo>
                  <a:pt x="218121" y="532408"/>
                </a:lnTo>
                <a:lnTo>
                  <a:pt x="209296" y="543119"/>
                </a:lnTo>
                <a:lnTo>
                  <a:pt x="202363" y="553831"/>
                </a:lnTo>
                <a:lnTo>
                  <a:pt x="194800" y="563912"/>
                </a:lnTo>
                <a:lnTo>
                  <a:pt x="189127" y="572103"/>
                </a:lnTo>
                <a:lnTo>
                  <a:pt x="184085" y="579663"/>
                </a:lnTo>
                <a:lnTo>
                  <a:pt x="179042" y="586594"/>
                </a:lnTo>
                <a:lnTo>
                  <a:pt x="175261" y="594155"/>
                </a:lnTo>
                <a:lnTo>
                  <a:pt x="173370" y="598565"/>
                </a:lnTo>
                <a:lnTo>
                  <a:pt x="170849" y="604866"/>
                </a:lnTo>
                <a:lnTo>
                  <a:pt x="169588" y="608647"/>
                </a:lnTo>
                <a:lnTo>
                  <a:pt x="168918" y="610655"/>
                </a:lnTo>
                <a:lnTo>
                  <a:pt x="0" y="639174"/>
                </a:lnTo>
                <a:lnTo>
                  <a:pt x="1930" y="637630"/>
                </a:lnTo>
                <a:lnTo>
                  <a:pt x="5712" y="633849"/>
                </a:lnTo>
                <a:lnTo>
                  <a:pt x="10754" y="631329"/>
                </a:lnTo>
                <a:lnTo>
                  <a:pt x="15797" y="628179"/>
                </a:lnTo>
                <a:lnTo>
                  <a:pt x="20209" y="625658"/>
                </a:lnTo>
                <a:lnTo>
                  <a:pt x="25251" y="621878"/>
                </a:lnTo>
                <a:lnTo>
                  <a:pt x="31554" y="619358"/>
                </a:lnTo>
                <a:lnTo>
                  <a:pt x="37227" y="615577"/>
                </a:lnTo>
                <a:lnTo>
                  <a:pt x="44790" y="611167"/>
                </a:lnTo>
                <a:lnTo>
                  <a:pt x="51723" y="604866"/>
                </a:lnTo>
                <a:lnTo>
                  <a:pt x="59287" y="598565"/>
                </a:lnTo>
                <a:lnTo>
                  <a:pt x="67481" y="590375"/>
                </a:lnTo>
                <a:lnTo>
                  <a:pt x="76305" y="581554"/>
                </a:lnTo>
                <a:lnTo>
                  <a:pt x="85759" y="570842"/>
                </a:lnTo>
                <a:lnTo>
                  <a:pt x="95214" y="560131"/>
                </a:lnTo>
                <a:lnTo>
                  <a:pt x="105298" y="546900"/>
                </a:lnTo>
                <a:lnTo>
                  <a:pt x="116013" y="533668"/>
                </a:lnTo>
                <a:lnTo>
                  <a:pt x="126728" y="517917"/>
                </a:lnTo>
                <a:lnTo>
                  <a:pt x="139334" y="502165"/>
                </a:lnTo>
                <a:lnTo>
                  <a:pt x="152570" y="485153"/>
                </a:lnTo>
                <a:lnTo>
                  <a:pt x="164546" y="466881"/>
                </a:lnTo>
                <a:lnTo>
                  <a:pt x="177782" y="447349"/>
                </a:lnTo>
                <a:lnTo>
                  <a:pt x="192279" y="426557"/>
                </a:lnTo>
                <a:lnTo>
                  <a:pt x="205515" y="406394"/>
                </a:lnTo>
                <a:lnTo>
                  <a:pt x="219381" y="385602"/>
                </a:lnTo>
                <a:lnTo>
                  <a:pt x="232617" y="366070"/>
                </a:lnTo>
                <a:lnTo>
                  <a:pt x="244593" y="346538"/>
                </a:lnTo>
                <a:lnTo>
                  <a:pt x="255308" y="328266"/>
                </a:lnTo>
                <a:lnTo>
                  <a:pt x="266653" y="311254"/>
                </a:lnTo>
                <a:lnTo>
                  <a:pt x="277368" y="294872"/>
                </a:lnTo>
                <a:lnTo>
                  <a:pt x="286822" y="277860"/>
                </a:lnTo>
                <a:lnTo>
                  <a:pt x="296907" y="262109"/>
                </a:lnTo>
                <a:lnTo>
                  <a:pt x="305101" y="246357"/>
                </a:lnTo>
                <a:lnTo>
                  <a:pt x="313925" y="231235"/>
                </a:lnTo>
                <a:lnTo>
                  <a:pt x="320858" y="216744"/>
                </a:lnTo>
                <a:lnTo>
                  <a:pt x="328422" y="203512"/>
                </a:lnTo>
                <a:lnTo>
                  <a:pt x="334094" y="191541"/>
                </a:lnTo>
                <a:lnTo>
                  <a:pt x="340397" y="179570"/>
                </a:lnTo>
                <a:lnTo>
                  <a:pt x="345440" y="167598"/>
                </a:lnTo>
                <a:lnTo>
                  <a:pt x="349852" y="156257"/>
                </a:lnTo>
                <a:lnTo>
                  <a:pt x="353633" y="145546"/>
                </a:lnTo>
                <a:lnTo>
                  <a:pt x="358676" y="135465"/>
                </a:lnTo>
                <a:lnTo>
                  <a:pt x="361197" y="126014"/>
                </a:lnTo>
                <a:lnTo>
                  <a:pt x="363088" y="117823"/>
                </a:lnTo>
                <a:lnTo>
                  <a:pt x="365609" y="109002"/>
                </a:lnTo>
                <a:lnTo>
                  <a:pt x="368130" y="100811"/>
                </a:lnTo>
                <a:lnTo>
                  <a:pt x="369391" y="93250"/>
                </a:lnTo>
                <a:lnTo>
                  <a:pt x="369391" y="86319"/>
                </a:lnTo>
                <a:lnTo>
                  <a:pt x="369391" y="78759"/>
                </a:lnTo>
                <a:lnTo>
                  <a:pt x="369391" y="72458"/>
                </a:lnTo>
                <a:lnTo>
                  <a:pt x="369391" y="68047"/>
                </a:lnTo>
                <a:lnTo>
                  <a:pt x="368130" y="61747"/>
                </a:lnTo>
                <a:lnTo>
                  <a:pt x="365609" y="56706"/>
                </a:lnTo>
                <a:lnTo>
                  <a:pt x="363088" y="53556"/>
                </a:lnTo>
                <a:lnTo>
                  <a:pt x="361197" y="49775"/>
                </a:lnTo>
                <a:lnTo>
                  <a:pt x="356155" y="43475"/>
                </a:lnTo>
                <a:lnTo>
                  <a:pt x="351112" y="36544"/>
                </a:lnTo>
                <a:lnTo>
                  <a:pt x="348591" y="30243"/>
                </a:lnTo>
                <a:lnTo>
                  <a:pt x="346070" y="25203"/>
                </a:lnTo>
                <a:lnTo>
                  <a:pt x="345440" y="19532"/>
                </a:lnTo>
                <a:lnTo>
                  <a:pt x="345440" y="14492"/>
                </a:lnTo>
                <a:lnTo>
                  <a:pt x="346070" y="10711"/>
                </a:lnTo>
                <a:lnTo>
                  <a:pt x="348591" y="6301"/>
                </a:lnTo>
                <a:lnTo>
                  <a:pt x="352373" y="2520"/>
                </a:lnTo>
                <a:lnTo>
                  <a:pt x="357415" y="1260"/>
                </a:lnTo>
                <a:lnTo>
                  <a:pt x="363088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9" name="图片 2"/>
          <p:cNvSpPr/>
          <p:nvPr/>
        </p:nvSpPr>
        <p:spPr>
          <a:xfrm>
            <a:off x="3252600" y="1076040"/>
            <a:ext cx="1778040" cy="17780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400">
            <a:solidFill>
              <a:srgbClr val="70ad47">
                <a:lumMod val="60000"/>
                <a:lumOff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8"/>
          <p:cNvSpPr/>
          <p:nvPr/>
        </p:nvSpPr>
        <p:spPr>
          <a:xfrm>
            <a:off x="477720" y="22953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9"/>
          <p:cNvSpPr/>
          <p:nvPr/>
        </p:nvSpPr>
        <p:spPr>
          <a:xfrm>
            <a:off x="477720" y="15429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0"/>
          <p:cNvSpPr/>
          <p:nvPr/>
        </p:nvSpPr>
        <p:spPr>
          <a:xfrm>
            <a:off x="477720" y="3048120"/>
            <a:ext cx="225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1"/>
          <p:cNvSpPr/>
          <p:nvPr/>
        </p:nvSpPr>
        <p:spPr>
          <a:xfrm>
            <a:off x="1727280" y="22953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2"/>
          <p:cNvSpPr/>
          <p:nvPr/>
        </p:nvSpPr>
        <p:spPr>
          <a:xfrm>
            <a:off x="1727280" y="153828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3"/>
          <p:cNvSpPr/>
          <p:nvPr/>
        </p:nvSpPr>
        <p:spPr>
          <a:xfrm>
            <a:off x="2300400" y="3048120"/>
            <a:ext cx="64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纟”的三个笔画要写紧凑；“工”要写得平稳，两横上短下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4"/>
          <p:cNvSpPr/>
          <p:nvPr/>
        </p:nvSpPr>
        <p:spPr>
          <a:xfrm>
            <a:off x="387360" y="78912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ó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5"/>
          <p:cNvSpPr/>
          <p:nvPr/>
        </p:nvSpPr>
        <p:spPr>
          <a:xfrm>
            <a:off x="1616040" y="35100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: 形状 41"/>
          <p:cNvSpPr/>
          <p:nvPr/>
        </p:nvSpPr>
        <p:spPr>
          <a:xfrm>
            <a:off x="6286680" y="1870200"/>
            <a:ext cx="653760" cy="261720"/>
          </a:xfrm>
          <a:custGeom>
            <a:avLst/>
            <a:gdLst>
              <a:gd name="textAreaLeft" fmla="*/ 0 w 653760"/>
              <a:gd name="textAreaRight" fmla="*/ 654120 w 65376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653591" h="262526">
                <a:moveTo>
                  <a:pt x="617077" y="0"/>
                </a:moveTo>
                <a:lnTo>
                  <a:pt x="622113" y="0"/>
                </a:lnTo>
                <a:lnTo>
                  <a:pt x="629038" y="0"/>
                </a:lnTo>
                <a:lnTo>
                  <a:pt x="635334" y="1259"/>
                </a:lnTo>
                <a:lnTo>
                  <a:pt x="641000" y="3777"/>
                </a:lnTo>
                <a:lnTo>
                  <a:pt x="644777" y="6295"/>
                </a:lnTo>
                <a:lnTo>
                  <a:pt x="648555" y="9443"/>
                </a:lnTo>
                <a:lnTo>
                  <a:pt x="651073" y="13221"/>
                </a:lnTo>
                <a:lnTo>
                  <a:pt x="653591" y="18257"/>
                </a:lnTo>
                <a:lnTo>
                  <a:pt x="653591" y="23923"/>
                </a:lnTo>
                <a:lnTo>
                  <a:pt x="653591" y="25182"/>
                </a:lnTo>
                <a:lnTo>
                  <a:pt x="652332" y="27700"/>
                </a:lnTo>
                <a:lnTo>
                  <a:pt x="651073" y="28960"/>
                </a:lnTo>
                <a:lnTo>
                  <a:pt x="649814" y="31478"/>
                </a:lnTo>
                <a:lnTo>
                  <a:pt x="647296" y="32737"/>
                </a:lnTo>
                <a:lnTo>
                  <a:pt x="644777" y="35255"/>
                </a:lnTo>
                <a:lnTo>
                  <a:pt x="641000" y="37773"/>
                </a:lnTo>
                <a:lnTo>
                  <a:pt x="637852" y="39662"/>
                </a:lnTo>
                <a:lnTo>
                  <a:pt x="632816" y="42180"/>
                </a:lnTo>
                <a:lnTo>
                  <a:pt x="627779" y="44699"/>
                </a:lnTo>
                <a:lnTo>
                  <a:pt x="623372" y="47217"/>
                </a:lnTo>
                <a:lnTo>
                  <a:pt x="617077" y="49735"/>
                </a:lnTo>
                <a:lnTo>
                  <a:pt x="610781" y="53512"/>
                </a:lnTo>
                <a:lnTo>
                  <a:pt x="605115" y="55401"/>
                </a:lnTo>
                <a:lnTo>
                  <a:pt x="597560" y="59178"/>
                </a:lnTo>
                <a:lnTo>
                  <a:pt x="589376" y="62956"/>
                </a:lnTo>
                <a:lnTo>
                  <a:pt x="581821" y="65474"/>
                </a:lnTo>
                <a:lnTo>
                  <a:pt x="572378" y="69251"/>
                </a:lnTo>
                <a:lnTo>
                  <a:pt x="563564" y="72399"/>
                </a:lnTo>
                <a:lnTo>
                  <a:pt x="554121" y="76177"/>
                </a:lnTo>
                <a:lnTo>
                  <a:pt x="543418" y="79954"/>
                </a:lnTo>
                <a:lnTo>
                  <a:pt x="532086" y="84990"/>
                </a:lnTo>
                <a:lnTo>
                  <a:pt x="521384" y="88138"/>
                </a:lnTo>
                <a:lnTo>
                  <a:pt x="509422" y="91916"/>
                </a:lnTo>
                <a:lnTo>
                  <a:pt x="497460" y="96952"/>
                </a:lnTo>
                <a:lnTo>
                  <a:pt x="484869" y="100729"/>
                </a:lnTo>
                <a:lnTo>
                  <a:pt x="471649" y="105136"/>
                </a:lnTo>
                <a:lnTo>
                  <a:pt x="458428" y="110173"/>
                </a:lnTo>
                <a:lnTo>
                  <a:pt x="443948" y="115209"/>
                </a:lnTo>
                <a:lnTo>
                  <a:pt x="429468" y="119616"/>
                </a:lnTo>
                <a:lnTo>
                  <a:pt x="413729" y="124653"/>
                </a:lnTo>
                <a:lnTo>
                  <a:pt x="397990" y="129689"/>
                </a:lnTo>
                <a:lnTo>
                  <a:pt x="382251" y="134096"/>
                </a:lnTo>
                <a:lnTo>
                  <a:pt x="366512" y="139132"/>
                </a:lnTo>
                <a:lnTo>
                  <a:pt x="352032" y="144169"/>
                </a:lnTo>
                <a:lnTo>
                  <a:pt x="337552" y="149205"/>
                </a:lnTo>
                <a:lnTo>
                  <a:pt x="324332" y="153612"/>
                </a:lnTo>
                <a:lnTo>
                  <a:pt x="309222" y="158649"/>
                </a:lnTo>
                <a:lnTo>
                  <a:pt x="296001" y="163685"/>
                </a:lnTo>
                <a:lnTo>
                  <a:pt x="284040" y="166833"/>
                </a:lnTo>
                <a:lnTo>
                  <a:pt x="270819" y="171870"/>
                </a:lnTo>
                <a:lnTo>
                  <a:pt x="258857" y="175647"/>
                </a:lnTo>
                <a:lnTo>
                  <a:pt x="247525" y="180683"/>
                </a:lnTo>
                <a:lnTo>
                  <a:pt x="236823" y="183831"/>
                </a:lnTo>
                <a:lnTo>
                  <a:pt x="226120" y="187609"/>
                </a:lnTo>
                <a:lnTo>
                  <a:pt x="214788" y="191386"/>
                </a:lnTo>
                <a:lnTo>
                  <a:pt x="205345" y="196422"/>
                </a:lnTo>
                <a:lnTo>
                  <a:pt x="195902" y="199570"/>
                </a:lnTo>
                <a:lnTo>
                  <a:pt x="185829" y="202088"/>
                </a:lnTo>
                <a:lnTo>
                  <a:pt x="177644" y="205866"/>
                </a:lnTo>
                <a:lnTo>
                  <a:pt x="168830" y="209643"/>
                </a:lnTo>
                <a:lnTo>
                  <a:pt x="160646" y="213420"/>
                </a:lnTo>
                <a:lnTo>
                  <a:pt x="153092" y="215309"/>
                </a:lnTo>
                <a:lnTo>
                  <a:pt x="146166" y="219087"/>
                </a:lnTo>
                <a:lnTo>
                  <a:pt x="138612" y="221605"/>
                </a:lnTo>
                <a:lnTo>
                  <a:pt x="132946" y="224123"/>
                </a:lnTo>
                <a:lnTo>
                  <a:pt x="126650" y="227900"/>
                </a:lnTo>
                <a:lnTo>
                  <a:pt x="121614" y="229789"/>
                </a:lnTo>
                <a:lnTo>
                  <a:pt x="115948" y="232307"/>
                </a:lnTo>
                <a:lnTo>
                  <a:pt x="110911" y="234825"/>
                </a:lnTo>
                <a:lnTo>
                  <a:pt x="107134" y="237344"/>
                </a:lnTo>
                <a:lnTo>
                  <a:pt x="103986" y="239862"/>
                </a:lnTo>
                <a:lnTo>
                  <a:pt x="100209" y="241121"/>
                </a:lnTo>
                <a:lnTo>
                  <a:pt x="96431" y="243639"/>
                </a:lnTo>
                <a:lnTo>
                  <a:pt x="90136" y="246787"/>
                </a:lnTo>
                <a:lnTo>
                  <a:pt x="85729" y="250564"/>
                </a:lnTo>
                <a:lnTo>
                  <a:pt x="79433" y="253083"/>
                </a:lnTo>
                <a:lnTo>
                  <a:pt x="74397" y="255601"/>
                </a:lnTo>
                <a:lnTo>
                  <a:pt x="69990" y="258119"/>
                </a:lnTo>
                <a:lnTo>
                  <a:pt x="64953" y="260637"/>
                </a:lnTo>
                <a:lnTo>
                  <a:pt x="59917" y="261897"/>
                </a:lnTo>
                <a:lnTo>
                  <a:pt x="56769" y="262526"/>
                </a:lnTo>
                <a:lnTo>
                  <a:pt x="52992" y="262526"/>
                </a:lnTo>
                <a:lnTo>
                  <a:pt x="47955" y="262526"/>
                </a:lnTo>
                <a:lnTo>
                  <a:pt x="44178" y="262526"/>
                </a:lnTo>
                <a:lnTo>
                  <a:pt x="42289" y="261897"/>
                </a:lnTo>
                <a:lnTo>
                  <a:pt x="38512" y="261897"/>
                </a:lnTo>
                <a:lnTo>
                  <a:pt x="34734" y="259378"/>
                </a:lnTo>
                <a:lnTo>
                  <a:pt x="32216" y="258119"/>
                </a:lnTo>
                <a:lnTo>
                  <a:pt x="29698" y="255601"/>
                </a:lnTo>
                <a:lnTo>
                  <a:pt x="25291" y="249305"/>
                </a:lnTo>
                <a:lnTo>
                  <a:pt x="20254" y="243639"/>
                </a:lnTo>
                <a:lnTo>
                  <a:pt x="16477" y="234825"/>
                </a:lnTo>
                <a:lnTo>
                  <a:pt x="12700" y="226641"/>
                </a:lnTo>
                <a:lnTo>
                  <a:pt x="8293" y="216568"/>
                </a:lnTo>
                <a:lnTo>
                  <a:pt x="4516" y="205866"/>
                </a:lnTo>
                <a:lnTo>
                  <a:pt x="1997" y="193904"/>
                </a:lnTo>
                <a:lnTo>
                  <a:pt x="0" y="186912"/>
                </a:lnTo>
                <a:lnTo>
                  <a:pt x="48706" y="174902"/>
                </a:lnTo>
                <a:lnTo>
                  <a:pt x="225055" y="72593"/>
                </a:lnTo>
                <a:lnTo>
                  <a:pt x="226120" y="73658"/>
                </a:lnTo>
                <a:lnTo>
                  <a:pt x="226120" y="74917"/>
                </a:lnTo>
                <a:lnTo>
                  <a:pt x="227380" y="76177"/>
                </a:lnTo>
                <a:lnTo>
                  <a:pt x="228639" y="76177"/>
                </a:lnTo>
                <a:lnTo>
                  <a:pt x="229898" y="76177"/>
                </a:lnTo>
                <a:lnTo>
                  <a:pt x="230527" y="77436"/>
                </a:lnTo>
                <a:lnTo>
                  <a:pt x="233046" y="77436"/>
                </a:lnTo>
                <a:lnTo>
                  <a:pt x="235564" y="77436"/>
                </a:lnTo>
                <a:lnTo>
                  <a:pt x="239341" y="77436"/>
                </a:lnTo>
                <a:lnTo>
                  <a:pt x="241859" y="77436"/>
                </a:lnTo>
                <a:lnTo>
                  <a:pt x="245637" y="77436"/>
                </a:lnTo>
                <a:lnTo>
                  <a:pt x="248785" y="76177"/>
                </a:lnTo>
                <a:lnTo>
                  <a:pt x="252562" y="76177"/>
                </a:lnTo>
                <a:lnTo>
                  <a:pt x="257598" y="76177"/>
                </a:lnTo>
                <a:lnTo>
                  <a:pt x="262005" y="74917"/>
                </a:lnTo>
                <a:lnTo>
                  <a:pt x="267042" y="74917"/>
                </a:lnTo>
                <a:lnTo>
                  <a:pt x="273337" y="73658"/>
                </a:lnTo>
                <a:lnTo>
                  <a:pt x="277744" y="72399"/>
                </a:lnTo>
                <a:lnTo>
                  <a:pt x="284040" y="71140"/>
                </a:lnTo>
                <a:lnTo>
                  <a:pt x="291595" y="71140"/>
                </a:lnTo>
                <a:lnTo>
                  <a:pt x="297261" y="69251"/>
                </a:lnTo>
                <a:lnTo>
                  <a:pt x="304815" y="67992"/>
                </a:lnTo>
                <a:lnTo>
                  <a:pt x="311740" y="66733"/>
                </a:lnTo>
                <a:lnTo>
                  <a:pt x="319295" y="65474"/>
                </a:lnTo>
                <a:lnTo>
                  <a:pt x="327479" y="64215"/>
                </a:lnTo>
                <a:lnTo>
                  <a:pt x="336293" y="61697"/>
                </a:lnTo>
                <a:lnTo>
                  <a:pt x="344478" y="59178"/>
                </a:lnTo>
                <a:lnTo>
                  <a:pt x="353291" y="57919"/>
                </a:lnTo>
                <a:lnTo>
                  <a:pt x="362735" y="55401"/>
                </a:lnTo>
                <a:lnTo>
                  <a:pt x="372178" y="53512"/>
                </a:lnTo>
                <a:lnTo>
                  <a:pt x="382251" y="50994"/>
                </a:lnTo>
                <a:lnTo>
                  <a:pt x="391694" y="48476"/>
                </a:lnTo>
                <a:lnTo>
                  <a:pt x="403027" y="45958"/>
                </a:lnTo>
                <a:lnTo>
                  <a:pt x="413729" y="43439"/>
                </a:lnTo>
                <a:lnTo>
                  <a:pt x="435134" y="39033"/>
                </a:lnTo>
                <a:lnTo>
                  <a:pt x="455910" y="33996"/>
                </a:lnTo>
                <a:lnTo>
                  <a:pt x="474167" y="28960"/>
                </a:lnTo>
                <a:lnTo>
                  <a:pt x="492424" y="23923"/>
                </a:lnTo>
                <a:lnTo>
                  <a:pt x="509422" y="20775"/>
                </a:lnTo>
                <a:lnTo>
                  <a:pt x="526420" y="16998"/>
                </a:lnTo>
                <a:lnTo>
                  <a:pt x="540900" y="13221"/>
                </a:lnTo>
                <a:lnTo>
                  <a:pt x="554121" y="10702"/>
                </a:lnTo>
                <a:lnTo>
                  <a:pt x="566082" y="8184"/>
                </a:lnTo>
                <a:lnTo>
                  <a:pt x="578044" y="6295"/>
                </a:lnTo>
                <a:lnTo>
                  <a:pt x="588117" y="5036"/>
                </a:lnTo>
                <a:lnTo>
                  <a:pt x="597560" y="2518"/>
                </a:lnTo>
                <a:lnTo>
                  <a:pt x="605115" y="1259"/>
                </a:lnTo>
                <a:lnTo>
                  <a:pt x="612040" y="1259"/>
                </a:lnTo>
                <a:lnTo>
                  <a:pt x="617077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9" name="任意多边形: 形状 42"/>
          <p:cNvSpPr/>
          <p:nvPr/>
        </p:nvSpPr>
        <p:spPr>
          <a:xfrm>
            <a:off x="6281640" y="1335240"/>
            <a:ext cx="650520" cy="721800"/>
          </a:xfrm>
          <a:custGeom>
            <a:avLst/>
            <a:gdLst>
              <a:gd name="textAreaLeft" fmla="*/ 0 w 650520"/>
              <a:gd name="textAreaRight" fmla="*/ 650880 w 650520"/>
              <a:gd name="textAreaTop" fmla="*/ 0 h 721800"/>
              <a:gd name="textAreaBottom" fmla="*/ 722160 h 721800"/>
            </a:gdLst>
            <a:ahLst/>
            <a:rect l="textAreaLeft" t="textAreaTop" r="textAreaRight" b="textAreaBottom"/>
            <a:pathLst>
              <a:path w="650964" h="721408">
                <a:moveTo>
                  <a:pt x="514350" y="0"/>
                </a:moveTo>
                <a:lnTo>
                  <a:pt x="520016" y="0"/>
                </a:lnTo>
                <a:lnTo>
                  <a:pt x="526312" y="0"/>
                </a:lnTo>
                <a:lnTo>
                  <a:pt x="533866" y="1259"/>
                </a:lnTo>
                <a:lnTo>
                  <a:pt x="540792" y="2518"/>
                </a:lnTo>
                <a:lnTo>
                  <a:pt x="548346" y="5037"/>
                </a:lnTo>
                <a:lnTo>
                  <a:pt x="556531" y="8814"/>
                </a:lnTo>
                <a:lnTo>
                  <a:pt x="564085" y="13850"/>
                </a:lnTo>
                <a:lnTo>
                  <a:pt x="572270" y="18257"/>
                </a:lnTo>
                <a:lnTo>
                  <a:pt x="581713" y="24553"/>
                </a:lnTo>
                <a:lnTo>
                  <a:pt x="590527" y="30848"/>
                </a:lnTo>
                <a:lnTo>
                  <a:pt x="598711" y="39033"/>
                </a:lnTo>
                <a:lnTo>
                  <a:pt x="608784" y="46587"/>
                </a:lnTo>
                <a:lnTo>
                  <a:pt x="618227" y="56031"/>
                </a:lnTo>
                <a:lnTo>
                  <a:pt x="623264" y="61067"/>
                </a:lnTo>
                <a:lnTo>
                  <a:pt x="628300" y="65474"/>
                </a:lnTo>
                <a:lnTo>
                  <a:pt x="631448" y="70511"/>
                </a:lnTo>
                <a:lnTo>
                  <a:pt x="635225" y="75547"/>
                </a:lnTo>
                <a:lnTo>
                  <a:pt x="639003" y="79954"/>
                </a:lnTo>
                <a:lnTo>
                  <a:pt x="641521" y="83731"/>
                </a:lnTo>
                <a:lnTo>
                  <a:pt x="644039" y="88768"/>
                </a:lnTo>
                <a:lnTo>
                  <a:pt x="645928" y="92545"/>
                </a:lnTo>
                <a:lnTo>
                  <a:pt x="648446" y="96952"/>
                </a:lnTo>
                <a:lnTo>
                  <a:pt x="649705" y="100730"/>
                </a:lnTo>
                <a:lnTo>
                  <a:pt x="650964" y="104507"/>
                </a:lnTo>
                <a:lnTo>
                  <a:pt x="650964" y="108284"/>
                </a:lnTo>
                <a:lnTo>
                  <a:pt x="650964" y="111432"/>
                </a:lnTo>
                <a:lnTo>
                  <a:pt x="650964" y="115209"/>
                </a:lnTo>
                <a:lnTo>
                  <a:pt x="650964" y="118987"/>
                </a:lnTo>
                <a:lnTo>
                  <a:pt x="649705" y="122764"/>
                </a:lnTo>
                <a:lnTo>
                  <a:pt x="648446" y="125282"/>
                </a:lnTo>
                <a:lnTo>
                  <a:pt x="648446" y="126541"/>
                </a:lnTo>
                <a:lnTo>
                  <a:pt x="645928" y="129689"/>
                </a:lnTo>
                <a:lnTo>
                  <a:pt x="644669" y="132208"/>
                </a:lnTo>
                <a:lnTo>
                  <a:pt x="642780" y="135985"/>
                </a:lnTo>
                <a:lnTo>
                  <a:pt x="640262" y="139762"/>
                </a:lnTo>
                <a:lnTo>
                  <a:pt x="636485" y="144169"/>
                </a:lnTo>
                <a:lnTo>
                  <a:pt x="633966" y="147946"/>
                </a:lnTo>
                <a:lnTo>
                  <a:pt x="628930" y="152983"/>
                </a:lnTo>
                <a:lnTo>
                  <a:pt x="625782" y="159279"/>
                </a:lnTo>
                <a:lnTo>
                  <a:pt x="620746" y="164945"/>
                </a:lnTo>
                <a:lnTo>
                  <a:pt x="615709" y="171240"/>
                </a:lnTo>
                <a:lnTo>
                  <a:pt x="610043" y="176906"/>
                </a:lnTo>
                <a:lnTo>
                  <a:pt x="605007" y="184461"/>
                </a:lnTo>
                <a:lnTo>
                  <a:pt x="597452" y="191386"/>
                </a:lnTo>
                <a:lnTo>
                  <a:pt x="591786" y="198941"/>
                </a:lnTo>
                <a:lnTo>
                  <a:pt x="584231" y="207125"/>
                </a:lnTo>
                <a:lnTo>
                  <a:pt x="577306" y="215939"/>
                </a:lnTo>
                <a:lnTo>
                  <a:pt x="568492" y="224123"/>
                </a:lnTo>
                <a:lnTo>
                  <a:pt x="561567" y="232937"/>
                </a:lnTo>
                <a:lnTo>
                  <a:pt x="552753" y="242380"/>
                </a:lnTo>
                <a:lnTo>
                  <a:pt x="543310" y="253712"/>
                </a:lnTo>
                <a:lnTo>
                  <a:pt x="533866" y="263156"/>
                </a:lnTo>
                <a:lnTo>
                  <a:pt x="523793" y="273858"/>
                </a:lnTo>
                <a:lnTo>
                  <a:pt x="514350" y="285190"/>
                </a:lnTo>
                <a:lnTo>
                  <a:pt x="503018" y="297152"/>
                </a:lnTo>
                <a:lnTo>
                  <a:pt x="492315" y="307855"/>
                </a:lnTo>
                <a:lnTo>
                  <a:pt x="480354" y="319816"/>
                </a:lnTo>
                <a:lnTo>
                  <a:pt x="468392" y="333666"/>
                </a:lnTo>
                <a:lnTo>
                  <a:pt x="455801" y="346887"/>
                </a:lnTo>
                <a:lnTo>
                  <a:pt x="443839" y="360108"/>
                </a:lnTo>
                <a:lnTo>
                  <a:pt x="430619" y="373329"/>
                </a:lnTo>
                <a:lnTo>
                  <a:pt x="417398" y="386549"/>
                </a:lnTo>
                <a:lnTo>
                  <a:pt x="405436" y="401029"/>
                </a:lnTo>
                <a:lnTo>
                  <a:pt x="392845" y="413620"/>
                </a:lnTo>
                <a:lnTo>
                  <a:pt x="380884" y="426841"/>
                </a:lnTo>
                <a:lnTo>
                  <a:pt x="370181" y="438803"/>
                </a:lnTo>
                <a:lnTo>
                  <a:pt x="359478" y="449505"/>
                </a:lnTo>
                <a:lnTo>
                  <a:pt x="348146" y="462097"/>
                </a:lnTo>
                <a:lnTo>
                  <a:pt x="338703" y="472799"/>
                </a:lnTo>
                <a:lnTo>
                  <a:pt x="329260" y="482242"/>
                </a:lnTo>
                <a:lnTo>
                  <a:pt x="319187" y="493575"/>
                </a:lnTo>
                <a:lnTo>
                  <a:pt x="311002" y="503018"/>
                </a:lnTo>
                <a:lnTo>
                  <a:pt x="303448" y="511202"/>
                </a:lnTo>
                <a:lnTo>
                  <a:pt x="295263" y="521275"/>
                </a:lnTo>
                <a:lnTo>
                  <a:pt x="287709" y="529459"/>
                </a:lnTo>
                <a:lnTo>
                  <a:pt x="280784" y="537014"/>
                </a:lnTo>
                <a:lnTo>
                  <a:pt x="274488" y="543939"/>
                </a:lnTo>
                <a:lnTo>
                  <a:pt x="268192" y="551494"/>
                </a:lnTo>
                <a:lnTo>
                  <a:pt x="262526" y="558419"/>
                </a:lnTo>
                <a:lnTo>
                  <a:pt x="257490" y="564715"/>
                </a:lnTo>
                <a:lnTo>
                  <a:pt x="252453" y="571010"/>
                </a:lnTo>
                <a:lnTo>
                  <a:pt x="249306" y="575417"/>
                </a:lnTo>
                <a:lnTo>
                  <a:pt x="245528" y="581713"/>
                </a:lnTo>
                <a:lnTo>
                  <a:pt x="241751" y="586749"/>
                </a:lnTo>
                <a:lnTo>
                  <a:pt x="237974" y="589897"/>
                </a:lnTo>
                <a:lnTo>
                  <a:pt x="235455" y="593674"/>
                </a:lnTo>
                <a:lnTo>
                  <a:pt x="234826" y="597452"/>
                </a:lnTo>
                <a:lnTo>
                  <a:pt x="232308" y="601229"/>
                </a:lnTo>
                <a:lnTo>
                  <a:pt x="231048" y="603747"/>
                </a:lnTo>
                <a:lnTo>
                  <a:pt x="231048" y="605636"/>
                </a:lnTo>
                <a:lnTo>
                  <a:pt x="229789" y="606895"/>
                </a:lnTo>
                <a:lnTo>
                  <a:pt x="229983" y="607089"/>
                </a:lnTo>
                <a:lnTo>
                  <a:pt x="53634" y="709398"/>
                </a:lnTo>
                <a:lnTo>
                  <a:pt x="4928" y="721408"/>
                </a:lnTo>
                <a:lnTo>
                  <a:pt x="3148" y="715179"/>
                </a:lnTo>
                <a:lnTo>
                  <a:pt x="630" y="701329"/>
                </a:lnTo>
                <a:lnTo>
                  <a:pt x="0" y="689367"/>
                </a:lnTo>
                <a:lnTo>
                  <a:pt x="0" y="678665"/>
                </a:lnTo>
                <a:lnTo>
                  <a:pt x="630" y="668592"/>
                </a:lnTo>
                <a:lnTo>
                  <a:pt x="3148" y="660408"/>
                </a:lnTo>
                <a:lnTo>
                  <a:pt x="5666" y="652853"/>
                </a:lnTo>
                <a:lnTo>
                  <a:pt x="8184" y="649705"/>
                </a:lnTo>
                <a:lnTo>
                  <a:pt x="10703" y="645928"/>
                </a:lnTo>
                <a:lnTo>
                  <a:pt x="13221" y="643410"/>
                </a:lnTo>
                <a:lnTo>
                  <a:pt x="15739" y="640891"/>
                </a:lnTo>
                <a:lnTo>
                  <a:pt x="18887" y="638373"/>
                </a:lnTo>
                <a:lnTo>
                  <a:pt x="22664" y="636484"/>
                </a:lnTo>
                <a:lnTo>
                  <a:pt x="26442" y="632707"/>
                </a:lnTo>
                <a:lnTo>
                  <a:pt x="30219" y="630189"/>
                </a:lnTo>
                <a:lnTo>
                  <a:pt x="34626" y="626412"/>
                </a:lnTo>
                <a:lnTo>
                  <a:pt x="39662" y="622634"/>
                </a:lnTo>
                <a:lnTo>
                  <a:pt x="44699" y="619486"/>
                </a:lnTo>
                <a:lnTo>
                  <a:pt x="50365" y="615709"/>
                </a:lnTo>
                <a:lnTo>
                  <a:pt x="56660" y="611932"/>
                </a:lnTo>
                <a:lnTo>
                  <a:pt x="62956" y="606895"/>
                </a:lnTo>
                <a:lnTo>
                  <a:pt x="69881" y="603747"/>
                </a:lnTo>
                <a:lnTo>
                  <a:pt x="77436" y="598711"/>
                </a:lnTo>
                <a:lnTo>
                  <a:pt x="84361" y="593674"/>
                </a:lnTo>
                <a:lnTo>
                  <a:pt x="91916" y="589268"/>
                </a:lnTo>
                <a:lnTo>
                  <a:pt x="100100" y="582972"/>
                </a:lnTo>
                <a:lnTo>
                  <a:pt x="108914" y="577935"/>
                </a:lnTo>
                <a:lnTo>
                  <a:pt x="117098" y="572269"/>
                </a:lnTo>
                <a:lnTo>
                  <a:pt x="126542" y="565974"/>
                </a:lnTo>
                <a:lnTo>
                  <a:pt x="136614" y="558419"/>
                </a:lnTo>
                <a:lnTo>
                  <a:pt x="147317" y="550235"/>
                </a:lnTo>
                <a:lnTo>
                  <a:pt x="157390" y="540791"/>
                </a:lnTo>
                <a:lnTo>
                  <a:pt x="168092" y="530719"/>
                </a:lnTo>
                <a:lnTo>
                  <a:pt x="178795" y="520016"/>
                </a:lnTo>
                <a:lnTo>
                  <a:pt x="190757" y="509314"/>
                </a:lnTo>
                <a:lnTo>
                  <a:pt x="202089" y="496722"/>
                </a:lnTo>
                <a:lnTo>
                  <a:pt x="214050" y="483502"/>
                </a:lnTo>
                <a:lnTo>
                  <a:pt x="226012" y="470281"/>
                </a:lnTo>
                <a:lnTo>
                  <a:pt x="239233" y="455801"/>
                </a:lnTo>
                <a:lnTo>
                  <a:pt x="252453" y="440062"/>
                </a:lnTo>
                <a:lnTo>
                  <a:pt x="266304" y="424323"/>
                </a:lnTo>
                <a:lnTo>
                  <a:pt x="279524" y="407325"/>
                </a:lnTo>
                <a:lnTo>
                  <a:pt x="294004" y="389068"/>
                </a:lnTo>
                <a:lnTo>
                  <a:pt x="307225" y="370810"/>
                </a:lnTo>
                <a:lnTo>
                  <a:pt x="321705" y="353812"/>
                </a:lnTo>
                <a:lnTo>
                  <a:pt x="333667" y="336814"/>
                </a:lnTo>
                <a:lnTo>
                  <a:pt x="346887" y="321075"/>
                </a:lnTo>
                <a:lnTo>
                  <a:pt x="359478" y="304077"/>
                </a:lnTo>
                <a:lnTo>
                  <a:pt x="370181" y="289597"/>
                </a:lnTo>
                <a:lnTo>
                  <a:pt x="382143" y="273858"/>
                </a:lnTo>
                <a:lnTo>
                  <a:pt x="392845" y="259378"/>
                </a:lnTo>
                <a:lnTo>
                  <a:pt x="402918" y="244899"/>
                </a:lnTo>
                <a:lnTo>
                  <a:pt x="412361" y="231678"/>
                </a:lnTo>
                <a:lnTo>
                  <a:pt x="422434" y="218457"/>
                </a:lnTo>
                <a:lnTo>
                  <a:pt x="430619" y="205236"/>
                </a:lnTo>
                <a:lnTo>
                  <a:pt x="439433" y="192645"/>
                </a:lnTo>
                <a:lnTo>
                  <a:pt x="447617" y="180684"/>
                </a:lnTo>
                <a:lnTo>
                  <a:pt x="455171" y="168722"/>
                </a:lnTo>
                <a:lnTo>
                  <a:pt x="462097" y="158019"/>
                </a:lnTo>
                <a:lnTo>
                  <a:pt x="468392" y="146687"/>
                </a:lnTo>
                <a:lnTo>
                  <a:pt x="474058" y="137244"/>
                </a:lnTo>
                <a:lnTo>
                  <a:pt x="480354" y="127801"/>
                </a:lnTo>
                <a:lnTo>
                  <a:pt x="485390" y="118987"/>
                </a:lnTo>
                <a:lnTo>
                  <a:pt x="488538" y="110802"/>
                </a:lnTo>
                <a:lnTo>
                  <a:pt x="492315" y="101989"/>
                </a:lnTo>
                <a:lnTo>
                  <a:pt x="496093" y="93804"/>
                </a:lnTo>
                <a:lnTo>
                  <a:pt x="498611" y="86250"/>
                </a:lnTo>
                <a:lnTo>
                  <a:pt x="499870" y="79954"/>
                </a:lnTo>
                <a:lnTo>
                  <a:pt x="502388" y="73029"/>
                </a:lnTo>
                <a:lnTo>
                  <a:pt x="502388" y="66733"/>
                </a:lnTo>
                <a:lnTo>
                  <a:pt x="502388" y="62326"/>
                </a:lnTo>
                <a:lnTo>
                  <a:pt x="502388" y="57290"/>
                </a:lnTo>
                <a:lnTo>
                  <a:pt x="501129" y="52253"/>
                </a:lnTo>
                <a:lnTo>
                  <a:pt x="499870" y="47847"/>
                </a:lnTo>
                <a:lnTo>
                  <a:pt x="497352" y="44069"/>
                </a:lnTo>
                <a:lnTo>
                  <a:pt x="494834" y="40292"/>
                </a:lnTo>
                <a:lnTo>
                  <a:pt x="492315" y="37774"/>
                </a:lnTo>
                <a:lnTo>
                  <a:pt x="491056" y="33996"/>
                </a:lnTo>
                <a:lnTo>
                  <a:pt x="489797" y="32108"/>
                </a:lnTo>
                <a:lnTo>
                  <a:pt x="488538" y="28330"/>
                </a:lnTo>
                <a:lnTo>
                  <a:pt x="487279" y="25812"/>
                </a:lnTo>
                <a:lnTo>
                  <a:pt x="487279" y="23294"/>
                </a:lnTo>
                <a:lnTo>
                  <a:pt x="487279" y="20776"/>
                </a:lnTo>
                <a:lnTo>
                  <a:pt x="487279" y="18257"/>
                </a:lnTo>
                <a:lnTo>
                  <a:pt x="487279" y="16369"/>
                </a:lnTo>
                <a:lnTo>
                  <a:pt x="488538" y="15109"/>
                </a:lnTo>
                <a:lnTo>
                  <a:pt x="489797" y="12591"/>
                </a:lnTo>
                <a:lnTo>
                  <a:pt x="491056" y="10073"/>
                </a:lnTo>
                <a:lnTo>
                  <a:pt x="492315" y="8814"/>
                </a:lnTo>
                <a:lnTo>
                  <a:pt x="494834" y="6296"/>
                </a:lnTo>
                <a:lnTo>
                  <a:pt x="497352" y="5037"/>
                </a:lnTo>
                <a:lnTo>
                  <a:pt x="502388" y="2518"/>
                </a:lnTo>
                <a:lnTo>
                  <a:pt x="508054" y="1259"/>
                </a:lnTo>
                <a:lnTo>
                  <a:pt x="514350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0" name="Freeform 17"/>
          <p:cNvSpPr/>
          <p:nvPr/>
        </p:nvSpPr>
        <p:spPr>
          <a:xfrm>
            <a:off x="6176880" y="2139840"/>
            <a:ext cx="755280" cy="398160"/>
          </a:xfrm>
          <a:custGeom>
            <a:avLst/>
            <a:gdLst>
              <a:gd name="textAreaLeft" fmla="*/ 0 w 755280"/>
              <a:gd name="textAreaRight" fmla="*/ 755640 w 75528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1199" h="633">
                <a:moveTo>
                  <a:pt x="317" y="593"/>
                </a:moveTo>
                <a:lnTo>
                  <a:pt x="307" y="598"/>
                </a:lnTo>
                <a:lnTo>
                  <a:pt x="298" y="604"/>
                </a:lnTo>
                <a:lnTo>
                  <a:pt x="288" y="610"/>
                </a:lnTo>
                <a:lnTo>
                  <a:pt x="278" y="614"/>
                </a:lnTo>
                <a:lnTo>
                  <a:pt x="269" y="618"/>
                </a:lnTo>
                <a:lnTo>
                  <a:pt x="261" y="621"/>
                </a:lnTo>
                <a:lnTo>
                  <a:pt x="251" y="625"/>
                </a:lnTo>
                <a:lnTo>
                  <a:pt x="244" y="627"/>
                </a:lnTo>
                <a:lnTo>
                  <a:pt x="236" y="629"/>
                </a:lnTo>
                <a:lnTo>
                  <a:pt x="228" y="631"/>
                </a:lnTo>
                <a:lnTo>
                  <a:pt x="221" y="633"/>
                </a:lnTo>
                <a:lnTo>
                  <a:pt x="213" y="633"/>
                </a:lnTo>
                <a:lnTo>
                  <a:pt x="200" y="633"/>
                </a:lnTo>
                <a:lnTo>
                  <a:pt x="186" y="631"/>
                </a:lnTo>
                <a:lnTo>
                  <a:pt x="173" y="627"/>
                </a:lnTo>
                <a:lnTo>
                  <a:pt x="161" y="621"/>
                </a:lnTo>
                <a:lnTo>
                  <a:pt x="146" y="614"/>
                </a:lnTo>
                <a:lnTo>
                  <a:pt x="132" y="604"/>
                </a:lnTo>
                <a:lnTo>
                  <a:pt x="117" y="593"/>
                </a:lnTo>
                <a:lnTo>
                  <a:pt x="101" y="581"/>
                </a:lnTo>
                <a:lnTo>
                  <a:pt x="86" y="566"/>
                </a:lnTo>
                <a:lnTo>
                  <a:pt x="69" y="550"/>
                </a:lnTo>
                <a:lnTo>
                  <a:pt x="61" y="543"/>
                </a:lnTo>
                <a:lnTo>
                  <a:pt x="53" y="533"/>
                </a:lnTo>
                <a:lnTo>
                  <a:pt x="46" y="525"/>
                </a:lnTo>
                <a:lnTo>
                  <a:pt x="38" y="518"/>
                </a:lnTo>
                <a:lnTo>
                  <a:pt x="32" y="512"/>
                </a:lnTo>
                <a:lnTo>
                  <a:pt x="26" y="504"/>
                </a:lnTo>
                <a:lnTo>
                  <a:pt x="21" y="496"/>
                </a:lnTo>
                <a:lnTo>
                  <a:pt x="17" y="491"/>
                </a:lnTo>
                <a:lnTo>
                  <a:pt x="13" y="485"/>
                </a:lnTo>
                <a:lnTo>
                  <a:pt x="9" y="479"/>
                </a:lnTo>
                <a:lnTo>
                  <a:pt x="7" y="473"/>
                </a:lnTo>
                <a:lnTo>
                  <a:pt x="3" y="467"/>
                </a:lnTo>
                <a:lnTo>
                  <a:pt x="1" y="464"/>
                </a:lnTo>
                <a:lnTo>
                  <a:pt x="1" y="458"/>
                </a:lnTo>
                <a:lnTo>
                  <a:pt x="0" y="454"/>
                </a:lnTo>
                <a:lnTo>
                  <a:pt x="0" y="450"/>
                </a:lnTo>
                <a:lnTo>
                  <a:pt x="0" y="442"/>
                </a:lnTo>
                <a:lnTo>
                  <a:pt x="1" y="435"/>
                </a:lnTo>
                <a:lnTo>
                  <a:pt x="1" y="429"/>
                </a:lnTo>
                <a:lnTo>
                  <a:pt x="3" y="423"/>
                </a:lnTo>
                <a:lnTo>
                  <a:pt x="7" y="419"/>
                </a:lnTo>
                <a:lnTo>
                  <a:pt x="11" y="414"/>
                </a:lnTo>
                <a:lnTo>
                  <a:pt x="15" y="410"/>
                </a:lnTo>
                <a:lnTo>
                  <a:pt x="19" y="406"/>
                </a:lnTo>
                <a:lnTo>
                  <a:pt x="21" y="404"/>
                </a:lnTo>
                <a:lnTo>
                  <a:pt x="25" y="404"/>
                </a:lnTo>
                <a:lnTo>
                  <a:pt x="28" y="402"/>
                </a:lnTo>
                <a:lnTo>
                  <a:pt x="32" y="402"/>
                </a:lnTo>
                <a:lnTo>
                  <a:pt x="36" y="400"/>
                </a:lnTo>
                <a:lnTo>
                  <a:pt x="42" y="400"/>
                </a:lnTo>
                <a:lnTo>
                  <a:pt x="48" y="398"/>
                </a:lnTo>
                <a:lnTo>
                  <a:pt x="55" y="398"/>
                </a:lnTo>
                <a:lnTo>
                  <a:pt x="61" y="398"/>
                </a:lnTo>
                <a:lnTo>
                  <a:pt x="69" y="398"/>
                </a:lnTo>
                <a:lnTo>
                  <a:pt x="76" y="398"/>
                </a:lnTo>
                <a:lnTo>
                  <a:pt x="86" y="398"/>
                </a:lnTo>
                <a:lnTo>
                  <a:pt x="94" y="398"/>
                </a:lnTo>
                <a:lnTo>
                  <a:pt x="103" y="398"/>
                </a:lnTo>
                <a:lnTo>
                  <a:pt x="115" y="400"/>
                </a:lnTo>
                <a:lnTo>
                  <a:pt x="125" y="400"/>
                </a:lnTo>
                <a:lnTo>
                  <a:pt x="130" y="400"/>
                </a:lnTo>
                <a:lnTo>
                  <a:pt x="136" y="400"/>
                </a:lnTo>
                <a:lnTo>
                  <a:pt x="144" y="400"/>
                </a:lnTo>
                <a:lnTo>
                  <a:pt x="151" y="398"/>
                </a:lnTo>
                <a:lnTo>
                  <a:pt x="161" y="396"/>
                </a:lnTo>
                <a:lnTo>
                  <a:pt x="171" y="394"/>
                </a:lnTo>
                <a:lnTo>
                  <a:pt x="180" y="392"/>
                </a:lnTo>
                <a:lnTo>
                  <a:pt x="192" y="389"/>
                </a:lnTo>
                <a:lnTo>
                  <a:pt x="203" y="387"/>
                </a:lnTo>
                <a:lnTo>
                  <a:pt x="217" y="383"/>
                </a:lnTo>
                <a:lnTo>
                  <a:pt x="230" y="379"/>
                </a:lnTo>
                <a:lnTo>
                  <a:pt x="244" y="373"/>
                </a:lnTo>
                <a:lnTo>
                  <a:pt x="259" y="369"/>
                </a:lnTo>
                <a:lnTo>
                  <a:pt x="275" y="364"/>
                </a:lnTo>
                <a:lnTo>
                  <a:pt x="290" y="358"/>
                </a:lnTo>
                <a:lnTo>
                  <a:pt x="307" y="352"/>
                </a:lnTo>
                <a:lnTo>
                  <a:pt x="326" y="344"/>
                </a:lnTo>
                <a:lnTo>
                  <a:pt x="344" y="339"/>
                </a:lnTo>
                <a:lnTo>
                  <a:pt x="363" y="331"/>
                </a:lnTo>
                <a:lnTo>
                  <a:pt x="384" y="321"/>
                </a:lnTo>
                <a:lnTo>
                  <a:pt x="405" y="314"/>
                </a:lnTo>
                <a:lnTo>
                  <a:pt x="426" y="306"/>
                </a:lnTo>
                <a:lnTo>
                  <a:pt x="449" y="296"/>
                </a:lnTo>
                <a:lnTo>
                  <a:pt x="473" y="287"/>
                </a:lnTo>
                <a:lnTo>
                  <a:pt x="496" y="277"/>
                </a:lnTo>
                <a:lnTo>
                  <a:pt x="521" y="265"/>
                </a:lnTo>
                <a:lnTo>
                  <a:pt x="546" y="256"/>
                </a:lnTo>
                <a:lnTo>
                  <a:pt x="573" y="244"/>
                </a:lnTo>
                <a:lnTo>
                  <a:pt x="599" y="233"/>
                </a:lnTo>
                <a:lnTo>
                  <a:pt x="626" y="219"/>
                </a:lnTo>
                <a:lnTo>
                  <a:pt x="655" y="208"/>
                </a:lnTo>
                <a:lnTo>
                  <a:pt x="684" y="194"/>
                </a:lnTo>
                <a:lnTo>
                  <a:pt x="713" y="181"/>
                </a:lnTo>
                <a:lnTo>
                  <a:pt x="742" y="169"/>
                </a:lnTo>
                <a:lnTo>
                  <a:pt x="769" y="158"/>
                </a:lnTo>
                <a:lnTo>
                  <a:pt x="796" y="144"/>
                </a:lnTo>
                <a:lnTo>
                  <a:pt x="821" y="135"/>
                </a:lnTo>
                <a:lnTo>
                  <a:pt x="846" y="123"/>
                </a:lnTo>
                <a:lnTo>
                  <a:pt x="871" y="113"/>
                </a:lnTo>
                <a:lnTo>
                  <a:pt x="894" y="104"/>
                </a:lnTo>
                <a:lnTo>
                  <a:pt x="917" y="94"/>
                </a:lnTo>
                <a:lnTo>
                  <a:pt x="938" y="85"/>
                </a:lnTo>
                <a:lnTo>
                  <a:pt x="959" y="77"/>
                </a:lnTo>
                <a:lnTo>
                  <a:pt x="978" y="67"/>
                </a:lnTo>
                <a:lnTo>
                  <a:pt x="998" y="60"/>
                </a:lnTo>
                <a:lnTo>
                  <a:pt x="1015" y="54"/>
                </a:lnTo>
                <a:lnTo>
                  <a:pt x="1032" y="46"/>
                </a:lnTo>
                <a:lnTo>
                  <a:pt x="1049" y="40"/>
                </a:lnTo>
                <a:lnTo>
                  <a:pt x="1065" y="35"/>
                </a:lnTo>
                <a:lnTo>
                  <a:pt x="1078" y="29"/>
                </a:lnTo>
                <a:lnTo>
                  <a:pt x="1094" y="25"/>
                </a:lnTo>
                <a:lnTo>
                  <a:pt x="1105" y="19"/>
                </a:lnTo>
                <a:lnTo>
                  <a:pt x="1119" y="15"/>
                </a:lnTo>
                <a:lnTo>
                  <a:pt x="1130" y="12"/>
                </a:lnTo>
                <a:lnTo>
                  <a:pt x="1140" y="10"/>
                </a:lnTo>
                <a:lnTo>
                  <a:pt x="1149" y="6"/>
                </a:lnTo>
                <a:lnTo>
                  <a:pt x="1159" y="4"/>
                </a:lnTo>
                <a:lnTo>
                  <a:pt x="1167" y="2"/>
                </a:lnTo>
                <a:lnTo>
                  <a:pt x="1173" y="2"/>
                </a:lnTo>
                <a:lnTo>
                  <a:pt x="1180" y="0"/>
                </a:lnTo>
                <a:lnTo>
                  <a:pt x="1184" y="0"/>
                </a:lnTo>
                <a:lnTo>
                  <a:pt x="1190" y="0"/>
                </a:lnTo>
                <a:lnTo>
                  <a:pt x="1194" y="0"/>
                </a:lnTo>
                <a:lnTo>
                  <a:pt x="1196" y="2"/>
                </a:lnTo>
                <a:lnTo>
                  <a:pt x="1198" y="4"/>
                </a:lnTo>
                <a:lnTo>
                  <a:pt x="1199" y="6"/>
                </a:lnTo>
                <a:lnTo>
                  <a:pt x="1199" y="8"/>
                </a:lnTo>
                <a:lnTo>
                  <a:pt x="1198" y="10"/>
                </a:lnTo>
                <a:lnTo>
                  <a:pt x="1196" y="13"/>
                </a:lnTo>
                <a:lnTo>
                  <a:pt x="1194" y="17"/>
                </a:lnTo>
                <a:lnTo>
                  <a:pt x="1190" y="21"/>
                </a:lnTo>
                <a:lnTo>
                  <a:pt x="1186" y="27"/>
                </a:lnTo>
                <a:lnTo>
                  <a:pt x="1180" y="31"/>
                </a:lnTo>
                <a:lnTo>
                  <a:pt x="1174" y="37"/>
                </a:lnTo>
                <a:lnTo>
                  <a:pt x="1167" y="42"/>
                </a:lnTo>
                <a:lnTo>
                  <a:pt x="1159" y="50"/>
                </a:lnTo>
                <a:lnTo>
                  <a:pt x="1151" y="56"/>
                </a:lnTo>
                <a:lnTo>
                  <a:pt x="1142" y="63"/>
                </a:lnTo>
                <a:lnTo>
                  <a:pt x="1130" y="73"/>
                </a:lnTo>
                <a:lnTo>
                  <a:pt x="1119" y="81"/>
                </a:lnTo>
                <a:lnTo>
                  <a:pt x="1107" y="90"/>
                </a:lnTo>
                <a:lnTo>
                  <a:pt x="1094" y="100"/>
                </a:lnTo>
                <a:lnTo>
                  <a:pt x="1080" y="110"/>
                </a:lnTo>
                <a:lnTo>
                  <a:pt x="1065" y="119"/>
                </a:lnTo>
                <a:lnTo>
                  <a:pt x="1049" y="131"/>
                </a:lnTo>
                <a:lnTo>
                  <a:pt x="1032" y="142"/>
                </a:lnTo>
                <a:lnTo>
                  <a:pt x="1015" y="154"/>
                </a:lnTo>
                <a:lnTo>
                  <a:pt x="996" y="165"/>
                </a:lnTo>
                <a:lnTo>
                  <a:pt x="976" y="179"/>
                </a:lnTo>
                <a:lnTo>
                  <a:pt x="955" y="192"/>
                </a:lnTo>
                <a:lnTo>
                  <a:pt x="934" y="206"/>
                </a:lnTo>
                <a:lnTo>
                  <a:pt x="913" y="219"/>
                </a:lnTo>
                <a:lnTo>
                  <a:pt x="890" y="235"/>
                </a:lnTo>
                <a:lnTo>
                  <a:pt x="865" y="250"/>
                </a:lnTo>
                <a:lnTo>
                  <a:pt x="840" y="265"/>
                </a:lnTo>
                <a:lnTo>
                  <a:pt x="815" y="281"/>
                </a:lnTo>
                <a:lnTo>
                  <a:pt x="790" y="296"/>
                </a:lnTo>
                <a:lnTo>
                  <a:pt x="765" y="314"/>
                </a:lnTo>
                <a:lnTo>
                  <a:pt x="740" y="329"/>
                </a:lnTo>
                <a:lnTo>
                  <a:pt x="717" y="342"/>
                </a:lnTo>
                <a:lnTo>
                  <a:pt x="694" y="358"/>
                </a:lnTo>
                <a:lnTo>
                  <a:pt x="671" y="371"/>
                </a:lnTo>
                <a:lnTo>
                  <a:pt x="649" y="385"/>
                </a:lnTo>
                <a:lnTo>
                  <a:pt x="628" y="398"/>
                </a:lnTo>
                <a:lnTo>
                  <a:pt x="607" y="412"/>
                </a:lnTo>
                <a:lnTo>
                  <a:pt x="588" y="423"/>
                </a:lnTo>
                <a:lnTo>
                  <a:pt x="569" y="437"/>
                </a:lnTo>
                <a:lnTo>
                  <a:pt x="549" y="448"/>
                </a:lnTo>
                <a:lnTo>
                  <a:pt x="532" y="460"/>
                </a:lnTo>
                <a:lnTo>
                  <a:pt x="515" y="469"/>
                </a:lnTo>
                <a:lnTo>
                  <a:pt x="498" y="481"/>
                </a:lnTo>
                <a:lnTo>
                  <a:pt x="482" y="491"/>
                </a:lnTo>
                <a:lnTo>
                  <a:pt x="467" y="500"/>
                </a:lnTo>
                <a:lnTo>
                  <a:pt x="451" y="508"/>
                </a:lnTo>
                <a:lnTo>
                  <a:pt x="438" y="518"/>
                </a:lnTo>
                <a:lnTo>
                  <a:pt x="425" y="525"/>
                </a:lnTo>
                <a:lnTo>
                  <a:pt x="413" y="533"/>
                </a:lnTo>
                <a:lnTo>
                  <a:pt x="400" y="541"/>
                </a:lnTo>
                <a:lnTo>
                  <a:pt x="390" y="548"/>
                </a:lnTo>
                <a:lnTo>
                  <a:pt x="378" y="554"/>
                </a:lnTo>
                <a:lnTo>
                  <a:pt x="369" y="562"/>
                </a:lnTo>
                <a:lnTo>
                  <a:pt x="359" y="568"/>
                </a:lnTo>
                <a:lnTo>
                  <a:pt x="350" y="571"/>
                </a:lnTo>
                <a:lnTo>
                  <a:pt x="342" y="577"/>
                </a:lnTo>
                <a:lnTo>
                  <a:pt x="334" y="581"/>
                </a:lnTo>
                <a:lnTo>
                  <a:pt x="328" y="585"/>
                </a:lnTo>
                <a:lnTo>
                  <a:pt x="323" y="589"/>
                </a:lnTo>
                <a:lnTo>
                  <a:pt x="317" y="593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Freeform 18"/>
          <p:cNvSpPr/>
          <p:nvPr/>
        </p:nvSpPr>
        <p:spPr>
          <a:xfrm>
            <a:off x="7002360" y="1390680"/>
            <a:ext cx="771120" cy="213840"/>
          </a:xfrm>
          <a:custGeom>
            <a:avLst/>
            <a:gdLst>
              <a:gd name="textAreaLeft" fmla="*/ 0 w 771120"/>
              <a:gd name="textAreaRight" fmla="*/ 771480 w 77112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1227" h="339">
                <a:moveTo>
                  <a:pt x="35" y="281"/>
                </a:moveTo>
                <a:lnTo>
                  <a:pt x="29" y="275"/>
                </a:lnTo>
                <a:lnTo>
                  <a:pt x="23" y="271"/>
                </a:lnTo>
                <a:lnTo>
                  <a:pt x="17" y="265"/>
                </a:lnTo>
                <a:lnTo>
                  <a:pt x="13" y="262"/>
                </a:lnTo>
                <a:lnTo>
                  <a:pt x="10" y="256"/>
                </a:lnTo>
                <a:lnTo>
                  <a:pt x="8" y="252"/>
                </a:lnTo>
                <a:lnTo>
                  <a:pt x="4" y="248"/>
                </a:lnTo>
                <a:lnTo>
                  <a:pt x="2" y="244"/>
                </a:lnTo>
                <a:lnTo>
                  <a:pt x="2" y="242"/>
                </a:lnTo>
                <a:lnTo>
                  <a:pt x="0" y="239"/>
                </a:lnTo>
                <a:lnTo>
                  <a:pt x="0" y="235"/>
                </a:lnTo>
                <a:lnTo>
                  <a:pt x="2" y="233"/>
                </a:lnTo>
                <a:lnTo>
                  <a:pt x="2" y="231"/>
                </a:lnTo>
                <a:lnTo>
                  <a:pt x="4" y="229"/>
                </a:lnTo>
                <a:lnTo>
                  <a:pt x="6" y="227"/>
                </a:lnTo>
                <a:lnTo>
                  <a:pt x="10" y="225"/>
                </a:lnTo>
                <a:lnTo>
                  <a:pt x="12" y="225"/>
                </a:lnTo>
                <a:lnTo>
                  <a:pt x="13" y="223"/>
                </a:lnTo>
                <a:lnTo>
                  <a:pt x="17" y="221"/>
                </a:lnTo>
                <a:lnTo>
                  <a:pt x="21" y="219"/>
                </a:lnTo>
                <a:lnTo>
                  <a:pt x="27" y="219"/>
                </a:lnTo>
                <a:lnTo>
                  <a:pt x="33" y="217"/>
                </a:lnTo>
                <a:lnTo>
                  <a:pt x="38" y="215"/>
                </a:lnTo>
                <a:lnTo>
                  <a:pt x="46" y="212"/>
                </a:lnTo>
                <a:lnTo>
                  <a:pt x="54" y="210"/>
                </a:lnTo>
                <a:lnTo>
                  <a:pt x="62" y="208"/>
                </a:lnTo>
                <a:lnTo>
                  <a:pt x="71" y="204"/>
                </a:lnTo>
                <a:lnTo>
                  <a:pt x="81" y="202"/>
                </a:lnTo>
                <a:lnTo>
                  <a:pt x="92" y="198"/>
                </a:lnTo>
                <a:lnTo>
                  <a:pt x="104" y="196"/>
                </a:lnTo>
                <a:lnTo>
                  <a:pt x="115" y="192"/>
                </a:lnTo>
                <a:lnTo>
                  <a:pt x="129" y="189"/>
                </a:lnTo>
                <a:lnTo>
                  <a:pt x="142" y="185"/>
                </a:lnTo>
                <a:lnTo>
                  <a:pt x="158" y="181"/>
                </a:lnTo>
                <a:lnTo>
                  <a:pt x="173" y="177"/>
                </a:lnTo>
                <a:lnTo>
                  <a:pt x="188" y="173"/>
                </a:lnTo>
                <a:lnTo>
                  <a:pt x="206" y="167"/>
                </a:lnTo>
                <a:lnTo>
                  <a:pt x="223" y="164"/>
                </a:lnTo>
                <a:lnTo>
                  <a:pt x="240" y="158"/>
                </a:lnTo>
                <a:lnTo>
                  <a:pt x="260" y="154"/>
                </a:lnTo>
                <a:lnTo>
                  <a:pt x="279" y="148"/>
                </a:lnTo>
                <a:lnTo>
                  <a:pt x="300" y="142"/>
                </a:lnTo>
                <a:lnTo>
                  <a:pt x="321" y="137"/>
                </a:lnTo>
                <a:lnTo>
                  <a:pt x="344" y="131"/>
                </a:lnTo>
                <a:lnTo>
                  <a:pt x="365" y="125"/>
                </a:lnTo>
                <a:lnTo>
                  <a:pt x="390" y="119"/>
                </a:lnTo>
                <a:lnTo>
                  <a:pt x="413" y="112"/>
                </a:lnTo>
                <a:lnTo>
                  <a:pt x="438" y="106"/>
                </a:lnTo>
                <a:lnTo>
                  <a:pt x="488" y="92"/>
                </a:lnTo>
                <a:lnTo>
                  <a:pt x="536" y="81"/>
                </a:lnTo>
                <a:lnTo>
                  <a:pt x="583" y="71"/>
                </a:lnTo>
                <a:lnTo>
                  <a:pt x="625" y="60"/>
                </a:lnTo>
                <a:lnTo>
                  <a:pt x="667" y="50"/>
                </a:lnTo>
                <a:lnTo>
                  <a:pt x="710" y="42"/>
                </a:lnTo>
                <a:lnTo>
                  <a:pt x="748" y="35"/>
                </a:lnTo>
                <a:lnTo>
                  <a:pt x="785" y="27"/>
                </a:lnTo>
                <a:lnTo>
                  <a:pt x="819" y="21"/>
                </a:lnTo>
                <a:lnTo>
                  <a:pt x="852" y="15"/>
                </a:lnTo>
                <a:lnTo>
                  <a:pt x="883" y="12"/>
                </a:lnTo>
                <a:lnTo>
                  <a:pt x="913" y="8"/>
                </a:lnTo>
                <a:lnTo>
                  <a:pt x="940" y="4"/>
                </a:lnTo>
                <a:lnTo>
                  <a:pt x="965" y="2"/>
                </a:lnTo>
                <a:lnTo>
                  <a:pt x="990" y="0"/>
                </a:lnTo>
                <a:lnTo>
                  <a:pt x="1011" y="0"/>
                </a:lnTo>
                <a:lnTo>
                  <a:pt x="1033" y="0"/>
                </a:lnTo>
                <a:lnTo>
                  <a:pt x="1052" y="0"/>
                </a:lnTo>
                <a:lnTo>
                  <a:pt x="1069" y="2"/>
                </a:lnTo>
                <a:lnTo>
                  <a:pt x="1086" y="4"/>
                </a:lnTo>
                <a:lnTo>
                  <a:pt x="1104" y="6"/>
                </a:lnTo>
                <a:lnTo>
                  <a:pt x="1119" y="8"/>
                </a:lnTo>
                <a:lnTo>
                  <a:pt x="1133" y="10"/>
                </a:lnTo>
                <a:lnTo>
                  <a:pt x="1146" y="13"/>
                </a:lnTo>
                <a:lnTo>
                  <a:pt x="1158" y="15"/>
                </a:lnTo>
                <a:lnTo>
                  <a:pt x="1169" y="19"/>
                </a:lnTo>
                <a:lnTo>
                  <a:pt x="1179" y="23"/>
                </a:lnTo>
                <a:lnTo>
                  <a:pt x="1186" y="29"/>
                </a:lnTo>
                <a:lnTo>
                  <a:pt x="1194" y="33"/>
                </a:lnTo>
                <a:lnTo>
                  <a:pt x="1202" y="38"/>
                </a:lnTo>
                <a:lnTo>
                  <a:pt x="1208" y="44"/>
                </a:lnTo>
                <a:lnTo>
                  <a:pt x="1211" y="50"/>
                </a:lnTo>
                <a:lnTo>
                  <a:pt x="1217" y="62"/>
                </a:lnTo>
                <a:lnTo>
                  <a:pt x="1223" y="73"/>
                </a:lnTo>
                <a:lnTo>
                  <a:pt x="1225" y="83"/>
                </a:lnTo>
                <a:lnTo>
                  <a:pt x="1227" y="92"/>
                </a:lnTo>
                <a:lnTo>
                  <a:pt x="1225" y="100"/>
                </a:lnTo>
                <a:lnTo>
                  <a:pt x="1223" y="108"/>
                </a:lnTo>
                <a:lnTo>
                  <a:pt x="1217" y="114"/>
                </a:lnTo>
                <a:lnTo>
                  <a:pt x="1211" y="119"/>
                </a:lnTo>
                <a:lnTo>
                  <a:pt x="1206" y="121"/>
                </a:lnTo>
                <a:lnTo>
                  <a:pt x="1200" y="125"/>
                </a:lnTo>
                <a:lnTo>
                  <a:pt x="1192" y="127"/>
                </a:lnTo>
                <a:lnTo>
                  <a:pt x="1181" y="131"/>
                </a:lnTo>
                <a:lnTo>
                  <a:pt x="1169" y="135"/>
                </a:lnTo>
                <a:lnTo>
                  <a:pt x="1154" y="139"/>
                </a:lnTo>
                <a:lnTo>
                  <a:pt x="1138" y="142"/>
                </a:lnTo>
                <a:lnTo>
                  <a:pt x="1121" y="148"/>
                </a:lnTo>
                <a:lnTo>
                  <a:pt x="1102" y="154"/>
                </a:lnTo>
                <a:lnTo>
                  <a:pt x="1079" y="160"/>
                </a:lnTo>
                <a:lnTo>
                  <a:pt x="1056" y="165"/>
                </a:lnTo>
                <a:lnTo>
                  <a:pt x="1031" y="171"/>
                </a:lnTo>
                <a:lnTo>
                  <a:pt x="1004" y="177"/>
                </a:lnTo>
                <a:lnTo>
                  <a:pt x="975" y="185"/>
                </a:lnTo>
                <a:lnTo>
                  <a:pt x="944" y="192"/>
                </a:lnTo>
                <a:lnTo>
                  <a:pt x="911" y="200"/>
                </a:lnTo>
                <a:lnTo>
                  <a:pt x="846" y="215"/>
                </a:lnTo>
                <a:lnTo>
                  <a:pt x="781" y="229"/>
                </a:lnTo>
                <a:lnTo>
                  <a:pt x="717" y="244"/>
                </a:lnTo>
                <a:lnTo>
                  <a:pt x="654" y="258"/>
                </a:lnTo>
                <a:lnTo>
                  <a:pt x="594" y="271"/>
                </a:lnTo>
                <a:lnTo>
                  <a:pt x="535" y="283"/>
                </a:lnTo>
                <a:lnTo>
                  <a:pt x="477" y="294"/>
                </a:lnTo>
                <a:lnTo>
                  <a:pt x="419" y="306"/>
                </a:lnTo>
                <a:lnTo>
                  <a:pt x="392" y="312"/>
                </a:lnTo>
                <a:lnTo>
                  <a:pt x="365" y="316"/>
                </a:lnTo>
                <a:lnTo>
                  <a:pt x="342" y="319"/>
                </a:lnTo>
                <a:lnTo>
                  <a:pt x="319" y="323"/>
                </a:lnTo>
                <a:lnTo>
                  <a:pt x="296" y="327"/>
                </a:lnTo>
                <a:lnTo>
                  <a:pt x="275" y="331"/>
                </a:lnTo>
                <a:lnTo>
                  <a:pt x="256" y="333"/>
                </a:lnTo>
                <a:lnTo>
                  <a:pt x="238" y="335"/>
                </a:lnTo>
                <a:lnTo>
                  <a:pt x="221" y="337"/>
                </a:lnTo>
                <a:lnTo>
                  <a:pt x="206" y="339"/>
                </a:lnTo>
                <a:lnTo>
                  <a:pt x="192" y="339"/>
                </a:lnTo>
                <a:lnTo>
                  <a:pt x="179" y="339"/>
                </a:lnTo>
                <a:lnTo>
                  <a:pt x="167" y="339"/>
                </a:lnTo>
                <a:lnTo>
                  <a:pt x="158" y="339"/>
                </a:lnTo>
                <a:lnTo>
                  <a:pt x="148" y="339"/>
                </a:lnTo>
                <a:lnTo>
                  <a:pt x="140" y="337"/>
                </a:lnTo>
                <a:lnTo>
                  <a:pt x="127" y="333"/>
                </a:lnTo>
                <a:lnTo>
                  <a:pt x="112" y="329"/>
                </a:lnTo>
                <a:lnTo>
                  <a:pt x="98" y="323"/>
                </a:lnTo>
                <a:lnTo>
                  <a:pt x="85" y="317"/>
                </a:lnTo>
                <a:lnTo>
                  <a:pt x="73" y="310"/>
                </a:lnTo>
                <a:lnTo>
                  <a:pt x="60" y="300"/>
                </a:lnTo>
                <a:lnTo>
                  <a:pt x="46" y="291"/>
                </a:lnTo>
                <a:lnTo>
                  <a:pt x="35" y="281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2" name="Freeform 19"/>
          <p:cNvSpPr/>
          <p:nvPr/>
        </p:nvSpPr>
        <p:spPr>
          <a:xfrm>
            <a:off x="7251840" y="1558800"/>
            <a:ext cx="175680" cy="798120"/>
          </a:xfrm>
          <a:custGeom>
            <a:avLst/>
            <a:gdLst>
              <a:gd name="textAreaLeft" fmla="*/ 0 w 175680"/>
              <a:gd name="textAreaRight" fmla="*/ 176040 w 175680"/>
              <a:gd name="textAreaTop" fmla="*/ 0 h 798120"/>
              <a:gd name="textAreaBottom" fmla="*/ 798480 h 798120"/>
            </a:gdLst>
            <a:ahLst/>
            <a:rect l="textAreaLeft" t="textAreaTop" r="textAreaRight" b="textAreaBottom"/>
            <a:pathLst>
              <a:path w="279" h="1268">
                <a:moveTo>
                  <a:pt x="31" y="97"/>
                </a:moveTo>
                <a:lnTo>
                  <a:pt x="25" y="93"/>
                </a:lnTo>
                <a:lnTo>
                  <a:pt x="21" y="89"/>
                </a:lnTo>
                <a:lnTo>
                  <a:pt x="16" y="87"/>
                </a:lnTo>
                <a:lnTo>
                  <a:pt x="12" y="83"/>
                </a:lnTo>
                <a:lnTo>
                  <a:pt x="10" y="77"/>
                </a:lnTo>
                <a:lnTo>
                  <a:pt x="6" y="74"/>
                </a:lnTo>
                <a:lnTo>
                  <a:pt x="4" y="70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51"/>
                </a:lnTo>
                <a:lnTo>
                  <a:pt x="0" y="45"/>
                </a:lnTo>
                <a:lnTo>
                  <a:pt x="0" y="39"/>
                </a:lnTo>
                <a:lnTo>
                  <a:pt x="2" y="33"/>
                </a:lnTo>
                <a:lnTo>
                  <a:pt x="4" y="27"/>
                </a:lnTo>
                <a:lnTo>
                  <a:pt x="6" y="22"/>
                </a:lnTo>
                <a:lnTo>
                  <a:pt x="8" y="16"/>
                </a:lnTo>
                <a:lnTo>
                  <a:pt x="12" y="12"/>
                </a:lnTo>
                <a:lnTo>
                  <a:pt x="16" y="8"/>
                </a:lnTo>
                <a:lnTo>
                  <a:pt x="21" y="4"/>
                </a:lnTo>
                <a:lnTo>
                  <a:pt x="27" y="2"/>
                </a:lnTo>
                <a:lnTo>
                  <a:pt x="35" y="0"/>
                </a:lnTo>
                <a:lnTo>
                  <a:pt x="42" y="0"/>
                </a:lnTo>
                <a:lnTo>
                  <a:pt x="52" y="2"/>
                </a:lnTo>
                <a:lnTo>
                  <a:pt x="62" y="2"/>
                </a:lnTo>
                <a:lnTo>
                  <a:pt x="71" y="6"/>
                </a:lnTo>
                <a:lnTo>
                  <a:pt x="83" y="10"/>
                </a:lnTo>
                <a:lnTo>
                  <a:pt x="96" y="14"/>
                </a:lnTo>
                <a:lnTo>
                  <a:pt x="110" y="20"/>
                </a:lnTo>
                <a:lnTo>
                  <a:pt x="123" y="26"/>
                </a:lnTo>
                <a:lnTo>
                  <a:pt x="139" y="33"/>
                </a:lnTo>
                <a:lnTo>
                  <a:pt x="154" y="41"/>
                </a:lnTo>
                <a:lnTo>
                  <a:pt x="169" y="51"/>
                </a:lnTo>
                <a:lnTo>
                  <a:pt x="185" y="58"/>
                </a:lnTo>
                <a:lnTo>
                  <a:pt x="198" y="68"/>
                </a:lnTo>
                <a:lnTo>
                  <a:pt x="212" y="76"/>
                </a:lnTo>
                <a:lnTo>
                  <a:pt x="223" y="85"/>
                </a:lnTo>
                <a:lnTo>
                  <a:pt x="233" y="95"/>
                </a:lnTo>
                <a:lnTo>
                  <a:pt x="242" y="104"/>
                </a:lnTo>
                <a:lnTo>
                  <a:pt x="252" y="114"/>
                </a:lnTo>
                <a:lnTo>
                  <a:pt x="258" y="122"/>
                </a:lnTo>
                <a:lnTo>
                  <a:pt x="264" y="131"/>
                </a:lnTo>
                <a:lnTo>
                  <a:pt x="269" y="141"/>
                </a:lnTo>
                <a:lnTo>
                  <a:pt x="273" y="151"/>
                </a:lnTo>
                <a:lnTo>
                  <a:pt x="277" y="160"/>
                </a:lnTo>
                <a:lnTo>
                  <a:pt x="279" y="172"/>
                </a:lnTo>
                <a:lnTo>
                  <a:pt x="279" y="181"/>
                </a:lnTo>
                <a:lnTo>
                  <a:pt x="279" y="191"/>
                </a:lnTo>
                <a:lnTo>
                  <a:pt x="279" y="197"/>
                </a:lnTo>
                <a:lnTo>
                  <a:pt x="279" y="204"/>
                </a:lnTo>
                <a:lnTo>
                  <a:pt x="277" y="214"/>
                </a:lnTo>
                <a:lnTo>
                  <a:pt x="277" y="226"/>
                </a:lnTo>
                <a:lnTo>
                  <a:pt x="277" y="239"/>
                </a:lnTo>
                <a:lnTo>
                  <a:pt x="275" y="253"/>
                </a:lnTo>
                <a:lnTo>
                  <a:pt x="275" y="270"/>
                </a:lnTo>
                <a:lnTo>
                  <a:pt x="273" y="289"/>
                </a:lnTo>
                <a:lnTo>
                  <a:pt x="273" y="308"/>
                </a:lnTo>
                <a:lnTo>
                  <a:pt x="271" y="331"/>
                </a:lnTo>
                <a:lnTo>
                  <a:pt x="271" y="354"/>
                </a:lnTo>
                <a:lnTo>
                  <a:pt x="269" y="380"/>
                </a:lnTo>
                <a:lnTo>
                  <a:pt x="269" y="408"/>
                </a:lnTo>
                <a:lnTo>
                  <a:pt x="267" y="437"/>
                </a:lnTo>
                <a:lnTo>
                  <a:pt x="265" y="468"/>
                </a:lnTo>
                <a:lnTo>
                  <a:pt x="265" y="501"/>
                </a:lnTo>
                <a:lnTo>
                  <a:pt x="264" y="535"/>
                </a:lnTo>
                <a:lnTo>
                  <a:pt x="262" y="572"/>
                </a:lnTo>
                <a:lnTo>
                  <a:pt x="260" y="608"/>
                </a:lnTo>
                <a:lnTo>
                  <a:pt x="258" y="649"/>
                </a:lnTo>
                <a:lnTo>
                  <a:pt x="258" y="691"/>
                </a:lnTo>
                <a:lnTo>
                  <a:pt x="256" y="734"/>
                </a:lnTo>
                <a:lnTo>
                  <a:pt x="254" y="780"/>
                </a:lnTo>
                <a:lnTo>
                  <a:pt x="252" y="826"/>
                </a:lnTo>
                <a:lnTo>
                  <a:pt x="250" y="876"/>
                </a:lnTo>
                <a:lnTo>
                  <a:pt x="248" y="926"/>
                </a:lnTo>
                <a:lnTo>
                  <a:pt x="246" y="980"/>
                </a:lnTo>
                <a:lnTo>
                  <a:pt x="244" y="1034"/>
                </a:lnTo>
                <a:lnTo>
                  <a:pt x="242" y="1089"/>
                </a:lnTo>
                <a:lnTo>
                  <a:pt x="239" y="1147"/>
                </a:lnTo>
                <a:lnTo>
                  <a:pt x="237" y="1207"/>
                </a:lnTo>
                <a:lnTo>
                  <a:pt x="235" y="1268"/>
                </a:lnTo>
                <a:lnTo>
                  <a:pt x="87" y="1268"/>
                </a:lnTo>
                <a:lnTo>
                  <a:pt x="87" y="1234"/>
                </a:lnTo>
                <a:lnTo>
                  <a:pt x="87" y="1197"/>
                </a:lnTo>
                <a:lnTo>
                  <a:pt x="85" y="1163"/>
                </a:lnTo>
                <a:lnTo>
                  <a:pt x="85" y="1130"/>
                </a:lnTo>
                <a:lnTo>
                  <a:pt x="85" y="1097"/>
                </a:lnTo>
                <a:lnTo>
                  <a:pt x="85" y="1062"/>
                </a:lnTo>
                <a:lnTo>
                  <a:pt x="83" y="1032"/>
                </a:lnTo>
                <a:lnTo>
                  <a:pt x="83" y="999"/>
                </a:lnTo>
                <a:lnTo>
                  <a:pt x="83" y="968"/>
                </a:lnTo>
                <a:lnTo>
                  <a:pt x="81" y="937"/>
                </a:lnTo>
                <a:lnTo>
                  <a:pt x="81" y="909"/>
                </a:lnTo>
                <a:lnTo>
                  <a:pt x="81" y="878"/>
                </a:lnTo>
                <a:lnTo>
                  <a:pt x="79" y="849"/>
                </a:lnTo>
                <a:lnTo>
                  <a:pt x="79" y="820"/>
                </a:lnTo>
                <a:lnTo>
                  <a:pt x="79" y="793"/>
                </a:lnTo>
                <a:lnTo>
                  <a:pt x="77" y="766"/>
                </a:lnTo>
                <a:lnTo>
                  <a:pt x="77" y="739"/>
                </a:lnTo>
                <a:lnTo>
                  <a:pt x="77" y="712"/>
                </a:lnTo>
                <a:lnTo>
                  <a:pt x="75" y="687"/>
                </a:lnTo>
                <a:lnTo>
                  <a:pt x="75" y="662"/>
                </a:lnTo>
                <a:lnTo>
                  <a:pt x="75" y="637"/>
                </a:lnTo>
                <a:lnTo>
                  <a:pt x="73" y="612"/>
                </a:lnTo>
                <a:lnTo>
                  <a:pt x="73" y="589"/>
                </a:lnTo>
                <a:lnTo>
                  <a:pt x="73" y="566"/>
                </a:lnTo>
                <a:lnTo>
                  <a:pt x="71" y="545"/>
                </a:lnTo>
                <a:lnTo>
                  <a:pt x="71" y="522"/>
                </a:lnTo>
                <a:lnTo>
                  <a:pt x="69" y="501"/>
                </a:lnTo>
                <a:lnTo>
                  <a:pt x="69" y="480"/>
                </a:lnTo>
                <a:lnTo>
                  <a:pt x="69" y="460"/>
                </a:lnTo>
                <a:lnTo>
                  <a:pt x="67" y="441"/>
                </a:lnTo>
                <a:lnTo>
                  <a:pt x="67" y="422"/>
                </a:lnTo>
                <a:lnTo>
                  <a:pt x="65" y="403"/>
                </a:lnTo>
                <a:lnTo>
                  <a:pt x="65" y="385"/>
                </a:lnTo>
                <a:lnTo>
                  <a:pt x="64" y="368"/>
                </a:lnTo>
                <a:lnTo>
                  <a:pt x="64" y="351"/>
                </a:lnTo>
                <a:lnTo>
                  <a:pt x="62" y="333"/>
                </a:lnTo>
                <a:lnTo>
                  <a:pt x="62" y="318"/>
                </a:lnTo>
                <a:lnTo>
                  <a:pt x="60" y="303"/>
                </a:lnTo>
                <a:lnTo>
                  <a:pt x="60" y="287"/>
                </a:lnTo>
                <a:lnTo>
                  <a:pt x="58" y="274"/>
                </a:lnTo>
                <a:lnTo>
                  <a:pt x="58" y="260"/>
                </a:lnTo>
                <a:lnTo>
                  <a:pt x="56" y="247"/>
                </a:lnTo>
                <a:lnTo>
                  <a:pt x="56" y="235"/>
                </a:lnTo>
                <a:lnTo>
                  <a:pt x="54" y="222"/>
                </a:lnTo>
                <a:lnTo>
                  <a:pt x="54" y="210"/>
                </a:lnTo>
                <a:lnTo>
                  <a:pt x="52" y="201"/>
                </a:lnTo>
                <a:lnTo>
                  <a:pt x="52" y="189"/>
                </a:lnTo>
                <a:lnTo>
                  <a:pt x="50" y="179"/>
                </a:lnTo>
                <a:lnTo>
                  <a:pt x="50" y="170"/>
                </a:lnTo>
                <a:lnTo>
                  <a:pt x="48" y="162"/>
                </a:lnTo>
                <a:lnTo>
                  <a:pt x="46" y="154"/>
                </a:lnTo>
                <a:lnTo>
                  <a:pt x="46" y="147"/>
                </a:lnTo>
                <a:lnTo>
                  <a:pt x="44" y="139"/>
                </a:lnTo>
                <a:lnTo>
                  <a:pt x="44" y="131"/>
                </a:lnTo>
                <a:lnTo>
                  <a:pt x="42" y="126"/>
                </a:lnTo>
                <a:lnTo>
                  <a:pt x="41" y="120"/>
                </a:lnTo>
                <a:lnTo>
                  <a:pt x="41" y="116"/>
                </a:lnTo>
                <a:lnTo>
                  <a:pt x="39" y="112"/>
                </a:lnTo>
                <a:lnTo>
                  <a:pt x="37" y="108"/>
                </a:lnTo>
                <a:lnTo>
                  <a:pt x="37" y="104"/>
                </a:lnTo>
                <a:lnTo>
                  <a:pt x="35" y="102"/>
                </a:lnTo>
                <a:lnTo>
                  <a:pt x="33" y="99"/>
                </a:lnTo>
                <a:lnTo>
                  <a:pt x="31" y="97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3" name="Freeform 20"/>
          <p:cNvSpPr/>
          <p:nvPr/>
        </p:nvSpPr>
        <p:spPr>
          <a:xfrm>
            <a:off x="6745320" y="2230560"/>
            <a:ext cx="1226880" cy="22824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948" h="362">
                <a:moveTo>
                  <a:pt x="106" y="331"/>
                </a:moveTo>
                <a:lnTo>
                  <a:pt x="95" y="327"/>
                </a:lnTo>
                <a:lnTo>
                  <a:pt x="83" y="323"/>
                </a:lnTo>
                <a:lnTo>
                  <a:pt x="71" y="320"/>
                </a:lnTo>
                <a:lnTo>
                  <a:pt x="62" y="316"/>
                </a:lnTo>
                <a:lnTo>
                  <a:pt x="52" y="312"/>
                </a:lnTo>
                <a:lnTo>
                  <a:pt x="45" y="308"/>
                </a:lnTo>
                <a:lnTo>
                  <a:pt x="37" y="304"/>
                </a:lnTo>
                <a:lnTo>
                  <a:pt x="29" y="300"/>
                </a:lnTo>
                <a:lnTo>
                  <a:pt x="23" y="295"/>
                </a:lnTo>
                <a:lnTo>
                  <a:pt x="18" y="291"/>
                </a:lnTo>
                <a:lnTo>
                  <a:pt x="14" y="287"/>
                </a:lnTo>
                <a:lnTo>
                  <a:pt x="10" y="283"/>
                </a:lnTo>
                <a:lnTo>
                  <a:pt x="6" y="279"/>
                </a:lnTo>
                <a:lnTo>
                  <a:pt x="4" y="275"/>
                </a:lnTo>
                <a:lnTo>
                  <a:pt x="2" y="272"/>
                </a:lnTo>
                <a:lnTo>
                  <a:pt x="0" y="268"/>
                </a:lnTo>
                <a:lnTo>
                  <a:pt x="0" y="264"/>
                </a:lnTo>
                <a:lnTo>
                  <a:pt x="0" y="260"/>
                </a:lnTo>
                <a:lnTo>
                  <a:pt x="4" y="258"/>
                </a:lnTo>
                <a:lnTo>
                  <a:pt x="6" y="254"/>
                </a:lnTo>
                <a:lnTo>
                  <a:pt x="12" y="250"/>
                </a:lnTo>
                <a:lnTo>
                  <a:pt x="18" y="247"/>
                </a:lnTo>
                <a:lnTo>
                  <a:pt x="23" y="245"/>
                </a:lnTo>
                <a:lnTo>
                  <a:pt x="33" y="241"/>
                </a:lnTo>
                <a:lnTo>
                  <a:pt x="43" y="237"/>
                </a:lnTo>
                <a:lnTo>
                  <a:pt x="52" y="235"/>
                </a:lnTo>
                <a:lnTo>
                  <a:pt x="64" y="231"/>
                </a:lnTo>
                <a:lnTo>
                  <a:pt x="77" y="229"/>
                </a:lnTo>
                <a:lnTo>
                  <a:pt x="93" y="225"/>
                </a:lnTo>
                <a:lnTo>
                  <a:pt x="108" y="223"/>
                </a:lnTo>
                <a:lnTo>
                  <a:pt x="125" y="220"/>
                </a:lnTo>
                <a:lnTo>
                  <a:pt x="143" y="218"/>
                </a:lnTo>
                <a:lnTo>
                  <a:pt x="152" y="216"/>
                </a:lnTo>
                <a:lnTo>
                  <a:pt x="164" y="216"/>
                </a:lnTo>
                <a:lnTo>
                  <a:pt x="175" y="214"/>
                </a:lnTo>
                <a:lnTo>
                  <a:pt x="187" y="212"/>
                </a:lnTo>
                <a:lnTo>
                  <a:pt x="200" y="210"/>
                </a:lnTo>
                <a:lnTo>
                  <a:pt x="214" y="208"/>
                </a:lnTo>
                <a:lnTo>
                  <a:pt x="229" y="206"/>
                </a:lnTo>
                <a:lnTo>
                  <a:pt x="245" y="204"/>
                </a:lnTo>
                <a:lnTo>
                  <a:pt x="260" y="202"/>
                </a:lnTo>
                <a:lnTo>
                  <a:pt x="277" y="198"/>
                </a:lnTo>
                <a:lnTo>
                  <a:pt x="296" y="197"/>
                </a:lnTo>
                <a:lnTo>
                  <a:pt x="316" y="193"/>
                </a:lnTo>
                <a:lnTo>
                  <a:pt x="335" y="191"/>
                </a:lnTo>
                <a:lnTo>
                  <a:pt x="356" y="187"/>
                </a:lnTo>
                <a:lnTo>
                  <a:pt x="377" y="183"/>
                </a:lnTo>
                <a:lnTo>
                  <a:pt x="400" y="179"/>
                </a:lnTo>
                <a:lnTo>
                  <a:pt x="423" y="175"/>
                </a:lnTo>
                <a:lnTo>
                  <a:pt x="446" y="171"/>
                </a:lnTo>
                <a:lnTo>
                  <a:pt x="471" y="168"/>
                </a:lnTo>
                <a:lnTo>
                  <a:pt x="496" y="164"/>
                </a:lnTo>
                <a:lnTo>
                  <a:pt x="523" y="160"/>
                </a:lnTo>
                <a:lnTo>
                  <a:pt x="552" y="154"/>
                </a:lnTo>
                <a:lnTo>
                  <a:pt x="579" y="150"/>
                </a:lnTo>
                <a:lnTo>
                  <a:pt x="608" y="145"/>
                </a:lnTo>
                <a:lnTo>
                  <a:pt x="639" y="141"/>
                </a:lnTo>
                <a:lnTo>
                  <a:pt x="670" y="135"/>
                </a:lnTo>
                <a:lnTo>
                  <a:pt x="700" y="129"/>
                </a:lnTo>
                <a:lnTo>
                  <a:pt x="733" y="123"/>
                </a:lnTo>
                <a:lnTo>
                  <a:pt x="766" y="118"/>
                </a:lnTo>
                <a:lnTo>
                  <a:pt x="800" y="112"/>
                </a:lnTo>
                <a:lnTo>
                  <a:pt x="835" y="106"/>
                </a:lnTo>
                <a:lnTo>
                  <a:pt x="871" y="100"/>
                </a:lnTo>
                <a:lnTo>
                  <a:pt x="908" y="95"/>
                </a:lnTo>
                <a:lnTo>
                  <a:pt x="943" y="89"/>
                </a:lnTo>
                <a:lnTo>
                  <a:pt x="975" y="83"/>
                </a:lnTo>
                <a:lnTo>
                  <a:pt x="1010" y="77"/>
                </a:lnTo>
                <a:lnTo>
                  <a:pt x="1041" y="71"/>
                </a:lnTo>
                <a:lnTo>
                  <a:pt x="1073" y="66"/>
                </a:lnTo>
                <a:lnTo>
                  <a:pt x="1102" y="62"/>
                </a:lnTo>
                <a:lnTo>
                  <a:pt x="1133" y="56"/>
                </a:lnTo>
                <a:lnTo>
                  <a:pt x="1162" y="52"/>
                </a:lnTo>
                <a:lnTo>
                  <a:pt x="1189" y="46"/>
                </a:lnTo>
                <a:lnTo>
                  <a:pt x="1216" y="43"/>
                </a:lnTo>
                <a:lnTo>
                  <a:pt x="1241" y="39"/>
                </a:lnTo>
                <a:lnTo>
                  <a:pt x="1266" y="35"/>
                </a:lnTo>
                <a:lnTo>
                  <a:pt x="1291" y="31"/>
                </a:lnTo>
                <a:lnTo>
                  <a:pt x="1314" y="29"/>
                </a:lnTo>
                <a:lnTo>
                  <a:pt x="1337" y="25"/>
                </a:lnTo>
                <a:lnTo>
                  <a:pt x="1358" y="21"/>
                </a:lnTo>
                <a:lnTo>
                  <a:pt x="1377" y="20"/>
                </a:lnTo>
                <a:lnTo>
                  <a:pt x="1396" y="18"/>
                </a:lnTo>
                <a:lnTo>
                  <a:pt x="1416" y="14"/>
                </a:lnTo>
                <a:lnTo>
                  <a:pt x="1433" y="12"/>
                </a:lnTo>
                <a:lnTo>
                  <a:pt x="1450" y="10"/>
                </a:lnTo>
                <a:lnTo>
                  <a:pt x="1466" y="8"/>
                </a:lnTo>
                <a:lnTo>
                  <a:pt x="1481" y="6"/>
                </a:lnTo>
                <a:lnTo>
                  <a:pt x="1496" y="4"/>
                </a:lnTo>
                <a:lnTo>
                  <a:pt x="1510" y="4"/>
                </a:lnTo>
                <a:lnTo>
                  <a:pt x="1521" y="2"/>
                </a:lnTo>
                <a:lnTo>
                  <a:pt x="1533" y="2"/>
                </a:lnTo>
                <a:lnTo>
                  <a:pt x="1543" y="0"/>
                </a:lnTo>
                <a:lnTo>
                  <a:pt x="1552" y="0"/>
                </a:lnTo>
                <a:lnTo>
                  <a:pt x="1562" y="0"/>
                </a:lnTo>
                <a:lnTo>
                  <a:pt x="1569" y="0"/>
                </a:lnTo>
                <a:lnTo>
                  <a:pt x="1598" y="0"/>
                </a:lnTo>
                <a:lnTo>
                  <a:pt x="1629" y="4"/>
                </a:lnTo>
                <a:lnTo>
                  <a:pt x="1660" y="8"/>
                </a:lnTo>
                <a:lnTo>
                  <a:pt x="1691" y="14"/>
                </a:lnTo>
                <a:lnTo>
                  <a:pt x="1721" y="20"/>
                </a:lnTo>
                <a:lnTo>
                  <a:pt x="1754" y="29"/>
                </a:lnTo>
                <a:lnTo>
                  <a:pt x="1785" y="39"/>
                </a:lnTo>
                <a:lnTo>
                  <a:pt x="1818" y="50"/>
                </a:lnTo>
                <a:lnTo>
                  <a:pt x="1833" y="56"/>
                </a:lnTo>
                <a:lnTo>
                  <a:pt x="1848" y="62"/>
                </a:lnTo>
                <a:lnTo>
                  <a:pt x="1862" y="70"/>
                </a:lnTo>
                <a:lnTo>
                  <a:pt x="1875" y="75"/>
                </a:lnTo>
                <a:lnTo>
                  <a:pt x="1887" y="81"/>
                </a:lnTo>
                <a:lnTo>
                  <a:pt x="1898" y="87"/>
                </a:lnTo>
                <a:lnTo>
                  <a:pt x="1908" y="95"/>
                </a:lnTo>
                <a:lnTo>
                  <a:pt x="1916" y="100"/>
                </a:lnTo>
                <a:lnTo>
                  <a:pt x="1923" y="106"/>
                </a:lnTo>
                <a:lnTo>
                  <a:pt x="1931" y="114"/>
                </a:lnTo>
                <a:lnTo>
                  <a:pt x="1937" y="120"/>
                </a:lnTo>
                <a:lnTo>
                  <a:pt x="1941" y="125"/>
                </a:lnTo>
                <a:lnTo>
                  <a:pt x="1944" y="131"/>
                </a:lnTo>
                <a:lnTo>
                  <a:pt x="1946" y="139"/>
                </a:lnTo>
                <a:lnTo>
                  <a:pt x="1948" y="145"/>
                </a:lnTo>
                <a:lnTo>
                  <a:pt x="1948" y="150"/>
                </a:lnTo>
                <a:lnTo>
                  <a:pt x="1948" y="154"/>
                </a:lnTo>
                <a:lnTo>
                  <a:pt x="1946" y="156"/>
                </a:lnTo>
                <a:lnTo>
                  <a:pt x="1946" y="160"/>
                </a:lnTo>
                <a:lnTo>
                  <a:pt x="1943" y="162"/>
                </a:lnTo>
                <a:lnTo>
                  <a:pt x="1941" y="164"/>
                </a:lnTo>
                <a:lnTo>
                  <a:pt x="1937" y="168"/>
                </a:lnTo>
                <a:lnTo>
                  <a:pt x="1933" y="170"/>
                </a:lnTo>
                <a:lnTo>
                  <a:pt x="1927" y="171"/>
                </a:lnTo>
                <a:lnTo>
                  <a:pt x="1921" y="173"/>
                </a:lnTo>
                <a:lnTo>
                  <a:pt x="1916" y="177"/>
                </a:lnTo>
                <a:lnTo>
                  <a:pt x="1910" y="179"/>
                </a:lnTo>
                <a:lnTo>
                  <a:pt x="1902" y="181"/>
                </a:lnTo>
                <a:lnTo>
                  <a:pt x="1894" y="183"/>
                </a:lnTo>
                <a:lnTo>
                  <a:pt x="1885" y="185"/>
                </a:lnTo>
                <a:lnTo>
                  <a:pt x="1875" y="187"/>
                </a:lnTo>
                <a:lnTo>
                  <a:pt x="1866" y="187"/>
                </a:lnTo>
                <a:lnTo>
                  <a:pt x="1856" y="189"/>
                </a:lnTo>
                <a:lnTo>
                  <a:pt x="1844" y="191"/>
                </a:lnTo>
                <a:lnTo>
                  <a:pt x="1833" y="193"/>
                </a:lnTo>
                <a:lnTo>
                  <a:pt x="1819" y="193"/>
                </a:lnTo>
                <a:lnTo>
                  <a:pt x="1806" y="195"/>
                </a:lnTo>
                <a:lnTo>
                  <a:pt x="1793" y="195"/>
                </a:lnTo>
                <a:lnTo>
                  <a:pt x="1779" y="197"/>
                </a:lnTo>
                <a:lnTo>
                  <a:pt x="1764" y="197"/>
                </a:lnTo>
                <a:lnTo>
                  <a:pt x="1748" y="198"/>
                </a:lnTo>
                <a:lnTo>
                  <a:pt x="1731" y="198"/>
                </a:lnTo>
                <a:lnTo>
                  <a:pt x="1714" y="198"/>
                </a:lnTo>
                <a:lnTo>
                  <a:pt x="1696" y="200"/>
                </a:lnTo>
                <a:lnTo>
                  <a:pt x="1679" y="200"/>
                </a:lnTo>
                <a:lnTo>
                  <a:pt x="1660" y="200"/>
                </a:lnTo>
                <a:lnTo>
                  <a:pt x="1641" y="200"/>
                </a:lnTo>
                <a:lnTo>
                  <a:pt x="1619" y="200"/>
                </a:lnTo>
                <a:lnTo>
                  <a:pt x="1579" y="200"/>
                </a:lnTo>
                <a:lnTo>
                  <a:pt x="1539" y="200"/>
                </a:lnTo>
                <a:lnTo>
                  <a:pt x="1498" y="202"/>
                </a:lnTo>
                <a:lnTo>
                  <a:pt x="1460" y="202"/>
                </a:lnTo>
                <a:lnTo>
                  <a:pt x="1421" y="204"/>
                </a:lnTo>
                <a:lnTo>
                  <a:pt x="1385" y="204"/>
                </a:lnTo>
                <a:lnTo>
                  <a:pt x="1348" y="206"/>
                </a:lnTo>
                <a:lnTo>
                  <a:pt x="1314" y="208"/>
                </a:lnTo>
                <a:lnTo>
                  <a:pt x="1279" y="210"/>
                </a:lnTo>
                <a:lnTo>
                  <a:pt x="1244" y="212"/>
                </a:lnTo>
                <a:lnTo>
                  <a:pt x="1212" y="214"/>
                </a:lnTo>
                <a:lnTo>
                  <a:pt x="1179" y="218"/>
                </a:lnTo>
                <a:lnTo>
                  <a:pt x="1148" y="220"/>
                </a:lnTo>
                <a:lnTo>
                  <a:pt x="1118" y="223"/>
                </a:lnTo>
                <a:lnTo>
                  <a:pt x="1087" y="227"/>
                </a:lnTo>
                <a:lnTo>
                  <a:pt x="1058" y="231"/>
                </a:lnTo>
                <a:lnTo>
                  <a:pt x="1000" y="239"/>
                </a:lnTo>
                <a:lnTo>
                  <a:pt x="941" y="248"/>
                </a:lnTo>
                <a:lnTo>
                  <a:pt x="879" y="258"/>
                </a:lnTo>
                <a:lnTo>
                  <a:pt x="818" y="268"/>
                </a:lnTo>
                <a:lnTo>
                  <a:pt x="756" y="277"/>
                </a:lnTo>
                <a:lnTo>
                  <a:pt x="691" y="289"/>
                </a:lnTo>
                <a:lnTo>
                  <a:pt x="627" y="300"/>
                </a:lnTo>
                <a:lnTo>
                  <a:pt x="560" y="312"/>
                </a:lnTo>
                <a:lnTo>
                  <a:pt x="527" y="318"/>
                </a:lnTo>
                <a:lnTo>
                  <a:pt x="496" y="323"/>
                </a:lnTo>
                <a:lnTo>
                  <a:pt x="468" y="329"/>
                </a:lnTo>
                <a:lnTo>
                  <a:pt x="441" y="333"/>
                </a:lnTo>
                <a:lnTo>
                  <a:pt x="414" y="339"/>
                </a:lnTo>
                <a:lnTo>
                  <a:pt x="391" y="343"/>
                </a:lnTo>
                <a:lnTo>
                  <a:pt x="368" y="347"/>
                </a:lnTo>
                <a:lnTo>
                  <a:pt x="348" y="348"/>
                </a:lnTo>
                <a:lnTo>
                  <a:pt x="329" y="352"/>
                </a:lnTo>
                <a:lnTo>
                  <a:pt x="312" y="354"/>
                </a:lnTo>
                <a:lnTo>
                  <a:pt x="298" y="356"/>
                </a:lnTo>
                <a:lnTo>
                  <a:pt x="285" y="358"/>
                </a:lnTo>
                <a:lnTo>
                  <a:pt x="273" y="360"/>
                </a:lnTo>
                <a:lnTo>
                  <a:pt x="262" y="362"/>
                </a:lnTo>
                <a:lnTo>
                  <a:pt x="254" y="362"/>
                </a:lnTo>
                <a:lnTo>
                  <a:pt x="248" y="362"/>
                </a:lnTo>
                <a:lnTo>
                  <a:pt x="237" y="362"/>
                </a:lnTo>
                <a:lnTo>
                  <a:pt x="223" y="360"/>
                </a:lnTo>
                <a:lnTo>
                  <a:pt x="208" y="358"/>
                </a:lnTo>
                <a:lnTo>
                  <a:pt x="191" y="354"/>
                </a:lnTo>
                <a:lnTo>
                  <a:pt x="171" y="350"/>
                </a:lnTo>
                <a:lnTo>
                  <a:pt x="152" y="345"/>
                </a:lnTo>
                <a:lnTo>
                  <a:pt x="129" y="339"/>
                </a:lnTo>
                <a:lnTo>
                  <a:pt x="106" y="331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push dir="u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4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3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4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27" descr=""/>
          <p:cNvPicPr/>
          <p:nvPr/>
        </p:nvPicPr>
        <p:blipFill>
          <a:blip r:embed="rId1"/>
          <a:stretch/>
        </p:blipFill>
        <p:spPr>
          <a:xfrm>
            <a:off x="6237360" y="1195560"/>
            <a:ext cx="2472840" cy="3580920"/>
          </a:xfrm>
          <a:prstGeom prst="rect">
            <a:avLst/>
          </a:prstGeom>
          <a:ln w="0">
            <a:noFill/>
          </a:ln>
        </p:spPr>
      </p:pic>
      <p:sp>
        <p:nvSpPr>
          <p:cNvPr id="445" name="矩形 23"/>
          <p:cNvSpPr/>
          <p:nvPr/>
        </p:nvSpPr>
        <p:spPr>
          <a:xfrm>
            <a:off x="2678040" y="1766880"/>
            <a:ext cx="525240" cy="512280"/>
          </a:xfrm>
          <a:prstGeom prst="rect">
            <a:avLst/>
          </a:prstGeom>
          <a:solidFill>
            <a:srgbClr val="abe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46" name="矩形 19"/>
          <p:cNvSpPr/>
          <p:nvPr/>
        </p:nvSpPr>
        <p:spPr>
          <a:xfrm>
            <a:off x="839880" y="1766880"/>
            <a:ext cx="525240" cy="512280"/>
          </a:xfrm>
          <a:prstGeom prst="rect">
            <a:avLst/>
          </a:prstGeom>
          <a:solidFill>
            <a:srgbClr val="abe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448" name="图片 21" descr=""/>
            <p:cNvPicPr/>
            <p:nvPr/>
          </p:nvPicPr>
          <p:blipFill>
            <a:blip r:embed="rId2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任意多边形: 形状 3"/>
            <p:cNvSpPr/>
            <p:nvPr/>
          </p:nvSpPr>
          <p:spPr>
            <a:xfrm>
              <a:off x="385920" y="266760"/>
              <a:ext cx="1433160" cy="307440"/>
            </a:xfrm>
            <a:custGeom>
              <a:avLst/>
              <a:gdLst>
                <a:gd name="textAreaLeft" fmla="*/ 0 w 1433160"/>
                <a:gd name="textAreaRight" fmla="*/ 1433520 w 14331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1431417" h="308610">
                  <a:moveTo>
                    <a:pt x="1364742" y="245364"/>
                  </a:moveTo>
                  <a:cubicBezTo>
                    <a:pt x="1378204" y="245364"/>
                    <a:pt x="1389825" y="247968"/>
                    <a:pt x="1399604" y="253175"/>
                  </a:cubicBezTo>
                  <a:cubicBezTo>
                    <a:pt x="1409383" y="258382"/>
                    <a:pt x="1416177" y="263652"/>
                    <a:pt x="1419987" y="268986"/>
                  </a:cubicBezTo>
                  <a:cubicBezTo>
                    <a:pt x="1423797" y="274320"/>
                    <a:pt x="1425702" y="280797"/>
                    <a:pt x="1425702" y="288417"/>
                  </a:cubicBezTo>
                  <a:cubicBezTo>
                    <a:pt x="1425702" y="301879"/>
                    <a:pt x="1423924" y="308610"/>
                    <a:pt x="1420368" y="308610"/>
                  </a:cubicBezTo>
                  <a:cubicBezTo>
                    <a:pt x="1417828" y="308610"/>
                    <a:pt x="1411859" y="304356"/>
                    <a:pt x="1402461" y="295847"/>
                  </a:cubicBezTo>
                  <a:cubicBezTo>
                    <a:pt x="1393063" y="287338"/>
                    <a:pt x="1383284" y="277622"/>
                    <a:pt x="1373124" y="266700"/>
                  </a:cubicBezTo>
                  <a:cubicBezTo>
                    <a:pt x="1362964" y="255778"/>
                    <a:pt x="1357884" y="249492"/>
                    <a:pt x="1357884" y="247841"/>
                  </a:cubicBezTo>
                  <a:cubicBezTo>
                    <a:pt x="1357884" y="246190"/>
                    <a:pt x="1360170" y="245364"/>
                    <a:pt x="1364742" y="245364"/>
                  </a:cubicBezTo>
                  <a:close/>
                  <a:moveTo>
                    <a:pt x="206502" y="210312"/>
                  </a:moveTo>
                  <a:cubicBezTo>
                    <a:pt x="195072" y="219202"/>
                    <a:pt x="186944" y="226822"/>
                    <a:pt x="182118" y="233172"/>
                  </a:cubicBezTo>
                  <a:cubicBezTo>
                    <a:pt x="193294" y="237744"/>
                    <a:pt x="199898" y="240030"/>
                    <a:pt x="201930" y="240030"/>
                  </a:cubicBezTo>
                  <a:cubicBezTo>
                    <a:pt x="203962" y="240030"/>
                    <a:pt x="205232" y="239649"/>
                    <a:pt x="205740" y="238887"/>
                  </a:cubicBezTo>
                  <a:cubicBezTo>
                    <a:pt x="206248" y="238125"/>
                    <a:pt x="206566" y="234379"/>
                    <a:pt x="206693" y="227648"/>
                  </a:cubicBezTo>
                  <a:cubicBezTo>
                    <a:pt x="206820" y="220917"/>
                    <a:pt x="206756" y="215138"/>
                    <a:pt x="206502" y="210312"/>
                  </a:cubicBezTo>
                  <a:close/>
                  <a:moveTo>
                    <a:pt x="1337644" y="207169"/>
                  </a:moveTo>
                  <a:cubicBezTo>
                    <a:pt x="1336342" y="207486"/>
                    <a:pt x="1335024" y="208153"/>
                    <a:pt x="1333691" y="209169"/>
                  </a:cubicBezTo>
                  <a:cubicBezTo>
                    <a:pt x="1331024" y="211201"/>
                    <a:pt x="1329309" y="213995"/>
                    <a:pt x="1328547" y="217551"/>
                  </a:cubicBezTo>
                  <a:cubicBezTo>
                    <a:pt x="1331341" y="216789"/>
                    <a:pt x="1335024" y="215900"/>
                    <a:pt x="1339596" y="214884"/>
                  </a:cubicBezTo>
                  <a:cubicBezTo>
                    <a:pt x="1340612" y="212090"/>
                    <a:pt x="1341247" y="209550"/>
                    <a:pt x="1341501" y="207264"/>
                  </a:cubicBezTo>
                  <a:cubicBezTo>
                    <a:pt x="1340231" y="206883"/>
                    <a:pt x="1338945" y="206851"/>
                    <a:pt x="1337644" y="207169"/>
                  </a:cubicBezTo>
                  <a:close/>
                  <a:moveTo>
                    <a:pt x="868299" y="205740"/>
                  </a:moveTo>
                  <a:cubicBezTo>
                    <a:pt x="867537" y="205740"/>
                    <a:pt x="866521" y="206121"/>
                    <a:pt x="865251" y="206883"/>
                  </a:cubicBezTo>
                  <a:cubicBezTo>
                    <a:pt x="857885" y="211455"/>
                    <a:pt x="849249" y="213741"/>
                    <a:pt x="839343" y="213741"/>
                  </a:cubicBezTo>
                  <a:cubicBezTo>
                    <a:pt x="832485" y="213741"/>
                    <a:pt x="828421" y="215519"/>
                    <a:pt x="827151" y="219075"/>
                  </a:cubicBezTo>
                  <a:cubicBezTo>
                    <a:pt x="829183" y="224155"/>
                    <a:pt x="830707" y="230505"/>
                    <a:pt x="831723" y="238125"/>
                  </a:cubicBezTo>
                  <a:cubicBezTo>
                    <a:pt x="832739" y="238633"/>
                    <a:pt x="838835" y="238887"/>
                    <a:pt x="850011" y="238887"/>
                  </a:cubicBezTo>
                  <a:cubicBezTo>
                    <a:pt x="856869" y="233299"/>
                    <a:pt x="861822" y="227330"/>
                    <a:pt x="864870" y="220980"/>
                  </a:cubicBezTo>
                  <a:cubicBezTo>
                    <a:pt x="867918" y="214630"/>
                    <a:pt x="869442" y="210503"/>
                    <a:pt x="869442" y="208598"/>
                  </a:cubicBezTo>
                  <a:cubicBezTo>
                    <a:pt x="869442" y="206693"/>
                    <a:pt x="869061" y="205740"/>
                    <a:pt x="868299" y="205740"/>
                  </a:cubicBezTo>
                  <a:close/>
                  <a:moveTo>
                    <a:pt x="995553" y="186690"/>
                  </a:moveTo>
                  <a:cubicBezTo>
                    <a:pt x="991489" y="186690"/>
                    <a:pt x="976630" y="192786"/>
                    <a:pt x="950976" y="204978"/>
                  </a:cubicBezTo>
                  <a:cubicBezTo>
                    <a:pt x="951230" y="215646"/>
                    <a:pt x="951103" y="226822"/>
                    <a:pt x="950595" y="238506"/>
                  </a:cubicBezTo>
                  <a:cubicBezTo>
                    <a:pt x="959485" y="236982"/>
                    <a:pt x="965073" y="236093"/>
                    <a:pt x="967359" y="235839"/>
                  </a:cubicBezTo>
                  <a:cubicBezTo>
                    <a:pt x="975995" y="229743"/>
                    <a:pt x="983298" y="221044"/>
                    <a:pt x="989267" y="209741"/>
                  </a:cubicBezTo>
                  <a:cubicBezTo>
                    <a:pt x="995236" y="198438"/>
                    <a:pt x="998220" y="191770"/>
                    <a:pt x="998220" y="189738"/>
                  </a:cubicBezTo>
                  <a:cubicBezTo>
                    <a:pt x="998220" y="187706"/>
                    <a:pt x="997331" y="186690"/>
                    <a:pt x="995553" y="186690"/>
                  </a:cubicBezTo>
                  <a:close/>
                  <a:moveTo>
                    <a:pt x="1004507" y="150495"/>
                  </a:moveTo>
                  <a:cubicBezTo>
                    <a:pt x="1008698" y="150495"/>
                    <a:pt x="1013714" y="151956"/>
                    <a:pt x="1019556" y="154877"/>
                  </a:cubicBezTo>
                  <a:cubicBezTo>
                    <a:pt x="1025398" y="157798"/>
                    <a:pt x="1030859" y="163068"/>
                    <a:pt x="1035939" y="170688"/>
                  </a:cubicBezTo>
                  <a:cubicBezTo>
                    <a:pt x="1041019" y="178308"/>
                    <a:pt x="1043559" y="183896"/>
                    <a:pt x="1043559" y="187452"/>
                  </a:cubicBezTo>
                  <a:cubicBezTo>
                    <a:pt x="1043559" y="191008"/>
                    <a:pt x="1041083" y="195009"/>
                    <a:pt x="1036130" y="199454"/>
                  </a:cubicBezTo>
                  <a:cubicBezTo>
                    <a:pt x="1031177" y="203899"/>
                    <a:pt x="1026795" y="208471"/>
                    <a:pt x="1022985" y="213170"/>
                  </a:cubicBezTo>
                  <a:cubicBezTo>
                    <a:pt x="1019175" y="217869"/>
                    <a:pt x="1013333" y="226060"/>
                    <a:pt x="1005459" y="237744"/>
                  </a:cubicBezTo>
                  <a:cubicBezTo>
                    <a:pt x="1011555" y="241046"/>
                    <a:pt x="1015746" y="245364"/>
                    <a:pt x="1018032" y="250698"/>
                  </a:cubicBezTo>
                  <a:cubicBezTo>
                    <a:pt x="1020318" y="256032"/>
                    <a:pt x="1021461" y="260731"/>
                    <a:pt x="1021461" y="264795"/>
                  </a:cubicBezTo>
                  <a:cubicBezTo>
                    <a:pt x="1021461" y="268859"/>
                    <a:pt x="1019429" y="270891"/>
                    <a:pt x="1015365" y="270891"/>
                  </a:cubicBezTo>
                  <a:cubicBezTo>
                    <a:pt x="1012825" y="270891"/>
                    <a:pt x="1009904" y="270129"/>
                    <a:pt x="1006602" y="268605"/>
                  </a:cubicBezTo>
                  <a:cubicBezTo>
                    <a:pt x="995934" y="263271"/>
                    <a:pt x="984123" y="260604"/>
                    <a:pt x="971169" y="260604"/>
                  </a:cubicBezTo>
                  <a:cubicBezTo>
                    <a:pt x="961771" y="260604"/>
                    <a:pt x="954405" y="262255"/>
                    <a:pt x="949071" y="265557"/>
                  </a:cubicBezTo>
                  <a:cubicBezTo>
                    <a:pt x="947293" y="269113"/>
                    <a:pt x="945198" y="270891"/>
                    <a:pt x="942785" y="270891"/>
                  </a:cubicBezTo>
                  <a:cubicBezTo>
                    <a:pt x="940372" y="270891"/>
                    <a:pt x="936625" y="267272"/>
                    <a:pt x="931545" y="260033"/>
                  </a:cubicBezTo>
                  <a:cubicBezTo>
                    <a:pt x="926465" y="252794"/>
                    <a:pt x="923925" y="246253"/>
                    <a:pt x="923925" y="240411"/>
                  </a:cubicBezTo>
                  <a:lnTo>
                    <a:pt x="924687" y="208788"/>
                  </a:lnTo>
                  <a:cubicBezTo>
                    <a:pt x="924687" y="187198"/>
                    <a:pt x="923163" y="173990"/>
                    <a:pt x="920115" y="169164"/>
                  </a:cubicBezTo>
                  <a:cubicBezTo>
                    <a:pt x="918845" y="166878"/>
                    <a:pt x="918210" y="164846"/>
                    <a:pt x="918210" y="163068"/>
                  </a:cubicBezTo>
                  <a:cubicBezTo>
                    <a:pt x="918210" y="161290"/>
                    <a:pt x="919163" y="160401"/>
                    <a:pt x="921068" y="160401"/>
                  </a:cubicBezTo>
                  <a:cubicBezTo>
                    <a:pt x="922973" y="160401"/>
                    <a:pt x="927100" y="161925"/>
                    <a:pt x="933450" y="164973"/>
                  </a:cubicBezTo>
                  <a:cubicBezTo>
                    <a:pt x="939800" y="168021"/>
                    <a:pt x="944118" y="171831"/>
                    <a:pt x="946404" y="176403"/>
                  </a:cubicBezTo>
                  <a:cubicBezTo>
                    <a:pt x="964692" y="166243"/>
                    <a:pt x="977900" y="159385"/>
                    <a:pt x="986028" y="155829"/>
                  </a:cubicBezTo>
                  <a:cubicBezTo>
                    <a:pt x="994156" y="152273"/>
                    <a:pt x="1000316" y="150495"/>
                    <a:pt x="1004507" y="150495"/>
                  </a:cubicBezTo>
                  <a:close/>
                  <a:moveTo>
                    <a:pt x="1209294" y="126111"/>
                  </a:moveTo>
                  <a:cubicBezTo>
                    <a:pt x="1216152" y="126111"/>
                    <a:pt x="1221994" y="128397"/>
                    <a:pt x="1226820" y="132969"/>
                  </a:cubicBezTo>
                  <a:cubicBezTo>
                    <a:pt x="1231646" y="137541"/>
                    <a:pt x="1234059" y="142621"/>
                    <a:pt x="1234059" y="148209"/>
                  </a:cubicBezTo>
                  <a:cubicBezTo>
                    <a:pt x="1234059" y="150241"/>
                    <a:pt x="1233678" y="152019"/>
                    <a:pt x="1232916" y="153543"/>
                  </a:cubicBezTo>
                  <a:cubicBezTo>
                    <a:pt x="1229614" y="160147"/>
                    <a:pt x="1227328" y="167386"/>
                    <a:pt x="1226058" y="175260"/>
                  </a:cubicBezTo>
                  <a:lnTo>
                    <a:pt x="1215390" y="236601"/>
                  </a:lnTo>
                  <a:cubicBezTo>
                    <a:pt x="1214628" y="240411"/>
                    <a:pt x="1214247" y="242951"/>
                    <a:pt x="1214247" y="244221"/>
                  </a:cubicBezTo>
                  <a:cubicBezTo>
                    <a:pt x="1214247" y="247015"/>
                    <a:pt x="1214755" y="248412"/>
                    <a:pt x="1215771" y="248412"/>
                  </a:cubicBezTo>
                  <a:cubicBezTo>
                    <a:pt x="1216787" y="248412"/>
                    <a:pt x="1217740" y="247904"/>
                    <a:pt x="1218629" y="246888"/>
                  </a:cubicBezTo>
                  <a:cubicBezTo>
                    <a:pt x="1219518" y="245872"/>
                    <a:pt x="1223074" y="239649"/>
                    <a:pt x="1229297" y="228219"/>
                  </a:cubicBezTo>
                  <a:cubicBezTo>
                    <a:pt x="1235520" y="216789"/>
                    <a:pt x="1239774" y="207772"/>
                    <a:pt x="1242060" y="201168"/>
                  </a:cubicBezTo>
                  <a:cubicBezTo>
                    <a:pt x="1242822" y="199136"/>
                    <a:pt x="1243838" y="198120"/>
                    <a:pt x="1245108" y="198120"/>
                  </a:cubicBezTo>
                  <a:cubicBezTo>
                    <a:pt x="1246378" y="198120"/>
                    <a:pt x="1247013" y="199898"/>
                    <a:pt x="1247013" y="203454"/>
                  </a:cubicBezTo>
                  <a:cubicBezTo>
                    <a:pt x="1247013" y="210820"/>
                    <a:pt x="1240917" y="233299"/>
                    <a:pt x="1228725" y="270891"/>
                  </a:cubicBezTo>
                  <a:cubicBezTo>
                    <a:pt x="1225931" y="279273"/>
                    <a:pt x="1224534" y="286004"/>
                    <a:pt x="1224534" y="291084"/>
                  </a:cubicBezTo>
                  <a:lnTo>
                    <a:pt x="1224915" y="299847"/>
                  </a:lnTo>
                  <a:cubicBezTo>
                    <a:pt x="1224915" y="304419"/>
                    <a:pt x="1223328" y="306705"/>
                    <a:pt x="1220153" y="306705"/>
                  </a:cubicBezTo>
                  <a:cubicBezTo>
                    <a:pt x="1216978" y="306705"/>
                    <a:pt x="1212533" y="303403"/>
                    <a:pt x="1206818" y="296799"/>
                  </a:cubicBezTo>
                  <a:cubicBezTo>
                    <a:pt x="1201103" y="290195"/>
                    <a:pt x="1197229" y="283274"/>
                    <a:pt x="1195197" y="276035"/>
                  </a:cubicBezTo>
                  <a:cubicBezTo>
                    <a:pt x="1193165" y="268796"/>
                    <a:pt x="1192149" y="256286"/>
                    <a:pt x="1192149" y="238506"/>
                  </a:cubicBezTo>
                  <a:cubicBezTo>
                    <a:pt x="1192149" y="220726"/>
                    <a:pt x="1192657" y="201295"/>
                    <a:pt x="1193673" y="180213"/>
                  </a:cubicBezTo>
                  <a:cubicBezTo>
                    <a:pt x="1185037" y="189611"/>
                    <a:pt x="1176147" y="194310"/>
                    <a:pt x="1167003" y="194310"/>
                  </a:cubicBezTo>
                  <a:cubicBezTo>
                    <a:pt x="1160653" y="194310"/>
                    <a:pt x="1154621" y="192342"/>
                    <a:pt x="1148906" y="188405"/>
                  </a:cubicBezTo>
                  <a:cubicBezTo>
                    <a:pt x="1143191" y="184468"/>
                    <a:pt x="1138555" y="178880"/>
                    <a:pt x="1134999" y="171641"/>
                  </a:cubicBezTo>
                  <a:cubicBezTo>
                    <a:pt x="1131443" y="164402"/>
                    <a:pt x="1129665" y="159322"/>
                    <a:pt x="1129665" y="156401"/>
                  </a:cubicBezTo>
                  <a:cubicBezTo>
                    <a:pt x="1129665" y="153480"/>
                    <a:pt x="1130618" y="152019"/>
                    <a:pt x="1132523" y="152019"/>
                  </a:cubicBezTo>
                  <a:cubicBezTo>
                    <a:pt x="1134428" y="152019"/>
                    <a:pt x="1136142" y="152908"/>
                    <a:pt x="1137666" y="154686"/>
                  </a:cubicBezTo>
                  <a:cubicBezTo>
                    <a:pt x="1139190" y="156464"/>
                    <a:pt x="1141540" y="157353"/>
                    <a:pt x="1144715" y="157353"/>
                  </a:cubicBezTo>
                  <a:cubicBezTo>
                    <a:pt x="1147890" y="157353"/>
                    <a:pt x="1152589" y="156147"/>
                    <a:pt x="1158812" y="153734"/>
                  </a:cubicBezTo>
                  <a:cubicBezTo>
                    <a:pt x="1165035" y="151321"/>
                    <a:pt x="1171893" y="148019"/>
                    <a:pt x="1179386" y="143828"/>
                  </a:cubicBezTo>
                  <a:cubicBezTo>
                    <a:pt x="1186879" y="139637"/>
                    <a:pt x="1191006" y="136970"/>
                    <a:pt x="1191768" y="135827"/>
                  </a:cubicBezTo>
                  <a:cubicBezTo>
                    <a:pt x="1192530" y="134684"/>
                    <a:pt x="1192911" y="133223"/>
                    <a:pt x="1192911" y="131445"/>
                  </a:cubicBezTo>
                  <a:cubicBezTo>
                    <a:pt x="1192911" y="127889"/>
                    <a:pt x="1198372" y="126111"/>
                    <a:pt x="1209294" y="126111"/>
                  </a:cubicBezTo>
                  <a:close/>
                  <a:moveTo>
                    <a:pt x="203454" y="105156"/>
                  </a:moveTo>
                  <a:cubicBezTo>
                    <a:pt x="194818" y="108966"/>
                    <a:pt x="184277" y="110871"/>
                    <a:pt x="171831" y="110871"/>
                  </a:cubicBezTo>
                  <a:cubicBezTo>
                    <a:pt x="171831" y="118999"/>
                    <a:pt x="172085" y="124206"/>
                    <a:pt x="172593" y="126492"/>
                  </a:cubicBezTo>
                  <a:cubicBezTo>
                    <a:pt x="173101" y="128778"/>
                    <a:pt x="174117" y="129667"/>
                    <a:pt x="175641" y="129159"/>
                  </a:cubicBezTo>
                  <a:cubicBezTo>
                    <a:pt x="185293" y="126873"/>
                    <a:pt x="194691" y="124841"/>
                    <a:pt x="203835" y="123063"/>
                  </a:cubicBezTo>
                  <a:cubicBezTo>
                    <a:pt x="203581" y="118491"/>
                    <a:pt x="203454" y="112522"/>
                    <a:pt x="203454" y="105156"/>
                  </a:cubicBezTo>
                  <a:close/>
                  <a:moveTo>
                    <a:pt x="198882" y="62484"/>
                  </a:moveTo>
                  <a:cubicBezTo>
                    <a:pt x="189230" y="65532"/>
                    <a:pt x="179197" y="67310"/>
                    <a:pt x="168783" y="67818"/>
                  </a:cubicBezTo>
                  <a:cubicBezTo>
                    <a:pt x="170815" y="73406"/>
                    <a:pt x="172466" y="79883"/>
                    <a:pt x="173736" y="87249"/>
                  </a:cubicBezTo>
                  <a:cubicBezTo>
                    <a:pt x="180340" y="84201"/>
                    <a:pt x="190754" y="81280"/>
                    <a:pt x="204978" y="78486"/>
                  </a:cubicBezTo>
                  <a:cubicBezTo>
                    <a:pt x="204470" y="71374"/>
                    <a:pt x="202438" y="66040"/>
                    <a:pt x="198882" y="62484"/>
                  </a:cubicBezTo>
                  <a:close/>
                  <a:moveTo>
                    <a:pt x="946404" y="53721"/>
                  </a:moveTo>
                  <a:cubicBezTo>
                    <a:pt x="945642" y="53721"/>
                    <a:pt x="943420" y="54737"/>
                    <a:pt x="939737" y="56769"/>
                  </a:cubicBezTo>
                  <a:cubicBezTo>
                    <a:pt x="936054" y="58801"/>
                    <a:pt x="931799" y="59817"/>
                    <a:pt x="926973" y="59817"/>
                  </a:cubicBezTo>
                  <a:cubicBezTo>
                    <a:pt x="922147" y="59817"/>
                    <a:pt x="915988" y="58992"/>
                    <a:pt x="908495" y="57341"/>
                  </a:cubicBezTo>
                  <a:cubicBezTo>
                    <a:pt x="901002" y="55690"/>
                    <a:pt x="894969" y="54864"/>
                    <a:pt x="890397" y="54864"/>
                  </a:cubicBezTo>
                  <a:cubicBezTo>
                    <a:pt x="885825" y="54864"/>
                    <a:pt x="883666" y="56769"/>
                    <a:pt x="883920" y="60579"/>
                  </a:cubicBezTo>
                  <a:cubicBezTo>
                    <a:pt x="889508" y="67691"/>
                    <a:pt x="892302" y="73025"/>
                    <a:pt x="892302" y="76581"/>
                  </a:cubicBezTo>
                  <a:cubicBezTo>
                    <a:pt x="892302" y="80137"/>
                    <a:pt x="891794" y="83947"/>
                    <a:pt x="890778" y="88011"/>
                  </a:cubicBezTo>
                  <a:cubicBezTo>
                    <a:pt x="889762" y="92075"/>
                    <a:pt x="889254" y="95441"/>
                    <a:pt x="889254" y="98108"/>
                  </a:cubicBezTo>
                  <a:cubicBezTo>
                    <a:pt x="889254" y="100775"/>
                    <a:pt x="890651" y="102108"/>
                    <a:pt x="893445" y="102108"/>
                  </a:cubicBezTo>
                  <a:cubicBezTo>
                    <a:pt x="896239" y="102108"/>
                    <a:pt x="902589" y="100457"/>
                    <a:pt x="912495" y="97155"/>
                  </a:cubicBezTo>
                  <a:cubicBezTo>
                    <a:pt x="922401" y="93853"/>
                    <a:pt x="930720" y="86741"/>
                    <a:pt x="937451" y="75819"/>
                  </a:cubicBezTo>
                  <a:cubicBezTo>
                    <a:pt x="944182" y="64897"/>
                    <a:pt x="947547" y="58484"/>
                    <a:pt x="947547" y="56579"/>
                  </a:cubicBezTo>
                  <a:cubicBezTo>
                    <a:pt x="947547" y="54674"/>
                    <a:pt x="947166" y="53721"/>
                    <a:pt x="946404" y="53721"/>
                  </a:cubicBezTo>
                  <a:close/>
                  <a:moveTo>
                    <a:pt x="252794" y="41910"/>
                  </a:moveTo>
                  <a:cubicBezTo>
                    <a:pt x="248095" y="41910"/>
                    <a:pt x="239649" y="45847"/>
                    <a:pt x="227457" y="53721"/>
                  </a:cubicBezTo>
                  <a:cubicBezTo>
                    <a:pt x="230759" y="58547"/>
                    <a:pt x="232537" y="64262"/>
                    <a:pt x="232791" y="70866"/>
                  </a:cubicBezTo>
                  <a:cubicBezTo>
                    <a:pt x="239649" y="71374"/>
                    <a:pt x="244983" y="72962"/>
                    <a:pt x="248793" y="75629"/>
                  </a:cubicBezTo>
                  <a:cubicBezTo>
                    <a:pt x="252603" y="78296"/>
                    <a:pt x="254508" y="80963"/>
                    <a:pt x="254508" y="83630"/>
                  </a:cubicBezTo>
                  <a:cubicBezTo>
                    <a:pt x="254508" y="86297"/>
                    <a:pt x="252667" y="88900"/>
                    <a:pt x="248984" y="91440"/>
                  </a:cubicBezTo>
                  <a:cubicBezTo>
                    <a:pt x="245301" y="93980"/>
                    <a:pt x="239903" y="96012"/>
                    <a:pt x="232791" y="97536"/>
                  </a:cubicBezTo>
                  <a:cubicBezTo>
                    <a:pt x="232029" y="103886"/>
                    <a:pt x="231648" y="110109"/>
                    <a:pt x="231648" y="116205"/>
                  </a:cubicBezTo>
                  <a:cubicBezTo>
                    <a:pt x="239776" y="115443"/>
                    <a:pt x="245491" y="112713"/>
                    <a:pt x="248793" y="108014"/>
                  </a:cubicBezTo>
                  <a:cubicBezTo>
                    <a:pt x="252095" y="103315"/>
                    <a:pt x="255588" y="95123"/>
                    <a:pt x="259271" y="83439"/>
                  </a:cubicBezTo>
                  <a:cubicBezTo>
                    <a:pt x="262954" y="71755"/>
                    <a:pt x="264795" y="64072"/>
                    <a:pt x="264795" y="60389"/>
                  </a:cubicBezTo>
                  <a:cubicBezTo>
                    <a:pt x="264795" y="56706"/>
                    <a:pt x="263970" y="52705"/>
                    <a:pt x="262319" y="48387"/>
                  </a:cubicBezTo>
                  <a:cubicBezTo>
                    <a:pt x="260668" y="44069"/>
                    <a:pt x="257493" y="41910"/>
                    <a:pt x="252794" y="41910"/>
                  </a:cubicBezTo>
                  <a:close/>
                  <a:moveTo>
                    <a:pt x="1198483" y="38481"/>
                  </a:moveTo>
                  <a:cubicBezTo>
                    <a:pt x="1199404" y="38227"/>
                    <a:pt x="1200785" y="38354"/>
                    <a:pt x="1202627" y="38862"/>
                  </a:cubicBezTo>
                  <a:cubicBezTo>
                    <a:pt x="1206310" y="39878"/>
                    <a:pt x="1209548" y="40386"/>
                    <a:pt x="1212342" y="40386"/>
                  </a:cubicBezTo>
                  <a:lnTo>
                    <a:pt x="1224534" y="39243"/>
                  </a:lnTo>
                  <a:cubicBezTo>
                    <a:pt x="1234440" y="39243"/>
                    <a:pt x="1243775" y="42355"/>
                    <a:pt x="1252538" y="48578"/>
                  </a:cubicBezTo>
                  <a:cubicBezTo>
                    <a:pt x="1261301" y="54801"/>
                    <a:pt x="1265682" y="62103"/>
                    <a:pt x="1265682" y="70485"/>
                  </a:cubicBezTo>
                  <a:cubicBezTo>
                    <a:pt x="1265682" y="74295"/>
                    <a:pt x="1264349" y="77597"/>
                    <a:pt x="1261682" y="80391"/>
                  </a:cubicBezTo>
                  <a:cubicBezTo>
                    <a:pt x="1259015" y="83185"/>
                    <a:pt x="1255522" y="84582"/>
                    <a:pt x="1251204" y="84582"/>
                  </a:cubicBezTo>
                  <a:lnTo>
                    <a:pt x="1242441" y="83439"/>
                  </a:lnTo>
                  <a:cubicBezTo>
                    <a:pt x="1237107" y="83439"/>
                    <a:pt x="1231964" y="85852"/>
                    <a:pt x="1227011" y="90678"/>
                  </a:cubicBezTo>
                  <a:cubicBezTo>
                    <a:pt x="1222058" y="95504"/>
                    <a:pt x="1213612" y="99695"/>
                    <a:pt x="1201674" y="103251"/>
                  </a:cubicBezTo>
                  <a:cubicBezTo>
                    <a:pt x="1189736" y="106807"/>
                    <a:pt x="1182497" y="108585"/>
                    <a:pt x="1179957" y="108585"/>
                  </a:cubicBezTo>
                  <a:cubicBezTo>
                    <a:pt x="1177417" y="108585"/>
                    <a:pt x="1176147" y="108204"/>
                    <a:pt x="1176147" y="107442"/>
                  </a:cubicBezTo>
                  <a:cubicBezTo>
                    <a:pt x="1176147" y="106680"/>
                    <a:pt x="1176782" y="105791"/>
                    <a:pt x="1178052" y="104775"/>
                  </a:cubicBezTo>
                  <a:cubicBezTo>
                    <a:pt x="1182878" y="101219"/>
                    <a:pt x="1189673" y="95377"/>
                    <a:pt x="1198436" y="87249"/>
                  </a:cubicBezTo>
                  <a:cubicBezTo>
                    <a:pt x="1207199" y="79121"/>
                    <a:pt x="1212088" y="74359"/>
                    <a:pt x="1213104" y="72962"/>
                  </a:cubicBezTo>
                  <a:cubicBezTo>
                    <a:pt x="1214120" y="71565"/>
                    <a:pt x="1214628" y="70104"/>
                    <a:pt x="1214628" y="68580"/>
                  </a:cubicBezTo>
                  <a:cubicBezTo>
                    <a:pt x="1214628" y="65532"/>
                    <a:pt x="1209929" y="58420"/>
                    <a:pt x="1200531" y="47244"/>
                  </a:cubicBezTo>
                  <a:cubicBezTo>
                    <a:pt x="1198245" y="44704"/>
                    <a:pt x="1197102" y="42418"/>
                    <a:pt x="1197102" y="40386"/>
                  </a:cubicBezTo>
                  <a:cubicBezTo>
                    <a:pt x="1197102" y="39370"/>
                    <a:pt x="1197563" y="38735"/>
                    <a:pt x="1198483" y="38481"/>
                  </a:cubicBezTo>
                  <a:close/>
                  <a:moveTo>
                    <a:pt x="91059" y="14097"/>
                  </a:moveTo>
                  <a:cubicBezTo>
                    <a:pt x="105537" y="14097"/>
                    <a:pt x="116904" y="18161"/>
                    <a:pt x="125159" y="26289"/>
                  </a:cubicBezTo>
                  <a:cubicBezTo>
                    <a:pt x="133414" y="34417"/>
                    <a:pt x="137541" y="40958"/>
                    <a:pt x="137541" y="45911"/>
                  </a:cubicBezTo>
                  <a:cubicBezTo>
                    <a:pt x="137541" y="50864"/>
                    <a:pt x="135954" y="54991"/>
                    <a:pt x="132779" y="58293"/>
                  </a:cubicBezTo>
                  <a:cubicBezTo>
                    <a:pt x="129604" y="61595"/>
                    <a:pt x="126111" y="63246"/>
                    <a:pt x="122301" y="63246"/>
                  </a:cubicBezTo>
                  <a:cubicBezTo>
                    <a:pt x="121031" y="63246"/>
                    <a:pt x="119317" y="62929"/>
                    <a:pt x="117158" y="62294"/>
                  </a:cubicBezTo>
                  <a:cubicBezTo>
                    <a:pt x="114999" y="61659"/>
                    <a:pt x="112840" y="61341"/>
                    <a:pt x="110681" y="61341"/>
                  </a:cubicBezTo>
                  <a:cubicBezTo>
                    <a:pt x="108522" y="61341"/>
                    <a:pt x="105791" y="62103"/>
                    <a:pt x="102489" y="63627"/>
                  </a:cubicBezTo>
                  <a:cubicBezTo>
                    <a:pt x="99187" y="65151"/>
                    <a:pt x="93282" y="68580"/>
                    <a:pt x="84773" y="73914"/>
                  </a:cubicBezTo>
                  <a:cubicBezTo>
                    <a:pt x="76264" y="79248"/>
                    <a:pt x="70803" y="82360"/>
                    <a:pt x="68390" y="83249"/>
                  </a:cubicBezTo>
                  <a:cubicBezTo>
                    <a:pt x="65977" y="84138"/>
                    <a:pt x="63119" y="84582"/>
                    <a:pt x="59817" y="84582"/>
                  </a:cubicBezTo>
                  <a:cubicBezTo>
                    <a:pt x="51435" y="84582"/>
                    <a:pt x="41466" y="90170"/>
                    <a:pt x="29909" y="101346"/>
                  </a:cubicBezTo>
                  <a:cubicBezTo>
                    <a:pt x="18352" y="112522"/>
                    <a:pt x="12573" y="123190"/>
                    <a:pt x="12573" y="133350"/>
                  </a:cubicBezTo>
                  <a:cubicBezTo>
                    <a:pt x="12573" y="137922"/>
                    <a:pt x="13843" y="140208"/>
                    <a:pt x="16383" y="140208"/>
                  </a:cubicBezTo>
                  <a:cubicBezTo>
                    <a:pt x="21463" y="140208"/>
                    <a:pt x="30036" y="136271"/>
                    <a:pt x="42101" y="128397"/>
                  </a:cubicBezTo>
                  <a:cubicBezTo>
                    <a:pt x="54166" y="120523"/>
                    <a:pt x="62484" y="113411"/>
                    <a:pt x="67056" y="107061"/>
                  </a:cubicBezTo>
                  <a:cubicBezTo>
                    <a:pt x="69850" y="102997"/>
                    <a:pt x="75819" y="100965"/>
                    <a:pt x="84963" y="100965"/>
                  </a:cubicBezTo>
                  <a:cubicBezTo>
                    <a:pt x="102743" y="100965"/>
                    <a:pt x="111633" y="108966"/>
                    <a:pt x="111633" y="124968"/>
                  </a:cubicBezTo>
                  <a:cubicBezTo>
                    <a:pt x="111633" y="128270"/>
                    <a:pt x="111125" y="131572"/>
                    <a:pt x="110109" y="134874"/>
                  </a:cubicBezTo>
                  <a:cubicBezTo>
                    <a:pt x="101727" y="161290"/>
                    <a:pt x="96838" y="179070"/>
                    <a:pt x="95441" y="188214"/>
                  </a:cubicBezTo>
                  <a:cubicBezTo>
                    <a:pt x="94044" y="197358"/>
                    <a:pt x="93345" y="206439"/>
                    <a:pt x="93345" y="215456"/>
                  </a:cubicBezTo>
                  <a:cubicBezTo>
                    <a:pt x="93345" y="224473"/>
                    <a:pt x="93472" y="229426"/>
                    <a:pt x="93726" y="230315"/>
                  </a:cubicBezTo>
                  <a:cubicBezTo>
                    <a:pt x="93980" y="231204"/>
                    <a:pt x="94425" y="231648"/>
                    <a:pt x="95060" y="231648"/>
                  </a:cubicBezTo>
                  <a:cubicBezTo>
                    <a:pt x="95695" y="231648"/>
                    <a:pt x="96266" y="231267"/>
                    <a:pt x="96774" y="230505"/>
                  </a:cubicBezTo>
                  <a:cubicBezTo>
                    <a:pt x="97282" y="229743"/>
                    <a:pt x="100013" y="224473"/>
                    <a:pt x="104966" y="214694"/>
                  </a:cubicBezTo>
                  <a:cubicBezTo>
                    <a:pt x="109919" y="204915"/>
                    <a:pt x="114999" y="193739"/>
                    <a:pt x="120206" y="181166"/>
                  </a:cubicBezTo>
                  <a:cubicBezTo>
                    <a:pt x="125413" y="168593"/>
                    <a:pt x="131445" y="157099"/>
                    <a:pt x="138303" y="146685"/>
                  </a:cubicBezTo>
                  <a:cubicBezTo>
                    <a:pt x="135763" y="156083"/>
                    <a:pt x="133604" y="167259"/>
                    <a:pt x="131826" y="180213"/>
                  </a:cubicBezTo>
                  <a:cubicBezTo>
                    <a:pt x="155956" y="171831"/>
                    <a:pt x="180721" y="165100"/>
                    <a:pt x="206121" y="160020"/>
                  </a:cubicBezTo>
                  <a:lnTo>
                    <a:pt x="205359" y="145923"/>
                  </a:lnTo>
                  <a:cubicBezTo>
                    <a:pt x="194183" y="147447"/>
                    <a:pt x="185674" y="149162"/>
                    <a:pt x="179832" y="151067"/>
                  </a:cubicBezTo>
                  <a:cubicBezTo>
                    <a:pt x="173990" y="152972"/>
                    <a:pt x="170307" y="153924"/>
                    <a:pt x="168783" y="153924"/>
                  </a:cubicBezTo>
                  <a:cubicBezTo>
                    <a:pt x="161925" y="153924"/>
                    <a:pt x="156147" y="148336"/>
                    <a:pt x="151448" y="137160"/>
                  </a:cubicBezTo>
                  <a:cubicBezTo>
                    <a:pt x="146749" y="125984"/>
                    <a:pt x="144145" y="112268"/>
                    <a:pt x="143637" y="96012"/>
                  </a:cubicBezTo>
                  <a:cubicBezTo>
                    <a:pt x="143383" y="87884"/>
                    <a:pt x="141796" y="81788"/>
                    <a:pt x="138875" y="77724"/>
                  </a:cubicBezTo>
                  <a:cubicBezTo>
                    <a:pt x="135954" y="73660"/>
                    <a:pt x="134493" y="70676"/>
                    <a:pt x="134493" y="68771"/>
                  </a:cubicBezTo>
                  <a:cubicBezTo>
                    <a:pt x="134493" y="66866"/>
                    <a:pt x="135065" y="64072"/>
                    <a:pt x="136208" y="60389"/>
                  </a:cubicBezTo>
                  <a:cubicBezTo>
                    <a:pt x="137351" y="56706"/>
                    <a:pt x="138303" y="54483"/>
                    <a:pt x="139065" y="53721"/>
                  </a:cubicBezTo>
                  <a:cubicBezTo>
                    <a:pt x="139827" y="52959"/>
                    <a:pt x="141351" y="52578"/>
                    <a:pt x="143637" y="52578"/>
                  </a:cubicBezTo>
                  <a:cubicBezTo>
                    <a:pt x="145923" y="52578"/>
                    <a:pt x="151384" y="53467"/>
                    <a:pt x="160020" y="55245"/>
                  </a:cubicBezTo>
                  <a:cubicBezTo>
                    <a:pt x="173990" y="44831"/>
                    <a:pt x="190754" y="37148"/>
                    <a:pt x="210312" y="32195"/>
                  </a:cubicBezTo>
                  <a:cubicBezTo>
                    <a:pt x="229870" y="27242"/>
                    <a:pt x="243205" y="24765"/>
                    <a:pt x="250317" y="24765"/>
                  </a:cubicBezTo>
                  <a:cubicBezTo>
                    <a:pt x="262001" y="24765"/>
                    <a:pt x="274320" y="29528"/>
                    <a:pt x="287274" y="39053"/>
                  </a:cubicBezTo>
                  <a:cubicBezTo>
                    <a:pt x="300228" y="48578"/>
                    <a:pt x="306705" y="57912"/>
                    <a:pt x="306705" y="67056"/>
                  </a:cubicBezTo>
                  <a:cubicBezTo>
                    <a:pt x="306705" y="69342"/>
                    <a:pt x="306261" y="71628"/>
                    <a:pt x="305372" y="73914"/>
                  </a:cubicBezTo>
                  <a:cubicBezTo>
                    <a:pt x="304483" y="76200"/>
                    <a:pt x="301054" y="82042"/>
                    <a:pt x="295085" y="91440"/>
                  </a:cubicBezTo>
                  <a:cubicBezTo>
                    <a:pt x="289116" y="100838"/>
                    <a:pt x="283972" y="107569"/>
                    <a:pt x="279654" y="111633"/>
                  </a:cubicBezTo>
                  <a:cubicBezTo>
                    <a:pt x="275336" y="115697"/>
                    <a:pt x="270129" y="120142"/>
                    <a:pt x="264033" y="124968"/>
                  </a:cubicBezTo>
                  <a:cubicBezTo>
                    <a:pt x="264541" y="135128"/>
                    <a:pt x="257048" y="140208"/>
                    <a:pt x="241554" y="140208"/>
                  </a:cubicBezTo>
                  <a:cubicBezTo>
                    <a:pt x="236728" y="140208"/>
                    <a:pt x="233045" y="140589"/>
                    <a:pt x="230505" y="141351"/>
                  </a:cubicBezTo>
                  <a:lnTo>
                    <a:pt x="230505" y="156210"/>
                  </a:lnTo>
                  <a:cubicBezTo>
                    <a:pt x="249555" y="153924"/>
                    <a:pt x="262382" y="152781"/>
                    <a:pt x="268986" y="152781"/>
                  </a:cubicBezTo>
                  <a:cubicBezTo>
                    <a:pt x="275590" y="152781"/>
                    <a:pt x="283083" y="155258"/>
                    <a:pt x="291465" y="160211"/>
                  </a:cubicBezTo>
                  <a:cubicBezTo>
                    <a:pt x="299847" y="165164"/>
                    <a:pt x="304038" y="169355"/>
                    <a:pt x="304038" y="172784"/>
                  </a:cubicBezTo>
                  <a:cubicBezTo>
                    <a:pt x="304038" y="176213"/>
                    <a:pt x="302641" y="179070"/>
                    <a:pt x="299847" y="181356"/>
                  </a:cubicBezTo>
                  <a:cubicBezTo>
                    <a:pt x="297053" y="183642"/>
                    <a:pt x="293815" y="184785"/>
                    <a:pt x="290132" y="184785"/>
                  </a:cubicBezTo>
                  <a:cubicBezTo>
                    <a:pt x="286449" y="184785"/>
                    <a:pt x="282829" y="184277"/>
                    <a:pt x="279273" y="183261"/>
                  </a:cubicBezTo>
                  <a:cubicBezTo>
                    <a:pt x="264287" y="178689"/>
                    <a:pt x="251079" y="176403"/>
                    <a:pt x="239649" y="176403"/>
                  </a:cubicBezTo>
                  <a:cubicBezTo>
                    <a:pt x="236347" y="176403"/>
                    <a:pt x="233553" y="176657"/>
                    <a:pt x="231267" y="177165"/>
                  </a:cubicBezTo>
                  <a:cubicBezTo>
                    <a:pt x="231775" y="188087"/>
                    <a:pt x="232410" y="196977"/>
                    <a:pt x="233172" y="203835"/>
                  </a:cubicBezTo>
                  <a:cubicBezTo>
                    <a:pt x="246634" y="206883"/>
                    <a:pt x="258509" y="208471"/>
                    <a:pt x="268796" y="208598"/>
                  </a:cubicBezTo>
                  <a:cubicBezTo>
                    <a:pt x="279083" y="208725"/>
                    <a:pt x="288417" y="212344"/>
                    <a:pt x="296799" y="219456"/>
                  </a:cubicBezTo>
                  <a:cubicBezTo>
                    <a:pt x="305181" y="226568"/>
                    <a:pt x="309372" y="233807"/>
                    <a:pt x="309372" y="241173"/>
                  </a:cubicBezTo>
                  <a:cubicBezTo>
                    <a:pt x="309372" y="245999"/>
                    <a:pt x="308102" y="250571"/>
                    <a:pt x="305562" y="254889"/>
                  </a:cubicBezTo>
                  <a:cubicBezTo>
                    <a:pt x="303022" y="259207"/>
                    <a:pt x="298958" y="261366"/>
                    <a:pt x="293370" y="261366"/>
                  </a:cubicBezTo>
                  <a:cubicBezTo>
                    <a:pt x="284226" y="261366"/>
                    <a:pt x="272034" y="249301"/>
                    <a:pt x="256794" y="225171"/>
                  </a:cubicBezTo>
                  <a:cubicBezTo>
                    <a:pt x="249174" y="213233"/>
                    <a:pt x="241300" y="207137"/>
                    <a:pt x="233172" y="206883"/>
                  </a:cubicBezTo>
                  <a:cubicBezTo>
                    <a:pt x="234188" y="219837"/>
                    <a:pt x="234696" y="230759"/>
                    <a:pt x="234696" y="239649"/>
                  </a:cubicBezTo>
                  <a:cubicBezTo>
                    <a:pt x="234696" y="257937"/>
                    <a:pt x="232220" y="272034"/>
                    <a:pt x="227267" y="281940"/>
                  </a:cubicBezTo>
                  <a:cubicBezTo>
                    <a:pt x="222314" y="291846"/>
                    <a:pt x="217551" y="296799"/>
                    <a:pt x="212979" y="296799"/>
                  </a:cubicBezTo>
                  <a:cubicBezTo>
                    <a:pt x="211201" y="296799"/>
                    <a:pt x="209804" y="296037"/>
                    <a:pt x="208788" y="294513"/>
                  </a:cubicBezTo>
                  <a:cubicBezTo>
                    <a:pt x="202946" y="286131"/>
                    <a:pt x="197422" y="279464"/>
                    <a:pt x="192215" y="274511"/>
                  </a:cubicBezTo>
                  <a:cubicBezTo>
                    <a:pt x="187008" y="269558"/>
                    <a:pt x="182817" y="264859"/>
                    <a:pt x="179642" y="260414"/>
                  </a:cubicBezTo>
                  <a:cubicBezTo>
                    <a:pt x="176467" y="255969"/>
                    <a:pt x="173101" y="249555"/>
                    <a:pt x="169545" y="241173"/>
                  </a:cubicBezTo>
                  <a:cubicBezTo>
                    <a:pt x="163703" y="244475"/>
                    <a:pt x="159576" y="247396"/>
                    <a:pt x="157163" y="249936"/>
                  </a:cubicBezTo>
                  <a:cubicBezTo>
                    <a:pt x="154750" y="252476"/>
                    <a:pt x="151956" y="256858"/>
                    <a:pt x="148781" y="263081"/>
                  </a:cubicBezTo>
                  <a:cubicBezTo>
                    <a:pt x="145606" y="269304"/>
                    <a:pt x="142558" y="272415"/>
                    <a:pt x="139637" y="272415"/>
                  </a:cubicBezTo>
                  <a:cubicBezTo>
                    <a:pt x="136716" y="272415"/>
                    <a:pt x="134303" y="269304"/>
                    <a:pt x="132398" y="263081"/>
                  </a:cubicBezTo>
                  <a:cubicBezTo>
                    <a:pt x="130493" y="256858"/>
                    <a:pt x="129540" y="250571"/>
                    <a:pt x="129540" y="244221"/>
                  </a:cubicBezTo>
                  <a:cubicBezTo>
                    <a:pt x="129540" y="237871"/>
                    <a:pt x="130429" y="232982"/>
                    <a:pt x="132207" y="229553"/>
                  </a:cubicBezTo>
                  <a:cubicBezTo>
                    <a:pt x="133985" y="226124"/>
                    <a:pt x="135319" y="221869"/>
                    <a:pt x="136208" y="216789"/>
                  </a:cubicBezTo>
                  <a:cubicBezTo>
                    <a:pt x="137097" y="211709"/>
                    <a:pt x="138748" y="208090"/>
                    <a:pt x="141161" y="205931"/>
                  </a:cubicBezTo>
                  <a:cubicBezTo>
                    <a:pt x="143574" y="203772"/>
                    <a:pt x="145860" y="202692"/>
                    <a:pt x="148019" y="202692"/>
                  </a:cubicBezTo>
                  <a:cubicBezTo>
                    <a:pt x="150178" y="202692"/>
                    <a:pt x="152527" y="205740"/>
                    <a:pt x="155067" y="211836"/>
                  </a:cubicBezTo>
                  <a:cubicBezTo>
                    <a:pt x="153035" y="212090"/>
                    <a:pt x="152019" y="213360"/>
                    <a:pt x="152019" y="215646"/>
                  </a:cubicBezTo>
                  <a:cubicBezTo>
                    <a:pt x="152019" y="221996"/>
                    <a:pt x="152972" y="225171"/>
                    <a:pt x="154877" y="225171"/>
                  </a:cubicBezTo>
                  <a:cubicBezTo>
                    <a:pt x="156782" y="225171"/>
                    <a:pt x="159004" y="224409"/>
                    <a:pt x="161544" y="222885"/>
                  </a:cubicBezTo>
                  <a:cubicBezTo>
                    <a:pt x="159512" y="219075"/>
                    <a:pt x="158242" y="215519"/>
                    <a:pt x="157734" y="212217"/>
                  </a:cubicBezTo>
                  <a:cubicBezTo>
                    <a:pt x="161798" y="216789"/>
                    <a:pt x="164719" y="219837"/>
                    <a:pt x="166497" y="221361"/>
                  </a:cubicBezTo>
                  <a:cubicBezTo>
                    <a:pt x="185293" y="212471"/>
                    <a:pt x="198628" y="207391"/>
                    <a:pt x="206502" y="206121"/>
                  </a:cubicBezTo>
                  <a:cubicBezTo>
                    <a:pt x="206756" y="195961"/>
                    <a:pt x="206756" y="187833"/>
                    <a:pt x="206502" y="181737"/>
                  </a:cubicBezTo>
                  <a:cubicBezTo>
                    <a:pt x="193548" y="184531"/>
                    <a:pt x="176149" y="189992"/>
                    <a:pt x="154305" y="198120"/>
                  </a:cubicBezTo>
                  <a:cubicBezTo>
                    <a:pt x="148209" y="200406"/>
                    <a:pt x="142939" y="201549"/>
                    <a:pt x="138494" y="201549"/>
                  </a:cubicBezTo>
                  <a:cubicBezTo>
                    <a:pt x="134049" y="201549"/>
                    <a:pt x="129667" y="200406"/>
                    <a:pt x="125349" y="198120"/>
                  </a:cubicBezTo>
                  <a:cubicBezTo>
                    <a:pt x="121285" y="207010"/>
                    <a:pt x="118618" y="215710"/>
                    <a:pt x="117348" y="224219"/>
                  </a:cubicBezTo>
                  <a:cubicBezTo>
                    <a:pt x="116078" y="232728"/>
                    <a:pt x="113157" y="241300"/>
                    <a:pt x="108585" y="249936"/>
                  </a:cubicBezTo>
                  <a:cubicBezTo>
                    <a:pt x="105537" y="255778"/>
                    <a:pt x="104013" y="264668"/>
                    <a:pt x="104013" y="276606"/>
                  </a:cubicBezTo>
                  <a:cubicBezTo>
                    <a:pt x="104013" y="281940"/>
                    <a:pt x="102489" y="284607"/>
                    <a:pt x="99441" y="284607"/>
                  </a:cubicBezTo>
                  <a:cubicBezTo>
                    <a:pt x="94361" y="284607"/>
                    <a:pt x="88392" y="278638"/>
                    <a:pt x="81534" y="266700"/>
                  </a:cubicBezTo>
                  <a:cubicBezTo>
                    <a:pt x="74676" y="254762"/>
                    <a:pt x="71247" y="243967"/>
                    <a:pt x="71247" y="234315"/>
                  </a:cubicBezTo>
                  <a:lnTo>
                    <a:pt x="72390" y="209931"/>
                  </a:lnTo>
                  <a:cubicBezTo>
                    <a:pt x="72644" y="200533"/>
                    <a:pt x="72771" y="188151"/>
                    <a:pt x="72771" y="172784"/>
                  </a:cubicBezTo>
                  <a:cubicBezTo>
                    <a:pt x="72771" y="157417"/>
                    <a:pt x="72136" y="149733"/>
                    <a:pt x="70866" y="149733"/>
                  </a:cubicBezTo>
                  <a:cubicBezTo>
                    <a:pt x="70104" y="149733"/>
                    <a:pt x="69088" y="150876"/>
                    <a:pt x="67818" y="153162"/>
                  </a:cubicBezTo>
                  <a:cubicBezTo>
                    <a:pt x="64770" y="159004"/>
                    <a:pt x="59119" y="165100"/>
                    <a:pt x="50864" y="171450"/>
                  </a:cubicBezTo>
                  <a:cubicBezTo>
                    <a:pt x="42609" y="177800"/>
                    <a:pt x="34100" y="180975"/>
                    <a:pt x="25337" y="180975"/>
                  </a:cubicBezTo>
                  <a:cubicBezTo>
                    <a:pt x="16574" y="180975"/>
                    <a:pt x="10160" y="177292"/>
                    <a:pt x="6096" y="169926"/>
                  </a:cubicBezTo>
                  <a:cubicBezTo>
                    <a:pt x="2032" y="162560"/>
                    <a:pt x="0" y="154051"/>
                    <a:pt x="0" y="144399"/>
                  </a:cubicBezTo>
                  <a:cubicBezTo>
                    <a:pt x="0" y="134747"/>
                    <a:pt x="4318" y="124397"/>
                    <a:pt x="12954" y="113348"/>
                  </a:cubicBezTo>
                  <a:cubicBezTo>
                    <a:pt x="21590" y="102299"/>
                    <a:pt x="36195" y="88583"/>
                    <a:pt x="56769" y="72200"/>
                  </a:cubicBezTo>
                  <a:cubicBezTo>
                    <a:pt x="77343" y="55817"/>
                    <a:pt x="87630" y="44831"/>
                    <a:pt x="87630" y="39243"/>
                  </a:cubicBezTo>
                  <a:cubicBezTo>
                    <a:pt x="87630" y="37973"/>
                    <a:pt x="87313" y="37021"/>
                    <a:pt x="86678" y="36386"/>
                  </a:cubicBezTo>
                  <a:cubicBezTo>
                    <a:pt x="86043" y="35751"/>
                    <a:pt x="82804" y="32703"/>
                    <a:pt x="76962" y="27242"/>
                  </a:cubicBezTo>
                  <a:cubicBezTo>
                    <a:pt x="71120" y="21781"/>
                    <a:pt x="68199" y="18669"/>
                    <a:pt x="68199" y="17907"/>
                  </a:cubicBezTo>
                  <a:cubicBezTo>
                    <a:pt x="68199" y="16637"/>
                    <a:pt x="71247" y="15685"/>
                    <a:pt x="77343" y="15050"/>
                  </a:cubicBezTo>
                  <a:cubicBezTo>
                    <a:pt x="83439" y="14415"/>
                    <a:pt x="88011" y="14097"/>
                    <a:pt x="91059" y="14097"/>
                  </a:cubicBezTo>
                  <a:close/>
                  <a:moveTo>
                    <a:pt x="962025" y="9906"/>
                  </a:moveTo>
                  <a:cubicBezTo>
                    <a:pt x="966597" y="9906"/>
                    <a:pt x="975106" y="14542"/>
                    <a:pt x="987552" y="23813"/>
                  </a:cubicBezTo>
                  <a:cubicBezTo>
                    <a:pt x="999998" y="33084"/>
                    <a:pt x="1006221" y="41529"/>
                    <a:pt x="1006221" y="49149"/>
                  </a:cubicBezTo>
                  <a:cubicBezTo>
                    <a:pt x="1006221" y="51943"/>
                    <a:pt x="1005332" y="54991"/>
                    <a:pt x="1003554" y="58293"/>
                  </a:cubicBezTo>
                  <a:cubicBezTo>
                    <a:pt x="1001776" y="61595"/>
                    <a:pt x="996696" y="67374"/>
                    <a:pt x="988314" y="75629"/>
                  </a:cubicBezTo>
                  <a:cubicBezTo>
                    <a:pt x="979932" y="83884"/>
                    <a:pt x="972439" y="90551"/>
                    <a:pt x="965835" y="95631"/>
                  </a:cubicBezTo>
                  <a:cubicBezTo>
                    <a:pt x="968629" y="105283"/>
                    <a:pt x="970026" y="112205"/>
                    <a:pt x="970026" y="116396"/>
                  </a:cubicBezTo>
                  <a:cubicBezTo>
                    <a:pt x="970026" y="120587"/>
                    <a:pt x="969010" y="123254"/>
                    <a:pt x="966978" y="124397"/>
                  </a:cubicBezTo>
                  <a:cubicBezTo>
                    <a:pt x="964946" y="125540"/>
                    <a:pt x="961136" y="126111"/>
                    <a:pt x="955548" y="126111"/>
                  </a:cubicBezTo>
                  <a:cubicBezTo>
                    <a:pt x="949960" y="126111"/>
                    <a:pt x="939292" y="128588"/>
                    <a:pt x="923544" y="133541"/>
                  </a:cubicBezTo>
                  <a:cubicBezTo>
                    <a:pt x="907796" y="138494"/>
                    <a:pt x="897763" y="142621"/>
                    <a:pt x="893445" y="145923"/>
                  </a:cubicBezTo>
                  <a:cubicBezTo>
                    <a:pt x="889127" y="149225"/>
                    <a:pt x="885444" y="150876"/>
                    <a:pt x="882396" y="150876"/>
                  </a:cubicBezTo>
                  <a:cubicBezTo>
                    <a:pt x="879348" y="150876"/>
                    <a:pt x="874649" y="149225"/>
                    <a:pt x="868299" y="145923"/>
                  </a:cubicBezTo>
                  <a:cubicBezTo>
                    <a:pt x="849249" y="147955"/>
                    <a:pt x="833755" y="153797"/>
                    <a:pt x="821817" y="163449"/>
                  </a:cubicBezTo>
                  <a:cubicBezTo>
                    <a:pt x="809879" y="173101"/>
                    <a:pt x="803910" y="179007"/>
                    <a:pt x="803910" y="181166"/>
                  </a:cubicBezTo>
                  <a:cubicBezTo>
                    <a:pt x="803910" y="183325"/>
                    <a:pt x="808355" y="189230"/>
                    <a:pt x="817245" y="198882"/>
                  </a:cubicBezTo>
                  <a:cubicBezTo>
                    <a:pt x="831723" y="192278"/>
                    <a:pt x="846709" y="183642"/>
                    <a:pt x="862203" y="172974"/>
                  </a:cubicBezTo>
                  <a:cubicBezTo>
                    <a:pt x="867791" y="169164"/>
                    <a:pt x="871855" y="167259"/>
                    <a:pt x="874395" y="167259"/>
                  </a:cubicBezTo>
                  <a:cubicBezTo>
                    <a:pt x="876935" y="167259"/>
                    <a:pt x="881126" y="168212"/>
                    <a:pt x="886968" y="170117"/>
                  </a:cubicBezTo>
                  <a:cubicBezTo>
                    <a:pt x="892810" y="172022"/>
                    <a:pt x="897827" y="177356"/>
                    <a:pt x="902018" y="186119"/>
                  </a:cubicBezTo>
                  <a:cubicBezTo>
                    <a:pt x="906209" y="194882"/>
                    <a:pt x="908304" y="200343"/>
                    <a:pt x="908304" y="202502"/>
                  </a:cubicBezTo>
                  <a:cubicBezTo>
                    <a:pt x="908304" y="204661"/>
                    <a:pt x="907669" y="206502"/>
                    <a:pt x="906399" y="208026"/>
                  </a:cubicBezTo>
                  <a:cubicBezTo>
                    <a:pt x="899033" y="217170"/>
                    <a:pt x="894461" y="223266"/>
                    <a:pt x="892683" y="226314"/>
                  </a:cubicBezTo>
                  <a:cubicBezTo>
                    <a:pt x="890905" y="229362"/>
                    <a:pt x="890143" y="232664"/>
                    <a:pt x="890397" y="236220"/>
                  </a:cubicBezTo>
                  <a:cubicBezTo>
                    <a:pt x="893191" y="243840"/>
                    <a:pt x="894588" y="249555"/>
                    <a:pt x="894588" y="253365"/>
                  </a:cubicBezTo>
                  <a:cubicBezTo>
                    <a:pt x="894588" y="257175"/>
                    <a:pt x="891921" y="259207"/>
                    <a:pt x="886587" y="259461"/>
                  </a:cubicBezTo>
                  <a:cubicBezTo>
                    <a:pt x="877443" y="259969"/>
                    <a:pt x="868934" y="261938"/>
                    <a:pt x="861060" y="265367"/>
                  </a:cubicBezTo>
                  <a:cubicBezTo>
                    <a:pt x="853186" y="268796"/>
                    <a:pt x="847662" y="270510"/>
                    <a:pt x="844487" y="270510"/>
                  </a:cubicBezTo>
                  <a:cubicBezTo>
                    <a:pt x="841312" y="270510"/>
                    <a:pt x="837565" y="270256"/>
                    <a:pt x="833247" y="269748"/>
                  </a:cubicBezTo>
                  <a:cubicBezTo>
                    <a:pt x="832993" y="283210"/>
                    <a:pt x="831660" y="289941"/>
                    <a:pt x="829247" y="289941"/>
                  </a:cubicBezTo>
                  <a:cubicBezTo>
                    <a:pt x="826834" y="289941"/>
                    <a:pt x="822833" y="286512"/>
                    <a:pt x="817245" y="279654"/>
                  </a:cubicBezTo>
                  <a:cubicBezTo>
                    <a:pt x="811657" y="272796"/>
                    <a:pt x="807085" y="261303"/>
                    <a:pt x="803529" y="245174"/>
                  </a:cubicBezTo>
                  <a:cubicBezTo>
                    <a:pt x="799973" y="229045"/>
                    <a:pt x="796925" y="219075"/>
                    <a:pt x="794385" y="215265"/>
                  </a:cubicBezTo>
                  <a:cubicBezTo>
                    <a:pt x="790829" y="209931"/>
                    <a:pt x="789051" y="203200"/>
                    <a:pt x="789051" y="195072"/>
                  </a:cubicBezTo>
                  <a:cubicBezTo>
                    <a:pt x="789051" y="180848"/>
                    <a:pt x="792988" y="173609"/>
                    <a:pt x="800862" y="173355"/>
                  </a:cubicBezTo>
                  <a:cubicBezTo>
                    <a:pt x="817118" y="156083"/>
                    <a:pt x="836168" y="143129"/>
                    <a:pt x="858012" y="134493"/>
                  </a:cubicBezTo>
                  <a:cubicBezTo>
                    <a:pt x="856234" y="128651"/>
                    <a:pt x="854774" y="121666"/>
                    <a:pt x="853631" y="113538"/>
                  </a:cubicBezTo>
                  <a:cubicBezTo>
                    <a:pt x="852488" y="105410"/>
                    <a:pt x="851853" y="97727"/>
                    <a:pt x="851726" y="90488"/>
                  </a:cubicBezTo>
                  <a:cubicBezTo>
                    <a:pt x="851599" y="83249"/>
                    <a:pt x="851535" y="76645"/>
                    <a:pt x="851535" y="70676"/>
                  </a:cubicBezTo>
                  <a:cubicBezTo>
                    <a:pt x="851535" y="64707"/>
                    <a:pt x="850075" y="59055"/>
                    <a:pt x="847154" y="53721"/>
                  </a:cubicBezTo>
                  <a:cubicBezTo>
                    <a:pt x="844233" y="48387"/>
                    <a:pt x="842772" y="45085"/>
                    <a:pt x="842772" y="43815"/>
                  </a:cubicBezTo>
                  <a:cubicBezTo>
                    <a:pt x="842772" y="42545"/>
                    <a:pt x="843788" y="41910"/>
                    <a:pt x="845820" y="41910"/>
                  </a:cubicBezTo>
                  <a:cubicBezTo>
                    <a:pt x="856996" y="41910"/>
                    <a:pt x="866648" y="44577"/>
                    <a:pt x="874776" y="49911"/>
                  </a:cubicBezTo>
                  <a:cubicBezTo>
                    <a:pt x="891032" y="35687"/>
                    <a:pt x="912749" y="26670"/>
                    <a:pt x="939927" y="22860"/>
                  </a:cubicBezTo>
                  <a:cubicBezTo>
                    <a:pt x="946277" y="21844"/>
                    <a:pt x="951230" y="19177"/>
                    <a:pt x="954786" y="14859"/>
                  </a:cubicBezTo>
                  <a:cubicBezTo>
                    <a:pt x="957580" y="11557"/>
                    <a:pt x="959993" y="9906"/>
                    <a:pt x="962025" y="9906"/>
                  </a:cubicBezTo>
                  <a:close/>
                  <a:moveTo>
                    <a:pt x="1333500" y="2667"/>
                  </a:moveTo>
                  <a:cubicBezTo>
                    <a:pt x="1352296" y="2667"/>
                    <a:pt x="1361694" y="10668"/>
                    <a:pt x="1361694" y="26670"/>
                  </a:cubicBezTo>
                  <a:cubicBezTo>
                    <a:pt x="1361694" y="29972"/>
                    <a:pt x="1361186" y="33528"/>
                    <a:pt x="1360170" y="37338"/>
                  </a:cubicBezTo>
                  <a:cubicBezTo>
                    <a:pt x="1364234" y="37338"/>
                    <a:pt x="1367727" y="36830"/>
                    <a:pt x="1370648" y="35814"/>
                  </a:cubicBezTo>
                  <a:cubicBezTo>
                    <a:pt x="1373569" y="34798"/>
                    <a:pt x="1375982" y="34290"/>
                    <a:pt x="1377887" y="34290"/>
                  </a:cubicBezTo>
                  <a:cubicBezTo>
                    <a:pt x="1379792" y="34290"/>
                    <a:pt x="1383475" y="36005"/>
                    <a:pt x="1388936" y="39434"/>
                  </a:cubicBezTo>
                  <a:cubicBezTo>
                    <a:pt x="1394397" y="42863"/>
                    <a:pt x="1397953" y="45593"/>
                    <a:pt x="1399604" y="47625"/>
                  </a:cubicBezTo>
                  <a:cubicBezTo>
                    <a:pt x="1401255" y="49657"/>
                    <a:pt x="1402080" y="51943"/>
                    <a:pt x="1402080" y="54483"/>
                  </a:cubicBezTo>
                  <a:cubicBezTo>
                    <a:pt x="1402080" y="59563"/>
                    <a:pt x="1399540" y="62738"/>
                    <a:pt x="1394460" y="64008"/>
                  </a:cubicBezTo>
                  <a:cubicBezTo>
                    <a:pt x="1376680" y="68072"/>
                    <a:pt x="1363345" y="72644"/>
                    <a:pt x="1354455" y="77724"/>
                  </a:cubicBezTo>
                  <a:lnTo>
                    <a:pt x="1352550" y="90678"/>
                  </a:lnTo>
                  <a:cubicBezTo>
                    <a:pt x="1365504" y="87376"/>
                    <a:pt x="1377569" y="85725"/>
                    <a:pt x="1388745" y="85725"/>
                  </a:cubicBezTo>
                  <a:cubicBezTo>
                    <a:pt x="1406779" y="85725"/>
                    <a:pt x="1418400" y="89599"/>
                    <a:pt x="1423607" y="97346"/>
                  </a:cubicBezTo>
                  <a:cubicBezTo>
                    <a:pt x="1428814" y="105093"/>
                    <a:pt x="1431417" y="111062"/>
                    <a:pt x="1431417" y="115253"/>
                  </a:cubicBezTo>
                  <a:cubicBezTo>
                    <a:pt x="1431417" y="119444"/>
                    <a:pt x="1430719" y="122492"/>
                    <a:pt x="1429322" y="124397"/>
                  </a:cubicBezTo>
                  <a:cubicBezTo>
                    <a:pt x="1427925" y="126302"/>
                    <a:pt x="1425829" y="127508"/>
                    <a:pt x="1423035" y="128016"/>
                  </a:cubicBezTo>
                  <a:lnTo>
                    <a:pt x="1408176" y="131064"/>
                  </a:lnTo>
                  <a:cubicBezTo>
                    <a:pt x="1397508" y="133096"/>
                    <a:pt x="1390269" y="134620"/>
                    <a:pt x="1386459" y="135636"/>
                  </a:cubicBezTo>
                  <a:cubicBezTo>
                    <a:pt x="1370965" y="140208"/>
                    <a:pt x="1360170" y="141859"/>
                    <a:pt x="1354074" y="140589"/>
                  </a:cubicBezTo>
                  <a:cubicBezTo>
                    <a:pt x="1349756" y="139827"/>
                    <a:pt x="1346454" y="139446"/>
                    <a:pt x="1344168" y="139446"/>
                  </a:cubicBezTo>
                  <a:cubicBezTo>
                    <a:pt x="1337564" y="139446"/>
                    <a:pt x="1334262" y="140716"/>
                    <a:pt x="1334262" y="143256"/>
                  </a:cubicBezTo>
                  <a:cubicBezTo>
                    <a:pt x="1334262" y="144272"/>
                    <a:pt x="1335024" y="145161"/>
                    <a:pt x="1336548" y="145923"/>
                  </a:cubicBezTo>
                  <a:cubicBezTo>
                    <a:pt x="1342136" y="149225"/>
                    <a:pt x="1344930" y="152527"/>
                    <a:pt x="1344930" y="155829"/>
                  </a:cubicBezTo>
                  <a:cubicBezTo>
                    <a:pt x="1344930" y="157099"/>
                    <a:pt x="1344422" y="158242"/>
                    <a:pt x="1343406" y="159258"/>
                  </a:cubicBezTo>
                  <a:cubicBezTo>
                    <a:pt x="1338834" y="163830"/>
                    <a:pt x="1332865" y="171069"/>
                    <a:pt x="1325499" y="180975"/>
                  </a:cubicBezTo>
                  <a:cubicBezTo>
                    <a:pt x="1331849" y="184531"/>
                    <a:pt x="1338453" y="188722"/>
                    <a:pt x="1345311" y="193548"/>
                  </a:cubicBezTo>
                  <a:cubicBezTo>
                    <a:pt x="1349883" y="178054"/>
                    <a:pt x="1352169" y="168021"/>
                    <a:pt x="1352169" y="163449"/>
                  </a:cubicBezTo>
                  <a:cubicBezTo>
                    <a:pt x="1352169" y="158877"/>
                    <a:pt x="1351534" y="156274"/>
                    <a:pt x="1350264" y="155639"/>
                  </a:cubicBezTo>
                  <a:cubicBezTo>
                    <a:pt x="1348994" y="155004"/>
                    <a:pt x="1348359" y="154051"/>
                    <a:pt x="1348359" y="152781"/>
                  </a:cubicBezTo>
                  <a:cubicBezTo>
                    <a:pt x="1348359" y="151511"/>
                    <a:pt x="1349439" y="150241"/>
                    <a:pt x="1351598" y="148971"/>
                  </a:cubicBezTo>
                  <a:cubicBezTo>
                    <a:pt x="1353757" y="147701"/>
                    <a:pt x="1356360" y="147066"/>
                    <a:pt x="1359408" y="147066"/>
                  </a:cubicBezTo>
                  <a:cubicBezTo>
                    <a:pt x="1370330" y="147066"/>
                    <a:pt x="1375791" y="149987"/>
                    <a:pt x="1375791" y="155829"/>
                  </a:cubicBezTo>
                  <a:cubicBezTo>
                    <a:pt x="1375791" y="162941"/>
                    <a:pt x="1374839" y="168148"/>
                    <a:pt x="1372934" y="171450"/>
                  </a:cubicBezTo>
                  <a:cubicBezTo>
                    <a:pt x="1371029" y="174752"/>
                    <a:pt x="1367155" y="187579"/>
                    <a:pt x="1361313" y="209931"/>
                  </a:cubicBezTo>
                  <a:cubicBezTo>
                    <a:pt x="1383665" y="205105"/>
                    <a:pt x="1398270" y="202692"/>
                    <a:pt x="1405128" y="202692"/>
                  </a:cubicBezTo>
                  <a:cubicBezTo>
                    <a:pt x="1411986" y="202692"/>
                    <a:pt x="1417638" y="205169"/>
                    <a:pt x="1422083" y="210122"/>
                  </a:cubicBezTo>
                  <a:cubicBezTo>
                    <a:pt x="1426528" y="215075"/>
                    <a:pt x="1428750" y="218948"/>
                    <a:pt x="1428750" y="221742"/>
                  </a:cubicBezTo>
                  <a:cubicBezTo>
                    <a:pt x="1428750" y="226060"/>
                    <a:pt x="1425829" y="228219"/>
                    <a:pt x="1419987" y="228219"/>
                  </a:cubicBezTo>
                  <a:cubicBezTo>
                    <a:pt x="1418463" y="228219"/>
                    <a:pt x="1416685" y="227965"/>
                    <a:pt x="1414653" y="227457"/>
                  </a:cubicBezTo>
                  <a:cubicBezTo>
                    <a:pt x="1405509" y="225171"/>
                    <a:pt x="1396492" y="224028"/>
                    <a:pt x="1387602" y="224028"/>
                  </a:cubicBezTo>
                  <a:cubicBezTo>
                    <a:pt x="1378712" y="224028"/>
                    <a:pt x="1368298" y="225171"/>
                    <a:pt x="1356360" y="227457"/>
                  </a:cubicBezTo>
                  <a:cubicBezTo>
                    <a:pt x="1347978" y="253873"/>
                    <a:pt x="1337501" y="272923"/>
                    <a:pt x="1324928" y="284607"/>
                  </a:cubicBezTo>
                  <a:cubicBezTo>
                    <a:pt x="1312355" y="296291"/>
                    <a:pt x="1295908" y="302133"/>
                    <a:pt x="1275588" y="302133"/>
                  </a:cubicBezTo>
                  <a:cubicBezTo>
                    <a:pt x="1271778" y="302133"/>
                    <a:pt x="1269365" y="301879"/>
                    <a:pt x="1268349" y="301371"/>
                  </a:cubicBezTo>
                  <a:cubicBezTo>
                    <a:pt x="1267333" y="300863"/>
                    <a:pt x="1266825" y="299974"/>
                    <a:pt x="1266825" y="298704"/>
                  </a:cubicBezTo>
                  <a:cubicBezTo>
                    <a:pt x="1266825" y="296164"/>
                    <a:pt x="1268349" y="294259"/>
                    <a:pt x="1271397" y="292989"/>
                  </a:cubicBezTo>
                  <a:cubicBezTo>
                    <a:pt x="1287907" y="287147"/>
                    <a:pt x="1300798" y="279400"/>
                    <a:pt x="1310069" y="269748"/>
                  </a:cubicBezTo>
                  <a:cubicBezTo>
                    <a:pt x="1319340" y="260096"/>
                    <a:pt x="1326642" y="248158"/>
                    <a:pt x="1331976" y="233934"/>
                  </a:cubicBezTo>
                  <a:cubicBezTo>
                    <a:pt x="1324356" y="236728"/>
                    <a:pt x="1308608" y="243840"/>
                    <a:pt x="1284732" y="255270"/>
                  </a:cubicBezTo>
                  <a:cubicBezTo>
                    <a:pt x="1274064" y="260350"/>
                    <a:pt x="1266762" y="262890"/>
                    <a:pt x="1262825" y="262890"/>
                  </a:cubicBezTo>
                  <a:cubicBezTo>
                    <a:pt x="1258888" y="262890"/>
                    <a:pt x="1254506" y="261049"/>
                    <a:pt x="1249680" y="257366"/>
                  </a:cubicBezTo>
                  <a:cubicBezTo>
                    <a:pt x="1244854" y="253683"/>
                    <a:pt x="1242441" y="251143"/>
                    <a:pt x="1242441" y="249746"/>
                  </a:cubicBezTo>
                  <a:cubicBezTo>
                    <a:pt x="1242441" y="248349"/>
                    <a:pt x="1243584" y="247523"/>
                    <a:pt x="1245870" y="247269"/>
                  </a:cubicBezTo>
                  <a:cubicBezTo>
                    <a:pt x="1250950" y="246761"/>
                    <a:pt x="1255776" y="245110"/>
                    <a:pt x="1260348" y="242316"/>
                  </a:cubicBezTo>
                  <a:cubicBezTo>
                    <a:pt x="1271270" y="235966"/>
                    <a:pt x="1288923" y="229108"/>
                    <a:pt x="1313307" y="221742"/>
                  </a:cubicBezTo>
                  <a:cubicBezTo>
                    <a:pt x="1312545" y="219964"/>
                    <a:pt x="1311212" y="219075"/>
                    <a:pt x="1309307" y="219075"/>
                  </a:cubicBezTo>
                  <a:cubicBezTo>
                    <a:pt x="1307402" y="219075"/>
                    <a:pt x="1304290" y="219774"/>
                    <a:pt x="1299972" y="221171"/>
                  </a:cubicBezTo>
                  <a:cubicBezTo>
                    <a:pt x="1295654" y="222568"/>
                    <a:pt x="1292225" y="223965"/>
                    <a:pt x="1289685" y="225362"/>
                  </a:cubicBezTo>
                  <a:cubicBezTo>
                    <a:pt x="1287145" y="226759"/>
                    <a:pt x="1285558" y="227457"/>
                    <a:pt x="1284923" y="227457"/>
                  </a:cubicBezTo>
                  <a:cubicBezTo>
                    <a:pt x="1284288" y="227457"/>
                    <a:pt x="1283970" y="227330"/>
                    <a:pt x="1283970" y="227076"/>
                  </a:cubicBezTo>
                  <a:cubicBezTo>
                    <a:pt x="1283970" y="225552"/>
                    <a:pt x="1289558" y="221488"/>
                    <a:pt x="1300734" y="214884"/>
                  </a:cubicBezTo>
                  <a:cubicBezTo>
                    <a:pt x="1292352" y="212344"/>
                    <a:pt x="1287145" y="209995"/>
                    <a:pt x="1285113" y="207836"/>
                  </a:cubicBezTo>
                  <a:cubicBezTo>
                    <a:pt x="1283081" y="205677"/>
                    <a:pt x="1282065" y="201549"/>
                    <a:pt x="1282065" y="195453"/>
                  </a:cubicBezTo>
                  <a:cubicBezTo>
                    <a:pt x="1282065" y="189357"/>
                    <a:pt x="1283081" y="185293"/>
                    <a:pt x="1285113" y="183261"/>
                  </a:cubicBezTo>
                  <a:cubicBezTo>
                    <a:pt x="1287145" y="181229"/>
                    <a:pt x="1291082" y="180340"/>
                    <a:pt x="1296924" y="180594"/>
                  </a:cubicBezTo>
                  <a:cubicBezTo>
                    <a:pt x="1298448" y="177292"/>
                    <a:pt x="1300544" y="174816"/>
                    <a:pt x="1303211" y="173165"/>
                  </a:cubicBezTo>
                  <a:cubicBezTo>
                    <a:pt x="1305878" y="171514"/>
                    <a:pt x="1307211" y="170117"/>
                    <a:pt x="1307211" y="168974"/>
                  </a:cubicBezTo>
                  <a:cubicBezTo>
                    <a:pt x="1307211" y="167831"/>
                    <a:pt x="1305560" y="166370"/>
                    <a:pt x="1302258" y="164592"/>
                  </a:cubicBezTo>
                  <a:cubicBezTo>
                    <a:pt x="1296162" y="160782"/>
                    <a:pt x="1293114" y="156147"/>
                    <a:pt x="1293114" y="150686"/>
                  </a:cubicBezTo>
                  <a:cubicBezTo>
                    <a:pt x="1293114" y="145225"/>
                    <a:pt x="1295527" y="142240"/>
                    <a:pt x="1300353" y="141732"/>
                  </a:cubicBezTo>
                  <a:cubicBezTo>
                    <a:pt x="1327531" y="139446"/>
                    <a:pt x="1349756" y="133223"/>
                    <a:pt x="1367028" y="123063"/>
                  </a:cubicBezTo>
                  <a:cubicBezTo>
                    <a:pt x="1384300" y="112903"/>
                    <a:pt x="1392936" y="106299"/>
                    <a:pt x="1392936" y="103251"/>
                  </a:cubicBezTo>
                  <a:cubicBezTo>
                    <a:pt x="1392936" y="101727"/>
                    <a:pt x="1391031" y="100965"/>
                    <a:pt x="1387221" y="100965"/>
                  </a:cubicBezTo>
                  <a:cubicBezTo>
                    <a:pt x="1377569" y="100965"/>
                    <a:pt x="1369568" y="101854"/>
                    <a:pt x="1363218" y="103632"/>
                  </a:cubicBezTo>
                  <a:cubicBezTo>
                    <a:pt x="1356868" y="105410"/>
                    <a:pt x="1348105" y="109347"/>
                    <a:pt x="1336929" y="115443"/>
                  </a:cubicBezTo>
                  <a:cubicBezTo>
                    <a:pt x="1305179" y="133223"/>
                    <a:pt x="1285177" y="144272"/>
                    <a:pt x="1276922" y="148590"/>
                  </a:cubicBezTo>
                  <a:cubicBezTo>
                    <a:pt x="1268667" y="152908"/>
                    <a:pt x="1263777" y="155067"/>
                    <a:pt x="1262253" y="155067"/>
                  </a:cubicBezTo>
                  <a:cubicBezTo>
                    <a:pt x="1258697" y="155067"/>
                    <a:pt x="1255840" y="151194"/>
                    <a:pt x="1253681" y="143447"/>
                  </a:cubicBezTo>
                  <a:cubicBezTo>
                    <a:pt x="1251522" y="135700"/>
                    <a:pt x="1250442" y="130683"/>
                    <a:pt x="1250442" y="128397"/>
                  </a:cubicBezTo>
                  <a:cubicBezTo>
                    <a:pt x="1250442" y="123063"/>
                    <a:pt x="1252347" y="120396"/>
                    <a:pt x="1256157" y="120396"/>
                  </a:cubicBezTo>
                  <a:cubicBezTo>
                    <a:pt x="1257681" y="120396"/>
                    <a:pt x="1258824" y="120904"/>
                    <a:pt x="1259586" y="121920"/>
                  </a:cubicBezTo>
                  <a:cubicBezTo>
                    <a:pt x="1260348" y="122936"/>
                    <a:pt x="1261364" y="123444"/>
                    <a:pt x="1262634" y="123444"/>
                  </a:cubicBezTo>
                  <a:cubicBezTo>
                    <a:pt x="1267460" y="123444"/>
                    <a:pt x="1284097" y="116840"/>
                    <a:pt x="1312545" y="103632"/>
                  </a:cubicBezTo>
                  <a:cubicBezTo>
                    <a:pt x="1315593" y="98806"/>
                    <a:pt x="1317752" y="93472"/>
                    <a:pt x="1319022" y="87630"/>
                  </a:cubicBezTo>
                  <a:cubicBezTo>
                    <a:pt x="1312164" y="87630"/>
                    <a:pt x="1304608" y="84138"/>
                    <a:pt x="1296353" y="77153"/>
                  </a:cubicBezTo>
                  <a:cubicBezTo>
                    <a:pt x="1288098" y="70168"/>
                    <a:pt x="1283970" y="65977"/>
                    <a:pt x="1283970" y="64580"/>
                  </a:cubicBezTo>
                  <a:cubicBezTo>
                    <a:pt x="1283970" y="63183"/>
                    <a:pt x="1285240" y="62484"/>
                    <a:pt x="1287780" y="62484"/>
                  </a:cubicBezTo>
                  <a:lnTo>
                    <a:pt x="1291971" y="62484"/>
                  </a:lnTo>
                  <a:cubicBezTo>
                    <a:pt x="1300861" y="62484"/>
                    <a:pt x="1312037" y="59563"/>
                    <a:pt x="1325499" y="53721"/>
                  </a:cubicBezTo>
                  <a:cubicBezTo>
                    <a:pt x="1325753" y="47371"/>
                    <a:pt x="1325880" y="41466"/>
                    <a:pt x="1325880" y="36005"/>
                  </a:cubicBezTo>
                  <a:cubicBezTo>
                    <a:pt x="1325880" y="30544"/>
                    <a:pt x="1324991" y="26797"/>
                    <a:pt x="1323213" y="24765"/>
                  </a:cubicBezTo>
                  <a:cubicBezTo>
                    <a:pt x="1321435" y="22733"/>
                    <a:pt x="1317625" y="21463"/>
                    <a:pt x="1311783" y="20955"/>
                  </a:cubicBezTo>
                  <a:cubicBezTo>
                    <a:pt x="1308735" y="20701"/>
                    <a:pt x="1307211" y="18987"/>
                    <a:pt x="1307211" y="15812"/>
                  </a:cubicBezTo>
                  <a:cubicBezTo>
                    <a:pt x="1307211" y="12637"/>
                    <a:pt x="1309116" y="9652"/>
                    <a:pt x="1312926" y="6858"/>
                  </a:cubicBezTo>
                  <a:cubicBezTo>
                    <a:pt x="1316736" y="4064"/>
                    <a:pt x="1323594" y="2667"/>
                    <a:pt x="1333500" y="2667"/>
                  </a:cubicBezTo>
                  <a:close/>
                  <a:moveTo>
                    <a:pt x="481965" y="0"/>
                  </a:moveTo>
                  <a:cubicBezTo>
                    <a:pt x="485267" y="0"/>
                    <a:pt x="493332" y="3302"/>
                    <a:pt x="506159" y="9906"/>
                  </a:cubicBezTo>
                  <a:cubicBezTo>
                    <a:pt x="518986" y="16510"/>
                    <a:pt x="528511" y="22860"/>
                    <a:pt x="534734" y="28956"/>
                  </a:cubicBezTo>
                  <a:cubicBezTo>
                    <a:pt x="540957" y="35052"/>
                    <a:pt x="544068" y="41339"/>
                    <a:pt x="544068" y="47816"/>
                  </a:cubicBezTo>
                  <a:cubicBezTo>
                    <a:pt x="544068" y="54293"/>
                    <a:pt x="540766" y="62230"/>
                    <a:pt x="534162" y="71628"/>
                  </a:cubicBezTo>
                  <a:cubicBezTo>
                    <a:pt x="549402" y="62738"/>
                    <a:pt x="559626" y="57341"/>
                    <a:pt x="564833" y="55436"/>
                  </a:cubicBezTo>
                  <a:cubicBezTo>
                    <a:pt x="570040" y="53531"/>
                    <a:pt x="573024" y="51562"/>
                    <a:pt x="573786" y="49530"/>
                  </a:cubicBezTo>
                  <a:cubicBezTo>
                    <a:pt x="574802" y="46990"/>
                    <a:pt x="578739" y="45720"/>
                    <a:pt x="585597" y="45720"/>
                  </a:cubicBezTo>
                  <a:cubicBezTo>
                    <a:pt x="592455" y="45720"/>
                    <a:pt x="598234" y="48387"/>
                    <a:pt x="602933" y="53721"/>
                  </a:cubicBezTo>
                  <a:cubicBezTo>
                    <a:pt x="607632" y="59055"/>
                    <a:pt x="609981" y="63881"/>
                    <a:pt x="609981" y="68199"/>
                  </a:cubicBezTo>
                  <a:cubicBezTo>
                    <a:pt x="609981" y="77597"/>
                    <a:pt x="606806" y="82296"/>
                    <a:pt x="600456" y="82296"/>
                  </a:cubicBezTo>
                  <a:cubicBezTo>
                    <a:pt x="590042" y="82296"/>
                    <a:pt x="575183" y="88138"/>
                    <a:pt x="555879" y="99822"/>
                  </a:cubicBezTo>
                  <a:cubicBezTo>
                    <a:pt x="557403" y="108966"/>
                    <a:pt x="561086" y="117729"/>
                    <a:pt x="566928" y="126111"/>
                  </a:cubicBezTo>
                  <a:cubicBezTo>
                    <a:pt x="568960" y="128905"/>
                    <a:pt x="569976" y="135255"/>
                    <a:pt x="569976" y="145161"/>
                  </a:cubicBezTo>
                  <a:cubicBezTo>
                    <a:pt x="569976" y="161417"/>
                    <a:pt x="567309" y="175895"/>
                    <a:pt x="561975" y="188595"/>
                  </a:cubicBezTo>
                  <a:cubicBezTo>
                    <a:pt x="605409" y="209931"/>
                    <a:pt x="632079" y="222250"/>
                    <a:pt x="641985" y="225552"/>
                  </a:cubicBezTo>
                  <a:cubicBezTo>
                    <a:pt x="651891" y="228854"/>
                    <a:pt x="660972" y="237427"/>
                    <a:pt x="669227" y="251270"/>
                  </a:cubicBezTo>
                  <a:cubicBezTo>
                    <a:pt x="677482" y="265113"/>
                    <a:pt x="681609" y="277495"/>
                    <a:pt x="681609" y="288417"/>
                  </a:cubicBezTo>
                  <a:cubicBezTo>
                    <a:pt x="681609" y="294005"/>
                    <a:pt x="679387" y="296799"/>
                    <a:pt x="674942" y="296799"/>
                  </a:cubicBezTo>
                  <a:cubicBezTo>
                    <a:pt x="670497" y="296799"/>
                    <a:pt x="658813" y="291338"/>
                    <a:pt x="639890" y="280416"/>
                  </a:cubicBezTo>
                  <a:cubicBezTo>
                    <a:pt x="620967" y="269494"/>
                    <a:pt x="608584" y="261366"/>
                    <a:pt x="602742" y="256032"/>
                  </a:cubicBezTo>
                  <a:cubicBezTo>
                    <a:pt x="586994" y="242316"/>
                    <a:pt x="568198" y="229108"/>
                    <a:pt x="546354" y="216408"/>
                  </a:cubicBezTo>
                  <a:cubicBezTo>
                    <a:pt x="535686" y="228600"/>
                    <a:pt x="522542" y="237871"/>
                    <a:pt x="506921" y="244221"/>
                  </a:cubicBezTo>
                  <a:cubicBezTo>
                    <a:pt x="491300" y="250571"/>
                    <a:pt x="475298" y="253746"/>
                    <a:pt x="458915" y="253746"/>
                  </a:cubicBezTo>
                  <a:cubicBezTo>
                    <a:pt x="442532" y="253746"/>
                    <a:pt x="427800" y="251714"/>
                    <a:pt x="414719" y="247650"/>
                  </a:cubicBezTo>
                  <a:cubicBezTo>
                    <a:pt x="401638" y="243586"/>
                    <a:pt x="391541" y="238443"/>
                    <a:pt x="384429" y="232220"/>
                  </a:cubicBezTo>
                  <a:cubicBezTo>
                    <a:pt x="377317" y="225997"/>
                    <a:pt x="373761" y="221234"/>
                    <a:pt x="373761" y="217932"/>
                  </a:cubicBezTo>
                  <a:cubicBezTo>
                    <a:pt x="373761" y="216154"/>
                    <a:pt x="374523" y="215265"/>
                    <a:pt x="376047" y="215265"/>
                  </a:cubicBezTo>
                  <a:cubicBezTo>
                    <a:pt x="377571" y="215265"/>
                    <a:pt x="379603" y="216662"/>
                    <a:pt x="382143" y="219456"/>
                  </a:cubicBezTo>
                  <a:cubicBezTo>
                    <a:pt x="391541" y="229616"/>
                    <a:pt x="407416" y="234696"/>
                    <a:pt x="429768" y="234696"/>
                  </a:cubicBezTo>
                  <a:cubicBezTo>
                    <a:pt x="446532" y="234696"/>
                    <a:pt x="462661" y="231648"/>
                    <a:pt x="478155" y="225552"/>
                  </a:cubicBezTo>
                  <a:cubicBezTo>
                    <a:pt x="493649" y="219456"/>
                    <a:pt x="505206" y="211074"/>
                    <a:pt x="512826" y="200406"/>
                  </a:cubicBezTo>
                  <a:cubicBezTo>
                    <a:pt x="494284" y="193548"/>
                    <a:pt x="478473" y="185611"/>
                    <a:pt x="465392" y="176594"/>
                  </a:cubicBezTo>
                  <a:cubicBezTo>
                    <a:pt x="452311" y="167577"/>
                    <a:pt x="439230" y="163068"/>
                    <a:pt x="426149" y="163068"/>
                  </a:cubicBezTo>
                  <a:cubicBezTo>
                    <a:pt x="413068" y="163068"/>
                    <a:pt x="401320" y="166878"/>
                    <a:pt x="390906" y="174498"/>
                  </a:cubicBezTo>
                  <a:cubicBezTo>
                    <a:pt x="388366" y="176276"/>
                    <a:pt x="386461" y="177165"/>
                    <a:pt x="385191" y="177165"/>
                  </a:cubicBezTo>
                  <a:cubicBezTo>
                    <a:pt x="383921" y="177165"/>
                    <a:pt x="383286" y="176657"/>
                    <a:pt x="383286" y="175641"/>
                  </a:cubicBezTo>
                  <a:cubicBezTo>
                    <a:pt x="383286" y="172339"/>
                    <a:pt x="387477" y="167069"/>
                    <a:pt x="395859" y="159830"/>
                  </a:cubicBezTo>
                  <a:cubicBezTo>
                    <a:pt x="404241" y="152591"/>
                    <a:pt x="415544" y="148971"/>
                    <a:pt x="429768" y="148971"/>
                  </a:cubicBezTo>
                  <a:cubicBezTo>
                    <a:pt x="434848" y="148971"/>
                    <a:pt x="440055" y="149479"/>
                    <a:pt x="445389" y="150495"/>
                  </a:cubicBezTo>
                  <a:cubicBezTo>
                    <a:pt x="450723" y="151511"/>
                    <a:pt x="461963" y="154496"/>
                    <a:pt x="479108" y="159449"/>
                  </a:cubicBezTo>
                  <a:cubicBezTo>
                    <a:pt x="496253" y="164402"/>
                    <a:pt x="511937" y="169291"/>
                    <a:pt x="526161" y="174117"/>
                  </a:cubicBezTo>
                  <a:cubicBezTo>
                    <a:pt x="534035" y="152781"/>
                    <a:pt x="538480" y="131318"/>
                    <a:pt x="539496" y="109728"/>
                  </a:cubicBezTo>
                  <a:cubicBezTo>
                    <a:pt x="523748" y="121412"/>
                    <a:pt x="510985" y="129667"/>
                    <a:pt x="501206" y="134493"/>
                  </a:cubicBezTo>
                  <a:cubicBezTo>
                    <a:pt x="491427" y="139319"/>
                    <a:pt x="484823" y="141732"/>
                    <a:pt x="481394" y="141732"/>
                  </a:cubicBezTo>
                  <a:cubicBezTo>
                    <a:pt x="477965" y="141732"/>
                    <a:pt x="474790" y="140589"/>
                    <a:pt x="471869" y="138303"/>
                  </a:cubicBezTo>
                  <a:cubicBezTo>
                    <a:pt x="468948" y="136017"/>
                    <a:pt x="465138" y="131255"/>
                    <a:pt x="460439" y="124016"/>
                  </a:cubicBezTo>
                  <a:cubicBezTo>
                    <a:pt x="455740" y="116777"/>
                    <a:pt x="453390" y="111252"/>
                    <a:pt x="453390" y="107442"/>
                  </a:cubicBezTo>
                  <a:cubicBezTo>
                    <a:pt x="453390" y="103632"/>
                    <a:pt x="455422" y="98806"/>
                    <a:pt x="459486" y="92964"/>
                  </a:cubicBezTo>
                  <a:cubicBezTo>
                    <a:pt x="472440" y="73914"/>
                    <a:pt x="480822" y="60960"/>
                    <a:pt x="484632" y="54102"/>
                  </a:cubicBezTo>
                  <a:cubicBezTo>
                    <a:pt x="488442" y="47244"/>
                    <a:pt x="490347" y="42418"/>
                    <a:pt x="490347" y="39624"/>
                  </a:cubicBezTo>
                  <a:cubicBezTo>
                    <a:pt x="490347" y="36830"/>
                    <a:pt x="489522" y="31687"/>
                    <a:pt x="487871" y="24194"/>
                  </a:cubicBezTo>
                  <a:cubicBezTo>
                    <a:pt x="486220" y="16701"/>
                    <a:pt x="484505" y="11367"/>
                    <a:pt x="482727" y="8192"/>
                  </a:cubicBezTo>
                  <a:cubicBezTo>
                    <a:pt x="480949" y="5017"/>
                    <a:pt x="480060" y="2858"/>
                    <a:pt x="480060" y="1715"/>
                  </a:cubicBezTo>
                  <a:cubicBezTo>
                    <a:pt x="480060" y="572"/>
                    <a:pt x="480695" y="0"/>
                    <a:pt x="481965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450" name="文本框 1"/>
          <p:cNvSpPr/>
          <p:nvPr/>
        </p:nvSpPr>
        <p:spPr>
          <a:xfrm>
            <a:off x="792000" y="1687680"/>
            <a:ext cx="75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边绿，右边红，左右相遇起凉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中括号 2"/>
          <p:cNvSpPr/>
          <p:nvPr/>
        </p:nvSpPr>
        <p:spPr>
          <a:xfrm rot="16200000">
            <a:off x="1552680" y="1738440"/>
            <a:ext cx="70920" cy="1296720"/>
          </a:xfrm>
          <a:prstGeom prst="leftBracket">
            <a:avLst>
              <a:gd name="adj" fmla="val 104929"/>
            </a:avLst>
          </a:prstGeom>
          <a:noFill/>
          <a:ln w="15875">
            <a:solidFill>
              <a:srgbClr val="00a64a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452" name="左中括号 6"/>
          <p:cNvSpPr/>
          <p:nvPr/>
        </p:nvSpPr>
        <p:spPr>
          <a:xfrm rot="16200000">
            <a:off x="3384360" y="1738440"/>
            <a:ext cx="70920" cy="1296720"/>
          </a:xfrm>
          <a:prstGeom prst="leftBracket">
            <a:avLst>
              <a:gd name="adj" fmla="val 104929"/>
            </a:avLst>
          </a:prstGeom>
          <a:noFill/>
          <a:ln w="15875">
            <a:solidFill>
              <a:srgbClr val="ff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453" name="矩形 8"/>
          <p:cNvSpPr/>
          <p:nvPr/>
        </p:nvSpPr>
        <p:spPr>
          <a:xfrm>
            <a:off x="1795320" y="2668680"/>
            <a:ext cx="717120" cy="1007640"/>
          </a:xfrm>
          <a:prstGeom prst="rect">
            <a:avLst/>
          </a:prstGeom>
          <a:solidFill>
            <a:srgbClr val="91d4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54" name="矩形 11"/>
          <p:cNvSpPr/>
          <p:nvPr/>
        </p:nvSpPr>
        <p:spPr>
          <a:xfrm>
            <a:off x="2513160" y="2668680"/>
            <a:ext cx="715680" cy="1007640"/>
          </a:xfrm>
          <a:prstGeom prst="rect">
            <a:avLst/>
          </a:prstGeom>
          <a:solidFill>
            <a:srgbClr val="ffa7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1181160" y="3773520"/>
            <a:ext cx="266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结构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直接连接符 12"/>
          <p:cNvCxnSpPr>
            <a:stCxn id="450" idx="2"/>
          </p:cNvCxnSpPr>
          <p:nvPr/>
        </p:nvCxnSpPr>
        <p:spPr>
          <a:xfrm>
            <a:off x="4572000" y="2333520"/>
            <a:ext cx="1872000" cy="360"/>
          </a:xfrm>
          <a:prstGeom prst="straightConnector1">
            <a:avLst/>
          </a:prstGeom>
          <a:ln w="22225">
            <a:solidFill>
              <a:srgbClr val="9933ff"/>
            </a:solidFill>
          </a:ln>
        </p:spPr>
      </p:cxnSp>
      <p:sp>
        <p:nvSpPr>
          <p:cNvPr id="457" name="文本框 15"/>
          <p:cNvSpPr/>
          <p:nvPr/>
        </p:nvSpPr>
        <p:spPr>
          <a:xfrm>
            <a:off x="4464000" y="2556000"/>
            <a:ext cx="216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绿相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7"/>
          <p:cNvSpPr/>
          <p:nvPr/>
        </p:nvSpPr>
        <p:spPr>
          <a:xfrm>
            <a:off x="6372360" y="1687680"/>
            <a:ext cx="1439640" cy="645840"/>
          </a:xfrm>
          <a:prstGeom prst="rect">
            <a:avLst/>
          </a:prstGeom>
          <a:noFill/>
          <a:ln w="22225">
            <a:solidFill>
              <a:srgbClr val="ed7d3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59" name="文本框 20"/>
          <p:cNvSpPr/>
          <p:nvPr/>
        </p:nvSpPr>
        <p:spPr>
          <a:xfrm>
            <a:off x="5789520" y="873000"/>
            <a:ext cx="256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所起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左中括号 25"/>
          <p:cNvSpPr/>
          <p:nvPr/>
        </p:nvSpPr>
        <p:spPr>
          <a:xfrm rot="5400000">
            <a:off x="1970280" y="650520"/>
            <a:ext cx="149040" cy="1885680"/>
          </a:xfrm>
          <a:prstGeom prst="leftBracket">
            <a:avLst>
              <a:gd name="adj" fmla="val 119573"/>
            </a:avLst>
          </a:prstGeom>
          <a:noFill/>
          <a:ln w="15875">
            <a:solidFill>
              <a:srgbClr val="00b0f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461" name="文本框 28"/>
          <p:cNvSpPr/>
          <p:nvPr/>
        </p:nvSpPr>
        <p:spPr>
          <a:xfrm>
            <a:off x="973080" y="851040"/>
            <a:ext cx="223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互为反义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7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7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7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7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7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7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文本框 1"/>
          <p:cNvSpPr/>
          <p:nvPr/>
        </p:nvSpPr>
        <p:spPr>
          <a:xfrm>
            <a:off x="809640" y="771480"/>
            <a:ext cx="75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绿的喜欢及时雨，红的最怕水来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25"/>
          <p:cNvGrpSpPr/>
          <p:nvPr/>
        </p:nvGrpSpPr>
        <p:grpSpPr>
          <a:xfrm>
            <a:off x="809640" y="1635120"/>
            <a:ext cx="4728600" cy="638280"/>
            <a:chOff x="809640" y="1635120"/>
            <a:chExt cx="4728600" cy="638280"/>
          </a:xfrm>
        </p:grpSpPr>
        <p:sp>
          <p:nvSpPr>
            <p:cNvPr id="464" name="文本框 20"/>
            <p:cNvSpPr/>
            <p:nvPr/>
          </p:nvSpPr>
          <p:spPr>
            <a:xfrm>
              <a:off x="1096560" y="1635120"/>
              <a:ext cx="44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什么东西是</a:t>
              </a:r>
              <a:r>
                <a:rPr b="1" lang="zh-CN" sz="3600" spc="-1" strike="noStrike">
                  <a:solidFill>
                    <a:srgbClr val="00a64a"/>
                  </a:solidFill>
                  <a:latin typeface="黑体"/>
                  <a:ea typeface="黑体"/>
                </a:rPr>
                <a:t>绿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图形 24" descr="花灯"/>
            <p:cNvPicPr/>
            <p:nvPr/>
          </p:nvPicPr>
          <p:blipFill>
            <a:blip r:embed="rId1"/>
            <a:stretch/>
          </p:blipFill>
          <p:spPr>
            <a:xfrm>
              <a:off x="809640" y="1763640"/>
              <a:ext cx="401400" cy="45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图片 8"/>
          <p:cNvSpPr/>
          <p:nvPr/>
        </p:nvSpPr>
        <p:spPr>
          <a:xfrm>
            <a:off x="3703680" y="2571840"/>
            <a:ext cx="1742760" cy="17427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图片 10"/>
          <p:cNvSpPr/>
          <p:nvPr/>
        </p:nvSpPr>
        <p:spPr>
          <a:xfrm>
            <a:off x="1201680" y="2575080"/>
            <a:ext cx="1742760" cy="174276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图片 12"/>
          <p:cNvSpPr/>
          <p:nvPr/>
        </p:nvSpPr>
        <p:spPr>
          <a:xfrm>
            <a:off x="6205680" y="2578320"/>
            <a:ext cx="1736280" cy="1736280"/>
          </a:xfrm>
          <a:prstGeom prst="roundRect">
            <a:avLst>
              <a:gd name="adj" fmla="val 8594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组合 25"/>
          <p:cNvGrpSpPr/>
          <p:nvPr/>
        </p:nvGrpSpPr>
        <p:grpSpPr>
          <a:xfrm>
            <a:off x="809640" y="700200"/>
            <a:ext cx="4728600" cy="638280"/>
            <a:chOff x="809640" y="700200"/>
            <a:chExt cx="4728600" cy="638280"/>
          </a:xfrm>
        </p:grpSpPr>
        <p:sp>
          <p:nvSpPr>
            <p:cNvPr id="470" name="文本框 20"/>
            <p:cNvSpPr/>
            <p:nvPr/>
          </p:nvSpPr>
          <p:spPr>
            <a:xfrm>
              <a:off x="1096560" y="700200"/>
              <a:ext cx="44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什么东西是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红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1" name="图形 24" descr="花灯"/>
            <p:cNvPicPr/>
            <p:nvPr/>
          </p:nvPicPr>
          <p:blipFill>
            <a:blip r:embed="rId1"/>
            <a:stretch/>
          </p:blipFill>
          <p:spPr>
            <a:xfrm>
              <a:off x="809640" y="828720"/>
              <a:ext cx="401400" cy="45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图片 7"/>
          <p:cNvSpPr/>
          <p:nvPr/>
        </p:nvSpPr>
        <p:spPr>
          <a:xfrm>
            <a:off x="601200" y="1678320"/>
            <a:ext cx="2306880" cy="230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700">
            <a:solidFill>
              <a:srgbClr val="ff8181"/>
            </a:solidFill>
            <a:round/>
          </a:ln>
          <a:effectLst>
            <a:reflection algn="bl" blurRad="76200" dir="5400000" endPos="29000" rotWithShape="0" stA="14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图片 9"/>
          <p:cNvSpPr/>
          <p:nvPr/>
        </p:nvSpPr>
        <p:spPr>
          <a:xfrm>
            <a:off x="3418200" y="1678320"/>
            <a:ext cx="2307240" cy="230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700">
            <a:solidFill>
              <a:srgbClr val="ff8181"/>
            </a:solidFill>
            <a:round/>
          </a:ln>
          <a:effectLst>
            <a:reflection algn="bl" blurRad="76200" dir="5400000" endPos="29000" rotWithShape="0" stA="14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图片 11"/>
          <p:cNvSpPr/>
          <p:nvPr/>
        </p:nvSpPr>
        <p:spPr>
          <a:xfrm>
            <a:off x="6235200" y="1677960"/>
            <a:ext cx="2307240" cy="230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700">
            <a:solidFill>
              <a:srgbClr val="ff8181"/>
            </a:solidFill>
            <a:round/>
          </a:ln>
          <a:effectLst>
            <a:reflection algn="bl" blurRad="76200" dir="5400000" endPos="29000" rotWithShape="0" stA="14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7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75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25"/>
          <p:cNvGrpSpPr/>
          <p:nvPr/>
        </p:nvGrpSpPr>
        <p:grpSpPr>
          <a:xfrm>
            <a:off x="830160" y="378000"/>
            <a:ext cx="7483320" cy="802800"/>
            <a:chOff x="830160" y="378000"/>
            <a:chExt cx="7483320" cy="802800"/>
          </a:xfrm>
        </p:grpSpPr>
        <p:sp>
          <p:nvSpPr>
            <p:cNvPr id="476" name="文本框 20"/>
            <p:cNvSpPr/>
            <p:nvPr/>
          </p:nvSpPr>
          <p:spPr>
            <a:xfrm>
              <a:off x="1211040" y="378000"/>
              <a:ext cx="7102440" cy="8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什么“绿的”的喜欢及时雨？什么“红的”最怕水来攻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图形 24" descr="花灯"/>
            <p:cNvPicPr/>
            <p:nvPr/>
          </p:nvPicPr>
          <p:blipFill>
            <a:blip r:embed="rId1"/>
            <a:stretch/>
          </p:blipFill>
          <p:spPr>
            <a:xfrm>
              <a:off x="830160" y="513360"/>
              <a:ext cx="465480" cy="55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图片 5"/>
          <p:cNvSpPr/>
          <p:nvPr/>
        </p:nvSpPr>
        <p:spPr>
          <a:xfrm>
            <a:off x="829800" y="1995840"/>
            <a:ext cx="3251880" cy="216756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图片 9"/>
          <p:cNvSpPr/>
          <p:nvPr/>
        </p:nvSpPr>
        <p:spPr>
          <a:xfrm>
            <a:off x="5071320" y="1996920"/>
            <a:ext cx="3242160" cy="216684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75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75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1"/>
          <p:cNvSpPr/>
          <p:nvPr/>
        </p:nvSpPr>
        <p:spPr>
          <a:xfrm>
            <a:off x="826920" y="760320"/>
            <a:ext cx="79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35000"/>
              </a:lnSpc>
              <a:spcBef>
                <a:spcPts val="601"/>
              </a:spcBef>
              <a:buSzPct val="100000"/>
              <a:buBlip>
                <a:blip r:embed="rId1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绿？禾苗绿。什么红？火苗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spcBef>
                <a:spcPts val="601"/>
              </a:spcBef>
              <a:buSzPct val="100000"/>
              <a:buBlip>
                <a:blip r:embed="rId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禾”“火”相遇怎么样？“禾”“火”相遇起凉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spcBef>
                <a:spcPts val="601"/>
              </a:spcBef>
              <a:buSzPct val="100000"/>
              <a:buBlip>
                <a:blip r:embed="rId3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喜欢及时雨？禾苗喜欢及时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最怕水来攻？火苗最怕水来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2" descr=""/>
          <p:cNvPicPr/>
          <p:nvPr/>
        </p:nvPicPr>
        <p:blipFill>
          <a:blip r:embed="rId5"/>
          <a:stretch/>
        </p:blipFill>
        <p:spPr>
          <a:xfrm>
            <a:off x="179280" y="601560"/>
            <a:ext cx="885600" cy="88704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4" descr=""/>
          <p:cNvPicPr/>
          <p:nvPr/>
        </p:nvPicPr>
        <p:blipFill>
          <a:blip r:embed="rId6"/>
          <a:stretch/>
        </p:blipFill>
        <p:spPr>
          <a:xfrm>
            <a:off x="7885080" y="760320"/>
            <a:ext cx="630000" cy="7426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6" descr=""/>
          <p:cNvPicPr/>
          <p:nvPr/>
        </p:nvPicPr>
        <p:blipFill>
          <a:blip r:embed="rId7"/>
          <a:stretch/>
        </p:blipFill>
        <p:spPr>
          <a:xfrm>
            <a:off x="7308720" y="1924200"/>
            <a:ext cx="1585440" cy="22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8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图片 3"/>
          <p:cNvSpPr/>
          <p:nvPr/>
        </p:nvSpPr>
        <p:spPr>
          <a:xfrm>
            <a:off x="971640" y="1131480"/>
            <a:ext cx="2016000" cy="2016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图片 4"/>
          <p:cNvSpPr/>
          <p:nvPr/>
        </p:nvSpPr>
        <p:spPr>
          <a:xfrm>
            <a:off x="6153480" y="1131480"/>
            <a:ext cx="2015640" cy="201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700">
            <a:solidFill>
              <a:srgbClr val="ff8181"/>
            </a:solidFill>
            <a:round/>
          </a:ln>
          <a:effectLst>
            <a:reflection algn="bl" blurRad="76200" dir="5400000" endPos="29000" rotWithShape="0" stA="14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组合 20"/>
          <p:cNvGrpSpPr/>
          <p:nvPr/>
        </p:nvGrpSpPr>
        <p:grpSpPr>
          <a:xfrm>
            <a:off x="3121200" y="1808280"/>
            <a:ext cx="869760" cy="861480"/>
            <a:chOff x="3121200" y="1808280"/>
            <a:chExt cx="869760" cy="861480"/>
          </a:xfrm>
        </p:grpSpPr>
        <p:pic>
          <p:nvPicPr>
            <p:cNvPr id="487" name="图片 90" descr=""/>
            <p:cNvPicPr/>
            <p:nvPr/>
          </p:nvPicPr>
          <p:blipFill>
            <a:blip r:embed="rId3"/>
            <a:stretch/>
          </p:blipFill>
          <p:spPr>
            <a:xfrm>
              <a:off x="3121200" y="1808280"/>
              <a:ext cx="8697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文本框 11"/>
            <p:cNvSpPr/>
            <p:nvPr/>
          </p:nvSpPr>
          <p:spPr>
            <a:xfrm>
              <a:off x="3255840" y="1950120"/>
              <a:ext cx="600120" cy="6166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638163" h="655705">
                  <a:moveTo>
                    <a:pt x="311088" y="195"/>
                  </a:moveTo>
                  <a:cubicBezTo>
                    <a:pt x="317200" y="-693"/>
                    <a:pt x="326062" y="1452"/>
                    <a:pt x="337674" y="6630"/>
                  </a:cubicBezTo>
                  <a:cubicBezTo>
                    <a:pt x="360897" y="16986"/>
                    <a:pt x="380749" y="31016"/>
                    <a:pt x="397228" y="48721"/>
                  </a:cubicBezTo>
                  <a:cubicBezTo>
                    <a:pt x="413708" y="66425"/>
                    <a:pt x="409166" y="75882"/>
                    <a:pt x="383601" y="77091"/>
                  </a:cubicBezTo>
                  <a:cubicBezTo>
                    <a:pt x="358037" y="78300"/>
                    <a:pt x="319256" y="89199"/>
                    <a:pt x="267260" y="109787"/>
                  </a:cubicBezTo>
                  <a:cubicBezTo>
                    <a:pt x="298389" y="123243"/>
                    <a:pt x="311040" y="135041"/>
                    <a:pt x="305211" y="145180"/>
                  </a:cubicBezTo>
                  <a:cubicBezTo>
                    <a:pt x="299382" y="155319"/>
                    <a:pt x="297273" y="177891"/>
                    <a:pt x="298886" y="212897"/>
                  </a:cubicBezTo>
                  <a:cubicBezTo>
                    <a:pt x="372555" y="197766"/>
                    <a:pt x="420367" y="185232"/>
                    <a:pt x="442319" y="175294"/>
                  </a:cubicBezTo>
                  <a:cubicBezTo>
                    <a:pt x="464271" y="165357"/>
                    <a:pt x="487277" y="169636"/>
                    <a:pt x="511338" y="188131"/>
                  </a:cubicBezTo>
                  <a:cubicBezTo>
                    <a:pt x="535398" y="206626"/>
                    <a:pt x="527275" y="219330"/>
                    <a:pt x="486967" y="226245"/>
                  </a:cubicBezTo>
                  <a:cubicBezTo>
                    <a:pt x="446659" y="233159"/>
                    <a:pt x="384121" y="244864"/>
                    <a:pt x="299351" y="261359"/>
                  </a:cubicBezTo>
                  <a:lnTo>
                    <a:pt x="299351" y="290241"/>
                  </a:lnTo>
                  <a:cubicBezTo>
                    <a:pt x="337302" y="326332"/>
                    <a:pt x="378284" y="361120"/>
                    <a:pt x="422297" y="394607"/>
                  </a:cubicBezTo>
                  <a:cubicBezTo>
                    <a:pt x="466309" y="428093"/>
                    <a:pt x="502625" y="450557"/>
                    <a:pt x="531243" y="461998"/>
                  </a:cubicBezTo>
                  <a:cubicBezTo>
                    <a:pt x="559862" y="473439"/>
                    <a:pt x="588682" y="484655"/>
                    <a:pt x="617703" y="495647"/>
                  </a:cubicBezTo>
                  <a:cubicBezTo>
                    <a:pt x="646725" y="506639"/>
                    <a:pt x="644872" y="514847"/>
                    <a:pt x="612146" y="520273"/>
                  </a:cubicBezTo>
                  <a:cubicBezTo>
                    <a:pt x="579419" y="525699"/>
                    <a:pt x="546591" y="528908"/>
                    <a:pt x="513663" y="529901"/>
                  </a:cubicBezTo>
                  <a:cubicBezTo>
                    <a:pt x="480735" y="530893"/>
                    <a:pt x="449830" y="513987"/>
                    <a:pt x="420948" y="479183"/>
                  </a:cubicBezTo>
                  <a:cubicBezTo>
                    <a:pt x="392066" y="444379"/>
                    <a:pt x="351533" y="393676"/>
                    <a:pt x="299351" y="327076"/>
                  </a:cubicBezTo>
                  <a:lnTo>
                    <a:pt x="299351" y="499112"/>
                  </a:lnTo>
                  <a:cubicBezTo>
                    <a:pt x="299351" y="544318"/>
                    <a:pt x="295715" y="585804"/>
                    <a:pt x="288444" y="623569"/>
                  </a:cubicBezTo>
                  <a:cubicBezTo>
                    <a:pt x="281173" y="661335"/>
                    <a:pt x="267988" y="665815"/>
                    <a:pt x="248889" y="637010"/>
                  </a:cubicBezTo>
                  <a:cubicBezTo>
                    <a:pt x="229789" y="608206"/>
                    <a:pt x="224611" y="580828"/>
                    <a:pt x="233355" y="554876"/>
                  </a:cubicBezTo>
                  <a:cubicBezTo>
                    <a:pt x="242098" y="528924"/>
                    <a:pt x="246470" y="450076"/>
                    <a:pt x="246470" y="318332"/>
                  </a:cubicBezTo>
                  <a:cubicBezTo>
                    <a:pt x="224239" y="378174"/>
                    <a:pt x="191853" y="428860"/>
                    <a:pt x="149313" y="470393"/>
                  </a:cubicBezTo>
                  <a:cubicBezTo>
                    <a:pt x="106773" y="511925"/>
                    <a:pt x="66613" y="541714"/>
                    <a:pt x="28832" y="559759"/>
                  </a:cubicBezTo>
                  <a:cubicBezTo>
                    <a:pt x="-8948" y="577805"/>
                    <a:pt x="-9599" y="568270"/>
                    <a:pt x="26879" y="531156"/>
                  </a:cubicBezTo>
                  <a:cubicBezTo>
                    <a:pt x="63357" y="494042"/>
                    <a:pt x="98006" y="454254"/>
                    <a:pt x="130826" y="411792"/>
                  </a:cubicBezTo>
                  <a:cubicBezTo>
                    <a:pt x="163646" y="369329"/>
                    <a:pt x="194411" y="323588"/>
                    <a:pt x="223123" y="274567"/>
                  </a:cubicBezTo>
                  <a:cubicBezTo>
                    <a:pt x="211186" y="278443"/>
                    <a:pt x="186210" y="285249"/>
                    <a:pt x="148197" y="294985"/>
                  </a:cubicBezTo>
                  <a:cubicBezTo>
                    <a:pt x="110184" y="304721"/>
                    <a:pt x="77667" y="302930"/>
                    <a:pt x="50645" y="289613"/>
                  </a:cubicBezTo>
                  <a:cubicBezTo>
                    <a:pt x="23623" y="276296"/>
                    <a:pt x="27879" y="266529"/>
                    <a:pt x="63412" y="260312"/>
                  </a:cubicBezTo>
                  <a:cubicBezTo>
                    <a:pt x="98944" y="254096"/>
                    <a:pt x="127849" y="249050"/>
                    <a:pt x="150127" y="245174"/>
                  </a:cubicBezTo>
                  <a:cubicBezTo>
                    <a:pt x="172405" y="241298"/>
                    <a:pt x="203558" y="234182"/>
                    <a:pt x="243587" y="223826"/>
                  </a:cubicBezTo>
                  <a:cubicBezTo>
                    <a:pt x="241695" y="198340"/>
                    <a:pt x="238889" y="177232"/>
                    <a:pt x="235169" y="160505"/>
                  </a:cubicBezTo>
                  <a:cubicBezTo>
                    <a:pt x="231448" y="143777"/>
                    <a:pt x="228285" y="133150"/>
                    <a:pt x="225681" y="128623"/>
                  </a:cubicBezTo>
                  <a:cubicBezTo>
                    <a:pt x="190365" y="140250"/>
                    <a:pt x="161654" y="147536"/>
                    <a:pt x="139546" y="150482"/>
                  </a:cubicBezTo>
                  <a:cubicBezTo>
                    <a:pt x="117439" y="153428"/>
                    <a:pt x="120602" y="146304"/>
                    <a:pt x="149034" y="129111"/>
                  </a:cubicBezTo>
                  <a:cubicBezTo>
                    <a:pt x="177467" y="111918"/>
                    <a:pt x="202225" y="97098"/>
                    <a:pt x="223309" y="84649"/>
                  </a:cubicBezTo>
                  <a:cubicBezTo>
                    <a:pt x="244393" y="72200"/>
                    <a:pt x="262306" y="60449"/>
                    <a:pt x="277050" y="49395"/>
                  </a:cubicBezTo>
                  <a:cubicBezTo>
                    <a:pt x="291793" y="38342"/>
                    <a:pt x="299777" y="25862"/>
                    <a:pt x="301002" y="11956"/>
                  </a:cubicBezTo>
                  <a:cubicBezTo>
                    <a:pt x="301614" y="5002"/>
                    <a:pt x="304976" y="1082"/>
                    <a:pt x="311088" y="19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89" name="组合 19"/>
          <p:cNvGrpSpPr/>
          <p:nvPr/>
        </p:nvGrpSpPr>
        <p:grpSpPr>
          <a:xfrm>
            <a:off x="5148360" y="1808280"/>
            <a:ext cx="869760" cy="861480"/>
            <a:chOff x="5148360" y="1808280"/>
            <a:chExt cx="869760" cy="861480"/>
          </a:xfrm>
        </p:grpSpPr>
        <p:pic>
          <p:nvPicPr>
            <p:cNvPr id="490" name="图片 90" descr=""/>
            <p:cNvPicPr/>
            <p:nvPr/>
          </p:nvPicPr>
          <p:blipFill>
            <a:blip r:embed="rId4"/>
            <a:stretch/>
          </p:blipFill>
          <p:spPr>
            <a:xfrm>
              <a:off x="5148360" y="1808280"/>
              <a:ext cx="8697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文本框 18"/>
            <p:cNvSpPr/>
            <p:nvPr/>
          </p:nvSpPr>
          <p:spPr>
            <a:xfrm>
              <a:off x="5257800" y="1950120"/>
              <a:ext cx="650880" cy="60120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651150" h="601481">
                  <a:moveTo>
                    <a:pt x="101770" y="192016"/>
                  </a:moveTo>
                  <a:cubicBezTo>
                    <a:pt x="106490" y="191673"/>
                    <a:pt x="113394" y="193781"/>
                    <a:pt x="122482" y="198339"/>
                  </a:cubicBezTo>
                  <a:cubicBezTo>
                    <a:pt x="158837" y="216570"/>
                    <a:pt x="182238" y="232623"/>
                    <a:pt x="192687" y="246498"/>
                  </a:cubicBezTo>
                  <a:cubicBezTo>
                    <a:pt x="203136" y="260374"/>
                    <a:pt x="203369" y="279527"/>
                    <a:pt x="193385" y="303960"/>
                  </a:cubicBezTo>
                  <a:cubicBezTo>
                    <a:pt x="183401" y="328393"/>
                    <a:pt x="158364" y="314161"/>
                    <a:pt x="118273" y="261265"/>
                  </a:cubicBezTo>
                  <a:cubicBezTo>
                    <a:pt x="93112" y="216128"/>
                    <a:pt x="87611" y="193045"/>
                    <a:pt x="101770" y="192016"/>
                  </a:cubicBezTo>
                  <a:close/>
                  <a:moveTo>
                    <a:pt x="463281" y="122698"/>
                  </a:moveTo>
                  <a:cubicBezTo>
                    <a:pt x="466828" y="123144"/>
                    <a:pt x="470965" y="124560"/>
                    <a:pt x="475693" y="126948"/>
                  </a:cubicBezTo>
                  <a:cubicBezTo>
                    <a:pt x="494607" y="136497"/>
                    <a:pt x="511040" y="149241"/>
                    <a:pt x="524993" y="165178"/>
                  </a:cubicBezTo>
                  <a:cubicBezTo>
                    <a:pt x="541550" y="184618"/>
                    <a:pt x="541604" y="196261"/>
                    <a:pt x="525155" y="200106"/>
                  </a:cubicBezTo>
                  <a:cubicBezTo>
                    <a:pt x="508707" y="203951"/>
                    <a:pt x="485584" y="215004"/>
                    <a:pt x="455788" y="233267"/>
                  </a:cubicBezTo>
                  <a:cubicBezTo>
                    <a:pt x="425991" y="251529"/>
                    <a:pt x="395729" y="267179"/>
                    <a:pt x="365002" y="280217"/>
                  </a:cubicBezTo>
                  <a:cubicBezTo>
                    <a:pt x="334276" y="293255"/>
                    <a:pt x="330377" y="287511"/>
                    <a:pt x="353305" y="262986"/>
                  </a:cubicBezTo>
                  <a:cubicBezTo>
                    <a:pt x="376234" y="238460"/>
                    <a:pt x="397636" y="215787"/>
                    <a:pt x="417511" y="194967"/>
                  </a:cubicBezTo>
                  <a:cubicBezTo>
                    <a:pt x="437386" y="174146"/>
                    <a:pt x="447323" y="157457"/>
                    <a:pt x="447323" y="144900"/>
                  </a:cubicBezTo>
                  <a:cubicBezTo>
                    <a:pt x="447323" y="128761"/>
                    <a:pt x="452642" y="121361"/>
                    <a:pt x="463281" y="122698"/>
                  </a:cubicBezTo>
                  <a:close/>
                  <a:moveTo>
                    <a:pt x="223533" y="19"/>
                  </a:moveTo>
                  <a:cubicBezTo>
                    <a:pt x="226816" y="-124"/>
                    <a:pt x="231053" y="560"/>
                    <a:pt x="236243" y="2071"/>
                  </a:cubicBezTo>
                  <a:cubicBezTo>
                    <a:pt x="257001" y="8118"/>
                    <a:pt x="276512" y="15078"/>
                    <a:pt x="294774" y="22954"/>
                  </a:cubicBezTo>
                  <a:cubicBezTo>
                    <a:pt x="313037" y="30829"/>
                    <a:pt x="319199" y="40961"/>
                    <a:pt x="313261" y="53347"/>
                  </a:cubicBezTo>
                  <a:cubicBezTo>
                    <a:pt x="307324" y="65734"/>
                    <a:pt x="301975" y="99089"/>
                    <a:pt x="297216" y="153411"/>
                  </a:cubicBezTo>
                  <a:cubicBezTo>
                    <a:pt x="292456" y="207733"/>
                    <a:pt x="290077" y="253234"/>
                    <a:pt x="290077" y="289914"/>
                  </a:cubicBezTo>
                  <a:cubicBezTo>
                    <a:pt x="320617" y="335710"/>
                    <a:pt x="354600" y="377800"/>
                    <a:pt x="392024" y="416186"/>
                  </a:cubicBezTo>
                  <a:cubicBezTo>
                    <a:pt x="429448" y="454571"/>
                    <a:pt x="465779" y="483763"/>
                    <a:pt x="501017" y="503762"/>
                  </a:cubicBezTo>
                  <a:cubicBezTo>
                    <a:pt x="536255" y="523761"/>
                    <a:pt x="576059" y="541883"/>
                    <a:pt x="620429" y="558131"/>
                  </a:cubicBezTo>
                  <a:cubicBezTo>
                    <a:pt x="664798" y="574378"/>
                    <a:pt x="661108" y="584989"/>
                    <a:pt x="609360" y="589966"/>
                  </a:cubicBezTo>
                  <a:cubicBezTo>
                    <a:pt x="557611" y="594942"/>
                    <a:pt x="518807" y="595896"/>
                    <a:pt x="492948" y="592826"/>
                  </a:cubicBezTo>
                  <a:cubicBezTo>
                    <a:pt x="467089" y="589757"/>
                    <a:pt x="438812" y="567425"/>
                    <a:pt x="408116" y="525830"/>
                  </a:cubicBezTo>
                  <a:cubicBezTo>
                    <a:pt x="377420" y="484236"/>
                    <a:pt x="334539" y="419581"/>
                    <a:pt x="279473" y="331865"/>
                  </a:cubicBezTo>
                  <a:cubicBezTo>
                    <a:pt x="270667" y="378436"/>
                    <a:pt x="258226" y="417294"/>
                    <a:pt x="242149" y="448440"/>
                  </a:cubicBezTo>
                  <a:cubicBezTo>
                    <a:pt x="226073" y="479585"/>
                    <a:pt x="199005" y="510684"/>
                    <a:pt x="160945" y="541736"/>
                  </a:cubicBezTo>
                  <a:cubicBezTo>
                    <a:pt x="122885" y="572789"/>
                    <a:pt x="81818" y="591780"/>
                    <a:pt x="37743" y="598709"/>
                  </a:cubicBezTo>
                  <a:cubicBezTo>
                    <a:pt x="-6332" y="605639"/>
                    <a:pt x="-11804" y="599578"/>
                    <a:pt x="21326" y="580525"/>
                  </a:cubicBezTo>
                  <a:cubicBezTo>
                    <a:pt x="54455" y="561471"/>
                    <a:pt x="87655" y="537690"/>
                    <a:pt x="120924" y="509180"/>
                  </a:cubicBezTo>
                  <a:cubicBezTo>
                    <a:pt x="154194" y="480670"/>
                    <a:pt x="179463" y="446742"/>
                    <a:pt x="196734" y="407396"/>
                  </a:cubicBezTo>
                  <a:cubicBezTo>
                    <a:pt x="214004" y="368049"/>
                    <a:pt x="225065" y="319308"/>
                    <a:pt x="229918" y="261172"/>
                  </a:cubicBezTo>
                  <a:cubicBezTo>
                    <a:pt x="234770" y="203036"/>
                    <a:pt x="236716" y="154023"/>
                    <a:pt x="235754" y="114134"/>
                  </a:cubicBezTo>
                  <a:cubicBezTo>
                    <a:pt x="234793" y="74245"/>
                    <a:pt x="229445" y="44084"/>
                    <a:pt x="219709" y="23652"/>
                  </a:cubicBezTo>
                  <a:cubicBezTo>
                    <a:pt x="212407" y="8327"/>
                    <a:pt x="213682" y="449"/>
                    <a:pt x="223533" y="1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92" name="文本框 21"/>
          <p:cNvSpPr/>
          <p:nvPr/>
        </p:nvSpPr>
        <p:spPr>
          <a:xfrm>
            <a:off x="1668600" y="411120"/>
            <a:ext cx="6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22"/>
          <p:cNvSpPr/>
          <p:nvPr/>
        </p:nvSpPr>
        <p:spPr>
          <a:xfrm>
            <a:off x="6854760" y="411120"/>
            <a:ext cx="6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直接连接符 24"/>
          <p:cNvCxnSpPr/>
          <p:nvPr/>
        </p:nvCxnSpPr>
        <p:spPr>
          <a:xfrm>
            <a:off x="3555720" y="2787480"/>
            <a:ext cx="687960" cy="648000"/>
          </a:xfrm>
          <a:prstGeom prst="straightConnector1">
            <a:avLst/>
          </a:prstGeom>
          <a:ln w="22225">
            <a:solidFill>
              <a:srgbClr val="00a64a"/>
            </a:solidFill>
            <a:tailEnd len="lg" type="arrow" w="med"/>
          </a:ln>
        </p:spPr>
      </p:cxnSp>
      <p:sp>
        <p:nvSpPr>
          <p:cNvPr id="495" name="文本框 27"/>
          <p:cNvSpPr/>
          <p:nvPr/>
        </p:nvSpPr>
        <p:spPr>
          <a:xfrm>
            <a:off x="4094280" y="32655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直接连接符 30"/>
          <p:cNvCxnSpPr/>
          <p:nvPr/>
        </p:nvCxnSpPr>
        <p:spPr>
          <a:xfrm flipH="1">
            <a:off x="4854240" y="2787480"/>
            <a:ext cx="687960" cy="648000"/>
          </a:xfrm>
          <a:prstGeom prst="straightConnector1">
            <a:avLst/>
          </a:prstGeom>
          <a:ln>
            <a:solidFill>
              <a:srgbClr val="ed7d31"/>
            </a:solidFill>
            <a:tailEnd len="lg" type="arrow" w="med"/>
          </a:ln>
        </p:spPr>
      </p:cxnSp>
      <p:sp>
        <p:nvSpPr>
          <p:cNvPr id="497" name="矩形: 圆角 31"/>
          <p:cNvSpPr/>
          <p:nvPr/>
        </p:nvSpPr>
        <p:spPr>
          <a:xfrm>
            <a:off x="971640" y="3772080"/>
            <a:ext cx="1971360" cy="7203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635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绿、喜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: 圆角 32"/>
          <p:cNvSpPr/>
          <p:nvPr/>
        </p:nvSpPr>
        <p:spPr>
          <a:xfrm>
            <a:off x="6175440" y="3772080"/>
            <a:ext cx="1971360" cy="720360"/>
          </a:xfrm>
          <a:prstGeom prst="roundRect">
            <a:avLst>
              <a:gd name="adj" fmla="val 16667"/>
            </a:avLst>
          </a:prstGeom>
          <a:solidFill>
            <a:srgbClr val="ff6d6d"/>
          </a:solidFill>
          <a:ln w="635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红、怕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4068720" y="2670120"/>
            <a:ext cx="100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7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75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"/>
          <p:cNvSpPr/>
          <p:nvPr/>
        </p:nvSpPr>
        <p:spPr>
          <a:xfrm>
            <a:off x="2268360" y="923760"/>
            <a:ext cx="599760" cy="617040"/>
          </a:xfrm>
          <a:custGeom>
            <a:avLst/>
            <a:gdLst>
              <a:gd name="textAreaLeft" fmla="*/ 0 w 599760"/>
              <a:gd name="textAreaRight" fmla="*/ 600120 w 59976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638163" h="655705">
                <a:moveTo>
                  <a:pt x="311088" y="195"/>
                </a:moveTo>
                <a:cubicBezTo>
                  <a:pt x="317200" y="-693"/>
                  <a:pt x="326062" y="1452"/>
                  <a:pt x="337674" y="6630"/>
                </a:cubicBezTo>
                <a:cubicBezTo>
                  <a:pt x="360897" y="16986"/>
                  <a:pt x="380749" y="31016"/>
                  <a:pt x="397228" y="48721"/>
                </a:cubicBezTo>
                <a:cubicBezTo>
                  <a:pt x="413708" y="66425"/>
                  <a:pt x="409166" y="75882"/>
                  <a:pt x="383601" y="77091"/>
                </a:cubicBezTo>
                <a:cubicBezTo>
                  <a:pt x="358037" y="78300"/>
                  <a:pt x="319256" y="89199"/>
                  <a:pt x="267260" y="109787"/>
                </a:cubicBezTo>
                <a:cubicBezTo>
                  <a:pt x="298389" y="123243"/>
                  <a:pt x="311040" y="135041"/>
                  <a:pt x="305211" y="145180"/>
                </a:cubicBezTo>
                <a:cubicBezTo>
                  <a:pt x="299382" y="155319"/>
                  <a:pt x="297273" y="177891"/>
                  <a:pt x="298886" y="212897"/>
                </a:cubicBezTo>
                <a:cubicBezTo>
                  <a:pt x="372555" y="197766"/>
                  <a:pt x="420367" y="185232"/>
                  <a:pt x="442319" y="175294"/>
                </a:cubicBezTo>
                <a:cubicBezTo>
                  <a:pt x="464271" y="165357"/>
                  <a:pt x="487277" y="169636"/>
                  <a:pt x="511338" y="188131"/>
                </a:cubicBezTo>
                <a:cubicBezTo>
                  <a:pt x="535398" y="206626"/>
                  <a:pt x="527275" y="219330"/>
                  <a:pt x="486967" y="226245"/>
                </a:cubicBezTo>
                <a:cubicBezTo>
                  <a:pt x="446659" y="233159"/>
                  <a:pt x="384121" y="244864"/>
                  <a:pt x="299351" y="261359"/>
                </a:cubicBezTo>
                <a:lnTo>
                  <a:pt x="299351" y="290241"/>
                </a:lnTo>
                <a:cubicBezTo>
                  <a:pt x="337302" y="326332"/>
                  <a:pt x="378284" y="361120"/>
                  <a:pt x="422297" y="394607"/>
                </a:cubicBezTo>
                <a:cubicBezTo>
                  <a:pt x="466309" y="428093"/>
                  <a:pt x="502625" y="450557"/>
                  <a:pt x="531243" y="461998"/>
                </a:cubicBezTo>
                <a:cubicBezTo>
                  <a:pt x="559862" y="473439"/>
                  <a:pt x="588682" y="484655"/>
                  <a:pt x="617703" y="495647"/>
                </a:cubicBezTo>
                <a:cubicBezTo>
                  <a:pt x="646725" y="506639"/>
                  <a:pt x="644872" y="514847"/>
                  <a:pt x="612146" y="520273"/>
                </a:cubicBezTo>
                <a:cubicBezTo>
                  <a:pt x="579419" y="525699"/>
                  <a:pt x="546591" y="528908"/>
                  <a:pt x="513663" y="529901"/>
                </a:cubicBezTo>
                <a:cubicBezTo>
                  <a:pt x="480735" y="530893"/>
                  <a:pt x="449830" y="513987"/>
                  <a:pt x="420948" y="479183"/>
                </a:cubicBezTo>
                <a:cubicBezTo>
                  <a:pt x="392066" y="444379"/>
                  <a:pt x="351533" y="393676"/>
                  <a:pt x="299351" y="327076"/>
                </a:cubicBezTo>
                <a:lnTo>
                  <a:pt x="299351" y="499112"/>
                </a:lnTo>
                <a:cubicBezTo>
                  <a:pt x="299351" y="544318"/>
                  <a:pt x="295715" y="585804"/>
                  <a:pt x="288444" y="623569"/>
                </a:cubicBezTo>
                <a:cubicBezTo>
                  <a:pt x="281173" y="661335"/>
                  <a:pt x="267988" y="665815"/>
                  <a:pt x="248889" y="637010"/>
                </a:cubicBezTo>
                <a:cubicBezTo>
                  <a:pt x="229789" y="608206"/>
                  <a:pt x="224611" y="580828"/>
                  <a:pt x="233355" y="554876"/>
                </a:cubicBezTo>
                <a:cubicBezTo>
                  <a:pt x="242098" y="528924"/>
                  <a:pt x="246470" y="450076"/>
                  <a:pt x="246470" y="318332"/>
                </a:cubicBezTo>
                <a:cubicBezTo>
                  <a:pt x="224239" y="378174"/>
                  <a:pt x="191853" y="428860"/>
                  <a:pt x="149313" y="470393"/>
                </a:cubicBezTo>
                <a:cubicBezTo>
                  <a:pt x="106773" y="511925"/>
                  <a:pt x="66613" y="541714"/>
                  <a:pt x="28832" y="559759"/>
                </a:cubicBezTo>
                <a:cubicBezTo>
                  <a:pt x="-8948" y="577805"/>
                  <a:pt x="-9599" y="568270"/>
                  <a:pt x="26879" y="531156"/>
                </a:cubicBezTo>
                <a:cubicBezTo>
                  <a:pt x="63357" y="494042"/>
                  <a:pt x="98006" y="454254"/>
                  <a:pt x="130826" y="411792"/>
                </a:cubicBezTo>
                <a:cubicBezTo>
                  <a:pt x="163646" y="369329"/>
                  <a:pt x="194411" y="323588"/>
                  <a:pt x="223123" y="274567"/>
                </a:cubicBezTo>
                <a:cubicBezTo>
                  <a:pt x="211186" y="278443"/>
                  <a:pt x="186210" y="285249"/>
                  <a:pt x="148197" y="294985"/>
                </a:cubicBezTo>
                <a:cubicBezTo>
                  <a:pt x="110184" y="304721"/>
                  <a:pt x="77667" y="302930"/>
                  <a:pt x="50645" y="289613"/>
                </a:cubicBezTo>
                <a:cubicBezTo>
                  <a:pt x="23623" y="276296"/>
                  <a:pt x="27879" y="266529"/>
                  <a:pt x="63412" y="260312"/>
                </a:cubicBezTo>
                <a:cubicBezTo>
                  <a:pt x="98944" y="254096"/>
                  <a:pt x="127849" y="249050"/>
                  <a:pt x="150127" y="245174"/>
                </a:cubicBezTo>
                <a:cubicBezTo>
                  <a:pt x="172405" y="241298"/>
                  <a:pt x="203558" y="234182"/>
                  <a:pt x="243587" y="223826"/>
                </a:cubicBezTo>
                <a:cubicBezTo>
                  <a:pt x="241695" y="198340"/>
                  <a:pt x="238889" y="177232"/>
                  <a:pt x="235169" y="160505"/>
                </a:cubicBezTo>
                <a:cubicBezTo>
                  <a:pt x="231448" y="143777"/>
                  <a:pt x="228285" y="133150"/>
                  <a:pt x="225681" y="128623"/>
                </a:cubicBezTo>
                <a:cubicBezTo>
                  <a:pt x="190365" y="140250"/>
                  <a:pt x="161654" y="147536"/>
                  <a:pt x="139546" y="150482"/>
                </a:cubicBezTo>
                <a:cubicBezTo>
                  <a:pt x="117439" y="153428"/>
                  <a:pt x="120602" y="146304"/>
                  <a:pt x="149034" y="129111"/>
                </a:cubicBezTo>
                <a:cubicBezTo>
                  <a:pt x="177467" y="111918"/>
                  <a:pt x="202225" y="97098"/>
                  <a:pt x="223309" y="84649"/>
                </a:cubicBezTo>
                <a:cubicBezTo>
                  <a:pt x="244393" y="72200"/>
                  <a:pt x="262306" y="60449"/>
                  <a:pt x="277050" y="49395"/>
                </a:cubicBezTo>
                <a:cubicBezTo>
                  <a:pt x="291793" y="38342"/>
                  <a:pt x="299777" y="25862"/>
                  <a:pt x="301002" y="11956"/>
                </a:cubicBezTo>
                <a:cubicBezTo>
                  <a:pt x="301614" y="5002"/>
                  <a:pt x="304976" y="1082"/>
                  <a:pt x="311088" y="195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1" name="文本框 2"/>
          <p:cNvSpPr/>
          <p:nvPr/>
        </p:nvSpPr>
        <p:spPr>
          <a:xfrm>
            <a:off x="6275520" y="939960"/>
            <a:ext cx="650520" cy="601200"/>
          </a:xfrm>
          <a:custGeom>
            <a:avLst/>
            <a:gdLst>
              <a:gd name="textAreaLeft" fmla="*/ 0 w 650520"/>
              <a:gd name="textAreaRight" fmla="*/ 650880 w 65052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651150" h="601481">
                <a:moveTo>
                  <a:pt x="101770" y="192016"/>
                </a:moveTo>
                <a:cubicBezTo>
                  <a:pt x="106490" y="191673"/>
                  <a:pt x="113394" y="193781"/>
                  <a:pt x="122482" y="198339"/>
                </a:cubicBezTo>
                <a:cubicBezTo>
                  <a:pt x="158837" y="216570"/>
                  <a:pt x="182238" y="232623"/>
                  <a:pt x="192687" y="246498"/>
                </a:cubicBezTo>
                <a:cubicBezTo>
                  <a:pt x="203136" y="260374"/>
                  <a:pt x="203369" y="279527"/>
                  <a:pt x="193385" y="303960"/>
                </a:cubicBezTo>
                <a:cubicBezTo>
                  <a:pt x="183401" y="328393"/>
                  <a:pt x="158364" y="314161"/>
                  <a:pt x="118273" y="261265"/>
                </a:cubicBezTo>
                <a:cubicBezTo>
                  <a:pt x="93112" y="216128"/>
                  <a:pt x="87611" y="193045"/>
                  <a:pt x="101770" y="192016"/>
                </a:cubicBezTo>
                <a:close/>
                <a:moveTo>
                  <a:pt x="463281" y="122698"/>
                </a:moveTo>
                <a:cubicBezTo>
                  <a:pt x="466828" y="123144"/>
                  <a:pt x="470965" y="124560"/>
                  <a:pt x="475693" y="126948"/>
                </a:cubicBezTo>
                <a:cubicBezTo>
                  <a:pt x="494607" y="136497"/>
                  <a:pt x="511040" y="149241"/>
                  <a:pt x="524993" y="165178"/>
                </a:cubicBezTo>
                <a:cubicBezTo>
                  <a:pt x="541550" y="184618"/>
                  <a:pt x="541604" y="196261"/>
                  <a:pt x="525155" y="200106"/>
                </a:cubicBezTo>
                <a:cubicBezTo>
                  <a:pt x="508707" y="203951"/>
                  <a:pt x="485584" y="215004"/>
                  <a:pt x="455788" y="233267"/>
                </a:cubicBezTo>
                <a:cubicBezTo>
                  <a:pt x="425991" y="251529"/>
                  <a:pt x="395729" y="267179"/>
                  <a:pt x="365002" y="280217"/>
                </a:cubicBezTo>
                <a:cubicBezTo>
                  <a:pt x="334276" y="293255"/>
                  <a:pt x="330377" y="287511"/>
                  <a:pt x="353305" y="262986"/>
                </a:cubicBezTo>
                <a:cubicBezTo>
                  <a:pt x="376234" y="238460"/>
                  <a:pt x="397636" y="215787"/>
                  <a:pt x="417511" y="194967"/>
                </a:cubicBezTo>
                <a:cubicBezTo>
                  <a:pt x="437386" y="174146"/>
                  <a:pt x="447323" y="157457"/>
                  <a:pt x="447323" y="144900"/>
                </a:cubicBezTo>
                <a:cubicBezTo>
                  <a:pt x="447323" y="128761"/>
                  <a:pt x="452642" y="121361"/>
                  <a:pt x="463281" y="122698"/>
                </a:cubicBezTo>
                <a:close/>
                <a:moveTo>
                  <a:pt x="223533" y="19"/>
                </a:moveTo>
                <a:cubicBezTo>
                  <a:pt x="226816" y="-124"/>
                  <a:pt x="231053" y="560"/>
                  <a:pt x="236243" y="2071"/>
                </a:cubicBezTo>
                <a:cubicBezTo>
                  <a:pt x="257001" y="8118"/>
                  <a:pt x="276512" y="15078"/>
                  <a:pt x="294774" y="22954"/>
                </a:cubicBezTo>
                <a:cubicBezTo>
                  <a:pt x="313037" y="30829"/>
                  <a:pt x="319199" y="40961"/>
                  <a:pt x="313261" y="53347"/>
                </a:cubicBezTo>
                <a:cubicBezTo>
                  <a:pt x="307324" y="65734"/>
                  <a:pt x="301975" y="99089"/>
                  <a:pt x="297216" y="153411"/>
                </a:cubicBezTo>
                <a:cubicBezTo>
                  <a:pt x="292456" y="207733"/>
                  <a:pt x="290077" y="253234"/>
                  <a:pt x="290077" y="289914"/>
                </a:cubicBezTo>
                <a:cubicBezTo>
                  <a:pt x="320617" y="335710"/>
                  <a:pt x="354600" y="377800"/>
                  <a:pt x="392024" y="416186"/>
                </a:cubicBezTo>
                <a:cubicBezTo>
                  <a:pt x="429448" y="454571"/>
                  <a:pt x="465779" y="483763"/>
                  <a:pt x="501017" y="503762"/>
                </a:cubicBezTo>
                <a:cubicBezTo>
                  <a:pt x="536255" y="523761"/>
                  <a:pt x="576059" y="541883"/>
                  <a:pt x="620429" y="558131"/>
                </a:cubicBezTo>
                <a:cubicBezTo>
                  <a:pt x="664798" y="574378"/>
                  <a:pt x="661108" y="584989"/>
                  <a:pt x="609360" y="589966"/>
                </a:cubicBezTo>
                <a:cubicBezTo>
                  <a:pt x="557611" y="594942"/>
                  <a:pt x="518807" y="595896"/>
                  <a:pt x="492948" y="592826"/>
                </a:cubicBezTo>
                <a:cubicBezTo>
                  <a:pt x="467089" y="589757"/>
                  <a:pt x="438812" y="567425"/>
                  <a:pt x="408116" y="525830"/>
                </a:cubicBezTo>
                <a:cubicBezTo>
                  <a:pt x="377420" y="484236"/>
                  <a:pt x="334539" y="419581"/>
                  <a:pt x="279473" y="331865"/>
                </a:cubicBezTo>
                <a:cubicBezTo>
                  <a:pt x="270667" y="378436"/>
                  <a:pt x="258226" y="417294"/>
                  <a:pt x="242149" y="448440"/>
                </a:cubicBezTo>
                <a:cubicBezTo>
                  <a:pt x="226073" y="479585"/>
                  <a:pt x="199005" y="510684"/>
                  <a:pt x="160945" y="541736"/>
                </a:cubicBezTo>
                <a:cubicBezTo>
                  <a:pt x="122885" y="572789"/>
                  <a:pt x="81818" y="591780"/>
                  <a:pt x="37743" y="598709"/>
                </a:cubicBezTo>
                <a:cubicBezTo>
                  <a:pt x="-6332" y="605639"/>
                  <a:pt x="-11804" y="599578"/>
                  <a:pt x="21326" y="580525"/>
                </a:cubicBezTo>
                <a:cubicBezTo>
                  <a:pt x="54455" y="561471"/>
                  <a:pt x="87655" y="537690"/>
                  <a:pt x="120924" y="509180"/>
                </a:cubicBezTo>
                <a:cubicBezTo>
                  <a:pt x="154194" y="480670"/>
                  <a:pt x="179463" y="446742"/>
                  <a:pt x="196734" y="407396"/>
                </a:cubicBezTo>
                <a:cubicBezTo>
                  <a:pt x="214004" y="368049"/>
                  <a:pt x="225065" y="319308"/>
                  <a:pt x="229918" y="261172"/>
                </a:cubicBezTo>
                <a:cubicBezTo>
                  <a:pt x="234770" y="203036"/>
                  <a:pt x="236716" y="154023"/>
                  <a:pt x="235754" y="114134"/>
                </a:cubicBezTo>
                <a:cubicBezTo>
                  <a:pt x="234793" y="74245"/>
                  <a:pt x="229445" y="44084"/>
                  <a:pt x="219709" y="23652"/>
                </a:cubicBezTo>
                <a:cubicBezTo>
                  <a:pt x="212407" y="8327"/>
                  <a:pt x="213682" y="449"/>
                  <a:pt x="223533" y="19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502" name="组合 8"/>
          <p:cNvGrpSpPr/>
          <p:nvPr/>
        </p:nvGrpSpPr>
        <p:grpSpPr>
          <a:xfrm>
            <a:off x="3913200" y="625320"/>
            <a:ext cx="1317240" cy="1307880"/>
            <a:chOff x="3913200" y="625320"/>
            <a:chExt cx="1317240" cy="1307880"/>
          </a:xfrm>
        </p:grpSpPr>
        <p:pic>
          <p:nvPicPr>
            <p:cNvPr id="503" name="图片 90" descr=""/>
            <p:cNvPicPr/>
            <p:nvPr/>
          </p:nvPicPr>
          <p:blipFill>
            <a:blip r:embed="rId1"/>
            <a:stretch/>
          </p:blipFill>
          <p:spPr>
            <a:xfrm>
              <a:off x="3913200" y="625320"/>
              <a:ext cx="1317240" cy="13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文本框 7"/>
            <p:cNvSpPr/>
            <p:nvPr/>
          </p:nvSpPr>
          <p:spPr>
            <a:xfrm>
              <a:off x="4127760" y="910440"/>
              <a:ext cx="888120" cy="738000"/>
            </a:xfrm>
            <a:custGeom>
              <a:avLst/>
              <a:gdLst>
                <a:gd name="textAreaLeft" fmla="*/ 0 w 888120"/>
                <a:gd name="textAreaRight" fmla="*/ 888480 w 88812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777023" h="644276">
                  <a:moveTo>
                    <a:pt x="360071" y="233388"/>
                  </a:moveTo>
                  <a:cubicBezTo>
                    <a:pt x="386368" y="236782"/>
                    <a:pt x="406763" y="244558"/>
                    <a:pt x="421258" y="256717"/>
                  </a:cubicBezTo>
                  <a:cubicBezTo>
                    <a:pt x="435754" y="268876"/>
                    <a:pt x="441594" y="284897"/>
                    <a:pt x="438781" y="304781"/>
                  </a:cubicBezTo>
                  <a:cubicBezTo>
                    <a:pt x="435967" y="324665"/>
                    <a:pt x="423066" y="329440"/>
                    <a:pt x="400078" y="319106"/>
                  </a:cubicBezTo>
                  <a:cubicBezTo>
                    <a:pt x="377091" y="308772"/>
                    <a:pt x="357531" y="293236"/>
                    <a:pt x="341398" y="272500"/>
                  </a:cubicBezTo>
                  <a:cubicBezTo>
                    <a:pt x="327551" y="243032"/>
                    <a:pt x="333775" y="229994"/>
                    <a:pt x="360071" y="233388"/>
                  </a:cubicBezTo>
                  <a:close/>
                  <a:moveTo>
                    <a:pt x="608664" y="151074"/>
                  </a:moveTo>
                  <a:cubicBezTo>
                    <a:pt x="612658" y="151704"/>
                    <a:pt x="617362" y="153178"/>
                    <a:pt x="622776" y="155497"/>
                  </a:cubicBezTo>
                  <a:cubicBezTo>
                    <a:pt x="644434" y="164774"/>
                    <a:pt x="661615" y="176797"/>
                    <a:pt x="674320" y="191565"/>
                  </a:cubicBezTo>
                  <a:cubicBezTo>
                    <a:pt x="687024" y="206333"/>
                    <a:pt x="684014" y="217605"/>
                    <a:pt x="665290" y="225382"/>
                  </a:cubicBezTo>
                  <a:cubicBezTo>
                    <a:pt x="646566" y="233158"/>
                    <a:pt x="626571" y="245027"/>
                    <a:pt x="605305" y="260989"/>
                  </a:cubicBezTo>
                  <a:cubicBezTo>
                    <a:pt x="584040" y="276951"/>
                    <a:pt x="561777" y="289468"/>
                    <a:pt x="538516" y="298540"/>
                  </a:cubicBezTo>
                  <a:cubicBezTo>
                    <a:pt x="515256" y="307612"/>
                    <a:pt x="509816" y="300245"/>
                    <a:pt x="522196" y="276439"/>
                  </a:cubicBezTo>
                  <a:lnTo>
                    <a:pt x="563329" y="227888"/>
                  </a:lnTo>
                  <a:cubicBezTo>
                    <a:pt x="583452" y="205856"/>
                    <a:pt x="592976" y="185963"/>
                    <a:pt x="591901" y="168211"/>
                  </a:cubicBezTo>
                  <a:cubicBezTo>
                    <a:pt x="591096" y="154896"/>
                    <a:pt x="596683" y="149184"/>
                    <a:pt x="608664" y="151074"/>
                  </a:cubicBezTo>
                  <a:close/>
                  <a:moveTo>
                    <a:pt x="442273" y="1112"/>
                  </a:moveTo>
                  <a:cubicBezTo>
                    <a:pt x="450076" y="759"/>
                    <a:pt x="462026" y="3202"/>
                    <a:pt x="478122" y="8439"/>
                  </a:cubicBezTo>
                  <a:cubicBezTo>
                    <a:pt x="521045" y="22406"/>
                    <a:pt x="539787" y="37259"/>
                    <a:pt x="534347" y="52999"/>
                  </a:cubicBezTo>
                  <a:cubicBezTo>
                    <a:pt x="528907" y="68739"/>
                    <a:pt x="525658" y="88350"/>
                    <a:pt x="524601" y="111833"/>
                  </a:cubicBezTo>
                  <a:cubicBezTo>
                    <a:pt x="523544" y="135315"/>
                    <a:pt x="520892" y="168833"/>
                    <a:pt x="516646" y="212387"/>
                  </a:cubicBezTo>
                  <a:cubicBezTo>
                    <a:pt x="512399" y="255941"/>
                    <a:pt x="508179" y="297329"/>
                    <a:pt x="503984" y="336552"/>
                  </a:cubicBezTo>
                  <a:cubicBezTo>
                    <a:pt x="545457" y="388359"/>
                    <a:pt x="585165" y="430080"/>
                    <a:pt x="623109" y="461714"/>
                  </a:cubicBezTo>
                  <a:cubicBezTo>
                    <a:pt x="661052" y="493347"/>
                    <a:pt x="698842" y="518271"/>
                    <a:pt x="736479" y="536484"/>
                  </a:cubicBezTo>
                  <a:cubicBezTo>
                    <a:pt x="774115" y="554696"/>
                    <a:pt x="785549" y="565730"/>
                    <a:pt x="770781" y="569584"/>
                  </a:cubicBezTo>
                  <a:cubicBezTo>
                    <a:pt x="756013" y="573438"/>
                    <a:pt x="737084" y="575902"/>
                    <a:pt x="713994" y="576976"/>
                  </a:cubicBezTo>
                  <a:cubicBezTo>
                    <a:pt x="690904" y="578051"/>
                    <a:pt x="667874" y="576883"/>
                    <a:pt x="644903" y="573472"/>
                  </a:cubicBezTo>
                  <a:cubicBezTo>
                    <a:pt x="621932" y="570061"/>
                    <a:pt x="599473" y="553000"/>
                    <a:pt x="577526" y="522287"/>
                  </a:cubicBezTo>
                  <a:cubicBezTo>
                    <a:pt x="555578" y="491574"/>
                    <a:pt x="527159" y="442930"/>
                    <a:pt x="492268" y="376354"/>
                  </a:cubicBezTo>
                  <a:cubicBezTo>
                    <a:pt x="486709" y="413632"/>
                    <a:pt x="468897" y="449512"/>
                    <a:pt x="438832" y="483994"/>
                  </a:cubicBezTo>
                  <a:cubicBezTo>
                    <a:pt x="408767" y="518475"/>
                    <a:pt x="372452" y="540721"/>
                    <a:pt x="329887" y="550732"/>
                  </a:cubicBezTo>
                  <a:cubicBezTo>
                    <a:pt x="287322" y="560742"/>
                    <a:pt x="284491" y="552786"/>
                    <a:pt x="321395" y="526866"/>
                  </a:cubicBezTo>
                  <a:cubicBezTo>
                    <a:pt x="358298" y="500945"/>
                    <a:pt x="388806" y="467026"/>
                    <a:pt x="412919" y="425109"/>
                  </a:cubicBezTo>
                  <a:cubicBezTo>
                    <a:pt x="437033" y="383192"/>
                    <a:pt x="451221" y="312669"/>
                    <a:pt x="455484" y="213538"/>
                  </a:cubicBezTo>
                  <a:cubicBezTo>
                    <a:pt x="459748" y="114408"/>
                    <a:pt x="453856" y="51950"/>
                    <a:pt x="437809" y="26166"/>
                  </a:cubicBezTo>
                  <a:cubicBezTo>
                    <a:pt x="427779" y="10051"/>
                    <a:pt x="429267" y="1699"/>
                    <a:pt x="442273" y="1112"/>
                  </a:cubicBezTo>
                  <a:close/>
                  <a:moveTo>
                    <a:pt x="293378" y="100"/>
                  </a:moveTo>
                  <a:cubicBezTo>
                    <a:pt x="303043" y="936"/>
                    <a:pt x="317541" y="7032"/>
                    <a:pt x="336870" y="18390"/>
                  </a:cubicBezTo>
                  <a:cubicBezTo>
                    <a:pt x="375530" y="41104"/>
                    <a:pt x="386888" y="55506"/>
                    <a:pt x="370943" y="61594"/>
                  </a:cubicBezTo>
                  <a:cubicBezTo>
                    <a:pt x="354998" y="67682"/>
                    <a:pt x="335344" y="77095"/>
                    <a:pt x="311981" y="89834"/>
                  </a:cubicBezTo>
                  <a:cubicBezTo>
                    <a:pt x="288618" y="102573"/>
                    <a:pt x="263806" y="113291"/>
                    <a:pt x="237544" y="121988"/>
                  </a:cubicBezTo>
                  <a:cubicBezTo>
                    <a:pt x="276050" y="131026"/>
                    <a:pt x="292575" y="140414"/>
                    <a:pt x="287118" y="150151"/>
                  </a:cubicBezTo>
                  <a:cubicBezTo>
                    <a:pt x="281661" y="159889"/>
                    <a:pt x="277977" y="177377"/>
                    <a:pt x="276067" y="202616"/>
                  </a:cubicBezTo>
                  <a:cubicBezTo>
                    <a:pt x="284935" y="200671"/>
                    <a:pt x="295943" y="197508"/>
                    <a:pt x="309091" y="193125"/>
                  </a:cubicBezTo>
                  <a:cubicBezTo>
                    <a:pt x="322239" y="188743"/>
                    <a:pt x="335003" y="191309"/>
                    <a:pt x="347384" y="200825"/>
                  </a:cubicBezTo>
                  <a:cubicBezTo>
                    <a:pt x="359764" y="210341"/>
                    <a:pt x="355876" y="219916"/>
                    <a:pt x="335719" y="229551"/>
                  </a:cubicBezTo>
                  <a:cubicBezTo>
                    <a:pt x="315563" y="239186"/>
                    <a:pt x="295457" y="246749"/>
                    <a:pt x="275402" y="252240"/>
                  </a:cubicBezTo>
                  <a:cubicBezTo>
                    <a:pt x="273697" y="274034"/>
                    <a:pt x="272844" y="296425"/>
                    <a:pt x="272844" y="319413"/>
                  </a:cubicBezTo>
                  <a:cubicBezTo>
                    <a:pt x="285429" y="320982"/>
                    <a:pt x="301954" y="325382"/>
                    <a:pt x="322418" y="332612"/>
                  </a:cubicBezTo>
                  <a:cubicBezTo>
                    <a:pt x="342882" y="339843"/>
                    <a:pt x="352415" y="355361"/>
                    <a:pt x="351016" y="379168"/>
                  </a:cubicBezTo>
                  <a:cubicBezTo>
                    <a:pt x="349618" y="402974"/>
                    <a:pt x="337851" y="410298"/>
                    <a:pt x="315716" y="401141"/>
                  </a:cubicBezTo>
                  <a:cubicBezTo>
                    <a:pt x="293581" y="391983"/>
                    <a:pt x="279290" y="377292"/>
                    <a:pt x="272844" y="357067"/>
                  </a:cubicBezTo>
                  <a:lnTo>
                    <a:pt x="272844" y="501337"/>
                  </a:lnTo>
                  <a:cubicBezTo>
                    <a:pt x="272844" y="540184"/>
                    <a:pt x="271130" y="571622"/>
                    <a:pt x="267703" y="595650"/>
                  </a:cubicBezTo>
                  <a:cubicBezTo>
                    <a:pt x="264275" y="619678"/>
                    <a:pt x="257010" y="635145"/>
                    <a:pt x="245909" y="642052"/>
                  </a:cubicBezTo>
                  <a:cubicBezTo>
                    <a:pt x="234807" y="648958"/>
                    <a:pt x="224686" y="639783"/>
                    <a:pt x="215545" y="614528"/>
                  </a:cubicBezTo>
                  <a:cubicBezTo>
                    <a:pt x="206405" y="589272"/>
                    <a:pt x="202372" y="569379"/>
                    <a:pt x="203446" y="554850"/>
                  </a:cubicBezTo>
                  <a:cubicBezTo>
                    <a:pt x="204520" y="540321"/>
                    <a:pt x="206661" y="525024"/>
                    <a:pt x="209867" y="508960"/>
                  </a:cubicBezTo>
                  <a:cubicBezTo>
                    <a:pt x="213073" y="492896"/>
                    <a:pt x="215750" y="431572"/>
                    <a:pt x="217899" y="324989"/>
                  </a:cubicBezTo>
                  <a:cubicBezTo>
                    <a:pt x="199686" y="373864"/>
                    <a:pt x="174686" y="413103"/>
                    <a:pt x="142899" y="442708"/>
                  </a:cubicBezTo>
                  <a:cubicBezTo>
                    <a:pt x="111111" y="472312"/>
                    <a:pt x="75001" y="495940"/>
                    <a:pt x="34568" y="513590"/>
                  </a:cubicBezTo>
                  <a:cubicBezTo>
                    <a:pt x="-5865" y="531240"/>
                    <a:pt x="-10828" y="525544"/>
                    <a:pt x="19681" y="496502"/>
                  </a:cubicBezTo>
                  <a:cubicBezTo>
                    <a:pt x="50189" y="467461"/>
                    <a:pt x="85566" y="428571"/>
                    <a:pt x="125811" y="379833"/>
                  </a:cubicBezTo>
                  <a:cubicBezTo>
                    <a:pt x="166057" y="331094"/>
                    <a:pt x="190324" y="294618"/>
                    <a:pt x="198611" y="270402"/>
                  </a:cubicBezTo>
                  <a:cubicBezTo>
                    <a:pt x="158127" y="285068"/>
                    <a:pt x="127619" y="296758"/>
                    <a:pt x="107087" y="305472"/>
                  </a:cubicBezTo>
                  <a:cubicBezTo>
                    <a:pt x="86555" y="314186"/>
                    <a:pt x="64045" y="310443"/>
                    <a:pt x="39556" y="294242"/>
                  </a:cubicBezTo>
                  <a:cubicBezTo>
                    <a:pt x="15068" y="278042"/>
                    <a:pt x="17881" y="267878"/>
                    <a:pt x="47997" y="263751"/>
                  </a:cubicBezTo>
                  <a:cubicBezTo>
                    <a:pt x="78113" y="259624"/>
                    <a:pt x="135822" y="244362"/>
                    <a:pt x="221122" y="217963"/>
                  </a:cubicBezTo>
                  <a:cubicBezTo>
                    <a:pt x="221122" y="191974"/>
                    <a:pt x="219570" y="173813"/>
                    <a:pt x="216466" y="163478"/>
                  </a:cubicBezTo>
                  <a:cubicBezTo>
                    <a:pt x="213363" y="153144"/>
                    <a:pt x="211418" y="144907"/>
                    <a:pt x="210634" y="138768"/>
                  </a:cubicBezTo>
                  <a:cubicBezTo>
                    <a:pt x="187101" y="149409"/>
                    <a:pt x="165844" y="155284"/>
                    <a:pt x="146863" y="156393"/>
                  </a:cubicBezTo>
                  <a:cubicBezTo>
                    <a:pt x="127883" y="157501"/>
                    <a:pt x="134867" y="146084"/>
                    <a:pt x="167813" y="122141"/>
                  </a:cubicBezTo>
                  <a:cubicBezTo>
                    <a:pt x="200760" y="98199"/>
                    <a:pt x="227508" y="76984"/>
                    <a:pt x="248057" y="58499"/>
                  </a:cubicBezTo>
                  <a:cubicBezTo>
                    <a:pt x="268606" y="40013"/>
                    <a:pt x="278881" y="24972"/>
                    <a:pt x="278881" y="13376"/>
                  </a:cubicBezTo>
                  <a:cubicBezTo>
                    <a:pt x="278881" y="3690"/>
                    <a:pt x="283713" y="-736"/>
                    <a:pt x="293378" y="10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505" name="图片 11" descr=""/>
          <p:cNvPicPr/>
          <p:nvPr/>
        </p:nvPicPr>
        <p:blipFill>
          <a:blip r:embed="rId2"/>
          <a:stretch/>
        </p:blipFill>
        <p:spPr>
          <a:xfrm>
            <a:off x="977760" y="492120"/>
            <a:ext cx="1331640" cy="133308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3" descr=""/>
          <p:cNvPicPr/>
          <p:nvPr/>
        </p:nvPicPr>
        <p:blipFill>
          <a:blip r:embed="rId3"/>
          <a:stretch/>
        </p:blipFill>
        <p:spPr>
          <a:xfrm>
            <a:off x="7034040" y="568440"/>
            <a:ext cx="1131480" cy="1331640"/>
          </a:xfrm>
          <a:prstGeom prst="rect">
            <a:avLst/>
          </a:prstGeom>
          <a:ln w="0">
            <a:noFill/>
          </a:ln>
        </p:spPr>
      </p:pic>
      <p:sp>
        <p:nvSpPr>
          <p:cNvPr id="507" name="图片 17"/>
          <p:cNvSpPr/>
          <p:nvPr/>
        </p:nvSpPr>
        <p:spPr>
          <a:xfrm>
            <a:off x="3564000" y="2221560"/>
            <a:ext cx="2207520" cy="1655640"/>
          </a:xfrm>
          <a:prstGeom prst="roundRect">
            <a:avLst>
              <a:gd name="adj" fmla="val 11323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图片 19"/>
          <p:cNvSpPr/>
          <p:nvPr/>
        </p:nvSpPr>
        <p:spPr>
          <a:xfrm>
            <a:off x="6205680" y="2221560"/>
            <a:ext cx="2207520" cy="1655640"/>
          </a:xfrm>
          <a:prstGeom prst="roundRect">
            <a:avLst>
              <a:gd name="adj" fmla="val 12214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图片 23"/>
          <p:cNvSpPr/>
          <p:nvPr/>
        </p:nvSpPr>
        <p:spPr>
          <a:xfrm>
            <a:off x="921960" y="2221560"/>
            <a:ext cx="2207520" cy="1655640"/>
          </a:xfrm>
          <a:prstGeom prst="roundRect">
            <a:avLst>
              <a:gd name="adj" fmla="val 12214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1449360" y="394956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秋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4092480" y="394956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秋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26"/>
          <p:cNvSpPr/>
          <p:nvPr/>
        </p:nvSpPr>
        <p:spPr>
          <a:xfrm>
            <a:off x="6734160" y="394956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秋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2716E-006 L 0.18403 3.82716E-006 E">
                                      <p:cBhvr>
                                        <p:cTn id="735" dur="1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17284E-007 L -0.18247 6.17284E-007 E">
                                      <p:cBhvr>
                                        <p:cTn id="737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组合 4"/>
          <p:cNvGrpSpPr/>
          <p:nvPr/>
        </p:nvGrpSpPr>
        <p:grpSpPr>
          <a:xfrm>
            <a:off x="3443400" y="411120"/>
            <a:ext cx="2256840" cy="638280"/>
            <a:chOff x="3443400" y="411120"/>
            <a:chExt cx="2256840" cy="638280"/>
          </a:xfrm>
        </p:grpSpPr>
        <p:sp>
          <p:nvSpPr>
            <p:cNvPr id="514" name="文本框 13"/>
            <p:cNvSpPr/>
            <p:nvPr/>
          </p:nvSpPr>
          <p:spPr>
            <a:xfrm>
              <a:off x="4101480" y="411120"/>
              <a:ext cx="1598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4747"/>
                  </a:solidFill>
                  <a:latin typeface="黑体"/>
                  <a:ea typeface="黑体"/>
                </a:rPr>
                <a:t>猜字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图片 6" descr=""/>
            <p:cNvPicPr/>
            <p:nvPr/>
          </p:nvPicPr>
          <p:blipFill>
            <a:blip r:embed="rId1"/>
            <a:stretch/>
          </p:blipFill>
          <p:spPr>
            <a:xfrm>
              <a:off x="3443400" y="415080"/>
              <a:ext cx="67932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文本框 4"/>
          <p:cNvSpPr/>
          <p:nvPr/>
        </p:nvSpPr>
        <p:spPr>
          <a:xfrm>
            <a:off x="1490760" y="1352520"/>
            <a:ext cx="20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旭日东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90" descr=""/>
          <p:cNvPicPr/>
          <p:nvPr/>
        </p:nvPicPr>
        <p:blipFill>
          <a:blip r:embed="rId2"/>
          <a:stretch/>
        </p:blipFill>
        <p:spPr>
          <a:xfrm>
            <a:off x="4581360" y="1244520"/>
            <a:ext cx="869760" cy="86148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6"/>
          <p:cNvSpPr/>
          <p:nvPr/>
        </p:nvSpPr>
        <p:spPr>
          <a:xfrm>
            <a:off x="1197000" y="2416320"/>
            <a:ext cx="25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山上还有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90" descr=""/>
          <p:cNvPicPr/>
          <p:nvPr/>
        </p:nvPicPr>
        <p:blipFill>
          <a:blip r:embed="rId3"/>
          <a:stretch/>
        </p:blipFill>
        <p:spPr>
          <a:xfrm>
            <a:off x="4581360" y="2313000"/>
            <a:ext cx="869760" cy="861480"/>
          </a:xfrm>
          <a:prstGeom prst="rect">
            <a:avLst/>
          </a:prstGeom>
          <a:ln w="0">
            <a:noFill/>
          </a:ln>
        </p:spPr>
      </p:pic>
      <p:sp>
        <p:nvSpPr>
          <p:cNvPr id="520" name="文本框 8"/>
          <p:cNvSpPr/>
          <p:nvPr/>
        </p:nvSpPr>
        <p:spPr>
          <a:xfrm>
            <a:off x="692280" y="3218040"/>
            <a:ext cx="35287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画时圆，写时方，冬时短，夏时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2"/>
          <p:cNvSpPr/>
          <p:nvPr/>
        </p:nvSpPr>
        <p:spPr>
          <a:xfrm>
            <a:off x="4722840" y="1419120"/>
            <a:ext cx="587160" cy="510840"/>
          </a:xfrm>
          <a:custGeom>
            <a:avLst/>
            <a:gdLst>
              <a:gd name="textAreaLeft" fmla="*/ 0 w 587160"/>
              <a:gd name="textAreaRight" fmla="*/ 587520 w 58716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86803" h="511858">
                <a:moveTo>
                  <a:pt x="200293" y="366"/>
                </a:moveTo>
                <a:cubicBezTo>
                  <a:pt x="203448" y="-243"/>
                  <a:pt x="207567" y="-90"/>
                  <a:pt x="212649" y="824"/>
                </a:cubicBezTo>
                <a:cubicBezTo>
                  <a:pt x="232978" y="4479"/>
                  <a:pt x="251417" y="10981"/>
                  <a:pt x="267964" y="20330"/>
                </a:cubicBezTo>
                <a:cubicBezTo>
                  <a:pt x="284512" y="29678"/>
                  <a:pt x="288300" y="39919"/>
                  <a:pt x="279329" y="51053"/>
                </a:cubicBezTo>
                <a:cubicBezTo>
                  <a:pt x="270357" y="62188"/>
                  <a:pt x="259956" y="97906"/>
                  <a:pt x="248124" y="158210"/>
                </a:cubicBezTo>
                <a:cubicBezTo>
                  <a:pt x="284847" y="146713"/>
                  <a:pt x="309020" y="135523"/>
                  <a:pt x="320643" y="124640"/>
                </a:cubicBezTo>
                <a:cubicBezTo>
                  <a:pt x="332265" y="113756"/>
                  <a:pt x="345785" y="112033"/>
                  <a:pt x="361203" y="119470"/>
                </a:cubicBezTo>
                <a:cubicBezTo>
                  <a:pt x="376621" y="126907"/>
                  <a:pt x="390964" y="136353"/>
                  <a:pt x="404233" y="147808"/>
                </a:cubicBezTo>
                <a:cubicBezTo>
                  <a:pt x="417502" y="159263"/>
                  <a:pt x="416469" y="170865"/>
                  <a:pt x="401135" y="182613"/>
                </a:cubicBezTo>
                <a:cubicBezTo>
                  <a:pt x="385802" y="194361"/>
                  <a:pt x="373509" y="214118"/>
                  <a:pt x="364259" y="241884"/>
                </a:cubicBezTo>
                <a:cubicBezTo>
                  <a:pt x="355008" y="269649"/>
                  <a:pt x="349099" y="305696"/>
                  <a:pt x="346532" y="350023"/>
                </a:cubicBezTo>
                <a:cubicBezTo>
                  <a:pt x="343964" y="394351"/>
                  <a:pt x="351924" y="422940"/>
                  <a:pt x="370412" y="435790"/>
                </a:cubicBezTo>
                <a:cubicBezTo>
                  <a:pt x="388899" y="448641"/>
                  <a:pt x="414216" y="454647"/>
                  <a:pt x="446363" y="453810"/>
                </a:cubicBezTo>
                <a:cubicBezTo>
                  <a:pt x="478510" y="452973"/>
                  <a:pt x="501657" y="448627"/>
                  <a:pt x="515805" y="440771"/>
                </a:cubicBezTo>
                <a:cubicBezTo>
                  <a:pt x="529953" y="432916"/>
                  <a:pt x="542364" y="408373"/>
                  <a:pt x="553038" y="367143"/>
                </a:cubicBezTo>
                <a:cubicBezTo>
                  <a:pt x="563712" y="325913"/>
                  <a:pt x="569823" y="325334"/>
                  <a:pt x="571372" y="365406"/>
                </a:cubicBezTo>
                <a:cubicBezTo>
                  <a:pt x="572920" y="405478"/>
                  <a:pt x="577218" y="436174"/>
                  <a:pt x="584264" y="457494"/>
                </a:cubicBezTo>
                <a:cubicBezTo>
                  <a:pt x="591310" y="478813"/>
                  <a:pt x="583692" y="492968"/>
                  <a:pt x="561409" y="499959"/>
                </a:cubicBezTo>
                <a:cubicBezTo>
                  <a:pt x="539127" y="506949"/>
                  <a:pt x="504127" y="510890"/>
                  <a:pt x="456409" y="511783"/>
                </a:cubicBezTo>
                <a:cubicBezTo>
                  <a:pt x="408691" y="512676"/>
                  <a:pt x="373077" y="505609"/>
                  <a:pt x="349566" y="490582"/>
                </a:cubicBezTo>
                <a:cubicBezTo>
                  <a:pt x="326056" y="475555"/>
                  <a:pt x="311539" y="454585"/>
                  <a:pt x="306013" y="427670"/>
                </a:cubicBezTo>
                <a:cubicBezTo>
                  <a:pt x="300488" y="400755"/>
                  <a:pt x="300376" y="365057"/>
                  <a:pt x="305678" y="320576"/>
                </a:cubicBezTo>
                <a:cubicBezTo>
                  <a:pt x="310980" y="276095"/>
                  <a:pt x="316234" y="239958"/>
                  <a:pt x="321438" y="212164"/>
                </a:cubicBezTo>
                <a:cubicBezTo>
                  <a:pt x="326642" y="184371"/>
                  <a:pt x="327626" y="170230"/>
                  <a:pt x="324389" y="169741"/>
                </a:cubicBezTo>
                <a:cubicBezTo>
                  <a:pt x="321152" y="169253"/>
                  <a:pt x="293582" y="178036"/>
                  <a:pt x="241678" y="196091"/>
                </a:cubicBezTo>
                <a:cubicBezTo>
                  <a:pt x="231688" y="242693"/>
                  <a:pt x="216870" y="286532"/>
                  <a:pt x="197225" y="327609"/>
                </a:cubicBezTo>
                <a:cubicBezTo>
                  <a:pt x="177579" y="368685"/>
                  <a:pt x="153420" y="403560"/>
                  <a:pt x="124748" y="432232"/>
                </a:cubicBezTo>
                <a:cubicBezTo>
                  <a:pt x="96075" y="460905"/>
                  <a:pt x="63454" y="481988"/>
                  <a:pt x="26884" y="495480"/>
                </a:cubicBezTo>
                <a:cubicBezTo>
                  <a:pt x="-9686" y="508972"/>
                  <a:pt x="-8946" y="499896"/>
                  <a:pt x="29102" y="468251"/>
                </a:cubicBezTo>
                <a:cubicBezTo>
                  <a:pt x="67151" y="436607"/>
                  <a:pt x="99110" y="399241"/>
                  <a:pt x="124978" y="356156"/>
                </a:cubicBezTo>
                <a:cubicBezTo>
                  <a:pt x="150846" y="313070"/>
                  <a:pt x="170784" y="265575"/>
                  <a:pt x="184793" y="213671"/>
                </a:cubicBezTo>
                <a:cubicBezTo>
                  <a:pt x="151111" y="227624"/>
                  <a:pt x="125969" y="237677"/>
                  <a:pt x="109365" y="243830"/>
                </a:cubicBezTo>
                <a:cubicBezTo>
                  <a:pt x="92761" y="249983"/>
                  <a:pt x="73165" y="245518"/>
                  <a:pt x="50575" y="230435"/>
                </a:cubicBezTo>
                <a:cubicBezTo>
                  <a:pt x="27986" y="215353"/>
                  <a:pt x="30435" y="206144"/>
                  <a:pt x="57921" y="202809"/>
                </a:cubicBezTo>
                <a:cubicBezTo>
                  <a:pt x="85408" y="199474"/>
                  <a:pt x="106833" y="196098"/>
                  <a:pt x="122194" y="192680"/>
                </a:cubicBezTo>
                <a:cubicBezTo>
                  <a:pt x="137556" y="189261"/>
                  <a:pt x="161199" y="182766"/>
                  <a:pt x="193123" y="173195"/>
                </a:cubicBezTo>
                <a:cubicBezTo>
                  <a:pt x="206824" y="96037"/>
                  <a:pt x="208422" y="47105"/>
                  <a:pt x="197915" y="26399"/>
                </a:cubicBezTo>
                <a:cubicBezTo>
                  <a:pt x="190036" y="10870"/>
                  <a:pt x="190828" y="2192"/>
                  <a:pt x="200293" y="366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2" name="文本框 15"/>
          <p:cNvSpPr/>
          <p:nvPr/>
        </p:nvSpPr>
        <p:spPr>
          <a:xfrm>
            <a:off x="4792680" y="2462040"/>
            <a:ext cx="447480" cy="563040"/>
          </a:xfrm>
          <a:custGeom>
            <a:avLst/>
            <a:gdLst>
              <a:gd name="textAreaLeft" fmla="*/ 0 w 447480"/>
              <a:gd name="textAreaRight" fmla="*/ 447840 w 44748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447290" h="563077">
                <a:moveTo>
                  <a:pt x="179773" y="67"/>
                </a:moveTo>
                <a:cubicBezTo>
                  <a:pt x="183974" y="-205"/>
                  <a:pt x="189351" y="353"/>
                  <a:pt x="195901" y="1741"/>
                </a:cubicBezTo>
                <a:cubicBezTo>
                  <a:pt x="222104" y="7294"/>
                  <a:pt x="240543" y="15568"/>
                  <a:pt x="251217" y="26563"/>
                </a:cubicBezTo>
                <a:cubicBezTo>
                  <a:pt x="261890" y="37558"/>
                  <a:pt x="264995" y="48329"/>
                  <a:pt x="260530" y="58877"/>
                </a:cubicBezTo>
                <a:cubicBezTo>
                  <a:pt x="256065" y="69425"/>
                  <a:pt x="252542" y="89357"/>
                  <a:pt x="249961" y="118671"/>
                </a:cubicBezTo>
                <a:cubicBezTo>
                  <a:pt x="247380" y="147986"/>
                  <a:pt x="245252" y="191162"/>
                  <a:pt x="243578" y="248201"/>
                </a:cubicBezTo>
                <a:cubicBezTo>
                  <a:pt x="305778" y="239522"/>
                  <a:pt x="347901" y="233718"/>
                  <a:pt x="369947" y="230788"/>
                </a:cubicBezTo>
                <a:cubicBezTo>
                  <a:pt x="374802" y="201152"/>
                  <a:pt x="373728" y="176065"/>
                  <a:pt x="366724" y="155527"/>
                </a:cubicBezTo>
                <a:cubicBezTo>
                  <a:pt x="359719" y="134989"/>
                  <a:pt x="367156" y="127985"/>
                  <a:pt x="389034" y="134515"/>
                </a:cubicBezTo>
                <a:cubicBezTo>
                  <a:pt x="410912" y="141044"/>
                  <a:pt x="427159" y="149472"/>
                  <a:pt x="437777" y="159797"/>
                </a:cubicBezTo>
                <a:cubicBezTo>
                  <a:pt x="448395" y="170122"/>
                  <a:pt x="450125" y="179728"/>
                  <a:pt x="442968" y="188616"/>
                </a:cubicBezTo>
                <a:cubicBezTo>
                  <a:pt x="435810" y="197504"/>
                  <a:pt x="430522" y="212628"/>
                  <a:pt x="427104" y="233990"/>
                </a:cubicBezTo>
                <a:cubicBezTo>
                  <a:pt x="423685" y="255351"/>
                  <a:pt x="417120" y="277996"/>
                  <a:pt x="407409" y="301925"/>
                </a:cubicBezTo>
                <a:cubicBezTo>
                  <a:pt x="397698" y="325854"/>
                  <a:pt x="386739" y="330640"/>
                  <a:pt x="374530" y="316283"/>
                </a:cubicBezTo>
                <a:cubicBezTo>
                  <a:pt x="362321" y="301925"/>
                  <a:pt x="359719" y="286333"/>
                  <a:pt x="366724" y="269506"/>
                </a:cubicBezTo>
                <a:cubicBezTo>
                  <a:pt x="309992" y="276483"/>
                  <a:pt x="268860" y="282971"/>
                  <a:pt x="243326" y="288970"/>
                </a:cubicBezTo>
                <a:cubicBezTo>
                  <a:pt x="241680" y="365459"/>
                  <a:pt x="240020" y="421911"/>
                  <a:pt x="238345" y="458327"/>
                </a:cubicBezTo>
                <a:cubicBezTo>
                  <a:pt x="296249" y="451518"/>
                  <a:pt x="340046" y="446537"/>
                  <a:pt x="369737" y="443384"/>
                </a:cubicBezTo>
                <a:cubicBezTo>
                  <a:pt x="372974" y="408921"/>
                  <a:pt x="371091" y="382655"/>
                  <a:pt x="364086" y="364587"/>
                </a:cubicBezTo>
                <a:cubicBezTo>
                  <a:pt x="357082" y="346518"/>
                  <a:pt x="365454" y="341655"/>
                  <a:pt x="389201" y="349999"/>
                </a:cubicBezTo>
                <a:cubicBezTo>
                  <a:pt x="412949" y="358343"/>
                  <a:pt x="428324" y="366198"/>
                  <a:pt x="435329" y="373565"/>
                </a:cubicBezTo>
                <a:cubicBezTo>
                  <a:pt x="442333" y="380932"/>
                  <a:pt x="443596" y="389450"/>
                  <a:pt x="439117" y="399119"/>
                </a:cubicBezTo>
                <a:cubicBezTo>
                  <a:pt x="434638" y="408789"/>
                  <a:pt x="430668" y="428322"/>
                  <a:pt x="427208" y="457720"/>
                </a:cubicBezTo>
                <a:cubicBezTo>
                  <a:pt x="423748" y="487119"/>
                  <a:pt x="420636" y="508285"/>
                  <a:pt x="417874" y="521219"/>
                </a:cubicBezTo>
                <a:cubicBezTo>
                  <a:pt x="415111" y="534153"/>
                  <a:pt x="409307" y="545776"/>
                  <a:pt x="400461" y="556087"/>
                </a:cubicBezTo>
                <a:cubicBezTo>
                  <a:pt x="391615" y="566398"/>
                  <a:pt x="382909" y="565302"/>
                  <a:pt x="374342" y="552801"/>
                </a:cubicBezTo>
                <a:cubicBezTo>
                  <a:pt x="365775" y="540299"/>
                  <a:pt x="361938" y="528663"/>
                  <a:pt x="362831" y="517891"/>
                </a:cubicBezTo>
                <a:cubicBezTo>
                  <a:pt x="363724" y="507120"/>
                  <a:pt x="365900" y="494367"/>
                  <a:pt x="369361" y="479633"/>
                </a:cubicBezTo>
                <a:cubicBezTo>
                  <a:pt x="291756" y="491883"/>
                  <a:pt x="231962" y="501922"/>
                  <a:pt x="189978" y="509750"/>
                </a:cubicBezTo>
                <a:cubicBezTo>
                  <a:pt x="147995" y="517577"/>
                  <a:pt x="116413" y="524881"/>
                  <a:pt x="95233" y="531662"/>
                </a:cubicBezTo>
                <a:cubicBezTo>
                  <a:pt x="74053" y="538443"/>
                  <a:pt x="56131" y="546355"/>
                  <a:pt x="41467" y="555396"/>
                </a:cubicBezTo>
                <a:cubicBezTo>
                  <a:pt x="26802" y="564437"/>
                  <a:pt x="15187" y="559658"/>
                  <a:pt x="6620" y="541060"/>
                </a:cubicBezTo>
                <a:cubicBezTo>
                  <a:pt x="-1947" y="522461"/>
                  <a:pt x="-2198" y="508948"/>
                  <a:pt x="5866" y="500520"/>
                </a:cubicBezTo>
                <a:cubicBezTo>
                  <a:pt x="13931" y="492093"/>
                  <a:pt x="21807" y="477868"/>
                  <a:pt x="29495" y="457846"/>
                </a:cubicBezTo>
                <a:cubicBezTo>
                  <a:pt x="37183" y="437824"/>
                  <a:pt x="36213" y="416260"/>
                  <a:pt x="26586" y="393155"/>
                </a:cubicBezTo>
                <a:cubicBezTo>
                  <a:pt x="16959" y="370049"/>
                  <a:pt x="22184" y="360840"/>
                  <a:pt x="42262" y="365528"/>
                </a:cubicBezTo>
                <a:cubicBezTo>
                  <a:pt x="62340" y="370216"/>
                  <a:pt x="76837" y="377200"/>
                  <a:pt x="85752" y="386478"/>
                </a:cubicBezTo>
                <a:cubicBezTo>
                  <a:pt x="94668" y="395757"/>
                  <a:pt x="96852" y="405307"/>
                  <a:pt x="92303" y="415130"/>
                </a:cubicBezTo>
                <a:cubicBezTo>
                  <a:pt x="87754" y="424953"/>
                  <a:pt x="83813" y="437796"/>
                  <a:pt x="80478" y="453660"/>
                </a:cubicBezTo>
                <a:cubicBezTo>
                  <a:pt x="77144" y="469524"/>
                  <a:pt x="75476" y="479884"/>
                  <a:pt x="75476" y="484740"/>
                </a:cubicBezTo>
                <a:cubicBezTo>
                  <a:pt x="75476" y="482870"/>
                  <a:pt x="86917" y="480233"/>
                  <a:pt x="109800" y="476829"/>
                </a:cubicBezTo>
                <a:cubicBezTo>
                  <a:pt x="132682" y="473424"/>
                  <a:pt x="159666" y="470159"/>
                  <a:pt x="190753" y="467034"/>
                </a:cubicBezTo>
                <a:lnTo>
                  <a:pt x="190753" y="295793"/>
                </a:lnTo>
                <a:cubicBezTo>
                  <a:pt x="117864" y="311197"/>
                  <a:pt x="73307" y="324675"/>
                  <a:pt x="57080" y="336228"/>
                </a:cubicBezTo>
                <a:cubicBezTo>
                  <a:pt x="40853" y="347781"/>
                  <a:pt x="28428" y="344341"/>
                  <a:pt x="19805" y="325910"/>
                </a:cubicBezTo>
                <a:cubicBezTo>
                  <a:pt x="11182" y="307478"/>
                  <a:pt x="11252" y="292382"/>
                  <a:pt x="20014" y="280620"/>
                </a:cubicBezTo>
                <a:cubicBezTo>
                  <a:pt x="28777" y="268858"/>
                  <a:pt x="33158" y="251968"/>
                  <a:pt x="33158" y="229951"/>
                </a:cubicBezTo>
                <a:cubicBezTo>
                  <a:pt x="33158" y="208380"/>
                  <a:pt x="30528" y="189830"/>
                  <a:pt x="25268" y="174300"/>
                </a:cubicBezTo>
                <a:cubicBezTo>
                  <a:pt x="20007" y="158771"/>
                  <a:pt x="25519" y="152876"/>
                  <a:pt x="41801" y="156616"/>
                </a:cubicBezTo>
                <a:cubicBezTo>
                  <a:pt x="58084" y="160355"/>
                  <a:pt x="72148" y="166334"/>
                  <a:pt x="83994" y="174552"/>
                </a:cubicBezTo>
                <a:cubicBezTo>
                  <a:pt x="95840" y="182770"/>
                  <a:pt x="99084" y="192725"/>
                  <a:pt x="93726" y="204417"/>
                </a:cubicBezTo>
                <a:cubicBezTo>
                  <a:pt x="88368" y="216110"/>
                  <a:pt x="84845" y="228283"/>
                  <a:pt x="83157" y="240938"/>
                </a:cubicBezTo>
                <a:cubicBezTo>
                  <a:pt x="81469" y="253593"/>
                  <a:pt x="80206" y="261902"/>
                  <a:pt x="79369" y="265865"/>
                </a:cubicBezTo>
                <a:cubicBezTo>
                  <a:pt x="78532" y="269827"/>
                  <a:pt x="80332" y="271864"/>
                  <a:pt x="84769" y="271976"/>
                </a:cubicBezTo>
                <a:cubicBezTo>
                  <a:pt x="89206" y="272088"/>
                  <a:pt x="124534" y="267162"/>
                  <a:pt x="190753" y="257200"/>
                </a:cubicBezTo>
                <a:lnTo>
                  <a:pt x="190753" y="109149"/>
                </a:lnTo>
                <a:cubicBezTo>
                  <a:pt x="190753" y="74016"/>
                  <a:pt x="185060" y="45943"/>
                  <a:pt x="173675" y="24931"/>
                </a:cubicBezTo>
                <a:cubicBezTo>
                  <a:pt x="165136" y="9171"/>
                  <a:pt x="167169" y="883"/>
                  <a:pt x="179773" y="67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523" name="图片 90" descr=""/>
          <p:cNvPicPr/>
          <p:nvPr/>
        </p:nvPicPr>
        <p:blipFill>
          <a:blip r:embed="rId4"/>
          <a:stretch/>
        </p:blipFill>
        <p:spPr>
          <a:xfrm>
            <a:off x="4581360" y="3475080"/>
            <a:ext cx="869760" cy="86148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18"/>
          <p:cNvSpPr/>
          <p:nvPr/>
        </p:nvSpPr>
        <p:spPr>
          <a:xfrm>
            <a:off x="4848120" y="3659040"/>
            <a:ext cx="336240" cy="493200"/>
          </a:xfrm>
          <a:custGeom>
            <a:avLst/>
            <a:gdLst>
              <a:gd name="textAreaLeft" fmla="*/ 0 w 336240"/>
              <a:gd name="textAreaRight" fmla="*/ 336600 w 336240"/>
              <a:gd name="textAreaTop" fmla="*/ 0 h 493200"/>
              <a:gd name="textAreaBottom" fmla="*/ 493560 h 493200"/>
            </a:gdLst>
            <a:ahLst/>
            <a:rect l="textAreaLeft" t="textAreaTop" r="textAreaRight" b="textAreaBottom"/>
            <a:pathLst>
              <a:path w="335607" h="492458">
                <a:moveTo>
                  <a:pt x="230754" y="55460"/>
                </a:moveTo>
                <a:cubicBezTo>
                  <a:pt x="211363" y="55602"/>
                  <a:pt x="156582" y="65171"/>
                  <a:pt x="66410" y="84168"/>
                </a:cubicBezTo>
                <a:cubicBezTo>
                  <a:pt x="71656" y="125663"/>
                  <a:pt x="74279" y="168135"/>
                  <a:pt x="74279" y="211583"/>
                </a:cubicBezTo>
                <a:cubicBezTo>
                  <a:pt x="86780" y="211583"/>
                  <a:pt x="107521" y="205444"/>
                  <a:pt x="136501" y="193166"/>
                </a:cubicBezTo>
                <a:cubicBezTo>
                  <a:pt x="165480" y="180887"/>
                  <a:pt x="190811" y="182548"/>
                  <a:pt x="212494" y="198147"/>
                </a:cubicBezTo>
                <a:cubicBezTo>
                  <a:pt x="234176" y="213746"/>
                  <a:pt x="219428" y="226492"/>
                  <a:pt x="168250" y="236384"/>
                </a:cubicBezTo>
                <a:cubicBezTo>
                  <a:pt x="117072" y="246276"/>
                  <a:pt x="85455" y="247720"/>
                  <a:pt x="73400" y="240716"/>
                </a:cubicBezTo>
                <a:cubicBezTo>
                  <a:pt x="70386" y="286397"/>
                  <a:pt x="68056" y="331827"/>
                  <a:pt x="66410" y="377006"/>
                </a:cubicBezTo>
                <a:cubicBezTo>
                  <a:pt x="103440" y="377117"/>
                  <a:pt x="137275" y="371892"/>
                  <a:pt x="167915" y="361330"/>
                </a:cubicBezTo>
                <a:cubicBezTo>
                  <a:pt x="198555" y="350768"/>
                  <a:pt x="219128" y="352051"/>
                  <a:pt x="229635" y="365181"/>
                </a:cubicBezTo>
                <a:cubicBezTo>
                  <a:pt x="240141" y="378310"/>
                  <a:pt x="247466" y="384366"/>
                  <a:pt x="251610" y="383347"/>
                </a:cubicBezTo>
                <a:cubicBezTo>
                  <a:pt x="255754" y="382329"/>
                  <a:pt x="257826" y="347873"/>
                  <a:pt x="257826" y="279979"/>
                </a:cubicBezTo>
                <a:cubicBezTo>
                  <a:pt x="257826" y="210188"/>
                  <a:pt x="256989" y="156135"/>
                  <a:pt x="255314" y="117821"/>
                </a:cubicBezTo>
                <a:cubicBezTo>
                  <a:pt x="253640" y="79507"/>
                  <a:pt x="247501" y="58892"/>
                  <a:pt x="236897" y="55976"/>
                </a:cubicBezTo>
                <a:cubicBezTo>
                  <a:pt x="235571" y="55612"/>
                  <a:pt x="233524" y="55440"/>
                  <a:pt x="230754" y="55460"/>
                </a:cubicBezTo>
                <a:close/>
                <a:moveTo>
                  <a:pt x="248957" y="12"/>
                </a:moveTo>
                <a:cubicBezTo>
                  <a:pt x="256753" y="-169"/>
                  <a:pt x="265584" y="1819"/>
                  <a:pt x="275448" y="5977"/>
                </a:cubicBezTo>
                <a:cubicBezTo>
                  <a:pt x="295177" y="14293"/>
                  <a:pt x="311669" y="23885"/>
                  <a:pt x="324924" y="34754"/>
                </a:cubicBezTo>
                <a:cubicBezTo>
                  <a:pt x="338179" y="45624"/>
                  <a:pt x="339100" y="60706"/>
                  <a:pt x="327687" y="80003"/>
                </a:cubicBezTo>
                <a:cubicBezTo>
                  <a:pt x="316273" y="99299"/>
                  <a:pt x="311439" y="145755"/>
                  <a:pt x="313183" y="219369"/>
                </a:cubicBezTo>
                <a:cubicBezTo>
                  <a:pt x="314927" y="292983"/>
                  <a:pt x="316246" y="346777"/>
                  <a:pt x="317139" y="380752"/>
                </a:cubicBezTo>
                <a:cubicBezTo>
                  <a:pt x="318032" y="414727"/>
                  <a:pt x="310120" y="445408"/>
                  <a:pt x="293405" y="472797"/>
                </a:cubicBezTo>
                <a:cubicBezTo>
                  <a:pt x="276690" y="500187"/>
                  <a:pt x="263993" y="498959"/>
                  <a:pt x="255314" y="469114"/>
                </a:cubicBezTo>
                <a:cubicBezTo>
                  <a:pt x="246636" y="439269"/>
                  <a:pt x="240504" y="420398"/>
                  <a:pt x="236918" y="412501"/>
                </a:cubicBezTo>
                <a:cubicBezTo>
                  <a:pt x="233332" y="404604"/>
                  <a:pt x="225121" y="400265"/>
                  <a:pt x="212284" y="399483"/>
                </a:cubicBezTo>
                <a:cubicBezTo>
                  <a:pt x="199448" y="398702"/>
                  <a:pt x="175010" y="400941"/>
                  <a:pt x="138970" y="406202"/>
                </a:cubicBezTo>
                <a:cubicBezTo>
                  <a:pt x="102931" y="411462"/>
                  <a:pt x="78144" y="413213"/>
                  <a:pt x="64610" y="411455"/>
                </a:cubicBezTo>
                <a:cubicBezTo>
                  <a:pt x="53643" y="449992"/>
                  <a:pt x="40639" y="457178"/>
                  <a:pt x="25598" y="433012"/>
                </a:cubicBezTo>
                <a:cubicBezTo>
                  <a:pt x="10557" y="408846"/>
                  <a:pt x="6978" y="382036"/>
                  <a:pt x="14862" y="352582"/>
                </a:cubicBezTo>
                <a:cubicBezTo>
                  <a:pt x="22745" y="323128"/>
                  <a:pt x="26254" y="280188"/>
                  <a:pt x="25389" y="223764"/>
                </a:cubicBezTo>
                <a:cubicBezTo>
                  <a:pt x="24524" y="167339"/>
                  <a:pt x="22396" y="129807"/>
                  <a:pt x="19006" y="111166"/>
                </a:cubicBezTo>
                <a:cubicBezTo>
                  <a:pt x="15615" y="92525"/>
                  <a:pt x="10355" y="74387"/>
                  <a:pt x="3225" y="56751"/>
                </a:cubicBezTo>
                <a:cubicBezTo>
                  <a:pt x="-3905" y="39115"/>
                  <a:pt x="790" y="32968"/>
                  <a:pt x="17310" y="38312"/>
                </a:cubicBezTo>
                <a:cubicBezTo>
                  <a:pt x="33830" y="43656"/>
                  <a:pt x="46897" y="46279"/>
                  <a:pt x="56510" y="46182"/>
                </a:cubicBezTo>
                <a:cubicBezTo>
                  <a:pt x="66124" y="46084"/>
                  <a:pt x="82441" y="44772"/>
                  <a:pt x="105463" y="42247"/>
                </a:cubicBezTo>
                <a:cubicBezTo>
                  <a:pt x="128485" y="39722"/>
                  <a:pt x="151911" y="35487"/>
                  <a:pt x="175743" y="29543"/>
                </a:cubicBezTo>
                <a:cubicBezTo>
                  <a:pt x="199574" y="23599"/>
                  <a:pt x="217217" y="16107"/>
                  <a:pt x="228672" y="7065"/>
                </a:cubicBezTo>
                <a:cubicBezTo>
                  <a:pt x="234399" y="2545"/>
                  <a:pt x="241161" y="194"/>
                  <a:pt x="248957" y="12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5" name="图片 22"/>
          <p:cNvSpPr/>
          <p:nvPr/>
        </p:nvSpPr>
        <p:spPr>
          <a:xfrm>
            <a:off x="5940000" y="1607040"/>
            <a:ext cx="2376000" cy="2376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575">
            <a:solidFill>
              <a:srgbClr val="ffffff"/>
            </a:solidFill>
            <a:round/>
          </a:ln>
          <a:effectLst>
            <a:reflection algn="bl" blurRad="101600" dir="5400000" endPos="28000" rotWithShape="0" stA="24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7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7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7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7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7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7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75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75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7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图片 14"/>
          <p:cNvSpPr/>
          <p:nvPr/>
        </p:nvSpPr>
        <p:spPr>
          <a:xfrm>
            <a:off x="3492000" y="1059480"/>
            <a:ext cx="4857480" cy="2732040"/>
          </a:xfrm>
          <a:prstGeom prst="roundRect">
            <a:avLst>
              <a:gd name="adj" fmla="val 7255"/>
            </a:avLst>
          </a:prstGeom>
          <a:blipFill rotWithShape="0">
            <a:blip r:embed="rId1"/>
            <a:srcRect/>
            <a:stretch/>
          </a:blipFill>
          <a:ln w="15875">
            <a:solidFill>
              <a:srgbClr val="ffc000">
                <a:lumMod val="40000"/>
                <a:lumOff val="60000"/>
              </a:srgbClr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  <a:scene3d>
            <a:camera fov="900000"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8"/>
          <p:cNvGrpSpPr/>
          <p:nvPr/>
        </p:nvGrpSpPr>
        <p:grpSpPr>
          <a:xfrm>
            <a:off x="3251160" y="196920"/>
            <a:ext cx="2641320" cy="638280"/>
            <a:chOff x="3251160" y="196920"/>
            <a:chExt cx="2641320" cy="638280"/>
          </a:xfrm>
        </p:grpSpPr>
        <p:sp>
          <p:nvSpPr>
            <p:cNvPr id="186" name="文本框 13"/>
            <p:cNvSpPr/>
            <p:nvPr/>
          </p:nvSpPr>
          <p:spPr>
            <a:xfrm>
              <a:off x="3804480" y="196920"/>
              <a:ext cx="208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4747"/>
                  </a:solidFill>
                  <a:latin typeface="黑体"/>
                  <a:ea typeface="黑体"/>
                </a:rPr>
                <a:t>元宵灯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图片 7" descr=""/>
            <p:cNvPicPr/>
            <p:nvPr/>
          </p:nvPicPr>
          <p:blipFill>
            <a:blip r:embed="rId2"/>
            <a:stretch/>
          </p:blipFill>
          <p:spPr>
            <a:xfrm>
              <a:off x="3251160" y="200880"/>
              <a:ext cx="67896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图片 16"/>
          <p:cNvSpPr/>
          <p:nvPr/>
        </p:nvSpPr>
        <p:spPr>
          <a:xfrm>
            <a:off x="971640" y="1059480"/>
            <a:ext cx="2052000" cy="2736360"/>
          </a:xfrm>
          <a:prstGeom prst="roundRect">
            <a:avLst>
              <a:gd name="adj" fmla="val 9706"/>
            </a:avLst>
          </a:prstGeom>
          <a:blipFill rotWithShape="0">
            <a:blip r:embed="rId3"/>
            <a:srcRect/>
            <a:stretch/>
          </a:blipFill>
          <a:ln w="15875">
            <a:solidFill>
              <a:srgbClr val="ffc000">
                <a:lumMod val="40000"/>
                <a:lumOff val="60000"/>
              </a:srgbClr>
            </a:solidFill>
            <a:round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  <a:scene3d>
            <a:camera fov="3000000" prst="perspectiveRight">
              <a:rot lat="0" lon="21000000" rev="0"/>
            </a:camera>
            <a:lightRig dir="t" rig="threePt"/>
          </a:scene3d>
          <a:sp3d>
            <a:bevelB prst="coolSlant" w="0" h="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9" descr=""/>
          <p:cNvPicPr/>
          <p:nvPr/>
        </p:nvPicPr>
        <p:blipFill>
          <a:blip r:embed="rId4"/>
          <a:stretch/>
        </p:blipFill>
        <p:spPr>
          <a:xfrm>
            <a:off x="3133800" y="1563840"/>
            <a:ext cx="456840" cy="191412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25"/>
          <p:cNvGrpSpPr/>
          <p:nvPr/>
        </p:nvGrpSpPr>
        <p:grpSpPr>
          <a:xfrm>
            <a:off x="1363680" y="4008600"/>
            <a:ext cx="4728600" cy="638280"/>
            <a:chOff x="1363680" y="4008600"/>
            <a:chExt cx="4728600" cy="638280"/>
          </a:xfrm>
        </p:grpSpPr>
        <p:sp>
          <p:nvSpPr>
            <p:cNvPr id="191" name="文本框 20"/>
            <p:cNvSpPr/>
            <p:nvPr/>
          </p:nvSpPr>
          <p:spPr>
            <a:xfrm>
              <a:off x="1650600" y="4008600"/>
              <a:ext cx="44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朋友们在干什么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图形 24" descr="花灯"/>
            <p:cNvPicPr/>
            <p:nvPr/>
          </p:nvPicPr>
          <p:blipFill>
            <a:blip r:embed="rId5"/>
            <a:stretch/>
          </p:blipFill>
          <p:spPr>
            <a:xfrm>
              <a:off x="1363680" y="4137120"/>
              <a:ext cx="401400" cy="45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文本框 26"/>
          <p:cNvSpPr/>
          <p:nvPr/>
        </p:nvSpPr>
        <p:spPr>
          <a:xfrm>
            <a:off x="6227640" y="400860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猜灯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173160"/>
            <a:ext cx="637920" cy="63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7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527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任意多边形: 形状 3"/>
            <p:cNvSpPr/>
            <p:nvPr/>
          </p:nvSpPr>
          <p:spPr>
            <a:xfrm>
              <a:off x="372960" y="266760"/>
              <a:ext cx="1458720" cy="31068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1459230" h="310007">
                  <a:moveTo>
                    <a:pt x="618363" y="246761"/>
                  </a:moveTo>
                  <a:cubicBezTo>
                    <a:pt x="631825" y="246761"/>
                    <a:pt x="643446" y="249365"/>
                    <a:pt x="653225" y="254572"/>
                  </a:cubicBezTo>
                  <a:cubicBezTo>
                    <a:pt x="663004" y="259779"/>
                    <a:pt x="669798" y="265049"/>
                    <a:pt x="673608" y="270383"/>
                  </a:cubicBezTo>
                  <a:cubicBezTo>
                    <a:pt x="677418" y="275717"/>
                    <a:pt x="679323" y="282194"/>
                    <a:pt x="679323" y="289814"/>
                  </a:cubicBezTo>
                  <a:cubicBezTo>
                    <a:pt x="679323" y="303276"/>
                    <a:pt x="677545" y="310007"/>
                    <a:pt x="673989" y="310007"/>
                  </a:cubicBezTo>
                  <a:cubicBezTo>
                    <a:pt x="671449" y="310007"/>
                    <a:pt x="665480" y="305753"/>
                    <a:pt x="656082" y="297244"/>
                  </a:cubicBezTo>
                  <a:cubicBezTo>
                    <a:pt x="646684" y="288735"/>
                    <a:pt x="636905" y="279019"/>
                    <a:pt x="626745" y="268097"/>
                  </a:cubicBezTo>
                  <a:cubicBezTo>
                    <a:pt x="616585" y="257175"/>
                    <a:pt x="611505" y="250889"/>
                    <a:pt x="611505" y="249238"/>
                  </a:cubicBezTo>
                  <a:cubicBezTo>
                    <a:pt x="611505" y="247587"/>
                    <a:pt x="613791" y="246761"/>
                    <a:pt x="618363" y="246761"/>
                  </a:cubicBezTo>
                  <a:close/>
                  <a:moveTo>
                    <a:pt x="984123" y="211709"/>
                  </a:moveTo>
                  <a:cubicBezTo>
                    <a:pt x="972693" y="220599"/>
                    <a:pt x="964565" y="228219"/>
                    <a:pt x="959739" y="234569"/>
                  </a:cubicBezTo>
                  <a:cubicBezTo>
                    <a:pt x="970915" y="239141"/>
                    <a:pt x="977519" y="241427"/>
                    <a:pt x="979551" y="241427"/>
                  </a:cubicBezTo>
                  <a:cubicBezTo>
                    <a:pt x="981583" y="241427"/>
                    <a:pt x="982853" y="241046"/>
                    <a:pt x="983361" y="240284"/>
                  </a:cubicBezTo>
                  <a:cubicBezTo>
                    <a:pt x="983869" y="239522"/>
                    <a:pt x="984187" y="235776"/>
                    <a:pt x="984314" y="229045"/>
                  </a:cubicBezTo>
                  <a:cubicBezTo>
                    <a:pt x="984441" y="222314"/>
                    <a:pt x="984377" y="216535"/>
                    <a:pt x="984123" y="211709"/>
                  </a:cubicBezTo>
                  <a:close/>
                  <a:moveTo>
                    <a:pt x="591265" y="208566"/>
                  </a:moveTo>
                  <a:cubicBezTo>
                    <a:pt x="589963" y="208883"/>
                    <a:pt x="588645" y="209550"/>
                    <a:pt x="587312" y="210566"/>
                  </a:cubicBezTo>
                  <a:cubicBezTo>
                    <a:pt x="584645" y="212598"/>
                    <a:pt x="582930" y="215392"/>
                    <a:pt x="582168" y="218948"/>
                  </a:cubicBezTo>
                  <a:cubicBezTo>
                    <a:pt x="584962" y="218186"/>
                    <a:pt x="588645" y="217297"/>
                    <a:pt x="593217" y="216281"/>
                  </a:cubicBezTo>
                  <a:cubicBezTo>
                    <a:pt x="594233" y="213487"/>
                    <a:pt x="594868" y="210947"/>
                    <a:pt x="595122" y="208661"/>
                  </a:cubicBezTo>
                  <a:cubicBezTo>
                    <a:pt x="593852" y="208280"/>
                    <a:pt x="592566" y="208248"/>
                    <a:pt x="591265" y="208566"/>
                  </a:cubicBezTo>
                  <a:close/>
                  <a:moveTo>
                    <a:pt x="462915" y="127508"/>
                  </a:moveTo>
                  <a:cubicBezTo>
                    <a:pt x="469773" y="127508"/>
                    <a:pt x="475615" y="129794"/>
                    <a:pt x="480441" y="134366"/>
                  </a:cubicBezTo>
                  <a:cubicBezTo>
                    <a:pt x="485267" y="138938"/>
                    <a:pt x="487680" y="144018"/>
                    <a:pt x="487680" y="149606"/>
                  </a:cubicBezTo>
                  <a:cubicBezTo>
                    <a:pt x="487680" y="151638"/>
                    <a:pt x="487299" y="153416"/>
                    <a:pt x="486537" y="154940"/>
                  </a:cubicBezTo>
                  <a:cubicBezTo>
                    <a:pt x="483235" y="161544"/>
                    <a:pt x="480949" y="168783"/>
                    <a:pt x="479679" y="176657"/>
                  </a:cubicBezTo>
                  <a:lnTo>
                    <a:pt x="469011" y="237998"/>
                  </a:lnTo>
                  <a:cubicBezTo>
                    <a:pt x="468249" y="241808"/>
                    <a:pt x="467868" y="244348"/>
                    <a:pt x="467868" y="245618"/>
                  </a:cubicBezTo>
                  <a:cubicBezTo>
                    <a:pt x="467868" y="248412"/>
                    <a:pt x="468376" y="249809"/>
                    <a:pt x="469392" y="249809"/>
                  </a:cubicBezTo>
                  <a:cubicBezTo>
                    <a:pt x="470408" y="249809"/>
                    <a:pt x="471361" y="249301"/>
                    <a:pt x="472250" y="248285"/>
                  </a:cubicBezTo>
                  <a:cubicBezTo>
                    <a:pt x="473139" y="247269"/>
                    <a:pt x="476695" y="241046"/>
                    <a:pt x="482918" y="229616"/>
                  </a:cubicBezTo>
                  <a:cubicBezTo>
                    <a:pt x="489141" y="218186"/>
                    <a:pt x="493395" y="209169"/>
                    <a:pt x="495681" y="202565"/>
                  </a:cubicBezTo>
                  <a:cubicBezTo>
                    <a:pt x="496443" y="200533"/>
                    <a:pt x="497459" y="199517"/>
                    <a:pt x="498729" y="199517"/>
                  </a:cubicBezTo>
                  <a:cubicBezTo>
                    <a:pt x="499999" y="199517"/>
                    <a:pt x="500634" y="201295"/>
                    <a:pt x="500634" y="204851"/>
                  </a:cubicBezTo>
                  <a:cubicBezTo>
                    <a:pt x="500634" y="212217"/>
                    <a:pt x="494538" y="234696"/>
                    <a:pt x="482346" y="272288"/>
                  </a:cubicBezTo>
                  <a:cubicBezTo>
                    <a:pt x="479552" y="280670"/>
                    <a:pt x="478155" y="287401"/>
                    <a:pt x="478155" y="292481"/>
                  </a:cubicBezTo>
                  <a:lnTo>
                    <a:pt x="478536" y="301244"/>
                  </a:lnTo>
                  <a:cubicBezTo>
                    <a:pt x="478536" y="305816"/>
                    <a:pt x="476949" y="308102"/>
                    <a:pt x="473774" y="308102"/>
                  </a:cubicBezTo>
                  <a:cubicBezTo>
                    <a:pt x="470599" y="308102"/>
                    <a:pt x="466154" y="304800"/>
                    <a:pt x="460439" y="298196"/>
                  </a:cubicBezTo>
                  <a:cubicBezTo>
                    <a:pt x="454724" y="291592"/>
                    <a:pt x="450850" y="284671"/>
                    <a:pt x="448818" y="277432"/>
                  </a:cubicBezTo>
                  <a:cubicBezTo>
                    <a:pt x="446786" y="270193"/>
                    <a:pt x="445770" y="257683"/>
                    <a:pt x="445770" y="239903"/>
                  </a:cubicBezTo>
                  <a:cubicBezTo>
                    <a:pt x="445770" y="222123"/>
                    <a:pt x="446278" y="202692"/>
                    <a:pt x="447294" y="181610"/>
                  </a:cubicBezTo>
                  <a:cubicBezTo>
                    <a:pt x="438658" y="191008"/>
                    <a:pt x="429768" y="195707"/>
                    <a:pt x="420624" y="195707"/>
                  </a:cubicBezTo>
                  <a:cubicBezTo>
                    <a:pt x="414274" y="195707"/>
                    <a:pt x="408242" y="193739"/>
                    <a:pt x="402527" y="189802"/>
                  </a:cubicBezTo>
                  <a:cubicBezTo>
                    <a:pt x="396812" y="185865"/>
                    <a:pt x="392176" y="180277"/>
                    <a:pt x="388620" y="173038"/>
                  </a:cubicBezTo>
                  <a:cubicBezTo>
                    <a:pt x="385064" y="165799"/>
                    <a:pt x="383286" y="160719"/>
                    <a:pt x="383286" y="157798"/>
                  </a:cubicBezTo>
                  <a:cubicBezTo>
                    <a:pt x="383286" y="154877"/>
                    <a:pt x="384239" y="153416"/>
                    <a:pt x="386144" y="153416"/>
                  </a:cubicBezTo>
                  <a:cubicBezTo>
                    <a:pt x="388049" y="153416"/>
                    <a:pt x="389763" y="154305"/>
                    <a:pt x="391287" y="156083"/>
                  </a:cubicBezTo>
                  <a:cubicBezTo>
                    <a:pt x="392811" y="157861"/>
                    <a:pt x="395161" y="158750"/>
                    <a:pt x="398336" y="158750"/>
                  </a:cubicBezTo>
                  <a:cubicBezTo>
                    <a:pt x="401511" y="158750"/>
                    <a:pt x="406210" y="157544"/>
                    <a:pt x="412433" y="155131"/>
                  </a:cubicBezTo>
                  <a:cubicBezTo>
                    <a:pt x="418656" y="152718"/>
                    <a:pt x="425514" y="149416"/>
                    <a:pt x="433007" y="145225"/>
                  </a:cubicBezTo>
                  <a:cubicBezTo>
                    <a:pt x="440500" y="141034"/>
                    <a:pt x="444627" y="138367"/>
                    <a:pt x="445389" y="137224"/>
                  </a:cubicBezTo>
                  <a:cubicBezTo>
                    <a:pt x="446151" y="136081"/>
                    <a:pt x="446532" y="134620"/>
                    <a:pt x="446532" y="132842"/>
                  </a:cubicBezTo>
                  <a:cubicBezTo>
                    <a:pt x="446532" y="129286"/>
                    <a:pt x="451993" y="127508"/>
                    <a:pt x="462915" y="127508"/>
                  </a:cubicBezTo>
                  <a:close/>
                  <a:moveTo>
                    <a:pt x="255461" y="111125"/>
                  </a:moveTo>
                  <a:cubicBezTo>
                    <a:pt x="253048" y="111125"/>
                    <a:pt x="245999" y="115189"/>
                    <a:pt x="234315" y="123317"/>
                  </a:cubicBezTo>
                  <a:cubicBezTo>
                    <a:pt x="235077" y="130683"/>
                    <a:pt x="235458" y="136970"/>
                    <a:pt x="235458" y="142177"/>
                  </a:cubicBezTo>
                  <a:cubicBezTo>
                    <a:pt x="235458" y="147384"/>
                    <a:pt x="233998" y="151702"/>
                    <a:pt x="231077" y="155131"/>
                  </a:cubicBezTo>
                  <a:cubicBezTo>
                    <a:pt x="228156" y="158560"/>
                    <a:pt x="224917" y="163703"/>
                    <a:pt x="221361" y="170561"/>
                  </a:cubicBezTo>
                  <a:cubicBezTo>
                    <a:pt x="216027" y="181991"/>
                    <a:pt x="205359" y="197866"/>
                    <a:pt x="189357" y="218186"/>
                  </a:cubicBezTo>
                  <a:cubicBezTo>
                    <a:pt x="205867" y="230378"/>
                    <a:pt x="219583" y="236474"/>
                    <a:pt x="230505" y="236474"/>
                  </a:cubicBezTo>
                  <a:cubicBezTo>
                    <a:pt x="235585" y="236474"/>
                    <a:pt x="238887" y="235204"/>
                    <a:pt x="240411" y="232664"/>
                  </a:cubicBezTo>
                  <a:cubicBezTo>
                    <a:pt x="241935" y="230124"/>
                    <a:pt x="244920" y="222187"/>
                    <a:pt x="249365" y="208852"/>
                  </a:cubicBezTo>
                  <a:cubicBezTo>
                    <a:pt x="253810" y="195517"/>
                    <a:pt x="257302" y="180086"/>
                    <a:pt x="259842" y="162560"/>
                  </a:cubicBezTo>
                  <a:cubicBezTo>
                    <a:pt x="262382" y="145034"/>
                    <a:pt x="263652" y="131699"/>
                    <a:pt x="263652" y="122555"/>
                  </a:cubicBezTo>
                  <a:cubicBezTo>
                    <a:pt x="263652" y="118999"/>
                    <a:pt x="262890" y="116205"/>
                    <a:pt x="261366" y="114173"/>
                  </a:cubicBezTo>
                  <a:cubicBezTo>
                    <a:pt x="259842" y="112141"/>
                    <a:pt x="257874" y="111125"/>
                    <a:pt x="255461" y="111125"/>
                  </a:cubicBezTo>
                  <a:close/>
                  <a:moveTo>
                    <a:pt x="981075" y="106553"/>
                  </a:moveTo>
                  <a:cubicBezTo>
                    <a:pt x="972439" y="110363"/>
                    <a:pt x="961898" y="112268"/>
                    <a:pt x="949452" y="112268"/>
                  </a:cubicBezTo>
                  <a:cubicBezTo>
                    <a:pt x="949452" y="120396"/>
                    <a:pt x="949706" y="125603"/>
                    <a:pt x="950214" y="127889"/>
                  </a:cubicBezTo>
                  <a:cubicBezTo>
                    <a:pt x="950722" y="130175"/>
                    <a:pt x="951738" y="131064"/>
                    <a:pt x="953262" y="130556"/>
                  </a:cubicBezTo>
                  <a:cubicBezTo>
                    <a:pt x="962914" y="128270"/>
                    <a:pt x="972312" y="126238"/>
                    <a:pt x="981456" y="124460"/>
                  </a:cubicBezTo>
                  <a:cubicBezTo>
                    <a:pt x="981202" y="119888"/>
                    <a:pt x="981075" y="113919"/>
                    <a:pt x="981075" y="106553"/>
                  </a:cubicBezTo>
                  <a:close/>
                  <a:moveTo>
                    <a:pt x="112205" y="73406"/>
                  </a:moveTo>
                  <a:cubicBezTo>
                    <a:pt x="117412" y="73406"/>
                    <a:pt x="123190" y="76010"/>
                    <a:pt x="129540" y="81217"/>
                  </a:cubicBezTo>
                  <a:cubicBezTo>
                    <a:pt x="135890" y="86424"/>
                    <a:pt x="139065" y="91377"/>
                    <a:pt x="139065" y="96076"/>
                  </a:cubicBezTo>
                  <a:cubicBezTo>
                    <a:pt x="139065" y="100775"/>
                    <a:pt x="137795" y="103886"/>
                    <a:pt x="135255" y="105410"/>
                  </a:cubicBezTo>
                  <a:cubicBezTo>
                    <a:pt x="131445" y="107696"/>
                    <a:pt x="129540" y="113792"/>
                    <a:pt x="129540" y="123698"/>
                  </a:cubicBezTo>
                  <a:lnTo>
                    <a:pt x="129921" y="131699"/>
                  </a:lnTo>
                  <a:cubicBezTo>
                    <a:pt x="129921" y="138049"/>
                    <a:pt x="128461" y="143320"/>
                    <a:pt x="125540" y="147511"/>
                  </a:cubicBezTo>
                  <a:cubicBezTo>
                    <a:pt x="122619" y="151702"/>
                    <a:pt x="120777" y="156083"/>
                    <a:pt x="120015" y="160655"/>
                  </a:cubicBezTo>
                  <a:cubicBezTo>
                    <a:pt x="144907" y="135763"/>
                    <a:pt x="161227" y="119952"/>
                    <a:pt x="168974" y="113221"/>
                  </a:cubicBezTo>
                  <a:cubicBezTo>
                    <a:pt x="176721" y="106490"/>
                    <a:pt x="190564" y="99441"/>
                    <a:pt x="210503" y="92075"/>
                  </a:cubicBezTo>
                  <a:cubicBezTo>
                    <a:pt x="230442" y="84709"/>
                    <a:pt x="243332" y="81026"/>
                    <a:pt x="249174" y="81026"/>
                  </a:cubicBezTo>
                  <a:cubicBezTo>
                    <a:pt x="255016" y="81026"/>
                    <a:pt x="261684" y="82487"/>
                    <a:pt x="269177" y="85408"/>
                  </a:cubicBezTo>
                  <a:cubicBezTo>
                    <a:pt x="276670" y="88329"/>
                    <a:pt x="283401" y="92139"/>
                    <a:pt x="289370" y="96838"/>
                  </a:cubicBezTo>
                  <a:cubicBezTo>
                    <a:pt x="295339" y="101537"/>
                    <a:pt x="299657" y="106045"/>
                    <a:pt x="302324" y="110363"/>
                  </a:cubicBezTo>
                  <a:cubicBezTo>
                    <a:pt x="304991" y="114681"/>
                    <a:pt x="306324" y="118999"/>
                    <a:pt x="306324" y="123317"/>
                  </a:cubicBezTo>
                  <a:cubicBezTo>
                    <a:pt x="306324" y="127635"/>
                    <a:pt x="305181" y="131191"/>
                    <a:pt x="302895" y="133985"/>
                  </a:cubicBezTo>
                  <a:cubicBezTo>
                    <a:pt x="300609" y="136779"/>
                    <a:pt x="298958" y="142113"/>
                    <a:pt x="297942" y="149987"/>
                  </a:cubicBezTo>
                  <a:cubicBezTo>
                    <a:pt x="294894" y="173863"/>
                    <a:pt x="289941" y="195644"/>
                    <a:pt x="283083" y="215329"/>
                  </a:cubicBezTo>
                  <a:cubicBezTo>
                    <a:pt x="276225" y="235014"/>
                    <a:pt x="268605" y="251651"/>
                    <a:pt x="260223" y="265240"/>
                  </a:cubicBezTo>
                  <a:cubicBezTo>
                    <a:pt x="251841" y="278829"/>
                    <a:pt x="246317" y="286639"/>
                    <a:pt x="243650" y="288671"/>
                  </a:cubicBezTo>
                  <a:cubicBezTo>
                    <a:pt x="240983" y="290703"/>
                    <a:pt x="238062" y="291719"/>
                    <a:pt x="234887" y="291719"/>
                  </a:cubicBezTo>
                  <a:cubicBezTo>
                    <a:pt x="231712" y="291719"/>
                    <a:pt x="229489" y="290449"/>
                    <a:pt x="228219" y="287909"/>
                  </a:cubicBezTo>
                  <a:cubicBezTo>
                    <a:pt x="224663" y="281305"/>
                    <a:pt x="220472" y="276225"/>
                    <a:pt x="215646" y="272669"/>
                  </a:cubicBezTo>
                  <a:cubicBezTo>
                    <a:pt x="204978" y="265049"/>
                    <a:pt x="193040" y="250698"/>
                    <a:pt x="179832" y="229616"/>
                  </a:cubicBezTo>
                  <a:cubicBezTo>
                    <a:pt x="163322" y="246380"/>
                    <a:pt x="151638" y="254762"/>
                    <a:pt x="144780" y="254762"/>
                  </a:cubicBezTo>
                  <a:cubicBezTo>
                    <a:pt x="140970" y="254762"/>
                    <a:pt x="139065" y="253365"/>
                    <a:pt x="139065" y="250571"/>
                  </a:cubicBezTo>
                  <a:cubicBezTo>
                    <a:pt x="139065" y="247777"/>
                    <a:pt x="140843" y="244602"/>
                    <a:pt x="144399" y="241046"/>
                  </a:cubicBezTo>
                  <a:cubicBezTo>
                    <a:pt x="159893" y="225044"/>
                    <a:pt x="172657" y="206693"/>
                    <a:pt x="182690" y="185992"/>
                  </a:cubicBezTo>
                  <a:cubicBezTo>
                    <a:pt x="192723" y="165291"/>
                    <a:pt x="197739" y="151511"/>
                    <a:pt x="197739" y="144653"/>
                  </a:cubicBezTo>
                  <a:cubicBezTo>
                    <a:pt x="197739" y="141097"/>
                    <a:pt x="196215" y="138684"/>
                    <a:pt x="193167" y="137414"/>
                  </a:cubicBezTo>
                  <a:cubicBezTo>
                    <a:pt x="189357" y="138176"/>
                    <a:pt x="186500" y="138557"/>
                    <a:pt x="184595" y="138557"/>
                  </a:cubicBezTo>
                  <a:cubicBezTo>
                    <a:pt x="182690" y="138557"/>
                    <a:pt x="180594" y="138049"/>
                    <a:pt x="178308" y="137033"/>
                  </a:cubicBezTo>
                  <a:cubicBezTo>
                    <a:pt x="173228" y="137033"/>
                    <a:pt x="166942" y="139891"/>
                    <a:pt x="159449" y="145606"/>
                  </a:cubicBezTo>
                  <a:cubicBezTo>
                    <a:pt x="151956" y="151321"/>
                    <a:pt x="144590" y="159131"/>
                    <a:pt x="137351" y="169037"/>
                  </a:cubicBezTo>
                  <a:cubicBezTo>
                    <a:pt x="130112" y="178943"/>
                    <a:pt x="123063" y="186309"/>
                    <a:pt x="116205" y="191135"/>
                  </a:cubicBezTo>
                  <a:cubicBezTo>
                    <a:pt x="113919" y="201295"/>
                    <a:pt x="112776" y="209487"/>
                    <a:pt x="112776" y="215710"/>
                  </a:cubicBezTo>
                  <a:cubicBezTo>
                    <a:pt x="112776" y="221933"/>
                    <a:pt x="113221" y="228219"/>
                    <a:pt x="114110" y="234569"/>
                  </a:cubicBezTo>
                  <a:cubicBezTo>
                    <a:pt x="114999" y="240919"/>
                    <a:pt x="115316" y="247396"/>
                    <a:pt x="115062" y="254000"/>
                  </a:cubicBezTo>
                  <a:lnTo>
                    <a:pt x="114681" y="263144"/>
                  </a:lnTo>
                  <a:cubicBezTo>
                    <a:pt x="114681" y="271018"/>
                    <a:pt x="115189" y="276606"/>
                    <a:pt x="116205" y="279908"/>
                  </a:cubicBezTo>
                  <a:cubicBezTo>
                    <a:pt x="117221" y="283210"/>
                    <a:pt x="117729" y="285369"/>
                    <a:pt x="117729" y="286385"/>
                  </a:cubicBezTo>
                  <a:cubicBezTo>
                    <a:pt x="117729" y="289687"/>
                    <a:pt x="116523" y="291338"/>
                    <a:pt x="114110" y="291338"/>
                  </a:cubicBezTo>
                  <a:cubicBezTo>
                    <a:pt x="111697" y="291338"/>
                    <a:pt x="107887" y="287846"/>
                    <a:pt x="102680" y="280861"/>
                  </a:cubicBezTo>
                  <a:cubicBezTo>
                    <a:pt x="97473" y="273876"/>
                    <a:pt x="94234" y="268732"/>
                    <a:pt x="92964" y="265430"/>
                  </a:cubicBezTo>
                  <a:cubicBezTo>
                    <a:pt x="91694" y="262128"/>
                    <a:pt x="91059" y="255397"/>
                    <a:pt x="91059" y="245237"/>
                  </a:cubicBezTo>
                  <a:cubicBezTo>
                    <a:pt x="91059" y="235077"/>
                    <a:pt x="91186" y="222758"/>
                    <a:pt x="91440" y="208280"/>
                  </a:cubicBezTo>
                  <a:cubicBezTo>
                    <a:pt x="85090" y="212598"/>
                    <a:pt x="78867" y="218504"/>
                    <a:pt x="72771" y="225997"/>
                  </a:cubicBezTo>
                  <a:cubicBezTo>
                    <a:pt x="66675" y="233490"/>
                    <a:pt x="63373" y="238379"/>
                    <a:pt x="62865" y="240665"/>
                  </a:cubicBezTo>
                  <a:cubicBezTo>
                    <a:pt x="61849" y="244729"/>
                    <a:pt x="59373" y="246761"/>
                    <a:pt x="55436" y="246761"/>
                  </a:cubicBezTo>
                  <a:cubicBezTo>
                    <a:pt x="51499" y="246761"/>
                    <a:pt x="46736" y="243840"/>
                    <a:pt x="41148" y="237998"/>
                  </a:cubicBezTo>
                  <a:cubicBezTo>
                    <a:pt x="35560" y="232156"/>
                    <a:pt x="32766" y="227076"/>
                    <a:pt x="32766" y="222758"/>
                  </a:cubicBezTo>
                  <a:cubicBezTo>
                    <a:pt x="32766" y="217170"/>
                    <a:pt x="37719" y="212027"/>
                    <a:pt x="47625" y="207328"/>
                  </a:cubicBezTo>
                  <a:cubicBezTo>
                    <a:pt x="57531" y="202629"/>
                    <a:pt x="68072" y="192088"/>
                    <a:pt x="79248" y="175705"/>
                  </a:cubicBezTo>
                  <a:cubicBezTo>
                    <a:pt x="90424" y="159322"/>
                    <a:pt x="96012" y="145669"/>
                    <a:pt x="96012" y="134747"/>
                  </a:cubicBezTo>
                  <a:cubicBezTo>
                    <a:pt x="96012" y="132461"/>
                    <a:pt x="95758" y="130429"/>
                    <a:pt x="95250" y="128651"/>
                  </a:cubicBezTo>
                  <a:cubicBezTo>
                    <a:pt x="87376" y="137795"/>
                    <a:pt x="80328" y="144780"/>
                    <a:pt x="74105" y="149606"/>
                  </a:cubicBezTo>
                  <a:cubicBezTo>
                    <a:pt x="67882" y="154432"/>
                    <a:pt x="61849" y="156845"/>
                    <a:pt x="56007" y="156845"/>
                  </a:cubicBezTo>
                  <a:cubicBezTo>
                    <a:pt x="50165" y="156845"/>
                    <a:pt x="42228" y="154686"/>
                    <a:pt x="32195" y="150368"/>
                  </a:cubicBezTo>
                  <a:cubicBezTo>
                    <a:pt x="22162" y="146050"/>
                    <a:pt x="14288" y="141097"/>
                    <a:pt x="8573" y="135509"/>
                  </a:cubicBezTo>
                  <a:cubicBezTo>
                    <a:pt x="2858" y="129921"/>
                    <a:pt x="0" y="126238"/>
                    <a:pt x="0" y="124460"/>
                  </a:cubicBezTo>
                  <a:cubicBezTo>
                    <a:pt x="0" y="122682"/>
                    <a:pt x="381" y="121793"/>
                    <a:pt x="1143" y="121793"/>
                  </a:cubicBezTo>
                  <a:cubicBezTo>
                    <a:pt x="1905" y="121793"/>
                    <a:pt x="2667" y="122047"/>
                    <a:pt x="3429" y="122555"/>
                  </a:cubicBezTo>
                  <a:cubicBezTo>
                    <a:pt x="9017" y="125603"/>
                    <a:pt x="15431" y="127127"/>
                    <a:pt x="22670" y="127127"/>
                  </a:cubicBezTo>
                  <a:cubicBezTo>
                    <a:pt x="29909" y="127127"/>
                    <a:pt x="43561" y="121095"/>
                    <a:pt x="63627" y="109030"/>
                  </a:cubicBezTo>
                  <a:cubicBezTo>
                    <a:pt x="83693" y="96965"/>
                    <a:pt x="94107" y="88138"/>
                    <a:pt x="94869" y="82550"/>
                  </a:cubicBezTo>
                  <a:cubicBezTo>
                    <a:pt x="95123" y="79756"/>
                    <a:pt x="96774" y="77534"/>
                    <a:pt x="99822" y="75883"/>
                  </a:cubicBezTo>
                  <a:cubicBezTo>
                    <a:pt x="102870" y="74232"/>
                    <a:pt x="106998" y="73406"/>
                    <a:pt x="112205" y="73406"/>
                  </a:cubicBezTo>
                  <a:close/>
                  <a:moveTo>
                    <a:pt x="976503" y="63881"/>
                  </a:moveTo>
                  <a:cubicBezTo>
                    <a:pt x="966851" y="66929"/>
                    <a:pt x="956818" y="68707"/>
                    <a:pt x="946404" y="69215"/>
                  </a:cubicBezTo>
                  <a:cubicBezTo>
                    <a:pt x="948436" y="74803"/>
                    <a:pt x="950087" y="81280"/>
                    <a:pt x="951357" y="88646"/>
                  </a:cubicBezTo>
                  <a:cubicBezTo>
                    <a:pt x="957961" y="85598"/>
                    <a:pt x="968375" y="82677"/>
                    <a:pt x="982599" y="79883"/>
                  </a:cubicBezTo>
                  <a:cubicBezTo>
                    <a:pt x="982091" y="72771"/>
                    <a:pt x="980059" y="67437"/>
                    <a:pt x="976503" y="63881"/>
                  </a:cubicBezTo>
                  <a:close/>
                  <a:moveTo>
                    <a:pt x="1030415" y="43307"/>
                  </a:moveTo>
                  <a:cubicBezTo>
                    <a:pt x="1025716" y="43307"/>
                    <a:pt x="1017270" y="47244"/>
                    <a:pt x="1005078" y="55118"/>
                  </a:cubicBezTo>
                  <a:cubicBezTo>
                    <a:pt x="1008380" y="59944"/>
                    <a:pt x="1010158" y="65659"/>
                    <a:pt x="1010412" y="72263"/>
                  </a:cubicBezTo>
                  <a:cubicBezTo>
                    <a:pt x="1017270" y="72771"/>
                    <a:pt x="1022604" y="74359"/>
                    <a:pt x="1026414" y="77026"/>
                  </a:cubicBezTo>
                  <a:cubicBezTo>
                    <a:pt x="1030224" y="79693"/>
                    <a:pt x="1032129" y="82360"/>
                    <a:pt x="1032129" y="85027"/>
                  </a:cubicBezTo>
                  <a:cubicBezTo>
                    <a:pt x="1032129" y="87694"/>
                    <a:pt x="1030288" y="90297"/>
                    <a:pt x="1026605" y="92837"/>
                  </a:cubicBezTo>
                  <a:cubicBezTo>
                    <a:pt x="1022922" y="95377"/>
                    <a:pt x="1017524" y="97409"/>
                    <a:pt x="1010412" y="98933"/>
                  </a:cubicBezTo>
                  <a:cubicBezTo>
                    <a:pt x="1009650" y="105283"/>
                    <a:pt x="1009269" y="111506"/>
                    <a:pt x="1009269" y="117602"/>
                  </a:cubicBezTo>
                  <a:cubicBezTo>
                    <a:pt x="1017397" y="116840"/>
                    <a:pt x="1023112" y="114110"/>
                    <a:pt x="1026414" y="109411"/>
                  </a:cubicBezTo>
                  <a:cubicBezTo>
                    <a:pt x="1029716" y="104712"/>
                    <a:pt x="1033209" y="96520"/>
                    <a:pt x="1036892" y="84836"/>
                  </a:cubicBezTo>
                  <a:cubicBezTo>
                    <a:pt x="1040575" y="73152"/>
                    <a:pt x="1042416" y="65469"/>
                    <a:pt x="1042416" y="61786"/>
                  </a:cubicBezTo>
                  <a:cubicBezTo>
                    <a:pt x="1042416" y="58103"/>
                    <a:pt x="1041591" y="54102"/>
                    <a:pt x="1039940" y="49784"/>
                  </a:cubicBezTo>
                  <a:cubicBezTo>
                    <a:pt x="1038289" y="45466"/>
                    <a:pt x="1035114" y="43307"/>
                    <a:pt x="1030415" y="43307"/>
                  </a:cubicBezTo>
                  <a:close/>
                  <a:moveTo>
                    <a:pt x="452104" y="39878"/>
                  </a:moveTo>
                  <a:cubicBezTo>
                    <a:pt x="453025" y="39624"/>
                    <a:pt x="454406" y="39751"/>
                    <a:pt x="456248" y="40259"/>
                  </a:cubicBezTo>
                  <a:cubicBezTo>
                    <a:pt x="459931" y="41275"/>
                    <a:pt x="463169" y="41783"/>
                    <a:pt x="465963" y="41783"/>
                  </a:cubicBezTo>
                  <a:lnTo>
                    <a:pt x="478155" y="40640"/>
                  </a:lnTo>
                  <a:cubicBezTo>
                    <a:pt x="488061" y="40640"/>
                    <a:pt x="497396" y="43752"/>
                    <a:pt x="506159" y="49975"/>
                  </a:cubicBezTo>
                  <a:cubicBezTo>
                    <a:pt x="514922" y="56198"/>
                    <a:pt x="519303" y="63500"/>
                    <a:pt x="519303" y="71882"/>
                  </a:cubicBezTo>
                  <a:cubicBezTo>
                    <a:pt x="519303" y="75692"/>
                    <a:pt x="517970" y="78994"/>
                    <a:pt x="515303" y="81788"/>
                  </a:cubicBezTo>
                  <a:cubicBezTo>
                    <a:pt x="512636" y="84582"/>
                    <a:pt x="509143" y="85979"/>
                    <a:pt x="504825" y="85979"/>
                  </a:cubicBezTo>
                  <a:lnTo>
                    <a:pt x="496062" y="84836"/>
                  </a:lnTo>
                  <a:cubicBezTo>
                    <a:pt x="490728" y="84836"/>
                    <a:pt x="485585" y="87249"/>
                    <a:pt x="480632" y="92075"/>
                  </a:cubicBezTo>
                  <a:cubicBezTo>
                    <a:pt x="475679" y="96901"/>
                    <a:pt x="467233" y="101092"/>
                    <a:pt x="455295" y="104648"/>
                  </a:cubicBezTo>
                  <a:cubicBezTo>
                    <a:pt x="443357" y="108204"/>
                    <a:pt x="436118" y="109982"/>
                    <a:pt x="433578" y="109982"/>
                  </a:cubicBezTo>
                  <a:cubicBezTo>
                    <a:pt x="431038" y="109982"/>
                    <a:pt x="429768" y="109601"/>
                    <a:pt x="429768" y="108839"/>
                  </a:cubicBezTo>
                  <a:cubicBezTo>
                    <a:pt x="429768" y="108077"/>
                    <a:pt x="430403" y="107188"/>
                    <a:pt x="431673" y="106172"/>
                  </a:cubicBezTo>
                  <a:cubicBezTo>
                    <a:pt x="436499" y="102616"/>
                    <a:pt x="443294" y="96774"/>
                    <a:pt x="452057" y="88646"/>
                  </a:cubicBezTo>
                  <a:cubicBezTo>
                    <a:pt x="460820" y="80518"/>
                    <a:pt x="465709" y="75756"/>
                    <a:pt x="466725" y="74359"/>
                  </a:cubicBezTo>
                  <a:cubicBezTo>
                    <a:pt x="467741" y="72962"/>
                    <a:pt x="468249" y="71501"/>
                    <a:pt x="468249" y="69977"/>
                  </a:cubicBezTo>
                  <a:cubicBezTo>
                    <a:pt x="468249" y="66929"/>
                    <a:pt x="463550" y="59817"/>
                    <a:pt x="454152" y="48641"/>
                  </a:cubicBezTo>
                  <a:cubicBezTo>
                    <a:pt x="451866" y="46101"/>
                    <a:pt x="450723" y="43815"/>
                    <a:pt x="450723" y="41783"/>
                  </a:cubicBezTo>
                  <a:cubicBezTo>
                    <a:pt x="450723" y="40767"/>
                    <a:pt x="451184" y="40132"/>
                    <a:pt x="452104" y="39878"/>
                  </a:cubicBezTo>
                  <a:close/>
                  <a:moveTo>
                    <a:pt x="868680" y="15494"/>
                  </a:moveTo>
                  <a:cubicBezTo>
                    <a:pt x="883158" y="15494"/>
                    <a:pt x="894525" y="19558"/>
                    <a:pt x="902780" y="27686"/>
                  </a:cubicBezTo>
                  <a:cubicBezTo>
                    <a:pt x="911035" y="35814"/>
                    <a:pt x="915162" y="42355"/>
                    <a:pt x="915162" y="47308"/>
                  </a:cubicBezTo>
                  <a:cubicBezTo>
                    <a:pt x="915162" y="52261"/>
                    <a:pt x="913575" y="56388"/>
                    <a:pt x="910400" y="59690"/>
                  </a:cubicBezTo>
                  <a:cubicBezTo>
                    <a:pt x="907225" y="62992"/>
                    <a:pt x="903732" y="64643"/>
                    <a:pt x="899922" y="64643"/>
                  </a:cubicBezTo>
                  <a:cubicBezTo>
                    <a:pt x="898652" y="64643"/>
                    <a:pt x="896938" y="64326"/>
                    <a:pt x="894779" y="63691"/>
                  </a:cubicBezTo>
                  <a:cubicBezTo>
                    <a:pt x="892620" y="63056"/>
                    <a:pt x="890461" y="62738"/>
                    <a:pt x="888302" y="62738"/>
                  </a:cubicBezTo>
                  <a:cubicBezTo>
                    <a:pt x="886143" y="62738"/>
                    <a:pt x="883412" y="63500"/>
                    <a:pt x="880110" y="65024"/>
                  </a:cubicBezTo>
                  <a:cubicBezTo>
                    <a:pt x="876808" y="66548"/>
                    <a:pt x="870903" y="69977"/>
                    <a:pt x="862394" y="75311"/>
                  </a:cubicBezTo>
                  <a:cubicBezTo>
                    <a:pt x="853885" y="80645"/>
                    <a:pt x="848424" y="83757"/>
                    <a:pt x="846011" y="84646"/>
                  </a:cubicBezTo>
                  <a:cubicBezTo>
                    <a:pt x="843598" y="85535"/>
                    <a:pt x="840740" y="85979"/>
                    <a:pt x="837438" y="85979"/>
                  </a:cubicBezTo>
                  <a:cubicBezTo>
                    <a:pt x="829056" y="85979"/>
                    <a:pt x="819087" y="91567"/>
                    <a:pt x="807530" y="102743"/>
                  </a:cubicBezTo>
                  <a:cubicBezTo>
                    <a:pt x="795973" y="113919"/>
                    <a:pt x="790194" y="124587"/>
                    <a:pt x="790194" y="134747"/>
                  </a:cubicBezTo>
                  <a:cubicBezTo>
                    <a:pt x="790194" y="139319"/>
                    <a:pt x="791464" y="141605"/>
                    <a:pt x="794004" y="141605"/>
                  </a:cubicBezTo>
                  <a:cubicBezTo>
                    <a:pt x="799084" y="141605"/>
                    <a:pt x="807657" y="137668"/>
                    <a:pt x="819722" y="129794"/>
                  </a:cubicBezTo>
                  <a:cubicBezTo>
                    <a:pt x="831787" y="121920"/>
                    <a:pt x="840105" y="114808"/>
                    <a:pt x="844677" y="108458"/>
                  </a:cubicBezTo>
                  <a:cubicBezTo>
                    <a:pt x="847471" y="104394"/>
                    <a:pt x="853440" y="102362"/>
                    <a:pt x="862584" y="102362"/>
                  </a:cubicBezTo>
                  <a:cubicBezTo>
                    <a:pt x="880364" y="102362"/>
                    <a:pt x="889254" y="110363"/>
                    <a:pt x="889254" y="126365"/>
                  </a:cubicBezTo>
                  <a:cubicBezTo>
                    <a:pt x="889254" y="129667"/>
                    <a:pt x="888746" y="132969"/>
                    <a:pt x="887730" y="136271"/>
                  </a:cubicBezTo>
                  <a:cubicBezTo>
                    <a:pt x="879348" y="162687"/>
                    <a:pt x="874459" y="180467"/>
                    <a:pt x="873062" y="189611"/>
                  </a:cubicBezTo>
                  <a:cubicBezTo>
                    <a:pt x="871665" y="198755"/>
                    <a:pt x="870966" y="207836"/>
                    <a:pt x="870966" y="216853"/>
                  </a:cubicBezTo>
                  <a:cubicBezTo>
                    <a:pt x="870966" y="225870"/>
                    <a:pt x="871093" y="230823"/>
                    <a:pt x="871347" y="231712"/>
                  </a:cubicBezTo>
                  <a:cubicBezTo>
                    <a:pt x="871601" y="232601"/>
                    <a:pt x="872046" y="233045"/>
                    <a:pt x="872681" y="233045"/>
                  </a:cubicBezTo>
                  <a:cubicBezTo>
                    <a:pt x="873316" y="233045"/>
                    <a:pt x="873887" y="232664"/>
                    <a:pt x="874395" y="231902"/>
                  </a:cubicBezTo>
                  <a:cubicBezTo>
                    <a:pt x="874903" y="231140"/>
                    <a:pt x="877634" y="225870"/>
                    <a:pt x="882587" y="216091"/>
                  </a:cubicBezTo>
                  <a:cubicBezTo>
                    <a:pt x="887540" y="206312"/>
                    <a:pt x="892620" y="195136"/>
                    <a:pt x="897827" y="182563"/>
                  </a:cubicBezTo>
                  <a:cubicBezTo>
                    <a:pt x="903034" y="169990"/>
                    <a:pt x="909066" y="158496"/>
                    <a:pt x="915924" y="148082"/>
                  </a:cubicBezTo>
                  <a:cubicBezTo>
                    <a:pt x="913384" y="157480"/>
                    <a:pt x="911225" y="168656"/>
                    <a:pt x="909447" y="181610"/>
                  </a:cubicBezTo>
                  <a:cubicBezTo>
                    <a:pt x="933577" y="173228"/>
                    <a:pt x="958342" y="166497"/>
                    <a:pt x="983742" y="161417"/>
                  </a:cubicBezTo>
                  <a:lnTo>
                    <a:pt x="982980" y="147320"/>
                  </a:lnTo>
                  <a:cubicBezTo>
                    <a:pt x="971804" y="148844"/>
                    <a:pt x="963295" y="150559"/>
                    <a:pt x="957453" y="152464"/>
                  </a:cubicBezTo>
                  <a:cubicBezTo>
                    <a:pt x="951611" y="154369"/>
                    <a:pt x="947928" y="155321"/>
                    <a:pt x="946404" y="155321"/>
                  </a:cubicBezTo>
                  <a:cubicBezTo>
                    <a:pt x="939546" y="155321"/>
                    <a:pt x="933768" y="149733"/>
                    <a:pt x="929069" y="138557"/>
                  </a:cubicBezTo>
                  <a:cubicBezTo>
                    <a:pt x="924370" y="127381"/>
                    <a:pt x="921766" y="113665"/>
                    <a:pt x="921258" y="97409"/>
                  </a:cubicBezTo>
                  <a:cubicBezTo>
                    <a:pt x="921004" y="89281"/>
                    <a:pt x="919417" y="83185"/>
                    <a:pt x="916496" y="79121"/>
                  </a:cubicBezTo>
                  <a:cubicBezTo>
                    <a:pt x="913575" y="75057"/>
                    <a:pt x="912114" y="72073"/>
                    <a:pt x="912114" y="70168"/>
                  </a:cubicBezTo>
                  <a:cubicBezTo>
                    <a:pt x="912114" y="68263"/>
                    <a:pt x="912686" y="65469"/>
                    <a:pt x="913829" y="61786"/>
                  </a:cubicBezTo>
                  <a:cubicBezTo>
                    <a:pt x="914972" y="58103"/>
                    <a:pt x="915924" y="55880"/>
                    <a:pt x="916686" y="55118"/>
                  </a:cubicBezTo>
                  <a:cubicBezTo>
                    <a:pt x="917448" y="54356"/>
                    <a:pt x="918972" y="53975"/>
                    <a:pt x="921258" y="53975"/>
                  </a:cubicBezTo>
                  <a:cubicBezTo>
                    <a:pt x="923544" y="53975"/>
                    <a:pt x="929005" y="54864"/>
                    <a:pt x="937641" y="56642"/>
                  </a:cubicBezTo>
                  <a:cubicBezTo>
                    <a:pt x="951611" y="46228"/>
                    <a:pt x="968375" y="38545"/>
                    <a:pt x="987933" y="33592"/>
                  </a:cubicBezTo>
                  <a:cubicBezTo>
                    <a:pt x="1007491" y="28639"/>
                    <a:pt x="1020826" y="26162"/>
                    <a:pt x="1027938" y="26162"/>
                  </a:cubicBezTo>
                  <a:cubicBezTo>
                    <a:pt x="1039622" y="26162"/>
                    <a:pt x="1051941" y="30925"/>
                    <a:pt x="1064895" y="40450"/>
                  </a:cubicBezTo>
                  <a:cubicBezTo>
                    <a:pt x="1077849" y="49975"/>
                    <a:pt x="1084326" y="59309"/>
                    <a:pt x="1084326" y="68453"/>
                  </a:cubicBezTo>
                  <a:cubicBezTo>
                    <a:pt x="1084326" y="70739"/>
                    <a:pt x="1083882" y="73025"/>
                    <a:pt x="1082993" y="75311"/>
                  </a:cubicBezTo>
                  <a:cubicBezTo>
                    <a:pt x="1082104" y="77597"/>
                    <a:pt x="1078675" y="83439"/>
                    <a:pt x="1072706" y="92837"/>
                  </a:cubicBezTo>
                  <a:cubicBezTo>
                    <a:pt x="1066737" y="102235"/>
                    <a:pt x="1061593" y="108966"/>
                    <a:pt x="1057275" y="113030"/>
                  </a:cubicBezTo>
                  <a:cubicBezTo>
                    <a:pt x="1052957" y="117094"/>
                    <a:pt x="1047750" y="121539"/>
                    <a:pt x="1041654" y="126365"/>
                  </a:cubicBezTo>
                  <a:cubicBezTo>
                    <a:pt x="1042162" y="136525"/>
                    <a:pt x="1034669" y="141605"/>
                    <a:pt x="1019175" y="141605"/>
                  </a:cubicBezTo>
                  <a:cubicBezTo>
                    <a:pt x="1014349" y="141605"/>
                    <a:pt x="1010666" y="141986"/>
                    <a:pt x="1008126" y="142748"/>
                  </a:cubicBezTo>
                  <a:lnTo>
                    <a:pt x="1008126" y="157607"/>
                  </a:lnTo>
                  <a:cubicBezTo>
                    <a:pt x="1027176" y="155321"/>
                    <a:pt x="1040003" y="154178"/>
                    <a:pt x="1046607" y="154178"/>
                  </a:cubicBezTo>
                  <a:cubicBezTo>
                    <a:pt x="1053211" y="154178"/>
                    <a:pt x="1060704" y="156655"/>
                    <a:pt x="1069086" y="161608"/>
                  </a:cubicBezTo>
                  <a:cubicBezTo>
                    <a:pt x="1077468" y="166561"/>
                    <a:pt x="1081659" y="170752"/>
                    <a:pt x="1081659" y="174181"/>
                  </a:cubicBezTo>
                  <a:cubicBezTo>
                    <a:pt x="1081659" y="177610"/>
                    <a:pt x="1080262" y="180467"/>
                    <a:pt x="1077468" y="182753"/>
                  </a:cubicBezTo>
                  <a:cubicBezTo>
                    <a:pt x="1074674" y="185039"/>
                    <a:pt x="1071436" y="186182"/>
                    <a:pt x="1067753" y="186182"/>
                  </a:cubicBezTo>
                  <a:cubicBezTo>
                    <a:pt x="1064070" y="186182"/>
                    <a:pt x="1060450" y="185674"/>
                    <a:pt x="1056894" y="184658"/>
                  </a:cubicBezTo>
                  <a:cubicBezTo>
                    <a:pt x="1041908" y="180086"/>
                    <a:pt x="1028700" y="177800"/>
                    <a:pt x="1017270" y="177800"/>
                  </a:cubicBezTo>
                  <a:cubicBezTo>
                    <a:pt x="1013968" y="177800"/>
                    <a:pt x="1011174" y="178054"/>
                    <a:pt x="1008888" y="178562"/>
                  </a:cubicBezTo>
                  <a:cubicBezTo>
                    <a:pt x="1009396" y="189484"/>
                    <a:pt x="1010031" y="198374"/>
                    <a:pt x="1010793" y="205232"/>
                  </a:cubicBezTo>
                  <a:cubicBezTo>
                    <a:pt x="1024255" y="208280"/>
                    <a:pt x="1036130" y="209868"/>
                    <a:pt x="1046417" y="209995"/>
                  </a:cubicBezTo>
                  <a:cubicBezTo>
                    <a:pt x="1056704" y="210122"/>
                    <a:pt x="1066038" y="213741"/>
                    <a:pt x="1074420" y="220853"/>
                  </a:cubicBezTo>
                  <a:cubicBezTo>
                    <a:pt x="1082802" y="227965"/>
                    <a:pt x="1086993" y="235204"/>
                    <a:pt x="1086993" y="242570"/>
                  </a:cubicBezTo>
                  <a:cubicBezTo>
                    <a:pt x="1086993" y="247396"/>
                    <a:pt x="1085723" y="251968"/>
                    <a:pt x="1083183" y="256286"/>
                  </a:cubicBezTo>
                  <a:cubicBezTo>
                    <a:pt x="1080643" y="260604"/>
                    <a:pt x="1076579" y="262763"/>
                    <a:pt x="1070991" y="262763"/>
                  </a:cubicBezTo>
                  <a:cubicBezTo>
                    <a:pt x="1061847" y="262763"/>
                    <a:pt x="1049655" y="250698"/>
                    <a:pt x="1034415" y="226568"/>
                  </a:cubicBezTo>
                  <a:cubicBezTo>
                    <a:pt x="1026795" y="214630"/>
                    <a:pt x="1018921" y="208534"/>
                    <a:pt x="1010793" y="208280"/>
                  </a:cubicBezTo>
                  <a:cubicBezTo>
                    <a:pt x="1011809" y="221234"/>
                    <a:pt x="1012317" y="232156"/>
                    <a:pt x="1012317" y="241046"/>
                  </a:cubicBezTo>
                  <a:cubicBezTo>
                    <a:pt x="1012317" y="259334"/>
                    <a:pt x="1009841" y="273431"/>
                    <a:pt x="1004888" y="283337"/>
                  </a:cubicBezTo>
                  <a:cubicBezTo>
                    <a:pt x="999935" y="293243"/>
                    <a:pt x="995172" y="298196"/>
                    <a:pt x="990600" y="298196"/>
                  </a:cubicBezTo>
                  <a:cubicBezTo>
                    <a:pt x="988822" y="298196"/>
                    <a:pt x="987425" y="297434"/>
                    <a:pt x="986409" y="295910"/>
                  </a:cubicBezTo>
                  <a:cubicBezTo>
                    <a:pt x="980567" y="287528"/>
                    <a:pt x="975043" y="280861"/>
                    <a:pt x="969836" y="275908"/>
                  </a:cubicBezTo>
                  <a:cubicBezTo>
                    <a:pt x="964629" y="270955"/>
                    <a:pt x="960438" y="266256"/>
                    <a:pt x="957263" y="261811"/>
                  </a:cubicBezTo>
                  <a:cubicBezTo>
                    <a:pt x="954088" y="257366"/>
                    <a:pt x="950722" y="250952"/>
                    <a:pt x="947166" y="242570"/>
                  </a:cubicBezTo>
                  <a:cubicBezTo>
                    <a:pt x="941324" y="245872"/>
                    <a:pt x="937197" y="248793"/>
                    <a:pt x="934784" y="251333"/>
                  </a:cubicBezTo>
                  <a:cubicBezTo>
                    <a:pt x="932371" y="253873"/>
                    <a:pt x="929577" y="258255"/>
                    <a:pt x="926402" y="264478"/>
                  </a:cubicBezTo>
                  <a:cubicBezTo>
                    <a:pt x="923227" y="270701"/>
                    <a:pt x="920179" y="273812"/>
                    <a:pt x="917258" y="273812"/>
                  </a:cubicBezTo>
                  <a:cubicBezTo>
                    <a:pt x="914337" y="273812"/>
                    <a:pt x="911924" y="270701"/>
                    <a:pt x="910019" y="264478"/>
                  </a:cubicBezTo>
                  <a:cubicBezTo>
                    <a:pt x="908114" y="258255"/>
                    <a:pt x="907161" y="251968"/>
                    <a:pt x="907161" y="245618"/>
                  </a:cubicBezTo>
                  <a:cubicBezTo>
                    <a:pt x="907161" y="239268"/>
                    <a:pt x="908050" y="234379"/>
                    <a:pt x="909828" y="230950"/>
                  </a:cubicBezTo>
                  <a:cubicBezTo>
                    <a:pt x="911606" y="227521"/>
                    <a:pt x="912940" y="223266"/>
                    <a:pt x="913829" y="218186"/>
                  </a:cubicBezTo>
                  <a:cubicBezTo>
                    <a:pt x="914718" y="213106"/>
                    <a:pt x="916369" y="209487"/>
                    <a:pt x="918782" y="207328"/>
                  </a:cubicBezTo>
                  <a:cubicBezTo>
                    <a:pt x="921195" y="205169"/>
                    <a:pt x="923481" y="204089"/>
                    <a:pt x="925640" y="204089"/>
                  </a:cubicBezTo>
                  <a:cubicBezTo>
                    <a:pt x="927799" y="204089"/>
                    <a:pt x="930148" y="207137"/>
                    <a:pt x="932688" y="213233"/>
                  </a:cubicBezTo>
                  <a:cubicBezTo>
                    <a:pt x="930656" y="213487"/>
                    <a:pt x="929640" y="214757"/>
                    <a:pt x="929640" y="217043"/>
                  </a:cubicBezTo>
                  <a:cubicBezTo>
                    <a:pt x="929640" y="223393"/>
                    <a:pt x="930593" y="226568"/>
                    <a:pt x="932498" y="226568"/>
                  </a:cubicBezTo>
                  <a:cubicBezTo>
                    <a:pt x="934403" y="226568"/>
                    <a:pt x="936625" y="225806"/>
                    <a:pt x="939165" y="224282"/>
                  </a:cubicBezTo>
                  <a:cubicBezTo>
                    <a:pt x="937133" y="220472"/>
                    <a:pt x="935863" y="216916"/>
                    <a:pt x="935355" y="213614"/>
                  </a:cubicBezTo>
                  <a:cubicBezTo>
                    <a:pt x="939419" y="218186"/>
                    <a:pt x="942340" y="221234"/>
                    <a:pt x="944118" y="222758"/>
                  </a:cubicBezTo>
                  <a:cubicBezTo>
                    <a:pt x="962914" y="213868"/>
                    <a:pt x="976249" y="208788"/>
                    <a:pt x="984123" y="207518"/>
                  </a:cubicBezTo>
                  <a:cubicBezTo>
                    <a:pt x="984377" y="197358"/>
                    <a:pt x="984377" y="189230"/>
                    <a:pt x="984123" y="183134"/>
                  </a:cubicBezTo>
                  <a:cubicBezTo>
                    <a:pt x="971169" y="185928"/>
                    <a:pt x="953770" y="191389"/>
                    <a:pt x="931926" y="199517"/>
                  </a:cubicBezTo>
                  <a:cubicBezTo>
                    <a:pt x="925830" y="201803"/>
                    <a:pt x="920560" y="202946"/>
                    <a:pt x="916115" y="202946"/>
                  </a:cubicBezTo>
                  <a:cubicBezTo>
                    <a:pt x="911670" y="202946"/>
                    <a:pt x="907288" y="201803"/>
                    <a:pt x="902970" y="199517"/>
                  </a:cubicBezTo>
                  <a:cubicBezTo>
                    <a:pt x="898906" y="208407"/>
                    <a:pt x="896239" y="217107"/>
                    <a:pt x="894969" y="225616"/>
                  </a:cubicBezTo>
                  <a:cubicBezTo>
                    <a:pt x="893699" y="234125"/>
                    <a:pt x="890778" y="242697"/>
                    <a:pt x="886206" y="251333"/>
                  </a:cubicBezTo>
                  <a:cubicBezTo>
                    <a:pt x="883158" y="257175"/>
                    <a:pt x="881634" y="266065"/>
                    <a:pt x="881634" y="278003"/>
                  </a:cubicBezTo>
                  <a:cubicBezTo>
                    <a:pt x="881634" y="283337"/>
                    <a:pt x="880110" y="286004"/>
                    <a:pt x="877062" y="286004"/>
                  </a:cubicBezTo>
                  <a:cubicBezTo>
                    <a:pt x="871982" y="286004"/>
                    <a:pt x="866013" y="280035"/>
                    <a:pt x="859155" y="268097"/>
                  </a:cubicBezTo>
                  <a:cubicBezTo>
                    <a:pt x="852297" y="256159"/>
                    <a:pt x="848868" y="245364"/>
                    <a:pt x="848868" y="235712"/>
                  </a:cubicBezTo>
                  <a:lnTo>
                    <a:pt x="850011" y="211328"/>
                  </a:lnTo>
                  <a:cubicBezTo>
                    <a:pt x="850265" y="201930"/>
                    <a:pt x="850392" y="189548"/>
                    <a:pt x="850392" y="174181"/>
                  </a:cubicBezTo>
                  <a:cubicBezTo>
                    <a:pt x="850392" y="158814"/>
                    <a:pt x="849757" y="151130"/>
                    <a:pt x="848487" y="151130"/>
                  </a:cubicBezTo>
                  <a:cubicBezTo>
                    <a:pt x="847725" y="151130"/>
                    <a:pt x="846709" y="152273"/>
                    <a:pt x="845439" y="154559"/>
                  </a:cubicBezTo>
                  <a:cubicBezTo>
                    <a:pt x="842391" y="160401"/>
                    <a:pt x="836740" y="166497"/>
                    <a:pt x="828485" y="172847"/>
                  </a:cubicBezTo>
                  <a:cubicBezTo>
                    <a:pt x="820230" y="179197"/>
                    <a:pt x="811721" y="182372"/>
                    <a:pt x="802958" y="182372"/>
                  </a:cubicBezTo>
                  <a:cubicBezTo>
                    <a:pt x="794195" y="182372"/>
                    <a:pt x="787781" y="178689"/>
                    <a:pt x="783717" y="171323"/>
                  </a:cubicBezTo>
                  <a:cubicBezTo>
                    <a:pt x="779653" y="163957"/>
                    <a:pt x="777621" y="155448"/>
                    <a:pt x="777621" y="145796"/>
                  </a:cubicBezTo>
                  <a:cubicBezTo>
                    <a:pt x="777621" y="136144"/>
                    <a:pt x="781939" y="125794"/>
                    <a:pt x="790575" y="114745"/>
                  </a:cubicBezTo>
                  <a:cubicBezTo>
                    <a:pt x="799211" y="103696"/>
                    <a:pt x="813816" y="89980"/>
                    <a:pt x="834390" y="73597"/>
                  </a:cubicBezTo>
                  <a:cubicBezTo>
                    <a:pt x="854964" y="57214"/>
                    <a:pt x="865251" y="46228"/>
                    <a:pt x="865251" y="40640"/>
                  </a:cubicBezTo>
                  <a:cubicBezTo>
                    <a:pt x="865251" y="39370"/>
                    <a:pt x="864934" y="38418"/>
                    <a:pt x="864299" y="37783"/>
                  </a:cubicBezTo>
                  <a:cubicBezTo>
                    <a:pt x="863664" y="37148"/>
                    <a:pt x="860425" y="34100"/>
                    <a:pt x="854583" y="28639"/>
                  </a:cubicBezTo>
                  <a:cubicBezTo>
                    <a:pt x="848741" y="23178"/>
                    <a:pt x="845820" y="20066"/>
                    <a:pt x="845820" y="19304"/>
                  </a:cubicBezTo>
                  <a:cubicBezTo>
                    <a:pt x="845820" y="18034"/>
                    <a:pt x="848868" y="17082"/>
                    <a:pt x="854964" y="16447"/>
                  </a:cubicBezTo>
                  <a:cubicBezTo>
                    <a:pt x="861060" y="15812"/>
                    <a:pt x="865632" y="15494"/>
                    <a:pt x="868680" y="15494"/>
                  </a:cubicBezTo>
                  <a:close/>
                  <a:moveTo>
                    <a:pt x="587121" y="4064"/>
                  </a:moveTo>
                  <a:cubicBezTo>
                    <a:pt x="605917" y="4064"/>
                    <a:pt x="615315" y="12065"/>
                    <a:pt x="615315" y="28067"/>
                  </a:cubicBezTo>
                  <a:cubicBezTo>
                    <a:pt x="615315" y="31369"/>
                    <a:pt x="614807" y="34925"/>
                    <a:pt x="613791" y="38735"/>
                  </a:cubicBezTo>
                  <a:cubicBezTo>
                    <a:pt x="617855" y="38735"/>
                    <a:pt x="621348" y="38227"/>
                    <a:pt x="624269" y="37211"/>
                  </a:cubicBezTo>
                  <a:cubicBezTo>
                    <a:pt x="627190" y="36195"/>
                    <a:pt x="629603" y="35687"/>
                    <a:pt x="631508" y="35687"/>
                  </a:cubicBezTo>
                  <a:cubicBezTo>
                    <a:pt x="633413" y="35687"/>
                    <a:pt x="637096" y="37402"/>
                    <a:pt x="642557" y="40831"/>
                  </a:cubicBezTo>
                  <a:cubicBezTo>
                    <a:pt x="648018" y="44260"/>
                    <a:pt x="651574" y="46990"/>
                    <a:pt x="653225" y="49022"/>
                  </a:cubicBezTo>
                  <a:cubicBezTo>
                    <a:pt x="654876" y="51054"/>
                    <a:pt x="655701" y="53340"/>
                    <a:pt x="655701" y="55880"/>
                  </a:cubicBezTo>
                  <a:cubicBezTo>
                    <a:pt x="655701" y="60960"/>
                    <a:pt x="653161" y="64135"/>
                    <a:pt x="648081" y="65405"/>
                  </a:cubicBezTo>
                  <a:cubicBezTo>
                    <a:pt x="630301" y="69469"/>
                    <a:pt x="616966" y="74041"/>
                    <a:pt x="608076" y="79121"/>
                  </a:cubicBezTo>
                  <a:lnTo>
                    <a:pt x="606171" y="92075"/>
                  </a:lnTo>
                  <a:cubicBezTo>
                    <a:pt x="619125" y="88773"/>
                    <a:pt x="631190" y="87122"/>
                    <a:pt x="642366" y="87122"/>
                  </a:cubicBezTo>
                  <a:cubicBezTo>
                    <a:pt x="660400" y="87122"/>
                    <a:pt x="672021" y="90996"/>
                    <a:pt x="677228" y="98743"/>
                  </a:cubicBezTo>
                  <a:cubicBezTo>
                    <a:pt x="682435" y="106490"/>
                    <a:pt x="685038" y="112459"/>
                    <a:pt x="685038" y="116650"/>
                  </a:cubicBezTo>
                  <a:cubicBezTo>
                    <a:pt x="685038" y="120841"/>
                    <a:pt x="684340" y="123889"/>
                    <a:pt x="682943" y="125794"/>
                  </a:cubicBezTo>
                  <a:cubicBezTo>
                    <a:pt x="681546" y="127699"/>
                    <a:pt x="679450" y="128905"/>
                    <a:pt x="676656" y="129413"/>
                  </a:cubicBezTo>
                  <a:lnTo>
                    <a:pt x="661797" y="132461"/>
                  </a:lnTo>
                  <a:cubicBezTo>
                    <a:pt x="651129" y="134493"/>
                    <a:pt x="643890" y="136017"/>
                    <a:pt x="640080" y="137033"/>
                  </a:cubicBezTo>
                  <a:cubicBezTo>
                    <a:pt x="624586" y="141605"/>
                    <a:pt x="613791" y="143256"/>
                    <a:pt x="607695" y="141986"/>
                  </a:cubicBezTo>
                  <a:cubicBezTo>
                    <a:pt x="603377" y="141224"/>
                    <a:pt x="600075" y="140843"/>
                    <a:pt x="597789" y="140843"/>
                  </a:cubicBezTo>
                  <a:cubicBezTo>
                    <a:pt x="591185" y="140843"/>
                    <a:pt x="587883" y="142113"/>
                    <a:pt x="587883" y="144653"/>
                  </a:cubicBezTo>
                  <a:cubicBezTo>
                    <a:pt x="587883" y="145669"/>
                    <a:pt x="588645" y="146558"/>
                    <a:pt x="590169" y="147320"/>
                  </a:cubicBezTo>
                  <a:cubicBezTo>
                    <a:pt x="595757" y="150622"/>
                    <a:pt x="598551" y="153924"/>
                    <a:pt x="598551" y="157226"/>
                  </a:cubicBezTo>
                  <a:cubicBezTo>
                    <a:pt x="598551" y="158496"/>
                    <a:pt x="598043" y="159639"/>
                    <a:pt x="597027" y="160655"/>
                  </a:cubicBezTo>
                  <a:cubicBezTo>
                    <a:pt x="592455" y="165227"/>
                    <a:pt x="586486" y="172466"/>
                    <a:pt x="579120" y="182372"/>
                  </a:cubicBezTo>
                  <a:cubicBezTo>
                    <a:pt x="585470" y="185928"/>
                    <a:pt x="592074" y="190119"/>
                    <a:pt x="598932" y="194945"/>
                  </a:cubicBezTo>
                  <a:cubicBezTo>
                    <a:pt x="603504" y="179451"/>
                    <a:pt x="605790" y="169418"/>
                    <a:pt x="605790" y="164846"/>
                  </a:cubicBezTo>
                  <a:cubicBezTo>
                    <a:pt x="605790" y="160274"/>
                    <a:pt x="605155" y="157671"/>
                    <a:pt x="603885" y="157036"/>
                  </a:cubicBezTo>
                  <a:cubicBezTo>
                    <a:pt x="602615" y="156401"/>
                    <a:pt x="601980" y="155448"/>
                    <a:pt x="601980" y="154178"/>
                  </a:cubicBezTo>
                  <a:cubicBezTo>
                    <a:pt x="601980" y="152908"/>
                    <a:pt x="603060" y="151638"/>
                    <a:pt x="605219" y="150368"/>
                  </a:cubicBezTo>
                  <a:cubicBezTo>
                    <a:pt x="607378" y="149098"/>
                    <a:pt x="609981" y="148463"/>
                    <a:pt x="613029" y="148463"/>
                  </a:cubicBezTo>
                  <a:cubicBezTo>
                    <a:pt x="623951" y="148463"/>
                    <a:pt x="629412" y="151384"/>
                    <a:pt x="629412" y="157226"/>
                  </a:cubicBezTo>
                  <a:cubicBezTo>
                    <a:pt x="629412" y="164338"/>
                    <a:pt x="628460" y="169545"/>
                    <a:pt x="626555" y="172847"/>
                  </a:cubicBezTo>
                  <a:cubicBezTo>
                    <a:pt x="624650" y="176149"/>
                    <a:pt x="620776" y="188976"/>
                    <a:pt x="614934" y="211328"/>
                  </a:cubicBezTo>
                  <a:cubicBezTo>
                    <a:pt x="637286" y="206502"/>
                    <a:pt x="651891" y="204089"/>
                    <a:pt x="658749" y="204089"/>
                  </a:cubicBezTo>
                  <a:cubicBezTo>
                    <a:pt x="665607" y="204089"/>
                    <a:pt x="671259" y="206566"/>
                    <a:pt x="675704" y="211519"/>
                  </a:cubicBezTo>
                  <a:cubicBezTo>
                    <a:pt x="680149" y="216472"/>
                    <a:pt x="682371" y="220345"/>
                    <a:pt x="682371" y="223139"/>
                  </a:cubicBezTo>
                  <a:cubicBezTo>
                    <a:pt x="682371" y="227457"/>
                    <a:pt x="679450" y="229616"/>
                    <a:pt x="673608" y="229616"/>
                  </a:cubicBezTo>
                  <a:cubicBezTo>
                    <a:pt x="672084" y="229616"/>
                    <a:pt x="670306" y="229362"/>
                    <a:pt x="668274" y="228854"/>
                  </a:cubicBezTo>
                  <a:cubicBezTo>
                    <a:pt x="659130" y="226568"/>
                    <a:pt x="650113" y="225425"/>
                    <a:pt x="641223" y="225425"/>
                  </a:cubicBezTo>
                  <a:cubicBezTo>
                    <a:pt x="632333" y="225425"/>
                    <a:pt x="621919" y="226568"/>
                    <a:pt x="609981" y="228854"/>
                  </a:cubicBezTo>
                  <a:cubicBezTo>
                    <a:pt x="601599" y="255270"/>
                    <a:pt x="591122" y="274320"/>
                    <a:pt x="578549" y="286004"/>
                  </a:cubicBezTo>
                  <a:cubicBezTo>
                    <a:pt x="565976" y="297688"/>
                    <a:pt x="549529" y="303530"/>
                    <a:pt x="529209" y="303530"/>
                  </a:cubicBezTo>
                  <a:cubicBezTo>
                    <a:pt x="525399" y="303530"/>
                    <a:pt x="522986" y="303276"/>
                    <a:pt x="521970" y="302768"/>
                  </a:cubicBezTo>
                  <a:cubicBezTo>
                    <a:pt x="520954" y="302260"/>
                    <a:pt x="520446" y="301371"/>
                    <a:pt x="520446" y="300101"/>
                  </a:cubicBezTo>
                  <a:cubicBezTo>
                    <a:pt x="520446" y="297561"/>
                    <a:pt x="521970" y="295656"/>
                    <a:pt x="525018" y="294386"/>
                  </a:cubicBezTo>
                  <a:cubicBezTo>
                    <a:pt x="541528" y="288544"/>
                    <a:pt x="554419" y="280797"/>
                    <a:pt x="563690" y="271145"/>
                  </a:cubicBezTo>
                  <a:cubicBezTo>
                    <a:pt x="572961" y="261493"/>
                    <a:pt x="580263" y="249555"/>
                    <a:pt x="585597" y="235331"/>
                  </a:cubicBezTo>
                  <a:cubicBezTo>
                    <a:pt x="577977" y="238125"/>
                    <a:pt x="562229" y="245237"/>
                    <a:pt x="538353" y="256667"/>
                  </a:cubicBezTo>
                  <a:cubicBezTo>
                    <a:pt x="527685" y="261747"/>
                    <a:pt x="520383" y="264287"/>
                    <a:pt x="516446" y="264287"/>
                  </a:cubicBezTo>
                  <a:cubicBezTo>
                    <a:pt x="512509" y="264287"/>
                    <a:pt x="508127" y="262446"/>
                    <a:pt x="503301" y="258763"/>
                  </a:cubicBezTo>
                  <a:cubicBezTo>
                    <a:pt x="498475" y="255080"/>
                    <a:pt x="496062" y="252540"/>
                    <a:pt x="496062" y="251143"/>
                  </a:cubicBezTo>
                  <a:cubicBezTo>
                    <a:pt x="496062" y="249746"/>
                    <a:pt x="497205" y="248920"/>
                    <a:pt x="499491" y="248666"/>
                  </a:cubicBezTo>
                  <a:cubicBezTo>
                    <a:pt x="504571" y="248158"/>
                    <a:pt x="509397" y="246507"/>
                    <a:pt x="513969" y="243713"/>
                  </a:cubicBezTo>
                  <a:cubicBezTo>
                    <a:pt x="524891" y="237363"/>
                    <a:pt x="542544" y="230505"/>
                    <a:pt x="566928" y="223139"/>
                  </a:cubicBezTo>
                  <a:cubicBezTo>
                    <a:pt x="566166" y="221361"/>
                    <a:pt x="564833" y="220472"/>
                    <a:pt x="562928" y="220472"/>
                  </a:cubicBezTo>
                  <a:cubicBezTo>
                    <a:pt x="561023" y="220472"/>
                    <a:pt x="557911" y="221171"/>
                    <a:pt x="553593" y="222568"/>
                  </a:cubicBezTo>
                  <a:cubicBezTo>
                    <a:pt x="549275" y="223965"/>
                    <a:pt x="545846" y="225362"/>
                    <a:pt x="543306" y="226759"/>
                  </a:cubicBezTo>
                  <a:cubicBezTo>
                    <a:pt x="540766" y="228156"/>
                    <a:pt x="539179" y="228854"/>
                    <a:pt x="538544" y="228854"/>
                  </a:cubicBezTo>
                  <a:cubicBezTo>
                    <a:pt x="537909" y="228854"/>
                    <a:pt x="537591" y="228727"/>
                    <a:pt x="537591" y="228473"/>
                  </a:cubicBezTo>
                  <a:cubicBezTo>
                    <a:pt x="537591" y="226949"/>
                    <a:pt x="543179" y="222885"/>
                    <a:pt x="554355" y="216281"/>
                  </a:cubicBezTo>
                  <a:cubicBezTo>
                    <a:pt x="545973" y="213741"/>
                    <a:pt x="540766" y="211392"/>
                    <a:pt x="538734" y="209233"/>
                  </a:cubicBezTo>
                  <a:cubicBezTo>
                    <a:pt x="536702" y="207074"/>
                    <a:pt x="535686" y="202946"/>
                    <a:pt x="535686" y="196850"/>
                  </a:cubicBezTo>
                  <a:cubicBezTo>
                    <a:pt x="535686" y="190754"/>
                    <a:pt x="536702" y="186690"/>
                    <a:pt x="538734" y="184658"/>
                  </a:cubicBezTo>
                  <a:cubicBezTo>
                    <a:pt x="540766" y="182626"/>
                    <a:pt x="544703" y="181737"/>
                    <a:pt x="550545" y="181991"/>
                  </a:cubicBezTo>
                  <a:cubicBezTo>
                    <a:pt x="552069" y="178689"/>
                    <a:pt x="554165" y="176213"/>
                    <a:pt x="556832" y="174562"/>
                  </a:cubicBezTo>
                  <a:cubicBezTo>
                    <a:pt x="559499" y="172911"/>
                    <a:pt x="560832" y="171514"/>
                    <a:pt x="560832" y="170371"/>
                  </a:cubicBezTo>
                  <a:cubicBezTo>
                    <a:pt x="560832" y="169228"/>
                    <a:pt x="559181" y="167767"/>
                    <a:pt x="555879" y="165989"/>
                  </a:cubicBezTo>
                  <a:cubicBezTo>
                    <a:pt x="549783" y="162179"/>
                    <a:pt x="546735" y="157544"/>
                    <a:pt x="546735" y="152083"/>
                  </a:cubicBezTo>
                  <a:cubicBezTo>
                    <a:pt x="546735" y="146622"/>
                    <a:pt x="549148" y="143637"/>
                    <a:pt x="553974" y="143129"/>
                  </a:cubicBezTo>
                  <a:cubicBezTo>
                    <a:pt x="581152" y="140843"/>
                    <a:pt x="603377" y="134620"/>
                    <a:pt x="620649" y="124460"/>
                  </a:cubicBezTo>
                  <a:cubicBezTo>
                    <a:pt x="637921" y="114300"/>
                    <a:pt x="646557" y="107696"/>
                    <a:pt x="646557" y="104648"/>
                  </a:cubicBezTo>
                  <a:cubicBezTo>
                    <a:pt x="646557" y="103124"/>
                    <a:pt x="644652" y="102362"/>
                    <a:pt x="640842" y="102362"/>
                  </a:cubicBezTo>
                  <a:cubicBezTo>
                    <a:pt x="631190" y="102362"/>
                    <a:pt x="623189" y="103251"/>
                    <a:pt x="616839" y="105029"/>
                  </a:cubicBezTo>
                  <a:cubicBezTo>
                    <a:pt x="610489" y="106807"/>
                    <a:pt x="601726" y="110744"/>
                    <a:pt x="590550" y="116840"/>
                  </a:cubicBezTo>
                  <a:cubicBezTo>
                    <a:pt x="558800" y="134620"/>
                    <a:pt x="538798" y="145669"/>
                    <a:pt x="530543" y="149987"/>
                  </a:cubicBezTo>
                  <a:cubicBezTo>
                    <a:pt x="522288" y="154305"/>
                    <a:pt x="517398" y="156464"/>
                    <a:pt x="515874" y="156464"/>
                  </a:cubicBezTo>
                  <a:cubicBezTo>
                    <a:pt x="512318" y="156464"/>
                    <a:pt x="509461" y="152591"/>
                    <a:pt x="507302" y="144844"/>
                  </a:cubicBezTo>
                  <a:cubicBezTo>
                    <a:pt x="505143" y="137097"/>
                    <a:pt x="504063" y="132080"/>
                    <a:pt x="504063" y="129794"/>
                  </a:cubicBezTo>
                  <a:cubicBezTo>
                    <a:pt x="504063" y="124460"/>
                    <a:pt x="505968" y="121793"/>
                    <a:pt x="509778" y="121793"/>
                  </a:cubicBezTo>
                  <a:cubicBezTo>
                    <a:pt x="511302" y="121793"/>
                    <a:pt x="512445" y="122301"/>
                    <a:pt x="513207" y="123317"/>
                  </a:cubicBezTo>
                  <a:cubicBezTo>
                    <a:pt x="513969" y="124333"/>
                    <a:pt x="514985" y="124841"/>
                    <a:pt x="516255" y="124841"/>
                  </a:cubicBezTo>
                  <a:cubicBezTo>
                    <a:pt x="521081" y="124841"/>
                    <a:pt x="537718" y="118237"/>
                    <a:pt x="566166" y="105029"/>
                  </a:cubicBezTo>
                  <a:cubicBezTo>
                    <a:pt x="569214" y="100203"/>
                    <a:pt x="571373" y="94869"/>
                    <a:pt x="572643" y="89027"/>
                  </a:cubicBezTo>
                  <a:cubicBezTo>
                    <a:pt x="565785" y="89027"/>
                    <a:pt x="558229" y="85535"/>
                    <a:pt x="549974" y="78550"/>
                  </a:cubicBezTo>
                  <a:cubicBezTo>
                    <a:pt x="541719" y="71565"/>
                    <a:pt x="537591" y="67374"/>
                    <a:pt x="537591" y="65977"/>
                  </a:cubicBezTo>
                  <a:cubicBezTo>
                    <a:pt x="537591" y="64580"/>
                    <a:pt x="538861" y="63881"/>
                    <a:pt x="541401" y="63881"/>
                  </a:cubicBezTo>
                  <a:lnTo>
                    <a:pt x="545592" y="63881"/>
                  </a:lnTo>
                  <a:cubicBezTo>
                    <a:pt x="554482" y="63881"/>
                    <a:pt x="565658" y="60960"/>
                    <a:pt x="579120" y="55118"/>
                  </a:cubicBezTo>
                  <a:cubicBezTo>
                    <a:pt x="579374" y="48768"/>
                    <a:pt x="579501" y="42863"/>
                    <a:pt x="579501" y="37402"/>
                  </a:cubicBezTo>
                  <a:cubicBezTo>
                    <a:pt x="579501" y="31941"/>
                    <a:pt x="578612" y="28194"/>
                    <a:pt x="576834" y="26162"/>
                  </a:cubicBezTo>
                  <a:cubicBezTo>
                    <a:pt x="575056" y="24130"/>
                    <a:pt x="571246" y="22860"/>
                    <a:pt x="565404" y="22352"/>
                  </a:cubicBezTo>
                  <a:cubicBezTo>
                    <a:pt x="562356" y="22098"/>
                    <a:pt x="560832" y="20384"/>
                    <a:pt x="560832" y="17209"/>
                  </a:cubicBezTo>
                  <a:cubicBezTo>
                    <a:pt x="560832" y="14034"/>
                    <a:pt x="562737" y="11049"/>
                    <a:pt x="566547" y="8255"/>
                  </a:cubicBezTo>
                  <a:cubicBezTo>
                    <a:pt x="570357" y="5461"/>
                    <a:pt x="577215" y="4064"/>
                    <a:pt x="587121" y="4064"/>
                  </a:cubicBezTo>
                  <a:close/>
                  <a:moveTo>
                    <a:pt x="1259586" y="1397"/>
                  </a:moveTo>
                  <a:cubicBezTo>
                    <a:pt x="1262888" y="1397"/>
                    <a:pt x="1270953" y="4699"/>
                    <a:pt x="1283780" y="11303"/>
                  </a:cubicBezTo>
                  <a:cubicBezTo>
                    <a:pt x="1296607" y="17907"/>
                    <a:pt x="1306132" y="24257"/>
                    <a:pt x="1312355" y="30353"/>
                  </a:cubicBezTo>
                  <a:cubicBezTo>
                    <a:pt x="1318578" y="36449"/>
                    <a:pt x="1321689" y="42736"/>
                    <a:pt x="1321689" y="49213"/>
                  </a:cubicBezTo>
                  <a:cubicBezTo>
                    <a:pt x="1321689" y="55690"/>
                    <a:pt x="1318387" y="63627"/>
                    <a:pt x="1311783" y="73025"/>
                  </a:cubicBezTo>
                  <a:cubicBezTo>
                    <a:pt x="1327023" y="64135"/>
                    <a:pt x="1337247" y="58738"/>
                    <a:pt x="1342454" y="56833"/>
                  </a:cubicBezTo>
                  <a:cubicBezTo>
                    <a:pt x="1347661" y="54928"/>
                    <a:pt x="1350645" y="52959"/>
                    <a:pt x="1351407" y="50927"/>
                  </a:cubicBezTo>
                  <a:cubicBezTo>
                    <a:pt x="1352423" y="48387"/>
                    <a:pt x="1356360" y="47117"/>
                    <a:pt x="1363218" y="47117"/>
                  </a:cubicBezTo>
                  <a:cubicBezTo>
                    <a:pt x="1370076" y="47117"/>
                    <a:pt x="1375855" y="49784"/>
                    <a:pt x="1380554" y="55118"/>
                  </a:cubicBezTo>
                  <a:cubicBezTo>
                    <a:pt x="1385253" y="60452"/>
                    <a:pt x="1387602" y="65278"/>
                    <a:pt x="1387602" y="69596"/>
                  </a:cubicBezTo>
                  <a:cubicBezTo>
                    <a:pt x="1387602" y="78994"/>
                    <a:pt x="1384427" y="83693"/>
                    <a:pt x="1378077" y="83693"/>
                  </a:cubicBezTo>
                  <a:cubicBezTo>
                    <a:pt x="1367663" y="83693"/>
                    <a:pt x="1352804" y="89535"/>
                    <a:pt x="1333500" y="101219"/>
                  </a:cubicBezTo>
                  <a:cubicBezTo>
                    <a:pt x="1335024" y="110363"/>
                    <a:pt x="1338707" y="119126"/>
                    <a:pt x="1344549" y="127508"/>
                  </a:cubicBezTo>
                  <a:cubicBezTo>
                    <a:pt x="1346581" y="130302"/>
                    <a:pt x="1347597" y="136652"/>
                    <a:pt x="1347597" y="146558"/>
                  </a:cubicBezTo>
                  <a:cubicBezTo>
                    <a:pt x="1347597" y="162814"/>
                    <a:pt x="1344930" y="177292"/>
                    <a:pt x="1339596" y="189992"/>
                  </a:cubicBezTo>
                  <a:cubicBezTo>
                    <a:pt x="1383030" y="211328"/>
                    <a:pt x="1409700" y="223647"/>
                    <a:pt x="1419606" y="226949"/>
                  </a:cubicBezTo>
                  <a:cubicBezTo>
                    <a:pt x="1429512" y="230251"/>
                    <a:pt x="1438593" y="238824"/>
                    <a:pt x="1446848" y="252667"/>
                  </a:cubicBezTo>
                  <a:cubicBezTo>
                    <a:pt x="1455103" y="266510"/>
                    <a:pt x="1459230" y="278892"/>
                    <a:pt x="1459230" y="289814"/>
                  </a:cubicBezTo>
                  <a:cubicBezTo>
                    <a:pt x="1459230" y="295402"/>
                    <a:pt x="1457008" y="298196"/>
                    <a:pt x="1452563" y="298196"/>
                  </a:cubicBezTo>
                  <a:cubicBezTo>
                    <a:pt x="1448118" y="298196"/>
                    <a:pt x="1436434" y="292735"/>
                    <a:pt x="1417511" y="281813"/>
                  </a:cubicBezTo>
                  <a:cubicBezTo>
                    <a:pt x="1398588" y="270891"/>
                    <a:pt x="1386205" y="262763"/>
                    <a:pt x="1380363" y="257429"/>
                  </a:cubicBezTo>
                  <a:cubicBezTo>
                    <a:pt x="1364615" y="243713"/>
                    <a:pt x="1345819" y="230505"/>
                    <a:pt x="1323975" y="217805"/>
                  </a:cubicBezTo>
                  <a:cubicBezTo>
                    <a:pt x="1313307" y="229997"/>
                    <a:pt x="1300163" y="239268"/>
                    <a:pt x="1284542" y="245618"/>
                  </a:cubicBezTo>
                  <a:cubicBezTo>
                    <a:pt x="1268921" y="251968"/>
                    <a:pt x="1252919" y="255143"/>
                    <a:pt x="1236536" y="255143"/>
                  </a:cubicBezTo>
                  <a:cubicBezTo>
                    <a:pt x="1220153" y="255143"/>
                    <a:pt x="1205421" y="253111"/>
                    <a:pt x="1192340" y="249047"/>
                  </a:cubicBezTo>
                  <a:cubicBezTo>
                    <a:pt x="1179259" y="244983"/>
                    <a:pt x="1169162" y="239840"/>
                    <a:pt x="1162050" y="233617"/>
                  </a:cubicBezTo>
                  <a:cubicBezTo>
                    <a:pt x="1154938" y="227394"/>
                    <a:pt x="1151382" y="222631"/>
                    <a:pt x="1151382" y="219329"/>
                  </a:cubicBezTo>
                  <a:cubicBezTo>
                    <a:pt x="1151382" y="217551"/>
                    <a:pt x="1152144" y="216662"/>
                    <a:pt x="1153668" y="216662"/>
                  </a:cubicBezTo>
                  <a:cubicBezTo>
                    <a:pt x="1155192" y="216662"/>
                    <a:pt x="1157224" y="218059"/>
                    <a:pt x="1159764" y="220853"/>
                  </a:cubicBezTo>
                  <a:cubicBezTo>
                    <a:pt x="1169162" y="231013"/>
                    <a:pt x="1185037" y="236093"/>
                    <a:pt x="1207389" y="236093"/>
                  </a:cubicBezTo>
                  <a:cubicBezTo>
                    <a:pt x="1224153" y="236093"/>
                    <a:pt x="1240282" y="233045"/>
                    <a:pt x="1255776" y="226949"/>
                  </a:cubicBezTo>
                  <a:cubicBezTo>
                    <a:pt x="1271270" y="220853"/>
                    <a:pt x="1282827" y="212471"/>
                    <a:pt x="1290447" y="201803"/>
                  </a:cubicBezTo>
                  <a:cubicBezTo>
                    <a:pt x="1271905" y="194945"/>
                    <a:pt x="1256094" y="187008"/>
                    <a:pt x="1243013" y="177991"/>
                  </a:cubicBezTo>
                  <a:cubicBezTo>
                    <a:pt x="1229932" y="168974"/>
                    <a:pt x="1216851" y="164465"/>
                    <a:pt x="1203770" y="164465"/>
                  </a:cubicBezTo>
                  <a:cubicBezTo>
                    <a:pt x="1190689" y="164465"/>
                    <a:pt x="1178941" y="168275"/>
                    <a:pt x="1168527" y="175895"/>
                  </a:cubicBezTo>
                  <a:cubicBezTo>
                    <a:pt x="1165987" y="177673"/>
                    <a:pt x="1164082" y="178562"/>
                    <a:pt x="1162812" y="178562"/>
                  </a:cubicBezTo>
                  <a:cubicBezTo>
                    <a:pt x="1161542" y="178562"/>
                    <a:pt x="1160907" y="178054"/>
                    <a:pt x="1160907" y="177038"/>
                  </a:cubicBezTo>
                  <a:cubicBezTo>
                    <a:pt x="1160907" y="173736"/>
                    <a:pt x="1165098" y="168466"/>
                    <a:pt x="1173480" y="161227"/>
                  </a:cubicBezTo>
                  <a:cubicBezTo>
                    <a:pt x="1181862" y="153988"/>
                    <a:pt x="1193165" y="150368"/>
                    <a:pt x="1207389" y="150368"/>
                  </a:cubicBezTo>
                  <a:cubicBezTo>
                    <a:pt x="1212469" y="150368"/>
                    <a:pt x="1217676" y="150876"/>
                    <a:pt x="1223010" y="151892"/>
                  </a:cubicBezTo>
                  <a:cubicBezTo>
                    <a:pt x="1228344" y="152908"/>
                    <a:pt x="1239584" y="155893"/>
                    <a:pt x="1256729" y="160846"/>
                  </a:cubicBezTo>
                  <a:cubicBezTo>
                    <a:pt x="1273874" y="165799"/>
                    <a:pt x="1289558" y="170688"/>
                    <a:pt x="1303782" y="175514"/>
                  </a:cubicBezTo>
                  <a:cubicBezTo>
                    <a:pt x="1311656" y="154178"/>
                    <a:pt x="1316101" y="132715"/>
                    <a:pt x="1317117" y="111125"/>
                  </a:cubicBezTo>
                  <a:cubicBezTo>
                    <a:pt x="1301369" y="122809"/>
                    <a:pt x="1288606" y="131064"/>
                    <a:pt x="1278827" y="135890"/>
                  </a:cubicBezTo>
                  <a:cubicBezTo>
                    <a:pt x="1269048" y="140716"/>
                    <a:pt x="1262444" y="143129"/>
                    <a:pt x="1259015" y="143129"/>
                  </a:cubicBezTo>
                  <a:cubicBezTo>
                    <a:pt x="1255586" y="143129"/>
                    <a:pt x="1252411" y="141986"/>
                    <a:pt x="1249490" y="139700"/>
                  </a:cubicBezTo>
                  <a:cubicBezTo>
                    <a:pt x="1246569" y="137414"/>
                    <a:pt x="1242759" y="132652"/>
                    <a:pt x="1238060" y="125413"/>
                  </a:cubicBezTo>
                  <a:cubicBezTo>
                    <a:pt x="1233361" y="118174"/>
                    <a:pt x="1231011" y="112649"/>
                    <a:pt x="1231011" y="108839"/>
                  </a:cubicBezTo>
                  <a:cubicBezTo>
                    <a:pt x="1231011" y="105029"/>
                    <a:pt x="1233043" y="100203"/>
                    <a:pt x="1237107" y="94361"/>
                  </a:cubicBezTo>
                  <a:cubicBezTo>
                    <a:pt x="1250061" y="75311"/>
                    <a:pt x="1258443" y="62357"/>
                    <a:pt x="1262253" y="55499"/>
                  </a:cubicBezTo>
                  <a:cubicBezTo>
                    <a:pt x="1266063" y="48641"/>
                    <a:pt x="1267968" y="43815"/>
                    <a:pt x="1267968" y="41021"/>
                  </a:cubicBezTo>
                  <a:cubicBezTo>
                    <a:pt x="1267968" y="38227"/>
                    <a:pt x="1267143" y="33084"/>
                    <a:pt x="1265492" y="25591"/>
                  </a:cubicBezTo>
                  <a:cubicBezTo>
                    <a:pt x="1263841" y="18098"/>
                    <a:pt x="1262126" y="12764"/>
                    <a:pt x="1260348" y="9589"/>
                  </a:cubicBezTo>
                  <a:cubicBezTo>
                    <a:pt x="1258570" y="6414"/>
                    <a:pt x="1257681" y="4255"/>
                    <a:pt x="1257681" y="3112"/>
                  </a:cubicBezTo>
                  <a:cubicBezTo>
                    <a:pt x="1257681" y="1969"/>
                    <a:pt x="1258316" y="1397"/>
                    <a:pt x="1259586" y="1397"/>
                  </a:cubicBezTo>
                  <a:close/>
                  <a:moveTo>
                    <a:pt x="95250" y="254"/>
                  </a:moveTo>
                  <a:cubicBezTo>
                    <a:pt x="101854" y="-254"/>
                    <a:pt x="109538" y="0"/>
                    <a:pt x="118301" y="1016"/>
                  </a:cubicBezTo>
                  <a:cubicBezTo>
                    <a:pt x="127064" y="2032"/>
                    <a:pt x="133668" y="3366"/>
                    <a:pt x="138113" y="5017"/>
                  </a:cubicBezTo>
                  <a:cubicBezTo>
                    <a:pt x="142558" y="6668"/>
                    <a:pt x="146495" y="9271"/>
                    <a:pt x="149924" y="12827"/>
                  </a:cubicBezTo>
                  <a:cubicBezTo>
                    <a:pt x="153353" y="16383"/>
                    <a:pt x="156782" y="20828"/>
                    <a:pt x="160211" y="26162"/>
                  </a:cubicBezTo>
                  <a:cubicBezTo>
                    <a:pt x="163640" y="31496"/>
                    <a:pt x="165354" y="35052"/>
                    <a:pt x="165354" y="36830"/>
                  </a:cubicBezTo>
                  <a:cubicBezTo>
                    <a:pt x="165354" y="39878"/>
                    <a:pt x="163894" y="42291"/>
                    <a:pt x="160973" y="44069"/>
                  </a:cubicBezTo>
                  <a:cubicBezTo>
                    <a:pt x="158052" y="45847"/>
                    <a:pt x="152972" y="46736"/>
                    <a:pt x="145733" y="46736"/>
                  </a:cubicBezTo>
                  <a:cubicBezTo>
                    <a:pt x="138494" y="46736"/>
                    <a:pt x="133985" y="46165"/>
                    <a:pt x="132207" y="45022"/>
                  </a:cubicBezTo>
                  <a:cubicBezTo>
                    <a:pt x="130429" y="43879"/>
                    <a:pt x="128461" y="43307"/>
                    <a:pt x="126302" y="43307"/>
                  </a:cubicBezTo>
                  <a:cubicBezTo>
                    <a:pt x="124143" y="43307"/>
                    <a:pt x="121158" y="44196"/>
                    <a:pt x="117348" y="45974"/>
                  </a:cubicBezTo>
                  <a:cubicBezTo>
                    <a:pt x="106934" y="50292"/>
                    <a:pt x="99886" y="52451"/>
                    <a:pt x="96203" y="52451"/>
                  </a:cubicBezTo>
                  <a:cubicBezTo>
                    <a:pt x="92520" y="52451"/>
                    <a:pt x="89599" y="51943"/>
                    <a:pt x="87440" y="50927"/>
                  </a:cubicBezTo>
                  <a:cubicBezTo>
                    <a:pt x="85281" y="49911"/>
                    <a:pt x="82931" y="49403"/>
                    <a:pt x="80391" y="49403"/>
                  </a:cubicBezTo>
                  <a:cubicBezTo>
                    <a:pt x="77851" y="49403"/>
                    <a:pt x="72263" y="51308"/>
                    <a:pt x="63627" y="55118"/>
                  </a:cubicBezTo>
                  <a:cubicBezTo>
                    <a:pt x="80645" y="42926"/>
                    <a:pt x="91948" y="34354"/>
                    <a:pt x="97536" y="29401"/>
                  </a:cubicBezTo>
                  <a:cubicBezTo>
                    <a:pt x="103124" y="24448"/>
                    <a:pt x="105918" y="21082"/>
                    <a:pt x="105918" y="19304"/>
                  </a:cubicBezTo>
                  <a:cubicBezTo>
                    <a:pt x="105918" y="17526"/>
                    <a:pt x="105347" y="14796"/>
                    <a:pt x="104204" y="11113"/>
                  </a:cubicBezTo>
                  <a:cubicBezTo>
                    <a:pt x="103061" y="7430"/>
                    <a:pt x="100076" y="3810"/>
                    <a:pt x="95250" y="25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529" name="TextBox 1"/>
          <p:cNvSpPr/>
          <p:nvPr/>
        </p:nvSpPr>
        <p:spPr>
          <a:xfrm>
            <a:off x="1220760" y="1017720"/>
            <a:ext cx="67021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言”来 互  相  尊  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”至  令 人 感 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”出  万 里 无 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”到  纯  净  透 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1544760" y="766800"/>
            <a:ext cx="633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án   lái  hù  xiānɡ  zūn  zhò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1711440" y="1717560"/>
            <a:ext cx="637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īn   zhì  lìnɡ rén ɡǎn dò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0"/>
          <p:cNvSpPr/>
          <p:nvPr/>
        </p:nvSpPr>
        <p:spPr>
          <a:xfrm>
            <a:off x="1828800" y="2644920"/>
            <a:ext cx="65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ì   chū   wàn  lǐ  wú  y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611360" y="3573360"/>
            <a:ext cx="677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huǐ  dào  chún  jìnɡ  tòu mí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直接连接符 10"/>
          <p:cNvCxnSpPr/>
          <p:nvPr/>
        </p:nvCxnSpPr>
        <p:spPr>
          <a:xfrm flipH="1">
            <a:off x="3419280" y="1276200"/>
            <a:ext cx="144720" cy="44172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535" name="直接连接符 13"/>
          <p:cNvCxnSpPr/>
          <p:nvPr/>
        </p:nvCxnSpPr>
        <p:spPr>
          <a:xfrm flipH="1">
            <a:off x="3419280" y="2219040"/>
            <a:ext cx="144720" cy="44172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536" name="直接连接符 14"/>
          <p:cNvCxnSpPr/>
          <p:nvPr/>
        </p:nvCxnSpPr>
        <p:spPr>
          <a:xfrm flipH="1">
            <a:off x="3419280" y="3159000"/>
            <a:ext cx="144720" cy="4431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537" name="直接连接符 15"/>
          <p:cNvCxnSpPr/>
          <p:nvPr/>
        </p:nvCxnSpPr>
        <p:spPr>
          <a:xfrm flipH="1">
            <a:off x="3419280" y="4092480"/>
            <a:ext cx="144720" cy="44172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75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75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75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75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75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75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75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75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75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539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任意多边形: 形状 12"/>
            <p:cNvSpPr/>
            <p:nvPr/>
          </p:nvSpPr>
          <p:spPr>
            <a:xfrm>
              <a:off x="420840" y="266760"/>
              <a:ext cx="1450440" cy="347400"/>
            </a:xfrm>
            <a:custGeom>
              <a:avLst/>
              <a:gdLst>
                <a:gd name="textAreaLeft" fmla="*/ 0 w 1450440"/>
                <a:gd name="textAreaRight" fmla="*/ 1450800 w 14504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51229" h="347091">
                  <a:moveTo>
                    <a:pt x="158496" y="218313"/>
                  </a:moveTo>
                  <a:cubicBezTo>
                    <a:pt x="154686" y="219075"/>
                    <a:pt x="149416" y="221044"/>
                    <a:pt x="142685" y="224219"/>
                  </a:cubicBezTo>
                  <a:cubicBezTo>
                    <a:pt x="135954" y="227394"/>
                    <a:pt x="124206" y="233617"/>
                    <a:pt x="107442" y="242888"/>
                  </a:cubicBezTo>
                  <a:cubicBezTo>
                    <a:pt x="90678" y="252159"/>
                    <a:pt x="81217" y="257747"/>
                    <a:pt x="79058" y="259652"/>
                  </a:cubicBezTo>
                  <a:cubicBezTo>
                    <a:pt x="76899" y="261557"/>
                    <a:pt x="75184" y="263589"/>
                    <a:pt x="73914" y="265748"/>
                  </a:cubicBezTo>
                  <a:cubicBezTo>
                    <a:pt x="72644" y="267907"/>
                    <a:pt x="72009" y="270320"/>
                    <a:pt x="72009" y="272987"/>
                  </a:cubicBezTo>
                  <a:cubicBezTo>
                    <a:pt x="72009" y="275654"/>
                    <a:pt x="72835" y="278321"/>
                    <a:pt x="74486" y="280988"/>
                  </a:cubicBezTo>
                  <a:cubicBezTo>
                    <a:pt x="76137" y="283655"/>
                    <a:pt x="80328" y="287211"/>
                    <a:pt x="87059" y="291656"/>
                  </a:cubicBezTo>
                  <a:cubicBezTo>
                    <a:pt x="93790" y="296101"/>
                    <a:pt x="101664" y="299593"/>
                    <a:pt x="110681" y="302133"/>
                  </a:cubicBezTo>
                  <a:cubicBezTo>
                    <a:pt x="119698" y="304673"/>
                    <a:pt x="126365" y="305943"/>
                    <a:pt x="130683" y="305943"/>
                  </a:cubicBezTo>
                  <a:cubicBezTo>
                    <a:pt x="141097" y="305943"/>
                    <a:pt x="148908" y="300355"/>
                    <a:pt x="154115" y="289179"/>
                  </a:cubicBezTo>
                  <a:cubicBezTo>
                    <a:pt x="159322" y="278003"/>
                    <a:pt x="162306" y="260985"/>
                    <a:pt x="163068" y="238125"/>
                  </a:cubicBezTo>
                  <a:cubicBezTo>
                    <a:pt x="157988" y="238887"/>
                    <a:pt x="153734" y="239268"/>
                    <a:pt x="150305" y="239268"/>
                  </a:cubicBezTo>
                  <a:cubicBezTo>
                    <a:pt x="146876" y="239268"/>
                    <a:pt x="145161" y="238760"/>
                    <a:pt x="145161" y="237744"/>
                  </a:cubicBezTo>
                  <a:cubicBezTo>
                    <a:pt x="145161" y="236728"/>
                    <a:pt x="146558" y="235458"/>
                    <a:pt x="149352" y="233934"/>
                  </a:cubicBezTo>
                  <a:cubicBezTo>
                    <a:pt x="156210" y="230378"/>
                    <a:pt x="159639" y="226695"/>
                    <a:pt x="159639" y="222885"/>
                  </a:cubicBezTo>
                  <a:cubicBezTo>
                    <a:pt x="159639" y="221361"/>
                    <a:pt x="159258" y="219837"/>
                    <a:pt x="158496" y="218313"/>
                  </a:cubicBezTo>
                  <a:close/>
                  <a:moveTo>
                    <a:pt x="576263" y="200025"/>
                  </a:moveTo>
                  <a:cubicBezTo>
                    <a:pt x="575120" y="200025"/>
                    <a:pt x="574040" y="200279"/>
                    <a:pt x="573024" y="200787"/>
                  </a:cubicBezTo>
                  <a:cubicBezTo>
                    <a:pt x="565150" y="205105"/>
                    <a:pt x="554482" y="209169"/>
                    <a:pt x="541020" y="212979"/>
                  </a:cubicBezTo>
                  <a:cubicBezTo>
                    <a:pt x="542798" y="218567"/>
                    <a:pt x="544195" y="224790"/>
                    <a:pt x="545211" y="231648"/>
                  </a:cubicBezTo>
                  <a:cubicBezTo>
                    <a:pt x="556133" y="229870"/>
                    <a:pt x="564325" y="225552"/>
                    <a:pt x="569786" y="218694"/>
                  </a:cubicBezTo>
                  <a:cubicBezTo>
                    <a:pt x="575247" y="211836"/>
                    <a:pt x="577977" y="207010"/>
                    <a:pt x="577977" y="204216"/>
                  </a:cubicBezTo>
                  <a:cubicBezTo>
                    <a:pt x="577977" y="201422"/>
                    <a:pt x="577406" y="200025"/>
                    <a:pt x="576263" y="200025"/>
                  </a:cubicBezTo>
                  <a:close/>
                  <a:moveTo>
                    <a:pt x="953643" y="199263"/>
                  </a:moveTo>
                  <a:cubicBezTo>
                    <a:pt x="954659" y="199263"/>
                    <a:pt x="955167" y="199644"/>
                    <a:pt x="955167" y="200406"/>
                  </a:cubicBezTo>
                  <a:cubicBezTo>
                    <a:pt x="955167" y="202184"/>
                    <a:pt x="950659" y="207582"/>
                    <a:pt x="941642" y="216599"/>
                  </a:cubicBezTo>
                  <a:cubicBezTo>
                    <a:pt x="932625" y="225616"/>
                    <a:pt x="921893" y="234823"/>
                    <a:pt x="909447" y="244221"/>
                  </a:cubicBezTo>
                  <a:cubicBezTo>
                    <a:pt x="905891" y="247015"/>
                    <a:pt x="903732" y="249301"/>
                    <a:pt x="902970" y="251079"/>
                  </a:cubicBezTo>
                  <a:cubicBezTo>
                    <a:pt x="902208" y="252857"/>
                    <a:pt x="901827" y="255969"/>
                    <a:pt x="901827" y="260414"/>
                  </a:cubicBezTo>
                  <a:cubicBezTo>
                    <a:pt x="901827" y="264859"/>
                    <a:pt x="900494" y="268859"/>
                    <a:pt x="897827" y="272415"/>
                  </a:cubicBezTo>
                  <a:cubicBezTo>
                    <a:pt x="895160" y="275971"/>
                    <a:pt x="892302" y="277749"/>
                    <a:pt x="889254" y="277749"/>
                  </a:cubicBezTo>
                  <a:cubicBezTo>
                    <a:pt x="880872" y="277749"/>
                    <a:pt x="875538" y="272796"/>
                    <a:pt x="873252" y="262890"/>
                  </a:cubicBezTo>
                  <a:cubicBezTo>
                    <a:pt x="872236" y="258064"/>
                    <a:pt x="870649" y="254572"/>
                    <a:pt x="868490" y="252413"/>
                  </a:cubicBezTo>
                  <a:cubicBezTo>
                    <a:pt x="866331" y="250254"/>
                    <a:pt x="865251" y="247142"/>
                    <a:pt x="865251" y="243078"/>
                  </a:cubicBezTo>
                  <a:cubicBezTo>
                    <a:pt x="865251" y="239014"/>
                    <a:pt x="867093" y="233299"/>
                    <a:pt x="870776" y="225933"/>
                  </a:cubicBezTo>
                  <a:cubicBezTo>
                    <a:pt x="874459" y="218567"/>
                    <a:pt x="877570" y="214884"/>
                    <a:pt x="880110" y="214884"/>
                  </a:cubicBezTo>
                  <a:cubicBezTo>
                    <a:pt x="881380" y="214884"/>
                    <a:pt x="882015" y="215900"/>
                    <a:pt x="882015" y="217932"/>
                  </a:cubicBezTo>
                  <a:lnTo>
                    <a:pt x="881634" y="224790"/>
                  </a:lnTo>
                  <a:cubicBezTo>
                    <a:pt x="881634" y="229108"/>
                    <a:pt x="882396" y="231267"/>
                    <a:pt x="883920" y="231267"/>
                  </a:cubicBezTo>
                  <a:cubicBezTo>
                    <a:pt x="885444" y="231267"/>
                    <a:pt x="887603" y="230505"/>
                    <a:pt x="890397" y="228981"/>
                  </a:cubicBezTo>
                  <a:cubicBezTo>
                    <a:pt x="927227" y="209169"/>
                    <a:pt x="948309" y="199263"/>
                    <a:pt x="953643" y="199263"/>
                  </a:cubicBezTo>
                  <a:close/>
                  <a:moveTo>
                    <a:pt x="1014603" y="192786"/>
                  </a:moveTo>
                  <a:cubicBezTo>
                    <a:pt x="1018921" y="192786"/>
                    <a:pt x="1027303" y="197930"/>
                    <a:pt x="1039749" y="208217"/>
                  </a:cubicBezTo>
                  <a:cubicBezTo>
                    <a:pt x="1052195" y="218504"/>
                    <a:pt x="1058418" y="228219"/>
                    <a:pt x="1058418" y="237363"/>
                  </a:cubicBezTo>
                  <a:cubicBezTo>
                    <a:pt x="1058418" y="245999"/>
                    <a:pt x="1054545" y="254826"/>
                    <a:pt x="1046798" y="263843"/>
                  </a:cubicBezTo>
                  <a:cubicBezTo>
                    <a:pt x="1039051" y="272860"/>
                    <a:pt x="1034225" y="277368"/>
                    <a:pt x="1032320" y="277368"/>
                  </a:cubicBezTo>
                  <a:cubicBezTo>
                    <a:pt x="1030415" y="277368"/>
                    <a:pt x="1028700" y="275971"/>
                    <a:pt x="1027176" y="273177"/>
                  </a:cubicBezTo>
                  <a:cubicBezTo>
                    <a:pt x="1024636" y="267589"/>
                    <a:pt x="1019175" y="261112"/>
                    <a:pt x="1010793" y="253746"/>
                  </a:cubicBezTo>
                  <a:cubicBezTo>
                    <a:pt x="1002411" y="246380"/>
                    <a:pt x="994664" y="241300"/>
                    <a:pt x="987552" y="238506"/>
                  </a:cubicBezTo>
                  <a:cubicBezTo>
                    <a:pt x="984504" y="237236"/>
                    <a:pt x="982980" y="235839"/>
                    <a:pt x="982980" y="234315"/>
                  </a:cubicBezTo>
                  <a:cubicBezTo>
                    <a:pt x="982980" y="232791"/>
                    <a:pt x="985647" y="232410"/>
                    <a:pt x="990981" y="233172"/>
                  </a:cubicBezTo>
                  <a:cubicBezTo>
                    <a:pt x="996315" y="233934"/>
                    <a:pt x="1001395" y="234315"/>
                    <a:pt x="1006221" y="234315"/>
                  </a:cubicBezTo>
                  <a:cubicBezTo>
                    <a:pt x="1015111" y="234315"/>
                    <a:pt x="1020255" y="233172"/>
                    <a:pt x="1021652" y="230886"/>
                  </a:cubicBezTo>
                  <a:cubicBezTo>
                    <a:pt x="1023049" y="228600"/>
                    <a:pt x="1023747" y="225933"/>
                    <a:pt x="1023747" y="222885"/>
                  </a:cubicBezTo>
                  <a:cubicBezTo>
                    <a:pt x="1023747" y="219837"/>
                    <a:pt x="1020191" y="211963"/>
                    <a:pt x="1013079" y="199263"/>
                  </a:cubicBezTo>
                  <a:cubicBezTo>
                    <a:pt x="1012317" y="197739"/>
                    <a:pt x="1011936" y="196279"/>
                    <a:pt x="1011936" y="194882"/>
                  </a:cubicBezTo>
                  <a:cubicBezTo>
                    <a:pt x="1011936" y="193485"/>
                    <a:pt x="1012825" y="192786"/>
                    <a:pt x="1014603" y="192786"/>
                  </a:cubicBezTo>
                  <a:close/>
                  <a:moveTo>
                    <a:pt x="538925" y="159258"/>
                  </a:moveTo>
                  <a:cubicBezTo>
                    <a:pt x="538036" y="159258"/>
                    <a:pt x="535305" y="160719"/>
                    <a:pt x="530733" y="163640"/>
                  </a:cubicBezTo>
                  <a:cubicBezTo>
                    <a:pt x="526161" y="166561"/>
                    <a:pt x="523875" y="169545"/>
                    <a:pt x="523875" y="172593"/>
                  </a:cubicBezTo>
                  <a:cubicBezTo>
                    <a:pt x="523875" y="173101"/>
                    <a:pt x="524002" y="173355"/>
                    <a:pt x="524256" y="173355"/>
                  </a:cubicBezTo>
                  <a:cubicBezTo>
                    <a:pt x="525272" y="173355"/>
                    <a:pt x="527622" y="171768"/>
                    <a:pt x="531305" y="168593"/>
                  </a:cubicBezTo>
                  <a:cubicBezTo>
                    <a:pt x="534988" y="165418"/>
                    <a:pt x="537401" y="163068"/>
                    <a:pt x="538544" y="161544"/>
                  </a:cubicBezTo>
                  <a:cubicBezTo>
                    <a:pt x="539687" y="160020"/>
                    <a:pt x="539814" y="159258"/>
                    <a:pt x="538925" y="159258"/>
                  </a:cubicBezTo>
                  <a:close/>
                  <a:moveTo>
                    <a:pt x="474726" y="124968"/>
                  </a:moveTo>
                  <a:cubicBezTo>
                    <a:pt x="479552" y="124968"/>
                    <a:pt x="484823" y="126873"/>
                    <a:pt x="490538" y="130683"/>
                  </a:cubicBezTo>
                  <a:cubicBezTo>
                    <a:pt x="496253" y="134493"/>
                    <a:pt x="499110" y="138557"/>
                    <a:pt x="499110" y="142875"/>
                  </a:cubicBezTo>
                  <a:cubicBezTo>
                    <a:pt x="499110" y="145669"/>
                    <a:pt x="497967" y="149352"/>
                    <a:pt x="495681" y="153924"/>
                  </a:cubicBezTo>
                  <a:cubicBezTo>
                    <a:pt x="487299" y="170434"/>
                    <a:pt x="481584" y="183071"/>
                    <a:pt x="478536" y="191834"/>
                  </a:cubicBezTo>
                  <a:cubicBezTo>
                    <a:pt x="475488" y="200597"/>
                    <a:pt x="473964" y="208153"/>
                    <a:pt x="473964" y="214503"/>
                  </a:cubicBezTo>
                  <a:cubicBezTo>
                    <a:pt x="473964" y="220853"/>
                    <a:pt x="474599" y="224028"/>
                    <a:pt x="475869" y="224028"/>
                  </a:cubicBezTo>
                  <a:cubicBezTo>
                    <a:pt x="476631" y="224028"/>
                    <a:pt x="477711" y="222060"/>
                    <a:pt x="479108" y="218123"/>
                  </a:cubicBezTo>
                  <a:cubicBezTo>
                    <a:pt x="480505" y="214186"/>
                    <a:pt x="481838" y="212090"/>
                    <a:pt x="483108" y="211836"/>
                  </a:cubicBezTo>
                  <a:cubicBezTo>
                    <a:pt x="485902" y="210820"/>
                    <a:pt x="487807" y="208407"/>
                    <a:pt x="488823" y="204597"/>
                  </a:cubicBezTo>
                  <a:cubicBezTo>
                    <a:pt x="489839" y="200787"/>
                    <a:pt x="490665" y="198882"/>
                    <a:pt x="491300" y="198882"/>
                  </a:cubicBezTo>
                  <a:cubicBezTo>
                    <a:pt x="491935" y="198882"/>
                    <a:pt x="492506" y="199517"/>
                    <a:pt x="493014" y="200787"/>
                  </a:cubicBezTo>
                  <a:cubicBezTo>
                    <a:pt x="493522" y="202057"/>
                    <a:pt x="493776" y="203518"/>
                    <a:pt x="493776" y="205169"/>
                  </a:cubicBezTo>
                  <a:cubicBezTo>
                    <a:pt x="493776" y="206820"/>
                    <a:pt x="492316" y="210693"/>
                    <a:pt x="489395" y="216789"/>
                  </a:cubicBezTo>
                  <a:cubicBezTo>
                    <a:pt x="486474" y="222885"/>
                    <a:pt x="483553" y="232728"/>
                    <a:pt x="480632" y="246317"/>
                  </a:cubicBezTo>
                  <a:cubicBezTo>
                    <a:pt x="477711" y="259906"/>
                    <a:pt x="476250" y="269558"/>
                    <a:pt x="476250" y="275273"/>
                  </a:cubicBezTo>
                  <a:cubicBezTo>
                    <a:pt x="476250" y="280988"/>
                    <a:pt x="476695" y="284671"/>
                    <a:pt x="477584" y="286322"/>
                  </a:cubicBezTo>
                  <a:cubicBezTo>
                    <a:pt x="478473" y="287973"/>
                    <a:pt x="478917" y="289751"/>
                    <a:pt x="478917" y="291656"/>
                  </a:cubicBezTo>
                  <a:cubicBezTo>
                    <a:pt x="478917" y="293561"/>
                    <a:pt x="478028" y="295085"/>
                    <a:pt x="476250" y="296228"/>
                  </a:cubicBezTo>
                  <a:cubicBezTo>
                    <a:pt x="474472" y="297371"/>
                    <a:pt x="472821" y="297942"/>
                    <a:pt x="471297" y="297942"/>
                  </a:cubicBezTo>
                  <a:cubicBezTo>
                    <a:pt x="466725" y="297942"/>
                    <a:pt x="461391" y="293243"/>
                    <a:pt x="455295" y="283845"/>
                  </a:cubicBezTo>
                  <a:cubicBezTo>
                    <a:pt x="449199" y="274447"/>
                    <a:pt x="446151" y="259588"/>
                    <a:pt x="446151" y="239268"/>
                  </a:cubicBezTo>
                  <a:cubicBezTo>
                    <a:pt x="446151" y="228346"/>
                    <a:pt x="446786" y="217170"/>
                    <a:pt x="448056" y="205740"/>
                  </a:cubicBezTo>
                  <a:lnTo>
                    <a:pt x="451485" y="176784"/>
                  </a:lnTo>
                  <a:cubicBezTo>
                    <a:pt x="451485" y="175768"/>
                    <a:pt x="451231" y="175260"/>
                    <a:pt x="450723" y="175260"/>
                  </a:cubicBezTo>
                  <a:cubicBezTo>
                    <a:pt x="448945" y="175260"/>
                    <a:pt x="443992" y="178816"/>
                    <a:pt x="435864" y="185928"/>
                  </a:cubicBezTo>
                  <a:cubicBezTo>
                    <a:pt x="422910" y="197612"/>
                    <a:pt x="411417" y="203454"/>
                    <a:pt x="401384" y="203454"/>
                  </a:cubicBezTo>
                  <a:cubicBezTo>
                    <a:pt x="391351" y="203454"/>
                    <a:pt x="383413" y="197803"/>
                    <a:pt x="377571" y="186500"/>
                  </a:cubicBezTo>
                  <a:cubicBezTo>
                    <a:pt x="371729" y="175197"/>
                    <a:pt x="368808" y="166878"/>
                    <a:pt x="368808" y="161544"/>
                  </a:cubicBezTo>
                  <a:cubicBezTo>
                    <a:pt x="368808" y="156210"/>
                    <a:pt x="371412" y="151321"/>
                    <a:pt x="376619" y="146876"/>
                  </a:cubicBezTo>
                  <a:cubicBezTo>
                    <a:pt x="381826" y="142431"/>
                    <a:pt x="385064" y="140208"/>
                    <a:pt x="386334" y="140208"/>
                  </a:cubicBezTo>
                  <a:cubicBezTo>
                    <a:pt x="387604" y="140208"/>
                    <a:pt x="388239" y="140780"/>
                    <a:pt x="388239" y="141923"/>
                  </a:cubicBezTo>
                  <a:cubicBezTo>
                    <a:pt x="388239" y="143066"/>
                    <a:pt x="387223" y="144844"/>
                    <a:pt x="385191" y="147257"/>
                  </a:cubicBezTo>
                  <a:cubicBezTo>
                    <a:pt x="383159" y="149670"/>
                    <a:pt x="382143" y="152464"/>
                    <a:pt x="382143" y="155639"/>
                  </a:cubicBezTo>
                  <a:cubicBezTo>
                    <a:pt x="382143" y="158814"/>
                    <a:pt x="382905" y="161354"/>
                    <a:pt x="384429" y="163259"/>
                  </a:cubicBezTo>
                  <a:cubicBezTo>
                    <a:pt x="385953" y="165164"/>
                    <a:pt x="387985" y="166116"/>
                    <a:pt x="390525" y="166116"/>
                  </a:cubicBezTo>
                  <a:cubicBezTo>
                    <a:pt x="394589" y="166116"/>
                    <a:pt x="406210" y="161798"/>
                    <a:pt x="425387" y="153162"/>
                  </a:cubicBezTo>
                  <a:cubicBezTo>
                    <a:pt x="444564" y="144526"/>
                    <a:pt x="454914" y="138049"/>
                    <a:pt x="456438" y="133731"/>
                  </a:cubicBezTo>
                  <a:cubicBezTo>
                    <a:pt x="457200" y="131191"/>
                    <a:pt x="459232" y="129096"/>
                    <a:pt x="462534" y="127445"/>
                  </a:cubicBezTo>
                  <a:cubicBezTo>
                    <a:pt x="465836" y="125794"/>
                    <a:pt x="469900" y="124968"/>
                    <a:pt x="474726" y="124968"/>
                  </a:cubicBezTo>
                  <a:close/>
                  <a:moveTo>
                    <a:pt x="582549" y="115062"/>
                  </a:moveTo>
                  <a:cubicBezTo>
                    <a:pt x="587375" y="115062"/>
                    <a:pt x="592836" y="115888"/>
                    <a:pt x="598932" y="117539"/>
                  </a:cubicBezTo>
                  <a:cubicBezTo>
                    <a:pt x="605028" y="119190"/>
                    <a:pt x="608838" y="122047"/>
                    <a:pt x="610362" y="126111"/>
                  </a:cubicBezTo>
                  <a:cubicBezTo>
                    <a:pt x="611886" y="130175"/>
                    <a:pt x="612648" y="133541"/>
                    <a:pt x="612648" y="136208"/>
                  </a:cubicBezTo>
                  <a:cubicBezTo>
                    <a:pt x="612648" y="138875"/>
                    <a:pt x="611378" y="140843"/>
                    <a:pt x="608838" y="142113"/>
                  </a:cubicBezTo>
                  <a:cubicBezTo>
                    <a:pt x="606298" y="143383"/>
                    <a:pt x="602933" y="144018"/>
                    <a:pt x="598742" y="144018"/>
                  </a:cubicBezTo>
                  <a:cubicBezTo>
                    <a:pt x="594551" y="144018"/>
                    <a:pt x="588518" y="145796"/>
                    <a:pt x="580644" y="149352"/>
                  </a:cubicBezTo>
                  <a:cubicBezTo>
                    <a:pt x="572770" y="152908"/>
                    <a:pt x="564769" y="157226"/>
                    <a:pt x="556641" y="162306"/>
                  </a:cubicBezTo>
                  <a:cubicBezTo>
                    <a:pt x="548513" y="167386"/>
                    <a:pt x="542925" y="170688"/>
                    <a:pt x="539877" y="172212"/>
                  </a:cubicBezTo>
                  <a:cubicBezTo>
                    <a:pt x="536829" y="173736"/>
                    <a:pt x="533400" y="174879"/>
                    <a:pt x="529590" y="175641"/>
                  </a:cubicBezTo>
                  <a:cubicBezTo>
                    <a:pt x="525780" y="176403"/>
                    <a:pt x="523875" y="178054"/>
                    <a:pt x="523875" y="180594"/>
                  </a:cubicBezTo>
                  <a:cubicBezTo>
                    <a:pt x="523875" y="183134"/>
                    <a:pt x="525145" y="185928"/>
                    <a:pt x="527685" y="188976"/>
                  </a:cubicBezTo>
                  <a:cubicBezTo>
                    <a:pt x="556895" y="175260"/>
                    <a:pt x="575374" y="168402"/>
                    <a:pt x="583121" y="168402"/>
                  </a:cubicBezTo>
                  <a:cubicBezTo>
                    <a:pt x="590868" y="168402"/>
                    <a:pt x="598678" y="171260"/>
                    <a:pt x="606552" y="176975"/>
                  </a:cubicBezTo>
                  <a:cubicBezTo>
                    <a:pt x="614426" y="182690"/>
                    <a:pt x="618363" y="188341"/>
                    <a:pt x="618363" y="193929"/>
                  </a:cubicBezTo>
                  <a:cubicBezTo>
                    <a:pt x="618363" y="196723"/>
                    <a:pt x="616903" y="199009"/>
                    <a:pt x="613982" y="200787"/>
                  </a:cubicBezTo>
                  <a:cubicBezTo>
                    <a:pt x="611061" y="202565"/>
                    <a:pt x="608076" y="207137"/>
                    <a:pt x="605028" y="214503"/>
                  </a:cubicBezTo>
                  <a:cubicBezTo>
                    <a:pt x="601980" y="221869"/>
                    <a:pt x="600456" y="227267"/>
                    <a:pt x="600456" y="230696"/>
                  </a:cubicBezTo>
                  <a:cubicBezTo>
                    <a:pt x="600456" y="234125"/>
                    <a:pt x="600710" y="236284"/>
                    <a:pt x="601218" y="237173"/>
                  </a:cubicBezTo>
                  <a:cubicBezTo>
                    <a:pt x="601726" y="238062"/>
                    <a:pt x="601980" y="239014"/>
                    <a:pt x="601980" y="240030"/>
                  </a:cubicBezTo>
                  <a:cubicBezTo>
                    <a:pt x="601980" y="243586"/>
                    <a:pt x="599059" y="245936"/>
                    <a:pt x="593217" y="247079"/>
                  </a:cubicBezTo>
                  <a:cubicBezTo>
                    <a:pt x="587375" y="248222"/>
                    <a:pt x="574929" y="251968"/>
                    <a:pt x="555879" y="258318"/>
                  </a:cubicBezTo>
                  <a:cubicBezTo>
                    <a:pt x="548513" y="260858"/>
                    <a:pt x="542227" y="262128"/>
                    <a:pt x="537020" y="262128"/>
                  </a:cubicBezTo>
                  <a:cubicBezTo>
                    <a:pt x="531813" y="262128"/>
                    <a:pt x="527558" y="259271"/>
                    <a:pt x="524256" y="253556"/>
                  </a:cubicBezTo>
                  <a:cubicBezTo>
                    <a:pt x="520954" y="247841"/>
                    <a:pt x="517462" y="237427"/>
                    <a:pt x="513779" y="222314"/>
                  </a:cubicBezTo>
                  <a:cubicBezTo>
                    <a:pt x="510096" y="207201"/>
                    <a:pt x="508254" y="195834"/>
                    <a:pt x="508254" y="188214"/>
                  </a:cubicBezTo>
                  <a:cubicBezTo>
                    <a:pt x="508254" y="180594"/>
                    <a:pt x="510286" y="175514"/>
                    <a:pt x="514350" y="172974"/>
                  </a:cubicBezTo>
                  <a:lnTo>
                    <a:pt x="526923" y="163449"/>
                  </a:lnTo>
                  <a:cubicBezTo>
                    <a:pt x="531241" y="159893"/>
                    <a:pt x="533591" y="157861"/>
                    <a:pt x="533972" y="157353"/>
                  </a:cubicBezTo>
                  <a:cubicBezTo>
                    <a:pt x="534353" y="156845"/>
                    <a:pt x="534543" y="156147"/>
                    <a:pt x="534543" y="155258"/>
                  </a:cubicBezTo>
                  <a:cubicBezTo>
                    <a:pt x="534543" y="154369"/>
                    <a:pt x="533718" y="153416"/>
                    <a:pt x="532067" y="152400"/>
                  </a:cubicBezTo>
                  <a:cubicBezTo>
                    <a:pt x="530416" y="151384"/>
                    <a:pt x="528193" y="147574"/>
                    <a:pt x="525399" y="140970"/>
                  </a:cubicBezTo>
                  <a:cubicBezTo>
                    <a:pt x="522605" y="134366"/>
                    <a:pt x="521208" y="130493"/>
                    <a:pt x="521208" y="129350"/>
                  </a:cubicBezTo>
                  <a:cubicBezTo>
                    <a:pt x="521208" y="128207"/>
                    <a:pt x="521843" y="127635"/>
                    <a:pt x="523113" y="127635"/>
                  </a:cubicBezTo>
                  <a:lnTo>
                    <a:pt x="526923" y="128016"/>
                  </a:lnTo>
                  <a:cubicBezTo>
                    <a:pt x="532003" y="128016"/>
                    <a:pt x="539687" y="126810"/>
                    <a:pt x="549974" y="124397"/>
                  </a:cubicBezTo>
                  <a:cubicBezTo>
                    <a:pt x="560261" y="121984"/>
                    <a:pt x="567817" y="119380"/>
                    <a:pt x="572643" y="116586"/>
                  </a:cubicBezTo>
                  <a:cubicBezTo>
                    <a:pt x="574421" y="115570"/>
                    <a:pt x="577723" y="115062"/>
                    <a:pt x="582549" y="115062"/>
                  </a:cubicBezTo>
                  <a:close/>
                  <a:moveTo>
                    <a:pt x="984504" y="97536"/>
                  </a:moveTo>
                  <a:cubicBezTo>
                    <a:pt x="983742" y="97536"/>
                    <a:pt x="982599" y="97917"/>
                    <a:pt x="981075" y="98679"/>
                  </a:cubicBezTo>
                  <a:cubicBezTo>
                    <a:pt x="974471" y="101981"/>
                    <a:pt x="958977" y="104775"/>
                    <a:pt x="934593" y="107061"/>
                  </a:cubicBezTo>
                  <a:cubicBezTo>
                    <a:pt x="936625" y="111125"/>
                    <a:pt x="937641" y="114808"/>
                    <a:pt x="937641" y="118110"/>
                  </a:cubicBezTo>
                  <a:cubicBezTo>
                    <a:pt x="937641" y="121412"/>
                    <a:pt x="937387" y="124651"/>
                    <a:pt x="936879" y="127826"/>
                  </a:cubicBezTo>
                  <a:cubicBezTo>
                    <a:pt x="936371" y="131001"/>
                    <a:pt x="936117" y="134303"/>
                    <a:pt x="936117" y="137732"/>
                  </a:cubicBezTo>
                  <a:cubicBezTo>
                    <a:pt x="936117" y="141161"/>
                    <a:pt x="936625" y="144399"/>
                    <a:pt x="937641" y="147447"/>
                  </a:cubicBezTo>
                  <a:cubicBezTo>
                    <a:pt x="942721" y="147447"/>
                    <a:pt x="948944" y="146304"/>
                    <a:pt x="956310" y="144018"/>
                  </a:cubicBezTo>
                  <a:cubicBezTo>
                    <a:pt x="963676" y="141732"/>
                    <a:pt x="968756" y="139129"/>
                    <a:pt x="971550" y="136208"/>
                  </a:cubicBezTo>
                  <a:cubicBezTo>
                    <a:pt x="974344" y="133287"/>
                    <a:pt x="977392" y="126937"/>
                    <a:pt x="980694" y="117158"/>
                  </a:cubicBezTo>
                  <a:cubicBezTo>
                    <a:pt x="983996" y="107379"/>
                    <a:pt x="985647" y="101664"/>
                    <a:pt x="985647" y="100013"/>
                  </a:cubicBezTo>
                  <a:cubicBezTo>
                    <a:pt x="985647" y="98362"/>
                    <a:pt x="985266" y="97536"/>
                    <a:pt x="984504" y="97536"/>
                  </a:cubicBezTo>
                  <a:close/>
                  <a:moveTo>
                    <a:pt x="990600" y="57912"/>
                  </a:moveTo>
                  <a:cubicBezTo>
                    <a:pt x="997458" y="57912"/>
                    <a:pt x="1006475" y="61659"/>
                    <a:pt x="1017651" y="69152"/>
                  </a:cubicBezTo>
                  <a:cubicBezTo>
                    <a:pt x="1028827" y="76645"/>
                    <a:pt x="1034415" y="83693"/>
                    <a:pt x="1034415" y="90297"/>
                  </a:cubicBezTo>
                  <a:cubicBezTo>
                    <a:pt x="1034415" y="93345"/>
                    <a:pt x="1033018" y="96584"/>
                    <a:pt x="1030224" y="100013"/>
                  </a:cubicBezTo>
                  <a:cubicBezTo>
                    <a:pt x="1027430" y="103442"/>
                    <a:pt x="1018667" y="117729"/>
                    <a:pt x="1003935" y="142875"/>
                  </a:cubicBezTo>
                  <a:cubicBezTo>
                    <a:pt x="1008761" y="148971"/>
                    <a:pt x="1011174" y="154242"/>
                    <a:pt x="1011174" y="158687"/>
                  </a:cubicBezTo>
                  <a:cubicBezTo>
                    <a:pt x="1011174" y="163132"/>
                    <a:pt x="1007999" y="165481"/>
                    <a:pt x="1001649" y="165735"/>
                  </a:cubicBezTo>
                  <a:cubicBezTo>
                    <a:pt x="998855" y="165735"/>
                    <a:pt x="995299" y="166180"/>
                    <a:pt x="990981" y="167069"/>
                  </a:cubicBezTo>
                  <a:cubicBezTo>
                    <a:pt x="986663" y="167958"/>
                    <a:pt x="983298" y="169164"/>
                    <a:pt x="980885" y="170688"/>
                  </a:cubicBezTo>
                  <a:cubicBezTo>
                    <a:pt x="978472" y="172212"/>
                    <a:pt x="974789" y="173673"/>
                    <a:pt x="969836" y="175070"/>
                  </a:cubicBezTo>
                  <a:cubicBezTo>
                    <a:pt x="964883" y="176467"/>
                    <a:pt x="960501" y="177165"/>
                    <a:pt x="956691" y="177165"/>
                  </a:cubicBezTo>
                  <a:cubicBezTo>
                    <a:pt x="948563" y="177165"/>
                    <a:pt x="943229" y="180213"/>
                    <a:pt x="940689" y="186309"/>
                  </a:cubicBezTo>
                  <a:cubicBezTo>
                    <a:pt x="938657" y="190373"/>
                    <a:pt x="931672" y="192405"/>
                    <a:pt x="919734" y="192405"/>
                  </a:cubicBezTo>
                  <a:cubicBezTo>
                    <a:pt x="917448" y="192405"/>
                    <a:pt x="915670" y="192024"/>
                    <a:pt x="914400" y="191262"/>
                  </a:cubicBezTo>
                  <a:cubicBezTo>
                    <a:pt x="913130" y="190500"/>
                    <a:pt x="912495" y="189357"/>
                    <a:pt x="912495" y="187833"/>
                  </a:cubicBezTo>
                  <a:lnTo>
                    <a:pt x="912495" y="183642"/>
                  </a:lnTo>
                  <a:cubicBezTo>
                    <a:pt x="912495" y="178562"/>
                    <a:pt x="911098" y="174752"/>
                    <a:pt x="908304" y="172212"/>
                  </a:cubicBezTo>
                  <a:cubicBezTo>
                    <a:pt x="907288" y="171196"/>
                    <a:pt x="905637" y="163957"/>
                    <a:pt x="903351" y="150495"/>
                  </a:cubicBezTo>
                  <a:cubicBezTo>
                    <a:pt x="901065" y="137033"/>
                    <a:pt x="899732" y="126873"/>
                    <a:pt x="899351" y="120015"/>
                  </a:cubicBezTo>
                  <a:cubicBezTo>
                    <a:pt x="898970" y="113157"/>
                    <a:pt x="898017" y="108585"/>
                    <a:pt x="896493" y="106299"/>
                  </a:cubicBezTo>
                  <a:cubicBezTo>
                    <a:pt x="894969" y="104013"/>
                    <a:pt x="892810" y="101918"/>
                    <a:pt x="890016" y="100013"/>
                  </a:cubicBezTo>
                  <a:cubicBezTo>
                    <a:pt x="887222" y="98108"/>
                    <a:pt x="885825" y="96457"/>
                    <a:pt x="885825" y="95060"/>
                  </a:cubicBezTo>
                  <a:cubicBezTo>
                    <a:pt x="885825" y="93663"/>
                    <a:pt x="886460" y="92393"/>
                    <a:pt x="887730" y="91250"/>
                  </a:cubicBezTo>
                  <a:cubicBezTo>
                    <a:pt x="889000" y="90107"/>
                    <a:pt x="891159" y="89535"/>
                    <a:pt x="894207" y="89535"/>
                  </a:cubicBezTo>
                  <a:cubicBezTo>
                    <a:pt x="897255" y="89535"/>
                    <a:pt x="904113" y="91186"/>
                    <a:pt x="914781" y="94488"/>
                  </a:cubicBezTo>
                  <a:cubicBezTo>
                    <a:pt x="925449" y="84836"/>
                    <a:pt x="938784" y="77343"/>
                    <a:pt x="954786" y="72009"/>
                  </a:cubicBezTo>
                  <a:cubicBezTo>
                    <a:pt x="963168" y="69215"/>
                    <a:pt x="970153" y="65659"/>
                    <a:pt x="975741" y="61341"/>
                  </a:cubicBezTo>
                  <a:cubicBezTo>
                    <a:pt x="978789" y="59055"/>
                    <a:pt x="983742" y="57912"/>
                    <a:pt x="990600" y="57912"/>
                  </a:cubicBezTo>
                  <a:close/>
                  <a:moveTo>
                    <a:pt x="617792" y="52959"/>
                  </a:moveTo>
                  <a:cubicBezTo>
                    <a:pt x="628587" y="52959"/>
                    <a:pt x="640271" y="57214"/>
                    <a:pt x="652844" y="65723"/>
                  </a:cubicBezTo>
                  <a:cubicBezTo>
                    <a:pt x="665417" y="74232"/>
                    <a:pt x="671703" y="82931"/>
                    <a:pt x="671703" y="91821"/>
                  </a:cubicBezTo>
                  <a:cubicBezTo>
                    <a:pt x="671703" y="94107"/>
                    <a:pt x="671322" y="96266"/>
                    <a:pt x="670560" y="98298"/>
                  </a:cubicBezTo>
                  <a:cubicBezTo>
                    <a:pt x="669036" y="102108"/>
                    <a:pt x="667703" y="112268"/>
                    <a:pt x="666560" y="128778"/>
                  </a:cubicBezTo>
                  <a:cubicBezTo>
                    <a:pt x="665417" y="145288"/>
                    <a:pt x="664845" y="161671"/>
                    <a:pt x="664845" y="177927"/>
                  </a:cubicBezTo>
                  <a:cubicBezTo>
                    <a:pt x="664845" y="194183"/>
                    <a:pt x="665226" y="207836"/>
                    <a:pt x="665988" y="218885"/>
                  </a:cubicBezTo>
                  <a:cubicBezTo>
                    <a:pt x="666750" y="229934"/>
                    <a:pt x="667131" y="240030"/>
                    <a:pt x="667131" y="249174"/>
                  </a:cubicBezTo>
                  <a:cubicBezTo>
                    <a:pt x="667131" y="274066"/>
                    <a:pt x="664337" y="292418"/>
                    <a:pt x="658749" y="304229"/>
                  </a:cubicBezTo>
                  <a:cubicBezTo>
                    <a:pt x="653161" y="316040"/>
                    <a:pt x="648462" y="321945"/>
                    <a:pt x="644652" y="321945"/>
                  </a:cubicBezTo>
                  <a:cubicBezTo>
                    <a:pt x="643128" y="321945"/>
                    <a:pt x="641350" y="321056"/>
                    <a:pt x="639318" y="319278"/>
                  </a:cubicBezTo>
                  <a:cubicBezTo>
                    <a:pt x="631952" y="312420"/>
                    <a:pt x="625221" y="307340"/>
                    <a:pt x="619125" y="304038"/>
                  </a:cubicBezTo>
                  <a:cubicBezTo>
                    <a:pt x="613029" y="300736"/>
                    <a:pt x="605282" y="295656"/>
                    <a:pt x="595884" y="288798"/>
                  </a:cubicBezTo>
                  <a:cubicBezTo>
                    <a:pt x="586486" y="281940"/>
                    <a:pt x="581787" y="277495"/>
                    <a:pt x="581787" y="275463"/>
                  </a:cubicBezTo>
                  <a:cubicBezTo>
                    <a:pt x="581787" y="273431"/>
                    <a:pt x="583184" y="272415"/>
                    <a:pt x="585978" y="272415"/>
                  </a:cubicBezTo>
                  <a:cubicBezTo>
                    <a:pt x="588772" y="272415"/>
                    <a:pt x="592519" y="272923"/>
                    <a:pt x="597218" y="273939"/>
                  </a:cubicBezTo>
                  <a:cubicBezTo>
                    <a:pt x="601917" y="274955"/>
                    <a:pt x="606870" y="275463"/>
                    <a:pt x="612077" y="275463"/>
                  </a:cubicBezTo>
                  <a:cubicBezTo>
                    <a:pt x="617284" y="275463"/>
                    <a:pt x="621665" y="274892"/>
                    <a:pt x="625221" y="273749"/>
                  </a:cubicBezTo>
                  <a:cubicBezTo>
                    <a:pt x="628777" y="272606"/>
                    <a:pt x="631635" y="271018"/>
                    <a:pt x="633794" y="268986"/>
                  </a:cubicBezTo>
                  <a:cubicBezTo>
                    <a:pt x="635953" y="266954"/>
                    <a:pt x="637159" y="264478"/>
                    <a:pt x="637413" y="261557"/>
                  </a:cubicBezTo>
                  <a:cubicBezTo>
                    <a:pt x="637667" y="258636"/>
                    <a:pt x="637921" y="254064"/>
                    <a:pt x="638175" y="247841"/>
                  </a:cubicBezTo>
                  <a:cubicBezTo>
                    <a:pt x="638429" y="241618"/>
                    <a:pt x="638556" y="234696"/>
                    <a:pt x="638556" y="227076"/>
                  </a:cubicBezTo>
                  <a:lnTo>
                    <a:pt x="636651" y="158877"/>
                  </a:lnTo>
                  <a:cubicBezTo>
                    <a:pt x="636651" y="151511"/>
                    <a:pt x="637223" y="140716"/>
                    <a:pt x="638366" y="126492"/>
                  </a:cubicBezTo>
                  <a:cubicBezTo>
                    <a:pt x="639509" y="112268"/>
                    <a:pt x="640080" y="101981"/>
                    <a:pt x="640080" y="95631"/>
                  </a:cubicBezTo>
                  <a:cubicBezTo>
                    <a:pt x="640080" y="89281"/>
                    <a:pt x="639509" y="85027"/>
                    <a:pt x="638366" y="82868"/>
                  </a:cubicBezTo>
                  <a:cubicBezTo>
                    <a:pt x="637223" y="80709"/>
                    <a:pt x="634302" y="78613"/>
                    <a:pt x="629603" y="76581"/>
                  </a:cubicBezTo>
                  <a:cubicBezTo>
                    <a:pt x="624904" y="74549"/>
                    <a:pt x="620014" y="73533"/>
                    <a:pt x="614934" y="73533"/>
                  </a:cubicBezTo>
                  <a:cubicBezTo>
                    <a:pt x="604520" y="73533"/>
                    <a:pt x="597408" y="76708"/>
                    <a:pt x="593598" y="83058"/>
                  </a:cubicBezTo>
                  <a:cubicBezTo>
                    <a:pt x="591058" y="86868"/>
                    <a:pt x="587947" y="89916"/>
                    <a:pt x="584264" y="92202"/>
                  </a:cubicBezTo>
                  <a:cubicBezTo>
                    <a:pt x="580581" y="94488"/>
                    <a:pt x="577596" y="95631"/>
                    <a:pt x="575310" y="95631"/>
                  </a:cubicBezTo>
                  <a:cubicBezTo>
                    <a:pt x="573024" y="95631"/>
                    <a:pt x="571627" y="95377"/>
                    <a:pt x="571119" y="94869"/>
                  </a:cubicBezTo>
                  <a:cubicBezTo>
                    <a:pt x="567817" y="92329"/>
                    <a:pt x="562102" y="91059"/>
                    <a:pt x="553974" y="91059"/>
                  </a:cubicBezTo>
                  <a:cubicBezTo>
                    <a:pt x="550418" y="91059"/>
                    <a:pt x="548259" y="91440"/>
                    <a:pt x="547497" y="92202"/>
                  </a:cubicBezTo>
                  <a:cubicBezTo>
                    <a:pt x="545211" y="94488"/>
                    <a:pt x="543624" y="95631"/>
                    <a:pt x="542735" y="95631"/>
                  </a:cubicBezTo>
                  <a:cubicBezTo>
                    <a:pt x="541846" y="95631"/>
                    <a:pt x="541401" y="94742"/>
                    <a:pt x="541401" y="92964"/>
                  </a:cubicBezTo>
                  <a:cubicBezTo>
                    <a:pt x="541401" y="84328"/>
                    <a:pt x="544068" y="78169"/>
                    <a:pt x="549402" y="74486"/>
                  </a:cubicBezTo>
                  <a:cubicBezTo>
                    <a:pt x="554736" y="70803"/>
                    <a:pt x="564769" y="66294"/>
                    <a:pt x="579501" y="60960"/>
                  </a:cubicBezTo>
                  <a:cubicBezTo>
                    <a:pt x="594233" y="55626"/>
                    <a:pt x="606997" y="52959"/>
                    <a:pt x="617792" y="52959"/>
                  </a:cubicBezTo>
                  <a:close/>
                  <a:moveTo>
                    <a:pt x="1341501" y="51816"/>
                  </a:moveTo>
                  <a:cubicBezTo>
                    <a:pt x="1346581" y="51816"/>
                    <a:pt x="1354646" y="56325"/>
                    <a:pt x="1365695" y="65342"/>
                  </a:cubicBezTo>
                  <a:cubicBezTo>
                    <a:pt x="1376744" y="74359"/>
                    <a:pt x="1382268" y="81661"/>
                    <a:pt x="1382268" y="87249"/>
                  </a:cubicBezTo>
                  <a:cubicBezTo>
                    <a:pt x="1382268" y="90043"/>
                    <a:pt x="1380998" y="92837"/>
                    <a:pt x="1378458" y="95631"/>
                  </a:cubicBezTo>
                  <a:cubicBezTo>
                    <a:pt x="1366012" y="109093"/>
                    <a:pt x="1359789" y="119507"/>
                    <a:pt x="1359789" y="126873"/>
                  </a:cubicBezTo>
                  <a:cubicBezTo>
                    <a:pt x="1359789" y="128397"/>
                    <a:pt x="1360170" y="130112"/>
                    <a:pt x="1360932" y="132017"/>
                  </a:cubicBezTo>
                  <a:cubicBezTo>
                    <a:pt x="1361694" y="133922"/>
                    <a:pt x="1362075" y="135763"/>
                    <a:pt x="1362075" y="137541"/>
                  </a:cubicBezTo>
                  <a:cubicBezTo>
                    <a:pt x="1362075" y="142621"/>
                    <a:pt x="1356741" y="146685"/>
                    <a:pt x="1346073" y="149733"/>
                  </a:cubicBezTo>
                  <a:cubicBezTo>
                    <a:pt x="1319403" y="157861"/>
                    <a:pt x="1301306" y="170371"/>
                    <a:pt x="1291781" y="187262"/>
                  </a:cubicBezTo>
                  <a:cubicBezTo>
                    <a:pt x="1282256" y="204153"/>
                    <a:pt x="1277493" y="221742"/>
                    <a:pt x="1277493" y="240030"/>
                  </a:cubicBezTo>
                  <a:cubicBezTo>
                    <a:pt x="1277493" y="245110"/>
                    <a:pt x="1282065" y="249047"/>
                    <a:pt x="1291209" y="251841"/>
                  </a:cubicBezTo>
                  <a:cubicBezTo>
                    <a:pt x="1300353" y="254635"/>
                    <a:pt x="1311910" y="256032"/>
                    <a:pt x="1325880" y="256032"/>
                  </a:cubicBezTo>
                  <a:cubicBezTo>
                    <a:pt x="1339850" y="256032"/>
                    <a:pt x="1353312" y="255207"/>
                    <a:pt x="1366266" y="253556"/>
                  </a:cubicBezTo>
                  <a:cubicBezTo>
                    <a:pt x="1379220" y="251905"/>
                    <a:pt x="1389253" y="249809"/>
                    <a:pt x="1396365" y="247269"/>
                  </a:cubicBezTo>
                  <a:cubicBezTo>
                    <a:pt x="1403477" y="244729"/>
                    <a:pt x="1409002" y="241427"/>
                    <a:pt x="1412939" y="237363"/>
                  </a:cubicBezTo>
                  <a:cubicBezTo>
                    <a:pt x="1416876" y="233299"/>
                    <a:pt x="1419479" y="228791"/>
                    <a:pt x="1420749" y="223838"/>
                  </a:cubicBezTo>
                  <a:cubicBezTo>
                    <a:pt x="1422019" y="218885"/>
                    <a:pt x="1422654" y="211519"/>
                    <a:pt x="1422654" y="201740"/>
                  </a:cubicBezTo>
                  <a:cubicBezTo>
                    <a:pt x="1422654" y="191961"/>
                    <a:pt x="1423035" y="187071"/>
                    <a:pt x="1423797" y="187071"/>
                  </a:cubicBezTo>
                  <a:cubicBezTo>
                    <a:pt x="1424559" y="187071"/>
                    <a:pt x="1426083" y="191135"/>
                    <a:pt x="1428369" y="199263"/>
                  </a:cubicBezTo>
                  <a:cubicBezTo>
                    <a:pt x="1433957" y="220599"/>
                    <a:pt x="1440180" y="235839"/>
                    <a:pt x="1447038" y="244983"/>
                  </a:cubicBezTo>
                  <a:cubicBezTo>
                    <a:pt x="1449832" y="248539"/>
                    <a:pt x="1451229" y="251968"/>
                    <a:pt x="1451229" y="255270"/>
                  </a:cubicBezTo>
                  <a:cubicBezTo>
                    <a:pt x="1451229" y="263906"/>
                    <a:pt x="1441831" y="270955"/>
                    <a:pt x="1423035" y="276416"/>
                  </a:cubicBezTo>
                  <a:cubicBezTo>
                    <a:pt x="1404239" y="281877"/>
                    <a:pt x="1379982" y="284607"/>
                    <a:pt x="1350264" y="284607"/>
                  </a:cubicBezTo>
                  <a:cubicBezTo>
                    <a:pt x="1333754" y="284607"/>
                    <a:pt x="1320546" y="283845"/>
                    <a:pt x="1310640" y="282321"/>
                  </a:cubicBezTo>
                  <a:cubicBezTo>
                    <a:pt x="1300734" y="280797"/>
                    <a:pt x="1293432" y="278829"/>
                    <a:pt x="1288733" y="276416"/>
                  </a:cubicBezTo>
                  <a:cubicBezTo>
                    <a:pt x="1284034" y="274003"/>
                    <a:pt x="1279652" y="270701"/>
                    <a:pt x="1275588" y="266510"/>
                  </a:cubicBezTo>
                  <a:cubicBezTo>
                    <a:pt x="1271524" y="262319"/>
                    <a:pt x="1268476" y="257493"/>
                    <a:pt x="1266444" y="252032"/>
                  </a:cubicBezTo>
                  <a:cubicBezTo>
                    <a:pt x="1264412" y="246571"/>
                    <a:pt x="1263396" y="237554"/>
                    <a:pt x="1263396" y="224981"/>
                  </a:cubicBezTo>
                  <a:cubicBezTo>
                    <a:pt x="1263396" y="212408"/>
                    <a:pt x="1266571" y="193929"/>
                    <a:pt x="1272921" y="169545"/>
                  </a:cubicBezTo>
                  <a:cubicBezTo>
                    <a:pt x="1268603" y="163703"/>
                    <a:pt x="1266444" y="158687"/>
                    <a:pt x="1266444" y="154496"/>
                  </a:cubicBezTo>
                  <a:cubicBezTo>
                    <a:pt x="1266444" y="150305"/>
                    <a:pt x="1270508" y="147066"/>
                    <a:pt x="1278636" y="144780"/>
                  </a:cubicBezTo>
                  <a:cubicBezTo>
                    <a:pt x="1298702" y="139192"/>
                    <a:pt x="1312101" y="133541"/>
                    <a:pt x="1318832" y="127826"/>
                  </a:cubicBezTo>
                  <a:cubicBezTo>
                    <a:pt x="1325563" y="122111"/>
                    <a:pt x="1330770" y="115443"/>
                    <a:pt x="1334453" y="107823"/>
                  </a:cubicBezTo>
                  <a:cubicBezTo>
                    <a:pt x="1338136" y="100203"/>
                    <a:pt x="1339977" y="94742"/>
                    <a:pt x="1339977" y="91440"/>
                  </a:cubicBezTo>
                  <a:cubicBezTo>
                    <a:pt x="1339977" y="88138"/>
                    <a:pt x="1338961" y="86487"/>
                    <a:pt x="1336929" y="86487"/>
                  </a:cubicBezTo>
                  <a:cubicBezTo>
                    <a:pt x="1333119" y="86487"/>
                    <a:pt x="1327595" y="90488"/>
                    <a:pt x="1320356" y="98489"/>
                  </a:cubicBezTo>
                  <a:cubicBezTo>
                    <a:pt x="1313117" y="106490"/>
                    <a:pt x="1304544" y="110490"/>
                    <a:pt x="1294638" y="110490"/>
                  </a:cubicBezTo>
                  <a:cubicBezTo>
                    <a:pt x="1290320" y="110490"/>
                    <a:pt x="1286002" y="109728"/>
                    <a:pt x="1281684" y="108204"/>
                  </a:cubicBezTo>
                  <a:cubicBezTo>
                    <a:pt x="1272286" y="108966"/>
                    <a:pt x="1263587" y="115062"/>
                    <a:pt x="1255586" y="126492"/>
                  </a:cubicBezTo>
                  <a:cubicBezTo>
                    <a:pt x="1247585" y="137922"/>
                    <a:pt x="1237044" y="162624"/>
                    <a:pt x="1223963" y="200597"/>
                  </a:cubicBezTo>
                  <a:cubicBezTo>
                    <a:pt x="1210882" y="238570"/>
                    <a:pt x="1204341" y="262128"/>
                    <a:pt x="1204341" y="271272"/>
                  </a:cubicBezTo>
                  <a:lnTo>
                    <a:pt x="1205103" y="283083"/>
                  </a:lnTo>
                  <a:cubicBezTo>
                    <a:pt x="1205103" y="288671"/>
                    <a:pt x="1203198" y="291465"/>
                    <a:pt x="1199388" y="291465"/>
                  </a:cubicBezTo>
                  <a:cubicBezTo>
                    <a:pt x="1195578" y="291465"/>
                    <a:pt x="1190752" y="286893"/>
                    <a:pt x="1184910" y="277749"/>
                  </a:cubicBezTo>
                  <a:cubicBezTo>
                    <a:pt x="1179068" y="268605"/>
                    <a:pt x="1176147" y="260985"/>
                    <a:pt x="1176147" y="254889"/>
                  </a:cubicBezTo>
                  <a:cubicBezTo>
                    <a:pt x="1176147" y="253111"/>
                    <a:pt x="1176274" y="251333"/>
                    <a:pt x="1176528" y="249555"/>
                  </a:cubicBezTo>
                  <a:cubicBezTo>
                    <a:pt x="1177544" y="244475"/>
                    <a:pt x="1178497" y="233617"/>
                    <a:pt x="1179386" y="216980"/>
                  </a:cubicBezTo>
                  <a:cubicBezTo>
                    <a:pt x="1180275" y="200343"/>
                    <a:pt x="1180719" y="183134"/>
                    <a:pt x="1180719" y="165354"/>
                  </a:cubicBezTo>
                  <a:cubicBezTo>
                    <a:pt x="1172337" y="176530"/>
                    <a:pt x="1166749" y="184150"/>
                    <a:pt x="1163955" y="188214"/>
                  </a:cubicBezTo>
                  <a:cubicBezTo>
                    <a:pt x="1161161" y="192278"/>
                    <a:pt x="1158240" y="194945"/>
                    <a:pt x="1155192" y="196215"/>
                  </a:cubicBezTo>
                  <a:cubicBezTo>
                    <a:pt x="1152144" y="197485"/>
                    <a:pt x="1149223" y="198120"/>
                    <a:pt x="1146429" y="198120"/>
                  </a:cubicBezTo>
                  <a:cubicBezTo>
                    <a:pt x="1137285" y="198120"/>
                    <a:pt x="1129792" y="193612"/>
                    <a:pt x="1123950" y="184595"/>
                  </a:cubicBezTo>
                  <a:cubicBezTo>
                    <a:pt x="1118108" y="175578"/>
                    <a:pt x="1115187" y="166878"/>
                    <a:pt x="1115187" y="158496"/>
                  </a:cubicBezTo>
                  <a:cubicBezTo>
                    <a:pt x="1115187" y="153670"/>
                    <a:pt x="1116394" y="148717"/>
                    <a:pt x="1118807" y="143637"/>
                  </a:cubicBezTo>
                  <a:cubicBezTo>
                    <a:pt x="1121220" y="138557"/>
                    <a:pt x="1122871" y="136017"/>
                    <a:pt x="1123760" y="136017"/>
                  </a:cubicBezTo>
                  <a:cubicBezTo>
                    <a:pt x="1124649" y="136017"/>
                    <a:pt x="1125093" y="137224"/>
                    <a:pt x="1125093" y="139637"/>
                  </a:cubicBezTo>
                  <a:cubicBezTo>
                    <a:pt x="1125093" y="142050"/>
                    <a:pt x="1124839" y="144907"/>
                    <a:pt x="1124331" y="148209"/>
                  </a:cubicBezTo>
                  <a:cubicBezTo>
                    <a:pt x="1123823" y="151511"/>
                    <a:pt x="1123569" y="154369"/>
                    <a:pt x="1123569" y="156782"/>
                  </a:cubicBezTo>
                  <a:cubicBezTo>
                    <a:pt x="1123569" y="159195"/>
                    <a:pt x="1125220" y="160401"/>
                    <a:pt x="1128522" y="160401"/>
                  </a:cubicBezTo>
                  <a:cubicBezTo>
                    <a:pt x="1135634" y="160401"/>
                    <a:pt x="1144080" y="157544"/>
                    <a:pt x="1153859" y="151829"/>
                  </a:cubicBezTo>
                  <a:cubicBezTo>
                    <a:pt x="1163638" y="146114"/>
                    <a:pt x="1169797" y="141288"/>
                    <a:pt x="1172337" y="137351"/>
                  </a:cubicBezTo>
                  <a:cubicBezTo>
                    <a:pt x="1174877" y="133414"/>
                    <a:pt x="1178497" y="130429"/>
                    <a:pt x="1183196" y="128397"/>
                  </a:cubicBezTo>
                  <a:cubicBezTo>
                    <a:pt x="1187895" y="126365"/>
                    <a:pt x="1193102" y="125349"/>
                    <a:pt x="1198817" y="125349"/>
                  </a:cubicBezTo>
                  <a:cubicBezTo>
                    <a:pt x="1204532" y="125349"/>
                    <a:pt x="1209104" y="127445"/>
                    <a:pt x="1212533" y="131636"/>
                  </a:cubicBezTo>
                  <a:cubicBezTo>
                    <a:pt x="1215962" y="135827"/>
                    <a:pt x="1217676" y="140335"/>
                    <a:pt x="1217676" y="145161"/>
                  </a:cubicBezTo>
                  <a:cubicBezTo>
                    <a:pt x="1217676" y="148463"/>
                    <a:pt x="1216343" y="152464"/>
                    <a:pt x="1213676" y="157163"/>
                  </a:cubicBezTo>
                  <a:cubicBezTo>
                    <a:pt x="1211009" y="161862"/>
                    <a:pt x="1208151" y="170180"/>
                    <a:pt x="1205103" y="182118"/>
                  </a:cubicBezTo>
                  <a:cubicBezTo>
                    <a:pt x="1202055" y="194056"/>
                    <a:pt x="1200531" y="202692"/>
                    <a:pt x="1200531" y="208026"/>
                  </a:cubicBezTo>
                  <a:cubicBezTo>
                    <a:pt x="1200531" y="213360"/>
                    <a:pt x="1200785" y="216916"/>
                    <a:pt x="1201293" y="218694"/>
                  </a:cubicBezTo>
                  <a:cubicBezTo>
                    <a:pt x="1215263" y="187706"/>
                    <a:pt x="1226820" y="163957"/>
                    <a:pt x="1235964" y="147447"/>
                  </a:cubicBezTo>
                  <a:cubicBezTo>
                    <a:pt x="1245108" y="130937"/>
                    <a:pt x="1255395" y="116078"/>
                    <a:pt x="1266825" y="102870"/>
                  </a:cubicBezTo>
                  <a:cubicBezTo>
                    <a:pt x="1266571" y="101854"/>
                    <a:pt x="1266444" y="100965"/>
                    <a:pt x="1266444" y="100203"/>
                  </a:cubicBezTo>
                  <a:cubicBezTo>
                    <a:pt x="1266444" y="96139"/>
                    <a:pt x="1270381" y="91821"/>
                    <a:pt x="1278255" y="87249"/>
                  </a:cubicBezTo>
                  <a:cubicBezTo>
                    <a:pt x="1286129" y="82677"/>
                    <a:pt x="1301369" y="75946"/>
                    <a:pt x="1323975" y="67056"/>
                  </a:cubicBezTo>
                  <a:cubicBezTo>
                    <a:pt x="1330579" y="56896"/>
                    <a:pt x="1336421" y="51816"/>
                    <a:pt x="1341501" y="51816"/>
                  </a:cubicBezTo>
                  <a:close/>
                  <a:moveTo>
                    <a:pt x="1177481" y="42672"/>
                  </a:moveTo>
                  <a:cubicBezTo>
                    <a:pt x="1178116" y="42672"/>
                    <a:pt x="1179513" y="43180"/>
                    <a:pt x="1181672" y="44196"/>
                  </a:cubicBezTo>
                  <a:cubicBezTo>
                    <a:pt x="1183831" y="45212"/>
                    <a:pt x="1185672" y="45720"/>
                    <a:pt x="1187196" y="45720"/>
                  </a:cubicBezTo>
                  <a:cubicBezTo>
                    <a:pt x="1188720" y="45720"/>
                    <a:pt x="1190498" y="45466"/>
                    <a:pt x="1192530" y="44958"/>
                  </a:cubicBezTo>
                  <a:cubicBezTo>
                    <a:pt x="1194562" y="44450"/>
                    <a:pt x="1196467" y="44196"/>
                    <a:pt x="1198245" y="44196"/>
                  </a:cubicBezTo>
                  <a:cubicBezTo>
                    <a:pt x="1201293" y="44196"/>
                    <a:pt x="1208659" y="45149"/>
                    <a:pt x="1220343" y="47054"/>
                  </a:cubicBezTo>
                  <a:cubicBezTo>
                    <a:pt x="1232027" y="48959"/>
                    <a:pt x="1238949" y="52324"/>
                    <a:pt x="1241108" y="57150"/>
                  </a:cubicBezTo>
                  <a:cubicBezTo>
                    <a:pt x="1243267" y="61976"/>
                    <a:pt x="1244346" y="66866"/>
                    <a:pt x="1244346" y="71819"/>
                  </a:cubicBezTo>
                  <a:cubicBezTo>
                    <a:pt x="1244346" y="76772"/>
                    <a:pt x="1243584" y="79820"/>
                    <a:pt x="1242060" y="80963"/>
                  </a:cubicBezTo>
                  <a:cubicBezTo>
                    <a:pt x="1240536" y="82106"/>
                    <a:pt x="1237425" y="83249"/>
                    <a:pt x="1232726" y="84392"/>
                  </a:cubicBezTo>
                  <a:cubicBezTo>
                    <a:pt x="1228027" y="85535"/>
                    <a:pt x="1223836" y="86805"/>
                    <a:pt x="1220153" y="88202"/>
                  </a:cubicBezTo>
                  <a:cubicBezTo>
                    <a:pt x="1216470" y="89599"/>
                    <a:pt x="1208405" y="93218"/>
                    <a:pt x="1195959" y="99060"/>
                  </a:cubicBezTo>
                  <a:lnTo>
                    <a:pt x="1155192" y="118491"/>
                  </a:lnTo>
                  <a:cubicBezTo>
                    <a:pt x="1148588" y="121539"/>
                    <a:pt x="1144588" y="123063"/>
                    <a:pt x="1143191" y="123063"/>
                  </a:cubicBezTo>
                  <a:cubicBezTo>
                    <a:pt x="1141794" y="123063"/>
                    <a:pt x="1141095" y="122936"/>
                    <a:pt x="1141095" y="122682"/>
                  </a:cubicBezTo>
                  <a:cubicBezTo>
                    <a:pt x="1141095" y="121920"/>
                    <a:pt x="1142238" y="120777"/>
                    <a:pt x="1144524" y="119253"/>
                  </a:cubicBezTo>
                  <a:cubicBezTo>
                    <a:pt x="1152652" y="113919"/>
                    <a:pt x="1161923" y="106617"/>
                    <a:pt x="1172337" y="97346"/>
                  </a:cubicBezTo>
                  <a:cubicBezTo>
                    <a:pt x="1182751" y="88075"/>
                    <a:pt x="1189165" y="81915"/>
                    <a:pt x="1191578" y="78867"/>
                  </a:cubicBezTo>
                  <a:cubicBezTo>
                    <a:pt x="1193991" y="75819"/>
                    <a:pt x="1195197" y="73152"/>
                    <a:pt x="1195197" y="70866"/>
                  </a:cubicBezTo>
                  <a:cubicBezTo>
                    <a:pt x="1195197" y="68834"/>
                    <a:pt x="1193292" y="66548"/>
                    <a:pt x="1189482" y="64008"/>
                  </a:cubicBezTo>
                  <a:cubicBezTo>
                    <a:pt x="1185672" y="61468"/>
                    <a:pt x="1182561" y="57785"/>
                    <a:pt x="1180148" y="52959"/>
                  </a:cubicBezTo>
                  <a:cubicBezTo>
                    <a:pt x="1177735" y="48133"/>
                    <a:pt x="1176528" y="45212"/>
                    <a:pt x="1176528" y="44196"/>
                  </a:cubicBezTo>
                  <a:cubicBezTo>
                    <a:pt x="1176528" y="43180"/>
                    <a:pt x="1176846" y="42672"/>
                    <a:pt x="1177481" y="42672"/>
                  </a:cubicBezTo>
                  <a:close/>
                  <a:moveTo>
                    <a:pt x="826008" y="32004"/>
                  </a:moveTo>
                  <a:cubicBezTo>
                    <a:pt x="828040" y="32004"/>
                    <a:pt x="830263" y="32385"/>
                    <a:pt x="832676" y="33147"/>
                  </a:cubicBezTo>
                  <a:cubicBezTo>
                    <a:pt x="835089" y="33909"/>
                    <a:pt x="838708" y="34290"/>
                    <a:pt x="843534" y="34290"/>
                  </a:cubicBezTo>
                  <a:cubicBezTo>
                    <a:pt x="861314" y="34290"/>
                    <a:pt x="874205" y="37592"/>
                    <a:pt x="882206" y="44196"/>
                  </a:cubicBezTo>
                  <a:cubicBezTo>
                    <a:pt x="890207" y="50800"/>
                    <a:pt x="894207" y="56896"/>
                    <a:pt x="894207" y="62484"/>
                  </a:cubicBezTo>
                  <a:cubicBezTo>
                    <a:pt x="894207" y="66548"/>
                    <a:pt x="892302" y="69977"/>
                    <a:pt x="888492" y="72771"/>
                  </a:cubicBezTo>
                  <a:cubicBezTo>
                    <a:pt x="884682" y="75565"/>
                    <a:pt x="880110" y="76962"/>
                    <a:pt x="874776" y="76962"/>
                  </a:cubicBezTo>
                  <a:lnTo>
                    <a:pt x="867537" y="76581"/>
                  </a:lnTo>
                  <a:cubicBezTo>
                    <a:pt x="863473" y="76581"/>
                    <a:pt x="857504" y="78423"/>
                    <a:pt x="849630" y="82106"/>
                  </a:cubicBezTo>
                  <a:cubicBezTo>
                    <a:pt x="841756" y="85789"/>
                    <a:pt x="827532" y="90551"/>
                    <a:pt x="806958" y="96393"/>
                  </a:cubicBezTo>
                  <a:cubicBezTo>
                    <a:pt x="795020" y="99949"/>
                    <a:pt x="785305" y="105918"/>
                    <a:pt x="777812" y="114300"/>
                  </a:cubicBezTo>
                  <a:cubicBezTo>
                    <a:pt x="770319" y="122682"/>
                    <a:pt x="766572" y="131826"/>
                    <a:pt x="766572" y="141732"/>
                  </a:cubicBezTo>
                  <a:cubicBezTo>
                    <a:pt x="766572" y="145796"/>
                    <a:pt x="767080" y="148654"/>
                    <a:pt x="768096" y="150305"/>
                  </a:cubicBezTo>
                  <a:cubicBezTo>
                    <a:pt x="769112" y="151956"/>
                    <a:pt x="771335" y="152781"/>
                    <a:pt x="774764" y="152781"/>
                  </a:cubicBezTo>
                  <a:cubicBezTo>
                    <a:pt x="778193" y="152781"/>
                    <a:pt x="785114" y="149670"/>
                    <a:pt x="795528" y="143447"/>
                  </a:cubicBezTo>
                  <a:cubicBezTo>
                    <a:pt x="805942" y="137224"/>
                    <a:pt x="813372" y="132842"/>
                    <a:pt x="817817" y="130302"/>
                  </a:cubicBezTo>
                  <a:cubicBezTo>
                    <a:pt x="822262" y="127762"/>
                    <a:pt x="824865" y="124397"/>
                    <a:pt x="825627" y="120206"/>
                  </a:cubicBezTo>
                  <a:cubicBezTo>
                    <a:pt x="826389" y="116015"/>
                    <a:pt x="827405" y="113602"/>
                    <a:pt x="828675" y="112967"/>
                  </a:cubicBezTo>
                  <a:cubicBezTo>
                    <a:pt x="829945" y="112332"/>
                    <a:pt x="833565" y="112014"/>
                    <a:pt x="839534" y="112014"/>
                  </a:cubicBezTo>
                  <a:cubicBezTo>
                    <a:pt x="845503" y="112014"/>
                    <a:pt x="850519" y="114237"/>
                    <a:pt x="854583" y="118682"/>
                  </a:cubicBezTo>
                  <a:cubicBezTo>
                    <a:pt x="858647" y="123127"/>
                    <a:pt x="860679" y="127381"/>
                    <a:pt x="860679" y="131445"/>
                  </a:cubicBezTo>
                  <a:cubicBezTo>
                    <a:pt x="860679" y="137287"/>
                    <a:pt x="857758" y="146304"/>
                    <a:pt x="851916" y="158496"/>
                  </a:cubicBezTo>
                  <a:cubicBezTo>
                    <a:pt x="849884" y="162560"/>
                    <a:pt x="847916" y="171831"/>
                    <a:pt x="846011" y="186309"/>
                  </a:cubicBezTo>
                  <a:cubicBezTo>
                    <a:pt x="844106" y="200787"/>
                    <a:pt x="843153" y="211265"/>
                    <a:pt x="843153" y="217742"/>
                  </a:cubicBezTo>
                  <a:cubicBezTo>
                    <a:pt x="843153" y="224219"/>
                    <a:pt x="843280" y="228219"/>
                    <a:pt x="843534" y="229743"/>
                  </a:cubicBezTo>
                  <a:cubicBezTo>
                    <a:pt x="850900" y="220091"/>
                    <a:pt x="857885" y="209931"/>
                    <a:pt x="864489" y="199263"/>
                  </a:cubicBezTo>
                  <a:cubicBezTo>
                    <a:pt x="871093" y="188595"/>
                    <a:pt x="874903" y="182055"/>
                    <a:pt x="875919" y="179642"/>
                  </a:cubicBezTo>
                  <a:cubicBezTo>
                    <a:pt x="876935" y="177229"/>
                    <a:pt x="877824" y="176022"/>
                    <a:pt x="878586" y="176022"/>
                  </a:cubicBezTo>
                  <a:cubicBezTo>
                    <a:pt x="880364" y="176022"/>
                    <a:pt x="881253" y="180340"/>
                    <a:pt x="881253" y="188976"/>
                  </a:cubicBezTo>
                  <a:cubicBezTo>
                    <a:pt x="881253" y="194310"/>
                    <a:pt x="879729" y="199136"/>
                    <a:pt x="876681" y="203454"/>
                  </a:cubicBezTo>
                  <a:cubicBezTo>
                    <a:pt x="873125" y="208280"/>
                    <a:pt x="867601" y="219710"/>
                    <a:pt x="860108" y="237744"/>
                  </a:cubicBezTo>
                  <a:cubicBezTo>
                    <a:pt x="852615" y="255778"/>
                    <a:pt x="846582" y="273558"/>
                    <a:pt x="842010" y="291084"/>
                  </a:cubicBezTo>
                  <a:cubicBezTo>
                    <a:pt x="840994" y="294640"/>
                    <a:pt x="839153" y="297942"/>
                    <a:pt x="836486" y="300990"/>
                  </a:cubicBezTo>
                  <a:cubicBezTo>
                    <a:pt x="833819" y="304038"/>
                    <a:pt x="830961" y="305562"/>
                    <a:pt x="827913" y="305562"/>
                  </a:cubicBezTo>
                  <a:cubicBezTo>
                    <a:pt x="824865" y="305562"/>
                    <a:pt x="822198" y="304229"/>
                    <a:pt x="819912" y="301562"/>
                  </a:cubicBezTo>
                  <a:cubicBezTo>
                    <a:pt x="817626" y="298895"/>
                    <a:pt x="814642" y="293116"/>
                    <a:pt x="810959" y="284226"/>
                  </a:cubicBezTo>
                  <a:cubicBezTo>
                    <a:pt x="807276" y="275336"/>
                    <a:pt x="805434" y="269177"/>
                    <a:pt x="805434" y="265748"/>
                  </a:cubicBezTo>
                  <a:cubicBezTo>
                    <a:pt x="805434" y="262319"/>
                    <a:pt x="806831" y="260223"/>
                    <a:pt x="809625" y="259461"/>
                  </a:cubicBezTo>
                  <a:cubicBezTo>
                    <a:pt x="811149" y="258953"/>
                    <a:pt x="812165" y="257429"/>
                    <a:pt x="812673" y="254889"/>
                  </a:cubicBezTo>
                  <a:cubicBezTo>
                    <a:pt x="813181" y="252349"/>
                    <a:pt x="813689" y="244094"/>
                    <a:pt x="814197" y="230124"/>
                  </a:cubicBezTo>
                  <a:lnTo>
                    <a:pt x="814959" y="182880"/>
                  </a:lnTo>
                  <a:cubicBezTo>
                    <a:pt x="807085" y="189484"/>
                    <a:pt x="798195" y="192786"/>
                    <a:pt x="788289" y="192786"/>
                  </a:cubicBezTo>
                  <a:cubicBezTo>
                    <a:pt x="782447" y="192786"/>
                    <a:pt x="777685" y="191643"/>
                    <a:pt x="774002" y="189357"/>
                  </a:cubicBezTo>
                  <a:cubicBezTo>
                    <a:pt x="770319" y="187071"/>
                    <a:pt x="766318" y="181674"/>
                    <a:pt x="762000" y="173165"/>
                  </a:cubicBezTo>
                  <a:cubicBezTo>
                    <a:pt x="757682" y="164656"/>
                    <a:pt x="755523" y="156274"/>
                    <a:pt x="755523" y="148019"/>
                  </a:cubicBezTo>
                  <a:cubicBezTo>
                    <a:pt x="755523" y="139764"/>
                    <a:pt x="757111" y="132271"/>
                    <a:pt x="760286" y="125540"/>
                  </a:cubicBezTo>
                  <a:cubicBezTo>
                    <a:pt x="763461" y="118809"/>
                    <a:pt x="767969" y="112713"/>
                    <a:pt x="773811" y="107252"/>
                  </a:cubicBezTo>
                  <a:cubicBezTo>
                    <a:pt x="779653" y="101791"/>
                    <a:pt x="795655" y="88265"/>
                    <a:pt x="821817" y="66675"/>
                  </a:cubicBezTo>
                  <a:cubicBezTo>
                    <a:pt x="828167" y="61341"/>
                    <a:pt x="831914" y="58230"/>
                    <a:pt x="833057" y="57341"/>
                  </a:cubicBezTo>
                  <a:cubicBezTo>
                    <a:pt x="834200" y="56452"/>
                    <a:pt x="834771" y="54547"/>
                    <a:pt x="834771" y="51626"/>
                  </a:cubicBezTo>
                  <a:cubicBezTo>
                    <a:pt x="834771" y="48705"/>
                    <a:pt x="831977" y="44831"/>
                    <a:pt x="826389" y="40005"/>
                  </a:cubicBezTo>
                  <a:cubicBezTo>
                    <a:pt x="824103" y="37973"/>
                    <a:pt x="822960" y="36132"/>
                    <a:pt x="822960" y="34481"/>
                  </a:cubicBezTo>
                  <a:cubicBezTo>
                    <a:pt x="822960" y="32830"/>
                    <a:pt x="823976" y="32004"/>
                    <a:pt x="826008" y="32004"/>
                  </a:cubicBezTo>
                  <a:close/>
                  <a:moveTo>
                    <a:pt x="470535" y="32004"/>
                  </a:moveTo>
                  <a:cubicBezTo>
                    <a:pt x="474345" y="32004"/>
                    <a:pt x="482664" y="33084"/>
                    <a:pt x="495491" y="35243"/>
                  </a:cubicBezTo>
                  <a:cubicBezTo>
                    <a:pt x="508318" y="37402"/>
                    <a:pt x="516890" y="41339"/>
                    <a:pt x="521208" y="47054"/>
                  </a:cubicBezTo>
                  <a:cubicBezTo>
                    <a:pt x="525526" y="52769"/>
                    <a:pt x="527685" y="57595"/>
                    <a:pt x="527685" y="61532"/>
                  </a:cubicBezTo>
                  <a:cubicBezTo>
                    <a:pt x="527685" y="65469"/>
                    <a:pt x="525844" y="68771"/>
                    <a:pt x="522161" y="71438"/>
                  </a:cubicBezTo>
                  <a:cubicBezTo>
                    <a:pt x="518478" y="74105"/>
                    <a:pt x="514096" y="75565"/>
                    <a:pt x="509016" y="75819"/>
                  </a:cubicBezTo>
                  <a:cubicBezTo>
                    <a:pt x="503936" y="76073"/>
                    <a:pt x="499110" y="76962"/>
                    <a:pt x="494538" y="78486"/>
                  </a:cubicBezTo>
                  <a:cubicBezTo>
                    <a:pt x="489966" y="80010"/>
                    <a:pt x="480251" y="83820"/>
                    <a:pt x="465392" y="89916"/>
                  </a:cubicBezTo>
                  <a:cubicBezTo>
                    <a:pt x="450533" y="96012"/>
                    <a:pt x="441706" y="99060"/>
                    <a:pt x="438912" y="99060"/>
                  </a:cubicBezTo>
                  <a:cubicBezTo>
                    <a:pt x="437896" y="99060"/>
                    <a:pt x="437388" y="98806"/>
                    <a:pt x="437388" y="98298"/>
                  </a:cubicBezTo>
                  <a:cubicBezTo>
                    <a:pt x="437388" y="97282"/>
                    <a:pt x="439547" y="94933"/>
                    <a:pt x="443865" y="91250"/>
                  </a:cubicBezTo>
                  <a:cubicBezTo>
                    <a:pt x="448183" y="87567"/>
                    <a:pt x="454470" y="81661"/>
                    <a:pt x="462725" y="73533"/>
                  </a:cubicBezTo>
                  <a:cubicBezTo>
                    <a:pt x="470980" y="65405"/>
                    <a:pt x="475488" y="60579"/>
                    <a:pt x="476250" y="59055"/>
                  </a:cubicBezTo>
                  <a:cubicBezTo>
                    <a:pt x="477012" y="57531"/>
                    <a:pt x="477393" y="56007"/>
                    <a:pt x="477393" y="54483"/>
                  </a:cubicBezTo>
                  <a:cubicBezTo>
                    <a:pt x="477393" y="50673"/>
                    <a:pt x="474599" y="45466"/>
                    <a:pt x="469011" y="38862"/>
                  </a:cubicBezTo>
                  <a:cubicBezTo>
                    <a:pt x="467233" y="36576"/>
                    <a:pt x="466344" y="34862"/>
                    <a:pt x="466344" y="33719"/>
                  </a:cubicBezTo>
                  <a:cubicBezTo>
                    <a:pt x="466344" y="32576"/>
                    <a:pt x="467741" y="32004"/>
                    <a:pt x="470535" y="32004"/>
                  </a:cubicBezTo>
                  <a:close/>
                  <a:moveTo>
                    <a:pt x="97536" y="0"/>
                  </a:moveTo>
                  <a:cubicBezTo>
                    <a:pt x="120396" y="0"/>
                    <a:pt x="142113" y="9271"/>
                    <a:pt x="162687" y="27813"/>
                  </a:cubicBezTo>
                  <a:cubicBezTo>
                    <a:pt x="169799" y="27559"/>
                    <a:pt x="179388" y="27432"/>
                    <a:pt x="191453" y="27432"/>
                  </a:cubicBezTo>
                  <a:cubicBezTo>
                    <a:pt x="203518" y="27432"/>
                    <a:pt x="215964" y="28893"/>
                    <a:pt x="228791" y="31814"/>
                  </a:cubicBezTo>
                  <a:cubicBezTo>
                    <a:pt x="241618" y="34735"/>
                    <a:pt x="250190" y="40640"/>
                    <a:pt x="254508" y="49530"/>
                  </a:cubicBezTo>
                  <a:cubicBezTo>
                    <a:pt x="258826" y="58420"/>
                    <a:pt x="260985" y="64770"/>
                    <a:pt x="260985" y="68580"/>
                  </a:cubicBezTo>
                  <a:cubicBezTo>
                    <a:pt x="260985" y="72390"/>
                    <a:pt x="259715" y="75502"/>
                    <a:pt x="257175" y="77915"/>
                  </a:cubicBezTo>
                  <a:cubicBezTo>
                    <a:pt x="254635" y="80328"/>
                    <a:pt x="242951" y="84963"/>
                    <a:pt x="222123" y="91821"/>
                  </a:cubicBezTo>
                  <a:cubicBezTo>
                    <a:pt x="201295" y="98679"/>
                    <a:pt x="187325" y="103124"/>
                    <a:pt x="180213" y="105156"/>
                  </a:cubicBezTo>
                  <a:cubicBezTo>
                    <a:pt x="186563" y="110490"/>
                    <a:pt x="189738" y="116396"/>
                    <a:pt x="189738" y="122873"/>
                  </a:cubicBezTo>
                  <a:cubicBezTo>
                    <a:pt x="189738" y="129350"/>
                    <a:pt x="187706" y="134620"/>
                    <a:pt x="183642" y="138684"/>
                  </a:cubicBezTo>
                  <a:cubicBezTo>
                    <a:pt x="174752" y="147574"/>
                    <a:pt x="166497" y="158242"/>
                    <a:pt x="158877" y="170688"/>
                  </a:cubicBezTo>
                  <a:cubicBezTo>
                    <a:pt x="165989" y="173990"/>
                    <a:pt x="171958" y="179070"/>
                    <a:pt x="176784" y="185928"/>
                  </a:cubicBezTo>
                  <a:cubicBezTo>
                    <a:pt x="179578" y="185674"/>
                    <a:pt x="182245" y="185547"/>
                    <a:pt x="184785" y="185547"/>
                  </a:cubicBezTo>
                  <a:cubicBezTo>
                    <a:pt x="195961" y="185547"/>
                    <a:pt x="205232" y="189230"/>
                    <a:pt x="212598" y="196596"/>
                  </a:cubicBezTo>
                  <a:cubicBezTo>
                    <a:pt x="219964" y="203962"/>
                    <a:pt x="223647" y="210312"/>
                    <a:pt x="223647" y="215646"/>
                  </a:cubicBezTo>
                  <a:cubicBezTo>
                    <a:pt x="223647" y="220980"/>
                    <a:pt x="222377" y="224854"/>
                    <a:pt x="219837" y="227267"/>
                  </a:cubicBezTo>
                  <a:cubicBezTo>
                    <a:pt x="217297" y="229680"/>
                    <a:pt x="213995" y="230886"/>
                    <a:pt x="209931" y="230886"/>
                  </a:cubicBezTo>
                  <a:lnTo>
                    <a:pt x="203454" y="230505"/>
                  </a:lnTo>
                  <a:cubicBezTo>
                    <a:pt x="199898" y="230505"/>
                    <a:pt x="195326" y="231521"/>
                    <a:pt x="189738" y="233553"/>
                  </a:cubicBezTo>
                  <a:cubicBezTo>
                    <a:pt x="189484" y="263779"/>
                    <a:pt x="186754" y="286766"/>
                    <a:pt x="181547" y="302514"/>
                  </a:cubicBezTo>
                  <a:cubicBezTo>
                    <a:pt x="176340" y="318262"/>
                    <a:pt x="169228" y="329629"/>
                    <a:pt x="160211" y="336614"/>
                  </a:cubicBezTo>
                  <a:cubicBezTo>
                    <a:pt x="151194" y="343599"/>
                    <a:pt x="144971" y="347091"/>
                    <a:pt x="141542" y="347091"/>
                  </a:cubicBezTo>
                  <a:cubicBezTo>
                    <a:pt x="138113" y="347091"/>
                    <a:pt x="130302" y="343535"/>
                    <a:pt x="118110" y="336423"/>
                  </a:cubicBezTo>
                  <a:cubicBezTo>
                    <a:pt x="105918" y="329311"/>
                    <a:pt x="97981" y="324422"/>
                    <a:pt x="94298" y="321755"/>
                  </a:cubicBezTo>
                  <a:cubicBezTo>
                    <a:pt x="90615" y="319088"/>
                    <a:pt x="85725" y="314389"/>
                    <a:pt x="79629" y="307658"/>
                  </a:cubicBezTo>
                  <a:cubicBezTo>
                    <a:pt x="73533" y="300927"/>
                    <a:pt x="67247" y="292291"/>
                    <a:pt x="60770" y="281750"/>
                  </a:cubicBezTo>
                  <a:cubicBezTo>
                    <a:pt x="54293" y="271209"/>
                    <a:pt x="51054" y="262065"/>
                    <a:pt x="51054" y="254318"/>
                  </a:cubicBezTo>
                  <a:cubicBezTo>
                    <a:pt x="51054" y="246571"/>
                    <a:pt x="55245" y="239014"/>
                    <a:pt x="63627" y="231648"/>
                  </a:cubicBezTo>
                  <a:cubicBezTo>
                    <a:pt x="72009" y="224282"/>
                    <a:pt x="90170" y="214884"/>
                    <a:pt x="118110" y="203454"/>
                  </a:cubicBezTo>
                  <a:cubicBezTo>
                    <a:pt x="115062" y="195072"/>
                    <a:pt x="113538" y="188151"/>
                    <a:pt x="113538" y="182690"/>
                  </a:cubicBezTo>
                  <a:cubicBezTo>
                    <a:pt x="113538" y="177229"/>
                    <a:pt x="114618" y="171133"/>
                    <a:pt x="116777" y="164402"/>
                  </a:cubicBezTo>
                  <a:cubicBezTo>
                    <a:pt x="118936" y="157671"/>
                    <a:pt x="123190" y="154051"/>
                    <a:pt x="129540" y="153543"/>
                  </a:cubicBezTo>
                  <a:cubicBezTo>
                    <a:pt x="135890" y="153035"/>
                    <a:pt x="141796" y="148209"/>
                    <a:pt x="147257" y="139065"/>
                  </a:cubicBezTo>
                  <a:cubicBezTo>
                    <a:pt x="152718" y="129921"/>
                    <a:pt x="155448" y="124460"/>
                    <a:pt x="155448" y="122682"/>
                  </a:cubicBezTo>
                  <a:cubicBezTo>
                    <a:pt x="155448" y="121920"/>
                    <a:pt x="154940" y="121539"/>
                    <a:pt x="153924" y="121539"/>
                  </a:cubicBezTo>
                  <a:cubicBezTo>
                    <a:pt x="152654" y="121539"/>
                    <a:pt x="148717" y="123508"/>
                    <a:pt x="142113" y="127445"/>
                  </a:cubicBezTo>
                  <a:cubicBezTo>
                    <a:pt x="135509" y="131382"/>
                    <a:pt x="124397" y="137414"/>
                    <a:pt x="108776" y="145542"/>
                  </a:cubicBezTo>
                  <a:cubicBezTo>
                    <a:pt x="93155" y="153670"/>
                    <a:pt x="84582" y="158115"/>
                    <a:pt x="83058" y="158877"/>
                  </a:cubicBezTo>
                  <a:cubicBezTo>
                    <a:pt x="81534" y="159639"/>
                    <a:pt x="79820" y="160020"/>
                    <a:pt x="77915" y="160020"/>
                  </a:cubicBezTo>
                  <a:cubicBezTo>
                    <a:pt x="76010" y="160020"/>
                    <a:pt x="75057" y="157988"/>
                    <a:pt x="75057" y="153924"/>
                  </a:cubicBezTo>
                  <a:cubicBezTo>
                    <a:pt x="75057" y="149860"/>
                    <a:pt x="76010" y="143574"/>
                    <a:pt x="77915" y="135065"/>
                  </a:cubicBezTo>
                  <a:cubicBezTo>
                    <a:pt x="79820" y="126556"/>
                    <a:pt x="84074" y="121730"/>
                    <a:pt x="90678" y="120587"/>
                  </a:cubicBezTo>
                  <a:cubicBezTo>
                    <a:pt x="97282" y="119444"/>
                    <a:pt x="117856" y="110554"/>
                    <a:pt x="152400" y="93917"/>
                  </a:cubicBezTo>
                  <a:cubicBezTo>
                    <a:pt x="186944" y="77280"/>
                    <a:pt x="207137" y="66167"/>
                    <a:pt x="212979" y="60579"/>
                  </a:cubicBezTo>
                  <a:cubicBezTo>
                    <a:pt x="218821" y="54991"/>
                    <a:pt x="221742" y="50927"/>
                    <a:pt x="221742" y="48387"/>
                  </a:cubicBezTo>
                  <a:cubicBezTo>
                    <a:pt x="221742" y="45847"/>
                    <a:pt x="219583" y="44577"/>
                    <a:pt x="215265" y="44577"/>
                  </a:cubicBezTo>
                  <a:cubicBezTo>
                    <a:pt x="201295" y="44577"/>
                    <a:pt x="187960" y="47752"/>
                    <a:pt x="175260" y="54102"/>
                  </a:cubicBezTo>
                  <a:cubicBezTo>
                    <a:pt x="172212" y="66548"/>
                    <a:pt x="169101" y="75502"/>
                    <a:pt x="165926" y="80963"/>
                  </a:cubicBezTo>
                  <a:cubicBezTo>
                    <a:pt x="162751" y="86424"/>
                    <a:pt x="158115" y="89154"/>
                    <a:pt x="152019" y="89154"/>
                  </a:cubicBezTo>
                  <a:cubicBezTo>
                    <a:pt x="145923" y="89154"/>
                    <a:pt x="134620" y="84074"/>
                    <a:pt x="118110" y="73914"/>
                  </a:cubicBezTo>
                  <a:cubicBezTo>
                    <a:pt x="111252" y="77978"/>
                    <a:pt x="104902" y="80010"/>
                    <a:pt x="99060" y="80010"/>
                  </a:cubicBezTo>
                  <a:cubicBezTo>
                    <a:pt x="93218" y="80010"/>
                    <a:pt x="87884" y="79375"/>
                    <a:pt x="83058" y="78105"/>
                  </a:cubicBezTo>
                  <a:cubicBezTo>
                    <a:pt x="78232" y="76835"/>
                    <a:pt x="74168" y="76200"/>
                    <a:pt x="70866" y="76200"/>
                  </a:cubicBezTo>
                  <a:cubicBezTo>
                    <a:pt x="62230" y="76200"/>
                    <a:pt x="54483" y="79502"/>
                    <a:pt x="47625" y="86106"/>
                  </a:cubicBezTo>
                  <a:cubicBezTo>
                    <a:pt x="47117" y="93472"/>
                    <a:pt x="45784" y="101918"/>
                    <a:pt x="43625" y="111443"/>
                  </a:cubicBezTo>
                  <a:cubicBezTo>
                    <a:pt x="41466" y="120968"/>
                    <a:pt x="37275" y="134112"/>
                    <a:pt x="31052" y="150876"/>
                  </a:cubicBezTo>
                  <a:cubicBezTo>
                    <a:pt x="24829" y="167640"/>
                    <a:pt x="21019" y="176911"/>
                    <a:pt x="19622" y="178689"/>
                  </a:cubicBezTo>
                  <a:cubicBezTo>
                    <a:pt x="18225" y="180467"/>
                    <a:pt x="16891" y="181356"/>
                    <a:pt x="15621" y="181356"/>
                  </a:cubicBezTo>
                  <a:cubicBezTo>
                    <a:pt x="12573" y="181356"/>
                    <a:pt x="9208" y="176594"/>
                    <a:pt x="5525" y="167069"/>
                  </a:cubicBezTo>
                  <a:cubicBezTo>
                    <a:pt x="1842" y="157544"/>
                    <a:pt x="0" y="149860"/>
                    <a:pt x="0" y="144018"/>
                  </a:cubicBezTo>
                  <a:cubicBezTo>
                    <a:pt x="0" y="138176"/>
                    <a:pt x="2159" y="131064"/>
                    <a:pt x="6477" y="122682"/>
                  </a:cubicBezTo>
                  <a:cubicBezTo>
                    <a:pt x="17907" y="100838"/>
                    <a:pt x="23622" y="83566"/>
                    <a:pt x="23622" y="70866"/>
                  </a:cubicBezTo>
                  <a:cubicBezTo>
                    <a:pt x="23622" y="67310"/>
                    <a:pt x="23368" y="64135"/>
                    <a:pt x="22860" y="61341"/>
                  </a:cubicBezTo>
                  <a:cubicBezTo>
                    <a:pt x="22352" y="58547"/>
                    <a:pt x="22098" y="56325"/>
                    <a:pt x="22098" y="54674"/>
                  </a:cubicBezTo>
                  <a:cubicBezTo>
                    <a:pt x="22098" y="53023"/>
                    <a:pt x="22860" y="52197"/>
                    <a:pt x="24384" y="52197"/>
                  </a:cubicBezTo>
                  <a:cubicBezTo>
                    <a:pt x="25908" y="52197"/>
                    <a:pt x="28321" y="54610"/>
                    <a:pt x="31623" y="59436"/>
                  </a:cubicBezTo>
                  <a:cubicBezTo>
                    <a:pt x="34925" y="64262"/>
                    <a:pt x="38227" y="70358"/>
                    <a:pt x="41529" y="77724"/>
                  </a:cubicBezTo>
                  <a:cubicBezTo>
                    <a:pt x="61849" y="62230"/>
                    <a:pt x="86106" y="49149"/>
                    <a:pt x="114300" y="38481"/>
                  </a:cubicBezTo>
                  <a:cubicBezTo>
                    <a:pt x="107950" y="31115"/>
                    <a:pt x="102870" y="23749"/>
                    <a:pt x="99060" y="16383"/>
                  </a:cubicBezTo>
                  <a:cubicBezTo>
                    <a:pt x="95250" y="9017"/>
                    <a:pt x="93345" y="4445"/>
                    <a:pt x="93345" y="2667"/>
                  </a:cubicBezTo>
                  <a:cubicBezTo>
                    <a:pt x="93345" y="889"/>
                    <a:pt x="94742" y="0"/>
                    <a:pt x="97536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541" name="组合 1"/>
          <p:cNvGrpSpPr/>
          <p:nvPr/>
        </p:nvGrpSpPr>
        <p:grpSpPr>
          <a:xfrm>
            <a:off x="3568680" y="771480"/>
            <a:ext cx="2319480" cy="748800"/>
            <a:chOff x="3568680" y="771480"/>
            <a:chExt cx="2319480" cy="748800"/>
          </a:xfrm>
        </p:grpSpPr>
        <p:sp>
          <p:nvSpPr>
            <p:cNvPr id="542" name="文本框 14"/>
            <p:cNvSpPr/>
            <p:nvPr/>
          </p:nvSpPr>
          <p:spPr>
            <a:xfrm>
              <a:off x="3568680" y="895320"/>
              <a:ext cx="1402920" cy="57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575">
              <a:solidFill>
                <a:srgbClr val="00b0f0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图片 16" descr=""/>
            <p:cNvPicPr/>
            <p:nvPr/>
          </p:nvPicPr>
          <p:blipFill>
            <a:blip r:embed="rId2"/>
            <a:stretch/>
          </p:blipFill>
          <p:spPr>
            <a:xfrm flipH="1">
              <a:off x="4822560" y="771480"/>
              <a:ext cx="1065600" cy="74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文本框 1"/>
          <p:cNvSpPr/>
          <p:nvPr/>
        </p:nvSpPr>
        <p:spPr>
          <a:xfrm>
            <a:off x="1285920" y="1838160"/>
            <a:ext cx="6527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言    互相    令人感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里无云    纯  净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6"/>
          <p:cNvSpPr/>
          <p:nvPr/>
        </p:nvSpPr>
        <p:spPr>
          <a:xfrm>
            <a:off x="1871640" y="1724040"/>
            <a:ext cx="80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6"/>
          <p:cNvSpPr/>
          <p:nvPr/>
        </p:nvSpPr>
        <p:spPr>
          <a:xfrm>
            <a:off x="3508200" y="1724040"/>
            <a:ext cx="68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6"/>
          <p:cNvSpPr/>
          <p:nvPr/>
        </p:nvSpPr>
        <p:spPr>
          <a:xfrm>
            <a:off x="5338800" y="1724040"/>
            <a:ext cx="106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ì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6"/>
          <p:cNvSpPr/>
          <p:nvPr/>
        </p:nvSpPr>
        <p:spPr>
          <a:xfrm>
            <a:off x="6889680" y="172404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ò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36"/>
          <p:cNvSpPr/>
          <p:nvPr/>
        </p:nvSpPr>
        <p:spPr>
          <a:xfrm>
            <a:off x="1612800" y="3003480"/>
            <a:ext cx="80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36"/>
          <p:cNvSpPr/>
          <p:nvPr/>
        </p:nvSpPr>
        <p:spPr>
          <a:xfrm>
            <a:off x="4575240" y="3003480"/>
            <a:ext cx="213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ún  jì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"/>
          <p:cNvSpPr/>
          <p:nvPr/>
        </p:nvSpPr>
        <p:spPr>
          <a:xfrm>
            <a:off x="1285920" y="1838160"/>
            <a:ext cx="6527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言    互相    令人感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里无云    纯  净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75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75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75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7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75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7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7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7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5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75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7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75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75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7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75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2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83"/>
          <p:cNvGrpSpPr/>
          <p:nvPr/>
        </p:nvGrpSpPr>
        <p:grpSpPr>
          <a:xfrm>
            <a:off x="3156120" y="331920"/>
            <a:ext cx="2831760" cy="638280"/>
            <a:chOff x="3156120" y="331920"/>
            <a:chExt cx="2831760" cy="638280"/>
          </a:xfrm>
        </p:grpSpPr>
        <p:sp>
          <p:nvSpPr>
            <p:cNvPr id="553" name="文本框 13"/>
            <p:cNvSpPr/>
            <p:nvPr/>
          </p:nvSpPr>
          <p:spPr>
            <a:xfrm>
              <a:off x="3814200" y="331920"/>
              <a:ext cx="2173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识记方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图片 85" descr=""/>
            <p:cNvPicPr/>
            <p:nvPr/>
          </p:nvPicPr>
          <p:blipFill>
            <a:blip r:embed="rId1"/>
            <a:stretch/>
          </p:blipFill>
          <p:spPr>
            <a:xfrm>
              <a:off x="3156120" y="335880"/>
              <a:ext cx="679320" cy="5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组合 6"/>
          <p:cNvGrpSpPr/>
          <p:nvPr/>
        </p:nvGrpSpPr>
        <p:grpSpPr>
          <a:xfrm>
            <a:off x="1079640" y="1162080"/>
            <a:ext cx="6984720" cy="638280"/>
            <a:chOff x="1079640" y="1162080"/>
            <a:chExt cx="6984720" cy="638280"/>
          </a:xfrm>
        </p:grpSpPr>
        <p:sp>
          <p:nvSpPr>
            <p:cNvPr id="556" name="文本框 4"/>
            <p:cNvSpPr/>
            <p:nvPr/>
          </p:nvSpPr>
          <p:spPr>
            <a:xfrm>
              <a:off x="1439640" y="1162080"/>
              <a:ext cx="6624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熟字比较：</a:t>
              </a:r>
              <a:r>
                <a:rPr b="1" lang="zh-CN" sz="36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今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6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令  方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600" spc="-1" strike="noStrike">
                  <a:solidFill>
                    <a:srgbClr val="9933ff"/>
                  </a:solidFill>
                  <a:latin typeface="楷体"/>
                  <a:ea typeface="楷体"/>
                </a:rPr>
                <a:t>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图形 24" descr="花灯"/>
            <p:cNvPicPr/>
            <p:nvPr/>
          </p:nvPicPr>
          <p:blipFill>
            <a:blip r:embed="rId2"/>
            <a:stretch/>
          </p:blipFill>
          <p:spPr>
            <a:xfrm>
              <a:off x="1079640" y="1247040"/>
              <a:ext cx="42408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组合 7"/>
          <p:cNvGrpSpPr/>
          <p:nvPr/>
        </p:nvGrpSpPr>
        <p:grpSpPr>
          <a:xfrm>
            <a:off x="1079640" y="1871640"/>
            <a:ext cx="6984720" cy="638280"/>
            <a:chOff x="1079640" y="1871640"/>
            <a:chExt cx="6984720" cy="638280"/>
          </a:xfrm>
        </p:grpSpPr>
        <p:sp>
          <p:nvSpPr>
            <p:cNvPr id="559" name="文本框 8"/>
            <p:cNvSpPr/>
            <p:nvPr/>
          </p:nvSpPr>
          <p:spPr>
            <a:xfrm>
              <a:off x="1439640" y="1871640"/>
              <a:ext cx="6624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猜字谜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图形 24" descr="花灯"/>
            <p:cNvPicPr/>
            <p:nvPr/>
          </p:nvPicPr>
          <p:blipFill>
            <a:blip r:embed="rId3"/>
            <a:stretch/>
          </p:blipFill>
          <p:spPr>
            <a:xfrm>
              <a:off x="1079640" y="1956600"/>
              <a:ext cx="42408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文本框 11"/>
          <p:cNvSpPr/>
          <p:nvPr/>
        </p:nvSpPr>
        <p:spPr>
          <a:xfrm>
            <a:off x="1920960" y="2597040"/>
            <a:ext cx="23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云朵力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90" descr=""/>
          <p:cNvPicPr/>
          <p:nvPr/>
        </p:nvPicPr>
        <p:blipFill>
          <a:blip r:embed="rId4"/>
          <a:stretch/>
        </p:blipFill>
        <p:spPr>
          <a:xfrm>
            <a:off x="6024600" y="2532240"/>
            <a:ext cx="720360" cy="713880"/>
          </a:xfrm>
          <a:prstGeom prst="rect">
            <a:avLst/>
          </a:prstGeom>
          <a:ln w="0">
            <a:noFill/>
          </a:ln>
        </p:spPr>
      </p:pic>
      <p:sp>
        <p:nvSpPr>
          <p:cNvPr id="563" name="文本框 14"/>
          <p:cNvSpPr/>
          <p:nvPr/>
        </p:nvSpPr>
        <p:spPr>
          <a:xfrm>
            <a:off x="6146640" y="2657520"/>
            <a:ext cx="475920" cy="463320"/>
          </a:xfrm>
          <a:custGeom>
            <a:avLst/>
            <a:gdLst>
              <a:gd name="textAreaLeft" fmla="*/ 0 w 475920"/>
              <a:gd name="textAreaRight" fmla="*/ 476280 w 4759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476151" h="462133">
                <a:moveTo>
                  <a:pt x="223783" y="166797"/>
                </a:moveTo>
                <a:cubicBezTo>
                  <a:pt x="235340" y="166244"/>
                  <a:pt x="245762" y="170650"/>
                  <a:pt x="255049" y="180014"/>
                </a:cubicBezTo>
                <a:cubicBezTo>
                  <a:pt x="267431" y="192499"/>
                  <a:pt x="259748" y="200428"/>
                  <a:pt x="231999" y="203801"/>
                </a:cubicBezTo>
                <a:cubicBezTo>
                  <a:pt x="204250" y="207174"/>
                  <a:pt x="173637" y="211433"/>
                  <a:pt x="140160" y="216578"/>
                </a:cubicBezTo>
                <a:cubicBezTo>
                  <a:pt x="158820" y="223964"/>
                  <a:pt x="164319" y="232390"/>
                  <a:pt x="156659" y="241857"/>
                </a:cubicBezTo>
                <a:cubicBezTo>
                  <a:pt x="148998" y="251324"/>
                  <a:pt x="137879" y="265730"/>
                  <a:pt x="123302" y="285075"/>
                </a:cubicBezTo>
                <a:cubicBezTo>
                  <a:pt x="108724" y="304421"/>
                  <a:pt x="106786" y="312115"/>
                  <a:pt x="117488" y="308159"/>
                </a:cubicBezTo>
                <a:cubicBezTo>
                  <a:pt x="128190" y="304203"/>
                  <a:pt x="150736" y="296966"/>
                  <a:pt x="185128" y="286447"/>
                </a:cubicBezTo>
                <a:cubicBezTo>
                  <a:pt x="179663" y="279450"/>
                  <a:pt x="175427" y="270469"/>
                  <a:pt x="172420" y="259504"/>
                </a:cubicBezTo>
                <a:cubicBezTo>
                  <a:pt x="169413" y="248540"/>
                  <a:pt x="177039" y="248025"/>
                  <a:pt x="195298" y="257961"/>
                </a:cubicBezTo>
                <a:cubicBezTo>
                  <a:pt x="213557" y="267897"/>
                  <a:pt x="227586" y="279370"/>
                  <a:pt x="237384" y="292381"/>
                </a:cubicBezTo>
                <a:cubicBezTo>
                  <a:pt x="247183" y="305392"/>
                  <a:pt x="249218" y="318764"/>
                  <a:pt x="243490" y="332495"/>
                </a:cubicBezTo>
                <a:cubicBezTo>
                  <a:pt x="237762" y="346227"/>
                  <a:pt x="230353" y="349028"/>
                  <a:pt x="221263" y="340899"/>
                </a:cubicBezTo>
                <a:cubicBezTo>
                  <a:pt x="212174" y="332770"/>
                  <a:pt x="203513" y="321056"/>
                  <a:pt x="195281" y="305758"/>
                </a:cubicBezTo>
                <a:cubicBezTo>
                  <a:pt x="174129" y="315660"/>
                  <a:pt x="152051" y="326533"/>
                  <a:pt x="129047" y="338378"/>
                </a:cubicBezTo>
                <a:cubicBezTo>
                  <a:pt x="106043" y="350223"/>
                  <a:pt x="88739" y="360662"/>
                  <a:pt x="77134" y="369694"/>
                </a:cubicBezTo>
                <a:cubicBezTo>
                  <a:pt x="65529" y="378726"/>
                  <a:pt x="56588" y="375131"/>
                  <a:pt x="50311" y="358907"/>
                </a:cubicBezTo>
                <a:cubicBezTo>
                  <a:pt x="44034" y="342683"/>
                  <a:pt x="45069" y="331809"/>
                  <a:pt x="53415" y="326287"/>
                </a:cubicBezTo>
                <a:cubicBezTo>
                  <a:pt x="61762" y="320765"/>
                  <a:pt x="69731" y="313179"/>
                  <a:pt x="77322" y="303529"/>
                </a:cubicBezTo>
                <a:cubicBezTo>
                  <a:pt x="84914" y="293879"/>
                  <a:pt x="92940" y="279376"/>
                  <a:pt x="101401" y="260019"/>
                </a:cubicBezTo>
                <a:cubicBezTo>
                  <a:pt x="109862" y="240662"/>
                  <a:pt x="112926" y="228640"/>
                  <a:pt x="110594" y="223952"/>
                </a:cubicBezTo>
                <a:cubicBezTo>
                  <a:pt x="95959" y="228023"/>
                  <a:pt x="83022" y="231190"/>
                  <a:pt x="71783" y="233453"/>
                </a:cubicBezTo>
                <a:cubicBezTo>
                  <a:pt x="60544" y="235717"/>
                  <a:pt x="49756" y="237209"/>
                  <a:pt x="39421" y="237930"/>
                </a:cubicBezTo>
                <a:cubicBezTo>
                  <a:pt x="29085" y="238650"/>
                  <a:pt x="18137" y="233819"/>
                  <a:pt x="6578" y="223438"/>
                </a:cubicBezTo>
                <a:cubicBezTo>
                  <a:pt x="-4981" y="213056"/>
                  <a:pt x="-1305" y="206945"/>
                  <a:pt x="17606" y="205104"/>
                </a:cubicBezTo>
                <a:cubicBezTo>
                  <a:pt x="36517" y="203264"/>
                  <a:pt x="59618" y="200194"/>
                  <a:pt x="86909" y="195895"/>
                </a:cubicBezTo>
                <a:cubicBezTo>
                  <a:pt x="114201" y="191596"/>
                  <a:pt x="137742" y="187325"/>
                  <a:pt x="157533" y="183084"/>
                </a:cubicBezTo>
                <a:cubicBezTo>
                  <a:pt x="177325" y="178842"/>
                  <a:pt x="195430" y="174148"/>
                  <a:pt x="211848" y="169003"/>
                </a:cubicBezTo>
                <a:cubicBezTo>
                  <a:pt x="215953" y="167717"/>
                  <a:pt x="219931" y="166982"/>
                  <a:pt x="223783" y="166797"/>
                </a:cubicBezTo>
                <a:close/>
                <a:moveTo>
                  <a:pt x="207444" y="82227"/>
                </a:moveTo>
                <a:cubicBezTo>
                  <a:pt x="216754" y="82859"/>
                  <a:pt x="225791" y="86871"/>
                  <a:pt x="234555" y="94263"/>
                </a:cubicBezTo>
                <a:cubicBezTo>
                  <a:pt x="246240" y="104119"/>
                  <a:pt x="241300" y="111648"/>
                  <a:pt x="219737" y="116850"/>
                </a:cubicBezTo>
                <a:cubicBezTo>
                  <a:pt x="198174" y="122052"/>
                  <a:pt x="175061" y="126854"/>
                  <a:pt x="150399" y="131256"/>
                </a:cubicBezTo>
                <a:cubicBezTo>
                  <a:pt x="125737" y="135658"/>
                  <a:pt x="105506" y="134783"/>
                  <a:pt x="89705" y="128632"/>
                </a:cubicBezTo>
                <a:cubicBezTo>
                  <a:pt x="72966" y="116330"/>
                  <a:pt x="72760" y="108658"/>
                  <a:pt x="89087" y="105616"/>
                </a:cubicBezTo>
                <a:cubicBezTo>
                  <a:pt x="105414" y="102575"/>
                  <a:pt x="124491" y="98539"/>
                  <a:pt x="146317" y="93508"/>
                </a:cubicBezTo>
                <a:cubicBezTo>
                  <a:pt x="168144" y="88478"/>
                  <a:pt x="185385" y="84882"/>
                  <a:pt x="198042" y="82721"/>
                </a:cubicBezTo>
                <a:cubicBezTo>
                  <a:pt x="201206" y="82181"/>
                  <a:pt x="204340" y="82016"/>
                  <a:pt x="207444" y="82227"/>
                </a:cubicBezTo>
                <a:close/>
                <a:moveTo>
                  <a:pt x="322022" y="24"/>
                </a:moveTo>
                <a:cubicBezTo>
                  <a:pt x="324708" y="-105"/>
                  <a:pt x="328080" y="306"/>
                  <a:pt x="332139" y="1258"/>
                </a:cubicBezTo>
                <a:cubicBezTo>
                  <a:pt x="348374" y="5065"/>
                  <a:pt x="361334" y="10353"/>
                  <a:pt x="371018" y="17122"/>
                </a:cubicBezTo>
                <a:cubicBezTo>
                  <a:pt x="380702" y="23890"/>
                  <a:pt x="382989" y="32077"/>
                  <a:pt x="377878" y="41681"/>
                </a:cubicBezTo>
                <a:cubicBezTo>
                  <a:pt x="372767" y="51285"/>
                  <a:pt x="369143" y="64931"/>
                  <a:pt x="367005" y="82618"/>
                </a:cubicBezTo>
                <a:cubicBezTo>
                  <a:pt x="364867" y="100306"/>
                  <a:pt x="360997" y="118639"/>
                  <a:pt x="355394" y="137619"/>
                </a:cubicBezTo>
                <a:cubicBezTo>
                  <a:pt x="379999" y="130987"/>
                  <a:pt x="395594" y="125025"/>
                  <a:pt x="402180" y="119731"/>
                </a:cubicBezTo>
                <a:cubicBezTo>
                  <a:pt x="408766" y="114437"/>
                  <a:pt x="419421" y="114837"/>
                  <a:pt x="434148" y="120932"/>
                </a:cubicBezTo>
                <a:cubicBezTo>
                  <a:pt x="448874" y="127026"/>
                  <a:pt x="460599" y="133851"/>
                  <a:pt x="469323" y="141409"/>
                </a:cubicBezTo>
                <a:cubicBezTo>
                  <a:pt x="478046" y="148966"/>
                  <a:pt x="478412" y="158547"/>
                  <a:pt x="470420" y="170152"/>
                </a:cubicBezTo>
                <a:cubicBezTo>
                  <a:pt x="462428" y="181757"/>
                  <a:pt x="456666" y="203481"/>
                  <a:pt x="453133" y="235323"/>
                </a:cubicBezTo>
                <a:cubicBezTo>
                  <a:pt x="449600" y="267165"/>
                  <a:pt x="443826" y="301276"/>
                  <a:pt x="435811" y="337658"/>
                </a:cubicBezTo>
                <a:cubicBezTo>
                  <a:pt x="427796" y="374039"/>
                  <a:pt x="418141" y="400518"/>
                  <a:pt x="406845" y="417097"/>
                </a:cubicBezTo>
                <a:cubicBezTo>
                  <a:pt x="395549" y="433675"/>
                  <a:pt x="382194" y="445806"/>
                  <a:pt x="366782" y="453489"/>
                </a:cubicBezTo>
                <a:cubicBezTo>
                  <a:pt x="351370" y="461173"/>
                  <a:pt x="342395" y="457217"/>
                  <a:pt x="339856" y="441622"/>
                </a:cubicBezTo>
                <a:cubicBezTo>
                  <a:pt x="337318" y="426026"/>
                  <a:pt x="328829" y="408408"/>
                  <a:pt x="314388" y="388765"/>
                </a:cubicBezTo>
                <a:cubicBezTo>
                  <a:pt x="299948" y="369122"/>
                  <a:pt x="301817" y="363686"/>
                  <a:pt x="319997" y="372455"/>
                </a:cubicBezTo>
                <a:cubicBezTo>
                  <a:pt x="338176" y="381225"/>
                  <a:pt x="350152" y="385889"/>
                  <a:pt x="355926" y="386450"/>
                </a:cubicBezTo>
                <a:cubicBezTo>
                  <a:pt x="361700" y="387010"/>
                  <a:pt x="367725" y="383140"/>
                  <a:pt x="374002" y="374839"/>
                </a:cubicBezTo>
                <a:cubicBezTo>
                  <a:pt x="380279" y="366538"/>
                  <a:pt x="386956" y="348942"/>
                  <a:pt x="394034" y="322051"/>
                </a:cubicBezTo>
                <a:cubicBezTo>
                  <a:pt x="401111" y="295160"/>
                  <a:pt x="406805" y="262803"/>
                  <a:pt x="411115" y="224981"/>
                </a:cubicBezTo>
                <a:cubicBezTo>
                  <a:pt x="415425" y="187160"/>
                  <a:pt x="415425" y="166053"/>
                  <a:pt x="411115" y="161663"/>
                </a:cubicBezTo>
                <a:cubicBezTo>
                  <a:pt x="406805" y="157273"/>
                  <a:pt x="400008" y="156101"/>
                  <a:pt x="390724" y="158147"/>
                </a:cubicBezTo>
                <a:cubicBezTo>
                  <a:pt x="381440" y="160194"/>
                  <a:pt x="368623" y="163733"/>
                  <a:pt x="352273" y="168763"/>
                </a:cubicBezTo>
                <a:cubicBezTo>
                  <a:pt x="342646" y="216898"/>
                  <a:pt x="329458" y="260625"/>
                  <a:pt x="312708" y="299944"/>
                </a:cubicBezTo>
                <a:cubicBezTo>
                  <a:pt x="295958" y="339264"/>
                  <a:pt x="276950" y="371020"/>
                  <a:pt x="255684" y="395213"/>
                </a:cubicBezTo>
                <a:cubicBezTo>
                  <a:pt x="234417" y="419406"/>
                  <a:pt x="207652" y="438883"/>
                  <a:pt x="175387" y="453644"/>
                </a:cubicBezTo>
                <a:cubicBezTo>
                  <a:pt x="143122" y="468404"/>
                  <a:pt x="140052" y="463917"/>
                  <a:pt x="166177" y="440181"/>
                </a:cubicBezTo>
                <a:cubicBezTo>
                  <a:pt x="192302" y="416445"/>
                  <a:pt x="216741" y="387513"/>
                  <a:pt x="239494" y="353384"/>
                </a:cubicBezTo>
                <a:cubicBezTo>
                  <a:pt x="262246" y="319255"/>
                  <a:pt x="285010" y="260333"/>
                  <a:pt x="307786" y="176618"/>
                </a:cubicBezTo>
                <a:cubicBezTo>
                  <a:pt x="297084" y="180894"/>
                  <a:pt x="287577" y="183398"/>
                  <a:pt x="279265" y="184130"/>
                </a:cubicBezTo>
                <a:cubicBezTo>
                  <a:pt x="270953" y="184861"/>
                  <a:pt x="261795" y="179448"/>
                  <a:pt x="251791" y="167889"/>
                </a:cubicBezTo>
                <a:cubicBezTo>
                  <a:pt x="241786" y="156329"/>
                  <a:pt x="246868" y="150550"/>
                  <a:pt x="267037" y="150550"/>
                </a:cubicBezTo>
                <a:cubicBezTo>
                  <a:pt x="282175" y="150550"/>
                  <a:pt x="297393" y="148789"/>
                  <a:pt x="312691" y="145268"/>
                </a:cubicBezTo>
                <a:cubicBezTo>
                  <a:pt x="318041" y="119862"/>
                  <a:pt x="321431" y="95304"/>
                  <a:pt x="322861" y="71591"/>
                </a:cubicBezTo>
                <a:cubicBezTo>
                  <a:pt x="324290" y="47878"/>
                  <a:pt x="322135" y="29276"/>
                  <a:pt x="316395" y="15784"/>
                </a:cubicBezTo>
                <a:cubicBezTo>
                  <a:pt x="312090" y="5666"/>
                  <a:pt x="313966" y="412"/>
                  <a:pt x="322022" y="24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4" name="文本框 16"/>
          <p:cNvSpPr/>
          <p:nvPr/>
        </p:nvSpPr>
        <p:spPr>
          <a:xfrm>
            <a:off x="1920960" y="3340080"/>
            <a:ext cx="23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天多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90" descr=""/>
          <p:cNvPicPr/>
          <p:nvPr/>
        </p:nvPicPr>
        <p:blipFill>
          <a:blip r:embed="rId5"/>
          <a:stretch/>
        </p:blipFill>
        <p:spPr>
          <a:xfrm>
            <a:off x="6024600" y="3274920"/>
            <a:ext cx="720360" cy="713880"/>
          </a:xfrm>
          <a:prstGeom prst="rect">
            <a:avLst/>
          </a:prstGeom>
          <a:ln w="0">
            <a:noFill/>
          </a:ln>
        </p:spPr>
      </p:pic>
      <p:sp>
        <p:nvSpPr>
          <p:cNvPr id="566" name="文本框 22"/>
          <p:cNvSpPr/>
          <p:nvPr/>
        </p:nvSpPr>
        <p:spPr>
          <a:xfrm>
            <a:off x="6103800" y="3363840"/>
            <a:ext cx="561600" cy="536040"/>
          </a:xfrm>
          <a:custGeom>
            <a:avLst/>
            <a:gdLst>
              <a:gd name="textAreaLeft" fmla="*/ 0 w 561600"/>
              <a:gd name="textAreaRight" fmla="*/ 561960 w 561600"/>
              <a:gd name="textAreaTop" fmla="*/ 0 h 536040"/>
              <a:gd name="textAreaBottom" fmla="*/ 536400 h 536040"/>
            </a:gdLst>
            <a:ahLst/>
            <a:rect l="textAreaLeft" t="textAreaTop" r="textAreaRight" b="textAreaBottom"/>
            <a:pathLst>
              <a:path w="562280" h="534888">
                <a:moveTo>
                  <a:pt x="321362" y="289654"/>
                </a:moveTo>
                <a:cubicBezTo>
                  <a:pt x="328350" y="289307"/>
                  <a:pt x="336276" y="291381"/>
                  <a:pt x="345137" y="295877"/>
                </a:cubicBezTo>
                <a:cubicBezTo>
                  <a:pt x="362860" y="304869"/>
                  <a:pt x="377966" y="315516"/>
                  <a:pt x="390455" y="327819"/>
                </a:cubicBezTo>
                <a:cubicBezTo>
                  <a:pt x="402944" y="340122"/>
                  <a:pt x="399391" y="350261"/>
                  <a:pt x="379795" y="358236"/>
                </a:cubicBezTo>
                <a:cubicBezTo>
                  <a:pt x="360200" y="366211"/>
                  <a:pt x="330310" y="394544"/>
                  <a:pt x="290127" y="443235"/>
                </a:cubicBezTo>
                <a:cubicBezTo>
                  <a:pt x="307043" y="453033"/>
                  <a:pt x="316717" y="469014"/>
                  <a:pt x="319148" y="491177"/>
                </a:cubicBezTo>
                <a:cubicBezTo>
                  <a:pt x="321579" y="513340"/>
                  <a:pt x="317356" y="527317"/>
                  <a:pt x="306479" y="533109"/>
                </a:cubicBezTo>
                <a:cubicBezTo>
                  <a:pt x="295602" y="538901"/>
                  <a:pt x="282257" y="530554"/>
                  <a:pt x="266444" y="508069"/>
                </a:cubicBezTo>
                <a:cubicBezTo>
                  <a:pt x="250631" y="485583"/>
                  <a:pt x="233064" y="462192"/>
                  <a:pt x="213741" y="437896"/>
                </a:cubicBezTo>
                <a:cubicBezTo>
                  <a:pt x="194418" y="413600"/>
                  <a:pt x="195038" y="403883"/>
                  <a:pt x="215601" y="408745"/>
                </a:cubicBezTo>
                <a:cubicBezTo>
                  <a:pt x="236164" y="413606"/>
                  <a:pt x="252300" y="419733"/>
                  <a:pt x="264007" y="427125"/>
                </a:cubicBezTo>
                <a:cubicBezTo>
                  <a:pt x="289234" y="388901"/>
                  <a:pt x="304123" y="365045"/>
                  <a:pt x="308674" y="355557"/>
                </a:cubicBezTo>
                <a:cubicBezTo>
                  <a:pt x="313226" y="346069"/>
                  <a:pt x="315080" y="341276"/>
                  <a:pt x="314237" y="341177"/>
                </a:cubicBezTo>
                <a:cubicBezTo>
                  <a:pt x="313393" y="341077"/>
                  <a:pt x="294592" y="344897"/>
                  <a:pt x="257831" y="352636"/>
                </a:cubicBezTo>
                <a:cubicBezTo>
                  <a:pt x="221070" y="360375"/>
                  <a:pt x="192477" y="367377"/>
                  <a:pt x="172050" y="373640"/>
                </a:cubicBezTo>
                <a:cubicBezTo>
                  <a:pt x="151624" y="379903"/>
                  <a:pt x="132685" y="374427"/>
                  <a:pt x="115235" y="357213"/>
                </a:cubicBezTo>
                <a:cubicBezTo>
                  <a:pt x="97785" y="339998"/>
                  <a:pt x="101785" y="332185"/>
                  <a:pt x="127234" y="333772"/>
                </a:cubicBezTo>
                <a:cubicBezTo>
                  <a:pt x="152684" y="335360"/>
                  <a:pt x="185817" y="332383"/>
                  <a:pt x="226633" y="324843"/>
                </a:cubicBezTo>
                <a:cubicBezTo>
                  <a:pt x="267449" y="317302"/>
                  <a:pt x="292973" y="308341"/>
                  <a:pt x="303205" y="297961"/>
                </a:cubicBezTo>
                <a:cubicBezTo>
                  <a:pt x="308321" y="292770"/>
                  <a:pt x="314373" y="290001"/>
                  <a:pt x="321362" y="289654"/>
                </a:cubicBezTo>
                <a:close/>
                <a:moveTo>
                  <a:pt x="222226" y="205950"/>
                </a:moveTo>
                <a:cubicBezTo>
                  <a:pt x="225049" y="206006"/>
                  <a:pt x="228223" y="206290"/>
                  <a:pt x="231749" y="206803"/>
                </a:cubicBezTo>
                <a:cubicBezTo>
                  <a:pt x="259952" y="210909"/>
                  <a:pt x="278289" y="220341"/>
                  <a:pt x="286759" y="235099"/>
                </a:cubicBezTo>
                <a:cubicBezTo>
                  <a:pt x="295230" y="249858"/>
                  <a:pt x="296365" y="263029"/>
                  <a:pt x="290164" y="274613"/>
                </a:cubicBezTo>
                <a:cubicBezTo>
                  <a:pt x="283963" y="286197"/>
                  <a:pt x="274196" y="287834"/>
                  <a:pt x="260863" y="279524"/>
                </a:cubicBezTo>
                <a:cubicBezTo>
                  <a:pt x="247531" y="271215"/>
                  <a:pt x="232096" y="257510"/>
                  <a:pt x="214559" y="238411"/>
                </a:cubicBezTo>
                <a:cubicBezTo>
                  <a:pt x="199909" y="216381"/>
                  <a:pt x="202465" y="205561"/>
                  <a:pt x="222226" y="205950"/>
                </a:cubicBezTo>
                <a:close/>
                <a:moveTo>
                  <a:pt x="235297" y="28"/>
                </a:moveTo>
                <a:cubicBezTo>
                  <a:pt x="238097" y="193"/>
                  <a:pt x="241429" y="1098"/>
                  <a:pt x="245292" y="2741"/>
                </a:cubicBezTo>
                <a:cubicBezTo>
                  <a:pt x="260746" y="9315"/>
                  <a:pt x="274022" y="16768"/>
                  <a:pt x="285122" y="25103"/>
                </a:cubicBezTo>
                <a:cubicBezTo>
                  <a:pt x="296222" y="33437"/>
                  <a:pt x="298052" y="41790"/>
                  <a:pt x="290610" y="50162"/>
                </a:cubicBezTo>
                <a:cubicBezTo>
                  <a:pt x="283169" y="58533"/>
                  <a:pt x="276782" y="67382"/>
                  <a:pt x="271449" y="76709"/>
                </a:cubicBezTo>
                <a:cubicBezTo>
                  <a:pt x="316916" y="118554"/>
                  <a:pt x="352734" y="148711"/>
                  <a:pt x="378902" y="167178"/>
                </a:cubicBezTo>
                <a:cubicBezTo>
                  <a:pt x="405071" y="185645"/>
                  <a:pt x="430422" y="200633"/>
                  <a:pt x="454954" y="212143"/>
                </a:cubicBezTo>
                <a:cubicBezTo>
                  <a:pt x="479485" y="223652"/>
                  <a:pt x="507564" y="235961"/>
                  <a:pt x="539190" y="249071"/>
                </a:cubicBezTo>
                <a:cubicBezTo>
                  <a:pt x="570816" y="262180"/>
                  <a:pt x="569954" y="270279"/>
                  <a:pt x="536604" y="273367"/>
                </a:cubicBezTo>
                <a:cubicBezTo>
                  <a:pt x="503255" y="276455"/>
                  <a:pt x="475517" y="277999"/>
                  <a:pt x="453391" y="277999"/>
                </a:cubicBezTo>
                <a:cubicBezTo>
                  <a:pt x="431017" y="277999"/>
                  <a:pt x="412451" y="270210"/>
                  <a:pt x="397692" y="254633"/>
                </a:cubicBezTo>
                <a:cubicBezTo>
                  <a:pt x="382933" y="239056"/>
                  <a:pt x="365024" y="219175"/>
                  <a:pt x="343965" y="194990"/>
                </a:cubicBezTo>
                <a:cubicBezTo>
                  <a:pt x="322906" y="170806"/>
                  <a:pt x="294356" y="138547"/>
                  <a:pt x="258315" y="98215"/>
                </a:cubicBezTo>
                <a:cubicBezTo>
                  <a:pt x="236487" y="135273"/>
                  <a:pt x="214181" y="167159"/>
                  <a:pt x="191398" y="193874"/>
                </a:cubicBezTo>
                <a:cubicBezTo>
                  <a:pt x="168615" y="220589"/>
                  <a:pt x="143791" y="245393"/>
                  <a:pt x="116928" y="268288"/>
                </a:cubicBezTo>
                <a:cubicBezTo>
                  <a:pt x="90064" y="291183"/>
                  <a:pt x="60026" y="309030"/>
                  <a:pt x="26813" y="321829"/>
                </a:cubicBezTo>
                <a:cubicBezTo>
                  <a:pt x="-6401" y="334628"/>
                  <a:pt x="-8757" y="329264"/>
                  <a:pt x="19743" y="305737"/>
                </a:cubicBezTo>
                <a:cubicBezTo>
                  <a:pt x="48244" y="282210"/>
                  <a:pt x="75219" y="256946"/>
                  <a:pt x="100669" y="229946"/>
                </a:cubicBezTo>
                <a:cubicBezTo>
                  <a:pt x="126118" y="202946"/>
                  <a:pt x="148126" y="177447"/>
                  <a:pt x="166692" y="153448"/>
                </a:cubicBezTo>
                <a:cubicBezTo>
                  <a:pt x="185259" y="129450"/>
                  <a:pt x="199918" y="105222"/>
                  <a:pt x="210671" y="80765"/>
                </a:cubicBezTo>
                <a:cubicBezTo>
                  <a:pt x="221424" y="56307"/>
                  <a:pt x="226019" y="35546"/>
                  <a:pt x="224456" y="18480"/>
                </a:cubicBezTo>
                <a:cubicBezTo>
                  <a:pt x="223284" y="5681"/>
                  <a:pt x="226898" y="-470"/>
                  <a:pt x="235297" y="28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7" name="文本框 24"/>
          <p:cNvSpPr/>
          <p:nvPr/>
        </p:nvSpPr>
        <p:spPr>
          <a:xfrm>
            <a:off x="1523880" y="4083120"/>
            <a:ext cx="309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点清方知数目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90" descr=""/>
          <p:cNvPicPr/>
          <p:nvPr/>
        </p:nvPicPr>
        <p:blipFill>
          <a:blip r:embed="rId6"/>
          <a:stretch/>
        </p:blipFill>
        <p:spPr>
          <a:xfrm>
            <a:off x="6024600" y="4017960"/>
            <a:ext cx="720360" cy="71388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30"/>
          <p:cNvSpPr/>
          <p:nvPr/>
        </p:nvSpPr>
        <p:spPr>
          <a:xfrm>
            <a:off x="6134040" y="4149720"/>
            <a:ext cx="501120" cy="450360"/>
          </a:xfrm>
          <a:custGeom>
            <a:avLst/>
            <a:gdLst>
              <a:gd name="textAreaLeft" fmla="*/ 0 w 501120"/>
              <a:gd name="textAreaRight" fmla="*/ 501480 w 50112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502233" h="450069">
                <a:moveTo>
                  <a:pt x="435657" y="27"/>
                </a:moveTo>
                <a:cubicBezTo>
                  <a:pt x="453433" y="-417"/>
                  <a:pt x="468767" y="4626"/>
                  <a:pt x="481659" y="15155"/>
                </a:cubicBezTo>
                <a:cubicBezTo>
                  <a:pt x="498849" y="29195"/>
                  <a:pt x="505267" y="39358"/>
                  <a:pt x="500914" y="45646"/>
                </a:cubicBezTo>
                <a:cubicBezTo>
                  <a:pt x="496561" y="51934"/>
                  <a:pt x="483123" y="55078"/>
                  <a:pt x="460600" y="55078"/>
                </a:cubicBezTo>
                <a:cubicBezTo>
                  <a:pt x="442071" y="55078"/>
                  <a:pt x="414711" y="55854"/>
                  <a:pt x="378521" y="57404"/>
                </a:cubicBezTo>
                <a:cubicBezTo>
                  <a:pt x="342331" y="58954"/>
                  <a:pt x="299692" y="62942"/>
                  <a:pt x="250604" y="69366"/>
                </a:cubicBezTo>
                <a:cubicBezTo>
                  <a:pt x="267719" y="79858"/>
                  <a:pt x="274596" y="88025"/>
                  <a:pt x="271235" y="93867"/>
                </a:cubicBezTo>
                <a:cubicBezTo>
                  <a:pt x="267874" y="99708"/>
                  <a:pt x="259447" y="120290"/>
                  <a:pt x="245953" y="155612"/>
                </a:cubicBezTo>
                <a:cubicBezTo>
                  <a:pt x="249723" y="155339"/>
                  <a:pt x="263421" y="154093"/>
                  <a:pt x="287048" y="151873"/>
                </a:cubicBezTo>
                <a:cubicBezTo>
                  <a:pt x="310674" y="149653"/>
                  <a:pt x="327238" y="146149"/>
                  <a:pt x="336738" y="141362"/>
                </a:cubicBezTo>
                <a:cubicBezTo>
                  <a:pt x="346238" y="136574"/>
                  <a:pt x="358058" y="137951"/>
                  <a:pt x="372196" y="145492"/>
                </a:cubicBezTo>
                <a:cubicBezTo>
                  <a:pt x="386335" y="153032"/>
                  <a:pt x="397621" y="161379"/>
                  <a:pt x="406055" y="170532"/>
                </a:cubicBezTo>
                <a:cubicBezTo>
                  <a:pt x="414488" y="179685"/>
                  <a:pt x="413949" y="189371"/>
                  <a:pt x="404436" y="199591"/>
                </a:cubicBezTo>
                <a:cubicBezTo>
                  <a:pt x="394923" y="209810"/>
                  <a:pt x="387885" y="228259"/>
                  <a:pt x="383321" y="254936"/>
                </a:cubicBezTo>
                <a:cubicBezTo>
                  <a:pt x="378757" y="281613"/>
                  <a:pt x="369691" y="314095"/>
                  <a:pt x="356123" y="352381"/>
                </a:cubicBezTo>
                <a:cubicBezTo>
                  <a:pt x="342555" y="390667"/>
                  <a:pt x="321725" y="418790"/>
                  <a:pt x="293634" y="436748"/>
                </a:cubicBezTo>
                <a:cubicBezTo>
                  <a:pt x="265542" y="454707"/>
                  <a:pt x="250566" y="454508"/>
                  <a:pt x="248706" y="436153"/>
                </a:cubicBezTo>
                <a:cubicBezTo>
                  <a:pt x="246846" y="417797"/>
                  <a:pt x="236143" y="397513"/>
                  <a:pt x="216596" y="375301"/>
                </a:cubicBezTo>
                <a:cubicBezTo>
                  <a:pt x="197050" y="353088"/>
                  <a:pt x="200889" y="347433"/>
                  <a:pt x="228112" y="358334"/>
                </a:cubicBezTo>
                <a:cubicBezTo>
                  <a:pt x="255335" y="369236"/>
                  <a:pt x="272996" y="373075"/>
                  <a:pt x="281095" y="369850"/>
                </a:cubicBezTo>
                <a:cubicBezTo>
                  <a:pt x="289194" y="366625"/>
                  <a:pt x="298191" y="352449"/>
                  <a:pt x="308088" y="327322"/>
                </a:cubicBezTo>
                <a:cubicBezTo>
                  <a:pt x="317986" y="302195"/>
                  <a:pt x="326401" y="276287"/>
                  <a:pt x="333333" y="249597"/>
                </a:cubicBezTo>
                <a:cubicBezTo>
                  <a:pt x="340266" y="222907"/>
                  <a:pt x="342455" y="204440"/>
                  <a:pt x="339901" y="194196"/>
                </a:cubicBezTo>
                <a:cubicBezTo>
                  <a:pt x="337346" y="183951"/>
                  <a:pt x="329476" y="179982"/>
                  <a:pt x="316293" y="182289"/>
                </a:cubicBezTo>
                <a:cubicBezTo>
                  <a:pt x="303109" y="184596"/>
                  <a:pt x="289832" y="187709"/>
                  <a:pt x="276463" y="191628"/>
                </a:cubicBezTo>
                <a:cubicBezTo>
                  <a:pt x="263093" y="195547"/>
                  <a:pt x="249215" y="192062"/>
                  <a:pt x="234828" y="181173"/>
                </a:cubicBezTo>
                <a:cubicBezTo>
                  <a:pt x="221458" y="212849"/>
                  <a:pt x="207257" y="240959"/>
                  <a:pt x="192226" y="265503"/>
                </a:cubicBezTo>
                <a:cubicBezTo>
                  <a:pt x="177194" y="290047"/>
                  <a:pt x="161406" y="311373"/>
                  <a:pt x="144861" y="329480"/>
                </a:cubicBezTo>
                <a:cubicBezTo>
                  <a:pt x="128317" y="347588"/>
                  <a:pt x="109980" y="363488"/>
                  <a:pt x="89851" y="377180"/>
                </a:cubicBezTo>
                <a:cubicBezTo>
                  <a:pt x="69722" y="390872"/>
                  <a:pt x="48241" y="401705"/>
                  <a:pt x="25408" y="409680"/>
                </a:cubicBezTo>
                <a:cubicBezTo>
                  <a:pt x="2575" y="417655"/>
                  <a:pt x="5750" y="408365"/>
                  <a:pt x="34933" y="381812"/>
                </a:cubicBezTo>
                <a:cubicBezTo>
                  <a:pt x="64116" y="355259"/>
                  <a:pt x="91023" y="326200"/>
                  <a:pt x="115654" y="294636"/>
                </a:cubicBezTo>
                <a:cubicBezTo>
                  <a:pt x="140285" y="263072"/>
                  <a:pt x="160339" y="230652"/>
                  <a:pt x="175817" y="197377"/>
                </a:cubicBezTo>
                <a:cubicBezTo>
                  <a:pt x="191296" y="164101"/>
                  <a:pt x="201745" y="136339"/>
                  <a:pt x="207164" y="114089"/>
                </a:cubicBezTo>
                <a:cubicBezTo>
                  <a:pt x="212584" y="91839"/>
                  <a:pt x="213682" y="79176"/>
                  <a:pt x="210457" y="76100"/>
                </a:cubicBezTo>
                <a:cubicBezTo>
                  <a:pt x="142666" y="85452"/>
                  <a:pt x="98309" y="92068"/>
                  <a:pt x="77386" y="95950"/>
                </a:cubicBezTo>
                <a:cubicBezTo>
                  <a:pt x="56464" y="99832"/>
                  <a:pt x="39497" y="97941"/>
                  <a:pt x="26487" y="90276"/>
                </a:cubicBezTo>
                <a:cubicBezTo>
                  <a:pt x="13477" y="82612"/>
                  <a:pt x="5118" y="74004"/>
                  <a:pt x="1410" y="64455"/>
                </a:cubicBezTo>
                <a:cubicBezTo>
                  <a:pt x="-2299" y="54905"/>
                  <a:pt x="1310" y="50924"/>
                  <a:pt x="12237" y="52511"/>
                </a:cubicBezTo>
                <a:cubicBezTo>
                  <a:pt x="23163" y="54099"/>
                  <a:pt x="47422" y="53355"/>
                  <a:pt x="85014" y="50279"/>
                </a:cubicBezTo>
                <a:cubicBezTo>
                  <a:pt x="122605" y="47203"/>
                  <a:pt x="173908" y="40245"/>
                  <a:pt x="238921" y="29406"/>
                </a:cubicBezTo>
                <a:cubicBezTo>
                  <a:pt x="331814" y="16805"/>
                  <a:pt x="391197" y="7770"/>
                  <a:pt x="417068" y="2300"/>
                </a:cubicBezTo>
                <a:cubicBezTo>
                  <a:pt x="423536" y="933"/>
                  <a:pt x="429732" y="175"/>
                  <a:pt x="435657" y="27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570" name="直接连接符 33"/>
          <p:cNvCxnSpPr/>
          <p:nvPr/>
        </p:nvCxnSpPr>
        <p:spPr>
          <a:xfrm>
            <a:off x="4584600" y="2889000"/>
            <a:ext cx="129564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571" name="直接连接符 34"/>
          <p:cNvCxnSpPr/>
          <p:nvPr/>
        </p:nvCxnSpPr>
        <p:spPr>
          <a:xfrm>
            <a:off x="4584600" y="3635280"/>
            <a:ext cx="129564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572" name="直接连接符 35"/>
          <p:cNvCxnSpPr/>
          <p:nvPr/>
        </p:nvCxnSpPr>
        <p:spPr>
          <a:xfrm>
            <a:off x="4584600" y="4381200"/>
            <a:ext cx="129564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2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3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5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7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9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"/>
          <p:cNvGrpSpPr/>
          <p:nvPr/>
        </p:nvGrpSpPr>
        <p:grpSpPr>
          <a:xfrm>
            <a:off x="3398760" y="123840"/>
            <a:ext cx="2345760" cy="718920"/>
            <a:chOff x="3398760" y="123840"/>
            <a:chExt cx="2345760" cy="718920"/>
          </a:xfrm>
        </p:grpSpPr>
        <p:sp>
          <p:nvSpPr>
            <p:cNvPr id="574" name="文本框 1"/>
            <p:cNvSpPr/>
            <p:nvPr/>
          </p:nvSpPr>
          <p:spPr>
            <a:xfrm>
              <a:off x="4143960" y="198000"/>
              <a:ext cx="160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2"/>
                  </a:solidFill>
                  <a:latin typeface="黑体"/>
                  <a:ea typeface="黑体"/>
                </a:rPr>
                <a:t>加一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图片 34" descr=""/>
            <p:cNvPicPr/>
            <p:nvPr/>
          </p:nvPicPr>
          <p:blipFill>
            <a:blip r:embed="rId1"/>
            <a:stretch/>
          </p:blipFill>
          <p:spPr>
            <a:xfrm>
              <a:off x="3398760" y="123840"/>
              <a:ext cx="81684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文本框 36"/>
          <p:cNvSpPr/>
          <p:nvPr/>
        </p:nvSpPr>
        <p:spPr>
          <a:xfrm>
            <a:off x="773280" y="9064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37"/>
          <p:cNvSpPr/>
          <p:nvPr/>
        </p:nvSpPr>
        <p:spPr>
          <a:xfrm>
            <a:off x="1228680" y="2158920"/>
            <a:ext cx="89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8"/>
          <p:cNvSpPr/>
          <p:nvPr/>
        </p:nvSpPr>
        <p:spPr>
          <a:xfrm>
            <a:off x="1744560" y="906480"/>
            <a:ext cx="100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39"/>
          <p:cNvSpPr/>
          <p:nvPr/>
        </p:nvSpPr>
        <p:spPr>
          <a:xfrm>
            <a:off x="3768840" y="9064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40"/>
          <p:cNvSpPr/>
          <p:nvPr/>
        </p:nvSpPr>
        <p:spPr>
          <a:xfrm>
            <a:off x="4159080" y="2158920"/>
            <a:ext cx="89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41"/>
          <p:cNvSpPr/>
          <p:nvPr/>
        </p:nvSpPr>
        <p:spPr>
          <a:xfrm>
            <a:off x="4599000" y="9064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48"/>
          <p:cNvSpPr/>
          <p:nvPr/>
        </p:nvSpPr>
        <p:spPr>
          <a:xfrm>
            <a:off x="6675480" y="9064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49"/>
          <p:cNvSpPr/>
          <p:nvPr/>
        </p:nvSpPr>
        <p:spPr>
          <a:xfrm>
            <a:off x="7089840" y="2158920"/>
            <a:ext cx="89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50"/>
          <p:cNvSpPr/>
          <p:nvPr/>
        </p:nvSpPr>
        <p:spPr>
          <a:xfrm>
            <a:off x="7540560" y="90648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16"/>
          <p:cNvGrpSpPr/>
          <p:nvPr/>
        </p:nvGrpSpPr>
        <p:grpSpPr>
          <a:xfrm>
            <a:off x="1344600" y="1761840"/>
            <a:ext cx="671400" cy="547920"/>
            <a:chOff x="1344600" y="1761840"/>
            <a:chExt cx="671400" cy="547920"/>
          </a:xfrm>
        </p:grpSpPr>
        <p:cxnSp>
          <p:nvCxnSpPr>
            <p:cNvPr id="586" name="直接连接符 17"/>
            <p:cNvCxnSpPr/>
            <p:nvPr/>
          </p:nvCxnSpPr>
          <p:spPr>
            <a:xfrm>
              <a:off x="134460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  <p:cxnSp>
          <p:nvCxnSpPr>
            <p:cNvPr id="587" name="直接连接符 18"/>
            <p:cNvCxnSpPr/>
            <p:nvPr/>
          </p:nvCxnSpPr>
          <p:spPr>
            <a:xfrm flipH="1">
              <a:off x="168264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</p:grpSp>
      <p:grpSp>
        <p:nvGrpSpPr>
          <p:cNvPr id="588" name="组合 19"/>
          <p:cNvGrpSpPr/>
          <p:nvPr/>
        </p:nvGrpSpPr>
        <p:grpSpPr>
          <a:xfrm>
            <a:off x="4265280" y="1761840"/>
            <a:ext cx="671760" cy="547920"/>
            <a:chOff x="4265280" y="1761840"/>
            <a:chExt cx="671760" cy="547920"/>
          </a:xfrm>
        </p:grpSpPr>
        <p:cxnSp>
          <p:nvCxnSpPr>
            <p:cNvPr id="589" name="直接连接符 20"/>
            <p:cNvCxnSpPr/>
            <p:nvPr/>
          </p:nvCxnSpPr>
          <p:spPr>
            <a:xfrm>
              <a:off x="426528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  <p:cxnSp>
          <p:nvCxnSpPr>
            <p:cNvPr id="590" name="直接连接符 21"/>
            <p:cNvCxnSpPr/>
            <p:nvPr/>
          </p:nvCxnSpPr>
          <p:spPr>
            <a:xfrm flipH="1">
              <a:off x="460368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</p:grpSp>
      <p:grpSp>
        <p:nvGrpSpPr>
          <p:cNvPr id="591" name="组合 22"/>
          <p:cNvGrpSpPr/>
          <p:nvPr/>
        </p:nvGrpSpPr>
        <p:grpSpPr>
          <a:xfrm>
            <a:off x="7186320" y="1761840"/>
            <a:ext cx="671760" cy="547920"/>
            <a:chOff x="7186320" y="1761840"/>
            <a:chExt cx="671760" cy="547920"/>
          </a:xfrm>
        </p:grpSpPr>
        <p:cxnSp>
          <p:nvCxnSpPr>
            <p:cNvPr id="592" name="直接连接符 23"/>
            <p:cNvCxnSpPr/>
            <p:nvPr/>
          </p:nvCxnSpPr>
          <p:spPr>
            <a:xfrm>
              <a:off x="718632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  <p:cxnSp>
          <p:nvCxnSpPr>
            <p:cNvPr id="593" name="直接连接符 24"/>
            <p:cNvCxnSpPr/>
            <p:nvPr/>
          </p:nvCxnSpPr>
          <p:spPr>
            <a:xfrm flipH="1">
              <a:off x="7524720" y="1761840"/>
              <a:ext cx="333720" cy="548280"/>
            </a:xfrm>
            <a:prstGeom prst="straightConnector1">
              <a:avLst/>
            </a:prstGeom>
            <a:ln w="34925">
              <a:solidFill>
                <a:srgbClr val="000000">
                  <a:lumMod val="75000"/>
                  <a:lumOff val="25000"/>
                </a:srgbClr>
              </a:solidFill>
              <a:tailEnd len="lg" type="stealth" w="med"/>
            </a:ln>
          </p:spPr>
        </p:cxnSp>
      </p:grpSp>
      <p:sp>
        <p:nvSpPr>
          <p:cNvPr id="594" name="文本框 14"/>
          <p:cNvSpPr/>
          <p:nvPr/>
        </p:nvSpPr>
        <p:spPr>
          <a:xfrm>
            <a:off x="2259000" y="3387600"/>
            <a:ext cx="6884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含“冫”的字大多和寒冷有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39"/>
          <p:cNvGrpSpPr/>
          <p:nvPr/>
        </p:nvGrpSpPr>
        <p:grpSpPr>
          <a:xfrm>
            <a:off x="758880" y="3110040"/>
            <a:ext cx="1439640" cy="1565640"/>
            <a:chOff x="758880" y="3110040"/>
            <a:chExt cx="1439640" cy="1565640"/>
          </a:xfrm>
        </p:grpSpPr>
        <p:grpSp>
          <p:nvGrpSpPr>
            <p:cNvPr id="596" name="组合 4"/>
            <p:cNvGrpSpPr/>
            <p:nvPr/>
          </p:nvGrpSpPr>
          <p:grpSpPr>
            <a:xfrm>
              <a:off x="758880" y="3110040"/>
              <a:ext cx="1439640" cy="1565640"/>
              <a:chOff x="758880" y="3110040"/>
              <a:chExt cx="1439640" cy="1565640"/>
            </a:xfrm>
          </p:grpSpPr>
          <p:sp>
            <p:nvSpPr>
              <p:cNvPr id="597" name="文本框 5"/>
              <p:cNvSpPr/>
              <p:nvPr/>
            </p:nvSpPr>
            <p:spPr>
              <a:xfrm>
                <a:off x="758880" y="4098600"/>
                <a:ext cx="143964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两点水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组合 4"/>
              <p:cNvGrpSpPr/>
              <p:nvPr/>
            </p:nvGrpSpPr>
            <p:grpSpPr>
              <a:xfrm>
                <a:off x="961920" y="3110040"/>
                <a:ext cx="1033200" cy="1031400"/>
                <a:chOff x="961920" y="3110040"/>
                <a:chExt cx="1033200" cy="1031400"/>
              </a:xfrm>
            </p:grpSpPr>
            <p:sp>
              <p:nvSpPr>
                <p:cNvPr id="599" name="椭圆 34"/>
                <p:cNvSpPr/>
                <p:nvPr/>
              </p:nvSpPr>
              <p:spPr>
                <a:xfrm>
                  <a:off x="961920" y="3110040"/>
                  <a:ext cx="1033200" cy="1031400"/>
                </a:xfrm>
                <a:prstGeom prst="ellipse">
                  <a:avLst/>
                </a:prstGeom>
                <a:noFill/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6000" spc="-1" strike="noStrike">
                    <a:solidFill>
                      <a:srgbClr val="000000"/>
                    </a:solidFill>
                    <a:latin typeface="楷体"/>
                    <a:ea typeface="楷体"/>
                  </a:endParaRPr>
                </a:p>
              </p:txBody>
            </p:sp>
            <p:sp>
              <p:nvSpPr>
                <p:cNvPr id="600" name="椭圆 35"/>
                <p:cNvSpPr/>
                <p:nvPr/>
              </p:nvSpPr>
              <p:spPr>
                <a:xfrm>
                  <a:off x="1004760" y="3152880"/>
                  <a:ext cx="947520" cy="945720"/>
                </a:xfrm>
                <a:prstGeom prst="ellipse">
                  <a:avLst/>
                </a:prstGeom>
                <a:noFill/>
                <a:ln>
                  <a:solidFill>
                    <a:srgbClr val="c00000"/>
                  </a:solidFill>
                  <a:prstDash val="sysDash"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6000" spc="-1" strike="noStrike">
                    <a:solidFill>
                      <a:srgbClr val="000000"/>
                    </a:solidFill>
                    <a:latin typeface="楷体"/>
                    <a:ea typeface="楷体"/>
                  </a:endParaRPr>
                </a:p>
              </p:txBody>
            </p:sp>
          </p:grpSp>
        </p:grpSp>
        <p:sp>
          <p:nvSpPr>
            <p:cNvPr id="601" name="文本框 38"/>
            <p:cNvSpPr/>
            <p:nvPr/>
          </p:nvSpPr>
          <p:spPr>
            <a:xfrm>
              <a:off x="1231920" y="3401640"/>
              <a:ext cx="169560" cy="4748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9805" h="475257">
                  <a:moveTo>
                    <a:pt x="163674" y="198424"/>
                  </a:moveTo>
                  <a:cubicBezTo>
                    <a:pt x="168639" y="200005"/>
                    <a:pt x="165930" y="215103"/>
                    <a:pt x="155547" y="243718"/>
                  </a:cubicBezTo>
                  <a:cubicBezTo>
                    <a:pt x="141703" y="281871"/>
                    <a:pt x="126502" y="317016"/>
                    <a:pt x="109945" y="349153"/>
                  </a:cubicBezTo>
                  <a:cubicBezTo>
                    <a:pt x="93388" y="381291"/>
                    <a:pt x="79714" y="415289"/>
                    <a:pt x="68924" y="451147"/>
                  </a:cubicBezTo>
                  <a:cubicBezTo>
                    <a:pt x="58134" y="487005"/>
                    <a:pt x="42150" y="482866"/>
                    <a:pt x="20973" y="438729"/>
                  </a:cubicBezTo>
                  <a:cubicBezTo>
                    <a:pt x="-204" y="394592"/>
                    <a:pt x="-5343" y="371354"/>
                    <a:pt x="5556" y="369013"/>
                  </a:cubicBezTo>
                  <a:cubicBezTo>
                    <a:pt x="16454" y="366672"/>
                    <a:pt x="26864" y="360990"/>
                    <a:pt x="36786" y="351967"/>
                  </a:cubicBezTo>
                  <a:cubicBezTo>
                    <a:pt x="46708" y="342944"/>
                    <a:pt x="65405" y="317814"/>
                    <a:pt x="92876" y="276576"/>
                  </a:cubicBezTo>
                  <a:cubicBezTo>
                    <a:pt x="121618" y="236331"/>
                    <a:pt x="142710" y="211255"/>
                    <a:pt x="156151" y="201348"/>
                  </a:cubicBezTo>
                  <a:cubicBezTo>
                    <a:pt x="159511" y="198872"/>
                    <a:pt x="162019" y="197897"/>
                    <a:pt x="163674" y="198424"/>
                  </a:cubicBezTo>
                  <a:close/>
                  <a:moveTo>
                    <a:pt x="61272" y="37"/>
                  </a:moveTo>
                  <a:cubicBezTo>
                    <a:pt x="64846" y="171"/>
                    <a:pt x="68932" y="682"/>
                    <a:pt x="73528" y="1570"/>
                  </a:cubicBezTo>
                  <a:cubicBezTo>
                    <a:pt x="110301" y="8670"/>
                    <a:pt x="136625" y="19701"/>
                    <a:pt x="152500" y="34661"/>
                  </a:cubicBezTo>
                  <a:cubicBezTo>
                    <a:pt x="168375" y="49621"/>
                    <a:pt x="173328" y="68023"/>
                    <a:pt x="167360" y="89867"/>
                  </a:cubicBezTo>
                  <a:cubicBezTo>
                    <a:pt x="161391" y="111710"/>
                    <a:pt x="149702" y="118431"/>
                    <a:pt x="132292" y="110028"/>
                  </a:cubicBezTo>
                  <a:cubicBezTo>
                    <a:pt x="114882" y="101626"/>
                    <a:pt x="91233" y="82464"/>
                    <a:pt x="61343" y="52544"/>
                  </a:cubicBezTo>
                  <a:cubicBezTo>
                    <a:pt x="36275" y="16596"/>
                    <a:pt x="36251" y="-906"/>
                    <a:pt x="61272" y="3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7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7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7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75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图片 2"/>
          <p:cNvSpPr/>
          <p:nvPr/>
        </p:nvSpPr>
        <p:spPr>
          <a:xfrm>
            <a:off x="3327480" y="1393200"/>
            <a:ext cx="1787400" cy="154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400">
            <a:solidFill>
              <a:srgbClr val="e7e6e6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3" descr=""/>
          <p:cNvPicPr/>
          <p:nvPr/>
        </p:nvPicPr>
        <p:blipFill>
          <a:blip r:embed="rId2"/>
          <a:stretch/>
        </p:blipFill>
        <p:spPr>
          <a:xfrm>
            <a:off x="5894280" y="893880"/>
            <a:ext cx="2277720" cy="227628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8"/>
          <p:cNvSpPr/>
          <p:nvPr/>
        </p:nvSpPr>
        <p:spPr>
          <a:xfrm>
            <a:off x="504720" y="275112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9"/>
          <p:cNvSpPr/>
          <p:nvPr/>
        </p:nvSpPr>
        <p:spPr>
          <a:xfrm>
            <a:off x="504720" y="20811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0"/>
          <p:cNvSpPr/>
          <p:nvPr/>
        </p:nvSpPr>
        <p:spPr>
          <a:xfrm>
            <a:off x="504720" y="3421080"/>
            <a:ext cx="225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11"/>
          <p:cNvSpPr/>
          <p:nvPr/>
        </p:nvSpPr>
        <p:spPr>
          <a:xfrm>
            <a:off x="1754280" y="275112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2"/>
          <p:cNvSpPr/>
          <p:nvPr/>
        </p:nvSpPr>
        <p:spPr>
          <a:xfrm>
            <a:off x="1816200" y="20811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3"/>
          <p:cNvSpPr/>
          <p:nvPr/>
        </p:nvSpPr>
        <p:spPr>
          <a:xfrm>
            <a:off x="2506680" y="3421080"/>
            <a:ext cx="6001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云”写得稍高一点；“力”的撇穿插到“云”的下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4"/>
          <p:cNvSpPr/>
          <p:nvPr/>
        </p:nvSpPr>
        <p:spPr>
          <a:xfrm>
            <a:off x="414360" y="127944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ò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5"/>
          <p:cNvSpPr/>
          <p:nvPr/>
        </p:nvSpPr>
        <p:spPr>
          <a:xfrm>
            <a:off x="1643040" y="84132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45"/>
          <p:cNvGrpSpPr/>
          <p:nvPr/>
        </p:nvGrpSpPr>
        <p:grpSpPr>
          <a:xfrm>
            <a:off x="71280" y="41400"/>
            <a:ext cx="3328560" cy="819360"/>
            <a:chOff x="71280" y="41400"/>
            <a:chExt cx="3328560" cy="819360"/>
          </a:xfrm>
        </p:grpSpPr>
        <p:pic>
          <p:nvPicPr>
            <p:cNvPr id="613" name="图片 9" descr=""/>
            <p:cNvPicPr/>
            <p:nvPr/>
          </p:nvPicPr>
          <p:blipFill>
            <a:blip r:embed="rId3"/>
            <a:stretch/>
          </p:blipFill>
          <p:spPr>
            <a:xfrm>
              <a:off x="71280" y="41400"/>
              <a:ext cx="57744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文本框 44"/>
            <p:cNvSpPr/>
            <p:nvPr/>
          </p:nvSpPr>
          <p:spPr>
            <a:xfrm>
              <a:off x="520560" y="309960"/>
              <a:ext cx="287928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字书写指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任意多边形: 形状 39"/>
          <p:cNvSpPr/>
          <p:nvPr/>
        </p:nvSpPr>
        <p:spPr>
          <a:xfrm>
            <a:off x="7262640" y="2589120"/>
            <a:ext cx="223560" cy="271080"/>
          </a:xfrm>
          <a:custGeom>
            <a:avLst/>
            <a:gdLst>
              <a:gd name="textAreaLeft" fmla="*/ 0 w 223560"/>
              <a:gd name="textAreaRight" fmla="*/ 223920 w 223560"/>
              <a:gd name="textAreaTop" fmla="*/ 0 h 271080"/>
              <a:gd name="textAreaBottom" fmla="*/ 271440 h 271080"/>
            </a:gdLst>
            <a:ahLst/>
            <a:rect l="textAreaLeft" t="textAreaTop" r="textAreaRight" b="textAreaBottom"/>
            <a:pathLst>
              <a:path w="223964" h="270960">
                <a:moveTo>
                  <a:pt x="10038" y="0"/>
                </a:moveTo>
                <a:lnTo>
                  <a:pt x="13175" y="0"/>
                </a:lnTo>
                <a:lnTo>
                  <a:pt x="18194" y="1254"/>
                </a:lnTo>
                <a:lnTo>
                  <a:pt x="24467" y="1254"/>
                </a:lnTo>
                <a:lnTo>
                  <a:pt x="30114" y="2508"/>
                </a:lnTo>
                <a:lnTo>
                  <a:pt x="36387" y="4389"/>
                </a:lnTo>
                <a:lnTo>
                  <a:pt x="44543" y="5643"/>
                </a:lnTo>
                <a:lnTo>
                  <a:pt x="52071" y="8151"/>
                </a:lnTo>
                <a:lnTo>
                  <a:pt x="61482" y="11913"/>
                </a:lnTo>
                <a:lnTo>
                  <a:pt x="70265" y="15675"/>
                </a:lnTo>
                <a:lnTo>
                  <a:pt x="80930" y="18811"/>
                </a:lnTo>
                <a:lnTo>
                  <a:pt x="91595" y="22573"/>
                </a:lnTo>
                <a:lnTo>
                  <a:pt x="102888" y="27589"/>
                </a:lnTo>
                <a:lnTo>
                  <a:pt x="113553" y="32605"/>
                </a:lnTo>
                <a:lnTo>
                  <a:pt x="124218" y="36994"/>
                </a:lnTo>
                <a:lnTo>
                  <a:pt x="135511" y="40756"/>
                </a:lnTo>
                <a:lnTo>
                  <a:pt x="144921" y="44519"/>
                </a:lnTo>
                <a:lnTo>
                  <a:pt x="153077" y="48281"/>
                </a:lnTo>
                <a:lnTo>
                  <a:pt x="163115" y="50162"/>
                </a:lnTo>
                <a:lnTo>
                  <a:pt x="170016" y="53924"/>
                </a:lnTo>
                <a:lnTo>
                  <a:pt x="178799" y="56432"/>
                </a:lnTo>
                <a:lnTo>
                  <a:pt x="185700" y="57686"/>
                </a:lnTo>
                <a:lnTo>
                  <a:pt x="191974" y="60194"/>
                </a:lnTo>
                <a:lnTo>
                  <a:pt x="198247" y="61448"/>
                </a:lnTo>
                <a:lnTo>
                  <a:pt x="203894" y="61448"/>
                </a:lnTo>
                <a:lnTo>
                  <a:pt x="208913" y="62702"/>
                </a:lnTo>
                <a:lnTo>
                  <a:pt x="212677" y="62702"/>
                </a:lnTo>
                <a:lnTo>
                  <a:pt x="215814" y="62702"/>
                </a:lnTo>
                <a:lnTo>
                  <a:pt x="219578" y="62702"/>
                </a:lnTo>
                <a:lnTo>
                  <a:pt x="223964" y="61825"/>
                </a:lnTo>
                <a:lnTo>
                  <a:pt x="148560" y="270635"/>
                </a:lnTo>
                <a:lnTo>
                  <a:pt x="140105" y="270960"/>
                </a:lnTo>
                <a:lnTo>
                  <a:pt x="139902" y="270249"/>
                </a:lnTo>
                <a:lnTo>
                  <a:pt x="139902" y="263978"/>
                </a:lnTo>
                <a:lnTo>
                  <a:pt x="139902" y="257708"/>
                </a:lnTo>
                <a:lnTo>
                  <a:pt x="139902" y="252065"/>
                </a:lnTo>
                <a:lnTo>
                  <a:pt x="139902" y="244541"/>
                </a:lnTo>
                <a:lnTo>
                  <a:pt x="139902" y="237643"/>
                </a:lnTo>
                <a:lnTo>
                  <a:pt x="141157" y="230119"/>
                </a:lnTo>
                <a:lnTo>
                  <a:pt x="142412" y="223222"/>
                </a:lnTo>
                <a:lnTo>
                  <a:pt x="141157" y="214443"/>
                </a:lnTo>
                <a:lnTo>
                  <a:pt x="141157" y="206292"/>
                </a:lnTo>
                <a:lnTo>
                  <a:pt x="139902" y="198768"/>
                </a:lnTo>
                <a:lnTo>
                  <a:pt x="138405" y="193904"/>
                </a:lnTo>
                <a:lnTo>
                  <a:pt x="137393" y="190616"/>
                </a:lnTo>
                <a:lnTo>
                  <a:pt x="135511" y="181838"/>
                </a:lnTo>
                <a:lnTo>
                  <a:pt x="131747" y="173686"/>
                </a:lnTo>
                <a:lnTo>
                  <a:pt x="127983" y="164908"/>
                </a:lnTo>
                <a:lnTo>
                  <a:pt x="122964" y="156757"/>
                </a:lnTo>
                <a:lnTo>
                  <a:pt x="117317" y="147978"/>
                </a:lnTo>
                <a:lnTo>
                  <a:pt x="111044" y="139827"/>
                </a:lnTo>
                <a:lnTo>
                  <a:pt x="104770" y="129794"/>
                </a:lnTo>
                <a:lnTo>
                  <a:pt x="97869" y="121643"/>
                </a:lnTo>
                <a:lnTo>
                  <a:pt x="89086" y="112238"/>
                </a:lnTo>
                <a:lnTo>
                  <a:pt x="80930" y="103459"/>
                </a:lnTo>
                <a:lnTo>
                  <a:pt x="71520" y="94054"/>
                </a:lnTo>
                <a:lnTo>
                  <a:pt x="61482" y="85275"/>
                </a:lnTo>
                <a:lnTo>
                  <a:pt x="53326" y="75870"/>
                </a:lnTo>
                <a:lnTo>
                  <a:pt x="44543" y="68346"/>
                </a:lnTo>
                <a:lnTo>
                  <a:pt x="37642" y="60194"/>
                </a:lnTo>
                <a:lnTo>
                  <a:pt x="30114" y="52670"/>
                </a:lnTo>
                <a:lnTo>
                  <a:pt x="24467" y="47027"/>
                </a:lnTo>
                <a:lnTo>
                  <a:pt x="19448" y="39502"/>
                </a:lnTo>
                <a:lnTo>
                  <a:pt x="14429" y="34486"/>
                </a:lnTo>
                <a:lnTo>
                  <a:pt x="10038" y="28843"/>
                </a:lnTo>
                <a:lnTo>
                  <a:pt x="7528" y="23827"/>
                </a:lnTo>
                <a:lnTo>
                  <a:pt x="3764" y="18811"/>
                </a:lnTo>
                <a:lnTo>
                  <a:pt x="2510" y="15675"/>
                </a:lnTo>
                <a:lnTo>
                  <a:pt x="0" y="11913"/>
                </a:lnTo>
                <a:lnTo>
                  <a:pt x="0" y="9405"/>
                </a:lnTo>
                <a:lnTo>
                  <a:pt x="0" y="6897"/>
                </a:lnTo>
                <a:lnTo>
                  <a:pt x="0" y="4389"/>
                </a:lnTo>
                <a:lnTo>
                  <a:pt x="1255" y="3135"/>
                </a:lnTo>
                <a:lnTo>
                  <a:pt x="3764" y="1254"/>
                </a:lnTo>
                <a:lnTo>
                  <a:pt x="6274" y="1254"/>
                </a:lnTo>
                <a:lnTo>
                  <a:pt x="10038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6" name="任意多边形: 形状 40"/>
          <p:cNvSpPr/>
          <p:nvPr/>
        </p:nvSpPr>
        <p:spPr>
          <a:xfrm>
            <a:off x="7402680" y="1751040"/>
            <a:ext cx="458280" cy="1141200"/>
          </a:xfrm>
          <a:custGeom>
            <a:avLst/>
            <a:gdLst>
              <a:gd name="textAreaLeft" fmla="*/ 0 w 458280"/>
              <a:gd name="textAreaRight" fmla="*/ 458640 w 45828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458401" h="1140883">
                <a:moveTo>
                  <a:pt x="377007" y="0"/>
                </a:moveTo>
                <a:lnTo>
                  <a:pt x="379981" y="1573"/>
                </a:lnTo>
                <a:lnTo>
                  <a:pt x="390646" y="7844"/>
                </a:lnTo>
                <a:lnTo>
                  <a:pt x="403193" y="15368"/>
                </a:lnTo>
                <a:lnTo>
                  <a:pt x="415113" y="22265"/>
                </a:lnTo>
                <a:lnTo>
                  <a:pt x="427033" y="29790"/>
                </a:lnTo>
                <a:lnTo>
                  <a:pt x="433307" y="32925"/>
                </a:lnTo>
                <a:lnTo>
                  <a:pt x="437698" y="37941"/>
                </a:lnTo>
                <a:lnTo>
                  <a:pt x="442717" y="41703"/>
                </a:lnTo>
                <a:lnTo>
                  <a:pt x="447736" y="46719"/>
                </a:lnTo>
                <a:lnTo>
                  <a:pt x="450873" y="49854"/>
                </a:lnTo>
                <a:lnTo>
                  <a:pt x="453382" y="54871"/>
                </a:lnTo>
                <a:lnTo>
                  <a:pt x="455892" y="59887"/>
                </a:lnTo>
                <a:lnTo>
                  <a:pt x="457146" y="63649"/>
                </a:lnTo>
                <a:lnTo>
                  <a:pt x="458401" y="68038"/>
                </a:lnTo>
                <a:lnTo>
                  <a:pt x="458401" y="73055"/>
                </a:lnTo>
                <a:lnTo>
                  <a:pt x="457146" y="78071"/>
                </a:lnTo>
                <a:lnTo>
                  <a:pt x="457146" y="83714"/>
                </a:lnTo>
                <a:lnTo>
                  <a:pt x="454637" y="88730"/>
                </a:lnTo>
                <a:lnTo>
                  <a:pt x="452128" y="93746"/>
                </a:lnTo>
                <a:lnTo>
                  <a:pt x="450245" y="99390"/>
                </a:lnTo>
                <a:lnTo>
                  <a:pt x="446481" y="104406"/>
                </a:lnTo>
                <a:lnTo>
                  <a:pt x="442717" y="110676"/>
                </a:lnTo>
                <a:lnTo>
                  <a:pt x="438953" y="116319"/>
                </a:lnTo>
                <a:lnTo>
                  <a:pt x="435189" y="123844"/>
                </a:lnTo>
                <a:lnTo>
                  <a:pt x="432052" y="131995"/>
                </a:lnTo>
                <a:lnTo>
                  <a:pt x="428288" y="142028"/>
                </a:lnTo>
                <a:lnTo>
                  <a:pt x="424524" y="151433"/>
                </a:lnTo>
                <a:lnTo>
                  <a:pt x="420759" y="163347"/>
                </a:lnTo>
                <a:lnTo>
                  <a:pt x="418877" y="175260"/>
                </a:lnTo>
                <a:lnTo>
                  <a:pt x="415113" y="187801"/>
                </a:lnTo>
                <a:lnTo>
                  <a:pt x="412604" y="202222"/>
                </a:lnTo>
                <a:lnTo>
                  <a:pt x="408839" y="216644"/>
                </a:lnTo>
                <a:lnTo>
                  <a:pt x="406330" y="232320"/>
                </a:lnTo>
                <a:lnTo>
                  <a:pt x="403820" y="247995"/>
                </a:lnTo>
                <a:lnTo>
                  <a:pt x="400684" y="266179"/>
                </a:lnTo>
                <a:lnTo>
                  <a:pt x="398174" y="284363"/>
                </a:lnTo>
                <a:lnTo>
                  <a:pt x="395665" y="303174"/>
                </a:lnTo>
                <a:lnTo>
                  <a:pt x="393155" y="322612"/>
                </a:lnTo>
                <a:lnTo>
                  <a:pt x="390646" y="343304"/>
                </a:lnTo>
                <a:lnTo>
                  <a:pt x="387509" y="363995"/>
                </a:lnTo>
                <a:lnTo>
                  <a:pt x="385000" y="384060"/>
                </a:lnTo>
                <a:lnTo>
                  <a:pt x="381235" y="406006"/>
                </a:lnTo>
                <a:lnTo>
                  <a:pt x="377471" y="427952"/>
                </a:lnTo>
                <a:lnTo>
                  <a:pt x="374962" y="449271"/>
                </a:lnTo>
                <a:lnTo>
                  <a:pt x="371825" y="472471"/>
                </a:lnTo>
                <a:lnTo>
                  <a:pt x="368061" y="495044"/>
                </a:lnTo>
                <a:lnTo>
                  <a:pt x="363042" y="518244"/>
                </a:lnTo>
                <a:lnTo>
                  <a:pt x="359278" y="542071"/>
                </a:lnTo>
                <a:lnTo>
                  <a:pt x="354886" y="566526"/>
                </a:lnTo>
                <a:lnTo>
                  <a:pt x="351122" y="590353"/>
                </a:lnTo>
                <a:lnTo>
                  <a:pt x="346103" y="616061"/>
                </a:lnTo>
                <a:lnTo>
                  <a:pt x="341084" y="641142"/>
                </a:lnTo>
                <a:lnTo>
                  <a:pt x="336692" y="666223"/>
                </a:lnTo>
                <a:lnTo>
                  <a:pt x="331674" y="691931"/>
                </a:lnTo>
                <a:lnTo>
                  <a:pt x="326655" y="715758"/>
                </a:lnTo>
                <a:lnTo>
                  <a:pt x="321008" y="740212"/>
                </a:lnTo>
                <a:lnTo>
                  <a:pt x="315989" y="762785"/>
                </a:lnTo>
                <a:lnTo>
                  <a:pt x="309716" y="784731"/>
                </a:lnTo>
                <a:lnTo>
                  <a:pt x="304069" y="806677"/>
                </a:lnTo>
                <a:lnTo>
                  <a:pt x="297796" y="826742"/>
                </a:lnTo>
                <a:lnTo>
                  <a:pt x="292150" y="846180"/>
                </a:lnTo>
                <a:lnTo>
                  <a:pt x="285876" y="865618"/>
                </a:lnTo>
                <a:lnTo>
                  <a:pt x="278348" y="882548"/>
                </a:lnTo>
                <a:lnTo>
                  <a:pt x="272701" y="899477"/>
                </a:lnTo>
                <a:lnTo>
                  <a:pt x="265173" y="916407"/>
                </a:lnTo>
                <a:lnTo>
                  <a:pt x="258272" y="930829"/>
                </a:lnTo>
                <a:lnTo>
                  <a:pt x="250743" y="945250"/>
                </a:lnTo>
                <a:lnTo>
                  <a:pt x="243842" y="959672"/>
                </a:lnTo>
                <a:lnTo>
                  <a:pt x="235059" y="971586"/>
                </a:lnTo>
                <a:lnTo>
                  <a:pt x="228158" y="983499"/>
                </a:lnTo>
                <a:lnTo>
                  <a:pt x="219375" y="994786"/>
                </a:lnTo>
                <a:lnTo>
                  <a:pt x="212474" y="1006699"/>
                </a:lnTo>
                <a:lnTo>
                  <a:pt x="203691" y="1016105"/>
                </a:lnTo>
                <a:lnTo>
                  <a:pt x="196790" y="1027391"/>
                </a:lnTo>
                <a:lnTo>
                  <a:pt x="188007" y="1036797"/>
                </a:lnTo>
                <a:lnTo>
                  <a:pt x="181106" y="1045575"/>
                </a:lnTo>
                <a:lnTo>
                  <a:pt x="173578" y="1054980"/>
                </a:lnTo>
                <a:lnTo>
                  <a:pt x="165422" y="1062505"/>
                </a:lnTo>
                <a:lnTo>
                  <a:pt x="157893" y="1070656"/>
                </a:lnTo>
                <a:lnTo>
                  <a:pt x="149738" y="1078180"/>
                </a:lnTo>
                <a:lnTo>
                  <a:pt x="142209" y="1085078"/>
                </a:lnTo>
                <a:lnTo>
                  <a:pt x="134054" y="1091348"/>
                </a:lnTo>
                <a:lnTo>
                  <a:pt x="126525" y="1096991"/>
                </a:lnTo>
                <a:lnTo>
                  <a:pt x="118369" y="1103262"/>
                </a:lnTo>
                <a:lnTo>
                  <a:pt x="110841" y="1108278"/>
                </a:lnTo>
                <a:lnTo>
                  <a:pt x="103940" y="1112667"/>
                </a:lnTo>
                <a:lnTo>
                  <a:pt x="95157" y="1116429"/>
                </a:lnTo>
                <a:lnTo>
                  <a:pt x="88256" y="1121445"/>
                </a:lnTo>
                <a:lnTo>
                  <a:pt x="81982" y="1125207"/>
                </a:lnTo>
                <a:lnTo>
                  <a:pt x="74454" y="1127089"/>
                </a:lnTo>
                <a:lnTo>
                  <a:pt x="68808" y="1130851"/>
                </a:lnTo>
                <a:lnTo>
                  <a:pt x="62534" y="1133359"/>
                </a:lnTo>
                <a:lnTo>
                  <a:pt x="56888" y="1134613"/>
                </a:lnTo>
                <a:lnTo>
                  <a:pt x="50614" y="1137121"/>
                </a:lnTo>
                <a:lnTo>
                  <a:pt x="45595" y="1138375"/>
                </a:lnTo>
                <a:lnTo>
                  <a:pt x="41204" y="1139629"/>
                </a:lnTo>
                <a:lnTo>
                  <a:pt x="36185" y="1140883"/>
                </a:lnTo>
                <a:lnTo>
                  <a:pt x="32420" y="1140883"/>
                </a:lnTo>
                <a:lnTo>
                  <a:pt x="27402" y="1140883"/>
                </a:lnTo>
                <a:lnTo>
                  <a:pt x="24265" y="1140883"/>
                </a:lnTo>
                <a:lnTo>
                  <a:pt x="20500" y="1139629"/>
                </a:lnTo>
                <a:lnTo>
                  <a:pt x="16736" y="1138375"/>
                </a:lnTo>
                <a:lnTo>
                  <a:pt x="14227" y="1135867"/>
                </a:lnTo>
                <a:lnTo>
                  <a:pt x="11717" y="1134613"/>
                </a:lnTo>
                <a:lnTo>
                  <a:pt x="9835" y="1132105"/>
                </a:lnTo>
                <a:lnTo>
                  <a:pt x="7326" y="1128343"/>
                </a:lnTo>
                <a:lnTo>
                  <a:pt x="4816" y="1125207"/>
                </a:lnTo>
                <a:lnTo>
                  <a:pt x="3562" y="1121445"/>
                </a:lnTo>
                <a:lnTo>
                  <a:pt x="2307" y="1117683"/>
                </a:lnTo>
                <a:lnTo>
                  <a:pt x="1052" y="1112667"/>
                </a:lnTo>
                <a:lnTo>
                  <a:pt x="0" y="1108989"/>
                </a:lnTo>
                <a:lnTo>
                  <a:pt x="8455" y="1108664"/>
                </a:lnTo>
                <a:lnTo>
                  <a:pt x="83859" y="899854"/>
                </a:lnTo>
                <a:lnTo>
                  <a:pt x="85746" y="899477"/>
                </a:lnTo>
                <a:lnTo>
                  <a:pt x="86782" y="899017"/>
                </a:lnTo>
                <a:lnTo>
                  <a:pt x="91393" y="896969"/>
                </a:lnTo>
                <a:lnTo>
                  <a:pt x="97666" y="893207"/>
                </a:lnTo>
                <a:lnTo>
                  <a:pt x="105195" y="889445"/>
                </a:lnTo>
                <a:lnTo>
                  <a:pt x="112096" y="885056"/>
                </a:lnTo>
                <a:lnTo>
                  <a:pt x="119624" y="878785"/>
                </a:lnTo>
                <a:lnTo>
                  <a:pt x="126525" y="872515"/>
                </a:lnTo>
                <a:lnTo>
                  <a:pt x="134054" y="865618"/>
                </a:lnTo>
                <a:lnTo>
                  <a:pt x="137190" y="860602"/>
                </a:lnTo>
                <a:lnTo>
                  <a:pt x="142209" y="856212"/>
                </a:lnTo>
                <a:lnTo>
                  <a:pt x="145973" y="848688"/>
                </a:lnTo>
                <a:lnTo>
                  <a:pt x="149738" y="841164"/>
                </a:lnTo>
                <a:lnTo>
                  <a:pt x="154129" y="833012"/>
                </a:lnTo>
                <a:lnTo>
                  <a:pt x="157893" y="823607"/>
                </a:lnTo>
                <a:lnTo>
                  <a:pt x="162912" y="812321"/>
                </a:lnTo>
                <a:lnTo>
                  <a:pt x="167931" y="800407"/>
                </a:lnTo>
                <a:lnTo>
                  <a:pt x="171068" y="787239"/>
                </a:lnTo>
                <a:lnTo>
                  <a:pt x="176087" y="774072"/>
                </a:lnTo>
                <a:lnTo>
                  <a:pt x="181106" y="758396"/>
                </a:lnTo>
                <a:lnTo>
                  <a:pt x="184243" y="742720"/>
                </a:lnTo>
                <a:lnTo>
                  <a:pt x="189262" y="724537"/>
                </a:lnTo>
                <a:lnTo>
                  <a:pt x="194281" y="706353"/>
                </a:lnTo>
                <a:lnTo>
                  <a:pt x="199299" y="686915"/>
                </a:lnTo>
                <a:lnTo>
                  <a:pt x="203691" y="666223"/>
                </a:lnTo>
                <a:lnTo>
                  <a:pt x="213729" y="624212"/>
                </a:lnTo>
                <a:lnTo>
                  <a:pt x="223139" y="580947"/>
                </a:lnTo>
                <a:lnTo>
                  <a:pt x="231295" y="536428"/>
                </a:lnTo>
                <a:lnTo>
                  <a:pt x="238824" y="491909"/>
                </a:lnTo>
                <a:lnTo>
                  <a:pt x="246979" y="445509"/>
                </a:lnTo>
                <a:lnTo>
                  <a:pt x="254508" y="399736"/>
                </a:lnTo>
                <a:lnTo>
                  <a:pt x="260781" y="351455"/>
                </a:lnTo>
                <a:lnTo>
                  <a:pt x="266428" y="303174"/>
                </a:lnTo>
                <a:lnTo>
                  <a:pt x="267682" y="291260"/>
                </a:lnTo>
                <a:lnTo>
                  <a:pt x="268937" y="279347"/>
                </a:lnTo>
                <a:lnTo>
                  <a:pt x="270192" y="268687"/>
                </a:lnTo>
                <a:lnTo>
                  <a:pt x="271447" y="257401"/>
                </a:lnTo>
                <a:lnTo>
                  <a:pt x="272701" y="246741"/>
                </a:lnTo>
                <a:lnTo>
                  <a:pt x="273956" y="236082"/>
                </a:lnTo>
                <a:lnTo>
                  <a:pt x="275211" y="226049"/>
                </a:lnTo>
                <a:lnTo>
                  <a:pt x="275211" y="216644"/>
                </a:lnTo>
                <a:lnTo>
                  <a:pt x="276465" y="206611"/>
                </a:lnTo>
                <a:lnTo>
                  <a:pt x="276465" y="198460"/>
                </a:lnTo>
                <a:lnTo>
                  <a:pt x="277720" y="189055"/>
                </a:lnTo>
                <a:lnTo>
                  <a:pt x="277720" y="180276"/>
                </a:lnTo>
                <a:lnTo>
                  <a:pt x="277720" y="173379"/>
                </a:lnTo>
                <a:lnTo>
                  <a:pt x="278348" y="164601"/>
                </a:lnTo>
                <a:lnTo>
                  <a:pt x="278348" y="157703"/>
                </a:lnTo>
                <a:lnTo>
                  <a:pt x="278348" y="150179"/>
                </a:lnTo>
                <a:lnTo>
                  <a:pt x="278348" y="143909"/>
                </a:lnTo>
                <a:lnTo>
                  <a:pt x="278348" y="138265"/>
                </a:lnTo>
                <a:lnTo>
                  <a:pt x="277720" y="131995"/>
                </a:lnTo>
                <a:lnTo>
                  <a:pt x="277720" y="126352"/>
                </a:lnTo>
                <a:lnTo>
                  <a:pt x="277720" y="120082"/>
                </a:lnTo>
                <a:lnTo>
                  <a:pt x="276465" y="115065"/>
                </a:lnTo>
                <a:lnTo>
                  <a:pt x="276465" y="110676"/>
                </a:lnTo>
                <a:lnTo>
                  <a:pt x="275211" y="106914"/>
                </a:lnTo>
                <a:lnTo>
                  <a:pt x="275211" y="101898"/>
                </a:lnTo>
                <a:lnTo>
                  <a:pt x="273956" y="98136"/>
                </a:lnTo>
                <a:lnTo>
                  <a:pt x="272701" y="95628"/>
                </a:lnTo>
                <a:lnTo>
                  <a:pt x="271447" y="92492"/>
                </a:lnTo>
                <a:lnTo>
                  <a:pt x="270192" y="89984"/>
                </a:lnTo>
                <a:lnTo>
                  <a:pt x="268937" y="87476"/>
                </a:lnTo>
                <a:lnTo>
                  <a:pt x="267682" y="84968"/>
                </a:lnTo>
                <a:lnTo>
                  <a:pt x="266428" y="83714"/>
                </a:lnTo>
                <a:lnTo>
                  <a:pt x="266061" y="83429"/>
                </a:lnTo>
                <a:lnTo>
                  <a:pt x="343760" y="39029"/>
                </a:lnTo>
                <a:lnTo>
                  <a:pt x="377007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7" name="任意多边形: 形状 41"/>
          <p:cNvSpPr/>
          <p:nvPr/>
        </p:nvSpPr>
        <p:spPr>
          <a:xfrm>
            <a:off x="7050240" y="1724040"/>
            <a:ext cx="734760" cy="144000"/>
          </a:xfrm>
          <a:custGeom>
            <a:avLst/>
            <a:gdLst>
              <a:gd name="textAreaLeft" fmla="*/ 0 w 734760"/>
              <a:gd name="textAreaRight" fmla="*/ 735120 w 73476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735435" h="144844">
                <a:moveTo>
                  <a:pt x="634893" y="0"/>
                </a:moveTo>
                <a:lnTo>
                  <a:pt x="643049" y="0"/>
                </a:lnTo>
                <a:lnTo>
                  <a:pt x="649323" y="0"/>
                </a:lnTo>
                <a:lnTo>
                  <a:pt x="656224" y="0"/>
                </a:lnTo>
                <a:lnTo>
                  <a:pt x="662497" y="0"/>
                </a:lnTo>
                <a:lnTo>
                  <a:pt x="668144" y="0"/>
                </a:lnTo>
                <a:lnTo>
                  <a:pt x="673163" y="0"/>
                </a:lnTo>
                <a:lnTo>
                  <a:pt x="679436" y="1254"/>
                </a:lnTo>
                <a:lnTo>
                  <a:pt x="683201" y="1254"/>
                </a:lnTo>
                <a:lnTo>
                  <a:pt x="687592" y="2508"/>
                </a:lnTo>
                <a:lnTo>
                  <a:pt x="691356" y="2508"/>
                </a:lnTo>
                <a:lnTo>
                  <a:pt x="695120" y="3762"/>
                </a:lnTo>
                <a:lnTo>
                  <a:pt x="697630" y="5016"/>
                </a:lnTo>
                <a:lnTo>
                  <a:pt x="699512" y="6270"/>
                </a:lnTo>
                <a:lnTo>
                  <a:pt x="708295" y="11287"/>
                </a:lnTo>
                <a:lnTo>
                  <a:pt x="717706" y="16930"/>
                </a:lnTo>
                <a:lnTo>
                  <a:pt x="727743" y="23200"/>
                </a:lnTo>
                <a:lnTo>
                  <a:pt x="735435" y="27270"/>
                </a:lnTo>
                <a:lnTo>
                  <a:pt x="702188" y="66299"/>
                </a:lnTo>
                <a:lnTo>
                  <a:pt x="624489" y="110699"/>
                </a:lnTo>
                <a:lnTo>
                  <a:pt x="619209" y="106595"/>
                </a:lnTo>
                <a:lnTo>
                  <a:pt x="612936" y="101579"/>
                </a:lnTo>
                <a:lnTo>
                  <a:pt x="605407" y="97816"/>
                </a:lnTo>
                <a:lnTo>
                  <a:pt x="597252" y="94054"/>
                </a:lnTo>
                <a:lnTo>
                  <a:pt x="589723" y="91546"/>
                </a:lnTo>
                <a:lnTo>
                  <a:pt x="581567" y="89665"/>
                </a:lnTo>
                <a:lnTo>
                  <a:pt x="572157" y="88411"/>
                </a:lnTo>
                <a:lnTo>
                  <a:pt x="562119" y="88411"/>
                </a:lnTo>
                <a:lnTo>
                  <a:pt x="559610" y="88411"/>
                </a:lnTo>
                <a:lnTo>
                  <a:pt x="557727" y="88411"/>
                </a:lnTo>
                <a:lnTo>
                  <a:pt x="553963" y="88411"/>
                </a:lnTo>
                <a:lnTo>
                  <a:pt x="550199" y="88411"/>
                </a:lnTo>
                <a:lnTo>
                  <a:pt x="546435" y="89665"/>
                </a:lnTo>
                <a:lnTo>
                  <a:pt x="542043" y="89665"/>
                </a:lnTo>
                <a:lnTo>
                  <a:pt x="537024" y="89665"/>
                </a:lnTo>
                <a:lnTo>
                  <a:pt x="532006" y="90919"/>
                </a:lnTo>
                <a:lnTo>
                  <a:pt x="526987" y="90919"/>
                </a:lnTo>
                <a:lnTo>
                  <a:pt x="521340" y="91546"/>
                </a:lnTo>
                <a:lnTo>
                  <a:pt x="515067" y="91546"/>
                </a:lnTo>
                <a:lnTo>
                  <a:pt x="509420" y="92800"/>
                </a:lnTo>
                <a:lnTo>
                  <a:pt x="503147" y="92800"/>
                </a:lnTo>
                <a:lnTo>
                  <a:pt x="495618" y="94054"/>
                </a:lnTo>
                <a:lnTo>
                  <a:pt x="488717" y="95308"/>
                </a:lnTo>
                <a:lnTo>
                  <a:pt x="481189" y="96562"/>
                </a:lnTo>
                <a:lnTo>
                  <a:pt x="473033" y="96562"/>
                </a:lnTo>
                <a:lnTo>
                  <a:pt x="464250" y="97816"/>
                </a:lnTo>
                <a:lnTo>
                  <a:pt x="456094" y="99070"/>
                </a:lnTo>
                <a:lnTo>
                  <a:pt x="446684" y="100325"/>
                </a:lnTo>
                <a:lnTo>
                  <a:pt x="437901" y="101579"/>
                </a:lnTo>
                <a:lnTo>
                  <a:pt x="428490" y="102833"/>
                </a:lnTo>
                <a:lnTo>
                  <a:pt x="417198" y="105341"/>
                </a:lnTo>
                <a:lnTo>
                  <a:pt x="407787" y="106595"/>
                </a:lnTo>
                <a:lnTo>
                  <a:pt x="397122" y="107222"/>
                </a:lnTo>
                <a:lnTo>
                  <a:pt x="385830" y="108476"/>
                </a:lnTo>
                <a:lnTo>
                  <a:pt x="373910" y="110984"/>
                </a:lnTo>
                <a:lnTo>
                  <a:pt x="363244" y="112238"/>
                </a:lnTo>
                <a:lnTo>
                  <a:pt x="351324" y="113492"/>
                </a:lnTo>
                <a:lnTo>
                  <a:pt x="338150" y="116000"/>
                </a:lnTo>
                <a:lnTo>
                  <a:pt x="325602" y="117254"/>
                </a:lnTo>
                <a:lnTo>
                  <a:pt x="312428" y="119762"/>
                </a:lnTo>
                <a:lnTo>
                  <a:pt x="299253" y="122271"/>
                </a:lnTo>
                <a:lnTo>
                  <a:pt x="287333" y="122898"/>
                </a:lnTo>
                <a:lnTo>
                  <a:pt x="275413" y="125406"/>
                </a:lnTo>
                <a:lnTo>
                  <a:pt x="262866" y="126660"/>
                </a:lnTo>
                <a:lnTo>
                  <a:pt x="250946" y="127914"/>
                </a:lnTo>
                <a:lnTo>
                  <a:pt x="240281" y="130422"/>
                </a:lnTo>
                <a:lnTo>
                  <a:pt x="229616" y="131676"/>
                </a:lnTo>
                <a:lnTo>
                  <a:pt x="218323" y="132930"/>
                </a:lnTo>
                <a:lnTo>
                  <a:pt x="208913" y="134184"/>
                </a:lnTo>
                <a:lnTo>
                  <a:pt x="198875" y="135438"/>
                </a:lnTo>
                <a:lnTo>
                  <a:pt x="189464" y="136692"/>
                </a:lnTo>
                <a:lnTo>
                  <a:pt x="181309" y="137946"/>
                </a:lnTo>
                <a:lnTo>
                  <a:pt x="171271" y="138573"/>
                </a:lnTo>
                <a:lnTo>
                  <a:pt x="164370" y="138573"/>
                </a:lnTo>
                <a:lnTo>
                  <a:pt x="155587" y="139827"/>
                </a:lnTo>
                <a:lnTo>
                  <a:pt x="148686" y="141081"/>
                </a:lnTo>
                <a:lnTo>
                  <a:pt x="141157" y="141081"/>
                </a:lnTo>
                <a:lnTo>
                  <a:pt x="134256" y="142335"/>
                </a:lnTo>
                <a:lnTo>
                  <a:pt x="126728" y="142335"/>
                </a:lnTo>
                <a:lnTo>
                  <a:pt x="120454" y="143589"/>
                </a:lnTo>
                <a:lnTo>
                  <a:pt x="116063" y="143589"/>
                </a:lnTo>
                <a:lnTo>
                  <a:pt x="109789" y="143589"/>
                </a:lnTo>
                <a:lnTo>
                  <a:pt x="104770" y="143589"/>
                </a:lnTo>
                <a:lnTo>
                  <a:pt x="100379" y="144844"/>
                </a:lnTo>
                <a:lnTo>
                  <a:pt x="95360" y="144844"/>
                </a:lnTo>
                <a:lnTo>
                  <a:pt x="91595" y="144844"/>
                </a:lnTo>
                <a:lnTo>
                  <a:pt x="88459" y="143589"/>
                </a:lnTo>
                <a:lnTo>
                  <a:pt x="84694" y="143589"/>
                </a:lnTo>
                <a:lnTo>
                  <a:pt x="82185" y="143589"/>
                </a:lnTo>
                <a:lnTo>
                  <a:pt x="78421" y="143589"/>
                </a:lnTo>
                <a:lnTo>
                  <a:pt x="77166" y="142335"/>
                </a:lnTo>
                <a:lnTo>
                  <a:pt x="74657" y="142335"/>
                </a:lnTo>
                <a:lnTo>
                  <a:pt x="71520" y="141081"/>
                </a:lnTo>
                <a:lnTo>
                  <a:pt x="67756" y="139827"/>
                </a:lnTo>
                <a:lnTo>
                  <a:pt x="63991" y="137946"/>
                </a:lnTo>
                <a:lnTo>
                  <a:pt x="58972" y="135438"/>
                </a:lnTo>
                <a:lnTo>
                  <a:pt x="55836" y="132930"/>
                </a:lnTo>
                <a:lnTo>
                  <a:pt x="50817" y="129168"/>
                </a:lnTo>
                <a:lnTo>
                  <a:pt x="47052" y="125406"/>
                </a:lnTo>
                <a:lnTo>
                  <a:pt x="42034" y="122271"/>
                </a:lnTo>
                <a:lnTo>
                  <a:pt x="37642" y="117254"/>
                </a:lnTo>
                <a:lnTo>
                  <a:pt x="32623" y="112238"/>
                </a:lnTo>
                <a:lnTo>
                  <a:pt x="27604" y="106595"/>
                </a:lnTo>
                <a:lnTo>
                  <a:pt x="21958" y="100325"/>
                </a:lnTo>
                <a:lnTo>
                  <a:pt x="16939" y="94054"/>
                </a:lnTo>
                <a:lnTo>
                  <a:pt x="10665" y="87157"/>
                </a:lnTo>
                <a:lnTo>
                  <a:pt x="6274" y="79633"/>
                </a:lnTo>
                <a:lnTo>
                  <a:pt x="0" y="72735"/>
                </a:lnTo>
                <a:lnTo>
                  <a:pt x="20703" y="72735"/>
                </a:lnTo>
                <a:lnTo>
                  <a:pt x="42034" y="71481"/>
                </a:lnTo>
                <a:lnTo>
                  <a:pt x="65246" y="71481"/>
                </a:lnTo>
                <a:lnTo>
                  <a:pt x="88459" y="70227"/>
                </a:lnTo>
                <a:lnTo>
                  <a:pt x="111044" y="68973"/>
                </a:lnTo>
                <a:lnTo>
                  <a:pt x="135511" y="66465"/>
                </a:lnTo>
                <a:lnTo>
                  <a:pt x="160606" y="63957"/>
                </a:lnTo>
                <a:lnTo>
                  <a:pt x="185700" y="61449"/>
                </a:lnTo>
                <a:lnTo>
                  <a:pt x="212677" y="59568"/>
                </a:lnTo>
                <a:lnTo>
                  <a:pt x="239026" y="55806"/>
                </a:lnTo>
                <a:lnTo>
                  <a:pt x="266630" y="52043"/>
                </a:lnTo>
                <a:lnTo>
                  <a:pt x="294234" y="48281"/>
                </a:lnTo>
                <a:lnTo>
                  <a:pt x="323093" y="43265"/>
                </a:lnTo>
                <a:lnTo>
                  <a:pt x="352579" y="38876"/>
                </a:lnTo>
                <a:lnTo>
                  <a:pt x="382693" y="33860"/>
                </a:lnTo>
                <a:lnTo>
                  <a:pt x="414061" y="28843"/>
                </a:lnTo>
                <a:lnTo>
                  <a:pt x="429745" y="26962"/>
                </a:lnTo>
                <a:lnTo>
                  <a:pt x="444174" y="24454"/>
                </a:lnTo>
                <a:lnTo>
                  <a:pt x="458604" y="21946"/>
                </a:lnTo>
                <a:lnTo>
                  <a:pt x="473033" y="19438"/>
                </a:lnTo>
                <a:lnTo>
                  <a:pt x="486208" y="16930"/>
                </a:lnTo>
                <a:lnTo>
                  <a:pt x="499383" y="15676"/>
                </a:lnTo>
                <a:lnTo>
                  <a:pt x="512557" y="13168"/>
                </a:lnTo>
                <a:lnTo>
                  <a:pt x="525105" y="11914"/>
                </a:lnTo>
                <a:lnTo>
                  <a:pt x="537024" y="10033"/>
                </a:lnTo>
                <a:lnTo>
                  <a:pt x="548944" y="8778"/>
                </a:lnTo>
                <a:lnTo>
                  <a:pt x="559610" y="7524"/>
                </a:lnTo>
                <a:lnTo>
                  <a:pt x="570902" y="6270"/>
                </a:lnTo>
                <a:lnTo>
                  <a:pt x="581567" y="5016"/>
                </a:lnTo>
                <a:lnTo>
                  <a:pt x="590978" y="3762"/>
                </a:lnTo>
                <a:lnTo>
                  <a:pt x="601016" y="2508"/>
                </a:lnTo>
                <a:lnTo>
                  <a:pt x="610426" y="2508"/>
                </a:lnTo>
                <a:lnTo>
                  <a:pt x="619209" y="1254"/>
                </a:lnTo>
                <a:lnTo>
                  <a:pt x="627365" y="1254"/>
                </a:lnTo>
                <a:lnTo>
                  <a:pt x="634893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8" name="任意多边形: 形状 42"/>
          <p:cNvSpPr/>
          <p:nvPr/>
        </p:nvSpPr>
        <p:spPr>
          <a:xfrm>
            <a:off x="6303960" y="1922400"/>
            <a:ext cx="485280" cy="585360"/>
          </a:xfrm>
          <a:custGeom>
            <a:avLst/>
            <a:gdLst>
              <a:gd name="textAreaLeft" fmla="*/ 0 w 485280"/>
              <a:gd name="textAreaRight" fmla="*/ 485640 w 485280"/>
              <a:gd name="textAreaTop" fmla="*/ 0 h 585360"/>
              <a:gd name="textAreaBottom" fmla="*/ 585720 h 585360"/>
            </a:gdLst>
            <a:ahLst/>
            <a:rect l="textAreaLeft" t="textAreaTop" r="textAreaRight" b="textAreaBottom"/>
            <a:pathLst>
              <a:path w="484953" h="585506">
                <a:moveTo>
                  <a:pt x="346305" y="0"/>
                </a:moveTo>
                <a:lnTo>
                  <a:pt x="350069" y="0"/>
                </a:lnTo>
                <a:lnTo>
                  <a:pt x="353206" y="0"/>
                </a:lnTo>
                <a:lnTo>
                  <a:pt x="356970" y="0"/>
                </a:lnTo>
                <a:lnTo>
                  <a:pt x="361989" y="1257"/>
                </a:lnTo>
                <a:lnTo>
                  <a:pt x="367008" y="2515"/>
                </a:lnTo>
                <a:lnTo>
                  <a:pt x="372654" y="3143"/>
                </a:lnTo>
                <a:lnTo>
                  <a:pt x="378928" y="5658"/>
                </a:lnTo>
                <a:lnTo>
                  <a:pt x="384574" y="8172"/>
                </a:lnTo>
                <a:lnTo>
                  <a:pt x="390848" y="11944"/>
                </a:lnTo>
                <a:lnTo>
                  <a:pt x="398376" y="15716"/>
                </a:lnTo>
                <a:lnTo>
                  <a:pt x="405277" y="18859"/>
                </a:lnTo>
                <a:lnTo>
                  <a:pt x="412806" y="23888"/>
                </a:lnTo>
                <a:lnTo>
                  <a:pt x="420961" y="28917"/>
                </a:lnTo>
                <a:lnTo>
                  <a:pt x="429745" y="33946"/>
                </a:lnTo>
                <a:lnTo>
                  <a:pt x="437900" y="38346"/>
                </a:lnTo>
                <a:lnTo>
                  <a:pt x="445429" y="44632"/>
                </a:lnTo>
                <a:lnTo>
                  <a:pt x="452330" y="49661"/>
                </a:lnTo>
                <a:lnTo>
                  <a:pt x="459858" y="54061"/>
                </a:lnTo>
                <a:lnTo>
                  <a:pt x="464250" y="59090"/>
                </a:lnTo>
                <a:lnTo>
                  <a:pt x="469269" y="64119"/>
                </a:lnTo>
                <a:lnTo>
                  <a:pt x="474287" y="68520"/>
                </a:lnTo>
                <a:lnTo>
                  <a:pt x="478052" y="73549"/>
                </a:lnTo>
                <a:lnTo>
                  <a:pt x="479934" y="78578"/>
                </a:lnTo>
                <a:lnTo>
                  <a:pt x="482443" y="82978"/>
                </a:lnTo>
                <a:lnTo>
                  <a:pt x="483698" y="86750"/>
                </a:lnTo>
                <a:lnTo>
                  <a:pt x="484953" y="91779"/>
                </a:lnTo>
                <a:lnTo>
                  <a:pt x="484953" y="95550"/>
                </a:lnTo>
                <a:lnTo>
                  <a:pt x="484953" y="99951"/>
                </a:lnTo>
                <a:lnTo>
                  <a:pt x="483698" y="103722"/>
                </a:lnTo>
                <a:lnTo>
                  <a:pt x="481188" y="107494"/>
                </a:lnTo>
                <a:lnTo>
                  <a:pt x="478679" y="112523"/>
                </a:lnTo>
                <a:lnTo>
                  <a:pt x="474287" y="116923"/>
                </a:lnTo>
                <a:lnTo>
                  <a:pt x="469269" y="124467"/>
                </a:lnTo>
                <a:lnTo>
                  <a:pt x="464250" y="131382"/>
                </a:lnTo>
                <a:lnTo>
                  <a:pt x="457349" y="140182"/>
                </a:lnTo>
                <a:lnTo>
                  <a:pt x="449820" y="148354"/>
                </a:lnTo>
                <a:lnTo>
                  <a:pt x="441665" y="159670"/>
                </a:lnTo>
                <a:lnTo>
                  <a:pt x="431627" y="170356"/>
                </a:lnTo>
                <a:lnTo>
                  <a:pt x="422216" y="182300"/>
                </a:lnTo>
                <a:lnTo>
                  <a:pt x="411551" y="195501"/>
                </a:lnTo>
                <a:lnTo>
                  <a:pt x="399631" y="209959"/>
                </a:lnTo>
                <a:lnTo>
                  <a:pt x="385829" y="225046"/>
                </a:lnTo>
                <a:lnTo>
                  <a:pt x="371400" y="241390"/>
                </a:lnTo>
                <a:lnTo>
                  <a:pt x="356970" y="258363"/>
                </a:lnTo>
                <a:lnTo>
                  <a:pt x="341286" y="276593"/>
                </a:lnTo>
                <a:lnTo>
                  <a:pt x="324347" y="296080"/>
                </a:lnTo>
                <a:lnTo>
                  <a:pt x="307409" y="315567"/>
                </a:lnTo>
                <a:lnTo>
                  <a:pt x="292979" y="332540"/>
                </a:lnTo>
                <a:lnTo>
                  <a:pt x="278550" y="349513"/>
                </a:lnTo>
                <a:lnTo>
                  <a:pt x="265375" y="365228"/>
                </a:lnTo>
                <a:lnTo>
                  <a:pt x="253455" y="379687"/>
                </a:lnTo>
                <a:lnTo>
                  <a:pt x="243417" y="392888"/>
                </a:lnTo>
                <a:lnTo>
                  <a:pt x="234007" y="404831"/>
                </a:lnTo>
                <a:lnTo>
                  <a:pt x="229263" y="411414"/>
                </a:lnTo>
                <a:lnTo>
                  <a:pt x="31431" y="585506"/>
                </a:lnTo>
                <a:lnTo>
                  <a:pt x="26349" y="578959"/>
                </a:lnTo>
                <a:lnTo>
                  <a:pt x="19448" y="569530"/>
                </a:lnTo>
                <a:lnTo>
                  <a:pt x="13175" y="560729"/>
                </a:lnTo>
                <a:lnTo>
                  <a:pt x="8783" y="552557"/>
                </a:lnTo>
                <a:lnTo>
                  <a:pt x="5019" y="545014"/>
                </a:lnTo>
                <a:lnTo>
                  <a:pt x="2510" y="538099"/>
                </a:lnTo>
                <a:lnTo>
                  <a:pt x="0" y="531813"/>
                </a:lnTo>
                <a:lnTo>
                  <a:pt x="0" y="527412"/>
                </a:lnTo>
                <a:lnTo>
                  <a:pt x="0" y="524898"/>
                </a:lnTo>
                <a:lnTo>
                  <a:pt x="1255" y="522383"/>
                </a:lnTo>
                <a:lnTo>
                  <a:pt x="2510" y="518612"/>
                </a:lnTo>
                <a:lnTo>
                  <a:pt x="5019" y="516097"/>
                </a:lnTo>
                <a:lnTo>
                  <a:pt x="7528" y="512325"/>
                </a:lnTo>
                <a:lnTo>
                  <a:pt x="9411" y="509182"/>
                </a:lnTo>
                <a:lnTo>
                  <a:pt x="13175" y="506668"/>
                </a:lnTo>
                <a:lnTo>
                  <a:pt x="18194" y="502896"/>
                </a:lnTo>
                <a:lnTo>
                  <a:pt x="23213" y="499124"/>
                </a:lnTo>
                <a:lnTo>
                  <a:pt x="27604" y="494724"/>
                </a:lnTo>
                <a:lnTo>
                  <a:pt x="33878" y="490952"/>
                </a:lnTo>
                <a:lnTo>
                  <a:pt x="40151" y="485923"/>
                </a:lnTo>
                <a:lnTo>
                  <a:pt x="47052" y="482152"/>
                </a:lnTo>
                <a:lnTo>
                  <a:pt x="54581" y="477751"/>
                </a:lnTo>
                <a:lnTo>
                  <a:pt x="62737" y="472722"/>
                </a:lnTo>
                <a:lnTo>
                  <a:pt x="71520" y="467693"/>
                </a:lnTo>
                <a:lnTo>
                  <a:pt x="79675" y="463293"/>
                </a:lnTo>
                <a:lnTo>
                  <a:pt x="89086" y="455750"/>
                </a:lnTo>
                <a:lnTo>
                  <a:pt x="97869" y="448206"/>
                </a:lnTo>
                <a:lnTo>
                  <a:pt x="107279" y="440034"/>
                </a:lnTo>
                <a:lnTo>
                  <a:pt x="118572" y="431862"/>
                </a:lnTo>
                <a:lnTo>
                  <a:pt x="127982" y="420547"/>
                </a:lnTo>
                <a:lnTo>
                  <a:pt x="137393" y="408603"/>
                </a:lnTo>
                <a:lnTo>
                  <a:pt x="148685" y="396659"/>
                </a:lnTo>
                <a:lnTo>
                  <a:pt x="159351" y="383458"/>
                </a:lnTo>
                <a:lnTo>
                  <a:pt x="171271" y="368371"/>
                </a:lnTo>
                <a:lnTo>
                  <a:pt x="181936" y="352656"/>
                </a:lnTo>
                <a:lnTo>
                  <a:pt x="194483" y="336940"/>
                </a:lnTo>
                <a:lnTo>
                  <a:pt x="205148" y="319339"/>
                </a:lnTo>
                <a:lnTo>
                  <a:pt x="217068" y="301109"/>
                </a:lnTo>
                <a:lnTo>
                  <a:pt x="230243" y="281622"/>
                </a:lnTo>
                <a:lnTo>
                  <a:pt x="242790" y="260877"/>
                </a:lnTo>
                <a:lnTo>
                  <a:pt x="254710" y="240762"/>
                </a:lnTo>
                <a:lnTo>
                  <a:pt x="266630" y="221274"/>
                </a:lnTo>
                <a:lnTo>
                  <a:pt x="276040" y="201787"/>
                </a:lnTo>
                <a:lnTo>
                  <a:pt x="286078" y="184814"/>
                </a:lnTo>
                <a:lnTo>
                  <a:pt x="294234" y="167842"/>
                </a:lnTo>
                <a:lnTo>
                  <a:pt x="303017" y="153383"/>
                </a:lnTo>
                <a:lnTo>
                  <a:pt x="309918" y="138925"/>
                </a:lnTo>
                <a:lnTo>
                  <a:pt x="316192" y="124467"/>
                </a:lnTo>
                <a:lnTo>
                  <a:pt x="321211" y="112523"/>
                </a:lnTo>
                <a:lnTo>
                  <a:pt x="325602" y="101208"/>
                </a:lnTo>
                <a:lnTo>
                  <a:pt x="329366" y="90521"/>
                </a:lnTo>
                <a:lnTo>
                  <a:pt x="331876" y="81092"/>
                </a:lnTo>
                <a:lnTo>
                  <a:pt x="333131" y="72291"/>
                </a:lnTo>
                <a:lnTo>
                  <a:pt x="334385" y="65377"/>
                </a:lnTo>
                <a:lnTo>
                  <a:pt x="334385" y="59090"/>
                </a:lnTo>
                <a:lnTo>
                  <a:pt x="333131" y="52804"/>
                </a:lnTo>
                <a:lnTo>
                  <a:pt x="330621" y="43375"/>
                </a:lnTo>
                <a:lnTo>
                  <a:pt x="328112" y="34574"/>
                </a:lnTo>
                <a:lnTo>
                  <a:pt x="328112" y="27659"/>
                </a:lnTo>
                <a:lnTo>
                  <a:pt x="328112" y="20116"/>
                </a:lnTo>
                <a:lnTo>
                  <a:pt x="329366" y="14458"/>
                </a:lnTo>
                <a:lnTo>
                  <a:pt x="331876" y="9429"/>
                </a:lnTo>
                <a:lnTo>
                  <a:pt x="335640" y="5658"/>
                </a:lnTo>
                <a:lnTo>
                  <a:pt x="340032" y="2515"/>
                </a:lnTo>
                <a:lnTo>
                  <a:pt x="342541" y="1257"/>
                </a:lnTo>
                <a:lnTo>
                  <a:pt x="346305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9" name="任意多边形: 形状 43"/>
          <p:cNvSpPr/>
          <p:nvPr/>
        </p:nvSpPr>
        <p:spPr>
          <a:xfrm>
            <a:off x="6335640" y="2289240"/>
            <a:ext cx="632880" cy="261720"/>
          </a:xfrm>
          <a:custGeom>
            <a:avLst/>
            <a:gdLst>
              <a:gd name="textAreaLeft" fmla="*/ 0 w 632880"/>
              <a:gd name="textAreaRight" fmla="*/ 633240 w 63288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633575" h="262134">
                <a:moveTo>
                  <a:pt x="633575" y="0"/>
                </a:moveTo>
                <a:lnTo>
                  <a:pt x="633575" y="38345"/>
                </a:lnTo>
                <a:lnTo>
                  <a:pt x="604089" y="48403"/>
                </a:lnTo>
                <a:lnTo>
                  <a:pt x="577740" y="57833"/>
                </a:lnTo>
                <a:lnTo>
                  <a:pt x="550136" y="67262"/>
                </a:lnTo>
                <a:lnTo>
                  <a:pt x="525041" y="76063"/>
                </a:lnTo>
                <a:lnTo>
                  <a:pt x="499319" y="84235"/>
                </a:lnTo>
                <a:lnTo>
                  <a:pt x="475479" y="93035"/>
                </a:lnTo>
                <a:lnTo>
                  <a:pt x="451012" y="101207"/>
                </a:lnTo>
                <a:lnTo>
                  <a:pt x="429682" y="110008"/>
                </a:lnTo>
                <a:lnTo>
                  <a:pt x="407724" y="116923"/>
                </a:lnTo>
                <a:lnTo>
                  <a:pt x="385766" y="124466"/>
                </a:lnTo>
                <a:lnTo>
                  <a:pt x="365691" y="131381"/>
                </a:lnTo>
                <a:lnTo>
                  <a:pt x="346242" y="138925"/>
                </a:lnTo>
                <a:lnTo>
                  <a:pt x="328049" y="145839"/>
                </a:lnTo>
                <a:lnTo>
                  <a:pt x="309855" y="152126"/>
                </a:lnTo>
                <a:lnTo>
                  <a:pt x="292916" y="158412"/>
                </a:lnTo>
                <a:lnTo>
                  <a:pt x="277232" y="164069"/>
                </a:lnTo>
                <a:lnTo>
                  <a:pt x="262803" y="170356"/>
                </a:lnTo>
                <a:lnTo>
                  <a:pt x="248374" y="176642"/>
                </a:lnTo>
                <a:lnTo>
                  <a:pt x="233944" y="181042"/>
                </a:lnTo>
                <a:lnTo>
                  <a:pt x="222024" y="186071"/>
                </a:lnTo>
                <a:lnTo>
                  <a:pt x="210104" y="191100"/>
                </a:lnTo>
                <a:lnTo>
                  <a:pt x="198812" y="195500"/>
                </a:lnTo>
                <a:lnTo>
                  <a:pt x="188147" y="199272"/>
                </a:lnTo>
                <a:lnTo>
                  <a:pt x="178736" y="204301"/>
                </a:lnTo>
                <a:lnTo>
                  <a:pt x="169953" y="208073"/>
                </a:lnTo>
                <a:lnTo>
                  <a:pt x="163052" y="211216"/>
                </a:lnTo>
                <a:lnTo>
                  <a:pt x="155524" y="213730"/>
                </a:lnTo>
                <a:lnTo>
                  <a:pt x="149250" y="217502"/>
                </a:lnTo>
                <a:lnTo>
                  <a:pt x="143604" y="220017"/>
                </a:lnTo>
                <a:lnTo>
                  <a:pt x="139840" y="222531"/>
                </a:lnTo>
                <a:lnTo>
                  <a:pt x="134821" y="224417"/>
                </a:lnTo>
                <a:lnTo>
                  <a:pt x="132939" y="226931"/>
                </a:lnTo>
                <a:lnTo>
                  <a:pt x="122901" y="234475"/>
                </a:lnTo>
                <a:lnTo>
                  <a:pt x="114745" y="240132"/>
                </a:lnTo>
                <a:lnTo>
                  <a:pt x="104707" y="246419"/>
                </a:lnTo>
                <a:lnTo>
                  <a:pt x="96551" y="251448"/>
                </a:lnTo>
                <a:lnTo>
                  <a:pt x="87768" y="255219"/>
                </a:lnTo>
                <a:lnTo>
                  <a:pt x="80867" y="258362"/>
                </a:lnTo>
                <a:lnTo>
                  <a:pt x="73339" y="260877"/>
                </a:lnTo>
                <a:lnTo>
                  <a:pt x="66438" y="262134"/>
                </a:lnTo>
                <a:lnTo>
                  <a:pt x="62674" y="262134"/>
                </a:lnTo>
                <a:lnTo>
                  <a:pt x="58910" y="262134"/>
                </a:lnTo>
                <a:lnTo>
                  <a:pt x="55773" y="262134"/>
                </a:lnTo>
                <a:lnTo>
                  <a:pt x="52009" y="260877"/>
                </a:lnTo>
                <a:lnTo>
                  <a:pt x="48244" y="259620"/>
                </a:lnTo>
                <a:lnTo>
                  <a:pt x="44480" y="258362"/>
                </a:lnTo>
                <a:lnTo>
                  <a:pt x="40716" y="255848"/>
                </a:lnTo>
                <a:lnTo>
                  <a:pt x="37579" y="253962"/>
                </a:lnTo>
                <a:lnTo>
                  <a:pt x="33815" y="251448"/>
                </a:lnTo>
                <a:lnTo>
                  <a:pt x="28796" y="248933"/>
                </a:lnTo>
                <a:lnTo>
                  <a:pt x="25032" y="245161"/>
                </a:lnTo>
                <a:lnTo>
                  <a:pt x="20640" y="241390"/>
                </a:lnTo>
                <a:lnTo>
                  <a:pt x="16876" y="238247"/>
                </a:lnTo>
                <a:lnTo>
                  <a:pt x="11857" y="233218"/>
                </a:lnTo>
                <a:lnTo>
                  <a:pt x="8720" y="228189"/>
                </a:lnTo>
                <a:lnTo>
                  <a:pt x="3701" y="223788"/>
                </a:lnTo>
                <a:lnTo>
                  <a:pt x="0" y="219020"/>
                </a:lnTo>
                <a:lnTo>
                  <a:pt x="197832" y="44928"/>
                </a:lnTo>
                <a:lnTo>
                  <a:pt x="194420" y="49661"/>
                </a:lnTo>
                <a:lnTo>
                  <a:pt x="186892" y="59090"/>
                </a:lnTo>
                <a:lnTo>
                  <a:pt x="180618" y="67262"/>
                </a:lnTo>
                <a:lnTo>
                  <a:pt x="174972" y="74805"/>
                </a:lnTo>
                <a:lnTo>
                  <a:pt x="171208" y="81092"/>
                </a:lnTo>
                <a:lnTo>
                  <a:pt x="168698" y="85492"/>
                </a:lnTo>
                <a:lnTo>
                  <a:pt x="167444" y="90521"/>
                </a:lnTo>
                <a:lnTo>
                  <a:pt x="166189" y="93035"/>
                </a:lnTo>
                <a:lnTo>
                  <a:pt x="167444" y="94293"/>
                </a:lnTo>
                <a:lnTo>
                  <a:pt x="168698" y="94293"/>
                </a:lnTo>
                <a:lnTo>
                  <a:pt x="171208" y="94293"/>
                </a:lnTo>
                <a:lnTo>
                  <a:pt x="173717" y="94293"/>
                </a:lnTo>
                <a:lnTo>
                  <a:pt x="177481" y="94293"/>
                </a:lnTo>
                <a:lnTo>
                  <a:pt x="181873" y="94293"/>
                </a:lnTo>
                <a:lnTo>
                  <a:pt x="188147" y="93035"/>
                </a:lnTo>
                <a:lnTo>
                  <a:pt x="194420" y="91778"/>
                </a:lnTo>
                <a:lnTo>
                  <a:pt x="201321" y="90521"/>
                </a:lnTo>
                <a:lnTo>
                  <a:pt x="210104" y="89264"/>
                </a:lnTo>
                <a:lnTo>
                  <a:pt x="218260" y="88006"/>
                </a:lnTo>
                <a:lnTo>
                  <a:pt x="227671" y="86749"/>
                </a:lnTo>
                <a:lnTo>
                  <a:pt x="238963" y="84235"/>
                </a:lnTo>
                <a:lnTo>
                  <a:pt x="250883" y="81720"/>
                </a:lnTo>
                <a:lnTo>
                  <a:pt x="262803" y="79834"/>
                </a:lnTo>
                <a:lnTo>
                  <a:pt x="275978" y="77320"/>
                </a:lnTo>
                <a:lnTo>
                  <a:pt x="290407" y="74805"/>
                </a:lnTo>
                <a:lnTo>
                  <a:pt x="305464" y="71034"/>
                </a:lnTo>
                <a:lnTo>
                  <a:pt x="321148" y="67262"/>
                </a:lnTo>
                <a:lnTo>
                  <a:pt x="337459" y="64119"/>
                </a:lnTo>
                <a:lnTo>
                  <a:pt x="354398" y="60347"/>
                </a:lnTo>
                <a:lnTo>
                  <a:pt x="373846" y="56575"/>
                </a:lnTo>
                <a:lnTo>
                  <a:pt x="393295" y="52804"/>
                </a:lnTo>
                <a:lnTo>
                  <a:pt x="412743" y="48403"/>
                </a:lnTo>
                <a:lnTo>
                  <a:pt x="434073" y="43374"/>
                </a:lnTo>
                <a:lnTo>
                  <a:pt x="456031" y="38345"/>
                </a:lnTo>
                <a:lnTo>
                  <a:pt x="478616" y="33316"/>
                </a:lnTo>
                <a:lnTo>
                  <a:pt x="501829" y="28916"/>
                </a:lnTo>
                <a:lnTo>
                  <a:pt x="526923" y="23887"/>
                </a:lnTo>
                <a:lnTo>
                  <a:pt x="552645" y="17601"/>
                </a:lnTo>
                <a:lnTo>
                  <a:pt x="577740" y="11943"/>
                </a:lnTo>
                <a:lnTo>
                  <a:pt x="605344" y="5657"/>
                </a:lnTo>
                <a:lnTo>
                  <a:pt x="633575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0" name="Freeform 5"/>
          <p:cNvSpPr/>
          <p:nvPr/>
        </p:nvSpPr>
        <p:spPr>
          <a:xfrm>
            <a:off x="6148440" y="1835280"/>
            <a:ext cx="921960" cy="186840"/>
          </a:xfrm>
          <a:custGeom>
            <a:avLst/>
            <a:gdLst>
              <a:gd name="textAreaLeft" fmla="*/ 0 w 921960"/>
              <a:gd name="textAreaRight" fmla="*/ 922320 w 92196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1469" h="300">
                <a:moveTo>
                  <a:pt x="17" y="200"/>
                </a:moveTo>
                <a:lnTo>
                  <a:pt x="12" y="191"/>
                </a:lnTo>
                <a:lnTo>
                  <a:pt x="6" y="183"/>
                </a:lnTo>
                <a:lnTo>
                  <a:pt x="2" y="177"/>
                </a:lnTo>
                <a:lnTo>
                  <a:pt x="0" y="171"/>
                </a:lnTo>
                <a:lnTo>
                  <a:pt x="0" y="166"/>
                </a:lnTo>
                <a:lnTo>
                  <a:pt x="0" y="162"/>
                </a:lnTo>
                <a:lnTo>
                  <a:pt x="2" y="158"/>
                </a:lnTo>
                <a:lnTo>
                  <a:pt x="6" y="156"/>
                </a:lnTo>
                <a:lnTo>
                  <a:pt x="8" y="156"/>
                </a:lnTo>
                <a:lnTo>
                  <a:pt x="12" y="154"/>
                </a:lnTo>
                <a:lnTo>
                  <a:pt x="17" y="154"/>
                </a:lnTo>
                <a:lnTo>
                  <a:pt x="21" y="154"/>
                </a:lnTo>
                <a:lnTo>
                  <a:pt x="29" y="154"/>
                </a:lnTo>
                <a:lnTo>
                  <a:pt x="35" y="154"/>
                </a:lnTo>
                <a:lnTo>
                  <a:pt x="42" y="154"/>
                </a:lnTo>
                <a:lnTo>
                  <a:pt x="52" y="154"/>
                </a:lnTo>
                <a:lnTo>
                  <a:pt x="62" y="154"/>
                </a:lnTo>
                <a:lnTo>
                  <a:pt x="73" y="154"/>
                </a:lnTo>
                <a:lnTo>
                  <a:pt x="85" y="154"/>
                </a:lnTo>
                <a:lnTo>
                  <a:pt x="96" y="154"/>
                </a:lnTo>
                <a:lnTo>
                  <a:pt x="110" y="154"/>
                </a:lnTo>
                <a:lnTo>
                  <a:pt x="125" y="154"/>
                </a:lnTo>
                <a:lnTo>
                  <a:pt x="140" y="156"/>
                </a:lnTo>
                <a:lnTo>
                  <a:pt x="156" y="156"/>
                </a:lnTo>
                <a:lnTo>
                  <a:pt x="163" y="156"/>
                </a:lnTo>
                <a:lnTo>
                  <a:pt x="173" y="156"/>
                </a:lnTo>
                <a:lnTo>
                  <a:pt x="183" y="156"/>
                </a:lnTo>
                <a:lnTo>
                  <a:pt x="192" y="156"/>
                </a:lnTo>
                <a:lnTo>
                  <a:pt x="204" y="156"/>
                </a:lnTo>
                <a:lnTo>
                  <a:pt x="215" y="156"/>
                </a:lnTo>
                <a:lnTo>
                  <a:pt x="227" y="156"/>
                </a:lnTo>
                <a:lnTo>
                  <a:pt x="240" y="154"/>
                </a:lnTo>
                <a:lnTo>
                  <a:pt x="252" y="154"/>
                </a:lnTo>
                <a:lnTo>
                  <a:pt x="265" y="152"/>
                </a:lnTo>
                <a:lnTo>
                  <a:pt x="281" y="150"/>
                </a:lnTo>
                <a:lnTo>
                  <a:pt x="296" y="150"/>
                </a:lnTo>
                <a:lnTo>
                  <a:pt x="312" y="148"/>
                </a:lnTo>
                <a:lnTo>
                  <a:pt x="327" y="146"/>
                </a:lnTo>
                <a:lnTo>
                  <a:pt x="344" y="145"/>
                </a:lnTo>
                <a:lnTo>
                  <a:pt x="362" y="143"/>
                </a:lnTo>
                <a:lnTo>
                  <a:pt x="379" y="139"/>
                </a:lnTo>
                <a:lnTo>
                  <a:pt x="396" y="137"/>
                </a:lnTo>
                <a:lnTo>
                  <a:pt x="415" y="135"/>
                </a:lnTo>
                <a:lnTo>
                  <a:pt x="435" y="131"/>
                </a:lnTo>
                <a:lnTo>
                  <a:pt x="456" y="129"/>
                </a:lnTo>
                <a:lnTo>
                  <a:pt x="477" y="125"/>
                </a:lnTo>
                <a:lnTo>
                  <a:pt x="498" y="121"/>
                </a:lnTo>
                <a:lnTo>
                  <a:pt x="519" y="118"/>
                </a:lnTo>
                <a:lnTo>
                  <a:pt x="542" y="114"/>
                </a:lnTo>
                <a:lnTo>
                  <a:pt x="565" y="110"/>
                </a:lnTo>
                <a:lnTo>
                  <a:pt x="588" y="106"/>
                </a:lnTo>
                <a:lnTo>
                  <a:pt x="613" y="102"/>
                </a:lnTo>
                <a:lnTo>
                  <a:pt x="636" y="96"/>
                </a:lnTo>
                <a:lnTo>
                  <a:pt x="663" y="93"/>
                </a:lnTo>
                <a:lnTo>
                  <a:pt x="688" y="89"/>
                </a:lnTo>
                <a:lnTo>
                  <a:pt x="715" y="83"/>
                </a:lnTo>
                <a:lnTo>
                  <a:pt x="742" y="77"/>
                </a:lnTo>
                <a:lnTo>
                  <a:pt x="767" y="73"/>
                </a:lnTo>
                <a:lnTo>
                  <a:pt x="794" y="68"/>
                </a:lnTo>
                <a:lnTo>
                  <a:pt x="819" y="64"/>
                </a:lnTo>
                <a:lnTo>
                  <a:pt x="842" y="60"/>
                </a:lnTo>
                <a:lnTo>
                  <a:pt x="865" y="56"/>
                </a:lnTo>
                <a:lnTo>
                  <a:pt x="888" y="52"/>
                </a:lnTo>
                <a:lnTo>
                  <a:pt x="911" y="46"/>
                </a:lnTo>
                <a:lnTo>
                  <a:pt x="935" y="44"/>
                </a:lnTo>
                <a:lnTo>
                  <a:pt x="956" y="41"/>
                </a:lnTo>
                <a:lnTo>
                  <a:pt x="977" y="37"/>
                </a:lnTo>
                <a:lnTo>
                  <a:pt x="996" y="33"/>
                </a:lnTo>
                <a:lnTo>
                  <a:pt x="1015" y="29"/>
                </a:lnTo>
                <a:lnTo>
                  <a:pt x="1035" y="27"/>
                </a:lnTo>
                <a:lnTo>
                  <a:pt x="1054" y="23"/>
                </a:lnTo>
                <a:lnTo>
                  <a:pt x="1071" y="21"/>
                </a:lnTo>
                <a:lnTo>
                  <a:pt x="1088" y="19"/>
                </a:lnTo>
                <a:lnTo>
                  <a:pt x="1106" y="16"/>
                </a:lnTo>
                <a:lnTo>
                  <a:pt x="1123" y="14"/>
                </a:lnTo>
                <a:lnTo>
                  <a:pt x="1138" y="12"/>
                </a:lnTo>
                <a:lnTo>
                  <a:pt x="1154" y="10"/>
                </a:lnTo>
                <a:lnTo>
                  <a:pt x="1167" y="8"/>
                </a:lnTo>
                <a:lnTo>
                  <a:pt x="1183" y="8"/>
                </a:lnTo>
                <a:lnTo>
                  <a:pt x="1196" y="6"/>
                </a:lnTo>
                <a:lnTo>
                  <a:pt x="1208" y="4"/>
                </a:lnTo>
                <a:lnTo>
                  <a:pt x="1221" y="4"/>
                </a:lnTo>
                <a:lnTo>
                  <a:pt x="1233" y="2"/>
                </a:lnTo>
                <a:lnTo>
                  <a:pt x="1244" y="2"/>
                </a:lnTo>
                <a:lnTo>
                  <a:pt x="1254" y="0"/>
                </a:lnTo>
                <a:lnTo>
                  <a:pt x="1263" y="0"/>
                </a:lnTo>
                <a:lnTo>
                  <a:pt x="1273" y="0"/>
                </a:lnTo>
                <a:lnTo>
                  <a:pt x="1283" y="0"/>
                </a:lnTo>
                <a:lnTo>
                  <a:pt x="1300" y="0"/>
                </a:lnTo>
                <a:lnTo>
                  <a:pt x="1315" y="0"/>
                </a:lnTo>
                <a:lnTo>
                  <a:pt x="1331" y="2"/>
                </a:lnTo>
                <a:lnTo>
                  <a:pt x="1344" y="4"/>
                </a:lnTo>
                <a:lnTo>
                  <a:pt x="1358" y="6"/>
                </a:lnTo>
                <a:lnTo>
                  <a:pt x="1369" y="8"/>
                </a:lnTo>
                <a:lnTo>
                  <a:pt x="1381" y="10"/>
                </a:lnTo>
                <a:lnTo>
                  <a:pt x="1392" y="14"/>
                </a:lnTo>
                <a:lnTo>
                  <a:pt x="1402" y="16"/>
                </a:lnTo>
                <a:lnTo>
                  <a:pt x="1411" y="19"/>
                </a:lnTo>
                <a:lnTo>
                  <a:pt x="1419" y="23"/>
                </a:lnTo>
                <a:lnTo>
                  <a:pt x="1427" y="29"/>
                </a:lnTo>
                <a:lnTo>
                  <a:pt x="1435" y="33"/>
                </a:lnTo>
                <a:lnTo>
                  <a:pt x="1440" y="39"/>
                </a:lnTo>
                <a:lnTo>
                  <a:pt x="1446" y="44"/>
                </a:lnTo>
                <a:lnTo>
                  <a:pt x="1450" y="50"/>
                </a:lnTo>
                <a:lnTo>
                  <a:pt x="1458" y="62"/>
                </a:lnTo>
                <a:lnTo>
                  <a:pt x="1463" y="73"/>
                </a:lnTo>
                <a:lnTo>
                  <a:pt x="1467" y="85"/>
                </a:lnTo>
                <a:lnTo>
                  <a:pt x="1469" y="95"/>
                </a:lnTo>
                <a:lnTo>
                  <a:pt x="1469" y="102"/>
                </a:lnTo>
                <a:lnTo>
                  <a:pt x="1469" y="108"/>
                </a:lnTo>
                <a:lnTo>
                  <a:pt x="1467" y="114"/>
                </a:lnTo>
                <a:lnTo>
                  <a:pt x="1463" y="120"/>
                </a:lnTo>
                <a:lnTo>
                  <a:pt x="1458" y="123"/>
                </a:lnTo>
                <a:lnTo>
                  <a:pt x="1450" y="127"/>
                </a:lnTo>
                <a:lnTo>
                  <a:pt x="1440" y="131"/>
                </a:lnTo>
                <a:lnTo>
                  <a:pt x="1429" y="133"/>
                </a:lnTo>
                <a:lnTo>
                  <a:pt x="1415" y="135"/>
                </a:lnTo>
                <a:lnTo>
                  <a:pt x="1408" y="137"/>
                </a:lnTo>
                <a:lnTo>
                  <a:pt x="1400" y="137"/>
                </a:lnTo>
                <a:lnTo>
                  <a:pt x="1392" y="139"/>
                </a:lnTo>
                <a:lnTo>
                  <a:pt x="1383" y="139"/>
                </a:lnTo>
                <a:lnTo>
                  <a:pt x="1373" y="139"/>
                </a:lnTo>
                <a:lnTo>
                  <a:pt x="1363" y="139"/>
                </a:lnTo>
                <a:lnTo>
                  <a:pt x="1352" y="139"/>
                </a:lnTo>
                <a:lnTo>
                  <a:pt x="1340" y="139"/>
                </a:lnTo>
                <a:lnTo>
                  <a:pt x="1329" y="141"/>
                </a:lnTo>
                <a:lnTo>
                  <a:pt x="1313" y="141"/>
                </a:lnTo>
                <a:lnTo>
                  <a:pt x="1298" y="143"/>
                </a:lnTo>
                <a:lnTo>
                  <a:pt x="1283" y="143"/>
                </a:lnTo>
                <a:lnTo>
                  <a:pt x="1263" y="145"/>
                </a:lnTo>
                <a:lnTo>
                  <a:pt x="1246" y="146"/>
                </a:lnTo>
                <a:lnTo>
                  <a:pt x="1225" y="148"/>
                </a:lnTo>
                <a:lnTo>
                  <a:pt x="1204" y="150"/>
                </a:lnTo>
                <a:lnTo>
                  <a:pt x="1181" y="152"/>
                </a:lnTo>
                <a:lnTo>
                  <a:pt x="1158" y="156"/>
                </a:lnTo>
                <a:lnTo>
                  <a:pt x="1133" y="158"/>
                </a:lnTo>
                <a:lnTo>
                  <a:pt x="1108" y="162"/>
                </a:lnTo>
                <a:lnTo>
                  <a:pt x="1081" y="166"/>
                </a:lnTo>
                <a:lnTo>
                  <a:pt x="1052" y="170"/>
                </a:lnTo>
                <a:lnTo>
                  <a:pt x="994" y="177"/>
                </a:lnTo>
                <a:lnTo>
                  <a:pt x="935" y="187"/>
                </a:lnTo>
                <a:lnTo>
                  <a:pt x="873" y="196"/>
                </a:lnTo>
                <a:lnTo>
                  <a:pt x="811" y="206"/>
                </a:lnTo>
                <a:lnTo>
                  <a:pt x="750" y="216"/>
                </a:lnTo>
                <a:lnTo>
                  <a:pt x="685" y="227"/>
                </a:lnTo>
                <a:lnTo>
                  <a:pt x="621" y="239"/>
                </a:lnTo>
                <a:lnTo>
                  <a:pt x="554" y="250"/>
                </a:lnTo>
                <a:lnTo>
                  <a:pt x="521" y="256"/>
                </a:lnTo>
                <a:lnTo>
                  <a:pt x="490" y="262"/>
                </a:lnTo>
                <a:lnTo>
                  <a:pt x="462" y="268"/>
                </a:lnTo>
                <a:lnTo>
                  <a:pt x="435" y="272"/>
                </a:lnTo>
                <a:lnTo>
                  <a:pt x="410" y="277"/>
                </a:lnTo>
                <a:lnTo>
                  <a:pt x="387" y="281"/>
                </a:lnTo>
                <a:lnTo>
                  <a:pt x="365" y="285"/>
                </a:lnTo>
                <a:lnTo>
                  <a:pt x="344" y="287"/>
                </a:lnTo>
                <a:lnTo>
                  <a:pt x="327" y="291"/>
                </a:lnTo>
                <a:lnTo>
                  <a:pt x="312" y="293"/>
                </a:lnTo>
                <a:lnTo>
                  <a:pt x="298" y="295"/>
                </a:lnTo>
                <a:lnTo>
                  <a:pt x="285" y="297"/>
                </a:lnTo>
                <a:lnTo>
                  <a:pt x="275" y="298"/>
                </a:lnTo>
                <a:lnTo>
                  <a:pt x="267" y="300"/>
                </a:lnTo>
                <a:lnTo>
                  <a:pt x="260" y="300"/>
                </a:lnTo>
                <a:lnTo>
                  <a:pt x="256" y="300"/>
                </a:lnTo>
                <a:lnTo>
                  <a:pt x="246" y="300"/>
                </a:lnTo>
                <a:lnTo>
                  <a:pt x="237" y="298"/>
                </a:lnTo>
                <a:lnTo>
                  <a:pt x="223" y="297"/>
                </a:lnTo>
                <a:lnTo>
                  <a:pt x="210" y="293"/>
                </a:lnTo>
                <a:lnTo>
                  <a:pt x="194" y="289"/>
                </a:lnTo>
                <a:lnTo>
                  <a:pt x="177" y="283"/>
                </a:lnTo>
                <a:lnTo>
                  <a:pt x="158" y="277"/>
                </a:lnTo>
                <a:lnTo>
                  <a:pt x="137" y="270"/>
                </a:lnTo>
                <a:lnTo>
                  <a:pt x="115" y="262"/>
                </a:lnTo>
                <a:lnTo>
                  <a:pt x="96" y="254"/>
                </a:lnTo>
                <a:lnTo>
                  <a:pt x="79" y="245"/>
                </a:lnTo>
                <a:lnTo>
                  <a:pt x="63" y="237"/>
                </a:lnTo>
                <a:lnTo>
                  <a:pt x="50" y="227"/>
                </a:lnTo>
                <a:lnTo>
                  <a:pt x="37" y="220"/>
                </a:lnTo>
                <a:lnTo>
                  <a:pt x="27" y="210"/>
                </a:lnTo>
                <a:lnTo>
                  <a:pt x="17" y="200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1" name="Freeform 7"/>
          <p:cNvSpPr/>
          <p:nvPr/>
        </p:nvSpPr>
        <p:spPr>
          <a:xfrm>
            <a:off x="6838920" y="2147760"/>
            <a:ext cx="218880" cy="312480"/>
          </a:xfrm>
          <a:custGeom>
            <a:avLst/>
            <a:gdLst>
              <a:gd name="textAreaLeft" fmla="*/ 0 w 218880"/>
              <a:gd name="textAreaRight" fmla="*/ 219240 w 2188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348" h="499">
                <a:moveTo>
                  <a:pt x="86" y="249"/>
                </a:moveTo>
                <a:lnTo>
                  <a:pt x="71" y="216"/>
                </a:lnTo>
                <a:lnTo>
                  <a:pt x="63" y="199"/>
                </a:lnTo>
                <a:lnTo>
                  <a:pt x="56" y="181"/>
                </a:lnTo>
                <a:lnTo>
                  <a:pt x="48" y="164"/>
                </a:lnTo>
                <a:lnTo>
                  <a:pt x="40" y="145"/>
                </a:lnTo>
                <a:lnTo>
                  <a:pt x="33" y="126"/>
                </a:lnTo>
                <a:lnTo>
                  <a:pt x="25" y="106"/>
                </a:lnTo>
                <a:lnTo>
                  <a:pt x="21" y="97"/>
                </a:lnTo>
                <a:lnTo>
                  <a:pt x="17" y="87"/>
                </a:lnTo>
                <a:lnTo>
                  <a:pt x="15" y="77"/>
                </a:lnTo>
                <a:lnTo>
                  <a:pt x="11" y="70"/>
                </a:lnTo>
                <a:lnTo>
                  <a:pt x="9" y="62"/>
                </a:lnTo>
                <a:lnTo>
                  <a:pt x="8" y="54"/>
                </a:lnTo>
                <a:lnTo>
                  <a:pt x="6" y="49"/>
                </a:lnTo>
                <a:lnTo>
                  <a:pt x="4" y="43"/>
                </a:lnTo>
                <a:lnTo>
                  <a:pt x="2" y="37"/>
                </a:lnTo>
                <a:lnTo>
                  <a:pt x="0" y="31"/>
                </a:lnTo>
                <a:lnTo>
                  <a:pt x="0" y="27"/>
                </a:lnTo>
                <a:lnTo>
                  <a:pt x="0" y="22"/>
                </a:lnTo>
                <a:lnTo>
                  <a:pt x="0" y="20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4" y="6"/>
                </a:lnTo>
                <a:lnTo>
                  <a:pt x="8" y="4"/>
                </a:lnTo>
                <a:lnTo>
                  <a:pt x="13" y="4"/>
                </a:lnTo>
                <a:lnTo>
                  <a:pt x="17" y="2"/>
                </a:lnTo>
                <a:lnTo>
                  <a:pt x="23" y="0"/>
                </a:lnTo>
                <a:lnTo>
                  <a:pt x="29" y="0"/>
                </a:lnTo>
                <a:lnTo>
                  <a:pt x="36" y="0"/>
                </a:lnTo>
                <a:lnTo>
                  <a:pt x="40" y="0"/>
                </a:lnTo>
                <a:lnTo>
                  <a:pt x="46" y="2"/>
                </a:lnTo>
                <a:lnTo>
                  <a:pt x="50" y="2"/>
                </a:lnTo>
                <a:lnTo>
                  <a:pt x="58" y="4"/>
                </a:lnTo>
                <a:lnTo>
                  <a:pt x="63" y="6"/>
                </a:lnTo>
                <a:lnTo>
                  <a:pt x="69" y="10"/>
                </a:lnTo>
                <a:lnTo>
                  <a:pt x="77" y="14"/>
                </a:lnTo>
                <a:lnTo>
                  <a:pt x="84" y="18"/>
                </a:lnTo>
                <a:lnTo>
                  <a:pt x="94" y="22"/>
                </a:lnTo>
                <a:lnTo>
                  <a:pt x="102" y="25"/>
                </a:lnTo>
                <a:lnTo>
                  <a:pt x="111" y="31"/>
                </a:lnTo>
                <a:lnTo>
                  <a:pt x="123" y="37"/>
                </a:lnTo>
                <a:lnTo>
                  <a:pt x="133" y="45"/>
                </a:lnTo>
                <a:lnTo>
                  <a:pt x="144" y="52"/>
                </a:lnTo>
                <a:lnTo>
                  <a:pt x="156" y="60"/>
                </a:lnTo>
                <a:lnTo>
                  <a:pt x="167" y="68"/>
                </a:lnTo>
                <a:lnTo>
                  <a:pt x="192" y="85"/>
                </a:lnTo>
                <a:lnTo>
                  <a:pt x="215" y="104"/>
                </a:lnTo>
                <a:lnTo>
                  <a:pt x="236" y="124"/>
                </a:lnTo>
                <a:lnTo>
                  <a:pt x="256" y="145"/>
                </a:lnTo>
                <a:lnTo>
                  <a:pt x="273" y="166"/>
                </a:lnTo>
                <a:lnTo>
                  <a:pt x="290" y="189"/>
                </a:lnTo>
                <a:lnTo>
                  <a:pt x="304" y="212"/>
                </a:lnTo>
                <a:lnTo>
                  <a:pt x="317" y="237"/>
                </a:lnTo>
                <a:lnTo>
                  <a:pt x="323" y="249"/>
                </a:lnTo>
                <a:lnTo>
                  <a:pt x="329" y="262"/>
                </a:lnTo>
                <a:lnTo>
                  <a:pt x="333" y="274"/>
                </a:lnTo>
                <a:lnTo>
                  <a:pt x="336" y="285"/>
                </a:lnTo>
                <a:lnTo>
                  <a:pt x="340" y="297"/>
                </a:lnTo>
                <a:lnTo>
                  <a:pt x="344" y="308"/>
                </a:lnTo>
                <a:lnTo>
                  <a:pt x="346" y="320"/>
                </a:lnTo>
                <a:lnTo>
                  <a:pt x="348" y="331"/>
                </a:lnTo>
                <a:lnTo>
                  <a:pt x="348" y="343"/>
                </a:lnTo>
                <a:lnTo>
                  <a:pt x="348" y="353"/>
                </a:lnTo>
                <a:lnTo>
                  <a:pt x="348" y="364"/>
                </a:lnTo>
                <a:lnTo>
                  <a:pt x="346" y="374"/>
                </a:lnTo>
                <a:lnTo>
                  <a:pt x="346" y="385"/>
                </a:lnTo>
                <a:lnTo>
                  <a:pt x="342" y="395"/>
                </a:lnTo>
                <a:lnTo>
                  <a:pt x="340" y="406"/>
                </a:lnTo>
                <a:lnTo>
                  <a:pt x="336" y="416"/>
                </a:lnTo>
                <a:lnTo>
                  <a:pt x="333" y="426"/>
                </a:lnTo>
                <a:lnTo>
                  <a:pt x="329" y="435"/>
                </a:lnTo>
                <a:lnTo>
                  <a:pt x="325" y="445"/>
                </a:lnTo>
                <a:lnTo>
                  <a:pt x="321" y="453"/>
                </a:lnTo>
                <a:lnTo>
                  <a:pt x="317" y="460"/>
                </a:lnTo>
                <a:lnTo>
                  <a:pt x="313" y="466"/>
                </a:lnTo>
                <a:lnTo>
                  <a:pt x="309" y="474"/>
                </a:lnTo>
                <a:lnTo>
                  <a:pt x="306" y="478"/>
                </a:lnTo>
                <a:lnTo>
                  <a:pt x="300" y="483"/>
                </a:lnTo>
                <a:lnTo>
                  <a:pt x="296" y="487"/>
                </a:lnTo>
                <a:lnTo>
                  <a:pt x="292" y="491"/>
                </a:lnTo>
                <a:lnTo>
                  <a:pt x="288" y="493"/>
                </a:lnTo>
                <a:lnTo>
                  <a:pt x="284" y="497"/>
                </a:lnTo>
                <a:lnTo>
                  <a:pt x="281" y="497"/>
                </a:lnTo>
                <a:lnTo>
                  <a:pt x="277" y="499"/>
                </a:lnTo>
                <a:lnTo>
                  <a:pt x="273" y="499"/>
                </a:lnTo>
                <a:lnTo>
                  <a:pt x="269" y="499"/>
                </a:lnTo>
                <a:lnTo>
                  <a:pt x="265" y="497"/>
                </a:lnTo>
                <a:lnTo>
                  <a:pt x="261" y="495"/>
                </a:lnTo>
                <a:lnTo>
                  <a:pt x="256" y="493"/>
                </a:lnTo>
                <a:lnTo>
                  <a:pt x="252" y="489"/>
                </a:lnTo>
                <a:lnTo>
                  <a:pt x="246" y="485"/>
                </a:lnTo>
                <a:lnTo>
                  <a:pt x="240" y="480"/>
                </a:lnTo>
                <a:lnTo>
                  <a:pt x="234" y="476"/>
                </a:lnTo>
                <a:lnTo>
                  <a:pt x="229" y="468"/>
                </a:lnTo>
                <a:lnTo>
                  <a:pt x="223" y="462"/>
                </a:lnTo>
                <a:lnTo>
                  <a:pt x="215" y="454"/>
                </a:lnTo>
                <a:lnTo>
                  <a:pt x="209" y="445"/>
                </a:lnTo>
                <a:lnTo>
                  <a:pt x="202" y="435"/>
                </a:lnTo>
                <a:lnTo>
                  <a:pt x="196" y="426"/>
                </a:lnTo>
                <a:lnTo>
                  <a:pt x="188" y="416"/>
                </a:lnTo>
                <a:lnTo>
                  <a:pt x="181" y="404"/>
                </a:lnTo>
                <a:lnTo>
                  <a:pt x="165" y="381"/>
                </a:lnTo>
                <a:lnTo>
                  <a:pt x="152" y="360"/>
                </a:lnTo>
                <a:lnTo>
                  <a:pt x="138" y="339"/>
                </a:lnTo>
                <a:lnTo>
                  <a:pt x="125" y="320"/>
                </a:lnTo>
                <a:lnTo>
                  <a:pt x="115" y="301"/>
                </a:lnTo>
                <a:lnTo>
                  <a:pt x="104" y="281"/>
                </a:lnTo>
                <a:lnTo>
                  <a:pt x="94" y="266"/>
                </a:lnTo>
                <a:lnTo>
                  <a:pt x="86" y="249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2" name="Freeform 8"/>
          <p:cNvSpPr/>
          <p:nvPr/>
        </p:nvSpPr>
        <p:spPr>
          <a:xfrm>
            <a:off x="6432480" y="1460520"/>
            <a:ext cx="620280" cy="147240"/>
          </a:xfrm>
          <a:custGeom>
            <a:avLst/>
            <a:gdLst>
              <a:gd name="textAreaLeft" fmla="*/ 0 w 620280"/>
              <a:gd name="textAreaRight" fmla="*/ 620640 w 6202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990" h="236">
                <a:moveTo>
                  <a:pt x="423" y="67"/>
                </a:moveTo>
                <a:lnTo>
                  <a:pt x="452" y="59"/>
                </a:lnTo>
                <a:lnTo>
                  <a:pt x="479" y="52"/>
                </a:lnTo>
                <a:lnTo>
                  <a:pt x="506" y="44"/>
                </a:lnTo>
                <a:lnTo>
                  <a:pt x="531" y="36"/>
                </a:lnTo>
                <a:lnTo>
                  <a:pt x="556" y="31"/>
                </a:lnTo>
                <a:lnTo>
                  <a:pt x="581" y="25"/>
                </a:lnTo>
                <a:lnTo>
                  <a:pt x="604" y="21"/>
                </a:lnTo>
                <a:lnTo>
                  <a:pt x="627" y="17"/>
                </a:lnTo>
                <a:lnTo>
                  <a:pt x="648" y="13"/>
                </a:lnTo>
                <a:lnTo>
                  <a:pt x="669" y="9"/>
                </a:lnTo>
                <a:lnTo>
                  <a:pt x="688" y="6"/>
                </a:lnTo>
                <a:lnTo>
                  <a:pt x="707" y="4"/>
                </a:lnTo>
                <a:lnTo>
                  <a:pt x="725" y="2"/>
                </a:lnTo>
                <a:lnTo>
                  <a:pt x="742" y="2"/>
                </a:lnTo>
                <a:lnTo>
                  <a:pt x="757" y="0"/>
                </a:lnTo>
                <a:lnTo>
                  <a:pt x="773" y="0"/>
                </a:lnTo>
                <a:lnTo>
                  <a:pt x="788" y="0"/>
                </a:lnTo>
                <a:lnTo>
                  <a:pt x="802" y="0"/>
                </a:lnTo>
                <a:lnTo>
                  <a:pt x="815" y="0"/>
                </a:lnTo>
                <a:lnTo>
                  <a:pt x="829" y="2"/>
                </a:lnTo>
                <a:lnTo>
                  <a:pt x="840" y="2"/>
                </a:lnTo>
                <a:lnTo>
                  <a:pt x="852" y="2"/>
                </a:lnTo>
                <a:lnTo>
                  <a:pt x="863" y="4"/>
                </a:lnTo>
                <a:lnTo>
                  <a:pt x="875" y="4"/>
                </a:lnTo>
                <a:lnTo>
                  <a:pt x="884" y="6"/>
                </a:lnTo>
                <a:lnTo>
                  <a:pt x="894" y="8"/>
                </a:lnTo>
                <a:lnTo>
                  <a:pt x="904" y="8"/>
                </a:lnTo>
                <a:lnTo>
                  <a:pt x="911" y="9"/>
                </a:lnTo>
                <a:lnTo>
                  <a:pt x="919" y="11"/>
                </a:lnTo>
                <a:lnTo>
                  <a:pt x="927" y="13"/>
                </a:lnTo>
                <a:lnTo>
                  <a:pt x="934" y="15"/>
                </a:lnTo>
                <a:lnTo>
                  <a:pt x="940" y="17"/>
                </a:lnTo>
                <a:lnTo>
                  <a:pt x="952" y="23"/>
                </a:lnTo>
                <a:lnTo>
                  <a:pt x="961" y="29"/>
                </a:lnTo>
                <a:lnTo>
                  <a:pt x="971" y="36"/>
                </a:lnTo>
                <a:lnTo>
                  <a:pt x="977" y="44"/>
                </a:lnTo>
                <a:lnTo>
                  <a:pt x="982" y="54"/>
                </a:lnTo>
                <a:lnTo>
                  <a:pt x="986" y="63"/>
                </a:lnTo>
                <a:lnTo>
                  <a:pt x="990" y="75"/>
                </a:lnTo>
                <a:lnTo>
                  <a:pt x="990" y="86"/>
                </a:lnTo>
                <a:lnTo>
                  <a:pt x="990" y="90"/>
                </a:lnTo>
                <a:lnTo>
                  <a:pt x="990" y="92"/>
                </a:lnTo>
                <a:lnTo>
                  <a:pt x="988" y="96"/>
                </a:lnTo>
                <a:lnTo>
                  <a:pt x="986" y="98"/>
                </a:lnTo>
                <a:lnTo>
                  <a:pt x="984" y="102"/>
                </a:lnTo>
                <a:lnTo>
                  <a:pt x="981" y="106"/>
                </a:lnTo>
                <a:lnTo>
                  <a:pt x="979" y="108"/>
                </a:lnTo>
                <a:lnTo>
                  <a:pt x="975" y="111"/>
                </a:lnTo>
                <a:lnTo>
                  <a:pt x="971" y="113"/>
                </a:lnTo>
                <a:lnTo>
                  <a:pt x="965" y="117"/>
                </a:lnTo>
                <a:lnTo>
                  <a:pt x="961" y="121"/>
                </a:lnTo>
                <a:lnTo>
                  <a:pt x="956" y="123"/>
                </a:lnTo>
                <a:lnTo>
                  <a:pt x="950" y="127"/>
                </a:lnTo>
                <a:lnTo>
                  <a:pt x="942" y="129"/>
                </a:lnTo>
                <a:lnTo>
                  <a:pt x="936" y="133"/>
                </a:lnTo>
                <a:lnTo>
                  <a:pt x="929" y="136"/>
                </a:lnTo>
                <a:lnTo>
                  <a:pt x="921" y="138"/>
                </a:lnTo>
                <a:lnTo>
                  <a:pt x="911" y="142"/>
                </a:lnTo>
                <a:lnTo>
                  <a:pt x="904" y="146"/>
                </a:lnTo>
                <a:lnTo>
                  <a:pt x="894" y="148"/>
                </a:lnTo>
                <a:lnTo>
                  <a:pt x="882" y="152"/>
                </a:lnTo>
                <a:lnTo>
                  <a:pt x="873" y="154"/>
                </a:lnTo>
                <a:lnTo>
                  <a:pt x="861" y="158"/>
                </a:lnTo>
                <a:lnTo>
                  <a:pt x="850" y="161"/>
                </a:lnTo>
                <a:lnTo>
                  <a:pt x="838" y="163"/>
                </a:lnTo>
                <a:lnTo>
                  <a:pt x="827" y="167"/>
                </a:lnTo>
                <a:lnTo>
                  <a:pt x="813" y="171"/>
                </a:lnTo>
                <a:lnTo>
                  <a:pt x="800" y="173"/>
                </a:lnTo>
                <a:lnTo>
                  <a:pt x="786" y="177"/>
                </a:lnTo>
                <a:lnTo>
                  <a:pt x="773" y="181"/>
                </a:lnTo>
                <a:lnTo>
                  <a:pt x="757" y="183"/>
                </a:lnTo>
                <a:lnTo>
                  <a:pt x="742" y="186"/>
                </a:lnTo>
                <a:lnTo>
                  <a:pt x="711" y="192"/>
                </a:lnTo>
                <a:lnTo>
                  <a:pt x="681" y="198"/>
                </a:lnTo>
                <a:lnTo>
                  <a:pt x="652" y="204"/>
                </a:lnTo>
                <a:lnTo>
                  <a:pt x="623" y="208"/>
                </a:lnTo>
                <a:lnTo>
                  <a:pt x="594" y="213"/>
                </a:lnTo>
                <a:lnTo>
                  <a:pt x="565" y="217"/>
                </a:lnTo>
                <a:lnTo>
                  <a:pt x="538" y="221"/>
                </a:lnTo>
                <a:lnTo>
                  <a:pt x="513" y="223"/>
                </a:lnTo>
                <a:lnTo>
                  <a:pt x="486" y="227"/>
                </a:lnTo>
                <a:lnTo>
                  <a:pt x="461" y="229"/>
                </a:lnTo>
                <a:lnTo>
                  <a:pt x="438" y="231"/>
                </a:lnTo>
                <a:lnTo>
                  <a:pt x="413" y="233"/>
                </a:lnTo>
                <a:lnTo>
                  <a:pt x="390" y="235"/>
                </a:lnTo>
                <a:lnTo>
                  <a:pt x="367" y="236"/>
                </a:lnTo>
                <a:lnTo>
                  <a:pt x="346" y="236"/>
                </a:lnTo>
                <a:lnTo>
                  <a:pt x="325" y="236"/>
                </a:lnTo>
                <a:lnTo>
                  <a:pt x="304" y="236"/>
                </a:lnTo>
                <a:lnTo>
                  <a:pt x="284" y="236"/>
                </a:lnTo>
                <a:lnTo>
                  <a:pt x="265" y="236"/>
                </a:lnTo>
                <a:lnTo>
                  <a:pt x="246" y="235"/>
                </a:lnTo>
                <a:lnTo>
                  <a:pt x="229" y="235"/>
                </a:lnTo>
                <a:lnTo>
                  <a:pt x="211" y="233"/>
                </a:lnTo>
                <a:lnTo>
                  <a:pt x="194" y="233"/>
                </a:lnTo>
                <a:lnTo>
                  <a:pt x="179" y="231"/>
                </a:lnTo>
                <a:lnTo>
                  <a:pt x="163" y="231"/>
                </a:lnTo>
                <a:lnTo>
                  <a:pt x="150" y="229"/>
                </a:lnTo>
                <a:lnTo>
                  <a:pt x="136" y="227"/>
                </a:lnTo>
                <a:lnTo>
                  <a:pt x="125" y="225"/>
                </a:lnTo>
                <a:lnTo>
                  <a:pt x="111" y="223"/>
                </a:lnTo>
                <a:lnTo>
                  <a:pt x="102" y="221"/>
                </a:lnTo>
                <a:lnTo>
                  <a:pt x="90" y="219"/>
                </a:lnTo>
                <a:lnTo>
                  <a:pt x="81" y="217"/>
                </a:lnTo>
                <a:lnTo>
                  <a:pt x="71" y="215"/>
                </a:lnTo>
                <a:lnTo>
                  <a:pt x="63" y="211"/>
                </a:lnTo>
                <a:lnTo>
                  <a:pt x="56" y="210"/>
                </a:lnTo>
                <a:lnTo>
                  <a:pt x="48" y="208"/>
                </a:lnTo>
                <a:lnTo>
                  <a:pt x="40" y="206"/>
                </a:lnTo>
                <a:lnTo>
                  <a:pt x="34" y="202"/>
                </a:lnTo>
                <a:lnTo>
                  <a:pt x="29" y="200"/>
                </a:lnTo>
                <a:lnTo>
                  <a:pt x="23" y="198"/>
                </a:lnTo>
                <a:lnTo>
                  <a:pt x="19" y="196"/>
                </a:lnTo>
                <a:lnTo>
                  <a:pt x="13" y="194"/>
                </a:lnTo>
                <a:lnTo>
                  <a:pt x="9" y="190"/>
                </a:lnTo>
                <a:lnTo>
                  <a:pt x="8" y="188"/>
                </a:lnTo>
                <a:lnTo>
                  <a:pt x="4" y="186"/>
                </a:lnTo>
                <a:lnTo>
                  <a:pt x="2" y="185"/>
                </a:lnTo>
                <a:lnTo>
                  <a:pt x="2" y="181"/>
                </a:lnTo>
                <a:lnTo>
                  <a:pt x="0" y="179"/>
                </a:lnTo>
                <a:lnTo>
                  <a:pt x="0" y="177"/>
                </a:lnTo>
                <a:lnTo>
                  <a:pt x="0" y="175"/>
                </a:lnTo>
                <a:lnTo>
                  <a:pt x="2" y="173"/>
                </a:lnTo>
                <a:lnTo>
                  <a:pt x="4" y="171"/>
                </a:lnTo>
                <a:lnTo>
                  <a:pt x="6" y="169"/>
                </a:lnTo>
                <a:lnTo>
                  <a:pt x="9" y="167"/>
                </a:lnTo>
                <a:lnTo>
                  <a:pt x="15" y="165"/>
                </a:lnTo>
                <a:lnTo>
                  <a:pt x="21" y="163"/>
                </a:lnTo>
                <a:lnTo>
                  <a:pt x="27" y="161"/>
                </a:lnTo>
                <a:lnTo>
                  <a:pt x="34" y="160"/>
                </a:lnTo>
                <a:lnTo>
                  <a:pt x="42" y="158"/>
                </a:lnTo>
                <a:lnTo>
                  <a:pt x="50" y="156"/>
                </a:lnTo>
                <a:lnTo>
                  <a:pt x="59" y="154"/>
                </a:lnTo>
                <a:lnTo>
                  <a:pt x="71" y="152"/>
                </a:lnTo>
                <a:lnTo>
                  <a:pt x="82" y="150"/>
                </a:lnTo>
                <a:lnTo>
                  <a:pt x="94" y="148"/>
                </a:lnTo>
                <a:lnTo>
                  <a:pt x="107" y="146"/>
                </a:lnTo>
                <a:lnTo>
                  <a:pt x="121" y="144"/>
                </a:lnTo>
                <a:lnTo>
                  <a:pt x="136" y="142"/>
                </a:lnTo>
                <a:lnTo>
                  <a:pt x="152" y="138"/>
                </a:lnTo>
                <a:lnTo>
                  <a:pt x="169" y="134"/>
                </a:lnTo>
                <a:lnTo>
                  <a:pt x="186" y="131"/>
                </a:lnTo>
                <a:lnTo>
                  <a:pt x="206" y="127"/>
                </a:lnTo>
                <a:lnTo>
                  <a:pt x="225" y="123"/>
                </a:lnTo>
                <a:lnTo>
                  <a:pt x="246" y="117"/>
                </a:lnTo>
                <a:lnTo>
                  <a:pt x="269" y="111"/>
                </a:lnTo>
                <a:lnTo>
                  <a:pt x="292" y="106"/>
                </a:lnTo>
                <a:lnTo>
                  <a:pt x="315" y="98"/>
                </a:lnTo>
                <a:lnTo>
                  <a:pt x="340" y="90"/>
                </a:lnTo>
                <a:lnTo>
                  <a:pt x="367" y="84"/>
                </a:lnTo>
                <a:lnTo>
                  <a:pt x="394" y="75"/>
                </a:lnTo>
                <a:lnTo>
                  <a:pt x="423" y="67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6649920" y="1219320"/>
            <a:ext cx="866520" cy="1712520"/>
          </a:xfrm>
          <a:custGeom>
            <a:avLst/>
            <a:gdLst>
              <a:gd name="textAreaLeft" fmla="*/ 0 w 866520"/>
              <a:gd name="textAreaRight" fmla="*/ 866880 w 866520"/>
              <a:gd name="textAreaTop" fmla="*/ 0 h 1712520"/>
              <a:gd name="textAreaBottom" fmla="*/ 1712880 h 1712520"/>
            </a:gdLst>
            <a:ahLst/>
            <a:rect l="textAreaLeft" t="textAreaTop" r="textAreaRight" b="textAreaBottom"/>
            <a:pathLst>
              <a:path w="1383" h="2728">
                <a:moveTo>
                  <a:pt x="246" y="2618"/>
                </a:moveTo>
                <a:lnTo>
                  <a:pt x="219" y="2634"/>
                </a:lnTo>
                <a:lnTo>
                  <a:pt x="192" y="2649"/>
                </a:lnTo>
                <a:lnTo>
                  <a:pt x="169" y="2663"/>
                </a:lnTo>
                <a:lnTo>
                  <a:pt x="146" y="2674"/>
                </a:lnTo>
                <a:lnTo>
                  <a:pt x="125" y="2686"/>
                </a:lnTo>
                <a:lnTo>
                  <a:pt x="106" y="2695"/>
                </a:lnTo>
                <a:lnTo>
                  <a:pt x="88" y="2703"/>
                </a:lnTo>
                <a:lnTo>
                  <a:pt x="73" y="2711"/>
                </a:lnTo>
                <a:lnTo>
                  <a:pt x="58" y="2717"/>
                </a:lnTo>
                <a:lnTo>
                  <a:pt x="46" y="2720"/>
                </a:lnTo>
                <a:lnTo>
                  <a:pt x="35" y="2724"/>
                </a:lnTo>
                <a:lnTo>
                  <a:pt x="25" y="2728"/>
                </a:lnTo>
                <a:lnTo>
                  <a:pt x="17" y="2728"/>
                </a:lnTo>
                <a:lnTo>
                  <a:pt x="10" y="2728"/>
                </a:lnTo>
                <a:lnTo>
                  <a:pt x="6" y="2726"/>
                </a:lnTo>
                <a:lnTo>
                  <a:pt x="2" y="2724"/>
                </a:lnTo>
                <a:lnTo>
                  <a:pt x="0" y="2720"/>
                </a:lnTo>
                <a:lnTo>
                  <a:pt x="0" y="2717"/>
                </a:lnTo>
                <a:lnTo>
                  <a:pt x="2" y="2711"/>
                </a:lnTo>
                <a:lnTo>
                  <a:pt x="6" y="2705"/>
                </a:lnTo>
                <a:lnTo>
                  <a:pt x="11" y="2697"/>
                </a:lnTo>
                <a:lnTo>
                  <a:pt x="19" y="2688"/>
                </a:lnTo>
                <a:lnTo>
                  <a:pt x="27" y="2678"/>
                </a:lnTo>
                <a:lnTo>
                  <a:pt x="36" y="2668"/>
                </a:lnTo>
                <a:lnTo>
                  <a:pt x="48" y="2657"/>
                </a:lnTo>
                <a:lnTo>
                  <a:pt x="61" y="2645"/>
                </a:lnTo>
                <a:lnTo>
                  <a:pt x="77" y="2632"/>
                </a:lnTo>
                <a:lnTo>
                  <a:pt x="94" y="2616"/>
                </a:lnTo>
                <a:lnTo>
                  <a:pt x="111" y="2601"/>
                </a:lnTo>
                <a:lnTo>
                  <a:pt x="133" y="2586"/>
                </a:lnTo>
                <a:lnTo>
                  <a:pt x="154" y="2568"/>
                </a:lnTo>
                <a:lnTo>
                  <a:pt x="177" y="2549"/>
                </a:lnTo>
                <a:lnTo>
                  <a:pt x="202" y="2530"/>
                </a:lnTo>
                <a:lnTo>
                  <a:pt x="225" y="2511"/>
                </a:lnTo>
                <a:lnTo>
                  <a:pt x="250" y="2491"/>
                </a:lnTo>
                <a:lnTo>
                  <a:pt x="273" y="2470"/>
                </a:lnTo>
                <a:lnTo>
                  <a:pt x="298" y="2449"/>
                </a:lnTo>
                <a:lnTo>
                  <a:pt x="323" y="2426"/>
                </a:lnTo>
                <a:lnTo>
                  <a:pt x="348" y="2405"/>
                </a:lnTo>
                <a:lnTo>
                  <a:pt x="371" y="2380"/>
                </a:lnTo>
                <a:lnTo>
                  <a:pt x="396" y="2357"/>
                </a:lnTo>
                <a:lnTo>
                  <a:pt x="421" y="2332"/>
                </a:lnTo>
                <a:lnTo>
                  <a:pt x="446" y="2307"/>
                </a:lnTo>
                <a:lnTo>
                  <a:pt x="469" y="2280"/>
                </a:lnTo>
                <a:lnTo>
                  <a:pt x="494" y="2255"/>
                </a:lnTo>
                <a:lnTo>
                  <a:pt x="519" y="2226"/>
                </a:lnTo>
                <a:lnTo>
                  <a:pt x="544" y="2199"/>
                </a:lnTo>
                <a:lnTo>
                  <a:pt x="569" y="2170"/>
                </a:lnTo>
                <a:lnTo>
                  <a:pt x="594" y="2141"/>
                </a:lnTo>
                <a:lnTo>
                  <a:pt x="617" y="2110"/>
                </a:lnTo>
                <a:lnTo>
                  <a:pt x="642" y="2080"/>
                </a:lnTo>
                <a:lnTo>
                  <a:pt x="665" y="2047"/>
                </a:lnTo>
                <a:lnTo>
                  <a:pt x="686" y="2014"/>
                </a:lnTo>
                <a:lnTo>
                  <a:pt x="710" y="1982"/>
                </a:lnTo>
                <a:lnTo>
                  <a:pt x="731" y="1947"/>
                </a:lnTo>
                <a:lnTo>
                  <a:pt x="752" y="1912"/>
                </a:lnTo>
                <a:lnTo>
                  <a:pt x="771" y="1876"/>
                </a:lnTo>
                <a:lnTo>
                  <a:pt x="792" y="1839"/>
                </a:lnTo>
                <a:lnTo>
                  <a:pt x="811" y="1801"/>
                </a:lnTo>
                <a:lnTo>
                  <a:pt x="829" y="1762"/>
                </a:lnTo>
                <a:lnTo>
                  <a:pt x="848" y="1722"/>
                </a:lnTo>
                <a:lnTo>
                  <a:pt x="865" y="1681"/>
                </a:lnTo>
                <a:lnTo>
                  <a:pt x="883" y="1639"/>
                </a:lnTo>
                <a:lnTo>
                  <a:pt x="900" y="1597"/>
                </a:lnTo>
                <a:lnTo>
                  <a:pt x="915" y="1554"/>
                </a:lnTo>
                <a:lnTo>
                  <a:pt x="931" y="1510"/>
                </a:lnTo>
                <a:lnTo>
                  <a:pt x="946" y="1466"/>
                </a:lnTo>
                <a:lnTo>
                  <a:pt x="961" y="1420"/>
                </a:lnTo>
                <a:lnTo>
                  <a:pt x="975" y="1376"/>
                </a:lnTo>
                <a:lnTo>
                  <a:pt x="988" y="1329"/>
                </a:lnTo>
                <a:lnTo>
                  <a:pt x="1002" y="1281"/>
                </a:lnTo>
                <a:lnTo>
                  <a:pt x="1015" y="1235"/>
                </a:lnTo>
                <a:lnTo>
                  <a:pt x="1027" y="1187"/>
                </a:lnTo>
                <a:lnTo>
                  <a:pt x="1038" y="1137"/>
                </a:lnTo>
                <a:lnTo>
                  <a:pt x="1050" y="1087"/>
                </a:lnTo>
                <a:lnTo>
                  <a:pt x="1061" y="1037"/>
                </a:lnTo>
                <a:lnTo>
                  <a:pt x="1071" y="987"/>
                </a:lnTo>
                <a:lnTo>
                  <a:pt x="1081" y="935"/>
                </a:lnTo>
                <a:lnTo>
                  <a:pt x="1090" y="883"/>
                </a:lnTo>
                <a:lnTo>
                  <a:pt x="1098" y="831"/>
                </a:lnTo>
                <a:lnTo>
                  <a:pt x="1102" y="804"/>
                </a:lnTo>
                <a:lnTo>
                  <a:pt x="1106" y="779"/>
                </a:lnTo>
                <a:lnTo>
                  <a:pt x="1109" y="754"/>
                </a:lnTo>
                <a:lnTo>
                  <a:pt x="1113" y="729"/>
                </a:lnTo>
                <a:lnTo>
                  <a:pt x="1117" y="706"/>
                </a:lnTo>
                <a:lnTo>
                  <a:pt x="1121" y="683"/>
                </a:lnTo>
                <a:lnTo>
                  <a:pt x="1125" y="660"/>
                </a:lnTo>
                <a:lnTo>
                  <a:pt x="1127" y="637"/>
                </a:lnTo>
                <a:lnTo>
                  <a:pt x="1131" y="616"/>
                </a:lnTo>
                <a:lnTo>
                  <a:pt x="1133" y="594"/>
                </a:lnTo>
                <a:lnTo>
                  <a:pt x="1136" y="575"/>
                </a:lnTo>
                <a:lnTo>
                  <a:pt x="1138" y="554"/>
                </a:lnTo>
                <a:lnTo>
                  <a:pt x="1140" y="535"/>
                </a:lnTo>
                <a:lnTo>
                  <a:pt x="1142" y="516"/>
                </a:lnTo>
                <a:lnTo>
                  <a:pt x="1146" y="498"/>
                </a:lnTo>
                <a:lnTo>
                  <a:pt x="1148" y="481"/>
                </a:lnTo>
                <a:lnTo>
                  <a:pt x="1148" y="464"/>
                </a:lnTo>
                <a:lnTo>
                  <a:pt x="1150" y="446"/>
                </a:lnTo>
                <a:lnTo>
                  <a:pt x="1152" y="431"/>
                </a:lnTo>
                <a:lnTo>
                  <a:pt x="1154" y="416"/>
                </a:lnTo>
                <a:lnTo>
                  <a:pt x="1154" y="402"/>
                </a:lnTo>
                <a:lnTo>
                  <a:pt x="1156" y="387"/>
                </a:lnTo>
                <a:lnTo>
                  <a:pt x="1156" y="373"/>
                </a:lnTo>
                <a:lnTo>
                  <a:pt x="1156" y="360"/>
                </a:lnTo>
                <a:lnTo>
                  <a:pt x="1158" y="348"/>
                </a:lnTo>
                <a:lnTo>
                  <a:pt x="1158" y="337"/>
                </a:lnTo>
                <a:lnTo>
                  <a:pt x="1158" y="325"/>
                </a:lnTo>
                <a:lnTo>
                  <a:pt x="1158" y="314"/>
                </a:lnTo>
                <a:lnTo>
                  <a:pt x="1158" y="304"/>
                </a:lnTo>
                <a:lnTo>
                  <a:pt x="1158" y="294"/>
                </a:lnTo>
                <a:lnTo>
                  <a:pt x="1156" y="285"/>
                </a:lnTo>
                <a:lnTo>
                  <a:pt x="1156" y="277"/>
                </a:lnTo>
                <a:lnTo>
                  <a:pt x="1154" y="262"/>
                </a:lnTo>
                <a:lnTo>
                  <a:pt x="1152" y="244"/>
                </a:lnTo>
                <a:lnTo>
                  <a:pt x="1150" y="231"/>
                </a:lnTo>
                <a:lnTo>
                  <a:pt x="1148" y="215"/>
                </a:lnTo>
                <a:lnTo>
                  <a:pt x="1144" y="202"/>
                </a:lnTo>
                <a:lnTo>
                  <a:pt x="1142" y="190"/>
                </a:lnTo>
                <a:lnTo>
                  <a:pt x="1140" y="177"/>
                </a:lnTo>
                <a:lnTo>
                  <a:pt x="1136" y="165"/>
                </a:lnTo>
                <a:lnTo>
                  <a:pt x="1133" y="154"/>
                </a:lnTo>
                <a:lnTo>
                  <a:pt x="1131" y="144"/>
                </a:lnTo>
                <a:lnTo>
                  <a:pt x="1127" y="135"/>
                </a:lnTo>
                <a:lnTo>
                  <a:pt x="1123" y="125"/>
                </a:lnTo>
                <a:lnTo>
                  <a:pt x="1119" y="117"/>
                </a:lnTo>
                <a:lnTo>
                  <a:pt x="1115" y="110"/>
                </a:lnTo>
                <a:lnTo>
                  <a:pt x="1109" y="102"/>
                </a:lnTo>
                <a:lnTo>
                  <a:pt x="1106" y="96"/>
                </a:lnTo>
                <a:lnTo>
                  <a:pt x="1098" y="83"/>
                </a:lnTo>
                <a:lnTo>
                  <a:pt x="1090" y="71"/>
                </a:lnTo>
                <a:lnTo>
                  <a:pt x="1084" y="60"/>
                </a:lnTo>
                <a:lnTo>
                  <a:pt x="1083" y="50"/>
                </a:lnTo>
                <a:lnTo>
                  <a:pt x="1081" y="40"/>
                </a:lnTo>
                <a:lnTo>
                  <a:pt x="1081" y="31"/>
                </a:lnTo>
                <a:lnTo>
                  <a:pt x="1081" y="27"/>
                </a:lnTo>
                <a:lnTo>
                  <a:pt x="1083" y="23"/>
                </a:lnTo>
                <a:lnTo>
                  <a:pt x="1084" y="19"/>
                </a:lnTo>
                <a:lnTo>
                  <a:pt x="1086" y="15"/>
                </a:lnTo>
                <a:lnTo>
                  <a:pt x="1088" y="12"/>
                </a:lnTo>
                <a:lnTo>
                  <a:pt x="1092" y="8"/>
                </a:lnTo>
                <a:lnTo>
                  <a:pt x="1096" y="6"/>
                </a:lnTo>
                <a:lnTo>
                  <a:pt x="1102" y="4"/>
                </a:lnTo>
                <a:lnTo>
                  <a:pt x="1108" y="2"/>
                </a:lnTo>
                <a:lnTo>
                  <a:pt x="1113" y="2"/>
                </a:lnTo>
                <a:lnTo>
                  <a:pt x="1121" y="0"/>
                </a:lnTo>
                <a:lnTo>
                  <a:pt x="1129" y="2"/>
                </a:lnTo>
                <a:lnTo>
                  <a:pt x="1138" y="2"/>
                </a:lnTo>
                <a:lnTo>
                  <a:pt x="1148" y="2"/>
                </a:lnTo>
                <a:lnTo>
                  <a:pt x="1159" y="4"/>
                </a:lnTo>
                <a:lnTo>
                  <a:pt x="1169" y="8"/>
                </a:lnTo>
                <a:lnTo>
                  <a:pt x="1183" y="10"/>
                </a:lnTo>
                <a:lnTo>
                  <a:pt x="1194" y="13"/>
                </a:lnTo>
                <a:lnTo>
                  <a:pt x="1209" y="17"/>
                </a:lnTo>
                <a:lnTo>
                  <a:pt x="1223" y="21"/>
                </a:lnTo>
                <a:lnTo>
                  <a:pt x="1238" y="25"/>
                </a:lnTo>
                <a:lnTo>
                  <a:pt x="1252" y="31"/>
                </a:lnTo>
                <a:lnTo>
                  <a:pt x="1263" y="35"/>
                </a:lnTo>
                <a:lnTo>
                  <a:pt x="1277" y="40"/>
                </a:lnTo>
                <a:lnTo>
                  <a:pt x="1288" y="44"/>
                </a:lnTo>
                <a:lnTo>
                  <a:pt x="1298" y="50"/>
                </a:lnTo>
                <a:lnTo>
                  <a:pt x="1309" y="54"/>
                </a:lnTo>
                <a:lnTo>
                  <a:pt x="1319" y="60"/>
                </a:lnTo>
                <a:lnTo>
                  <a:pt x="1327" y="63"/>
                </a:lnTo>
                <a:lnTo>
                  <a:pt x="1334" y="67"/>
                </a:lnTo>
                <a:lnTo>
                  <a:pt x="1342" y="73"/>
                </a:lnTo>
                <a:lnTo>
                  <a:pt x="1348" y="77"/>
                </a:lnTo>
                <a:lnTo>
                  <a:pt x="1354" y="83"/>
                </a:lnTo>
                <a:lnTo>
                  <a:pt x="1359" y="87"/>
                </a:lnTo>
                <a:lnTo>
                  <a:pt x="1363" y="92"/>
                </a:lnTo>
                <a:lnTo>
                  <a:pt x="1367" y="96"/>
                </a:lnTo>
                <a:lnTo>
                  <a:pt x="1373" y="106"/>
                </a:lnTo>
                <a:lnTo>
                  <a:pt x="1377" y="117"/>
                </a:lnTo>
                <a:lnTo>
                  <a:pt x="1379" y="127"/>
                </a:lnTo>
                <a:lnTo>
                  <a:pt x="1383" y="140"/>
                </a:lnTo>
                <a:lnTo>
                  <a:pt x="1383" y="152"/>
                </a:lnTo>
                <a:lnTo>
                  <a:pt x="1383" y="165"/>
                </a:lnTo>
                <a:lnTo>
                  <a:pt x="1381" y="179"/>
                </a:lnTo>
                <a:lnTo>
                  <a:pt x="1379" y="194"/>
                </a:lnTo>
                <a:lnTo>
                  <a:pt x="1377" y="204"/>
                </a:lnTo>
                <a:lnTo>
                  <a:pt x="1375" y="214"/>
                </a:lnTo>
                <a:lnTo>
                  <a:pt x="1373" y="225"/>
                </a:lnTo>
                <a:lnTo>
                  <a:pt x="1371" y="239"/>
                </a:lnTo>
                <a:lnTo>
                  <a:pt x="1369" y="254"/>
                </a:lnTo>
                <a:lnTo>
                  <a:pt x="1367" y="269"/>
                </a:lnTo>
                <a:lnTo>
                  <a:pt x="1365" y="289"/>
                </a:lnTo>
                <a:lnTo>
                  <a:pt x="1361" y="308"/>
                </a:lnTo>
                <a:lnTo>
                  <a:pt x="1359" y="329"/>
                </a:lnTo>
                <a:lnTo>
                  <a:pt x="1356" y="350"/>
                </a:lnTo>
                <a:lnTo>
                  <a:pt x="1352" y="375"/>
                </a:lnTo>
                <a:lnTo>
                  <a:pt x="1350" y="400"/>
                </a:lnTo>
                <a:lnTo>
                  <a:pt x="1346" y="429"/>
                </a:lnTo>
                <a:lnTo>
                  <a:pt x="1342" y="458"/>
                </a:lnTo>
                <a:lnTo>
                  <a:pt x="1338" y="487"/>
                </a:lnTo>
                <a:lnTo>
                  <a:pt x="1334" y="519"/>
                </a:lnTo>
                <a:lnTo>
                  <a:pt x="1331" y="552"/>
                </a:lnTo>
                <a:lnTo>
                  <a:pt x="1327" y="587"/>
                </a:lnTo>
                <a:lnTo>
                  <a:pt x="1321" y="621"/>
                </a:lnTo>
                <a:lnTo>
                  <a:pt x="1315" y="656"/>
                </a:lnTo>
                <a:lnTo>
                  <a:pt x="1309" y="693"/>
                </a:lnTo>
                <a:lnTo>
                  <a:pt x="1304" y="729"/>
                </a:lnTo>
                <a:lnTo>
                  <a:pt x="1298" y="768"/>
                </a:lnTo>
                <a:lnTo>
                  <a:pt x="1290" y="806"/>
                </a:lnTo>
                <a:lnTo>
                  <a:pt x="1283" y="845"/>
                </a:lnTo>
                <a:lnTo>
                  <a:pt x="1275" y="885"/>
                </a:lnTo>
                <a:lnTo>
                  <a:pt x="1265" y="925"/>
                </a:lnTo>
                <a:lnTo>
                  <a:pt x="1258" y="968"/>
                </a:lnTo>
                <a:lnTo>
                  <a:pt x="1248" y="1010"/>
                </a:lnTo>
                <a:lnTo>
                  <a:pt x="1238" y="1054"/>
                </a:lnTo>
                <a:lnTo>
                  <a:pt x="1229" y="1099"/>
                </a:lnTo>
                <a:lnTo>
                  <a:pt x="1217" y="1143"/>
                </a:lnTo>
                <a:lnTo>
                  <a:pt x="1206" y="1187"/>
                </a:lnTo>
                <a:lnTo>
                  <a:pt x="1194" y="1231"/>
                </a:lnTo>
                <a:lnTo>
                  <a:pt x="1183" y="1276"/>
                </a:lnTo>
                <a:lnTo>
                  <a:pt x="1171" y="1318"/>
                </a:lnTo>
                <a:lnTo>
                  <a:pt x="1159" y="1360"/>
                </a:lnTo>
                <a:lnTo>
                  <a:pt x="1146" y="1401"/>
                </a:lnTo>
                <a:lnTo>
                  <a:pt x="1134" y="1441"/>
                </a:lnTo>
                <a:lnTo>
                  <a:pt x="1121" y="1481"/>
                </a:lnTo>
                <a:lnTo>
                  <a:pt x="1108" y="1520"/>
                </a:lnTo>
                <a:lnTo>
                  <a:pt x="1094" y="1558"/>
                </a:lnTo>
                <a:lnTo>
                  <a:pt x="1081" y="1595"/>
                </a:lnTo>
                <a:lnTo>
                  <a:pt x="1065" y="1631"/>
                </a:lnTo>
                <a:lnTo>
                  <a:pt x="1052" y="1668"/>
                </a:lnTo>
                <a:lnTo>
                  <a:pt x="1036" y="1703"/>
                </a:lnTo>
                <a:lnTo>
                  <a:pt x="1021" y="1737"/>
                </a:lnTo>
                <a:lnTo>
                  <a:pt x="1006" y="1772"/>
                </a:lnTo>
                <a:lnTo>
                  <a:pt x="990" y="1805"/>
                </a:lnTo>
                <a:lnTo>
                  <a:pt x="973" y="1839"/>
                </a:lnTo>
                <a:lnTo>
                  <a:pt x="956" y="1870"/>
                </a:lnTo>
                <a:lnTo>
                  <a:pt x="938" y="1903"/>
                </a:lnTo>
                <a:lnTo>
                  <a:pt x="919" y="1935"/>
                </a:lnTo>
                <a:lnTo>
                  <a:pt x="900" y="1966"/>
                </a:lnTo>
                <a:lnTo>
                  <a:pt x="881" y="1999"/>
                </a:lnTo>
                <a:lnTo>
                  <a:pt x="861" y="2030"/>
                </a:lnTo>
                <a:lnTo>
                  <a:pt x="840" y="2060"/>
                </a:lnTo>
                <a:lnTo>
                  <a:pt x="817" y="2089"/>
                </a:lnTo>
                <a:lnTo>
                  <a:pt x="796" y="2120"/>
                </a:lnTo>
                <a:lnTo>
                  <a:pt x="773" y="2149"/>
                </a:lnTo>
                <a:lnTo>
                  <a:pt x="750" y="2178"/>
                </a:lnTo>
                <a:lnTo>
                  <a:pt x="725" y="2207"/>
                </a:lnTo>
                <a:lnTo>
                  <a:pt x="700" y="2236"/>
                </a:lnTo>
                <a:lnTo>
                  <a:pt x="675" y="2264"/>
                </a:lnTo>
                <a:lnTo>
                  <a:pt x="650" y="2291"/>
                </a:lnTo>
                <a:lnTo>
                  <a:pt x="623" y="2318"/>
                </a:lnTo>
                <a:lnTo>
                  <a:pt x="598" y="2345"/>
                </a:lnTo>
                <a:lnTo>
                  <a:pt x="571" y="2370"/>
                </a:lnTo>
                <a:lnTo>
                  <a:pt x="546" y="2395"/>
                </a:lnTo>
                <a:lnTo>
                  <a:pt x="519" y="2418"/>
                </a:lnTo>
                <a:lnTo>
                  <a:pt x="492" y="2441"/>
                </a:lnTo>
                <a:lnTo>
                  <a:pt x="465" y="2464"/>
                </a:lnTo>
                <a:lnTo>
                  <a:pt x="438" y="2486"/>
                </a:lnTo>
                <a:lnTo>
                  <a:pt x="411" y="2507"/>
                </a:lnTo>
                <a:lnTo>
                  <a:pt x="385" y="2528"/>
                </a:lnTo>
                <a:lnTo>
                  <a:pt x="358" y="2547"/>
                </a:lnTo>
                <a:lnTo>
                  <a:pt x="329" y="2566"/>
                </a:lnTo>
                <a:lnTo>
                  <a:pt x="302" y="2584"/>
                </a:lnTo>
                <a:lnTo>
                  <a:pt x="275" y="2601"/>
                </a:lnTo>
                <a:lnTo>
                  <a:pt x="246" y="2618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med">
    <p:pull dir="l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4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3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35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4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3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4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3" descr=""/>
          <p:cNvPicPr/>
          <p:nvPr/>
        </p:nvPicPr>
        <p:blipFill>
          <a:blip r:embed="rId1"/>
          <a:stretch/>
        </p:blipFill>
        <p:spPr>
          <a:xfrm>
            <a:off x="6002280" y="727200"/>
            <a:ext cx="2277720" cy="2276280"/>
          </a:xfrm>
          <a:prstGeom prst="rect">
            <a:avLst/>
          </a:prstGeom>
          <a:ln w="0">
            <a:noFill/>
          </a:ln>
        </p:spPr>
      </p:pic>
      <p:sp>
        <p:nvSpPr>
          <p:cNvPr id="625" name="图片 2"/>
          <p:cNvSpPr/>
          <p:nvPr/>
        </p:nvSpPr>
        <p:spPr>
          <a:xfrm>
            <a:off x="3274920" y="1076760"/>
            <a:ext cx="1825560" cy="1592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441360" y="23763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9"/>
          <p:cNvSpPr/>
          <p:nvPr/>
        </p:nvSpPr>
        <p:spPr>
          <a:xfrm>
            <a:off x="441360" y="15494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0"/>
          <p:cNvSpPr/>
          <p:nvPr/>
        </p:nvSpPr>
        <p:spPr>
          <a:xfrm>
            <a:off x="441360" y="3203640"/>
            <a:ext cx="225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11"/>
          <p:cNvSpPr/>
          <p:nvPr/>
        </p:nvSpPr>
        <p:spPr>
          <a:xfrm>
            <a:off x="1690560" y="23763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独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12"/>
          <p:cNvSpPr/>
          <p:nvPr/>
        </p:nvSpPr>
        <p:spPr>
          <a:xfrm>
            <a:off x="1690560" y="154476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3"/>
          <p:cNvSpPr/>
          <p:nvPr/>
        </p:nvSpPr>
        <p:spPr>
          <a:xfrm>
            <a:off x="2309760" y="3195720"/>
            <a:ext cx="63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长横居上居中；“𠃌”起笔于田字格中心，长撇舒展，从首笔中部起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14"/>
          <p:cNvSpPr/>
          <p:nvPr/>
        </p:nvSpPr>
        <p:spPr>
          <a:xfrm>
            <a:off x="351000" y="79524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5"/>
          <p:cNvSpPr/>
          <p:nvPr/>
        </p:nvSpPr>
        <p:spPr>
          <a:xfrm>
            <a:off x="1579680" y="35712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任意多边形: 形状 24"/>
          <p:cNvSpPr/>
          <p:nvPr/>
        </p:nvSpPr>
        <p:spPr>
          <a:xfrm>
            <a:off x="7026120" y="2406600"/>
            <a:ext cx="202680" cy="212400"/>
          </a:xfrm>
          <a:custGeom>
            <a:avLst/>
            <a:gdLst>
              <a:gd name="textAreaLeft" fmla="*/ 0 w 202680"/>
              <a:gd name="textAreaRight" fmla="*/ 203040 w 2026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02237" h="212854">
                <a:moveTo>
                  <a:pt x="5176" y="0"/>
                </a:moveTo>
                <a:lnTo>
                  <a:pt x="8411" y="0"/>
                </a:lnTo>
                <a:lnTo>
                  <a:pt x="12293" y="0"/>
                </a:lnTo>
                <a:lnTo>
                  <a:pt x="16175" y="1293"/>
                </a:lnTo>
                <a:lnTo>
                  <a:pt x="21352" y="2586"/>
                </a:lnTo>
                <a:lnTo>
                  <a:pt x="27175" y="4525"/>
                </a:lnTo>
                <a:lnTo>
                  <a:pt x="33645" y="7111"/>
                </a:lnTo>
                <a:lnTo>
                  <a:pt x="40762" y="9696"/>
                </a:lnTo>
                <a:lnTo>
                  <a:pt x="48526" y="13575"/>
                </a:lnTo>
                <a:lnTo>
                  <a:pt x="56937" y="17453"/>
                </a:lnTo>
                <a:lnTo>
                  <a:pt x="65996" y="21978"/>
                </a:lnTo>
                <a:lnTo>
                  <a:pt x="75701" y="27150"/>
                </a:lnTo>
                <a:lnTo>
                  <a:pt x="87347" y="33614"/>
                </a:lnTo>
                <a:lnTo>
                  <a:pt x="98346" y="39431"/>
                </a:lnTo>
                <a:lnTo>
                  <a:pt x="109346" y="45896"/>
                </a:lnTo>
                <a:lnTo>
                  <a:pt x="121639" y="52360"/>
                </a:lnTo>
                <a:lnTo>
                  <a:pt x="133285" y="58177"/>
                </a:lnTo>
                <a:lnTo>
                  <a:pt x="142990" y="64642"/>
                </a:lnTo>
                <a:lnTo>
                  <a:pt x="153990" y="69167"/>
                </a:lnTo>
                <a:lnTo>
                  <a:pt x="164342" y="73045"/>
                </a:lnTo>
                <a:lnTo>
                  <a:pt x="172753" y="76923"/>
                </a:lnTo>
                <a:lnTo>
                  <a:pt x="181811" y="79509"/>
                </a:lnTo>
                <a:lnTo>
                  <a:pt x="190222" y="82095"/>
                </a:lnTo>
                <a:lnTo>
                  <a:pt x="197987" y="84680"/>
                </a:lnTo>
                <a:lnTo>
                  <a:pt x="202237" y="84680"/>
                </a:lnTo>
                <a:lnTo>
                  <a:pt x="131948" y="212854"/>
                </a:lnTo>
                <a:lnTo>
                  <a:pt x="130697" y="208792"/>
                </a:lnTo>
                <a:lnTo>
                  <a:pt x="128109" y="201035"/>
                </a:lnTo>
                <a:lnTo>
                  <a:pt x="125521" y="192632"/>
                </a:lnTo>
                <a:lnTo>
                  <a:pt x="120345" y="182936"/>
                </a:lnTo>
                <a:lnTo>
                  <a:pt x="117110" y="173886"/>
                </a:lnTo>
                <a:lnTo>
                  <a:pt x="110640" y="164190"/>
                </a:lnTo>
                <a:lnTo>
                  <a:pt x="105464" y="155140"/>
                </a:lnTo>
                <a:lnTo>
                  <a:pt x="98346" y="145444"/>
                </a:lnTo>
                <a:lnTo>
                  <a:pt x="91876" y="135101"/>
                </a:lnTo>
                <a:lnTo>
                  <a:pt x="83465" y="124112"/>
                </a:lnTo>
                <a:lnTo>
                  <a:pt x="74407" y="114416"/>
                </a:lnTo>
                <a:lnTo>
                  <a:pt x="65996" y="102780"/>
                </a:lnTo>
                <a:lnTo>
                  <a:pt x="56937" y="91791"/>
                </a:lnTo>
                <a:lnTo>
                  <a:pt x="48526" y="82095"/>
                </a:lnTo>
                <a:lnTo>
                  <a:pt x="39468" y="71752"/>
                </a:lnTo>
                <a:lnTo>
                  <a:pt x="33645" y="63349"/>
                </a:lnTo>
                <a:lnTo>
                  <a:pt x="25881" y="54299"/>
                </a:lnTo>
                <a:lnTo>
                  <a:pt x="21352" y="47188"/>
                </a:lnTo>
                <a:lnTo>
                  <a:pt x="16175" y="39431"/>
                </a:lnTo>
                <a:lnTo>
                  <a:pt x="10999" y="33614"/>
                </a:lnTo>
                <a:lnTo>
                  <a:pt x="7117" y="27150"/>
                </a:lnTo>
                <a:lnTo>
                  <a:pt x="5176" y="21978"/>
                </a:lnTo>
                <a:lnTo>
                  <a:pt x="2588" y="17453"/>
                </a:lnTo>
                <a:lnTo>
                  <a:pt x="0" y="12282"/>
                </a:lnTo>
                <a:lnTo>
                  <a:pt x="0" y="9696"/>
                </a:lnTo>
                <a:lnTo>
                  <a:pt x="0" y="5818"/>
                </a:lnTo>
                <a:lnTo>
                  <a:pt x="0" y="3232"/>
                </a:lnTo>
                <a:lnTo>
                  <a:pt x="1294" y="2586"/>
                </a:lnTo>
                <a:lnTo>
                  <a:pt x="2588" y="1293"/>
                </a:lnTo>
                <a:lnTo>
                  <a:pt x="5176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5" name="任意多边形: 形状 25"/>
          <p:cNvSpPr/>
          <p:nvPr/>
        </p:nvSpPr>
        <p:spPr>
          <a:xfrm>
            <a:off x="7159680" y="1859040"/>
            <a:ext cx="564840" cy="855360"/>
          </a:xfrm>
          <a:custGeom>
            <a:avLst/>
            <a:gdLst>
              <a:gd name="textAreaLeft" fmla="*/ 0 w 564840"/>
              <a:gd name="textAreaRight" fmla="*/ 565200 w 564840"/>
              <a:gd name="textAreaTop" fmla="*/ 0 h 855360"/>
              <a:gd name="textAreaBottom" fmla="*/ 855720 h 855360"/>
            </a:gdLst>
            <a:ahLst/>
            <a:rect l="textAreaLeft" t="textAreaTop" r="textAreaRight" b="textAreaBottom"/>
            <a:pathLst>
              <a:path w="566181" h="855514">
                <a:moveTo>
                  <a:pt x="560051" y="0"/>
                </a:moveTo>
                <a:lnTo>
                  <a:pt x="561005" y="953"/>
                </a:lnTo>
                <a:lnTo>
                  <a:pt x="563593" y="6124"/>
                </a:lnTo>
                <a:lnTo>
                  <a:pt x="564887" y="10003"/>
                </a:lnTo>
                <a:lnTo>
                  <a:pt x="566181" y="13235"/>
                </a:lnTo>
                <a:lnTo>
                  <a:pt x="566181" y="17114"/>
                </a:lnTo>
                <a:lnTo>
                  <a:pt x="566181" y="23578"/>
                </a:lnTo>
                <a:lnTo>
                  <a:pt x="563593" y="30688"/>
                </a:lnTo>
                <a:lnTo>
                  <a:pt x="561005" y="35860"/>
                </a:lnTo>
                <a:lnTo>
                  <a:pt x="557123" y="42324"/>
                </a:lnTo>
                <a:lnTo>
                  <a:pt x="553241" y="45556"/>
                </a:lnTo>
                <a:lnTo>
                  <a:pt x="547418" y="50727"/>
                </a:lnTo>
                <a:lnTo>
                  <a:pt x="540948" y="54606"/>
                </a:lnTo>
                <a:lnTo>
                  <a:pt x="533830" y="58484"/>
                </a:lnTo>
                <a:lnTo>
                  <a:pt x="529948" y="60423"/>
                </a:lnTo>
                <a:lnTo>
                  <a:pt x="526066" y="63009"/>
                </a:lnTo>
                <a:lnTo>
                  <a:pt x="520890" y="68180"/>
                </a:lnTo>
                <a:lnTo>
                  <a:pt x="517655" y="73352"/>
                </a:lnTo>
                <a:lnTo>
                  <a:pt x="512479" y="79169"/>
                </a:lnTo>
                <a:lnTo>
                  <a:pt x="508597" y="86926"/>
                </a:lnTo>
                <a:lnTo>
                  <a:pt x="504068" y="95330"/>
                </a:lnTo>
                <a:lnTo>
                  <a:pt x="500186" y="105672"/>
                </a:lnTo>
                <a:lnTo>
                  <a:pt x="495010" y="116661"/>
                </a:lnTo>
                <a:lnTo>
                  <a:pt x="489833" y="128943"/>
                </a:lnTo>
                <a:lnTo>
                  <a:pt x="485304" y="142518"/>
                </a:lnTo>
                <a:lnTo>
                  <a:pt x="481422" y="158032"/>
                </a:lnTo>
                <a:lnTo>
                  <a:pt x="476246" y="172900"/>
                </a:lnTo>
                <a:lnTo>
                  <a:pt x="471717" y="190353"/>
                </a:lnTo>
                <a:lnTo>
                  <a:pt x="466541" y="208452"/>
                </a:lnTo>
                <a:lnTo>
                  <a:pt x="461365" y="227198"/>
                </a:lnTo>
                <a:lnTo>
                  <a:pt x="456189" y="247237"/>
                </a:lnTo>
                <a:lnTo>
                  <a:pt x="450366" y="267276"/>
                </a:lnTo>
                <a:lnTo>
                  <a:pt x="443895" y="287315"/>
                </a:lnTo>
                <a:lnTo>
                  <a:pt x="438072" y="306708"/>
                </a:lnTo>
                <a:lnTo>
                  <a:pt x="430308" y="326746"/>
                </a:lnTo>
                <a:lnTo>
                  <a:pt x="423191" y="348078"/>
                </a:lnTo>
                <a:lnTo>
                  <a:pt x="415427" y="368117"/>
                </a:lnTo>
                <a:lnTo>
                  <a:pt x="407016" y="388802"/>
                </a:lnTo>
                <a:lnTo>
                  <a:pt x="397957" y="410134"/>
                </a:lnTo>
                <a:lnTo>
                  <a:pt x="388252" y="431466"/>
                </a:lnTo>
                <a:lnTo>
                  <a:pt x="379194" y="452151"/>
                </a:lnTo>
                <a:lnTo>
                  <a:pt x="369489" y="473483"/>
                </a:lnTo>
                <a:lnTo>
                  <a:pt x="358489" y="494814"/>
                </a:lnTo>
                <a:lnTo>
                  <a:pt x="346843" y="517439"/>
                </a:lnTo>
                <a:lnTo>
                  <a:pt x="335844" y="538124"/>
                </a:lnTo>
                <a:lnTo>
                  <a:pt x="324845" y="560749"/>
                </a:lnTo>
                <a:lnTo>
                  <a:pt x="311904" y="582081"/>
                </a:lnTo>
                <a:lnTo>
                  <a:pt x="300905" y="602766"/>
                </a:lnTo>
                <a:lnTo>
                  <a:pt x="288612" y="622805"/>
                </a:lnTo>
                <a:lnTo>
                  <a:pt x="277613" y="641551"/>
                </a:lnTo>
                <a:lnTo>
                  <a:pt x="264672" y="660297"/>
                </a:lnTo>
                <a:lnTo>
                  <a:pt x="253673" y="677750"/>
                </a:lnTo>
                <a:lnTo>
                  <a:pt x="242674" y="693910"/>
                </a:lnTo>
                <a:lnTo>
                  <a:pt x="231027" y="708778"/>
                </a:lnTo>
                <a:lnTo>
                  <a:pt x="220028" y="723645"/>
                </a:lnTo>
                <a:lnTo>
                  <a:pt x="209029" y="737220"/>
                </a:lnTo>
                <a:lnTo>
                  <a:pt x="198677" y="749502"/>
                </a:lnTo>
                <a:lnTo>
                  <a:pt x="187677" y="761138"/>
                </a:lnTo>
                <a:lnTo>
                  <a:pt x="177972" y="772127"/>
                </a:lnTo>
                <a:lnTo>
                  <a:pt x="166326" y="781823"/>
                </a:lnTo>
                <a:lnTo>
                  <a:pt x="156621" y="790873"/>
                </a:lnTo>
                <a:lnTo>
                  <a:pt x="146916" y="797983"/>
                </a:lnTo>
                <a:lnTo>
                  <a:pt x="136563" y="805740"/>
                </a:lnTo>
                <a:lnTo>
                  <a:pt x="126858" y="812851"/>
                </a:lnTo>
                <a:lnTo>
                  <a:pt x="117800" y="819315"/>
                </a:lnTo>
                <a:lnTo>
                  <a:pt x="109389" y="824486"/>
                </a:lnTo>
                <a:lnTo>
                  <a:pt x="100977" y="830304"/>
                </a:lnTo>
                <a:lnTo>
                  <a:pt x="93213" y="835475"/>
                </a:lnTo>
                <a:lnTo>
                  <a:pt x="84802" y="839354"/>
                </a:lnTo>
                <a:lnTo>
                  <a:pt x="77038" y="843232"/>
                </a:lnTo>
                <a:lnTo>
                  <a:pt x="70568" y="846464"/>
                </a:lnTo>
                <a:lnTo>
                  <a:pt x="63451" y="849050"/>
                </a:lnTo>
                <a:lnTo>
                  <a:pt x="56980" y="851636"/>
                </a:lnTo>
                <a:lnTo>
                  <a:pt x="51157" y="852928"/>
                </a:lnTo>
                <a:lnTo>
                  <a:pt x="44687" y="854221"/>
                </a:lnTo>
                <a:lnTo>
                  <a:pt x="39511" y="855514"/>
                </a:lnTo>
                <a:lnTo>
                  <a:pt x="34982" y="855514"/>
                </a:lnTo>
                <a:lnTo>
                  <a:pt x="29806" y="855514"/>
                </a:lnTo>
                <a:lnTo>
                  <a:pt x="25924" y="854221"/>
                </a:lnTo>
                <a:lnTo>
                  <a:pt x="20748" y="854221"/>
                </a:lnTo>
                <a:lnTo>
                  <a:pt x="18807" y="851636"/>
                </a:lnTo>
                <a:lnTo>
                  <a:pt x="14924" y="850343"/>
                </a:lnTo>
                <a:lnTo>
                  <a:pt x="11042" y="847757"/>
                </a:lnTo>
                <a:lnTo>
                  <a:pt x="8454" y="845172"/>
                </a:lnTo>
                <a:lnTo>
                  <a:pt x="7160" y="841939"/>
                </a:lnTo>
                <a:lnTo>
                  <a:pt x="4572" y="838061"/>
                </a:lnTo>
                <a:lnTo>
                  <a:pt x="3925" y="834182"/>
                </a:lnTo>
                <a:lnTo>
                  <a:pt x="2631" y="829011"/>
                </a:lnTo>
                <a:lnTo>
                  <a:pt x="1337" y="824486"/>
                </a:lnTo>
                <a:lnTo>
                  <a:pt x="1337" y="819315"/>
                </a:lnTo>
                <a:lnTo>
                  <a:pt x="1337" y="814144"/>
                </a:lnTo>
                <a:lnTo>
                  <a:pt x="1337" y="808326"/>
                </a:lnTo>
                <a:lnTo>
                  <a:pt x="1337" y="800569"/>
                </a:lnTo>
                <a:lnTo>
                  <a:pt x="2631" y="794751"/>
                </a:lnTo>
                <a:lnTo>
                  <a:pt x="3925" y="786994"/>
                </a:lnTo>
                <a:lnTo>
                  <a:pt x="2631" y="779237"/>
                </a:lnTo>
                <a:lnTo>
                  <a:pt x="2631" y="772127"/>
                </a:lnTo>
                <a:lnTo>
                  <a:pt x="1337" y="764370"/>
                </a:lnTo>
                <a:lnTo>
                  <a:pt x="0" y="760028"/>
                </a:lnTo>
                <a:lnTo>
                  <a:pt x="70289" y="631854"/>
                </a:lnTo>
                <a:lnTo>
                  <a:pt x="73156" y="631854"/>
                </a:lnTo>
                <a:lnTo>
                  <a:pt x="80920" y="632501"/>
                </a:lnTo>
                <a:lnTo>
                  <a:pt x="86743" y="632501"/>
                </a:lnTo>
                <a:lnTo>
                  <a:pt x="93213" y="631854"/>
                </a:lnTo>
                <a:lnTo>
                  <a:pt x="98389" y="630562"/>
                </a:lnTo>
                <a:lnTo>
                  <a:pt x="102919" y="627976"/>
                </a:lnTo>
                <a:lnTo>
                  <a:pt x="106801" y="625390"/>
                </a:lnTo>
                <a:lnTo>
                  <a:pt x="110683" y="621512"/>
                </a:lnTo>
                <a:lnTo>
                  <a:pt x="115859" y="617633"/>
                </a:lnTo>
                <a:lnTo>
                  <a:pt x="119094" y="613108"/>
                </a:lnTo>
                <a:lnTo>
                  <a:pt x="124270" y="607937"/>
                </a:lnTo>
                <a:lnTo>
                  <a:pt x="129446" y="601473"/>
                </a:lnTo>
                <a:lnTo>
                  <a:pt x="133975" y="595655"/>
                </a:lnTo>
                <a:lnTo>
                  <a:pt x="140445" y="587898"/>
                </a:lnTo>
                <a:lnTo>
                  <a:pt x="145622" y="579495"/>
                </a:lnTo>
                <a:lnTo>
                  <a:pt x="151445" y="570445"/>
                </a:lnTo>
                <a:lnTo>
                  <a:pt x="157915" y="560749"/>
                </a:lnTo>
                <a:lnTo>
                  <a:pt x="164385" y="550406"/>
                </a:lnTo>
                <a:lnTo>
                  <a:pt x="170208" y="539417"/>
                </a:lnTo>
                <a:lnTo>
                  <a:pt x="177972" y="528428"/>
                </a:lnTo>
                <a:lnTo>
                  <a:pt x="183795" y="516146"/>
                </a:lnTo>
                <a:lnTo>
                  <a:pt x="191560" y="501925"/>
                </a:lnTo>
                <a:lnTo>
                  <a:pt x="198677" y="488350"/>
                </a:lnTo>
                <a:lnTo>
                  <a:pt x="214205" y="459908"/>
                </a:lnTo>
                <a:lnTo>
                  <a:pt x="229086" y="431466"/>
                </a:lnTo>
                <a:lnTo>
                  <a:pt x="242674" y="401731"/>
                </a:lnTo>
                <a:lnTo>
                  <a:pt x="256261" y="371349"/>
                </a:lnTo>
                <a:lnTo>
                  <a:pt x="268554" y="340321"/>
                </a:lnTo>
                <a:lnTo>
                  <a:pt x="280848" y="308000"/>
                </a:lnTo>
                <a:lnTo>
                  <a:pt x="292494" y="275680"/>
                </a:lnTo>
                <a:lnTo>
                  <a:pt x="303493" y="243359"/>
                </a:lnTo>
                <a:lnTo>
                  <a:pt x="308669" y="227198"/>
                </a:lnTo>
                <a:lnTo>
                  <a:pt x="313198" y="211038"/>
                </a:lnTo>
                <a:lnTo>
                  <a:pt x="318374" y="196171"/>
                </a:lnTo>
                <a:lnTo>
                  <a:pt x="323551" y="181303"/>
                </a:lnTo>
                <a:lnTo>
                  <a:pt x="326786" y="167728"/>
                </a:lnTo>
                <a:lnTo>
                  <a:pt x="330668" y="155446"/>
                </a:lnTo>
                <a:lnTo>
                  <a:pt x="334550" y="142518"/>
                </a:lnTo>
                <a:lnTo>
                  <a:pt x="337138" y="130236"/>
                </a:lnTo>
                <a:lnTo>
                  <a:pt x="339726" y="119247"/>
                </a:lnTo>
                <a:lnTo>
                  <a:pt x="342314" y="108258"/>
                </a:lnTo>
                <a:lnTo>
                  <a:pt x="344255" y="97915"/>
                </a:lnTo>
                <a:lnTo>
                  <a:pt x="345549" y="89512"/>
                </a:lnTo>
                <a:lnTo>
                  <a:pt x="346843" y="80462"/>
                </a:lnTo>
                <a:lnTo>
                  <a:pt x="346843" y="73352"/>
                </a:lnTo>
                <a:lnTo>
                  <a:pt x="348137" y="65595"/>
                </a:lnTo>
                <a:lnTo>
                  <a:pt x="348137" y="58484"/>
                </a:lnTo>
                <a:lnTo>
                  <a:pt x="348137" y="45556"/>
                </a:lnTo>
                <a:lnTo>
                  <a:pt x="348137" y="34567"/>
                </a:lnTo>
                <a:lnTo>
                  <a:pt x="346843" y="29395"/>
                </a:lnTo>
                <a:lnTo>
                  <a:pt x="346843" y="24870"/>
                </a:lnTo>
                <a:lnTo>
                  <a:pt x="346843" y="19699"/>
                </a:lnTo>
                <a:lnTo>
                  <a:pt x="346843" y="15821"/>
                </a:lnTo>
                <a:lnTo>
                  <a:pt x="346097" y="13584"/>
                </a:lnTo>
                <a:lnTo>
                  <a:pt x="560051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6" name="任意多边形: 形状 26"/>
          <p:cNvSpPr/>
          <p:nvPr/>
        </p:nvSpPr>
        <p:spPr>
          <a:xfrm>
            <a:off x="7080120" y="1730520"/>
            <a:ext cx="637920" cy="142560"/>
          </a:xfrm>
          <a:custGeom>
            <a:avLst/>
            <a:gdLst>
              <a:gd name="textAreaLeft" fmla="*/ 0 w 637920"/>
              <a:gd name="textAreaRight" fmla="*/ 638280 w 6379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638297" h="141914">
                <a:moveTo>
                  <a:pt x="427677" y="0"/>
                </a:moveTo>
                <a:lnTo>
                  <a:pt x="435441" y="0"/>
                </a:lnTo>
                <a:lnTo>
                  <a:pt x="442559" y="1293"/>
                </a:lnTo>
                <a:lnTo>
                  <a:pt x="446441" y="2586"/>
                </a:lnTo>
                <a:lnTo>
                  <a:pt x="451617" y="2586"/>
                </a:lnTo>
                <a:lnTo>
                  <a:pt x="456146" y="5171"/>
                </a:lnTo>
                <a:lnTo>
                  <a:pt x="462616" y="6464"/>
                </a:lnTo>
                <a:lnTo>
                  <a:pt x="467792" y="8403"/>
                </a:lnTo>
                <a:lnTo>
                  <a:pt x="473615" y="10989"/>
                </a:lnTo>
                <a:lnTo>
                  <a:pt x="481379" y="14868"/>
                </a:lnTo>
                <a:lnTo>
                  <a:pt x="488497" y="18746"/>
                </a:lnTo>
                <a:lnTo>
                  <a:pt x="496261" y="22625"/>
                </a:lnTo>
                <a:lnTo>
                  <a:pt x="503378" y="25857"/>
                </a:lnTo>
                <a:lnTo>
                  <a:pt x="512436" y="31028"/>
                </a:lnTo>
                <a:lnTo>
                  <a:pt x="520847" y="36199"/>
                </a:lnTo>
                <a:lnTo>
                  <a:pt x="529906" y="42017"/>
                </a:lnTo>
                <a:lnTo>
                  <a:pt x="539611" y="47188"/>
                </a:lnTo>
                <a:lnTo>
                  <a:pt x="549963" y="54945"/>
                </a:lnTo>
                <a:lnTo>
                  <a:pt x="559668" y="60763"/>
                </a:lnTo>
                <a:lnTo>
                  <a:pt x="569373" y="68520"/>
                </a:lnTo>
                <a:lnTo>
                  <a:pt x="579726" y="74338"/>
                </a:lnTo>
                <a:lnTo>
                  <a:pt x="588137" y="80802"/>
                </a:lnTo>
                <a:lnTo>
                  <a:pt x="597195" y="87266"/>
                </a:lnTo>
                <a:lnTo>
                  <a:pt x="604312" y="93084"/>
                </a:lnTo>
                <a:lnTo>
                  <a:pt x="610782" y="99548"/>
                </a:lnTo>
                <a:lnTo>
                  <a:pt x="616606" y="104719"/>
                </a:lnTo>
                <a:lnTo>
                  <a:pt x="623076" y="110537"/>
                </a:lnTo>
                <a:lnTo>
                  <a:pt x="628252" y="115708"/>
                </a:lnTo>
                <a:lnTo>
                  <a:pt x="631487" y="120880"/>
                </a:lnTo>
                <a:lnTo>
                  <a:pt x="635369" y="125405"/>
                </a:lnTo>
                <a:lnTo>
                  <a:pt x="638297" y="128330"/>
                </a:lnTo>
                <a:lnTo>
                  <a:pt x="424343" y="141914"/>
                </a:lnTo>
                <a:lnTo>
                  <a:pt x="423795" y="140272"/>
                </a:lnTo>
                <a:lnTo>
                  <a:pt x="423795" y="137040"/>
                </a:lnTo>
                <a:lnTo>
                  <a:pt x="422501" y="133162"/>
                </a:lnTo>
                <a:lnTo>
                  <a:pt x="422501" y="130576"/>
                </a:lnTo>
                <a:lnTo>
                  <a:pt x="421207" y="127990"/>
                </a:lnTo>
                <a:lnTo>
                  <a:pt x="420560" y="125405"/>
                </a:lnTo>
                <a:lnTo>
                  <a:pt x="420560" y="122819"/>
                </a:lnTo>
                <a:lnTo>
                  <a:pt x="419266" y="122173"/>
                </a:lnTo>
                <a:lnTo>
                  <a:pt x="417972" y="120880"/>
                </a:lnTo>
                <a:lnTo>
                  <a:pt x="416678" y="120880"/>
                </a:lnTo>
                <a:lnTo>
                  <a:pt x="414090" y="119587"/>
                </a:lnTo>
                <a:lnTo>
                  <a:pt x="410208" y="118294"/>
                </a:lnTo>
                <a:lnTo>
                  <a:pt x="406326" y="118294"/>
                </a:lnTo>
                <a:lnTo>
                  <a:pt x="401797" y="117001"/>
                </a:lnTo>
                <a:lnTo>
                  <a:pt x="395326" y="115708"/>
                </a:lnTo>
                <a:lnTo>
                  <a:pt x="388856" y="115708"/>
                </a:lnTo>
                <a:lnTo>
                  <a:pt x="381739" y="114416"/>
                </a:lnTo>
                <a:lnTo>
                  <a:pt x="373975" y="113123"/>
                </a:lnTo>
                <a:lnTo>
                  <a:pt x="365564" y="113123"/>
                </a:lnTo>
                <a:lnTo>
                  <a:pt x="355859" y="111830"/>
                </a:lnTo>
                <a:lnTo>
                  <a:pt x="345506" y="110537"/>
                </a:lnTo>
                <a:lnTo>
                  <a:pt x="334507" y="110537"/>
                </a:lnTo>
                <a:lnTo>
                  <a:pt x="322214" y="109244"/>
                </a:lnTo>
                <a:lnTo>
                  <a:pt x="309273" y="107951"/>
                </a:lnTo>
                <a:lnTo>
                  <a:pt x="295686" y="107951"/>
                </a:lnTo>
                <a:lnTo>
                  <a:pt x="282099" y="106659"/>
                </a:lnTo>
                <a:lnTo>
                  <a:pt x="267217" y="106012"/>
                </a:lnTo>
                <a:lnTo>
                  <a:pt x="251042" y="104719"/>
                </a:lnTo>
                <a:lnTo>
                  <a:pt x="234867" y="104719"/>
                </a:lnTo>
                <a:lnTo>
                  <a:pt x="217397" y="103427"/>
                </a:lnTo>
                <a:lnTo>
                  <a:pt x="198634" y="102134"/>
                </a:lnTo>
                <a:lnTo>
                  <a:pt x="179870" y="100841"/>
                </a:lnTo>
                <a:lnTo>
                  <a:pt x="160460" y="100841"/>
                </a:lnTo>
                <a:lnTo>
                  <a:pt x="139109" y="99548"/>
                </a:lnTo>
                <a:lnTo>
                  <a:pt x="117757" y="98255"/>
                </a:lnTo>
                <a:lnTo>
                  <a:pt x="95759" y="96962"/>
                </a:lnTo>
                <a:lnTo>
                  <a:pt x="73113" y="96962"/>
                </a:lnTo>
                <a:lnTo>
                  <a:pt x="49821" y="95670"/>
                </a:lnTo>
                <a:lnTo>
                  <a:pt x="24587" y="94377"/>
                </a:lnTo>
                <a:lnTo>
                  <a:pt x="0" y="93084"/>
                </a:lnTo>
                <a:lnTo>
                  <a:pt x="39468" y="28442"/>
                </a:lnTo>
                <a:lnTo>
                  <a:pt x="60820" y="28442"/>
                </a:lnTo>
                <a:lnTo>
                  <a:pt x="80877" y="29735"/>
                </a:lnTo>
                <a:lnTo>
                  <a:pt x="100288" y="29735"/>
                </a:lnTo>
                <a:lnTo>
                  <a:pt x="119051" y="29735"/>
                </a:lnTo>
                <a:lnTo>
                  <a:pt x="137815" y="31028"/>
                </a:lnTo>
                <a:lnTo>
                  <a:pt x="155284" y="31028"/>
                </a:lnTo>
                <a:lnTo>
                  <a:pt x="172753" y="31028"/>
                </a:lnTo>
                <a:lnTo>
                  <a:pt x="188929" y="31028"/>
                </a:lnTo>
                <a:lnTo>
                  <a:pt x="205104" y="31028"/>
                </a:lnTo>
                <a:lnTo>
                  <a:pt x="219985" y="31028"/>
                </a:lnTo>
                <a:lnTo>
                  <a:pt x="234867" y="31028"/>
                </a:lnTo>
                <a:lnTo>
                  <a:pt x="248454" y="31028"/>
                </a:lnTo>
                <a:lnTo>
                  <a:pt x="262041" y="31028"/>
                </a:lnTo>
                <a:lnTo>
                  <a:pt x="274982" y="31028"/>
                </a:lnTo>
                <a:lnTo>
                  <a:pt x="287275" y="29735"/>
                </a:lnTo>
                <a:lnTo>
                  <a:pt x="298274" y="29735"/>
                </a:lnTo>
                <a:lnTo>
                  <a:pt x="308626" y="29735"/>
                </a:lnTo>
                <a:lnTo>
                  <a:pt x="319626" y="28442"/>
                </a:lnTo>
                <a:lnTo>
                  <a:pt x="328037" y="28442"/>
                </a:lnTo>
                <a:lnTo>
                  <a:pt x="337095" y="28442"/>
                </a:lnTo>
                <a:lnTo>
                  <a:pt x="345506" y="27150"/>
                </a:lnTo>
                <a:lnTo>
                  <a:pt x="353270" y="27150"/>
                </a:lnTo>
                <a:lnTo>
                  <a:pt x="360388" y="25857"/>
                </a:lnTo>
                <a:lnTo>
                  <a:pt x="366858" y="25210"/>
                </a:lnTo>
                <a:lnTo>
                  <a:pt x="372034" y="25210"/>
                </a:lnTo>
                <a:lnTo>
                  <a:pt x="376563" y="23917"/>
                </a:lnTo>
                <a:lnTo>
                  <a:pt x="381739" y="22625"/>
                </a:lnTo>
                <a:lnTo>
                  <a:pt x="385621" y="21332"/>
                </a:lnTo>
                <a:lnTo>
                  <a:pt x="388209" y="21332"/>
                </a:lnTo>
                <a:lnTo>
                  <a:pt x="391444" y="20039"/>
                </a:lnTo>
                <a:lnTo>
                  <a:pt x="392738" y="18746"/>
                </a:lnTo>
                <a:lnTo>
                  <a:pt x="394032" y="17453"/>
                </a:lnTo>
                <a:lnTo>
                  <a:pt x="399209" y="12282"/>
                </a:lnTo>
                <a:lnTo>
                  <a:pt x="404385" y="8403"/>
                </a:lnTo>
                <a:lnTo>
                  <a:pt x="408914" y="5171"/>
                </a:lnTo>
                <a:lnTo>
                  <a:pt x="415384" y="2586"/>
                </a:lnTo>
                <a:lnTo>
                  <a:pt x="421207" y="1293"/>
                </a:lnTo>
                <a:lnTo>
                  <a:pt x="427677" y="0"/>
                </a:lnTo>
                <a:close/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7" name="Freeform 5"/>
          <p:cNvSpPr/>
          <p:nvPr/>
        </p:nvSpPr>
        <p:spPr>
          <a:xfrm>
            <a:off x="6289560" y="1373040"/>
            <a:ext cx="961560" cy="1258560"/>
          </a:xfrm>
          <a:custGeom>
            <a:avLst/>
            <a:gdLst>
              <a:gd name="textAreaLeft" fmla="*/ 0 w 961560"/>
              <a:gd name="textAreaRight" fmla="*/ 961920 w 961560"/>
              <a:gd name="textAreaTop" fmla="*/ 0 h 1258560"/>
              <a:gd name="textAreaBottom" fmla="*/ 1258920 h 1258560"/>
            </a:gdLst>
            <a:ahLst/>
            <a:rect l="textAreaLeft" t="textAreaTop" r="textAreaRight" b="textAreaBottom"/>
            <a:pathLst>
              <a:path w="1491" h="1949">
                <a:moveTo>
                  <a:pt x="818" y="1422"/>
                </a:moveTo>
                <a:lnTo>
                  <a:pt x="785" y="1456"/>
                </a:lnTo>
                <a:lnTo>
                  <a:pt x="752" y="1489"/>
                </a:lnTo>
                <a:lnTo>
                  <a:pt x="719" y="1520"/>
                </a:lnTo>
                <a:lnTo>
                  <a:pt x="685" y="1551"/>
                </a:lnTo>
                <a:lnTo>
                  <a:pt x="652" y="1579"/>
                </a:lnTo>
                <a:lnTo>
                  <a:pt x="619" y="1608"/>
                </a:lnTo>
                <a:lnTo>
                  <a:pt x="585" y="1635"/>
                </a:lnTo>
                <a:lnTo>
                  <a:pt x="552" y="1662"/>
                </a:lnTo>
                <a:lnTo>
                  <a:pt x="519" y="1687"/>
                </a:lnTo>
                <a:lnTo>
                  <a:pt x="485" y="1710"/>
                </a:lnTo>
                <a:lnTo>
                  <a:pt x="450" y="1733"/>
                </a:lnTo>
                <a:lnTo>
                  <a:pt x="418" y="1755"/>
                </a:lnTo>
                <a:lnTo>
                  <a:pt x="383" y="1776"/>
                </a:lnTo>
                <a:lnTo>
                  <a:pt x="350" y="1795"/>
                </a:lnTo>
                <a:lnTo>
                  <a:pt x="316" y="1814"/>
                </a:lnTo>
                <a:lnTo>
                  <a:pt x="281" y="1832"/>
                </a:lnTo>
                <a:lnTo>
                  <a:pt x="264" y="1839"/>
                </a:lnTo>
                <a:lnTo>
                  <a:pt x="248" y="1849"/>
                </a:lnTo>
                <a:lnTo>
                  <a:pt x="233" y="1857"/>
                </a:lnTo>
                <a:lnTo>
                  <a:pt x="218" y="1864"/>
                </a:lnTo>
                <a:lnTo>
                  <a:pt x="202" y="1870"/>
                </a:lnTo>
                <a:lnTo>
                  <a:pt x="187" y="1878"/>
                </a:lnTo>
                <a:lnTo>
                  <a:pt x="173" y="1883"/>
                </a:lnTo>
                <a:lnTo>
                  <a:pt x="160" y="1891"/>
                </a:lnTo>
                <a:lnTo>
                  <a:pt x="148" y="1897"/>
                </a:lnTo>
                <a:lnTo>
                  <a:pt x="135" y="1903"/>
                </a:lnTo>
                <a:lnTo>
                  <a:pt x="123" y="1907"/>
                </a:lnTo>
                <a:lnTo>
                  <a:pt x="114" y="1912"/>
                </a:lnTo>
                <a:lnTo>
                  <a:pt x="102" y="1916"/>
                </a:lnTo>
                <a:lnTo>
                  <a:pt x="93" y="1922"/>
                </a:lnTo>
                <a:lnTo>
                  <a:pt x="83" y="1926"/>
                </a:lnTo>
                <a:lnTo>
                  <a:pt x="73" y="1930"/>
                </a:lnTo>
                <a:lnTo>
                  <a:pt x="66" y="1932"/>
                </a:lnTo>
                <a:lnTo>
                  <a:pt x="58" y="1935"/>
                </a:lnTo>
                <a:lnTo>
                  <a:pt x="50" y="1937"/>
                </a:lnTo>
                <a:lnTo>
                  <a:pt x="43" y="1941"/>
                </a:lnTo>
                <a:lnTo>
                  <a:pt x="37" y="1943"/>
                </a:lnTo>
                <a:lnTo>
                  <a:pt x="31" y="1945"/>
                </a:lnTo>
                <a:lnTo>
                  <a:pt x="25" y="1945"/>
                </a:lnTo>
                <a:lnTo>
                  <a:pt x="20" y="1947"/>
                </a:lnTo>
                <a:lnTo>
                  <a:pt x="16" y="1947"/>
                </a:lnTo>
                <a:lnTo>
                  <a:pt x="12" y="1949"/>
                </a:lnTo>
                <a:lnTo>
                  <a:pt x="8" y="1949"/>
                </a:lnTo>
                <a:lnTo>
                  <a:pt x="6" y="1949"/>
                </a:lnTo>
                <a:lnTo>
                  <a:pt x="4" y="1949"/>
                </a:lnTo>
                <a:lnTo>
                  <a:pt x="2" y="1947"/>
                </a:lnTo>
                <a:lnTo>
                  <a:pt x="0" y="1947"/>
                </a:lnTo>
                <a:lnTo>
                  <a:pt x="0" y="1945"/>
                </a:lnTo>
                <a:lnTo>
                  <a:pt x="0" y="1943"/>
                </a:lnTo>
                <a:lnTo>
                  <a:pt x="0" y="1941"/>
                </a:lnTo>
                <a:lnTo>
                  <a:pt x="2" y="1939"/>
                </a:lnTo>
                <a:lnTo>
                  <a:pt x="2" y="1935"/>
                </a:lnTo>
                <a:lnTo>
                  <a:pt x="4" y="1933"/>
                </a:lnTo>
                <a:lnTo>
                  <a:pt x="8" y="1930"/>
                </a:lnTo>
                <a:lnTo>
                  <a:pt x="10" y="1926"/>
                </a:lnTo>
                <a:lnTo>
                  <a:pt x="14" y="1922"/>
                </a:lnTo>
                <a:lnTo>
                  <a:pt x="18" y="1918"/>
                </a:lnTo>
                <a:lnTo>
                  <a:pt x="23" y="1912"/>
                </a:lnTo>
                <a:lnTo>
                  <a:pt x="27" y="1908"/>
                </a:lnTo>
                <a:lnTo>
                  <a:pt x="33" y="1903"/>
                </a:lnTo>
                <a:lnTo>
                  <a:pt x="39" y="1897"/>
                </a:lnTo>
                <a:lnTo>
                  <a:pt x="46" y="1891"/>
                </a:lnTo>
                <a:lnTo>
                  <a:pt x="54" y="1885"/>
                </a:lnTo>
                <a:lnTo>
                  <a:pt x="62" y="1880"/>
                </a:lnTo>
                <a:lnTo>
                  <a:pt x="70" y="1872"/>
                </a:lnTo>
                <a:lnTo>
                  <a:pt x="77" y="1864"/>
                </a:lnTo>
                <a:lnTo>
                  <a:pt x="87" y="1858"/>
                </a:lnTo>
                <a:lnTo>
                  <a:pt x="96" y="1851"/>
                </a:lnTo>
                <a:lnTo>
                  <a:pt x="108" y="1841"/>
                </a:lnTo>
                <a:lnTo>
                  <a:pt x="118" y="1833"/>
                </a:lnTo>
                <a:lnTo>
                  <a:pt x="129" y="1826"/>
                </a:lnTo>
                <a:lnTo>
                  <a:pt x="143" y="1816"/>
                </a:lnTo>
                <a:lnTo>
                  <a:pt x="154" y="1806"/>
                </a:lnTo>
                <a:lnTo>
                  <a:pt x="168" y="1797"/>
                </a:lnTo>
                <a:lnTo>
                  <a:pt x="181" y="1787"/>
                </a:lnTo>
                <a:lnTo>
                  <a:pt x="195" y="1778"/>
                </a:lnTo>
                <a:lnTo>
                  <a:pt x="210" y="1766"/>
                </a:lnTo>
                <a:lnTo>
                  <a:pt x="225" y="1756"/>
                </a:lnTo>
                <a:lnTo>
                  <a:pt x="241" y="1745"/>
                </a:lnTo>
                <a:lnTo>
                  <a:pt x="256" y="1733"/>
                </a:lnTo>
                <a:lnTo>
                  <a:pt x="289" y="1710"/>
                </a:lnTo>
                <a:lnTo>
                  <a:pt x="321" y="1685"/>
                </a:lnTo>
                <a:lnTo>
                  <a:pt x="354" y="1658"/>
                </a:lnTo>
                <a:lnTo>
                  <a:pt x="385" y="1631"/>
                </a:lnTo>
                <a:lnTo>
                  <a:pt x="418" y="1603"/>
                </a:lnTo>
                <a:lnTo>
                  <a:pt x="448" y="1574"/>
                </a:lnTo>
                <a:lnTo>
                  <a:pt x="481" y="1543"/>
                </a:lnTo>
                <a:lnTo>
                  <a:pt x="512" y="1512"/>
                </a:lnTo>
                <a:lnTo>
                  <a:pt x="543" y="1479"/>
                </a:lnTo>
                <a:lnTo>
                  <a:pt x="573" y="1445"/>
                </a:lnTo>
                <a:lnTo>
                  <a:pt x="604" y="1410"/>
                </a:lnTo>
                <a:lnTo>
                  <a:pt x="635" y="1376"/>
                </a:lnTo>
                <a:lnTo>
                  <a:pt x="664" y="1339"/>
                </a:lnTo>
                <a:lnTo>
                  <a:pt x="694" y="1301"/>
                </a:lnTo>
                <a:lnTo>
                  <a:pt x="725" y="1262"/>
                </a:lnTo>
                <a:lnTo>
                  <a:pt x="754" y="1222"/>
                </a:lnTo>
                <a:lnTo>
                  <a:pt x="783" y="1181"/>
                </a:lnTo>
                <a:lnTo>
                  <a:pt x="812" y="1141"/>
                </a:lnTo>
                <a:lnTo>
                  <a:pt x="839" y="1100"/>
                </a:lnTo>
                <a:lnTo>
                  <a:pt x="866" y="1062"/>
                </a:lnTo>
                <a:lnTo>
                  <a:pt x="891" y="1022"/>
                </a:lnTo>
                <a:lnTo>
                  <a:pt x="916" y="981"/>
                </a:lnTo>
                <a:lnTo>
                  <a:pt x="941" y="943"/>
                </a:lnTo>
                <a:lnTo>
                  <a:pt x="964" y="902"/>
                </a:lnTo>
                <a:lnTo>
                  <a:pt x="985" y="864"/>
                </a:lnTo>
                <a:lnTo>
                  <a:pt x="1006" y="825"/>
                </a:lnTo>
                <a:lnTo>
                  <a:pt x="1027" y="785"/>
                </a:lnTo>
                <a:lnTo>
                  <a:pt x="1046" y="746"/>
                </a:lnTo>
                <a:lnTo>
                  <a:pt x="1066" y="708"/>
                </a:lnTo>
                <a:lnTo>
                  <a:pt x="1083" y="669"/>
                </a:lnTo>
                <a:lnTo>
                  <a:pt x="1100" y="631"/>
                </a:lnTo>
                <a:lnTo>
                  <a:pt x="1116" y="593"/>
                </a:lnTo>
                <a:lnTo>
                  <a:pt x="1131" y="554"/>
                </a:lnTo>
                <a:lnTo>
                  <a:pt x="1144" y="516"/>
                </a:lnTo>
                <a:lnTo>
                  <a:pt x="1160" y="479"/>
                </a:lnTo>
                <a:lnTo>
                  <a:pt x="1171" y="441"/>
                </a:lnTo>
                <a:lnTo>
                  <a:pt x="1185" y="404"/>
                </a:lnTo>
                <a:lnTo>
                  <a:pt x="1196" y="365"/>
                </a:lnTo>
                <a:lnTo>
                  <a:pt x="1208" y="329"/>
                </a:lnTo>
                <a:lnTo>
                  <a:pt x="1218" y="292"/>
                </a:lnTo>
                <a:lnTo>
                  <a:pt x="1227" y="256"/>
                </a:lnTo>
                <a:lnTo>
                  <a:pt x="1237" y="217"/>
                </a:lnTo>
                <a:lnTo>
                  <a:pt x="1244" y="181"/>
                </a:lnTo>
                <a:lnTo>
                  <a:pt x="1252" y="144"/>
                </a:lnTo>
                <a:lnTo>
                  <a:pt x="1260" y="108"/>
                </a:lnTo>
                <a:lnTo>
                  <a:pt x="1266" y="73"/>
                </a:lnTo>
                <a:lnTo>
                  <a:pt x="1271" y="36"/>
                </a:lnTo>
                <a:lnTo>
                  <a:pt x="1277" y="0"/>
                </a:lnTo>
                <a:lnTo>
                  <a:pt x="1300" y="11"/>
                </a:lnTo>
                <a:lnTo>
                  <a:pt x="1321" y="25"/>
                </a:lnTo>
                <a:lnTo>
                  <a:pt x="1343" y="36"/>
                </a:lnTo>
                <a:lnTo>
                  <a:pt x="1362" y="48"/>
                </a:lnTo>
                <a:lnTo>
                  <a:pt x="1379" y="58"/>
                </a:lnTo>
                <a:lnTo>
                  <a:pt x="1394" y="69"/>
                </a:lnTo>
                <a:lnTo>
                  <a:pt x="1410" y="79"/>
                </a:lnTo>
                <a:lnTo>
                  <a:pt x="1423" y="90"/>
                </a:lnTo>
                <a:lnTo>
                  <a:pt x="1437" y="98"/>
                </a:lnTo>
                <a:lnTo>
                  <a:pt x="1448" y="108"/>
                </a:lnTo>
                <a:lnTo>
                  <a:pt x="1458" y="117"/>
                </a:lnTo>
                <a:lnTo>
                  <a:pt x="1468" y="125"/>
                </a:lnTo>
                <a:lnTo>
                  <a:pt x="1473" y="133"/>
                </a:lnTo>
                <a:lnTo>
                  <a:pt x="1481" y="142"/>
                </a:lnTo>
                <a:lnTo>
                  <a:pt x="1485" y="148"/>
                </a:lnTo>
                <a:lnTo>
                  <a:pt x="1489" y="156"/>
                </a:lnTo>
                <a:lnTo>
                  <a:pt x="1491" y="160"/>
                </a:lnTo>
                <a:lnTo>
                  <a:pt x="1491" y="165"/>
                </a:lnTo>
                <a:lnTo>
                  <a:pt x="1491" y="169"/>
                </a:lnTo>
                <a:lnTo>
                  <a:pt x="1491" y="177"/>
                </a:lnTo>
                <a:lnTo>
                  <a:pt x="1491" y="185"/>
                </a:lnTo>
                <a:lnTo>
                  <a:pt x="1491" y="192"/>
                </a:lnTo>
                <a:lnTo>
                  <a:pt x="1489" y="200"/>
                </a:lnTo>
                <a:lnTo>
                  <a:pt x="1487" y="210"/>
                </a:lnTo>
                <a:lnTo>
                  <a:pt x="1483" y="221"/>
                </a:lnTo>
                <a:lnTo>
                  <a:pt x="1481" y="231"/>
                </a:lnTo>
                <a:lnTo>
                  <a:pt x="1477" y="244"/>
                </a:lnTo>
                <a:lnTo>
                  <a:pt x="1473" y="256"/>
                </a:lnTo>
                <a:lnTo>
                  <a:pt x="1469" y="269"/>
                </a:lnTo>
                <a:lnTo>
                  <a:pt x="1464" y="285"/>
                </a:lnTo>
                <a:lnTo>
                  <a:pt x="1460" y="298"/>
                </a:lnTo>
                <a:lnTo>
                  <a:pt x="1454" y="315"/>
                </a:lnTo>
                <a:lnTo>
                  <a:pt x="1446" y="331"/>
                </a:lnTo>
                <a:lnTo>
                  <a:pt x="1441" y="350"/>
                </a:lnTo>
                <a:lnTo>
                  <a:pt x="1433" y="367"/>
                </a:lnTo>
                <a:lnTo>
                  <a:pt x="1425" y="387"/>
                </a:lnTo>
                <a:lnTo>
                  <a:pt x="1418" y="406"/>
                </a:lnTo>
                <a:lnTo>
                  <a:pt x="1408" y="427"/>
                </a:lnTo>
                <a:lnTo>
                  <a:pt x="1400" y="448"/>
                </a:lnTo>
                <a:lnTo>
                  <a:pt x="1391" y="471"/>
                </a:lnTo>
                <a:lnTo>
                  <a:pt x="1379" y="494"/>
                </a:lnTo>
                <a:lnTo>
                  <a:pt x="1369" y="517"/>
                </a:lnTo>
                <a:lnTo>
                  <a:pt x="1358" y="542"/>
                </a:lnTo>
                <a:lnTo>
                  <a:pt x="1346" y="569"/>
                </a:lnTo>
                <a:lnTo>
                  <a:pt x="1335" y="594"/>
                </a:lnTo>
                <a:lnTo>
                  <a:pt x="1323" y="621"/>
                </a:lnTo>
                <a:lnTo>
                  <a:pt x="1310" y="650"/>
                </a:lnTo>
                <a:lnTo>
                  <a:pt x="1296" y="679"/>
                </a:lnTo>
                <a:lnTo>
                  <a:pt x="1269" y="737"/>
                </a:lnTo>
                <a:lnTo>
                  <a:pt x="1241" y="793"/>
                </a:lnTo>
                <a:lnTo>
                  <a:pt x="1214" y="848"/>
                </a:lnTo>
                <a:lnTo>
                  <a:pt x="1185" y="900"/>
                </a:lnTo>
                <a:lnTo>
                  <a:pt x="1156" y="952"/>
                </a:lnTo>
                <a:lnTo>
                  <a:pt x="1127" y="1002"/>
                </a:lnTo>
                <a:lnTo>
                  <a:pt x="1096" y="1052"/>
                </a:lnTo>
                <a:lnTo>
                  <a:pt x="1068" y="1098"/>
                </a:lnTo>
                <a:lnTo>
                  <a:pt x="1037" y="1145"/>
                </a:lnTo>
                <a:lnTo>
                  <a:pt x="1006" y="1189"/>
                </a:lnTo>
                <a:lnTo>
                  <a:pt x="975" y="1231"/>
                </a:lnTo>
                <a:lnTo>
                  <a:pt x="944" y="1272"/>
                </a:lnTo>
                <a:lnTo>
                  <a:pt x="914" y="1312"/>
                </a:lnTo>
                <a:lnTo>
                  <a:pt x="881" y="1351"/>
                </a:lnTo>
                <a:lnTo>
                  <a:pt x="850" y="1387"/>
                </a:lnTo>
                <a:lnTo>
                  <a:pt x="818" y="1422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8" name="Freeform 7"/>
          <p:cNvSpPr/>
          <p:nvPr/>
        </p:nvSpPr>
        <p:spPr>
          <a:xfrm>
            <a:off x="6350040" y="1219320"/>
            <a:ext cx="1695240" cy="277560"/>
          </a:xfrm>
          <a:custGeom>
            <a:avLst/>
            <a:gdLst>
              <a:gd name="textAreaLeft" fmla="*/ 0 w 1695240"/>
              <a:gd name="textAreaRight" fmla="*/ 1695600 w 169524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621" h="429">
                <a:moveTo>
                  <a:pt x="100" y="381"/>
                </a:moveTo>
                <a:lnTo>
                  <a:pt x="86" y="372"/>
                </a:lnTo>
                <a:lnTo>
                  <a:pt x="75" y="362"/>
                </a:lnTo>
                <a:lnTo>
                  <a:pt x="61" y="350"/>
                </a:lnTo>
                <a:lnTo>
                  <a:pt x="50" y="337"/>
                </a:lnTo>
                <a:lnTo>
                  <a:pt x="36" y="320"/>
                </a:lnTo>
                <a:lnTo>
                  <a:pt x="25" y="302"/>
                </a:lnTo>
                <a:lnTo>
                  <a:pt x="19" y="293"/>
                </a:lnTo>
                <a:lnTo>
                  <a:pt x="11" y="283"/>
                </a:lnTo>
                <a:lnTo>
                  <a:pt x="5" y="273"/>
                </a:lnTo>
                <a:lnTo>
                  <a:pt x="0" y="262"/>
                </a:lnTo>
                <a:lnTo>
                  <a:pt x="17" y="262"/>
                </a:lnTo>
                <a:lnTo>
                  <a:pt x="34" y="262"/>
                </a:lnTo>
                <a:lnTo>
                  <a:pt x="53" y="262"/>
                </a:lnTo>
                <a:lnTo>
                  <a:pt x="73" y="260"/>
                </a:lnTo>
                <a:lnTo>
                  <a:pt x="92" y="260"/>
                </a:lnTo>
                <a:lnTo>
                  <a:pt x="113" y="260"/>
                </a:lnTo>
                <a:lnTo>
                  <a:pt x="134" y="258"/>
                </a:lnTo>
                <a:lnTo>
                  <a:pt x="157" y="258"/>
                </a:lnTo>
                <a:lnTo>
                  <a:pt x="178" y="256"/>
                </a:lnTo>
                <a:lnTo>
                  <a:pt x="201" y="256"/>
                </a:lnTo>
                <a:lnTo>
                  <a:pt x="226" y="254"/>
                </a:lnTo>
                <a:lnTo>
                  <a:pt x="250" y="252"/>
                </a:lnTo>
                <a:lnTo>
                  <a:pt x="275" y="250"/>
                </a:lnTo>
                <a:lnTo>
                  <a:pt x="301" y="248"/>
                </a:lnTo>
                <a:lnTo>
                  <a:pt x="326" y="247"/>
                </a:lnTo>
                <a:lnTo>
                  <a:pt x="353" y="245"/>
                </a:lnTo>
                <a:lnTo>
                  <a:pt x="409" y="239"/>
                </a:lnTo>
                <a:lnTo>
                  <a:pt x="465" y="235"/>
                </a:lnTo>
                <a:lnTo>
                  <a:pt x="523" y="229"/>
                </a:lnTo>
                <a:lnTo>
                  <a:pt x="582" y="223"/>
                </a:lnTo>
                <a:lnTo>
                  <a:pt x="642" y="218"/>
                </a:lnTo>
                <a:lnTo>
                  <a:pt x="703" y="212"/>
                </a:lnTo>
                <a:lnTo>
                  <a:pt x="765" y="206"/>
                </a:lnTo>
                <a:lnTo>
                  <a:pt x="828" y="200"/>
                </a:lnTo>
                <a:lnTo>
                  <a:pt x="892" y="195"/>
                </a:lnTo>
                <a:lnTo>
                  <a:pt x="957" y="187"/>
                </a:lnTo>
                <a:lnTo>
                  <a:pt x="1023" y="179"/>
                </a:lnTo>
                <a:lnTo>
                  <a:pt x="1088" y="173"/>
                </a:lnTo>
                <a:lnTo>
                  <a:pt x="1153" y="164"/>
                </a:lnTo>
                <a:lnTo>
                  <a:pt x="1221" y="156"/>
                </a:lnTo>
                <a:lnTo>
                  <a:pt x="1290" y="148"/>
                </a:lnTo>
                <a:lnTo>
                  <a:pt x="1357" y="139"/>
                </a:lnTo>
                <a:lnTo>
                  <a:pt x="1494" y="120"/>
                </a:lnTo>
                <a:lnTo>
                  <a:pt x="1632" y="98"/>
                </a:lnTo>
                <a:lnTo>
                  <a:pt x="1701" y="87"/>
                </a:lnTo>
                <a:lnTo>
                  <a:pt x="1771" y="75"/>
                </a:lnTo>
                <a:lnTo>
                  <a:pt x="1842" y="64"/>
                </a:lnTo>
                <a:lnTo>
                  <a:pt x="1911" y="50"/>
                </a:lnTo>
                <a:lnTo>
                  <a:pt x="1946" y="45"/>
                </a:lnTo>
                <a:lnTo>
                  <a:pt x="1978" y="39"/>
                </a:lnTo>
                <a:lnTo>
                  <a:pt x="2009" y="33"/>
                </a:lnTo>
                <a:lnTo>
                  <a:pt x="2038" y="29"/>
                </a:lnTo>
                <a:lnTo>
                  <a:pt x="2067" y="23"/>
                </a:lnTo>
                <a:lnTo>
                  <a:pt x="2094" y="20"/>
                </a:lnTo>
                <a:lnTo>
                  <a:pt x="2119" y="16"/>
                </a:lnTo>
                <a:lnTo>
                  <a:pt x="2142" y="14"/>
                </a:lnTo>
                <a:lnTo>
                  <a:pt x="2163" y="10"/>
                </a:lnTo>
                <a:lnTo>
                  <a:pt x="2184" y="8"/>
                </a:lnTo>
                <a:lnTo>
                  <a:pt x="2203" y="6"/>
                </a:lnTo>
                <a:lnTo>
                  <a:pt x="2219" y="4"/>
                </a:lnTo>
                <a:lnTo>
                  <a:pt x="2236" y="2"/>
                </a:lnTo>
                <a:lnTo>
                  <a:pt x="2249" y="0"/>
                </a:lnTo>
                <a:lnTo>
                  <a:pt x="2261" y="0"/>
                </a:lnTo>
                <a:lnTo>
                  <a:pt x="2272" y="0"/>
                </a:lnTo>
                <a:lnTo>
                  <a:pt x="2282" y="0"/>
                </a:lnTo>
                <a:lnTo>
                  <a:pt x="2294" y="2"/>
                </a:lnTo>
                <a:lnTo>
                  <a:pt x="2305" y="2"/>
                </a:lnTo>
                <a:lnTo>
                  <a:pt x="2317" y="6"/>
                </a:lnTo>
                <a:lnTo>
                  <a:pt x="2328" y="8"/>
                </a:lnTo>
                <a:lnTo>
                  <a:pt x="2340" y="12"/>
                </a:lnTo>
                <a:lnTo>
                  <a:pt x="2353" y="16"/>
                </a:lnTo>
                <a:lnTo>
                  <a:pt x="2367" y="21"/>
                </a:lnTo>
                <a:lnTo>
                  <a:pt x="2380" y="25"/>
                </a:lnTo>
                <a:lnTo>
                  <a:pt x="2394" y="31"/>
                </a:lnTo>
                <a:lnTo>
                  <a:pt x="2407" y="39"/>
                </a:lnTo>
                <a:lnTo>
                  <a:pt x="2422" y="46"/>
                </a:lnTo>
                <a:lnTo>
                  <a:pt x="2438" y="54"/>
                </a:lnTo>
                <a:lnTo>
                  <a:pt x="2453" y="62"/>
                </a:lnTo>
                <a:lnTo>
                  <a:pt x="2469" y="71"/>
                </a:lnTo>
                <a:lnTo>
                  <a:pt x="2484" y="81"/>
                </a:lnTo>
                <a:lnTo>
                  <a:pt x="2499" y="91"/>
                </a:lnTo>
                <a:lnTo>
                  <a:pt x="2515" y="100"/>
                </a:lnTo>
                <a:lnTo>
                  <a:pt x="2528" y="110"/>
                </a:lnTo>
                <a:lnTo>
                  <a:pt x="2542" y="120"/>
                </a:lnTo>
                <a:lnTo>
                  <a:pt x="2553" y="129"/>
                </a:lnTo>
                <a:lnTo>
                  <a:pt x="2565" y="137"/>
                </a:lnTo>
                <a:lnTo>
                  <a:pt x="2574" y="145"/>
                </a:lnTo>
                <a:lnTo>
                  <a:pt x="2584" y="152"/>
                </a:lnTo>
                <a:lnTo>
                  <a:pt x="2592" y="160"/>
                </a:lnTo>
                <a:lnTo>
                  <a:pt x="2599" y="166"/>
                </a:lnTo>
                <a:lnTo>
                  <a:pt x="2605" y="173"/>
                </a:lnTo>
                <a:lnTo>
                  <a:pt x="2609" y="179"/>
                </a:lnTo>
                <a:lnTo>
                  <a:pt x="2615" y="185"/>
                </a:lnTo>
                <a:lnTo>
                  <a:pt x="2617" y="191"/>
                </a:lnTo>
                <a:lnTo>
                  <a:pt x="2619" y="197"/>
                </a:lnTo>
                <a:lnTo>
                  <a:pt x="2621" y="200"/>
                </a:lnTo>
                <a:lnTo>
                  <a:pt x="2621" y="202"/>
                </a:lnTo>
                <a:lnTo>
                  <a:pt x="2619" y="204"/>
                </a:lnTo>
                <a:lnTo>
                  <a:pt x="2617" y="206"/>
                </a:lnTo>
                <a:lnTo>
                  <a:pt x="2615" y="210"/>
                </a:lnTo>
                <a:lnTo>
                  <a:pt x="2611" y="212"/>
                </a:lnTo>
                <a:lnTo>
                  <a:pt x="2605" y="214"/>
                </a:lnTo>
                <a:lnTo>
                  <a:pt x="2599" y="216"/>
                </a:lnTo>
                <a:lnTo>
                  <a:pt x="2594" y="216"/>
                </a:lnTo>
                <a:lnTo>
                  <a:pt x="2586" y="218"/>
                </a:lnTo>
                <a:lnTo>
                  <a:pt x="2576" y="220"/>
                </a:lnTo>
                <a:lnTo>
                  <a:pt x="2567" y="222"/>
                </a:lnTo>
                <a:lnTo>
                  <a:pt x="2555" y="223"/>
                </a:lnTo>
                <a:lnTo>
                  <a:pt x="2544" y="223"/>
                </a:lnTo>
                <a:lnTo>
                  <a:pt x="2532" y="225"/>
                </a:lnTo>
                <a:lnTo>
                  <a:pt x="2519" y="227"/>
                </a:lnTo>
                <a:lnTo>
                  <a:pt x="2503" y="227"/>
                </a:lnTo>
                <a:lnTo>
                  <a:pt x="2488" y="229"/>
                </a:lnTo>
                <a:lnTo>
                  <a:pt x="2472" y="229"/>
                </a:lnTo>
                <a:lnTo>
                  <a:pt x="2455" y="231"/>
                </a:lnTo>
                <a:lnTo>
                  <a:pt x="2436" y="231"/>
                </a:lnTo>
                <a:lnTo>
                  <a:pt x="2417" y="233"/>
                </a:lnTo>
                <a:lnTo>
                  <a:pt x="2397" y="233"/>
                </a:lnTo>
                <a:lnTo>
                  <a:pt x="2376" y="235"/>
                </a:lnTo>
                <a:lnTo>
                  <a:pt x="2353" y="235"/>
                </a:lnTo>
                <a:lnTo>
                  <a:pt x="2330" y="235"/>
                </a:lnTo>
                <a:lnTo>
                  <a:pt x="2307" y="235"/>
                </a:lnTo>
                <a:lnTo>
                  <a:pt x="2282" y="237"/>
                </a:lnTo>
                <a:lnTo>
                  <a:pt x="2255" y="237"/>
                </a:lnTo>
                <a:lnTo>
                  <a:pt x="2228" y="237"/>
                </a:lnTo>
                <a:lnTo>
                  <a:pt x="2201" y="237"/>
                </a:lnTo>
                <a:lnTo>
                  <a:pt x="2172" y="237"/>
                </a:lnTo>
                <a:lnTo>
                  <a:pt x="2142" y="237"/>
                </a:lnTo>
                <a:lnTo>
                  <a:pt x="2082" y="237"/>
                </a:lnTo>
                <a:lnTo>
                  <a:pt x="2022" y="237"/>
                </a:lnTo>
                <a:lnTo>
                  <a:pt x="1967" y="239"/>
                </a:lnTo>
                <a:lnTo>
                  <a:pt x="1911" y="239"/>
                </a:lnTo>
                <a:lnTo>
                  <a:pt x="1857" y="241"/>
                </a:lnTo>
                <a:lnTo>
                  <a:pt x="1805" y="243"/>
                </a:lnTo>
                <a:lnTo>
                  <a:pt x="1755" y="245"/>
                </a:lnTo>
                <a:lnTo>
                  <a:pt x="1705" y="247"/>
                </a:lnTo>
                <a:lnTo>
                  <a:pt x="1657" y="248"/>
                </a:lnTo>
                <a:lnTo>
                  <a:pt x="1613" y="252"/>
                </a:lnTo>
                <a:lnTo>
                  <a:pt x="1569" y="256"/>
                </a:lnTo>
                <a:lnTo>
                  <a:pt x="1524" y="258"/>
                </a:lnTo>
                <a:lnTo>
                  <a:pt x="1484" y="262"/>
                </a:lnTo>
                <a:lnTo>
                  <a:pt x="1444" y="266"/>
                </a:lnTo>
                <a:lnTo>
                  <a:pt x="1405" y="272"/>
                </a:lnTo>
                <a:lnTo>
                  <a:pt x="1369" y="275"/>
                </a:lnTo>
                <a:lnTo>
                  <a:pt x="1298" y="285"/>
                </a:lnTo>
                <a:lnTo>
                  <a:pt x="1228" y="295"/>
                </a:lnTo>
                <a:lnTo>
                  <a:pt x="1159" y="302"/>
                </a:lnTo>
                <a:lnTo>
                  <a:pt x="1092" y="312"/>
                </a:lnTo>
                <a:lnTo>
                  <a:pt x="1026" y="320"/>
                </a:lnTo>
                <a:lnTo>
                  <a:pt x="961" y="327"/>
                </a:lnTo>
                <a:lnTo>
                  <a:pt x="898" y="335"/>
                </a:lnTo>
                <a:lnTo>
                  <a:pt x="834" y="343"/>
                </a:lnTo>
                <a:lnTo>
                  <a:pt x="803" y="347"/>
                </a:lnTo>
                <a:lnTo>
                  <a:pt x="773" y="350"/>
                </a:lnTo>
                <a:lnTo>
                  <a:pt x="744" y="354"/>
                </a:lnTo>
                <a:lnTo>
                  <a:pt x="713" y="358"/>
                </a:lnTo>
                <a:lnTo>
                  <a:pt x="686" y="362"/>
                </a:lnTo>
                <a:lnTo>
                  <a:pt x="657" y="366"/>
                </a:lnTo>
                <a:lnTo>
                  <a:pt x="630" y="370"/>
                </a:lnTo>
                <a:lnTo>
                  <a:pt x="603" y="375"/>
                </a:lnTo>
                <a:lnTo>
                  <a:pt x="576" y="379"/>
                </a:lnTo>
                <a:lnTo>
                  <a:pt x="551" y="383"/>
                </a:lnTo>
                <a:lnTo>
                  <a:pt x="526" y="387"/>
                </a:lnTo>
                <a:lnTo>
                  <a:pt x="501" y="391"/>
                </a:lnTo>
                <a:lnTo>
                  <a:pt x="478" y="395"/>
                </a:lnTo>
                <a:lnTo>
                  <a:pt x="455" y="399"/>
                </a:lnTo>
                <a:lnTo>
                  <a:pt x="432" y="402"/>
                </a:lnTo>
                <a:lnTo>
                  <a:pt x="411" y="406"/>
                </a:lnTo>
                <a:lnTo>
                  <a:pt x="390" y="410"/>
                </a:lnTo>
                <a:lnTo>
                  <a:pt x="369" y="414"/>
                </a:lnTo>
                <a:lnTo>
                  <a:pt x="349" y="416"/>
                </a:lnTo>
                <a:lnTo>
                  <a:pt x="332" y="420"/>
                </a:lnTo>
                <a:lnTo>
                  <a:pt x="315" y="422"/>
                </a:lnTo>
                <a:lnTo>
                  <a:pt x="298" y="424"/>
                </a:lnTo>
                <a:lnTo>
                  <a:pt x="282" y="425"/>
                </a:lnTo>
                <a:lnTo>
                  <a:pt x="269" y="427"/>
                </a:lnTo>
                <a:lnTo>
                  <a:pt x="255" y="427"/>
                </a:lnTo>
                <a:lnTo>
                  <a:pt x="244" y="429"/>
                </a:lnTo>
                <a:lnTo>
                  <a:pt x="232" y="429"/>
                </a:lnTo>
                <a:lnTo>
                  <a:pt x="223" y="429"/>
                </a:lnTo>
                <a:lnTo>
                  <a:pt x="213" y="429"/>
                </a:lnTo>
                <a:lnTo>
                  <a:pt x="205" y="427"/>
                </a:lnTo>
                <a:lnTo>
                  <a:pt x="198" y="427"/>
                </a:lnTo>
                <a:lnTo>
                  <a:pt x="192" y="425"/>
                </a:lnTo>
                <a:lnTo>
                  <a:pt x="171" y="418"/>
                </a:lnTo>
                <a:lnTo>
                  <a:pt x="159" y="412"/>
                </a:lnTo>
                <a:lnTo>
                  <a:pt x="148" y="408"/>
                </a:lnTo>
                <a:lnTo>
                  <a:pt x="136" y="402"/>
                </a:lnTo>
                <a:lnTo>
                  <a:pt x="125" y="397"/>
                </a:lnTo>
                <a:lnTo>
                  <a:pt x="111" y="389"/>
                </a:lnTo>
                <a:lnTo>
                  <a:pt x="100" y="381"/>
                </a:lnTo>
              </a:path>
            </a:pathLst>
          </a:custGeom>
          <a:solidFill>
            <a:srgbClr val="ff0000"/>
          </a:solidFill>
          <a:ln w="127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push dir="u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3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35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3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640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任意多边形: 形状 3"/>
            <p:cNvSpPr/>
            <p:nvPr/>
          </p:nvSpPr>
          <p:spPr>
            <a:xfrm>
              <a:off x="385920" y="266760"/>
              <a:ext cx="1433160" cy="307440"/>
            </a:xfrm>
            <a:custGeom>
              <a:avLst/>
              <a:gdLst>
                <a:gd name="textAreaLeft" fmla="*/ 0 w 1433160"/>
                <a:gd name="textAreaRight" fmla="*/ 1433520 w 14331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1431417" h="308610">
                  <a:moveTo>
                    <a:pt x="1364742" y="245364"/>
                  </a:moveTo>
                  <a:cubicBezTo>
                    <a:pt x="1378204" y="245364"/>
                    <a:pt x="1389825" y="247968"/>
                    <a:pt x="1399604" y="253175"/>
                  </a:cubicBezTo>
                  <a:cubicBezTo>
                    <a:pt x="1409383" y="258382"/>
                    <a:pt x="1416177" y="263652"/>
                    <a:pt x="1419987" y="268986"/>
                  </a:cubicBezTo>
                  <a:cubicBezTo>
                    <a:pt x="1423797" y="274320"/>
                    <a:pt x="1425702" y="280797"/>
                    <a:pt x="1425702" y="288417"/>
                  </a:cubicBezTo>
                  <a:cubicBezTo>
                    <a:pt x="1425702" y="301879"/>
                    <a:pt x="1423924" y="308610"/>
                    <a:pt x="1420368" y="308610"/>
                  </a:cubicBezTo>
                  <a:cubicBezTo>
                    <a:pt x="1417828" y="308610"/>
                    <a:pt x="1411859" y="304356"/>
                    <a:pt x="1402461" y="295847"/>
                  </a:cubicBezTo>
                  <a:cubicBezTo>
                    <a:pt x="1393063" y="287338"/>
                    <a:pt x="1383284" y="277622"/>
                    <a:pt x="1373124" y="266700"/>
                  </a:cubicBezTo>
                  <a:cubicBezTo>
                    <a:pt x="1362964" y="255778"/>
                    <a:pt x="1357884" y="249492"/>
                    <a:pt x="1357884" y="247841"/>
                  </a:cubicBezTo>
                  <a:cubicBezTo>
                    <a:pt x="1357884" y="246190"/>
                    <a:pt x="1360170" y="245364"/>
                    <a:pt x="1364742" y="245364"/>
                  </a:cubicBezTo>
                  <a:close/>
                  <a:moveTo>
                    <a:pt x="206502" y="210312"/>
                  </a:moveTo>
                  <a:cubicBezTo>
                    <a:pt x="195072" y="219202"/>
                    <a:pt x="186944" y="226822"/>
                    <a:pt x="182118" y="233172"/>
                  </a:cubicBezTo>
                  <a:cubicBezTo>
                    <a:pt x="193294" y="237744"/>
                    <a:pt x="199898" y="240030"/>
                    <a:pt x="201930" y="240030"/>
                  </a:cubicBezTo>
                  <a:cubicBezTo>
                    <a:pt x="203962" y="240030"/>
                    <a:pt x="205232" y="239649"/>
                    <a:pt x="205740" y="238887"/>
                  </a:cubicBezTo>
                  <a:cubicBezTo>
                    <a:pt x="206248" y="238125"/>
                    <a:pt x="206566" y="234379"/>
                    <a:pt x="206693" y="227648"/>
                  </a:cubicBezTo>
                  <a:cubicBezTo>
                    <a:pt x="206820" y="220917"/>
                    <a:pt x="206756" y="215138"/>
                    <a:pt x="206502" y="210312"/>
                  </a:cubicBezTo>
                  <a:close/>
                  <a:moveTo>
                    <a:pt x="1337644" y="207169"/>
                  </a:moveTo>
                  <a:cubicBezTo>
                    <a:pt x="1336342" y="207486"/>
                    <a:pt x="1335024" y="208153"/>
                    <a:pt x="1333691" y="209169"/>
                  </a:cubicBezTo>
                  <a:cubicBezTo>
                    <a:pt x="1331024" y="211201"/>
                    <a:pt x="1329309" y="213995"/>
                    <a:pt x="1328547" y="217551"/>
                  </a:cubicBezTo>
                  <a:cubicBezTo>
                    <a:pt x="1331341" y="216789"/>
                    <a:pt x="1335024" y="215900"/>
                    <a:pt x="1339596" y="214884"/>
                  </a:cubicBezTo>
                  <a:cubicBezTo>
                    <a:pt x="1340612" y="212090"/>
                    <a:pt x="1341247" y="209550"/>
                    <a:pt x="1341501" y="207264"/>
                  </a:cubicBezTo>
                  <a:cubicBezTo>
                    <a:pt x="1340231" y="206883"/>
                    <a:pt x="1338945" y="206851"/>
                    <a:pt x="1337644" y="207169"/>
                  </a:cubicBezTo>
                  <a:close/>
                  <a:moveTo>
                    <a:pt x="868299" y="205740"/>
                  </a:moveTo>
                  <a:cubicBezTo>
                    <a:pt x="867537" y="205740"/>
                    <a:pt x="866521" y="206121"/>
                    <a:pt x="865251" y="206883"/>
                  </a:cubicBezTo>
                  <a:cubicBezTo>
                    <a:pt x="857885" y="211455"/>
                    <a:pt x="849249" y="213741"/>
                    <a:pt x="839343" y="213741"/>
                  </a:cubicBezTo>
                  <a:cubicBezTo>
                    <a:pt x="832485" y="213741"/>
                    <a:pt x="828421" y="215519"/>
                    <a:pt x="827151" y="219075"/>
                  </a:cubicBezTo>
                  <a:cubicBezTo>
                    <a:pt x="829183" y="224155"/>
                    <a:pt x="830707" y="230505"/>
                    <a:pt x="831723" y="238125"/>
                  </a:cubicBezTo>
                  <a:cubicBezTo>
                    <a:pt x="832739" y="238633"/>
                    <a:pt x="838835" y="238887"/>
                    <a:pt x="850011" y="238887"/>
                  </a:cubicBezTo>
                  <a:cubicBezTo>
                    <a:pt x="856869" y="233299"/>
                    <a:pt x="861822" y="227330"/>
                    <a:pt x="864870" y="220980"/>
                  </a:cubicBezTo>
                  <a:cubicBezTo>
                    <a:pt x="867918" y="214630"/>
                    <a:pt x="869442" y="210503"/>
                    <a:pt x="869442" y="208598"/>
                  </a:cubicBezTo>
                  <a:cubicBezTo>
                    <a:pt x="869442" y="206693"/>
                    <a:pt x="869061" y="205740"/>
                    <a:pt x="868299" y="205740"/>
                  </a:cubicBezTo>
                  <a:close/>
                  <a:moveTo>
                    <a:pt x="995553" y="186690"/>
                  </a:moveTo>
                  <a:cubicBezTo>
                    <a:pt x="991489" y="186690"/>
                    <a:pt x="976630" y="192786"/>
                    <a:pt x="950976" y="204978"/>
                  </a:cubicBezTo>
                  <a:cubicBezTo>
                    <a:pt x="951230" y="215646"/>
                    <a:pt x="951103" y="226822"/>
                    <a:pt x="950595" y="238506"/>
                  </a:cubicBezTo>
                  <a:cubicBezTo>
                    <a:pt x="959485" y="236982"/>
                    <a:pt x="965073" y="236093"/>
                    <a:pt x="967359" y="235839"/>
                  </a:cubicBezTo>
                  <a:cubicBezTo>
                    <a:pt x="975995" y="229743"/>
                    <a:pt x="983298" y="221044"/>
                    <a:pt x="989267" y="209741"/>
                  </a:cubicBezTo>
                  <a:cubicBezTo>
                    <a:pt x="995236" y="198438"/>
                    <a:pt x="998220" y="191770"/>
                    <a:pt x="998220" y="189738"/>
                  </a:cubicBezTo>
                  <a:cubicBezTo>
                    <a:pt x="998220" y="187706"/>
                    <a:pt x="997331" y="186690"/>
                    <a:pt x="995553" y="186690"/>
                  </a:cubicBezTo>
                  <a:close/>
                  <a:moveTo>
                    <a:pt x="1004507" y="150495"/>
                  </a:moveTo>
                  <a:cubicBezTo>
                    <a:pt x="1008698" y="150495"/>
                    <a:pt x="1013714" y="151956"/>
                    <a:pt x="1019556" y="154877"/>
                  </a:cubicBezTo>
                  <a:cubicBezTo>
                    <a:pt x="1025398" y="157798"/>
                    <a:pt x="1030859" y="163068"/>
                    <a:pt x="1035939" y="170688"/>
                  </a:cubicBezTo>
                  <a:cubicBezTo>
                    <a:pt x="1041019" y="178308"/>
                    <a:pt x="1043559" y="183896"/>
                    <a:pt x="1043559" y="187452"/>
                  </a:cubicBezTo>
                  <a:cubicBezTo>
                    <a:pt x="1043559" y="191008"/>
                    <a:pt x="1041083" y="195009"/>
                    <a:pt x="1036130" y="199454"/>
                  </a:cubicBezTo>
                  <a:cubicBezTo>
                    <a:pt x="1031177" y="203899"/>
                    <a:pt x="1026795" y="208471"/>
                    <a:pt x="1022985" y="213170"/>
                  </a:cubicBezTo>
                  <a:cubicBezTo>
                    <a:pt x="1019175" y="217869"/>
                    <a:pt x="1013333" y="226060"/>
                    <a:pt x="1005459" y="237744"/>
                  </a:cubicBezTo>
                  <a:cubicBezTo>
                    <a:pt x="1011555" y="241046"/>
                    <a:pt x="1015746" y="245364"/>
                    <a:pt x="1018032" y="250698"/>
                  </a:cubicBezTo>
                  <a:cubicBezTo>
                    <a:pt x="1020318" y="256032"/>
                    <a:pt x="1021461" y="260731"/>
                    <a:pt x="1021461" y="264795"/>
                  </a:cubicBezTo>
                  <a:cubicBezTo>
                    <a:pt x="1021461" y="268859"/>
                    <a:pt x="1019429" y="270891"/>
                    <a:pt x="1015365" y="270891"/>
                  </a:cubicBezTo>
                  <a:cubicBezTo>
                    <a:pt x="1012825" y="270891"/>
                    <a:pt x="1009904" y="270129"/>
                    <a:pt x="1006602" y="268605"/>
                  </a:cubicBezTo>
                  <a:cubicBezTo>
                    <a:pt x="995934" y="263271"/>
                    <a:pt x="984123" y="260604"/>
                    <a:pt x="971169" y="260604"/>
                  </a:cubicBezTo>
                  <a:cubicBezTo>
                    <a:pt x="961771" y="260604"/>
                    <a:pt x="954405" y="262255"/>
                    <a:pt x="949071" y="265557"/>
                  </a:cubicBezTo>
                  <a:cubicBezTo>
                    <a:pt x="947293" y="269113"/>
                    <a:pt x="945198" y="270891"/>
                    <a:pt x="942785" y="270891"/>
                  </a:cubicBezTo>
                  <a:cubicBezTo>
                    <a:pt x="940372" y="270891"/>
                    <a:pt x="936625" y="267272"/>
                    <a:pt x="931545" y="260033"/>
                  </a:cubicBezTo>
                  <a:cubicBezTo>
                    <a:pt x="926465" y="252794"/>
                    <a:pt x="923925" y="246253"/>
                    <a:pt x="923925" y="240411"/>
                  </a:cubicBezTo>
                  <a:lnTo>
                    <a:pt x="924687" y="208788"/>
                  </a:lnTo>
                  <a:cubicBezTo>
                    <a:pt x="924687" y="187198"/>
                    <a:pt x="923163" y="173990"/>
                    <a:pt x="920115" y="169164"/>
                  </a:cubicBezTo>
                  <a:cubicBezTo>
                    <a:pt x="918845" y="166878"/>
                    <a:pt x="918210" y="164846"/>
                    <a:pt x="918210" y="163068"/>
                  </a:cubicBezTo>
                  <a:cubicBezTo>
                    <a:pt x="918210" y="161290"/>
                    <a:pt x="919163" y="160401"/>
                    <a:pt x="921068" y="160401"/>
                  </a:cubicBezTo>
                  <a:cubicBezTo>
                    <a:pt x="922973" y="160401"/>
                    <a:pt x="927100" y="161925"/>
                    <a:pt x="933450" y="164973"/>
                  </a:cubicBezTo>
                  <a:cubicBezTo>
                    <a:pt x="939800" y="168021"/>
                    <a:pt x="944118" y="171831"/>
                    <a:pt x="946404" y="176403"/>
                  </a:cubicBezTo>
                  <a:cubicBezTo>
                    <a:pt x="964692" y="166243"/>
                    <a:pt x="977900" y="159385"/>
                    <a:pt x="986028" y="155829"/>
                  </a:cubicBezTo>
                  <a:cubicBezTo>
                    <a:pt x="994156" y="152273"/>
                    <a:pt x="1000316" y="150495"/>
                    <a:pt x="1004507" y="150495"/>
                  </a:cubicBezTo>
                  <a:close/>
                  <a:moveTo>
                    <a:pt x="1209294" y="126111"/>
                  </a:moveTo>
                  <a:cubicBezTo>
                    <a:pt x="1216152" y="126111"/>
                    <a:pt x="1221994" y="128397"/>
                    <a:pt x="1226820" y="132969"/>
                  </a:cubicBezTo>
                  <a:cubicBezTo>
                    <a:pt x="1231646" y="137541"/>
                    <a:pt x="1234059" y="142621"/>
                    <a:pt x="1234059" y="148209"/>
                  </a:cubicBezTo>
                  <a:cubicBezTo>
                    <a:pt x="1234059" y="150241"/>
                    <a:pt x="1233678" y="152019"/>
                    <a:pt x="1232916" y="153543"/>
                  </a:cubicBezTo>
                  <a:cubicBezTo>
                    <a:pt x="1229614" y="160147"/>
                    <a:pt x="1227328" y="167386"/>
                    <a:pt x="1226058" y="175260"/>
                  </a:cubicBezTo>
                  <a:lnTo>
                    <a:pt x="1215390" y="236601"/>
                  </a:lnTo>
                  <a:cubicBezTo>
                    <a:pt x="1214628" y="240411"/>
                    <a:pt x="1214247" y="242951"/>
                    <a:pt x="1214247" y="244221"/>
                  </a:cubicBezTo>
                  <a:cubicBezTo>
                    <a:pt x="1214247" y="247015"/>
                    <a:pt x="1214755" y="248412"/>
                    <a:pt x="1215771" y="248412"/>
                  </a:cubicBezTo>
                  <a:cubicBezTo>
                    <a:pt x="1216787" y="248412"/>
                    <a:pt x="1217740" y="247904"/>
                    <a:pt x="1218629" y="246888"/>
                  </a:cubicBezTo>
                  <a:cubicBezTo>
                    <a:pt x="1219518" y="245872"/>
                    <a:pt x="1223074" y="239649"/>
                    <a:pt x="1229297" y="228219"/>
                  </a:cubicBezTo>
                  <a:cubicBezTo>
                    <a:pt x="1235520" y="216789"/>
                    <a:pt x="1239774" y="207772"/>
                    <a:pt x="1242060" y="201168"/>
                  </a:cubicBezTo>
                  <a:cubicBezTo>
                    <a:pt x="1242822" y="199136"/>
                    <a:pt x="1243838" y="198120"/>
                    <a:pt x="1245108" y="198120"/>
                  </a:cubicBezTo>
                  <a:cubicBezTo>
                    <a:pt x="1246378" y="198120"/>
                    <a:pt x="1247013" y="199898"/>
                    <a:pt x="1247013" y="203454"/>
                  </a:cubicBezTo>
                  <a:cubicBezTo>
                    <a:pt x="1247013" y="210820"/>
                    <a:pt x="1240917" y="233299"/>
                    <a:pt x="1228725" y="270891"/>
                  </a:cubicBezTo>
                  <a:cubicBezTo>
                    <a:pt x="1225931" y="279273"/>
                    <a:pt x="1224534" y="286004"/>
                    <a:pt x="1224534" y="291084"/>
                  </a:cubicBezTo>
                  <a:lnTo>
                    <a:pt x="1224915" y="299847"/>
                  </a:lnTo>
                  <a:cubicBezTo>
                    <a:pt x="1224915" y="304419"/>
                    <a:pt x="1223328" y="306705"/>
                    <a:pt x="1220153" y="306705"/>
                  </a:cubicBezTo>
                  <a:cubicBezTo>
                    <a:pt x="1216978" y="306705"/>
                    <a:pt x="1212533" y="303403"/>
                    <a:pt x="1206818" y="296799"/>
                  </a:cubicBezTo>
                  <a:cubicBezTo>
                    <a:pt x="1201103" y="290195"/>
                    <a:pt x="1197229" y="283274"/>
                    <a:pt x="1195197" y="276035"/>
                  </a:cubicBezTo>
                  <a:cubicBezTo>
                    <a:pt x="1193165" y="268796"/>
                    <a:pt x="1192149" y="256286"/>
                    <a:pt x="1192149" y="238506"/>
                  </a:cubicBezTo>
                  <a:cubicBezTo>
                    <a:pt x="1192149" y="220726"/>
                    <a:pt x="1192657" y="201295"/>
                    <a:pt x="1193673" y="180213"/>
                  </a:cubicBezTo>
                  <a:cubicBezTo>
                    <a:pt x="1185037" y="189611"/>
                    <a:pt x="1176147" y="194310"/>
                    <a:pt x="1167003" y="194310"/>
                  </a:cubicBezTo>
                  <a:cubicBezTo>
                    <a:pt x="1160653" y="194310"/>
                    <a:pt x="1154621" y="192342"/>
                    <a:pt x="1148906" y="188405"/>
                  </a:cubicBezTo>
                  <a:cubicBezTo>
                    <a:pt x="1143191" y="184468"/>
                    <a:pt x="1138555" y="178880"/>
                    <a:pt x="1134999" y="171641"/>
                  </a:cubicBezTo>
                  <a:cubicBezTo>
                    <a:pt x="1131443" y="164402"/>
                    <a:pt x="1129665" y="159322"/>
                    <a:pt x="1129665" y="156401"/>
                  </a:cubicBezTo>
                  <a:cubicBezTo>
                    <a:pt x="1129665" y="153480"/>
                    <a:pt x="1130618" y="152019"/>
                    <a:pt x="1132523" y="152019"/>
                  </a:cubicBezTo>
                  <a:cubicBezTo>
                    <a:pt x="1134428" y="152019"/>
                    <a:pt x="1136142" y="152908"/>
                    <a:pt x="1137666" y="154686"/>
                  </a:cubicBezTo>
                  <a:cubicBezTo>
                    <a:pt x="1139190" y="156464"/>
                    <a:pt x="1141540" y="157353"/>
                    <a:pt x="1144715" y="157353"/>
                  </a:cubicBezTo>
                  <a:cubicBezTo>
                    <a:pt x="1147890" y="157353"/>
                    <a:pt x="1152589" y="156147"/>
                    <a:pt x="1158812" y="153734"/>
                  </a:cubicBezTo>
                  <a:cubicBezTo>
                    <a:pt x="1165035" y="151321"/>
                    <a:pt x="1171893" y="148019"/>
                    <a:pt x="1179386" y="143828"/>
                  </a:cubicBezTo>
                  <a:cubicBezTo>
                    <a:pt x="1186879" y="139637"/>
                    <a:pt x="1191006" y="136970"/>
                    <a:pt x="1191768" y="135827"/>
                  </a:cubicBezTo>
                  <a:cubicBezTo>
                    <a:pt x="1192530" y="134684"/>
                    <a:pt x="1192911" y="133223"/>
                    <a:pt x="1192911" y="131445"/>
                  </a:cubicBezTo>
                  <a:cubicBezTo>
                    <a:pt x="1192911" y="127889"/>
                    <a:pt x="1198372" y="126111"/>
                    <a:pt x="1209294" y="126111"/>
                  </a:cubicBezTo>
                  <a:close/>
                  <a:moveTo>
                    <a:pt x="203454" y="105156"/>
                  </a:moveTo>
                  <a:cubicBezTo>
                    <a:pt x="194818" y="108966"/>
                    <a:pt x="184277" y="110871"/>
                    <a:pt x="171831" y="110871"/>
                  </a:cubicBezTo>
                  <a:cubicBezTo>
                    <a:pt x="171831" y="118999"/>
                    <a:pt x="172085" y="124206"/>
                    <a:pt x="172593" y="126492"/>
                  </a:cubicBezTo>
                  <a:cubicBezTo>
                    <a:pt x="173101" y="128778"/>
                    <a:pt x="174117" y="129667"/>
                    <a:pt x="175641" y="129159"/>
                  </a:cubicBezTo>
                  <a:cubicBezTo>
                    <a:pt x="185293" y="126873"/>
                    <a:pt x="194691" y="124841"/>
                    <a:pt x="203835" y="123063"/>
                  </a:cubicBezTo>
                  <a:cubicBezTo>
                    <a:pt x="203581" y="118491"/>
                    <a:pt x="203454" y="112522"/>
                    <a:pt x="203454" y="105156"/>
                  </a:cubicBezTo>
                  <a:close/>
                  <a:moveTo>
                    <a:pt x="198882" y="62484"/>
                  </a:moveTo>
                  <a:cubicBezTo>
                    <a:pt x="189230" y="65532"/>
                    <a:pt x="179197" y="67310"/>
                    <a:pt x="168783" y="67818"/>
                  </a:cubicBezTo>
                  <a:cubicBezTo>
                    <a:pt x="170815" y="73406"/>
                    <a:pt x="172466" y="79883"/>
                    <a:pt x="173736" y="87249"/>
                  </a:cubicBezTo>
                  <a:cubicBezTo>
                    <a:pt x="180340" y="84201"/>
                    <a:pt x="190754" y="81280"/>
                    <a:pt x="204978" y="78486"/>
                  </a:cubicBezTo>
                  <a:cubicBezTo>
                    <a:pt x="204470" y="71374"/>
                    <a:pt x="202438" y="66040"/>
                    <a:pt x="198882" y="62484"/>
                  </a:cubicBezTo>
                  <a:close/>
                  <a:moveTo>
                    <a:pt x="946404" y="53721"/>
                  </a:moveTo>
                  <a:cubicBezTo>
                    <a:pt x="945642" y="53721"/>
                    <a:pt x="943420" y="54737"/>
                    <a:pt x="939737" y="56769"/>
                  </a:cubicBezTo>
                  <a:cubicBezTo>
                    <a:pt x="936054" y="58801"/>
                    <a:pt x="931799" y="59817"/>
                    <a:pt x="926973" y="59817"/>
                  </a:cubicBezTo>
                  <a:cubicBezTo>
                    <a:pt x="922147" y="59817"/>
                    <a:pt x="915988" y="58992"/>
                    <a:pt x="908495" y="57341"/>
                  </a:cubicBezTo>
                  <a:cubicBezTo>
                    <a:pt x="901002" y="55690"/>
                    <a:pt x="894969" y="54864"/>
                    <a:pt x="890397" y="54864"/>
                  </a:cubicBezTo>
                  <a:cubicBezTo>
                    <a:pt x="885825" y="54864"/>
                    <a:pt x="883666" y="56769"/>
                    <a:pt x="883920" y="60579"/>
                  </a:cubicBezTo>
                  <a:cubicBezTo>
                    <a:pt x="889508" y="67691"/>
                    <a:pt x="892302" y="73025"/>
                    <a:pt x="892302" y="76581"/>
                  </a:cubicBezTo>
                  <a:cubicBezTo>
                    <a:pt x="892302" y="80137"/>
                    <a:pt x="891794" y="83947"/>
                    <a:pt x="890778" y="88011"/>
                  </a:cubicBezTo>
                  <a:cubicBezTo>
                    <a:pt x="889762" y="92075"/>
                    <a:pt x="889254" y="95441"/>
                    <a:pt x="889254" y="98108"/>
                  </a:cubicBezTo>
                  <a:cubicBezTo>
                    <a:pt x="889254" y="100775"/>
                    <a:pt x="890651" y="102108"/>
                    <a:pt x="893445" y="102108"/>
                  </a:cubicBezTo>
                  <a:cubicBezTo>
                    <a:pt x="896239" y="102108"/>
                    <a:pt x="902589" y="100457"/>
                    <a:pt x="912495" y="97155"/>
                  </a:cubicBezTo>
                  <a:cubicBezTo>
                    <a:pt x="922401" y="93853"/>
                    <a:pt x="930720" y="86741"/>
                    <a:pt x="937451" y="75819"/>
                  </a:cubicBezTo>
                  <a:cubicBezTo>
                    <a:pt x="944182" y="64897"/>
                    <a:pt x="947547" y="58484"/>
                    <a:pt x="947547" y="56579"/>
                  </a:cubicBezTo>
                  <a:cubicBezTo>
                    <a:pt x="947547" y="54674"/>
                    <a:pt x="947166" y="53721"/>
                    <a:pt x="946404" y="53721"/>
                  </a:cubicBezTo>
                  <a:close/>
                  <a:moveTo>
                    <a:pt x="252794" y="41910"/>
                  </a:moveTo>
                  <a:cubicBezTo>
                    <a:pt x="248095" y="41910"/>
                    <a:pt x="239649" y="45847"/>
                    <a:pt x="227457" y="53721"/>
                  </a:cubicBezTo>
                  <a:cubicBezTo>
                    <a:pt x="230759" y="58547"/>
                    <a:pt x="232537" y="64262"/>
                    <a:pt x="232791" y="70866"/>
                  </a:cubicBezTo>
                  <a:cubicBezTo>
                    <a:pt x="239649" y="71374"/>
                    <a:pt x="244983" y="72962"/>
                    <a:pt x="248793" y="75629"/>
                  </a:cubicBezTo>
                  <a:cubicBezTo>
                    <a:pt x="252603" y="78296"/>
                    <a:pt x="254508" y="80963"/>
                    <a:pt x="254508" y="83630"/>
                  </a:cubicBezTo>
                  <a:cubicBezTo>
                    <a:pt x="254508" y="86297"/>
                    <a:pt x="252667" y="88900"/>
                    <a:pt x="248984" y="91440"/>
                  </a:cubicBezTo>
                  <a:cubicBezTo>
                    <a:pt x="245301" y="93980"/>
                    <a:pt x="239903" y="96012"/>
                    <a:pt x="232791" y="97536"/>
                  </a:cubicBezTo>
                  <a:cubicBezTo>
                    <a:pt x="232029" y="103886"/>
                    <a:pt x="231648" y="110109"/>
                    <a:pt x="231648" y="116205"/>
                  </a:cubicBezTo>
                  <a:cubicBezTo>
                    <a:pt x="239776" y="115443"/>
                    <a:pt x="245491" y="112713"/>
                    <a:pt x="248793" y="108014"/>
                  </a:cubicBezTo>
                  <a:cubicBezTo>
                    <a:pt x="252095" y="103315"/>
                    <a:pt x="255588" y="95123"/>
                    <a:pt x="259271" y="83439"/>
                  </a:cubicBezTo>
                  <a:cubicBezTo>
                    <a:pt x="262954" y="71755"/>
                    <a:pt x="264795" y="64072"/>
                    <a:pt x="264795" y="60389"/>
                  </a:cubicBezTo>
                  <a:cubicBezTo>
                    <a:pt x="264795" y="56706"/>
                    <a:pt x="263970" y="52705"/>
                    <a:pt x="262319" y="48387"/>
                  </a:cubicBezTo>
                  <a:cubicBezTo>
                    <a:pt x="260668" y="44069"/>
                    <a:pt x="257493" y="41910"/>
                    <a:pt x="252794" y="41910"/>
                  </a:cubicBezTo>
                  <a:close/>
                  <a:moveTo>
                    <a:pt x="1198483" y="38481"/>
                  </a:moveTo>
                  <a:cubicBezTo>
                    <a:pt x="1199404" y="38227"/>
                    <a:pt x="1200785" y="38354"/>
                    <a:pt x="1202627" y="38862"/>
                  </a:cubicBezTo>
                  <a:cubicBezTo>
                    <a:pt x="1206310" y="39878"/>
                    <a:pt x="1209548" y="40386"/>
                    <a:pt x="1212342" y="40386"/>
                  </a:cubicBezTo>
                  <a:lnTo>
                    <a:pt x="1224534" y="39243"/>
                  </a:lnTo>
                  <a:cubicBezTo>
                    <a:pt x="1234440" y="39243"/>
                    <a:pt x="1243775" y="42355"/>
                    <a:pt x="1252538" y="48578"/>
                  </a:cubicBezTo>
                  <a:cubicBezTo>
                    <a:pt x="1261301" y="54801"/>
                    <a:pt x="1265682" y="62103"/>
                    <a:pt x="1265682" y="70485"/>
                  </a:cubicBezTo>
                  <a:cubicBezTo>
                    <a:pt x="1265682" y="74295"/>
                    <a:pt x="1264349" y="77597"/>
                    <a:pt x="1261682" y="80391"/>
                  </a:cubicBezTo>
                  <a:cubicBezTo>
                    <a:pt x="1259015" y="83185"/>
                    <a:pt x="1255522" y="84582"/>
                    <a:pt x="1251204" y="84582"/>
                  </a:cubicBezTo>
                  <a:lnTo>
                    <a:pt x="1242441" y="83439"/>
                  </a:lnTo>
                  <a:cubicBezTo>
                    <a:pt x="1237107" y="83439"/>
                    <a:pt x="1231964" y="85852"/>
                    <a:pt x="1227011" y="90678"/>
                  </a:cubicBezTo>
                  <a:cubicBezTo>
                    <a:pt x="1222058" y="95504"/>
                    <a:pt x="1213612" y="99695"/>
                    <a:pt x="1201674" y="103251"/>
                  </a:cubicBezTo>
                  <a:cubicBezTo>
                    <a:pt x="1189736" y="106807"/>
                    <a:pt x="1182497" y="108585"/>
                    <a:pt x="1179957" y="108585"/>
                  </a:cubicBezTo>
                  <a:cubicBezTo>
                    <a:pt x="1177417" y="108585"/>
                    <a:pt x="1176147" y="108204"/>
                    <a:pt x="1176147" y="107442"/>
                  </a:cubicBezTo>
                  <a:cubicBezTo>
                    <a:pt x="1176147" y="106680"/>
                    <a:pt x="1176782" y="105791"/>
                    <a:pt x="1178052" y="104775"/>
                  </a:cubicBezTo>
                  <a:cubicBezTo>
                    <a:pt x="1182878" y="101219"/>
                    <a:pt x="1189673" y="95377"/>
                    <a:pt x="1198436" y="87249"/>
                  </a:cubicBezTo>
                  <a:cubicBezTo>
                    <a:pt x="1207199" y="79121"/>
                    <a:pt x="1212088" y="74359"/>
                    <a:pt x="1213104" y="72962"/>
                  </a:cubicBezTo>
                  <a:cubicBezTo>
                    <a:pt x="1214120" y="71565"/>
                    <a:pt x="1214628" y="70104"/>
                    <a:pt x="1214628" y="68580"/>
                  </a:cubicBezTo>
                  <a:cubicBezTo>
                    <a:pt x="1214628" y="65532"/>
                    <a:pt x="1209929" y="58420"/>
                    <a:pt x="1200531" y="47244"/>
                  </a:cubicBezTo>
                  <a:cubicBezTo>
                    <a:pt x="1198245" y="44704"/>
                    <a:pt x="1197102" y="42418"/>
                    <a:pt x="1197102" y="40386"/>
                  </a:cubicBezTo>
                  <a:cubicBezTo>
                    <a:pt x="1197102" y="39370"/>
                    <a:pt x="1197563" y="38735"/>
                    <a:pt x="1198483" y="38481"/>
                  </a:cubicBezTo>
                  <a:close/>
                  <a:moveTo>
                    <a:pt x="91059" y="14097"/>
                  </a:moveTo>
                  <a:cubicBezTo>
                    <a:pt x="105537" y="14097"/>
                    <a:pt x="116904" y="18161"/>
                    <a:pt x="125159" y="26289"/>
                  </a:cubicBezTo>
                  <a:cubicBezTo>
                    <a:pt x="133414" y="34417"/>
                    <a:pt x="137541" y="40958"/>
                    <a:pt x="137541" y="45911"/>
                  </a:cubicBezTo>
                  <a:cubicBezTo>
                    <a:pt x="137541" y="50864"/>
                    <a:pt x="135954" y="54991"/>
                    <a:pt x="132779" y="58293"/>
                  </a:cubicBezTo>
                  <a:cubicBezTo>
                    <a:pt x="129604" y="61595"/>
                    <a:pt x="126111" y="63246"/>
                    <a:pt x="122301" y="63246"/>
                  </a:cubicBezTo>
                  <a:cubicBezTo>
                    <a:pt x="121031" y="63246"/>
                    <a:pt x="119317" y="62929"/>
                    <a:pt x="117158" y="62294"/>
                  </a:cubicBezTo>
                  <a:cubicBezTo>
                    <a:pt x="114999" y="61659"/>
                    <a:pt x="112840" y="61341"/>
                    <a:pt x="110681" y="61341"/>
                  </a:cubicBezTo>
                  <a:cubicBezTo>
                    <a:pt x="108522" y="61341"/>
                    <a:pt x="105791" y="62103"/>
                    <a:pt x="102489" y="63627"/>
                  </a:cubicBezTo>
                  <a:cubicBezTo>
                    <a:pt x="99187" y="65151"/>
                    <a:pt x="93282" y="68580"/>
                    <a:pt x="84773" y="73914"/>
                  </a:cubicBezTo>
                  <a:cubicBezTo>
                    <a:pt x="76264" y="79248"/>
                    <a:pt x="70803" y="82360"/>
                    <a:pt x="68390" y="83249"/>
                  </a:cubicBezTo>
                  <a:cubicBezTo>
                    <a:pt x="65977" y="84138"/>
                    <a:pt x="63119" y="84582"/>
                    <a:pt x="59817" y="84582"/>
                  </a:cubicBezTo>
                  <a:cubicBezTo>
                    <a:pt x="51435" y="84582"/>
                    <a:pt x="41466" y="90170"/>
                    <a:pt x="29909" y="101346"/>
                  </a:cubicBezTo>
                  <a:cubicBezTo>
                    <a:pt x="18352" y="112522"/>
                    <a:pt x="12573" y="123190"/>
                    <a:pt x="12573" y="133350"/>
                  </a:cubicBezTo>
                  <a:cubicBezTo>
                    <a:pt x="12573" y="137922"/>
                    <a:pt x="13843" y="140208"/>
                    <a:pt x="16383" y="140208"/>
                  </a:cubicBezTo>
                  <a:cubicBezTo>
                    <a:pt x="21463" y="140208"/>
                    <a:pt x="30036" y="136271"/>
                    <a:pt x="42101" y="128397"/>
                  </a:cubicBezTo>
                  <a:cubicBezTo>
                    <a:pt x="54166" y="120523"/>
                    <a:pt x="62484" y="113411"/>
                    <a:pt x="67056" y="107061"/>
                  </a:cubicBezTo>
                  <a:cubicBezTo>
                    <a:pt x="69850" y="102997"/>
                    <a:pt x="75819" y="100965"/>
                    <a:pt x="84963" y="100965"/>
                  </a:cubicBezTo>
                  <a:cubicBezTo>
                    <a:pt x="102743" y="100965"/>
                    <a:pt x="111633" y="108966"/>
                    <a:pt x="111633" y="124968"/>
                  </a:cubicBezTo>
                  <a:cubicBezTo>
                    <a:pt x="111633" y="128270"/>
                    <a:pt x="111125" y="131572"/>
                    <a:pt x="110109" y="134874"/>
                  </a:cubicBezTo>
                  <a:cubicBezTo>
                    <a:pt x="101727" y="161290"/>
                    <a:pt x="96838" y="179070"/>
                    <a:pt x="95441" y="188214"/>
                  </a:cubicBezTo>
                  <a:cubicBezTo>
                    <a:pt x="94044" y="197358"/>
                    <a:pt x="93345" y="206439"/>
                    <a:pt x="93345" y="215456"/>
                  </a:cubicBezTo>
                  <a:cubicBezTo>
                    <a:pt x="93345" y="224473"/>
                    <a:pt x="93472" y="229426"/>
                    <a:pt x="93726" y="230315"/>
                  </a:cubicBezTo>
                  <a:cubicBezTo>
                    <a:pt x="93980" y="231204"/>
                    <a:pt x="94425" y="231648"/>
                    <a:pt x="95060" y="231648"/>
                  </a:cubicBezTo>
                  <a:cubicBezTo>
                    <a:pt x="95695" y="231648"/>
                    <a:pt x="96266" y="231267"/>
                    <a:pt x="96774" y="230505"/>
                  </a:cubicBezTo>
                  <a:cubicBezTo>
                    <a:pt x="97282" y="229743"/>
                    <a:pt x="100013" y="224473"/>
                    <a:pt x="104966" y="214694"/>
                  </a:cubicBezTo>
                  <a:cubicBezTo>
                    <a:pt x="109919" y="204915"/>
                    <a:pt x="114999" y="193739"/>
                    <a:pt x="120206" y="181166"/>
                  </a:cubicBezTo>
                  <a:cubicBezTo>
                    <a:pt x="125413" y="168593"/>
                    <a:pt x="131445" y="157099"/>
                    <a:pt x="138303" y="146685"/>
                  </a:cubicBezTo>
                  <a:cubicBezTo>
                    <a:pt x="135763" y="156083"/>
                    <a:pt x="133604" y="167259"/>
                    <a:pt x="131826" y="180213"/>
                  </a:cubicBezTo>
                  <a:cubicBezTo>
                    <a:pt x="155956" y="171831"/>
                    <a:pt x="180721" y="165100"/>
                    <a:pt x="206121" y="160020"/>
                  </a:cubicBezTo>
                  <a:lnTo>
                    <a:pt x="205359" y="145923"/>
                  </a:lnTo>
                  <a:cubicBezTo>
                    <a:pt x="194183" y="147447"/>
                    <a:pt x="185674" y="149162"/>
                    <a:pt x="179832" y="151067"/>
                  </a:cubicBezTo>
                  <a:cubicBezTo>
                    <a:pt x="173990" y="152972"/>
                    <a:pt x="170307" y="153924"/>
                    <a:pt x="168783" y="153924"/>
                  </a:cubicBezTo>
                  <a:cubicBezTo>
                    <a:pt x="161925" y="153924"/>
                    <a:pt x="156147" y="148336"/>
                    <a:pt x="151448" y="137160"/>
                  </a:cubicBezTo>
                  <a:cubicBezTo>
                    <a:pt x="146749" y="125984"/>
                    <a:pt x="144145" y="112268"/>
                    <a:pt x="143637" y="96012"/>
                  </a:cubicBezTo>
                  <a:cubicBezTo>
                    <a:pt x="143383" y="87884"/>
                    <a:pt x="141796" y="81788"/>
                    <a:pt x="138875" y="77724"/>
                  </a:cubicBezTo>
                  <a:cubicBezTo>
                    <a:pt x="135954" y="73660"/>
                    <a:pt x="134493" y="70676"/>
                    <a:pt x="134493" y="68771"/>
                  </a:cubicBezTo>
                  <a:cubicBezTo>
                    <a:pt x="134493" y="66866"/>
                    <a:pt x="135065" y="64072"/>
                    <a:pt x="136208" y="60389"/>
                  </a:cubicBezTo>
                  <a:cubicBezTo>
                    <a:pt x="137351" y="56706"/>
                    <a:pt x="138303" y="54483"/>
                    <a:pt x="139065" y="53721"/>
                  </a:cubicBezTo>
                  <a:cubicBezTo>
                    <a:pt x="139827" y="52959"/>
                    <a:pt x="141351" y="52578"/>
                    <a:pt x="143637" y="52578"/>
                  </a:cubicBezTo>
                  <a:cubicBezTo>
                    <a:pt x="145923" y="52578"/>
                    <a:pt x="151384" y="53467"/>
                    <a:pt x="160020" y="55245"/>
                  </a:cubicBezTo>
                  <a:cubicBezTo>
                    <a:pt x="173990" y="44831"/>
                    <a:pt x="190754" y="37148"/>
                    <a:pt x="210312" y="32195"/>
                  </a:cubicBezTo>
                  <a:cubicBezTo>
                    <a:pt x="229870" y="27242"/>
                    <a:pt x="243205" y="24765"/>
                    <a:pt x="250317" y="24765"/>
                  </a:cubicBezTo>
                  <a:cubicBezTo>
                    <a:pt x="262001" y="24765"/>
                    <a:pt x="274320" y="29528"/>
                    <a:pt x="287274" y="39053"/>
                  </a:cubicBezTo>
                  <a:cubicBezTo>
                    <a:pt x="300228" y="48578"/>
                    <a:pt x="306705" y="57912"/>
                    <a:pt x="306705" y="67056"/>
                  </a:cubicBezTo>
                  <a:cubicBezTo>
                    <a:pt x="306705" y="69342"/>
                    <a:pt x="306261" y="71628"/>
                    <a:pt x="305372" y="73914"/>
                  </a:cubicBezTo>
                  <a:cubicBezTo>
                    <a:pt x="304483" y="76200"/>
                    <a:pt x="301054" y="82042"/>
                    <a:pt x="295085" y="91440"/>
                  </a:cubicBezTo>
                  <a:cubicBezTo>
                    <a:pt x="289116" y="100838"/>
                    <a:pt x="283972" y="107569"/>
                    <a:pt x="279654" y="111633"/>
                  </a:cubicBezTo>
                  <a:cubicBezTo>
                    <a:pt x="275336" y="115697"/>
                    <a:pt x="270129" y="120142"/>
                    <a:pt x="264033" y="124968"/>
                  </a:cubicBezTo>
                  <a:cubicBezTo>
                    <a:pt x="264541" y="135128"/>
                    <a:pt x="257048" y="140208"/>
                    <a:pt x="241554" y="140208"/>
                  </a:cubicBezTo>
                  <a:cubicBezTo>
                    <a:pt x="236728" y="140208"/>
                    <a:pt x="233045" y="140589"/>
                    <a:pt x="230505" y="141351"/>
                  </a:cubicBezTo>
                  <a:lnTo>
                    <a:pt x="230505" y="156210"/>
                  </a:lnTo>
                  <a:cubicBezTo>
                    <a:pt x="249555" y="153924"/>
                    <a:pt x="262382" y="152781"/>
                    <a:pt x="268986" y="152781"/>
                  </a:cubicBezTo>
                  <a:cubicBezTo>
                    <a:pt x="275590" y="152781"/>
                    <a:pt x="283083" y="155258"/>
                    <a:pt x="291465" y="160211"/>
                  </a:cubicBezTo>
                  <a:cubicBezTo>
                    <a:pt x="299847" y="165164"/>
                    <a:pt x="304038" y="169355"/>
                    <a:pt x="304038" y="172784"/>
                  </a:cubicBezTo>
                  <a:cubicBezTo>
                    <a:pt x="304038" y="176213"/>
                    <a:pt x="302641" y="179070"/>
                    <a:pt x="299847" y="181356"/>
                  </a:cubicBezTo>
                  <a:cubicBezTo>
                    <a:pt x="297053" y="183642"/>
                    <a:pt x="293815" y="184785"/>
                    <a:pt x="290132" y="184785"/>
                  </a:cubicBezTo>
                  <a:cubicBezTo>
                    <a:pt x="286449" y="184785"/>
                    <a:pt x="282829" y="184277"/>
                    <a:pt x="279273" y="183261"/>
                  </a:cubicBezTo>
                  <a:cubicBezTo>
                    <a:pt x="264287" y="178689"/>
                    <a:pt x="251079" y="176403"/>
                    <a:pt x="239649" y="176403"/>
                  </a:cubicBezTo>
                  <a:cubicBezTo>
                    <a:pt x="236347" y="176403"/>
                    <a:pt x="233553" y="176657"/>
                    <a:pt x="231267" y="177165"/>
                  </a:cubicBezTo>
                  <a:cubicBezTo>
                    <a:pt x="231775" y="188087"/>
                    <a:pt x="232410" y="196977"/>
                    <a:pt x="233172" y="203835"/>
                  </a:cubicBezTo>
                  <a:cubicBezTo>
                    <a:pt x="246634" y="206883"/>
                    <a:pt x="258509" y="208471"/>
                    <a:pt x="268796" y="208598"/>
                  </a:cubicBezTo>
                  <a:cubicBezTo>
                    <a:pt x="279083" y="208725"/>
                    <a:pt x="288417" y="212344"/>
                    <a:pt x="296799" y="219456"/>
                  </a:cubicBezTo>
                  <a:cubicBezTo>
                    <a:pt x="305181" y="226568"/>
                    <a:pt x="309372" y="233807"/>
                    <a:pt x="309372" y="241173"/>
                  </a:cubicBezTo>
                  <a:cubicBezTo>
                    <a:pt x="309372" y="245999"/>
                    <a:pt x="308102" y="250571"/>
                    <a:pt x="305562" y="254889"/>
                  </a:cubicBezTo>
                  <a:cubicBezTo>
                    <a:pt x="303022" y="259207"/>
                    <a:pt x="298958" y="261366"/>
                    <a:pt x="293370" y="261366"/>
                  </a:cubicBezTo>
                  <a:cubicBezTo>
                    <a:pt x="284226" y="261366"/>
                    <a:pt x="272034" y="249301"/>
                    <a:pt x="256794" y="225171"/>
                  </a:cubicBezTo>
                  <a:cubicBezTo>
                    <a:pt x="249174" y="213233"/>
                    <a:pt x="241300" y="207137"/>
                    <a:pt x="233172" y="206883"/>
                  </a:cubicBezTo>
                  <a:cubicBezTo>
                    <a:pt x="234188" y="219837"/>
                    <a:pt x="234696" y="230759"/>
                    <a:pt x="234696" y="239649"/>
                  </a:cubicBezTo>
                  <a:cubicBezTo>
                    <a:pt x="234696" y="257937"/>
                    <a:pt x="232220" y="272034"/>
                    <a:pt x="227267" y="281940"/>
                  </a:cubicBezTo>
                  <a:cubicBezTo>
                    <a:pt x="222314" y="291846"/>
                    <a:pt x="217551" y="296799"/>
                    <a:pt x="212979" y="296799"/>
                  </a:cubicBezTo>
                  <a:cubicBezTo>
                    <a:pt x="211201" y="296799"/>
                    <a:pt x="209804" y="296037"/>
                    <a:pt x="208788" y="294513"/>
                  </a:cubicBezTo>
                  <a:cubicBezTo>
                    <a:pt x="202946" y="286131"/>
                    <a:pt x="197422" y="279464"/>
                    <a:pt x="192215" y="274511"/>
                  </a:cubicBezTo>
                  <a:cubicBezTo>
                    <a:pt x="187008" y="269558"/>
                    <a:pt x="182817" y="264859"/>
                    <a:pt x="179642" y="260414"/>
                  </a:cubicBezTo>
                  <a:cubicBezTo>
                    <a:pt x="176467" y="255969"/>
                    <a:pt x="173101" y="249555"/>
                    <a:pt x="169545" y="241173"/>
                  </a:cubicBezTo>
                  <a:cubicBezTo>
                    <a:pt x="163703" y="244475"/>
                    <a:pt x="159576" y="247396"/>
                    <a:pt x="157163" y="249936"/>
                  </a:cubicBezTo>
                  <a:cubicBezTo>
                    <a:pt x="154750" y="252476"/>
                    <a:pt x="151956" y="256858"/>
                    <a:pt x="148781" y="263081"/>
                  </a:cubicBezTo>
                  <a:cubicBezTo>
                    <a:pt x="145606" y="269304"/>
                    <a:pt x="142558" y="272415"/>
                    <a:pt x="139637" y="272415"/>
                  </a:cubicBezTo>
                  <a:cubicBezTo>
                    <a:pt x="136716" y="272415"/>
                    <a:pt x="134303" y="269304"/>
                    <a:pt x="132398" y="263081"/>
                  </a:cubicBezTo>
                  <a:cubicBezTo>
                    <a:pt x="130493" y="256858"/>
                    <a:pt x="129540" y="250571"/>
                    <a:pt x="129540" y="244221"/>
                  </a:cubicBezTo>
                  <a:cubicBezTo>
                    <a:pt x="129540" y="237871"/>
                    <a:pt x="130429" y="232982"/>
                    <a:pt x="132207" y="229553"/>
                  </a:cubicBezTo>
                  <a:cubicBezTo>
                    <a:pt x="133985" y="226124"/>
                    <a:pt x="135319" y="221869"/>
                    <a:pt x="136208" y="216789"/>
                  </a:cubicBezTo>
                  <a:cubicBezTo>
                    <a:pt x="137097" y="211709"/>
                    <a:pt x="138748" y="208090"/>
                    <a:pt x="141161" y="205931"/>
                  </a:cubicBezTo>
                  <a:cubicBezTo>
                    <a:pt x="143574" y="203772"/>
                    <a:pt x="145860" y="202692"/>
                    <a:pt x="148019" y="202692"/>
                  </a:cubicBezTo>
                  <a:cubicBezTo>
                    <a:pt x="150178" y="202692"/>
                    <a:pt x="152527" y="205740"/>
                    <a:pt x="155067" y="211836"/>
                  </a:cubicBezTo>
                  <a:cubicBezTo>
                    <a:pt x="153035" y="212090"/>
                    <a:pt x="152019" y="213360"/>
                    <a:pt x="152019" y="215646"/>
                  </a:cubicBezTo>
                  <a:cubicBezTo>
                    <a:pt x="152019" y="221996"/>
                    <a:pt x="152972" y="225171"/>
                    <a:pt x="154877" y="225171"/>
                  </a:cubicBezTo>
                  <a:cubicBezTo>
                    <a:pt x="156782" y="225171"/>
                    <a:pt x="159004" y="224409"/>
                    <a:pt x="161544" y="222885"/>
                  </a:cubicBezTo>
                  <a:cubicBezTo>
                    <a:pt x="159512" y="219075"/>
                    <a:pt x="158242" y="215519"/>
                    <a:pt x="157734" y="212217"/>
                  </a:cubicBezTo>
                  <a:cubicBezTo>
                    <a:pt x="161798" y="216789"/>
                    <a:pt x="164719" y="219837"/>
                    <a:pt x="166497" y="221361"/>
                  </a:cubicBezTo>
                  <a:cubicBezTo>
                    <a:pt x="185293" y="212471"/>
                    <a:pt x="198628" y="207391"/>
                    <a:pt x="206502" y="206121"/>
                  </a:cubicBezTo>
                  <a:cubicBezTo>
                    <a:pt x="206756" y="195961"/>
                    <a:pt x="206756" y="187833"/>
                    <a:pt x="206502" y="181737"/>
                  </a:cubicBezTo>
                  <a:cubicBezTo>
                    <a:pt x="193548" y="184531"/>
                    <a:pt x="176149" y="189992"/>
                    <a:pt x="154305" y="198120"/>
                  </a:cubicBezTo>
                  <a:cubicBezTo>
                    <a:pt x="148209" y="200406"/>
                    <a:pt x="142939" y="201549"/>
                    <a:pt x="138494" y="201549"/>
                  </a:cubicBezTo>
                  <a:cubicBezTo>
                    <a:pt x="134049" y="201549"/>
                    <a:pt x="129667" y="200406"/>
                    <a:pt x="125349" y="198120"/>
                  </a:cubicBezTo>
                  <a:cubicBezTo>
                    <a:pt x="121285" y="207010"/>
                    <a:pt x="118618" y="215710"/>
                    <a:pt x="117348" y="224219"/>
                  </a:cubicBezTo>
                  <a:cubicBezTo>
                    <a:pt x="116078" y="232728"/>
                    <a:pt x="113157" y="241300"/>
                    <a:pt x="108585" y="249936"/>
                  </a:cubicBezTo>
                  <a:cubicBezTo>
                    <a:pt x="105537" y="255778"/>
                    <a:pt x="104013" y="264668"/>
                    <a:pt x="104013" y="276606"/>
                  </a:cubicBezTo>
                  <a:cubicBezTo>
                    <a:pt x="104013" y="281940"/>
                    <a:pt x="102489" y="284607"/>
                    <a:pt x="99441" y="284607"/>
                  </a:cubicBezTo>
                  <a:cubicBezTo>
                    <a:pt x="94361" y="284607"/>
                    <a:pt x="88392" y="278638"/>
                    <a:pt x="81534" y="266700"/>
                  </a:cubicBezTo>
                  <a:cubicBezTo>
                    <a:pt x="74676" y="254762"/>
                    <a:pt x="71247" y="243967"/>
                    <a:pt x="71247" y="234315"/>
                  </a:cubicBezTo>
                  <a:lnTo>
                    <a:pt x="72390" y="209931"/>
                  </a:lnTo>
                  <a:cubicBezTo>
                    <a:pt x="72644" y="200533"/>
                    <a:pt x="72771" y="188151"/>
                    <a:pt x="72771" y="172784"/>
                  </a:cubicBezTo>
                  <a:cubicBezTo>
                    <a:pt x="72771" y="157417"/>
                    <a:pt x="72136" y="149733"/>
                    <a:pt x="70866" y="149733"/>
                  </a:cubicBezTo>
                  <a:cubicBezTo>
                    <a:pt x="70104" y="149733"/>
                    <a:pt x="69088" y="150876"/>
                    <a:pt x="67818" y="153162"/>
                  </a:cubicBezTo>
                  <a:cubicBezTo>
                    <a:pt x="64770" y="159004"/>
                    <a:pt x="59119" y="165100"/>
                    <a:pt x="50864" y="171450"/>
                  </a:cubicBezTo>
                  <a:cubicBezTo>
                    <a:pt x="42609" y="177800"/>
                    <a:pt x="34100" y="180975"/>
                    <a:pt x="25337" y="180975"/>
                  </a:cubicBezTo>
                  <a:cubicBezTo>
                    <a:pt x="16574" y="180975"/>
                    <a:pt x="10160" y="177292"/>
                    <a:pt x="6096" y="169926"/>
                  </a:cubicBezTo>
                  <a:cubicBezTo>
                    <a:pt x="2032" y="162560"/>
                    <a:pt x="0" y="154051"/>
                    <a:pt x="0" y="144399"/>
                  </a:cubicBezTo>
                  <a:cubicBezTo>
                    <a:pt x="0" y="134747"/>
                    <a:pt x="4318" y="124397"/>
                    <a:pt x="12954" y="113348"/>
                  </a:cubicBezTo>
                  <a:cubicBezTo>
                    <a:pt x="21590" y="102299"/>
                    <a:pt x="36195" y="88583"/>
                    <a:pt x="56769" y="72200"/>
                  </a:cubicBezTo>
                  <a:cubicBezTo>
                    <a:pt x="77343" y="55817"/>
                    <a:pt x="87630" y="44831"/>
                    <a:pt x="87630" y="39243"/>
                  </a:cubicBezTo>
                  <a:cubicBezTo>
                    <a:pt x="87630" y="37973"/>
                    <a:pt x="87313" y="37021"/>
                    <a:pt x="86678" y="36386"/>
                  </a:cubicBezTo>
                  <a:cubicBezTo>
                    <a:pt x="86043" y="35751"/>
                    <a:pt x="82804" y="32703"/>
                    <a:pt x="76962" y="27242"/>
                  </a:cubicBezTo>
                  <a:cubicBezTo>
                    <a:pt x="71120" y="21781"/>
                    <a:pt x="68199" y="18669"/>
                    <a:pt x="68199" y="17907"/>
                  </a:cubicBezTo>
                  <a:cubicBezTo>
                    <a:pt x="68199" y="16637"/>
                    <a:pt x="71247" y="15685"/>
                    <a:pt x="77343" y="15050"/>
                  </a:cubicBezTo>
                  <a:cubicBezTo>
                    <a:pt x="83439" y="14415"/>
                    <a:pt x="88011" y="14097"/>
                    <a:pt x="91059" y="14097"/>
                  </a:cubicBezTo>
                  <a:close/>
                  <a:moveTo>
                    <a:pt x="962025" y="9906"/>
                  </a:moveTo>
                  <a:cubicBezTo>
                    <a:pt x="966597" y="9906"/>
                    <a:pt x="975106" y="14542"/>
                    <a:pt x="987552" y="23813"/>
                  </a:cubicBezTo>
                  <a:cubicBezTo>
                    <a:pt x="999998" y="33084"/>
                    <a:pt x="1006221" y="41529"/>
                    <a:pt x="1006221" y="49149"/>
                  </a:cubicBezTo>
                  <a:cubicBezTo>
                    <a:pt x="1006221" y="51943"/>
                    <a:pt x="1005332" y="54991"/>
                    <a:pt x="1003554" y="58293"/>
                  </a:cubicBezTo>
                  <a:cubicBezTo>
                    <a:pt x="1001776" y="61595"/>
                    <a:pt x="996696" y="67374"/>
                    <a:pt x="988314" y="75629"/>
                  </a:cubicBezTo>
                  <a:cubicBezTo>
                    <a:pt x="979932" y="83884"/>
                    <a:pt x="972439" y="90551"/>
                    <a:pt x="965835" y="95631"/>
                  </a:cubicBezTo>
                  <a:cubicBezTo>
                    <a:pt x="968629" y="105283"/>
                    <a:pt x="970026" y="112205"/>
                    <a:pt x="970026" y="116396"/>
                  </a:cubicBezTo>
                  <a:cubicBezTo>
                    <a:pt x="970026" y="120587"/>
                    <a:pt x="969010" y="123254"/>
                    <a:pt x="966978" y="124397"/>
                  </a:cubicBezTo>
                  <a:cubicBezTo>
                    <a:pt x="964946" y="125540"/>
                    <a:pt x="961136" y="126111"/>
                    <a:pt x="955548" y="126111"/>
                  </a:cubicBezTo>
                  <a:cubicBezTo>
                    <a:pt x="949960" y="126111"/>
                    <a:pt x="939292" y="128588"/>
                    <a:pt x="923544" y="133541"/>
                  </a:cubicBezTo>
                  <a:cubicBezTo>
                    <a:pt x="907796" y="138494"/>
                    <a:pt x="897763" y="142621"/>
                    <a:pt x="893445" y="145923"/>
                  </a:cubicBezTo>
                  <a:cubicBezTo>
                    <a:pt x="889127" y="149225"/>
                    <a:pt x="885444" y="150876"/>
                    <a:pt x="882396" y="150876"/>
                  </a:cubicBezTo>
                  <a:cubicBezTo>
                    <a:pt x="879348" y="150876"/>
                    <a:pt x="874649" y="149225"/>
                    <a:pt x="868299" y="145923"/>
                  </a:cubicBezTo>
                  <a:cubicBezTo>
                    <a:pt x="849249" y="147955"/>
                    <a:pt x="833755" y="153797"/>
                    <a:pt x="821817" y="163449"/>
                  </a:cubicBezTo>
                  <a:cubicBezTo>
                    <a:pt x="809879" y="173101"/>
                    <a:pt x="803910" y="179007"/>
                    <a:pt x="803910" y="181166"/>
                  </a:cubicBezTo>
                  <a:cubicBezTo>
                    <a:pt x="803910" y="183325"/>
                    <a:pt x="808355" y="189230"/>
                    <a:pt x="817245" y="198882"/>
                  </a:cubicBezTo>
                  <a:cubicBezTo>
                    <a:pt x="831723" y="192278"/>
                    <a:pt x="846709" y="183642"/>
                    <a:pt x="862203" y="172974"/>
                  </a:cubicBezTo>
                  <a:cubicBezTo>
                    <a:pt x="867791" y="169164"/>
                    <a:pt x="871855" y="167259"/>
                    <a:pt x="874395" y="167259"/>
                  </a:cubicBezTo>
                  <a:cubicBezTo>
                    <a:pt x="876935" y="167259"/>
                    <a:pt x="881126" y="168212"/>
                    <a:pt x="886968" y="170117"/>
                  </a:cubicBezTo>
                  <a:cubicBezTo>
                    <a:pt x="892810" y="172022"/>
                    <a:pt x="897827" y="177356"/>
                    <a:pt x="902018" y="186119"/>
                  </a:cubicBezTo>
                  <a:cubicBezTo>
                    <a:pt x="906209" y="194882"/>
                    <a:pt x="908304" y="200343"/>
                    <a:pt x="908304" y="202502"/>
                  </a:cubicBezTo>
                  <a:cubicBezTo>
                    <a:pt x="908304" y="204661"/>
                    <a:pt x="907669" y="206502"/>
                    <a:pt x="906399" y="208026"/>
                  </a:cubicBezTo>
                  <a:cubicBezTo>
                    <a:pt x="899033" y="217170"/>
                    <a:pt x="894461" y="223266"/>
                    <a:pt x="892683" y="226314"/>
                  </a:cubicBezTo>
                  <a:cubicBezTo>
                    <a:pt x="890905" y="229362"/>
                    <a:pt x="890143" y="232664"/>
                    <a:pt x="890397" y="236220"/>
                  </a:cubicBezTo>
                  <a:cubicBezTo>
                    <a:pt x="893191" y="243840"/>
                    <a:pt x="894588" y="249555"/>
                    <a:pt x="894588" y="253365"/>
                  </a:cubicBezTo>
                  <a:cubicBezTo>
                    <a:pt x="894588" y="257175"/>
                    <a:pt x="891921" y="259207"/>
                    <a:pt x="886587" y="259461"/>
                  </a:cubicBezTo>
                  <a:cubicBezTo>
                    <a:pt x="877443" y="259969"/>
                    <a:pt x="868934" y="261938"/>
                    <a:pt x="861060" y="265367"/>
                  </a:cubicBezTo>
                  <a:cubicBezTo>
                    <a:pt x="853186" y="268796"/>
                    <a:pt x="847662" y="270510"/>
                    <a:pt x="844487" y="270510"/>
                  </a:cubicBezTo>
                  <a:cubicBezTo>
                    <a:pt x="841312" y="270510"/>
                    <a:pt x="837565" y="270256"/>
                    <a:pt x="833247" y="269748"/>
                  </a:cubicBezTo>
                  <a:cubicBezTo>
                    <a:pt x="832993" y="283210"/>
                    <a:pt x="831660" y="289941"/>
                    <a:pt x="829247" y="289941"/>
                  </a:cubicBezTo>
                  <a:cubicBezTo>
                    <a:pt x="826834" y="289941"/>
                    <a:pt x="822833" y="286512"/>
                    <a:pt x="817245" y="279654"/>
                  </a:cubicBezTo>
                  <a:cubicBezTo>
                    <a:pt x="811657" y="272796"/>
                    <a:pt x="807085" y="261303"/>
                    <a:pt x="803529" y="245174"/>
                  </a:cubicBezTo>
                  <a:cubicBezTo>
                    <a:pt x="799973" y="229045"/>
                    <a:pt x="796925" y="219075"/>
                    <a:pt x="794385" y="215265"/>
                  </a:cubicBezTo>
                  <a:cubicBezTo>
                    <a:pt x="790829" y="209931"/>
                    <a:pt x="789051" y="203200"/>
                    <a:pt x="789051" y="195072"/>
                  </a:cubicBezTo>
                  <a:cubicBezTo>
                    <a:pt x="789051" y="180848"/>
                    <a:pt x="792988" y="173609"/>
                    <a:pt x="800862" y="173355"/>
                  </a:cubicBezTo>
                  <a:cubicBezTo>
                    <a:pt x="817118" y="156083"/>
                    <a:pt x="836168" y="143129"/>
                    <a:pt x="858012" y="134493"/>
                  </a:cubicBezTo>
                  <a:cubicBezTo>
                    <a:pt x="856234" y="128651"/>
                    <a:pt x="854774" y="121666"/>
                    <a:pt x="853631" y="113538"/>
                  </a:cubicBezTo>
                  <a:cubicBezTo>
                    <a:pt x="852488" y="105410"/>
                    <a:pt x="851853" y="97727"/>
                    <a:pt x="851726" y="90488"/>
                  </a:cubicBezTo>
                  <a:cubicBezTo>
                    <a:pt x="851599" y="83249"/>
                    <a:pt x="851535" y="76645"/>
                    <a:pt x="851535" y="70676"/>
                  </a:cubicBezTo>
                  <a:cubicBezTo>
                    <a:pt x="851535" y="64707"/>
                    <a:pt x="850075" y="59055"/>
                    <a:pt x="847154" y="53721"/>
                  </a:cubicBezTo>
                  <a:cubicBezTo>
                    <a:pt x="844233" y="48387"/>
                    <a:pt x="842772" y="45085"/>
                    <a:pt x="842772" y="43815"/>
                  </a:cubicBezTo>
                  <a:cubicBezTo>
                    <a:pt x="842772" y="42545"/>
                    <a:pt x="843788" y="41910"/>
                    <a:pt x="845820" y="41910"/>
                  </a:cubicBezTo>
                  <a:cubicBezTo>
                    <a:pt x="856996" y="41910"/>
                    <a:pt x="866648" y="44577"/>
                    <a:pt x="874776" y="49911"/>
                  </a:cubicBezTo>
                  <a:cubicBezTo>
                    <a:pt x="891032" y="35687"/>
                    <a:pt x="912749" y="26670"/>
                    <a:pt x="939927" y="22860"/>
                  </a:cubicBezTo>
                  <a:cubicBezTo>
                    <a:pt x="946277" y="21844"/>
                    <a:pt x="951230" y="19177"/>
                    <a:pt x="954786" y="14859"/>
                  </a:cubicBezTo>
                  <a:cubicBezTo>
                    <a:pt x="957580" y="11557"/>
                    <a:pt x="959993" y="9906"/>
                    <a:pt x="962025" y="9906"/>
                  </a:cubicBezTo>
                  <a:close/>
                  <a:moveTo>
                    <a:pt x="1333500" y="2667"/>
                  </a:moveTo>
                  <a:cubicBezTo>
                    <a:pt x="1352296" y="2667"/>
                    <a:pt x="1361694" y="10668"/>
                    <a:pt x="1361694" y="26670"/>
                  </a:cubicBezTo>
                  <a:cubicBezTo>
                    <a:pt x="1361694" y="29972"/>
                    <a:pt x="1361186" y="33528"/>
                    <a:pt x="1360170" y="37338"/>
                  </a:cubicBezTo>
                  <a:cubicBezTo>
                    <a:pt x="1364234" y="37338"/>
                    <a:pt x="1367727" y="36830"/>
                    <a:pt x="1370648" y="35814"/>
                  </a:cubicBezTo>
                  <a:cubicBezTo>
                    <a:pt x="1373569" y="34798"/>
                    <a:pt x="1375982" y="34290"/>
                    <a:pt x="1377887" y="34290"/>
                  </a:cubicBezTo>
                  <a:cubicBezTo>
                    <a:pt x="1379792" y="34290"/>
                    <a:pt x="1383475" y="36005"/>
                    <a:pt x="1388936" y="39434"/>
                  </a:cubicBezTo>
                  <a:cubicBezTo>
                    <a:pt x="1394397" y="42863"/>
                    <a:pt x="1397953" y="45593"/>
                    <a:pt x="1399604" y="47625"/>
                  </a:cubicBezTo>
                  <a:cubicBezTo>
                    <a:pt x="1401255" y="49657"/>
                    <a:pt x="1402080" y="51943"/>
                    <a:pt x="1402080" y="54483"/>
                  </a:cubicBezTo>
                  <a:cubicBezTo>
                    <a:pt x="1402080" y="59563"/>
                    <a:pt x="1399540" y="62738"/>
                    <a:pt x="1394460" y="64008"/>
                  </a:cubicBezTo>
                  <a:cubicBezTo>
                    <a:pt x="1376680" y="68072"/>
                    <a:pt x="1363345" y="72644"/>
                    <a:pt x="1354455" y="77724"/>
                  </a:cubicBezTo>
                  <a:lnTo>
                    <a:pt x="1352550" y="90678"/>
                  </a:lnTo>
                  <a:cubicBezTo>
                    <a:pt x="1365504" y="87376"/>
                    <a:pt x="1377569" y="85725"/>
                    <a:pt x="1388745" y="85725"/>
                  </a:cubicBezTo>
                  <a:cubicBezTo>
                    <a:pt x="1406779" y="85725"/>
                    <a:pt x="1418400" y="89599"/>
                    <a:pt x="1423607" y="97346"/>
                  </a:cubicBezTo>
                  <a:cubicBezTo>
                    <a:pt x="1428814" y="105093"/>
                    <a:pt x="1431417" y="111062"/>
                    <a:pt x="1431417" y="115253"/>
                  </a:cubicBezTo>
                  <a:cubicBezTo>
                    <a:pt x="1431417" y="119444"/>
                    <a:pt x="1430719" y="122492"/>
                    <a:pt x="1429322" y="124397"/>
                  </a:cubicBezTo>
                  <a:cubicBezTo>
                    <a:pt x="1427925" y="126302"/>
                    <a:pt x="1425829" y="127508"/>
                    <a:pt x="1423035" y="128016"/>
                  </a:cubicBezTo>
                  <a:lnTo>
                    <a:pt x="1408176" y="131064"/>
                  </a:lnTo>
                  <a:cubicBezTo>
                    <a:pt x="1397508" y="133096"/>
                    <a:pt x="1390269" y="134620"/>
                    <a:pt x="1386459" y="135636"/>
                  </a:cubicBezTo>
                  <a:cubicBezTo>
                    <a:pt x="1370965" y="140208"/>
                    <a:pt x="1360170" y="141859"/>
                    <a:pt x="1354074" y="140589"/>
                  </a:cubicBezTo>
                  <a:cubicBezTo>
                    <a:pt x="1349756" y="139827"/>
                    <a:pt x="1346454" y="139446"/>
                    <a:pt x="1344168" y="139446"/>
                  </a:cubicBezTo>
                  <a:cubicBezTo>
                    <a:pt x="1337564" y="139446"/>
                    <a:pt x="1334262" y="140716"/>
                    <a:pt x="1334262" y="143256"/>
                  </a:cubicBezTo>
                  <a:cubicBezTo>
                    <a:pt x="1334262" y="144272"/>
                    <a:pt x="1335024" y="145161"/>
                    <a:pt x="1336548" y="145923"/>
                  </a:cubicBezTo>
                  <a:cubicBezTo>
                    <a:pt x="1342136" y="149225"/>
                    <a:pt x="1344930" y="152527"/>
                    <a:pt x="1344930" y="155829"/>
                  </a:cubicBezTo>
                  <a:cubicBezTo>
                    <a:pt x="1344930" y="157099"/>
                    <a:pt x="1344422" y="158242"/>
                    <a:pt x="1343406" y="159258"/>
                  </a:cubicBezTo>
                  <a:cubicBezTo>
                    <a:pt x="1338834" y="163830"/>
                    <a:pt x="1332865" y="171069"/>
                    <a:pt x="1325499" y="180975"/>
                  </a:cubicBezTo>
                  <a:cubicBezTo>
                    <a:pt x="1331849" y="184531"/>
                    <a:pt x="1338453" y="188722"/>
                    <a:pt x="1345311" y="193548"/>
                  </a:cubicBezTo>
                  <a:cubicBezTo>
                    <a:pt x="1349883" y="178054"/>
                    <a:pt x="1352169" y="168021"/>
                    <a:pt x="1352169" y="163449"/>
                  </a:cubicBezTo>
                  <a:cubicBezTo>
                    <a:pt x="1352169" y="158877"/>
                    <a:pt x="1351534" y="156274"/>
                    <a:pt x="1350264" y="155639"/>
                  </a:cubicBezTo>
                  <a:cubicBezTo>
                    <a:pt x="1348994" y="155004"/>
                    <a:pt x="1348359" y="154051"/>
                    <a:pt x="1348359" y="152781"/>
                  </a:cubicBezTo>
                  <a:cubicBezTo>
                    <a:pt x="1348359" y="151511"/>
                    <a:pt x="1349439" y="150241"/>
                    <a:pt x="1351598" y="148971"/>
                  </a:cubicBezTo>
                  <a:cubicBezTo>
                    <a:pt x="1353757" y="147701"/>
                    <a:pt x="1356360" y="147066"/>
                    <a:pt x="1359408" y="147066"/>
                  </a:cubicBezTo>
                  <a:cubicBezTo>
                    <a:pt x="1370330" y="147066"/>
                    <a:pt x="1375791" y="149987"/>
                    <a:pt x="1375791" y="155829"/>
                  </a:cubicBezTo>
                  <a:cubicBezTo>
                    <a:pt x="1375791" y="162941"/>
                    <a:pt x="1374839" y="168148"/>
                    <a:pt x="1372934" y="171450"/>
                  </a:cubicBezTo>
                  <a:cubicBezTo>
                    <a:pt x="1371029" y="174752"/>
                    <a:pt x="1367155" y="187579"/>
                    <a:pt x="1361313" y="209931"/>
                  </a:cubicBezTo>
                  <a:cubicBezTo>
                    <a:pt x="1383665" y="205105"/>
                    <a:pt x="1398270" y="202692"/>
                    <a:pt x="1405128" y="202692"/>
                  </a:cubicBezTo>
                  <a:cubicBezTo>
                    <a:pt x="1411986" y="202692"/>
                    <a:pt x="1417638" y="205169"/>
                    <a:pt x="1422083" y="210122"/>
                  </a:cubicBezTo>
                  <a:cubicBezTo>
                    <a:pt x="1426528" y="215075"/>
                    <a:pt x="1428750" y="218948"/>
                    <a:pt x="1428750" y="221742"/>
                  </a:cubicBezTo>
                  <a:cubicBezTo>
                    <a:pt x="1428750" y="226060"/>
                    <a:pt x="1425829" y="228219"/>
                    <a:pt x="1419987" y="228219"/>
                  </a:cubicBezTo>
                  <a:cubicBezTo>
                    <a:pt x="1418463" y="228219"/>
                    <a:pt x="1416685" y="227965"/>
                    <a:pt x="1414653" y="227457"/>
                  </a:cubicBezTo>
                  <a:cubicBezTo>
                    <a:pt x="1405509" y="225171"/>
                    <a:pt x="1396492" y="224028"/>
                    <a:pt x="1387602" y="224028"/>
                  </a:cubicBezTo>
                  <a:cubicBezTo>
                    <a:pt x="1378712" y="224028"/>
                    <a:pt x="1368298" y="225171"/>
                    <a:pt x="1356360" y="227457"/>
                  </a:cubicBezTo>
                  <a:cubicBezTo>
                    <a:pt x="1347978" y="253873"/>
                    <a:pt x="1337501" y="272923"/>
                    <a:pt x="1324928" y="284607"/>
                  </a:cubicBezTo>
                  <a:cubicBezTo>
                    <a:pt x="1312355" y="296291"/>
                    <a:pt x="1295908" y="302133"/>
                    <a:pt x="1275588" y="302133"/>
                  </a:cubicBezTo>
                  <a:cubicBezTo>
                    <a:pt x="1271778" y="302133"/>
                    <a:pt x="1269365" y="301879"/>
                    <a:pt x="1268349" y="301371"/>
                  </a:cubicBezTo>
                  <a:cubicBezTo>
                    <a:pt x="1267333" y="300863"/>
                    <a:pt x="1266825" y="299974"/>
                    <a:pt x="1266825" y="298704"/>
                  </a:cubicBezTo>
                  <a:cubicBezTo>
                    <a:pt x="1266825" y="296164"/>
                    <a:pt x="1268349" y="294259"/>
                    <a:pt x="1271397" y="292989"/>
                  </a:cubicBezTo>
                  <a:cubicBezTo>
                    <a:pt x="1287907" y="287147"/>
                    <a:pt x="1300798" y="279400"/>
                    <a:pt x="1310069" y="269748"/>
                  </a:cubicBezTo>
                  <a:cubicBezTo>
                    <a:pt x="1319340" y="260096"/>
                    <a:pt x="1326642" y="248158"/>
                    <a:pt x="1331976" y="233934"/>
                  </a:cubicBezTo>
                  <a:cubicBezTo>
                    <a:pt x="1324356" y="236728"/>
                    <a:pt x="1308608" y="243840"/>
                    <a:pt x="1284732" y="255270"/>
                  </a:cubicBezTo>
                  <a:cubicBezTo>
                    <a:pt x="1274064" y="260350"/>
                    <a:pt x="1266762" y="262890"/>
                    <a:pt x="1262825" y="262890"/>
                  </a:cubicBezTo>
                  <a:cubicBezTo>
                    <a:pt x="1258888" y="262890"/>
                    <a:pt x="1254506" y="261049"/>
                    <a:pt x="1249680" y="257366"/>
                  </a:cubicBezTo>
                  <a:cubicBezTo>
                    <a:pt x="1244854" y="253683"/>
                    <a:pt x="1242441" y="251143"/>
                    <a:pt x="1242441" y="249746"/>
                  </a:cubicBezTo>
                  <a:cubicBezTo>
                    <a:pt x="1242441" y="248349"/>
                    <a:pt x="1243584" y="247523"/>
                    <a:pt x="1245870" y="247269"/>
                  </a:cubicBezTo>
                  <a:cubicBezTo>
                    <a:pt x="1250950" y="246761"/>
                    <a:pt x="1255776" y="245110"/>
                    <a:pt x="1260348" y="242316"/>
                  </a:cubicBezTo>
                  <a:cubicBezTo>
                    <a:pt x="1271270" y="235966"/>
                    <a:pt x="1288923" y="229108"/>
                    <a:pt x="1313307" y="221742"/>
                  </a:cubicBezTo>
                  <a:cubicBezTo>
                    <a:pt x="1312545" y="219964"/>
                    <a:pt x="1311212" y="219075"/>
                    <a:pt x="1309307" y="219075"/>
                  </a:cubicBezTo>
                  <a:cubicBezTo>
                    <a:pt x="1307402" y="219075"/>
                    <a:pt x="1304290" y="219774"/>
                    <a:pt x="1299972" y="221171"/>
                  </a:cubicBezTo>
                  <a:cubicBezTo>
                    <a:pt x="1295654" y="222568"/>
                    <a:pt x="1292225" y="223965"/>
                    <a:pt x="1289685" y="225362"/>
                  </a:cubicBezTo>
                  <a:cubicBezTo>
                    <a:pt x="1287145" y="226759"/>
                    <a:pt x="1285558" y="227457"/>
                    <a:pt x="1284923" y="227457"/>
                  </a:cubicBezTo>
                  <a:cubicBezTo>
                    <a:pt x="1284288" y="227457"/>
                    <a:pt x="1283970" y="227330"/>
                    <a:pt x="1283970" y="227076"/>
                  </a:cubicBezTo>
                  <a:cubicBezTo>
                    <a:pt x="1283970" y="225552"/>
                    <a:pt x="1289558" y="221488"/>
                    <a:pt x="1300734" y="214884"/>
                  </a:cubicBezTo>
                  <a:cubicBezTo>
                    <a:pt x="1292352" y="212344"/>
                    <a:pt x="1287145" y="209995"/>
                    <a:pt x="1285113" y="207836"/>
                  </a:cubicBezTo>
                  <a:cubicBezTo>
                    <a:pt x="1283081" y="205677"/>
                    <a:pt x="1282065" y="201549"/>
                    <a:pt x="1282065" y="195453"/>
                  </a:cubicBezTo>
                  <a:cubicBezTo>
                    <a:pt x="1282065" y="189357"/>
                    <a:pt x="1283081" y="185293"/>
                    <a:pt x="1285113" y="183261"/>
                  </a:cubicBezTo>
                  <a:cubicBezTo>
                    <a:pt x="1287145" y="181229"/>
                    <a:pt x="1291082" y="180340"/>
                    <a:pt x="1296924" y="180594"/>
                  </a:cubicBezTo>
                  <a:cubicBezTo>
                    <a:pt x="1298448" y="177292"/>
                    <a:pt x="1300544" y="174816"/>
                    <a:pt x="1303211" y="173165"/>
                  </a:cubicBezTo>
                  <a:cubicBezTo>
                    <a:pt x="1305878" y="171514"/>
                    <a:pt x="1307211" y="170117"/>
                    <a:pt x="1307211" y="168974"/>
                  </a:cubicBezTo>
                  <a:cubicBezTo>
                    <a:pt x="1307211" y="167831"/>
                    <a:pt x="1305560" y="166370"/>
                    <a:pt x="1302258" y="164592"/>
                  </a:cubicBezTo>
                  <a:cubicBezTo>
                    <a:pt x="1296162" y="160782"/>
                    <a:pt x="1293114" y="156147"/>
                    <a:pt x="1293114" y="150686"/>
                  </a:cubicBezTo>
                  <a:cubicBezTo>
                    <a:pt x="1293114" y="145225"/>
                    <a:pt x="1295527" y="142240"/>
                    <a:pt x="1300353" y="141732"/>
                  </a:cubicBezTo>
                  <a:cubicBezTo>
                    <a:pt x="1327531" y="139446"/>
                    <a:pt x="1349756" y="133223"/>
                    <a:pt x="1367028" y="123063"/>
                  </a:cubicBezTo>
                  <a:cubicBezTo>
                    <a:pt x="1384300" y="112903"/>
                    <a:pt x="1392936" y="106299"/>
                    <a:pt x="1392936" y="103251"/>
                  </a:cubicBezTo>
                  <a:cubicBezTo>
                    <a:pt x="1392936" y="101727"/>
                    <a:pt x="1391031" y="100965"/>
                    <a:pt x="1387221" y="100965"/>
                  </a:cubicBezTo>
                  <a:cubicBezTo>
                    <a:pt x="1377569" y="100965"/>
                    <a:pt x="1369568" y="101854"/>
                    <a:pt x="1363218" y="103632"/>
                  </a:cubicBezTo>
                  <a:cubicBezTo>
                    <a:pt x="1356868" y="105410"/>
                    <a:pt x="1348105" y="109347"/>
                    <a:pt x="1336929" y="115443"/>
                  </a:cubicBezTo>
                  <a:cubicBezTo>
                    <a:pt x="1305179" y="133223"/>
                    <a:pt x="1285177" y="144272"/>
                    <a:pt x="1276922" y="148590"/>
                  </a:cubicBezTo>
                  <a:cubicBezTo>
                    <a:pt x="1268667" y="152908"/>
                    <a:pt x="1263777" y="155067"/>
                    <a:pt x="1262253" y="155067"/>
                  </a:cubicBezTo>
                  <a:cubicBezTo>
                    <a:pt x="1258697" y="155067"/>
                    <a:pt x="1255840" y="151194"/>
                    <a:pt x="1253681" y="143447"/>
                  </a:cubicBezTo>
                  <a:cubicBezTo>
                    <a:pt x="1251522" y="135700"/>
                    <a:pt x="1250442" y="130683"/>
                    <a:pt x="1250442" y="128397"/>
                  </a:cubicBezTo>
                  <a:cubicBezTo>
                    <a:pt x="1250442" y="123063"/>
                    <a:pt x="1252347" y="120396"/>
                    <a:pt x="1256157" y="120396"/>
                  </a:cubicBezTo>
                  <a:cubicBezTo>
                    <a:pt x="1257681" y="120396"/>
                    <a:pt x="1258824" y="120904"/>
                    <a:pt x="1259586" y="121920"/>
                  </a:cubicBezTo>
                  <a:cubicBezTo>
                    <a:pt x="1260348" y="122936"/>
                    <a:pt x="1261364" y="123444"/>
                    <a:pt x="1262634" y="123444"/>
                  </a:cubicBezTo>
                  <a:cubicBezTo>
                    <a:pt x="1267460" y="123444"/>
                    <a:pt x="1284097" y="116840"/>
                    <a:pt x="1312545" y="103632"/>
                  </a:cubicBezTo>
                  <a:cubicBezTo>
                    <a:pt x="1315593" y="98806"/>
                    <a:pt x="1317752" y="93472"/>
                    <a:pt x="1319022" y="87630"/>
                  </a:cubicBezTo>
                  <a:cubicBezTo>
                    <a:pt x="1312164" y="87630"/>
                    <a:pt x="1304608" y="84138"/>
                    <a:pt x="1296353" y="77153"/>
                  </a:cubicBezTo>
                  <a:cubicBezTo>
                    <a:pt x="1288098" y="70168"/>
                    <a:pt x="1283970" y="65977"/>
                    <a:pt x="1283970" y="64580"/>
                  </a:cubicBezTo>
                  <a:cubicBezTo>
                    <a:pt x="1283970" y="63183"/>
                    <a:pt x="1285240" y="62484"/>
                    <a:pt x="1287780" y="62484"/>
                  </a:cubicBezTo>
                  <a:lnTo>
                    <a:pt x="1291971" y="62484"/>
                  </a:lnTo>
                  <a:cubicBezTo>
                    <a:pt x="1300861" y="62484"/>
                    <a:pt x="1312037" y="59563"/>
                    <a:pt x="1325499" y="53721"/>
                  </a:cubicBezTo>
                  <a:cubicBezTo>
                    <a:pt x="1325753" y="47371"/>
                    <a:pt x="1325880" y="41466"/>
                    <a:pt x="1325880" y="36005"/>
                  </a:cubicBezTo>
                  <a:cubicBezTo>
                    <a:pt x="1325880" y="30544"/>
                    <a:pt x="1324991" y="26797"/>
                    <a:pt x="1323213" y="24765"/>
                  </a:cubicBezTo>
                  <a:cubicBezTo>
                    <a:pt x="1321435" y="22733"/>
                    <a:pt x="1317625" y="21463"/>
                    <a:pt x="1311783" y="20955"/>
                  </a:cubicBezTo>
                  <a:cubicBezTo>
                    <a:pt x="1308735" y="20701"/>
                    <a:pt x="1307211" y="18987"/>
                    <a:pt x="1307211" y="15812"/>
                  </a:cubicBezTo>
                  <a:cubicBezTo>
                    <a:pt x="1307211" y="12637"/>
                    <a:pt x="1309116" y="9652"/>
                    <a:pt x="1312926" y="6858"/>
                  </a:cubicBezTo>
                  <a:cubicBezTo>
                    <a:pt x="1316736" y="4064"/>
                    <a:pt x="1323594" y="2667"/>
                    <a:pt x="1333500" y="2667"/>
                  </a:cubicBezTo>
                  <a:close/>
                  <a:moveTo>
                    <a:pt x="481965" y="0"/>
                  </a:moveTo>
                  <a:cubicBezTo>
                    <a:pt x="485267" y="0"/>
                    <a:pt x="493332" y="3302"/>
                    <a:pt x="506159" y="9906"/>
                  </a:cubicBezTo>
                  <a:cubicBezTo>
                    <a:pt x="518986" y="16510"/>
                    <a:pt x="528511" y="22860"/>
                    <a:pt x="534734" y="28956"/>
                  </a:cubicBezTo>
                  <a:cubicBezTo>
                    <a:pt x="540957" y="35052"/>
                    <a:pt x="544068" y="41339"/>
                    <a:pt x="544068" y="47816"/>
                  </a:cubicBezTo>
                  <a:cubicBezTo>
                    <a:pt x="544068" y="54293"/>
                    <a:pt x="540766" y="62230"/>
                    <a:pt x="534162" y="71628"/>
                  </a:cubicBezTo>
                  <a:cubicBezTo>
                    <a:pt x="549402" y="62738"/>
                    <a:pt x="559626" y="57341"/>
                    <a:pt x="564833" y="55436"/>
                  </a:cubicBezTo>
                  <a:cubicBezTo>
                    <a:pt x="570040" y="53531"/>
                    <a:pt x="573024" y="51562"/>
                    <a:pt x="573786" y="49530"/>
                  </a:cubicBezTo>
                  <a:cubicBezTo>
                    <a:pt x="574802" y="46990"/>
                    <a:pt x="578739" y="45720"/>
                    <a:pt x="585597" y="45720"/>
                  </a:cubicBezTo>
                  <a:cubicBezTo>
                    <a:pt x="592455" y="45720"/>
                    <a:pt x="598234" y="48387"/>
                    <a:pt x="602933" y="53721"/>
                  </a:cubicBezTo>
                  <a:cubicBezTo>
                    <a:pt x="607632" y="59055"/>
                    <a:pt x="609981" y="63881"/>
                    <a:pt x="609981" y="68199"/>
                  </a:cubicBezTo>
                  <a:cubicBezTo>
                    <a:pt x="609981" y="77597"/>
                    <a:pt x="606806" y="82296"/>
                    <a:pt x="600456" y="82296"/>
                  </a:cubicBezTo>
                  <a:cubicBezTo>
                    <a:pt x="590042" y="82296"/>
                    <a:pt x="575183" y="88138"/>
                    <a:pt x="555879" y="99822"/>
                  </a:cubicBezTo>
                  <a:cubicBezTo>
                    <a:pt x="557403" y="108966"/>
                    <a:pt x="561086" y="117729"/>
                    <a:pt x="566928" y="126111"/>
                  </a:cubicBezTo>
                  <a:cubicBezTo>
                    <a:pt x="568960" y="128905"/>
                    <a:pt x="569976" y="135255"/>
                    <a:pt x="569976" y="145161"/>
                  </a:cubicBezTo>
                  <a:cubicBezTo>
                    <a:pt x="569976" y="161417"/>
                    <a:pt x="567309" y="175895"/>
                    <a:pt x="561975" y="188595"/>
                  </a:cubicBezTo>
                  <a:cubicBezTo>
                    <a:pt x="605409" y="209931"/>
                    <a:pt x="632079" y="222250"/>
                    <a:pt x="641985" y="225552"/>
                  </a:cubicBezTo>
                  <a:cubicBezTo>
                    <a:pt x="651891" y="228854"/>
                    <a:pt x="660972" y="237427"/>
                    <a:pt x="669227" y="251270"/>
                  </a:cubicBezTo>
                  <a:cubicBezTo>
                    <a:pt x="677482" y="265113"/>
                    <a:pt x="681609" y="277495"/>
                    <a:pt x="681609" y="288417"/>
                  </a:cubicBezTo>
                  <a:cubicBezTo>
                    <a:pt x="681609" y="294005"/>
                    <a:pt x="679387" y="296799"/>
                    <a:pt x="674942" y="296799"/>
                  </a:cubicBezTo>
                  <a:cubicBezTo>
                    <a:pt x="670497" y="296799"/>
                    <a:pt x="658813" y="291338"/>
                    <a:pt x="639890" y="280416"/>
                  </a:cubicBezTo>
                  <a:cubicBezTo>
                    <a:pt x="620967" y="269494"/>
                    <a:pt x="608584" y="261366"/>
                    <a:pt x="602742" y="256032"/>
                  </a:cubicBezTo>
                  <a:cubicBezTo>
                    <a:pt x="586994" y="242316"/>
                    <a:pt x="568198" y="229108"/>
                    <a:pt x="546354" y="216408"/>
                  </a:cubicBezTo>
                  <a:cubicBezTo>
                    <a:pt x="535686" y="228600"/>
                    <a:pt x="522542" y="237871"/>
                    <a:pt x="506921" y="244221"/>
                  </a:cubicBezTo>
                  <a:cubicBezTo>
                    <a:pt x="491300" y="250571"/>
                    <a:pt x="475298" y="253746"/>
                    <a:pt x="458915" y="253746"/>
                  </a:cubicBezTo>
                  <a:cubicBezTo>
                    <a:pt x="442532" y="253746"/>
                    <a:pt x="427800" y="251714"/>
                    <a:pt x="414719" y="247650"/>
                  </a:cubicBezTo>
                  <a:cubicBezTo>
                    <a:pt x="401638" y="243586"/>
                    <a:pt x="391541" y="238443"/>
                    <a:pt x="384429" y="232220"/>
                  </a:cubicBezTo>
                  <a:cubicBezTo>
                    <a:pt x="377317" y="225997"/>
                    <a:pt x="373761" y="221234"/>
                    <a:pt x="373761" y="217932"/>
                  </a:cubicBezTo>
                  <a:cubicBezTo>
                    <a:pt x="373761" y="216154"/>
                    <a:pt x="374523" y="215265"/>
                    <a:pt x="376047" y="215265"/>
                  </a:cubicBezTo>
                  <a:cubicBezTo>
                    <a:pt x="377571" y="215265"/>
                    <a:pt x="379603" y="216662"/>
                    <a:pt x="382143" y="219456"/>
                  </a:cubicBezTo>
                  <a:cubicBezTo>
                    <a:pt x="391541" y="229616"/>
                    <a:pt x="407416" y="234696"/>
                    <a:pt x="429768" y="234696"/>
                  </a:cubicBezTo>
                  <a:cubicBezTo>
                    <a:pt x="446532" y="234696"/>
                    <a:pt x="462661" y="231648"/>
                    <a:pt x="478155" y="225552"/>
                  </a:cubicBezTo>
                  <a:cubicBezTo>
                    <a:pt x="493649" y="219456"/>
                    <a:pt x="505206" y="211074"/>
                    <a:pt x="512826" y="200406"/>
                  </a:cubicBezTo>
                  <a:cubicBezTo>
                    <a:pt x="494284" y="193548"/>
                    <a:pt x="478473" y="185611"/>
                    <a:pt x="465392" y="176594"/>
                  </a:cubicBezTo>
                  <a:cubicBezTo>
                    <a:pt x="452311" y="167577"/>
                    <a:pt x="439230" y="163068"/>
                    <a:pt x="426149" y="163068"/>
                  </a:cubicBezTo>
                  <a:cubicBezTo>
                    <a:pt x="413068" y="163068"/>
                    <a:pt x="401320" y="166878"/>
                    <a:pt x="390906" y="174498"/>
                  </a:cubicBezTo>
                  <a:cubicBezTo>
                    <a:pt x="388366" y="176276"/>
                    <a:pt x="386461" y="177165"/>
                    <a:pt x="385191" y="177165"/>
                  </a:cubicBezTo>
                  <a:cubicBezTo>
                    <a:pt x="383921" y="177165"/>
                    <a:pt x="383286" y="176657"/>
                    <a:pt x="383286" y="175641"/>
                  </a:cubicBezTo>
                  <a:cubicBezTo>
                    <a:pt x="383286" y="172339"/>
                    <a:pt x="387477" y="167069"/>
                    <a:pt x="395859" y="159830"/>
                  </a:cubicBezTo>
                  <a:cubicBezTo>
                    <a:pt x="404241" y="152591"/>
                    <a:pt x="415544" y="148971"/>
                    <a:pt x="429768" y="148971"/>
                  </a:cubicBezTo>
                  <a:cubicBezTo>
                    <a:pt x="434848" y="148971"/>
                    <a:pt x="440055" y="149479"/>
                    <a:pt x="445389" y="150495"/>
                  </a:cubicBezTo>
                  <a:cubicBezTo>
                    <a:pt x="450723" y="151511"/>
                    <a:pt x="461963" y="154496"/>
                    <a:pt x="479108" y="159449"/>
                  </a:cubicBezTo>
                  <a:cubicBezTo>
                    <a:pt x="496253" y="164402"/>
                    <a:pt x="511937" y="169291"/>
                    <a:pt x="526161" y="174117"/>
                  </a:cubicBezTo>
                  <a:cubicBezTo>
                    <a:pt x="534035" y="152781"/>
                    <a:pt x="538480" y="131318"/>
                    <a:pt x="539496" y="109728"/>
                  </a:cubicBezTo>
                  <a:cubicBezTo>
                    <a:pt x="523748" y="121412"/>
                    <a:pt x="510985" y="129667"/>
                    <a:pt x="501206" y="134493"/>
                  </a:cubicBezTo>
                  <a:cubicBezTo>
                    <a:pt x="491427" y="139319"/>
                    <a:pt x="484823" y="141732"/>
                    <a:pt x="481394" y="141732"/>
                  </a:cubicBezTo>
                  <a:cubicBezTo>
                    <a:pt x="477965" y="141732"/>
                    <a:pt x="474790" y="140589"/>
                    <a:pt x="471869" y="138303"/>
                  </a:cubicBezTo>
                  <a:cubicBezTo>
                    <a:pt x="468948" y="136017"/>
                    <a:pt x="465138" y="131255"/>
                    <a:pt x="460439" y="124016"/>
                  </a:cubicBezTo>
                  <a:cubicBezTo>
                    <a:pt x="455740" y="116777"/>
                    <a:pt x="453390" y="111252"/>
                    <a:pt x="453390" y="107442"/>
                  </a:cubicBezTo>
                  <a:cubicBezTo>
                    <a:pt x="453390" y="103632"/>
                    <a:pt x="455422" y="98806"/>
                    <a:pt x="459486" y="92964"/>
                  </a:cubicBezTo>
                  <a:cubicBezTo>
                    <a:pt x="472440" y="73914"/>
                    <a:pt x="480822" y="60960"/>
                    <a:pt x="484632" y="54102"/>
                  </a:cubicBezTo>
                  <a:cubicBezTo>
                    <a:pt x="488442" y="47244"/>
                    <a:pt x="490347" y="42418"/>
                    <a:pt x="490347" y="39624"/>
                  </a:cubicBezTo>
                  <a:cubicBezTo>
                    <a:pt x="490347" y="36830"/>
                    <a:pt x="489522" y="31687"/>
                    <a:pt x="487871" y="24194"/>
                  </a:cubicBezTo>
                  <a:cubicBezTo>
                    <a:pt x="486220" y="16701"/>
                    <a:pt x="484505" y="11367"/>
                    <a:pt x="482727" y="8192"/>
                  </a:cubicBezTo>
                  <a:cubicBezTo>
                    <a:pt x="480949" y="5017"/>
                    <a:pt x="480060" y="2858"/>
                    <a:pt x="480060" y="1715"/>
                  </a:cubicBezTo>
                  <a:cubicBezTo>
                    <a:pt x="480060" y="572"/>
                    <a:pt x="480695" y="0"/>
                    <a:pt x="481965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642" name="文本框 4"/>
          <p:cNvSpPr/>
          <p:nvPr/>
        </p:nvSpPr>
        <p:spPr>
          <a:xfrm>
            <a:off x="495360" y="1266840"/>
            <a:ext cx="8152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”出万里无云，“水”到纯净透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左中括号 1"/>
          <p:cNvSpPr/>
          <p:nvPr/>
        </p:nvSpPr>
        <p:spPr>
          <a:xfrm rot="16200000">
            <a:off x="2457360" y="186120"/>
            <a:ext cx="123480" cy="3460320"/>
          </a:xfrm>
          <a:prstGeom prst="leftBracket">
            <a:avLst>
              <a:gd name="adj" fmla="val 110628"/>
            </a:avLst>
          </a:prstGeom>
          <a:noFill/>
          <a:ln w="22225">
            <a:solidFill>
              <a:srgbClr val="ed7d31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644" name="文本框 2"/>
          <p:cNvSpPr/>
          <p:nvPr/>
        </p:nvSpPr>
        <p:spPr>
          <a:xfrm>
            <a:off x="1397160" y="1987560"/>
            <a:ext cx="224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天气有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左中括号 7"/>
          <p:cNvSpPr/>
          <p:nvPr/>
        </p:nvSpPr>
        <p:spPr>
          <a:xfrm rot="16200000">
            <a:off x="6671880" y="186120"/>
            <a:ext cx="123480" cy="3460320"/>
          </a:xfrm>
          <a:prstGeom prst="leftBracket">
            <a:avLst>
              <a:gd name="adj" fmla="val 110628"/>
            </a:avLst>
          </a:prstGeom>
          <a:noFill/>
          <a:ln w="22225">
            <a:solidFill>
              <a:srgbClr val="00b0f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646" name="文本框 8"/>
          <p:cNvSpPr/>
          <p:nvPr/>
        </p:nvSpPr>
        <p:spPr>
          <a:xfrm>
            <a:off x="5813280" y="1987560"/>
            <a:ext cx="184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水有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5"/>
          <p:cNvSpPr/>
          <p:nvPr/>
        </p:nvSpPr>
        <p:spPr>
          <a:xfrm>
            <a:off x="6539040" y="1339920"/>
            <a:ext cx="936360" cy="514080"/>
          </a:xfrm>
          <a:prstGeom prst="rect">
            <a:avLst/>
          </a:prstGeom>
          <a:noFill/>
          <a:ln w="19050">
            <a:solidFill>
              <a:srgbClr val="00b0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648" name="文本框 6"/>
          <p:cNvSpPr/>
          <p:nvPr/>
        </p:nvSpPr>
        <p:spPr>
          <a:xfrm>
            <a:off x="4264200" y="658800"/>
            <a:ext cx="38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没有杂质的、干净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图片 11"/>
          <p:cNvSpPr/>
          <p:nvPr/>
        </p:nvSpPr>
        <p:spPr>
          <a:xfrm>
            <a:off x="807120" y="2775240"/>
            <a:ext cx="2303640" cy="1536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r" blurRad="25560" dir="10800000" dist="38160" rotWithShape="0">
              <a:srgbClr val="000000">
                <a:alpha val="40000"/>
              </a:srgbClr>
            </a:outerShdw>
          </a:effectLst>
          <a:scene3d>
            <a:camera fov="1800000" prst="perspective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图片 13"/>
          <p:cNvSpPr/>
          <p:nvPr/>
        </p:nvSpPr>
        <p:spPr>
          <a:xfrm>
            <a:off x="6020640" y="2775240"/>
            <a:ext cx="2315880" cy="1536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l" blurRad="25560" dist="38160" rotWithShape="0">
              <a:srgbClr val="000000">
                <a:alpha val="40000"/>
              </a:srgbClr>
            </a:outerShdw>
          </a:effectLst>
          <a:scene3d>
            <a:camera fov="1800000"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组合 2"/>
          <p:cNvGrpSpPr/>
          <p:nvPr/>
        </p:nvGrpSpPr>
        <p:grpSpPr>
          <a:xfrm>
            <a:off x="3202560" y="3219480"/>
            <a:ext cx="1161000" cy="699120"/>
            <a:chOff x="3202560" y="3219480"/>
            <a:chExt cx="1161000" cy="699120"/>
          </a:xfrm>
        </p:grpSpPr>
        <p:sp>
          <p:nvSpPr>
            <p:cNvPr id="652" name="文本框 14"/>
            <p:cNvSpPr/>
            <p:nvPr/>
          </p:nvSpPr>
          <p:spPr>
            <a:xfrm>
              <a:off x="3638520" y="3219480"/>
              <a:ext cx="725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宋体"/>
                  <a:ea typeface="宋体"/>
                </a:rPr>
                <a:t>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图片 19" descr=""/>
            <p:cNvPicPr/>
            <p:nvPr/>
          </p:nvPicPr>
          <p:blipFill>
            <a:blip r:embed="rId4"/>
            <a:stretch/>
          </p:blipFill>
          <p:spPr>
            <a:xfrm flipH="1">
              <a:off x="3202560" y="3500280"/>
              <a:ext cx="477360" cy="20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组合 4"/>
          <p:cNvGrpSpPr/>
          <p:nvPr/>
        </p:nvGrpSpPr>
        <p:grpSpPr>
          <a:xfrm>
            <a:off x="4780080" y="3219480"/>
            <a:ext cx="1127160" cy="699120"/>
            <a:chOff x="4780080" y="3219480"/>
            <a:chExt cx="1127160" cy="699120"/>
          </a:xfrm>
        </p:grpSpPr>
        <p:sp>
          <p:nvSpPr>
            <p:cNvPr id="655" name="文本框 17"/>
            <p:cNvSpPr/>
            <p:nvPr/>
          </p:nvSpPr>
          <p:spPr>
            <a:xfrm>
              <a:off x="4780080" y="3219480"/>
              <a:ext cx="7257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b0f0"/>
                  </a:solidFill>
                  <a:latin typeface="宋体"/>
                  <a:ea typeface="宋体"/>
                </a:rPr>
                <a:t>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图片 22" descr=""/>
            <p:cNvPicPr/>
            <p:nvPr/>
          </p:nvPicPr>
          <p:blipFill>
            <a:blip r:embed="rId5"/>
            <a:stretch/>
          </p:blipFill>
          <p:spPr>
            <a:xfrm flipH="1">
              <a:off x="5429520" y="3500280"/>
              <a:ext cx="477720" cy="20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0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75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75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75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7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75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7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1"/>
          <p:cNvSpPr/>
          <p:nvPr/>
        </p:nvSpPr>
        <p:spPr>
          <a:xfrm>
            <a:off x="2400480" y="663480"/>
            <a:ext cx="434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言”来互相尊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2"/>
          <p:cNvSpPr/>
          <p:nvPr/>
        </p:nvSpPr>
        <p:spPr>
          <a:xfrm>
            <a:off x="3067200" y="1384200"/>
            <a:ext cx="347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礼貌用语有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图片 4"/>
          <p:cNvSpPr/>
          <p:nvPr/>
        </p:nvSpPr>
        <p:spPr>
          <a:xfrm>
            <a:off x="700200" y="2290680"/>
            <a:ext cx="2684880" cy="1871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图片 6"/>
          <p:cNvSpPr/>
          <p:nvPr/>
        </p:nvSpPr>
        <p:spPr>
          <a:xfrm>
            <a:off x="5508360" y="2290680"/>
            <a:ext cx="2807640" cy="1871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7"/>
          <p:cNvSpPr/>
          <p:nvPr/>
        </p:nvSpPr>
        <p:spPr>
          <a:xfrm>
            <a:off x="4049640" y="2787480"/>
            <a:ext cx="79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图片 8" descr=""/>
          <p:cNvPicPr/>
          <p:nvPr/>
        </p:nvPicPr>
        <p:blipFill>
          <a:blip r:embed="rId3"/>
          <a:stretch/>
        </p:blipFill>
        <p:spPr>
          <a:xfrm>
            <a:off x="3605040" y="3122640"/>
            <a:ext cx="477360" cy="20772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9" descr=""/>
          <p:cNvPicPr/>
          <p:nvPr/>
        </p:nvPicPr>
        <p:blipFill>
          <a:blip r:embed="rId4"/>
          <a:stretch/>
        </p:blipFill>
        <p:spPr>
          <a:xfrm>
            <a:off x="4809960" y="3122640"/>
            <a:ext cx="4773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7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文本框 1"/>
          <p:cNvSpPr/>
          <p:nvPr/>
        </p:nvSpPr>
        <p:spPr>
          <a:xfrm>
            <a:off x="2436840" y="663480"/>
            <a:ext cx="426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”至令人感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"/>
          <p:cNvSpPr/>
          <p:nvPr/>
        </p:nvSpPr>
        <p:spPr>
          <a:xfrm>
            <a:off x="2771640" y="1384200"/>
            <a:ext cx="388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心情和情感有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图片 4"/>
          <p:cNvSpPr/>
          <p:nvPr/>
        </p:nvSpPr>
        <p:spPr>
          <a:xfrm>
            <a:off x="827640" y="2296800"/>
            <a:ext cx="2810520" cy="18237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图片 6"/>
          <p:cNvSpPr/>
          <p:nvPr/>
        </p:nvSpPr>
        <p:spPr>
          <a:xfrm>
            <a:off x="5658840" y="2273040"/>
            <a:ext cx="2555640" cy="1871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651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8"/>
          <p:cNvSpPr/>
          <p:nvPr/>
        </p:nvSpPr>
        <p:spPr>
          <a:xfrm>
            <a:off x="4248000" y="2787480"/>
            <a:ext cx="79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9" descr=""/>
          <p:cNvPicPr/>
          <p:nvPr/>
        </p:nvPicPr>
        <p:blipFill>
          <a:blip r:embed="rId3"/>
          <a:stretch/>
        </p:blipFill>
        <p:spPr>
          <a:xfrm>
            <a:off x="3803760" y="3122640"/>
            <a:ext cx="477360" cy="20772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10" descr=""/>
          <p:cNvPicPr/>
          <p:nvPr/>
        </p:nvPicPr>
        <p:blipFill>
          <a:blip r:embed="rId4"/>
          <a:stretch/>
        </p:blipFill>
        <p:spPr>
          <a:xfrm>
            <a:off x="5008680" y="3122640"/>
            <a:ext cx="4773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椭圆 23"/>
          <p:cNvSpPr/>
          <p:nvPr/>
        </p:nvSpPr>
        <p:spPr>
          <a:xfrm>
            <a:off x="2905200" y="2017800"/>
            <a:ext cx="576000" cy="576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672" name="椭圆 24"/>
          <p:cNvSpPr/>
          <p:nvPr/>
        </p:nvSpPr>
        <p:spPr>
          <a:xfrm>
            <a:off x="2905200" y="2857680"/>
            <a:ext cx="576000" cy="5742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673" name="椭圆 25"/>
          <p:cNvSpPr/>
          <p:nvPr/>
        </p:nvSpPr>
        <p:spPr>
          <a:xfrm>
            <a:off x="2905200" y="3668760"/>
            <a:ext cx="576000" cy="5742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674" name="椭圆 22"/>
          <p:cNvSpPr/>
          <p:nvPr/>
        </p:nvSpPr>
        <p:spPr>
          <a:xfrm>
            <a:off x="2905200" y="1200240"/>
            <a:ext cx="576000" cy="576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675" name="TextBox 3"/>
          <p:cNvSpPr/>
          <p:nvPr/>
        </p:nvSpPr>
        <p:spPr>
          <a:xfrm>
            <a:off x="1879560" y="2811600"/>
            <a:ext cx="644040" cy="3639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等线"/>
                <a:ea typeface="宋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"/>
          <p:cNvGrpSpPr/>
          <p:nvPr/>
        </p:nvGrpSpPr>
        <p:grpSpPr>
          <a:xfrm>
            <a:off x="507960" y="1436760"/>
            <a:ext cx="1223640" cy="2534760"/>
            <a:chOff x="507960" y="1436760"/>
            <a:chExt cx="1223640" cy="2534760"/>
          </a:xfrm>
        </p:grpSpPr>
        <p:sp>
          <p:nvSpPr>
            <p:cNvPr id="677" name="TextBox 5"/>
            <p:cNvSpPr/>
            <p:nvPr/>
          </p:nvSpPr>
          <p:spPr>
            <a:xfrm>
              <a:off x="507960" y="1436760"/>
              <a:ext cx="798120" cy="25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6600ff"/>
                  </a:solidFill>
                  <a:latin typeface="宋体"/>
                  <a:ea typeface="宋体"/>
                </a:rPr>
                <a:t>偏旁部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左大括号 10"/>
            <p:cNvSpPr/>
            <p:nvPr/>
          </p:nvSpPr>
          <p:spPr>
            <a:xfrm>
              <a:off x="1268280" y="1479600"/>
              <a:ext cx="463320" cy="2491920"/>
            </a:xfrm>
            <a:prstGeom prst="leftBrace">
              <a:avLst>
                <a:gd name="adj1" fmla="val 24771"/>
                <a:gd name="adj2" fmla="val 50000"/>
              </a:avLst>
            </a:prstGeom>
            <a:noFill/>
            <a:ln w="31750">
              <a:solidFill>
                <a:srgbClr val="ec1ad3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679" name="组合 21"/>
          <p:cNvGrpSpPr/>
          <p:nvPr/>
        </p:nvGrpSpPr>
        <p:grpSpPr>
          <a:xfrm>
            <a:off x="1879560" y="1055520"/>
            <a:ext cx="644040" cy="705960"/>
            <a:chOff x="1879560" y="1055520"/>
            <a:chExt cx="644040" cy="705960"/>
          </a:xfrm>
        </p:grpSpPr>
        <p:sp>
          <p:nvSpPr>
            <p:cNvPr id="680" name="TextBox 1"/>
            <p:cNvSpPr/>
            <p:nvPr/>
          </p:nvSpPr>
          <p:spPr>
            <a:xfrm>
              <a:off x="1879560" y="1117440"/>
              <a:ext cx="623520" cy="64404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681" name="文本框 12"/>
            <p:cNvSpPr/>
            <p:nvPr/>
          </p:nvSpPr>
          <p:spPr>
            <a:xfrm>
              <a:off x="1947960" y="1055520"/>
              <a:ext cx="575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20"/>
          <p:cNvGrpSpPr/>
          <p:nvPr/>
        </p:nvGrpSpPr>
        <p:grpSpPr>
          <a:xfrm>
            <a:off x="1879560" y="1908000"/>
            <a:ext cx="713880" cy="707760"/>
            <a:chOff x="1879560" y="1908000"/>
            <a:chExt cx="713880" cy="707760"/>
          </a:xfrm>
        </p:grpSpPr>
        <p:sp>
          <p:nvSpPr>
            <p:cNvPr id="683" name="TextBox 2"/>
            <p:cNvSpPr/>
            <p:nvPr/>
          </p:nvSpPr>
          <p:spPr>
            <a:xfrm>
              <a:off x="1879560" y="1968480"/>
              <a:ext cx="623520" cy="64728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684" name="文本框 13"/>
            <p:cNvSpPr/>
            <p:nvPr/>
          </p:nvSpPr>
          <p:spPr>
            <a:xfrm>
              <a:off x="2017080" y="1908000"/>
              <a:ext cx="576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19"/>
          <p:cNvGrpSpPr/>
          <p:nvPr/>
        </p:nvGrpSpPr>
        <p:grpSpPr>
          <a:xfrm>
            <a:off x="1879560" y="3592440"/>
            <a:ext cx="713880" cy="707760"/>
            <a:chOff x="1879560" y="3592440"/>
            <a:chExt cx="713880" cy="707760"/>
          </a:xfrm>
        </p:grpSpPr>
        <p:sp>
          <p:nvSpPr>
            <p:cNvPr id="686" name="TextBox 4"/>
            <p:cNvSpPr/>
            <p:nvPr/>
          </p:nvSpPr>
          <p:spPr>
            <a:xfrm>
              <a:off x="1879560" y="3654360"/>
              <a:ext cx="623520" cy="64584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687" name="文本框 14"/>
            <p:cNvSpPr/>
            <p:nvPr/>
          </p:nvSpPr>
          <p:spPr>
            <a:xfrm>
              <a:off x="2017080" y="3592440"/>
              <a:ext cx="576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Box 1"/>
          <p:cNvSpPr/>
          <p:nvPr/>
        </p:nvSpPr>
        <p:spPr>
          <a:xfrm>
            <a:off x="2352600" y="1000080"/>
            <a:ext cx="3971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言”来互相尊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”至令人感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”出万里无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”到纯净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直接连接符 27"/>
          <p:cNvCxnSpPr/>
          <p:nvPr/>
        </p:nvCxnSpPr>
        <p:spPr>
          <a:xfrm>
            <a:off x="6227640" y="1488960"/>
            <a:ext cx="576720" cy="360"/>
          </a:xfrm>
          <a:prstGeom prst="straightConnector1">
            <a:avLst/>
          </a:prstGeom>
          <a:ln w="31750">
            <a:solidFill>
              <a:srgbClr val="ec1ad3"/>
            </a:solidFill>
          </a:ln>
        </p:spPr>
      </p:cxnSp>
      <p:cxnSp>
        <p:nvCxnSpPr>
          <p:cNvPr id="690" name="直接连接符 28"/>
          <p:cNvCxnSpPr/>
          <p:nvPr/>
        </p:nvCxnSpPr>
        <p:spPr>
          <a:xfrm>
            <a:off x="6227640" y="2314440"/>
            <a:ext cx="576720" cy="360"/>
          </a:xfrm>
          <a:prstGeom prst="straightConnector1">
            <a:avLst/>
          </a:prstGeom>
          <a:ln w="31750">
            <a:solidFill>
              <a:srgbClr val="ec1ad3"/>
            </a:solidFill>
          </a:ln>
        </p:spPr>
      </p:cxnSp>
      <p:cxnSp>
        <p:nvCxnSpPr>
          <p:cNvPr id="691" name="直接连接符 29"/>
          <p:cNvCxnSpPr/>
          <p:nvPr/>
        </p:nvCxnSpPr>
        <p:spPr>
          <a:xfrm>
            <a:off x="6227640" y="3138480"/>
            <a:ext cx="576720" cy="360"/>
          </a:xfrm>
          <a:prstGeom prst="straightConnector1">
            <a:avLst/>
          </a:prstGeom>
          <a:ln w="31750">
            <a:solidFill>
              <a:srgbClr val="ec1ad3"/>
            </a:solidFill>
          </a:ln>
        </p:spPr>
      </p:cxnSp>
      <p:cxnSp>
        <p:nvCxnSpPr>
          <p:cNvPr id="692" name="直接连接符 30"/>
          <p:cNvCxnSpPr/>
          <p:nvPr/>
        </p:nvCxnSpPr>
        <p:spPr>
          <a:xfrm>
            <a:off x="6227640" y="3963960"/>
            <a:ext cx="576720" cy="360"/>
          </a:xfrm>
          <a:prstGeom prst="straightConnector1">
            <a:avLst/>
          </a:prstGeom>
          <a:ln w="31750">
            <a:solidFill>
              <a:srgbClr val="ec1ad3"/>
            </a:solidFill>
          </a:ln>
        </p:spPr>
      </p:cxnSp>
      <p:sp>
        <p:nvSpPr>
          <p:cNvPr id="693" name="TextBox 1"/>
          <p:cNvSpPr/>
          <p:nvPr/>
        </p:nvSpPr>
        <p:spPr>
          <a:xfrm>
            <a:off x="6721560" y="1000080"/>
            <a:ext cx="720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中括号 51"/>
          <p:cNvSpPr/>
          <p:nvPr/>
        </p:nvSpPr>
        <p:spPr>
          <a:xfrm>
            <a:off x="7386480" y="1488960"/>
            <a:ext cx="153720" cy="2474640"/>
          </a:xfrm>
          <a:prstGeom prst="rightBracket">
            <a:avLst>
              <a:gd name="adj" fmla="val 156617"/>
            </a:avLst>
          </a:prstGeom>
          <a:noFill/>
          <a:ln w="28575">
            <a:solidFill>
              <a:srgbClr val="ec1ad3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grpSp>
        <p:nvGrpSpPr>
          <p:cNvPr id="695" name="组合 58"/>
          <p:cNvGrpSpPr/>
          <p:nvPr/>
        </p:nvGrpSpPr>
        <p:grpSpPr>
          <a:xfrm>
            <a:off x="7675560" y="2233440"/>
            <a:ext cx="995040" cy="983880"/>
            <a:chOff x="7675560" y="2233440"/>
            <a:chExt cx="995040" cy="983880"/>
          </a:xfrm>
        </p:grpSpPr>
        <p:pic>
          <p:nvPicPr>
            <p:cNvPr id="696" name="图片 90" descr=""/>
            <p:cNvPicPr/>
            <p:nvPr/>
          </p:nvPicPr>
          <p:blipFill>
            <a:blip r:embed="rId1"/>
            <a:stretch/>
          </p:blipFill>
          <p:spPr>
            <a:xfrm>
              <a:off x="7675560" y="2233440"/>
              <a:ext cx="995040" cy="9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文本框 57"/>
            <p:cNvSpPr/>
            <p:nvPr/>
          </p:nvSpPr>
          <p:spPr>
            <a:xfrm>
              <a:off x="7851600" y="2398320"/>
              <a:ext cx="643320" cy="654840"/>
            </a:xfrm>
            <a:custGeom>
              <a:avLst/>
              <a:gdLst>
                <a:gd name="textAreaLeft" fmla="*/ 0 w 643320"/>
                <a:gd name="textAreaRight" fmla="*/ 643680 w 643320"/>
                <a:gd name="textAreaTop" fmla="*/ 0 h 654840"/>
                <a:gd name="textAreaBottom" fmla="*/ 655200 h 654840"/>
              </a:gdLst>
              <a:ahLst/>
              <a:rect l="textAreaLeft" t="textAreaTop" r="textAreaRight" b="textAreaBottom"/>
              <a:pathLst>
                <a:path w="643210" h="656201">
                  <a:moveTo>
                    <a:pt x="391556" y="294619"/>
                  </a:moveTo>
                  <a:cubicBezTo>
                    <a:pt x="397032" y="294669"/>
                    <a:pt x="402863" y="295752"/>
                    <a:pt x="409049" y="297868"/>
                  </a:cubicBezTo>
                  <a:cubicBezTo>
                    <a:pt x="421420" y="302101"/>
                    <a:pt x="434660" y="308139"/>
                    <a:pt x="448767" y="315984"/>
                  </a:cubicBezTo>
                  <a:cubicBezTo>
                    <a:pt x="462875" y="323828"/>
                    <a:pt x="467014" y="335618"/>
                    <a:pt x="461185" y="351354"/>
                  </a:cubicBezTo>
                  <a:cubicBezTo>
                    <a:pt x="455356" y="367089"/>
                    <a:pt x="453875" y="390661"/>
                    <a:pt x="456743" y="422070"/>
                  </a:cubicBezTo>
                  <a:cubicBezTo>
                    <a:pt x="459611" y="453479"/>
                    <a:pt x="463014" y="488663"/>
                    <a:pt x="466952" y="527622"/>
                  </a:cubicBezTo>
                  <a:cubicBezTo>
                    <a:pt x="470890" y="566581"/>
                    <a:pt x="461945" y="600261"/>
                    <a:pt x="440117" y="628662"/>
                  </a:cubicBezTo>
                  <a:cubicBezTo>
                    <a:pt x="418288" y="657064"/>
                    <a:pt x="402506" y="663497"/>
                    <a:pt x="392771" y="647963"/>
                  </a:cubicBezTo>
                  <a:cubicBezTo>
                    <a:pt x="383035" y="632429"/>
                    <a:pt x="366168" y="613407"/>
                    <a:pt x="342169" y="590897"/>
                  </a:cubicBezTo>
                  <a:cubicBezTo>
                    <a:pt x="318170" y="568387"/>
                    <a:pt x="317946" y="559573"/>
                    <a:pt x="341495" y="564457"/>
                  </a:cubicBezTo>
                  <a:cubicBezTo>
                    <a:pt x="365044" y="569340"/>
                    <a:pt x="381531" y="571782"/>
                    <a:pt x="390957" y="571782"/>
                  </a:cubicBezTo>
                  <a:cubicBezTo>
                    <a:pt x="395018" y="571782"/>
                    <a:pt x="397949" y="560162"/>
                    <a:pt x="399747" y="536924"/>
                  </a:cubicBezTo>
                  <a:cubicBezTo>
                    <a:pt x="401545" y="513685"/>
                    <a:pt x="400987" y="483733"/>
                    <a:pt x="398073" y="447069"/>
                  </a:cubicBezTo>
                  <a:cubicBezTo>
                    <a:pt x="395158" y="410404"/>
                    <a:pt x="392833" y="384638"/>
                    <a:pt x="391096" y="369771"/>
                  </a:cubicBezTo>
                  <a:cubicBezTo>
                    <a:pt x="389360" y="354904"/>
                    <a:pt x="385306" y="345989"/>
                    <a:pt x="378934" y="343028"/>
                  </a:cubicBezTo>
                  <a:cubicBezTo>
                    <a:pt x="372562" y="340067"/>
                    <a:pt x="359943" y="340447"/>
                    <a:pt x="341076" y="344168"/>
                  </a:cubicBezTo>
                  <a:cubicBezTo>
                    <a:pt x="322209" y="347889"/>
                    <a:pt x="291722" y="354322"/>
                    <a:pt x="249617" y="363469"/>
                  </a:cubicBezTo>
                  <a:cubicBezTo>
                    <a:pt x="246671" y="378197"/>
                    <a:pt x="245198" y="389235"/>
                    <a:pt x="245198" y="396583"/>
                  </a:cubicBezTo>
                  <a:cubicBezTo>
                    <a:pt x="265104" y="396769"/>
                    <a:pt x="285669" y="393901"/>
                    <a:pt x="306892" y="387979"/>
                  </a:cubicBezTo>
                  <a:cubicBezTo>
                    <a:pt x="328116" y="382057"/>
                    <a:pt x="346487" y="382677"/>
                    <a:pt x="362005" y="389840"/>
                  </a:cubicBezTo>
                  <a:cubicBezTo>
                    <a:pt x="377523" y="397002"/>
                    <a:pt x="374958" y="405296"/>
                    <a:pt x="354308" y="414722"/>
                  </a:cubicBezTo>
                  <a:cubicBezTo>
                    <a:pt x="333658" y="424148"/>
                    <a:pt x="313613" y="429868"/>
                    <a:pt x="294172" y="431884"/>
                  </a:cubicBezTo>
                  <a:cubicBezTo>
                    <a:pt x="274731" y="433899"/>
                    <a:pt x="257864" y="432953"/>
                    <a:pt x="243570" y="429046"/>
                  </a:cubicBezTo>
                  <a:cubicBezTo>
                    <a:pt x="240780" y="446813"/>
                    <a:pt x="239385" y="460331"/>
                    <a:pt x="239385" y="469602"/>
                  </a:cubicBezTo>
                  <a:cubicBezTo>
                    <a:pt x="259786" y="469602"/>
                    <a:pt x="282560" y="466191"/>
                    <a:pt x="307706" y="459370"/>
                  </a:cubicBezTo>
                  <a:cubicBezTo>
                    <a:pt x="332852" y="452549"/>
                    <a:pt x="353044" y="454053"/>
                    <a:pt x="368284" y="463882"/>
                  </a:cubicBezTo>
                  <a:cubicBezTo>
                    <a:pt x="383523" y="473710"/>
                    <a:pt x="379709" y="482516"/>
                    <a:pt x="356843" y="490299"/>
                  </a:cubicBezTo>
                  <a:cubicBezTo>
                    <a:pt x="333976" y="498081"/>
                    <a:pt x="312876" y="502468"/>
                    <a:pt x="293544" y="503461"/>
                  </a:cubicBezTo>
                  <a:cubicBezTo>
                    <a:pt x="274212" y="504453"/>
                    <a:pt x="254810" y="502995"/>
                    <a:pt x="235338" y="499089"/>
                  </a:cubicBezTo>
                  <a:cubicBezTo>
                    <a:pt x="230098" y="551055"/>
                    <a:pt x="222153" y="589339"/>
                    <a:pt x="211503" y="613942"/>
                  </a:cubicBezTo>
                  <a:cubicBezTo>
                    <a:pt x="200852" y="638545"/>
                    <a:pt x="189155" y="645088"/>
                    <a:pt x="176412" y="633569"/>
                  </a:cubicBezTo>
                  <a:cubicBezTo>
                    <a:pt x="163668" y="622050"/>
                    <a:pt x="157297" y="608291"/>
                    <a:pt x="157297" y="592292"/>
                  </a:cubicBezTo>
                  <a:cubicBezTo>
                    <a:pt x="157297" y="578092"/>
                    <a:pt x="161676" y="561271"/>
                    <a:pt x="170435" y="541830"/>
                  </a:cubicBezTo>
                  <a:cubicBezTo>
                    <a:pt x="179195" y="522390"/>
                    <a:pt x="186977" y="490221"/>
                    <a:pt x="193783" y="445325"/>
                  </a:cubicBezTo>
                  <a:cubicBezTo>
                    <a:pt x="200589" y="400428"/>
                    <a:pt x="200100" y="368438"/>
                    <a:pt x="192318" y="349354"/>
                  </a:cubicBezTo>
                  <a:cubicBezTo>
                    <a:pt x="184535" y="330270"/>
                    <a:pt x="188186" y="322208"/>
                    <a:pt x="203271" y="325169"/>
                  </a:cubicBezTo>
                  <a:cubicBezTo>
                    <a:pt x="218355" y="328130"/>
                    <a:pt x="229029" y="329587"/>
                    <a:pt x="235292" y="329541"/>
                  </a:cubicBezTo>
                  <a:cubicBezTo>
                    <a:pt x="241555" y="329494"/>
                    <a:pt x="257841" y="327122"/>
                    <a:pt x="284149" y="322425"/>
                  </a:cubicBezTo>
                  <a:cubicBezTo>
                    <a:pt x="310458" y="317728"/>
                    <a:pt x="329991" y="313418"/>
                    <a:pt x="342750" y="309496"/>
                  </a:cubicBezTo>
                  <a:cubicBezTo>
                    <a:pt x="355509" y="305573"/>
                    <a:pt x="366656" y="301597"/>
                    <a:pt x="376190" y="297566"/>
                  </a:cubicBezTo>
                  <a:cubicBezTo>
                    <a:pt x="380957" y="295551"/>
                    <a:pt x="386079" y="294568"/>
                    <a:pt x="391556" y="294619"/>
                  </a:cubicBezTo>
                  <a:close/>
                  <a:moveTo>
                    <a:pt x="276076" y="2"/>
                  </a:moveTo>
                  <a:cubicBezTo>
                    <a:pt x="283069" y="61"/>
                    <a:pt x="293155" y="1921"/>
                    <a:pt x="306334" y="5584"/>
                  </a:cubicBezTo>
                  <a:cubicBezTo>
                    <a:pt x="341479" y="15351"/>
                    <a:pt x="356563" y="25133"/>
                    <a:pt x="351587" y="34931"/>
                  </a:cubicBezTo>
                  <a:cubicBezTo>
                    <a:pt x="346611" y="44729"/>
                    <a:pt x="343254" y="57302"/>
                    <a:pt x="341518" y="72650"/>
                  </a:cubicBezTo>
                  <a:cubicBezTo>
                    <a:pt x="367563" y="68867"/>
                    <a:pt x="390189" y="65007"/>
                    <a:pt x="409397" y="61069"/>
                  </a:cubicBezTo>
                  <a:cubicBezTo>
                    <a:pt x="428606" y="57131"/>
                    <a:pt x="445442" y="63828"/>
                    <a:pt x="459906" y="81161"/>
                  </a:cubicBezTo>
                  <a:cubicBezTo>
                    <a:pt x="474370" y="98493"/>
                    <a:pt x="470184" y="107779"/>
                    <a:pt x="447349" y="109019"/>
                  </a:cubicBezTo>
                  <a:cubicBezTo>
                    <a:pt x="424513" y="110260"/>
                    <a:pt x="389034" y="114430"/>
                    <a:pt x="340913" y="121530"/>
                  </a:cubicBezTo>
                  <a:lnTo>
                    <a:pt x="338588" y="151435"/>
                  </a:lnTo>
                  <a:cubicBezTo>
                    <a:pt x="362741" y="147684"/>
                    <a:pt x="381934" y="144800"/>
                    <a:pt x="396166" y="142785"/>
                  </a:cubicBezTo>
                  <a:cubicBezTo>
                    <a:pt x="410397" y="140769"/>
                    <a:pt x="423815" y="145878"/>
                    <a:pt x="436419" y="158109"/>
                  </a:cubicBezTo>
                  <a:cubicBezTo>
                    <a:pt x="449023" y="170341"/>
                    <a:pt x="448728" y="178666"/>
                    <a:pt x="435535" y="183085"/>
                  </a:cubicBezTo>
                  <a:cubicBezTo>
                    <a:pt x="422342" y="187503"/>
                    <a:pt x="389841" y="193278"/>
                    <a:pt x="338030" y="200409"/>
                  </a:cubicBezTo>
                  <a:lnTo>
                    <a:pt x="335704" y="236081"/>
                  </a:lnTo>
                  <a:cubicBezTo>
                    <a:pt x="376849" y="232392"/>
                    <a:pt x="414064" y="229082"/>
                    <a:pt x="447349" y="226152"/>
                  </a:cubicBezTo>
                  <a:cubicBezTo>
                    <a:pt x="480633" y="223222"/>
                    <a:pt x="510973" y="218796"/>
                    <a:pt x="538366" y="212874"/>
                  </a:cubicBezTo>
                  <a:cubicBezTo>
                    <a:pt x="565760" y="206951"/>
                    <a:pt x="591363" y="210657"/>
                    <a:pt x="615176" y="223989"/>
                  </a:cubicBezTo>
                  <a:cubicBezTo>
                    <a:pt x="638988" y="237322"/>
                    <a:pt x="647631" y="248569"/>
                    <a:pt x="641104" y="257731"/>
                  </a:cubicBezTo>
                  <a:cubicBezTo>
                    <a:pt x="634578" y="266894"/>
                    <a:pt x="614610" y="270498"/>
                    <a:pt x="581201" y="268545"/>
                  </a:cubicBezTo>
                  <a:cubicBezTo>
                    <a:pt x="547792" y="266591"/>
                    <a:pt x="507546" y="267056"/>
                    <a:pt x="460464" y="269940"/>
                  </a:cubicBezTo>
                  <a:cubicBezTo>
                    <a:pt x="413382" y="272823"/>
                    <a:pt x="368950" y="277203"/>
                    <a:pt x="327170" y="283079"/>
                  </a:cubicBezTo>
                  <a:cubicBezTo>
                    <a:pt x="285390" y="288954"/>
                    <a:pt x="239788" y="296272"/>
                    <a:pt x="190364" y="305031"/>
                  </a:cubicBezTo>
                  <a:cubicBezTo>
                    <a:pt x="140941" y="313790"/>
                    <a:pt x="104292" y="320115"/>
                    <a:pt x="80418" y="324006"/>
                  </a:cubicBezTo>
                  <a:cubicBezTo>
                    <a:pt x="56543" y="327898"/>
                    <a:pt x="34203" y="321696"/>
                    <a:pt x="13398" y="305403"/>
                  </a:cubicBezTo>
                  <a:cubicBezTo>
                    <a:pt x="-7407" y="289109"/>
                    <a:pt x="-3980" y="280327"/>
                    <a:pt x="23677" y="279056"/>
                  </a:cubicBezTo>
                  <a:cubicBezTo>
                    <a:pt x="51334" y="277784"/>
                    <a:pt x="82270" y="274707"/>
                    <a:pt x="116485" y="269824"/>
                  </a:cubicBezTo>
                  <a:cubicBezTo>
                    <a:pt x="150700" y="264940"/>
                    <a:pt x="207107" y="257026"/>
                    <a:pt x="285707" y="246081"/>
                  </a:cubicBezTo>
                  <a:lnTo>
                    <a:pt x="285707" y="207246"/>
                  </a:lnTo>
                  <a:cubicBezTo>
                    <a:pt x="267135" y="211153"/>
                    <a:pt x="250151" y="214075"/>
                    <a:pt x="234757" y="216013"/>
                  </a:cubicBezTo>
                  <a:cubicBezTo>
                    <a:pt x="219363" y="217951"/>
                    <a:pt x="202604" y="213618"/>
                    <a:pt x="184481" y="203014"/>
                  </a:cubicBezTo>
                  <a:cubicBezTo>
                    <a:pt x="166358" y="192410"/>
                    <a:pt x="170156" y="185100"/>
                    <a:pt x="195876" y="181085"/>
                  </a:cubicBezTo>
                  <a:cubicBezTo>
                    <a:pt x="221595" y="177070"/>
                    <a:pt x="251539" y="171651"/>
                    <a:pt x="285707" y="164830"/>
                  </a:cubicBezTo>
                  <a:lnTo>
                    <a:pt x="285707" y="131390"/>
                  </a:lnTo>
                  <a:cubicBezTo>
                    <a:pt x="267228" y="135266"/>
                    <a:pt x="247733" y="138661"/>
                    <a:pt x="227223" y="141576"/>
                  </a:cubicBezTo>
                  <a:cubicBezTo>
                    <a:pt x="206712" y="144490"/>
                    <a:pt x="187016" y="138785"/>
                    <a:pt x="168133" y="124460"/>
                  </a:cubicBezTo>
                  <a:cubicBezTo>
                    <a:pt x="149251" y="110136"/>
                    <a:pt x="154150" y="102330"/>
                    <a:pt x="182830" y="101043"/>
                  </a:cubicBezTo>
                  <a:cubicBezTo>
                    <a:pt x="211510" y="99756"/>
                    <a:pt x="245803" y="94772"/>
                    <a:pt x="285707" y="86091"/>
                  </a:cubicBezTo>
                  <a:cubicBezTo>
                    <a:pt x="285707" y="80137"/>
                    <a:pt x="284785" y="70719"/>
                    <a:pt x="282940" y="57837"/>
                  </a:cubicBezTo>
                  <a:cubicBezTo>
                    <a:pt x="281095" y="44954"/>
                    <a:pt x="275747" y="30582"/>
                    <a:pt x="266895" y="14723"/>
                  </a:cubicBezTo>
                  <a:cubicBezTo>
                    <a:pt x="261362" y="4811"/>
                    <a:pt x="264423" y="-96"/>
                    <a:pt x="276076" y="2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98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699" name="图片 21" descr=""/>
            <p:cNvPicPr/>
            <p:nvPr/>
          </p:nvPicPr>
          <p:blipFill>
            <a:blip r:embed="rId2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任意多边形: 形状 61"/>
            <p:cNvSpPr/>
            <p:nvPr/>
          </p:nvSpPr>
          <p:spPr>
            <a:xfrm>
              <a:off x="385920" y="266760"/>
              <a:ext cx="1433160" cy="307440"/>
            </a:xfrm>
            <a:custGeom>
              <a:avLst/>
              <a:gdLst>
                <a:gd name="textAreaLeft" fmla="*/ 0 w 1433160"/>
                <a:gd name="textAreaRight" fmla="*/ 1433520 w 143316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1431417" h="308610">
                  <a:moveTo>
                    <a:pt x="1364742" y="245364"/>
                  </a:moveTo>
                  <a:cubicBezTo>
                    <a:pt x="1378204" y="245364"/>
                    <a:pt x="1389825" y="247968"/>
                    <a:pt x="1399604" y="253175"/>
                  </a:cubicBezTo>
                  <a:cubicBezTo>
                    <a:pt x="1409383" y="258382"/>
                    <a:pt x="1416177" y="263652"/>
                    <a:pt x="1419987" y="268986"/>
                  </a:cubicBezTo>
                  <a:cubicBezTo>
                    <a:pt x="1423797" y="274320"/>
                    <a:pt x="1425702" y="280797"/>
                    <a:pt x="1425702" y="288417"/>
                  </a:cubicBezTo>
                  <a:cubicBezTo>
                    <a:pt x="1425702" y="301879"/>
                    <a:pt x="1423924" y="308610"/>
                    <a:pt x="1420368" y="308610"/>
                  </a:cubicBezTo>
                  <a:cubicBezTo>
                    <a:pt x="1417828" y="308610"/>
                    <a:pt x="1411859" y="304356"/>
                    <a:pt x="1402461" y="295847"/>
                  </a:cubicBezTo>
                  <a:cubicBezTo>
                    <a:pt x="1393063" y="287338"/>
                    <a:pt x="1383284" y="277622"/>
                    <a:pt x="1373124" y="266700"/>
                  </a:cubicBezTo>
                  <a:cubicBezTo>
                    <a:pt x="1362964" y="255778"/>
                    <a:pt x="1357884" y="249492"/>
                    <a:pt x="1357884" y="247841"/>
                  </a:cubicBezTo>
                  <a:cubicBezTo>
                    <a:pt x="1357884" y="246190"/>
                    <a:pt x="1360170" y="245364"/>
                    <a:pt x="1364742" y="245364"/>
                  </a:cubicBezTo>
                  <a:close/>
                  <a:moveTo>
                    <a:pt x="206502" y="210312"/>
                  </a:moveTo>
                  <a:cubicBezTo>
                    <a:pt x="195072" y="219202"/>
                    <a:pt x="186944" y="226822"/>
                    <a:pt x="182118" y="233172"/>
                  </a:cubicBezTo>
                  <a:cubicBezTo>
                    <a:pt x="193294" y="237744"/>
                    <a:pt x="199898" y="240030"/>
                    <a:pt x="201930" y="240030"/>
                  </a:cubicBezTo>
                  <a:cubicBezTo>
                    <a:pt x="203962" y="240030"/>
                    <a:pt x="205232" y="239649"/>
                    <a:pt x="205740" y="238887"/>
                  </a:cubicBezTo>
                  <a:cubicBezTo>
                    <a:pt x="206248" y="238125"/>
                    <a:pt x="206566" y="234379"/>
                    <a:pt x="206693" y="227648"/>
                  </a:cubicBezTo>
                  <a:cubicBezTo>
                    <a:pt x="206820" y="220917"/>
                    <a:pt x="206756" y="215138"/>
                    <a:pt x="206502" y="210312"/>
                  </a:cubicBezTo>
                  <a:close/>
                  <a:moveTo>
                    <a:pt x="1337644" y="207169"/>
                  </a:moveTo>
                  <a:cubicBezTo>
                    <a:pt x="1336342" y="207486"/>
                    <a:pt x="1335024" y="208153"/>
                    <a:pt x="1333691" y="209169"/>
                  </a:cubicBezTo>
                  <a:cubicBezTo>
                    <a:pt x="1331024" y="211201"/>
                    <a:pt x="1329309" y="213995"/>
                    <a:pt x="1328547" y="217551"/>
                  </a:cubicBezTo>
                  <a:cubicBezTo>
                    <a:pt x="1331341" y="216789"/>
                    <a:pt x="1335024" y="215900"/>
                    <a:pt x="1339596" y="214884"/>
                  </a:cubicBezTo>
                  <a:cubicBezTo>
                    <a:pt x="1340612" y="212090"/>
                    <a:pt x="1341247" y="209550"/>
                    <a:pt x="1341501" y="207264"/>
                  </a:cubicBezTo>
                  <a:cubicBezTo>
                    <a:pt x="1340231" y="206883"/>
                    <a:pt x="1338945" y="206851"/>
                    <a:pt x="1337644" y="207169"/>
                  </a:cubicBezTo>
                  <a:close/>
                  <a:moveTo>
                    <a:pt x="868299" y="205740"/>
                  </a:moveTo>
                  <a:cubicBezTo>
                    <a:pt x="867537" y="205740"/>
                    <a:pt x="866521" y="206121"/>
                    <a:pt x="865251" y="206883"/>
                  </a:cubicBezTo>
                  <a:cubicBezTo>
                    <a:pt x="857885" y="211455"/>
                    <a:pt x="849249" y="213741"/>
                    <a:pt x="839343" y="213741"/>
                  </a:cubicBezTo>
                  <a:cubicBezTo>
                    <a:pt x="832485" y="213741"/>
                    <a:pt x="828421" y="215519"/>
                    <a:pt x="827151" y="219075"/>
                  </a:cubicBezTo>
                  <a:cubicBezTo>
                    <a:pt x="829183" y="224155"/>
                    <a:pt x="830707" y="230505"/>
                    <a:pt x="831723" y="238125"/>
                  </a:cubicBezTo>
                  <a:cubicBezTo>
                    <a:pt x="832739" y="238633"/>
                    <a:pt x="838835" y="238887"/>
                    <a:pt x="850011" y="238887"/>
                  </a:cubicBezTo>
                  <a:cubicBezTo>
                    <a:pt x="856869" y="233299"/>
                    <a:pt x="861822" y="227330"/>
                    <a:pt x="864870" y="220980"/>
                  </a:cubicBezTo>
                  <a:cubicBezTo>
                    <a:pt x="867918" y="214630"/>
                    <a:pt x="869442" y="210503"/>
                    <a:pt x="869442" y="208598"/>
                  </a:cubicBezTo>
                  <a:cubicBezTo>
                    <a:pt x="869442" y="206693"/>
                    <a:pt x="869061" y="205740"/>
                    <a:pt x="868299" y="205740"/>
                  </a:cubicBezTo>
                  <a:close/>
                  <a:moveTo>
                    <a:pt x="995553" y="186690"/>
                  </a:moveTo>
                  <a:cubicBezTo>
                    <a:pt x="991489" y="186690"/>
                    <a:pt x="976630" y="192786"/>
                    <a:pt x="950976" y="204978"/>
                  </a:cubicBezTo>
                  <a:cubicBezTo>
                    <a:pt x="951230" y="215646"/>
                    <a:pt x="951103" y="226822"/>
                    <a:pt x="950595" y="238506"/>
                  </a:cubicBezTo>
                  <a:cubicBezTo>
                    <a:pt x="959485" y="236982"/>
                    <a:pt x="965073" y="236093"/>
                    <a:pt x="967359" y="235839"/>
                  </a:cubicBezTo>
                  <a:cubicBezTo>
                    <a:pt x="975995" y="229743"/>
                    <a:pt x="983298" y="221044"/>
                    <a:pt x="989267" y="209741"/>
                  </a:cubicBezTo>
                  <a:cubicBezTo>
                    <a:pt x="995236" y="198438"/>
                    <a:pt x="998220" y="191770"/>
                    <a:pt x="998220" y="189738"/>
                  </a:cubicBezTo>
                  <a:cubicBezTo>
                    <a:pt x="998220" y="187706"/>
                    <a:pt x="997331" y="186690"/>
                    <a:pt x="995553" y="186690"/>
                  </a:cubicBezTo>
                  <a:close/>
                  <a:moveTo>
                    <a:pt x="1004507" y="150495"/>
                  </a:moveTo>
                  <a:cubicBezTo>
                    <a:pt x="1008698" y="150495"/>
                    <a:pt x="1013714" y="151956"/>
                    <a:pt x="1019556" y="154877"/>
                  </a:cubicBezTo>
                  <a:cubicBezTo>
                    <a:pt x="1025398" y="157798"/>
                    <a:pt x="1030859" y="163068"/>
                    <a:pt x="1035939" y="170688"/>
                  </a:cubicBezTo>
                  <a:cubicBezTo>
                    <a:pt x="1041019" y="178308"/>
                    <a:pt x="1043559" y="183896"/>
                    <a:pt x="1043559" y="187452"/>
                  </a:cubicBezTo>
                  <a:cubicBezTo>
                    <a:pt x="1043559" y="191008"/>
                    <a:pt x="1041083" y="195009"/>
                    <a:pt x="1036130" y="199454"/>
                  </a:cubicBezTo>
                  <a:cubicBezTo>
                    <a:pt x="1031177" y="203899"/>
                    <a:pt x="1026795" y="208471"/>
                    <a:pt x="1022985" y="213170"/>
                  </a:cubicBezTo>
                  <a:cubicBezTo>
                    <a:pt x="1019175" y="217869"/>
                    <a:pt x="1013333" y="226060"/>
                    <a:pt x="1005459" y="237744"/>
                  </a:cubicBezTo>
                  <a:cubicBezTo>
                    <a:pt x="1011555" y="241046"/>
                    <a:pt x="1015746" y="245364"/>
                    <a:pt x="1018032" y="250698"/>
                  </a:cubicBezTo>
                  <a:cubicBezTo>
                    <a:pt x="1020318" y="256032"/>
                    <a:pt x="1021461" y="260731"/>
                    <a:pt x="1021461" y="264795"/>
                  </a:cubicBezTo>
                  <a:cubicBezTo>
                    <a:pt x="1021461" y="268859"/>
                    <a:pt x="1019429" y="270891"/>
                    <a:pt x="1015365" y="270891"/>
                  </a:cubicBezTo>
                  <a:cubicBezTo>
                    <a:pt x="1012825" y="270891"/>
                    <a:pt x="1009904" y="270129"/>
                    <a:pt x="1006602" y="268605"/>
                  </a:cubicBezTo>
                  <a:cubicBezTo>
                    <a:pt x="995934" y="263271"/>
                    <a:pt x="984123" y="260604"/>
                    <a:pt x="971169" y="260604"/>
                  </a:cubicBezTo>
                  <a:cubicBezTo>
                    <a:pt x="961771" y="260604"/>
                    <a:pt x="954405" y="262255"/>
                    <a:pt x="949071" y="265557"/>
                  </a:cubicBezTo>
                  <a:cubicBezTo>
                    <a:pt x="947293" y="269113"/>
                    <a:pt x="945198" y="270891"/>
                    <a:pt x="942785" y="270891"/>
                  </a:cubicBezTo>
                  <a:cubicBezTo>
                    <a:pt x="940372" y="270891"/>
                    <a:pt x="936625" y="267272"/>
                    <a:pt x="931545" y="260033"/>
                  </a:cubicBezTo>
                  <a:cubicBezTo>
                    <a:pt x="926465" y="252794"/>
                    <a:pt x="923925" y="246253"/>
                    <a:pt x="923925" y="240411"/>
                  </a:cubicBezTo>
                  <a:lnTo>
                    <a:pt x="924687" y="208788"/>
                  </a:lnTo>
                  <a:cubicBezTo>
                    <a:pt x="924687" y="187198"/>
                    <a:pt x="923163" y="173990"/>
                    <a:pt x="920115" y="169164"/>
                  </a:cubicBezTo>
                  <a:cubicBezTo>
                    <a:pt x="918845" y="166878"/>
                    <a:pt x="918210" y="164846"/>
                    <a:pt x="918210" y="163068"/>
                  </a:cubicBezTo>
                  <a:cubicBezTo>
                    <a:pt x="918210" y="161290"/>
                    <a:pt x="919163" y="160401"/>
                    <a:pt x="921068" y="160401"/>
                  </a:cubicBezTo>
                  <a:cubicBezTo>
                    <a:pt x="922973" y="160401"/>
                    <a:pt x="927100" y="161925"/>
                    <a:pt x="933450" y="164973"/>
                  </a:cubicBezTo>
                  <a:cubicBezTo>
                    <a:pt x="939800" y="168021"/>
                    <a:pt x="944118" y="171831"/>
                    <a:pt x="946404" y="176403"/>
                  </a:cubicBezTo>
                  <a:cubicBezTo>
                    <a:pt x="964692" y="166243"/>
                    <a:pt x="977900" y="159385"/>
                    <a:pt x="986028" y="155829"/>
                  </a:cubicBezTo>
                  <a:cubicBezTo>
                    <a:pt x="994156" y="152273"/>
                    <a:pt x="1000316" y="150495"/>
                    <a:pt x="1004507" y="150495"/>
                  </a:cubicBezTo>
                  <a:close/>
                  <a:moveTo>
                    <a:pt x="1209294" y="126111"/>
                  </a:moveTo>
                  <a:cubicBezTo>
                    <a:pt x="1216152" y="126111"/>
                    <a:pt x="1221994" y="128397"/>
                    <a:pt x="1226820" y="132969"/>
                  </a:cubicBezTo>
                  <a:cubicBezTo>
                    <a:pt x="1231646" y="137541"/>
                    <a:pt x="1234059" y="142621"/>
                    <a:pt x="1234059" y="148209"/>
                  </a:cubicBezTo>
                  <a:cubicBezTo>
                    <a:pt x="1234059" y="150241"/>
                    <a:pt x="1233678" y="152019"/>
                    <a:pt x="1232916" y="153543"/>
                  </a:cubicBezTo>
                  <a:cubicBezTo>
                    <a:pt x="1229614" y="160147"/>
                    <a:pt x="1227328" y="167386"/>
                    <a:pt x="1226058" y="175260"/>
                  </a:cubicBezTo>
                  <a:lnTo>
                    <a:pt x="1215390" y="236601"/>
                  </a:lnTo>
                  <a:cubicBezTo>
                    <a:pt x="1214628" y="240411"/>
                    <a:pt x="1214247" y="242951"/>
                    <a:pt x="1214247" y="244221"/>
                  </a:cubicBezTo>
                  <a:cubicBezTo>
                    <a:pt x="1214247" y="247015"/>
                    <a:pt x="1214755" y="248412"/>
                    <a:pt x="1215771" y="248412"/>
                  </a:cubicBezTo>
                  <a:cubicBezTo>
                    <a:pt x="1216787" y="248412"/>
                    <a:pt x="1217740" y="247904"/>
                    <a:pt x="1218629" y="246888"/>
                  </a:cubicBezTo>
                  <a:cubicBezTo>
                    <a:pt x="1219518" y="245872"/>
                    <a:pt x="1223074" y="239649"/>
                    <a:pt x="1229297" y="228219"/>
                  </a:cubicBezTo>
                  <a:cubicBezTo>
                    <a:pt x="1235520" y="216789"/>
                    <a:pt x="1239774" y="207772"/>
                    <a:pt x="1242060" y="201168"/>
                  </a:cubicBezTo>
                  <a:cubicBezTo>
                    <a:pt x="1242822" y="199136"/>
                    <a:pt x="1243838" y="198120"/>
                    <a:pt x="1245108" y="198120"/>
                  </a:cubicBezTo>
                  <a:cubicBezTo>
                    <a:pt x="1246378" y="198120"/>
                    <a:pt x="1247013" y="199898"/>
                    <a:pt x="1247013" y="203454"/>
                  </a:cubicBezTo>
                  <a:cubicBezTo>
                    <a:pt x="1247013" y="210820"/>
                    <a:pt x="1240917" y="233299"/>
                    <a:pt x="1228725" y="270891"/>
                  </a:cubicBezTo>
                  <a:cubicBezTo>
                    <a:pt x="1225931" y="279273"/>
                    <a:pt x="1224534" y="286004"/>
                    <a:pt x="1224534" y="291084"/>
                  </a:cubicBezTo>
                  <a:lnTo>
                    <a:pt x="1224915" y="299847"/>
                  </a:lnTo>
                  <a:cubicBezTo>
                    <a:pt x="1224915" y="304419"/>
                    <a:pt x="1223328" y="306705"/>
                    <a:pt x="1220153" y="306705"/>
                  </a:cubicBezTo>
                  <a:cubicBezTo>
                    <a:pt x="1216978" y="306705"/>
                    <a:pt x="1212533" y="303403"/>
                    <a:pt x="1206818" y="296799"/>
                  </a:cubicBezTo>
                  <a:cubicBezTo>
                    <a:pt x="1201103" y="290195"/>
                    <a:pt x="1197229" y="283274"/>
                    <a:pt x="1195197" y="276035"/>
                  </a:cubicBezTo>
                  <a:cubicBezTo>
                    <a:pt x="1193165" y="268796"/>
                    <a:pt x="1192149" y="256286"/>
                    <a:pt x="1192149" y="238506"/>
                  </a:cubicBezTo>
                  <a:cubicBezTo>
                    <a:pt x="1192149" y="220726"/>
                    <a:pt x="1192657" y="201295"/>
                    <a:pt x="1193673" y="180213"/>
                  </a:cubicBezTo>
                  <a:cubicBezTo>
                    <a:pt x="1185037" y="189611"/>
                    <a:pt x="1176147" y="194310"/>
                    <a:pt x="1167003" y="194310"/>
                  </a:cubicBezTo>
                  <a:cubicBezTo>
                    <a:pt x="1160653" y="194310"/>
                    <a:pt x="1154621" y="192342"/>
                    <a:pt x="1148906" y="188405"/>
                  </a:cubicBezTo>
                  <a:cubicBezTo>
                    <a:pt x="1143191" y="184468"/>
                    <a:pt x="1138555" y="178880"/>
                    <a:pt x="1134999" y="171641"/>
                  </a:cubicBezTo>
                  <a:cubicBezTo>
                    <a:pt x="1131443" y="164402"/>
                    <a:pt x="1129665" y="159322"/>
                    <a:pt x="1129665" y="156401"/>
                  </a:cubicBezTo>
                  <a:cubicBezTo>
                    <a:pt x="1129665" y="153480"/>
                    <a:pt x="1130618" y="152019"/>
                    <a:pt x="1132523" y="152019"/>
                  </a:cubicBezTo>
                  <a:cubicBezTo>
                    <a:pt x="1134428" y="152019"/>
                    <a:pt x="1136142" y="152908"/>
                    <a:pt x="1137666" y="154686"/>
                  </a:cubicBezTo>
                  <a:cubicBezTo>
                    <a:pt x="1139190" y="156464"/>
                    <a:pt x="1141540" y="157353"/>
                    <a:pt x="1144715" y="157353"/>
                  </a:cubicBezTo>
                  <a:cubicBezTo>
                    <a:pt x="1147890" y="157353"/>
                    <a:pt x="1152589" y="156147"/>
                    <a:pt x="1158812" y="153734"/>
                  </a:cubicBezTo>
                  <a:cubicBezTo>
                    <a:pt x="1165035" y="151321"/>
                    <a:pt x="1171893" y="148019"/>
                    <a:pt x="1179386" y="143828"/>
                  </a:cubicBezTo>
                  <a:cubicBezTo>
                    <a:pt x="1186879" y="139637"/>
                    <a:pt x="1191006" y="136970"/>
                    <a:pt x="1191768" y="135827"/>
                  </a:cubicBezTo>
                  <a:cubicBezTo>
                    <a:pt x="1192530" y="134684"/>
                    <a:pt x="1192911" y="133223"/>
                    <a:pt x="1192911" y="131445"/>
                  </a:cubicBezTo>
                  <a:cubicBezTo>
                    <a:pt x="1192911" y="127889"/>
                    <a:pt x="1198372" y="126111"/>
                    <a:pt x="1209294" y="126111"/>
                  </a:cubicBezTo>
                  <a:close/>
                  <a:moveTo>
                    <a:pt x="203454" y="105156"/>
                  </a:moveTo>
                  <a:cubicBezTo>
                    <a:pt x="194818" y="108966"/>
                    <a:pt x="184277" y="110871"/>
                    <a:pt x="171831" y="110871"/>
                  </a:cubicBezTo>
                  <a:cubicBezTo>
                    <a:pt x="171831" y="118999"/>
                    <a:pt x="172085" y="124206"/>
                    <a:pt x="172593" y="126492"/>
                  </a:cubicBezTo>
                  <a:cubicBezTo>
                    <a:pt x="173101" y="128778"/>
                    <a:pt x="174117" y="129667"/>
                    <a:pt x="175641" y="129159"/>
                  </a:cubicBezTo>
                  <a:cubicBezTo>
                    <a:pt x="185293" y="126873"/>
                    <a:pt x="194691" y="124841"/>
                    <a:pt x="203835" y="123063"/>
                  </a:cubicBezTo>
                  <a:cubicBezTo>
                    <a:pt x="203581" y="118491"/>
                    <a:pt x="203454" y="112522"/>
                    <a:pt x="203454" y="105156"/>
                  </a:cubicBezTo>
                  <a:close/>
                  <a:moveTo>
                    <a:pt x="198882" y="62484"/>
                  </a:moveTo>
                  <a:cubicBezTo>
                    <a:pt x="189230" y="65532"/>
                    <a:pt x="179197" y="67310"/>
                    <a:pt x="168783" y="67818"/>
                  </a:cubicBezTo>
                  <a:cubicBezTo>
                    <a:pt x="170815" y="73406"/>
                    <a:pt x="172466" y="79883"/>
                    <a:pt x="173736" y="87249"/>
                  </a:cubicBezTo>
                  <a:cubicBezTo>
                    <a:pt x="180340" y="84201"/>
                    <a:pt x="190754" y="81280"/>
                    <a:pt x="204978" y="78486"/>
                  </a:cubicBezTo>
                  <a:cubicBezTo>
                    <a:pt x="204470" y="71374"/>
                    <a:pt x="202438" y="66040"/>
                    <a:pt x="198882" y="62484"/>
                  </a:cubicBezTo>
                  <a:close/>
                  <a:moveTo>
                    <a:pt x="946404" y="53721"/>
                  </a:moveTo>
                  <a:cubicBezTo>
                    <a:pt x="945642" y="53721"/>
                    <a:pt x="943420" y="54737"/>
                    <a:pt x="939737" y="56769"/>
                  </a:cubicBezTo>
                  <a:cubicBezTo>
                    <a:pt x="936054" y="58801"/>
                    <a:pt x="931799" y="59817"/>
                    <a:pt x="926973" y="59817"/>
                  </a:cubicBezTo>
                  <a:cubicBezTo>
                    <a:pt x="922147" y="59817"/>
                    <a:pt x="915988" y="58992"/>
                    <a:pt x="908495" y="57341"/>
                  </a:cubicBezTo>
                  <a:cubicBezTo>
                    <a:pt x="901002" y="55690"/>
                    <a:pt x="894969" y="54864"/>
                    <a:pt x="890397" y="54864"/>
                  </a:cubicBezTo>
                  <a:cubicBezTo>
                    <a:pt x="885825" y="54864"/>
                    <a:pt x="883666" y="56769"/>
                    <a:pt x="883920" y="60579"/>
                  </a:cubicBezTo>
                  <a:cubicBezTo>
                    <a:pt x="889508" y="67691"/>
                    <a:pt x="892302" y="73025"/>
                    <a:pt x="892302" y="76581"/>
                  </a:cubicBezTo>
                  <a:cubicBezTo>
                    <a:pt x="892302" y="80137"/>
                    <a:pt x="891794" y="83947"/>
                    <a:pt x="890778" y="88011"/>
                  </a:cubicBezTo>
                  <a:cubicBezTo>
                    <a:pt x="889762" y="92075"/>
                    <a:pt x="889254" y="95441"/>
                    <a:pt x="889254" y="98108"/>
                  </a:cubicBezTo>
                  <a:cubicBezTo>
                    <a:pt x="889254" y="100775"/>
                    <a:pt x="890651" y="102108"/>
                    <a:pt x="893445" y="102108"/>
                  </a:cubicBezTo>
                  <a:cubicBezTo>
                    <a:pt x="896239" y="102108"/>
                    <a:pt x="902589" y="100457"/>
                    <a:pt x="912495" y="97155"/>
                  </a:cubicBezTo>
                  <a:cubicBezTo>
                    <a:pt x="922401" y="93853"/>
                    <a:pt x="930720" y="86741"/>
                    <a:pt x="937451" y="75819"/>
                  </a:cubicBezTo>
                  <a:cubicBezTo>
                    <a:pt x="944182" y="64897"/>
                    <a:pt x="947547" y="58484"/>
                    <a:pt x="947547" y="56579"/>
                  </a:cubicBezTo>
                  <a:cubicBezTo>
                    <a:pt x="947547" y="54674"/>
                    <a:pt x="947166" y="53721"/>
                    <a:pt x="946404" y="53721"/>
                  </a:cubicBezTo>
                  <a:close/>
                  <a:moveTo>
                    <a:pt x="252794" y="41910"/>
                  </a:moveTo>
                  <a:cubicBezTo>
                    <a:pt x="248095" y="41910"/>
                    <a:pt x="239649" y="45847"/>
                    <a:pt x="227457" y="53721"/>
                  </a:cubicBezTo>
                  <a:cubicBezTo>
                    <a:pt x="230759" y="58547"/>
                    <a:pt x="232537" y="64262"/>
                    <a:pt x="232791" y="70866"/>
                  </a:cubicBezTo>
                  <a:cubicBezTo>
                    <a:pt x="239649" y="71374"/>
                    <a:pt x="244983" y="72962"/>
                    <a:pt x="248793" y="75629"/>
                  </a:cubicBezTo>
                  <a:cubicBezTo>
                    <a:pt x="252603" y="78296"/>
                    <a:pt x="254508" y="80963"/>
                    <a:pt x="254508" y="83630"/>
                  </a:cubicBezTo>
                  <a:cubicBezTo>
                    <a:pt x="254508" y="86297"/>
                    <a:pt x="252667" y="88900"/>
                    <a:pt x="248984" y="91440"/>
                  </a:cubicBezTo>
                  <a:cubicBezTo>
                    <a:pt x="245301" y="93980"/>
                    <a:pt x="239903" y="96012"/>
                    <a:pt x="232791" y="97536"/>
                  </a:cubicBezTo>
                  <a:cubicBezTo>
                    <a:pt x="232029" y="103886"/>
                    <a:pt x="231648" y="110109"/>
                    <a:pt x="231648" y="116205"/>
                  </a:cubicBezTo>
                  <a:cubicBezTo>
                    <a:pt x="239776" y="115443"/>
                    <a:pt x="245491" y="112713"/>
                    <a:pt x="248793" y="108014"/>
                  </a:cubicBezTo>
                  <a:cubicBezTo>
                    <a:pt x="252095" y="103315"/>
                    <a:pt x="255588" y="95123"/>
                    <a:pt x="259271" y="83439"/>
                  </a:cubicBezTo>
                  <a:cubicBezTo>
                    <a:pt x="262954" y="71755"/>
                    <a:pt x="264795" y="64072"/>
                    <a:pt x="264795" y="60389"/>
                  </a:cubicBezTo>
                  <a:cubicBezTo>
                    <a:pt x="264795" y="56706"/>
                    <a:pt x="263970" y="52705"/>
                    <a:pt x="262319" y="48387"/>
                  </a:cubicBezTo>
                  <a:cubicBezTo>
                    <a:pt x="260668" y="44069"/>
                    <a:pt x="257493" y="41910"/>
                    <a:pt x="252794" y="41910"/>
                  </a:cubicBezTo>
                  <a:close/>
                  <a:moveTo>
                    <a:pt x="1198483" y="38481"/>
                  </a:moveTo>
                  <a:cubicBezTo>
                    <a:pt x="1199404" y="38227"/>
                    <a:pt x="1200785" y="38354"/>
                    <a:pt x="1202627" y="38862"/>
                  </a:cubicBezTo>
                  <a:cubicBezTo>
                    <a:pt x="1206310" y="39878"/>
                    <a:pt x="1209548" y="40386"/>
                    <a:pt x="1212342" y="40386"/>
                  </a:cubicBezTo>
                  <a:lnTo>
                    <a:pt x="1224534" y="39243"/>
                  </a:lnTo>
                  <a:cubicBezTo>
                    <a:pt x="1234440" y="39243"/>
                    <a:pt x="1243775" y="42355"/>
                    <a:pt x="1252538" y="48578"/>
                  </a:cubicBezTo>
                  <a:cubicBezTo>
                    <a:pt x="1261301" y="54801"/>
                    <a:pt x="1265682" y="62103"/>
                    <a:pt x="1265682" y="70485"/>
                  </a:cubicBezTo>
                  <a:cubicBezTo>
                    <a:pt x="1265682" y="74295"/>
                    <a:pt x="1264349" y="77597"/>
                    <a:pt x="1261682" y="80391"/>
                  </a:cubicBezTo>
                  <a:cubicBezTo>
                    <a:pt x="1259015" y="83185"/>
                    <a:pt x="1255522" y="84582"/>
                    <a:pt x="1251204" y="84582"/>
                  </a:cubicBezTo>
                  <a:lnTo>
                    <a:pt x="1242441" y="83439"/>
                  </a:lnTo>
                  <a:cubicBezTo>
                    <a:pt x="1237107" y="83439"/>
                    <a:pt x="1231964" y="85852"/>
                    <a:pt x="1227011" y="90678"/>
                  </a:cubicBezTo>
                  <a:cubicBezTo>
                    <a:pt x="1222058" y="95504"/>
                    <a:pt x="1213612" y="99695"/>
                    <a:pt x="1201674" y="103251"/>
                  </a:cubicBezTo>
                  <a:cubicBezTo>
                    <a:pt x="1189736" y="106807"/>
                    <a:pt x="1182497" y="108585"/>
                    <a:pt x="1179957" y="108585"/>
                  </a:cubicBezTo>
                  <a:cubicBezTo>
                    <a:pt x="1177417" y="108585"/>
                    <a:pt x="1176147" y="108204"/>
                    <a:pt x="1176147" y="107442"/>
                  </a:cubicBezTo>
                  <a:cubicBezTo>
                    <a:pt x="1176147" y="106680"/>
                    <a:pt x="1176782" y="105791"/>
                    <a:pt x="1178052" y="104775"/>
                  </a:cubicBezTo>
                  <a:cubicBezTo>
                    <a:pt x="1182878" y="101219"/>
                    <a:pt x="1189673" y="95377"/>
                    <a:pt x="1198436" y="87249"/>
                  </a:cubicBezTo>
                  <a:cubicBezTo>
                    <a:pt x="1207199" y="79121"/>
                    <a:pt x="1212088" y="74359"/>
                    <a:pt x="1213104" y="72962"/>
                  </a:cubicBezTo>
                  <a:cubicBezTo>
                    <a:pt x="1214120" y="71565"/>
                    <a:pt x="1214628" y="70104"/>
                    <a:pt x="1214628" y="68580"/>
                  </a:cubicBezTo>
                  <a:cubicBezTo>
                    <a:pt x="1214628" y="65532"/>
                    <a:pt x="1209929" y="58420"/>
                    <a:pt x="1200531" y="47244"/>
                  </a:cubicBezTo>
                  <a:cubicBezTo>
                    <a:pt x="1198245" y="44704"/>
                    <a:pt x="1197102" y="42418"/>
                    <a:pt x="1197102" y="40386"/>
                  </a:cubicBezTo>
                  <a:cubicBezTo>
                    <a:pt x="1197102" y="39370"/>
                    <a:pt x="1197563" y="38735"/>
                    <a:pt x="1198483" y="38481"/>
                  </a:cubicBezTo>
                  <a:close/>
                  <a:moveTo>
                    <a:pt x="91059" y="14097"/>
                  </a:moveTo>
                  <a:cubicBezTo>
                    <a:pt x="105537" y="14097"/>
                    <a:pt x="116904" y="18161"/>
                    <a:pt x="125159" y="26289"/>
                  </a:cubicBezTo>
                  <a:cubicBezTo>
                    <a:pt x="133414" y="34417"/>
                    <a:pt x="137541" y="40958"/>
                    <a:pt x="137541" y="45911"/>
                  </a:cubicBezTo>
                  <a:cubicBezTo>
                    <a:pt x="137541" y="50864"/>
                    <a:pt x="135954" y="54991"/>
                    <a:pt x="132779" y="58293"/>
                  </a:cubicBezTo>
                  <a:cubicBezTo>
                    <a:pt x="129604" y="61595"/>
                    <a:pt x="126111" y="63246"/>
                    <a:pt x="122301" y="63246"/>
                  </a:cubicBezTo>
                  <a:cubicBezTo>
                    <a:pt x="121031" y="63246"/>
                    <a:pt x="119317" y="62929"/>
                    <a:pt x="117158" y="62294"/>
                  </a:cubicBezTo>
                  <a:cubicBezTo>
                    <a:pt x="114999" y="61659"/>
                    <a:pt x="112840" y="61341"/>
                    <a:pt x="110681" y="61341"/>
                  </a:cubicBezTo>
                  <a:cubicBezTo>
                    <a:pt x="108522" y="61341"/>
                    <a:pt x="105791" y="62103"/>
                    <a:pt x="102489" y="63627"/>
                  </a:cubicBezTo>
                  <a:cubicBezTo>
                    <a:pt x="99187" y="65151"/>
                    <a:pt x="93282" y="68580"/>
                    <a:pt x="84773" y="73914"/>
                  </a:cubicBezTo>
                  <a:cubicBezTo>
                    <a:pt x="76264" y="79248"/>
                    <a:pt x="70803" y="82360"/>
                    <a:pt x="68390" y="83249"/>
                  </a:cubicBezTo>
                  <a:cubicBezTo>
                    <a:pt x="65977" y="84138"/>
                    <a:pt x="63119" y="84582"/>
                    <a:pt x="59817" y="84582"/>
                  </a:cubicBezTo>
                  <a:cubicBezTo>
                    <a:pt x="51435" y="84582"/>
                    <a:pt x="41466" y="90170"/>
                    <a:pt x="29909" y="101346"/>
                  </a:cubicBezTo>
                  <a:cubicBezTo>
                    <a:pt x="18352" y="112522"/>
                    <a:pt x="12573" y="123190"/>
                    <a:pt x="12573" y="133350"/>
                  </a:cubicBezTo>
                  <a:cubicBezTo>
                    <a:pt x="12573" y="137922"/>
                    <a:pt x="13843" y="140208"/>
                    <a:pt x="16383" y="140208"/>
                  </a:cubicBezTo>
                  <a:cubicBezTo>
                    <a:pt x="21463" y="140208"/>
                    <a:pt x="30036" y="136271"/>
                    <a:pt x="42101" y="128397"/>
                  </a:cubicBezTo>
                  <a:cubicBezTo>
                    <a:pt x="54166" y="120523"/>
                    <a:pt x="62484" y="113411"/>
                    <a:pt x="67056" y="107061"/>
                  </a:cubicBezTo>
                  <a:cubicBezTo>
                    <a:pt x="69850" y="102997"/>
                    <a:pt x="75819" y="100965"/>
                    <a:pt x="84963" y="100965"/>
                  </a:cubicBezTo>
                  <a:cubicBezTo>
                    <a:pt x="102743" y="100965"/>
                    <a:pt x="111633" y="108966"/>
                    <a:pt x="111633" y="124968"/>
                  </a:cubicBezTo>
                  <a:cubicBezTo>
                    <a:pt x="111633" y="128270"/>
                    <a:pt x="111125" y="131572"/>
                    <a:pt x="110109" y="134874"/>
                  </a:cubicBezTo>
                  <a:cubicBezTo>
                    <a:pt x="101727" y="161290"/>
                    <a:pt x="96838" y="179070"/>
                    <a:pt x="95441" y="188214"/>
                  </a:cubicBezTo>
                  <a:cubicBezTo>
                    <a:pt x="94044" y="197358"/>
                    <a:pt x="93345" y="206439"/>
                    <a:pt x="93345" y="215456"/>
                  </a:cubicBezTo>
                  <a:cubicBezTo>
                    <a:pt x="93345" y="224473"/>
                    <a:pt x="93472" y="229426"/>
                    <a:pt x="93726" y="230315"/>
                  </a:cubicBezTo>
                  <a:cubicBezTo>
                    <a:pt x="93980" y="231204"/>
                    <a:pt x="94425" y="231648"/>
                    <a:pt x="95060" y="231648"/>
                  </a:cubicBezTo>
                  <a:cubicBezTo>
                    <a:pt x="95695" y="231648"/>
                    <a:pt x="96266" y="231267"/>
                    <a:pt x="96774" y="230505"/>
                  </a:cubicBezTo>
                  <a:cubicBezTo>
                    <a:pt x="97282" y="229743"/>
                    <a:pt x="100013" y="224473"/>
                    <a:pt x="104966" y="214694"/>
                  </a:cubicBezTo>
                  <a:cubicBezTo>
                    <a:pt x="109919" y="204915"/>
                    <a:pt x="114999" y="193739"/>
                    <a:pt x="120206" y="181166"/>
                  </a:cubicBezTo>
                  <a:cubicBezTo>
                    <a:pt x="125413" y="168593"/>
                    <a:pt x="131445" y="157099"/>
                    <a:pt x="138303" y="146685"/>
                  </a:cubicBezTo>
                  <a:cubicBezTo>
                    <a:pt x="135763" y="156083"/>
                    <a:pt x="133604" y="167259"/>
                    <a:pt x="131826" y="180213"/>
                  </a:cubicBezTo>
                  <a:cubicBezTo>
                    <a:pt x="155956" y="171831"/>
                    <a:pt x="180721" y="165100"/>
                    <a:pt x="206121" y="160020"/>
                  </a:cubicBezTo>
                  <a:lnTo>
                    <a:pt x="205359" y="145923"/>
                  </a:lnTo>
                  <a:cubicBezTo>
                    <a:pt x="194183" y="147447"/>
                    <a:pt x="185674" y="149162"/>
                    <a:pt x="179832" y="151067"/>
                  </a:cubicBezTo>
                  <a:cubicBezTo>
                    <a:pt x="173990" y="152972"/>
                    <a:pt x="170307" y="153924"/>
                    <a:pt x="168783" y="153924"/>
                  </a:cubicBezTo>
                  <a:cubicBezTo>
                    <a:pt x="161925" y="153924"/>
                    <a:pt x="156147" y="148336"/>
                    <a:pt x="151448" y="137160"/>
                  </a:cubicBezTo>
                  <a:cubicBezTo>
                    <a:pt x="146749" y="125984"/>
                    <a:pt x="144145" y="112268"/>
                    <a:pt x="143637" y="96012"/>
                  </a:cubicBezTo>
                  <a:cubicBezTo>
                    <a:pt x="143383" y="87884"/>
                    <a:pt x="141796" y="81788"/>
                    <a:pt x="138875" y="77724"/>
                  </a:cubicBezTo>
                  <a:cubicBezTo>
                    <a:pt x="135954" y="73660"/>
                    <a:pt x="134493" y="70676"/>
                    <a:pt x="134493" y="68771"/>
                  </a:cubicBezTo>
                  <a:cubicBezTo>
                    <a:pt x="134493" y="66866"/>
                    <a:pt x="135065" y="64072"/>
                    <a:pt x="136208" y="60389"/>
                  </a:cubicBezTo>
                  <a:cubicBezTo>
                    <a:pt x="137351" y="56706"/>
                    <a:pt x="138303" y="54483"/>
                    <a:pt x="139065" y="53721"/>
                  </a:cubicBezTo>
                  <a:cubicBezTo>
                    <a:pt x="139827" y="52959"/>
                    <a:pt x="141351" y="52578"/>
                    <a:pt x="143637" y="52578"/>
                  </a:cubicBezTo>
                  <a:cubicBezTo>
                    <a:pt x="145923" y="52578"/>
                    <a:pt x="151384" y="53467"/>
                    <a:pt x="160020" y="55245"/>
                  </a:cubicBezTo>
                  <a:cubicBezTo>
                    <a:pt x="173990" y="44831"/>
                    <a:pt x="190754" y="37148"/>
                    <a:pt x="210312" y="32195"/>
                  </a:cubicBezTo>
                  <a:cubicBezTo>
                    <a:pt x="229870" y="27242"/>
                    <a:pt x="243205" y="24765"/>
                    <a:pt x="250317" y="24765"/>
                  </a:cubicBezTo>
                  <a:cubicBezTo>
                    <a:pt x="262001" y="24765"/>
                    <a:pt x="274320" y="29528"/>
                    <a:pt x="287274" y="39053"/>
                  </a:cubicBezTo>
                  <a:cubicBezTo>
                    <a:pt x="300228" y="48578"/>
                    <a:pt x="306705" y="57912"/>
                    <a:pt x="306705" y="67056"/>
                  </a:cubicBezTo>
                  <a:cubicBezTo>
                    <a:pt x="306705" y="69342"/>
                    <a:pt x="306261" y="71628"/>
                    <a:pt x="305372" y="73914"/>
                  </a:cubicBezTo>
                  <a:cubicBezTo>
                    <a:pt x="304483" y="76200"/>
                    <a:pt x="301054" y="82042"/>
                    <a:pt x="295085" y="91440"/>
                  </a:cubicBezTo>
                  <a:cubicBezTo>
                    <a:pt x="289116" y="100838"/>
                    <a:pt x="283972" y="107569"/>
                    <a:pt x="279654" y="111633"/>
                  </a:cubicBezTo>
                  <a:cubicBezTo>
                    <a:pt x="275336" y="115697"/>
                    <a:pt x="270129" y="120142"/>
                    <a:pt x="264033" y="124968"/>
                  </a:cubicBezTo>
                  <a:cubicBezTo>
                    <a:pt x="264541" y="135128"/>
                    <a:pt x="257048" y="140208"/>
                    <a:pt x="241554" y="140208"/>
                  </a:cubicBezTo>
                  <a:cubicBezTo>
                    <a:pt x="236728" y="140208"/>
                    <a:pt x="233045" y="140589"/>
                    <a:pt x="230505" y="141351"/>
                  </a:cubicBezTo>
                  <a:lnTo>
                    <a:pt x="230505" y="156210"/>
                  </a:lnTo>
                  <a:cubicBezTo>
                    <a:pt x="249555" y="153924"/>
                    <a:pt x="262382" y="152781"/>
                    <a:pt x="268986" y="152781"/>
                  </a:cubicBezTo>
                  <a:cubicBezTo>
                    <a:pt x="275590" y="152781"/>
                    <a:pt x="283083" y="155258"/>
                    <a:pt x="291465" y="160211"/>
                  </a:cubicBezTo>
                  <a:cubicBezTo>
                    <a:pt x="299847" y="165164"/>
                    <a:pt x="304038" y="169355"/>
                    <a:pt x="304038" y="172784"/>
                  </a:cubicBezTo>
                  <a:cubicBezTo>
                    <a:pt x="304038" y="176213"/>
                    <a:pt x="302641" y="179070"/>
                    <a:pt x="299847" y="181356"/>
                  </a:cubicBezTo>
                  <a:cubicBezTo>
                    <a:pt x="297053" y="183642"/>
                    <a:pt x="293815" y="184785"/>
                    <a:pt x="290132" y="184785"/>
                  </a:cubicBezTo>
                  <a:cubicBezTo>
                    <a:pt x="286449" y="184785"/>
                    <a:pt x="282829" y="184277"/>
                    <a:pt x="279273" y="183261"/>
                  </a:cubicBezTo>
                  <a:cubicBezTo>
                    <a:pt x="264287" y="178689"/>
                    <a:pt x="251079" y="176403"/>
                    <a:pt x="239649" y="176403"/>
                  </a:cubicBezTo>
                  <a:cubicBezTo>
                    <a:pt x="236347" y="176403"/>
                    <a:pt x="233553" y="176657"/>
                    <a:pt x="231267" y="177165"/>
                  </a:cubicBezTo>
                  <a:cubicBezTo>
                    <a:pt x="231775" y="188087"/>
                    <a:pt x="232410" y="196977"/>
                    <a:pt x="233172" y="203835"/>
                  </a:cubicBezTo>
                  <a:cubicBezTo>
                    <a:pt x="246634" y="206883"/>
                    <a:pt x="258509" y="208471"/>
                    <a:pt x="268796" y="208598"/>
                  </a:cubicBezTo>
                  <a:cubicBezTo>
                    <a:pt x="279083" y="208725"/>
                    <a:pt x="288417" y="212344"/>
                    <a:pt x="296799" y="219456"/>
                  </a:cubicBezTo>
                  <a:cubicBezTo>
                    <a:pt x="305181" y="226568"/>
                    <a:pt x="309372" y="233807"/>
                    <a:pt x="309372" y="241173"/>
                  </a:cubicBezTo>
                  <a:cubicBezTo>
                    <a:pt x="309372" y="245999"/>
                    <a:pt x="308102" y="250571"/>
                    <a:pt x="305562" y="254889"/>
                  </a:cubicBezTo>
                  <a:cubicBezTo>
                    <a:pt x="303022" y="259207"/>
                    <a:pt x="298958" y="261366"/>
                    <a:pt x="293370" y="261366"/>
                  </a:cubicBezTo>
                  <a:cubicBezTo>
                    <a:pt x="284226" y="261366"/>
                    <a:pt x="272034" y="249301"/>
                    <a:pt x="256794" y="225171"/>
                  </a:cubicBezTo>
                  <a:cubicBezTo>
                    <a:pt x="249174" y="213233"/>
                    <a:pt x="241300" y="207137"/>
                    <a:pt x="233172" y="206883"/>
                  </a:cubicBezTo>
                  <a:cubicBezTo>
                    <a:pt x="234188" y="219837"/>
                    <a:pt x="234696" y="230759"/>
                    <a:pt x="234696" y="239649"/>
                  </a:cubicBezTo>
                  <a:cubicBezTo>
                    <a:pt x="234696" y="257937"/>
                    <a:pt x="232220" y="272034"/>
                    <a:pt x="227267" y="281940"/>
                  </a:cubicBezTo>
                  <a:cubicBezTo>
                    <a:pt x="222314" y="291846"/>
                    <a:pt x="217551" y="296799"/>
                    <a:pt x="212979" y="296799"/>
                  </a:cubicBezTo>
                  <a:cubicBezTo>
                    <a:pt x="211201" y="296799"/>
                    <a:pt x="209804" y="296037"/>
                    <a:pt x="208788" y="294513"/>
                  </a:cubicBezTo>
                  <a:cubicBezTo>
                    <a:pt x="202946" y="286131"/>
                    <a:pt x="197422" y="279464"/>
                    <a:pt x="192215" y="274511"/>
                  </a:cubicBezTo>
                  <a:cubicBezTo>
                    <a:pt x="187008" y="269558"/>
                    <a:pt x="182817" y="264859"/>
                    <a:pt x="179642" y="260414"/>
                  </a:cubicBezTo>
                  <a:cubicBezTo>
                    <a:pt x="176467" y="255969"/>
                    <a:pt x="173101" y="249555"/>
                    <a:pt x="169545" y="241173"/>
                  </a:cubicBezTo>
                  <a:cubicBezTo>
                    <a:pt x="163703" y="244475"/>
                    <a:pt x="159576" y="247396"/>
                    <a:pt x="157163" y="249936"/>
                  </a:cubicBezTo>
                  <a:cubicBezTo>
                    <a:pt x="154750" y="252476"/>
                    <a:pt x="151956" y="256858"/>
                    <a:pt x="148781" y="263081"/>
                  </a:cubicBezTo>
                  <a:cubicBezTo>
                    <a:pt x="145606" y="269304"/>
                    <a:pt x="142558" y="272415"/>
                    <a:pt x="139637" y="272415"/>
                  </a:cubicBezTo>
                  <a:cubicBezTo>
                    <a:pt x="136716" y="272415"/>
                    <a:pt x="134303" y="269304"/>
                    <a:pt x="132398" y="263081"/>
                  </a:cubicBezTo>
                  <a:cubicBezTo>
                    <a:pt x="130493" y="256858"/>
                    <a:pt x="129540" y="250571"/>
                    <a:pt x="129540" y="244221"/>
                  </a:cubicBezTo>
                  <a:cubicBezTo>
                    <a:pt x="129540" y="237871"/>
                    <a:pt x="130429" y="232982"/>
                    <a:pt x="132207" y="229553"/>
                  </a:cubicBezTo>
                  <a:cubicBezTo>
                    <a:pt x="133985" y="226124"/>
                    <a:pt x="135319" y="221869"/>
                    <a:pt x="136208" y="216789"/>
                  </a:cubicBezTo>
                  <a:cubicBezTo>
                    <a:pt x="137097" y="211709"/>
                    <a:pt x="138748" y="208090"/>
                    <a:pt x="141161" y="205931"/>
                  </a:cubicBezTo>
                  <a:cubicBezTo>
                    <a:pt x="143574" y="203772"/>
                    <a:pt x="145860" y="202692"/>
                    <a:pt x="148019" y="202692"/>
                  </a:cubicBezTo>
                  <a:cubicBezTo>
                    <a:pt x="150178" y="202692"/>
                    <a:pt x="152527" y="205740"/>
                    <a:pt x="155067" y="211836"/>
                  </a:cubicBezTo>
                  <a:cubicBezTo>
                    <a:pt x="153035" y="212090"/>
                    <a:pt x="152019" y="213360"/>
                    <a:pt x="152019" y="215646"/>
                  </a:cubicBezTo>
                  <a:cubicBezTo>
                    <a:pt x="152019" y="221996"/>
                    <a:pt x="152972" y="225171"/>
                    <a:pt x="154877" y="225171"/>
                  </a:cubicBezTo>
                  <a:cubicBezTo>
                    <a:pt x="156782" y="225171"/>
                    <a:pt x="159004" y="224409"/>
                    <a:pt x="161544" y="222885"/>
                  </a:cubicBezTo>
                  <a:cubicBezTo>
                    <a:pt x="159512" y="219075"/>
                    <a:pt x="158242" y="215519"/>
                    <a:pt x="157734" y="212217"/>
                  </a:cubicBezTo>
                  <a:cubicBezTo>
                    <a:pt x="161798" y="216789"/>
                    <a:pt x="164719" y="219837"/>
                    <a:pt x="166497" y="221361"/>
                  </a:cubicBezTo>
                  <a:cubicBezTo>
                    <a:pt x="185293" y="212471"/>
                    <a:pt x="198628" y="207391"/>
                    <a:pt x="206502" y="206121"/>
                  </a:cubicBezTo>
                  <a:cubicBezTo>
                    <a:pt x="206756" y="195961"/>
                    <a:pt x="206756" y="187833"/>
                    <a:pt x="206502" y="181737"/>
                  </a:cubicBezTo>
                  <a:cubicBezTo>
                    <a:pt x="193548" y="184531"/>
                    <a:pt x="176149" y="189992"/>
                    <a:pt x="154305" y="198120"/>
                  </a:cubicBezTo>
                  <a:cubicBezTo>
                    <a:pt x="148209" y="200406"/>
                    <a:pt x="142939" y="201549"/>
                    <a:pt x="138494" y="201549"/>
                  </a:cubicBezTo>
                  <a:cubicBezTo>
                    <a:pt x="134049" y="201549"/>
                    <a:pt x="129667" y="200406"/>
                    <a:pt x="125349" y="198120"/>
                  </a:cubicBezTo>
                  <a:cubicBezTo>
                    <a:pt x="121285" y="207010"/>
                    <a:pt x="118618" y="215710"/>
                    <a:pt x="117348" y="224219"/>
                  </a:cubicBezTo>
                  <a:cubicBezTo>
                    <a:pt x="116078" y="232728"/>
                    <a:pt x="113157" y="241300"/>
                    <a:pt x="108585" y="249936"/>
                  </a:cubicBezTo>
                  <a:cubicBezTo>
                    <a:pt x="105537" y="255778"/>
                    <a:pt x="104013" y="264668"/>
                    <a:pt x="104013" y="276606"/>
                  </a:cubicBezTo>
                  <a:cubicBezTo>
                    <a:pt x="104013" y="281940"/>
                    <a:pt x="102489" y="284607"/>
                    <a:pt x="99441" y="284607"/>
                  </a:cubicBezTo>
                  <a:cubicBezTo>
                    <a:pt x="94361" y="284607"/>
                    <a:pt x="88392" y="278638"/>
                    <a:pt x="81534" y="266700"/>
                  </a:cubicBezTo>
                  <a:cubicBezTo>
                    <a:pt x="74676" y="254762"/>
                    <a:pt x="71247" y="243967"/>
                    <a:pt x="71247" y="234315"/>
                  </a:cubicBezTo>
                  <a:lnTo>
                    <a:pt x="72390" y="209931"/>
                  </a:lnTo>
                  <a:cubicBezTo>
                    <a:pt x="72644" y="200533"/>
                    <a:pt x="72771" y="188151"/>
                    <a:pt x="72771" y="172784"/>
                  </a:cubicBezTo>
                  <a:cubicBezTo>
                    <a:pt x="72771" y="157417"/>
                    <a:pt x="72136" y="149733"/>
                    <a:pt x="70866" y="149733"/>
                  </a:cubicBezTo>
                  <a:cubicBezTo>
                    <a:pt x="70104" y="149733"/>
                    <a:pt x="69088" y="150876"/>
                    <a:pt x="67818" y="153162"/>
                  </a:cubicBezTo>
                  <a:cubicBezTo>
                    <a:pt x="64770" y="159004"/>
                    <a:pt x="59119" y="165100"/>
                    <a:pt x="50864" y="171450"/>
                  </a:cubicBezTo>
                  <a:cubicBezTo>
                    <a:pt x="42609" y="177800"/>
                    <a:pt x="34100" y="180975"/>
                    <a:pt x="25337" y="180975"/>
                  </a:cubicBezTo>
                  <a:cubicBezTo>
                    <a:pt x="16574" y="180975"/>
                    <a:pt x="10160" y="177292"/>
                    <a:pt x="6096" y="169926"/>
                  </a:cubicBezTo>
                  <a:cubicBezTo>
                    <a:pt x="2032" y="162560"/>
                    <a:pt x="0" y="154051"/>
                    <a:pt x="0" y="144399"/>
                  </a:cubicBezTo>
                  <a:cubicBezTo>
                    <a:pt x="0" y="134747"/>
                    <a:pt x="4318" y="124397"/>
                    <a:pt x="12954" y="113348"/>
                  </a:cubicBezTo>
                  <a:cubicBezTo>
                    <a:pt x="21590" y="102299"/>
                    <a:pt x="36195" y="88583"/>
                    <a:pt x="56769" y="72200"/>
                  </a:cubicBezTo>
                  <a:cubicBezTo>
                    <a:pt x="77343" y="55817"/>
                    <a:pt x="87630" y="44831"/>
                    <a:pt x="87630" y="39243"/>
                  </a:cubicBezTo>
                  <a:cubicBezTo>
                    <a:pt x="87630" y="37973"/>
                    <a:pt x="87313" y="37021"/>
                    <a:pt x="86678" y="36386"/>
                  </a:cubicBezTo>
                  <a:cubicBezTo>
                    <a:pt x="86043" y="35751"/>
                    <a:pt x="82804" y="32703"/>
                    <a:pt x="76962" y="27242"/>
                  </a:cubicBezTo>
                  <a:cubicBezTo>
                    <a:pt x="71120" y="21781"/>
                    <a:pt x="68199" y="18669"/>
                    <a:pt x="68199" y="17907"/>
                  </a:cubicBezTo>
                  <a:cubicBezTo>
                    <a:pt x="68199" y="16637"/>
                    <a:pt x="71247" y="15685"/>
                    <a:pt x="77343" y="15050"/>
                  </a:cubicBezTo>
                  <a:cubicBezTo>
                    <a:pt x="83439" y="14415"/>
                    <a:pt x="88011" y="14097"/>
                    <a:pt x="91059" y="14097"/>
                  </a:cubicBezTo>
                  <a:close/>
                  <a:moveTo>
                    <a:pt x="962025" y="9906"/>
                  </a:moveTo>
                  <a:cubicBezTo>
                    <a:pt x="966597" y="9906"/>
                    <a:pt x="975106" y="14542"/>
                    <a:pt x="987552" y="23813"/>
                  </a:cubicBezTo>
                  <a:cubicBezTo>
                    <a:pt x="999998" y="33084"/>
                    <a:pt x="1006221" y="41529"/>
                    <a:pt x="1006221" y="49149"/>
                  </a:cubicBezTo>
                  <a:cubicBezTo>
                    <a:pt x="1006221" y="51943"/>
                    <a:pt x="1005332" y="54991"/>
                    <a:pt x="1003554" y="58293"/>
                  </a:cubicBezTo>
                  <a:cubicBezTo>
                    <a:pt x="1001776" y="61595"/>
                    <a:pt x="996696" y="67374"/>
                    <a:pt x="988314" y="75629"/>
                  </a:cubicBezTo>
                  <a:cubicBezTo>
                    <a:pt x="979932" y="83884"/>
                    <a:pt x="972439" y="90551"/>
                    <a:pt x="965835" y="95631"/>
                  </a:cubicBezTo>
                  <a:cubicBezTo>
                    <a:pt x="968629" y="105283"/>
                    <a:pt x="970026" y="112205"/>
                    <a:pt x="970026" y="116396"/>
                  </a:cubicBezTo>
                  <a:cubicBezTo>
                    <a:pt x="970026" y="120587"/>
                    <a:pt x="969010" y="123254"/>
                    <a:pt x="966978" y="124397"/>
                  </a:cubicBezTo>
                  <a:cubicBezTo>
                    <a:pt x="964946" y="125540"/>
                    <a:pt x="961136" y="126111"/>
                    <a:pt x="955548" y="126111"/>
                  </a:cubicBezTo>
                  <a:cubicBezTo>
                    <a:pt x="949960" y="126111"/>
                    <a:pt x="939292" y="128588"/>
                    <a:pt x="923544" y="133541"/>
                  </a:cubicBezTo>
                  <a:cubicBezTo>
                    <a:pt x="907796" y="138494"/>
                    <a:pt x="897763" y="142621"/>
                    <a:pt x="893445" y="145923"/>
                  </a:cubicBezTo>
                  <a:cubicBezTo>
                    <a:pt x="889127" y="149225"/>
                    <a:pt x="885444" y="150876"/>
                    <a:pt x="882396" y="150876"/>
                  </a:cubicBezTo>
                  <a:cubicBezTo>
                    <a:pt x="879348" y="150876"/>
                    <a:pt x="874649" y="149225"/>
                    <a:pt x="868299" y="145923"/>
                  </a:cubicBezTo>
                  <a:cubicBezTo>
                    <a:pt x="849249" y="147955"/>
                    <a:pt x="833755" y="153797"/>
                    <a:pt x="821817" y="163449"/>
                  </a:cubicBezTo>
                  <a:cubicBezTo>
                    <a:pt x="809879" y="173101"/>
                    <a:pt x="803910" y="179007"/>
                    <a:pt x="803910" y="181166"/>
                  </a:cubicBezTo>
                  <a:cubicBezTo>
                    <a:pt x="803910" y="183325"/>
                    <a:pt x="808355" y="189230"/>
                    <a:pt x="817245" y="198882"/>
                  </a:cubicBezTo>
                  <a:cubicBezTo>
                    <a:pt x="831723" y="192278"/>
                    <a:pt x="846709" y="183642"/>
                    <a:pt x="862203" y="172974"/>
                  </a:cubicBezTo>
                  <a:cubicBezTo>
                    <a:pt x="867791" y="169164"/>
                    <a:pt x="871855" y="167259"/>
                    <a:pt x="874395" y="167259"/>
                  </a:cubicBezTo>
                  <a:cubicBezTo>
                    <a:pt x="876935" y="167259"/>
                    <a:pt x="881126" y="168212"/>
                    <a:pt x="886968" y="170117"/>
                  </a:cubicBezTo>
                  <a:cubicBezTo>
                    <a:pt x="892810" y="172022"/>
                    <a:pt x="897827" y="177356"/>
                    <a:pt x="902018" y="186119"/>
                  </a:cubicBezTo>
                  <a:cubicBezTo>
                    <a:pt x="906209" y="194882"/>
                    <a:pt x="908304" y="200343"/>
                    <a:pt x="908304" y="202502"/>
                  </a:cubicBezTo>
                  <a:cubicBezTo>
                    <a:pt x="908304" y="204661"/>
                    <a:pt x="907669" y="206502"/>
                    <a:pt x="906399" y="208026"/>
                  </a:cubicBezTo>
                  <a:cubicBezTo>
                    <a:pt x="899033" y="217170"/>
                    <a:pt x="894461" y="223266"/>
                    <a:pt x="892683" y="226314"/>
                  </a:cubicBezTo>
                  <a:cubicBezTo>
                    <a:pt x="890905" y="229362"/>
                    <a:pt x="890143" y="232664"/>
                    <a:pt x="890397" y="236220"/>
                  </a:cubicBezTo>
                  <a:cubicBezTo>
                    <a:pt x="893191" y="243840"/>
                    <a:pt x="894588" y="249555"/>
                    <a:pt x="894588" y="253365"/>
                  </a:cubicBezTo>
                  <a:cubicBezTo>
                    <a:pt x="894588" y="257175"/>
                    <a:pt x="891921" y="259207"/>
                    <a:pt x="886587" y="259461"/>
                  </a:cubicBezTo>
                  <a:cubicBezTo>
                    <a:pt x="877443" y="259969"/>
                    <a:pt x="868934" y="261938"/>
                    <a:pt x="861060" y="265367"/>
                  </a:cubicBezTo>
                  <a:cubicBezTo>
                    <a:pt x="853186" y="268796"/>
                    <a:pt x="847662" y="270510"/>
                    <a:pt x="844487" y="270510"/>
                  </a:cubicBezTo>
                  <a:cubicBezTo>
                    <a:pt x="841312" y="270510"/>
                    <a:pt x="837565" y="270256"/>
                    <a:pt x="833247" y="269748"/>
                  </a:cubicBezTo>
                  <a:cubicBezTo>
                    <a:pt x="832993" y="283210"/>
                    <a:pt x="831660" y="289941"/>
                    <a:pt x="829247" y="289941"/>
                  </a:cubicBezTo>
                  <a:cubicBezTo>
                    <a:pt x="826834" y="289941"/>
                    <a:pt x="822833" y="286512"/>
                    <a:pt x="817245" y="279654"/>
                  </a:cubicBezTo>
                  <a:cubicBezTo>
                    <a:pt x="811657" y="272796"/>
                    <a:pt x="807085" y="261303"/>
                    <a:pt x="803529" y="245174"/>
                  </a:cubicBezTo>
                  <a:cubicBezTo>
                    <a:pt x="799973" y="229045"/>
                    <a:pt x="796925" y="219075"/>
                    <a:pt x="794385" y="215265"/>
                  </a:cubicBezTo>
                  <a:cubicBezTo>
                    <a:pt x="790829" y="209931"/>
                    <a:pt x="789051" y="203200"/>
                    <a:pt x="789051" y="195072"/>
                  </a:cubicBezTo>
                  <a:cubicBezTo>
                    <a:pt x="789051" y="180848"/>
                    <a:pt x="792988" y="173609"/>
                    <a:pt x="800862" y="173355"/>
                  </a:cubicBezTo>
                  <a:cubicBezTo>
                    <a:pt x="817118" y="156083"/>
                    <a:pt x="836168" y="143129"/>
                    <a:pt x="858012" y="134493"/>
                  </a:cubicBezTo>
                  <a:cubicBezTo>
                    <a:pt x="856234" y="128651"/>
                    <a:pt x="854774" y="121666"/>
                    <a:pt x="853631" y="113538"/>
                  </a:cubicBezTo>
                  <a:cubicBezTo>
                    <a:pt x="852488" y="105410"/>
                    <a:pt x="851853" y="97727"/>
                    <a:pt x="851726" y="90488"/>
                  </a:cubicBezTo>
                  <a:cubicBezTo>
                    <a:pt x="851599" y="83249"/>
                    <a:pt x="851535" y="76645"/>
                    <a:pt x="851535" y="70676"/>
                  </a:cubicBezTo>
                  <a:cubicBezTo>
                    <a:pt x="851535" y="64707"/>
                    <a:pt x="850075" y="59055"/>
                    <a:pt x="847154" y="53721"/>
                  </a:cubicBezTo>
                  <a:cubicBezTo>
                    <a:pt x="844233" y="48387"/>
                    <a:pt x="842772" y="45085"/>
                    <a:pt x="842772" y="43815"/>
                  </a:cubicBezTo>
                  <a:cubicBezTo>
                    <a:pt x="842772" y="42545"/>
                    <a:pt x="843788" y="41910"/>
                    <a:pt x="845820" y="41910"/>
                  </a:cubicBezTo>
                  <a:cubicBezTo>
                    <a:pt x="856996" y="41910"/>
                    <a:pt x="866648" y="44577"/>
                    <a:pt x="874776" y="49911"/>
                  </a:cubicBezTo>
                  <a:cubicBezTo>
                    <a:pt x="891032" y="35687"/>
                    <a:pt x="912749" y="26670"/>
                    <a:pt x="939927" y="22860"/>
                  </a:cubicBezTo>
                  <a:cubicBezTo>
                    <a:pt x="946277" y="21844"/>
                    <a:pt x="951230" y="19177"/>
                    <a:pt x="954786" y="14859"/>
                  </a:cubicBezTo>
                  <a:cubicBezTo>
                    <a:pt x="957580" y="11557"/>
                    <a:pt x="959993" y="9906"/>
                    <a:pt x="962025" y="9906"/>
                  </a:cubicBezTo>
                  <a:close/>
                  <a:moveTo>
                    <a:pt x="1333500" y="2667"/>
                  </a:moveTo>
                  <a:cubicBezTo>
                    <a:pt x="1352296" y="2667"/>
                    <a:pt x="1361694" y="10668"/>
                    <a:pt x="1361694" y="26670"/>
                  </a:cubicBezTo>
                  <a:cubicBezTo>
                    <a:pt x="1361694" y="29972"/>
                    <a:pt x="1361186" y="33528"/>
                    <a:pt x="1360170" y="37338"/>
                  </a:cubicBezTo>
                  <a:cubicBezTo>
                    <a:pt x="1364234" y="37338"/>
                    <a:pt x="1367727" y="36830"/>
                    <a:pt x="1370648" y="35814"/>
                  </a:cubicBezTo>
                  <a:cubicBezTo>
                    <a:pt x="1373569" y="34798"/>
                    <a:pt x="1375982" y="34290"/>
                    <a:pt x="1377887" y="34290"/>
                  </a:cubicBezTo>
                  <a:cubicBezTo>
                    <a:pt x="1379792" y="34290"/>
                    <a:pt x="1383475" y="36005"/>
                    <a:pt x="1388936" y="39434"/>
                  </a:cubicBezTo>
                  <a:cubicBezTo>
                    <a:pt x="1394397" y="42863"/>
                    <a:pt x="1397953" y="45593"/>
                    <a:pt x="1399604" y="47625"/>
                  </a:cubicBezTo>
                  <a:cubicBezTo>
                    <a:pt x="1401255" y="49657"/>
                    <a:pt x="1402080" y="51943"/>
                    <a:pt x="1402080" y="54483"/>
                  </a:cubicBezTo>
                  <a:cubicBezTo>
                    <a:pt x="1402080" y="59563"/>
                    <a:pt x="1399540" y="62738"/>
                    <a:pt x="1394460" y="64008"/>
                  </a:cubicBezTo>
                  <a:cubicBezTo>
                    <a:pt x="1376680" y="68072"/>
                    <a:pt x="1363345" y="72644"/>
                    <a:pt x="1354455" y="77724"/>
                  </a:cubicBezTo>
                  <a:lnTo>
                    <a:pt x="1352550" y="90678"/>
                  </a:lnTo>
                  <a:cubicBezTo>
                    <a:pt x="1365504" y="87376"/>
                    <a:pt x="1377569" y="85725"/>
                    <a:pt x="1388745" y="85725"/>
                  </a:cubicBezTo>
                  <a:cubicBezTo>
                    <a:pt x="1406779" y="85725"/>
                    <a:pt x="1418400" y="89599"/>
                    <a:pt x="1423607" y="97346"/>
                  </a:cubicBezTo>
                  <a:cubicBezTo>
                    <a:pt x="1428814" y="105093"/>
                    <a:pt x="1431417" y="111062"/>
                    <a:pt x="1431417" y="115253"/>
                  </a:cubicBezTo>
                  <a:cubicBezTo>
                    <a:pt x="1431417" y="119444"/>
                    <a:pt x="1430719" y="122492"/>
                    <a:pt x="1429322" y="124397"/>
                  </a:cubicBezTo>
                  <a:cubicBezTo>
                    <a:pt x="1427925" y="126302"/>
                    <a:pt x="1425829" y="127508"/>
                    <a:pt x="1423035" y="128016"/>
                  </a:cubicBezTo>
                  <a:lnTo>
                    <a:pt x="1408176" y="131064"/>
                  </a:lnTo>
                  <a:cubicBezTo>
                    <a:pt x="1397508" y="133096"/>
                    <a:pt x="1390269" y="134620"/>
                    <a:pt x="1386459" y="135636"/>
                  </a:cubicBezTo>
                  <a:cubicBezTo>
                    <a:pt x="1370965" y="140208"/>
                    <a:pt x="1360170" y="141859"/>
                    <a:pt x="1354074" y="140589"/>
                  </a:cubicBezTo>
                  <a:cubicBezTo>
                    <a:pt x="1349756" y="139827"/>
                    <a:pt x="1346454" y="139446"/>
                    <a:pt x="1344168" y="139446"/>
                  </a:cubicBezTo>
                  <a:cubicBezTo>
                    <a:pt x="1337564" y="139446"/>
                    <a:pt x="1334262" y="140716"/>
                    <a:pt x="1334262" y="143256"/>
                  </a:cubicBezTo>
                  <a:cubicBezTo>
                    <a:pt x="1334262" y="144272"/>
                    <a:pt x="1335024" y="145161"/>
                    <a:pt x="1336548" y="145923"/>
                  </a:cubicBezTo>
                  <a:cubicBezTo>
                    <a:pt x="1342136" y="149225"/>
                    <a:pt x="1344930" y="152527"/>
                    <a:pt x="1344930" y="155829"/>
                  </a:cubicBezTo>
                  <a:cubicBezTo>
                    <a:pt x="1344930" y="157099"/>
                    <a:pt x="1344422" y="158242"/>
                    <a:pt x="1343406" y="159258"/>
                  </a:cubicBezTo>
                  <a:cubicBezTo>
                    <a:pt x="1338834" y="163830"/>
                    <a:pt x="1332865" y="171069"/>
                    <a:pt x="1325499" y="180975"/>
                  </a:cubicBezTo>
                  <a:cubicBezTo>
                    <a:pt x="1331849" y="184531"/>
                    <a:pt x="1338453" y="188722"/>
                    <a:pt x="1345311" y="193548"/>
                  </a:cubicBezTo>
                  <a:cubicBezTo>
                    <a:pt x="1349883" y="178054"/>
                    <a:pt x="1352169" y="168021"/>
                    <a:pt x="1352169" y="163449"/>
                  </a:cubicBezTo>
                  <a:cubicBezTo>
                    <a:pt x="1352169" y="158877"/>
                    <a:pt x="1351534" y="156274"/>
                    <a:pt x="1350264" y="155639"/>
                  </a:cubicBezTo>
                  <a:cubicBezTo>
                    <a:pt x="1348994" y="155004"/>
                    <a:pt x="1348359" y="154051"/>
                    <a:pt x="1348359" y="152781"/>
                  </a:cubicBezTo>
                  <a:cubicBezTo>
                    <a:pt x="1348359" y="151511"/>
                    <a:pt x="1349439" y="150241"/>
                    <a:pt x="1351598" y="148971"/>
                  </a:cubicBezTo>
                  <a:cubicBezTo>
                    <a:pt x="1353757" y="147701"/>
                    <a:pt x="1356360" y="147066"/>
                    <a:pt x="1359408" y="147066"/>
                  </a:cubicBezTo>
                  <a:cubicBezTo>
                    <a:pt x="1370330" y="147066"/>
                    <a:pt x="1375791" y="149987"/>
                    <a:pt x="1375791" y="155829"/>
                  </a:cubicBezTo>
                  <a:cubicBezTo>
                    <a:pt x="1375791" y="162941"/>
                    <a:pt x="1374839" y="168148"/>
                    <a:pt x="1372934" y="171450"/>
                  </a:cubicBezTo>
                  <a:cubicBezTo>
                    <a:pt x="1371029" y="174752"/>
                    <a:pt x="1367155" y="187579"/>
                    <a:pt x="1361313" y="209931"/>
                  </a:cubicBezTo>
                  <a:cubicBezTo>
                    <a:pt x="1383665" y="205105"/>
                    <a:pt x="1398270" y="202692"/>
                    <a:pt x="1405128" y="202692"/>
                  </a:cubicBezTo>
                  <a:cubicBezTo>
                    <a:pt x="1411986" y="202692"/>
                    <a:pt x="1417638" y="205169"/>
                    <a:pt x="1422083" y="210122"/>
                  </a:cubicBezTo>
                  <a:cubicBezTo>
                    <a:pt x="1426528" y="215075"/>
                    <a:pt x="1428750" y="218948"/>
                    <a:pt x="1428750" y="221742"/>
                  </a:cubicBezTo>
                  <a:cubicBezTo>
                    <a:pt x="1428750" y="226060"/>
                    <a:pt x="1425829" y="228219"/>
                    <a:pt x="1419987" y="228219"/>
                  </a:cubicBezTo>
                  <a:cubicBezTo>
                    <a:pt x="1418463" y="228219"/>
                    <a:pt x="1416685" y="227965"/>
                    <a:pt x="1414653" y="227457"/>
                  </a:cubicBezTo>
                  <a:cubicBezTo>
                    <a:pt x="1405509" y="225171"/>
                    <a:pt x="1396492" y="224028"/>
                    <a:pt x="1387602" y="224028"/>
                  </a:cubicBezTo>
                  <a:cubicBezTo>
                    <a:pt x="1378712" y="224028"/>
                    <a:pt x="1368298" y="225171"/>
                    <a:pt x="1356360" y="227457"/>
                  </a:cubicBezTo>
                  <a:cubicBezTo>
                    <a:pt x="1347978" y="253873"/>
                    <a:pt x="1337501" y="272923"/>
                    <a:pt x="1324928" y="284607"/>
                  </a:cubicBezTo>
                  <a:cubicBezTo>
                    <a:pt x="1312355" y="296291"/>
                    <a:pt x="1295908" y="302133"/>
                    <a:pt x="1275588" y="302133"/>
                  </a:cubicBezTo>
                  <a:cubicBezTo>
                    <a:pt x="1271778" y="302133"/>
                    <a:pt x="1269365" y="301879"/>
                    <a:pt x="1268349" y="301371"/>
                  </a:cubicBezTo>
                  <a:cubicBezTo>
                    <a:pt x="1267333" y="300863"/>
                    <a:pt x="1266825" y="299974"/>
                    <a:pt x="1266825" y="298704"/>
                  </a:cubicBezTo>
                  <a:cubicBezTo>
                    <a:pt x="1266825" y="296164"/>
                    <a:pt x="1268349" y="294259"/>
                    <a:pt x="1271397" y="292989"/>
                  </a:cubicBezTo>
                  <a:cubicBezTo>
                    <a:pt x="1287907" y="287147"/>
                    <a:pt x="1300798" y="279400"/>
                    <a:pt x="1310069" y="269748"/>
                  </a:cubicBezTo>
                  <a:cubicBezTo>
                    <a:pt x="1319340" y="260096"/>
                    <a:pt x="1326642" y="248158"/>
                    <a:pt x="1331976" y="233934"/>
                  </a:cubicBezTo>
                  <a:cubicBezTo>
                    <a:pt x="1324356" y="236728"/>
                    <a:pt x="1308608" y="243840"/>
                    <a:pt x="1284732" y="255270"/>
                  </a:cubicBezTo>
                  <a:cubicBezTo>
                    <a:pt x="1274064" y="260350"/>
                    <a:pt x="1266762" y="262890"/>
                    <a:pt x="1262825" y="262890"/>
                  </a:cubicBezTo>
                  <a:cubicBezTo>
                    <a:pt x="1258888" y="262890"/>
                    <a:pt x="1254506" y="261049"/>
                    <a:pt x="1249680" y="257366"/>
                  </a:cubicBezTo>
                  <a:cubicBezTo>
                    <a:pt x="1244854" y="253683"/>
                    <a:pt x="1242441" y="251143"/>
                    <a:pt x="1242441" y="249746"/>
                  </a:cubicBezTo>
                  <a:cubicBezTo>
                    <a:pt x="1242441" y="248349"/>
                    <a:pt x="1243584" y="247523"/>
                    <a:pt x="1245870" y="247269"/>
                  </a:cubicBezTo>
                  <a:cubicBezTo>
                    <a:pt x="1250950" y="246761"/>
                    <a:pt x="1255776" y="245110"/>
                    <a:pt x="1260348" y="242316"/>
                  </a:cubicBezTo>
                  <a:cubicBezTo>
                    <a:pt x="1271270" y="235966"/>
                    <a:pt x="1288923" y="229108"/>
                    <a:pt x="1313307" y="221742"/>
                  </a:cubicBezTo>
                  <a:cubicBezTo>
                    <a:pt x="1312545" y="219964"/>
                    <a:pt x="1311212" y="219075"/>
                    <a:pt x="1309307" y="219075"/>
                  </a:cubicBezTo>
                  <a:cubicBezTo>
                    <a:pt x="1307402" y="219075"/>
                    <a:pt x="1304290" y="219774"/>
                    <a:pt x="1299972" y="221171"/>
                  </a:cubicBezTo>
                  <a:cubicBezTo>
                    <a:pt x="1295654" y="222568"/>
                    <a:pt x="1292225" y="223965"/>
                    <a:pt x="1289685" y="225362"/>
                  </a:cubicBezTo>
                  <a:cubicBezTo>
                    <a:pt x="1287145" y="226759"/>
                    <a:pt x="1285558" y="227457"/>
                    <a:pt x="1284923" y="227457"/>
                  </a:cubicBezTo>
                  <a:cubicBezTo>
                    <a:pt x="1284288" y="227457"/>
                    <a:pt x="1283970" y="227330"/>
                    <a:pt x="1283970" y="227076"/>
                  </a:cubicBezTo>
                  <a:cubicBezTo>
                    <a:pt x="1283970" y="225552"/>
                    <a:pt x="1289558" y="221488"/>
                    <a:pt x="1300734" y="214884"/>
                  </a:cubicBezTo>
                  <a:cubicBezTo>
                    <a:pt x="1292352" y="212344"/>
                    <a:pt x="1287145" y="209995"/>
                    <a:pt x="1285113" y="207836"/>
                  </a:cubicBezTo>
                  <a:cubicBezTo>
                    <a:pt x="1283081" y="205677"/>
                    <a:pt x="1282065" y="201549"/>
                    <a:pt x="1282065" y="195453"/>
                  </a:cubicBezTo>
                  <a:cubicBezTo>
                    <a:pt x="1282065" y="189357"/>
                    <a:pt x="1283081" y="185293"/>
                    <a:pt x="1285113" y="183261"/>
                  </a:cubicBezTo>
                  <a:cubicBezTo>
                    <a:pt x="1287145" y="181229"/>
                    <a:pt x="1291082" y="180340"/>
                    <a:pt x="1296924" y="180594"/>
                  </a:cubicBezTo>
                  <a:cubicBezTo>
                    <a:pt x="1298448" y="177292"/>
                    <a:pt x="1300544" y="174816"/>
                    <a:pt x="1303211" y="173165"/>
                  </a:cubicBezTo>
                  <a:cubicBezTo>
                    <a:pt x="1305878" y="171514"/>
                    <a:pt x="1307211" y="170117"/>
                    <a:pt x="1307211" y="168974"/>
                  </a:cubicBezTo>
                  <a:cubicBezTo>
                    <a:pt x="1307211" y="167831"/>
                    <a:pt x="1305560" y="166370"/>
                    <a:pt x="1302258" y="164592"/>
                  </a:cubicBezTo>
                  <a:cubicBezTo>
                    <a:pt x="1296162" y="160782"/>
                    <a:pt x="1293114" y="156147"/>
                    <a:pt x="1293114" y="150686"/>
                  </a:cubicBezTo>
                  <a:cubicBezTo>
                    <a:pt x="1293114" y="145225"/>
                    <a:pt x="1295527" y="142240"/>
                    <a:pt x="1300353" y="141732"/>
                  </a:cubicBezTo>
                  <a:cubicBezTo>
                    <a:pt x="1327531" y="139446"/>
                    <a:pt x="1349756" y="133223"/>
                    <a:pt x="1367028" y="123063"/>
                  </a:cubicBezTo>
                  <a:cubicBezTo>
                    <a:pt x="1384300" y="112903"/>
                    <a:pt x="1392936" y="106299"/>
                    <a:pt x="1392936" y="103251"/>
                  </a:cubicBezTo>
                  <a:cubicBezTo>
                    <a:pt x="1392936" y="101727"/>
                    <a:pt x="1391031" y="100965"/>
                    <a:pt x="1387221" y="100965"/>
                  </a:cubicBezTo>
                  <a:cubicBezTo>
                    <a:pt x="1377569" y="100965"/>
                    <a:pt x="1369568" y="101854"/>
                    <a:pt x="1363218" y="103632"/>
                  </a:cubicBezTo>
                  <a:cubicBezTo>
                    <a:pt x="1356868" y="105410"/>
                    <a:pt x="1348105" y="109347"/>
                    <a:pt x="1336929" y="115443"/>
                  </a:cubicBezTo>
                  <a:cubicBezTo>
                    <a:pt x="1305179" y="133223"/>
                    <a:pt x="1285177" y="144272"/>
                    <a:pt x="1276922" y="148590"/>
                  </a:cubicBezTo>
                  <a:cubicBezTo>
                    <a:pt x="1268667" y="152908"/>
                    <a:pt x="1263777" y="155067"/>
                    <a:pt x="1262253" y="155067"/>
                  </a:cubicBezTo>
                  <a:cubicBezTo>
                    <a:pt x="1258697" y="155067"/>
                    <a:pt x="1255840" y="151194"/>
                    <a:pt x="1253681" y="143447"/>
                  </a:cubicBezTo>
                  <a:cubicBezTo>
                    <a:pt x="1251522" y="135700"/>
                    <a:pt x="1250442" y="130683"/>
                    <a:pt x="1250442" y="128397"/>
                  </a:cubicBezTo>
                  <a:cubicBezTo>
                    <a:pt x="1250442" y="123063"/>
                    <a:pt x="1252347" y="120396"/>
                    <a:pt x="1256157" y="120396"/>
                  </a:cubicBezTo>
                  <a:cubicBezTo>
                    <a:pt x="1257681" y="120396"/>
                    <a:pt x="1258824" y="120904"/>
                    <a:pt x="1259586" y="121920"/>
                  </a:cubicBezTo>
                  <a:cubicBezTo>
                    <a:pt x="1260348" y="122936"/>
                    <a:pt x="1261364" y="123444"/>
                    <a:pt x="1262634" y="123444"/>
                  </a:cubicBezTo>
                  <a:cubicBezTo>
                    <a:pt x="1267460" y="123444"/>
                    <a:pt x="1284097" y="116840"/>
                    <a:pt x="1312545" y="103632"/>
                  </a:cubicBezTo>
                  <a:cubicBezTo>
                    <a:pt x="1315593" y="98806"/>
                    <a:pt x="1317752" y="93472"/>
                    <a:pt x="1319022" y="87630"/>
                  </a:cubicBezTo>
                  <a:cubicBezTo>
                    <a:pt x="1312164" y="87630"/>
                    <a:pt x="1304608" y="84138"/>
                    <a:pt x="1296353" y="77153"/>
                  </a:cubicBezTo>
                  <a:cubicBezTo>
                    <a:pt x="1288098" y="70168"/>
                    <a:pt x="1283970" y="65977"/>
                    <a:pt x="1283970" y="64580"/>
                  </a:cubicBezTo>
                  <a:cubicBezTo>
                    <a:pt x="1283970" y="63183"/>
                    <a:pt x="1285240" y="62484"/>
                    <a:pt x="1287780" y="62484"/>
                  </a:cubicBezTo>
                  <a:lnTo>
                    <a:pt x="1291971" y="62484"/>
                  </a:lnTo>
                  <a:cubicBezTo>
                    <a:pt x="1300861" y="62484"/>
                    <a:pt x="1312037" y="59563"/>
                    <a:pt x="1325499" y="53721"/>
                  </a:cubicBezTo>
                  <a:cubicBezTo>
                    <a:pt x="1325753" y="47371"/>
                    <a:pt x="1325880" y="41466"/>
                    <a:pt x="1325880" y="36005"/>
                  </a:cubicBezTo>
                  <a:cubicBezTo>
                    <a:pt x="1325880" y="30544"/>
                    <a:pt x="1324991" y="26797"/>
                    <a:pt x="1323213" y="24765"/>
                  </a:cubicBezTo>
                  <a:cubicBezTo>
                    <a:pt x="1321435" y="22733"/>
                    <a:pt x="1317625" y="21463"/>
                    <a:pt x="1311783" y="20955"/>
                  </a:cubicBezTo>
                  <a:cubicBezTo>
                    <a:pt x="1308735" y="20701"/>
                    <a:pt x="1307211" y="18987"/>
                    <a:pt x="1307211" y="15812"/>
                  </a:cubicBezTo>
                  <a:cubicBezTo>
                    <a:pt x="1307211" y="12637"/>
                    <a:pt x="1309116" y="9652"/>
                    <a:pt x="1312926" y="6858"/>
                  </a:cubicBezTo>
                  <a:cubicBezTo>
                    <a:pt x="1316736" y="4064"/>
                    <a:pt x="1323594" y="2667"/>
                    <a:pt x="1333500" y="2667"/>
                  </a:cubicBezTo>
                  <a:close/>
                  <a:moveTo>
                    <a:pt x="481965" y="0"/>
                  </a:moveTo>
                  <a:cubicBezTo>
                    <a:pt x="485267" y="0"/>
                    <a:pt x="493332" y="3302"/>
                    <a:pt x="506159" y="9906"/>
                  </a:cubicBezTo>
                  <a:cubicBezTo>
                    <a:pt x="518986" y="16510"/>
                    <a:pt x="528511" y="22860"/>
                    <a:pt x="534734" y="28956"/>
                  </a:cubicBezTo>
                  <a:cubicBezTo>
                    <a:pt x="540957" y="35052"/>
                    <a:pt x="544068" y="41339"/>
                    <a:pt x="544068" y="47816"/>
                  </a:cubicBezTo>
                  <a:cubicBezTo>
                    <a:pt x="544068" y="54293"/>
                    <a:pt x="540766" y="62230"/>
                    <a:pt x="534162" y="71628"/>
                  </a:cubicBezTo>
                  <a:cubicBezTo>
                    <a:pt x="549402" y="62738"/>
                    <a:pt x="559626" y="57341"/>
                    <a:pt x="564833" y="55436"/>
                  </a:cubicBezTo>
                  <a:cubicBezTo>
                    <a:pt x="570040" y="53531"/>
                    <a:pt x="573024" y="51562"/>
                    <a:pt x="573786" y="49530"/>
                  </a:cubicBezTo>
                  <a:cubicBezTo>
                    <a:pt x="574802" y="46990"/>
                    <a:pt x="578739" y="45720"/>
                    <a:pt x="585597" y="45720"/>
                  </a:cubicBezTo>
                  <a:cubicBezTo>
                    <a:pt x="592455" y="45720"/>
                    <a:pt x="598234" y="48387"/>
                    <a:pt x="602933" y="53721"/>
                  </a:cubicBezTo>
                  <a:cubicBezTo>
                    <a:pt x="607632" y="59055"/>
                    <a:pt x="609981" y="63881"/>
                    <a:pt x="609981" y="68199"/>
                  </a:cubicBezTo>
                  <a:cubicBezTo>
                    <a:pt x="609981" y="77597"/>
                    <a:pt x="606806" y="82296"/>
                    <a:pt x="600456" y="82296"/>
                  </a:cubicBezTo>
                  <a:cubicBezTo>
                    <a:pt x="590042" y="82296"/>
                    <a:pt x="575183" y="88138"/>
                    <a:pt x="555879" y="99822"/>
                  </a:cubicBezTo>
                  <a:cubicBezTo>
                    <a:pt x="557403" y="108966"/>
                    <a:pt x="561086" y="117729"/>
                    <a:pt x="566928" y="126111"/>
                  </a:cubicBezTo>
                  <a:cubicBezTo>
                    <a:pt x="568960" y="128905"/>
                    <a:pt x="569976" y="135255"/>
                    <a:pt x="569976" y="145161"/>
                  </a:cubicBezTo>
                  <a:cubicBezTo>
                    <a:pt x="569976" y="161417"/>
                    <a:pt x="567309" y="175895"/>
                    <a:pt x="561975" y="188595"/>
                  </a:cubicBezTo>
                  <a:cubicBezTo>
                    <a:pt x="605409" y="209931"/>
                    <a:pt x="632079" y="222250"/>
                    <a:pt x="641985" y="225552"/>
                  </a:cubicBezTo>
                  <a:cubicBezTo>
                    <a:pt x="651891" y="228854"/>
                    <a:pt x="660972" y="237427"/>
                    <a:pt x="669227" y="251270"/>
                  </a:cubicBezTo>
                  <a:cubicBezTo>
                    <a:pt x="677482" y="265113"/>
                    <a:pt x="681609" y="277495"/>
                    <a:pt x="681609" y="288417"/>
                  </a:cubicBezTo>
                  <a:cubicBezTo>
                    <a:pt x="681609" y="294005"/>
                    <a:pt x="679387" y="296799"/>
                    <a:pt x="674942" y="296799"/>
                  </a:cubicBezTo>
                  <a:cubicBezTo>
                    <a:pt x="670497" y="296799"/>
                    <a:pt x="658813" y="291338"/>
                    <a:pt x="639890" y="280416"/>
                  </a:cubicBezTo>
                  <a:cubicBezTo>
                    <a:pt x="620967" y="269494"/>
                    <a:pt x="608584" y="261366"/>
                    <a:pt x="602742" y="256032"/>
                  </a:cubicBezTo>
                  <a:cubicBezTo>
                    <a:pt x="586994" y="242316"/>
                    <a:pt x="568198" y="229108"/>
                    <a:pt x="546354" y="216408"/>
                  </a:cubicBezTo>
                  <a:cubicBezTo>
                    <a:pt x="535686" y="228600"/>
                    <a:pt x="522542" y="237871"/>
                    <a:pt x="506921" y="244221"/>
                  </a:cubicBezTo>
                  <a:cubicBezTo>
                    <a:pt x="491300" y="250571"/>
                    <a:pt x="475298" y="253746"/>
                    <a:pt x="458915" y="253746"/>
                  </a:cubicBezTo>
                  <a:cubicBezTo>
                    <a:pt x="442532" y="253746"/>
                    <a:pt x="427800" y="251714"/>
                    <a:pt x="414719" y="247650"/>
                  </a:cubicBezTo>
                  <a:cubicBezTo>
                    <a:pt x="401638" y="243586"/>
                    <a:pt x="391541" y="238443"/>
                    <a:pt x="384429" y="232220"/>
                  </a:cubicBezTo>
                  <a:cubicBezTo>
                    <a:pt x="377317" y="225997"/>
                    <a:pt x="373761" y="221234"/>
                    <a:pt x="373761" y="217932"/>
                  </a:cubicBezTo>
                  <a:cubicBezTo>
                    <a:pt x="373761" y="216154"/>
                    <a:pt x="374523" y="215265"/>
                    <a:pt x="376047" y="215265"/>
                  </a:cubicBezTo>
                  <a:cubicBezTo>
                    <a:pt x="377571" y="215265"/>
                    <a:pt x="379603" y="216662"/>
                    <a:pt x="382143" y="219456"/>
                  </a:cubicBezTo>
                  <a:cubicBezTo>
                    <a:pt x="391541" y="229616"/>
                    <a:pt x="407416" y="234696"/>
                    <a:pt x="429768" y="234696"/>
                  </a:cubicBezTo>
                  <a:cubicBezTo>
                    <a:pt x="446532" y="234696"/>
                    <a:pt x="462661" y="231648"/>
                    <a:pt x="478155" y="225552"/>
                  </a:cubicBezTo>
                  <a:cubicBezTo>
                    <a:pt x="493649" y="219456"/>
                    <a:pt x="505206" y="211074"/>
                    <a:pt x="512826" y="200406"/>
                  </a:cubicBezTo>
                  <a:cubicBezTo>
                    <a:pt x="494284" y="193548"/>
                    <a:pt x="478473" y="185611"/>
                    <a:pt x="465392" y="176594"/>
                  </a:cubicBezTo>
                  <a:cubicBezTo>
                    <a:pt x="452311" y="167577"/>
                    <a:pt x="439230" y="163068"/>
                    <a:pt x="426149" y="163068"/>
                  </a:cubicBezTo>
                  <a:cubicBezTo>
                    <a:pt x="413068" y="163068"/>
                    <a:pt x="401320" y="166878"/>
                    <a:pt x="390906" y="174498"/>
                  </a:cubicBezTo>
                  <a:cubicBezTo>
                    <a:pt x="388366" y="176276"/>
                    <a:pt x="386461" y="177165"/>
                    <a:pt x="385191" y="177165"/>
                  </a:cubicBezTo>
                  <a:cubicBezTo>
                    <a:pt x="383921" y="177165"/>
                    <a:pt x="383286" y="176657"/>
                    <a:pt x="383286" y="175641"/>
                  </a:cubicBezTo>
                  <a:cubicBezTo>
                    <a:pt x="383286" y="172339"/>
                    <a:pt x="387477" y="167069"/>
                    <a:pt x="395859" y="159830"/>
                  </a:cubicBezTo>
                  <a:cubicBezTo>
                    <a:pt x="404241" y="152591"/>
                    <a:pt x="415544" y="148971"/>
                    <a:pt x="429768" y="148971"/>
                  </a:cubicBezTo>
                  <a:cubicBezTo>
                    <a:pt x="434848" y="148971"/>
                    <a:pt x="440055" y="149479"/>
                    <a:pt x="445389" y="150495"/>
                  </a:cubicBezTo>
                  <a:cubicBezTo>
                    <a:pt x="450723" y="151511"/>
                    <a:pt x="461963" y="154496"/>
                    <a:pt x="479108" y="159449"/>
                  </a:cubicBezTo>
                  <a:cubicBezTo>
                    <a:pt x="496253" y="164402"/>
                    <a:pt x="511937" y="169291"/>
                    <a:pt x="526161" y="174117"/>
                  </a:cubicBezTo>
                  <a:cubicBezTo>
                    <a:pt x="534035" y="152781"/>
                    <a:pt x="538480" y="131318"/>
                    <a:pt x="539496" y="109728"/>
                  </a:cubicBezTo>
                  <a:cubicBezTo>
                    <a:pt x="523748" y="121412"/>
                    <a:pt x="510985" y="129667"/>
                    <a:pt x="501206" y="134493"/>
                  </a:cubicBezTo>
                  <a:cubicBezTo>
                    <a:pt x="491427" y="139319"/>
                    <a:pt x="484823" y="141732"/>
                    <a:pt x="481394" y="141732"/>
                  </a:cubicBezTo>
                  <a:cubicBezTo>
                    <a:pt x="477965" y="141732"/>
                    <a:pt x="474790" y="140589"/>
                    <a:pt x="471869" y="138303"/>
                  </a:cubicBezTo>
                  <a:cubicBezTo>
                    <a:pt x="468948" y="136017"/>
                    <a:pt x="465138" y="131255"/>
                    <a:pt x="460439" y="124016"/>
                  </a:cubicBezTo>
                  <a:cubicBezTo>
                    <a:pt x="455740" y="116777"/>
                    <a:pt x="453390" y="111252"/>
                    <a:pt x="453390" y="107442"/>
                  </a:cubicBezTo>
                  <a:cubicBezTo>
                    <a:pt x="453390" y="103632"/>
                    <a:pt x="455422" y="98806"/>
                    <a:pt x="459486" y="92964"/>
                  </a:cubicBezTo>
                  <a:cubicBezTo>
                    <a:pt x="472440" y="73914"/>
                    <a:pt x="480822" y="60960"/>
                    <a:pt x="484632" y="54102"/>
                  </a:cubicBezTo>
                  <a:cubicBezTo>
                    <a:pt x="488442" y="47244"/>
                    <a:pt x="490347" y="42418"/>
                    <a:pt x="490347" y="39624"/>
                  </a:cubicBezTo>
                  <a:cubicBezTo>
                    <a:pt x="490347" y="36830"/>
                    <a:pt x="489522" y="31687"/>
                    <a:pt x="487871" y="24194"/>
                  </a:cubicBezTo>
                  <a:cubicBezTo>
                    <a:pt x="486220" y="16701"/>
                    <a:pt x="484505" y="11367"/>
                    <a:pt x="482727" y="8192"/>
                  </a:cubicBezTo>
                  <a:cubicBezTo>
                    <a:pt x="480949" y="5017"/>
                    <a:pt x="480060" y="2858"/>
                    <a:pt x="480060" y="1715"/>
                  </a:cubicBezTo>
                  <a:cubicBezTo>
                    <a:pt x="480060" y="572"/>
                    <a:pt x="480695" y="0"/>
                    <a:pt x="481965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4" dur="75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43"/>
          <p:cNvGrpSpPr/>
          <p:nvPr/>
        </p:nvGrpSpPr>
        <p:grpSpPr>
          <a:xfrm>
            <a:off x="923760" y="519120"/>
            <a:ext cx="7296480" cy="1886040"/>
            <a:chOff x="923760" y="519120"/>
            <a:chExt cx="7296480" cy="1886040"/>
          </a:xfrm>
        </p:grpSpPr>
        <p:sp>
          <p:nvSpPr>
            <p:cNvPr id="196" name="文本框 5"/>
            <p:cNvSpPr/>
            <p:nvPr/>
          </p:nvSpPr>
          <p:spPr>
            <a:xfrm>
              <a:off x="1007640" y="552600"/>
              <a:ext cx="712872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字谜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利用汉字的造字规律，或汉字音、形、义某一方面的特点编成的谜底为一个或几个汉字的谜语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组合 21"/>
            <p:cNvGrpSpPr/>
            <p:nvPr/>
          </p:nvGrpSpPr>
          <p:grpSpPr>
            <a:xfrm>
              <a:off x="923760" y="519120"/>
              <a:ext cx="7296480" cy="156960"/>
              <a:chOff x="923760" y="519120"/>
              <a:chExt cx="7296480" cy="156960"/>
            </a:xfrm>
          </p:grpSpPr>
          <p:cxnSp>
            <p:nvCxnSpPr>
              <p:cNvPr id="198" name="直接连接符 11"/>
              <p:cNvCxnSpPr/>
              <p:nvPr/>
            </p:nvCxnSpPr>
            <p:spPr>
              <a:xfrm>
                <a:off x="1101600" y="533160"/>
                <a:ext cx="6940800" cy="360"/>
              </a:xfrm>
              <a:prstGeom prst="straightConnector1">
                <a:avLst/>
              </a:prstGeom>
              <a:ln w="9525">
                <a:solidFill>
                  <a:srgbClr val="d90000"/>
                </a:solidFill>
              </a:ln>
            </p:spPr>
          </p:cxnSp>
          <p:grpSp>
            <p:nvGrpSpPr>
              <p:cNvPr id="199" name="组合 17"/>
              <p:cNvGrpSpPr/>
              <p:nvPr/>
            </p:nvGrpSpPr>
            <p:grpSpPr>
              <a:xfrm>
                <a:off x="923760" y="519120"/>
                <a:ext cx="7296480" cy="156960"/>
                <a:chOff x="923760" y="519120"/>
                <a:chExt cx="7296480" cy="156960"/>
              </a:xfrm>
            </p:grpSpPr>
            <p:pic>
              <p:nvPicPr>
                <p:cNvPr id="200" name="图片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23760" y="519120"/>
                  <a:ext cx="160560" cy="15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图片 12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8059680" y="519120"/>
                  <a:ext cx="160560" cy="15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2" name="组合 22"/>
            <p:cNvGrpSpPr/>
            <p:nvPr/>
          </p:nvGrpSpPr>
          <p:grpSpPr>
            <a:xfrm>
              <a:off x="923760" y="2248200"/>
              <a:ext cx="7296480" cy="156960"/>
              <a:chOff x="923760" y="2248200"/>
              <a:chExt cx="7296480" cy="156960"/>
            </a:xfrm>
          </p:grpSpPr>
          <p:cxnSp>
            <p:nvCxnSpPr>
              <p:cNvPr id="203" name="直接连接符 23"/>
              <p:cNvCxnSpPr/>
              <p:nvPr/>
            </p:nvCxnSpPr>
            <p:spPr>
              <a:xfrm>
                <a:off x="1101600" y="2390760"/>
                <a:ext cx="6940800" cy="360"/>
              </a:xfrm>
              <a:prstGeom prst="straightConnector1">
                <a:avLst/>
              </a:prstGeom>
              <a:ln w="9525">
                <a:solidFill>
                  <a:srgbClr val="d90000"/>
                </a:solidFill>
              </a:ln>
            </p:spPr>
          </p:cxnSp>
          <p:grpSp>
            <p:nvGrpSpPr>
              <p:cNvPr id="204" name="组合 24"/>
              <p:cNvGrpSpPr/>
              <p:nvPr/>
            </p:nvGrpSpPr>
            <p:grpSpPr>
              <a:xfrm>
                <a:off x="923760" y="2248200"/>
                <a:ext cx="7296480" cy="156960"/>
                <a:chOff x="923760" y="2248200"/>
                <a:chExt cx="7296480" cy="156960"/>
              </a:xfrm>
            </p:grpSpPr>
            <p:pic>
              <p:nvPicPr>
                <p:cNvPr id="205" name="图片 25" descr="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923760" y="2248200"/>
                  <a:ext cx="160560" cy="15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图片 26" descr=""/>
                <p:cNvPicPr/>
                <p:nvPr/>
              </p:nvPicPr>
              <p:blipFill>
                <a:blip r:embed="rId4"/>
                <a:stretch/>
              </p:blipFill>
              <p:spPr>
                <a:xfrm rot="10800000">
                  <a:off x="8059680" y="2248200"/>
                  <a:ext cx="160560" cy="15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cxnSp>
          <p:nvCxnSpPr>
            <p:cNvPr id="207" name="直接连接符 31"/>
            <p:cNvCxnSpPr/>
            <p:nvPr/>
          </p:nvCxnSpPr>
          <p:spPr>
            <a:xfrm>
              <a:off x="941040" y="688680"/>
              <a:ext cx="360" cy="1549800"/>
            </a:xfrm>
            <a:prstGeom prst="straightConnector1">
              <a:avLst/>
            </a:prstGeom>
            <a:ln w="9525">
              <a:solidFill>
                <a:srgbClr val="cf0000"/>
              </a:solidFill>
            </a:ln>
          </p:spPr>
        </p:cxnSp>
        <p:cxnSp>
          <p:nvCxnSpPr>
            <p:cNvPr id="208" name="直接连接符 42"/>
            <p:cNvCxnSpPr/>
            <p:nvPr/>
          </p:nvCxnSpPr>
          <p:spPr>
            <a:xfrm>
              <a:off x="8200800" y="688680"/>
              <a:ext cx="360" cy="1549800"/>
            </a:xfrm>
            <a:prstGeom prst="straightConnector1">
              <a:avLst/>
            </a:prstGeom>
            <a:ln w="9525">
              <a:solidFill>
                <a:srgbClr val="cf0000"/>
              </a:solidFill>
            </a:ln>
          </p:spPr>
        </p:cxnSp>
      </p:grpSp>
      <p:grpSp>
        <p:nvGrpSpPr>
          <p:cNvPr id="209" name="组合 46"/>
          <p:cNvGrpSpPr/>
          <p:nvPr/>
        </p:nvGrpSpPr>
        <p:grpSpPr>
          <a:xfrm>
            <a:off x="3443400" y="2457360"/>
            <a:ext cx="2256840" cy="638280"/>
            <a:chOff x="3443400" y="2457360"/>
            <a:chExt cx="2256840" cy="638280"/>
          </a:xfrm>
        </p:grpSpPr>
        <p:sp>
          <p:nvSpPr>
            <p:cNvPr id="210" name="文本框 13"/>
            <p:cNvSpPr/>
            <p:nvPr/>
          </p:nvSpPr>
          <p:spPr>
            <a:xfrm>
              <a:off x="4101480" y="2457360"/>
              <a:ext cx="1598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4747"/>
                  </a:solidFill>
                  <a:latin typeface="黑体"/>
                  <a:ea typeface="黑体"/>
                </a:rPr>
                <a:t>猜字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48" descr=""/>
            <p:cNvPicPr/>
            <p:nvPr/>
          </p:nvPicPr>
          <p:blipFill>
            <a:blip r:embed="rId5"/>
            <a:stretch/>
          </p:blipFill>
          <p:spPr>
            <a:xfrm>
              <a:off x="3443400" y="2461320"/>
              <a:ext cx="67932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文本框 49"/>
          <p:cNvSpPr/>
          <p:nvPr/>
        </p:nvSpPr>
        <p:spPr>
          <a:xfrm>
            <a:off x="923760" y="347184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草上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51" descr=""/>
          <p:cNvPicPr/>
          <p:nvPr/>
        </p:nvPicPr>
        <p:blipFill>
          <a:blip r:embed="rId6"/>
          <a:stretch/>
        </p:blipFill>
        <p:spPr>
          <a:xfrm>
            <a:off x="2890800" y="3181320"/>
            <a:ext cx="1364760" cy="135072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77"/>
          <p:cNvGrpSpPr/>
          <p:nvPr/>
        </p:nvGrpSpPr>
        <p:grpSpPr>
          <a:xfrm>
            <a:off x="3208320" y="3360600"/>
            <a:ext cx="752040" cy="269640"/>
            <a:chOff x="3208320" y="3360600"/>
            <a:chExt cx="752040" cy="269640"/>
          </a:xfrm>
        </p:grpSpPr>
        <p:sp>
          <p:nvSpPr>
            <p:cNvPr id="215" name="Freeform 6"/>
            <p:cNvSpPr/>
            <p:nvPr/>
          </p:nvSpPr>
          <p:spPr>
            <a:xfrm>
              <a:off x="3208320" y="3458160"/>
              <a:ext cx="752040" cy="13428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337" h="417">
                  <a:moveTo>
                    <a:pt x="1471" y="231"/>
                  </a:moveTo>
                  <a:lnTo>
                    <a:pt x="1360" y="244"/>
                  </a:lnTo>
                  <a:lnTo>
                    <a:pt x="1248" y="259"/>
                  </a:lnTo>
                  <a:lnTo>
                    <a:pt x="1141" y="273"/>
                  </a:lnTo>
                  <a:lnTo>
                    <a:pt x="1033" y="288"/>
                  </a:lnTo>
                  <a:lnTo>
                    <a:pt x="929" y="304"/>
                  </a:lnTo>
                  <a:lnTo>
                    <a:pt x="877" y="309"/>
                  </a:lnTo>
                  <a:lnTo>
                    <a:pt x="825" y="317"/>
                  </a:lnTo>
                  <a:lnTo>
                    <a:pt x="775" y="325"/>
                  </a:lnTo>
                  <a:lnTo>
                    <a:pt x="725" y="333"/>
                  </a:lnTo>
                  <a:lnTo>
                    <a:pt x="675" y="340"/>
                  </a:lnTo>
                  <a:lnTo>
                    <a:pt x="625" y="348"/>
                  </a:lnTo>
                  <a:lnTo>
                    <a:pt x="600" y="352"/>
                  </a:lnTo>
                  <a:lnTo>
                    <a:pt x="577" y="356"/>
                  </a:lnTo>
                  <a:lnTo>
                    <a:pt x="554" y="359"/>
                  </a:lnTo>
                  <a:lnTo>
                    <a:pt x="533" y="363"/>
                  </a:lnTo>
                  <a:lnTo>
                    <a:pt x="512" y="367"/>
                  </a:lnTo>
                  <a:lnTo>
                    <a:pt x="491" y="369"/>
                  </a:lnTo>
                  <a:lnTo>
                    <a:pt x="471" y="373"/>
                  </a:lnTo>
                  <a:lnTo>
                    <a:pt x="450" y="377"/>
                  </a:lnTo>
                  <a:lnTo>
                    <a:pt x="433" y="379"/>
                  </a:lnTo>
                  <a:lnTo>
                    <a:pt x="414" y="383"/>
                  </a:lnTo>
                  <a:lnTo>
                    <a:pt x="396" y="384"/>
                  </a:lnTo>
                  <a:lnTo>
                    <a:pt x="381" y="388"/>
                  </a:lnTo>
                  <a:lnTo>
                    <a:pt x="366" y="390"/>
                  </a:lnTo>
                  <a:lnTo>
                    <a:pt x="350" y="392"/>
                  </a:lnTo>
                  <a:lnTo>
                    <a:pt x="335" y="394"/>
                  </a:lnTo>
                  <a:lnTo>
                    <a:pt x="322" y="398"/>
                  </a:lnTo>
                  <a:lnTo>
                    <a:pt x="308" y="400"/>
                  </a:lnTo>
                  <a:lnTo>
                    <a:pt x="297" y="402"/>
                  </a:lnTo>
                  <a:lnTo>
                    <a:pt x="285" y="404"/>
                  </a:lnTo>
                  <a:lnTo>
                    <a:pt x="273" y="406"/>
                  </a:lnTo>
                  <a:lnTo>
                    <a:pt x="264" y="406"/>
                  </a:lnTo>
                  <a:lnTo>
                    <a:pt x="254" y="408"/>
                  </a:lnTo>
                  <a:lnTo>
                    <a:pt x="245" y="409"/>
                  </a:lnTo>
                  <a:lnTo>
                    <a:pt x="237" y="411"/>
                  </a:lnTo>
                  <a:lnTo>
                    <a:pt x="229" y="411"/>
                  </a:lnTo>
                  <a:lnTo>
                    <a:pt x="222" y="413"/>
                  </a:lnTo>
                  <a:lnTo>
                    <a:pt x="216" y="413"/>
                  </a:lnTo>
                  <a:lnTo>
                    <a:pt x="210" y="415"/>
                  </a:lnTo>
                  <a:lnTo>
                    <a:pt x="206" y="415"/>
                  </a:lnTo>
                  <a:lnTo>
                    <a:pt x="202" y="417"/>
                  </a:lnTo>
                  <a:lnTo>
                    <a:pt x="198" y="417"/>
                  </a:lnTo>
                  <a:lnTo>
                    <a:pt x="197" y="417"/>
                  </a:lnTo>
                  <a:lnTo>
                    <a:pt x="187" y="417"/>
                  </a:lnTo>
                  <a:lnTo>
                    <a:pt x="175" y="417"/>
                  </a:lnTo>
                  <a:lnTo>
                    <a:pt x="164" y="413"/>
                  </a:lnTo>
                  <a:lnTo>
                    <a:pt x="150" y="409"/>
                  </a:lnTo>
                  <a:lnTo>
                    <a:pt x="137" y="404"/>
                  </a:lnTo>
                  <a:lnTo>
                    <a:pt x="122" y="394"/>
                  </a:lnTo>
                  <a:lnTo>
                    <a:pt x="114" y="390"/>
                  </a:lnTo>
                  <a:lnTo>
                    <a:pt x="106" y="384"/>
                  </a:lnTo>
                  <a:lnTo>
                    <a:pt x="97" y="379"/>
                  </a:lnTo>
                  <a:lnTo>
                    <a:pt x="89" y="373"/>
                  </a:lnTo>
                  <a:lnTo>
                    <a:pt x="73" y="361"/>
                  </a:lnTo>
                  <a:lnTo>
                    <a:pt x="58" y="350"/>
                  </a:lnTo>
                  <a:lnTo>
                    <a:pt x="47" y="338"/>
                  </a:lnTo>
                  <a:lnTo>
                    <a:pt x="35" y="329"/>
                  </a:lnTo>
                  <a:lnTo>
                    <a:pt x="23" y="319"/>
                  </a:lnTo>
                  <a:lnTo>
                    <a:pt x="16" y="309"/>
                  </a:lnTo>
                  <a:lnTo>
                    <a:pt x="8" y="300"/>
                  </a:lnTo>
                  <a:lnTo>
                    <a:pt x="2" y="292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3"/>
                  </a:lnTo>
                  <a:lnTo>
                    <a:pt x="2" y="279"/>
                  </a:lnTo>
                  <a:lnTo>
                    <a:pt x="4" y="277"/>
                  </a:lnTo>
                  <a:lnTo>
                    <a:pt x="8" y="275"/>
                  </a:lnTo>
                  <a:lnTo>
                    <a:pt x="12" y="271"/>
                  </a:lnTo>
                  <a:lnTo>
                    <a:pt x="18" y="269"/>
                  </a:lnTo>
                  <a:lnTo>
                    <a:pt x="25" y="267"/>
                  </a:lnTo>
                  <a:lnTo>
                    <a:pt x="33" y="265"/>
                  </a:lnTo>
                  <a:lnTo>
                    <a:pt x="43" y="265"/>
                  </a:lnTo>
                  <a:lnTo>
                    <a:pt x="52" y="263"/>
                  </a:lnTo>
                  <a:lnTo>
                    <a:pt x="62" y="263"/>
                  </a:lnTo>
                  <a:lnTo>
                    <a:pt x="75" y="261"/>
                  </a:lnTo>
                  <a:lnTo>
                    <a:pt x="89" y="261"/>
                  </a:lnTo>
                  <a:lnTo>
                    <a:pt x="102" y="261"/>
                  </a:lnTo>
                  <a:lnTo>
                    <a:pt x="118" y="261"/>
                  </a:lnTo>
                  <a:lnTo>
                    <a:pt x="135" y="261"/>
                  </a:lnTo>
                  <a:lnTo>
                    <a:pt x="152" y="259"/>
                  </a:lnTo>
                  <a:lnTo>
                    <a:pt x="173" y="259"/>
                  </a:lnTo>
                  <a:lnTo>
                    <a:pt x="195" y="259"/>
                  </a:lnTo>
                  <a:lnTo>
                    <a:pt x="216" y="257"/>
                  </a:lnTo>
                  <a:lnTo>
                    <a:pt x="241" y="256"/>
                  </a:lnTo>
                  <a:lnTo>
                    <a:pt x="266" y="254"/>
                  </a:lnTo>
                  <a:lnTo>
                    <a:pt x="293" y="252"/>
                  </a:lnTo>
                  <a:lnTo>
                    <a:pt x="320" y="250"/>
                  </a:lnTo>
                  <a:lnTo>
                    <a:pt x="350" y="248"/>
                  </a:lnTo>
                  <a:lnTo>
                    <a:pt x="381" y="244"/>
                  </a:lnTo>
                  <a:lnTo>
                    <a:pt x="414" y="242"/>
                  </a:lnTo>
                  <a:lnTo>
                    <a:pt x="448" y="238"/>
                  </a:lnTo>
                  <a:lnTo>
                    <a:pt x="483" y="234"/>
                  </a:lnTo>
                  <a:lnTo>
                    <a:pt x="520" y="231"/>
                  </a:lnTo>
                  <a:lnTo>
                    <a:pt x="595" y="223"/>
                  </a:lnTo>
                  <a:lnTo>
                    <a:pt x="666" y="215"/>
                  </a:lnTo>
                  <a:lnTo>
                    <a:pt x="737" y="207"/>
                  </a:lnTo>
                  <a:lnTo>
                    <a:pt x="806" y="200"/>
                  </a:lnTo>
                  <a:lnTo>
                    <a:pt x="873" y="192"/>
                  </a:lnTo>
                  <a:lnTo>
                    <a:pt x="941" y="184"/>
                  </a:lnTo>
                  <a:lnTo>
                    <a:pt x="1004" y="177"/>
                  </a:lnTo>
                  <a:lnTo>
                    <a:pt x="1068" y="169"/>
                  </a:lnTo>
                  <a:lnTo>
                    <a:pt x="1098" y="165"/>
                  </a:lnTo>
                  <a:lnTo>
                    <a:pt x="1131" y="161"/>
                  </a:lnTo>
                  <a:lnTo>
                    <a:pt x="1164" y="156"/>
                  </a:lnTo>
                  <a:lnTo>
                    <a:pt x="1196" y="152"/>
                  </a:lnTo>
                  <a:lnTo>
                    <a:pt x="1231" y="146"/>
                  </a:lnTo>
                  <a:lnTo>
                    <a:pt x="1266" y="140"/>
                  </a:lnTo>
                  <a:lnTo>
                    <a:pt x="1300" y="134"/>
                  </a:lnTo>
                  <a:lnTo>
                    <a:pt x="1337" y="129"/>
                  </a:lnTo>
                  <a:lnTo>
                    <a:pt x="1373" y="123"/>
                  </a:lnTo>
                  <a:lnTo>
                    <a:pt x="1410" y="115"/>
                  </a:lnTo>
                  <a:lnTo>
                    <a:pt x="1448" y="109"/>
                  </a:lnTo>
                  <a:lnTo>
                    <a:pt x="1487" y="102"/>
                  </a:lnTo>
                  <a:lnTo>
                    <a:pt x="1525" y="94"/>
                  </a:lnTo>
                  <a:lnTo>
                    <a:pt x="1566" y="86"/>
                  </a:lnTo>
                  <a:lnTo>
                    <a:pt x="1606" y="77"/>
                  </a:lnTo>
                  <a:lnTo>
                    <a:pt x="1646" y="69"/>
                  </a:lnTo>
                  <a:lnTo>
                    <a:pt x="1687" y="61"/>
                  </a:lnTo>
                  <a:lnTo>
                    <a:pt x="1725" y="54"/>
                  </a:lnTo>
                  <a:lnTo>
                    <a:pt x="1762" y="46"/>
                  </a:lnTo>
                  <a:lnTo>
                    <a:pt x="1796" y="38"/>
                  </a:lnTo>
                  <a:lnTo>
                    <a:pt x="1829" y="32"/>
                  </a:lnTo>
                  <a:lnTo>
                    <a:pt x="1844" y="30"/>
                  </a:lnTo>
                  <a:lnTo>
                    <a:pt x="1858" y="27"/>
                  </a:lnTo>
                  <a:lnTo>
                    <a:pt x="1873" y="25"/>
                  </a:lnTo>
                  <a:lnTo>
                    <a:pt x="1887" y="21"/>
                  </a:lnTo>
                  <a:lnTo>
                    <a:pt x="1900" y="19"/>
                  </a:lnTo>
                  <a:lnTo>
                    <a:pt x="1914" y="17"/>
                  </a:lnTo>
                  <a:lnTo>
                    <a:pt x="1927" y="15"/>
                  </a:lnTo>
                  <a:lnTo>
                    <a:pt x="1939" y="13"/>
                  </a:lnTo>
                  <a:lnTo>
                    <a:pt x="1950" y="11"/>
                  </a:lnTo>
                  <a:lnTo>
                    <a:pt x="1962" y="9"/>
                  </a:lnTo>
                  <a:lnTo>
                    <a:pt x="1973" y="7"/>
                  </a:lnTo>
                  <a:lnTo>
                    <a:pt x="1983" y="7"/>
                  </a:lnTo>
                  <a:lnTo>
                    <a:pt x="1993" y="5"/>
                  </a:lnTo>
                  <a:lnTo>
                    <a:pt x="2002" y="4"/>
                  </a:lnTo>
                  <a:lnTo>
                    <a:pt x="2010" y="4"/>
                  </a:lnTo>
                  <a:lnTo>
                    <a:pt x="2019" y="2"/>
                  </a:lnTo>
                  <a:lnTo>
                    <a:pt x="2027" y="2"/>
                  </a:lnTo>
                  <a:lnTo>
                    <a:pt x="2033" y="2"/>
                  </a:lnTo>
                  <a:lnTo>
                    <a:pt x="2041" y="0"/>
                  </a:lnTo>
                  <a:lnTo>
                    <a:pt x="2046" y="0"/>
                  </a:lnTo>
                  <a:lnTo>
                    <a:pt x="2052" y="0"/>
                  </a:lnTo>
                  <a:lnTo>
                    <a:pt x="2058" y="0"/>
                  </a:lnTo>
                  <a:lnTo>
                    <a:pt x="2079" y="0"/>
                  </a:lnTo>
                  <a:lnTo>
                    <a:pt x="2100" y="4"/>
                  </a:lnTo>
                  <a:lnTo>
                    <a:pt x="2121" y="7"/>
                  </a:lnTo>
                  <a:lnTo>
                    <a:pt x="2143" y="13"/>
                  </a:lnTo>
                  <a:lnTo>
                    <a:pt x="2166" y="19"/>
                  </a:lnTo>
                  <a:lnTo>
                    <a:pt x="2191" y="29"/>
                  </a:lnTo>
                  <a:lnTo>
                    <a:pt x="2214" y="38"/>
                  </a:lnTo>
                  <a:lnTo>
                    <a:pt x="2239" y="50"/>
                  </a:lnTo>
                  <a:lnTo>
                    <a:pt x="2250" y="55"/>
                  </a:lnTo>
                  <a:lnTo>
                    <a:pt x="2262" y="61"/>
                  </a:lnTo>
                  <a:lnTo>
                    <a:pt x="2271" y="69"/>
                  </a:lnTo>
                  <a:lnTo>
                    <a:pt x="2281" y="75"/>
                  </a:lnTo>
                  <a:lnTo>
                    <a:pt x="2291" y="80"/>
                  </a:lnTo>
                  <a:lnTo>
                    <a:pt x="2298" y="86"/>
                  </a:lnTo>
                  <a:lnTo>
                    <a:pt x="2306" y="94"/>
                  </a:lnTo>
                  <a:lnTo>
                    <a:pt x="2312" y="100"/>
                  </a:lnTo>
                  <a:lnTo>
                    <a:pt x="2318" y="106"/>
                  </a:lnTo>
                  <a:lnTo>
                    <a:pt x="2323" y="113"/>
                  </a:lnTo>
                  <a:lnTo>
                    <a:pt x="2327" y="119"/>
                  </a:lnTo>
                  <a:lnTo>
                    <a:pt x="2331" y="125"/>
                  </a:lnTo>
                  <a:lnTo>
                    <a:pt x="2333" y="131"/>
                  </a:lnTo>
                  <a:lnTo>
                    <a:pt x="2335" y="138"/>
                  </a:lnTo>
                  <a:lnTo>
                    <a:pt x="2337" y="144"/>
                  </a:lnTo>
                  <a:lnTo>
                    <a:pt x="2337" y="150"/>
                  </a:lnTo>
                  <a:lnTo>
                    <a:pt x="2337" y="156"/>
                  </a:lnTo>
                  <a:lnTo>
                    <a:pt x="2333" y="161"/>
                  </a:lnTo>
                  <a:lnTo>
                    <a:pt x="2329" y="167"/>
                  </a:lnTo>
                  <a:lnTo>
                    <a:pt x="2323" y="171"/>
                  </a:lnTo>
                  <a:lnTo>
                    <a:pt x="2318" y="175"/>
                  </a:lnTo>
                  <a:lnTo>
                    <a:pt x="2308" y="179"/>
                  </a:lnTo>
                  <a:lnTo>
                    <a:pt x="2298" y="181"/>
                  </a:lnTo>
                  <a:lnTo>
                    <a:pt x="2287" y="184"/>
                  </a:lnTo>
                  <a:lnTo>
                    <a:pt x="2273" y="186"/>
                  </a:lnTo>
                  <a:lnTo>
                    <a:pt x="2258" y="188"/>
                  </a:lnTo>
                  <a:lnTo>
                    <a:pt x="2241" y="188"/>
                  </a:lnTo>
                  <a:lnTo>
                    <a:pt x="2223" y="190"/>
                  </a:lnTo>
                  <a:lnTo>
                    <a:pt x="2202" y="190"/>
                  </a:lnTo>
                  <a:lnTo>
                    <a:pt x="2181" y="188"/>
                  </a:lnTo>
                  <a:lnTo>
                    <a:pt x="2158" y="188"/>
                  </a:lnTo>
                  <a:lnTo>
                    <a:pt x="2133" y="186"/>
                  </a:lnTo>
                  <a:lnTo>
                    <a:pt x="2106" y="184"/>
                  </a:lnTo>
                  <a:lnTo>
                    <a:pt x="2077" y="184"/>
                  </a:lnTo>
                  <a:lnTo>
                    <a:pt x="2046" y="184"/>
                  </a:lnTo>
                  <a:lnTo>
                    <a:pt x="2014" y="184"/>
                  </a:lnTo>
                  <a:lnTo>
                    <a:pt x="1979" y="186"/>
                  </a:lnTo>
                  <a:lnTo>
                    <a:pt x="1962" y="186"/>
                  </a:lnTo>
                  <a:lnTo>
                    <a:pt x="1943" y="188"/>
                  </a:lnTo>
                  <a:lnTo>
                    <a:pt x="1923" y="188"/>
                  </a:lnTo>
                  <a:lnTo>
                    <a:pt x="1904" y="190"/>
                  </a:lnTo>
                  <a:lnTo>
                    <a:pt x="1885" y="190"/>
                  </a:lnTo>
                  <a:lnTo>
                    <a:pt x="1864" y="192"/>
                  </a:lnTo>
                  <a:lnTo>
                    <a:pt x="1843" y="194"/>
                  </a:lnTo>
                  <a:lnTo>
                    <a:pt x="1821" y="194"/>
                  </a:lnTo>
                  <a:lnTo>
                    <a:pt x="1800" y="196"/>
                  </a:lnTo>
                  <a:lnTo>
                    <a:pt x="1777" y="198"/>
                  </a:lnTo>
                  <a:lnTo>
                    <a:pt x="1754" y="200"/>
                  </a:lnTo>
                  <a:lnTo>
                    <a:pt x="1731" y="202"/>
                  </a:lnTo>
                  <a:lnTo>
                    <a:pt x="1708" y="206"/>
                  </a:lnTo>
                  <a:lnTo>
                    <a:pt x="1683" y="207"/>
                  </a:lnTo>
                  <a:lnTo>
                    <a:pt x="1658" y="209"/>
                  </a:lnTo>
                  <a:lnTo>
                    <a:pt x="1633" y="213"/>
                  </a:lnTo>
                  <a:lnTo>
                    <a:pt x="1608" y="215"/>
                  </a:lnTo>
                  <a:lnTo>
                    <a:pt x="1581" y="217"/>
                  </a:lnTo>
                  <a:lnTo>
                    <a:pt x="1554" y="221"/>
                  </a:lnTo>
                  <a:lnTo>
                    <a:pt x="1527" y="225"/>
                  </a:lnTo>
                  <a:lnTo>
                    <a:pt x="1500" y="227"/>
                  </a:lnTo>
                  <a:lnTo>
                    <a:pt x="1471" y="231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3394440" y="3406320"/>
              <a:ext cx="106560" cy="216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333" h="673">
                  <a:moveTo>
                    <a:pt x="329" y="391"/>
                  </a:moveTo>
                  <a:lnTo>
                    <a:pt x="329" y="408"/>
                  </a:lnTo>
                  <a:lnTo>
                    <a:pt x="331" y="423"/>
                  </a:lnTo>
                  <a:lnTo>
                    <a:pt x="331" y="439"/>
                  </a:lnTo>
                  <a:lnTo>
                    <a:pt x="331" y="454"/>
                  </a:lnTo>
                  <a:lnTo>
                    <a:pt x="331" y="468"/>
                  </a:lnTo>
                  <a:lnTo>
                    <a:pt x="333" y="483"/>
                  </a:lnTo>
                  <a:lnTo>
                    <a:pt x="333" y="496"/>
                  </a:lnTo>
                  <a:lnTo>
                    <a:pt x="333" y="508"/>
                  </a:lnTo>
                  <a:lnTo>
                    <a:pt x="333" y="521"/>
                  </a:lnTo>
                  <a:lnTo>
                    <a:pt x="333" y="533"/>
                  </a:lnTo>
                  <a:lnTo>
                    <a:pt x="333" y="544"/>
                  </a:lnTo>
                  <a:lnTo>
                    <a:pt x="333" y="556"/>
                  </a:lnTo>
                  <a:lnTo>
                    <a:pt x="333" y="566"/>
                  </a:lnTo>
                  <a:lnTo>
                    <a:pt x="333" y="575"/>
                  </a:lnTo>
                  <a:lnTo>
                    <a:pt x="333" y="585"/>
                  </a:lnTo>
                  <a:lnTo>
                    <a:pt x="331" y="594"/>
                  </a:lnTo>
                  <a:lnTo>
                    <a:pt x="331" y="602"/>
                  </a:lnTo>
                  <a:lnTo>
                    <a:pt x="331" y="612"/>
                  </a:lnTo>
                  <a:lnTo>
                    <a:pt x="331" y="620"/>
                  </a:lnTo>
                  <a:lnTo>
                    <a:pt x="329" y="625"/>
                  </a:lnTo>
                  <a:lnTo>
                    <a:pt x="329" y="633"/>
                  </a:lnTo>
                  <a:lnTo>
                    <a:pt x="327" y="639"/>
                  </a:lnTo>
                  <a:lnTo>
                    <a:pt x="327" y="645"/>
                  </a:lnTo>
                  <a:lnTo>
                    <a:pt x="325" y="648"/>
                  </a:lnTo>
                  <a:lnTo>
                    <a:pt x="325" y="654"/>
                  </a:lnTo>
                  <a:lnTo>
                    <a:pt x="323" y="658"/>
                  </a:lnTo>
                  <a:lnTo>
                    <a:pt x="323" y="662"/>
                  </a:lnTo>
                  <a:lnTo>
                    <a:pt x="321" y="664"/>
                  </a:lnTo>
                  <a:lnTo>
                    <a:pt x="319" y="666"/>
                  </a:lnTo>
                  <a:lnTo>
                    <a:pt x="319" y="670"/>
                  </a:lnTo>
                  <a:lnTo>
                    <a:pt x="318" y="670"/>
                  </a:lnTo>
                  <a:lnTo>
                    <a:pt x="316" y="671"/>
                  </a:lnTo>
                  <a:lnTo>
                    <a:pt x="312" y="673"/>
                  </a:lnTo>
                  <a:lnTo>
                    <a:pt x="310" y="673"/>
                  </a:lnTo>
                  <a:lnTo>
                    <a:pt x="306" y="673"/>
                  </a:lnTo>
                  <a:lnTo>
                    <a:pt x="304" y="673"/>
                  </a:lnTo>
                  <a:lnTo>
                    <a:pt x="300" y="671"/>
                  </a:lnTo>
                  <a:lnTo>
                    <a:pt x="296" y="671"/>
                  </a:lnTo>
                  <a:lnTo>
                    <a:pt x="293" y="668"/>
                  </a:lnTo>
                  <a:lnTo>
                    <a:pt x="291" y="666"/>
                  </a:lnTo>
                  <a:lnTo>
                    <a:pt x="287" y="664"/>
                  </a:lnTo>
                  <a:lnTo>
                    <a:pt x="283" y="660"/>
                  </a:lnTo>
                  <a:lnTo>
                    <a:pt x="279" y="656"/>
                  </a:lnTo>
                  <a:lnTo>
                    <a:pt x="275" y="650"/>
                  </a:lnTo>
                  <a:lnTo>
                    <a:pt x="271" y="646"/>
                  </a:lnTo>
                  <a:lnTo>
                    <a:pt x="268" y="641"/>
                  </a:lnTo>
                  <a:lnTo>
                    <a:pt x="264" y="633"/>
                  </a:lnTo>
                  <a:lnTo>
                    <a:pt x="260" y="627"/>
                  </a:lnTo>
                  <a:lnTo>
                    <a:pt x="256" y="620"/>
                  </a:lnTo>
                  <a:lnTo>
                    <a:pt x="252" y="610"/>
                  </a:lnTo>
                  <a:lnTo>
                    <a:pt x="246" y="600"/>
                  </a:lnTo>
                  <a:lnTo>
                    <a:pt x="243" y="589"/>
                  </a:lnTo>
                  <a:lnTo>
                    <a:pt x="237" y="575"/>
                  </a:lnTo>
                  <a:lnTo>
                    <a:pt x="231" y="562"/>
                  </a:lnTo>
                  <a:lnTo>
                    <a:pt x="227" y="546"/>
                  </a:lnTo>
                  <a:lnTo>
                    <a:pt x="221" y="529"/>
                  </a:lnTo>
                  <a:lnTo>
                    <a:pt x="216" y="512"/>
                  </a:lnTo>
                  <a:lnTo>
                    <a:pt x="208" y="491"/>
                  </a:lnTo>
                  <a:lnTo>
                    <a:pt x="202" y="471"/>
                  </a:lnTo>
                  <a:lnTo>
                    <a:pt x="194" y="448"/>
                  </a:lnTo>
                  <a:lnTo>
                    <a:pt x="189" y="425"/>
                  </a:lnTo>
                  <a:lnTo>
                    <a:pt x="181" y="400"/>
                  </a:lnTo>
                  <a:lnTo>
                    <a:pt x="173" y="373"/>
                  </a:lnTo>
                  <a:lnTo>
                    <a:pt x="166" y="346"/>
                  </a:lnTo>
                  <a:lnTo>
                    <a:pt x="158" y="319"/>
                  </a:lnTo>
                  <a:lnTo>
                    <a:pt x="150" y="294"/>
                  </a:lnTo>
                  <a:lnTo>
                    <a:pt x="143" y="269"/>
                  </a:lnTo>
                  <a:lnTo>
                    <a:pt x="135" y="246"/>
                  </a:lnTo>
                  <a:lnTo>
                    <a:pt x="127" y="225"/>
                  </a:lnTo>
                  <a:lnTo>
                    <a:pt x="119" y="206"/>
                  </a:lnTo>
                  <a:lnTo>
                    <a:pt x="112" y="187"/>
                  </a:lnTo>
                  <a:lnTo>
                    <a:pt x="104" y="169"/>
                  </a:lnTo>
                  <a:lnTo>
                    <a:pt x="96" y="154"/>
                  </a:lnTo>
                  <a:lnTo>
                    <a:pt x="89" y="139"/>
                  </a:lnTo>
                  <a:lnTo>
                    <a:pt x="81" y="127"/>
                  </a:lnTo>
                  <a:lnTo>
                    <a:pt x="73" y="115"/>
                  </a:lnTo>
                  <a:lnTo>
                    <a:pt x="66" y="106"/>
                  </a:lnTo>
                  <a:lnTo>
                    <a:pt x="58" y="96"/>
                  </a:lnTo>
                  <a:lnTo>
                    <a:pt x="50" y="90"/>
                  </a:lnTo>
                  <a:lnTo>
                    <a:pt x="43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1" y="71"/>
                  </a:lnTo>
                  <a:lnTo>
                    <a:pt x="18" y="65"/>
                  </a:lnTo>
                  <a:lnTo>
                    <a:pt x="12" y="62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6" y="13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5" y="0"/>
                  </a:lnTo>
                  <a:lnTo>
                    <a:pt x="85" y="0"/>
                  </a:lnTo>
                  <a:lnTo>
                    <a:pt x="96" y="0"/>
                  </a:lnTo>
                  <a:lnTo>
                    <a:pt x="110" y="2"/>
                  </a:lnTo>
                  <a:lnTo>
                    <a:pt x="123" y="2"/>
                  </a:lnTo>
                  <a:lnTo>
                    <a:pt x="137" y="4"/>
                  </a:lnTo>
                  <a:lnTo>
                    <a:pt x="150" y="8"/>
                  </a:lnTo>
                  <a:lnTo>
                    <a:pt x="166" y="10"/>
                  </a:lnTo>
                  <a:lnTo>
                    <a:pt x="181" y="13"/>
                  </a:lnTo>
                  <a:lnTo>
                    <a:pt x="196" y="17"/>
                  </a:lnTo>
                  <a:lnTo>
                    <a:pt x="210" y="19"/>
                  </a:lnTo>
                  <a:lnTo>
                    <a:pt x="221" y="23"/>
                  </a:lnTo>
                  <a:lnTo>
                    <a:pt x="233" y="27"/>
                  </a:lnTo>
                  <a:lnTo>
                    <a:pt x="244" y="31"/>
                  </a:lnTo>
                  <a:lnTo>
                    <a:pt x="254" y="37"/>
                  </a:lnTo>
                  <a:lnTo>
                    <a:pt x="264" y="40"/>
                  </a:lnTo>
                  <a:lnTo>
                    <a:pt x="271" y="44"/>
                  </a:lnTo>
                  <a:lnTo>
                    <a:pt x="279" y="48"/>
                  </a:lnTo>
                  <a:lnTo>
                    <a:pt x="285" y="54"/>
                  </a:lnTo>
                  <a:lnTo>
                    <a:pt x="291" y="58"/>
                  </a:lnTo>
                  <a:lnTo>
                    <a:pt x="294" y="63"/>
                  </a:lnTo>
                  <a:lnTo>
                    <a:pt x="298" y="69"/>
                  </a:lnTo>
                  <a:lnTo>
                    <a:pt x="302" y="73"/>
                  </a:lnTo>
                  <a:lnTo>
                    <a:pt x="304" y="79"/>
                  </a:lnTo>
                  <a:lnTo>
                    <a:pt x="306" y="85"/>
                  </a:lnTo>
                  <a:lnTo>
                    <a:pt x="308" y="92"/>
                  </a:lnTo>
                  <a:lnTo>
                    <a:pt x="308" y="104"/>
                  </a:lnTo>
                  <a:lnTo>
                    <a:pt x="310" y="115"/>
                  </a:lnTo>
                  <a:lnTo>
                    <a:pt x="312" y="129"/>
                  </a:lnTo>
                  <a:lnTo>
                    <a:pt x="314" y="142"/>
                  </a:lnTo>
                  <a:lnTo>
                    <a:pt x="314" y="160"/>
                  </a:lnTo>
                  <a:lnTo>
                    <a:pt x="316" y="179"/>
                  </a:lnTo>
                  <a:lnTo>
                    <a:pt x="318" y="198"/>
                  </a:lnTo>
                  <a:lnTo>
                    <a:pt x="319" y="221"/>
                  </a:lnTo>
                  <a:lnTo>
                    <a:pt x="321" y="244"/>
                  </a:lnTo>
                  <a:lnTo>
                    <a:pt x="321" y="271"/>
                  </a:lnTo>
                  <a:lnTo>
                    <a:pt x="323" y="298"/>
                  </a:lnTo>
                  <a:lnTo>
                    <a:pt x="325" y="327"/>
                  </a:lnTo>
                  <a:lnTo>
                    <a:pt x="327" y="358"/>
                  </a:lnTo>
                  <a:lnTo>
                    <a:pt x="329" y="391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>
              <a:off x="3641760" y="3360600"/>
              <a:ext cx="135000" cy="269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0" h="838">
                  <a:moveTo>
                    <a:pt x="164" y="71"/>
                  </a:moveTo>
                  <a:lnTo>
                    <a:pt x="160" y="65"/>
                  </a:lnTo>
                  <a:lnTo>
                    <a:pt x="156" y="57"/>
                  </a:lnTo>
                  <a:lnTo>
                    <a:pt x="154" y="52"/>
                  </a:lnTo>
                  <a:lnTo>
                    <a:pt x="152" y="46"/>
                  </a:lnTo>
                  <a:lnTo>
                    <a:pt x="150" y="40"/>
                  </a:lnTo>
                  <a:lnTo>
                    <a:pt x="150" y="36"/>
                  </a:lnTo>
                  <a:lnTo>
                    <a:pt x="149" y="30"/>
                  </a:lnTo>
                  <a:lnTo>
                    <a:pt x="150" y="27"/>
                  </a:lnTo>
                  <a:lnTo>
                    <a:pt x="150" y="23"/>
                  </a:lnTo>
                  <a:lnTo>
                    <a:pt x="150" y="19"/>
                  </a:lnTo>
                  <a:lnTo>
                    <a:pt x="152" y="15"/>
                  </a:lnTo>
                  <a:lnTo>
                    <a:pt x="156" y="13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6" y="5"/>
                  </a:lnTo>
                  <a:lnTo>
                    <a:pt x="170" y="3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199" y="2"/>
                  </a:lnTo>
                  <a:lnTo>
                    <a:pt x="206" y="2"/>
                  </a:lnTo>
                  <a:lnTo>
                    <a:pt x="214" y="3"/>
                  </a:lnTo>
                  <a:lnTo>
                    <a:pt x="224" y="5"/>
                  </a:lnTo>
                  <a:lnTo>
                    <a:pt x="231" y="9"/>
                  </a:lnTo>
                  <a:lnTo>
                    <a:pt x="241" y="11"/>
                  </a:lnTo>
                  <a:lnTo>
                    <a:pt x="250" y="15"/>
                  </a:lnTo>
                  <a:lnTo>
                    <a:pt x="260" y="19"/>
                  </a:lnTo>
                  <a:lnTo>
                    <a:pt x="283" y="28"/>
                  </a:lnTo>
                  <a:lnTo>
                    <a:pt x="306" y="40"/>
                  </a:lnTo>
                  <a:lnTo>
                    <a:pt x="318" y="46"/>
                  </a:lnTo>
                  <a:lnTo>
                    <a:pt x="329" y="52"/>
                  </a:lnTo>
                  <a:lnTo>
                    <a:pt x="341" y="57"/>
                  </a:lnTo>
                  <a:lnTo>
                    <a:pt x="350" y="63"/>
                  </a:lnTo>
                  <a:lnTo>
                    <a:pt x="360" y="69"/>
                  </a:lnTo>
                  <a:lnTo>
                    <a:pt x="370" y="75"/>
                  </a:lnTo>
                  <a:lnTo>
                    <a:pt x="377" y="80"/>
                  </a:lnTo>
                  <a:lnTo>
                    <a:pt x="385" y="84"/>
                  </a:lnTo>
                  <a:lnTo>
                    <a:pt x="391" y="90"/>
                  </a:lnTo>
                  <a:lnTo>
                    <a:pt x="397" y="94"/>
                  </a:lnTo>
                  <a:lnTo>
                    <a:pt x="402" y="100"/>
                  </a:lnTo>
                  <a:lnTo>
                    <a:pt x="408" y="104"/>
                  </a:lnTo>
                  <a:lnTo>
                    <a:pt x="412" y="109"/>
                  </a:lnTo>
                  <a:lnTo>
                    <a:pt x="414" y="113"/>
                  </a:lnTo>
                  <a:lnTo>
                    <a:pt x="418" y="117"/>
                  </a:lnTo>
                  <a:lnTo>
                    <a:pt x="420" y="121"/>
                  </a:lnTo>
                  <a:lnTo>
                    <a:pt x="420" y="123"/>
                  </a:lnTo>
                  <a:lnTo>
                    <a:pt x="420" y="127"/>
                  </a:lnTo>
                  <a:lnTo>
                    <a:pt x="420" y="130"/>
                  </a:lnTo>
                  <a:lnTo>
                    <a:pt x="420" y="134"/>
                  </a:lnTo>
                  <a:lnTo>
                    <a:pt x="418" y="138"/>
                  </a:lnTo>
                  <a:lnTo>
                    <a:pt x="418" y="144"/>
                  </a:lnTo>
                  <a:lnTo>
                    <a:pt x="416" y="150"/>
                  </a:lnTo>
                  <a:lnTo>
                    <a:pt x="414" y="155"/>
                  </a:lnTo>
                  <a:lnTo>
                    <a:pt x="410" y="163"/>
                  </a:lnTo>
                  <a:lnTo>
                    <a:pt x="408" y="171"/>
                  </a:lnTo>
                  <a:lnTo>
                    <a:pt x="404" y="180"/>
                  </a:lnTo>
                  <a:lnTo>
                    <a:pt x="400" y="188"/>
                  </a:lnTo>
                  <a:lnTo>
                    <a:pt x="397" y="198"/>
                  </a:lnTo>
                  <a:lnTo>
                    <a:pt x="393" y="207"/>
                  </a:lnTo>
                  <a:lnTo>
                    <a:pt x="387" y="219"/>
                  </a:lnTo>
                  <a:lnTo>
                    <a:pt x="381" y="231"/>
                  </a:lnTo>
                  <a:lnTo>
                    <a:pt x="375" y="242"/>
                  </a:lnTo>
                  <a:lnTo>
                    <a:pt x="370" y="256"/>
                  </a:lnTo>
                  <a:lnTo>
                    <a:pt x="364" y="269"/>
                  </a:lnTo>
                  <a:lnTo>
                    <a:pt x="356" y="282"/>
                  </a:lnTo>
                  <a:lnTo>
                    <a:pt x="350" y="296"/>
                  </a:lnTo>
                  <a:lnTo>
                    <a:pt x="343" y="311"/>
                  </a:lnTo>
                  <a:lnTo>
                    <a:pt x="335" y="327"/>
                  </a:lnTo>
                  <a:lnTo>
                    <a:pt x="325" y="344"/>
                  </a:lnTo>
                  <a:lnTo>
                    <a:pt x="318" y="361"/>
                  </a:lnTo>
                  <a:lnTo>
                    <a:pt x="308" y="379"/>
                  </a:lnTo>
                  <a:lnTo>
                    <a:pt x="299" y="396"/>
                  </a:lnTo>
                  <a:lnTo>
                    <a:pt x="289" y="415"/>
                  </a:lnTo>
                  <a:lnTo>
                    <a:pt x="277" y="434"/>
                  </a:lnTo>
                  <a:lnTo>
                    <a:pt x="268" y="454"/>
                  </a:lnTo>
                  <a:lnTo>
                    <a:pt x="256" y="475"/>
                  </a:lnTo>
                  <a:lnTo>
                    <a:pt x="245" y="496"/>
                  </a:lnTo>
                  <a:lnTo>
                    <a:pt x="233" y="517"/>
                  </a:lnTo>
                  <a:lnTo>
                    <a:pt x="222" y="536"/>
                  </a:lnTo>
                  <a:lnTo>
                    <a:pt x="210" y="558"/>
                  </a:lnTo>
                  <a:lnTo>
                    <a:pt x="200" y="577"/>
                  </a:lnTo>
                  <a:lnTo>
                    <a:pt x="189" y="594"/>
                  </a:lnTo>
                  <a:lnTo>
                    <a:pt x="179" y="611"/>
                  </a:lnTo>
                  <a:lnTo>
                    <a:pt x="170" y="629"/>
                  </a:lnTo>
                  <a:lnTo>
                    <a:pt x="160" y="646"/>
                  </a:lnTo>
                  <a:lnTo>
                    <a:pt x="150" y="661"/>
                  </a:lnTo>
                  <a:lnTo>
                    <a:pt x="141" y="677"/>
                  </a:lnTo>
                  <a:lnTo>
                    <a:pt x="133" y="690"/>
                  </a:lnTo>
                  <a:lnTo>
                    <a:pt x="124" y="704"/>
                  </a:lnTo>
                  <a:lnTo>
                    <a:pt x="116" y="717"/>
                  </a:lnTo>
                  <a:lnTo>
                    <a:pt x="108" y="729"/>
                  </a:lnTo>
                  <a:lnTo>
                    <a:pt x="100" y="742"/>
                  </a:lnTo>
                  <a:lnTo>
                    <a:pt x="93" y="752"/>
                  </a:lnTo>
                  <a:lnTo>
                    <a:pt x="87" y="763"/>
                  </a:lnTo>
                  <a:lnTo>
                    <a:pt x="79" y="773"/>
                  </a:lnTo>
                  <a:lnTo>
                    <a:pt x="74" y="781"/>
                  </a:lnTo>
                  <a:lnTo>
                    <a:pt x="66" y="790"/>
                  </a:lnTo>
                  <a:lnTo>
                    <a:pt x="60" y="798"/>
                  </a:lnTo>
                  <a:lnTo>
                    <a:pt x="54" y="806"/>
                  </a:lnTo>
                  <a:lnTo>
                    <a:pt x="50" y="812"/>
                  </a:lnTo>
                  <a:lnTo>
                    <a:pt x="45" y="817"/>
                  </a:lnTo>
                  <a:lnTo>
                    <a:pt x="39" y="821"/>
                  </a:lnTo>
                  <a:lnTo>
                    <a:pt x="35" y="827"/>
                  </a:lnTo>
                  <a:lnTo>
                    <a:pt x="31" y="831"/>
                  </a:lnTo>
                  <a:lnTo>
                    <a:pt x="27" y="833"/>
                  </a:lnTo>
                  <a:lnTo>
                    <a:pt x="24" y="835"/>
                  </a:lnTo>
                  <a:lnTo>
                    <a:pt x="20" y="837"/>
                  </a:lnTo>
                  <a:lnTo>
                    <a:pt x="18" y="838"/>
                  </a:lnTo>
                  <a:lnTo>
                    <a:pt x="14" y="838"/>
                  </a:lnTo>
                  <a:lnTo>
                    <a:pt x="8" y="838"/>
                  </a:lnTo>
                  <a:lnTo>
                    <a:pt x="4" y="835"/>
                  </a:lnTo>
                  <a:lnTo>
                    <a:pt x="2" y="831"/>
                  </a:lnTo>
                  <a:lnTo>
                    <a:pt x="0" y="825"/>
                  </a:lnTo>
                  <a:lnTo>
                    <a:pt x="0" y="815"/>
                  </a:lnTo>
                  <a:lnTo>
                    <a:pt x="0" y="806"/>
                  </a:lnTo>
                  <a:lnTo>
                    <a:pt x="0" y="794"/>
                  </a:lnTo>
                  <a:lnTo>
                    <a:pt x="4" y="781"/>
                  </a:lnTo>
                  <a:lnTo>
                    <a:pt x="6" y="765"/>
                  </a:lnTo>
                  <a:lnTo>
                    <a:pt x="12" y="748"/>
                  </a:lnTo>
                  <a:lnTo>
                    <a:pt x="16" y="729"/>
                  </a:lnTo>
                  <a:lnTo>
                    <a:pt x="24" y="710"/>
                  </a:lnTo>
                  <a:lnTo>
                    <a:pt x="29" y="686"/>
                  </a:lnTo>
                  <a:lnTo>
                    <a:pt x="39" y="661"/>
                  </a:lnTo>
                  <a:lnTo>
                    <a:pt x="49" y="636"/>
                  </a:lnTo>
                  <a:lnTo>
                    <a:pt x="58" y="608"/>
                  </a:lnTo>
                  <a:lnTo>
                    <a:pt x="70" y="579"/>
                  </a:lnTo>
                  <a:lnTo>
                    <a:pt x="79" y="552"/>
                  </a:lnTo>
                  <a:lnTo>
                    <a:pt x="89" y="525"/>
                  </a:lnTo>
                  <a:lnTo>
                    <a:pt x="97" y="498"/>
                  </a:lnTo>
                  <a:lnTo>
                    <a:pt x="106" y="473"/>
                  </a:lnTo>
                  <a:lnTo>
                    <a:pt x="114" y="450"/>
                  </a:lnTo>
                  <a:lnTo>
                    <a:pt x="122" y="425"/>
                  </a:lnTo>
                  <a:lnTo>
                    <a:pt x="129" y="404"/>
                  </a:lnTo>
                  <a:lnTo>
                    <a:pt x="135" y="381"/>
                  </a:lnTo>
                  <a:lnTo>
                    <a:pt x="143" y="359"/>
                  </a:lnTo>
                  <a:lnTo>
                    <a:pt x="149" y="340"/>
                  </a:lnTo>
                  <a:lnTo>
                    <a:pt x="152" y="321"/>
                  </a:lnTo>
                  <a:lnTo>
                    <a:pt x="158" y="302"/>
                  </a:lnTo>
                  <a:lnTo>
                    <a:pt x="162" y="284"/>
                  </a:lnTo>
                  <a:lnTo>
                    <a:pt x="166" y="267"/>
                  </a:lnTo>
                  <a:lnTo>
                    <a:pt x="170" y="252"/>
                  </a:lnTo>
                  <a:lnTo>
                    <a:pt x="174" y="236"/>
                  </a:lnTo>
                  <a:lnTo>
                    <a:pt x="175" y="221"/>
                  </a:lnTo>
                  <a:lnTo>
                    <a:pt x="177" y="207"/>
                  </a:lnTo>
                  <a:lnTo>
                    <a:pt x="179" y="194"/>
                  </a:lnTo>
                  <a:lnTo>
                    <a:pt x="181" y="180"/>
                  </a:lnTo>
                  <a:lnTo>
                    <a:pt x="181" y="169"/>
                  </a:lnTo>
                  <a:lnTo>
                    <a:pt x="181" y="155"/>
                  </a:lnTo>
                  <a:lnTo>
                    <a:pt x="181" y="144"/>
                  </a:lnTo>
                  <a:lnTo>
                    <a:pt x="181" y="134"/>
                  </a:lnTo>
                  <a:lnTo>
                    <a:pt x="179" y="123"/>
                  </a:lnTo>
                  <a:lnTo>
                    <a:pt x="177" y="113"/>
                  </a:lnTo>
                  <a:lnTo>
                    <a:pt x="175" y="104"/>
                  </a:lnTo>
                  <a:lnTo>
                    <a:pt x="174" y="94"/>
                  </a:lnTo>
                  <a:lnTo>
                    <a:pt x="172" y="86"/>
                  </a:lnTo>
                  <a:lnTo>
                    <a:pt x="168" y="79"/>
                  </a:lnTo>
                  <a:lnTo>
                    <a:pt x="164" y="71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8" name="组合 56"/>
          <p:cNvGrpSpPr/>
          <p:nvPr/>
        </p:nvGrpSpPr>
        <p:grpSpPr>
          <a:xfrm>
            <a:off x="3125880" y="3625920"/>
            <a:ext cx="894960" cy="726480"/>
            <a:chOff x="3125880" y="3625920"/>
            <a:chExt cx="894960" cy="726480"/>
          </a:xfrm>
        </p:grpSpPr>
        <p:sp>
          <p:nvSpPr>
            <p:cNvPr id="219" name="Freeform 5"/>
            <p:cNvSpPr/>
            <p:nvPr/>
          </p:nvSpPr>
          <p:spPr>
            <a:xfrm>
              <a:off x="3125880" y="3959640"/>
              <a:ext cx="894960" cy="126000"/>
            </a:xfrm>
            <a:custGeom>
              <a:avLst/>
              <a:gdLst>
                <a:gd name="textAreaLeft" fmla="*/ 0 w 894960"/>
                <a:gd name="textAreaRight" fmla="*/ 895320 w 8949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778" h="393">
                  <a:moveTo>
                    <a:pt x="194" y="393"/>
                  </a:moveTo>
                  <a:lnTo>
                    <a:pt x="178" y="391"/>
                  </a:lnTo>
                  <a:lnTo>
                    <a:pt x="165" y="387"/>
                  </a:lnTo>
                  <a:lnTo>
                    <a:pt x="150" y="381"/>
                  </a:lnTo>
                  <a:lnTo>
                    <a:pt x="134" y="375"/>
                  </a:lnTo>
                  <a:lnTo>
                    <a:pt x="119" y="368"/>
                  </a:lnTo>
                  <a:lnTo>
                    <a:pt x="101" y="358"/>
                  </a:lnTo>
                  <a:lnTo>
                    <a:pt x="86" y="348"/>
                  </a:lnTo>
                  <a:lnTo>
                    <a:pt x="69" y="337"/>
                  </a:lnTo>
                  <a:lnTo>
                    <a:pt x="61" y="331"/>
                  </a:lnTo>
                  <a:lnTo>
                    <a:pt x="53" y="325"/>
                  </a:lnTo>
                  <a:lnTo>
                    <a:pt x="46" y="318"/>
                  </a:lnTo>
                  <a:lnTo>
                    <a:pt x="38" y="312"/>
                  </a:lnTo>
                  <a:lnTo>
                    <a:pt x="32" y="308"/>
                  </a:lnTo>
                  <a:lnTo>
                    <a:pt x="26" y="302"/>
                  </a:lnTo>
                  <a:lnTo>
                    <a:pt x="21" y="296"/>
                  </a:lnTo>
                  <a:lnTo>
                    <a:pt x="17" y="292"/>
                  </a:lnTo>
                  <a:lnTo>
                    <a:pt x="13" y="287"/>
                  </a:lnTo>
                  <a:lnTo>
                    <a:pt x="9" y="283"/>
                  </a:lnTo>
                  <a:lnTo>
                    <a:pt x="7" y="279"/>
                  </a:lnTo>
                  <a:lnTo>
                    <a:pt x="3" y="275"/>
                  </a:lnTo>
                  <a:lnTo>
                    <a:pt x="1" y="271"/>
                  </a:lnTo>
                  <a:lnTo>
                    <a:pt x="1" y="267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0" y="258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50"/>
                  </a:lnTo>
                  <a:lnTo>
                    <a:pt x="9" y="248"/>
                  </a:lnTo>
                  <a:lnTo>
                    <a:pt x="15" y="246"/>
                  </a:lnTo>
                  <a:lnTo>
                    <a:pt x="19" y="244"/>
                  </a:lnTo>
                  <a:lnTo>
                    <a:pt x="25" y="242"/>
                  </a:lnTo>
                  <a:lnTo>
                    <a:pt x="32" y="241"/>
                  </a:lnTo>
                  <a:lnTo>
                    <a:pt x="40" y="241"/>
                  </a:lnTo>
                  <a:lnTo>
                    <a:pt x="48" y="239"/>
                  </a:lnTo>
                  <a:lnTo>
                    <a:pt x="57" y="239"/>
                  </a:lnTo>
                  <a:lnTo>
                    <a:pt x="67" y="237"/>
                  </a:lnTo>
                  <a:lnTo>
                    <a:pt x="76" y="237"/>
                  </a:lnTo>
                  <a:lnTo>
                    <a:pt x="88" y="237"/>
                  </a:lnTo>
                  <a:lnTo>
                    <a:pt x="100" y="237"/>
                  </a:lnTo>
                  <a:lnTo>
                    <a:pt x="126" y="237"/>
                  </a:lnTo>
                  <a:lnTo>
                    <a:pt x="153" y="235"/>
                  </a:lnTo>
                  <a:lnTo>
                    <a:pt x="182" y="235"/>
                  </a:lnTo>
                  <a:lnTo>
                    <a:pt x="213" y="233"/>
                  </a:lnTo>
                  <a:lnTo>
                    <a:pt x="244" y="229"/>
                  </a:lnTo>
                  <a:lnTo>
                    <a:pt x="278" y="227"/>
                  </a:lnTo>
                  <a:lnTo>
                    <a:pt x="313" y="221"/>
                  </a:lnTo>
                  <a:lnTo>
                    <a:pt x="350" y="217"/>
                  </a:lnTo>
                  <a:lnTo>
                    <a:pt x="369" y="216"/>
                  </a:lnTo>
                  <a:lnTo>
                    <a:pt x="390" y="214"/>
                  </a:lnTo>
                  <a:lnTo>
                    <a:pt x="411" y="210"/>
                  </a:lnTo>
                  <a:lnTo>
                    <a:pt x="434" y="208"/>
                  </a:lnTo>
                  <a:lnTo>
                    <a:pt x="457" y="206"/>
                  </a:lnTo>
                  <a:lnTo>
                    <a:pt x="482" y="202"/>
                  </a:lnTo>
                  <a:lnTo>
                    <a:pt x="509" y="200"/>
                  </a:lnTo>
                  <a:lnTo>
                    <a:pt x="536" y="196"/>
                  </a:lnTo>
                  <a:lnTo>
                    <a:pt x="565" y="192"/>
                  </a:lnTo>
                  <a:lnTo>
                    <a:pt x="594" y="189"/>
                  </a:lnTo>
                  <a:lnTo>
                    <a:pt x="624" y="187"/>
                  </a:lnTo>
                  <a:lnTo>
                    <a:pt x="657" y="183"/>
                  </a:lnTo>
                  <a:lnTo>
                    <a:pt x="690" y="179"/>
                  </a:lnTo>
                  <a:lnTo>
                    <a:pt x="724" y="175"/>
                  </a:lnTo>
                  <a:lnTo>
                    <a:pt x="761" y="171"/>
                  </a:lnTo>
                  <a:lnTo>
                    <a:pt x="798" y="167"/>
                  </a:lnTo>
                  <a:lnTo>
                    <a:pt x="817" y="166"/>
                  </a:lnTo>
                  <a:lnTo>
                    <a:pt x="836" y="164"/>
                  </a:lnTo>
                  <a:lnTo>
                    <a:pt x="855" y="162"/>
                  </a:lnTo>
                  <a:lnTo>
                    <a:pt x="876" y="160"/>
                  </a:lnTo>
                  <a:lnTo>
                    <a:pt x="898" y="156"/>
                  </a:lnTo>
                  <a:lnTo>
                    <a:pt x="919" y="154"/>
                  </a:lnTo>
                  <a:lnTo>
                    <a:pt x="940" y="152"/>
                  </a:lnTo>
                  <a:lnTo>
                    <a:pt x="963" y="150"/>
                  </a:lnTo>
                  <a:lnTo>
                    <a:pt x="986" y="146"/>
                  </a:lnTo>
                  <a:lnTo>
                    <a:pt x="1011" y="144"/>
                  </a:lnTo>
                  <a:lnTo>
                    <a:pt x="1034" y="142"/>
                  </a:lnTo>
                  <a:lnTo>
                    <a:pt x="1059" y="139"/>
                  </a:lnTo>
                  <a:lnTo>
                    <a:pt x="1084" y="137"/>
                  </a:lnTo>
                  <a:lnTo>
                    <a:pt x="1111" y="133"/>
                  </a:lnTo>
                  <a:lnTo>
                    <a:pt x="1136" y="129"/>
                  </a:lnTo>
                  <a:lnTo>
                    <a:pt x="1163" y="127"/>
                  </a:lnTo>
                  <a:lnTo>
                    <a:pt x="1190" y="123"/>
                  </a:lnTo>
                  <a:lnTo>
                    <a:pt x="1219" y="121"/>
                  </a:lnTo>
                  <a:lnTo>
                    <a:pt x="1248" y="117"/>
                  </a:lnTo>
                  <a:lnTo>
                    <a:pt x="1276" y="114"/>
                  </a:lnTo>
                  <a:lnTo>
                    <a:pt x="1305" y="110"/>
                  </a:lnTo>
                  <a:lnTo>
                    <a:pt x="1336" y="108"/>
                  </a:lnTo>
                  <a:lnTo>
                    <a:pt x="1365" y="104"/>
                  </a:lnTo>
                  <a:lnTo>
                    <a:pt x="1398" y="100"/>
                  </a:lnTo>
                  <a:lnTo>
                    <a:pt x="1428" y="96"/>
                  </a:lnTo>
                  <a:lnTo>
                    <a:pt x="1461" y="92"/>
                  </a:lnTo>
                  <a:lnTo>
                    <a:pt x="1492" y="89"/>
                  </a:lnTo>
                  <a:lnTo>
                    <a:pt x="1526" y="85"/>
                  </a:lnTo>
                  <a:lnTo>
                    <a:pt x="1559" y="81"/>
                  </a:lnTo>
                  <a:lnTo>
                    <a:pt x="1594" y="75"/>
                  </a:lnTo>
                  <a:lnTo>
                    <a:pt x="1628" y="71"/>
                  </a:lnTo>
                  <a:lnTo>
                    <a:pt x="1663" y="67"/>
                  </a:lnTo>
                  <a:lnTo>
                    <a:pt x="1698" y="64"/>
                  </a:lnTo>
                  <a:lnTo>
                    <a:pt x="1732" y="60"/>
                  </a:lnTo>
                  <a:lnTo>
                    <a:pt x="1765" y="56"/>
                  </a:lnTo>
                  <a:lnTo>
                    <a:pt x="1798" y="52"/>
                  </a:lnTo>
                  <a:lnTo>
                    <a:pt x="1828" y="48"/>
                  </a:lnTo>
                  <a:lnTo>
                    <a:pt x="1859" y="44"/>
                  </a:lnTo>
                  <a:lnTo>
                    <a:pt x="1888" y="42"/>
                  </a:lnTo>
                  <a:lnTo>
                    <a:pt x="1917" y="39"/>
                  </a:lnTo>
                  <a:lnTo>
                    <a:pt x="1946" y="35"/>
                  </a:lnTo>
                  <a:lnTo>
                    <a:pt x="1972" y="33"/>
                  </a:lnTo>
                  <a:lnTo>
                    <a:pt x="1997" y="29"/>
                  </a:lnTo>
                  <a:lnTo>
                    <a:pt x="2024" y="27"/>
                  </a:lnTo>
                  <a:lnTo>
                    <a:pt x="2047" y="25"/>
                  </a:lnTo>
                  <a:lnTo>
                    <a:pt x="2071" y="21"/>
                  </a:lnTo>
                  <a:lnTo>
                    <a:pt x="2094" y="19"/>
                  </a:lnTo>
                  <a:lnTo>
                    <a:pt x="2115" y="17"/>
                  </a:lnTo>
                  <a:lnTo>
                    <a:pt x="2136" y="15"/>
                  </a:lnTo>
                  <a:lnTo>
                    <a:pt x="2157" y="14"/>
                  </a:lnTo>
                  <a:lnTo>
                    <a:pt x="2174" y="12"/>
                  </a:lnTo>
                  <a:lnTo>
                    <a:pt x="2194" y="10"/>
                  </a:lnTo>
                  <a:lnTo>
                    <a:pt x="2211" y="8"/>
                  </a:lnTo>
                  <a:lnTo>
                    <a:pt x="2226" y="8"/>
                  </a:lnTo>
                  <a:lnTo>
                    <a:pt x="2242" y="6"/>
                  </a:lnTo>
                  <a:lnTo>
                    <a:pt x="2257" y="4"/>
                  </a:lnTo>
                  <a:lnTo>
                    <a:pt x="2271" y="4"/>
                  </a:lnTo>
                  <a:lnTo>
                    <a:pt x="2284" y="2"/>
                  </a:lnTo>
                  <a:lnTo>
                    <a:pt x="2296" y="2"/>
                  </a:lnTo>
                  <a:lnTo>
                    <a:pt x="2307" y="2"/>
                  </a:lnTo>
                  <a:lnTo>
                    <a:pt x="2317" y="0"/>
                  </a:lnTo>
                  <a:lnTo>
                    <a:pt x="2326" y="0"/>
                  </a:lnTo>
                  <a:lnTo>
                    <a:pt x="2334" y="0"/>
                  </a:lnTo>
                  <a:lnTo>
                    <a:pt x="2342" y="0"/>
                  </a:lnTo>
                  <a:lnTo>
                    <a:pt x="2371" y="0"/>
                  </a:lnTo>
                  <a:lnTo>
                    <a:pt x="2399" y="4"/>
                  </a:lnTo>
                  <a:lnTo>
                    <a:pt x="2430" y="8"/>
                  </a:lnTo>
                  <a:lnTo>
                    <a:pt x="2461" y="14"/>
                  </a:lnTo>
                  <a:lnTo>
                    <a:pt x="2492" y="21"/>
                  </a:lnTo>
                  <a:lnTo>
                    <a:pt x="2524" y="31"/>
                  </a:lnTo>
                  <a:lnTo>
                    <a:pt x="2540" y="37"/>
                  </a:lnTo>
                  <a:lnTo>
                    <a:pt x="2557" y="42"/>
                  </a:lnTo>
                  <a:lnTo>
                    <a:pt x="2572" y="48"/>
                  </a:lnTo>
                  <a:lnTo>
                    <a:pt x="2590" y="56"/>
                  </a:lnTo>
                  <a:lnTo>
                    <a:pt x="2607" y="64"/>
                  </a:lnTo>
                  <a:lnTo>
                    <a:pt x="2622" y="69"/>
                  </a:lnTo>
                  <a:lnTo>
                    <a:pt x="2638" y="77"/>
                  </a:lnTo>
                  <a:lnTo>
                    <a:pt x="2651" y="85"/>
                  </a:lnTo>
                  <a:lnTo>
                    <a:pt x="2665" y="90"/>
                  </a:lnTo>
                  <a:lnTo>
                    <a:pt x="2678" y="98"/>
                  </a:lnTo>
                  <a:lnTo>
                    <a:pt x="2690" y="106"/>
                  </a:lnTo>
                  <a:lnTo>
                    <a:pt x="2701" y="114"/>
                  </a:lnTo>
                  <a:lnTo>
                    <a:pt x="2711" y="121"/>
                  </a:lnTo>
                  <a:lnTo>
                    <a:pt x="2721" y="129"/>
                  </a:lnTo>
                  <a:lnTo>
                    <a:pt x="2728" y="135"/>
                  </a:lnTo>
                  <a:lnTo>
                    <a:pt x="2736" y="142"/>
                  </a:lnTo>
                  <a:lnTo>
                    <a:pt x="2744" y="150"/>
                  </a:lnTo>
                  <a:lnTo>
                    <a:pt x="2749" y="158"/>
                  </a:lnTo>
                  <a:lnTo>
                    <a:pt x="2755" y="166"/>
                  </a:lnTo>
                  <a:lnTo>
                    <a:pt x="2759" y="173"/>
                  </a:lnTo>
                  <a:lnTo>
                    <a:pt x="2767" y="189"/>
                  </a:lnTo>
                  <a:lnTo>
                    <a:pt x="2772" y="202"/>
                  </a:lnTo>
                  <a:lnTo>
                    <a:pt x="2776" y="214"/>
                  </a:lnTo>
                  <a:lnTo>
                    <a:pt x="2778" y="223"/>
                  </a:lnTo>
                  <a:lnTo>
                    <a:pt x="2778" y="233"/>
                  </a:lnTo>
                  <a:lnTo>
                    <a:pt x="2778" y="239"/>
                  </a:lnTo>
                  <a:lnTo>
                    <a:pt x="2774" y="244"/>
                  </a:lnTo>
                  <a:lnTo>
                    <a:pt x="2771" y="248"/>
                  </a:lnTo>
                  <a:lnTo>
                    <a:pt x="2767" y="250"/>
                  </a:lnTo>
                  <a:lnTo>
                    <a:pt x="2763" y="250"/>
                  </a:lnTo>
                  <a:lnTo>
                    <a:pt x="2757" y="252"/>
                  </a:lnTo>
                  <a:lnTo>
                    <a:pt x="2749" y="252"/>
                  </a:lnTo>
                  <a:lnTo>
                    <a:pt x="2740" y="252"/>
                  </a:lnTo>
                  <a:lnTo>
                    <a:pt x="2728" y="252"/>
                  </a:lnTo>
                  <a:lnTo>
                    <a:pt x="2715" y="252"/>
                  </a:lnTo>
                  <a:lnTo>
                    <a:pt x="2699" y="250"/>
                  </a:lnTo>
                  <a:lnTo>
                    <a:pt x="2684" y="248"/>
                  </a:lnTo>
                  <a:lnTo>
                    <a:pt x="2665" y="248"/>
                  </a:lnTo>
                  <a:lnTo>
                    <a:pt x="2646" y="246"/>
                  </a:lnTo>
                  <a:lnTo>
                    <a:pt x="2624" y="242"/>
                  </a:lnTo>
                  <a:lnTo>
                    <a:pt x="2601" y="241"/>
                  </a:lnTo>
                  <a:lnTo>
                    <a:pt x="2576" y="237"/>
                  </a:lnTo>
                  <a:lnTo>
                    <a:pt x="2551" y="235"/>
                  </a:lnTo>
                  <a:lnTo>
                    <a:pt x="2522" y="231"/>
                  </a:lnTo>
                  <a:lnTo>
                    <a:pt x="2465" y="223"/>
                  </a:lnTo>
                  <a:lnTo>
                    <a:pt x="2407" y="217"/>
                  </a:lnTo>
                  <a:lnTo>
                    <a:pt x="2349" y="212"/>
                  </a:lnTo>
                  <a:lnTo>
                    <a:pt x="2292" y="206"/>
                  </a:lnTo>
                  <a:lnTo>
                    <a:pt x="2234" y="202"/>
                  </a:lnTo>
                  <a:lnTo>
                    <a:pt x="2176" y="200"/>
                  </a:lnTo>
                  <a:lnTo>
                    <a:pt x="2119" y="198"/>
                  </a:lnTo>
                  <a:lnTo>
                    <a:pt x="2061" y="198"/>
                  </a:lnTo>
                  <a:lnTo>
                    <a:pt x="2003" y="198"/>
                  </a:lnTo>
                  <a:lnTo>
                    <a:pt x="1944" y="200"/>
                  </a:lnTo>
                  <a:lnTo>
                    <a:pt x="1886" y="202"/>
                  </a:lnTo>
                  <a:lnTo>
                    <a:pt x="1826" y="204"/>
                  </a:lnTo>
                  <a:lnTo>
                    <a:pt x="1767" y="206"/>
                  </a:lnTo>
                  <a:lnTo>
                    <a:pt x="1705" y="210"/>
                  </a:lnTo>
                  <a:lnTo>
                    <a:pt x="1644" y="214"/>
                  </a:lnTo>
                  <a:lnTo>
                    <a:pt x="1582" y="217"/>
                  </a:lnTo>
                  <a:lnTo>
                    <a:pt x="1551" y="219"/>
                  </a:lnTo>
                  <a:lnTo>
                    <a:pt x="1519" y="223"/>
                  </a:lnTo>
                  <a:lnTo>
                    <a:pt x="1484" y="225"/>
                  </a:lnTo>
                  <a:lnTo>
                    <a:pt x="1449" y="229"/>
                  </a:lnTo>
                  <a:lnTo>
                    <a:pt x="1415" y="233"/>
                  </a:lnTo>
                  <a:lnTo>
                    <a:pt x="1378" y="235"/>
                  </a:lnTo>
                  <a:lnTo>
                    <a:pt x="1340" y="239"/>
                  </a:lnTo>
                  <a:lnTo>
                    <a:pt x="1301" y="242"/>
                  </a:lnTo>
                  <a:lnTo>
                    <a:pt x="1261" y="246"/>
                  </a:lnTo>
                  <a:lnTo>
                    <a:pt x="1221" y="250"/>
                  </a:lnTo>
                  <a:lnTo>
                    <a:pt x="1178" y="254"/>
                  </a:lnTo>
                  <a:lnTo>
                    <a:pt x="1136" y="260"/>
                  </a:lnTo>
                  <a:lnTo>
                    <a:pt x="1092" y="264"/>
                  </a:lnTo>
                  <a:lnTo>
                    <a:pt x="1046" y="269"/>
                  </a:lnTo>
                  <a:lnTo>
                    <a:pt x="1001" y="273"/>
                  </a:lnTo>
                  <a:lnTo>
                    <a:pt x="953" y="279"/>
                  </a:lnTo>
                  <a:lnTo>
                    <a:pt x="907" y="285"/>
                  </a:lnTo>
                  <a:lnTo>
                    <a:pt x="861" y="291"/>
                  </a:lnTo>
                  <a:lnTo>
                    <a:pt x="819" y="296"/>
                  </a:lnTo>
                  <a:lnTo>
                    <a:pt x="776" y="302"/>
                  </a:lnTo>
                  <a:lnTo>
                    <a:pt x="736" y="306"/>
                  </a:lnTo>
                  <a:lnTo>
                    <a:pt x="699" y="312"/>
                  </a:lnTo>
                  <a:lnTo>
                    <a:pt x="663" y="318"/>
                  </a:lnTo>
                  <a:lnTo>
                    <a:pt x="628" y="323"/>
                  </a:lnTo>
                  <a:lnTo>
                    <a:pt x="594" y="327"/>
                  </a:lnTo>
                  <a:lnTo>
                    <a:pt x="563" y="333"/>
                  </a:lnTo>
                  <a:lnTo>
                    <a:pt x="534" y="339"/>
                  </a:lnTo>
                  <a:lnTo>
                    <a:pt x="505" y="343"/>
                  </a:lnTo>
                  <a:lnTo>
                    <a:pt x="480" y="348"/>
                  </a:lnTo>
                  <a:lnTo>
                    <a:pt x="455" y="352"/>
                  </a:lnTo>
                  <a:lnTo>
                    <a:pt x="432" y="358"/>
                  </a:lnTo>
                  <a:lnTo>
                    <a:pt x="411" y="362"/>
                  </a:lnTo>
                  <a:lnTo>
                    <a:pt x="392" y="366"/>
                  </a:lnTo>
                  <a:lnTo>
                    <a:pt x="373" y="371"/>
                  </a:lnTo>
                  <a:lnTo>
                    <a:pt x="353" y="373"/>
                  </a:lnTo>
                  <a:lnTo>
                    <a:pt x="336" y="377"/>
                  </a:lnTo>
                  <a:lnTo>
                    <a:pt x="321" y="381"/>
                  </a:lnTo>
                  <a:lnTo>
                    <a:pt x="305" y="383"/>
                  </a:lnTo>
                  <a:lnTo>
                    <a:pt x="290" y="387"/>
                  </a:lnTo>
                  <a:lnTo>
                    <a:pt x="276" y="389"/>
                  </a:lnTo>
                  <a:lnTo>
                    <a:pt x="263" y="391"/>
                  </a:lnTo>
                  <a:lnTo>
                    <a:pt x="250" y="391"/>
                  </a:lnTo>
                  <a:lnTo>
                    <a:pt x="238" y="393"/>
                  </a:lnTo>
                  <a:lnTo>
                    <a:pt x="228" y="393"/>
                  </a:lnTo>
                  <a:lnTo>
                    <a:pt x="219" y="393"/>
                  </a:lnTo>
                  <a:lnTo>
                    <a:pt x="209" y="393"/>
                  </a:lnTo>
                  <a:lnTo>
                    <a:pt x="201" y="393"/>
                  </a:lnTo>
                  <a:lnTo>
                    <a:pt x="194" y="393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Freeform 9"/>
            <p:cNvSpPr/>
            <p:nvPr/>
          </p:nvSpPr>
          <p:spPr>
            <a:xfrm>
              <a:off x="3353040" y="3665160"/>
              <a:ext cx="101520" cy="2736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16" h="851">
                  <a:moveTo>
                    <a:pt x="291" y="497"/>
                  </a:moveTo>
                  <a:lnTo>
                    <a:pt x="293" y="516"/>
                  </a:lnTo>
                  <a:lnTo>
                    <a:pt x="294" y="535"/>
                  </a:lnTo>
                  <a:lnTo>
                    <a:pt x="296" y="554"/>
                  </a:lnTo>
                  <a:lnTo>
                    <a:pt x="298" y="572"/>
                  </a:lnTo>
                  <a:lnTo>
                    <a:pt x="300" y="589"/>
                  </a:lnTo>
                  <a:lnTo>
                    <a:pt x="302" y="604"/>
                  </a:lnTo>
                  <a:lnTo>
                    <a:pt x="304" y="622"/>
                  </a:lnTo>
                  <a:lnTo>
                    <a:pt x="306" y="637"/>
                  </a:lnTo>
                  <a:lnTo>
                    <a:pt x="308" y="652"/>
                  </a:lnTo>
                  <a:lnTo>
                    <a:pt x="310" y="666"/>
                  </a:lnTo>
                  <a:lnTo>
                    <a:pt x="310" y="679"/>
                  </a:lnTo>
                  <a:lnTo>
                    <a:pt x="312" y="693"/>
                  </a:lnTo>
                  <a:lnTo>
                    <a:pt x="312" y="704"/>
                  </a:lnTo>
                  <a:lnTo>
                    <a:pt x="314" y="718"/>
                  </a:lnTo>
                  <a:lnTo>
                    <a:pt x="314" y="729"/>
                  </a:lnTo>
                  <a:lnTo>
                    <a:pt x="316" y="739"/>
                  </a:lnTo>
                  <a:lnTo>
                    <a:pt x="316" y="749"/>
                  </a:lnTo>
                  <a:lnTo>
                    <a:pt x="316" y="758"/>
                  </a:lnTo>
                  <a:lnTo>
                    <a:pt x="316" y="768"/>
                  </a:lnTo>
                  <a:lnTo>
                    <a:pt x="316" y="777"/>
                  </a:lnTo>
                  <a:lnTo>
                    <a:pt x="316" y="785"/>
                  </a:lnTo>
                  <a:lnTo>
                    <a:pt x="316" y="791"/>
                  </a:lnTo>
                  <a:lnTo>
                    <a:pt x="316" y="799"/>
                  </a:lnTo>
                  <a:lnTo>
                    <a:pt x="316" y="804"/>
                  </a:lnTo>
                  <a:lnTo>
                    <a:pt x="316" y="810"/>
                  </a:lnTo>
                  <a:lnTo>
                    <a:pt x="316" y="816"/>
                  </a:lnTo>
                  <a:lnTo>
                    <a:pt x="316" y="820"/>
                  </a:lnTo>
                  <a:lnTo>
                    <a:pt x="314" y="824"/>
                  </a:lnTo>
                  <a:lnTo>
                    <a:pt x="314" y="827"/>
                  </a:lnTo>
                  <a:lnTo>
                    <a:pt x="312" y="829"/>
                  </a:lnTo>
                  <a:lnTo>
                    <a:pt x="312" y="831"/>
                  </a:lnTo>
                  <a:lnTo>
                    <a:pt x="310" y="833"/>
                  </a:lnTo>
                  <a:lnTo>
                    <a:pt x="306" y="837"/>
                  </a:lnTo>
                  <a:lnTo>
                    <a:pt x="300" y="841"/>
                  </a:lnTo>
                  <a:lnTo>
                    <a:pt x="293" y="845"/>
                  </a:lnTo>
                  <a:lnTo>
                    <a:pt x="285" y="847"/>
                  </a:lnTo>
                  <a:lnTo>
                    <a:pt x="277" y="849"/>
                  </a:lnTo>
                  <a:lnTo>
                    <a:pt x="269" y="849"/>
                  </a:lnTo>
                  <a:lnTo>
                    <a:pt x="258" y="851"/>
                  </a:lnTo>
                  <a:lnTo>
                    <a:pt x="248" y="851"/>
                  </a:lnTo>
                  <a:lnTo>
                    <a:pt x="246" y="851"/>
                  </a:lnTo>
                  <a:lnTo>
                    <a:pt x="243" y="849"/>
                  </a:lnTo>
                  <a:lnTo>
                    <a:pt x="241" y="847"/>
                  </a:lnTo>
                  <a:lnTo>
                    <a:pt x="237" y="845"/>
                  </a:lnTo>
                  <a:lnTo>
                    <a:pt x="235" y="841"/>
                  </a:lnTo>
                  <a:lnTo>
                    <a:pt x="231" y="837"/>
                  </a:lnTo>
                  <a:lnTo>
                    <a:pt x="229" y="833"/>
                  </a:lnTo>
                  <a:lnTo>
                    <a:pt x="225" y="827"/>
                  </a:lnTo>
                  <a:lnTo>
                    <a:pt x="221" y="822"/>
                  </a:lnTo>
                  <a:lnTo>
                    <a:pt x="219" y="814"/>
                  </a:lnTo>
                  <a:lnTo>
                    <a:pt x="216" y="806"/>
                  </a:lnTo>
                  <a:lnTo>
                    <a:pt x="214" y="799"/>
                  </a:lnTo>
                  <a:lnTo>
                    <a:pt x="210" y="789"/>
                  </a:lnTo>
                  <a:lnTo>
                    <a:pt x="206" y="779"/>
                  </a:lnTo>
                  <a:lnTo>
                    <a:pt x="202" y="770"/>
                  </a:lnTo>
                  <a:lnTo>
                    <a:pt x="200" y="758"/>
                  </a:lnTo>
                  <a:lnTo>
                    <a:pt x="196" y="747"/>
                  </a:lnTo>
                  <a:lnTo>
                    <a:pt x="193" y="733"/>
                  </a:lnTo>
                  <a:lnTo>
                    <a:pt x="189" y="720"/>
                  </a:lnTo>
                  <a:lnTo>
                    <a:pt x="187" y="706"/>
                  </a:lnTo>
                  <a:lnTo>
                    <a:pt x="183" y="691"/>
                  </a:lnTo>
                  <a:lnTo>
                    <a:pt x="179" y="675"/>
                  </a:lnTo>
                  <a:lnTo>
                    <a:pt x="175" y="658"/>
                  </a:lnTo>
                  <a:lnTo>
                    <a:pt x="171" y="641"/>
                  </a:lnTo>
                  <a:lnTo>
                    <a:pt x="168" y="624"/>
                  </a:lnTo>
                  <a:lnTo>
                    <a:pt x="166" y="604"/>
                  </a:lnTo>
                  <a:lnTo>
                    <a:pt x="162" y="585"/>
                  </a:lnTo>
                  <a:lnTo>
                    <a:pt x="158" y="566"/>
                  </a:lnTo>
                  <a:lnTo>
                    <a:pt x="154" y="545"/>
                  </a:lnTo>
                  <a:lnTo>
                    <a:pt x="150" y="524"/>
                  </a:lnTo>
                  <a:lnTo>
                    <a:pt x="146" y="500"/>
                  </a:lnTo>
                  <a:lnTo>
                    <a:pt x="143" y="477"/>
                  </a:lnTo>
                  <a:lnTo>
                    <a:pt x="139" y="454"/>
                  </a:lnTo>
                  <a:lnTo>
                    <a:pt x="135" y="433"/>
                  </a:lnTo>
                  <a:lnTo>
                    <a:pt x="131" y="410"/>
                  </a:lnTo>
                  <a:lnTo>
                    <a:pt x="127" y="389"/>
                  </a:lnTo>
                  <a:lnTo>
                    <a:pt x="123" y="370"/>
                  </a:lnTo>
                  <a:lnTo>
                    <a:pt x="119" y="350"/>
                  </a:lnTo>
                  <a:lnTo>
                    <a:pt x="116" y="331"/>
                  </a:lnTo>
                  <a:lnTo>
                    <a:pt x="112" y="312"/>
                  </a:lnTo>
                  <a:lnTo>
                    <a:pt x="108" y="295"/>
                  </a:lnTo>
                  <a:lnTo>
                    <a:pt x="104" y="277"/>
                  </a:lnTo>
                  <a:lnTo>
                    <a:pt x="100" y="262"/>
                  </a:lnTo>
                  <a:lnTo>
                    <a:pt x="96" y="246"/>
                  </a:lnTo>
                  <a:lnTo>
                    <a:pt x="94" y="231"/>
                  </a:lnTo>
                  <a:lnTo>
                    <a:pt x="91" y="216"/>
                  </a:lnTo>
                  <a:lnTo>
                    <a:pt x="87" y="202"/>
                  </a:lnTo>
                  <a:lnTo>
                    <a:pt x="83" y="189"/>
                  </a:lnTo>
                  <a:lnTo>
                    <a:pt x="79" y="177"/>
                  </a:lnTo>
                  <a:lnTo>
                    <a:pt x="75" y="166"/>
                  </a:lnTo>
                  <a:lnTo>
                    <a:pt x="73" y="154"/>
                  </a:lnTo>
                  <a:lnTo>
                    <a:pt x="69" y="144"/>
                  </a:lnTo>
                  <a:lnTo>
                    <a:pt x="66" y="135"/>
                  </a:lnTo>
                  <a:lnTo>
                    <a:pt x="62" y="125"/>
                  </a:lnTo>
                  <a:lnTo>
                    <a:pt x="58" y="118"/>
                  </a:lnTo>
                  <a:lnTo>
                    <a:pt x="56" y="110"/>
                  </a:lnTo>
                  <a:lnTo>
                    <a:pt x="52" y="102"/>
                  </a:lnTo>
                  <a:lnTo>
                    <a:pt x="48" y="96"/>
                  </a:lnTo>
                  <a:lnTo>
                    <a:pt x="46" y="91"/>
                  </a:lnTo>
                  <a:lnTo>
                    <a:pt x="43" y="87"/>
                  </a:lnTo>
                  <a:lnTo>
                    <a:pt x="39" y="81"/>
                  </a:lnTo>
                  <a:lnTo>
                    <a:pt x="35" y="79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3" y="69"/>
                  </a:lnTo>
                  <a:lnTo>
                    <a:pt x="18" y="66"/>
                  </a:lnTo>
                  <a:lnTo>
                    <a:pt x="14" y="62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2" y="16"/>
                  </a:lnTo>
                  <a:lnTo>
                    <a:pt x="21" y="10"/>
                  </a:lnTo>
                  <a:lnTo>
                    <a:pt x="31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8" y="2"/>
                  </a:lnTo>
                  <a:lnTo>
                    <a:pt x="129" y="4"/>
                  </a:lnTo>
                  <a:lnTo>
                    <a:pt x="141" y="6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7" y="12"/>
                  </a:lnTo>
                  <a:lnTo>
                    <a:pt x="185" y="14"/>
                  </a:lnTo>
                  <a:lnTo>
                    <a:pt x="193" y="16"/>
                  </a:lnTo>
                  <a:lnTo>
                    <a:pt x="200" y="18"/>
                  </a:lnTo>
                  <a:lnTo>
                    <a:pt x="206" y="19"/>
                  </a:lnTo>
                  <a:lnTo>
                    <a:pt x="212" y="21"/>
                  </a:lnTo>
                  <a:lnTo>
                    <a:pt x="218" y="23"/>
                  </a:lnTo>
                  <a:lnTo>
                    <a:pt x="221" y="27"/>
                  </a:lnTo>
                  <a:lnTo>
                    <a:pt x="225" y="29"/>
                  </a:lnTo>
                  <a:lnTo>
                    <a:pt x="229" y="31"/>
                  </a:lnTo>
                  <a:lnTo>
                    <a:pt x="233" y="33"/>
                  </a:lnTo>
                  <a:lnTo>
                    <a:pt x="235" y="35"/>
                  </a:lnTo>
                  <a:lnTo>
                    <a:pt x="239" y="41"/>
                  </a:lnTo>
                  <a:lnTo>
                    <a:pt x="244" y="48"/>
                  </a:lnTo>
                  <a:lnTo>
                    <a:pt x="246" y="56"/>
                  </a:lnTo>
                  <a:lnTo>
                    <a:pt x="250" y="66"/>
                  </a:lnTo>
                  <a:lnTo>
                    <a:pt x="252" y="75"/>
                  </a:lnTo>
                  <a:lnTo>
                    <a:pt x="252" y="89"/>
                  </a:lnTo>
                  <a:lnTo>
                    <a:pt x="254" y="100"/>
                  </a:lnTo>
                  <a:lnTo>
                    <a:pt x="254" y="116"/>
                  </a:lnTo>
                  <a:lnTo>
                    <a:pt x="254" y="119"/>
                  </a:lnTo>
                  <a:lnTo>
                    <a:pt x="254" y="125"/>
                  </a:lnTo>
                  <a:lnTo>
                    <a:pt x="254" y="129"/>
                  </a:lnTo>
                  <a:lnTo>
                    <a:pt x="254" y="135"/>
                  </a:lnTo>
                  <a:lnTo>
                    <a:pt x="256" y="143"/>
                  </a:lnTo>
                  <a:lnTo>
                    <a:pt x="256" y="148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8" y="171"/>
                  </a:lnTo>
                  <a:lnTo>
                    <a:pt x="258" y="181"/>
                  </a:lnTo>
                  <a:lnTo>
                    <a:pt x="258" y="189"/>
                  </a:lnTo>
                  <a:lnTo>
                    <a:pt x="260" y="198"/>
                  </a:lnTo>
                  <a:lnTo>
                    <a:pt x="260" y="210"/>
                  </a:lnTo>
                  <a:lnTo>
                    <a:pt x="262" y="220"/>
                  </a:lnTo>
                  <a:lnTo>
                    <a:pt x="262" y="231"/>
                  </a:lnTo>
                  <a:lnTo>
                    <a:pt x="264" y="243"/>
                  </a:lnTo>
                  <a:lnTo>
                    <a:pt x="266" y="254"/>
                  </a:lnTo>
                  <a:lnTo>
                    <a:pt x="266" y="268"/>
                  </a:lnTo>
                  <a:lnTo>
                    <a:pt x="268" y="281"/>
                  </a:lnTo>
                  <a:lnTo>
                    <a:pt x="269" y="295"/>
                  </a:lnTo>
                  <a:lnTo>
                    <a:pt x="269" y="308"/>
                  </a:lnTo>
                  <a:lnTo>
                    <a:pt x="271" y="323"/>
                  </a:lnTo>
                  <a:lnTo>
                    <a:pt x="273" y="339"/>
                  </a:lnTo>
                  <a:lnTo>
                    <a:pt x="275" y="354"/>
                  </a:lnTo>
                  <a:lnTo>
                    <a:pt x="277" y="370"/>
                  </a:lnTo>
                  <a:lnTo>
                    <a:pt x="279" y="387"/>
                  </a:lnTo>
                  <a:lnTo>
                    <a:pt x="281" y="404"/>
                  </a:lnTo>
                  <a:lnTo>
                    <a:pt x="283" y="422"/>
                  </a:lnTo>
                  <a:lnTo>
                    <a:pt x="285" y="439"/>
                  </a:lnTo>
                  <a:lnTo>
                    <a:pt x="287" y="458"/>
                  </a:lnTo>
                  <a:lnTo>
                    <a:pt x="289" y="477"/>
                  </a:lnTo>
                  <a:lnTo>
                    <a:pt x="291" y="497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1" name="Freeform 10"/>
            <p:cNvSpPr/>
            <p:nvPr/>
          </p:nvSpPr>
          <p:spPr>
            <a:xfrm>
              <a:off x="3407400" y="3625920"/>
              <a:ext cx="437040" cy="29160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357" h="904">
                  <a:moveTo>
                    <a:pt x="1176" y="629"/>
                  </a:moveTo>
                  <a:lnTo>
                    <a:pt x="1173" y="646"/>
                  </a:lnTo>
                  <a:lnTo>
                    <a:pt x="1169" y="664"/>
                  </a:lnTo>
                  <a:lnTo>
                    <a:pt x="1165" y="679"/>
                  </a:lnTo>
                  <a:lnTo>
                    <a:pt x="1163" y="695"/>
                  </a:lnTo>
                  <a:lnTo>
                    <a:pt x="1159" y="710"/>
                  </a:lnTo>
                  <a:lnTo>
                    <a:pt x="1155" y="723"/>
                  </a:lnTo>
                  <a:lnTo>
                    <a:pt x="1151" y="739"/>
                  </a:lnTo>
                  <a:lnTo>
                    <a:pt x="1149" y="752"/>
                  </a:lnTo>
                  <a:lnTo>
                    <a:pt x="1146" y="764"/>
                  </a:lnTo>
                  <a:lnTo>
                    <a:pt x="1142" y="777"/>
                  </a:lnTo>
                  <a:lnTo>
                    <a:pt x="1138" y="789"/>
                  </a:lnTo>
                  <a:lnTo>
                    <a:pt x="1136" y="798"/>
                  </a:lnTo>
                  <a:lnTo>
                    <a:pt x="1132" y="810"/>
                  </a:lnTo>
                  <a:lnTo>
                    <a:pt x="1128" y="820"/>
                  </a:lnTo>
                  <a:lnTo>
                    <a:pt x="1126" y="829"/>
                  </a:lnTo>
                  <a:lnTo>
                    <a:pt x="1123" y="839"/>
                  </a:lnTo>
                  <a:lnTo>
                    <a:pt x="1121" y="847"/>
                  </a:lnTo>
                  <a:lnTo>
                    <a:pt x="1117" y="854"/>
                  </a:lnTo>
                  <a:lnTo>
                    <a:pt x="1113" y="862"/>
                  </a:lnTo>
                  <a:lnTo>
                    <a:pt x="1111" y="868"/>
                  </a:lnTo>
                  <a:lnTo>
                    <a:pt x="1107" y="873"/>
                  </a:lnTo>
                  <a:lnTo>
                    <a:pt x="1105" y="879"/>
                  </a:lnTo>
                  <a:lnTo>
                    <a:pt x="1101" y="885"/>
                  </a:lnTo>
                  <a:lnTo>
                    <a:pt x="1099" y="889"/>
                  </a:lnTo>
                  <a:lnTo>
                    <a:pt x="1096" y="893"/>
                  </a:lnTo>
                  <a:lnTo>
                    <a:pt x="1094" y="897"/>
                  </a:lnTo>
                  <a:lnTo>
                    <a:pt x="1090" y="898"/>
                  </a:lnTo>
                  <a:lnTo>
                    <a:pt x="1088" y="900"/>
                  </a:lnTo>
                  <a:lnTo>
                    <a:pt x="1084" y="902"/>
                  </a:lnTo>
                  <a:lnTo>
                    <a:pt x="1082" y="904"/>
                  </a:lnTo>
                  <a:lnTo>
                    <a:pt x="1078" y="904"/>
                  </a:lnTo>
                  <a:lnTo>
                    <a:pt x="1076" y="904"/>
                  </a:lnTo>
                  <a:lnTo>
                    <a:pt x="1065" y="902"/>
                  </a:lnTo>
                  <a:lnTo>
                    <a:pt x="1055" y="898"/>
                  </a:lnTo>
                  <a:lnTo>
                    <a:pt x="1046" y="895"/>
                  </a:lnTo>
                  <a:lnTo>
                    <a:pt x="1034" y="889"/>
                  </a:lnTo>
                  <a:lnTo>
                    <a:pt x="1025" y="881"/>
                  </a:lnTo>
                  <a:lnTo>
                    <a:pt x="1015" y="873"/>
                  </a:lnTo>
                  <a:lnTo>
                    <a:pt x="1005" y="864"/>
                  </a:lnTo>
                  <a:lnTo>
                    <a:pt x="996" y="854"/>
                  </a:lnTo>
                  <a:lnTo>
                    <a:pt x="992" y="848"/>
                  </a:lnTo>
                  <a:lnTo>
                    <a:pt x="988" y="843"/>
                  </a:lnTo>
                  <a:lnTo>
                    <a:pt x="984" y="835"/>
                  </a:lnTo>
                  <a:lnTo>
                    <a:pt x="982" y="827"/>
                  </a:lnTo>
                  <a:lnTo>
                    <a:pt x="980" y="820"/>
                  </a:lnTo>
                  <a:lnTo>
                    <a:pt x="978" y="810"/>
                  </a:lnTo>
                  <a:lnTo>
                    <a:pt x="976" y="800"/>
                  </a:lnTo>
                  <a:lnTo>
                    <a:pt x="976" y="791"/>
                  </a:lnTo>
                  <a:lnTo>
                    <a:pt x="976" y="779"/>
                  </a:lnTo>
                  <a:lnTo>
                    <a:pt x="978" y="768"/>
                  </a:lnTo>
                  <a:lnTo>
                    <a:pt x="980" y="756"/>
                  </a:lnTo>
                  <a:lnTo>
                    <a:pt x="982" y="743"/>
                  </a:lnTo>
                  <a:lnTo>
                    <a:pt x="984" y="729"/>
                  </a:lnTo>
                  <a:lnTo>
                    <a:pt x="988" y="716"/>
                  </a:lnTo>
                  <a:lnTo>
                    <a:pt x="992" y="700"/>
                  </a:lnTo>
                  <a:lnTo>
                    <a:pt x="996" y="685"/>
                  </a:lnTo>
                  <a:lnTo>
                    <a:pt x="1005" y="652"/>
                  </a:lnTo>
                  <a:lnTo>
                    <a:pt x="1013" y="619"/>
                  </a:lnTo>
                  <a:lnTo>
                    <a:pt x="1021" y="583"/>
                  </a:lnTo>
                  <a:lnTo>
                    <a:pt x="1026" y="546"/>
                  </a:lnTo>
                  <a:lnTo>
                    <a:pt x="1032" y="508"/>
                  </a:lnTo>
                  <a:lnTo>
                    <a:pt x="1038" y="468"/>
                  </a:lnTo>
                  <a:lnTo>
                    <a:pt x="1042" y="425"/>
                  </a:lnTo>
                  <a:lnTo>
                    <a:pt x="1046" y="381"/>
                  </a:lnTo>
                  <a:lnTo>
                    <a:pt x="1048" y="360"/>
                  </a:lnTo>
                  <a:lnTo>
                    <a:pt x="1048" y="339"/>
                  </a:lnTo>
                  <a:lnTo>
                    <a:pt x="1049" y="317"/>
                  </a:lnTo>
                  <a:lnTo>
                    <a:pt x="1049" y="300"/>
                  </a:lnTo>
                  <a:lnTo>
                    <a:pt x="1049" y="283"/>
                  </a:lnTo>
                  <a:lnTo>
                    <a:pt x="1049" y="265"/>
                  </a:lnTo>
                  <a:lnTo>
                    <a:pt x="1049" y="250"/>
                  </a:lnTo>
                  <a:lnTo>
                    <a:pt x="1048" y="237"/>
                  </a:lnTo>
                  <a:lnTo>
                    <a:pt x="1048" y="225"/>
                  </a:lnTo>
                  <a:lnTo>
                    <a:pt x="1046" y="214"/>
                  </a:lnTo>
                  <a:lnTo>
                    <a:pt x="1044" y="202"/>
                  </a:lnTo>
                  <a:lnTo>
                    <a:pt x="1042" y="194"/>
                  </a:lnTo>
                  <a:lnTo>
                    <a:pt x="1040" y="185"/>
                  </a:lnTo>
                  <a:lnTo>
                    <a:pt x="1038" y="179"/>
                  </a:lnTo>
                  <a:lnTo>
                    <a:pt x="1036" y="173"/>
                  </a:lnTo>
                  <a:lnTo>
                    <a:pt x="1032" y="169"/>
                  </a:lnTo>
                  <a:lnTo>
                    <a:pt x="1028" y="165"/>
                  </a:lnTo>
                  <a:lnTo>
                    <a:pt x="1025" y="162"/>
                  </a:lnTo>
                  <a:lnTo>
                    <a:pt x="1021" y="158"/>
                  </a:lnTo>
                  <a:lnTo>
                    <a:pt x="1015" y="156"/>
                  </a:lnTo>
                  <a:lnTo>
                    <a:pt x="1009" y="154"/>
                  </a:lnTo>
                  <a:lnTo>
                    <a:pt x="1003" y="150"/>
                  </a:lnTo>
                  <a:lnTo>
                    <a:pt x="996" y="148"/>
                  </a:lnTo>
                  <a:lnTo>
                    <a:pt x="988" y="146"/>
                  </a:lnTo>
                  <a:lnTo>
                    <a:pt x="978" y="146"/>
                  </a:lnTo>
                  <a:lnTo>
                    <a:pt x="971" y="144"/>
                  </a:lnTo>
                  <a:lnTo>
                    <a:pt x="961" y="142"/>
                  </a:lnTo>
                  <a:lnTo>
                    <a:pt x="950" y="142"/>
                  </a:lnTo>
                  <a:lnTo>
                    <a:pt x="938" y="142"/>
                  </a:lnTo>
                  <a:lnTo>
                    <a:pt x="926" y="142"/>
                  </a:lnTo>
                  <a:lnTo>
                    <a:pt x="915" y="144"/>
                  </a:lnTo>
                  <a:lnTo>
                    <a:pt x="901" y="144"/>
                  </a:lnTo>
                  <a:lnTo>
                    <a:pt x="888" y="144"/>
                  </a:lnTo>
                  <a:lnTo>
                    <a:pt x="875" y="146"/>
                  </a:lnTo>
                  <a:lnTo>
                    <a:pt x="859" y="146"/>
                  </a:lnTo>
                  <a:lnTo>
                    <a:pt x="844" y="148"/>
                  </a:lnTo>
                  <a:lnTo>
                    <a:pt x="828" y="150"/>
                  </a:lnTo>
                  <a:lnTo>
                    <a:pt x="811" y="150"/>
                  </a:lnTo>
                  <a:lnTo>
                    <a:pt x="794" y="152"/>
                  </a:lnTo>
                  <a:lnTo>
                    <a:pt x="776" y="154"/>
                  </a:lnTo>
                  <a:lnTo>
                    <a:pt x="757" y="154"/>
                  </a:lnTo>
                  <a:lnTo>
                    <a:pt x="738" y="156"/>
                  </a:lnTo>
                  <a:lnTo>
                    <a:pt x="719" y="158"/>
                  </a:lnTo>
                  <a:lnTo>
                    <a:pt x="698" y="160"/>
                  </a:lnTo>
                  <a:lnTo>
                    <a:pt x="676" y="162"/>
                  </a:lnTo>
                  <a:lnTo>
                    <a:pt x="655" y="165"/>
                  </a:lnTo>
                  <a:lnTo>
                    <a:pt x="632" y="167"/>
                  </a:lnTo>
                  <a:lnTo>
                    <a:pt x="609" y="169"/>
                  </a:lnTo>
                  <a:lnTo>
                    <a:pt x="584" y="171"/>
                  </a:lnTo>
                  <a:lnTo>
                    <a:pt x="559" y="175"/>
                  </a:lnTo>
                  <a:lnTo>
                    <a:pt x="530" y="177"/>
                  </a:lnTo>
                  <a:lnTo>
                    <a:pt x="501" y="181"/>
                  </a:lnTo>
                  <a:lnTo>
                    <a:pt x="469" y="187"/>
                  </a:lnTo>
                  <a:lnTo>
                    <a:pt x="436" y="190"/>
                  </a:lnTo>
                  <a:lnTo>
                    <a:pt x="401" y="196"/>
                  </a:lnTo>
                  <a:lnTo>
                    <a:pt x="363" y="202"/>
                  </a:lnTo>
                  <a:lnTo>
                    <a:pt x="325" y="208"/>
                  </a:lnTo>
                  <a:lnTo>
                    <a:pt x="284" y="214"/>
                  </a:lnTo>
                  <a:lnTo>
                    <a:pt x="242" y="221"/>
                  </a:lnTo>
                  <a:lnTo>
                    <a:pt x="196" y="227"/>
                  </a:lnTo>
                  <a:lnTo>
                    <a:pt x="150" y="235"/>
                  </a:lnTo>
                  <a:lnTo>
                    <a:pt x="101" y="244"/>
                  </a:lnTo>
                  <a:lnTo>
                    <a:pt x="51" y="252"/>
                  </a:lnTo>
                  <a:lnTo>
                    <a:pt x="0" y="262"/>
                  </a:lnTo>
                  <a:lnTo>
                    <a:pt x="0" y="137"/>
                  </a:lnTo>
                  <a:lnTo>
                    <a:pt x="21" y="137"/>
                  </a:lnTo>
                  <a:lnTo>
                    <a:pt x="44" y="137"/>
                  </a:lnTo>
                  <a:lnTo>
                    <a:pt x="67" y="135"/>
                  </a:lnTo>
                  <a:lnTo>
                    <a:pt x="94" y="133"/>
                  </a:lnTo>
                  <a:lnTo>
                    <a:pt x="121" y="133"/>
                  </a:lnTo>
                  <a:lnTo>
                    <a:pt x="150" y="131"/>
                  </a:lnTo>
                  <a:lnTo>
                    <a:pt x="180" y="127"/>
                  </a:lnTo>
                  <a:lnTo>
                    <a:pt x="213" y="125"/>
                  </a:lnTo>
                  <a:lnTo>
                    <a:pt x="248" y="121"/>
                  </a:lnTo>
                  <a:lnTo>
                    <a:pt x="282" y="117"/>
                  </a:lnTo>
                  <a:lnTo>
                    <a:pt x="319" y="114"/>
                  </a:lnTo>
                  <a:lnTo>
                    <a:pt x="357" y="110"/>
                  </a:lnTo>
                  <a:lnTo>
                    <a:pt x="398" y="104"/>
                  </a:lnTo>
                  <a:lnTo>
                    <a:pt x="440" y="98"/>
                  </a:lnTo>
                  <a:lnTo>
                    <a:pt x="484" y="92"/>
                  </a:lnTo>
                  <a:lnTo>
                    <a:pt x="528" y="87"/>
                  </a:lnTo>
                  <a:lnTo>
                    <a:pt x="551" y="83"/>
                  </a:lnTo>
                  <a:lnTo>
                    <a:pt x="573" y="81"/>
                  </a:lnTo>
                  <a:lnTo>
                    <a:pt x="594" y="77"/>
                  </a:lnTo>
                  <a:lnTo>
                    <a:pt x="615" y="75"/>
                  </a:lnTo>
                  <a:lnTo>
                    <a:pt x="636" y="71"/>
                  </a:lnTo>
                  <a:lnTo>
                    <a:pt x="655" y="69"/>
                  </a:lnTo>
                  <a:lnTo>
                    <a:pt x="675" y="67"/>
                  </a:lnTo>
                  <a:lnTo>
                    <a:pt x="692" y="63"/>
                  </a:lnTo>
                  <a:lnTo>
                    <a:pt x="709" y="62"/>
                  </a:lnTo>
                  <a:lnTo>
                    <a:pt x="726" y="60"/>
                  </a:lnTo>
                  <a:lnTo>
                    <a:pt x="744" y="56"/>
                  </a:lnTo>
                  <a:lnTo>
                    <a:pt x="759" y="54"/>
                  </a:lnTo>
                  <a:lnTo>
                    <a:pt x="775" y="52"/>
                  </a:lnTo>
                  <a:lnTo>
                    <a:pt x="790" y="50"/>
                  </a:lnTo>
                  <a:lnTo>
                    <a:pt x="803" y="48"/>
                  </a:lnTo>
                  <a:lnTo>
                    <a:pt x="817" y="44"/>
                  </a:lnTo>
                  <a:lnTo>
                    <a:pt x="828" y="42"/>
                  </a:lnTo>
                  <a:lnTo>
                    <a:pt x="842" y="40"/>
                  </a:lnTo>
                  <a:lnTo>
                    <a:pt x="853" y="38"/>
                  </a:lnTo>
                  <a:lnTo>
                    <a:pt x="863" y="37"/>
                  </a:lnTo>
                  <a:lnTo>
                    <a:pt x="875" y="35"/>
                  </a:lnTo>
                  <a:lnTo>
                    <a:pt x="884" y="33"/>
                  </a:lnTo>
                  <a:lnTo>
                    <a:pt x="892" y="31"/>
                  </a:lnTo>
                  <a:lnTo>
                    <a:pt x="901" y="31"/>
                  </a:lnTo>
                  <a:lnTo>
                    <a:pt x="909" y="29"/>
                  </a:lnTo>
                  <a:lnTo>
                    <a:pt x="917" y="27"/>
                  </a:lnTo>
                  <a:lnTo>
                    <a:pt x="923" y="25"/>
                  </a:lnTo>
                  <a:lnTo>
                    <a:pt x="928" y="25"/>
                  </a:lnTo>
                  <a:lnTo>
                    <a:pt x="934" y="23"/>
                  </a:lnTo>
                  <a:lnTo>
                    <a:pt x="938" y="21"/>
                  </a:lnTo>
                  <a:lnTo>
                    <a:pt x="942" y="21"/>
                  </a:lnTo>
                  <a:lnTo>
                    <a:pt x="946" y="19"/>
                  </a:lnTo>
                  <a:lnTo>
                    <a:pt x="957" y="15"/>
                  </a:lnTo>
                  <a:lnTo>
                    <a:pt x="971" y="12"/>
                  </a:lnTo>
                  <a:lnTo>
                    <a:pt x="982" y="8"/>
                  </a:lnTo>
                  <a:lnTo>
                    <a:pt x="996" y="4"/>
                  </a:lnTo>
                  <a:lnTo>
                    <a:pt x="1009" y="2"/>
                  </a:lnTo>
                  <a:lnTo>
                    <a:pt x="1021" y="2"/>
                  </a:lnTo>
                  <a:lnTo>
                    <a:pt x="1034" y="0"/>
                  </a:lnTo>
                  <a:lnTo>
                    <a:pt x="1046" y="0"/>
                  </a:lnTo>
                  <a:lnTo>
                    <a:pt x="1051" y="0"/>
                  </a:lnTo>
                  <a:lnTo>
                    <a:pt x="1059" y="2"/>
                  </a:lnTo>
                  <a:lnTo>
                    <a:pt x="1067" y="2"/>
                  </a:lnTo>
                  <a:lnTo>
                    <a:pt x="1074" y="4"/>
                  </a:lnTo>
                  <a:lnTo>
                    <a:pt x="1084" y="8"/>
                  </a:lnTo>
                  <a:lnTo>
                    <a:pt x="1094" y="10"/>
                  </a:lnTo>
                  <a:lnTo>
                    <a:pt x="1103" y="13"/>
                  </a:lnTo>
                  <a:lnTo>
                    <a:pt x="1115" y="17"/>
                  </a:lnTo>
                  <a:lnTo>
                    <a:pt x="1126" y="21"/>
                  </a:lnTo>
                  <a:lnTo>
                    <a:pt x="1140" y="27"/>
                  </a:lnTo>
                  <a:lnTo>
                    <a:pt x="1151" y="33"/>
                  </a:lnTo>
                  <a:lnTo>
                    <a:pt x="1165" y="38"/>
                  </a:lnTo>
                  <a:lnTo>
                    <a:pt x="1180" y="46"/>
                  </a:lnTo>
                  <a:lnTo>
                    <a:pt x="1194" y="54"/>
                  </a:lnTo>
                  <a:lnTo>
                    <a:pt x="1211" y="62"/>
                  </a:lnTo>
                  <a:lnTo>
                    <a:pt x="1226" y="69"/>
                  </a:lnTo>
                  <a:lnTo>
                    <a:pt x="1242" y="77"/>
                  </a:lnTo>
                  <a:lnTo>
                    <a:pt x="1257" y="87"/>
                  </a:lnTo>
                  <a:lnTo>
                    <a:pt x="1271" y="94"/>
                  </a:lnTo>
                  <a:lnTo>
                    <a:pt x="1284" y="102"/>
                  </a:lnTo>
                  <a:lnTo>
                    <a:pt x="1296" y="110"/>
                  </a:lnTo>
                  <a:lnTo>
                    <a:pt x="1305" y="115"/>
                  </a:lnTo>
                  <a:lnTo>
                    <a:pt x="1315" y="123"/>
                  </a:lnTo>
                  <a:lnTo>
                    <a:pt x="1324" y="129"/>
                  </a:lnTo>
                  <a:lnTo>
                    <a:pt x="1332" y="135"/>
                  </a:lnTo>
                  <a:lnTo>
                    <a:pt x="1338" y="140"/>
                  </a:lnTo>
                  <a:lnTo>
                    <a:pt x="1344" y="146"/>
                  </a:lnTo>
                  <a:lnTo>
                    <a:pt x="1349" y="152"/>
                  </a:lnTo>
                  <a:lnTo>
                    <a:pt x="1353" y="156"/>
                  </a:lnTo>
                  <a:lnTo>
                    <a:pt x="1355" y="162"/>
                  </a:lnTo>
                  <a:lnTo>
                    <a:pt x="1357" y="165"/>
                  </a:lnTo>
                  <a:lnTo>
                    <a:pt x="1357" y="169"/>
                  </a:lnTo>
                  <a:lnTo>
                    <a:pt x="1357" y="177"/>
                  </a:lnTo>
                  <a:lnTo>
                    <a:pt x="1353" y="183"/>
                  </a:lnTo>
                  <a:lnTo>
                    <a:pt x="1349" y="190"/>
                  </a:lnTo>
                  <a:lnTo>
                    <a:pt x="1344" y="196"/>
                  </a:lnTo>
                  <a:lnTo>
                    <a:pt x="1338" y="202"/>
                  </a:lnTo>
                  <a:lnTo>
                    <a:pt x="1328" y="208"/>
                  </a:lnTo>
                  <a:lnTo>
                    <a:pt x="1319" y="214"/>
                  </a:lnTo>
                  <a:lnTo>
                    <a:pt x="1307" y="217"/>
                  </a:lnTo>
                  <a:lnTo>
                    <a:pt x="1296" y="223"/>
                  </a:lnTo>
                  <a:lnTo>
                    <a:pt x="1284" y="229"/>
                  </a:lnTo>
                  <a:lnTo>
                    <a:pt x="1274" y="237"/>
                  </a:lnTo>
                  <a:lnTo>
                    <a:pt x="1267" y="246"/>
                  </a:lnTo>
                  <a:lnTo>
                    <a:pt x="1259" y="256"/>
                  </a:lnTo>
                  <a:lnTo>
                    <a:pt x="1253" y="267"/>
                  </a:lnTo>
                  <a:lnTo>
                    <a:pt x="1248" y="279"/>
                  </a:lnTo>
                  <a:lnTo>
                    <a:pt x="1244" y="292"/>
                  </a:lnTo>
                  <a:lnTo>
                    <a:pt x="1242" y="300"/>
                  </a:lnTo>
                  <a:lnTo>
                    <a:pt x="1240" y="310"/>
                  </a:lnTo>
                  <a:lnTo>
                    <a:pt x="1238" y="321"/>
                  </a:lnTo>
                  <a:lnTo>
                    <a:pt x="1236" y="335"/>
                  </a:lnTo>
                  <a:lnTo>
                    <a:pt x="1232" y="350"/>
                  </a:lnTo>
                  <a:lnTo>
                    <a:pt x="1228" y="367"/>
                  </a:lnTo>
                  <a:lnTo>
                    <a:pt x="1224" y="385"/>
                  </a:lnTo>
                  <a:lnTo>
                    <a:pt x="1221" y="406"/>
                  </a:lnTo>
                  <a:lnTo>
                    <a:pt x="1217" y="427"/>
                  </a:lnTo>
                  <a:lnTo>
                    <a:pt x="1211" y="450"/>
                  </a:lnTo>
                  <a:lnTo>
                    <a:pt x="1207" y="475"/>
                  </a:lnTo>
                  <a:lnTo>
                    <a:pt x="1201" y="504"/>
                  </a:lnTo>
                  <a:lnTo>
                    <a:pt x="1196" y="533"/>
                  </a:lnTo>
                  <a:lnTo>
                    <a:pt x="1190" y="562"/>
                  </a:lnTo>
                  <a:lnTo>
                    <a:pt x="1184" y="594"/>
                  </a:lnTo>
                  <a:lnTo>
                    <a:pt x="1176" y="629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2" name="Freeform 11"/>
            <p:cNvSpPr/>
            <p:nvPr/>
          </p:nvSpPr>
          <p:spPr>
            <a:xfrm>
              <a:off x="3411000" y="3746520"/>
              <a:ext cx="248400" cy="640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73" h="200">
                  <a:moveTo>
                    <a:pt x="14" y="200"/>
                  </a:moveTo>
                  <a:lnTo>
                    <a:pt x="0" y="89"/>
                  </a:lnTo>
                  <a:lnTo>
                    <a:pt x="19" y="91"/>
                  </a:lnTo>
                  <a:lnTo>
                    <a:pt x="39" y="91"/>
                  </a:lnTo>
                  <a:lnTo>
                    <a:pt x="58" y="91"/>
                  </a:lnTo>
                  <a:lnTo>
                    <a:pt x="79" y="91"/>
                  </a:lnTo>
                  <a:lnTo>
                    <a:pt x="100" y="91"/>
                  </a:lnTo>
                  <a:lnTo>
                    <a:pt x="121" y="89"/>
                  </a:lnTo>
                  <a:lnTo>
                    <a:pt x="144" y="87"/>
                  </a:lnTo>
                  <a:lnTo>
                    <a:pt x="165" y="85"/>
                  </a:lnTo>
                  <a:lnTo>
                    <a:pt x="189" y="83"/>
                  </a:lnTo>
                  <a:lnTo>
                    <a:pt x="212" y="79"/>
                  </a:lnTo>
                  <a:lnTo>
                    <a:pt x="237" y="75"/>
                  </a:lnTo>
                  <a:lnTo>
                    <a:pt x="260" y="71"/>
                  </a:lnTo>
                  <a:lnTo>
                    <a:pt x="285" y="68"/>
                  </a:lnTo>
                  <a:lnTo>
                    <a:pt x="310" y="62"/>
                  </a:lnTo>
                  <a:lnTo>
                    <a:pt x="335" y="56"/>
                  </a:lnTo>
                  <a:lnTo>
                    <a:pt x="362" y="50"/>
                  </a:lnTo>
                  <a:lnTo>
                    <a:pt x="387" y="44"/>
                  </a:lnTo>
                  <a:lnTo>
                    <a:pt x="412" y="39"/>
                  </a:lnTo>
                  <a:lnTo>
                    <a:pt x="435" y="33"/>
                  </a:lnTo>
                  <a:lnTo>
                    <a:pt x="456" y="29"/>
                  </a:lnTo>
                  <a:lnTo>
                    <a:pt x="477" y="23"/>
                  </a:lnTo>
                  <a:lnTo>
                    <a:pt x="496" y="19"/>
                  </a:lnTo>
                  <a:lnTo>
                    <a:pt x="514" y="16"/>
                  </a:lnTo>
                  <a:lnTo>
                    <a:pt x="531" y="14"/>
                  </a:lnTo>
                  <a:lnTo>
                    <a:pt x="544" y="10"/>
                  </a:lnTo>
                  <a:lnTo>
                    <a:pt x="558" y="8"/>
                  </a:lnTo>
                  <a:lnTo>
                    <a:pt x="571" y="6"/>
                  </a:lnTo>
                  <a:lnTo>
                    <a:pt x="581" y="4"/>
                  </a:lnTo>
                  <a:lnTo>
                    <a:pt x="590" y="2"/>
                  </a:lnTo>
                  <a:lnTo>
                    <a:pt x="600" y="0"/>
                  </a:lnTo>
                  <a:lnTo>
                    <a:pt x="606" y="0"/>
                  </a:lnTo>
                  <a:lnTo>
                    <a:pt x="612" y="0"/>
                  </a:lnTo>
                  <a:lnTo>
                    <a:pt x="621" y="0"/>
                  </a:lnTo>
                  <a:lnTo>
                    <a:pt x="633" y="2"/>
                  </a:lnTo>
                  <a:lnTo>
                    <a:pt x="642" y="4"/>
                  </a:lnTo>
                  <a:lnTo>
                    <a:pt x="656" y="8"/>
                  </a:lnTo>
                  <a:lnTo>
                    <a:pt x="667" y="14"/>
                  </a:lnTo>
                  <a:lnTo>
                    <a:pt x="681" y="19"/>
                  </a:lnTo>
                  <a:lnTo>
                    <a:pt x="694" y="25"/>
                  </a:lnTo>
                  <a:lnTo>
                    <a:pt x="710" y="33"/>
                  </a:lnTo>
                  <a:lnTo>
                    <a:pt x="717" y="37"/>
                  </a:lnTo>
                  <a:lnTo>
                    <a:pt x="725" y="41"/>
                  </a:lnTo>
                  <a:lnTo>
                    <a:pt x="731" y="44"/>
                  </a:lnTo>
                  <a:lnTo>
                    <a:pt x="737" y="46"/>
                  </a:lnTo>
                  <a:lnTo>
                    <a:pt x="742" y="50"/>
                  </a:lnTo>
                  <a:lnTo>
                    <a:pt x="748" y="54"/>
                  </a:lnTo>
                  <a:lnTo>
                    <a:pt x="754" y="56"/>
                  </a:lnTo>
                  <a:lnTo>
                    <a:pt x="758" y="60"/>
                  </a:lnTo>
                  <a:lnTo>
                    <a:pt x="762" y="64"/>
                  </a:lnTo>
                  <a:lnTo>
                    <a:pt x="764" y="66"/>
                  </a:lnTo>
                  <a:lnTo>
                    <a:pt x="767" y="69"/>
                  </a:lnTo>
                  <a:lnTo>
                    <a:pt x="769" y="71"/>
                  </a:lnTo>
                  <a:lnTo>
                    <a:pt x="771" y="75"/>
                  </a:lnTo>
                  <a:lnTo>
                    <a:pt x="773" y="77"/>
                  </a:lnTo>
                  <a:lnTo>
                    <a:pt x="773" y="81"/>
                  </a:lnTo>
                  <a:lnTo>
                    <a:pt x="773" y="83"/>
                  </a:lnTo>
                  <a:lnTo>
                    <a:pt x="773" y="87"/>
                  </a:lnTo>
                  <a:lnTo>
                    <a:pt x="769" y="93"/>
                  </a:lnTo>
                  <a:lnTo>
                    <a:pt x="765" y="96"/>
                  </a:lnTo>
                  <a:lnTo>
                    <a:pt x="760" y="102"/>
                  </a:lnTo>
                  <a:lnTo>
                    <a:pt x="754" y="106"/>
                  </a:lnTo>
                  <a:lnTo>
                    <a:pt x="744" y="110"/>
                  </a:lnTo>
                  <a:lnTo>
                    <a:pt x="735" y="116"/>
                  </a:lnTo>
                  <a:lnTo>
                    <a:pt x="723" y="120"/>
                  </a:lnTo>
                  <a:lnTo>
                    <a:pt x="715" y="121"/>
                  </a:lnTo>
                  <a:lnTo>
                    <a:pt x="708" y="123"/>
                  </a:lnTo>
                  <a:lnTo>
                    <a:pt x="696" y="127"/>
                  </a:lnTo>
                  <a:lnTo>
                    <a:pt x="685" y="129"/>
                  </a:lnTo>
                  <a:lnTo>
                    <a:pt x="669" y="131"/>
                  </a:lnTo>
                  <a:lnTo>
                    <a:pt x="654" y="135"/>
                  </a:lnTo>
                  <a:lnTo>
                    <a:pt x="635" y="139"/>
                  </a:lnTo>
                  <a:lnTo>
                    <a:pt x="615" y="141"/>
                  </a:lnTo>
                  <a:lnTo>
                    <a:pt x="594" y="145"/>
                  </a:lnTo>
                  <a:lnTo>
                    <a:pt x="571" y="148"/>
                  </a:lnTo>
                  <a:lnTo>
                    <a:pt x="544" y="150"/>
                  </a:lnTo>
                  <a:lnTo>
                    <a:pt x="517" y="154"/>
                  </a:lnTo>
                  <a:lnTo>
                    <a:pt x="489" y="158"/>
                  </a:lnTo>
                  <a:lnTo>
                    <a:pt x="460" y="162"/>
                  </a:lnTo>
                  <a:lnTo>
                    <a:pt x="427" y="166"/>
                  </a:lnTo>
                  <a:lnTo>
                    <a:pt x="392" y="170"/>
                  </a:lnTo>
                  <a:lnTo>
                    <a:pt x="358" y="173"/>
                  </a:lnTo>
                  <a:lnTo>
                    <a:pt x="325" y="177"/>
                  </a:lnTo>
                  <a:lnTo>
                    <a:pt x="294" y="181"/>
                  </a:lnTo>
                  <a:lnTo>
                    <a:pt x="264" y="183"/>
                  </a:lnTo>
                  <a:lnTo>
                    <a:pt x="235" y="187"/>
                  </a:lnTo>
                  <a:lnTo>
                    <a:pt x="208" y="189"/>
                  </a:lnTo>
                  <a:lnTo>
                    <a:pt x="183" y="191"/>
                  </a:lnTo>
                  <a:lnTo>
                    <a:pt x="158" y="193"/>
                  </a:lnTo>
                  <a:lnTo>
                    <a:pt x="135" y="195"/>
                  </a:lnTo>
                  <a:lnTo>
                    <a:pt x="114" y="196"/>
                  </a:lnTo>
                  <a:lnTo>
                    <a:pt x="92" y="198"/>
                  </a:lnTo>
                  <a:lnTo>
                    <a:pt x="75" y="198"/>
                  </a:lnTo>
                  <a:lnTo>
                    <a:pt x="58" y="198"/>
                  </a:lnTo>
                  <a:lnTo>
                    <a:pt x="40" y="200"/>
                  </a:lnTo>
                  <a:lnTo>
                    <a:pt x="27" y="200"/>
                  </a:lnTo>
                  <a:lnTo>
                    <a:pt x="14" y="200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3431160" y="3861000"/>
              <a:ext cx="328680" cy="536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21" h="168">
                  <a:moveTo>
                    <a:pt x="1021" y="106"/>
                  </a:moveTo>
                  <a:lnTo>
                    <a:pt x="25" y="168"/>
                  </a:lnTo>
                  <a:lnTo>
                    <a:pt x="0" y="69"/>
                  </a:lnTo>
                  <a:lnTo>
                    <a:pt x="128" y="62"/>
                  </a:lnTo>
                  <a:lnTo>
                    <a:pt x="192" y="56"/>
                  </a:lnTo>
                  <a:lnTo>
                    <a:pt x="255" y="52"/>
                  </a:lnTo>
                  <a:lnTo>
                    <a:pt x="319" y="46"/>
                  </a:lnTo>
                  <a:lnTo>
                    <a:pt x="380" y="41"/>
                  </a:lnTo>
                  <a:lnTo>
                    <a:pt x="442" y="33"/>
                  </a:lnTo>
                  <a:lnTo>
                    <a:pt x="503" y="25"/>
                  </a:lnTo>
                  <a:lnTo>
                    <a:pt x="534" y="21"/>
                  </a:lnTo>
                  <a:lnTo>
                    <a:pt x="561" y="17"/>
                  </a:lnTo>
                  <a:lnTo>
                    <a:pt x="590" y="16"/>
                  </a:lnTo>
                  <a:lnTo>
                    <a:pt x="617" y="12"/>
                  </a:lnTo>
                  <a:lnTo>
                    <a:pt x="642" y="10"/>
                  </a:lnTo>
                  <a:lnTo>
                    <a:pt x="667" y="8"/>
                  </a:lnTo>
                  <a:lnTo>
                    <a:pt x="690" y="6"/>
                  </a:lnTo>
                  <a:lnTo>
                    <a:pt x="713" y="4"/>
                  </a:lnTo>
                  <a:lnTo>
                    <a:pt x="736" y="2"/>
                  </a:lnTo>
                  <a:lnTo>
                    <a:pt x="755" y="0"/>
                  </a:lnTo>
                  <a:lnTo>
                    <a:pt x="775" y="0"/>
                  </a:lnTo>
                  <a:lnTo>
                    <a:pt x="794" y="0"/>
                  </a:lnTo>
                  <a:lnTo>
                    <a:pt x="811" y="0"/>
                  </a:lnTo>
                  <a:lnTo>
                    <a:pt x="828" y="0"/>
                  </a:lnTo>
                  <a:lnTo>
                    <a:pt x="844" y="0"/>
                  </a:lnTo>
                  <a:lnTo>
                    <a:pt x="857" y="0"/>
                  </a:lnTo>
                  <a:lnTo>
                    <a:pt x="871" y="2"/>
                  </a:lnTo>
                  <a:lnTo>
                    <a:pt x="884" y="4"/>
                  </a:lnTo>
                  <a:lnTo>
                    <a:pt x="898" y="6"/>
                  </a:lnTo>
                  <a:lnTo>
                    <a:pt x="909" y="10"/>
                  </a:lnTo>
                  <a:lnTo>
                    <a:pt x="921" y="14"/>
                  </a:lnTo>
                  <a:lnTo>
                    <a:pt x="932" y="17"/>
                  </a:lnTo>
                  <a:lnTo>
                    <a:pt x="944" y="23"/>
                  </a:lnTo>
                  <a:lnTo>
                    <a:pt x="953" y="31"/>
                  </a:lnTo>
                  <a:lnTo>
                    <a:pt x="965" y="37"/>
                  </a:lnTo>
                  <a:lnTo>
                    <a:pt x="973" y="44"/>
                  </a:lnTo>
                  <a:lnTo>
                    <a:pt x="982" y="54"/>
                  </a:lnTo>
                  <a:lnTo>
                    <a:pt x="992" y="62"/>
                  </a:lnTo>
                  <a:lnTo>
                    <a:pt x="999" y="71"/>
                  </a:lnTo>
                  <a:lnTo>
                    <a:pt x="1007" y="83"/>
                  </a:lnTo>
                  <a:lnTo>
                    <a:pt x="1015" y="94"/>
                  </a:lnTo>
                  <a:lnTo>
                    <a:pt x="1021" y="106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3517560" y="3892680"/>
              <a:ext cx="90360" cy="459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83" h="1428">
                  <a:moveTo>
                    <a:pt x="11" y="14"/>
                  </a:moveTo>
                  <a:lnTo>
                    <a:pt x="15" y="10"/>
                  </a:lnTo>
                  <a:lnTo>
                    <a:pt x="21" y="8"/>
                  </a:lnTo>
                  <a:lnTo>
                    <a:pt x="27" y="4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0" y="2"/>
                  </a:lnTo>
                  <a:lnTo>
                    <a:pt x="102" y="2"/>
                  </a:lnTo>
                  <a:lnTo>
                    <a:pt x="113" y="4"/>
                  </a:lnTo>
                  <a:lnTo>
                    <a:pt x="125" y="8"/>
                  </a:lnTo>
                  <a:lnTo>
                    <a:pt x="136" y="10"/>
                  </a:lnTo>
                  <a:lnTo>
                    <a:pt x="150" y="14"/>
                  </a:lnTo>
                  <a:lnTo>
                    <a:pt x="163" y="18"/>
                  </a:lnTo>
                  <a:lnTo>
                    <a:pt x="175" y="21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8" y="33"/>
                  </a:lnTo>
                  <a:lnTo>
                    <a:pt x="217" y="37"/>
                  </a:lnTo>
                  <a:lnTo>
                    <a:pt x="225" y="41"/>
                  </a:lnTo>
                  <a:lnTo>
                    <a:pt x="233" y="46"/>
                  </a:lnTo>
                  <a:lnTo>
                    <a:pt x="240" y="50"/>
                  </a:lnTo>
                  <a:lnTo>
                    <a:pt x="248" y="54"/>
                  </a:lnTo>
                  <a:lnTo>
                    <a:pt x="254" y="58"/>
                  </a:lnTo>
                  <a:lnTo>
                    <a:pt x="259" y="62"/>
                  </a:lnTo>
                  <a:lnTo>
                    <a:pt x="263" y="66"/>
                  </a:lnTo>
                  <a:lnTo>
                    <a:pt x="267" y="70"/>
                  </a:lnTo>
                  <a:lnTo>
                    <a:pt x="271" y="73"/>
                  </a:lnTo>
                  <a:lnTo>
                    <a:pt x="273" y="77"/>
                  </a:lnTo>
                  <a:lnTo>
                    <a:pt x="277" y="85"/>
                  </a:lnTo>
                  <a:lnTo>
                    <a:pt x="281" y="95"/>
                  </a:lnTo>
                  <a:lnTo>
                    <a:pt x="283" y="102"/>
                  </a:lnTo>
                  <a:lnTo>
                    <a:pt x="283" y="112"/>
                  </a:lnTo>
                  <a:lnTo>
                    <a:pt x="283" y="121"/>
                  </a:lnTo>
                  <a:lnTo>
                    <a:pt x="281" y="131"/>
                  </a:lnTo>
                  <a:lnTo>
                    <a:pt x="277" y="141"/>
                  </a:lnTo>
                  <a:lnTo>
                    <a:pt x="273" y="152"/>
                  </a:lnTo>
                  <a:lnTo>
                    <a:pt x="271" y="156"/>
                  </a:lnTo>
                  <a:lnTo>
                    <a:pt x="271" y="160"/>
                  </a:lnTo>
                  <a:lnTo>
                    <a:pt x="269" y="164"/>
                  </a:lnTo>
                  <a:lnTo>
                    <a:pt x="269" y="170"/>
                  </a:lnTo>
                  <a:lnTo>
                    <a:pt x="267" y="175"/>
                  </a:lnTo>
                  <a:lnTo>
                    <a:pt x="267" y="181"/>
                  </a:lnTo>
                  <a:lnTo>
                    <a:pt x="267" y="189"/>
                  </a:lnTo>
                  <a:lnTo>
                    <a:pt x="265" y="197"/>
                  </a:lnTo>
                  <a:lnTo>
                    <a:pt x="265" y="204"/>
                  </a:lnTo>
                  <a:lnTo>
                    <a:pt x="263" y="214"/>
                  </a:lnTo>
                  <a:lnTo>
                    <a:pt x="263" y="225"/>
                  </a:lnTo>
                  <a:lnTo>
                    <a:pt x="263" y="235"/>
                  </a:lnTo>
                  <a:lnTo>
                    <a:pt x="261" y="247"/>
                  </a:lnTo>
                  <a:lnTo>
                    <a:pt x="261" y="258"/>
                  </a:lnTo>
                  <a:lnTo>
                    <a:pt x="261" y="272"/>
                  </a:lnTo>
                  <a:lnTo>
                    <a:pt x="259" y="285"/>
                  </a:lnTo>
                  <a:lnTo>
                    <a:pt x="259" y="300"/>
                  </a:lnTo>
                  <a:lnTo>
                    <a:pt x="259" y="316"/>
                  </a:lnTo>
                  <a:lnTo>
                    <a:pt x="259" y="331"/>
                  </a:lnTo>
                  <a:lnTo>
                    <a:pt x="258" y="347"/>
                  </a:lnTo>
                  <a:lnTo>
                    <a:pt x="258" y="364"/>
                  </a:lnTo>
                  <a:lnTo>
                    <a:pt x="258" y="383"/>
                  </a:lnTo>
                  <a:lnTo>
                    <a:pt x="258" y="400"/>
                  </a:lnTo>
                  <a:lnTo>
                    <a:pt x="258" y="420"/>
                  </a:lnTo>
                  <a:lnTo>
                    <a:pt x="256" y="441"/>
                  </a:lnTo>
                  <a:lnTo>
                    <a:pt x="256" y="460"/>
                  </a:lnTo>
                  <a:lnTo>
                    <a:pt x="256" y="483"/>
                  </a:lnTo>
                  <a:lnTo>
                    <a:pt x="256" y="504"/>
                  </a:lnTo>
                  <a:lnTo>
                    <a:pt x="256" y="527"/>
                  </a:lnTo>
                  <a:lnTo>
                    <a:pt x="256" y="551"/>
                  </a:lnTo>
                  <a:lnTo>
                    <a:pt x="256" y="576"/>
                  </a:lnTo>
                  <a:lnTo>
                    <a:pt x="256" y="601"/>
                  </a:lnTo>
                  <a:lnTo>
                    <a:pt x="256" y="651"/>
                  </a:lnTo>
                  <a:lnTo>
                    <a:pt x="256" y="699"/>
                  </a:lnTo>
                  <a:lnTo>
                    <a:pt x="254" y="745"/>
                  </a:lnTo>
                  <a:lnTo>
                    <a:pt x="254" y="791"/>
                  </a:lnTo>
                  <a:lnTo>
                    <a:pt x="252" y="835"/>
                  </a:lnTo>
                  <a:lnTo>
                    <a:pt x="252" y="878"/>
                  </a:lnTo>
                  <a:lnTo>
                    <a:pt x="250" y="918"/>
                  </a:lnTo>
                  <a:lnTo>
                    <a:pt x="248" y="956"/>
                  </a:lnTo>
                  <a:lnTo>
                    <a:pt x="246" y="995"/>
                  </a:lnTo>
                  <a:lnTo>
                    <a:pt x="242" y="1031"/>
                  </a:lnTo>
                  <a:lnTo>
                    <a:pt x="240" y="1066"/>
                  </a:lnTo>
                  <a:lnTo>
                    <a:pt x="236" y="1099"/>
                  </a:lnTo>
                  <a:lnTo>
                    <a:pt x="234" y="1130"/>
                  </a:lnTo>
                  <a:lnTo>
                    <a:pt x="231" y="1160"/>
                  </a:lnTo>
                  <a:lnTo>
                    <a:pt x="227" y="1189"/>
                  </a:lnTo>
                  <a:lnTo>
                    <a:pt x="223" y="1216"/>
                  </a:lnTo>
                  <a:lnTo>
                    <a:pt x="219" y="1241"/>
                  </a:lnTo>
                  <a:lnTo>
                    <a:pt x="215" y="1266"/>
                  </a:lnTo>
                  <a:lnTo>
                    <a:pt x="211" y="1289"/>
                  </a:lnTo>
                  <a:lnTo>
                    <a:pt x="208" y="1309"/>
                  </a:lnTo>
                  <a:lnTo>
                    <a:pt x="204" y="1328"/>
                  </a:lnTo>
                  <a:lnTo>
                    <a:pt x="200" y="1345"/>
                  </a:lnTo>
                  <a:lnTo>
                    <a:pt x="194" y="1360"/>
                  </a:lnTo>
                  <a:lnTo>
                    <a:pt x="190" y="1376"/>
                  </a:lnTo>
                  <a:lnTo>
                    <a:pt x="184" y="1387"/>
                  </a:lnTo>
                  <a:lnTo>
                    <a:pt x="181" y="1399"/>
                  </a:lnTo>
                  <a:lnTo>
                    <a:pt x="175" y="1407"/>
                  </a:lnTo>
                  <a:lnTo>
                    <a:pt x="171" y="1414"/>
                  </a:lnTo>
                  <a:lnTo>
                    <a:pt x="165" y="1420"/>
                  </a:lnTo>
                  <a:lnTo>
                    <a:pt x="161" y="1424"/>
                  </a:lnTo>
                  <a:lnTo>
                    <a:pt x="156" y="1428"/>
                  </a:lnTo>
                  <a:lnTo>
                    <a:pt x="150" y="1428"/>
                  </a:lnTo>
                  <a:lnTo>
                    <a:pt x="144" y="1428"/>
                  </a:lnTo>
                  <a:lnTo>
                    <a:pt x="138" y="1426"/>
                  </a:lnTo>
                  <a:lnTo>
                    <a:pt x="134" y="1422"/>
                  </a:lnTo>
                  <a:lnTo>
                    <a:pt x="129" y="1418"/>
                  </a:lnTo>
                  <a:lnTo>
                    <a:pt x="125" y="1412"/>
                  </a:lnTo>
                  <a:lnTo>
                    <a:pt x="121" y="1405"/>
                  </a:lnTo>
                  <a:lnTo>
                    <a:pt x="117" y="1395"/>
                  </a:lnTo>
                  <a:lnTo>
                    <a:pt x="113" y="1385"/>
                  </a:lnTo>
                  <a:lnTo>
                    <a:pt x="109" y="1374"/>
                  </a:lnTo>
                  <a:lnTo>
                    <a:pt x="106" y="1362"/>
                  </a:lnTo>
                  <a:lnTo>
                    <a:pt x="104" y="1349"/>
                  </a:lnTo>
                  <a:lnTo>
                    <a:pt x="102" y="1334"/>
                  </a:lnTo>
                  <a:lnTo>
                    <a:pt x="98" y="1318"/>
                  </a:lnTo>
                  <a:lnTo>
                    <a:pt x="96" y="1299"/>
                  </a:lnTo>
                  <a:lnTo>
                    <a:pt x="94" y="1282"/>
                  </a:lnTo>
                  <a:lnTo>
                    <a:pt x="92" y="1260"/>
                  </a:lnTo>
                  <a:lnTo>
                    <a:pt x="92" y="1249"/>
                  </a:lnTo>
                  <a:lnTo>
                    <a:pt x="90" y="1239"/>
                  </a:lnTo>
                  <a:lnTo>
                    <a:pt x="90" y="1226"/>
                  </a:lnTo>
                  <a:lnTo>
                    <a:pt x="90" y="1214"/>
                  </a:lnTo>
                  <a:lnTo>
                    <a:pt x="88" y="1201"/>
                  </a:lnTo>
                  <a:lnTo>
                    <a:pt x="88" y="1187"/>
                  </a:lnTo>
                  <a:lnTo>
                    <a:pt x="88" y="1174"/>
                  </a:lnTo>
                  <a:lnTo>
                    <a:pt x="86" y="1158"/>
                  </a:lnTo>
                  <a:lnTo>
                    <a:pt x="86" y="1143"/>
                  </a:lnTo>
                  <a:lnTo>
                    <a:pt x="86" y="1128"/>
                  </a:lnTo>
                  <a:lnTo>
                    <a:pt x="84" y="1112"/>
                  </a:lnTo>
                  <a:lnTo>
                    <a:pt x="84" y="1095"/>
                  </a:lnTo>
                  <a:lnTo>
                    <a:pt x="84" y="1078"/>
                  </a:lnTo>
                  <a:lnTo>
                    <a:pt x="83" y="1060"/>
                  </a:lnTo>
                  <a:lnTo>
                    <a:pt x="83" y="1041"/>
                  </a:lnTo>
                  <a:lnTo>
                    <a:pt x="83" y="1022"/>
                  </a:lnTo>
                  <a:lnTo>
                    <a:pt x="81" y="1003"/>
                  </a:lnTo>
                  <a:lnTo>
                    <a:pt x="81" y="983"/>
                  </a:lnTo>
                  <a:lnTo>
                    <a:pt x="81" y="962"/>
                  </a:lnTo>
                  <a:lnTo>
                    <a:pt x="81" y="941"/>
                  </a:lnTo>
                  <a:lnTo>
                    <a:pt x="79" y="920"/>
                  </a:lnTo>
                  <a:lnTo>
                    <a:pt x="79" y="897"/>
                  </a:lnTo>
                  <a:lnTo>
                    <a:pt x="79" y="874"/>
                  </a:lnTo>
                  <a:lnTo>
                    <a:pt x="79" y="851"/>
                  </a:lnTo>
                  <a:lnTo>
                    <a:pt x="77" y="826"/>
                  </a:lnTo>
                  <a:lnTo>
                    <a:pt x="77" y="803"/>
                  </a:lnTo>
                  <a:lnTo>
                    <a:pt x="77" y="778"/>
                  </a:lnTo>
                  <a:lnTo>
                    <a:pt x="77" y="751"/>
                  </a:lnTo>
                  <a:lnTo>
                    <a:pt x="77" y="726"/>
                  </a:lnTo>
                  <a:lnTo>
                    <a:pt x="75" y="699"/>
                  </a:lnTo>
                  <a:lnTo>
                    <a:pt x="75" y="672"/>
                  </a:lnTo>
                  <a:lnTo>
                    <a:pt x="75" y="643"/>
                  </a:lnTo>
                  <a:lnTo>
                    <a:pt x="75" y="616"/>
                  </a:lnTo>
                  <a:lnTo>
                    <a:pt x="75" y="589"/>
                  </a:lnTo>
                  <a:lnTo>
                    <a:pt x="73" y="562"/>
                  </a:lnTo>
                  <a:lnTo>
                    <a:pt x="73" y="537"/>
                  </a:lnTo>
                  <a:lnTo>
                    <a:pt x="73" y="512"/>
                  </a:lnTo>
                  <a:lnTo>
                    <a:pt x="71" y="489"/>
                  </a:lnTo>
                  <a:lnTo>
                    <a:pt x="71" y="466"/>
                  </a:lnTo>
                  <a:lnTo>
                    <a:pt x="69" y="443"/>
                  </a:lnTo>
                  <a:lnTo>
                    <a:pt x="69" y="420"/>
                  </a:lnTo>
                  <a:lnTo>
                    <a:pt x="67" y="399"/>
                  </a:lnTo>
                  <a:lnTo>
                    <a:pt x="67" y="379"/>
                  </a:lnTo>
                  <a:lnTo>
                    <a:pt x="65" y="360"/>
                  </a:lnTo>
                  <a:lnTo>
                    <a:pt x="63" y="341"/>
                  </a:lnTo>
                  <a:lnTo>
                    <a:pt x="61" y="322"/>
                  </a:lnTo>
                  <a:lnTo>
                    <a:pt x="61" y="304"/>
                  </a:lnTo>
                  <a:lnTo>
                    <a:pt x="59" y="289"/>
                  </a:lnTo>
                  <a:lnTo>
                    <a:pt x="58" y="272"/>
                  </a:lnTo>
                  <a:lnTo>
                    <a:pt x="56" y="256"/>
                  </a:lnTo>
                  <a:lnTo>
                    <a:pt x="54" y="243"/>
                  </a:lnTo>
                  <a:lnTo>
                    <a:pt x="52" y="229"/>
                  </a:lnTo>
                  <a:lnTo>
                    <a:pt x="50" y="216"/>
                  </a:lnTo>
                  <a:lnTo>
                    <a:pt x="48" y="202"/>
                  </a:lnTo>
                  <a:lnTo>
                    <a:pt x="46" y="191"/>
                  </a:lnTo>
                  <a:lnTo>
                    <a:pt x="44" y="181"/>
                  </a:lnTo>
                  <a:lnTo>
                    <a:pt x="42" y="170"/>
                  </a:lnTo>
                  <a:lnTo>
                    <a:pt x="40" y="160"/>
                  </a:lnTo>
                  <a:lnTo>
                    <a:pt x="38" y="152"/>
                  </a:lnTo>
                  <a:lnTo>
                    <a:pt x="34" y="145"/>
                  </a:lnTo>
                  <a:lnTo>
                    <a:pt x="33" y="137"/>
                  </a:lnTo>
                  <a:lnTo>
                    <a:pt x="31" y="131"/>
                  </a:lnTo>
                  <a:lnTo>
                    <a:pt x="27" y="125"/>
                  </a:lnTo>
                  <a:lnTo>
                    <a:pt x="25" y="120"/>
                  </a:lnTo>
                  <a:lnTo>
                    <a:pt x="19" y="110"/>
                  </a:lnTo>
                  <a:lnTo>
                    <a:pt x="15" y="102"/>
                  </a:lnTo>
                  <a:lnTo>
                    <a:pt x="11" y="93"/>
                  </a:lnTo>
                  <a:lnTo>
                    <a:pt x="8" y="85"/>
                  </a:lnTo>
                  <a:lnTo>
                    <a:pt x="6" y="77"/>
                  </a:lnTo>
                  <a:lnTo>
                    <a:pt x="4" y="70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8" y="18"/>
                  </a:lnTo>
                  <a:lnTo>
                    <a:pt x="11" y="14"/>
                  </a:lnTo>
                </a:path>
              </a:pathLst>
            </a:custGeom>
            <a:solidFill>
              <a:schemeClr val="tx1"/>
            </a:solidFill>
            <a:ln w="1588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25" name="文本框 78"/>
          <p:cNvSpPr/>
          <p:nvPr/>
        </p:nvSpPr>
        <p:spPr>
          <a:xfrm>
            <a:off x="4757760" y="3184560"/>
            <a:ext cx="2042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张口，十颗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79" descr=""/>
          <p:cNvPicPr/>
          <p:nvPr/>
        </p:nvPicPr>
        <p:blipFill>
          <a:blip r:embed="rId7"/>
          <a:stretch/>
        </p:blipFill>
        <p:spPr>
          <a:xfrm>
            <a:off x="6700680" y="3181320"/>
            <a:ext cx="1363320" cy="135072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5"/>
          <p:cNvGrpSpPr/>
          <p:nvPr/>
        </p:nvGrpSpPr>
        <p:grpSpPr>
          <a:xfrm>
            <a:off x="6912000" y="3902040"/>
            <a:ext cx="939600" cy="388440"/>
            <a:chOff x="6912000" y="3902040"/>
            <a:chExt cx="939600" cy="388440"/>
          </a:xfrm>
        </p:grpSpPr>
        <p:sp>
          <p:nvSpPr>
            <p:cNvPr id="228" name="Freeform 32"/>
            <p:cNvSpPr/>
            <p:nvPr/>
          </p:nvSpPr>
          <p:spPr>
            <a:xfrm>
              <a:off x="6912000" y="3938400"/>
              <a:ext cx="113040" cy="2538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29" h="741">
                  <a:moveTo>
                    <a:pt x="310" y="62"/>
                  </a:moveTo>
                  <a:lnTo>
                    <a:pt x="313" y="77"/>
                  </a:lnTo>
                  <a:lnTo>
                    <a:pt x="315" y="95"/>
                  </a:lnTo>
                  <a:lnTo>
                    <a:pt x="319" y="114"/>
                  </a:lnTo>
                  <a:lnTo>
                    <a:pt x="321" y="135"/>
                  </a:lnTo>
                  <a:lnTo>
                    <a:pt x="323" y="156"/>
                  </a:lnTo>
                  <a:lnTo>
                    <a:pt x="325" y="170"/>
                  </a:lnTo>
                  <a:lnTo>
                    <a:pt x="325" y="181"/>
                  </a:lnTo>
                  <a:lnTo>
                    <a:pt x="327" y="195"/>
                  </a:lnTo>
                  <a:lnTo>
                    <a:pt x="327" y="208"/>
                  </a:lnTo>
                  <a:lnTo>
                    <a:pt x="329" y="221"/>
                  </a:lnTo>
                  <a:lnTo>
                    <a:pt x="329" y="237"/>
                  </a:lnTo>
                  <a:lnTo>
                    <a:pt x="329" y="266"/>
                  </a:lnTo>
                  <a:lnTo>
                    <a:pt x="329" y="297"/>
                  </a:lnTo>
                  <a:lnTo>
                    <a:pt x="327" y="325"/>
                  </a:lnTo>
                  <a:lnTo>
                    <a:pt x="325" y="354"/>
                  </a:lnTo>
                  <a:lnTo>
                    <a:pt x="319" y="383"/>
                  </a:lnTo>
                  <a:lnTo>
                    <a:pt x="313" y="412"/>
                  </a:lnTo>
                  <a:lnTo>
                    <a:pt x="308" y="439"/>
                  </a:lnTo>
                  <a:lnTo>
                    <a:pt x="298" y="468"/>
                  </a:lnTo>
                  <a:lnTo>
                    <a:pt x="288" y="495"/>
                  </a:lnTo>
                  <a:lnTo>
                    <a:pt x="277" y="522"/>
                  </a:lnTo>
                  <a:lnTo>
                    <a:pt x="265" y="547"/>
                  </a:lnTo>
                  <a:lnTo>
                    <a:pt x="252" y="572"/>
                  </a:lnTo>
                  <a:lnTo>
                    <a:pt x="237" y="595"/>
                  </a:lnTo>
                  <a:lnTo>
                    <a:pt x="221" y="618"/>
                  </a:lnTo>
                  <a:lnTo>
                    <a:pt x="204" y="639"/>
                  </a:lnTo>
                  <a:lnTo>
                    <a:pt x="187" y="660"/>
                  </a:lnTo>
                  <a:lnTo>
                    <a:pt x="177" y="670"/>
                  </a:lnTo>
                  <a:lnTo>
                    <a:pt x="169" y="679"/>
                  </a:lnTo>
                  <a:lnTo>
                    <a:pt x="160" y="687"/>
                  </a:lnTo>
                  <a:lnTo>
                    <a:pt x="152" y="695"/>
                  </a:lnTo>
                  <a:lnTo>
                    <a:pt x="144" y="702"/>
                  </a:lnTo>
                  <a:lnTo>
                    <a:pt x="138" y="710"/>
                  </a:lnTo>
                  <a:lnTo>
                    <a:pt x="131" y="716"/>
                  </a:lnTo>
                  <a:lnTo>
                    <a:pt x="125" y="722"/>
                  </a:lnTo>
                  <a:lnTo>
                    <a:pt x="119" y="726"/>
                  </a:lnTo>
                  <a:lnTo>
                    <a:pt x="113" y="729"/>
                  </a:lnTo>
                  <a:lnTo>
                    <a:pt x="108" y="733"/>
                  </a:lnTo>
                  <a:lnTo>
                    <a:pt x="102" y="735"/>
                  </a:lnTo>
                  <a:lnTo>
                    <a:pt x="98" y="739"/>
                  </a:lnTo>
                  <a:lnTo>
                    <a:pt x="94" y="739"/>
                  </a:lnTo>
                  <a:lnTo>
                    <a:pt x="90" y="741"/>
                  </a:lnTo>
                  <a:lnTo>
                    <a:pt x="87" y="741"/>
                  </a:lnTo>
                  <a:lnTo>
                    <a:pt x="83" y="741"/>
                  </a:lnTo>
                  <a:lnTo>
                    <a:pt x="81" y="739"/>
                  </a:lnTo>
                  <a:lnTo>
                    <a:pt x="77" y="737"/>
                  </a:lnTo>
                  <a:lnTo>
                    <a:pt x="73" y="735"/>
                  </a:lnTo>
                  <a:lnTo>
                    <a:pt x="71" y="733"/>
                  </a:lnTo>
                  <a:lnTo>
                    <a:pt x="67" y="729"/>
                  </a:lnTo>
                  <a:lnTo>
                    <a:pt x="63" y="724"/>
                  </a:lnTo>
                  <a:lnTo>
                    <a:pt x="60" y="720"/>
                  </a:lnTo>
                  <a:lnTo>
                    <a:pt x="56" y="714"/>
                  </a:lnTo>
                  <a:lnTo>
                    <a:pt x="54" y="706"/>
                  </a:lnTo>
                  <a:lnTo>
                    <a:pt x="50" y="701"/>
                  </a:lnTo>
                  <a:lnTo>
                    <a:pt x="46" y="693"/>
                  </a:lnTo>
                  <a:lnTo>
                    <a:pt x="42" y="683"/>
                  </a:lnTo>
                  <a:lnTo>
                    <a:pt x="38" y="676"/>
                  </a:lnTo>
                  <a:lnTo>
                    <a:pt x="35" y="664"/>
                  </a:lnTo>
                  <a:lnTo>
                    <a:pt x="31" y="654"/>
                  </a:lnTo>
                  <a:lnTo>
                    <a:pt x="23" y="633"/>
                  </a:lnTo>
                  <a:lnTo>
                    <a:pt x="17" y="614"/>
                  </a:lnTo>
                  <a:lnTo>
                    <a:pt x="12" y="597"/>
                  </a:lnTo>
                  <a:lnTo>
                    <a:pt x="8" y="581"/>
                  </a:lnTo>
                  <a:lnTo>
                    <a:pt x="4" y="568"/>
                  </a:lnTo>
                  <a:lnTo>
                    <a:pt x="2" y="554"/>
                  </a:lnTo>
                  <a:lnTo>
                    <a:pt x="0" y="545"/>
                  </a:lnTo>
                  <a:lnTo>
                    <a:pt x="0" y="535"/>
                  </a:lnTo>
                  <a:lnTo>
                    <a:pt x="0" y="531"/>
                  </a:lnTo>
                  <a:lnTo>
                    <a:pt x="2" y="527"/>
                  </a:lnTo>
                  <a:lnTo>
                    <a:pt x="2" y="522"/>
                  </a:lnTo>
                  <a:lnTo>
                    <a:pt x="4" y="516"/>
                  </a:lnTo>
                  <a:lnTo>
                    <a:pt x="6" y="512"/>
                  </a:lnTo>
                  <a:lnTo>
                    <a:pt x="10" y="506"/>
                  </a:lnTo>
                  <a:lnTo>
                    <a:pt x="13" y="499"/>
                  </a:lnTo>
                  <a:lnTo>
                    <a:pt x="17" y="493"/>
                  </a:lnTo>
                  <a:lnTo>
                    <a:pt x="21" y="487"/>
                  </a:lnTo>
                  <a:lnTo>
                    <a:pt x="25" y="479"/>
                  </a:lnTo>
                  <a:lnTo>
                    <a:pt x="31" y="472"/>
                  </a:lnTo>
                  <a:lnTo>
                    <a:pt x="37" y="464"/>
                  </a:lnTo>
                  <a:lnTo>
                    <a:pt x="44" y="456"/>
                  </a:lnTo>
                  <a:lnTo>
                    <a:pt x="52" y="447"/>
                  </a:lnTo>
                  <a:lnTo>
                    <a:pt x="60" y="439"/>
                  </a:lnTo>
                  <a:lnTo>
                    <a:pt x="67" y="429"/>
                  </a:lnTo>
                  <a:lnTo>
                    <a:pt x="75" y="420"/>
                  </a:lnTo>
                  <a:lnTo>
                    <a:pt x="85" y="408"/>
                  </a:lnTo>
                  <a:lnTo>
                    <a:pt x="92" y="397"/>
                  </a:lnTo>
                  <a:lnTo>
                    <a:pt x="102" y="385"/>
                  </a:lnTo>
                  <a:lnTo>
                    <a:pt x="110" y="372"/>
                  </a:lnTo>
                  <a:lnTo>
                    <a:pt x="117" y="358"/>
                  </a:lnTo>
                  <a:lnTo>
                    <a:pt x="125" y="343"/>
                  </a:lnTo>
                  <a:lnTo>
                    <a:pt x="133" y="327"/>
                  </a:lnTo>
                  <a:lnTo>
                    <a:pt x="140" y="312"/>
                  </a:lnTo>
                  <a:lnTo>
                    <a:pt x="148" y="295"/>
                  </a:lnTo>
                  <a:lnTo>
                    <a:pt x="156" y="277"/>
                  </a:lnTo>
                  <a:lnTo>
                    <a:pt x="163" y="258"/>
                  </a:lnTo>
                  <a:lnTo>
                    <a:pt x="171" y="237"/>
                  </a:lnTo>
                  <a:lnTo>
                    <a:pt x="179" y="218"/>
                  </a:lnTo>
                  <a:lnTo>
                    <a:pt x="185" y="196"/>
                  </a:lnTo>
                  <a:lnTo>
                    <a:pt x="192" y="173"/>
                  </a:lnTo>
                  <a:lnTo>
                    <a:pt x="200" y="152"/>
                  </a:lnTo>
                  <a:lnTo>
                    <a:pt x="206" y="131"/>
                  </a:lnTo>
                  <a:lnTo>
                    <a:pt x="212" y="114"/>
                  </a:lnTo>
                  <a:lnTo>
                    <a:pt x="217" y="96"/>
                  </a:lnTo>
                  <a:lnTo>
                    <a:pt x="223" y="79"/>
                  </a:lnTo>
                  <a:lnTo>
                    <a:pt x="229" y="66"/>
                  </a:lnTo>
                  <a:lnTo>
                    <a:pt x="235" y="52"/>
                  </a:lnTo>
                  <a:lnTo>
                    <a:pt x="240" y="41"/>
                  </a:lnTo>
                  <a:lnTo>
                    <a:pt x="244" y="31"/>
                  </a:lnTo>
                  <a:lnTo>
                    <a:pt x="250" y="21"/>
                  </a:lnTo>
                  <a:lnTo>
                    <a:pt x="254" y="16"/>
                  </a:lnTo>
                  <a:lnTo>
                    <a:pt x="258" y="10"/>
                  </a:lnTo>
                  <a:lnTo>
                    <a:pt x="262" y="4"/>
                  </a:lnTo>
                  <a:lnTo>
                    <a:pt x="265" y="2"/>
                  </a:lnTo>
                  <a:lnTo>
                    <a:pt x="269" y="0"/>
                  </a:lnTo>
                  <a:lnTo>
                    <a:pt x="273" y="0"/>
                  </a:lnTo>
                  <a:lnTo>
                    <a:pt x="279" y="2"/>
                  </a:lnTo>
                  <a:lnTo>
                    <a:pt x="285" y="6"/>
                  </a:lnTo>
                  <a:lnTo>
                    <a:pt x="290" y="12"/>
                  </a:lnTo>
                  <a:lnTo>
                    <a:pt x="294" y="19"/>
                  </a:lnTo>
                  <a:lnTo>
                    <a:pt x="300" y="27"/>
                  </a:lnTo>
                  <a:lnTo>
                    <a:pt x="304" y="37"/>
                  </a:lnTo>
                  <a:lnTo>
                    <a:pt x="306" y="48"/>
                  </a:lnTo>
                  <a:lnTo>
                    <a:pt x="310" y="62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7109280" y="3976200"/>
              <a:ext cx="650520" cy="31428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2" h="916">
                  <a:moveTo>
                    <a:pt x="523" y="529"/>
                  </a:moveTo>
                  <a:lnTo>
                    <a:pt x="548" y="544"/>
                  </a:lnTo>
                  <a:lnTo>
                    <a:pt x="573" y="558"/>
                  </a:lnTo>
                  <a:lnTo>
                    <a:pt x="598" y="573"/>
                  </a:lnTo>
                  <a:lnTo>
                    <a:pt x="625" y="585"/>
                  </a:lnTo>
                  <a:lnTo>
                    <a:pt x="650" y="598"/>
                  </a:lnTo>
                  <a:lnTo>
                    <a:pt x="677" y="610"/>
                  </a:lnTo>
                  <a:lnTo>
                    <a:pt x="704" y="619"/>
                  </a:lnTo>
                  <a:lnTo>
                    <a:pt x="731" y="631"/>
                  </a:lnTo>
                  <a:lnTo>
                    <a:pt x="758" y="639"/>
                  </a:lnTo>
                  <a:lnTo>
                    <a:pt x="787" y="648"/>
                  </a:lnTo>
                  <a:lnTo>
                    <a:pt x="813" y="656"/>
                  </a:lnTo>
                  <a:lnTo>
                    <a:pt x="842" y="664"/>
                  </a:lnTo>
                  <a:lnTo>
                    <a:pt x="871" y="669"/>
                  </a:lnTo>
                  <a:lnTo>
                    <a:pt x="900" y="675"/>
                  </a:lnTo>
                  <a:lnTo>
                    <a:pt x="929" y="681"/>
                  </a:lnTo>
                  <a:lnTo>
                    <a:pt x="958" y="685"/>
                  </a:lnTo>
                  <a:lnTo>
                    <a:pt x="987" y="689"/>
                  </a:lnTo>
                  <a:lnTo>
                    <a:pt x="1015" y="692"/>
                  </a:lnTo>
                  <a:lnTo>
                    <a:pt x="1042" y="694"/>
                  </a:lnTo>
                  <a:lnTo>
                    <a:pt x="1069" y="696"/>
                  </a:lnTo>
                  <a:lnTo>
                    <a:pt x="1094" y="698"/>
                  </a:lnTo>
                  <a:lnTo>
                    <a:pt x="1119" y="700"/>
                  </a:lnTo>
                  <a:lnTo>
                    <a:pt x="1142" y="702"/>
                  </a:lnTo>
                  <a:lnTo>
                    <a:pt x="1165" y="702"/>
                  </a:lnTo>
                  <a:lnTo>
                    <a:pt x="1187" y="702"/>
                  </a:lnTo>
                  <a:lnTo>
                    <a:pt x="1208" y="702"/>
                  </a:lnTo>
                  <a:lnTo>
                    <a:pt x="1227" y="702"/>
                  </a:lnTo>
                  <a:lnTo>
                    <a:pt x="1246" y="700"/>
                  </a:lnTo>
                  <a:lnTo>
                    <a:pt x="1265" y="698"/>
                  </a:lnTo>
                  <a:lnTo>
                    <a:pt x="1283" y="696"/>
                  </a:lnTo>
                  <a:lnTo>
                    <a:pt x="1298" y="694"/>
                  </a:lnTo>
                  <a:lnTo>
                    <a:pt x="1313" y="691"/>
                  </a:lnTo>
                  <a:lnTo>
                    <a:pt x="1329" y="689"/>
                  </a:lnTo>
                  <a:lnTo>
                    <a:pt x="1342" y="685"/>
                  </a:lnTo>
                  <a:lnTo>
                    <a:pt x="1356" y="683"/>
                  </a:lnTo>
                  <a:lnTo>
                    <a:pt x="1367" y="679"/>
                  </a:lnTo>
                  <a:lnTo>
                    <a:pt x="1381" y="677"/>
                  </a:lnTo>
                  <a:lnTo>
                    <a:pt x="1392" y="673"/>
                  </a:lnTo>
                  <a:lnTo>
                    <a:pt x="1402" y="671"/>
                  </a:lnTo>
                  <a:lnTo>
                    <a:pt x="1413" y="667"/>
                  </a:lnTo>
                  <a:lnTo>
                    <a:pt x="1423" y="665"/>
                  </a:lnTo>
                  <a:lnTo>
                    <a:pt x="1433" y="664"/>
                  </a:lnTo>
                  <a:lnTo>
                    <a:pt x="1440" y="660"/>
                  </a:lnTo>
                  <a:lnTo>
                    <a:pt x="1448" y="658"/>
                  </a:lnTo>
                  <a:lnTo>
                    <a:pt x="1456" y="656"/>
                  </a:lnTo>
                  <a:lnTo>
                    <a:pt x="1463" y="652"/>
                  </a:lnTo>
                  <a:lnTo>
                    <a:pt x="1469" y="650"/>
                  </a:lnTo>
                  <a:lnTo>
                    <a:pt x="1475" y="648"/>
                  </a:lnTo>
                  <a:lnTo>
                    <a:pt x="1481" y="644"/>
                  </a:lnTo>
                  <a:lnTo>
                    <a:pt x="1483" y="639"/>
                  </a:lnTo>
                  <a:lnTo>
                    <a:pt x="1486" y="633"/>
                  </a:lnTo>
                  <a:lnTo>
                    <a:pt x="1486" y="623"/>
                  </a:lnTo>
                  <a:lnTo>
                    <a:pt x="1486" y="612"/>
                  </a:lnTo>
                  <a:lnTo>
                    <a:pt x="1486" y="600"/>
                  </a:lnTo>
                  <a:lnTo>
                    <a:pt x="1485" y="585"/>
                  </a:lnTo>
                  <a:lnTo>
                    <a:pt x="1481" y="569"/>
                  </a:lnTo>
                  <a:lnTo>
                    <a:pt x="1477" y="550"/>
                  </a:lnTo>
                  <a:lnTo>
                    <a:pt x="1471" y="529"/>
                  </a:lnTo>
                  <a:lnTo>
                    <a:pt x="1463" y="508"/>
                  </a:lnTo>
                  <a:lnTo>
                    <a:pt x="1456" y="483"/>
                  </a:lnTo>
                  <a:lnTo>
                    <a:pt x="1448" y="458"/>
                  </a:lnTo>
                  <a:lnTo>
                    <a:pt x="1442" y="444"/>
                  </a:lnTo>
                  <a:lnTo>
                    <a:pt x="1436" y="429"/>
                  </a:lnTo>
                  <a:lnTo>
                    <a:pt x="1431" y="413"/>
                  </a:lnTo>
                  <a:lnTo>
                    <a:pt x="1425" y="400"/>
                  </a:lnTo>
                  <a:lnTo>
                    <a:pt x="1419" y="383"/>
                  </a:lnTo>
                  <a:lnTo>
                    <a:pt x="1413" y="367"/>
                  </a:lnTo>
                  <a:lnTo>
                    <a:pt x="1408" y="352"/>
                  </a:lnTo>
                  <a:lnTo>
                    <a:pt x="1400" y="335"/>
                  </a:lnTo>
                  <a:lnTo>
                    <a:pt x="1394" y="321"/>
                  </a:lnTo>
                  <a:lnTo>
                    <a:pt x="1388" y="306"/>
                  </a:lnTo>
                  <a:lnTo>
                    <a:pt x="1383" y="292"/>
                  </a:lnTo>
                  <a:lnTo>
                    <a:pt x="1377" y="277"/>
                  </a:lnTo>
                  <a:lnTo>
                    <a:pt x="1373" y="265"/>
                  </a:lnTo>
                  <a:lnTo>
                    <a:pt x="1367" y="252"/>
                  </a:lnTo>
                  <a:lnTo>
                    <a:pt x="1363" y="240"/>
                  </a:lnTo>
                  <a:lnTo>
                    <a:pt x="1358" y="229"/>
                  </a:lnTo>
                  <a:lnTo>
                    <a:pt x="1354" y="217"/>
                  </a:lnTo>
                  <a:lnTo>
                    <a:pt x="1350" y="206"/>
                  </a:lnTo>
                  <a:lnTo>
                    <a:pt x="1346" y="196"/>
                  </a:lnTo>
                  <a:lnTo>
                    <a:pt x="1342" y="186"/>
                  </a:lnTo>
                  <a:lnTo>
                    <a:pt x="1340" y="177"/>
                  </a:lnTo>
                  <a:lnTo>
                    <a:pt x="1336" y="167"/>
                  </a:lnTo>
                  <a:lnTo>
                    <a:pt x="1335" y="160"/>
                  </a:lnTo>
                  <a:lnTo>
                    <a:pt x="1331" y="152"/>
                  </a:lnTo>
                  <a:lnTo>
                    <a:pt x="1329" y="144"/>
                  </a:lnTo>
                  <a:lnTo>
                    <a:pt x="1327" y="138"/>
                  </a:lnTo>
                  <a:lnTo>
                    <a:pt x="1325" y="131"/>
                  </a:lnTo>
                  <a:lnTo>
                    <a:pt x="1323" y="125"/>
                  </a:lnTo>
                  <a:lnTo>
                    <a:pt x="1321" y="121"/>
                  </a:lnTo>
                  <a:lnTo>
                    <a:pt x="1321" y="115"/>
                  </a:lnTo>
                  <a:lnTo>
                    <a:pt x="1319" y="111"/>
                  </a:lnTo>
                  <a:lnTo>
                    <a:pt x="1319" y="108"/>
                  </a:lnTo>
                  <a:lnTo>
                    <a:pt x="1319" y="104"/>
                  </a:lnTo>
                  <a:lnTo>
                    <a:pt x="1317" y="102"/>
                  </a:lnTo>
                  <a:lnTo>
                    <a:pt x="1317" y="98"/>
                  </a:lnTo>
                  <a:lnTo>
                    <a:pt x="1319" y="96"/>
                  </a:lnTo>
                  <a:lnTo>
                    <a:pt x="1319" y="94"/>
                  </a:lnTo>
                  <a:lnTo>
                    <a:pt x="1321" y="94"/>
                  </a:lnTo>
                  <a:lnTo>
                    <a:pt x="1325" y="94"/>
                  </a:lnTo>
                  <a:lnTo>
                    <a:pt x="1329" y="96"/>
                  </a:lnTo>
                  <a:lnTo>
                    <a:pt x="1335" y="102"/>
                  </a:lnTo>
                  <a:lnTo>
                    <a:pt x="1342" y="108"/>
                  </a:lnTo>
                  <a:lnTo>
                    <a:pt x="1350" y="115"/>
                  </a:lnTo>
                  <a:lnTo>
                    <a:pt x="1360" y="125"/>
                  </a:lnTo>
                  <a:lnTo>
                    <a:pt x="1371" y="136"/>
                  </a:lnTo>
                  <a:lnTo>
                    <a:pt x="1383" y="150"/>
                  </a:lnTo>
                  <a:lnTo>
                    <a:pt x="1396" y="165"/>
                  </a:lnTo>
                  <a:lnTo>
                    <a:pt x="1410" y="183"/>
                  </a:lnTo>
                  <a:lnTo>
                    <a:pt x="1425" y="200"/>
                  </a:lnTo>
                  <a:lnTo>
                    <a:pt x="1442" y="221"/>
                  </a:lnTo>
                  <a:lnTo>
                    <a:pt x="1460" y="242"/>
                  </a:lnTo>
                  <a:lnTo>
                    <a:pt x="1479" y="267"/>
                  </a:lnTo>
                  <a:lnTo>
                    <a:pt x="1500" y="292"/>
                  </a:lnTo>
                  <a:lnTo>
                    <a:pt x="1521" y="319"/>
                  </a:lnTo>
                  <a:lnTo>
                    <a:pt x="1540" y="344"/>
                  </a:lnTo>
                  <a:lnTo>
                    <a:pt x="1561" y="367"/>
                  </a:lnTo>
                  <a:lnTo>
                    <a:pt x="1581" y="388"/>
                  </a:lnTo>
                  <a:lnTo>
                    <a:pt x="1600" y="412"/>
                  </a:lnTo>
                  <a:lnTo>
                    <a:pt x="1617" y="431"/>
                  </a:lnTo>
                  <a:lnTo>
                    <a:pt x="1636" y="450"/>
                  </a:lnTo>
                  <a:lnTo>
                    <a:pt x="1654" y="467"/>
                  </a:lnTo>
                  <a:lnTo>
                    <a:pt x="1671" y="485"/>
                  </a:lnTo>
                  <a:lnTo>
                    <a:pt x="1688" y="500"/>
                  </a:lnTo>
                  <a:lnTo>
                    <a:pt x="1706" y="514"/>
                  </a:lnTo>
                  <a:lnTo>
                    <a:pt x="1721" y="527"/>
                  </a:lnTo>
                  <a:lnTo>
                    <a:pt x="1736" y="539"/>
                  </a:lnTo>
                  <a:lnTo>
                    <a:pt x="1752" y="550"/>
                  </a:lnTo>
                  <a:lnTo>
                    <a:pt x="1767" y="560"/>
                  </a:lnTo>
                  <a:lnTo>
                    <a:pt x="1781" y="567"/>
                  </a:lnTo>
                  <a:lnTo>
                    <a:pt x="1794" y="575"/>
                  </a:lnTo>
                  <a:lnTo>
                    <a:pt x="1808" y="583"/>
                  </a:lnTo>
                  <a:lnTo>
                    <a:pt x="1819" y="590"/>
                  </a:lnTo>
                  <a:lnTo>
                    <a:pt x="1831" y="600"/>
                  </a:lnTo>
                  <a:lnTo>
                    <a:pt x="1840" y="608"/>
                  </a:lnTo>
                  <a:lnTo>
                    <a:pt x="1850" y="615"/>
                  </a:lnTo>
                  <a:lnTo>
                    <a:pt x="1858" y="625"/>
                  </a:lnTo>
                  <a:lnTo>
                    <a:pt x="1865" y="633"/>
                  </a:lnTo>
                  <a:lnTo>
                    <a:pt x="1871" y="642"/>
                  </a:lnTo>
                  <a:lnTo>
                    <a:pt x="1877" y="652"/>
                  </a:lnTo>
                  <a:lnTo>
                    <a:pt x="1881" y="662"/>
                  </a:lnTo>
                  <a:lnTo>
                    <a:pt x="1885" y="671"/>
                  </a:lnTo>
                  <a:lnTo>
                    <a:pt x="1888" y="681"/>
                  </a:lnTo>
                  <a:lnTo>
                    <a:pt x="1890" y="691"/>
                  </a:lnTo>
                  <a:lnTo>
                    <a:pt x="1892" y="700"/>
                  </a:lnTo>
                  <a:lnTo>
                    <a:pt x="1892" y="710"/>
                  </a:lnTo>
                  <a:lnTo>
                    <a:pt x="1892" y="719"/>
                  </a:lnTo>
                  <a:lnTo>
                    <a:pt x="1888" y="729"/>
                  </a:lnTo>
                  <a:lnTo>
                    <a:pt x="1885" y="739"/>
                  </a:lnTo>
                  <a:lnTo>
                    <a:pt x="1879" y="748"/>
                  </a:lnTo>
                  <a:lnTo>
                    <a:pt x="1871" y="758"/>
                  </a:lnTo>
                  <a:lnTo>
                    <a:pt x="1861" y="767"/>
                  </a:lnTo>
                  <a:lnTo>
                    <a:pt x="1852" y="777"/>
                  </a:lnTo>
                  <a:lnTo>
                    <a:pt x="1838" y="787"/>
                  </a:lnTo>
                  <a:lnTo>
                    <a:pt x="1825" y="794"/>
                  </a:lnTo>
                  <a:lnTo>
                    <a:pt x="1810" y="804"/>
                  </a:lnTo>
                  <a:lnTo>
                    <a:pt x="1792" y="814"/>
                  </a:lnTo>
                  <a:lnTo>
                    <a:pt x="1773" y="821"/>
                  </a:lnTo>
                  <a:lnTo>
                    <a:pt x="1752" y="829"/>
                  </a:lnTo>
                  <a:lnTo>
                    <a:pt x="1731" y="839"/>
                  </a:lnTo>
                  <a:lnTo>
                    <a:pt x="1706" y="846"/>
                  </a:lnTo>
                  <a:lnTo>
                    <a:pt x="1681" y="854"/>
                  </a:lnTo>
                  <a:lnTo>
                    <a:pt x="1627" y="868"/>
                  </a:lnTo>
                  <a:lnTo>
                    <a:pt x="1571" y="881"/>
                  </a:lnTo>
                  <a:lnTo>
                    <a:pt x="1515" y="891"/>
                  </a:lnTo>
                  <a:lnTo>
                    <a:pt x="1458" y="900"/>
                  </a:lnTo>
                  <a:lnTo>
                    <a:pt x="1398" y="906"/>
                  </a:lnTo>
                  <a:lnTo>
                    <a:pt x="1367" y="910"/>
                  </a:lnTo>
                  <a:lnTo>
                    <a:pt x="1338" y="912"/>
                  </a:lnTo>
                  <a:lnTo>
                    <a:pt x="1308" y="914"/>
                  </a:lnTo>
                  <a:lnTo>
                    <a:pt x="1277" y="916"/>
                  </a:lnTo>
                  <a:lnTo>
                    <a:pt x="1244" y="916"/>
                  </a:lnTo>
                  <a:lnTo>
                    <a:pt x="1213" y="916"/>
                  </a:lnTo>
                  <a:lnTo>
                    <a:pt x="1181" y="916"/>
                  </a:lnTo>
                  <a:lnTo>
                    <a:pt x="1150" y="914"/>
                  </a:lnTo>
                  <a:lnTo>
                    <a:pt x="1119" y="914"/>
                  </a:lnTo>
                  <a:lnTo>
                    <a:pt x="1088" y="912"/>
                  </a:lnTo>
                  <a:lnTo>
                    <a:pt x="1058" y="910"/>
                  </a:lnTo>
                  <a:lnTo>
                    <a:pt x="1029" y="906"/>
                  </a:lnTo>
                  <a:lnTo>
                    <a:pt x="998" y="902"/>
                  </a:lnTo>
                  <a:lnTo>
                    <a:pt x="969" y="898"/>
                  </a:lnTo>
                  <a:lnTo>
                    <a:pt x="940" y="894"/>
                  </a:lnTo>
                  <a:lnTo>
                    <a:pt x="912" y="889"/>
                  </a:lnTo>
                  <a:lnTo>
                    <a:pt x="883" y="883"/>
                  </a:lnTo>
                  <a:lnTo>
                    <a:pt x="856" y="877"/>
                  </a:lnTo>
                  <a:lnTo>
                    <a:pt x="827" y="869"/>
                  </a:lnTo>
                  <a:lnTo>
                    <a:pt x="800" y="862"/>
                  </a:lnTo>
                  <a:lnTo>
                    <a:pt x="773" y="854"/>
                  </a:lnTo>
                  <a:lnTo>
                    <a:pt x="746" y="846"/>
                  </a:lnTo>
                  <a:lnTo>
                    <a:pt x="719" y="839"/>
                  </a:lnTo>
                  <a:lnTo>
                    <a:pt x="694" y="829"/>
                  </a:lnTo>
                  <a:lnTo>
                    <a:pt x="669" y="819"/>
                  </a:lnTo>
                  <a:lnTo>
                    <a:pt x="644" y="808"/>
                  </a:lnTo>
                  <a:lnTo>
                    <a:pt x="619" y="796"/>
                  </a:lnTo>
                  <a:lnTo>
                    <a:pt x="594" y="785"/>
                  </a:lnTo>
                  <a:lnTo>
                    <a:pt x="569" y="773"/>
                  </a:lnTo>
                  <a:lnTo>
                    <a:pt x="546" y="760"/>
                  </a:lnTo>
                  <a:lnTo>
                    <a:pt x="523" y="746"/>
                  </a:lnTo>
                  <a:lnTo>
                    <a:pt x="500" y="733"/>
                  </a:lnTo>
                  <a:lnTo>
                    <a:pt x="477" y="717"/>
                  </a:lnTo>
                  <a:lnTo>
                    <a:pt x="454" y="702"/>
                  </a:lnTo>
                  <a:lnTo>
                    <a:pt x="431" y="687"/>
                  </a:lnTo>
                  <a:lnTo>
                    <a:pt x="410" y="669"/>
                  </a:lnTo>
                  <a:lnTo>
                    <a:pt x="388" y="652"/>
                  </a:lnTo>
                  <a:lnTo>
                    <a:pt x="367" y="635"/>
                  </a:lnTo>
                  <a:lnTo>
                    <a:pt x="346" y="617"/>
                  </a:lnTo>
                  <a:lnTo>
                    <a:pt x="327" y="598"/>
                  </a:lnTo>
                  <a:lnTo>
                    <a:pt x="306" y="579"/>
                  </a:lnTo>
                  <a:lnTo>
                    <a:pt x="287" y="560"/>
                  </a:lnTo>
                  <a:lnTo>
                    <a:pt x="267" y="540"/>
                  </a:lnTo>
                  <a:lnTo>
                    <a:pt x="250" y="519"/>
                  </a:lnTo>
                  <a:lnTo>
                    <a:pt x="233" y="498"/>
                  </a:lnTo>
                  <a:lnTo>
                    <a:pt x="215" y="477"/>
                  </a:lnTo>
                  <a:lnTo>
                    <a:pt x="198" y="454"/>
                  </a:lnTo>
                  <a:lnTo>
                    <a:pt x="183" y="433"/>
                  </a:lnTo>
                  <a:lnTo>
                    <a:pt x="167" y="410"/>
                  </a:lnTo>
                  <a:lnTo>
                    <a:pt x="152" y="385"/>
                  </a:lnTo>
                  <a:lnTo>
                    <a:pt x="138" y="362"/>
                  </a:lnTo>
                  <a:lnTo>
                    <a:pt x="125" y="337"/>
                  </a:lnTo>
                  <a:lnTo>
                    <a:pt x="112" y="311"/>
                  </a:lnTo>
                  <a:lnTo>
                    <a:pt x="98" y="286"/>
                  </a:lnTo>
                  <a:lnTo>
                    <a:pt x="87" y="261"/>
                  </a:lnTo>
                  <a:lnTo>
                    <a:pt x="75" y="238"/>
                  </a:lnTo>
                  <a:lnTo>
                    <a:pt x="65" y="215"/>
                  </a:lnTo>
                  <a:lnTo>
                    <a:pt x="56" y="194"/>
                  </a:lnTo>
                  <a:lnTo>
                    <a:pt x="46" y="173"/>
                  </a:lnTo>
                  <a:lnTo>
                    <a:pt x="38" y="154"/>
                  </a:lnTo>
                  <a:lnTo>
                    <a:pt x="31" y="136"/>
                  </a:lnTo>
                  <a:lnTo>
                    <a:pt x="25" y="119"/>
                  </a:lnTo>
                  <a:lnTo>
                    <a:pt x="19" y="104"/>
                  </a:lnTo>
                  <a:lnTo>
                    <a:pt x="13" y="90"/>
                  </a:lnTo>
                  <a:lnTo>
                    <a:pt x="10" y="77"/>
                  </a:lnTo>
                  <a:lnTo>
                    <a:pt x="6" y="65"/>
                  </a:lnTo>
                  <a:lnTo>
                    <a:pt x="4" y="5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5" y="15"/>
                  </a:lnTo>
                  <a:lnTo>
                    <a:pt x="40" y="21"/>
                  </a:lnTo>
                  <a:lnTo>
                    <a:pt x="46" y="29"/>
                  </a:lnTo>
                  <a:lnTo>
                    <a:pt x="52" y="36"/>
                  </a:lnTo>
                  <a:lnTo>
                    <a:pt x="60" y="46"/>
                  </a:lnTo>
                  <a:lnTo>
                    <a:pt x="69" y="56"/>
                  </a:lnTo>
                  <a:lnTo>
                    <a:pt x="77" y="67"/>
                  </a:lnTo>
                  <a:lnTo>
                    <a:pt x="87" y="81"/>
                  </a:lnTo>
                  <a:lnTo>
                    <a:pt x="98" y="94"/>
                  </a:lnTo>
                  <a:lnTo>
                    <a:pt x="110" y="109"/>
                  </a:lnTo>
                  <a:lnTo>
                    <a:pt x="121" y="127"/>
                  </a:lnTo>
                  <a:lnTo>
                    <a:pt x="133" y="144"/>
                  </a:lnTo>
                  <a:lnTo>
                    <a:pt x="148" y="161"/>
                  </a:lnTo>
                  <a:lnTo>
                    <a:pt x="162" y="183"/>
                  </a:lnTo>
                  <a:lnTo>
                    <a:pt x="177" y="204"/>
                  </a:lnTo>
                  <a:lnTo>
                    <a:pt x="192" y="225"/>
                  </a:lnTo>
                  <a:lnTo>
                    <a:pt x="210" y="248"/>
                  </a:lnTo>
                  <a:lnTo>
                    <a:pt x="225" y="269"/>
                  </a:lnTo>
                  <a:lnTo>
                    <a:pt x="244" y="290"/>
                  </a:lnTo>
                  <a:lnTo>
                    <a:pt x="262" y="311"/>
                  </a:lnTo>
                  <a:lnTo>
                    <a:pt x="281" y="331"/>
                  </a:lnTo>
                  <a:lnTo>
                    <a:pt x="300" y="352"/>
                  </a:lnTo>
                  <a:lnTo>
                    <a:pt x="319" y="371"/>
                  </a:lnTo>
                  <a:lnTo>
                    <a:pt x="340" y="390"/>
                  </a:lnTo>
                  <a:lnTo>
                    <a:pt x="362" y="410"/>
                  </a:lnTo>
                  <a:lnTo>
                    <a:pt x="383" y="427"/>
                  </a:lnTo>
                  <a:lnTo>
                    <a:pt x="404" y="446"/>
                  </a:lnTo>
                  <a:lnTo>
                    <a:pt x="427" y="463"/>
                  </a:lnTo>
                  <a:lnTo>
                    <a:pt x="450" y="481"/>
                  </a:lnTo>
                  <a:lnTo>
                    <a:pt x="473" y="496"/>
                  </a:lnTo>
                  <a:lnTo>
                    <a:pt x="498" y="514"/>
                  </a:lnTo>
                  <a:lnTo>
                    <a:pt x="523" y="529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0" name="Freeform 34"/>
            <p:cNvSpPr/>
            <p:nvPr/>
          </p:nvSpPr>
          <p:spPr>
            <a:xfrm>
              <a:off x="7280640" y="3948840"/>
              <a:ext cx="155160" cy="1162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52" h="341">
                  <a:moveTo>
                    <a:pt x="0" y="19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102" y="0"/>
                  </a:lnTo>
                  <a:lnTo>
                    <a:pt x="121" y="2"/>
                  </a:lnTo>
                  <a:lnTo>
                    <a:pt x="142" y="2"/>
                  </a:lnTo>
                  <a:lnTo>
                    <a:pt x="164" y="4"/>
                  </a:lnTo>
                  <a:lnTo>
                    <a:pt x="185" y="8"/>
                  </a:lnTo>
                  <a:lnTo>
                    <a:pt x="206" y="12"/>
                  </a:lnTo>
                  <a:lnTo>
                    <a:pt x="227" y="15"/>
                  </a:lnTo>
                  <a:lnTo>
                    <a:pt x="248" y="19"/>
                  </a:lnTo>
                  <a:lnTo>
                    <a:pt x="269" y="25"/>
                  </a:lnTo>
                  <a:lnTo>
                    <a:pt x="289" y="31"/>
                  </a:lnTo>
                  <a:lnTo>
                    <a:pt x="308" y="37"/>
                  </a:lnTo>
                  <a:lnTo>
                    <a:pt x="325" y="44"/>
                  </a:lnTo>
                  <a:lnTo>
                    <a:pt x="342" y="54"/>
                  </a:lnTo>
                  <a:lnTo>
                    <a:pt x="358" y="64"/>
                  </a:lnTo>
                  <a:lnTo>
                    <a:pt x="371" y="75"/>
                  </a:lnTo>
                  <a:lnTo>
                    <a:pt x="385" y="87"/>
                  </a:lnTo>
                  <a:lnTo>
                    <a:pt x="396" y="100"/>
                  </a:lnTo>
                  <a:lnTo>
                    <a:pt x="408" y="114"/>
                  </a:lnTo>
                  <a:lnTo>
                    <a:pt x="417" y="129"/>
                  </a:lnTo>
                  <a:lnTo>
                    <a:pt x="425" y="144"/>
                  </a:lnTo>
                  <a:lnTo>
                    <a:pt x="433" y="162"/>
                  </a:lnTo>
                  <a:lnTo>
                    <a:pt x="439" y="179"/>
                  </a:lnTo>
                  <a:lnTo>
                    <a:pt x="444" y="198"/>
                  </a:lnTo>
                  <a:lnTo>
                    <a:pt x="448" y="217"/>
                  </a:lnTo>
                  <a:lnTo>
                    <a:pt x="450" y="237"/>
                  </a:lnTo>
                  <a:lnTo>
                    <a:pt x="452" y="256"/>
                  </a:lnTo>
                  <a:lnTo>
                    <a:pt x="452" y="271"/>
                  </a:lnTo>
                  <a:lnTo>
                    <a:pt x="450" y="287"/>
                  </a:lnTo>
                  <a:lnTo>
                    <a:pt x="446" y="300"/>
                  </a:lnTo>
                  <a:lnTo>
                    <a:pt x="442" y="312"/>
                  </a:lnTo>
                  <a:lnTo>
                    <a:pt x="437" y="321"/>
                  </a:lnTo>
                  <a:lnTo>
                    <a:pt x="429" y="331"/>
                  </a:lnTo>
                  <a:lnTo>
                    <a:pt x="425" y="335"/>
                  </a:lnTo>
                  <a:lnTo>
                    <a:pt x="419" y="337"/>
                  </a:lnTo>
                  <a:lnTo>
                    <a:pt x="414" y="339"/>
                  </a:lnTo>
                  <a:lnTo>
                    <a:pt x="408" y="341"/>
                  </a:lnTo>
                  <a:lnTo>
                    <a:pt x="400" y="341"/>
                  </a:lnTo>
                  <a:lnTo>
                    <a:pt x="392" y="341"/>
                  </a:lnTo>
                  <a:lnTo>
                    <a:pt x="385" y="339"/>
                  </a:lnTo>
                  <a:lnTo>
                    <a:pt x="375" y="339"/>
                  </a:lnTo>
                  <a:lnTo>
                    <a:pt x="365" y="335"/>
                  </a:lnTo>
                  <a:lnTo>
                    <a:pt x="356" y="333"/>
                  </a:lnTo>
                  <a:lnTo>
                    <a:pt x="344" y="329"/>
                  </a:lnTo>
                  <a:lnTo>
                    <a:pt x="333" y="323"/>
                  </a:lnTo>
                  <a:lnTo>
                    <a:pt x="321" y="319"/>
                  </a:lnTo>
                  <a:lnTo>
                    <a:pt x="308" y="312"/>
                  </a:lnTo>
                  <a:lnTo>
                    <a:pt x="294" y="306"/>
                  </a:lnTo>
                  <a:lnTo>
                    <a:pt x="279" y="298"/>
                  </a:lnTo>
                  <a:lnTo>
                    <a:pt x="250" y="283"/>
                  </a:lnTo>
                  <a:lnTo>
                    <a:pt x="223" y="266"/>
                  </a:lnTo>
                  <a:lnTo>
                    <a:pt x="196" y="246"/>
                  </a:lnTo>
                  <a:lnTo>
                    <a:pt x="171" y="227"/>
                  </a:lnTo>
                  <a:lnTo>
                    <a:pt x="146" y="206"/>
                  </a:lnTo>
                  <a:lnTo>
                    <a:pt x="123" y="185"/>
                  </a:lnTo>
                  <a:lnTo>
                    <a:pt x="102" y="162"/>
                  </a:lnTo>
                  <a:lnTo>
                    <a:pt x="81" y="137"/>
                  </a:lnTo>
                  <a:lnTo>
                    <a:pt x="71" y="125"/>
                  </a:lnTo>
                  <a:lnTo>
                    <a:pt x="62" y="114"/>
                  </a:lnTo>
                  <a:lnTo>
                    <a:pt x="54" y="102"/>
                  </a:lnTo>
                  <a:lnTo>
                    <a:pt x="46" y="92"/>
                  </a:lnTo>
                  <a:lnTo>
                    <a:pt x="39" y="83"/>
                  </a:lnTo>
                  <a:lnTo>
                    <a:pt x="31" y="73"/>
                  </a:lnTo>
                  <a:lnTo>
                    <a:pt x="25" y="65"/>
                  </a:lnTo>
                  <a:lnTo>
                    <a:pt x="21" y="58"/>
                  </a:lnTo>
                  <a:lnTo>
                    <a:pt x="15" y="50"/>
                  </a:lnTo>
                  <a:lnTo>
                    <a:pt x="12" y="44"/>
                  </a:lnTo>
                  <a:lnTo>
                    <a:pt x="8" y="38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9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7633800" y="3902040"/>
              <a:ext cx="217800" cy="1386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3" h="404">
                  <a:moveTo>
                    <a:pt x="0" y="25"/>
                  </a:moveTo>
                  <a:lnTo>
                    <a:pt x="2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11" y="14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36" y="6"/>
                  </a:lnTo>
                  <a:lnTo>
                    <a:pt x="46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9" y="2"/>
                  </a:lnTo>
                  <a:lnTo>
                    <a:pt x="92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4" y="0"/>
                  </a:lnTo>
                  <a:lnTo>
                    <a:pt x="171" y="2"/>
                  </a:lnTo>
                  <a:lnTo>
                    <a:pt x="186" y="2"/>
                  </a:lnTo>
                  <a:lnTo>
                    <a:pt x="206" y="6"/>
                  </a:lnTo>
                  <a:lnTo>
                    <a:pt x="223" y="8"/>
                  </a:lnTo>
                  <a:lnTo>
                    <a:pt x="240" y="12"/>
                  </a:lnTo>
                  <a:lnTo>
                    <a:pt x="260" y="16"/>
                  </a:lnTo>
                  <a:lnTo>
                    <a:pt x="277" y="22"/>
                  </a:lnTo>
                  <a:lnTo>
                    <a:pt x="296" y="25"/>
                  </a:lnTo>
                  <a:lnTo>
                    <a:pt x="315" y="31"/>
                  </a:lnTo>
                  <a:lnTo>
                    <a:pt x="335" y="39"/>
                  </a:lnTo>
                  <a:lnTo>
                    <a:pt x="354" y="47"/>
                  </a:lnTo>
                  <a:lnTo>
                    <a:pt x="375" y="54"/>
                  </a:lnTo>
                  <a:lnTo>
                    <a:pt x="394" y="62"/>
                  </a:lnTo>
                  <a:lnTo>
                    <a:pt x="415" y="72"/>
                  </a:lnTo>
                  <a:lnTo>
                    <a:pt x="436" y="81"/>
                  </a:lnTo>
                  <a:lnTo>
                    <a:pt x="458" y="91"/>
                  </a:lnTo>
                  <a:lnTo>
                    <a:pt x="477" y="102"/>
                  </a:lnTo>
                  <a:lnTo>
                    <a:pt x="494" y="112"/>
                  </a:lnTo>
                  <a:lnTo>
                    <a:pt x="511" y="122"/>
                  </a:lnTo>
                  <a:lnTo>
                    <a:pt x="527" y="133"/>
                  </a:lnTo>
                  <a:lnTo>
                    <a:pt x="540" y="143"/>
                  </a:lnTo>
                  <a:lnTo>
                    <a:pt x="554" y="152"/>
                  </a:lnTo>
                  <a:lnTo>
                    <a:pt x="567" y="164"/>
                  </a:lnTo>
                  <a:lnTo>
                    <a:pt x="577" y="174"/>
                  </a:lnTo>
                  <a:lnTo>
                    <a:pt x="588" y="185"/>
                  </a:lnTo>
                  <a:lnTo>
                    <a:pt x="596" y="195"/>
                  </a:lnTo>
                  <a:lnTo>
                    <a:pt x="604" y="206"/>
                  </a:lnTo>
                  <a:lnTo>
                    <a:pt x="610" y="216"/>
                  </a:lnTo>
                  <a:lnTo>
                    <a:pt x="615" y="227"/>
                  </a:lnTo>
                  <a:lnTo>
                    <a:pt x="619" y="237"/>
                  </a:lnTo>
                  <a:lnTo>
                    <a:pt x="623" y="249"/>
                  </a:lnTo>
                  <a:lnTo>
                    <a:pt x="627" y="270"/>
                  </a:lnTo>
                  <a:lnTo>
                    <a:pt x="629" y="289"/>
                  </a:lnTo>
                  <a:lnTo>
                    <a:pt x="631" y="308"/>
                  </a:lnTo>
                  <a:lnTo>
                    <a:pt x="633" y="326"/>
                  </a:lnTo>
                  <a:lnTo>
                    <a:pt x="631" y="343"/>
                  </a:lnTo>
                  <a:lnTo>
                    <a:pt x="629" y="358"/>
                  </a:lnTo>
                  <a:lnTo>
                    <a:pt x="627" y="372"/>
                  </a:lnTo>
                  <a:lnTo>
                    <a:pt x="623" y="385"/>
                  </a:lnTo>
                  <a:lnTo>
                    <a:pt x="619" y="391"/>
                  </a:lnTo>
                  <a:lnTo>
                    <a:pt x="615" y="397"/>
                  </a:lnTo>
                  <a:lnTo>
                    <a:pt x="611" y="401"/>
                  </a:lnTo>
                  <a:lnTo>
                    <a:pt x="606" y="403"/>
                  </a:lnTo>
                  <a:lnTo>
                    <a:pt x="598" y="404"/>
                  </a:lnTo>
                  <a:lnTo>
                    <a:pt x="590" y="404"/>
                  </a:lnTo>
                  <a:lnTo>
                    <a:pt x="581" y="403"/>
                  </a:lnTo>
                  <a:lnTo>
                    <a:pt x="571" y="403"/>
                  </a:lnTo>
                  <a:lnTo>
                    <a:pt x="560" y="399"/>
                  </a:lnTo>
                  <a:lnTo>
                    <a:pt x="548" y="395"/>
                  </a:lnTo>
                  <a:lnTo>
                    <a:pt x="535" y="389"/>
                  </a:lnTo>
                  <a:lnTo>
                    <a:pt x="521" y="383"/>
                  </a:lnTo>
                  <a:lnTo>
                    <a:pt x="506" y="376"/>
                  </a:lnTo>
                  <a:lnTo>
                    <a:pt x="488" y="368"/>
                  </a:lnTo>
                  <a:lnTo>
                    <a:pt x="473" y="358"/>
                  </a:lnTo>
                  <a:lnTo>
                    <a:pt x="454" y="349"/>
                  </a:lnTo>
                  <a:lnTo>
                    <a:pt x="417" y="327"/>
                  </a:lnTo>
                  <a:lnTo>
                    <a:pt x="379" y="304"/>
                  </a:lnTo>
                  <a:lnTo>
                    <a:pt x="342" y="281"/>
                  </a:lnTo>
                  <a:lnTo>
                    <a:pt x="304" y="256"/>
                  </a:lnTo>
                  <a:lnTo>
                    <a:pt x="265" y="233"/>
                  </a:lnTo>
                  <a:lnTo>
                    <a:pt x="227" y="208"/>
                  </a:lnTo>
                  <a:lnTo>
                    <a:pt x="150" y="156"/>
                  </a:lnTo>
                  <a:lnTo>
                    <a:pt x="131" y="143"/>
                  </a:lnTo>
                  <a:lnTo>
                    <a:pt x="113" y="131"/>
                  </a:lnTo>
                  <a:lnTo>
                    <a:pt x="98" y="120"/>
                  </a:lnTo>
                  <a:lnTo>
                    <a:pt x="83" y="108"/>
                  </a:lnTo>
                  <a:lnTo>
                    <a:pt x="69" y="97"/>
                  </a:lnTo>
                  <a:lnTo>
                    <a:pt x="56" y="87"/>
                  </a:lnTo>
                  <a:lnTo>
                    <a:pt x="44" y="79"/>
                  </a:lnTo>
                  <a:lnTo>
                    <a:pt x="35" y="70"/>
                  </a:lnTo>
                  <a:lnTo>
                    <a:pt x="25" y="62"/>
                  </a:lnTo>
                  <a:lnTo>
                    <a:pt x="19" y="54"/>
                  </a:lnTo>
                  <a:lnTo>
                    <a:pt x="11" y="49"/>
                  </a:lnTo>
                  <a:lnTo>
                    <a:pt x="8" y="43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32" name="组合 96"/>
          <p:cNvGrpSpPr/>
          <p:nvPr/>
        </p:nvGrpSpPr>
        <p:grpSpPr>
          <a:xfrm>
            <a:off x="7191360" y="3498840"/>
            <a:ext cx="285480" cy="342720"/>
            <a:chOff x="7191360" y="3498840"/>
            <a:chExt cx="285480" cy="342720"/>
          </a:xfrm>
        </p:grpSpPr>
        <p:sp>
          <p:nvSpPr>
            <p:cNvPr id="233" name="Freeform 37"/>
            <p:cNvSpPr/>
            <p:nvPr/>
          </p:nvSpPr>
          <p:spPr>
            <a:xfrm>
              <a:off x="7290000" y="3498840"/>
              <a:ext cx="71640" cy="3427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2" h="996">
                  <a:moveTo>
                    <a:pt x="0" y="0"/>
                  </a:moveTo>
                  <a:lnTo>
                    <a:pt x="25" y="9"/>
                  </a:lnTo>
                  <a:lnTo>
                    <a:pt x="50" y="17"/>
                  </a:lnTo>
                  <a:lnTo>
                    <a:pt x="71" y="27"/>
                  </a:lnTo>
                  <a:lnTo>
                    <a:pt x="92" y="34"/>
                  </a:lnTo>
                  <a:lnTo>
                    <a:pt x="112" y="42"/>
                  </a:lnTo>
                  <a:lnTo>
                    <a:pt x="129" y="50"/>
                  </a:lnTo>
                  <a:lnTo>
                    <a:pt x="144" y="57"/>
                  </a:lnTo>
                  <a:lnTo>
                    <a:pt x="158" y="63"/>
                  </a:lnTo>
                  <a:lnTo>
                    <a:pt x="171" y="69"/>
                  </a:lnTo>
                  <a:lnTo>
                    <a:pt x="181" y="77"/>
                  </a:lnTo>
                  <a:lnTo>
                    <a:pt x="190" y="82"/>
                  </a:lnTo>
                  <a:lnTo>
                    <a:pt x="198" y="86"/>
                  </a:lnTo>
                  <a:lnTo>
                    <a:pt x="204" y="92"/>
                  </a:lnTo>
                  <a:lnTo>
                    <a:pt x="208" y="98"/>
                  </a:lnTo>
                  <a:lnTo>
                    <a:pt x="212" y="102"/>
                  </a:lnTo>
                  <a:lnTo>
                    <a:pt x="212" y="106"/>
                  </a:lnTo>
                  <a:lnTo>
                    <a:pt x="212" y="109"/>
                  </a:lnTo>
                  <a:lnTo>
                    <a:pt x="212" y="115"/>
                  </a:lnTo>
                  <a:lnTo>
                    <a:pt x="212" y="123"/>
                  </a:lnTo>
                  <a:lnTo>
                    <a:pt x="210" y="129"/>
                  </a:lnTo>
                  <a:lnTo>
                    <a:pt x="210" y="138"/>
                  </a:lnTo>
                  <a:lnTo>
                    <a:pt x="208" y="148"/>
                  </a:lnTo>
                  <a:lnTo>
                    <a:pt x="208" y="158"/>
                  </a:lnTo>
                  <a:lnTo>
                    <a:pt x="206" y="169"/>
                  </a:lnTo>
                  <a:lnTo>
                    <a:pt x="206" y="183"/>
                  </a:lnTo>
                  <a:lnTo>
                    <a:pt x="204" y="196"/>
                  </a:lnTo>
                  <a:lnTo>
                    <a:pt x="202" y="209"/>
                  </a:lnTo>
                  <a:lnTo>
                    <a:pt x="200" y="225"/>
                  </a:lnTo>
                  <a:lnTo>
                    <a:pt x="198" y="242"/>
                  </a:lnTo>
                  <a:lnTo>
                    <a:pt x="196" y="259"/>
                  </a:lnTo>
                  <a:lnTo>
                    <a:pt x="194" y="279"/>
                  </a:lnTo>
                  <a:lnTo>
                    <a:pt x="192" y="298"/>
                  </a:lnTo>
                  <a:lnTo>
                    <a:pt x="190" y="308"/>
                  </a:lnTo>
                  <a:lnTo>
                    <a:pt x="190" y="319"/>
                  </a:lnTo>
                  <a:lnTo>
                    <a:pt x="189" y="331"/>
                  </a:lnTo>
                  <a:lnTo>
                    <a:pt x="187" y="344"/>
                  </a:lnTo>
                  <a:lnTo>
                    <a:pt x="187" y="358"/>
                  </a:lnTo>
                  <a:lnTo>
                    <a:pt x="185" y="371"/>
                  </a:lnTo>
                  <a:lnTo>
                    <a:pt x="185" y="386"/>
                  </a:lnTo>
                  <a:lnTo>
                    <a:pt x="183" y="402"/>
                  </a:lnTo>
                  <a:lnTo>
                    <a:pt x="183" y="419"/>
                  </a:lnTo>
                  <a:lnTo>
                    <a:pt x="181" y="436"/>
                  </a:lnTo>
                  <a:lnTo>
                    <a:pt x="179" y="454"/>
                  </a:lnTo>
                  <a:lnTo>
                    <a:pt x="179" y="471"/>
                  </a:lnTo>
                  <a:lnTo>
                    <a:pt x="177" y="490"/>
                  </a:lnTo>
                  <a:lnTo>
                    <a:pt x="177" y="512"/>
                  </a:lnTo>
                  <a:lnTo>
                    <a:pt x="175" y="533"/>
                  </a:lnTo>
                  <a:lnTo>
                    <a:pt x="175" y="554"/>
                  </a:lnTo>
                  <a:lnTo>
                    <a:pt x="173" y="575"/>
                  </a:lnTo>
                  <a:lnTo>
                    <a:pt x="173" y="598"/>
                  </a:lnTo>
                  <a:lnTo>
                    <a:pt x="171" y="623"/>
                  </a:lnTo>
                  <a:lnTo>
                    <a:pt x="171" y="646"/>
                  </a:lnTo>
                  <a:lnTo>
                    <a:pt x="171" y="671"/>
                  </a:lnTo>
                  <a:lnTo>
                    <a:pt x="169" y="698"/>
                  </a:lnTo>
                  <a:lnTo>
                    <a:pt x="169" y="725"/>
                  </a:lnTo>
                  <a:lnTo>
                    <a:pt x="167" y="752"/>
                  </a:lnTo>
                  <a:lnTo>
                    <a:pt x="167" y="779"/>
                  </a:lnTo>
                  <a:lnTo>
                    <a:pt x="165" y="808"/>
                  </a:lnTo>
                  <a:lnTo>
                    <a:pt x="165" y="839"/>
                  </a:lnTo>
                  <a:lnTo>
                    <a:pt x="165" y="867"/>
                  </a:lnTo>
                  <a:lnTo>
                    <a:pt x="164" y="898"/>
                  </a:lnTo>
                  <a:lnTo>
                    <a:pt x="164" y="931"/>
                  </a:lnTo>
                  <a:lnTo>
                    <a:pt x="162" y="964"/>
                  </a:lnTo>
                  <a:lnTo>
                    <a:pt x="162" y="996"/>
                  </a:lnTo>
                  <a:lnTo>
                    <a:pt x="37" y="996"/>
                  </a:lnTo>
                  <a:lnTo>
                    <a:pt x="37" y="948"/>
                  </a:lnTo>
                  <a:lnTo>
                    <a:pt x="37" y="900"/>
                  </a:lnTo>
                  <a:lnTo>
                    <a:pt x="37" y="854"/>
                  </a:lnTo>
                  <a:lnTo>
                    <a:pt x="37" y="810"/>
                  </a:lnTo>
                  <a:lnTo>
                    <a:pt x="37" y="765"/>
                  </a:lnTo>
                  <a:lnTo>
                    <a:pt x="35" y="721"/>
                  </a:lnTo>
                  <a:lnTo>
                    <a:pt x="35" y="681"/>
                  </a:lnTo>
                  <a:lnTo>
                    <a:pt x="35" y="640"/>
                  </a:lnTo>
                  <a:lnTo>
                    <a:pt x="35" y="600"/>
                  </a:lnTo>
                  <a:lnTo>
                    <a:pt x="33" y="562"/>
                  </a:lnTo>
                  <a:lnTo>
                    <a:pt x="33" y="525"/>
                  </a:lnTo>
                  <a:lnTo>
                    <a:pt x="31" y="488"/>
                  </a:lnTo>
                  <a:lnTo>
                    <a:pt x="31" y="454"/>
                  </a:lnTo>
                  <a:lnTo>
                    <a:pt x="29" y="419"/>
                  </a:lnTo>
                  <a:lnTo>
                    <a:pt x="29" y="386"/>
                  </a:lnTo>
                  <a:lnTo>
                    <a:pt x="27" y="354"/>
                  </a:lnTo>
                  <a:lnTo>
                    <a:pt x="27" y="323"/>
                  </a:lnTo>
                  <a:lnTo>
                    <a:pt x="25" y="294"/>
                  </a:lnTo>
                  <a:lnTo>
                    <a:pt x="23" y="265"/>
                  </a:lnTo>
                  <a:lnTo>
                    <a:pt x="23" y="238"/>
                  </a:lnTo>
                  <a:lnTo>
                    <a:pt x="21" y="213"/>
                  </a:lnTo>
                  <a:lnTo>
                    <a:pt x="19" y="188"/>
                  </a:lnTo>
                  <a:lnTo>
                    <a:pt x="17" y="163"/>
                  </a:lnTo>
                  <a:lnTo>
                    <a:pt x="15" y="142"/>
                  </a:lnTo>
                  <a:lnTo>
                    <a:pt x="15" y="119"/>
                  </a:lnTo>
                  <a:lnTo>
                    <a:pt x="14" y="100"/>
                  </a:lnTo>
                  <a:lnTo>
                    <a:pt x="12" y="81"/>
                  </a:lnTo>
                  <a:lnTo>
                    <a:pt x="10" y="61"/>
                  </a:lnTo>
                  <a:lnTo>
                    <a:pt x="6" y="44"/>
                  </a:lnTo>
                  <a:lnTo>
                    <a:pt x="4" y="29"/>
                  </a:lnTo>
                  <a:lnTo>
                    <a:pt x="2" y="13"/>
                  </a:lnTo>
                  <a:lnTo>
                    <a:pt x="0" y="0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>
              <a:off x="7191360" y="3623400"/>
              <a:ext cx="285480" cy="727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832" h="212">
                  <a:moveTo>
                    <a:pt x="784" y="25"/>
                  </a:moveTo>
                  <a:lnTo>
                    <a:pt x="796" y="31"/>
                  </a:lnTo>
                  <a:lnTo>
                    <a:pt x="805" y="37"/>
                  </a:lnTo>
                  <a:lnTo>
                    <a:pt x="813" y="45"/>
                  </a:lnTo>
                  <a:lnTo>
                    <a:pt x="821" y="50"/>
                  </a:lnTo>
                  <a:lnTo>
                    <a:pt x="826" y="58"/>
                  </a:lnTo>
                  <a:lnTo>
                    <a:pt x="830" y="66"/>
                  </a:lnTo>
                  <a:lnTo>
                    <a:pt x="832" y="74"/>
                  </a:lnTo>
                  <a:lnTo>
                    <a:pt x="832" y="81"/>
                  </a:lnTo>
                  <a:lnTo>
                    <a:pt x="832" y="83"/>
                  </a:lnTo>
                  <a:lnTo>
                    <a:pt x="830" y="85"/>
                  </a:lnTo>
                  <a:lnTo>
                    <a:pt x="830" y="87"/>
                  </a:lnTo>
                  <a:lnTo>
                    <a:pt x="828" y="89"/>
                  </a:lnTo>
                  <a:lnTo>
                    <a:pt x="826" y="91"/>
                  </a:lnTo>
                  <a:lnTo>
                    <a:pt x="823" y="95"/>
                  </a:lnTo>
                  <a:lnTo>
                    <a:pt x="819" y="97"/>
                  </a:lnTo>
                  <a:lnTo>
                    <a:pt x="815" y="99"/>
                  </a:lnTo>
                  <a:lnTo>
                    <a:pt x="811" y="100"/>
                  </a:lnTo>
                  <a:lnTo>
                    <a:pt x="807" y="102"/>
                  </a:lnTo>
                  <a:lnTo>
                    <a:pt x="801" y="104"/>
                  </a:lnTo>
                  <a:lnTo>
                    <a:pt x="796" y="108"/>
                  </a:lnTo>
                  <a:lnTo>
                    <a:pt x="788" y="110"/>
                  </a:lnTo>
                  <a:lnTo>
                    <a:pt x="782" y="112"/>
                  </a:lnTo>
                  <a:lnTo>
                    <a:pt x="775" y="114"/>
                  </a:lnTo>
                  <a:lnTo>
                    <a:pt x="765" y="118"/>
                  </a:lnTo>
                  <a:lnTo>
                    <a:pt x="757" y="120"/>
                  </a:lnTo>
                  <a:lnTo>
                    <a:pt x="748" y="122"/>
                  </a:lnTo>
                  <a:lnTo>
                    <a:pt x="738" y="126"/>
                  </a:lnTo>
                  <a:lnTo>
                    <a:pt x="728" y="127"/>
                  </a:lnTo>
                  <a:lnTo>
                    <a:pt x="717" y="131"/>
                  </a:lnTo>
                  <a:lnTo>
                    <a:pt x="705" y="133"/>
                  </a:lnTo>
                  <a:lnTo>
                    <a:pt x="694" y="135"/>
                  </a:lnTo>
                  <a:lnTo>
                    <a:pt x="682" y="139"/>
                  </a:lnTo>
                  <a:lnTo>
                    <a:pt x="669" y="141"/>
                  </a:lnTo>
                  <a:lnTo>
                    <a:pt x="655" y="145"/>
                  </a:lnTo>
                  <a:lnTo>
                    <a:pt x="642" y="147"/>
                  </a:lnTo>
                  <a:lnTo>
                    <a:pt x="628" y="151"/>
                  </a:lnTo>
                  <a:lnTo>
                    <a:pt x="613" y="152"/>
                  </a:lnTo>
                  <a:lnTo>
                    <a:pt x="598" y="156"/>
                  </a:lnTo>
                  <a:lnTo>
                    <a:pt x="582" y="158"/>
                  </a:lnTo>
                  <a:lnTo>
                    <a:pt x="565" y="162"/>
                  </a:lnTo>
                  <a:lnTo>
                    <a:pt x="532" y="168"/>
                  </a:lnTo>
                  <a:lnTo>
                    <a:pt x="501" y="174"/>
                  </a:lnTo>
                  <a:lnTo>
                    <a:pt x="471" y="179"/>
                  </a:lnTo>
                  <a:lnTo>
                    <a:pt x="442" y="183"/>
                  </a:lnTo>
                  <a:lnTo>
                    <a:pt x="415" y="189"/>
                  </a:lnTo>
                  <a:lnTo>
                    <a:pt x="388" y="193"/>
                  </a:lnTo>
                  <a:lnTo>
                    <a:pt x="363" y="197"/>
                  </a:lnTo>
                  <a:lnTo>
                    <a:pt x="340" y="199"/>
                  </a:lnTo>
                  <a:lnTo>
                    <a:pt x="317" y="202"/>
                  </a:lnTo>
                  <a:lnTo>
                    <a:pt x="296" y="204"/>
                  </a:lnTo>
                  <a:lnTo>
                    <a:pt x="276" y="206"/>
                  </a:lnTo>
                  <a:lnTo>
                    <a:pt x="259" y="208"/>
                  </a:lnTo>
                  <a:lnTo>
                    <a:pt x="242" y="210"/>
                  </a:lnTo>
                  <a:lnTo>
                    <a:pt x="225" y="212"/>
                  </a:lnTo>
                  <a:lnTo>
                    <a:pt x="211" y="212"/>
                  </a:lnTo>
                  <a:lnTo>
                    <a:pt x="198" y="212"/>
                  </a:lnTo>
                  <a:lnTo>
                    <a:pt x="175" y="212"/>
                  </a:lnTo>
                  <a:lnTo>
                    <a:pt x="151" y="210"/>
                  </a:lnTo>
                  <a:lnTo>
                    <a:pt x="130" y="210"/>
                  </a:lnTo>
                  <a:lnTo>
                    <a:pt x="111" y="208"/>
                  </a:lnTo>
                  <a:lnTo>
                    <a:pt x="94" y="204"/>
                  </a:lnTo>
                  <a:lnTo>
                    <a:pt x="76" y="202"/>
                  </a:lnTo>
                  <a:lnTo>
                    <a:pt x="63" y="197"/>
                  </a:lnTo>
                  <a:lnTo>
                    <a:pt x="50" y="193"/>
                  </a:lnTo>
                  <a:lnTo>
                    <a:pt x="38" y="189"/>
                  </a:lnTo>
                  <a:lnTo>
                    <a:pt x="26" y="183"/>
                  </a:lnTo>
                  <a:lnTo>
                    <a:pt x="19" y="179"/>
                  </a:lnTo>
                  <a:lnTo>
                    <a:pt x="11" y="176"/>
                  </a:lnTo>
                  <a:lnTo>
                    <a:pt x="7" y="170"/>
                  </a:lnTo>
                  <a:lnTo>
                    <a:pt x="3" y="166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1" y="154"/>
                  </a:lnTo>
                  <a:lnTo>
                    <a:pt x="3" y="152"/>
                  </a:lnTo>
                  <a:lnTo>
                    <a:pt x="5" y="151"/>
                  </a:lnTo>
                  <a:lnTo>
                    <a:pt x="7" y="149"/>
                  </a:lnTo>
                  <a:lnTo>
                    <a:pt x="11" y="147"/>
                  </a:lnTo>
                  <a:lnTo>
                    <a:pt x="15" y="145"/>
                  </a:lnTo>
                  <a:lnTo>
                    <a:pt x="21" y="143"/>
                  </a:lnTo>
                  <a:lnTo>
                    <a:pt x="26" y="141"/>
                  </a:lnTo>
                  <a:lnTo>
                    <a:pt x="32" y="139"/>
                  </a:lnTo>
                  <a:lnTo>
                    <a:pt x="38" y="137"/>
                  </a:lnTo>
                  <a:lnTo>
                    <a:pt x="46" y="135"/>
                  </a:lnTo>
                  <a:lnTo>
                    <a:pt x="53" y="131"/>
                  </a:lnTo>
                  <a:lnTo>
                    <a:pt x="63" y="129"/>
                  </a:lnTo>
                  <a:lnTo>
                    <a:pt x="73" y="127"/>
                  </a:lnTo>
                  <a:lnTo>
                    <a:pt x="82" y="124"/>
                  </a:lnTo>
                  <a:lnTo>
                    <a:pt x="92" y="122"/>
                  </a:lnTo>
                  <a:lnTo>
                    <a:pt x="103" y="118"/>
                  </a:lnTo>
                  <a:lnTo>
                    <a:pt x="115" y="116"/>
                  </a:lnTo>
                  <a:lnTo>
                    <a:pt x="128" y="112"/>
                  </a:lnTo>
                  <a:lnTo>
                    <a:pt x="142" y="110"/>
                  </a:lnTo>
                  <a:lnTo>
                    <a:pt x="155" y="106"/>
                  </a:lnTo>
                  <a:lnTo>
                    <a:pt x="169" y="102"/>
                  </a:lnTo>
                  <a:lnTo>
                    <a:pt x="184" y="99"/>
                  </a:lnTo>
                  <a:lnTo>
                    <a:pt x="200" y="95"/>
                  </a:lnTo>
                  <a:lnTo>
                    <a:pt x="217" y="93"/>
                  </a:lnTo>
                  <a:lnTo>
                    <a:pt x="234" y="89"/>
                  </a:lnTo>
                  <a:lnTo>
                    <a:pt x="251" y="85"/>
                  </a:lnTo>
                  <a:lnTo>
                    <a:pt x="269" y="81"/>
                  </a:lnTo>
                  <a:lnTo>
                    <a:pt x="288" y="75"/>
                  </a:lnTo>
                  <a:lnTo>
                    <a:pt x="309" y="72"/>
                  </a:lnTo>
                  <a:lnTo>
                    <a:pt x="328" y="68"/>
                  </a:lnTo>
                  <a:lnTo>
                    <a:pt x="350" y="64"/>
                  </a:lnTo>
                  <a:lnTo>
                    <a:pt x="369" y="60"/>
                  </a:lnTo>
                  <a:lnTo>
                    <a:pt x="388" y="56"/>
                  </a:lnTo>
                  <a:lnTo>
                    <a:pt x="407" y="52"/>
                  </a:lnTo>
                  <a:lnTo>
                    <a:pt x="425" y="49"/>
                  </a:lnTo>
                  <a:lnTo>
                    <a:pt x="442" y="45"/>
                  </a:lnTo>
                  <a:lnTo>
                    <a:pt x="459" y="43"/>
                  </a:lnTo>
                  <a:lnTo>
                    <a:pt x="476" y="39"/>
                  </a:lnTo>
                  <a:lnTo>
                    <a:pt x="492" y="35"/>
                  </a:lnTo>
                  <a:lnTo>
                    <a:pt x="507" y="33"/>
                  </a:lnTo>
                  <a:lnTo>
                    <a:pt x="521" y="29"/>
                  </a:lnTo>
                  <a:lnTo>
                    <a:pt x="536" y="27"/>
                  </a:lnTo>
                  <a:lnTo>
                    <a:pt x="550" y="25"/>
                  </a:lnTo>
                  <a:lnTo>
                    <a:pt x="561" y="22"/>
                  </a:lnTo>
                  <a:lnTo>
                    <a:pt x="575" y="20"/>
                  </a:lnTo>
                  <a:lnTo>
                    <a:pt x="586" y="18"/>
                  </a:lnTo>
                  <a:lnTo>
                    <a:pt x="598" y="16"/>
                  </a:lnTo>
                  <a:lnTo>
                    <a:pt x="607" y="14"/>
                  </a:lnTo>
                  <a:lnTo>
                    <a:pt x="617" y="12"/>
                  </a:lnTo>
                  <a:lnTo>
                    <a:pt x="626" y="10"/>
                  </a:lnTo>
                  <a:lnTo>
                    <a:pt x="636" y="8"/>
                  </a:lnTo>
                  <a:lnTo>
                    <a:pt x="644" y="8"/>
                  </a:lnTo>
                  <a:lnTo>
                    <a:pt x="651" y="6"/>
                  </a:lnTo>
                  <a:lnTo>
                    <a:pt x="659" y="4"/>
                  </a:lnTo>
                  <a:lnTo>
                    <a:pt x="665" y="4"/>
                  </a:lnTo>
                  <a:lnTo>
                    <a:pt x="671" y="2"/>
                  </a:lnTo>
                  <a:lnTo>
                    <a:pt x="676" y="2"/>
                  </a:lnTo>
                  <a:lnTo>
                    <a:pt x="682" y="2"/>
                  </a:lnTo>
                  <a:lnTo>
                    <a:pt x="686" y="0"/>
                  </a:lnTo>
                  <a:lnTo>
                    <a:pt x="690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705" y="0"/>
                  </a:lnTo>
                  <a:lnTo>
                    <a:pt x="715" y="2"/>
                  </a:lnTo>
                  <a:lnTo>
                    <a:pt x="726" y="4"/>
                  </a:lnTo>
                  <a:lnTo>
                    <a:pt x="736" y="6"/>
                  </a:lnTo>
                  <a:lnTo>
                    <a:pt x="748" y="10"/>
                  </a:lnTo>
                  <a:lnTo>
                    <a:pt x="759" y="14"/>
                  </a:lnTo>
                  <a:lnTo>
                    <a:pt x="771" y="20"/>
                  </a:lnTo>
                  <a:lnTo>
                    <a:pt x="784" y="25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35" name="组合 97"/>
          <p:cNvGrpSpPr/>
          <p:nvPr/>
        </p:nvGrpSpPr>
        <p:grpSpPr>
          <a:xfrm>
            <a:off x="7007400" y="3432240"/>
            <a:ext cx="680400" cy="469440"/>
            <a:chOff x="7007400" y="3432240"/>
            <a:chExt cx="680400" cy="469440"/>
          </a:xfrm>
        </p:grpSpPr>
        <p:sp>
          <p:nvSpPr>
            <p:cNvPr id="236" name="Freeform 36"/>
            <p:cNvSpPr/>
            <p:nvPr/>
          </p:nvSpPr>
          <p:spPr>
            <a:xfrm>
              <a:off x="7007400" y="3508560"/>
              <a:ext cx="151560" cy="39312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42" h="1142">
                  <a:moveTo>
                    <a:pt x="50" y="132"/>
                  </a:moveTo>
                  <a:lnTo>
                    <a:pt x="39" y="111"/>
                  </a:lnTo>
                  <a:lnTo>
                    <a:pt x="29" y="92"/>
                  </a:lnTo>
                  <a:lnTo>
                    <a:pt x="19" y="75"/>
                  </a:lnTo>
                  <a:lnTo>
                    <a:pt x="14" y="59"/>
                  </a:lnTo>
                  <a:lnTo>
                    <a:pt x="8" y="46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60" y="2"/>
                  </a:lnTo>
                  <a:lnTo>
                    <a:pt x="75" y="2"/>
                  </a:lnTo>
                  <a:lnTo>
                    <a:pt x="92" y="2"/>
                  </a:lnTo>
                  <a:lnTo>
                    <a:pt x="112" y="3"/>
                  </a:lnTo>
                  <a:lnTo>
                    <a:pt x="133" y="7"/>
                  </a:lnTo>
                  <a:lnTo>
                    <a:pt x="156" y="9"/>
                  </a:lnTo>
                  <a:lnTo>
                    <a:pt x="181" y="13"/>
                  </a:lnTo>
                  <a:lnTo>
                    <a:pt x="208" y="17"/>
                  </a:lnTo>
                  <a:lnTo>
                    <a:pt x="237" y="21"/>
                  </a:lnTo>
                  <a:lnTo>
                    <a:pt x="248" y="77"/>
                  </a:lnTo>
                  <a:lnTo>
                    <a:pt x="262" y="130"/>
                  </a:lnTo>
                  <a:lnTo>
                    <a:pt x="273" y="182"/>
                  </a:lnTo>
                  <a:lnTo>
                    <a:pt x="283" y="232"/>
                  </a:lnTo>
                  <a:lnTo>
                    <a:pt x="294" y="282"/>
                  </a:lnTo>
                  <a:lnTo>
                    <a:pt x="304" y="331"/>
                  </a:lnTo>
                  <a:lnTo>
                    <a:pt x="315" y="377"/>
                  </a:lnTo>
                  <a:lnTo>
                    <a:pt x="325" y="421"/>
                  </a:lnTo>
                  <a:lnTo>
                    <a:pt x="333" y="463"/>
                  </a:lnTo>
                  <a:lnTo>
                    <a:pt x="342" y="506"/>
                  </a:lnTo>
                  <a:lnTo>
                    <a:pt x="350" y="544"/>
                  </a:lnTo>
                  <a:lnTo>
                    <a:pt x="360" y="583"/>
                  </a:lnTo>
                  <a:lnTo>
                    <a:pt x="367" y="621"/>
                  </a:lnTo>
                  <a:lnTo>
                    <a:pt x="375" y="656"/>
                  </a:lnTo>
                  <a:lnTo>
                    <a:pt x="381" y="690"/>
                  </a:lnTo>
                  <a:lnTo>
                    <a:pt x="388" y="721"/>
                  </a:lnTo>
                  <a:lnTo>
                    <a:pt x="394" y="752"/>
                  </a:lnTo>
                  <a:lnTo>
                    <a:pt x="400" y="783"/>
                  </a:lnTo>
                  <a:lnTo>
                    <a:pt x="406" y="810"/>
                  </a:lnTo>
                  <a:lnTo>
                    <a:pt x="410" y="837"/>
                  </a:lnTo>
                  <a:lnTo>
                    <a:pt x="415" y="860"/>
                  </a:lnTo>
                  <a:lnTo>
                    <a:pt x="419" y="883"/>
                  </a:lnTo>
                  <a:lnTo>
                    <a:pt x="423" y="904"/>
                  </a:lnTo>
                  <a:lnTo>
                    <a:pt x="427" y="925"/>
                  </a:lnTo>
                  <a:lnTo>
                    <a:pt x="431" y="942"/>
                  </a:lnTo>
                  <a:lnTo>
                    <a:pt x="433" y="960"/>
                  </a:lnTo>
                  <a:lnTo>
                    <a:pt x="437" y="975"/>
                  </a:lnTo>
                  <a:lnTo>
                    <a:pt x="438" y="989"/>
                  </a:lnTo>
                  <a:lnTo>
                    <a:pt x="440" y="1002"/>
                  </a:lnTo>
                  <a:lnTo>
                    <a:pt x="440" y="1012"/>
                  </a:lnTo>
                  <a:lnTo>
                    <a:pt x="442" y="1021"/>
                  </a:lnTo>
                  <a:lnTo>
                    <a:pt x="442" y="1029"/>
                  </a:lnTo>
                  <a:lnTo>
                    <a:pt x="442" y="1042"/>
                  </a:lnTo>
                  <a:lnTo>
                    <a:pt x="442" y="1056"/>
                  </a:lnTo>
                  <a:lnTo>
                    <a:pt x="442" y="1067"/>
                  </a:lnTo>
                  <a:lnTo>
                    <a:pt x="442" y="1079"/>
                  </a:lnTo>
                  <a:lnTo>
                    <a:pt x="442" y="1089"/>
                  </a:lnTo>
                  <a:lnTo>
                    <a:pt x="440" y="1098"/>
                  </a:lnTo>
                  <a:lnTo>
                    <a:pt x="440" y="1106"/>
                  </a:lnTo>
                  <a:lnTo>
                    <a:pt x="438" y="1114"/>
                  </a:lnTo>
                  <a:lnTo>
                    <a:pt x="437" y="1121"/>
                  </a:lnTo>
                  <a:lnTo>
                    <a:pt x="433" y="1127"/>
                  </a:lnTo>
                  <a:lnTo>
                    <a:pt x="431" y="1131"/>
                  </a:lnTo>
                  <a:lnTo>
                    <a:pt x="427" y="1135"/>
                  </a:lnTo>
                  <a:lnTo>
                    <a:pt x="423" y="1139"/>
                  </a:lnTo>
                  <a:lnTo>
                    <a:pt x="421" y="1140"/>
                  </a:lnTo>
                  <a:lnTo>
                    <a:pt x="415" y="1142"/>
                  </a:lnTo>
                  <a:lnTo>
                    <a:pt x="412" y="1142"/>
                  </a:lnTo>
                  <a:lnTo>
                    <a:pt x="408" y="1142"/>
                  </a:lnTo>
                  <a:lnTo>
                    <a:pt x="402" y="1140"/>
                  </a:lnTo>
                  <a:lnTo>
                    <a:pt x="396" y="1137"/>
                  </a:lnTo>
                  <a:lnTo>
                    <a:pt x="392" y="1133"/>
                  </a:lnTo>
                  <a:lnTo>
                    <a:pt x="387" y="1127"/>
                  </a:lnTo>
                  <a:lnTo>
                    <a:pt x="381" y="1121"/>
                  </a:lnTo>
                  <a:lnTo>
                    <a:pt x="377" y="1114"/>
                  </a:lnTo>
                  <a:lnTo>
                    <a:pt x="371" y="1106"/>
                  </a:lnTo>
                  <a:lnTo>
                    <a:pt x="365" y="1094"/>
                  </a:lnTo>
                  <a:lnTo>
                    <a:pt x="360" y="1085"/>
                  </a:lnTo>
                  <a:lnTo>
                    <a:pt x="354" y="1071"/>
                  </a:lnTo>
                  <a:lnTo>
                    <a:pt x="348" y="1058"/>
                  </a:lnTo>
                  <a:lnTo>
                    <a:pt x="342" y="1044"/>
                  </a:lnTo>
                  <a:lnTo>
                    <a:pt x="337" y="1027"/>
                  </a:lnTo>
                  <a:lnTo>
                    <a:pt x="329" y="1010"/>
                  </a:lnTo>
                  <a:lnTo>
                    <a:pt x="323" y="992"/>
                  </a:lnTo>
                  <a:lnTo>
                    <a:pt x="317" y="973"/>
                  </a:lnTo>
                  <a:lnTo>
                    <a:pt x="310" y="952"/>
                  </a:lnTo>
                  <a:lnTo>
                    <a:pt x="304" y="931"/>
                  </a:lnTo>
                  <a:lnTo>
                    <a:pt x="296" y="908"/>
                  </a:lnTo>
                  <a:lnTo>
                    <a:pt x="288" y="883"/>
                  </a:lnTo>
                  <a:lnTo>
                    <a:pt x="281" y="858"/>
                  </a:lnTo>
                  <a:lnTo>
                    <a:pt x="273" y="831"/>
                  </a:lnTo>
                  <a:lnTo>
                    <a:pt x="263" y="802"/>
                  </a:lnTo>
                  <a:lnTo>
                    <a:pt x="256" y="773"/>
                  </a:lnTo>
                  <a:lnTo>
                    <a:pt x="246" y="742"/>
                  </a:lnTo>
                  <a:lnTo>
                    <a:pt x="237" y="710"/>
                  </a:lnTo>
                  <a:lnTo>
                    <a:pt x="227" y="677"/>
                  </a:lnTo>
                  <a:lnTo>
                    <a:pt x="217" y="642"/>
                  </a:lnTo>
                  <a:lnTo>
                    <a:pt x="208" y="606"/>
                  </a:lnTo>
                  <a:lnTo>
                    <a:pt x="198" y="569"/>
                  </a:lnTo>
                  <a:lnTo>
                    <a:pt x="187" y="531"/>
                  </a:lnTo>
                  <a:lnTo>
                    <a:pt x="175" y="492"/>
                  </a:lnTo>
                  <a:lnTo>
                    <a:pt x="165" y="456"/>
                  </a:lnTo>
                  <a:lnTo>
                    <a:pt x="156" y="421"/>
                  </a:lnTo>
                  <a:lnTo>
                    <a:pt x="146" y="388"/>
                  </a:lnTo>
                  <a:lnTo>
                    <a:pt x="137" y="357"/>
                  </a:lnTo>
                  <a:lnTo>
                    <a:pt x="127" y="329"/>
                  </a:lnTo>
                  <a:lnTo>
                    <a:pt x="117" y="302"/>
                  </a:lnTo>
                  <a:lnTo>
                    <a:pt x="110" y="275"/>
                  </a:lnTo>
                  <a:lnTo>
                    <a:pt x="100" y="252"/>
                  </a:lnTo>
                  <a:lnTo>
                    <a:pt x="92" y="229"/>
                  </a:lnTo>
                  <a:lnTo>
                    <a:pt x="85" y="209"/>
                  </a:lnTo>
                  <a:lnTo>
                    <a:pt x="77" y="190"/>
                  </a:lnTo>
                  <a:lnTo>
                    <a:pt x="69" y="173"/>
                  </a:lnTo>
                  <a:lnTo>
                    <a:pt x="64" y="157"/>
                  </a:lnTo>
                  <a:lnTo>
                    <a:pt x="56" y="144"/>
                  </a:lnTo>
                  <a:lnTo>
                    <a:pt x="50" y="132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7" name="Freeform 39"/>
            <p:cNvSpPr/>
            <p:nvPr/>
          </p:nvSpPr>
          <p:spPr>
            <a:xfrm>
              <a:off x="7144200" y="3803040"/>
              <a:ext cx="376560" cy="766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096" h="223">
                  <a:moveTo>
                    <a:pt x="0" y="223"/>
                  </a:moveTo>
                  <a:lnTo>
                    <a:pt x="0" y="98"/>
                  </a:lnTo>
                  <a:lnTo>
                    <a:pt x="12" y="98"/>
                  </a:lnTo>
                  <a:lnTo>
                    <a:pt x="27" y="96"/>
                  </a:lnTo>
                  <a:lnTo>
                    <a:pt x="42" y="96"/>
                  </a:lnTo>
                  <a:lnTo>
                    <a:pt x="58" y="94"/>
                  </a:lnTo>
                  <a:lnTo>
                    <a:pt x="77" y="92"/>
                  </a:lnTo>
                  <a:lnTo>
                    <a:pt x="96" y="90"/>
                  </a:lnTo>
                  <a:lnTo>
                    <a:pt x="117" y="90"/>
                  </a:lnTo>
                  <a:lnTo>
                    <a:pt x="139" y="88"/>
                  </a:lnTo>
                  <a:lnTo>
                    <a:pt x="164" y="86"/>
                  </a:lnTo>
                  <a:lnTo>
                    <a:pt x="189" y="82"/>
                  </a:lnTo>
                  <a:lnTo>
                    <a:pt x="214" y="81"/>
                  </a:lnTo>
                  <a:lnTo>
                    <a:pt x="242" y="79"/>
                  </a:lnTo>
                  <a:lnTo>
                    <a:pt x="271" y="77"/>
                  </a:lnTo>
                  <a:lnTo>
                    <a:pt x="302" y="73"/>
                  </a:lnTo>
                  <a:lnTo>
                    <a:pt x="335" y="71"/>
                  </a:lnTo>
                  <a:lnTo>
                    <a:pt x="367" y="67"/>
                  </a:lnTo>
                  <a:lnTo>
                    <a:pt x="402" y="65"/>
                  </a:lnTo>
                  <a:lnTo>
                    <a:pt x="439" y="61"/>
                  </a:lnTo>
                  <a:lnTo>
                    <a:pt x="477" y="57"/>
                  </a:lnTo>
                  <a:lnTo>
                    <a:pt x="515" y="54"/>
                  </a:lnTo>
                  <a:lnTo>
                    <a:pt x="556" y="50"/>
                  </a:lnTo>
                  <a:lnTo>
                    <a:pt x="598" y="46"/>
                  </a:lnTo>
                  <a:lnTo>
                    <a:pt x="642" y="42"/>
                  </a:lnTo>
                  <a:lnTo>
                    <a:pt x="687" y="38"/>
                  </a:lnTo>
                  <a:lnTo>
                    <a:pt x="733" y="34"/>
                  </a:lnTo>
                  <a:lnTo>
                    <a:pt x="781" y="31"/>
                  </a:lnTo>
                  <a:lnTo>
                    <a:pt x="831" y="25"/>
                  </a:lnTo>
                  <a:lnTo>
                    <a:pt x="881" y="21"/>
                  </a:lnTo>
                  <a:lnTo>
                    <a:pt x="933" y="15"/>
                  </a:lnTo>
                  <a:lnTo>
                    <a:pt x="985" y="9"/>
                  </a:lnTo>
                  <a:lnTo>
                    <a:pt x="1040" y="6"/>
                  </a:lnTo>
                  <a:lnTo>
                    <a:pt x="1096" y="0"/>
                  </a:lnTo>
                  <a:lnTo>
                    <a:pt x="1096" y="136"/>
                  </a:lnTo>
                  <a:lnTo>
                    <a:pt x="996" y="142"/>
                  </a:lnTo>
                  <a:lnTo>
                    <a:pt x="894" y="150"/>
                  </a:lnTo>
                  <a:lnTo>
                    <a:pt x="790" y="156"/>
                  </a:lnTo>
                  <a:lnTo>
                    <a:pt x="687" y="161"/>
                  </a:lnTo>
                  <a:lnTo>
                    <a:pt x="673" y="161"/>
                  </a:lnTo>
                  <a:lnTo>
                    <a:pt x="660" y="163"/>
                  </a:lnTo>
                  <a:lnTo>
                    <a:pt x="644" y="163"/>
                  </a:lnTo>
                  <a:lnTo>
                    <a:pt x="629" y="165"/>
                  </a:lnTo>
                  <a:lnTo>
                    <a:pt x="614" y="165"/>
                  </a:lnTo>
                  <a:lnTo>
                    <a:pt x="598" y="167"/>
                  </a:lnTo>
                  <a:lnTo>
                    <a:pt x="581" y="169"/>
                  </a:lnTo>
                  <a:lnTo>
                    <a:pt x="564" y="169"/>
                  </a:lnTo>
                  <a:lnTo>
                    <a:pt x="546" y="171"/>
                  </a:lnTo>
                  <a:lnTo>
                    <a:pt x="527" y="173"/>
                  </a:lnTo>
                  <a:lnTo>
                    <a:pt x="510" y="175"/>
                  </a:lnTo>
                  <a:lnTo>
                    <a:pt x="490" y="175"/>
                  </a:lnTo>
                  <a:lnTo>
                    <a:pt x="471" y="177"/>
                  </a:lnTo>
                  <a:lnTo>
                    <a:pt x="450" y="179"/>
                  </a:lnTo>
                  <a:lnTo>
                    <a:pt x="429" y="181"/>
                  </a:lnTo>
                  <a:lnTo>
                    <a:pt x="408" y="183"/>
                  </a:lnTo>
                  <a:lnTo>
                    <a:pt x="387" y="184"/>
                  </a:lnTo>
                  <a:lnTo>
                    <a:pt x="364" y="186"/>
                  </a:lnTo>
                  <a:lnTo>
                    <a:pt x="342" y="188"/>
                  </a:lnTo>
                  <a:lnTo>
                    <a:pt x="319" y="190"/>
                  </a:lnTo>
                  <a:lnTo>
                    <a:pt x="294" y="194"/>
                  </a:lnTo>
                  <a:lnTo>
                    <a:pt x="271" y="196"/>
                  </a:lnTo>
                  <a:lnTo>
                    <a:pt x="246" y="198"/>
                  </a:lnTo>
                  <a:lnTo>
                    <a:pt x="221" y="200"/>
                  </a:lnTo>
                  <a:lnTo>
                    <a:pt x="194" y="204"/>
                  </a:lnTo>
                  <a:lnTo>
                    <a:pt x="169" y="206"/>
                  </a:lnTo>
                  <a:lnTo>
                    <a:pt x="142" y="208"/>
                  </a:lnTo>
                  <a:lnTo>
                    <a:pt x="114" y="211"/>
                  </a:lnTo>
                  <a:lnTo>
                    <a:pt x="87" y="213"/>
                  </a:lnTo>
                  <a:lnTo>
                    <a:pt x="58" y="217"/>
                  </a:lnTo>
                  <a:lnTo>
                    <a:pt x="29" y="219"/>
                  </a:lnTo>
                  <a:lnTo>
                    <a:pt x="0" y="223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8" name="Freeform 40"/>
            <p:cNvSpPr/>
            <p:nvPr/>
          </p:nvSpPr>
          <p:spPr>
            <a:xfrm>
              <a:off x="7062840" y="3432240"/>
              <a:ext cx="624960" cy="45432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1819" h="1322">
                  <a:moveTo>
                    <a:pt x="1301" y="1322"/>
                  </a:moveTo>
                  <a:lnTo>
                    <a:pt x="1298" y="1322"/>
                  </a:lnTo>
                  <a:lnTo>
                    <a:pt x="1294" y="1320"/>
                  </a:lnTo>
                  <a:lnTo>
                    <a:pt x="1290" y="1318"/>
                  </a:lnTo>
                  <a:lnTo>
                    <a:pt x="1286" y="1316"/>
                  </a:lnTo>
                  <a:lnTo>
                    <a:pt x="1284" y="1313"/>
                  </a:lnTo>
                  <a:lnTo>
                    <a:pt x="1280" y="1309"/>
                  </a:lnTo>
                  <a:lnTo>
                    <a:pt x="1278" y="1305"/>
                  </a:lnTo>
                  <a:lnTo>
                    <a:pt x="1276" y="1299"/>
                  </a:lnTo>
                  <a:lnTo>
                    <a:pt x="1275" y="1293"/>
                  </a:lnTo>
                  <a:lnTo>
                    <a:pt x="1273" y="1288"/>
                  </a:lnTo>
                  <a:lnTo>
                    <a:pt x="1273" y="1280"/>
                  </a:lnTo>
                  <a:lnTo>
                    <a:pt x="1271" y="1274"/>
                  </a:lnTo>
                  <a:lnTo>
                    <a:pt x="1271" y="1264"/>
                  </a:lnTo>
                  <a:lnTo>
                    <a:pt x="1271" y="1257"/>
                  </a:lnTo>
                  <a:lnTo>
                    <a:pt x="1271" y="1247"/>
                  </a:lnTo>
                  <a:lnTo>
                    <a:pt x="1271" y="1238"/>
                  </a:lnTo>
                  <a:lnTo>
                    <a:pt x="1271" y="1226"/>
                  </a:lnTo>
                  <a:lnTo>
                    <a:pt x="1273" y="1214"/>
                  </a:lnTo>
                  <a:lnTo>
                    <a:pt x="1273" y="1203"/>
                  </a:lnTo>
                  <a:lnTo>
                    <a:pt x="1275" y="1191"/>
                  </a:lnTo>
                  <a:lnTo>
                    <a:pt x="1276" y="1178"/>
                  </a:lnTo>
                  <a:lnTo>
                    <a:pt x="1278" y="1164"/>
                  </a:lnTo>
                  <a:lnTo>
                    <a:pt x="1280" y="1149"/>
                  </a:lnTo>
                  <a:lnTo>
                    <a:pt x="1284" y="1134"/>
                  </a:lnTo>
                  <a:lnTo>
                    <a:pt x="1286" y="1118"/>
                  </a:lnTo>
                  <a:lnTo>
                    <a:pt x="1290" y="1103"/>
                  </a:lnTo>
                  <a:lnTo>
                    <a:pt x="1294" y="1086"/>
                  </a:lnTo>
                  <a:lnTo>
                    <a:pt x="1298" y="1068"/>
                  </a:lnTo>
                  <a:lnTo>
                    <a:pt x="1301" y="1049"/>
                  </a:lnTo>
                  <a:lnTo>
                    <a:pt x="1305" y="1032"/>
                  </a:lnTo>
                  <a:lnTo>
                    <a:pt x="1309" y="1010"/>
                  </a:lnTo>
                  <a:lnTo>
                    <a:pt x="1315" y="991"/>
                  </a:lnTo>
                  <a:lnTo>
                    <a:pt x="1325" y="951"/>
                  </a:lnTo>
                  <a:lnTo>
                    <a:pt x="1334" y="912"/>
                  </a:lnTo>
                  <a:lnTo>
                    <a:pt x="1344" y="874"/>
                  </a:lnTo>
                  <a:lnTo>
                    <a:pt x="1351" y="837"/>
                  </a:lnTo>
                  <a:lnTo>
                    <a:pt x="1361" y="801"/>
                  </a:lnTo>
                  <a:lnTo>
                    <a:pt x="1369" y="766"/>
                  </a:lnTo>
                  <a:lnTo>
                    <a:pt x="1376" y="732"/>
                  </a:lnTo>
                  <a:lnTo>
                    <a:pt x="1382" y="699"/>
                  </a:lnTo>
                  <a:lnTo>
                    <a:pt x="1390" y="666"/>
                  </a:lnTo>
                  <a:lnTo>
                    <a:pt x="1396" y="635"/>
                  </a:lnTo>
                  <a:lnTo>
                    <a:pt x="1401" y="605"/>
                  </a:lnTo>
                  <a:lnTo>
                    <a:pt x="1407" y="576"/>
                  </a:lnTo>
                  <a:lnTo>
                    <a:pt x="1413" y="547"/>
                  </a:lnTo>
                  <a:lnTo>
                    <a:pt x="1419" y="520"/>
                  </a:lnTo>
                  <a:lnTo>
                    <a:pt x="1423" y="493"/>
                  </a:lnTo>
                  <a:lnTo>
                    <a:pt x="1426" y="468"/>
                  </a:lnTo>
                  <a:lnTo>
                    <a:pt x="1430" y="443"/>
                  </a:lnTo>
                  <a:lnTo>
                    <a:pt x="1434" y="420"/>
                  </a:lnTo>
                  <a:lnTo>
                    <a:pt x="1436" y="399"/>
                  </a:lnTo>
                  <a:lnTo>
                    <a:pt x="1438" y="379"/>
                  </a:lnTo>
                  <a:lnTo>
                    <a:pt x="1440" y="360"/>
                  </a:lnTo>
                  <a:lnTo>
                    <a:pt x="1442" y="341"/>
                  </a:lnTo>
                  <a:lnTo>
                    <a:pt x="1442" y="326"/>
                  </a:lnTo>
                  <a:lnTo>
                    <a:pt x="1442" y="310"/>
                  </a:lnTo>
                  <a:lnTo>
                    <a:pt x="1442" y="295"/>
                  </a:lnTo>
                  <a:lnTo>
                    <a:pt x="1442" y="281"/>
                  </a:lnTo>
                  <a:lnTo>
                    <a:pt x="1440" y="270"/>
                  </a:lnTo>
                  <a:lnTo>
                    <a:pt x="1438" y="260"/>
                  </a:lnTo>
                  <a:lnTo>
                    <a:pt x="1436" y="251"/>
                  </a:lnTo>
                  <a:lnTo>
                    <a:pt x="1434" y="243"/>
                  </a:lnTo>
                  <a:lnTo>
                    <a:pt x="1430" y="237"/>
                  </a:lnTo>
                  <a:lnTo>
                    <a:pt x="1426" y="231"/>
                  </a:lnTo>
                  <a:lnTo>
                    <a:pt x="1423" y="227"/>
                  </a:lnTo>
                  <a:lnTo>
                    <a:pt x="1417" y="222"/>
                  </a:lnTo>
                  <a:lnTo>
                    <a:pt x="1411" y="218"/>
                  </a:lnTo>
                  <a:lnTo>
                    <a:pt x="1405" y="216"/>
                  </a:lnTo>
                  <a:lnTo>
                    <a:pt x="1398" y="212"/>
                  </a:lnTo>
                  <a:lnTo>
                    <a:pt x="1390" y="208"/>
                  </a:lnTo>
                  <a:lnTo>
                    <a:pt x="1382" y="206"/>
                  </a:lnTo>
                  <a:lnTo>
                    <a:pt x="1373" y="204"/>
                  </a:lnTo>
                  <a:lnTo>
                    <a:pt x="1363" y="202"/>
                  </a:lnTo>
                  <a:lnTo>
                    <a:pt x="1353" y="201"/>
                  </a:lnTo>
                  <a:lnTo>
                    <a:pt x="1342" y="199"/>
                  </a:lnTo>
                  <a:lnTo>
                    <a:pt x="1330" y="197"/>
                  </a:lnTo>
                  <a:lnTo>
                    <a:pt x="1319" y="197"/>
                  </a:lnTo>
                  <a:lnTo>
                    <a:pt x="1305" y="195"/>
                  </a:lnTo>
                  <a:lnTo>
                    <a:pt x="1292" y="195"/>
                  </a:lnTo>
                  <a:lnTo>
                    <a:pt x="1276" y="195"/>
                  </a:lnTo>
                  <a:lnTo>
                    <a:pt x="1269" y="195"/>
                  </a:lnTo>
                  <a:lnTo>
                    <a:pt x="1261" y="195"/>
                  </a:lnTo>
                  <a:lnTo>
                    <a:pt x="1251" y="195"/>
                  </a:lnTo>
                  <a:lnTo>
                    <a:pt x="1240" y="197"/>
                  </a:lnTo>
                  <a:lnTo>
                    <a:pt x="1230" y="197"/>
                  </a:lnTo>
                  <a:lnTo>
                    <a:pt x="1217" y="197"/>
                  </a:lnTo>
                  <a:lnTo>
                    <a:pt x="1205" y="199"/>
                  </a:lnTo>
                  <a:lnTo>
                    <a:pt x="1192" y="199"/>
                  </a:lnTo>
                  <a:lnTo>
                    <a:pt x="1178" y="201"/>
                  </a:lnTo>
                  <a:lnTo>
                    <a:pt x="1163" y="202"/>
                  </a:lnTo>
                  <a:lnTo>
                    <a:pt x="1148" y="202"/>
                  </a:lnTo>
                  <a:lnTo>
                    <a:pt x="1130" y="204"/>
                  </a:lnTo>
                  <a:lnTo>
                    <a:pt x="1113" y="206"/>
                  </a:lnTo>
                  <a:lnTo>
                    <a:pt x="1094" y="208"/>
                  </a:lnTo>
                  <a:lnTo>
                    <a:pt x="1075" y="210"/>
                  </a:lnTo>
                  <a:lnTo>
                    <a:pt x="1055" y="212"/>
                  </a:lnTo>
                  <a:lnTo>
                    <a:pt x="1034" y="214"/>
                  </a:lnTo>
                  <a:lnTo>
                    <a:pt x="1013" y="216"/>
                  </a:lnTo>
                  <a:lnTo>
                    <a:pt x="992" y="220"/>
                  </a:lnTo>
                  <a:lnTo>
                    <a:pt x="969" y="222"/>
                  </a:lnTo>
                  <a:lnTo>
                    <a:pt x="944" y="224"/>
                  </a:lnTo>
                  <a:lnTo>
                    <a:pt x="919" y="227"/>
                  </a:lnTo>
                  <a:lnTo>
                    <a:pt x="894" y="229"/>
                  </a:lnTo>
                  <a:lnTo>
                    <a:pt x="869" y="233"/>
                  </a:lnTo>
                  <a:lnTo>
                    <a:pt x="840" y="237"/>
                  </a:lnTo>
                  <a:lnTo>
                    <a:pt x="813" y="239"/>
                  </a:lnTo>
                  <a:lnTo>
                    <a:pt x="784" y="243"/>
                  </a:lnTo>
                  <a:lnTo>
                    <a:pt x="755" y="247"/>
                  </a:lnTo>
                  <a:lnTo>
                    <a:pt x="725" y="251"/>
                  </a:lnTo>
                  <a:lnTo>
                    <a:pt x="694" y="254"/>
                  </a:lnTo>
                  <a:lnTo>
                    <a:pt x="661" y="258"/>
                  </a:lnTo>
                  <a:lnTo>
                    <a:pt x="628" y="262"/>
                  </a:lnTo>
                  <a:lnTo>
                    <a:pt x="596" y="266"/>
                  </a:lnTo>
                  <a:lnTo>
                    <a:pt x="565" y="270"/>
                  </a:lnTo>
                  <a:lnTo>
                    <a:pt x="534" y="274"/>
                  </a:lnTo>
                  <a:lnTo>
                    <a:pt x="503" y="277"/>
                  </a:lnTo>
                  <a:lnTo>
                    <a:pt x="475" y="281"/>
                  </a:lnTo>
                  <a:lnTo>
                    <a:pt x="446" y="285"/>
                  </a:lnTo>
                  <a:lnTo>
                    <a:pt x="419" y="289"/>
                  </a:lnTo>
                  <a:lnTo>
                    <a:pt x="392" y="293"/>
                  </a:lnTo>
                  <a:lnTo>
                    <a:pt x="365" y="295"/>
                  </a:lnTo>
                  <a:lnTo>
                    <a:pt x="340" y="299"/>
                  </a:lnTo>
                  <a:lnTo>
                    <a:pt x="317" y="302"/>
                  </a:lnTo>
                  <a:lnTo>
                    <a:pt x="292" y="304"/>
                  </a:lnTo>
                  <a:lnTo>
                    <a:pt x="271" y="306"/>
                  </a:lnTo>
                  <a:lnTo>
                    <a:pt x="248" y="310"/>
                  </a:lnTo>
                  <a:lnTo>
                    <a:pt x="226" y="312"/>
                  </a:lnTo>
                  <a:lnTo>
                    <a:pt x="207" y="314"/>
                  </a:lnTo>
                  <a:lnTo>
                    <a:pt x="188" y="316"/>
                  </a:lnTo>
                  <a:lnTo>
                    <a:pt x="169" y="318"/>
                  </a:lnTo>
                  <a:lnTo>
                    <a:pt x="151" y="320"/>
                  </a:lnTo>
                  <a:lnTo>
                    <a:pt x="136" y="322"/>
                  </a:lnTo>
                  <a:lnTo>
                    <a:pt x="119" y="324"/>
                  </a:lnTo>
                  <a:lnTo>
                    <a:pt x="105" y="326"/>
                  </a:lnTo>
                  <a:lnTo>
                    <a:pt x="90" y="326"/>
                  </a:lnTo>
                  <a:lnTo>
                    <a:pt x="76" y="328"/>
                  </a:lnTo>
                  <a:lnTo>
                    <a:pt x="65" y="328"/>
                  </a:lnTo>
                  <a:lnTo>
                    <a:pt x="53" y="329"/>
                  </a:lnTo>
                  <a:lnTo>
                    <a:pt x="42" y="329"/>
                  </a:lnTo>
                  <a:lnTo>
                    <a:pt x="32" y="329"/>
                  </a:lnTo>
                  <a:lnTo>
                    <a:pt x="23" y="331"/>
                  </a:lnTo>
                  <a:lnTo>
                    <a:pt x="13" y="331"/>
                  </a:lnTo>
                  <a:lnTo>
                    <a:pt x="7" y="331"/>
                  </a:lnTo>
                  <a:lnTo>
                    <a:pt x="0" y="331"/>
                  </a:lnTo>
                  <a:lnTo>
                    <a:pt x="0" y="245"/>
                  </a:lnTo>
                  <a:lnTo>
                    <a:pt x="32" y="241"/>
                  </a:lnTo>
                  <a:lnTo>
                    <a:pt x="65" y="235"/>
                  </a:lnTo>
                  <a:lnTo>
                    <a:pt x="96" y="231"/>
                  </a:lnTo>
                  <a:lnTo>
                    <a:pt x="126" y="227"/>
                  </a:lnTo>
                  <a:lnTo>
                    <a:pt x="157" y="222"/>
                  </a:lnTo>
                  <a:lnTo>
                    <a:pt x="186" y="218"/>
                  </a:lnTo>
                  <a:lnTo>
                    <a:pt x="215" y="214"/>
                  </a:lnTo>
                  <a:lnTo>
                    <a:pt x="244" y="210"/>
                  </a:lnTo>
                  <a:lnTo>
                    <a:pt x="273" y="206"/>
                  </a:lnTo>
                  <a:lnTo>
                    <a:pt x="300" y="201"/>
                  </a:lnTo>
                  <a:lnTo>
                    <a:pt x="326" y="197"/>
                  </a:lnTo>
                  <a:lnTo>
                    <a:pt x="353" y="193"/>
                  </a:lnTo>
                  <a:lnTo>
                    <a:pt x="378" y="189"/>
                  </a:lnTo>
                  <a:lnTo>
                    <a:pt x="403" y="185"/>
                  </a:lnTo>
                  <a:lnTo>
                    <a:pt x="428" y="183"/>
                  </a:lnTo>
                  <a:lnTo>
                    <a:pt x="453" y="179"/>
                  </a:lnTo>
                  <a:lnTo>
                    <a:pt x="476" y="176"/>
                  </a:lnTo>
                  <a:lnTo>
                    <a:pt x="500" y="172"/>
                  </a:lnTo>
                  <a:lnTo>
                    <a:pt x="523" y="168"/>
                  </a:lnTo>
                  <a:lnTo>
                    <a:pt x="544" y="166"/>
                  </a:lnTo>
                  <a:lnTo>
                    <a:pt x="567" y="162"/>
                  </a:lnTo>
                  <a:lnTo>
                    <a:pt x="586" y="158"/>
                  </a:lnTo>
                  <a:lnTo>
                    <a:pt x="607" y="156"/>
                  </a:lnTo>
                  <a:lnTo>
                    <a:pt x="626" y="152"/>
                  </a:lnTo>
                  <a:lnTo>
                    <a:pt x="646" y="151"/>
                  </a:lnTo>
                  <a:lnTo>
                    <a:pt x="665" y="147"/>
                  </a:lnTo>
                  <a:lnTo>
                    <a:pt x="684" y="145"/>
                  </a:lnTo>
                  <a:lnTo>
                    <a:pt x="701" y="141"/>
                  </a:lnTo>
                  <a:lnTo>
                    <a:pt x="719" y="139"/>
                  </a:lnTo>
                  <a:lnTo>
                    <a:pt x="736" y="137"/>
                  </a:lnTo>
                  <a:lnTo>
                    <a:pt x="751" y="133"/>
                  </a:lnTo>
                  <a:lnTo>
                    <a:pt x="767" y="131"/>
                  </a:lnTo>
                  <a:lnTo>
                    <a:pt x="826" y="124"/>
                  </a:lnTo>
                  <a:lnTo>
                    <a:pt x="884" y="114"/>
                  </a:lnTo>
                  <a:lnTo>
                    <a:pt x="942" y="106"/>
                  </a:lnTo>
                  <a:lnTo>
                    <a:pt x="996" y="99"/>
                  </a:lnTo>
                  <a:lnTo>
                    <a:pt x="1050" y="91"/>
                  </a:lnTo>
                  <a:lnTo>
                    <a:pt x="1101" y="83"/>
                  </a:lnTo>
                  <a:lnTo>
                    <a:pt x="1153" y="75"/>
                  </a:lnTo>
                  <a:lnTo>
                    <a:pt x="1201" y="70"/>
                  </a:lnTo>
                  <a:lnTo>
                    <a:pt x="1225" y="66"/>
                  </a:lnTo>
                  <a:lnTo>
                    <a:pt x="1248" y="64"/>
                  </a:lnTo>
                  <a:lnTo>
                    <a:pt x="1269" y="60"/>
                  </a:lnTo>
                  <a:lnTo>
                    <a:pt x="1288" y="56"/>
                  </a:lnTo>
                  <a:lnTo>
                    <a:pt x="1307" y="54"/>
                  </a:lnTo>
                  <a:lnTo>
                    <a:pt x="1325" y="50"/>
                  </a:lnTo>
                  <a:lnTo>
                    <a:pt x="1340" y="49"/>
                  </a:lnTo>
                  <a:lnTo>
                    <a:pt x="1355" y="45"/>
                  </a:lnTo>
                  <a:lnTo>
                    <a:pt x="1369" y="41"/>
                  </a:lnTo>
                  <a:lnTo>
                    <a:pt x="1380" y="39"/>
                  </a:lnTo>
                  <a:lnTo>
                    <a:pt x="1392" y="35"/>
                  </a:lnTo>
                  <a:lnTo>
                    <a:pt x="1401" y="33"/>
                  </a:lnTo>
                  <a:lnTo>
                    <a:pt x="1409" y="29"/>
                  </a:lnTo>
                  <a:lnTo>
                    <a:pt x="1417" y="25"/>
                  </a:lnTo>
                  <a:lnTo>
                    <a:pt x="1423" y="24"/>
                  </a:lnTo>
                  <a:lnTo>
                    <a:pt x="1426" y="20"/>
                  </a:lnTo>
                  <a:lnTo>
                    <a:pt x="1434" y="14"/>
                  </a:lnTo>
                  <a:lnTo>
                    <a:pt x="1444" y="10"/>
                  </a:lnTo>
                  <a:lnTo>
                    <a:pt x="1453" y="6"/>
                  </a:lnTo>
                  <a:lnTo>
                    <a:pt x="1463" y="2"/>
                  </a:lnTo>
                  <a:lnTo>
                    <a:pt x="1473" y="0"/>
                  </a:lnTo>
                  <a:lnTo>
                    <a:pt x="1484" y="0"/>
                  </a:lnTo>
                  <a:lnTo>
                    <a:pt x="1496" y="0"/>
                  </a:lnTo>
                  <a:lnTo>
                    <a:pt x="1507" y="0"/>
                  </a:lnTo>
                  <a:lnTo>
                    <a:pt x="1513" y="2"/>
                  </a:lnTo>
                  <a:lnTo>
                    <a:pt x="1521" y="4"/>
                  </a:lnTo>
                  <a:lnTo>
                    <a:pt x="1528" y="6"/>
                  </a:lnTo>
                  <a:lnTo>
                    <a:pt x="1538" y="10"/>
                  </a:lnTo>
                  <a:lnTo>
                    <a:pt x="1546" y="14"/>
                  </a:lnTo>
                  <a:lnTo>
                    <a:pt x="1555" y="18"/>
                  </a:lnTo>
                  <a:lnTo>
                    <a:pt x="1567" y="24"/>
                  </a:lnTo>
                  <a:lnTo>
                    <a:pt x="1578" y="27"/>
                  </a:lnTo>
                  <a:lnTo>
                    <a:pt x="1590" y="35"/>
                  </a:lnTo>
                  <a:lnTo>
                    <a:pt x="1601" y="41"/>
                  </a:lnTo>
                  <a:lnTo>
                    <a:pt x="1615" y="49"/>
                  </a:lnTo>
                  <a:lnTo>
                    <a:pt x="1628" y="56"/>
                  </a:lnTo>
                  <a:lnTo>
                    <a:pt x="1642" y="66"/>
                  </a:lnTo>
                  <a:lnTo>
                    <a:pt x="1657" y="74"/>
                  </a:lnTo>
                  <a:lnTo>
                    <a:pt x="1673" y="85"/>
                  </a:lnTo>
                  <a:lnTo>
                    <a:pt x="1688" y="95"/>
                  </a:lnTo>
                  <a:lnTo>
                    <a:pt x="1703" y="106"/>
                  </a:lnTo>
                  <a:lnTo>
                    <a:pt x="1719" y="116"/>
                  </a:lnTo>
                  <a:lnTo>
                    <a:pt x="1732" y="125"/>
                  </a:lnTo>
                  <a:lnTo>
                    <a:pt x="1746" y="135"/>
                  </a:lnTo>
                  <a:lnTo>
                    <a:pt x="1757" y="143"/>
                  </a:lnTo>
                  <a:lnTo>
                    <a:pt x="1767" y="152"/>
                  </a:lnTo>
                  <a:lnTo>
                    <a:pt x="1776" y="160"/>
                  </a:lnTo>
                  <a:lnTo>
                    <a:pt x="1786" y="168"/>
                  </a:lnTo>
                  <a:lnTo>
                    <a:pt x="1794" y="176"/>
                  </a:lnTo>
                  <a:lnTo>
                    <a:pt x="1799" y="181"/>
                  </a:lnTo>
                  <a:lnTo>
                    <a:pt x="1805" y="189"/>
                  </a:lnTo>
                  <a:lnTo>
                    <a:pt x="1811" y="195"/>
                  </a:lnTo>
                  <a:lnTo>
                    <a:pt x="1815" y="201"/>
                  </a:lnTo>
                  <a:lnTo>
                    <a:pt x="1817" y="204"/>
                  </a:lnTo>
                  <a:lnTo>
                    <a:pt x="1819" y="210"/>
                  </a:lnTo>
                  <a:lnTo>
                    <a:pt x="1819" y="214"/>
                  </a:lnTo>
                  <a:lnTo>
                    <a:pt x="1819" y="218"/>
                  </a:lnTo>
                  <a:lnTo>
                    <a:pt x="1819" y="222"/>
                  </a:lnTo>
                  <a:lnTo>
                    <a:pt x="1817" y="226"/>
                  </a:lnTo>
                  <a:lnTo>
                    <a:pt x="1815" y="229"/>
                  </a:lnTo>
                  <a:lnTo>
                    <a:pt x="1813" y="233"/>
                  </a:lnTo>
                  <a:lnTo>
                    <a:pt x="1809" y="237"/>
                  </a:lnTo>
                  <a:lnTo>
                    <a:pt x="1807" y="241"/>
                  </a:lnTo>
                  <a:lnTo>
                    <a:pt x="1803" y="245"/>
                  </a:lnTo>
                  <a:lnTo>
                    <a:pt x="1799" y="251"/>
                  </a:lnTo>
                  <a:lnTo>
                    <a:pt x="1794" y="254"/>
                  </a:lnTo>
                  <a:lnTo>
                    <a:pt x="1788" y="258"/>
                  </a:lnTo>
                  <a:lnTo>
                    <a:pt x="1782" y="262"/>
                  </a:lnTo>
                  <a:lnTo>
                    <a:pt x="1776" y="268"/>
                  </a:lnTo>
                  <a:lnTo>
                    <a:pt x="1771" y="272"/>
                  </a:lnTo>
                  <a:lnTo>
                    <a:pt x="1763" y="277"/>
                  </a:lnTo>
                  <a:lnTo>
                    <a:pt x="1755" y="281"/>
                  </a:lnTo>
                  <a:lnTo>
                    <a:pt x="1751" y="283"/>
                  </a:lnTo>
                  <a:lnTo>
                    <a:pt x="1748" y="287"/>
                  </a:lnTo>
                  <a:lnTo>
                    <a:pt x="1744" y="293"/>
                  </a:lnTo>
                  <a:lnTo>
                    <a:pt x="1738" y="299"/>
                  </a:lnTo>
                  <a:lnTo>
                    <a:pt x="1734" y="304"/>
                  </a:lnTo>
                  <a:lnTo>
                    <a:pt x="1728" y="312"/>
                  </a:lnTo>
                  <a:lnTo>
                    <a:pt x="1724" y="320"/>
                  </a:lnTo>
                  <a:lnTo>
                    <a:pt x="1719" y="329"/>
                  </a:lnTo>
                  <a:lnTo>
                    <a:pt x="1713" y="339"/>
                  </a:lnTo>
                  <a:lnTo>
                    <a:pt x="1707" y="351"/>
                  </a:lnTo>
                  <a:lnTo>
                    <a:pt x="1701" y="362"/>
                  </a:lnTo>
                  <a:lnTo>
                    <a:pt x="1696" y="376"/>
                  </a:lnTo>
                  <a:lnTo>
                    <a:pt x="1690" y="389"/>
                  </a:lnTo>
                  <a:lnTo>
                    <a:pt x="1682" y="404"/>
                  </a:lnTo>
                  <a:lnTo>
                    <a:pt x="1676" y="420"/>
                  </a:lnTo>
                  <a:lnTo>
                    <a:pt x="1669" y="435"/>
                  </a:lnTo>
                  <a:lnTo>
                    <a:pt x="1661" y="453"/>
                  </a:lnTo>
                  <a:lnTo>
                    <a:pt x="1655" y="472"/>
                  </a:lnTo>
                  <a:lnTo>
                    <a:pt x="1648" y="491"/>
                  </a:lnTo>
                  <a:lnTo>
                    <a:pt x="1640" y="510"/>
                  </a:lnTo>
                  <a:lnTo>
                    <a:pt x="1632" y="531"/>
                  </a:lnTo>
                  <a:lnTo>
                    <a:pt x="1624" y="555"/>
                  </a:lnTo>
                  <a:lnTo>
                    <a:pt x="1615" y="578"/>
                  </a:lnTo>
                  <a:lnTo>
                    <a:pt x="1607" y="601"/>
                  </a:lnTo>
                  <a:lnTo>
                    <a:pt x="1598" y="626"/>
                  </a:lnTo>
                  <a:lnTo>
                    <a:pt x="1590" y="651"/>
                  </a:lnTo>
                  <a:lnTo>
                    <a:pt x="1580" y="678"/>
                  </a:lnTo>
                  <a:lnTo>
                    <a:pt x="1571" y="705"/>
                  </a:lnTo>
                  <a:lnTo>
                    <a:pt x="1561" y="733"/>
                  </a:lnTo>
                  <a:lnTo>
                    <a:pt x="1551" y="762"/>
                  </a:lnTo>
                  <a:lnTo>
                    <a:pt x="1542" y="793"/>
                  </a:lnTo>
                  <a:lnTo>
                    <a:pt x="1532" y="824"/>
                  </a:lnTo>
                  <a:lnTo>
                    <a:pt x="1523" y="855"/>
                  </a:lnTo>
                  <a:lnTo>
                    <a:pt x="1513" y="885"/>
                  </a:lnTo>
                  <a:lnTo>
                    <a:pt x="1503" y="914"/>
                  </a:lnTo>
                  <a:lnTo>
                    <a:pt x="1494" y="941"/>
                  </a:lnTo>
                  <a:lnTo>
                    <a:pt x="1484" y="970"/>
                  </a:lnTo>
                  <a:lnTo>
                    <a:pt x="1474" y="995"/>
                  </a:lnTo>
                  <a:lnTo>
                    <a:pt x="1467" y="1020"/>
                  </a:lnTo>
                  <a:lnTo>
                    <a:pt x="1457" y="1045"/>
                  </a:lnTo>
                  <a:lnTo>
                    <a:pt x="1449" y="1068"/>
                  </a:lnTo>
                  <a:lnTo>
                    <a:pt x="1440" y="1089"/>
                  </a:lnTo>
                  <a:lnTo>
                    <a:pt x="1432" y="1111"/>
                  </a:lnTo>
                  <a:lnTo>
                    <a:pt x="1424" y="1130"/>
                  </a:lnTo>
                  <a:lnTo>
                    <a:pt x="1417" y="1149"/>
                  </a:lnTo>
                  <a:lnTo>
                    <a:pt x="1409" y="1168"/>
                  </a:lnTo>
                  <a:lnTo>
                    <a:pt x="1401" y="1186"/>
                  </a:lnTo>
                  <a:lnTo>
                    <a:pt x="1394" y="1201"/>
                  </a:lnTo>
                  <a:lnTo>
                    <a:pt x="1386" y="1216"/>
                  </a:lnTo>
                  <a:lnTo>
                    <a:pt x="1380" y="1230"/>
                  </a:lnTo>
                  <a:lnTo>
                    <a:pt x="1373" y="1243"/>
                  </a:lnTo>
                  <a:lnTo>
                    <a:pt x="1367" y="1255"/>
                  </a:lnTo>
                  <a:lnTo>
                    <a:pt x="1359" y="1266"/>
                  </a:lnTo>
                  <a:lnTo>
                    <a:pt x="1353" y="1276"/>
                  </a:lnTo>
                  <a:lnTo>
                    <a:pt x="1348" y="1286"/>
                  </a:lnTo>
                  <a:lnTo>
                    <a:pt x="1342" y="1293"/>
                  </a:lnTo>
                  <a:lnTo>
                    <a:pt x="1336" y="1301"/>
                  </a:lnTo>
                  <a:lnTo>
                    <a:pt x="1330" y="1307"/>
                  </a:lnTo>
                  <a:lnTo>
                    <a:pt x="1325" y="1313"/>
                  </a:lnTo>
                  <a:lnTo>
                    <a:pt x="1321" y="1316"/>
                  </a:lnTo>
                  <a:lnTo>
                    <a:pt x="1315" y="1318"/>
                  </a:lnTo>
                  <a:lnTo>
                    <a:pt x="1311" y="1320"/>
                  </a:lnTo>
                  <a:lnTo>
                    <a:pt x="1305" y="1322"/>
                  </a:lnTo>
                  <a:lnTo>
                    <a:pt x="1301" y="1322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239" name="图片 4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58760" y="4006800"/>
            <a:ext cx="637920" cy="63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1605E-006 L 1.38889E-006 -0.03457 E">
                                      <p:cBhvr>
                                        <p:cTn id="7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702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任意多边形: 形状 3"/>
            <p:cNvSpPr/>
            <p:nvPr/>
          </p:nvSpPr>
          <p:spPr>
            <a:xfrm>
              <a:off x="395280" y="266760"/>
              <a:ext cx="1474560" cy="3013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472946" h="301752">
                  <a:moveTo>
                    <a:pt x="206502" y="210312"/>
                  </a:moveTo>
                  <a:cubicBezTo>
                    <a:pt x="195072" y="219202"/>
                    <a:pt x="186944" y="226822"/>
                    <a:pt x="182118" y="233172"/>
                  </a:cubicBezTo>
                  <a:cubicBezTo>
                    <a:pt x="193294" y="237744"/>
                    <a:pt x="199898" y="240030"/>
                    <a:pt x="201930" y="240030"/>
                  </a:cubicBezTo>
                  <a:cubicBezTo>
                    <a:pt x="203962" y="240030"/>
                    <a:pt x="205232" y="239649"/>
                    <a:pt x="205740" y="238887"/>
                  </a:cubicBezTo>
                  <a:cubicBezTo>
                    <a:pt x="206248" y="238125"/>
                    <a:pt x="206566" y="234379"/>
                    <a:pt x="206693" y="227648"/>
                  </a:cubicBezTo>
                  <a:cubicBezTo>
                    <a:pt x="206820" y="220917"/>
                    <a:pt x="206756" y="215138"/>
                    <a:pt x="206502" y="210312"/>
                  </a:cubicBezTo>
                  <a:close/>
                  <a:moveTo>
                    <a:pt x="1299210" y="159639"/>
                  </a:moveTo>
                  <a:cubicBezTo>
                    <a:pt x="1291844" y="168529"/>
                    <a:pt x="1285494" y="174181"/>
                    <a:pt x="1280160" y="176594"/>
                  </a:cubicBezTo>
                  <a:cubicBezTo>
                    <a:pt x="1274826" y="179007"/>
                    <a:pt x="1270572" y="181483"/>
                    <a:pt x="1267397" y="184023"/>
                  </a:cubicBezTo>
                  <a:cubicBezTo>
                    <a:pt x="1264222" y="186563"/>
                    <a:pt x="1262634" y="188468"/>
                    <a:pt x="1262634" y="189738"/>
                  </a:cubicBezTo>
                  <a:cubicBezTo>
                    <a:pt x="1262634" y="191008"/>
                    <a:pt x="1264222" y="191961"/>
                    <a:pt x="1267397" y="192596"/>
                  </a:cubicBezTo>
                  <a:cubicBezTo>
                    <a:pt x="1270572" y="193231"/>
                    <a:pt x="1273429" y="194945"/>
                    <a:pt x="1275969" y="197739"/>
                  </a:cubicBezTo>
                  <a:cubicBezTo>
                    <a:pt x="1278509" y="200533"/>
                    <a:pt x="1279779" y="203835"/>
                    <a:pt x="1279779" y="207645"/>
                  </a:cubicBezTo>
                  <a:cubicBezTo>
                    <a:pt x="1279779" y="216281"/>
                    <a:pt x="1272921" y="225806"/>
                    <a:pt x="1259205" y="236220"/>
                  </a:cubicBezTo>
                  <a:cubicBezTo>
                    <a:pt x="1256919" y="237998"/>
                    <a:pt x="1255776" y="239586"/>
                    <a:pt x="1255776" y="240983"/>
                  </a:cubicBezTo>
                  <a:cubicBezTo>
                    <a:pt x="1255776" y="242380"/>
                    <a:pt x="1256538" y="243205"/>
                    <a:pt x="1258062" y="243459"/>
                  </a:cubicBezTo>
                  <a:cubicBezTo>
                    <a:pt x="1274572" y="245491"/>
                    <a:pt x="1287145" y="247523"/>
                    <a:pt x="1295781" y="249555"/>
                  </a:cubicBezTo>
                  <a:cubicBezTo>
                    <a:pt x="1294003" y="245491"/>
                    <a:pt x="1293114" y="241935"/>
                    <a:pt x="1293114" y="238887"/>
                  </a:cubicBezTo>
                  <a:cubicBezTo>
                    <a:pt x="1293114" y="235839"/>
                    <a:pt x="1294575" y="232728"/>
                    <a:pt x="1297496" y="229553"/>
                  </a:cubicBezTo>
                  <a:cubicBezTo>
                    <a:pt x="1300417" y="226378"/>
                    <a:pt x="1304735" y="223012"/>
                    <a:pt x="1310450" y="219456"/>
                  </a:cubicBezTo>
                  <a:cubicBezTo>
                    <a:pt x="1316165" y="215900"/>
                    <a:pt x="1321054" y="209360"/>
                    <a:pt x="1325118" y="199835"/>
                  </a:cubicBezTo>
                  <a:cubicBezTo>
                    <a:pt x="1329182" y="190310"/>
                    <a:pt x="1331214" y="183134"/>
                    <a:pt x="1331214" y="178308"/>
                  </a:cubicBezTo>
                  <a:cubicBezTo>
                    <a:pt x="1331214" y="173482"/>
                    <a:pt x="1329563" y="169164"/>
                    <a:pt x="1326261" y="165354"/>
                  </a:cubicBezTo>
                  <a:cubicBezTo>
                    <a:pt x="1325245" y="173736"/>
                    <a:pt x="1324039" y="181420"/>
                    <a:pt x="1322642" y="188405"/>
                  </a:cubicBezTo>
                  <a:cubicBezTo>
                    <a:pt x="1321245" y="195390"/>
                    <a:pt x="1320229" y="199200"/>
                    <a:pt x="1319594" y="199835"/>
                  </a:cubicBezTo>
                  <a:cubicBezTo>
                    <a:pt x="1318959" y="200470"/>
                    <a:pt x="1318133" y="200787"/>
                    <a:pt x="1317117" y="200787"/>
                  </a:cubicBezTo>
                  <a:cubicBezTo>
                    <a:pt x="1313815" y="200787"/>
                    <a:pt x="1309561" y="197930"/>
                    <a:pt x="1304354" y="192215"/>
                  </a:cubicBezTo>
                  <a:cubicBezTo>
                    <a:pt x="1299147" y="186500"/>
                    <a:pt x="1296543" y="181102"/>
                    <a:pt x="1296543" y="176022"/>
                  </a:cubicBezTo>
                  <a:cubicBezTo>
                    <a:pt x="1296543" y="170942"/>
                    <a:pt x="1297432" y="165481"/>
                    <a:pt x="1299210" y="159639"/>
                  </a:cubicBezTo>
                  <a:close/>
                  <a:moveTo>
                    <a:pt x="1208151" y="153924"/>
                  </a:moveTo>
                  <a:cubicBezTo>
                    <a:pt x="1185545" y="159004"/>
                    <a:pt x="1168400" y="164338"/>
                    <a:pt x="1156716" y="169926"/>
                  </a:cubicBezTo>
                  <a:cubicBezTo>
                    <a:pt x="1145032" y="175514"/>
                    <a:pt x="1139190" y="180086"/>
                    <a:pt x="1139190" y="183642"/>
                  </a:cubicBezTo>
                  <a:cubicBezTo>
                    <a:pt x="1139190" y="185166"/>
                    <a:pt x="1139825" y="185928"/>
                    <a:pt x="1141095" y="185928"/>
                  </a:cubicBezTo>
                  <a:cubicBezTo>
                    <a:pt x="1149223" y="185928"/>
                    <a:pt x="1173099" y="176911"/>
                    <a:pt x="1212723" y="158877"/>
                  </a:cubicBezTo>
                  <a:cubicBezTo>
                    <a:pt x="1211961" y="156337"/>
                    <a:pt x="1210437" y="154686"/>
                    <a:pt x="1208151" y="153924"/>
                  </a:cubicBezTo>
                  <a:close/>
                  <a:moveTo>
                    <a:pt x="1334643" y="149352"/>
                  </a:moveTo>
                  <a:cubicBezTo>
                    <a:pt x="1333373" y="149352"/>
                    <a:pt x="1332230" y="150622"/>
                    <a:pt x="1331214" y="153162"/>
                  </a:cubicBezTo>
                  <a:cubicBezTo>
                    <a:pt x="1330198" y="155702"/>
                    <a:pt x="1329690" y="158814"/>
                    <a:pt x="1329690" y="162497"/>
                  </a:cubicBezTo>
                  <a:cubicBezTo>
                    <a:pt x="1329690" y="166180"/>
                    <a:pt x="1330960" y="169037"/>
                    <a:pt x="1333500" y="171069"/>
                  </a:cubicBezTo>
                  <a:cubicBezTo>
                    <a:pt x="1335532" y="168021"/>
                    <a:pt x="1336548" y="163640"/>
                    <a:pt x="1336548" y="157925"/>
                  </a:cubicBezTo>
                  <a:cubicBezTo>
                    <a:pt x="1336548" y="152210"/>
                    <a:pt x="1335913" y="149352"/>
                    <a:pt x="1334643" y="149352"/>
                  </a:cubicBezTo>
                  <a:close/>
                  <a:moveTo>
                    <a:pt x="1233488" y="147828"/>
                  </a:moveTo>
                  <a:cubicBezTo>
                    <a:pt x="1229297" y="147828"/>
                    <a:pt x="1226058" y="148590"/>
                    <a:pt x="1223772" y="150114"/>
                  </a:cubicBezTo>
                  <a:cubicBezTo>
                    <a:pt x="1223518" y="151892"/>
                    <a:pt x="1223518" y="153797"/>
                    <a:pt x="1223772" y="155829"/>
                  </a:cubicBezTo>
                  <a:cubicBezTo>
                    <a:pt x="1231646" y="154051"/>
                    <a:pt x="1237742" y="151892"/>
                    <a:pt x="1242060" y="149352"/>
                  </a:cubicBezTo>
                  <a:cubicBezTo>
                    <a:pt x="1240536" y="148336"/>
                    <a:pt x="1237679" y="147828"/>
                    <a:pt x="1233488" y="147828"/>
                  </a:cubicBezTo>
                  <a:close/>
                  <a:moveTo>
                    <a:pt x="1365504" y="113157"/>
                  </a:moveTo>
                  <a:cubicBezTo>
                    <a:pt x="1364996" y="113157"/>
                    <a:pt x="1361885" y="115380"/>
                    <a:pt x="1356170" y="119825"/>
                  </a:cubicBezTo>
                  <a:cubicBezTo>
                    <a:pt x="1350455" y="124270"/>
                    <a:pt x="1345565" y="128524"/>
                    <a:pt x="1341501" y="132588"/>
                  </a:cubicBezTo>
                  <a:cubicBezTo>
                    <a:pt x="1340993" y="133858"/>
                    <a:pt x="1340739" y="135065"/>
                    <a:pt x="1340739" y="136208"/>
                  </a:cubicBezTo>
                  <a:cubicBezTo>
                    <a:pt x="1340739" y="137351"/>
                    <a:pt x="1342454" y="137922"/>
                    <a:pt x="1345883" y="137922"/>
                  </a:cubicBezTo>
                  <a:cubicBezTo>
                    <a:pt x="1349312" y="137922"/>
                    <a:pt x="1352423" y="139573"/>
                    <a:pt x="1355217" y="142875"/>
                  </a:cubicBezTo>
                  <a:cubicBezTo>
                    <a:pt x="1358011" y="146177"/>
                    <a:pt x="1359408" y="149543"/>
                    <a:pt x="1359408" y="152972"/>
                  </a:cubicBezTo>
                  <a:cubicBezTo>
                    <a:pt x="1359408" y="156401"/>
                    <a:pt x="1359154" y="159131"/>
                    <a:pt x="1358646" y="161163"/>
                  </a:cubicBezTo>
                  <a:cubicBezTo>
                    <a:pt x="1356106" y="172847"/>
                    <a:pt x="1354836" y="181483"/>
                    <a:pt x="1354836" y="187071"/>
                  </a:cubicBezTo>
                  <a:cubicBezTo>
                    <a:pt x="1354836" y="187833"/>
                    <a:pt x="1355090" y="189103"/>
                    <a:pt x="1355598" y="190881"/>
                  </a:cubicBezTo>
                  <a:cubicBezTo>
                    <a:pt x="1356106" y="192659"/>
                    <a:pt x="1356614" y="193548"/>
                    <a:pt x="1357122" y="193548"/>
                  </a:cubicBezTo>
                  <a:cubicBezTo>
                    <a:pt x="1359154" y="193548"/>
                    <a:pt x="1361631" y="185992"/>
                    <a:pt x="1364552" y="170879"/>
                  </a:cubicBezTo>
                  <a:cubicBezTo>
                    <a:pt x="1367473" y="155766"/>
                    <a:pt x="1368933" y="142367"/>
                    <a:pt x="1368933" y="130683"/>
                  </a:cubicBezTo>
                  <a:cubicBezTo>
                    <a:pt x="1368933" y="118999"/>
                    <a:pt x="1367790" y="113157"/>
                    <a:pt x="1365504" y="113157"/>
                  </a:cubicBezTo>
                  <a:close/>
                  <a:moveTo>
                    <a:pt x="203454" y="105156"/>
                  </a:moveTo>
                  <a:cubicBezTo>
                    <a:pt x="194818" y="108966"/>
                    <a:pt x="184277" y="110871"/>
                    <a:pt x="171831" y="110871"/>
                  </a:cubicBezTo>
                  <a:cubicBezTo>
                    <a:pt x="171831" y="118999"/>
                    <a:pt x="172085" y="124206"/>
                    <a:pt x="172593" y="126492"/>
                  </a:cubicBezTo>
                  <a:cubicBezTo>
                    <a:pt x="173101" y="128778"/>
                    <a:pt x="174117" y="129667"/>
                    <a:pt x="175641" y="129159"/>
                  </a:cubicBezTo>
                  <a:cubicBezTo>
                    <a:pt x="185293" y="126873"/>
                    <a:pt x="194691" y="124841"/>
                    <a:pt x="203835" y="123063"/>
                  </a:cubicBezTo>
                  <a:cubicBezTo>
                    <a:pt x="203581" y="118491"/>
                    <a:pt x="203454" y="112522"/>
                    <a:pt x="203454" y="105156"/>
                  </a:cubicBezTo>
                  <a:close/>
                  <a:moveTo>
                    <a:pt x="1253490" y="100584"/>
                  </a:moveTo>
                  <a:cubicBezTo>
                    <a:pt x="1242568" y="100584"/>
                    <a:pt x="1232535" y="101727"/>
                    <a:pt x="1223391" y="104013"/>
                  </a:cubicBezTo>
                  <a:cubicBezTo>
                    <a:pt x="1222883" y="112141"/>
                    <a:pt x="1223137" y="118618"/>
                    <a:pt x="1224153" y="123444"/>
                  </a:cubicBezTo>
                  <a:cubicBezTo>
                    <a:pt x="1232027" y="119380"/>
                    <a:pt x="1241171" y="117729"/>
                    <a:pt x="1251585" y="118491"/>
                  </a:cubicBezTo>
                  <a:close/>
                  <a:moveTo>
                    <a:pt x="916877" y="78486"/>
                  </a:moveTo>
                  <a:cubicBezTo>
                    <a:pt x="921322" y="78486"/>
                    <a:pt x="929513" y="82106"/>
                    <a:pt x="941451" y="89345"/>
                  </a:cubicBezTo>
                  <a:cubicBezTo>
                    <a:pt x="953389" y="96584"/>
                    <a:pt x="959358" y="104394"/>
                    <a:pt x="959358" y="112776"/>
                  </a:cubicBezTo>
                  <a:cubicBezTo>
                    <a:pt x="959358" y="115062"/>
                    <a:pt x="958850" y="116967"/>
                    <a:pt x="957834" y="118491"/>
                  </a:cubicBezTo>
                  <a:cubicBezTo>
                    <a:pt x="948182" y="133731"/>
                    <a:pt x="942594" y="149987"/>
                    <a:pt x="941070" y="167259"/>
                  </a:cubicBezTo>
                  <a:cubicBezTo>
                    <a:pt x="953516" y="174117"/>
                    <a:pt x="959739" y="182753"/>
                    <a:pt x="959739" y="193167"/>
                  </a:cubicBezTo>
                  <a:cubicBezTo>
                    <a:pt x="959739" y="197485"/>
                    <a:pt x="958596" y="201676"/>
                    <a:pt x="956310" y="205740"/>
                  </a:cubicBezTo>
                  <a:cubicBezTo>
                    <a:pt x="947674" y="220472"/>
                    <a:pt x="940816" y="234442"/>
                    <a:pt x="935736" y="247650"/>
                  </a:cubicBezTo>
                  <a:cubicBezTo>
                    <a:pt x="969264" y="254254"/>
                    <a:pt x="986028" y="265049"/>
                    <a:pt x="986028" y="280035"/>
                  </a:cubicBezTo>
                  <a:cubicBezTo>
                    <a:pt x="986028" y="284861"/>
                    <a:pt x="984441" y="288671"/>
                    <a:pt x="981266" y="291465"/>
                  </a:cubicBezTo>
                  <a:cubicBezTo>
                    <a:pt x="978091" y="294259"/>
                    <a:pt x="974408" y="295656"/>
                    <a:pt x="970217" y="295656"/>
                  </a:cubicBezTo>
                  <a:cubicBezTo>
                    <a:pt x="966026" y="295656"/>
                    <a:pt x="962152" y="295275"/>
                    <a:pt x="958596" y="294513"/>
                  </a:cubicBezTo>
                  <a:cubicBezTo>
                    <a:pt x="948690" y="291973"/>
                    <a:pt x="937197" y="290703"/>
                    <a:pt x="924116" y="290703"/>
                  </a:cubicBezTo>
                  <a:cubicBezTo>
                    <a:pt x="911035" y="290703"/>
                    <a:pt x="899351" y="292545"/>
                    <a:pt x="889064" y="296228"/>
                  </a:cubicBezTo>
                  <a:cubicBezTo>
                    <a:pt x="878777" y="299911"/>
                    <a:pt x="871855" y="301752"/>
                    <a:pt x="868299" y="301752"/>
                  </a:cubicBezTo>
                  <a:cubicBezTo>
                    <a:pt x="866267" y="301752"/>
                    <a:pt x="861505" y="300736"/>
                    <a:pt x="854012" y="298704"/>
                  </a:cubicBezTo>
                  <a:cubicBezTo>
                    <a:pt x="846519" y="296672"/>
                    <a:pt x="842772" y="293370"/>
                    <a:pt x="842772" y="288798"/>
                  </a:cubicBezTo>
                  <a:cubicBezTo>
                    <a:pt x="842772" y="284226"/>
                    <a:pt x="843661" y="277876"/>
                    <a:pt x="845439" y="269748"/>
                  </a:cubicBezTo>
                  <a:cubicBezTo>
                    <a:pt x="847217" y="261620"/>
                    <a:pt x="848741" y="256223"/>
                    <a:pt x="850011" y="253556"/>
                  </a:cubicBezTo>
                  <a:cubicBezTo>
                    <a:pt x="851281" y="250889"/>
                    <a:pt x="853186" y="249555"/>
                    <a:pt x="855726" y="249555"/>
                  </a:cubicBezTo>
                  <a:lnTo>
                    <a:pt x="859917" y="249936"/>
                  </a:lnTo>
                  <a:cubicBezTo>
                    <a:pt x="863473" y="249936"/>
                    <a:pt x="869823" y="246380"/>
                    <a:pt x="878967" y="239268"/>
                  </a:cubicBezTo>
                  <a:cubicBezTo>
                    <a:pt x="871855" y="233934"/>
                    <a:pt x="868299" y="230823"/>
                    <a:pt x="868299" y="229934"/>
                  </a:cubicBezTo>
                  <a:cubicBezTo>
                    <a:pt x="868299" y="229045"/>
                    <a:pt x="869315" y="228600"/>
                    <a:pt x="871347" y="228600"/>
                  </a:cubicBezTo>
                  <a:cubicBezTo>
                    <a:pt x="873379" y="228600"/>
                    <a:pt x="878586" y="229616"/>
                    <a:pt x="886968" y="231648"/>
                  </a:cubicBezTo>
                  <a:cubicBezTo>
                    <a:pt x="893572" y="225806"/>
                    <a:pt x="897382" y="219964"/>
                    <a:pt x="898398" y="214122"/>
                  </a:cubicBezTo>
                  <a:cubicBezTo>
                    <a:pt x="886968" y="217932"/>
                    <a:pt x="878396" y="219837"/>
                    <a:pt x="872681" y="219837"/>
                  </a:cubicBezTo>
                  <a:cubicBezTo>
                    <a:pt x="866966" y="219837"/>
                    <a:pt x="859854" y="217361"/>
                    <a:pt x="851345" y="212408"/>
                  </a:cubicBezTo>
                  <a:cubicBezTo>
                    <a:pt x="842836" y="207455"/>
                    <a:pt x="838581" y="203327"/>
                    <a:pt x="838581" y="200025"/>
                  </a:cubicBezTo>
                  <a:cubicBezTo>
                    <a:pt x="838581" y="196723"/>
                    <a:pt x="840296" y="193612"/>
                    <a:pt x="843725" y="190691"/>
                  </a:cubicBezTo>
                  <a:cubicBezTo>
                    <a:pt x="847154" y="187770"/>
                    <a:pt x="854901" y="184023"/>
                    <a:pt x="866966" y="179451"/>
                  </a:cubicBezTo>
                  <a:cubicBezTo>
                    <a:pt x="879031" y="174879"/>
                    <a:pt x="893826" y="170942"/>
                    <a:pt x="911352" y="167640"/>
                  </a:cubicBezTo>
                  <a:cubicBezTo>
                    <a:pt x="914400" y="153162"/>
                    <a:pt x="915670" y="139065"/>
                    <a:pt x="915162" y="125349"/>
                  </a:cubicBezTo>
                  <a:cubicBezTo>
                    <a:pt x="902208" y="138303"/>
                    <a:pt x="893001" y="146876"/>
                    <a:pt x="887540" y="151067"/>
                  </a:cubicBezTo>
                  <a:cubicBezTo>
                    <a:pt x="882079" y="155258"/>
                    <a:pt x="876808" y="157353"/>
                    <a:pt x="871728" y="157353"/>
                  </a:cubicBezTo>
                  <a:cubicBezTo>
                    <a:pt x="866648" y="157353"/>
                    <a:pt x="860425" y="155448"/>
                    <a:pt x="853059" y="151638"/>
                  </a:cubicBezTo>
                  <a:cubicBezTo>
                    <a:pt x="845693" y="147828"/>
                    <a:pt x="839597" y="142812"/>
                    <a:pt x="834771" y="136589"/>
                  </a:cubicBezTo>
                  <a:cubicBezTo>
                    <a:pt x="829945" y="130366"/>
                    <a:pt x="827532" y="126048"/>
                    <a:pt x="827532" y="123635"/>
                  </a:cubicBezTo>
                  <a:cubicBezTo>
                    <a:pt x="827532" y="121222"/>
                    <a:pt x="828802" y="120015"/>
                    <a:pt x="831342" y="120015"/>
                  </a:cubicBezTo>
                  <a:lnTo>
                    <a:pt x="836676" y="120396"/>
                  </a:lnTo>
                  <a:cubicBezTo>
                    <a:pt x="848360" y="120396"/>
                    <a:pt x="870839" y="107950"/>
                    <a:pt x="904113" y="83058"/>
                  </a:cubicBezTo>
                  <a:cubicBezTo>
                    <a:pt x="908177" y="80010"/>
                    <a:pt x="912432" y="78486"/>
                    <a:pt x="916877" y="78486"/>
                  </a:cubicBezTo>
                  <a:close/>
                  <a:moveTo>
                    <a:pt x="198882" y="62484"/>
                  </a:moveTo>
                  <a:cubicBezTo>
                    <a:pt x="189230" y="65532"/>
                    <a:pt x="179197" y="67310"/>
                    <a:pt x="168783" y="67818"/>
                  </a:cubicBezTo>
                  <a:cubicBezTo>
                    <a:pt x="170815" y="73406"/>
                    <a:pt x="172466" y="79883"/>
                    <a:pt x="173736" y="87249"/>
                  </a:cubicBezTo>
                  <a:cubicBezTo>
                    <a:pt x="180340" y="84201"/>
                    <a:pt x="190754" y="81280"/>
                    <a:pt x="204978" y="78486"/>
                  </a:cubicBezTo>
                  <a:cubicBezTo>
                    <a:pt x="204470" y="71374"/>
                    <a:pt x="202438" y="66040"/>
                    <a:pt x="198882" y="62484"/>
                  </a:cubicBezTo>
                  <a:close/>
                  <a:moveTo>
                    <a:pt x="252794" y="41910"/>
                  </a:moveTo>
                  <a:cubicBezTo>
                    <a:pt x="248095" y="41910"/>
                    <a:pt x="239649" y="45847"/>
                    <a:pt x="227457" y="53721"/>
                  </a:cubicBezTo>
                  <a:cubicBezTo>
                    <a:pt x="230759" y="58547"/>
                    <a:pt x="232537" y="64262"/>
                    <a:pt x="232791" y="70866"/>
                  </a:cubicBezTo>
                  <a:cubicBezTo>
                    <a:pt x="239649" y="71374"/>
                    <a:pt x="244983" y="72962"/>
                    <a:pt x="248793" y="75629"/>
                  </a:cubicBezTo>
                  <a:cubicBezTo>
                    <a:pt x="252603" y="78296"/>
                    <a:pt x="254508" y="80963"/>
                    <a:pt x="254508" y="83630"/>
                  </a:cubicBezTo>
                  <a:cubicBezTo>
                    <a:pt x="254508" y="86297"/>
                    <a:pt x="252667" y="88900"/>
                    <a:pt x="248984" y="91440"/>
                  </a:cubicBezTo>
                  <a:cubicBezTo>
                    <a:pt x="245301" y="93980"/>
                    <a:pt x="239903" y="96012"/>
                    <a:pt x="232791" y="97536"/>
                  </a:cubicBezTo>
                  <a:cubicBezTo>
                    <a:pt x="232029" y="103886"/>
                    <a:pt x="231648" y="110109"/>
                    <a:pt x="231648" y="116205"/>
                  </a:cubicBezTo>
                  <a:cubicBezTo>
                    <a:pt x="239776" y="115443"/>
                    <a:pt x="245491" y="112713"/>
                    <a:pt x="248793" y="108014"/>
                  </a:cubicBezTo>
                  <a:cubicBezTo>
                    <a:pt x="252095" y="103315"/>
                    <a:pt x="255588" y="95123"/>
                    <a:pt x="259271" y="83439"/>
                  </a:cubicBezTo>
                  <a:cubicBezTo>
                    <a:pt x="262954" y="71755"/>
                    <a:pt x="264795" y="64072"/>
                    <a:pt x="264795" y="60389"/>
                  </a:cubicBezTo>
                  <a:cubicBezTo>
                    <a:pt x="264795" y="56706"/>
                    <a:pt x="263970" y="52705"/>
                    <a:pt x="262319" y="48387"/>
                  </a:cubicBezTo>
                  <a:cubicBezTo>
                    <a:pt x="260668" y="44069"/>
                    <a:pt x="257493" y="41910"/>
                    <a:pt x="252794" y="41910"/>
                  </a:cubicBezTo>
                  <a:close/>
                  <a:moveTo>
                    <a:pt x="91059" y="14097"/>
                  </a:moveTo>
                  <a:cubicBezTo>
                    <a:pt x="105537" y="14097"/>
                    <a:pt x="116904" y="18161"/>
                    <a:pt x="125159" y="26289"/>
                  </a:cubicBezTo>
                  <a:cubicBezTo>
                    <a:pt x="133414" y="34417"/>
                    <a:pt x="137541" y="40958"/>
                    <a:pt x="137541" y="45911"/>
                  </a:cubicBezTo>
                  <a:cubicBezTo>
                    <a:pt x="137541" y="50864"/>
                    <a:pt x="135954" y="54991"/>
                    <a:pt x="132779" y="58293"/>
                  </a:cubicBezTo>
                  <a:cubicBezTo>
                    <a:pt x="129604" y="61595"/>
                    <a:pt x="126111" y="63246"/>
                    <a:pt x="122301" y="63246"/>
                  </a:cubicBezTo>
                  <a:cubicBezTo>
                    <a:pt x="121031" y="63246"/>
                    <a:pt x="119317" y="62929"/>
                    <a:pt x="117158" y="62294"/>
                  </a:cubicBezTo>
                  <a:cubicBezTo>
                    <a:pt x="114999" y="61659"/>
                    <a:pt x="112840" y="61341"/>
                    <a:pt x="110681" y="61341"/>
                  </a:cubicBezTo>
                  <a:cubicBezTo>
                    <a:pt x="108522" y="61341"/>
                    <a:pt x="105791" y="62103"/>
                    <a:pt x="102489" y="63627"/>
                  </a:cubicBezTo>
                  <a:cubicBezTo>
                    <a:pt x="99187" y="65151"/>
                    <a:pt x="93282" y="68580"/>
                    <a:pt x="84773" y="73914"/>
                  </a:cubicBezTo>
                  <a:cubicBezTo>
                    <a:pt x="76264" y="79248"/>
                    <a:pt x="70803" y="82360"/>
                    <a:pt x="68390" y="83249"/>
                  </a:cubicBezTo>
                  <a:cubicBezTo>
                    <a:pt x="65977" y="84138"/>
                    <a:pt x="63119" y="84582"/>
                    <a:pt x="59817" y="84582"/>
                  </a:cubicBezTo>
                  <a:cubicBezTo>
                    <a:pt x="51435" y="84582"/>
                    <a:pt x="41466" y="90170"/>
                    <a:pt x="29909" y="101346"/>
                  </a:cubicBezTo>
                  <a:cubicBezTo>
                    <a:pt x="18352" y="112522"/>
                    <a:pt x="12573" y="123190"/>
                    <a:pt x="12573" y="133350"/>
                  </a:cubicBezTo>
                  <a:cubicBezTo>
                    <a:pt x="12573" y="137922"/>
                    <a:pt x="13843" y="140208"/>
                    <a:pt x="16383" y="140208"/>
                  </a:cubicBezTo>
                  <a:cubicBezTo>
                    <a:pt x="21463" y="140208"/>
                    <a:pt x="30036" y="136271"/>
                    <a:pt x="42101" y="128397"/>
                  </a:cubicBezTo>
                  <a:cubicBezTo>
                    <a:pt x="54166" y="120523"/>
                    <a:pt x="62484" y="113411"/>
                    <a:pt x="67056" y="107061"/>
                  </a:cubicBezTo>
                  <a:cubicBezTo>
                    <a:pt x="69850" y="102997"/>
                    <a:pt x="75819" y="100965"/>
                    <a:pt x="84963" y="100965"/>
                  </a:cubicBezTo>
                  <a:cubicBezTo>
                    <a:pt x="102743" y="100965"/>
                    <a:pt x="111633" y="108966"/>
                    <a:pt x="111633" y="124968"/>
                  </a:cubicBezTo>
                  <a:cubicBezTo>
                    <a:pt x="111633" y="128270"/>
                    <a:pt x="111125" y="131572"/>
                    <a:pt x="110109" y="134874"/>
                  </a:cubicBezTo>
                  <a:cubicBezTo>
                    <a:pt x="101727" y="161290"/>
                    <a:pt x="96838" y="179070"/>
                    <a:pt x="95441" y="188214"/>
                  </a:cubicBezTo>
                  <a:cubicBezTo>
                    <a:pt x="94044" y="197358"/>
                    <a:pt x="93345" y="206439"/>
                    <a:pt x="93345" y="215456"/>
                  </a:cubicBezTo>
                  <a:cubicBezTo>
                    <a:pt x="93345" y="224473"/>
                    <a:pt x="93472" y="229426"/>
                    <a:pt x="93726" y="230315"/>
                  </a:cubicBezTo>
                  <a:cubicBezTo>
                    <a:pt x="93980" y="231204"/>
                    <a:pt x="94425" y="231648"/>
                    <a:pt x="95060" y="231648"/>
                  </a:cubicBezTo>
                  <a:cubicBezTo>
                    <a:pt x="95695" y="231648"/>
                    <a:pt x="96266" y="231267"/>
                    <a:pt x="96774" y="230505"/>
                  </a:cubicBezTo>
                  <a:cubicBezTo>
                    <a:pt x="97282" y="229743"/>
                    <a:pt x="100013" y="224473"/>
                    <a:pt x="104966" y="214694"/>
                  </a:cubicBezTo>
                  <a:cubicBezTo>
                    <a:pt x="109919" y="204915"/>
                    <a:pt x="114999" y="193739"/>
                    <a:pt x="120206" y="181166"/>
                  </a:cubicBezTo>
                  <a:cubicBezTo>
                    <a:pt x="125413" y="168593"/>
                    <a:pt x="131445" y="157099"/>
                    <a:pt x="138303" y="146685"/>
                  </a:cubicBezTo>
                  <a:cubicBezTo>
                    <a:pt x="135763" y="156083"/>
                    <a:pt x="133604" y="167259"/>
                    <a:pt x="131826" y="180213"/>
                  </a:cubicBezTo>
                  <a:cubicBezTo>
                    <a:pt x="155956" y="171831"/>
                    <a:pt x="180721" y="165100"/>
                    <a:pt x="206121" y="160020"/>
                  </a:cubicBezTo>
                  <a:lnTo>
                    <a:pt x="205359" y="145923"/>
                  </a:lnTo>
                  <a:cubicBezTo>
                    <a:pt x="194183" y="147447"/>
                    <a:pt x="185674" y="149162"/>
                    <a:pt x="179832" y="151067"/>
                  </a:cubicBezTo>
                  <a:cubicBezTo>
                    <a:pt x="173990" y="152972"/>
                    <a:pt x="170307" y="153924"/>
                    <a:pt x="168783" y="153924"/>
                  </a:cubicBezTo>
                  <a:cubicBezTo>
                    <a:pt x="161925" y="153924"/>
                    <a:pt x="156147" y="148336"/>
                    <a:pt x="151448" y="137160"/>
                  </a:cubicBezTo>
                  <a:cubicBezTo>
                    <a:pt x="146749" y="125984"/>
                    <a:pt x="144145" y="112268"/>
                    <a:pt x="143637" y="96012"/>
                  </a:cubicBezTo>
                  <a:cubicBezTo>
                    <a:pt x="143383" y="87884"/>
                    <a:pt x="141796" y="81788"/>
                    <a:pt x="138875" y="77724"/>
                  </a:cubicBezTo>
                  <a:cubicBezTo>
                    <a:pt x="135954" y="73660"/>
                    <a:pt x="134493" y="70676"/>
                    <a:pt x="134493" y="68771"/>
                  </a:cubicBezTo>
                  <a:cubicBezTo>
                    <a:pt x="134493" y="66866"/>
                    <a:pt x="135065" y="64072"/>
                    <a:pt x="136208" y="60389"/>
                  </a:cubicBezTo>
                  <a:cubicBezTo>
                    <a:pt x="137351" y="56706"/>
                    <a:pt x="138303" y="54483"/>
                    <a:pt x="139065" y="53721"/>
                  </a:cubicBezTo>
                  <a:cubicBezTo>
                    <a:pt x="139827" y="52959"/>
                    <a:pt x="141351" y="52578"/>
                    <a:pt x="143637" y="52578"/>
                  </a:cubicBezTo>
                  <a:cubicBezTo>
                    <a:pt x="145923" y="52578"/>
                    <a:pt x="151384" y="53467"/>
                    <a:pt x="160020" y="55245"/>
                  </a:cubicBezTo>
                  <a:cubicBezTo>
                    <a:pt x="173990" y="44831"/>
                    <a:pt x="190754" y="37148"/>
                    <a:pt x="210312" y="32195"/>
                  </a:cubicBezTo>
                  <a:cubicBezTo>
                    <a:pt x="229870" y="27242"/>
                    <a:pt x="243205" y="24765"/>
                    <a:pt x="250317" y="24765"/>
                  </a:cubicBezTo>
                  <a:cubicBezTo>
                    <a:pt x="262001" y="24765"/>
                    <a:pt x="274320" y="29528"/>
                    <a:pt x="287274" y="39053"/>
                  </a:cubicBezTo>
                  <a:cubicBezTo>
                    <a:pt x="300228" y="48578"/>
                    <a:pt x="306705" y="57912"/>
                    <a:pt x="306705" y="67056"/>
                  </a:cubicBezTo>
                  <a:cubicBezTo>
                    <a:pt x="306705" y="69342"/>
                    <a:pt x="306261" y="71628"/>
                    <a:pt x="305372" y="73914"/>
                  </a:cubicBezTo>
                  <a:cubicBezTo>
                    <a:pt x="304483" y="76200"/>
                    <a:pt x="301054" y="82042"/>
                    <a:pt x="295085" y="91440"/>
                  </a:cubicBezTo>
                  <a:cubicBezTo>
                    <a:pt x="289116" y="100838"/>
                    <a:pt x="283972" y="107569"/>
                    <a:pt x="279654" y="111633"/>
                  </a:cubicBezTo>
                  <a:cubicBezTo>
                    <a:pt x="275336" y="115697"/>
                    <a:pt x="270129" y="120142"/>
                    <a:pt x="264033" y="124968"/>
                  </a:cubicBezTo>
                  <a:cubicBezTo>
                    <a:pt x="264541" y="135128"/>
                    <a:pt x="257048" y="140208"/>
                    <a:pt x="241554" y="140208"/>
                  </a:cubicBezTo>
                  <a:cubicBezTo>
                    <a:pt x="236728" y="140208"/>
                    <a:pt x="233045" y="140589"/>
                    <a:pt x="230505" y="141351"/>
                  </a:cubicBezTo>
                  <a:lnTo>
                    <a:pt x="230505" y="156210"/>
                  </a:lnTo>
                  <a:cubicBezTo>
                    <a:pt x="249555" y="153924"/>
                    <a:pt x="262382" y="152781"/>
                    <a:pt x="268986" y="152781"/>
                  </a:cubicBezTo>
                  <a:cubicBezTo>
                    <a:pt x="275590" y="152781"/>
                    <a:pt x="283083" y="155258"/>
                    <a:pt x="291465" y="160211"/>
                  </a:cubicBezTo>
                  <a:cubicBezTo>
                    <a:pt x="299847" y="165164"/>
                    <a:pt x="304038" y="169355"/>
                    <a:pt x="304038" y="172784"/>
                  </a:cubicBezTo>
                  <a:cubicBezTo>
                    <a:pt x="304038" y="176213"/>
                    <a:pt x="302641" y="179070"/>
                    <a:pt x="299847" y="181356"/>
                  </a:cubicBezTo>
                  <a:cubicBezTo>
                    <a:pt x="297053" y="183642"/>
                    <a:pt x="293815" y="184785"/>
                    <a:pt x="290132" y="184785"/>
                  </a:cubicBezTo>
                  <a:cubicBezTo>
                    <a:pt x="286449" y="184785"/>
                    <a:pt x="282829" y="184277"/>
                    <a:pt x="279273" y="183261"/>
                  </a:cubicBezTo>
                  <a:cubicBezTo>
                    <a:pt x="264287" y="178689"/>
                    <a:pt x="251079" y="176403"/>
                    <a:pt x="239649" y="176403"/>
                  </a:cubicBezTo>
                  <a:cubicBezTo>
                    <a:pt x="236347" y="176403"/>
                    <a:pt x="233553" y="176657"/>
                    <a:pt x="231267" y="177165"/>
                  </a:cubicBezTo>
                  <a:cubicBezTo>
                    <a:pt x="231775" y="188087"/>
                    <a:pt x="232410" y="196977"/>
                    <a:pt x="233172" y="203835"/>
                  </a:cubicBezTo>
                  <a:cubicBezTo>
                    <a:pt x="246634" y="206883"/>
                    <a:pt x="258509" y="208471"/>
                    <a:pt x="268796" y="208598"/>
                  </a:cubicBezTo>
                  <a:cubicBezTo>
                    <a:pt x="279083" y="208725"/>
                    <a:pt x="288417" y="212344"/>
                    <a:pt x="296799" y="219456"/>
                  </a:cubicBezTo>
                  <a:cubicBezTo>
                    <a:pt x="305181" y="226568"/>
                    <a:pt x="309372" y="233807"/>
                    <a:pt x="309372" y="241173"/>
                  </a:cubicBezTo>
                  <a:cubicBezTo>
                    <a:pt x="309372" y="245999"/>
                    <a:pt x="308102" y="250571"/>
                    <a:pt x="305562" y="254889"/>
                  </a:cubicBezTo>
                  <a:cubicBezTo>
                    <a:pt x="303022" y="259207"/>
                    <a:pt x="298958" y="261366"/>
                    <a:pt x="293370" y="261366"/>
                  </a:cubicBezTo>
                  <a:cubicBezTo>
                    <a:pt x="284226" y="261366"/>
                    <a:pt x="272034" y="249301"/>
                    <a:pt x="256794" y="225171"/>
                  </a:cubicBezTo>
                  <a:cubicBezTo>
                    <a:pt x="249174" y="213233"/>
                    <a:pt x="241300" y="207137"/>
                    <a:pt x="233172" y="206883"/>
                  </a:cubicBezTo>
                  <a:cubicBezTo>
                    <a:pt x="234188" y="219837"/>
                    <a:pt x="234696" y="230759"/>
                    <a:pt x="234696" y="239649"/>
                  </a:cubicBezTo>
                  <a:cubicBezTo>
                    <a:pt x="234696" y="257937"/>
                    <a:pt x="232220" y="272034"/>
                    <a:pt x="227267" y="281940"/>
                  </a:cubicBezTo>
                  <a:cubicBezTo>
                    <a:pt x="222314" y="291846"/>
                    <a:pt x="217551" y="296799"/>
                    <a:pt x="212979" y="296799"/>
                  </a:cubicBezTo>
                  <a:cubicBezTo>
                    <a:pt x="211201" y="296799"/>
                    <a:pt x="209804" y="296037"/>
                    <a:pt x="208788" y="294513"/>
                  </a:cubicBezTo>
                  <a:cubicBezTo>
                    <a:pt x="202946" y="286131"/>
                    <a:pt x="197422" y="279464"/>
                    <a:pt x="192215" y="274511"/>
                  </a:cubicBezTo>
                  <a:cubicBezTo>
                    <a:pt x="187008" y="269558"/>
                    <a:pt x="182817" y="264859"/>
                    <a:pt x="179642" y="260414"/>
                  </a:cubicBezTo>
                  <a:cubicBezTo>
                    <a:pt x="176467" y="255969"/>
                    <a:pt x="173101" y="249555"/>
                    <a:pt x="169545" y="241173"/>
                  </a:cubicBezTo>
                  <a:cubicBezTo>
                    <a:pt x="163703" y="244475"/>
                    <a:pt x="159576" y="247396"/>
                    <a:pt x="157163" y="249936"/>
                  </a:cubicBezTo>
                  <a:cubicBezTo>
                    <a:pt x="154750" y="252476"/>
                    <a:pt x="151956" y="256858"/>
                    <a:pt x="148781" y="263081"/>
                  </a:cubicBezTo>
                  <a:cubicBezTo>
                    <a:pt x="145606" y="269304"/>
                    <a:pt x="142558" y="272415"/>
                    <a:pt x="139637" y="272415"/>
                  </a:cubicBezTo>
                  <a:cubicBezTo>
                    <a:pt x="136716" y="272415"/>
                    <a:pt x="134303" y="269304"/>
                    <a:pt x="132398" y="263081"/>
                  </a:cubicBezTo>
                  <a:cubicBezTo>
                    <a:pt x="130493" y="256858"/>
                    <a:pt x="129540" y="250571"/>
                    <a:pt x="129540" y="244221"/>
                  </a:cubicBezTo>
                  <a:cubicBezTo>
                    <a:pt x="129540" y="237871"/>
                    <a:pt x="130429" y="232982"/>
                    <a:pt x="132207" y="229553"/>
                  </a:cubicBezTo>
                  <a:cubicBezTo>
                    <a:pt x="133985" y="226124"/>
                    <a:pt x="135319" y="221869"/>
                    <a:pt x="136208" y="216789"/>
                  </a:cubicBezTo>
                  <a:cubicBezTo>
                    <a:pt x="137097" y="211709"/>
                    <a:pt x="138748" y="208090"/>
                    <a:pt x="141161" y="205931"/>
                  </a:cubicBezTo>
                  <a:cubicBezTo>
                    <a:pt x="143574" y="203772"/>
                    <a:pt x="145860" y="202692"/>
                    <a:pt x="148019" y="202692"/>
                  </a:cubicBezTo>
                  <a:cubicBezTo>
                    <a:pt x="150178" y="202692"/>
                    <a:pt x="152527" y="205740"/>
                    <a:pt x="155067" y="211836"/>
                  </a:cubicBezTo>
                  <a:cubicBezTo>
                    <a:pt x="153035" y="212090"/>
                    <a:pt x="152019" y="213360"/>
                    <a:pt x="152019" y="215646"/>
                  </a:cubicBezTo>
                  <a:cubicBezTo>
                    <a:pt x="152019" y="221996"/>
                    <a:pt x="152972" y="225171"/>
                    <a:pt x="154877" y="225171"/>
                  </a:cubicBezTo>
                  <a:cubicBezTo>
                    <a:pt x="156782" y="225171"/>
                    <a:pt x="159004" y="224409"/>
                    <a:pt x="161544" y="222885"/>
                  </a:cubicBezTo>
                  <a:cubicBezTo>
                    <a:pt x="159512" y="219075"/>
                    <a:pt x="158242" y="215519"/>
                    <a:pt x="157734" y="212217"/>
                  </a:cubicBezTo>
                  <a:cubicBezTo>
                    <a:pt x="161798" y="216789"/>
                    <a:pt x="164719" y="219837"/>
                    <a:pt x="166497" y="221361"/>
                  </a:cubicBezTo>
                  <a:cubicBezTo>
                    <a:pt x="185293" y="212471"/>
                    <a:pt x="198628" y="207391"/>
                    <a:pt x="206502" y="206121"/>
                  </a:cubicBezTo>
                  <a:cubicBezTo>
                    <a:pt x="206756" y="195961"/>
                    <a:pt x="206756" y="187833"/>
                    <a:pt x="206502" y="181737"/>
                  </a:cubicBezTo>
                  <a:cubicBezTo>
                    <a:pt x="193548" y="184531"/>
                    <a:pt x="176149" y="189992"/>
                    <a:pt x="154305" y="198120"/>
                  </a:cubicBezTo>
                  <a:cubicBezTo>
                    <a:pt x="148209" y="200406"/>
                    <a:pt x="142939" y="201549"/>
                    <a:pt x="138494" y="201549"/>
                  </a:cubicBezTo>
                  <a:cubicBezTo>
                    <a:pt x="134049" y="201549"/>
                    <a:pt x="129667" y="200406"/>
                    <a:pt x="125349" y="198120"/>
                  </a:cubicBezTo>
                  <a:cubicBezTo>
                    <a:pt x="121285" y="207010"/>
                    <a:pt x="118618" y="215710"/>
                    <a:pt x="117348" y="224219"/>
                  </a:cubicBezTo>
                  <a:cubicBezTo>
                    <a:pt x="116078" y="232728"/>
                    <a:pt x="113157" y="241300"/>
                    <a:pt x="108585" y="249936"/>
                  </a:cubicBezTo>
                  <a:cubicBezTo>
                    <a:pt x="105537" y="255778"/>
                    <a:pt x="104013" y="264668"/>
                    <a:pt x="104013" y="276606"/>
                  </a:cubicBezTo>
                  <a:cubicBezTo>
                    <a:pt x="104013" y="281940"/>
                    <a:pt x="102489" y="284607"/>
                    <a:pt x="99441" y="284607"/>
                  </a:cubicBezTo>
                  <a:cubicBezTo>
                    <a:pt x="94361" y="284607"/>
                    <a:pt x="88392" y="278638"/>
                    <a:pt x="81534" y="266700"/>
                  </a:cubicBezTo>
                  <a:cubicBezTo>
                    <a:pt x="74676" y="254762"/>
                    <a:pt x="71247" y="243967"/>
                    <a:pt x="71247" y="234315"/>
                  </a:cubicBezTo>
                  <a:lnTo>
                    <a:pt x="72390" y="209931"/>
                  </a:lnTo>
                  <a:cubicBezTo>
                    <a:pt x="72644" y="200533"/>
                    <a:pt x="72771" y="188151"/>
                    <a:pt x="72771" y="172784"/>
                  </a:cubicBezTo>
                  <a:cubicBezTo>
                    <a:pt x="72771" y="157417"/>
                    <a:pt x="72136" y="149733"/>
                    <a:pt x="70866" y="149733"/>
                  </a:cubicBezTo>
                  <a:cubicBezTo>
                    <a:pt x="70104" y="149733"/>
                    <a:pt x="69088" y="150876"/>
                    <a:pt x="67818" y="153162"/>
                  </a:cubicBezTo>
                  <a:cubicBezTo>
                    <a:pt x="64770" y="159004"/>
                    <a:pt x="59119" y="165100"/>
                    <a:pt x="50864" y="171450"/>
                  </a:cubicBezTo>
                  <a:cubicBezTo>
                    <a:pt x="42609" y="177800"/>
                    <a:pt x="34100" y="180975"/>
                    <a:pt x="25337" y="180975"/>
                  </a:cubicBezTo>
                  <a:cubicBezTo>
                    <a:pt x="16574" y="180975"/>
                    <a:pt x="10160" y="177292"/>
                    <a:pt x="6096" y="169926"/>
                  </a:cubicBezTo>
                  <a:cubicBezTo>
                    <a:pt x="2032" y="162560"/>
                    <a:pt x="0" y="154051"/>
                    <a:pt x="0" y="144399"/>
                  </a:cubicBezTo>
                  <a:cubicBezTo>
                    <a:pt x="0" y="134747"/>
                    <a:pt x="4318" y="124397"/>
                    <a:pt x="12954" y="113348"/>
                  </a:cubicBezTo>
                  <a:cubicBezTo>
                    <a:pt x="21590" y="102299"/>
                    <a:pt x="36195" y="88583"/>
                    <a:pt x="56769" y="72200"/>
                  </a:cubicBezTo>
                  <a:cubicBezTo>
                    <a:pt x="77343" y="55817"/>
                    <a:pt x="87630" y="44831"/>
                    <a:pt x="87630" y="39243"/>
                  </a:cubicBezTo>
                  <a:cubicBezTo>
                    <a:pt x="87630" y="37973"/>
                    <a:pt x="87313" y="37021"/>
                    <a:pt x="86678" y="36386"/>
                  </a:cubicBezTo>
                  <a:cubicBezTo>
                    <a:pt x="86043" y="35751"/>
                    <a:pt x="82804" y="32703"/>
                    <a:pt x="76962" y="27242"/>
                  </a:cubicBezTo>
                  <a:cubicBezTo>
                    <a:pt x="71120" y="21781"/>
                    <a:pt x="68199" y="18669"/>
                    <a:pt x="68199" y="17907"/>
                  </a:cubicBezTo>
                  <a:cubicBezTo>
                    <a:pt x="68199" y="16637"/>
                    <a:pt x="71247" y="15685"/>
                    <a:pt x="77343" y="15050"/>
                  </a:cubicBezTo>
                  <a:cubicBezTo>
                    <a:pt x="83439" y="14415"/>
                    <a:pt x="88011" y="14097"/>
                    <a:pt x="91059" y="14097"/>
                  </a:cubicBezTo>
                  <a:close/>
                  <a:moveTo>
                    <a:pt x="1254443" y="9906"/>
                  </a:moveTo>
                  <a:cubicBezTo>
                    <a:pt x="1261174" y="9906"/>
                    <a:pt x="1269111" y="13970"/>
                    <a:pt x="1278255" y="22098"/>
                  </a:cubicBezTo>
                  <a:cubicBezTo>
                    <a:pt x="1287399" y="30226"/>
                    <a:pt x="1291971" y="39624"/>
                    <a:pt x="1291971" y="50292"/>
                  </a:cubicBezTo>
                  <a:cubicBezTo>
                    <a:pt x="1291971" y="54864"/>
                    <a:pt x="1291019" y="60008"/>
                    <a:pt x="1289114" y="65723"/>
                  </a:cubicBezTo>
                  <a:cubicBezTo>
                    <a:pt x="1287209" y="71438"/>
                    <a:pt x="1286002" y="79375"/>
                    <a:pt x="1285494" y="89535"/>
                  </a:cubicBezTo>
                  <a:cubicBezTo>
                    <a:pt x="1284986" y="99695"/>
                    <a:pt x="1281303" y="115951"/>
                    <a:pt x="1274445" y="138303"/>
                  </a:cubicBezTo>
                  <a:cubicBezTo>
                    <a:pt x="1282319" y="138557"/>
                    <a:pt x="1287844" y="139256"/>
                    <a:pt x="1291019" y="140399"/>
                  </a:cubicBezTo>
                  <a:cubicBezTo>
                    <a:pt x="1294194" y="141542"/>
                    <a:pt x="1298067" y="144145"/>
                    <a:pt x="1302639" y="148209"/>
                  </a:cubicBezTo>
                  <a:cubicBezTo>
                    <a:pt x="1308481" y="123825"/>
                    <a:pt x="1317625" y="101600"/>
                    <a:pt x="1330071" y="81534"/>
                  </a:cubicBezTo>
                  <a:cubicBezTo>
                    <a:pt x="1317371" y="82296"/>
                    <a:pt x="1307529" y="81090"/>
                    <a:pt x="1300544" y="77915"/>
                  </a:cubicBezTo>
                  <a:cubicBezTo>
                    <a:pt x="1293559" y="74740"/>
                    <a:pt x="1290066" y="72327"/>
                    <a:pt x="1290066" y="70676"/>
                  </a:cubicBezTo>
                  <a:cubicBezTo>
                    <a:pt x="1290066" y="69025"/>
                    <a:pt x="1290955" y="67945"/>
                    <a:pt x="1292733" y="67437"/>
                  </a:cubicBezTo>
                  <a:cubicBezTo>
                    <a:pt x="1304163" y="63627"/>
                    <a:pt x="1314069" y="59754"/>
                    <a:pt x="1322451" y="55817"/>
                  </a:cubicBezTo>
                  <a:cubicBezTo>
                    <a:pt x="1330833" y="51880"/>
                    <a:pt x="1341755" y="45339"/>
                    <a:pt x="1355217" y="36195"/>
                  </a:cubicBezTo>
                  <a:cubicBezTo>
                    <a:pt x="1359535" y="33147"/>
                    <a:pt x="1364298" y="31623"/>
                    <a:pt x="1369505" y="31623"/>
                  </a:cubicBezTo>
                  <a:cubicBezTo>
                    <a:pt x="1374712" y="31623"/>
                    <a:pt x="1379474" y="33147"/>
                    <a:pt x="1383792" y="36195"/>
                  </a:cubicBezTo>
                  <a:cubicBezTo>
                    <a:pt x="1388110" y="39243"/>
                    <a:pt x="1390269" y="42355"/>
                    <a:pt x="1390269" y="45530"/>
                  </a:cubicBezTo>
                  <a:cubicBezTo>
                    <a:pt x="1390269" y="48705"/>
                    <a:pt x="1388745" y="51181"/>
                    <a:pt x="1385697" y="52959"/>
                  </a:cubicBezTo>
                  <a:cubicBezTo>
                    <a:pt x="1374521" y="59563"/>
                    <a:pt x="1361186" y="75438"/>
                    <a:pt x="1345692" y="100584"/>
                  </a:cubicBezTo>
                  <a:cubicBezTo>
                    <a:pt x="1354328" y="97028"/>
                    <a:pt x="1360551" y="95250"/>
                    <a:pt x="1364361" y="95250"/>
                  </a:cubicBezTo>
                  <a:cubicBezTo>
                    <a:pt x="1372997" y="95250"/>
                    <a:pt x="1380109" y="98616"/>
                    <a:pt x="1385697" y="105347"/>
                  </a:cubicBezTo>
                  <a:cubicBezTo>
                    <a:pt x="1391285" y="112078"/>
                    <a:pt x="1394079" y="120142"/>
                    <a:pt x="1394079" y="129540"/>
                  </a:cubicBezTo>
                  <a:cubicBezTo>
                    <a:pt x="1394079" y="138938"/>
                    <a:pt x="1392873" y="152400"/>
                    <a:pt x="1390460" y="169926"/>
                  </a:cubicBezTo>
                  <a:cubicBezTo>
                    <a:pt x="1388047" y="187452"/>
                    <a:pt x="1382522" y="202311"/>
                    <a:pt x="1373886" y="214503"/>
                  </a:cubicBezTo>
                  <a:cubicBezTo>
                    <a:pt x="1384808" y="218567"/>
                    <a:pt x="1392873" y="223393"/>
                    <a:pt x="1398080" y="228981"/>
                  </a:cubicBezTo>
                  <a:cubicBezTo>
                    <a:pt x="1403287" y="234569"/>
                    <a:pt x="1405890" y="240856"/>
                    <a:pt x="1405890" y="247841"/>
                  </a:cubicBezTo>
                  <a:cubicBezTo>
                    <a:pt x="1405890" y="254826"/>
                    <a:pt x="1403350" y="258318"/>
                    <a:pt x="1398270" y="258318"/>
                  </a:cubicBezTo>
                  <a:cubicBezTo>
                    <a:pt x="1394714" y="258318"/>
                    <a:pt x="1390968" y="256921"/>
                    <a:pt x="1387031" y="254127"/>
                  </a:cubicBezTo>
                  <a:cubicBezTo>
                    <a:pt x="1383094" y="251333"/>
                    <a:pt x="1375918" y="245301"/>
                    <a:pt x="1365504" y="236030"/>
                  </a:cubicBezTo>
                  <a:cubicBezTo>
                    <a:pt x="1355090" y="226759"/>
                    <a:pt x="1349375" y="221679"/>
                    <a:pt x="1348359" y="220790"/>
                  </a:cubicBezTo>
                  <a:cubicBezTo>
                    <a:pt x="1347343" y="219901"/>
                    <a:pt x="1345883" y="219456"/>
                    <a:pt x="1343978" y="219456"/>
                  </a:cubicBezTo>
                  <a:cubicBezTo>
                    <a:pt x="1342073" y="219456"/>
                    <a:pt x="1340485" y="220472"/>
                    <a:pt x="1339215" y="222504"/>
                  </a:cubicBezTo>
                  <a:cubicBezTo>
                    <a:pt x="1334643" y="229616"/>
                    <a:pt x="1329881" y="235204"/>
                    <a:pt x="1324928" y="239268"/>
                  </a:cubicBezTo>
                  <a:cubicBezTo>
                    <a:pt x="1319975" y="243332"/>
                    <a:pt x="1313307" y="247523"/>
                    <a:pt x="1304925" y="251841"/>
                  </a:cubicBezTo>
                  <a:cubicBezTo>
                    <a:pt x="1347851" y="260731"/>
                    <a:pt x="1380236" y="265176"/>
                    <a:pt x="1402080" y="265176"/>
                  </a:cubicBezTo>
                  <a:cubicBezTo>
                    <a:pt x="1408684" y="265176"/>
                    <a:pt x="1414780" y="264922"/>
                    <a:pt x="1420368" y="264414"/>
                  </a:cubicBezTo>
                  <a:cubicBezTo>
                    <a:pt x="1425956" y="263906"/>
                    <a:pt x="1429004" y="263652"/>
                    <a:pt x="1429512" y="263652"/>
                  </a:cubicBezTo>
                  <a:cubicBezTo>
                    <a:pt x="1437894" y="263652"/>
                    <a:pt x="1447229" y="265240"/>
                    <a:pt x="1457516" y="268415"/>
                  </a:cubicBezTo>
                  <a:cubicBezTo>
                    <a:pt x="1467803" y="271590"/>
                    <a:pt x="1472946" y="275463"/>
                    <a:pt x="1472946" y="280035"/>
                  </a:cubicBezTo>
                  <a:cubicBezTo>
                    <a:pt x="1472946" y="281813"/>
                    <a:pt x="1471295" y="283655"/>
                    <a:pt x="1467993" y="285560"/>
                  </a:cubicBezTo>
                  <a:cubicBezTo>
                    <a:pt x="1464691" y="287465"/>
                    <a:pt x="1456563" y="289306"/>
                    <a:pt x="1443609" y="291084"/>
                  </a:cubicBezTo>
                  <a:cubicBezTo>
                    <a:pt x="1430655" y="292862"/>
                    <a:pt x="1416431" y="293751"/>
                    <a:pt x="1400937" y="293751"/>
                  </a:cubicBezTo>
                  <a:cubicBezTo>
                    <a:pt x="1385443" y="293751"/>
                    <a:pt x="1369822" y="292227"/>
                    <a:pt x="1354074" y="289179"/>
                  </a:cubicBezTo>
                  <a:cubicBezTo>
                    <a:pt x="1338326" y="286131"/>
                    <a:pt x="1318006" y="279908"/>
                    <a:pt x="1293114" y="270510"/>
                  </a:cubicBezTo>
                  <a:cubicBezTo>
                    <a:pt x="1275842" y="264160"/>
                    <a:pt x="1259332" y="260985"/>
                    <a:pt x="1243584" y="260985"/>
                  </a:cubicBezTo>
                  <a:cubicBezTo>
                    <a:pt x="1235202" y="260985"/>
                    <a:pt x="1226376" y="262001"/>
                    <a:pt x="1217105" y="264033"/>
                  </a:cubicBezTo>
                  <a:cubicBezTo>
                    <a:pt x="1207834" y="266065"/>
                    <a:pt x="1200912" y="267081"/>
                    <a:pt x="1196340" y="267081"/>
                  </a:cubicBezTo>
                  <a:cubicBezTo>
                    <a:pt x="1191768" y="267081"/>
                    <a:pt x="1188149" y="266065"/>
                    <a:pt x="1185482" y="264033"/>
                  </a:cubicBezTo>
                  <a:cubicBezTo>
                    <a:pt x="1182815" y="262001"/>
                    <a:pt x="1180148" y="260477"/>
                    <a:pt x="1177481" y="259461"/>
                  </a:cubicBezTo>
                  <a:cubicBezTo>
                    <a:pt x="1174814" y="258445"/>
                    <a:pt x="1172718" y="257937"/>
                    <a:pt x="1171194" y="257937"/>
                  </a:cubicBezTo>
                  <a:lnTo>
                    <a:pt x="1167003" y="258318"/>
                  </a:lnTo>
                  <a:cubicBezTo>
                    <a:pt x="1163955" y="258318"/>
                    <a:pt x="1162431" y="257429"/>
                    <a:pt x="1162431" y="255651"/>
                  </a:cubicBezTo>
                  <a:cubicBezTo>
                    <a:pt x="1162431" y="253873"/>
                    <a:pt x="1165162" y="251651"/>
                    <a:pt x="1170623" y="248984"/>
                  </a:cubicBezTo>
                  <a:cubicBezTo>
                    <a:pt x="1176084" y="246317"/>
                    <a:pt x="1181989" y="244983"/>
                    <a:pt x="1188339" y="244983"/>
                  </a:cubicBezTo>
                  <a:cubicBezTo>
                    <a:pt x="1202817" y="244729"/>
                    <a:pt x="1214882" y="242126"/>
                    <a:pt x="1224534" y="237173"/>
                  </a:cubicBezTo>
                  <a:cubicBezTo>
                    <a:pt x="1234186" y="232220"/>
                    <a:pt x="1241171" y="227076"/>
                    <a:pt x="1245489" y="221742"/>
                  </a:cubicBezTo>
                  <a:cubicBezTo>
                    <a:pt x="1249807" y="216408"/>
                    <a:pt x="1251966" y="213233"/>
                    <a:pt x="1251966" y="212217"/>
                  </a:cubicBezTo>
                  <a:cubicBezTo>
                    <a:pt x="1251966" y="211201"/>
                    <a:pt x="1251458" y="210693"/>
                    <a:pt x="1250442" y="210693"/>
                  </a:cubicBezTo>
                  <a:cubicBezTo>
                    <a:pt x="1247394" y="210693"/>
                    <a:pt x="1240028" y="212979"/>
                    <a:pt x="1228344" y="217551"/>
                  </a:cubicBezTo>
                  <a:cubicBezTo>
                    <a:pt x="1216660" y="222123"/>
                    <a:pt x="1208977" y="225743"/>
                    <a:pt x="1205294" y="228410"/>
                  </a:cubicBezTo>
                  <a:cubicBezTo>
                    <a:pt x="1201611" y="231077"/>
                    <a:pt x="1198499" y="232410"/>
                    <a:pt x="1195959" y="232410"/>
                  </a:cubicBezTo>
                  <a:cubicBezTo>
                    <a:pt x="1193419" y="232410"/>
                    <a:pt x="1191133" y="230124"/>
                    <a:pt x="1189101" y="225552"/>
                  </a:cubicBezTo>
                  <a:cubicBezTo>
                    <a:pt x="1187069" y="220980"/>
                    <a:pt x="1186053" y="217170"/>
                    <a:pt x="1186053" y="214122"/>
                  </a:cubicBezTo>
                  <a:cubicBezTo>
                    <a:pt x="1186053" y="206756"/>
                    <a:pt x="1189355" y="202565"/>
                    <a:pt x="1195959" y="201549"/>
                  </a:cubicBezTo>
                  <a:cubicBezTo>
                    <a:pt x="1197991" y="201295"/>
                    <a:pt x="1201547" y="199644"/>
                    <a:pt x="1206627" y="196596"/>
                  </a:cubicBezTo>
                  <a:cubicBezTo>
                    <a:pt x="1211707" y="193548"/>
                    <a:pt x="1220153" y="187833"/>
                    <a:pt x="1231964" y="179451"/>
                  </a:cubicBezTo>
                  <a:cubicBezTo>
                    <a:pt x="1243775" y="171069"/>
                    <a:pt x="1249998" y="166497"/>
                    <a:pt x="1250633" y="165735"/>
                  </a:cubicBezTo>
                  <a:cubicBezTo>
                    <a:pt x="1251268" y="164973"/>
                    <a:pt x="1251585" y="164148"/>
                    <a:pt x="1251585" y="163259"/>
                  </a:cubicBezTo>
                  <a:cubicBezTo>
                    <a:pt x="1251585" y="162370"/>
                    <a:pt x="1251014" y="161925"/>
                    <a:pt x="1249871" y="161925"/>
                  </a:cubicBezTo>
                  <a:cubicBezTo>
                    <a:pt x="1248728" y="161925"/>
                    <a:pt x="1237742" y="166434"/>
                    <a:pt x="1216914" y="175451"/>
                  </a:cubicBezTo>
                  <a:cubicBezTo>
                    <a:pt x="1196086" y="184468"/>
                    <a:pt x="1171702" y="196469"/>
                    <a:pt x="1143762" y="211455"/>
                  </a:cubicBezTo>
                  <a:cubicBezTo>
                    <a:pt x="1142238" y="212217"/>
                    <a:pt x="1140841" y="212598"/>
                    <a:pt x="1139571" y="212598"/>
                  </a:cubicBezTo>
                  <a:cubicBezTo>
                    <a:pt x="1135761" y="212598"/>
                    <a:pt x="1132459" y="210312"/>
                    <a:pt x="1129665" y="205740"/>
                  </a:cubicBezTo>
                  <a:cubicBezTo>
                    <a:pt x="1126871" y="201168"/>
                    <a:pt x="1125474" y="196787"/>
                    <a:pt x="1125474" y="192596"/>
                  </a:cubicBezTo>
                  <a:cubicBezTo>
                    <a:pt x="1125474" y="188405"/>
                    <a:pt x="1126871" y="185103"/>
                    <a:pt x="1129665" y="182690"/>
                  </a:cubicBezTo>
                  <a:cubicBezTo>
                    <a:pt x="1132459" y="180277"/>
                    <a:pt x="1140397" y="175959"/>
                    <a:pt x="1153478" y="169736"/>
                  </a:cubicBezTo>
                  <a:cubicBezTo>
                    <a:pt x="1166559" y="163513"/>
                    <a:pt x="1183386" y="156464"/>
                    <a:pt x="1203960" y="148590"/>
                  </a:cubicBezTo>
                  <a:cubicBezTo>
                    <a:pt x="1199134" y="143002"/>
                    <a:pt x="1195896" y="137795"/>
                    <a:pt x="1194245" y="132969"/>
                  </a:cubicBezTo>
                  <a:cubicBezTo>
                    <a:pt x="1192594" y="128143"/>
                    <a:pt x="1191768" y="120841"/>
                    <a:pt x="1191768" y="111062"/>
                  </a:cubicBezTo>
                  <a:cubicBezTo>
                    <a:pt x="1191768" y="101283"/>
                    <a:pt x="1193419" y="90170"/>
                    <a:pt x="1196721" y="77724"/>
                  </a:cubicBezTo>
                  <a:cubicBezTo>
                    <a:pt x="1197737" y="73406"/>
                    <a:pt x="1198245" y="70231"/>
                    <a:pt x="1198245" y="68199"/>
                  </a:cubicBezTo>
                  <a:cubicBezTo>
                    <a:pt x="1198245" y="66167"/>
                    <a:pt x="1197928" y="64262"/>
                    <a:pt x="1197293" y="62484"/>
                  </a:cubicBezTo>
                  <a:cubicBezTo>
                    <a:pt x="1196658" y="60706"/>
                    <a:pt x="1196340" y="59055"/>
                    <a:pt x="1196340" y="57531"/>
                  </a:cubicBezTo>
                  <a:cubicBezTo>
                    <a:pt x="1196340" y="56007"/>
                    <a:pt x="1197356" y="55245"/>
                    <a:pt x="1199388" y="55245"/>
                  </a:cubicBezTo>
                  <a:cubicBezTo>
                    <a:pt x="1201420" y="55245"/>
                    <a:pt x="1204659" y="57150"/>
                    <a:pt x="1209104" y="60960"/>
                  </a:cubicBezTo>
                  <a:cubicBezTo>
                    <a:pt x="1213549" y="64770"/>
                    <a:pt x="1217930" y="70104"/>
                    <a:pt x="1222248" y="76962"/>
                  </a:cubicBezTo>
                  <a:cubicBezTo>
                    <a:pt x="1230884" y="73152"/>
                    <a:pt x="1237679" y="71247"/>
                    <a:pt x="1242632" y="71247"/>
                  </a:cubicBezTo>
                  <a:cubicBezTo>
                    <a:pt x="1247585" y="71247"/>
                    <a:pt x="1251839" y="72517"/>
                    <a:pt x="1255395" y="75057"/>
                  </a:cubicBezTo>
                  <a:cubicBezTo>
                    <a:pt x="1255903" y="68707"/>
                    <a:pt x="1256157" y="62548"/>
                    <a:pt x="1256157" y="56579"/>
                  </a:cubicBezTo>
                  <a:cubicBezTo>
                    <a:pt x="1256157" y="50610"/>
                    <a:pt x="1255395" y="46355"/>
                    <a:pt x="1253871" y="43815"/>
                  </a:cubicBezTo>
                  <a:cubicBezTo>
                    <a:pt x="1249553" y="47879"/>
                    <a:pt x="1245108" y="49911"/>
                    <a:pt x="1240536" y="49911"/>
                  </a:cubicBezTo>
                  <a:cubicBezTo>
                    <a:pt x="1235964" y="49911"/>
                    <a:pt x="1231773" y="49403"/>
                    <a:pt x="1227963" y="48387"/>
                  </a:cubicBezTo>
                  <a:cubicBezTo>
                    <a:pt x="1224153" y="47371"/>
                    <a:pt x="1222121" y="46863"/>
                    <a:pt x="1221867" y="46863"/>
                  </a:cubicBezTo>
                  <a:cubicBezTo>
                    <a:pt x="1220089" y="46863"/>
                    <a:pt x="1218311" y="47943"/>
                    <a:pt x="1216533" y="50102"/>
                  </a:cubicBezTo>
                  <a:cubicBezTo>
                    <a:pt x="1214755" y="52261"/>
                    <a:pt x="1213422" y="53340"/>
                    <a:pt x="1212533" y="53340"/>
                  </a:cubicBezTo>
                  <a:cubicBezTo>
                    <a:pt x="1211644" y="53340"/>
                    <a:pt x="1211199" y="52261"/>
                    <a:pt x="1211199" y="50102"/>
                  </a:cubicBezTo>
                  <a:cubicBezTo>
                    <a:pt x="1211199" y="47943"/>
                    <a:pt x="1212152" y="44704"/>
                    <a:pt x="1214057" y="40386"/>
                  </a:cubicBezTo>
                  <a:cubicBezTo>
                    <a:pt x="1215962" y="36068"/>
                    <a:pt x="1219200" y="32322"/>
                    <a:pt x="1223772" y="29147"/>
                  </a:cubicBezTo>
                  <a:cubicBezTo>
                    <a:pt x="1228344" y="25972"/>
                    <a:pt x="1232916" y="21971"/>
                    <a:pt x="1237488" y="17145"/>
                  </a:cubicBezTo>
                  <a:cubicBezTo>
                    <a:pt x="1242060" y="12319"/>
                    <a:pt x="1247712" y="9906"/>
                    <a:pt x="1254443" y="9906"/>
                  </a:cubicBezTo>
                  <a:close/>
                  <a:moveTo>
                    <a:pt x="909447" y="381"/>
                  </a:moveTo>
                  <a:cubicBezTo>
                    <a:pt x="924687" y="381"/>
                    <a:pt x="937578" y="3239"/>
                    <a:pt x="948119" y="8954"/>
                  </a:cubicBezTo>
                  <a:cubicBezTo>
                    <a:pt x="958660" y="14669"/>
                    <a:pt x="963930" y="23495"/>
                    <a:pt x="963930" y="35433"/>
                  </a:cubicBezTo>
                  <a:cubicBezTo>
                    <a:pt x="963930" y="41529"/>
                    <a:pt x="961771" y="45466"/>
                    <a:pt x="957453" y="47244"/>
                  </a:cubicBezTo>
                  <a:cubicBezTo>
                    <a:pt x="953135" y="49022"/>
                    <a:pt x="946468" y="50102"/>
                    <a:pt x="937451" y="50483"/>
                  </a:cubicBezTo>
                  <a:cubicBezTo>
                    <a:pt x="928434" y="50864"/>
                    <a:pt x="923163" y="51308"/>
                    <a:pt x="921639" y="51816"/>
                  </a:cubicBezTo>
                  <a:cubicBezTo>
                    <a:pt x="920115" y="52324"/>
                    <a:pt x="918591" y="53213"/>
                    <a:pt x="917067" y="54483"/>
                  </a:cubicBezTo>
                  <a:cubicBezTo>
                    <a:pt x="911479" y="58801"/>
                    <a:pt x="905256" y="62230"/>
                    <a:pt x="898398" y="64770"/>
                  </a:cubicBezTo>
                  <a:cubicBezTo>
                    <a:pt x="891540" y="67310"/>
                    <a:pt x="884873" y="68580"/>
                    <a:pt x="878396" y="68580"/>
                  </a:cubicBezTo>
                  <a:cubicBezTo>
                    <a:pt x="871919" y="68580"/>
                    <a:pt x="868680" y="67882"/>
                    <a:pt x="868680" y="66485"/>
                  </a:cubicBezTo>
                  <a:cubicBezTo>
                    <a:pt x="868680" y="65088"/>
                    <a:pt x="870331" y="62992"/>
                    <a:pt x="873633" y="60198"/>
                  </a:cubicBezTo>
                  <a:cubicBezTo>
                    <a:pt x="891667" y="45466"/>
                    <a:pt x="900684" y="35941"/>
                    <a:pt x="900684" y="31623"/>
                  </a:cubicBezTo>
                  <a:cubicBezTo>
                    <a:pt x="900684" y="28575"/>
                    <a:pt x="896239" y="21336"/>
                    <a:pt x="887349" y="9906"/>
                  </a:cubicBezTo>
                  <a:cubicBezTo>
                    <a:pt x="885571" y="7620"/>
                    <a:pt x="884682" y="5969"/>
                    <a:pt x="884682" y="4953"/>
                  </a:cubicBezTo>
                  <a:cubicBezTo>
                    <a:pt x="884682" y="1905"/>
                    <a:pt x="892937" y="381"/>
                    <a:pt x="909447" y="381"/>
                  </a:cubicBezTo>
                  <a:close/>
                  <a:moveTo>
                    <a:pt x="481965" y="0"/>
                  </a:moveTo>
                  <a:cubicBezTo>
                    <a:pt x="485267" y="0"/>
                    <a:pt x="493332" y="3302"/>
                    <a:pt x="506159" y="9906"/>
                  </a:cubicBezTo>
                  <a:cubicBezTo>
                    <a:pt x="518986" y="16510"/>
                    <a:pt x="528511" y="22860"/>
                    <a:pt x="534734" y="28956"/>
                  </a:cubicBezTo>
                  <a:cubicBezTo>
                    <a:pt x="540957" y="35052"/>
                    <a:pt x="544068" y="41339"/>
                    <a:pt x="544068" y="47816"/>
                  </a:cubicBezTo>
                  <a:cubicBezTo>
                    <a:pt x="544068" y="54293"/>
                    <a:pt x="540766" y="62230"/>
                    <a:pt x="534162" y="71628"/>
                  </a:cubicBezTo>
                  <a:cubicBezTo>
                    <a:pt x="549402" y="62738"/>
                    <a:pt x="559626" y="57341"/>
                    <a:pt x="564833" y="55436"/>
                  </a:cubicBezTo>
                  <a:cubicBezTo>
                    <a:pt x="570040" y="53531"/>
                    <a:pt x="573024" y="51562"/>
                    <a:pt x="573786" y="49530"/>
                  </a:cubicBezTo>
                  <a:cubicBezTo>
                    <a:pt x="574802" y="46990"/>
                    <a:pt x="578739" y="45720"/>
                    <a:pt x="585597" y="45720"/>
                  </a:cubicBezTo>
                  <a:cubicBezTo>
                    <a:pt x="592455" y="45720"/>
                    <a:pt x="598234" y="48387"/>
                    <a:pt x="602933" y="53721"/>
                  </a:cubicBezTo>
                  <a:cubicBezTo>
                    <a:pt x="607632" y="59055"/>
                    <a:pt x="609981" y="63881"/>
                    <a:pt x="609981" y="68199"/>
                  </a:cubicBezTo>
                  <a:cubicBezTo>
                    <a:pt x="609981" y="77597"/>
                    <a:pt x="606806" y="82296"/>
                    <a:pt x="600456" y="82296"/>
                  </a:cubicBezTo>
                  <a:cubicBezTo>
                    <a:pt x="590042" y="82296"/>
                    <a:pt x="575183" y="88138"/>
                    <a:pt x="555879" y="99822"/>
                  </a:cubicBezTo>
                  <a:cubicBezTo>
                    <a:pt x="557403" y="108966"/>
                    <a:pt x="561086" y="117729"/>
                    <a:pt x="566928" y="126111"/>
                  </a:cubicBezTo>
                  <a:cubicBezTo>
                    <a:pt x="568960" y="128905"/>
                    <a:pt x="569976" y="135255"/>
                    <a:pt x="569976" y="145161"/>
                  </a:cubicBezTo>
                  <a:cubicBezTo>
                    <a:pt x="569976" y="161417"/>
                    <a:pt x="567309" y="175895"/>
                    <a:pt x="561975" y="188595"/>
                  </a:cubicBezTo>
                  <a:cubicBezTo>
                    <a:pt x="605409" y="209931"/>
                    <a:pt x="632079" y="222250"/>
                    <a:pt x="641985" y="225552"/>
                  </a:cubicBezTo>
                  <a:cubicBezTo>
                    <a:pt x="651891" y="228854"/>
                    <a:pt x="660972" y="237427"/>
                    <a:pt x="669227" y="251270"/>
                  </a:cubicBezTo>
                  <a:cubicBezTo>
                    <a:pt x="677482" y="265113"/>
                    <a:pt x="681609" y="277495"/>
                    <a:pt x="681609" y="288417"/>
                  </a:cubicBezTo>
                  <a:cubicBezTo>
                    <a:pt x="681609" y="294005"/>
                    <a:pt x="679387" y="296799"/>
                    <a:pt x="674942" y="296799"/>
                  </a:cubicBezTo>
                  <a:cubicBezTo>
                    <a:pt x="670497" y="296799"/>
                    <a:pt x="658813" y="291338"/>
                    <a:pt x="639890" y="280416"/>
                  </a:cubicBezTo>
                  <a:cubicBezTo>
                    <a:pt x="620967" y="269494"/>
                    <a:pt x="608584" y="261366"/>
                    <a:pt x="602742" y="256032"/>
                  </a:cubicBezTo>
                  <a:cubicBezTo>
                    <a:pt x="586994" y="242316"/>
                    <a:pt x="568198" y="229108"/>
                    <a:pt x="546354" y="216408"/>
                  </a:cubicBezTo>
                  <a:cubicBezTo>
                    <a:pt x="535686" y="228600"/>
                    <a:pt x="522542" y="237871"/>
                    <a:pt x="506921" y="244221"/>
                  </a:cubicBezTo>
                  <a:cubicBezTo>
                    <a:pt x="491300" y="250571"/>
                    <a:pt x="475298" y="253746"/>
                    <a:pt x="458915" y="253746"/>
                  </a:cubicBezTo>
                  <a:cubicBezTo>
                    <a:pt x="442532" y="253746"/>
                    <a:pt x="427800" y="251714"/>
                    <a:pt x="414719" y="247650"/>
                  </a:cubicBezTo>
                  <a:cubicBezTo>
                    <a:pt x="401638" y="243586"/>
                    <a:pt x="391541" y="238443"/>
                    <a:pt x="384429" y="232220"/>
                  </a:cubicBezTo>
                  <a:cubicBezTo>
                    <a:pt x="377317" y="225997"/>
                    <a:pt x="373761" y="221234"/>
                    <a:pt x="373761" y="217932"/>
                  </a:cubicBezTo>
                  <a:cubicBezTo>
                    <a:pt x="373761" y="216154"/>
                    <a:pt x="374523" y="215265"/>
                    <a:pt x="376047" y="215265"/>
                  </a:cubicBezTo>
                  <a:cubicBezTo>
                    <a:pt x="377571" y="215265"/>
                    <a:pt x="379603" y="216662"/>
                    <a:pt x="382143" y="219456"/>
                  </a:cubicBezTo>
                  <a:cubicBezTo>
                    <a:pt x="391541" y="229616"/>
                    <a:pt x="407416" y="234696"/>
                    <a:pt x="429768" y="234696"/>
                  </a:cubicBezTo>
                  <a:cubicBezTo>
                    <a:pt x="446532" y="234696"/>
                    <a:pt x="462661" y="231648"/>
                    <a:pt x="478155" y="225552"/>
                  </a:cubicBezTo>
                  <a:cubicBezTo>
                    <a:pt x="493649" y="219456"/>
                    <a:pt x="505206" y="211074"/>
                    <a:pt x="512826" y="200406"/>
                  </a:cubicBezTo>
                  <a:cubicBezTo>
                    <a:pt x="494284" y="193548"/>
                    <a:pt x="478473" y="185611"/>
                    <a:pt x="465392" y="176594"/>
                  </a:cubicBezTo>
                  <a:cubicBezTo>
                    <a:pt x="452311" y="167577"/>
                    <a:pt x="439230" y="163068"/>
                    <a:pt x="426149" y="163068"/>
                  </a:cubicBezTo>
                  <a:cubicBezTo>
                    <a:pt x="413068" y="163068"/>
                    <a:pt x="401320" y="166878"/>
                    <a:pt x="390906" y="174498"/>
                  </a:cubicBezTo>
                  <a:cubicBezTo>
                    <a:pt x="388366" y="176276"/>
                    <a:pt x="386461" y="177165"/>
                    <a:pt x="385191" y="177165"/>
                  </a:cubicBezTo>
                  <a:cubicBezTo>
                    <a:pt x="383921" y="177165"/>
                    <a:pt x="383286" y="176657"/>
                    <a:pt x="383286" y="175641"/>
                  </a:cubicBezTo>
                  <a:cubicBezTo>
                    <a:pt x="383286" y="172339"/>
                    <a:pt x="387477" y="167069"/>
                    <a:pt x="395859" y="159830"/>
                  </a:cubicBezTo>
                  <a:cubicBezTo>
                    <a:pt x="404241" y="152591"/>
                    <a:pt x="415544" y="148971"/>
                    <a:pt x="429768" y="148971"/>
                  </a:cubicBezTo>
                  <a:cubicBezTo>
                    <a:pt x="434848" y="148971"/>
                    <a:pt x="440055" y="149479"/>
                    <a:pt x="445389" y="150495"/>
                  </a:cubicBezTo>
                  <a:cubicBezTo>
                    <a:pt x="450723" y="151511"/>
                    <a:pt x="461963" y="154496"/>
                    <a:pt x="479108" y="159449"/>
                  </a:cubicBezTo>
                  <a:cubicBezTo>
                    <a:pt x="496253" y="164402"/>
                    <a:pt x="511937" y="169291"/>
                    <a:pt x="526161" y="174117"/>
                  </a:cubicBezTo>
                  <a:cubicBezTo>
                    <a:pt x="534035" y="152781"/>
                    <a:pt x="538480" y="131318"/>
                    <a:pt x="539496" y="109728"/>
                  </a:cubicBezTo>
                  <a:cubicBezTo>
                    <a:pt x="523748" y="121412"/>
                    <a:pt x="510985" y="129667"/>
                    <a:pt x="501206" y="134493"/>
                  </a:cubicBezTo>
                  <a:cubicBezTo>
                    <a:pt x="491427" y="139319"/>
                    <a:pt x="484823" y="141732"/>
                    <a:pt x="481394" y="141732"/>
                  </a:cubicBezTo>
                  <a:cubicBezTo>
                    <a:pt x="477965" y="141732"/>
                    <a:pt x="474790" y="140589"/>
                    <a:pt x="471869" y="138303"/>
                  </a:cubicBezTo>
                  <a:cubicBezTo>
                    <a:pt x="468948" y="136017"/>
                    <a:pt x="465138" y="131255"/>
                    <a:pt x="460439" y="124016"/>
                  </a:cubicBezTo>
                  <a:cubicBezTo>
                    <a:pt x="455740" y="116777"/>
                    <a:pt x="453390" y="111252"/>
                    <a:pt x="453390" y="107442"/>
                  </a:cubicBezTo>
                  <a:cubicBezTo>
                    <a:pt x="453390" y="103632"/>
                    <a:pt x="455422" y="98806"/>
                    <a:pt x="459486" y="92964"/>
                  </a:cubicBezTo>
                  <a:cubicBezTo>
                    <a:pt x="472440" y="73914"/>
                    <a:pt x="480822" y="60960"/>
                    <a:pt x="484632" y="54102"/>
                  </a:cubicBezTo>
                  <a:cubicBezTo>
                    <a:pt x="488442" y="47244"/>
                    <a:pt x="490347" y="42418"/>
                    <a:pt x="490347" y="39624"/>
                  </a:cubicBezTo>
                  <a:cubicBezTo>
                    <a:pt x="490347" y="36830"/>
                    <a:pt x="489522" y="31687"/>
                    <a:pt x="487871" y="24194"/>
                  </a:cubicBezTo>
                  <a:cubicBezTo>
                    <a:pt x="486220" y="16701"/>
                    <a:pt x="484505" y="11367"/>
                    <a:pt x="482727" y="8192"/>
                  </a:cubicBezTo>
                  <a:cubicBezTo>
                    <a:pt x="480949" y="5017"/>
                    <a:pt x="480060" y="2858"/>
                    <a:pt x="480060" y="1715"/>
                  </a:cubicBezTo>
                  <a:cubicBezTo>
                    <a:pt x="480060" y="572"/>
                    <a:pt x="480695" y="0"/>
                    <a:pt x="481965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704" name="内容占位符 2"/>
          <p:cNvSpPr/>
          <p:nvPr/>
        </p:nvSpPr>
        <p:spPr>
          <a:xfrm>
            <a:off x="755640" y="1003320"/>
            <a:ext cx="783396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课是两则字谜，第一则字谜的谜面呈现的是合体字的构字特点，第二则字谜的谜面呈现了“青”字族的形旁和字义之间的关系，揭示了形声字的构字规律，表现了汉字的博大精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706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任意多边形: 形状 3"/>
            <p:cNvSpPr/>
            <p:nvPr/>
          </p:nvSpPr>
          <p:spPr>
            <a:xfrm>
              <a:off x="395280" y="266760"/>
              <a:ext cx="1466640" cy="33624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465326" h="337566">
                  <a:moveTo>
                    <a:pt x="189738" y="206121"/>
                  </a:moveTo>
                  <a:cubicBezTo>
                    <a:pt x="184912" y="216789"/>
                    <a:pt x="177673" y="230632"/>
                    <a:pt x="168021" y="247650"/>
                  </a:cubicBezTo>
                  <a:cubicBezTo>
                    <a:pt x="188087" y="249428"/>
                    <a:pt x="207137" y="241935"/>
                    <a:pt x="225171" y="225171"/>
                  </a:cubicBezTo>
                  <a:cubicBezTo>
                    <a:pt x="212979" y="217043"/>
                    <a:pt x="201168" y="210693"/>
                    <a:pt x="189738" y="206121"/>
                  </a:cubicBezTo>
                  <a:close/>
                  <a:moveTo>
                    <a:pt x="150495" y="195834"/>
                  </a:moveTo>
                  <a:cubicBezTo>
                    <a:pt x="144145" y="195834"/>
                    <a:pt x="137414" y="197104"/>
                    <a:pt x="130302" y="199644"/>
                  </a:cubicBezTo>
                  <a:cubicBezTo>
                    <a:pt x="128778" y="201930"/>
                    <a:pt x="128016" y="204597"/>
                    <a:pt x="128016" y="207645"/>
                  </a:cubicBezTo>
                  <a:cubicBezTo>
                    <a:pt x="128016" y="214757"/>
                    <a:pt x="132588" y="224028"/>
                    <a:pt x="141732" y="235458"/>
                  </a:cubicBezTo>
                  <a:cubicBezTo>
                    <a:pt x="150876" y="223774"/>
                    <a:pt x="158750" y="211328"/>
                    <a:pt x="165354" y="198120"/>
                  </a:cubicBezTo>
                  <a:cubicBezTo>
                    <a:pt x="161798" y="196596"/>
                    <a:pt x="156845" y="195834"/>
                    <a:pt x="150495" y="195834"/>
                  </a:cubicBezTo>
                  <a:close/>
                  <a:moveTo>
                    <a:pt x="619316" y="177546"/>
                  </a:moveTo>
                  <a:cubicBezTo>
                    <a:pt x="616395" y="177546"/>
                    <a:pt x="609473" y="178626"/>
                    <a:pt x="598551" y="180785"/>
                  </a:cubicBezTo>
                  <a:cubicBezTo>
                    <a:pt x="587629" y="182944"/>
                    <a:pt x="577088" y="185928"/>
                    <a:pt x="566928" y="189738"/>
                  </a:cubicBezTo>
                  <a:cubicBezTo>
                    <a:pt x="566420" y="203200"/>
                    <a:pt x="565912" y="214503"/>
                    <a:pt x="565404" y="223647"/>
                  </a:cubicBezTo>
                  <a:cubicBezTo>
                    <a:pt x="571500" y="226187"/>
                    <a:pt x="577215" y="227457"/>
                    <a:pt x="582549" y="227457"/>
                  </a:cubicBezTo>
                  <a:cubicBezTo>
                    <a:pt x="594995" y="227457"/>
                    <a:pt x="604965" y="220980"/>
                    <a:pt x="612458" y="208026"/>
                  </a:cubicBezTo>
                  <a:cubicBezTo>
                    <a:pt x="619951" y="195072"/>
                    <a:pt x="623697" y="186182"/>
                    <a:pt x="623697" y="181356"/>
                  </a:cubicBezTo>
                  <a:cubicBezTo>
                    <a:pt x="623697" y="178816"/>
                    <a:pt x="622237" y="177546"/>
                    <a:pt x="619316" y="177546"/>
                  </a:cubicBezTo>
                  <a:close/>
                  <a:moveTo>
                    <a:pt x="252222" y="146304"/>
                  </a:moveTo>
                  <a:cubicBezTo>
                    <a:pt x="251206" y="146304"/>
                    <a:pt x="249555" y="147892"/>
                    <a:pt x="247269" y="151067"/>
                  </a:cubicBezTo>
                  <a:cubicBezTo>
                    <a:pt x="244983" y="154242"/>
                    <a:pt x="240348" y="158179"/>
                    <a:pt x="233363" y="162878"/>
                  </a:cubicBezTo>
                  <a:cubicBezTo>
                    <a:pt x="226378" y="167577"/>
                    <a:pt x="219456" y="171133"/>
                    <a:pt x="212598" y="173546"/>
                  </a:cubicBezTo>
                  <a:cubicBezTo>
                    <a:pt x="205740" y="175959"/>
                    <a:pt x="201676" y="179451"/>
                    <a:pt x="200406" y="184023"/>
                  </a:cubicBezTo>
                  <a:cubicBezTo>
                    <a:pt x="208534" y="187071"/>
                    <a:pt x="221869" y="193040"/>
                    <a:pt x="240411" y="201930"/>
                  </a:cubicBezTo>
                  <a:cubicBezTo>
                    <a:pt x="249301" y="179832"/>
                    <a:pt x="253746" y="161925"/>
                    <a:pt x="253746" y="148209"/>
                  </a:cubicBezTo>
                  <a:cubicBezTo>
                    <a:pt x="253746" y="146939"/>
                    <a:pt x="253238" y="146304"/>
                    <a:pt x="252222" y="146304"/>
                  </a:cubicBezTo>
                  <a:close/>
                  <a:moveTo>
                    <a:pt x="213360" y="91821"/>
                  </a:moveTo>
                  <a:cubicBezTo>
                    <a:pt x="212344" y="91821"/>
                    <a:pt x="210439" y="92456"/>
                    <a:pt x="207645" y="93726"/>
                  </a:cubicBezTo>
                  <a:cubicBezTo>
                    <a:pt x="204851" y="94996"/>
                    <a:pt x="201994" y="95631"/>
                    <a:pt x="199073" y="95631"/>
                  </a:cubicBezTo>
                  <a:cubicBezTo>
                    <a:pt x="196152" y="95631"/>
                    <a:pt x="193167" y="95377"/>
                    <a:pt x="190119" y="94869"/>
                  </a:cubicBezTo>
                  <a:cubicBezTo>
                    <a:pt x="169545" y="133223"/>
                    <a:pt x="152527" y="161036"/>
                    <a:pt x="139065" y="178308"/>
                  </a:cubicBezTo>
                  <a:cubicBezTo>
                    <a:pt x="146685" y="175514"/>
                    <a:pt x="153734" y="174117"/>
                    <a:pt x="160211" y="174117"/>
                  </a:cubicBezTo>
                  <a:cubicBezTo>
                    <a:pt x="166688" y="174117"/>
                    <a:pt x="171958" y="174625"/>
                    <a:pt x="176022" y="175641"/>
                  </a:cubicBezTo>
                  <a:cubicBezTo>
                    <a:pt x="180594" y="163957"/>
                    <a:pt x="185547" y="152781"/>
                    <a:pt x="190881" y="142113"/>
                  </a:cubicBezTo>
                  <a:cubicBezTo>
                    <a:pt x="196215" y="131445"/>
                    <a:pt x="201867" y="120968"/>
                    <a:pt x="207836" y="110681"/>
                  </a:cubicBezTo>
                  <a:cubicBezTo>
                    <a:pt x="213805" y="100394"/>
                    <a:pt x="216789" y="94996"/>
                    <a:pt x="216789" y="94488"/>
                  </a:cubicBezTo>
                  <a:cubicBezTo>
                    <a:pt x="216789" y="92710"/>
                    <a:pt x="215646" y="91821"/>
                    <a:pt x="213360" y="91821"/>
                  </a:cubicBezTo>
                  <a:close/>
                  <a:moveTo>
                    <a:pt x="183642" y="84582"/>
                  </a:moveTo>
                  <a:cubicBezTo>
                    <a:pt x="183134" y="84582"/>
                    <a:pt x="182563" y="84773"/>
                    <a:pt x="181928" y="85154"/>
                  </a:cubicBezTo>
                  <a:cubicBezTo>
                    <a:pt x="181293" y="85535"/>
                    <a:pt x="175959" y="94107"/>
                    <a:pt x="165926" y="110871"/>
                  </a:cubicBezTo>
                  <a:cubicBezTo>
                    <a:pt x="155893" y="127635"/>
                    <a:pt x="149035" y="139764"/>
                    <a:pt x="145352" y="147257"/>
                  </a:cubicBezTo>
                  <a:cubicBezTo>
                    <a:pt x="141669" y="154750"/>
                    <a:pt x="139065" y="160528"/>
                    <a:pt x="137541" y="164592"/>
                  </a:cubicBezTo>
                  <a:cubicBezTo>
                    <a:pt x="145415" y="157480"/>
                    <a:pt x="155702" y="144082"/>
                    <a:pt x="168402" y="124397"/>
                  </a:cubicBezTo>
                  <a:cubicBezTo>
                    <a:pt x="181102" y="104712"/>
                    <a:pt x="187452" y="93155"/>
                    <a:pt x="187452" y="89726"/>
                  </a:cubicBezTo>
                  <a:cubicBezTo>
                    <a:pt x="187452" y="86297"/>
                    <a:pt x="186182" y="84582"/>
                    <a:pt x="183642" y="84582"/>
                  </a:cubicBezTo>
                  <a:close/>
                  <a:moveTo>
                    <a:pt x="1013079" y="49530"/>
                  </a:moveTo>
                  <a:cubicBezTo>
                    <a:pt x="1006475" y="52832"/>
                    <a:pt x="1000633" y="54483"/>
                    <a:pt x="995553" y="54483"/>
                  </a:cubicBezTo>
                  <a:lnTo>
                    <a:pt x="984885" y="53721"/>
                  </a:lnTo>
                  <a:cubicBezTo>
                    <a:pt x="982345" y="53721"/>
                    <a:pt x="981075" y="54864"/>
                    <a:pt x="981075" y="57150"/>
                  </a:cubicBezTo>
                  <a:cubicBezTo>
                    <a:pt x="986917" y="57912"/>
                    <a:pt x="991362" y="60135"/>
                    <a:pt x="994410" y="63818"/>
                  </a:cubicBezTo>
                  <a:cubicBezTo>
                    <a:pt x="997458" y="67501"/>
                    <a:pt x="998982" y="71819"/>
                    <a:pt x="998982" y="76772"/>
                  </a:cubicBezTo>
                  <a:cubicBezTo>
                    <a:pt x="998982" y="81725"/>
                    <a:pt x="997649" y="86551"/>
                    <a:pt x="994982" y="91250"/>
                  </a:cubicBezTo>
                  <a:cubicBezTo>
                    <a:pt x="992315" y="95949"/>
                    <a:pt x="984504" y="112014"/>
                    <a:pt x="971550" y="139446"/>
                  </a:cubicBezTo>
                  <a:cubicBezTo>
                    <a:pt x="986790" y="136652"/>
                    <a:pt x="1003554" y="128270"/>
                    <a:pt x="1021842" y="114300"/>
                  </a:cubicBezTo>
                  <a:cubicBezTo>
                    <a:pt x="1019048" y="111252"/>
                    <a:pt x="1016699" y="107950"/>
                    <a:pt x="1014794" y="104394"/>
                  </a:cubicBezTo>
                  <a:cubicBezTo>
                    <a:pt x="1012889" y="100838"/>
                    <a:pt x="1011936" y="94742"/>
                    <a:pt x="1011936" y="86106"/>
                  </a:cubicBezTo>
                  <a:cubicBezTo>
                    <a:pt x="1011936" y="77470"/>
                    <a:pt x="1013206" y="68834"/>
                    <a:pt x="1015746" y="60198"/>
                  </a:cubicBezTo>
                  <a:cubicBezTo>
                    <a:pt x="1016508" y="57658"/>
                    <a:pt x="1016889" y="55626"/>
                    <a:pt x="1016889" y="54102"/>
                  </a:cubicBezTo>
                  <a:cubicBezTo>
                    <a:pt x="1016889" y="50038"/>
                    <a:pt x="1015619" y="48514"/>
                    <a:pt x="1013079" y="49530"/>
                  </a:cubicBezTo>
                  <a:close/>
                  <a:moveTo>
                    <a:pt x="1246632" y="36957"/>
                  </a:moveTo>
                  <a:cubicBezTo>
                    <a:pt x="1267460" y="36957"/>
                    <a:pt x="1281684" y="40831"/>
                    <a:pt x="1289304" y="48578"/>
                  </a:cubicBezTo>
                  <a:cubicBezTo>
                    <a:pt x="1296924" y="56325"/>
                    <a:pt x="1300734" y="62865"/>
                    <a:pt x="1300734" y="68199"/>
                  </a:cubicBezTo>
                  <a:cubicBezTo>
                    <a:pt x="1300734" y="73533"/>
                    <a:pt x="1298258" y="78042"/>
                    <a:pt x="1293305" y="81725"/>
                  </a:cubicBezTo>
                  <a:cubicBezTo>
                    <a:pt x="1288352" y="85408"/>
                    <a:pt x="1282002" y="87694"/>
                    <a:pt x="1274255" y="88583"/>
                  </a:cubicBezTo>
                  <a:cubicBezTo>
                    <a:pt x="1266508" y="89472"/>
                    <a:pt x="1258380" y="91885"/>
                    <a:pt x="1249871" y="95822"/>
                  </a:cubicBezTo>
                  <a:cubicBezTo>
                    <a:pt x="1241362" y="99759"/>
                    <a:pt x="1220724" y="110617"/>
                    <a:pt x="1187958" y="128397"/>
                  </a:cubicBezTo>
                  <a:cubicBezTo>
                    <a:pt x="1185164" y="129921"/>
                    <a:pt x="1182878" y="130683"/>
                    <a:pt x="1181100" y="130683"/>
                  </a:cubicBezTo>
                  <a:cubicBezTo>
                    <a:pt x="1179322" y="130683"/>
                    <a:pt x="1178433" y="130048"/>
                    <a:pt x="1178433" y="128778"/>
                  </a:cubicBezTo>
                  <a:cubicBezTo>
                    <a:pt x="1178433" y="127508"/>
                    <a:pt x="1179449" y="126111"/>
                    <a:pt x="1181481" y="124587"/>
                  </a:cubicBezTo>
                  <a:cubicBezTo>
                    <a:pt x="1223137" y="92583"/>
                    <a:pt x="1243965" y="74041"/>
                    <a:pt x="1243965" y="68961"/>
                  </a:cubicBezTo>
                  <a:cubicBezTo>
                    <a:pt x="1243965" y="66929"/>
                    <a:pt x="1241552" y="63627"/>
                    <a:pt x="1236726" y="59055"/>
                  </a:cubicBezTo>
                  <a:cubicBezTo>
                    <a:pt x="1228598" y="51435"/>
                    <a:pt x="1224534" y="46165"/>
                    <a:pt x="1224534" y="43244"/>
                  </a:cubicBezTo>
                  <a:cubicBezTo>
                    <a:pt x="1224534" y="40323"/>
                    <a:pt x="1225868" y="38545"/>
                    <a:pt x="1228535" y="37910"/>
                  </a:cubicBezTo>
                  <a:cubicBezTo>
                    <a:pt x="1231202" y="37275"/>
                    <a:pt x="1237234" y="36957"/>
                    <a:pt x="1246632" y="36957"/>
                  </a:cubicBezTo>
                  <a:close/>
                  <a:moveTo>
                    <a:pt x="531495" y="33147"/>
                  </a:moveTo>
                  <a:cubicBezTo>
                    <a:pt x="528193" y="33147"/>
                    <a:pt x="526542" y="39243"/>
                    <a:pt x="526542" y="51435"/>
                  </a:cubicBezTo>
                  <a:cubicBezTo>
                    <a:pt x="526542" y="55753"/>
                    <a:pt x="526923" y="62865"/>
                    <a:pt x="527685" y="72771"/>
                  </a:cubicBezTo>
                  <a:cubicBezTo>
                    <a:pt x="529971" y="70993"/>
                    <a:pt x="533527" y="69469"/>
                    <a:pt x="538353" y="68199"/>
                  </a:cubicBezTo>
                  <a:cubicBezTo>
                    <a:pt x="538607" y="63119"/>
                    <a:pt x="538290" y="57150"/>
                    <a:pt x="537401" y="50292"/>
                  </a:cubicBezTo>
                  <a:cubicBezTo>
                    <a:pt x="536512" y="43434"/>
                    <a:pt x="535623" y="38862"/>
                    <a:pt x="534734" y="36576"/>
                  </a:cubicBezTo>
                  <a:cubicBezTo>
                    <a:pt x="533845" y="34290"/>
                    <a:pt x="532765" y="33147"/>
                    <a:pt x="531495" y="33147"/>
                  </a:cubicBezTo>
                  <a:close/>
                  <a:moveTo>
                    <a:pt x="630936" y="17907"/>
                  </a:moveTo>
                  <a:cubicBezTo>
                    <a:pt x="637032" y="17907"/>
                    <a:pt x="645160" y="20003"/>
                    <a:pt x="655320" y="24194"/>
                  </a:cubicBezTo>
                  <a:cubicBezTo>
                    <a:pt x="665480" y="28385"/>
                    <a:pt x="670560" y="35306"/>
                    <a:pt x="670560" y="44958"/>
                  </a:cubicBezTo>
                  <a:cubicBezTo>
                    <a:pt x="670560" y="50292"/>
                    <a:pt x="668846" y="54547"/>
                    <a:pt x="665417" y="57722"/>
                  </a:cubicBezTo>
                  <a:cubicBezTo>
                    <a:pt x="661988" y="60897"/>
                    <a:pt x="657860" y="62484"/>
                    <a:pt x="653034" y="62484"/>
                  </a:cubicBezTo>
                  <a:cubicBezTo>
                    <a:pt x="648208" y="62484"/>
                    <a:pt x="645033" y="61341"/>
                    <a:pt x="643509" y="59055"/>
                  </a:cubicBezTo>
                  <a:cubicBezTo>
                    <a:pt x="640207" y="54229"/>
                    <a:pt x="635000" y="49975"/>
                    <a:pt x="627888" y="46292"/>
                  </a:cubicBezTo>
                  <a:cubicBezTo>
                    <a:pt x="620776" y="42609"/>
                    <a:pt x="615633" y="40767"/>
                    <a:pt x="612458" y="40767"/>
                  </a:cubicBezTo>
                  <a:cubicBezTo>
                    <a:pt x="609283" y="40767"/>
                    <a:pt x="606108" y="41656"/>
                    <a:pt x="602933" y="43434"/>
                  </a:cubicBezTo>
                  <a:cubicBezTo>
                    <a:pt x="599758" y="45212"/>
                    <a:pt x="597599" y="47371"/>
                    <a:pt x="596456" y="49911"/>
                  </a:cubicBezTo>
                  <a:cubicBezTo>
                    <a:pt x="595313" y="52451"/>
                    <a:pt x="594170" y="53721"/>
                    <a:pt x="593027" y="53721"/>
                  </a:cubicBezTo>
                  <a:cubicBezTo>
                    <a:pt x="591884" y="53721"/>
                    <a:pt x="591312" y="53340"/>
                    <a:pt x="591312" y="52578"/>
                  </a:cubicBezTo>
                  <a:cubicBezTo>
                    <a:pt x="591312" y="50292"/>
                    <a:pt x="593154" y="46292"/>
                    <a:pt x="596837" y="40577"/>
                  </a:cubicBezTo>
                  <a:cubicBezTo>
                    <a:pt x="600520" y="34862"/>
                    <a:pt x="606108" y="29655"/>
                    <a:pt x="613601" y="24956"/>
                  </a:cubicBezTo>
                  <a:cubicBezTo>
                    <a:pt x="621094" y="20257"/>
                    <a:pt x="626872" y="17907"/>
                    <a:pt x="630936" y="17907"/>
                  </a:cubicBezTo>
                  <a:close/>
                  <a:moveTo>
                    <a:pt x="104775" y="17907"/>
                  </a:moveTo>
                  <a:cubicBezTo>
                    <a:pt x="110871" y="17907"/>
                    <a:pt x="118872" y="22543"/>
                    <a:pt x="128778" y="31814"/>
                  </a:cubicBezTo>
                  <a:cubicBezTo>
                    <a:pt x="138684" y="41085"/>
                    <a:pt x="143637" y="48387"/>
                    <a:pt x="143637" y="53721"/>
                  </a:cubicBezTo>
                  <a:cubicBezTo>
                    <a:pt x="143637" y="56769"/>
                    <a:pt x="142113" y="63246"/>
                    <a:pt x="139065" y="73152"/>
                  </a:cubicBezTo>
                  <a:cubicBezTo>
                    <a:pt x="146431" y="75184"/>
                    <a:pt x="150940" y="76962"/>
                    <a:pt x="152591" y="78486"/>
                  </a:cubicBezTo>
                  <a:cubicBezTo>
                    <a:pt x="154242" y="80010"/>
                    <a:pt x="155067" y="82804"/>
                    <a:pt x="155067" y="86868"/>
                  </a:cubicBezTo>
                  <a:cubicBezTo>
                    <a:pt x="155067" y="90932"/>
                    <a:pt x="154686" y="93790"/>
                    <a:pt x="153924" y="95441"/>
                  </a:cubicBezTo>
                  <a:cubicBezTo>
                    <a:pt x="153162" y="97092"/>
                    <a:pt x="149606" y="100711"/>
                    <a:pt x="143256" y="106299"/>
                  </a:cubicBezTo>
                  <a:cubicBezTo>
                    <a:pt x="136906" y="111887"/>
                    <a:pt x="132080" y="116713"/>
                    <a:pt x="128778" y="120777"/>
                  </a:cubicBezTo>
                  <a:cubicBezTo>
                    <a:pt x="127000" y="125857"/>
                    <a:pt x="126111" y="130810"/>
                    <a:pt x="126111" y="135636"/>
                  </a:cubicBezTo>
                  <a:cubicBezTo>
                    <a:pt x="126111" y="140462"/>
                    <a:pt x="127889" y="146431"/>
                    <a:pt x="131445" y="153543"/>
                  </a:cubicBezTo>
                  <a:cubicBezTo>
                    <a:pt x="154305" y="122555"/>
                    <a:pt x="169926" y="98806"/>
                    <a:pt x="178308" y="82296"/>
                  </a:cubicBezTo>
                  <a:cubicBezTo>
                    <a:pt x="180848" y="77216"/>
                    <a:pt x="183071" y="73724"/>
                    <a:pt x="184976" y="71819"/>
                  </a:cubicBezTo>
                  <a:cubicBezTo>
                    <a:pt x="186881" y="69914"/>
                    <a:pt x="192659" y="66294"/>
                    <a:pt x="202311" y="60960"/>
                  </a:cubicBezTo>
                  <a:cubicBezTo>
                    <a:pt x="211963" y="55626"/>
                    <a:pt x="218885" y="51372"/>
                    <a:pt x="223076" y="48197"/>
                  </a:cubicBezTo>
                  <a:cubicBezTo>
                    <a:pt x="227267" y="45022"/>
                    <a:pt x="230823" y="41212"/>
                    <a:pt x="233744" y="36767"/>
                  </a:cubicBezTo>
                  <a:cubicBezTo>
                    <a:pt x="236665" y="32322"/>
                    <a:pt x="241173" y="30099"/>
                    <a:pt x="247269" y="30099"/>
                  </a:cubicBezTo>
                  <a:cubicBezTo>
                    <a:pt x="253365" y="30099"/>
                    <a:pt x="259969" y="33782"/>
                    <a:pt x="267081" y="41148"/>
                  </a:cubicBezTo>
                  <a:cubicBezTo>
                    <a:pt x="274193" y="48514"/>
                    <a:pt x="277749" y="56261"/>
                    <a:pt x="277749" y="64389"/>
                  </a:cubicBezTo>
                  <a:cubicBezTo>
                    <a:pt x="277749" y="69215"/>
                    <a:pt x="272415" y="73660"/>
                    <a:pt x="261747" y="77724"/>
                  </a:cubicBezTo>
                  <a:cubicBezTo>
                    <a:pt x="254889" y="80264"/>
                    <a:pt x="242189" y="100838"/>
                    <a:pt x="223647" y="139446"/>
                  </a:cubicBezTo>
                  <a:cubicBezTo>
                    <a:pt x="235585" y="127254"/>
                    <a:pt x="245174" y="121158"/>
                    <a:pt x="252413" y="121158"/>
                  </a:cubicBezTo>
                  <a:cubicBezTo>
                    <a:pt x="259652" y="121158"/>
                    <a:pt x="266637" y="124651"/>
                    <a:pt x="273368" y="131636"/>
                  </a:cubicBezTo>
                  <a:cubicBezTo>
                    <a:pt x="280099" y="138621"/>
                    <a:pt x="283464" y="146812"/>
                    <a:pt x="283464" y="156210"/>
                  </a:cubicBezTo>
                  <a:cubicBezTo>
                    <a:pt x="283464" y="160274"/>
                    <a:pt x="281432" y="169037"/>
                    <a:pt x="277368" y="182499"/>
                  </a:cubicBezTo>
                  <a:cubicBezTo>
                    <a:pt x="273304" y="195961"/>
                    <a:pt x="269113" y="206756"/>
                    <a:pt x="264795" y="214884"/>
                  </a:cubicBezTo>
                  <a:cubicBezTo>
                    <a:pt x="286639" y="226314"/>
                    <a:pt x="301689" y="235585"/>
                    <a:pt x="309944" y="242697"/>
                  </a:cubicBezTo>
                  <a:cubicBezTo>
                    <a:pt x="318199" y="249809"/>
                    <a:pt x="325311" y="259080"/>
                    <a:pt x="331280" y="270510"/>
                  </a:cubicBezTo>
                  <a:cubicBezTo>
                    <a:pt x="337249" y="281940"/>
                    <a:pt x="340233" y="289497"/>
                    <a:pt x="340233" y="293180"/>
                  </a:cubicBezTo>
                  <a:cubicBezTo>
                    <a:pt x="340233" y="296863"/>
                    <a:pt x="338709" y="298704"/>
                    <a:pt x="335661" y="298704"/>
                  </a:cubicBezTo>
                  <a:cubicBezTo>
                    <a:pt x="334645" y="298704"/>
                    <a:pt x="333248" y="298196"/>
                    <a:pt x="331470" y="297180"/>
                  </a:cubicBezTo>
                  <a:lnTo>
                    <a:pt x="306324" y="281178"/>
                  </a:lnTo>
                  <a:cubicBezTo>
                    <a:pt x="291084" y="271272"/>
                    <a:pt x="271399" y="257302"/>
                    <a:pt x="247269" y="239268"/>
                  </a:cubicBezTo>
                  <a:cubicBezTo>
                    <a:pt x="226949" y="257048"/>
                    <a:pt x="207010" y="265938"/>
                    <a:pt x="187452" y="265938"/>
                  </a:cubicBezTo>
                  <a:cubicBezTo>
                    <a:pt x="179070" y="265938"/>
                    <a:pt x="169926" y="264414"/>
                    <a:pt x="160020" y="261366"/>
                  </a:cubicBezTo>
                  <a:cubicBezTo>
                    <a:pt x="157480" y="266954"/>
                    <a:pt x="155131" y="269748"/>
                    <a:pt x="152972" y="269748"/>
                  </a:cubicBezTo>
                  <a:cubicBezTo>
                    <a:pt x="150813" y="269748"/>
                    <a:pt x="148844" y="268669"/>
                    <a:pt x="147066" y="266510"/>
                  </a:cubicBezTo>
                  <a:cubicBezTo>
                    <a:pt x="145288" y="264351"/>
                    <a:pt x="143828" y="259652"/>
                    <a:pt x="142685" y="252413"/>
                  </a:cubicBezTo>
                  <a:cubicBezTo>
                    <a:pt x="141542" y="245174"/>
                    <a:pt x="138049" y="237871"/>
                    <a:pt x="132207" y="230505"/>
                  </a:cubicBezTo>
                  <a:cubicBezTo>
                    <a:pt x="126365" y="223139"/>
                    <a:pt x="122936" y="214249"/>
                    <a:pt x="121920" y="203835"/>
                  </a:cubicBezTo>
                  <a:cubicBezTo>
                    <a:pt x="118618" y="206375"/>
                    <a:pt x="116967" y="213233"/>
                    <a:pt x="116967" y="224409"/>
                  </a:cubicBezTo>
                  <a:cubicBezTo>
                    <a:pt x="116967" y="235585"/>
                    <a:pt x="117348" y="248666"/>
                    <a:pt x="118110" y="263652"/>
                  </a:cubicBezTo>
                  <a:lnTo>
                    <a:pt x="120396" y="300990"/>
                  </a:lnTo>
                  <a:cubicBezTo>
                    <a:pt x="120396" y="305816"/>
                    <a:pt x="118999" y="308229"/>
                    <a:pt x="116205" y="308229"/>
                  </a:cubicBezTo>
                  <a:cubicBezTo>
                    <a:pt x="115189" y="308229"/>
                    <a:pt x="114046" y="307785"/>
                    <a:pt x="112776" y="306896"/>
                  </a:cubicBezTo>
                  <a:cubicBezTo>
                    <a:pt x="111506" y="306007"/>
                    <a:pt x="109030" y="302705"/>
                    <a:pt x="105347" y="296990"/>
                  </a:cubicBezTo>
                  <a:cubicBezTo>
                    <a:pt x="101664" y="291275"/>
                    <a:pt x="99124" y="286004"/>
                    <a:pt x="97727" y="281178"/>
                  </a:cubicBezTo>
                  <a:cubicBezTo>
                    <a:pt x="96330" y="276352"/>
                    <a:pt x="95631" y="270637"/>
                    <a:pt x="95631" y="264033"/>
                  </a:cubicBezTo>
                  <a:cubicBezTo>
                    <a:pt x="95631" y="257429"/>
                    <a:pt x="95885" y="249301"/>
                    <a:pt x="96393" y="239649"/>
                  </a:cubicBezTo>
                  <a:cubicBezTo>
                    <a:pt x="90805" y="249047"/>
                    <a:pt x="85662" y="253746"/>
                    <a:pt x="80963" y="253746"/>
                  </a:cubicBezTo>
                  <a:cubicBezTo>
                    <a:pt x="76264" y="253746"/>
                    <a:pt x="72390" y="248793"/>
                    <a:pt x="69342" y="238887"/>
                  </a:cubicBezTo>
                  <a:cubicBezTo>
                    <a:pt x="66294" y="228981"/>
                    <a:pt x="64770" y="221996"/>
                    <a:pt x="64770" y="217932"/>
                  </a:cubicBezTo>
                  <a:cubicBezTo>
                    <a:pt x="64770" y="213868"/>
                    <a:pt x="65659" y="210693"/>
                    <a:pt x="67437" y="208407"/>
                  </a:cubicBezTo>
                  <a:cubicBezTo>
                    <a:pt x="69215" y="206121"/>
                    <a:pt x="74168" y="202184"/>
                    <a:pt x="82296" y="196596"/>
                  </a:cubicBezTo>
                  <a:cubicBezTo>
                    <a:pt x="89662" y="189484"/>
                    <a:pt x="94552" y="182436"/>
                    <a:pt x="96965" y="175451"/>
                  </a:cubicBezTo>
                  <a:cubicBezTo>
                    <a:pt x="99378" y="168466"/>
                    <a:pt x="100711" y="158877"/>
                    <a:pt x="100965" y="146685"/>
                  </a:cubicBezTo>
                  <a:cubicBezTo>
                    <a:pt x="75311" y="167767"/>
                    <a:pt x="57277" y="178308"/>
                    <a:pt x="46863" y="178308"/>
                  </a:cubicBezTo>
                  <a:cubicBezTo>
                    <a:pt x="42799" y="178308"/>
                    <a:pt x="38291" y="176594"/>
                    <a:pt x="33338" y="173165"/>
                  </a:cubicBezTo>
                  <a:cubicBezTo>
                    <a:pt x="28385" y="169736"/>
                    <a:pt x="23305" y="165100"/>
                    <a:pt x="18098" y="159258"/>
                  </a:cubicBezTo>
                  <a:cubicBezTo>
                    <a:pt x="12891" y="153416"/>
                    <a:pt x="8573" y="147384"/>
                    <a:pt x="5144" y="141161"/>
                  </a:cubicBezTo>
                  <a:cubicBezTo>
                    <a:pt x="1715" y="134938"/>
                    <a:pt x="0" y="131191"/>
                    <a:pt x="0" y="129921"/>
                  </a:cubicBezTo>
                  <a:cubicBezTo>
                    <a:pt x="0" y="128651"/>
                    <a:pt x="445" y="128016"/>
                    <a:pt x="1334" y="128016"/>
                  </a:cubicBezTo>
                  <a:cubicBezTo>
                    <a:pt x="2223" y="128016"/>
                    <a:pt x="3683" y="128905"/>
                    <a:pt x="5715" y="130683"/>
                  </a:cubicBezTo>
                  <a:cubicBezTo>
                    <a:pt x="7747" y="132461"/>
                    <a:pt x="9843" y="133858"/>
                    <a:pt x="12002" y="134874"/>
                  </a:cubicBezTo>
                  <a:cubicBezTo>
                    <a:pt x="14161" y="135890"/>
                    <a:pt x="17844" y="136398"/>
                    <a:pt x="23051" y="136398"/>
                  </a:cubicBezTo>
                  <a:cubicBezTo>
                    <a:pt x="28258" y="136398"/>
                    <a:pt x="36259" y="133477"/>
                    <a:pt x="47054" y="127635"/>
                  </a:cubicBezTo>
                  <a:cubicBezTo>
                    <a:pt x="57849" y="121793"/>
                    <a:pt x="77470" y="109093"/>
                    <a:pt x="105918" y="89535"/>
                  </a:cubicBezTo>
                  <a:cubicBezTo>
                    <a:pt x="107442" y="74295"/>
                    <a:pt x="108204" y="63500"/>
                    <a:pt x="108204" y="57150"/>
                  </a:cubicBezTo>
                  <a:cubicBezTo>
                    <a:pt x="108204" y="50800"/>
                    <a:pt x="107760" y="46101"/>
                    <a:pt x="106871" y="43053"/>
                  </a:cubicBezTo>
                  <a:cubicBezTo>
                    <a:pt x="105982" y="40005"/>
                    <a:pt x="103950" y="37719"/>
                    <a:pt x="100775" y="36195"/>
                  </a:cubicBezTo>
                  <a:cubicBezTo>
                    <a:pt x="97600" y="34671"/>
                    <a:pt x="96012" y="31750"/>
                    <a:pt x="96012" y="27432"/>
                  </a:cubicBezTo>
                  <a:cubicBezTo>
                    <a:pt x="96012" y="24638"/>
                    <a:pt x="96774" y="22352"/>
                    <a:pt x="98298" y="20574"/>
                  </a:cubicBezTo>
                  <a:cubicBezTo>
                    <a:pt x="99822" y="18796"/>
                    <a:pt x="101981" y="17907"/>
                    <a:pt x="104775" y="17907"/>
                  </a:cubicBezTo>
                  <a:close/>
                  <a:moveTo>
                    <a:pt x="534162" y="14478"/>
                  </a:moveTo>
                  <a:cubicBezTo>
                    <a:pt x="545084" y="14478"/>
                    <a:pt x="554038" y="16383"/>
                    <a:pt x="561023" y="20193"/>
                  </a:cubicBezTo>
                  <a:cubicBezTo>
                    <a:pt x="568008" y="24003"/>
                    <a:pt x="570992" y="29337"/>
                    <a:pt x="569976" y="36195"/>
                  </a:cubicBezTo>
                  <a:cubicBezTo>
                    <a:pt x="569722" y="38227"/>
                    <a:pt x="569595" y="41402"/>
                    <a:pt x="569595" y="45720"/>
                  </a:cubicBezTo>
                  <a:cubicBezTo>
                    <a:pt x="569595" y="50038"/>
                    <a:pt x="569722" y="54737"/>
                    <a:pt x="569976" y="59817"/>
                  </a:cubicBezTo>
                  <a:cubicBezTo>
                    <a:pt x="577342" y="58801"/>
                    <a:pt x="586359" y="61024"/>
                    <a:pt x="597027" y="66485"/>
                  </a:cubicBezTo>
                  <a:cubicBezTo>
                    <a:pt x="607695" y="71946"/>
                    <a:pt x="613029" y="77978"/>
                    <a:pt x="613029" y="84582"/>
                  </a:cubicBezTo>
                  <a:cubicBezTo>
                    <a:pt x="613029" y="91186"/>
                    <a:pt x="609981" y="96012"/>
                    <a:pt x="603885" y="99060"/>
                  </a:cubicBezTo>
                  <a:cubicBezTo>
                    <a:pt x="600837" y="100584"/>
                    <a:pt x="595630" y="105220"/>
                    <a:pt x="588264" y="112967"/>
                  </a:cubicBezTo>
                  <a:cubicBezTo>
                    <a:pt x="580898" y="120714"/>
                    <a:pt x="574802" y="128778"/>
                    <a:pt x="569976" y="137160"/>
                  </a:cubicBezTo>
                  <a:lnTo>
                    <a:pt x="569595" y="151638"/>
                  </a:lnTo>
                  <a:cubicBezTo>
                    <a:pt x="579501" y="149860"/>
                    <a:pt x="588709" y="148971"/>
                    <a:pt x="597218" y="148971"/>
                  </a:cubicBezTo>
                  <a:cubicBezTo>
                    <a:pt x="605727" y="148971"/>
                    <a:pt x="613029" y="149606"/>
                    <a:pt x="619125" y="150876"/>
                  </a:cubicBezTo>
                  <a:cubicBezTo>
                    <a:pt x="625221" y="152146"/>
                    <a:pt x="630428" y="154178"/>
                    <a:pt x="634746" y="156972"/>
                  </a:cubicBezTo>
                  <a:cubicBezTo>
                    <a:pt x="639064" y="159766"/>
                    <a:pt x="643065" y="162751"/>
                    <a:pt x="646748" y="165926"/>
                  </a:cubicBezTo>
                  <a:cubicBezTo>
                    <a:pt x="650431" y="169101"/>
                    <a:pt x="654304" y="173038"/>
                    <a:pt x="658368" y="177737"/>
                  </a:cubicBezTo>
                  <a:cubicBezTo>
                    <a:pt x="662432" y="182436"/>
                    <a:pt x="664655" y="185547"/>
                    <a:pt x="665036" y="187071"/>
                  </a:cubicBezTo>
                  <a:cubicBezTo>
                    <a:pt x="665417" y="188595"/>
                    <a:pt x="665607" y="190373"/>
                    <a:pt x="665607" y="192405"/>
                  </a:cubicBezTo>
                  <a:cubicBezTo>
                    <a:pt x="665607" y="199517"/>
                    <a:pt x="664083" y="203962"/>
                    <a:pt x="661035" y="205740"/>
                  </a:cubicBezTo>
                  <a:cubicBezTo>
                    <a:pt x="659511" y="207010"/>
                    <a:pt x="656590" y="210947"/>
                    <a:pt x="652272" y="217551"/>
                  </a:cubicBezTo>
                  <a:cubicBezTo>
                    <a:pt x="647954" y="224155"/>
                    <a:pt x="643827" y="229553"/>
                    <a:pt x="639890" y="233744"/>
                  </a:cubicBezTo>
                  <a:cubicBezTo>
                    <a:pt x="635953" y="237935"/>
                    <a:pt x="629476" y="242824"/>
                    <a:pt x="620459" y="248412"/>
                  </a:cubicBezTo>
                  <a:cubicBezTo>
                    <a:pt x="611442" y="254000"/>
                    <a:pt x="605409" y="257302"/>
                    <a:pt x="602361" y="258318"/>
                  </a:cubicBezTo>
                  <a:cubicBezTo>
                    <a:pt x="599313" y="259334"/>
                    <a:pt x="596011" y="259842"/>
                    <a:pt x="592455" y="259842"/>
                  </a:cubicBezTo>
                  <a:cubicBezTo>
                    <a:pt x="582041" y="259842"/>
                    <a:pt x="573151" y="256921"/>
                    <a:pt x="565785" y="251079"/>
                  </a:cubicBezTo>
                  <a:cubicBezTo>
                    <a:pt x="567055" y="274701"/>
                    <a:pt x="567690" y="290640"/>
                    <a:pt x="567690" y="298895"/>
                  </a:cubicBezTo>
                  <a:cubicBezTo>
                    <a:pt x="567690" y="307150"/>
                    <a:pt x="566357" y="313754"/>
                    <a:pt x="563690" y="318707"/>
                  </a:cubicBezTo>
                  <a:cubicBezTo>
                    <a:pt x="561023" y="323660"/>
                    <a:pt x="558483" y="326136"/>
                    <a:pt x="556070" y="326136"/>
                  </a:cubicBezTo>
                  <a:cubicBezTo>
                    <a:pt x="553657" y="326136"/>
                    <a:pt x="549275" y="320548"/>
                    <a:pt x="542925" y="309372"/>
                  </a:cubicBezTo>
                  <a:cubicBezTo>
                    <a:pt x="536575" y="298196"/>
                    <a:pt x="533400" y="289116"/>
                    <a:pt x="533400" y="282131"/>
                  </a:cubicBezTo>
                  <a:cubicBezTo>
                    <a:pt x="533400" y="275146"/>
                    <a:pt x="534162" y="267843"/>
                    <a:pt x="535686" y="260223"/>
                  </a:cubicBezTo>
                  <a:cubicBezTo>
                    <a:pt x="537210" y="252603"/>
                    <a:pt x="537845" y="233553"/>
                    <a:pt x="537591" y="203073"/>
                  </a:cubicBezTo>
                  <a:cubicBezTo>
                    <a:pt x="525399" y="209423"/>
                    <a:pt x="515557" y="215202"/>
                    <a:pt x="508064" y="220409"/>
                  </a:cubicBezTo>
                  <a:cubicBezTo>
                    <a:pt x="500571" y="225616"/>
                    <a:pt x="491871" y="232855"/>
                    <a:pt x="481965" y="242126"/>
                  </a:cubicBezTo>
                  <a:cubicBezTo>
                    <a:pt x="472059" y="251397"/>
                    <a:pt x="464947" y="256032"/>
                    <a:pt x="460629" y="256032"/>
                  </a:cubicBezTo>
                  <a:cubicBezTo>
                    <a:pt x="458343" y="256032"/>
                    <a:pt x="456502" y="255016"/>
                    <a:pt x="455105" y="252984"/>
                  </a:cubicBezTo>
                  <a:cubicBezTo>
                    <a:pt x="453708" y="250952"/>
                    <a:pt x="451739" y="245301"/>
                    <a:pt x="449199" y="236030"/>
                  </a:cubicBezTo>
                  <a:cubicBezTo>
                    <a:pt x="446659" y="226759"/>
                    <a:pt x="445389" y="219710"/>
                    <a:pt x="445389" y="214884"/>
                  </a:cubicBezTo>
                  <a:cubicBezTo>
                    <a:pt x="445389" y="211328"/>
                    <a:pt x="446786" y="209169"/>
                    <a:pt x="449580" y="208407"/>
                  </a:cubicBezTo>
                  <a:cubicBezTo>
                    <a:pt x="455676" y="206121"/>
                    <a:pt x="460248" y="203708"/>
                    <a:pt x="463296" y="201168"/>
                  </a:cubicBezTo>
                  <a:cubicBezTo>
                    <a:pt x="466344" y="198628"/>
                    <a:pt x="472567" y="194437"/>
                    <a:pt x="481965" y="188595"/>
                  </a:cubicBezTo>
                  <a:cubicBezTo>
                    <a:pt x="494411" y="173863"/>
                    <a:pt x="506222" y="160274"/>
                    <a:pt x="517398" y="147828"/>
                  </a:cubicBezTo>
                  <a:cubicBezTo>
                    <a:pt x="517652" y="145542"/>
                    <a:pt x="517779" y="143510"/>
                    <a:pt x="517779" y="141732"/>
                  </a:cubicBezTo>
                  <a:cubicBezTo>
                    <a:pt x="517779" y="139954"/>
                    <a:pt x="517144" y="138938"/>
                    <a:pt x="515874" y="138684"/>
                  </a:cubicBezTo>
                  <a:cubicBezTo>
                    <a:pt x="512318" y="141478"/>
                    <a:pt x="508127" y="142875"/>
                    <a:pt x="503301" y="142875"/>
                  </a:cubicBezTo>
                  <a:cubicBezTo>
                    <a:pt x="494157" y="142875"/>
                    <a:pt x="484061" y="138113"/>
                    <a:pt x="473012" y="128588"/>
                  </a:cubicBezTo>
                  <a:cubicBezTo>
                    <a:pt x="461963" y="119063"/>
                    <a:pt x="456438" y="112776"/>
                    <a:pt x="456438" y="109728"/>
                  </a:cubicBezTo>
                  <a:cubicBezTo>
                    <a:pt x="456438" y="108712"/>
                    <a:pt x="457200" y="108204"/>
                    <a:pt x="458724" y="108204"/>
                  </a:cubicBezTo>
                  <a:lnTo>
                    <a:pt x="463677" y="108585"/>
                  </a:lnTo>
                  <a:cubicBezTo>
                    <a:pt x="469265" y="108585"/>
                    <a:pt x="474345" y="106934"/>
                    <a:pt x="478917" y="103632"/>
                  </a:cubicBezTo>
                  <a:cubicBezTo>
                    <a:pt x="494919" y="92202"/>
                    <a:pt x="507365" y="83820"/>
                    <a:pt x="516255" y="78486"/>
                  </a:cubicBezTo>
                  <a:cubicBezTo>
                    <a:pt x="516255" y="59690"/>
                    <a:pt x="517081" y="45593"/>
                    <a:pt x="518732" y="36195"/>
                  </a:cubicBezTo>
                  <a:cubicBezTo>
                    <a:pt x="520383" y="26797"/>
                    <a:pt x="522097" y="20828"/>
                    <a:pt x="523875" y="18288"/>
                  </a:cubicBezTo>
                  <a:cubicBezTo>
                    <a:pt x="525653" y="15748"/>
                    <a:pt x="529082" y="14478"/>
                    <a:pt x="534162" y="14478"/>
                  </a:cubicBezTo>
                  <a:close/>
                  <a:moveTo>
                    <a:pt x="878967" y="12573"/>
                  </a:moveTo>
                  <a:cubicBezTo>
                    <a:pt x="880491" y="12573"/>
                    <a:pt x="882714" y="13272"/>
                    <a:pt x="885635" y="14669"/>
                  </a:cubicBezTo>
                  <a:cubicBezTo>
                    <a:pt x="888556" y="16066"/>
                    <a:pt x="895096" y="17145"/>
                    <a:pt x="905256" y="17907"/>
                  </a:cubicBezTo>
                  <a:cubicBezTo>
                    <a:pt x="915416" y="18669"/>
                    <a:pt x="923925" y="21717"/>
                    <a:pt x="930783" y="27051"/>
                  </a:cubicBezTo>
                  <a:cubicBezTo>
                    <a:pt x="937641" y="32385"/>
                    <a:pt x="941070" y="39434"/>
                    <a:pt x="941070" y="48197"/>
                  </a:cubicBezTo>
                  <a:cubicBezTo>
                    <a:pt x="941070" y="56960"/>
                    <a:pt x="939483" y="62675"/>
                    <a:pt x="936308" y="65342"/>
                  </a:cubicBezTo>
                  <a:cubicBezTo>
                    <a:pt x="933133" y="68009"/>
                    <a:pt x="929005" y="69342"/>
                    <a:pt x="923925" y="69342"/>
                  </a:cubicBezTo>
                  <a:cubicBezTo>
                    <a:pt x="918845" y="69342"/>
                    <a:pt x="914083" y="69025"/>
                    <a:pt x="909638" y="68390"/>
                  </a:cubicBezTo>
                  <a:cubicBezTo>
                    <a:pt x="905193" y="67755"/>
                    <a:pt x="902716" y="67437"/>
                    <a:pt x="902208" y="67437"/>
                  </a:cubicBezTo>
                  <a:cubicBezTo>
                    <a:pt x="900684" y="67437"/>
                    <a:pt x="898271" y="68453"/>
                    <a:pt x="894969" y="70485"/>
                  </a:cubicBezTo>
                  <a:cubicBezTo>
                    <a:pt x="882269" y="77851"/>
                    <a:pt x="872173" y="82296"/>
                    <a:pt x="864680" y="83820"/>
                  </a:cubicBezTo>
                  <a:cubicBezTo>
                    <a:pt x="857187" y="85344"/>
                    <a:pt x="849630" y="86106"/>
                    <a:pt x="842010" y="86106"/>
                  </a:cubicBezTo>
                  <a:cubicBezTo>
                    <a:pt x="834390" y="86106"/>
                    <a:pt x="830580" y="85408"/>
                    <a:pt x="830580" y="84011"/>
                  </a:cubicBezTo>
                  <a:cubicBezTo>
                    <a:pt x="830580" y="82614"/>
                    <a:pt x="832358" y="81153"/>
                    <a:pt x="835914" y="79629"/>
                  </a:cubicBezTo>
                  <a:cubicBezTo>
                    <a:pt x="849122" y="73787"/>
                    <a:pt x="859600" y="68009"/>
                    <a:pt x="867347" y="62294"/>
                  </a:cubicBezTo>
                  <a:cubicBezTo>
                    <a:pt x="875094" y="56579"/>
                    <a:pt x="880047" y="52832"/>
                    <a:pt x="882206" y="51054"/>
                  </a:cubicBezTo>
                  <a:cubicBezTo>
                    <a:pt x="884365" y="49276"/>
                    <a:pt x="885444" y="47752"/>
                    <a:pt x="885444" y="46482"/>
                  </a:cubicBezTo>
                  <a:cubicBezTo>
                    <a:pt x="885444" y="45212"/>
                    <a:pt x="885317" y="44196"/>
                    <a:pt x="885063" y="43434"/>
                  </a:cubicBezTo>
                  <a:cubicBezTo>
                    <a:pt x="878967" y="29718"/>
                    <a:pt x="875919" y="21146"/>
                    <a:pt x="875919" y="17717"/>
                  </a:cubicBezTo>
                  <a:cubicBezTo>
                    <a:pt x="875919" y="14288"/>
                    <a:pt x="876935" y="12573"/>
                    <a:pt x="878967" y="12573"/>
                  </a:cubicBezTo>
                  <a:close/>
                  <a:moveTo>
                    <a:pt x="1376553" y="9144"/>
                  </a:moveTo>
                  <a:cubicBezTo>
                    <a:pt x="1382649" y="9144"/>
                    <a:pt x="1388237" y="12891"/>
                    <a:pt x="1393317" y="20384"/>
                  </a:cubicBezTo>
                  <a:cubicBezTo>
                    <a:pt x="1398397" y="27877"/>
                    <a:pt x="1400937" y="36449"/>
                    <a:pt x="1400937" y="46101"/>
                  </a:cubicBezTo>
                  <a:cubicBezTo>
                    <a:pt x="1400937" y="48387"/>
                    <a:pt x="1400810" y="50419"/>
                    <a:pt x="1400556" y="52197"/>
                  </a:cubicBezTo>
                  <a:cubicBezTo>
                    <a:pt x="1398778" y="61849"/>
                    <a:pt x="1397635" y="78105"/>
                    <a:pt x="1397127" y="100965"/>
                  </a:cubicBezTo>
                  <a:cubicBezTo>
                    <a:pt x="1410589" y="97409"/>
                    <a:pt x="1420114" y="95631"/>
                    <a:pt x="1425702" y="95631"/>
                  </a:cubicBezTo>
                  <a:cubicBezTo>
                    <a:pt x="1431290" y="95631"/>
                    <a:pt x="1439291" y="97346"/>
                    <a:pt x="1449705" y="100775"/>
                  </a:cubicBezTo>
                  <a:cubicBezTo>
                    <a:pt x="1460119" y="104204"/>
                    <a:pt x="1465326" y="110109"/>
                    <a:pt x="1465326" y="118491"/>
                  </a:cubicBezTo>
                  <a:cubicBezTo>
                    <a:pt x="1465326" y="122555"/>
                    <a:pt x="1463866" y="125921"/>
                    <a:pt x="1460945" y="128588"/>
                  </a:cubicBezTo>
                  <a:cubicBezTo>
                    <a:pt x="1458024" y="131255"/>
                    <a:pt x="1453769" y="132715"/>
                    <a:pt x="1448181" y="132969"/>
                  </a:cubicBezTo>
                  <a:cubicBezTo>
                    <a:pt x="1423797" y="134493"/>
                    <a:pt x="1407033" y="136906"/>
                    <a:pt x="1397889" y="140208"/>
                  </a:cubicBezTo>
                  <a:cubicBezTo>
                    <a:pt x="1398397" y="176784"/>
                    <a:pt x="1398651" y="204280"/>
                    <a:pt x="1398651" y="222695"/>
                  </a:cubicBezTo>
                  <a:cubicBezTo>
                    <a:pt x="1398651" y="241110"/>
                    <a:pt x="1397953" y="257747"/>
                    <a:pt x="1396556" y="272606"/>
                  </a:cubicBezTo>
                  <a:cubicBezTo>
                    <a:pt x="1395159" y="287465"/>
                    <a:pt x="1393254" y="301435"/>
                    <a:pt x="1390841" y="314516"/>
                  </a:cubicBezTo>
                  <a:cubicBezTo>
                    <a:pt x="1388428" y="327597"/>
                    <a:pt x="1386840" y="334709"/>
                    <a:pt x="1386078" y="335852"/>
                  </a:cubicBezTo>
                  <a:cubicBezTo>
                    <a:pt x="1385316" y="336995"/>
                    <a:pt x="1384554" y="337566"/>
                    <a:pt x="1383792" y="337566"/>
                  </a:cubicBezTo>
                  <a:cubicBezTo>
                    <a:pt x="1380998" y="337566"/>
                    <a:pt x="1378585" y="332677"/>
                    <a:pt x="1376553" y="322898"/>
                  </a:cubicBezTo>
                  <a:cubicBezTo>
                    <a:pt x="1374521" y="313119"/>
                    <a:pt x="1372362" y="295847"/>
                    <a:pt x="1370076" y="271082"/>
                  </a:cubicBezTo>
                  <a:cubicBezTo>
                    <a:pt x="1367790" y="246317"/>
                    <a:pt x="1365758" y="207391"/>
                    <a:pt x="1363980" y="154305"/>
                  </a:cubicBezTo>
                  <a:cubicBezTo>
                    <a:pt x="1355344" y="157353"/>
                    <a:pt x="1349947" y="159512"/>
                    <a:pt x="1347788" y="160782"/>
                  </a:cubicBezTo>
                  <a:cubicBezTo>
                    <a:pt x="1345629" y="162052"/>
                    <a:pt x="1344041" y="163830"/>
                    <a:pt x="1343025" y="166116"/>
                  </a:cubicBezTo>
                  <a:cubicBezTo>
                    <a:pt x="1341755" y="169418"/>
                    <a:pt x="1335659" y="171069"/>
                    <a:pt x="1324737" y="171069"/>
                  </a:cubicBezTo>
                  <a:cubicBezTo>
                    <a:pt x="1317117" y="171069"/>
                    <a:pt x="1309624" y="170053"/>
                    <a:pt x="1302258" y="168021"/>
                  </a:cubicBezTo>
                  <a:cubicBezTo>
                    <a:pt x="1294638" y="181483"/>
                    <a:pt x="1287463" y="198501"/>
                    <a:pt x="1280732" y="219075"/>
                  </a:cubicBezTo>
                  <a:cubicBezTo>
                    <a:pt x="1274001" y="239649"/>
                    <a:pt x="1270635" y="255143"/>
                    <a:pt x="1270635" y="265557"/>
                  </a:cubicBezTo>
                  <a:cubicBezTo>
                    <a:pt x="1270635" y="275971"/>
                    <a:pt x="1269492" y="283464"/>
                    <a:pt x="1267206" y="288036"/>
                  </a:cubicBezTo>
                  <a:cubicBezTo>
                    <a:pt x="1264920" y="292608"/>
                    <a:pt x="1261237" y="294894"/>
                    <a:pt x="1256157" y="294894"/>
                  </a:cubicBezTo>
                  <a:cubicBezTo>
                    <a:pt x="1251077" y="294894"/>
                    <a:pt x="1244537" y="290703"/>
                    <a:pt x="1236536" y="282321"/>
                  </a:cubicBezTo>
                  <a:cubicBezTo>
                    <a:pt x="1228535" y="273939"/>
                    <a:pt x="1224534" y="255397"/>
                    <a:pt x="1224534" y="226695"/>
                  </a:cubicBezTo>
                  <a:cubicBezTo>
                    <a:pt x="1224534" y="211709"/>
                    <a:pt x="1225550" y="193294"/>
                    <a:pt x="1227582" y="171450"/>
                  </a:cubicBezTo>
                  <a:cubicBezTo>
                    <a:pt x="1222248" y="179324"/>
                    <a:pt x="1217105" y="185039"/>
                    <a:pt x="1212152" y="188595"/>
                  </a:cubicBezTo>
                  <a:cubicBezTo>
                    <a:pt x="1207199" y="192151"/>
                    <a:pt x="1200912" y="193929"/>
                    <a:pt x="1193292" y="193929"/>
                  </a:cubicBezTo>
                  <a:cubicBezTo>
                    <a:pt x="1180846" y="193929"/>
                    <a:pt x="1170242" y="188722"/>
                    <a:pt x="1161479" y="178308"/>
                  </a:cubicBezTo>
                  <a:cubicBezTo>
                    <a:pt x="1152716" y="167894"/>
                    <a:pt x="1148334" y="159385"/>
                    <a:pt x="1148334" y="152781"/>
                  </a:cubicBezTo>
                  <a:cubicBezTo>
                    <a:pt x="1148334" y="149987"/>
                    <a:pt x="1149223" y="148590"/>
                    <a:pt x="1151001" y="148590"/>
                  </a:cubicBezTo>
                  <a:cubicBezTo>
                    <a:pt x="1152779" y="148590"/>
                    <a:pt x="1155002" y="149670"/>
                    <a:pt x="1157669" y="151829"/>
                  </a:cubicBezTo>
                  <a:cubicBezTo>
                    <a:pt x="1160336" y="153988"/>
                    <a:pt x="1162939" y="155067"/>
                    <a:pt x="1165479" y="155067"/>
                  </a:cubicBezTo>
                  <a:cubicBezTo>
                    <a:pt x="1168019" y="155067"/>
                    <a:pt x="1171067" y="154178"/>
                    <a:pt x="1174623" y="152400"/>
                  </a:cubicBezTo>
                  <a:lnTo>
                    <a:pt x="1198245" y="141351"/>
                  </a:lnTo>
                  <a:cubicBezTo>
                    <a:pt x="1210183" y="135509"/>
                    <a:pt x="1217613" y="131826"/>
                    <a:pt x="1220534" y="130302"/>
                  </a:cubicBezTo>
                  <a:cubicBezTo>
                    <a:pt x="1223455" y="128778"/>
                    <a:pt x="1225296" y="127635"/>
                    <a:pt x="1226058" y="126873"/>
                  </a:cubicBezTo>
                  <a:cubicBezTo>
                    <a:pt x="1231646" y="121285"/>
                    <a:pt x="1235837" y="118491"/>
                    <a:pt x="1238631" y="118491"/>
                  </a:cubicBezTo>
                  <a:cubicBezTo>
                    <a:pt x="1243965" y="118491"/>
                    <a:pt x="1249680" y="120714"/>
                    <a:pt x="1255776" y="125159"/>
                  </a:cubicBezTo>
                  <a:cubicBezTo>
                    <a:pt x="1261872" y="129604"/>
                    <a:pt x="1264920" y="135763"/>
                    <a:pt x="1264920" y="143637"/>
                  </a:cubicBezTo>
                  <a:cubicBezTo>
                    <a:pt x="1264920" y="145923"/>
                    <a:pt x="1264539" y="148082"/>
                    <a:pt x="1263777" y="150114"/>
                  </a:cubicBezTo>
                  <a:cubicBezTo>
                    <a:pt x="1259967" y="159512"/>
                    <a:pt x="1256411" y="172720"/>
                    <a:pt x="1253109" y="189738"/>
                  </a:cubicBezTo>
                  <a:cubicBezTo>
                    <a:pt x="1249807" y="206756"/>
                    <a:pt x="1247775" y="223266"/>
                    <a:pt x="1247013" y="239268"/>
                  </a:cubicBezTo>
                  <a:cubicBezTo>
                    <a:pt x="1258951" y="226060"/>
                    <a:pt x="1273048" y="199263"/>
                    <a:pt x="1289304" y="158877"/>
                  </a:cubicBezTo>
                  <a:cubicBezTo>
                    <a:pt x="1288796" y="154051"/>
                    <a:pt x="1290003" y="150178"/>
                    <a:pt x="1292924" y="147257"/>
                  </a:cubicBezTo>
                  <a:cubicBezTo>
                    <a:pt x="1295845" y="144336"/>
                    <a:pt x="1302195" y="140526"/>
                    <a:pt x="1311974" y="135827"/>
                  </a:cubicBezTo>
                  <a:cubicBezTo>
                    <a:pt x="1321753" y="131128"/>
                    <a:pt x="1339342" y="123190"/>
                    <a:pt x="1364742" y="112014"/>
                  </a:cubicBezTo>
                  <a:cubicBezTo>
                    <a:pt x="1366774" y="95250"/>
                    <a:pt x="1367790" y="80328"/>
                    <a:pt x="1367790" y="67247"/>
                  </a:cubicBezTo>
                  <a:cubicBezTo>
                    <a:pt x="1367790" y="54166"/>
                    <a:pt x="1366393" y="42672"/>
                    <a:pt x="1363599" y="32766"/>
                  </a:cubicBezTo>
                  <a:cubicBezTo>
                    <a:pt x="1363091" y="31242"/>
                    <a:pt x="1362837" y="28829"/>
                    <a:pt x="1362837" y="25527"/>
                  </a:cubicBezTo>
                  <a:cubicBezTo>
                    <a:pt x="1362837" y="22225"/>
                    <a:pt x="1364171" y="18669"/>
                    <a:pt x="1366838" y="14859"/>
                  </a:cubicBezTo>
                  <a:cubicBezTo>
                    <a:pt x="1369505" y="11049"/>
                    <a:pt x="1372743" y="9144"/>
                    <a:pt x="1376553" y="9144"/>
                  </a:cubicBezTo>
                  <a:close/>
                  <a:moveTo>
                    <a:pt x="1025271" y="0"/>
                  </a:moveTo>
                  <a:cubicBezTo>
                    <a:pt x="1031113" y="0"/>
                    <a:pt x="1035495" y="2477"/>
                    <a:pt x="1038416" y="7430"/>
                  </a:cubicBezTo>
                  <a:cubicBezTo>
                    <a:pt x="1041337" y="12383"/>
                    <a:pt x="1044448" y="16066"/>
                    <a:pt x="1047750" y="18479"/>
                  </a:cubicBezTo>
                  <a:cubicBezTo>
                    <a:pt x="1051052" y="20892"/>
                    <a:pt x="1053592" y="24321"/>
                    <a:pt x="1055370" y="28766"/>
                  </a:cubicBezTo>
                  <a:cubicBezTo>
                    <a:pt x="1057148" y="33211"/>
                    <a:pt x="1058037" y="37910"/>
                    <a:pt x="1058037" y="42863"/>
                  </a:cubicBezTo>
                  <a:cubicBezTo>
                    <a:pt x="1058037" y="47816"/>
                    <a:pt x="1056831" y="51499"/>
                    <a:pt x="1054418" y="53912"/>
                  </a:cubicBezTo>
                  <a:cubicBezTo>
                    <a:pt x="1052005" y="56325"/>
                    <a:pt x="1049528" y="60262"/>
                    <a:pt x="1046988" y="65723"/>
                  </a:cubicBezTo>
                  <a:cubicBezTo>
                    <a:pt x="1044448" y="71184"/>
                    <a:pt x="1043178" y="75502"/>
                    <a:pt x="1043178" y="78677"/>
                  </a:cubicBezTo>
                  <a:cubicBezTo>
                    <a:pt x="1043178" y="81852"/>
                    <a:pt x="1043432" y="84074"/>
                    <a:pt x="1043940" y="85344"/>
                  </a:cubicBezTo>
                  <a:cubicBezTo>
                    <a:pt x="1044448" y="86614"/>
                    <a:pt x="1045020" y="87313"/>
                    <a:pt x="1045655" y="87440"/>
                  </a:cubicBezTo>
                  <a:cubicBezTo>
                    <a:pt x="1046290" y="87567"/>
                    <a:pt x="1048893" y="87630"/>
                    <a:pt x="1053465" y="87630"/>
                  </a:cubicBezTo>
                  <a:cubicBezTo>
                    <a:pt x="1058037" y="87630"/>
                    <a:pt x="1062228" y="88900"/>
                    <a:pt x="1066038" y="91440"/>
                  </a:cubicBezTo>
                  <a:cubicBezTo>
                    <a:pt x="1069848" y="93980"/>
                    <a:pt x="1071753" y="97917"/>
                    <a:pt x="1071753" y="103251"/>
                  </a:cubicBezTo>
                  <a:cubicBezTo>
                    <a:pt x="1071753" y="108585"/>
                    <a:pt x="1069340" y="113157"/>
                    <a:pt x="1064514" y="116967"/>
                  </a:cubicBezTo>
                  <a:cubicBezTo>
                    <a:pt x="1059688" y="120777"/>
                    <a:pt x="1052068" y="124587"/>
                    <a:pt x="1041654" y="128397"/>
                  </a:cubicBezTo>
                  <a:cubicBezTo>
                    <a:pt x="1036574" y="133477"/>
                    <a:pt x="1034034" y="136716"/>
                    <a:pt x="1034034" y="138113"/>
                  </a:cubicBezTo>
                  <a:cubicBezTo>
                    <a:pt x="1034034" y="139510"/>
                    <a:pt x="1034669" y="140589"/>
                    <a:pt x="1035939" y="141351"/>
                  </a:cubicBezTo>
                  <a:cubicBezTo>
                    <a:pt x="1041527" y="144399"/>
                    <a:pt x="1044321" y="149606"/>
                    <a:pt x="1044321" y="156972"/>
                  </a:cubicBezTo>
                  <a:cubicBezTo>
                    <a:pt x="1044321" y="167386"/>
                    <a:pt x="1042416" y="173609"/>
                    <a:pt x="1038606" y="175641"/>
                  </a:cubicBezTo>
                  <a:cubicBezTo>
                    <a:pt x="1035558" y="176911"/>
                    <a:pt x="1033018" y="179769"/>
                    <a:pt x="1030986" y="184214"/>
                  </a:cubicBezTo>
                  <a:cubicBezTo>
                    <a:pt x="1028954" y="188659"/>
                    <a:pt x="1026414" y="197104"/>
                    <a:pt x="1023366" y="209550"/>
                  </a:cubicBezTo>
                  <a:cubicBezTo>
                    <a:pt x="1041400" y="219456"/>
                    <a:pt x="1056069" y="226695"/>
                    <a:pt x="1067372" y="231267"/>
                  </a:cubicBezTo>
                  <a:cubicBezTo>
                    <a:pt x="1078675" y="235839"/>
                    <a:pt x="1088073" y="243396"/>
                    <a:pt x="1095566" y="253937"/>
                  </a:cubicBezTo>
                  <a:cubicBezTo>
                    <a:pt x="1103059" y="264478"/>
                    <a:pt x="1106805" y="274701"/>
                    <a:pt x="1106805" y="284607"/>
                  </a:cubicBezTo>
                  <a:cubicBezTo>
                    <a:pt x="1106805" y="290195"/>
                    <a:pt x="1104646" y="292989"/>
                    <a:pt x="1100328" y="292989"/>
                  </a:cubicBezTo>
                  <a:cubicBezTo>
                    <a:pt x="1096010" y="292989"/>
                    <a:pt x="1088390" y="289814"/>
                    <a:pt x="1077468" y="283464"/>
                  </a:cubicBezTo>
                  <a:cubicBezTo>
                    <a:pt x="1066546" y="277114"/>
                    <a:pt x="1055116" y="268986"/>
                    <a:pt x="1043178" y="259080"/>
                  </a:cubicBezTo>
                  <a:cubicBezTo>
                    <a:pt x="1031240" y="249174"/>
                    <a:pt x="1019048" y="240792"/>
                    <a:pt x="1006602" y="233934"/>
                  </a:cubicBezTo>
                  <a:cubicBezTo>
                    <a:pt x="995172" y="242316"/>
                    <a:pt x="984187" y="248095"/>
                    <a:pt x="973646" y="251270"/>
                  </a:cubicBezTo>
                  <a:cubicBezTo>
                    <a:pt x="963105" y="254445"/>
                    <a:pt x="954342" y="256032"/>
                    <a:pt x="947357" y="256032"/>
                  </a:cubicBezTo>
                  <a:cubicBezTo>
                    <a:pt x="940372" y="256032"/>
                    <a:pt x="933958" y="253810"/>
                    <a:pt x="928116" y="249365"/>
                  </a:cubicBezTo>
                  <a:cubicBezTo>
                    <a:pt x="922274" y="244920"/>
                    <a:pt x="919353" y="241237"/>
                    <a:pt x="919353" y="238316"/>
                  </a:cubicBezTo>
                  <a:cubicBezTo>
                    <a:pt x="919353" y="235395"/>
                    <a:pt x="920877" y="233934"/>
                    <a:pt x="923925" y="233934"/>
                  </a:cubicBezTo>
                  <a:cubicBezTo>
                    <a:pt x="924687" y="233934"/>
                    <a:pt x="926719" y="234315"/>
                    <a:pt x="930021" y="235077"/>
                  </a:cubicBezTo>
                  <a:cubicBezTo>
                    <a:pt x="933323" y="235839"/>
                    <a:pt x="937387" y="236220"/>
                    <a:pt x="942213" y="236220"/>
                  </a:cubicBezTo>
                  <a:cubicBezTo>
                    <a:pt x="956691" y="236220"/>
                    <a:pt x="969899" y="230124"/>
                    <a:pt x="981837" y="217932"/>
                  </a:cubicBezTo>
                  <a:cubicBezTo>
                    <a:pt x="974979" y="212852"/>
                    <a:pt x="964756" y="207582"/>
                    <a:pt x="951167" y="202121"/>
                  </a:cubicBezTo>
                  <a:cubicBezTo>
                    <a:pt x="937578" y="196660"/>
                    <a:pt x="923671" y="194437"/>
                    <a:pt x="909447" y="195453"/>
                  </a:cubicBezTo>
                  <a:cubicBezTo>
                    <a:pt x="907669" y="213487"/>
                    <a:pt x="904812" y="229299"/>
                    <a:pt x="900875" y="242888"/>
                  </a:cubicBezTo>
                  <a:cubicBezTo>
                    <a:pt x="896938" y="256477"/>
                    <a:pt x="894715" y="266383"/>
                    <a:pt x="894207" y="272606"/>
                  </a:cubicBezTo>
                  <a:cubicBezTo>
                    <a:pt x="893699" y="278829"/>
                    <a:pt x="890524" y="281940"/>
                    <a:pt x="884682" y="281940"/>
                  </a:cubicBezTo>
                  <a:cubicBezTo>
                    <a:pt x="876554" y="281940"/>
                    <a:pt x="869188" y="277305"/>
                    <a:pt x="862584" y="268034"/>
                  </a:cubicBezTo>
                  <a:cubicBezTo>
                    <a:pt x="855980" y="258763"/>
                    <a:pt x="852678" y="248539"/>
                    <a:pt x="852678" y="237363"/>
                  </a:cubicBezTo>
                  <a:cubicBezTo>
                    <a:pt x="852678" y="233299"/>
                    <a:pt x="853567" y="227965"/>
                    <a:pt x="855345" y="221361"/>
                  </a:cubicBezTo>
                  <a:cubicBezTo>
                    <a:pt x="857123" y="214757"/>
                    <a:pt x="859219" y="203137"/>
                    <a:pt x="861632" y="186500"/>
                  </a:cubicBezTo>
                  <a:cubicBezTo>
                    <a:pt x="864045" y="169863"/>
                    <a:pt x="865251" y="159512"/>
                    <a:pt x="865251" y="155448"/>
                  </a:cubicBezTo>
                  <a:cubicBezTo>
                    <a:pt x="865251" y="151384"/>
                    <a:pt x="864934" y="149352"/>
                    <a:pt x="864299" y="149352"/>
                  </a:cubicBezTo>
                  <a:cubicBezTo>
                    <a:pt x="863664" y="149352"/>
                    <a:pt x="862203" y="150622"/>
                    <a:pt x="859917" y="153162"/>
                  </a:cubicBezTo>
                  <a:cubicBezTo>
                    <a:pt x="857631" y="155702"/>
                    <a:pt x="853758" y="159258"/>
                    <a:pt x="848297" y="163830"/>
                  </a:cubicBezTo>
                  <a:cubicBezTo>
                    <a:pt x="842836" y="168402"/>
                    <a:pt x="838772" y="171196"/>
                    <a:pt x="836105" y="172212"/>
                  </a:cubicBezTo>
                  <a:cubicBezTo>
                    <a:pt x="833438" y="173228"/>
                    <a:pt x="830707" y="173736"/>
                    <a:pt x="827913" y="173736"/>
                  </a:cubicBezTo>
                  <a:cubicBezTo>
                    <a:pt x="819277" y="173736"/>
                    <a:pt x="811594" y="169736"/>
                    <a:pt x="804863" y="161735"/>
                  </a:cubicBezTo>
                  <a:cubicBezTo>
                    <a:pt x="798132" y="153734"/>
                    <a:pt x="794766" y="143510"/>
                    <a:pt x="794766" y="131064"/>
                  </a:cubicBezTo>
                  <a:cubicBezTo>
                    <a:pt x="794766" y="123444"/>
                    <a:pt x="796100" y="116459"/>
                    <a:pt x="798767" y="110109"/>
                  </a:cubicBezTo>
                  <a:cubicBezTo>
                    <a:pt x="801434" y="103759"/>
                    <a:pt x="803339" y="100584"/>
                    <a:pt x="804482" y="100584"/>
                  </a:cubicBezTo>
                  <a:cubicBezTo>
                    <a:pt x="805625" y="100584"/>
                    <a:pt x="806196" y="101981"/>
                    <a:pt x="806196" y="104775"/>
                  </a:cubicBezTo>
                  <a:lnTo>
                    <a:pt x="805815" y="112014"/>
                  </a:lnTo>
                  <a:cubicBezTo>
                    <a:pt x="805815" y="116586"/>
                    <a:pt x="807149" y="121285"/>
                    <a:pt x="809816" y="126111"/>
                  </a:cubicBezTo>
                  <a:cubicBezTo>
                    <a:pt x="812483" y="130937"/>
                    <a:pt x="816356" y="133350"/>
                    <a:pt x="821436" y="133350"/>
                  </a:cubicBezTo>
                  <a:cubicBezTo>
                    <a:pt x="826516" y="133350"/>
                    <a:pt x="833120" y="130937"/>
                    <a:pt x="841248" y="126111"/>
                  </a:cubicBezTo>
                  <a:cubicBezTo>
                    <a:pt x="849376" y="121285"/>
                    <a:pt x="857758" y="114300"/>
                    <a:pt x="866394" y="105156"/>
                  </a:cubicBezTo>
                  <a:cubicBezTo>
                    <a:pt x="870458" y="100838"/>
                    <a:pt x="875602" y="98679"/>
                    <a:pt x="881825" y="98679"/>
                  </a:cubicBezTo>
                  <a:cubicBezTo>
                    <a:pt x="888048" y="98679"/>
                    <a:pt x="893826" y="101537"/>
                    <a:pt x="899160" y="107252"/>
                  </a:cubicBezTo>
                  <a:cubicBezTo>
                    <a:pt x="904494" y="112967"/>
                    <a:pt x="907161" y="119380"/>
                    <a:pt x="907161" y="126492"/>
                  </a:cubicBezTo>
                  <a:cubicBezTo>
                    <a:pt x="907161" y="130556"/>
                    <a:pt x="906272" y="134620"/>
                    <a:pt x="904494" y="138684"/>
                  </a:cubicBezTo>
                  <a:cubicBezTo>
                    <a:pt x="893572" y="162306"/>
                    <a:pt x="886587" y="180340"/>
                    <a:pt x="883539" y="192786"/>
                  </a:cubicBezTo>
                  <a:cubicBezTo>
                    <a:pt x="880491" y="205232"/>
                    <a:pt x="878967" y="214122"/>
                    <a:pt x="878967" y="219456"/>
                  </a:cubicBezTo>
                  <a:cubicBezTo>
                    <a:pt x="878967" y="226568"/>
                    <a:pt x="880364" y="230124"/>
                    <a:pt x="883158" y="230124"/>
                  </a:cubicBezTo>
                  <a:cubicBezTo>
                    <a:pt x="885190" y="230124"/>
                    <a:pt x="888937" y="223139"/>
                    <a:pt x="894398" y="209169"/>
                  </a:cubicBezTo>
                  <a:cubicBezTo>
                    <a:pt x="899859" y="195199"/>
                    <a:pt x="903351" y="184150"/>
                    <a:pt x="904875" y="176022"/>
                  </a:cubicBezTo>
                  <a:cubicBezTo>
                    <a:pt x="906399" y="167894"/>
                    <a:pt x="908050" y="163830"/>
                    <a:pt x="909828" y="163830"/>
                  </a:cubicBezTo>
                  <a:cubicBezTo>
                    <a:pt x="911352" y="163830"/>
                    <a:pt x="912114" y="165926"/>
                    <a:pt x="912114" y="170117"/>
                  </a:cubicBezTo>
                  <a:cubicBezTo>
                    <a:pt x="912114" y="174308"/>
                    <a:pt x="911733" y="178816"/>
                    <a:pt x="910971" y="183642"/>
                  </a:cubicBezTo>
                  <a:cubicBezTo>
                    <a:pt x="921639" y="181610"/>
                    <a:pt x="932053" y="180594"/>
                    <a:pt x="942213" y="180594"/>
                  </a:cubicBezTo>
                  <a:cubicBezTo>
                    <a:pt x="952373" y="180594"/>
                    <a:pt x="961263" y="181928"/>
                    <a:pt x="968883" y="184595"/>
                  </a:cubicBezTo>
                  <a:cubicBezTo>
                    <a:pt x="976503" y="187262"/>
                    <a:pt x="986028" y="191262"/>
                    <a:pt x="997458" y="196596"/>
                  </a:cubicBezTo>
                  <a:cubicBezTo>
                    <a:pt x="999490" y="193040"/>
                    <a:pt x="1001903" y="187643"/>
                    <a:pt x="1004697" y="180404"/>
                  </a:cubicBezTo>
                  <a:cubicBezTo>
                    <a:pt x="1007491" y="173165"/>
                    <a:pt x="1008888" y="167704"/>
                    <a:pt x="1008888" y="164021"/>
                  </a:cubicBezTo>
                  <a:cubicBezTo>
                    <a:pt x="1008888" y="160338"/>
                    <a:pt x="1007618" y="158496"/>
                    <a:pt x="1005078" y="158496"/>
                  </a:cubicBezTo>
                  <a:cubicBezTo>
                    <a:pt x="1003808" y="158496"/>
                    <a:pt x="1002284" y="159385"/>
                    <a:pt x="1000506" y="161163"/>
                  </a:cubicBezTo>
                  <a:cubicBezTo>
                    <a:pt x="993140" y="168529"/>
                    <a:pt x="987425" y="173292"/>
                    <a:pt x="983361" y="175451"/>
                  </a:cubicBezTo>
                  <a:cubicBezTo>
                    <a:pt x="979297" y="177610"/>
                    <a:pt x="975106" y="178689"/>
                    <a:pt x="970788" y="178689"/>
                  </a:cubicBezTo>
                  <a:cubicBezTo>
                    <a:pt x="966470" y="178689"/>
                    <a:pt x="962597" y="176784"/>
                    <a:pt x="959168" y="172974"/>
                  </a:cubicBezTo>
                  <a:cubicBezTo>
                    <a:pt x="955739" y="169164"/>
                    <a:pt x="954024" y="164465"/>
                    <a:pt x="954024" y="158877"/>
                  </a:cubicBezTo>
                  <a:cubicBezTo>
                    <a:pt x="948690" y="156591"/>
                    <a:pt x="946023" y="149225"/>
                    <a:pt x="946023" y="136779"/>
                  </a:cubicBezTo>
                  <a:cubicBezTo>
                    <a:pt x="946023" y="131191"/>
                    <a:pt x="946595" y="126238"/>
                    <a:pt x="947738" y="121920"/>
                  </a:cubicBezTo>
                  <a:cubicBezTo>
                    <a:pt x="948881" y="117602"/>
                    <a:pt x="950786" y="115126"/>
                    <a:pt x="953453" y="114491"/>
                  </a:cubicBezTo>
                  <a:cubicBezTo>
                    <a:pt x="956120" y="113856"/>
                    <a:pt x="958469" y="109411"/>
                    <a:pt x="960501" y="101156"/>
                  </a:cubicBezTo>
                  <a:cubicBezTo>
                    <a:pt x="962533" y="92901"/>
                    <a:pt x="963549" y="86614"/>
                    <a:pt x="963549" y="82296"/>
                  </a:cubicBezTo>
                  <a:cubicBezTo>
                    <a:pt x="963549" y="77978"/>
                    <a:pt x="960374" y="71755"/>
                    <a:pt x="954024" y="63627"/>
                  </a:cubicBezTo>
                  <a:cubicBezTo>
                    <a:pt x="951738" y="60833"/>
                    <a:pt x="950595" y="58166"/>
                    <a:pt x="950595" y="55626"/>
                  </a:cubicBezTo>
                  <a:cubicBezTo>
                    <a:pt x="950595" y="52070"/>
                    <a:pt x="952627" y="50292"/>
                    <a:pt x="956691" y="50292"/>
                  </a:cubicBezTo>
                  <a:cubicBezTo>
                    <a:pt x="960755" y="50292"/>
                    <a:pt x="965327" y="51435"/>
                    <a:pt x="970407" y="53721"/>
                  </a:cubicBezTo>
                  <a:cubicBezTo>
                    <a:pt x="971423" y="47117"/>
                    <a:pt x="972947" y="42228"/>
                    <a:pt x="974979" y="39053"/>
                  </a:cubicBezTo>
                  <a:cubicBezTo>
                    <a:pt x="977011" y="35878"/>
                    <a:pt x="981075" y="32512"/>
                    <a:pt x="987171" y="28956"/>
                  </a:cubicBezTo>
                  <a:cubicBezTo>
                    <a:pt x="996315" y="23876"/>
                    <a:pt x="1004697" y="16383"/>
                    <a:pt x="1012317" y="6477"/>
                  </a:cubicBezTo>
                  <a:cubicBezTo>
                    <a:pt x="1015873" y="2159"/>
                    <a:pt x="1020191" y="0"/>
                    <a:pt x="1025271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708" name="文本框 4"/>
          <p:cNvSpPr/>
          <p:nvPr/>
        </p:nvSpPr>
        <p:spPr>
          <a:xfrm>
            <a:off x="809640" y="1353960"/>
            <a:ext cx="5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5"/>
          <p:cNvSpPr/>
          <p:nvPr/>
        </p:nvSpPr>
        <p:spPr>
          <a:xfrm>
            <a:off x="809640" y="3290760"/>
            <a:ext cx="5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"/>
          <p:cNvSpPr/>
          <p:nvPr/>
        </p:nvSpPr>
        <p:spPr>
          <a:xfrm>
            <a:off x="2031840" y="135396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7"/>
          <p:cNvSpPr/>
          <p:nvPr/>
        </p:nvSpPr>
        <p:spPr>
          <a:xfrm>
            <a:off x="2031840" y="329076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124"/>
          <p:cNvGrpSpPr/>
          <p:nvPr/>
        </p:nvGrpSpPr>
        <p:grpSpPr>
          <a:xfrm>
            <a:off x="2627280" y="1353960"/>
            <a:ext cx="1037880" cy="638280"/>
            <a:chOff x="2627280" y="1353960"/>
            <a:chExt cx="1037880" cy="638280"/>
          </a:xfrm>
        </p:grpSpPr>
        <p:sp>
          <p:nvSpPr>
            <p:cNvPr id="713" name="文本框 8"/>
            <p:cNvSpPr/>
            <p:nvPr/>
          </p:nvSpPr>
          <p:spPr>
            <a:xfrm>
              <a:off x="3065040" y="1353960"/>
              <a:ext cx="60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a64a"/>
                  </a:solidFill>
                  <a:latin typeface="宋体"/>
                  <a:ea typeface="宋体"/>
                </a:rPr>
                <a:t>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4" name="直接箭头连接符 16"/>
            <p:cNvCxnSpPr/>
            <p:nvPr/>
          </p:nvCxnSpPr>
          <p:spPr>
            <a:xfrm>
              <a:off x="2627280" y="1779480"/>
              <a:ext cx="432000" cy="360"/>
            </a:xfrm>
            <a:prstGeom prst="straightConnector1">
              <a:avLst/>
            </a:prstGeom>
            <a:ln w="25400">
              <a:solidFill>
                <a:srgbClr val="000000"/>
              </a:solidFill>
            </a:ln>
          </p:spPr>
        </p:cxnSp>
      </p:grpSp>
      <p:grpSp>
        <p:nvGrpSpPr>
          <p:cNvPr id="715" name="组合 125"/>
          <p:cNvGrpSpPr/>
          <p:nvPr/>
        </p:nvGrpSpPr>
        <p:grpSpPr>
          <a:xfrm>
            <a:off x="2633400" y="3290760"/>
            <a:ext cx="1031760" cy="638280"/>
            <a:chOff x="2633400" y="3290760"/>
            <a:chExt cx="1031760" cy="638280"/>
          </a:xfrm>
        </p:grpSpPr>
        <p:sp>
          <p:nvSpPr>
            <p:cNvPr id="716" name="文本框 9"/>
            <p:cNvSpPr/>
            <p:nvPr/>
          </p:nvSpPr>
          <p:spPr>
            <a:xfrm>
              <a:off x="3065400" y="3290760"/>
              <a:ext cx="599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直接箭头连接符 20"/>
            <p:cNvCxnSpPr>
              <a:stCxn id="711" idx="3"/>
              <a:endCxn id="716" idx="1"/>
            </p:cNvCxnSpPr>
            <p:nvPr/>
          </p:nvCxnSpPr>
          <p:spPr>
            <a:xfrm>
              <a:off x="2633400" y="3614400"/>
              <a:ext cx="432360" cy="360"/>
            </a:xfrm>
            <a:prstGeom prst="straightConnector1">
              <a:avLst/>
            </a:prstGeom>
            <a:ln w="25400">
              <a:solidFill>
                <a:srgbClr val="000000"/>
              </a:solidFill>
            </a:ln>
          </p:spPr>
        </p:cxnSp>
      </p:grpSp>
      <p:cxnSp>
        <p:nvCxnSpPr>
          <p:cNvPr id="718" name="直接箭头连接符 37"/>
          <p:cNvCxnSpPr>
            <a:stCxn id="713" idx="2"/>
            <a:endCxn id="716" idx="0"/>
          </p:cNvCxnSpPr>
          <p:nvPr/>
        </p:nvCxnSpPr>
        <p:spPr>
          <a:xfrm>
            <a:off x="3365280" y="2000160"/>
            <a:ext cx="360" cy="1290960"/>
          </a:xfrm>
          <a:prstGeom prst="straightConnector1">
            <a:avLst/>
          </a:prstGeom>
          <a:ln w="25400">
            <a:solidFill>
              <a:srgbClr val="000000"/>
            </a:solidFill>
            <a:headEnd len="lg" type="arrow" w="med"/>
            <a:tailEnd len="lg" type="arrow" w="med"/>
          </a:ln>
        </p:spPr>
      </p:cxnSp>
      <p:grpSp>
        <p:nvGrpSpPr>
          <p:cNvPr id="719" name="组合 44"/>
          <p:cNvGrpSpPr/>
          <p:nvPr/>
        </p:nvGrpSpPr>
        <p:grpSpPr>
          <a:xfrm>
            <a:off x="3551400" y="2320920"/>
            <a:ext cx="647280" cy="647280"/>
            <a:chOff x="3551400" y="2320920"/>
            <a:chExt cx="647280" cy="647280"/>
          </a:xfrm>
        </p:grpSpPr>
        <p:sp>
          <p:nvSpPr>
            <p:cNvPr id="720" name="椭圆 40"/>
            <p:cNvSpPr/>
            <p:nvPr/>
          </p:nvSpPr>
          <p:spPr>
            <a:xfrm>
              <a:off x="3551400" y="2320920"/>
              <a:ext cx="647280" cy="6472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21" name="文本框 43"/>
            <p:cNvSpPr/>
            <p:nvPr/>
          </p:nvSpPr>
          <p:spPr>
            <a:xfrm>
              <a:off x="3641400" y="2450880"/>
              <a:ext cx="467280" cy="387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67980" h="388030">
                  <a:moveTo>
                    <a:pt x="216862" y="140563"/>
                  </a:moveTo>
                  <a:cubicBezTo>
                    <a:pt x="232699" y="142607"/>
                    <a:pt x="244983" y="147290"/>
                    <a:pt x="253713" y="154613"/>
                  </a:cubicBezTo>
                  <a:cubicBezTo>
                    <a:pt x="262443" y="161936"/>
                    <a:pt x="265961" y="171586"/>
                    <a:pt x="264266" y="183561"/>
                  </a:cubicBezTo>
                  <a:cubicBezTo>
                    <a:pt x="262571" y="195537"/>
                    <a:pt x="254802" y="198413"/>
                    <a:pt x="240957" y="192189"/>
                  </a:cubicBezTo>
                  <a:cubicBezTo>
                    <a:pt x="227112" y="185965"/>
                    <a:pt x="215331" y="176608"/>
                    <a:pt x="205615" y="164119"/>
                  </a:cubicBezTo>
                  <a:cubicBezTo>
                    <a:pt x="197276" y="146371"/>
                    <a:pt x="201024" y="138519"/>
                    <a:pt x="216862" y="140563"/>
                  </a:cubicBezTo>
                  <a:close/>
                  <a:moveTo>
                    <a:pt x="366582" y="90988"/>
                  </a:moveTo>
                  <a:cubicBezTo>
                    <a:pt x="368988" y="91367"/>
                    <a:pt x="371821" y="92255"/>
                    <a:pt x="375082" y="93652"/>
                  </a:cubicBezTo>
                  <a:cubicBezTo>
                    <a:pt x="388125" y="99239"/>
                    <a:pt x="398473" y="106480"/>
                    <a:pt x="406125" y="115374"/>
                  </a:cubicBezTo>
                  <a:cubicBezTo>
                    <a:pt x="413777" y="124269"/>
                    <a:pt x="411964" y="131058"/>
                    <a:pt x="400687" y="135741"/>
                  </a:cubicBezTo>
                  <a:cubicBezTo>
                    <a:pt x="389409" y="140425"/>
                    <a:pt x="377367" y="147573"/>
                    <a:pt x="364559" y="157186"/>
                  </a:cubicBezTo>
                  <a:cubicBezTo>
                    <a:pt x="351752" y="166800"/>
                    <a:pt x="338343" y="174338"/>
                    <a:pt x="324334" y="179802"/>
                  </a:cubicBezTo>
                  <a:cubicBezTo>
                    <a:pt x="310325" y="185266"/>
                    <a:pt x="307049" y="180829"/>
                    <a:pt x="314505" y="166492"/>
                  </a:cubicBezTo>
                  <a:lnTo>
                    <a:pt x="339278" y="137251"/>
                  </a:lnTo>
                  <a:cubicBezTo>
                    <a:pt x="351397" y="123981"/>
                    <a:pt x="357134" y="112000"/>
                    <a:pt x="356487" y="101309"/>
                  </a:cubicBezTo>
                  <a:cubicBezTo>
                    <a:pt x="356001" y="93290"/>
                    <a:pt x="359367" y="89849"/>
                    <a:pt x="366582" y="90988"/>
                  </a:cubicBezTo>
                  <a:close/>
                  <a:moveTo>
                    <a:pt x="271902" y="1018"/>
                  </a:moveTo>
                  <a:cubicBezTo>
                    <a:pt x="276145" y="1625"/>
                    <a:pt x="281498" y="2980"/>
                    <a:pt x="287961" y="5082"/>
                  </a:cubicBezTo>
                  <a:cubicBezTo>
                    <a:pt x="313812" y="13494"/>
                    <a:pt x="325099" y="22440"/>
                    <a:pt x="321823" y="31920"/>
                  </a:cubicBezTo>
                  <a:cubicBezTo>
                    <a:pt x="318547" y="41400"/>
                    <a:pt x="316590" y="53211"/>
                    <a:pt x="315953" y="67354"/>
                  </a:cubicBezTo>
                  <a:cubicBezTo>
                    <a:pt x="315317" y="81496"/>
                    <a:pt x="313719" y="101683"/>
                    <a:pt x="311162" y="127915"/>
                  </a:cubicBezTo>
                  <a:cubicBezTo>
                    <a:pt x="308605" y="154146"/>
                    <a:pt x="306063" y="179073"/>
                    <a:pt x="303536" y="202696"/>
                  </a:cubicBezTo>
                  <a:cubicBezTo>
                    <a:pt x="328514" y="233898"/>
                    <a:pt x="352430" y="259025"/>
                    <a:pt x="375282" y="278077"/>
                  </a:cubicBezTo>
                  <a:cubicBezTo>
                    <a:pt x="398134" y="297130"/>
                    <a:pt x="420894" y="312140"/>
                    <a:pt x="443562" y="323109"/>
                  </a:cubicBezTo>
                  <a:cubicBezTo>
                    <a:pt x="466229" y="334078"/>
                    <a:pt x="473115" y="340724"/>
                    <a:pt x="464221" y="343045"/>
                  </a:cubicBezTo>
                  <a:cubicBezTo>
                    <a:pt x="455327" y="345366"/>
                    <a:pt x="443926" y="346850"/>
                    <a:pt x="430020" y="347497"/>
                  </a:cubicBezTo>
                  <a:cubicBezTo>
                    <a:pt x="416113" y="348144"/>
                    <a:pt x="402243" y="347441"/>
                    <a:pt x="388408" y="345386"/>
                  </a:cubicBezTo>
                  <a:cubicBezTo>
                    <a:pt x="374573" y="343332"/>
                    <a:pt x="361047" y="333056"/>
                    <a:pt x="347828" y="314559"/>
                  </a:cubicBezTo>
                  <a:cubicBezTo>
                    <a:pt x="334610" y="296061"/>
                    <a:pt x="317494" y="266764"/>
                    <a:pt x="296480" y="226668"/>
                  </a:cubicBezTo>
                  <a:cubicBezTo>
                    <a:pt x="293132" y="249119"/>
                    <a:pt x="282404" y="270729"/>
                    <a:pt x="264297" y="291496"/>
                  </a:cubicBezTo>
                  <a:cubicBezTo>
                    <a:pt x="246190" y="312263"/>
                    <a:pt x="224318" y="325662"/>
                    <a:pt x="198683" y="331690"/>
                  </a:cubicBezTo>
                  <a:cubicBezTo>
                    <a:pt x="173047" y="337719"/>
                    <a:pt x="171342" y="332928"/>
                    <a:pt x="193568" y="317317"/>
                  </a:cubicBezTo>
                  <a:cubicBezTo>
                    <a:pt x="215794" y="301705"/>
                    <a:pt x="234168" y="281277"/>
                    <a:pt x="248691" y="256031"/>
                  </a:cubicBezTo>
                  <a:cubicBezTo>
                    <a:pt x="263213" y="230786"/>
                    <a:pt x="271759" y="188312"/>
                    <a:pt x="274326" y="128608"/>
                  </a:cubicBezTo>
                  <a:cubicBezTo>
                    <a:pt x="276894" y="68905"/>
                    <a:pt x="273345" y="31288"/>
                    <a:pt x="263681" y="15759"/>
                  </a:cubicBezTo>
                  <a:cubicBezTo>
                    <a:pt x="256432" y="4112"/>
                    <a:pt x="259172" y="-802"/>
                    <a:pt x="271902" y="1018"/>
                  </a:cubicBezTo>
                  <a:close/>
                  <a:moveTo>
                    <a:pt x="176694" y="60"/>
                  </a:moveTo>
                  <a:cubicBezTo>
                    <a:pt x="182515" y="563"/>
                    <a:pt x="191247" y="4235"/>
                    <a:pt x="202888" y="11075"/>
                  </a:cubicBezTo>
                  <a:cubicBezTo>
                    <a:pt x="226172" y="24756"/>
                    <a:pt x="233012" y="33430"/>
                    <a:pt x="223409" y="37096"/>
                  </a:cubicBezTo>
                  <a:cubicBezTo>
                    <a:pt x="213806" y="40763"/>
                    <a:pt x="201969" y="46432"/>
                    <a:pt x="187898" y="54104"/>
                  </a:cubicBezTo>
                  <a:cubicBezTo>
                    <a:pt x="173828" y="61777"/>
                    <a:pt x="158884" y="68232"/>
                    <a:pt x="143067" y="73470"/>
                  </a:cubicBezTo>
                  <a:cubicBezTo>
                    <a:pt x="166258" y="78913"/>
                    <a:pt x="176210" y="84567"/>
                    <a:pt x="172924" y="90432"/>
                  </a:cubicBezTo>
                  <a:cubicBezTo>
                    <a:pt x="169637" y="96296"/>
                    <a:pt x="167419" y="106829"/>
                    <a:pt x="166268" y="122030"/>
                  </a:cubicBezTo>
                  <a:cubicBezTo>
                    <a:pt x="171609" y="120859"/>
                    <a:pt x="178239" y="118954"/>
                    <a:pt x="186158" y="116314"/>
                  </a:cubicBezTo>
                  <a:cubicBezTo>
                    <a:pt x="194076" y="113675"/>
                    <a:pt x="201764" y="115220"/>
                    <a:pt x="209220" y="120951"/>
                  </a:cubicBezTo>
                  <a:cubicBezTo>
                    <a:pt x="216677" y="126682"/>
                    <a:pt x="214335" y="132449"/>
                    <a:pt x="202195" y="138252"/>
                  </a:cubicBezTo>
                  <a:cubicBezTo>
                    <a:pt x="190055" y="144055"/>
                    <a:pt x="177946" y="148610"/>
                    <a:pt x="165868" y="151917"/>
                  </a:cubicBezTo>
                  <a:cubicBezTo>
                    <a:pt x="164841" y="165043"/>
                    <a:pt x="164327" y="178529"/>
                    <a:pt x="164327" y="192374"/>
                  </a:cubicBezTo>
                  <a:cubicBezTo>
                    <a:pt x="171907" y="193319"/>
                    <a:pt x="181859" y="195968"/>
                    <a:pt x="194184" y="200323"/>
                  </a:cubicBezTo>
                  <a:cubicBezTo>
                    <a:pt x="206509" y="204678"/>
                    <a:pt x="212250" y="214024"/>
                    <a:pt x="211408" y="228362"/>
                  </a:cubicBezTo>
                  <a:cubicBezTo>
                    <a:pt x="210566" y="242700"/>
                    <a:pt x="203479" y="247111"/>
                    <a:pt x="190148" y="241596"/>
                  </a:cubicBezTo>
                  <a:cubicBezTo>
                    <a:pt x="176816" y="236081"/>
                    <a:pt x="168209" y="227232"/>
                    <a:pt x="164327" y="215051"/>
                  </a:cubicBezTo>
                  <a:lnTo>
                    <a:pt x="164327" y="301941"/>
                  </a:lnTo>
                  <a:cubicBezTo>
                    <a:pt x="164327" y="325338"/>
                    <a:pt x="163295" y="344272"/>
                    <a:pt x="161231" y="358743"/>
                  </a:cubicBezTo>
                  <a:cubicBezTo>
                    <a:pt x="159166" y="373215"/>
                    <a:pt x="154791" y="382530"/>
                    <a:pt x="148105" y="386690"/>
                  </a:cubicBezTo>
                  <a:cubicBezTo>
                    <a:pt x="141418" y="390850"/>
                    <a:pt x="135323" y="385324"/>
                    <a:pt x="129818" y="370113"/>
                  </a:cubicBezTo>
                  <a:cubicBezTo>
                    <a:pt x="124313" y="354902"/>
                    <a:pt x="121884" y="342921"/>
                    <a:pt x="122531" y="334171"/>
                  </a:cubicBezTo>
                  <a:cubicBezTo>
                    <a:pt x="123178" y="325420"/>
                    <a:pt x="124467" y="316207"/>
                    <a:pt x="126398" y="306532"/>
                  </a:cubicBezTo>
                  <a:cubicBezTo>
                    <a:pt x="128328" y="296857"/>
                    <a:pt x="129941" y="259924"/>
                    <a:pt x="131235" y="195732"/>
                  </a:cubicBezTo>
                  <a:cubicBezTo>
                    <a:pt x="120266" y="225168"/>
                    <a:pt x="105209" y="248801"/>
                    <a:pt x="86065" y="266631"/>
                  </a:cubicBezTo>
                  <a:cubicBezTo>
                    <a:pt x="66920" y="284461"/>
                    <a:pt x="45172" y="298691"/>
                    <a:pt x="20820" y="309321"/>
                  </a:cubicBezTo>
                  <a:cubicBezTo>
                    <a:pt x="-3532" y="319951"/>
                    <a:pt x="-6521" y="316521"/>
                    <a:pt x="11854" y="299030"/>
                  </a:cubicBezTo>
                  <a:cubicBezTo>
                    <a:pt x="30228" y="281539"/>
                    <a:pt x="51534" y="258116"/>
                    <a:pt x="75773" y="228763"/>
                  </a:cubicBezTo>
                  <a:cubicBezTo>
                    <a:pt x="100012" y="199409"/>
                    <a:pt x="114627" y="177440"/>
                    <a:pt x="119619" y="162856"/>
                  </a:cubicBezTo>
                  <a:cubicBezTo>
                    <a:pt x="95236" y="171688"/>
                    <a:pt x="76862" y="178729"/>
                    <a:pt x="64496" y="183977"/>
                  </a:cubicBezTo>
                  <a:cubicBezTo>
                    <a:pt x="52130" y="189226"/>
                    <a:pt x="38573" y="186971"/>
                    <a:pt x="23824" y="177214"/>
                  </a:cubicBezTo>
                  <a:cubicBezTo>
                    <a:pt x="9075" y="167457"/>
                    <a:pt x="10770" y="161336"/>
                    <a:pt x="28908" y="158850"/>
                  </a:cubicBezTo>
                  <a:cubicBezTo>
                    <a:pt x="47046" y="156365"/>
                    <a:pt x="81802" y="147172"/>
                    <a:pt x="133176" y="131273"/>
                  </a:cubicBezTo>
                  <a:cubicBezTo>
                    <a:pt x="133176" y="115621"/>
                    <a:pt x="132242" y="104683"/>
                    <a:pt x="130372" y="98458"/>
                  </a:cubicBezTo>
                  <a:cubicBezTo>
                    <a:pt x="128503" y="92234"/>
                    <a:pt x="127332" y="87274"/>
                    <a:pt x="126860" y="83576"/>
                  </a:cubicBezTo>
                  <a:cubicBezTo>
                    <a:pt x="112686" y="89985"/>
                    <a:pt x="99884" y="93523"/>
                    <a:pt x="88452" y="94191"/>
                  </a:cubicBezTo>
                  <a:cubicBezTo>
                    <a:pt x="77021" y="94859"/>
                    <a:pt x="81227" y="87982"/>
                    <a:pt x="101070" y="73562"/>
                  </a:cubicBezTo>
                  <a:cubicBezTo>
                    <a:pt x="120913" y="59142"/>
                    <a:pt x="137023" y="46366"/>
                    <a:pt x="149399" y="35232"/>
                  </a:cubicBezTo>
                  <a:cubicBezTo>
                    <a:pt x="161775" y="24099"/>
                    <a:pt x="167963" y="15040"/>
                    <a:pt x="167963" y="8056"/>
                  </a:cubicBezTo>
                  <a:cubicBezTo>
                    <a:pt x="167963" y="2222"/>
                    <a:pt x="170873" y="-443"/>
                    <a:pt x="176694" y="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22" name="组合 122"/>
          <p:cNvGrpSpPr/>
          <p:nvPr/>
        </p:nvGrpSpPr>
        <p:grpSpPr>
          <a:xfrm>
            <a:off x="1409400" y="1133640"/>
            <a:ext cx="622440" cy="516240"/>
            <a:chOff x="1409400" y="1133640"/>
            <a:chExt cx="622440" cy="516240"/>
          </a:xfrm>
        </p:grpSpPr>
        <p:cxnSp>
          <p:nvCxnSpPr>
            <p:cNvPr id="723" name="直接箭头连接符 14"/>
            <p:cNvCxnSpPr>
              <a:stCxn id="708" idx="3"/>
              <a:endCxn id="710" idx="1"/>
            </p:cNvCxnSpPr>
            <p:nvPr/>
          </p:nvCxnSpPr>
          <p:spPr>
            <a:xfrm>
              <a:off x="1409400" y="1612800"/>
              <a:ext cx="62280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24" name="文本框 45"/>
            <p:cNvSpPr/>
            <p:nvPr/>
          </p:nvSpPr>
          <p:spPr>
            <a:xfrm>
              <a:off x="1409760" y="1133640"/>
              <a:ext cx="523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组合 123"/>
          <p:cNvGrpSpPr/>
          <p:nvPr/>
        </p:nvGrpSpPr>
        <p:grpSpPr>
          <a:xfrm>
            <a:off x="1409400" y="3067200"/>
            <a:ext cx="622440" cy="516240"/>
            <a:chOff x="1409400" y="3067200"/>
            <a:chExt cx="622440" cy="516240"/>
          </a:xfrm>
        </p:grpSpPr>
        <p:cxnSp>
          <p:nvCxnSpPr>
            <p:cNvPr id="726" name="直接箭头连接符 19"/>
            <p:cNvCxnSpPr>
              <a:stCxn id="709" idx="3"/>
              <a:endCxn id="711" idx="1"/>
            </p:cNvCxnSpPr>
            <p:nvPr/>
          </p:nvCxnSpPr>
          <p:spPr>
            <a:xfrm>
              <a:off x="1409400" y="3549600"/>
              <a:ext cx="62280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27" name="文本框 46"/>
            <p:cNvSpPr/>
            <p:nvPr/>
          </p:nvSpPr>
          <p:spPr>
            <a:xfrm>
              <a:off x="1409760" y="3067200"/>
              <a:ext cx="523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文本框 49"/>
          <p:cNvSpPr/>
          <p:nvPr/>
        </p:nvSpPr>
        <p:spPr>
          <a:xfrm>
            <a:off x="5486400" y="113184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50"/>
          <p:cNvSpPr/>
          <p:nvPr/>
        </p:nvSpPr>
        <p:spPr>
          <a:xfrm>
            <a:off x="5486400" y="192708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51"/>
          <p:cNvSpPr/>
          <p:nvPr/>
        </p:nvSpPr>
        <p:spPr>
          <a:xfrm>
            <a:off x="5486400" y="272268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52"/>
          <p:cNvSpPr/>
          <p:nvPr/>
        </p:nvSpPr>
        <p:spPr>
          <a:xfrm>
            <a:off x="5486400" y="3517920"/>
            <a:ext cx="60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126"/>
          <p:cNvGrpSpPr/>
          <p:nvPr/>
        </p:nvGrpSpPr>
        <p:grpSpPr>
          <a:xfrm>
            <a:off x="6181560" y="1131840"/>
            <a:ext cx="1163520" cy="638280"/>
            <a:chOff x="6181560" y="1131840"/>
            <a:chExt cx="1163520" cy="638280"/>
          </a:xfrm>
        </p:grpSpPr>
        <p:cxnSp>
          <p:nvCxnSpPr>
            <p:cNvPr id="733" name="直接箭头连接符 53"/>
            <p:cNvCxnSpPr>
              <a:stCxn id="728" idx="3"/>
              <a:endCxn id="711" idx="1"/>
            </p:cNvCxnSpPr>
            <p:nvPr/>
          </p:nvCxnSpPr>
          <p:spPr>
            <a:xfrm>
              <a:off x="6181560" y="1531800"/>
              <a:ext cx="64476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34" name="文本框 68"/>
            <p:cNvSpPr/>
            <p:nvPr/>
          </p:nvSpPr>
          <p:spPr>
            <a:xfrm>
              <a:off x="6744240" y="1131840"/>
              <a:ext cx="600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127"/>
          <p:cNvGrpSpPr/>
          <p:nvPr/>
        </p:nvGrpSpPr>
        <p:grpSpPr>
          <a:xfrm>
            <a:off x="6181560" y="1927080"/>
            <a:ext cx="1163520" cy="638280"/>
            <a:chOff x="6181560" y="1927080"/>
            <a:chExt cx="1163520" cy="638280"/>
          </a:xfrm>
        </p:grpSpPr>
        <p:cxnSp>
          <p:nvCxnSpPr>
            <p:cNvPr id="736" name="直接箭头连接符 56"/>
            <p:cNvCxnSpPr>
              <a:stCxn id="729" idx="3"/>
              <a:endCxn id="711" idx="1"/>
            </p:cNvCxnSpPr>
            <p:nvPr/>
          </p:nvCxnSpPr>
          <p:spPr>
            <a:xfrm flipV="1">
              <a:off x="6181560" y="2325600"/>
              <a:ext cx="644760" cy="180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37" name="文本框 69"/>
            <p:cNvSpPr/>
            <p:nvPr/>
          </p:nvSpPr>
          <p:spPr>
            <a:xfrm>
              <a:off x="6744240" y="1927080"/>
              <a:ext cx="600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128"/>
          <p:cNvGrpSpPr/>
          <p:nvPr/>
        </p:nvGrpSpPr>
        <p:grpSpPr>
          <a:xfrm>
            <a:off x="6181560" y="2722680"/>
            <a:ext cx="1163520" cy="638280"/>
            <a:chOff x="6181560" y="2722680"/>
            <a:chExt cx="1163520" cy="638280"/>
          </a:xfrm>
        </p:grpSpPr>
        <p:cxnSp>
          <p:nvCxnSpPr>
            <p:cNvPr id="739" name="直接箭头连接符 61"/>
            <p:cNvCxnSpPr>
              <a:stCxn id="730" idx="3"/>
              <a:endCxn id="711" idx="1"/>
            </p:cNvCxnSpPr>
            <p:nvPr/>
          </p:nvCxnSpPr>
          <p:spPr>
            <a:xfrm>
              <a:off x="6181560" y="3122280"/>
              <a:ext cx="64476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40" name="文本框 70"/>
            <p:cNvSpPr/>
            <p:nvPr/>
          </p:nvSpPr>
          <p:spPr>
            <a:xfrm>
              <a:off x="6744240" y="2722680"/>
              <a:ext cx="600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129"/>
          <p:cNvGrpSpPr/>
          <p:nvPr/>
        </p:nvGrpSpPr>
        <p:grpSpPr>
          <a:xfrm>
            <a:off x="6181560" y="3517920"/>
            <a:ext cx="1163520" cy="638280"/>
            <a:chOff x="6181560" y="3517920"/>
            <a:chExt cx="1163520" cy="638280"/>
          </a:xfrm>
        </p:grpSpPr>
        <p:cxnSp>
          <p:nvCxnSpPr>
            <p:cNvPr id="742" name="直接箭头连接符 62"/>
            <p:cNvCxnSpPr>
              <a:stCxn id="731" idx="3"/>
              <a:endCxn id="711" idx="1"/>
            </p:cNvCxnSpPr>
            <p:nvPr/>
          </p:nvCxnSpPr>
          <p:spPr>
            <a:xfrm>
              <a:off x="6181560" y="3917880"/>
              <a:ext cx="64476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tailEnd len="lg" type="arrow" w="med"/>
            </a:ln>
          </p:spPr>
        </p:cxnSp>
        <p:sp>
          <p:nvSpPr>
            <p:cNvPr id="743" name="文本框 71"/>
            <p:cNvSpPr/>
            <p:nvPr/>
          </p:nvSpPr>
          <p:spPr>
            <a:xfrm>
              <a:off x="6744240" y="3517920"/>
              <a:ext cx="600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80"/>
          <p:cNvGrpSpPr/>
          <p:nvPr/>
        </p:nvGrpSpPr>
        <p:grpSpPr>
          <a:xfrm>
            <a:off x="8172360" y="2320920"/>
            <a:ext cx="647280" cy="647280"/>
            <a:chOff x="8172360" y="2320920"/>
            <a:chExt cx="647280" cy="647280"/>
          </a:xfrm>
        </p:grpSpPr>
        <p:sp>
          <p:nvSpPr>
            <p:cNvPr id="745" name="椭圆 73"/>
            <p:cNvSpPr/>
            <p:nvPr/>
          </p:nvSpPr>
          <p:spPr>
            <a:xfrm>
              <a:off x="8172360" y="2320920"/>
              <a:ext cx="647280" cy="647280"/>
            </a:xfrm>
            <a:prstGeom prst="ellips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46" name="文本框 79"/>
            <p:cNvSpPr/>
            <p:nvPr/>
          </p:nvSpPr>
          <p:spPr>
            <a:xfrm>
              <a:off x="8283240" y="2427480"/>
              <a:ext cx="425520" cy="4341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426126" h="434733">
                  <a:moveTo>
                    <a:pt x="259405" y="195185"/>
                  </a:moveTo>
                  <a:cubicBezTo>
                    <a:pt x="263034" y="195218"/>
                    <a:pt x="266897" y="195936"/>
                    <a:pt x="270995" y="197338"/>
                  </a:cubicBezTo>
                  <a:cubicBezTo>
                    <a:pt x="279191" y="200142"/>
                    <a:pt x="287962" y="204142"/>
                    <a:pt x="297308" y="209339"/>
                  </a:cubicBezTo>
                  <a:cubicBezTo>
                    <a:pt x="306654" y="214536"/>
                    <a:pt x="309397" y="222347"/>
                    <a:pt x="305535" y="232772"/>
                  </a:cubicBezTo>
                  <a:cubicBezTo>
                    <a:pt x="301673" y="243197"/>
                    <a:pt x="300692" y="258813"/>
                    <a:pt x="302592" y="279622"/>
                  </a:cubicBezTo>
                  <a:cubicBezTo>
                    <a:pt x="304492" y="300430"/>
                    <a:pt x="306747" y="323739"/>
                    <a:pt x="309356" y="349550"/>
                  </a:cubicBezTo>
                  <a:cubicBezTo>
                    <a:pt x="311964" y="375360"/>
                    <a:pt x="306038" y="397673"/>
                    <a:pt x="291577" y="416489"/>
                  </a:cubicBezTo>
                  <a:cubicBezTo>
                    <a:pt x="277116" y="435305"/>
                    <a:pt x="266660" y="439567"/>
                    <a:pt x="260210" y="429276"/>
                  </a:cubicBezTo>
                  <a:cubicBezTo>
                    <a:pt x="253760" y="418985"/>
                    <a:pt x="242586" y="406382"/>
                    <a:pt x="226687" y="391469"/>
                  </a:cubicBezTo>
                  <a:cubicBezTo>
                    <a:pt x="210788" y="376556"/>
                    <a:pt x="210639" y="370717"/>
                    <a:pt x="226240" y="373953"/>
                  </a:cubicBezTo>
                  <a:cubicBezTo>
                    <a:pt x="241841" y="377188"/>
                    <a:pt x="252764" y="378806"/>
                    <a:pt x="259009" y="378806"/>
                  </a:cubicBezTo>
                  <a:cubicBezTo>
                    <a:pt x="261700" y="378806"/>
                    <a:pt x="263641" y="371108"/>
                    <a:pt x="264832" y="355712"/>
                  </a:cubicBezTo>
                  <a:cubicBezTo>
                    <a:pt x="266024" y="340316"/>
                    <a:pt x="265654" y="320473"/>
                    <a:pt x="263723" y="296183"/>
                  </a:cubicBezTo>
                  <a:cubicBezTo>
                    <a:pt x="261792" y="271893"/>
                    <a:pt x="260251" y="254823"/>
                    <a:pt x="259101" y="244973"/>
                  </a:cubicBezTo>
                  <a:cubicBezTo>
                    <a:pt x="257951" y="235124"/>
                    <a:pt x="255265" y="229218"/>
                    <a:pt x="251044" y="227256"/>
                  </a:cubicBezTo>
                  <a:cubicBezTo>
                    <a:pt x="246823" y="225295"/>
                    <a:pt x="238462" y="225546"/>
                    <a:pt x="225963" y="228011"/>
                  </a:cubicBezTo>
                  <a:cubicBezTo>
                    <a:pt x="213463" y="230476"/>
                    <a:pt x="193266" y="234739"/>
                    <a:pt x="165371" y="240798"/>
                  </a:cubicBezTo>
                  <a:cubicBezTo>
                    <a:pt x="163419" y="250556"/>
                    <a:pt x="162444" y="257868"/>
                    <a:pt x="162444" y="262737"/>
                  </a:cubicBezTo>
                  <a:cubicBezTo>
                    <a:pt x="175631" y="262860"/>
                    <a:pt x="189255" y="260960"/>
                    <a:pt x="203316" y="257036"/>
                  </a:cubicBezTo>
                  <a:cubicBezTo>
                    <a:pt x="217376" y="253113"/>
                    <a:pt x="229547" y="253524"/>
                    <a:pt x="239828" y="258269"/>
                  </a:cubicBezTo>
                  <a:cubicBezTo>
                    <a:pt x="250109" y="263014"/>
                    <a:pt x="248409" y="268509"/>
                    <a:pt x="234729" y="274753"/>
                  </a:cubicBezTo>
                  <a:cubicBezTo>
                    <a:pt x="221048" y="280998"/>
                    <a:pt x="207768" y="284788"/>
                    <a:pt x="194889" y="286123"/>
                  </a:cubicBezTo>
                  <a:cubicBezTo>
                    <a:pt x="182009" y="287458"/>
                    <a:pt x="170835" y="286832"/>
                    <a:pt x="161365" y="284243"/>
                  </a:cubicBezTo>
                  <a:cubicBezTo>
                    <a:pt x="159517" y="296014"/>
                    <a:pt x="158592" y="304970"/>
                    <a:pt x="158592" y="311112"/>
                  </a:cubicBezTo>
                  <a:cubicBezTo>
                    <a:pt x="172108" y="311112"/>
                    <a:pt x="187196" y="308852"/>
                    <a:pt x="203855" y="304333"/>
                  </a:cubicBezTo>
                  <a:cubicBezTo>
                    <a:pt x="220514" y="299814"/>
                    <a:pt x="233892" y="300810"/>
                    <a:pt x="243988" y="307322"/>
                  </a:cubicBezTo>
                  <a:cubicBezTo>
                    <a:pt x="254084" y="313833"/>
                    <a:pt x="251557" y="319667"/>
                    <a:pt x="236408" y="324823"/>
                  </a:cubicBezTo>
                  <a:cubicBezTo>
                    <a:pt x="221259" y="329979"/>
                    <a:pt x="207280" y="332885"/>
                    <a:pt x="194473" y="333543"/>
                  </a:cubicBezTo>
                  <a:cubicBezTo>
                    <a:pt x="181665" y="334200"/>
                    <a:pt x="168811" y="333235"/>
                    <a:pt x="155912" y="330646"/>
                  </a:cubicBezTo>
                  <a:cubicBezTo>
                    <a:pt x="152440" y="365074"/>
                    <a:pt x="147176" y="390437"/>
                    <a:pt x="140120" y="406737"/>
                  </a:cubicBezTo>
                  <a:cubicBezTo>
                    <a:pt x="133064" y="423036"/>
                    <a:pt x="125315" y="427371"/>
                    <a:pt x="116873" y="419739"/>
                  </a:cubicBezTo>
                  <a:cubicBezTo>
                    <a:pt x="108430" y="412108"/>
                    <a:pt x="104209" y="402993"/>
                    <a:pt x="104209" y="392394"/>
                  </a:cubicBezTo>
                  <a:cubicBezTo>
                    <a:pt x="104209" y="382986"/>
                    <a:pt x="107110" y="371842"/>
                    <a:pt x="112913" y="358963"/>
                  </a:cubicBezTo>
                  <a:cubicBezTo>
                    <a:pt x="118716" y="346083"/>
                    <a:pt x="123872" y="324772"/>
                    <a:pt x="128381" y="295028"/>
                  </a:cubicBezTo>
                  <a:cubicBezTo>
                    <a:pt x="132890" y="265284"/>
                    <a:pt x="132566" y="244090"/>
                    <a:pt x="127410" y="231447"/>
                  </a:cubicBezTo>
                  <a:cubicBezTo>
                    <a:pt x="122254" y="218804"/>
                    <a:pt x="124673" y="213463"/>
                    <a:pt x="134667" y="215425"/>
                  </a:cubicBezTo>
                  <a:cubicBezTo>
                    <a:pt x="144660" y="217386"/>
                    <a:pt x="151731" y="218352"/>
                    <a:pt x="155881" y="218321"/>
                  </a:cubicBezTo>
                  <a:cubicBezTo>
                    <a:pt x="160030" y="218290"/>
                    <a:pt x="170819" y="216719"/>
                    <a:pt x="188249" y="213607"/>
                  </a:cubicBezTo>
                  <a:cubicBezTo>
                    <a:pt x="205678" y="210495"/>
                    <a:pt x="218619" y="207639"/>
                    <a:pt x="227072" y="205041"/>
                  </a:cubicBezTo>
                  <a:cubicBezTo>
                    <a:pt x="235525" y="202442"/>
                    <a:pt x="242909" y="199808"/>
                    <a:pt x="249226" y="197138"/>
                  </a:cubicBezTo>
                  <a:cubicBezTo>
                    <a:pt x="252384" y="195803"/>
                    <a:pt x="255777" y="195152"/>
                    <a:pt x="259405" y="195185"/>
                  </a:cubicBezTo>
                  <a:close/>
                  <a:moveTo>
                    <a:pt x="178951" y="360"/>
                  </a:moveTo>
                  <a:cubicBezTo>
                    <a:pt x="183306" y="-649"/>
                    <a:pt x="191304" y="464"/>
                    <a:pt x="202946" y="3699"/>
                  </a:cubicBezTo>
                  <a:cubicBezTo>
                    <a:pt x="226230" y="10170"/>
                    <a:pt x="236223" y="16651"/>
                    <a:pt x="232926" y="23142"/>
                  </a:cubicBezTo>
                  <a:cubicBezTo>
                    <a:pt x="229629" y="29633"/>
                    <a:pt x="227406" y="37963"/>
                    <a:pt x="226255" y="48131"/>
                  </a:cubicBezTo>
                  <a:cubicBezTo>
                    <a:pt x="243510" y="45624"/>
                    <a:pt x="258500" y="43067"/>
                    <a:pt x="271226" y="40458"/>
                  </a:cubicBezTo>
                  <a:cubicBezTo>
                    <a:pt x="283951" y="37850"/>
                    <a:pt x="295105" y="42286"/>
                    <a:pt x="304688" y="53769"/>
                  </a:cubicBezTo>
                  <a:cubicBezTo>
                    <a:pt x="314270" y="65252"/>
                    <a:pt x="311497" y="71404"/>
                    <a:pt x="296368" y="72226"/>
                  </a:cubicBezTo>
                  <a:cubicBezTo>
                    <a:pt x="281240" y="73047"/>
                    <a:pt x="257735" y="75810"/>
                    <a:pt x="225855" y="80514"/>
                  </a:cubicBezTo>
                  <a:lnTo>
                    <a:pt x="224314" y="100326"/>
                  </a:lnTo>
                  <a:cubicBezTo>
                    <a:pt x="240316" y="97841"/>
                    <a:pt x="253031" y="95930"/>
                    <a:pt x="262460" y="94595"/>
                  </a:cubicBezTo>
                  <a:cubicBezTo>
                    <a:pt x="271888" y="93260"/>
                    <a:pt x="280777" y="96644"/>
                    <a:pt x="289127" y="104748"/>
                  </a:cubicBezTo>
                  <a:cubicBezTo>
                    <a:pt x="297478" y="112851"/>
                    <a:pt x="297282" y="118367"/>
                    <a:pt x="288542" y="121294"/>
                  </a:cubicBezTo>
                  <a:cubicBezTo>
                    <a:pt x="279802" y="124221"/>
                    <a:pt x="258269" y="128047"/>
                    <a:pt x="223945" y="132771"/>
                  </a:cubicBezTo>
                  <a:lnTo>
                    <a:pt x="222404" y="156404"/>
                  </a:lnTo>
                  <a:cubicBezTo>
                    <a:pt x="249662" y="153960"/>
                    <a:pt x="274317" y="151767"/>
                    <a:pt x="296368" y="149826"/>
                  </a:cubicBezTo>
                  <a:cubicBezTo>
                    <a:pt x="318420" y="147885"/>
                    <a:pt x="338519" y="144952"/>
                    <a:pt x="356668" y="141029"/>
                  </a:cubicBezTo>
                  <a:cubicBezTo>
                    <a:pt x="374816" y="137106"/>
                    <a:pt x="391778" y="139560"/>
                    <a:pt x="407554" y="148393"/>
                  </a:cubicBezTo>
                  <a:cubicBezTo>
                    <a:pt x="423329" y="157226"/>
                    <a:pt x="429055" y="164677"/>
                    <a:pt x="424731" y="170747"/>
                  </a:cubicBezTo>
                  <a:cubicBezTo>
                    <a:pt x="420407" y="176817"/>
                    <a:pt x="407179" y="179205"/>
                    <a:pt x="385045" y="177911"/>
                  </a:cubicBezTo>
                  <a:cubicBezTo>
                    <a:pt x="362912" y="176617"/>
                    <a:pt x="336249" y="176925"/>
                    <a:pt x="305057" y="178835"/>
                  </a:cubicBezTo>
                  <a:cubicBezTo>
                    <a:pt x="273865" y="180746"/>
                    <a:pt x="244429" y="183647"/>
                    <a:pt x="216750" y="187540"/>
                  </a:cubicBezTo>
                  <a:cubicBezTo>
                    <a:pt x="189070" y="191432"/>
                    <a:pt x="158859" y="196280"/>
                    <a:pt x="126116" y="202083"/>
                  </a:cubicBezTo>
                  <a:cubicBezTo>
                    <a:pt x="93373" y="207886"/>
                    <a:pt x="69093" y="212076"/>
                    <a:pt x="53276" y="214654"/>
                  </a:cubicBezTo>
                  <a:cubicBezTo>
                    <a:pt x="37460" y="217232"/>
                    <a:pt x="22659" y="213124"/>
                    <a:pt x="8876" y="202330"/>
                  </a:cubicBezTo>
                  <a:cubicBezTo>
                    <a:pt x="-4907" y="191535"/>
                    <a:pt x="-2637" y="185717"/>
                    <a:pt x="15686" y="184874"/>
                  </a:cubicBezTo>
                  <a:cubicBezTo>
                    <a:pt x="34009" y="184032"/>
                    <a:pt x="54504" y="181994"/>
                    <a:pt x="77171" y="178758"/>
                  </a:cubicBezTo>
                  <a:cubicBezTo>
                    <a:pt x="99839" y="175523"/>
                    <a:pt x="137209" y="170280"/>
                    <a:pt x="189281" y="163029"/>
                  </a:cubicBezTo>
                  <a:lnTo>
                    <a:pt x="189281" y="137301"/>
                  </a:lnTo>
                  <a:cubicBezTo>
                    <a:pt x="176977" y="139889"/>
                    <a:pt x="165725" y="141825"/>
                    <a:pt x="155526" y="143109"/>
                  </a:cubicBezTo>
                  <a:cubicBezTo>
                    <a:pt x="145328" y="144393"/>
                    <a:pt x="134225" y="141522"/>
                    <a:pt x="122219" y="134497"/>
                  </a:cubicBezTo>
                  <a:cubicBezTo>
                    <a:pt x="110212" y="127472"/>
                    <a:pt x="112728" y="122629"/>
                    <a:pt x="129767" y="119969"/>
                  </a:cubicBezTo>
                  <a:cubicBezTo>
                    <a:pt x="146807" y="117309"/>
                    <a:pt x="166644" y="113719"/>
                    <a:pt x="189281" y="109200"/>
                  </a:cubicBezTo>
                  <a:lnTo>
                    <a:pt x="189281" y="87046"/>
                  </a:lnTo>
                  <a:cubicBezTo>
                    <a:pt x="177038" y="89614"/>
                    <a:pt x="164123" y="91863"/>
                    <a:pt x="150535" y="93794"/>
                  </a:cubicBezTo>
                  <a:cubicBezTo>
                    <a:pt x="136947" y="95725"/>
                    <a:pt x="123898" y="91945"/>
                    <a:pt x="111388" y="82455"/>
                  </a:cubicBezTo>
                  <a:cubicBezTo>
                    <a:pt x="98878" y="72965"/>
                    <a:pt x="102124" y="67794"/>
                    <a:pt x="121125" y="66941"/>
                  </a:cubicBezTo>
                  <a:cubicBezTo>
                    <a:pt x="140125" y="66089"/>
                    <a:pt x="162844" y="62787"/>
                    <a:pt x="189281" y="57035"/>
                  </a:cubicBezTo>
                  <a:cubicBezTo>
                    <a:pt x="189281" y="53091"/>
                    <a:pt x="188670" y="46852"/>
                    <a:pt x="187448" y="38317"/>
                  </a:cubicBezTo>
                  <a:cubicBezTo>
                    <a:pt x="186225" y="29782"/>
                    <a:pt x="182682" y="20261"/>
                    <a:pt x="176817" y="9754"/>
                  </a:cubicBezTo>
                  <a:cubicBezTo>
                    <a:pt x="173885" y="4501"/>
                    <a:pt x="174596" y="1369"/>
                    <a:pt x="178951" y="36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747" name="直接箭头连接符 90"/>
          <p:cNvCxnSpPr>
            <a:stCxn id="743" idx="3"/>
            <a:endCxn id="711" idx="1"/>
          </p:cNvCxnSpPr>
          <p:nvPr/>
        </p:nvCxnSpPr>
        <p:spPr>
          <a:xfrm flipV="1">
            <a:off x="7345080" y="2873160"/>
            <a:ext cx="827640" cy="967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748" name="直接箭头连接符 91"/>
          <p:cNvCxnSpPr>
            <a:stCxn id="740" idx="3"/>
            <a:endCxn id="711" idx="1"/>
          </p:cNvCxnSpPr>
          <p:nvPr/>
        </p:nvCxnSpPr>
        <p:spPr>
          <a:xfrm flipV="1">
            <a:off x="7345080" y="2728800"/>
            <a:ext cx="784800" cy="31608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749" name="直接箭头连接符 101"/>
          <p:cNvCxnSpPr>
            <a:stCxn id="740" idx="3"/>
            <a:endCxn id="711" idx="1"/>
          </p:cNvCxnSpPr>
          <p:nvPr/>
        </p:nvCxnSpPr>
        <p:spPr>
          <a:xfrm>
            <a:off x="7356240" y="1496880"/>
            <a:ext cx="816480" cy="92124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750" name="直接箭头连接符 102"/>
          <p:cNvCxnSpPr>
            <a:stCxn id="740" idx="3"/>
            <a:endCxn id="711" idx="1"/>
          </p:cNvCxnSpPr>
          <p:nvPr/>
        </p:nvCxnSpPr>
        <p:spPr>
          <a:xfrm>
            <a:off x="7345080" y="2320920"/>
            <a:ext cx="784800" cy="24624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grpSp>
        <p:nvGrpSpPr>
          <p:cNvPr id="751" name="组合 121"/>
          <p:cNvGrpSpPr/>
          <p:nvPr/>
        </p:nvGrpSpPr>
        <p:grpSpPr>
          <a:xfrm>
            <a:off x="426960" y="2001600"/>
            <a:ext cx="738000" cy="1290600"/>
            <a:chOff x="426960" y="2001600"/>
            <a:chExt cx="738000" cy="1290600"/>
          </a:xfrm>
        </p:grpSpPr>
        <p:cxnSp>
          <p:nvCxnSpPr>
            <p:cNvPr id="752" name="直接箭头连接符 11"/>
            <p:cNvCxnSpPr>
              <a:stCxn id="740" idx="3"/>
              <a:endCxn id="711" idx="1"/>
            </p:cNvCxnSpPr>
            <p:nvPr/>
          </p:nvCxnSpPr>
          <p:spPr>
            <a:xfrm>
              <a:off x="1109520" y="2001600"/>
              <a:ext cx="360" cy="1290960"/>
            </a:xfrm>
            <a:prstGeom prst="straightConnector1">
              <a:avLst/>
            </a:prstGeom>
            <a:ln w="25400">
              <a:solidFill>
                <a:srgbClr val="000000"/>
              </a:solidFill>
              <a:headEnd len="lg" type="arrow" w="med"/>
              <a:tailEnd len="lg" type="arrow" w="med"/>
            </a:ln>
          </p:spPr>
        </p:cxnSp>
        <p:sp>
          <p:nvSpPr>
            <p:cNvPr id="753" name="文本框 108"/>
            <p:cNvSpPr/>
            <p:nvPr/>
          </p:nvSpPr>
          <p:spPr>
            <a:xfrm>
              <a:off x="426960" y="2131200"/>
              <a:ext cx="738000" cy="10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凉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文本框 109"/>
          <p:cNvSpPr/>
          <p:nvPr/>
        </p:nvSpPr>
        <p:spPr>
          <a:xfrm>
            <a:off x="4483080" y="1874880"/>
            <a:ext cx="738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猜字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右中括号 118"/>
          <p:cNvSpPr/>
          <p:nvPr/>
        </p:nvSpPr>
        <p:spPr>
          <a:xfrm>
            <a:off x="4276800" y="1677960"/>
            <a:ext cx="107640" cy="1934640"/>
          </a:xfrm>
          <a:prstGeom prst="rightBracket">
            <a:avLst>
              <a:gd name="adj" fmla="val 99816"/>
            </a:avLst>
          </a:prstGeom>
          <a:noFill/>
          <a:ln w="19050">
            <a:solidFill>
              <a:srgbClr val="c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756" name="右中括号 120"/>
          <p:cNvSpPr/>
          <p:nvPr/>
        </p:nvSpPr>
        <p:spPr>
          <a:xfrm flipH="1">
            <a:off x="5258520" y="1677960"/>
            <a:ext cx="107640" cy="1934640"/>
          </a:xfrm>
          <a:prstGeom prst="rightBracket">
            <a:avLst>
              <a:gd name="adj" fmla="val 99816"/>
            </a:avLst>
          </a:prstGeom>
          <a:noFill/>
          <a:ln w="19050">
            <a:solidFill>
              <a:srgbClr val="c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组合 4"/>
          <p:cNvGrpSpPr/>
          <p:nvPr/>
        </p:nvGrpSpPr>
        <p:grpSpPr>
          <a:xfrm>
            <a:off x="2062080" y="712800"/>
            <a:ext cx="5173200" cy="577080"/>
            <a:chOff x="2062080" y="712800"/>
            <a:chExt cx="5173200" cy="577080"/>
          </a:xfrm>
        </p:grpSpPr>
        <p:sp>
          <p:nvSpPr>
            <p:cNvPr id="758" name="文本框 13"/>
            <p:cNvSpPr/>
            <p:nvPr/>
          </p:nvSpPr>
          <p:spPr>
            <a:xfrm>
              <a:off x="2523960" y="712800"/>
              <a:ext cx="4711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4747"/>
                  </a:solidFill>
                  <a:latin typeface="黑体"/>
                  <a:ea typeface="黑体"/>
                </a:rPr>
                <a:t>拓展一</a:t>
              </a:r>
              <a:r>
                <a:rPr b="1" lang="zh-CN" sz="3200" spc="-1" strike="noStrike">
                  <a:solidFill>
                    <a:srgbClr val="ff4747"/>
                  </a:solidFill>
                  <a:latin typeface="宋体"/>
                  <a:ea typeface="宋体"/>
                </a:rPr>
                <a:t>：</a:t>
              </a:r>
              <a:r>
                <a:rPr b="1" lang="zh-CN" sz="3200" spc="-1" strike="noStrike">
                  <a:solidFill>
                    <a:srgbClr val="ff4747"/>
                  </a:solidFill>
                  <a:latin typeface="黑体"/>
                  <a:ea typeface="黑体"/>
                </a:rPr>
                <a:t>字谜的相关知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9" name="图片 6" descr=""/>
            <p:cNvPicPr/>
            <p:nvPr/>
          </p:nvPicPr>
          <p:blipFill>
            <a:blip r:embed="rId1"/>
            <a:stretch/>
          </p:blipFill>
          <p:spPr>
            <a:xfrm>
              <a:off x="2062080" y="762480"/>
              <a:ext cx="525600" cy="45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7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761" name="图片 21" descr=""/>
            <p:cNvPicPr/>
            <p:nvPr/>
          </p:nvPicPr>
          <p:blipFill>
            <a:blip r:embed="rId2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文本框 6"/>
            <p:cNvSpPr/>
            <p:nvPr/>
          </p:nvSpPr>
          <p:spPr>
            <a:xfrm>
              <a:off x="385920" y="266760"/>
              <a:ext cx="1470960" cy="32400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71422" h="324231">
                  <a:moveTo>
                    <a:pt x="882968" y="235077"/>
                  </a:moveTo>
                  <a:cubicBezTo>
                    <a:pt x="873697" y="235077"/>
                    <a:pt x="864870" y="235966"/>
                    <a:pt x="856488" y="237744"/>
                  </a:cubicBezTo>
                  <a:cubicBezTo>
                    <a:pt x="855472" y="239014"/>
                    <a:pt x="851281" y="249428"/>
                    <a:pt x="843915" y="268986"/>
                  </a:cubicBezTo>
                  <a:cubicBezTo>
                    <a:pt x="848995" y="271780"/>
                    <a:pt x="855726" y="273177"/>
                    <a:pt x="864108" y="273177"/>
                  </a:cubicBezTo>
                  <a:cubicBezTo>
                    <a:pt x="872490" y="273177"/>
                    <a:pt x="881507" y="270637"/>
                    <a:pt x="891159" y="265557"/>
                  </a:cubicBezTo>
                  <a:cubicBezTo>
                    <a:pt x="900811" y="260477"/>
                    <a:pt x="908558" y="253492"/>
                    <a:pt x="914400" y="244602"/>
                  </a:cubicBezTo>
                  <a:cubicBezTo>
                    <a:pt x="902716" y="238252"/>
                    <a:pt x="892239" y="235077"/>
                    <a:pt x="882968" y="235077"/>
                  </a:cubicBezTo>
                  <a:close/>
                  <a:moveTo>
                    <a:pt x="1272350" y="216408"/>
                  </a:moveTo>
                  <a:cubicBezTo>
                    <a:pt x="1271207" y="216408"/>
                    <a:pt x="1270000" y="217678"/>
                    <a:pt x="1268730" y="220218"/>
                  </a:cubicBezTo>
                  <a:lnTo>
                    <a:pt x="1264158" y="230124"/>
                  </a:lnTo>
                  <a:cubicBezTo>
                    <a:pt x="1257554" y="243586"/>
                    <a:pt x="1252982" y="252476"/>
                    <a:pt x="1250442" y="256794"/>
                  </a:cubicBezTo>
                  <a:cubicBezTo>
                    <a:pt x="1258570" y="266700"/>
                    <a:pt x="1264158" y="271653"/>
                    <a:pt x="1267206" y="271653"/>
                  </a:cubicBezTo>
                  <a:cubicBezTo>
                    <a:pt x="1268222" y="271653"/>
                    <a:pt x="1269048" y="271018"/>
                    <a:pt x="1269683" y="269748"/>
                  </a:cubicBezTo>
                  <a:cubicBezTo>
                    <a:pt x="1270318" y="268478"/>
                    <a:pt x="1271207" y="262827"/>
                    <a:pt x="1272350" y="252794"/>
                  </a:cubicBezTo>
                  <a:cubicBezTo>
                    <a:pt x="1273493" y="242761"/>
                    <a:pt x="1274064" y="234188"/>
                    <a:pt x="1274064" y="227076"/>
                  </a:cubicBezTo>
                  <a:cubicBezTo>
                    <a:pt x="1274064" y="219964"/>
                    <a:pt x="1273493" y="216408"/>
                    <a:pt x="1272350" y="216408"/>
                  </a:cubicBezTo>
                  <a:close/>
                  <a:moveTo>
                    <a:pt x="1237488" y="210693"/>
                  </a:moveTo>
                  <a:cubicBezTo>
                    <a:pt x="1236726" y="214503"/>
                    <a:pt x="1236345" y="217678"/>
                    <a:pt x="1236345" y="220218"/>
                  </a:cubicBezTo>
                  <a:cubicBezTo>
                    <a:pt x="1236345" y="222758"/>
                    <a:pt x="1236726" y="225298"/>
                    <a:pt x="1237488" y="227838"/>
                  </a:cubicBezTo>
                  <a:cubicBezTo>
                    <a:pt x="1239012" y="227838"/>
                    <a:pt x="1240282" y="225870"/>
                    <a:pt x="1241298" y="221933"/>
                  </a:cubicBezTo>
                  <a:cubicBezTo>
                    <a:pt x="1242314" y="217996"/>
                    <a:pt x="1242822" y="215646"/>
                    <a:pt x="1242822" y="214884"/>
                  </a:cubicBezTo>
                  <a:cubicBezTo>
                    <a:pt x="1242822" y="211836"/>
                    <a:pt x="1241044" y="210439"/>
                    <a:pt x="1237488" y="210693"/>
                  </a:cubicBezTo>
                  <a:close/>
                  <a:moveTo>
                    <a:pt x="1293495" y="205740"/>
                  </a:moveTo>
                  <a:cubicBezTo>
                    <a:pt x="1295527" y="226568"/>
                    <a:pt x="1297432" y="242570"/>
                    <a:pt x="1299210" y="253746"/>
                  </a:cubicBezTo>
                  <a:cubicBezTo>
                    <a:pt x="1306576" y="252730"/>
                    <a:pt x="1314514" y="249682"/>
                    <a:pt x="1323023" y="244602"/>
                  </a:cubicBezTo>
                  <a:cubicBezTo>
                    <a:pt x="1331532" y="239522"/>
                    <a:pt x="1337945" y="233934"/>
                    <a:pt x="1342263" y="227838"/>
                  </a:cubicBezTo>
                  <a:cubicBezTo>
                    <a:pt x="1336421" y="219456"/>
                    <a:pt x="1330706" y="213868"/>
                    <a:pt x="1325118" y="211074"/>
                  </a:cubicBezTo>
                  <a:cubicBezTo>
                    <a:pt x="1319530" y="208280"/>
                    <a:pt x="1308989" y="206502"/>
                    <a:pt x="1293495" y="205740"/>
                  </a:cubicBezTo>
                  <a:close/>
                  <a:moveTo>
                    <a:pt x="244793" y="192786"/>
                  </a:moveTo>
                  <a:cubicBezTo>
                    <a:pt x="242634" y="192786"/>
                    <a:pt x="237808" y="194755"/>
                    <a:pt x="230315" y="198692"/>
                  </a:cubicBezTo>
                  <a:cubicBezTo>
                    <a:pt x="222822" y="202629"/>
                    <a:pt x="217297" y="205105"/>
                    <a:pt x="213741" y="206121"/>
                  </a:cubicBezTo>
                  <a:cubicBezTo>
                    <a:pt x="210185" y="207137"/>
                    <a:pt x="206756" y="207645"/>
                    <a:pt x="203454" y="207645"/>
                  </a:cubicBezTo>
                  <a:cubicBezTo>
                    <a:pt x="200152" y="207645"/>
                    <a:pt x="195961" y="207264"/>
                    <a:pt x="190881" y="206502"/>
                  </a:cubicBezTo>
                  <a:cubicBezTo>
                    <a:pt x="190881" y="221234"/>
                    <a:pt x="193040" y="232537"/>
                    <a:pt x="197358" y="240411"/>
                  </a:cubicBezTo>
                  <a:cubicBezTo>
                    <a:pt x="207010" y="238887"/>
                    <a:pt x="214821" y="237109"/>
                    <a:pt x="220790" y="235077"/>
                  </a:cubicBezTo>
                  <a:cubicBezTo>
                    <a:pt x="226759" y="233045"/>
                    <a:pt x="230950" y="230696"/>
                    <a:pt x="233363" y="228029"/>
                  </a:cubicBezTo>
                  <a:cubicBezTo>
                    <a:pt x="235776" y="225362"/>
                    <a:pt x="238824" y="219647"/>
                    <a:pt x="242507" y="210884"/>
                  </a:cubicBezTo>
                  <a:cubicBezTo>
                    <a:pt x="246190" y="202121"/>
                    <a:pt x="248031" y="196914"/>
                    <a:pt x="248031" y="195263"/>
                  </a:cubicBezTo>
                  <a:cubicBezTo>
                    <a:pt x="248031" y="193612"/>
                    <a:pt x="246952" y="192786"/>
                    <a:pt x="244793" y="192786"/>
                  </a:cubicBezTo>
                  <a:close/>
                  <a:moveTo>
                    <a:pt x="937260" y="169926"/>
                  </a:moveTo>
                  <a:cubicBezTo>
                    <a:pt x="935736" y="169926"/>
                    <a:pt x="929323" y="174816"/>
                    <a:pt x="918020" y="184595"/>
                  </a:cubicBezTo>
                  <a:cubicBezTo>
                    <a:pt x="906717" y="194374"/>
                    <a:pt x="898271" y="202692"/>
                    <a:pt x="892683" y="209550"/>
                  </a:cubicBezTo>
                  <a:cubicBezTo>
                    <a:pt x="905383" y="211074"/>
                    <a:pt x="916813" y="213995"/>
                    <a:pt x="926973" y="218313"/>
                  </a:cubicBezTo>
                  <a:cubicBezTo>
                    <a:pt x="930529" y="210693"/>
                    <a:pt x="933514" y="202121"/>
                    <a:pt x="935927" y="192596"/>
                  </a:cubicBezTo>
                  <a:cubicBezTo>
                    <a:pt x="938339" y="183071"/>
                    <a:pt x="939546" y="176911"/>
                    <a:pt x="939546" y="174117"/>
                  </a:cubicBezTo>
                  <a:cubicBezTo>
                    <a:pt x="939546" y="171323"/>
                    <a:pt x="938784" y="169926"/>
                    <a:pt x="937260" y="169926"/>
                  </a:cubicBezTo>
                  <a:close/>
                  <a:moveTo>
                    <a:pt x="1269492" y="162687"/>
                  </a:moveTo>
                  <a:cubicBezTo>
                    <a:pt x="1268730" y="162687"/>
                    <a:pt x="1267587" y="163322"/>
                    <a:pt x="1266063" y="164592"/>
                  </a:cubicBezTo>
                  <a:cubicBezTo>
                    <a:pt x="1264539" y="165862"/>
                    <a:pt x="1262190" y="167196"/>
                    <a:pt x="1259015" y="168593"/>
                  </a:cubicBezTo>
                  <a:cubicBezTo>
                    <a:pt x="1255840" y="169990"/>
                    <a:pt x="1250633" y="173736"/>
                    <a:pt x="1243394" y="179832"/>
                  </a:cubicBezTo>
                  <a:cubicBezTo>
                    <a:pt x="1236155" y="185928"/>
                    <a:pt x="1232535" y="189865"/>
                    <a:pt x="1232535" y="191643"/>
                  </a:cubicBezTo>
                  <a:cubicBezTo>
                    <a:pt x="1232535" y="193421"/>
                    <a:pt x="1233551" y="194056"/>
                    <a:pt x="1235583" y="193548"/>
                  </a:cubicBezTo>
                  <a:cubicBezTo>
                    <a:pt x="1240663" y="192024"/>
                    <a:pt x="1244918" y="191262"/>
                    <a:pt x="1248347" y="191262"/>
                  </a:cubicBezTo>
                  <a:cubicBezTo>
                    <a:pt x="1251776" y="191262"/>
                    <a:pt x="1255395" y="194310"/>
                    <a:pt x="1259205" y="200406"/>
                  </a:cubicBezTo>
                  <a:cubicBezTo>
                    <a:pt x="1261237" y="197104"/>
                    <a:pt x="1266190" y="193548"/>
                    <a:pt x="1274064" y="189738"/>
                  </a:cubicBezTo>
                  <a:cubicBezTo>
                    <a:pt x="1274572" y="171704"/>
                    <a:pt x="1273048" y="162687"/>
                    <a:pt x="1269492" y="162687"/>
                  </a:cubicBezTo>
                  <a:close/>
                  <a:moveTo>
                    <a:pt x="1250252" y="152400"/>
                  </a:moveTo>
                  <a:cubicBezTo>
                    <a:pt x="1249363" y="152400"/>
                    <a:pt x="1248283" y="152527"/>
                    <a:pt x="1247013" y="152781"/>
                  </a:cubicBezTo>
                  <a:lnTo>
                    <a:pt x="1239393" y="162687"/>
                  </a:lnTo>
                  <a:cubicBezTo>
                    <a:pt x="1239393" y="164719"/>
                    <a:pt x="1239774" y="165735"/>
                    <a:pt x="1240536" y="165735"/>
                  </a:cubicBezTo>
                  <a:cubicBezTo>
                    <a:pt x="1241298" y="165735"/>
                    <a:pt x="1241933" y="165481"/>
                    <a:pt x="1242441" y="164973"/>
                  </a:cubicBezTo>
                  <a:cubicBezTo>
                    <a:pt x="1244727" y="160909"/>
                    <a:pt x="1246823" y="158052"/>
                    <a:pt x="1248728" y="156401"/>
                  </a:cubicBezTo>
                  <a:cubicBezTo>
                    <a:pt x="1250633" y="154750"/>
                    <a:pt x="1251585" y="153670"/>
                    <a:pt x="1251585" y="153162"/>
                  </a:cubicBezTo>
                  <a:cubicBezTo>
                    <a:pt x="1251585" y="152654"/>
                    <a:pt x="1251141" y="152400"/>
                    <a:pt x="1250252" y="152400"/>
                  </a:cubicBezTo>
                  <a:close/>
                  <a:moveTo>
                    <a:pt x="557784" y="142494"/>
                  </a:moveTo>
                  <a:cubicBezTo>
                    <a:pt x="551180" y="144526"/>
                    <a:pt x="542925" y="149098"/>
                    <a:pt x="533019" y="156210"/>
                  </a:cubicBezTo>
                  <a:cubicBezTo>
                    <a:pt x="529717" y="161036"/>
                    <a:pt x="528066" y="164910"/>
                    <a:pt x="528066" y="167831"/>
                  </a:cubicBezTo>
                  <a:cubicBezTo>
                    <a:pt x="528066" y="170752"/>
                    <a:pt x="528828" y="172847"/>
                    <a:pt x="530352" y="174117"/>
                  </a:cubicBezTo>
                  <a:cubicBezTo>
                    <a:pt x="542544" y="167767"/>
                    <a:pt x="551688" y="157226"/>
                    <a:pt x="557784" y="142494"/>
                  </a:cubicBezTo>
                  <a:close/>
                  <a:moveTo>
                    <a:pt x="170307" y="99060"/>
                  </a:moveTo>
                  <a:cubicBezTo>
                    <a:pt x="165735" y="99060"/>
                    <a:pt x="161798" y="102870"/>
                    <a:pt x="158496" y="110490"/>
                  </a:cubicBezTo>
                  <a:cubicBezTo>
                    <a:pt x="156464" y="115316"/>
                    <a:pt x="152908" y="120904"/>
                    <a:pt x="147828" y="127254"/>
                  </a:cubicBezTo>
                  <a:cubicBezTo>
                    <a:pt x="142748" y="133604"/>
                    <a:pt x="130556" y="147193"/>
                    <a:pt x="111252" y="168021"/>
                  </a:cubicBezTo>
                  <a:cubicBezTo>
                    <a:pt x="109728" y="183261"/>
                    <a:pt x="108966" y="196660"/>
                    <a:pt x="108966" y="208217"/>
                  </a:cubicBezTo>
                  <a:cubicBezTo>
                    <a:pt x="108966" y="219774"/>
                    <a:pt x="109220" y="234569"/>
                    <a:pt x="109728" y="252603"/>
                  </a:cubicBezTo>
                  <a:cubicBezTo>
                    <a:pt x="123190" y="237363"/>
                    <a:pt x="139192" y="213614"/>
                    <a:pt x="157734" y="181356"/>
                  </a:cubicBezTo>
                  <a:cubicBezTo>
                    <a:pt x="156210" y="173990"/>
                    <a:pt x="153670" y="168529"/>
                    <a:pt x="150114" y="164973"/>
                  </a:cubicBezTo>
                  <a:cubicBezTo>
                    <a:pt x="149098" y="163957"/>
                    <a:pt x="148590" y="162624"/>
                    <a:pt x="148590" y="160973"/>
                  </a:cubicBezTo>
                  <a:cubicBezTo>
                    <a:pt x="148590" y="159322"/>
                    <a:pt x="149352" y="157671"/>
                    <a:pt x="150876" y="156020"/>
                  </a:cubicBezTo>
                  <a:cubicBezTo>
                    <a:pt x="152400" y="154369"/>
                    <a:pt x="154369" y="153543"/>
                    <a:pt x="156782" y="153543"/>
                  </a:cubicBezTo>
                  <a:cubicBezTo>
                    <a:pt x="159195" y="153543"/>
                    <a:pt x="163449" y="155575"/>
                    <a:pt x="169545" y="159639"/>
                  </a:cubicBezTo>
                  <a:cubicBezTo>
                    <a:pt x="183007" y="135255"/>
                    <a:pt x="193929" y="118745"/>
                    <a:pt x="202311" y="110109"/>
                  </a:cubicBezTo>
                  <a:cubicBezTo>
                    <a:pt x="195453" y="108077"/>
                    <a:pt x="188659" y="105728"/>
                    <a:pt x="181928" y="103061"/>
                  </a:cubicBezTo>
                  <a:cubicBezTo>
                    <a:pt x="175197" y="100394"/>
                    <a:pt x="171323" y="99060"/>
                    <a:pt x="170307" y="99060"/>
                  </a:cubicBezTo>
                  <a:close/>
                  <a:moveTo>
                    <a:pt x="551688" y="92583"/>
                  </a:moveTo>
                  <a:cubicBezTo>
                    <a:pt x="537464" y="95885"/>
                    <a:pt x="524637" y="100965"/>
                    <a:pt x="513207" y="107823"/>
                  </a:cubicBezTo>
                  <a:cubicBezTo>
                    <a:pt x="506857" y="111633"/>
                    <a:pt x="498221" y="113538"/>
                    <a:pt x="487299" y="113538"/>
                  </a:cubicBezTo>
                  <a:cubicBezTo>
                    <a:pt x="484251" y="113538"/>
                    <a:pt x="481330" y="113411"/>
                    <a:pt x="478536" y="113157"/>
                  </a:cubicBezTo>
                  <a:cubicBezTo>
                    <a:pt x="470154" y="138557"/>
                    <a:pt x="461645" y="168021"/>
                    <a:pt x="453009" y="201549"/>
                  </a:cubicBezTo>
                  <a:cubicBezTo>
                    <a:pt x="458851" y="201549"/>
                    <a:pt x="469519" y="197104"/>
                    <a:pt x="485013" y="188214"/>
                  </a:cubicBezTo>
                  <a:cubicBezTo>
                    <a:pt x="492887" y="182118"/>
                    <a:pt x="498158" y="179070"/>
                    <a:pt x="500825" y="179070"/>
                  </a:cubicBezTo>
                  <a:cubicBezTo>
                    <a:pt x="503492" y="179070"/>
                    <a:pt x="506349" y="179832"/>
                    <a:pt x="509397" y="181356"/>
                  </a:cubicBezTo>
                  <a:cubicBezTo>
                    <a:pt x="509651" y="175514"/>
                    <a:pt x="508254" y="168656"/>
                    <a:pt x="505206" y="160782"/>
                  </a:cubicBezTo>
                  <a:cubicBezTo>
                    <a:pt x="500634" y="160020"/>
                    <a:pt x="495618" y="157861"/>
                    <a:pt x="490157" y="154305"/>
                  </a:cubicBezTo>
                  <a:cubicBezTo>
                    <a:pt x="484696" y="150749"/>
                    <a:pt x="481965" y="147955"/>
                    <a:pt x="481965" y="145923"/>
                  </a:cubicBezTo>
                  <a:cubicBezTo>
                    <a:pt x="481965" y="142367"/>
                    <a:pt x="490093" y="137922"/>
                    <a:pt x="506349" y="132588"/>
                  </a:cubicBezTo>
                  <a:cubicBezTo>
                    <a:pt x="505333" y="128016"/>
                    <a:pt x="504825" y="124524"/>
                    <a:pt x="504825" y="122111"/>
                  </a:cubicBezTo>
                  <a:cubicBezTo>
                    <a:pt x="504825" y="119698"/>
                    <a:pt x="506413" y="118047"/>
                    <a:pt x="509588" y="117158"/>
                  </a:cubicBezTo>
                  <a:cubicBezTo>
                    <a:pt x="512763" y="116269"/>
                    <a:pt x="515112" y="115824"/>
                    <a:pt x="516636" y="115824"/>
                  </a:cubicBezTo>
                  <a:cubicBezTo>
                    <a:pt x="520446" y="115824"/>
                    <a:pt x="525272" y="118110"/>
                    <a:pt x="531114" y="122682"/>
                  </a:cubicBezTo>
                  <a:cubicBezTo>
                    <a:pt x="543814" y="117348"/>
                    <a:pt x="553974" y="113919"/>
                    <a:pt x="561594" y="112395"/>
                  </a:cubicBezTo>
                  <a:cubicBezTo>
                    <a:pt x="560832" y="105791"/>
                    <a:pt x="557530" y="99187"/>
                    <a:pt x="551688" y="92583"/>
                  </a:cubicBezTo>
                  <a:close/>
                  <a:moveTo>
                    <a:pt x="1264158" y="86106"/>
                  </a:moveTo>
                  <a:cubicBezTo>
                    <a:pt x="1256284" y="86106"/>
                    <a:pt x="1251331" y="86487"/>
                    <a:pt x="1249299" y="87249"/>
                  </a:cubicBezTo>
                  <a:cubicBezTo>
                    <a:pt x="1245489" y="97409"/>
                    <a:pt x="1242695" y="107315"/>
                    <a:pt x="1240917" y="116967"/>
                  </a:cubicBezTo>
                  <a:cubicBezTo>
                    <a:pt x="1244473" y="115189"/>
                    <a:pt x="1248156" y="113538"/>
                    <a:pt x="1251966" y="112014"/>
                  </a:cubicBezTo>
                  <a:cubicBezTo>
                    <a:pt x="1257808" y="103632"/>
                    <a:pt x="1261872" y="94996"/>
                    <a:pt x="1264158" y="86106"/>
                  </a:cubicBezTo>
                  <a:close/>
                  <a:moveTo>
                    <a:pt x="993267" y="44196"/>
                  </a:moveTo>
                  <a:cubicBezTo>
                    <a:pt x="1001395" y="44196"/>
                    <a:pt x="1008126" y="46673"/>
                    <a:pt x="1013460" y="51626"/>
                  </a:cubicBezTo>
                  <a:cubicBezTo>
                    <a:pt x="1018794" y="56579"/>
                    <a:pt x="1021461" y="62992"/>
                    <a:pt x="1021461" y="70866"/>
                  </a:cubicBezTo>
                  <a:cubicBezTo>
                    <a:pt x="1021461" y="74930"/>
                    <a:pt x="1020763" y="78867"/>
                    <a:pt x="1019366" y="82677"/>
                  </a:cubicBezTo>
                  <a:cubicBezTo>
                    <a:pt x="1017969" y="86487"/>
                    <a:pt x="1014476" y="89091"/>
                    <a:pt x="1008888" y="90488"/>
                  </a:cubicBezTo>
                  <a:cubicBezTo>
                    <a:pt x="1003300" y="91885"/>
                    <a:pt x="999490" y="92583"/>
                    <a:pt x="997458" y="92583"/>
                  </a:cubicBezTo>
                  <a:cubicBezTo>
                    <a:pt x="993648" y="92583"/>
                    <a:pt x="990410" y="90297"/>
                    <a:pt x="987743" y="85725"/>
                  </a:cubicBezTo>
                  <a:cubicBezTo>
                    <a:pt x="985076" y="81153"/>
                    <a:pt x="983742" y="77407"/>
                    <a:pt x="983742" y="74486"/>
                  </a:cubicBezTo>
                  <a:cubicBezTo>
                    <a:pt x="983742" y="71565"/>
                    <a:pt x="984250" y="69596"/>
                    <a:pt x="985266" y="68580"/>
                  </a:cubicBezTo>
                  <a:cubicBezTo>
                    <a:pt x="986282" y="67564"/>
                    <a:pt x="986790" y="66548"/>
                    <a:pt x="986790" y="65532"/>
                  </a:cubicBezTo>
                  <a:cubicBezTo>
                    <a:pt x="986790" y="61468"/>
                    <a:pt x="982726" y="56134"/>
                    <a:pt x="974598" y="49530"/>
                  </a:cubicBezTo>
                  <a:cubicBezTo>
                    <a:pt x="973836" y="49022"/>
                    <a:pt x="973455" y="48514"/>
                    <a:pt x="973455" y="48006"/>
                  </a:cubicBezTo>
                  <a:cubicBezTo>
                    <a:pt x="973455" y="46736"/>
                    <a:pt x="976122" y="45784"/>
                    <a:pt x="981456" y="45149"/>
                  </a:cubicBezTo>
                  <a:cubicBezTo>
                    <a:pt x="986790" y="44514"/>
                    <a:pt x="990727" y="44196"/>
                    <a:pt x="993267" y="44196"/>
                  </a:cubicBezTo>
                  <a:close/>
                  <a:moveTo>
                    <a:pt x="569214" y="40386"/>
                  </a:moveTo>
                  <a:cubicBezTo>
                    <a:pt x="564642" y="40386"/>
                    <a:pt x="557149" y="44577"/>
                    <a:pt x="546735" y="52959"/>
                  </a:cubicBezTo>
                  <a:cubicBezTo>
                    <a:pt x="540893" y="57785"/>
                    <a:pt x="535051" y="60198"/>
                    <a:pt x="529209" y="60198"/>
                  </a:cubicBezTo>
                  <a:cubicBezTo>
                    <a:pt x="523367" y="60198"/>
                    <a:pt x="514477" y="56007"/>
                    <a:pt x="502539" y="47625"/>
                  </a:cubicBezTo>
                  <a:cubicBezTo>
                    <a:pt x="497713" y="54737"/>
                    <a:pt x="492125" y="68707"/>
                    <a:pt x="485775" y="89535"/>
                  </a:cubicBezTo>
                  <a:cubicBezTo>
                    <a:pt x="514477" y="77089"/>
                    <a:pt x="533654" y="70993"/>
                    <a:pt x="543306" y="71247"/>
                  </a:cubicBezTo>
                  <a:cubicBezTo>
                    <a:pt x="561848" y="54483"/>
                    <a:pt x="571119" y="44577"/>
                    <a:pt x="571119" y="41529"/>
                  </a:cubicBezTo>
                  <a:cubicBezTo>
                    <a:pt x="571119" y="40767"/>
                    <a:pt x="570484" y="40386"/>
                    <a:pt x="569214" y="40386"/>
                  </a:cubicBezTo>
                  <a:close/>
                  <a:moveTo>
                    <a:pt x="1275207" y="10287"/>
                  </a:moveTo>
                  <a:cubicBezTo>
                    <a:pt x="1283843" y="10287"/>
                    <a:pt x="1291971" y="12637"/>
                    <a:pt x="1299591" y="17336"/>
                  </a:cubicBezTo>
                  <a:cubicBezTo>
                    <a:pt x="1307211" y="22035"/>
                    <a:pt x="1311021" y="29718"/>
                    <a:pt x="1311021" y="40386"/>
                  </a:cubicBezTo>
                  <a:cubicBezTo>
                    <a:pt x="1311021" y="43688"/>
                    <a:pt x="1310640" y="47117"/>
                    <a:pt x="1309878" y="50673"/>
                  </a:cubicBezTo>
                  <a:cubicBezTo>
                    <a:pt x="1316736" y="56261"/>
                    <a:pt x="1320165" y="61087"/>
                    <a:pt x="1320165" y="65151"/>
                  </a:cubicBezTo>
                  <a:cubicBezTo>
                    <a:pt x="1320165" y="70231"/>
                    <a:pt x="1316863" y="72771"/>
                    <a:pt x="1310259" y="72771"/>
                  </a:cubicBezTo>
                  <a:cubicBezTo>
                    <a:pt x="1306449" y="72771"/>
                    <a:pt x="1302385" y="74549"/>
                    <a:pt x="1298067" y="78105"/>
                  </a:cubicBezTo>
                  <a:cubicBezTo>
                    <a:pt x="1297559" y="79883"/>
                    <a:pt x="1294257" y="86614"/>
                    <a:pt x="1288161" y="98298"/>
                  </a:cubicBezTo>
                  <a:cubicBezTo>
                    <a:pt x="1300099" y="97282"/>
                    <a:pt x="1308735" y="98679"/>
                    <a:pt x="1314069" y="102489"/>
                  </a:cubicBezTo>
                  <a:cubicBezTo>
                    <a:pt x="1319403" y="106299"/>
                    <a:pt x="1322070" y="110173"/>
                    <a:pt x="1322070" y="114110"/>
                  </a:cubicBezTo>
                  <a:cubicBezTo>
                    <a:pt x="1322070" y="118047"/>
                    <a:pt x="1319530" y="120650"/>
                    <a:pt x="1314450" y="121920"/>
                  </a:cubicBezTo>
                  <a:cubicBezTo>
                    <a:pt x="1311148" y="122936"/>
                    <a:pt x="1304227" y="125984"/>
                    <a:pt x="1293686" y="131064"/>
                  </a:cubicBezTo>
                  <a:cubicBezTo>
                    <a:pt x="1283145" y="136144"/>
                    <a:pt x="1277493" y="138938"/>
                    <a:pt x="1276731" y="139446"/>
                  </a:cubicBezTo>
                  <a:cubicBezTo>
                    <a:pt x="1275969" y="139954"/>
                    <a:pt x="1275588" y="140526"/>
                    <a:pt x="1275588" y="141161"/>
                  </a:cubicBezTo>
                  <a:cubicBezTo>
                    <a:pt x="1275588" y="141796"/>
                    <a:pt x="1275842" y="142367"/>
                    <a:pt x="1276350" y="142875"/>
                  </a:cubicBezTo>
                  <a:cubicBezTo>
                    <a:pt x="1282954" y="147193"/>
                    <a:pt x="1289050" y="155321"/>
                    <a:pt x="1294638" y="167259"/>
                  </a:cubicBezTo>
                  <a:cubicBezTo>
                    <a:pt x="1317752" y="128143"/>
                    <a:pt x="1331849" y="100076"/>
                    <a:pt x="1336929" y="83058"/>
                  </a:cubicBezTo>
                  <a:cubicBezTo>
                    <a:pt x="1337945" y="79756"/>
                    <a:pt x="1338898" y="78105"/>
                    <a:pt x="1339787" y="78105"/>
                  </a:cubicBezTo>
                  <a:cubicBezTo>
                    <a:pt x="1340676" y="78105"/>
                    <a:pt x="1341120" y="78994"/>
                    <a:pt x="1341120" y="80772"/>
                  </a:cubicBezTo>
                  <a:cubicBezTo>
                    <a:pt x="1341120" y="86614"/>
                    <a:pt x="1335405" y="101029"/>
                    <a:pt x="1323975" y="124016"/>
                  </a:cubicBezTo>
                  <a:cubicBezTo>
                    <a:pt x="1312545" y="147003"/>
                    <a:pt x="1303020" y="163703"/>
                    <a:pt x="1295400" y="174117"/>
                  </a:cubicBezTo>
                  <a:cubicBezTo>
                    <a:pt x="1293876" y="176911"/>
                    <a:pt x="1293114" y="181102"/>
                    <a:pt x="1293114" y="186690"/>
                  </a:cubicBezTo>
                  <a:cubicBezTo>
                    <a:pt x="1297432" y="186182"/>
                    <a:pt x="1302576" y="185928"/>
                    <a:pt x="1308545" y="185928"/>
                  </a:cubicBezTo>
                  <a:cubicBezTo>
                    <a:pt x="1314514" y="185928"/>
                    <a:pt x="1320864" y="187833"/>
                    <a:pt x="1327595" y="191643"/>
                  </a:cubicBezTo>
                  <a:cubicBezTo>
                    <a:pt x="1334326" y="195453"/>
                    <a:pt x="1342517" y="201676"/>
                    <a:pt x="1352169" y="210312"/>
                  </a:cubicBezTo>
                  <a:cubicBezTo>
                    <a:pt x="1358519" y="193802"/>
                    <a:pt x="1361694" y="183261"/>
                    <a:pt x="1361694" y="178689"/>
                  </a:cubicBezTo>
                  <a:cubicBezTo>
                    <a:pt x="1361694" y="174117"/>
                    <a:pt x="1360424" y="169926"/>
                    <a:pt x="1357884" y="166116"/>
                  </a:cubicBezTo>
                  <a:cubicBezTo>
                    <a:pt x="1357376" y="166370"/>
                    <a:pt x="1352804" y="169291"/>
                    <a:pt x="1344168" y="174879"/>
                  </a:cubicBezTo>
                  <a:cubicBezTo>
                    <a:pt x="1341882" y="176403"/>
                    <a:pt x="1338834" y="177165"/>
                    <a:pt x="1335024" y="177165"/>
                  </a:cubicBezTo>
                  <a:cubicBezTo>
                    <a:pt x="1331214" y="177165"/>
                    <a:pt x="1328166" y="175705"/>
                    <a:pt x="1325880" y="172784"/>
                  </a:cubicBezTo>
                  <a:cubicBezTo>
                    <a:pt x="1323594" y="169863"/>
                    <a:pt x="1322451" y="162687"/>
                    <a:pt x="1322451" y="151257"/>
                  </a:cubicBezTo>
                  <a:cubicBezTo>
                    <a:pt x="1322451" y="147955"/>
                    <a:pt x="1322959" y="145606"/>
                    <a:pt x="1323975" y="144209"/>
                  </a:cubicBezTo>
                  <a:cubicBezTo>
                    <a:pt x="1324991" y="142812"/>
                    <a:pt x="1327277" y="142113"/>
                    <a:pt x="1330833" y="142113"/>
                  </a:cubicBezTo>
                  <a:cubicBezTo>
                    <a:pt x="1338707" y="126111"/>
                    <a:pt x="1345311" y="111824"/>
                    <a:pt x="1350645" y="99251"/>
                  </a:cubicBezTo>
                  <a:cubicBezTo>
                    <a:pt x="1355979" y="86678"/>
                    <a:pt x="1359091" y="78677"/>
                    <a:pt x="1359980" y="75248"/>
                  </a:cubicBezTo>
                  <a:cubicBezTo>
                    <a:pt x="1360869" y="71819"/>
                    <a:pt x="1361313" y="68707"/>
                    <a:pt x="1361313" y="65913"/>
                  </a:cubicBezTo>
                  <a:cubicBezTo>
                    <a:pt x="1361313" y="59817"/>
                    <a:pt x="1359789" y="56007"/>
                    <a:pt x="1356741" y="54483"/>
                  </a:cubicBezTo>
                  <a:cubicBezTo>
                    <a:pt x="1353693" y="52959"/>
                    <a:pt x="1351280" y="52197"/>
                    <a:pt x="1349502" y="52197"/>
                  </a:cubicBezTo>
                  <a:cubicBezTo>
                    <a:pt x="1347724" y="52197"/>
                    <a:pt x="1346581" y="54356"/>
                    <a:pt x="1346073" y="58674"/>
                  </a:cubicBezTo>
                  <a:cubicBezTo>
                    <a:pt x="1345565" y="64516"/>
                    <a:pt x="1344613" y="67437"/>
                    <a:pt x="1343216" y="67437"/>
                  </a:cubicBezTo>
                  <a:cubicBezTo>
                    <a:pt x="1341819" y="67437"/>
                    <a:pt x="1341120" y="64199"/>
                    <a:pt x="1341120" y="57722"/>
                  </a:cubicBezTo>
                  <a:cubicBezTo>
                    <a:pt x="1341120" y="51245"/>
                    <a:pt x="1342835" y="47816"/>
                    <a:pt x="1346264" y="47435"/>
                  </a:cubicBezTo>
                  <a:cubicBezTo>
                    <a:pt x="1349693" y="47054"/>
                    <a:pt x="1352106" y="46546"/>
                    <a:pt x="1353503" y="45911"/>
                  </a:cubicBezTo>
                  <a:cubicBezTo>
                    <a:pt x="1354900" y="45276"/>
                    <a:pt x="1356106" y="44958"/>
                    <a:pt x="1357122" y="44958"/>
                  </a:cubicBezTo>
                  <a:cubicBezTo>
                    <a:pt x="1361694" y="44958"/>
                    <a:pt x="1366520" y="47943"/>
                    <a:pt x="1371600" y="53912"/>
                  </a:cubicBezTo>
                  <a:cubicBezTo>
                    <a:pt x="1376680" y="59881"/>
                    <a:pt x="1379220" y="65659"/>
                    <a:pt x="1379220" y="71247"/>
                  </a:cubicBezTo>
                  <a:cubicBezTo>
                    <a:pt x="1379220" y="76835"/>
                    <a:pt x="1377061" y="85217"/>
                    <a:pt x="1372743" y="96393"/>
                  </a:cubicBezTo>
                  <a:lnTo>
                    <a:pt x="1360932" y="126111"/>
                  </a:lnTo>
                  <a:cubicBezTo>
                    <a:pt x="1360932" y="126873"/>
                    <a:pt x="1361313" y="127635"/>
                    <a:pt x="1362075" y="128397"/>
                  </a:cubicBezTo>
                  <a:cubicBezTo>
                    <a:pt x="1362837" y="129159"/>
                    <a:pt x="1363536" y="129540"/>
                    <a:pt x="1364171" y="129540"/>
                  </a:cubicBezTo>
                  <a:cubicBezTo>
                    <a:pt x="1364806" y="129540"/>
                    <a:pt x="1365250" y="129413"/>
                    <a:pt x="1365504" y="129159"/>
                  </a:cubicBezTo>
                  <a:cubicBezTo>
                    <a:pt x="1381506" y="115189"/>
                    <a:pt x="1394460" y="108204"/>
                    <a:pt x="1404366" y="108204"/>
                  </a:cubicBezTo>
                  <a:cubicBezTo>
                    <a:pt x="1410208" y="108204"/>
                    <a:pt x="1415415" y="110554"/>
                    <a:pt x="1419987" y="115253"/>
                  </a:cubicBezTo>
                  <a:cubicBezTo>
                    <a:pt x="1424559" y="119952"/>
                    <a:pt x="1426845" y="124460"/>
                    <a:pt x="1426845" y="128778"/>
                  </a:cubicBezTo>
                  <a:cubicBezTo>
                    <a:pt x="1426845" y="133096"/>
                    <a:pt x="1424559" y="135636"/>
                    <a:pt x="1419987" y="136398"/>
                  </a:cubicBezTo>
                  <a:cubicBezTo>
                    <a:pt x="1404747" y="138684"/>
                    <a:pt x="1390015" y="144272"/>
                    <a:pt x="1375791" y="153162"/>
                  </a:cubicBezTo>
                  <a:cubicBezTo>
                    <a:pt x="1382141" y="161544"/>
                    <a:pt x="1385316" y="169545"/>
                    <a:pt x="1385316" y="177165"/>
                  </a:cubicBezTo>
                  <a:cubicBezTo>
                    <a:pt x="1385316" y="190373"/>
                    <a:pt x="1381506" y="206375"/>
                    <a:pt x="1373886" y="225171"/>
                  </a:cubicBezTo>
                  <a:cubicBezTo>
                    <a:pt x="1387602" y="233807"/>
                    <a:pt x="1401763" y="242062"/>
                    <a:pt x="1416368" y="249936"/>
                  </a:cubicBezTo>
                  <a:cubicBezTo>
                    <a:pt x="1430973" y="257810"/>
                    <a:pt x="1441450" y="262890"/>
                    <a:pt x="1447800" y="265176"/>
                  </a:cubicBezTo>
                  <a:cubicBezTo>
                    <a:pt x="1454150" y="267462"/>
                    <a:pt x="1459675" y="270637"/>
                    <a:pt x="1464374" y="274701"/>
                  </a:cubicBezTo>
                  <a:cubicBezTo>
                    <a:pt x="1469073" y="278765"/>
                    <a:pt x="1471422" y="282512"/>
                    <a:pt x="1471422" y="285941"/>
                  </a:cubicBezTo>
                  <a:cubicBezTo>
                    <a:pt x="1471422" y="289370"/>
                    <a:pt x="1465707" y="291719"/>
                    <a:pt x="1454277" y="292989"/>
                  </a:cubicBezTo>
                  <a:cubicBezTo>
                    <a:pt x="1442847" y="294259"/>
                    <a:pt x="1434021" y="294894"/>
                    <a:pt x="1427798" y="294894"/>
                  </a:cubicBezTo>
                  <a:cubicBezTo>
                    <a:pt x="1421575" y="294894"/>
                    <a:pt x="1416685" y="294196"/>
                    <a:pt x="1413129" y="292799"/>
                  </a:cubicBezTo>
                  <a:cubicBezTo>
                    <a:pt x="1409573" y="291402"/>
                    <a:pt x="1402461" y="286576"/>
                    <a:pt x="1391793" y="278321"/>
                  </a:cubicBezTo>
                  <a:cubicBezTo>
                    <a:pt x="1381125" y="270066"/>
                    <a:pt x="1370584" y="259715"/>
                    <a:pt x="1360170" y="247269"/>
                  </a:cubicBezTo>
                  <a:cubicBezTo>
                    <a:pt x="1345438" y="262509"/>
                    <a:pt x="1324991" y="269240"/>
                    <a:pt x="1298829" y="267462"/>
                  </a:cubicBezTo>
                  <a:cubicBezTo>
                    <a:pt x="1298321" y="276860"/>
                    <a:pt x="1294892" y="288671"/>
                    <a:pt x="1288542" y="302895"/>
                  </a:cubicBezTo>
                  <a:cubicBezTo>
                    <a:pt x="1282192" y="317119"/>
                    <a:pt x="1277747" y="324231"/>
                    <a:pt x="1275207" y="324231"/>
                  </a:cubicBezTo>
                  <a:cubicBezTo>
                    <a:pt x="1273937" y="324231"/>
                    <a:pt x="1272794" y="322834"/>
                    <a:pt x="1271778" y="320040"/>
                  </a:cubicBezTo>
                  <a:cubicBezTo>
                    <a:pt x="1263904" y="300228"/>
                    <a:pt x="1255014" y="280670"/>
                    <a:pt x="1245108" y="261366"/>
                  </a:cubicBezTo>
                  <a:cubicBezTo>
                    <a:pt x="1242060" y="263398"/>
                    <a:pt x="1239647" y="264414"/>
                    <a:pt x="1237869" y="264414"/>
                  </a:cubicBezTo>
                  <a:cubicBezTo>
                    <a:pt x="1236091" y="264414"/>
                    <a:pt x="1235202" y="262509"/>
                    <a:pt x="1235202" y="258699"/>
                  </a:cubicBezTo>
                  <a:cubicBezTo>
                    <a:pt x="1235202" y="254889"/>
                    <a:pt x="1234631" y="251524"/>
                    <a:pt x="1233488" y="248603"/>
                  </a:cubicBezTo>
                  <a:cubicBezTo>
                    <a:pt x="1232345" y="245682"/>
                    <a:pt x="1231773" y="242888"/>
                    <a:pt x="1231773" y="240221"/>
                  </a:cubicBezTo>
                  <a:cubicBezTo>
                    <a:pt x="1231773" y="237554"/>
                    <a:pt x="1232154" y="234823"/>
                    <a:pt x="1232916" y="232029"/>
                  </a:cubicBezTo>
                  <a:cubicBezTo>
                    <a:pt x="1230884" y="224917"/>
                    <a:pt x="1229995" y="217424"/>
                    <a:pt x="1230249" y="209550"/>
                  </a:cubicBezTo>
                  <a:cubicBezTo>
                    <a:pt x="1228471" y="208788"/>
                    <a:pt x="1227074" y="208407"/>
                    <a:pt x="1226058" y="208407"/>
                  </a:cubicBezTo>
                  <a:cubicBezTo>
                    <a:pt x="1225042" y="208407"/>
                    <a:pt x="1224153" y="208534"/>
                    <a:pt x="1223391" y="208788"/>
                  </a:cubicBezTo>
                  <a:cubicBezTo>
                    <a:pt x="1221867" y="222250"/>
                    <a:pt x="1220724" y="238062"/>
                    <a:pt x="1219962" y="256223"/>
                  </a:cubicBezTo>
                  <a:cubicBezTo>
                    <a:pt x="1219200" y="274384"/>
                    <a:pt x="1217994" y="287592"/>
                    <a:pt x="1216343" y="295847"/>
                  </a:cubicBezTo>
                  <a:cubicBezTo>
                    <a:pt x="1214692" y="304102"/>
                    <a:pt x="1212787" y="308229"/>
                    <a:pt x="1210628" y="308229"/>
                  </a:cubicBezTo>
                  <a:cubicBezTo>
                    <a:pt x="1208469" y="308229"/>
                    <a:pt x="1206056" y="303594"/>
                    <a:pt x="1203389" y="294323"/>
                  </a:cubicBezTo>
                  <a:cubicBezTo>
                    <a:pt x="1200722" y="285052"/>
                    <a:pt x="1199388" y="277813"/>
                    <a:pt x="1199388" y="272606"/>
                  </a:cubicBezTo>
                  <a:cubicBezTo>
                    <a:pt x="1199388" y="267399"/>
                    <a:pt x="1201166" y="252349"/>
                    <a:pt x="1204722" y="227457"/>
                  </a:cubicBezTo>
                  <a:cubicBezTo>
                    <a:pt x="1208278" y="202565"/>
                    <a:pt x="1211834" y="185801"/>
                    <a:pt x="1215390" y="177165"/>
                  </a:cubicBezTo>
                  <a:cubicBezTo>
                    <a:pt x="1218946" y="168529"/>
                    <a:pt x="1225804" y="159004"/>
                    <a:pt x="1235964" y="148590"/>
                  </a:cubicBezTo>
                  <a:cubicBezTo>
                    <a:pt x="1237488" y="147066"/>
                    <a:pt x="1238250" y="145606"/>
                    <a:pt x="1238250" y="144209"/>
                  </a:cubicBezTo>
                  <a:cubicBezTo>
                    <a:pt x="1238250" y="142812"/>
                    <a:pt x="1236726" y="142113"/>
                    <a:pt x="1233678" y="142113"/>
                  </a:cubicBezTo>
                  <a:cubicBezTo>
                    <a:pt x="1230630" y="142113"/>
                    <a:pt x="1225677" y="143320"/>
                    <a:pt x="1218819" y="145733"/>
                  </a:cubicBezTo>
                  <a:cubicBezTo>
                    <a:pt x="1211961" y="148146"/>
                    <a:pt x="1203008" y="153035"/>
                    <a:pt x="1191959" y="160401"/>
                  </a:cubicBezTo>
                  <a:cubicBezTo>
                    <a:pt x="1180910" y="167767"/>
                    <a:pt x="1168400" y="175260"/>
                    <a:pt x="1154430" y="182880"/>
                  </a:cubicBezTo>
                  <a:cubicBezTo>
                    <a:pt x="1140460" y="190500"/>
                    <a:pt x="1131570" y="194310"/>
                    <a:pt x="1127760" y="194310"/>
                  </a:cubicBezTo>
                  <a:cubicBezTo>
                    <a:pt x="1125728" y="194310"/>
                    <a:pt x="1124395" y="192215"/>
                    <a:pt x="1123760" y="188024"/>
                  </a:cubicBezTo>
                  <a:cubicBezTo>
                    <a:pt x="1123125" y="183833"/>
                    <a:pt x="1122045" y="180658"/>
                    <a:pt x="1120521" y="178499"/>
                  </a:cubicBezTo>
                  <a:cubicBezTo>
                    <a:pt x="1118997" y="176340"/>
                    <a:pt x="1118235" y="173292"/>
                    <a:pt x="1118235" y="169355"/>
                  </a:cubicBezTo>
                  <a:cubicBezTo>
                    <a:pt x="1118235" y="165418"/>
                    <a:pt x="1119442" y="162243"/>
                    <a:pt x="1121855" y="159830"/>
                  </a:cubicBezTo>
                  <a:cubicBezTo>
                    <a:pt x="1124268" y="157417"/>
                    <a:pt x="1126109" y="156210"/>
                    <a:pt x="1127379" y="156210"/>
                  </a:cubicBezTo>
                  <a:cubicBezTo>
                    <a:pt x="1128649" y="156210"/>
                    <a:pt x="1129538" y="156528"/>
                    <a:pt x="1130046" y="157163"/>
                  </a:cubicBezTo>
                  <a:cubicBezTo>
                    <a:pt x="1130554" y="157798"/>
                    <a:pt x="1131443" y="158115"/>
                    <a:pt x="1132713" y="158115"/>
                  </a:cubicBezTo>
                  <a:cubicBezTo>
                    <a:pt x="1136015" y="158115"/>
                    <a:pt x="1141222" y="156464"/>
                    <a:pt x="1148334" y="153162"/>
                  </a:cubicBezTo>
                  <a:cubicBezTo>
                    <a:pt x="1178814" y="138684"/>
                    <a:pt x="1203071" y="128524"/>
                    <a:pt x="1221105" y="122682"/>
                  </a:cubicBezTo>
                  <a:cubicBezTo>
                    <a:pt x="1219581" y="115824"/>
                    <a:pt x="1217295" y="112395"/>
                    <a:pt x="1214247" y="112395"/>
                  </a:cubicBezTo>
                  <a:cubicBezTo>
                    <a:pt x="1212469" y="112395"/>
                    <a:pt x="1210247" y="113729"/>
                    <a:pt x="1207580" y="116396"/>
                  </a:cubicBezTo>
                  <a:cubicBezTo>
                    <a:pt x="1204913" y="119063"/>
                    <a:pt x="1202436" y="120396"/>
                    <a:pt x="1200150" y="120396"/>
                  </a:cubicBezTo>
                  <a:cubicBezTo>
                    <a:pt x="1197864" y="120396"/>
                    <a:pt x="1195959" y="119634"/>
                    <a:pt x="1194435" y="118110"/>
                  </a:cubicBezTo>
                  <a:cubicBezTo>
                    <a:pt x="1192911" y="116586"/>
                    <a:pt x="1191514" y="113665"/>
                    <a:pt x="1190244" y="109347"/>
                  </a:cubicBezTo>
                  <a:lnTo>
                    <a:pt x="1185672" y="94869"/>
                  </a:lnTo>
                  <a:cubicBezTo>
                    <a:pt x="1184148" y="89281"/>
                    <a:pt x="1183386" y="85725"/>
                    <a:pt x="1183386" y="84201"/>
                  </a:cubicBezTo>
                  <a:cubicBezTo>
                    <a:pt x="1183386" y="81661"/>
                    <a:pt x="1184021" y="80391"/>
                    <a:pt x="1185291" y="80391"/>
                  </a:cubicBezTo>
                  <a:cubicBezTo>
                    <a:pt x="1186561" y="80391"/>
                    <a:pt x="1187958" y="80772"/>
                    <a:pt x="1189482" y="81534"/>
                  </a:cubicBezTo>
                  <a:cubicBezTo>
                    <a:pt x="1191006" y="82296"/>
                    <a:pt x="1192530" y="82677"/>
                    <a:pt x="1194054" y="82677"/>
                  </a:cubicBezTo>
                  <a:cubicBezTo>
                    <a:pt x="1197356" y="82677"/>
                    <a:pt x="1205357" y="80518"/>
                    <a:pt x="1218057" y="76200"/>
                  </a:cubicBezTo>
                  <a:cubicBezTo>
                    <a:pt x="1217041" y="66040"/>
                    <a:pt x="1213866" y="57531"/>
                    <a:pt x="1208532" y="50673"/>
                  </a:cubicBezTo>
                  <a:cubicBezTo>
                    <a:pt x="1205738" y="46609"/>
                    <a:pt x="1203389" y="42672"/>
                    <a:pt x="1201484" y="38862"/>
                  </a:cubicBezTo>
                  <a:cubicBezTo>
                    <a:pt x="1199579" y="35052"/>
                    <a:pt x="1198626" y="32639"/>
                    <a:pt x="1198626" y="31623"/>
                  </a:cubicBezTo>
                  <a:cubicBezTo>
                    <a:pt x="1198626" y="30607"/>
                    <a:pt x="1199388" y="30734"/>
                    <a:pt x="1200912" y="32004"/>
                  </a:cubicBezTo>
                  <a:cubicBezTo>
                    <a:pt x="1202436" y="33274"/>
                    <a:pt x="1204849" y="33909"/>
                    <a:pt x="1208151" y="33909"/>
                  </a:cubicBezTo>
                  <a:cubicBezTo>
                    <a:pt x="1216787" y="34163"/>
                    <a:pt x="1225169" y="37021"/>
                    <a:pt x="1233297" y="42482"/>
                  </a:cubicBezTo>
                  <a:cubicBezTo>
                    <a:pt x="1241425" y="47943"/>
                    <a:pt x="1247013" y="54229"/>
                    <a:pt x="1250061" y="61341"/>
                  </a:cubicBezTo>
                  <a:cubicBezTo>
                    <a:pt x="1253617" y="59055"/>
                    <a:pt x="1261999" y="56134"/>
                    <a:pt x="1275207" y="52578"/>
                  </a:cubicBezTo>
                  <a:cubicBezTo>
                    <a:pt x="1279271" y="42164"/>
                    <a:pt x="1281303" y="34671"/>
                    <a:pt x="1281303" y="30099"/>
                  </a:cubicBezTo>
                  <a:cubicBezTo>
                    <a:pt x="1281303" y="25527"/>
                    <a:pt x="1279779" y="22733"/>
                    <a:pt x="1276731" y="21717"/>
                  </a:cubicBezTo>
                  <a:cubicBezTo>
                    <a:pt x="1270127" y="19431"/>
                    <a:pt x="1266825" y="16955"/>
                    <a:pt x="1266825" y="14288"/>
                  </a:cubicBezTo>
                  <a:cubicBezTo>
                    <a:pt x="1266825" y="11621"/>
                    <a:pt x="1269619" y="10287"/>
                    <a:pt x="1275207" y="10287"/>
                  </a:cubicBezTo>
                  <a:close/>
                  <a:moveTo>
                    <a:pt x="918972" y="8001"/>
                  </a:moveTo>
                  <a:cubicBezTo>
                    <a:pt x="923544" y="8001"/>
                    <a:pt x="927926" y="9335"/>
                    <a:pt x="932117" y="12002"/>
                  </a:cubicBezTo>
                  <a:cubicBezTo>
                    <a:pt x="936308" y="14669"/>
                    <a:pt x="938403" y="20320"/>
                    <a:pt x="938403" y="28956"/>
                  </a:cubicBezTo>
                  <a:cubicBezTo>
                    <a:pt x="938403" y="37592"/>
                    <a:pt x="936117" y="47625"/>
                    <a:pt x="931545" y="59055"/>
                  </a:cubicBezTo>
                  <a:cubicBezTo>
                    <a:pt x="938149" y="58039"/>
                    <a:pt x="943864" y="57531"/>
                    <a:pt x="948690" y="57531"/>
                  </a:cubicBezTo>
                  <a:cubicBezTo>
                    <a:pt x="964184" y="57531"/>
                    <a:pt x="971931" y="63373"/>
                    <a:pt x="971931" y="75057"/>
                  </a:cubicBezTo>
                  <a:cubicBezTo>
                    <a:pt x="971931" y="77089"/>
                    <a:pt x="970979" y="78550"/>
                    <a:pt x="969074" y="79439"/>
                  </a:cubicBezTo>
                  <a:cubicBezTo>
                    <a:pt x="967169" y="80328"/>
                    <a:pt x="963041" y="81153"/>
                    <a:pt x="956691" y="81915"/>
                  </a:cubicBezTo>
                  <a:cubicBezTo>
                    <a:pt x="944499" y="83439"/>
                    <a:pt x="927100" y="93980"/>
                    <a:pt x="904494" y="113538"/>
                  </a:cubicBezTo>
                  <a:cubicBezTo>
                    <a:pt x="894080" y="135636"/>
                    <a:pt x="884301" y="159766"/>
                    <a:pt x="875157" y="185928"/>
                  </a:cubicBezTo>
                  <a:cubicBezTo>
                    <a:pt x="886587" y="175768"/>
                    <a:pt x="897065" y="166878"/>
                    <a:pt x="906590" y="159258"/>
                  </a:cubicBezTo>
                  <a:cubicBezTo>
                    <a:pt x="916115" y="151638"/>
                    <a:pt x="922147" y="146876"/>
                    <a:pt x="924687" y="144971"/>
                  </a:cubicBezTo>
                  <a:cubicBezTo>
                    <a:pt x="927227" y="143066"/>
                    <a:pt x="929894" y="141732"/>
                    <a:pt x="932688" y="140970"/>
                  </a:cubicBezTo>
                  <a:cubicBezTo>
                    <a:pt x="935482" y="140208"/>
                    <a:pt x="938911" y="139827"/>
                    <a:pt x="942975" y="139827"/>
                  </a:cubicBezTo>
                  <a:cubicBezTo>
                    <a:pt x="947039" y="139827"/>
                    <a:pt x="950913" y="141224"/>
                    <a:pt x="954596" y="144018"/>
                  </a:cubicBezTo>
                  <a:cubicBezTo>
                    <a:pt x="958279" y="146812"/>
                    <a:pt x="961898" y="149860"/>
                    <a:pt x="965454" y="153162"/>
                  </a:cubicBezTo>
                  <a:cubicBezTo>
                    <a:pt x="969010" y="156464"/>
                    <a:pt x="970788" y="160020"/>
                    <a:pt x="970788" y="163830"/>
                  </a:cubicBezTo>
                  <a:cubicBezTo>
                    <a:pt x="970788" y="165862"/>
                    <a:pt x="969391" y="171831"/>
                    <a:pt x="966597" y="181737"/>
                  </a:cubicBezTo>
                  <a:cubicBezTo>
                    <a:pt x="963803" y="191643"/>
                    <a:pt x="959993" y="208026"/>
                    <a:pt x="955167" y="230886"/>
                  </a:cubicBezTo>
                  <a:cubicBezTo>
                    <a:pt x="979805" y="244094"/>
                    <a:pt x="996887" y="253810"/>
                    <a:pt x="1006412" y="260033"/>
                  </a:cubicBezTo>
                  <a:cubicBezTo>
                    <a:pt x="1015937" y="266256"/>
                    <a:pt x="1022096" y="272098"/>
                    <a:pt x="1024890" y="277559"/>
                  </a:cubicBezTo>
                  <a:cubicBezTo>
                    <a:pt x="1027684" y="283020"/>
                    <a:pt x="1029081" y="291529"/>
                    <a:pt x="1029081" y="303086"/>
                  </a:cubicBezTo>
                  <a:cubicBezTo>
                    <a:pt x="1029081" y="314643"/>
                    <a:pt x="1027938" y="320421"/>
                    <a:pt x="1025652" y="320421"/>
                  </a:cubicBezTo>
                  <a:cubicBezTo>
                    <a:pt x="1024890" y="320421"/>
                    <a:pt x="1023239" y="319405"/>
                    <a:pt x="1020699" y="317373"/>
                  </a:cubicBezTo>
                  <a:cubicBezTo>
                    <a:pt x="988441" y="291719"/>
                    <a:pt x="962152" y="272415"/>
                    <a:pt x="941832" y="259461"/>
                  </a:cubicBezTo>
                  <a:cubicBezTo>
                    <a:pt x="928370" y="274701"/>
                    <a:pt x="917258" y="284226"/>
                    <a:pt x="908495" y="288036"/>
                  </a:cubicBezTo>
                  <a:cubicBezTo>
                    <a:pt x="899732" y="291846"/>
                    <a:pt x="892048" y="293751"/>
                    <a:pt x="885444" y="293751"/>
                  </a:cubicBezTo>
                  <a:cubicBezTo>
                    <a:pt x="878840" y="293751"/>
                    <a:pt x="872427" y="292291"/>
                    <a:pt x="866204" y="289370"/>
                  </a:cubicBezTo>
                  <a:cubicBezTo>
                    <a:pt x="859981" y="286449"/>
                    <a:pt x="851662" y="281686"/>
                    <a:pt x="841248" y="275082"/>
                  </a:cubicBezTo>
                  <a:cubicBezTo>
                    <a:pt x="834136" y="289306"/>
                    <a:pt x="827723" y="300292"/>
                    <a:pt x="822008" y="308039"/>
                  </a:cubicBezTo>
                  <a:cubicBezTo>
                    <a:pt x="816293" y="315786"/>
                    <a:pt x="812927" y="319659"/>
                    <a:pt x="811911" y="319659"/>
                  </a:cubicBezTo>
                  <a:cubicBezTo>
                    <a:pt x="810387" y="319659"/>
                    <a:pt x="809244" y="316992"/>
                    <a:pt x="808482" y="311658"/>
                  </a:cubicBezTo>
                  <a:cubicBezTo>
                    <a:pt x="807720" y="306324"/>
                    <a:pt x="807339" y="301435"/>
                    <a:pt x="807339" y="296990"/>
                  </a:cubicBezTo>
                  <a:cubicBezTo>
                    <a:pt x="807339" y="292545"/>
                    <a:pt x="809117" y="286639"/>
                    <a:pt x="812673" y="279273"/>
                  </a:cubicBezTo>
                  <a:cubicBezTo>
                    <a:pt x="816229" y="271907"/>
                    <a:pt x="824611" y="256921"/>
                    <a:pt x="837819" y="234315"/>
                  </a:cubicBezTo>
                  <a:cubicBezTo>
                    <a:pt x="835025" y="233299"/>
                    <a:pt x="831723" y="232791"/>
                    <a:pt x="827913" y="232791"/>
                  </a:cubicBezTo>
                  <a:cubicBezTo>
                    <a:pt x="834771" y="226187"/>
                    <a:pt x="839978" y="221996"/>
                    <a:pt x="843534" y="220218"/>
                  </a:cubicBezTo>
                  <a:cubicBezTo>
                    <a:pt x="854710" y="186944"/>
                    <a:pt x="863981" y="160655"/>
                    <a:pt x="871347" y="141351"/>
                  </a:cubicBezTo>
                  <a:cubicBezTo>
                    <a:pt x="839851" y="174625"/>
                    <a:pt x="817245" y="191262"/>
                    <a:pt x="803529" y="191262"/>
                  </a:cubicBezTo>
                  <a:cubicBezTo>
                    <a:pt x="801497" y="191262"/>
                    <a:pt x="799529" y="190691"/>
                    <a:pt x="797624" y="189548"/>
                  </a:cubicBezTo>
                  <a:cubicBezTo>
                    <a:pt x="795719" y="188405"/>
                    <a:pt x="794131" y="184912"/>
                    <a:pt x="792861" y="179070"/>
                  </a:cubicBezTo>
                  <a:cubicBezTo>
                    <a:pt x="791591" y="173228"/>
                    <a:pt x="790956" y="168148"/>
                    <a:pt x="790956" y="163830"/>
                  </a:cubicBezTo>
                  <a:cubicBezTo>
                    <a:pt x="790956" y="159512"/>
                    <a:pt x="791972" y="155702"/>
                    <a:pt x="794004" y="152400"/>
                  </a:cubicBezTo>
                  <a:cubicBezTo>
                    <a:pt x="805688" y="132588"/>
                    <a:pt x="813562" y="118618"/>
                    <a:pt x="817626" y="110490"/>
                  </a:cubicBezTo>
                  <a:cubicBezTo>
                    <a:pt x="821690" y="102362"/>
                    <a:pt x="823722" y="96901"/>
                    <a:pt x="823722" y="94107"/>
                  </a:cubicBezTo>
                  <a:cubicBezTo>
                    <a:pt x="823722" y="91313"/>
                    <a:pt x="823024" y="89218"/>
                    <a:pt x="821627" y="87821"/>
                  </a:cubicBezTo>
                  <a:cubicBezTo>
                    <a:pt x="820230" y="86424"/>
                    <a:pt x="819531" y="85217"/>
                    <a:pt x="819531" y="84201"/>
                  </a:cubicBezTo>
                  <a:cubicBezTo>
                    <a:pt x="819531" y="83185"/>
                    <a:pt x="820293" y="82677"/>
                    <a:pt x="821817" y="82677"/>
                  </a:cubicBezTo>
                  <a:cubicBezTo>
                    <a:pt x="825627" y="82677"/>
                    <a:pt x="831787" y="85662"/>
                    <a:pt x="840296" y="91631"/>
                  </a:cubicBezTo>
                  <a:cubicBezTo>
                    <a:pt x="848805" y="97600"/>
                    <a:pt x="854583" y="105283"/>
                    <a:pt x="857631" y="114681"/>
                  </a:cubicBezTo>
                  <a:cubicBezTo>
                    <a:pt x="872617" y="103759"/>
                    <a:pt x="883412" y="96393"/>
                    <a:pt x="890016" y="92583"/>
                  </a:cubicBezTo>
                  <a:cubicBezTo>
                    <a:pt x="905510" y="52197"/>
                    <a:pt x="913257" y="30417"/>
                    <a:pt x="913257" y="27242"/>
                  </a:cubicBezTo>
                  <a:cubicBezTo>
                    <a:pt x="913257" y="24067"/>
                    <a:pt x="910336" y="22098"/>
                    <a:pt x="904494" y="21336"/>
                  </a:cubicBezTo>
                  <a:cubicBezTo>
                    <a:pt x="901192" y="21082"/>
                    <a:pt x="899541" y="20193"/>
                    <a:pt x="899541" y="18669"/>
                  </a:cubicBezTo>
                  <a:cubicBezTo>
                    <a:pt x="899541" y="17145"/>
                    <a:pt x="901637" y="14986"/>
                    <a:pt x="905828" y="12192"/>
                  </a:cubicBezTo>
                  <a:cubicBezTo>
                    <a:pt x="910019" y="9398"/>
                    <a:pt x="914400" y="8001"/>
                    <a:pt x="918972" y="8001"/>
                  </a:cubicBezTo>
                  <a:close/>
                  <a:moveTo>
                    <a:pt x="100203" y="7620"/>
                  </a:moveTo>
                  <a:cubicBezTo>
                    <a:pt x="109093" y="7620"/>
                    <a:pt x="117539" y="11049"/>
                    <a:pt x="125540" y="17907"/>
                  </a:cubicBezTo>
                  <a:cubicBezTo>
                    <a:pt x="133541" y="24765"/>
                    <a:pt x="137541" y="33274"/>
                    <a:pt x="137541" y="43434"/>
                  </a:cubicBezTo>
                  <a:cubicBezTo>
                    <a:pt x="137541" y="48768"/>
                    <a:pt x="136398" y="54864"/>
                    <a:pt x="134112" y="61722"/>
                  </a:cubicBezTo>
                  <a:cubicBezTo>
                    <a:pt x="138684" y="63246"/>
                    <a:pt x="142177" y="65913"/>
                    <a:pt x="144590" y="69723"/>
                  </a:cubicBezTo>
                  <a:cubicBezTo>
                    <a:pt x="147003" y="73533"/>
                    <a:pt x="148209" y="77724"/>
                    <a:pt x="148209" y="82296"/>
                  </a:cubicBezTo>
                  <a:cubicBezTo>
                    <a:pt x="148209" y="88900"/>
                    <a:pt x="146050" y="92964"/>
                    <a:pt x="141732" y="94488"/>
                  </a:cubicBezTo>
                  <a:cubicBezTo>
                    <a:pt x="133858" y="97282"/>
                    <a:pt x="127508" y="101092"/>
                    <a:pt x="122682" y="105918"/>
                  </a:cubicBezTo>
                  <a:cubicBezTo>
                    <a:pt x="120396" y="113030"/>
                    <a:pt x="118110" y="123952"/>
                    <a:pt x="115824" y="138684"/>
                  </a:cubicBezTo>
                  <a:cubicBezTo>
                    <a:pt x="138684" y="119126"/>
                    <a:pt x="152781" y="103251"/>
                    <a:pt x="158115" y="91059"/>
                  </a:cubicBezTo>
                  <a:cubicBezTo>
                    <a:pt x="160909" y="84709"/>
                    <a:pt x="167259" y="78804"/>
                    <a:pt x="177165" y="73343"/>
                  </a:cubicBezTo>
                  <a:cubicBezTo>
                    <a:pt x="187071" y="67882"/>
                    <a:pt x="197739" y="63119"/>
                    <a:pt x="209169" y="59055"/>
                  </a:cubicBezTo>
                  <a:cubicBezTo>
                    <a:pt x="220599" y="54991"/>
                    <a:pt x="226886" y="52451"/>
                    <a:pt x="228029" y="51435"/>
                  </a:cubicBezTo>
                  <a:cubicBezTo>
                    <a:pt x="229172" y="50419"/>
                    <a:pt x="229870" y="49022"/>
                    <a:pt x="230124" y="47244"/>
                  </a:cubicBezTo>
                  <a:cubicBezTo>
                    <a:pt x="230378" y="45466"/>
                    <a:pt x="232601" y="43625"/>
                    <a:pt x="236792" y="41720"/>
                  </a:cubicBezTo>
                  <a:cubicBezTo>
                    <a:pt x="240983" y="39815"/>
                    <a:pt x="244412" y="38862"/>
                    <a:pt x="247079" y="38862"/>
                  </a:cubicBezTo>
                  <a:cubicBezTo>
                    <a:pt x="249746" y="38862"/>
                    <a:pt x="251587" y="39116"/>
                    <a:pt x="252603" y="39624"/>
                  </a:cubicBezTo>
                  <a:cubicBezTo>
                    <a:pt x="253619" y="40132"/>
                    <a:pt x="255969" y="42799"/>
                    <a:pt x="259652" y="47625"/>
                  </a:cubicBezTo>
                  <a:cubicBezTo>
                    <a:pt x="263335" y="52451"/>
                    <a:pt x="265811" y="56642"/>
                    <a:pt x="267081" y="60198"/>
                  </a:cubicBezTo>
                  <a:cubicBezTo>
                    <a:pt x="268351" y="63754"/>
                    <a:pt x="268986" y="68517"/>
                    <a:pt x="268986" y="74486"/>
                  </a:cubicBezTo>
                  <a:cubicBezTo>
                    <a:pt x="268986" y="80455"/>
                    <a:pt x="265557" y="85471"/>
                    <a:pt x="258699" y="89535"/>
                  </a:cubicBezTo>
                  <a:cubicBezTo>
                    <a:pt x="254635" y="91821"/>
                    <a:pt x="233426" y="122301"/>
                    <a:pt x="195072" y="180975"/>
                  </a:cubicBezTo>
                  <a:cubicBezTo>
                    <a:pt x="220472" y="169545"/>
                    <a:pt x="235395" y="161989"/>
                    <a:pt x="239840" y="158306"/>
                  </a:cubicBezTo>
                  <a:cubicBezTo>
                    <a:pt x="244285" y="154623"/>
                    <a:pt x="248412" y="152781"/>
                    <a:pt x="252222" y="152781"/>
                  </a:cubicBezTo>
                  <a:cubicBezTo>
                    <a:pt x="258826" y="152781"/>
                    <a:pt x="267462" y="156718"/>
                    <a:pt x="278130" y="164592"/>
                  </a:cubicBezTo>
                  <a:cubicBezTo>
                    <a:pt x="288798" y="172466"/>
                    <a:pt x="294132" y="180721"/>
                    <a:pt x="294132" y="189357"/>
                  </a:cubicBezTo>
                  <a:cubicBezTo>
                    <a:pt x="294132" y="195707"/>
                    <a:pt x="285750" y="209423"/>
                    <a:pt x="268986" y="230505"/>
                  </a:cubicBezTo>
                  <a:cubicBezTo>
                    <a:pt x="266700" y="233553"/>
                    <a:pt x="265557" y="235966"/>
                    <a:pt x="265557" y="237744"/>
                  </a:cubicBezTo>
                  <a:cubicBezTo>
                    <a:pt x="265557" y="239522"/>
                    <a:pt x="266256" y="240792"/>
                    <a:pt x="267653" y="241554"/>
                  </a:cubicBezTo>
                  <a:cubicBezTo>
                    <a:pt x="269050" y="242316"/>
                    <a:pt x="270193" y="244412"/>
                    <a:pt x="271082" y="247841"/>
                  </a:cubicBezTo>
                  <a:cubicBezTo>
                    <a:pt x="271971" y="251270"/>
                    <a:pt x="272415" y="254889"/>
                    <a:pt x="272415" y="258699"/>
                  </a:cubicBezTo>
                  <a:cubicBezTo>
                    <a:pt x="272415" y="262509"/>
                    <a:pt x="270383" y="264414"/>
                    <a:pt x="266319" y="264414"/>
                  </a:cubicBezTo>
                  <a:cubicBezTo>
                    <a:pt x="265049" y="264414"/>
                    <a:pt x="263398" y="264160"/>
                    <a:pt x="261366" y="263652"/>
                  </a:cubicBezTo>
                  <a:cubicBezTo>
                    <a:pt x="252476" y="261874"/>
                    <a:pt x="243396" y="260985"/>
                    <a:pt x="234125" y="260985"/>
                  </a:cubicBezTo>
                  <a:cubicBezTo>
                    <a:pt x="224854" y="260985"/>
                    <a:pt x="216789" y="262128"/>
                    <a:pt x="209931" y="264414"/>
                  </a:cubicBezTo>
                  <a:cubicBezTo>
                    <a:pt x="203073" y="266700"/>
                    <a:pt x="199009" y="269875"/>
                    <a:pt x="197739" y="273939"/>
                  </a:cubicBezTo>
                  <a:cubicBezTo>
                    <a:pt x="196469" y="277241"/>
                    <a:pt x="194437" y="278892"/>
                    <a:pt x="191643" y="278892"/>
                  </a:cubicBezTo>
                  <a:cubicBezTo>
                    <a:pt x="188849" y="278892"/>
                    <a:pt x="184150" y="273368"/>
                    <a:pt x="177546" y="262319"/>
                  </a:cubicBezTo>
                  <a:cubicBezTo>
                    <a:pt x="170942" y="251270"/>
                    <a:pt x="167132" y="238379"/>
                    <a:pt x="166116" y="223647"/>
                  </a:cubicBezTo>
                  <a:cubicBezTo>
                    <a:pt x="155194" y="238887"/>
                    <a:pt x="144780" y="250571"/>
                    <a:pt x="134874" y="258699"/>
                  </a:cubicBezTo>
                  <a:cubicBezTo>
                    <a:pt x="124968" y="266827"/>
                    <a:pt x="117094" y="270764"/>
                    <a:pt x="111252" y="270510"/>
                  </a:cubicBezTo>
                  <a:cubicBezTo>
                    <a:pt x="111760" y="293370"/>
                    <a:pt x="110744" y="304800"/>
                    <a:pt x="108204" y="304800"/>
                  </a:cubicBezTo>
                  <a:cubicBezTo>
                    <a:pt x="107188" y="304800"/>
                    <a:pt x="105283" y="302387"/>
                    <a:pt x="102489" y="297561"/>
                  </a:cubicBezTo>
                  <a:cubicBezTo>
                    <a:pt x="99695" y="292735"/>
                    <a:pt x="93345" y="285052"/>
                    <a:pt x="83439" y="274511"/>
                  </a:cubicBezTo>
                  <a:cubicBezTo>
                    <a:pt x="73533" y="263970"/>
                    <a:pt x="64897" y="255969"/>
                    <a:pt x="57531" y="250508"/>
                  </a:cubicBezTo>
                  <a:cubicBezTo>
                    <a:pt x="50165" y="245047"/>
                    <a:pt x="46482" y="241872"/>
                    <a:pt x="46482" y="240983"/>
                  </a:cubicBezTo>
                  <a:cubicBezTo>
                    <a:pt x="46482" y="240094"/>
                    <a:pt x="47054" y="239649"/>
                    <a:pt x="48197" y="239649"/>
                  </a:cubicBezTo>
                  <a:cubicBezTo>
                    <a:pt x="49340" y="239649"/>
                    <a:pt x="51816" y="240538"/>
                    <a:pt x="55626" y="242316"/>
                  </a:cubicBezTo>
                  <a:cubicBezTo>
                    <a:pt x="70104" y="249174"/>
                    <a:pt x="80010" y="252603"/>
                    <a:pt x="85344" y="252603"/>
                  </a:cubicBezTo>
                  <a:cubicBezTo>
                    <a:pt x="87376" y="252603"/>
                    <a:pt x="88837" y="252159"/>
                    <a:pt x="89726" y="251270"/>
                  </a:cubicBezTo>
                  <a:cubicBezTo>
                    <a:pt x="90615" y="250381"/>
                    <a:pt x="91059" y="247396"/>
                    <a:pt x="91059" y="242316"/>
                  </a:cubicBezTo>
                  <a:lnTo>
                    <a:pt x="91440" y="220980"/>
                  </a:lnTo>
                  <a:cubicBezTo>
                    <a:pt x="91694" y="211582"/>
                    <a:pt x="91694" y="202311"/>
                    <a:pt x="91440" y="193167"/>
                  </a:cubicBezTo>
                  <a:cubicBezTo>
                    <a:pt x="82550" y="203327"/>
                    <a:pt x="74105" y="212217"/>
                    <a:pt x="66104" y="219837"/>
                  </a:cubicBezTo>
                  <a:cubicBezTo>
                    <a:pt x="58103" y="227457"/>
                    <a:pt x="52705" y="232283"/>
                    <a:pt x="49911" y="234315"/>
                  </a:cubicBezTo>
                  <a:cubicBezTo>
                    <a:pt x="47117" y="236347"/>
                    <a:pt x="44704" y="237363"/>
                    <a:pt x="42672" y="237363"/>
                  </a:cubicBezTo>
                  <a:cubicBezTo>
                    <a:pt x="38862" y="237363"/>
                    <a:pt x="33147" y="232283"/>
                    <a:pt x="25527" y="222123"/>
                  </a:cubicBezTo>
                  <a:cubicBezTo>
                    <a:pt x="17907" y="211963"/>
                    <a:pt x="14097" y="205359"/>
                    <a:pt x="14097" y="202311"/>
                  </a:cubicBezTo>
                  <a:cubicBezTo>
                    <a:pt x="14097" y="199263"/>
                    <a:pt x="15367" y="197612"/>
                    <a:pt x="17907" y="197358"/>
                  </a:cubicBezTo>
                  <a:cubicBezTo>
                    <a:pt x="30099" y="196088"/>
                    <a:pt x="54610" y="182626"/>
                    <a:pt x="91440" y="156972"/>
                  </a:cubicBezTo>
                  <a:cubicBezTo>
                    <a:pt x="91948" y="152146"/>
                    <a:pt x="92583" y="142621"/>
                    <a:pt x="93345" y="128397"/>
                  </a:cubicBezTo>
                  <a:cubicBezTo>
                    <a:pt x="86487" y="134239"/>
                    <a:pt x="79820" y="139319"/>
                    <a:pt x="73343" y="143637"/>
                  </a:cubicBezTo>
                  <a:cubicBezTo>
                    <a:pt x="66866" y="147955"/>
                    <a:pt x="62230" y="150813"/>
                    <a:pt x="59436" y="152210"/>
                  </a:cubicBezTo>
                  <a:cubicBezTo>
                    <a:pt x="56642" y="153607"/>
                    <a:pt x="53721" y="154305"/>
                    <a:pt x="50673" y="154305"/>
                  </a:cubicBezTo>
                  <a:cubicBezTo>
                    <a:pt x="47625" y="154305"/>
                    <a:pt x="44450" y="153289"/>
                    <a:pt x="41148" y="151257"/>
                  </a:cubicBezTo>
                  <a:cubicBezTo>
                    <a:pt x="37846" y="149225"/>
                    <a:pt x="32131" y="143637"/>
                    <a:pt x="24003" y="134493"/>
                  </a:cubicBezTo>
                  <a:lnTo>
                    <a:pt x="5715" y="114681"/>
                  </a:lnTo>
                  <a:cubicBezTo>
                    <a:pt x="1905" y="110617"/>
                    <a:pt x="0" y="107569"/>
                    <a:pt x="0" y="105537"/>
                  </a:cubicBezTo>
                  <a:cubicBezTo>
                    <a:pt x="0" y="103505"/>
                    <a:pt x="699" y="102489"/>
                    <a:pt x="2096" y="102489"/>
                  </a:cubicBezTo>
                  <a:cubicBezTo>
                    <a:pt x="3493" y="102489"/>
                    <a:pt x="4699" y="102743"/>
                    <a:pt x="5715" y="103251"/>
                  </a:cubicBezTo>
                  <a:cubicBezTo>
                    <a:pt x="13589" y="106807"/>
                    <a:pt x="20257" y="108585"/>
                    <a:pt x="25718" y="108585"/>
                  </a:cubicBezTo>
                  <a:cubicBezTo>
                    <a:pt x="31179" y="108585"/>
                    <a:pt x="39497" y="105537"/>
                    <a:pt x="50673" y="99441"/>
                  </a:cubicBezTo>
                  <a:cubicBezTo>
                    <a:pt x="61849" y="93345"/>
                    <a:pt x="77851" y="83693"/>
                    <a:pt x="98679" y="70485"/>
                  </a:cubicBezTo>
                  <a:cubicBezTo>
                    <a:pt x="102743" y="51943"/>
                    <a:pt x="104775" y="40196"/>
                    <a:pt x="104775" y="35243"/>
                  </a:cubicBezTo>
                  <a:cubicBezTo>
                    <a:pt x="104775" y="30290"/>
                    <a:pt x="104013" y="26670"/>
                    <a:pt x="102489" y="24384"/>
                  </a:cubicBezTo>
                  <a:cubicBezTo>
                    <a:pt x="100965" y="22098"/>
                    <a:pt x="97981" y="20384"/>
                    <a:pt x="93536" y="19241"/>
                  </a:cubicBezTo>
                  <a:cubicBezTo>
                    <a:pt x="89091" y="18098"/>
                    <a:pt x="86868" y="16574"/>
                    <a:pt x="86868" y="14669"/>
                  </a:cubicBezTo>
                  <a:cubicBezTo>
                    <a:pt x="86868" y="12764"/>
                    <a:pt x="88202" y="11113"/>
                    <a:pt x="90869" y="9716"/>
                  </a:cubicBezTo>
                  <a:cubicBezTo>
                    <a:pt x="93536" y="8319"/>
                    <a:pt x="96647" y="7620"/>
                    <a:pt x="100203" y="7620"/>
                  </a:cubicBezTo>
                  <a:close/>
                  <a:moveTo>
                    <a:pt x="578739" y="0"/>
                  </a:moveTo>
                  <a:cubicBezTo>
                    <a:pt x="585851" y="0"/>
                    <a:pt x="594233" y="3747"/>
                    <a:pt x="603885" y="11240"/>
                  </a:cubicBezTo>
                  <a:cubicBezTo>
                    <a:pt x="613537" y="18733"/>
                    <a:pt x="618363" y="26543"/>
                    <a:pt x="618363" y="34671"/>
                  </a:cubicBezTo>
                  <a:cubicBezTo>
                    <a:pt x="618363" y="40005"/>
                    <a:pt x="615950" y="43307"/>
                    <a:pt x="611124" y="44577"/>
                  </a:cubicBezTo>
                  <a:cubicBezTo>
                    <a:pt x="608076" y="45339"/>
                    <a:pt x="604457" y="48133"/>
                    <a:pt x="600266" y="52959"/>
                  </a:cubicBezTo>
                  <a:cubicBezTo>
                    <a:pt x="596075" y="57785"/>
                    <a:pt x="592963" y="63373"/>
                    <a:pt x="590931" y="69723"/>
                  </a:cubicBezTo>
                  <a:cubicBezTo>
                    <a:pt x="596773" y="73787"/>
                    <a:pt x="599694" y="77280"/>
                    <a:pt x="599694" y="80201"/>
                  </a:cubicBezTo>
                  <a:cubicBezTo>
                    <a:pt x="599694" y="83122"/>
                    <a:pt x="598551" y="85217"/>
                    <a:pt x="596265" y="86487"/>
                  </a:cubicBezTo>
                  <a:cubicBezTo>
                    <a:pt x="593979" y="87757"/>
                    <a:pt x="590169" y="88392"/>
                    <a:pt x="584835" y="88392"/>
                  </a:cubicBezTo>
                  <a:lnTo>
                    <a:pt x="577596" y="88011"/>
                  </a:lnTo>
                  <a:cubicBezTo>
                    <a:pt x="572770" y="88011"/>
                    <a:pt x="568960" y="88646"/>
                    <a:pt x="566166" y="89916"/>
                  </a:cubicBezTo>
                  <a:cubicBezTo>
                    <a:pt x="571246" y="92202"/>
                    <a:pt x="577342" y="95758"/>
                    <a:pt x="584454" y="100584"/>
                  </a:cubicBezTo>
                  <a:cubicBezTo>
                    <a:pt x="591566" y="105410"/>
                    <a:pt x="596583" y="108839"/>
                    <a:pt x="599504" y="110871"/>
                  </a:cubicBezTo>
                  <a:cubicBezTo>
                    <a:pt x="602425" y="112903"/>
                    <a:pt x="604774" y="114999"/>
                    <a:pt x="606552" y="117158"/>
                  </a:cubicBezTo>
                  <a:cubicBezTo>
                    <a:pt x="608330" y="119317"/>
                    <a:pt x="609219" y="121158"/>
                    <a:pt x="609219" y="122682"/>
                  </a:cubicBezTo>
                  <a:cubicBezTo>
                    <a:pt x="609219" y="124206"/>
                    <a:pt x="608838" y="125286"/>
                    <a:pt x="608076" y="125921"/>
                  </a:cubicBezTo>
                  <a:cubicBezTo>
                    <a:pt x="607314" y="126556"/>
                    <a:pt x="604012" y="127635"/>
                    <a:pt x="598170" y="129159"/>
                  </a:cubicBezTo>
                  <a:cubicBezTo>
                    <a:pt x="592328" y="130683"/>
                    <a:pt x="587756" y="132080"/>
                    <a:pt x="584454" y="133350"/>
                  </a:cubicBezTo>
                  <a:cubicBezTo>
                    <a:pt x="579628" y="140970"/>
                    <a:pt x="577342" y="148971"/>
                    <a:pt x="577596" y="157353"/>
                  </a:cubicBezTo>
                  <a:cubicBezTo>
                    <a:pt x="594360" y="149479"/>
                    <a:pt x="606298" y="145542"/>
                    <a:pt x="613410" y="145542"/>
                  </a:cubicBezTo>
                  <a:cubicBezTo>
                    <a:pt x="617982" y="145542"/>
                    <a:pt x="621919" y="147511"/>
                    <a:pt x="625221" y="151448"/>
                  </a:cubicBezTo>
                  <a:cubicBezTo>
                    <a:pt x="628523" y="155385"/>
                    <a:pt x="630174" y="158750"/>
                    <a:pt x="630174" y="161544"/>
                  </a:cubicBezTo>
                  <a:cubicBezTo>
                    <a:pt x="630174" y="167132"/>
                    <a:pt x="625158" y="170180"/>
                    <a:pt x="615125" y="170688"/>
                  </a:cubicBezTo>
                  <a:cubicBezTo>
                    <a:pt x="605092" y="171196"/>
                    <a:pt x="594614" y="173165"/>
                    <a:pt x="583692" y="176594"/>
                  </a:cubicBezTo>
                  <a:cubicBezTo>
                    <a:pt x="572770" y="180023"/>
                    <a:pt x="551180" y="188087"/>
                    <a:pt x="518922" y="200787"/>
                  </a:cubicBezTo>
                  <a:cubicBezTo>
                    <a:pt x="511048" y="231521"/>
                    <a:pt x="507111" y="254000"/>
                    <a:pt x="507111" y="268224"/>
                  </a:cubicBezTo>
                  <a:cubicBezTo>
                    <a:pt x="507111" y="276606"/>
                    <a:pt x="508953" y="280797"/>
                    <a:pt x="512636" y="280797"/>
                  </a:cubicBezTo>
                  <a:cubicBezTo>
                    <a:pt x="516319" y="280797"/>
                    <a:pt x="524637" y="277940"/>
                    <a:pt x="537591" y="272225"/>
                  </a:cubicBezTo>
                  <a:cubicBezTo>
                    <a:pt x="550545" y="266510"/>
                    <a:pt x="559626" y="261366"/>
                    <a:pt x="564833" y="256794"/>
                  </a:cubicBezTo>
                  <a:cubicBezTo>
                    <a:pt x="570040" y="252222"/>
                    <a:pt x="573913" y="246380"/>
                    <a:pt x="576453" y="239268"/>
                  </a:cubicBezTo>
                  <a:cubicBezTo>
                    <a:pt x="572135" y="235712"/>
                    <a:pt x="567690" y="233934"/>
                    <a:pt x="563118" y="233934"/>
                  </a:cubicBezTo>
                  <a:cubicBezTo>
                    <a:pt x="561848" y="233934"/>
                    <a:pt x="560642" y="234125"/>
                    <a:pt x="559499" y="234506"/>
                  </a:cubicBezTo>
                  <a:cubicBezTo>
                    <a:pt x="558356" y="234887"/>
                    <a:pt x="555435" y="235077"/>
                    <a:pt x="550736" y="235077"/>
                  </a:cubicBezTo>
                  <a:cubicBezTo>
                    <a:pt x="546037" y="235077"/>
                    <a:pt x="539432" y="233871"/>
                    <a:pt x="530924" y="231458"/>
                  </a:cubicBezTo>
                  <a:cubicBezTo>
                    <a:pt x="522415" y="229045"/>
                    <a:pt x="518160" y="225997"/>
                    <a:pt x="518160" y="222314"/>
                  </a:cubicBezTo>
                  <a:cubicBezTo>
                    <a:pt x="518160" y="218631"/>
                    <a:pt x="520065" y="215138"/>
                    <a:pt x="523875" y="211836"/>
                  </a:cubicBezTo>
                  <a:cubicBezTo>
                    <a:pt x="527685" y="208534"/>
                    <a:pt x="532638" y="206883"/>
                    <a:pt x="538734" y="206883"/>
                  </a:cubicBezTo>
                  <a:cubicBezTo>
                    <a:pt x="544830" y="206883"/>
                    <a:pt x="551942" y="208280"/>
                    <a:pt x="560070" y="211074"/>
                  </a:cubicBezTo>
                  <a:cubicBezTo>
                    <a:pt x="574802" y="207518"/>
                    <a:pt x="582168" y="202184"/>
                    <a:pt x="582168" y="195072"/>
                  </a:cubicBezTo>
                  <a:cubicBezTo>
                    <a:pt x="582168" y="194056"/>
                    <a:pt x="581977" y="192723"/>
                    <a:pt x="581597" y="191072"/>
                  </a:cubicBezTo>
                  <a:cubicBezTo>
                    <a:pt x="581215" y="189421"/>
                    <a:pt x="581025" y="187833"/>
                    <a:pt x="581025" y="186309"/>
                  </a:cubicBezTo>
                  <a:cubicBezTo>
                    <a:pt x="581025" y="181483"/>
                    <a:pt x="582994" y="179070"/>
                    <a:pt x="586931" y="179070"/>
                  </a:cubicBezTo>
                  <a:cubicBezTo>
                    <a:pt x="590868" y="179070"/>
                    <a:pt x="595694" y="181928"/>
                    <a:pt x="601409" y="187643"/>
                  </a:cubicBezTo>
                  <a:cubicBezTo>
                    <a:pt x="607124" y="193358"/>
                    <a:pt x="609981" y="197803"/>
                    <a:pt x="609981" y="200978"/>
                  </a:cubicBezTo>
                  <a:cubicBezTo>
                    <a:pt x="609981" y="204153"/>
                    <a:pt x="608711" y="206756"/>
                    <a:pt x="606171" y="208788"/>
                  </a:cubicBezTo>
                  <a:cubicBezTo>
                    <a:pt x="598805" y="214376"/>
                    <a:pt x="592709" y="220345"/>
                    <a:pt x="587883" y="226695"/>
                  </a:cubicBezTo>
                  <a:cubicBezTo>
                    <a:pt x="599313" y="236855"/>
                    <a:pt x="609664" y="243396"/>
                    <a:pt x="618935" y="246317"/>
                  </a:cubicBezTo>
                  <a:cubicBezTo>
                    <a:pt x="628206" y="249238"/>
                    <a:pt x="641223" y="254064"/>
                    <a:pt x="657987" y="260795"/>
                  </a:cubicBezTo>
                  <a:cubicBezTo>
                    <a:pt x="674751" y="267526"/>
                    <a:pt x="685229" y="272606"/>
                    <a:pt x="689420" y="276035"/>
                  </a:cubicBezTo>
                  <a:cubicBezTo>
                    <a:pt x="693611" y="279464"/>
                    <a:pt x="695706" y="282258"/>
                    <a:pt x="695706" y="284417"/>
                  </a:cubicBezTo>
                  <a:cubicBezTo>
                    <a:pt x="695706" y="286576"/>
                    <a:pt x="694881" y="288100"/>
                    <a:pt x="693230" y="288989"/>
                  </a:cubicBezTo>
                  <a:cubicBezTo>
                    <a:pt x="691579" y="289878"/>
                    <a:pt x="685673" y="290894"/>
                    <a:pt x="675513" y="292037"/>
                  </a:cubicBezTo>
                  <a:cubicBezTo>
                    <a:pt x="665353" y="293180"/>
                    <a:pt x="656527" y="293751"/>
                    <a:pt x="649034" y="293751"/>
                  </a:cubicBezTo>
                  <a:cubicBezTo>
                    <a:pt x="641541" y="293751"/>
                    <a:pt x="634873" y="292672"/>
                    <a:pt x="629031" y="290513"/>
                  </a:cubicBezTo>
                  <a:cubicBezTo>
                    <a:pt x="623189" y="288354"/>
                    <a:pt x="615442" y="282194"/>
                    <a:pt x="605790" y="272034"/>
                  </a:cubicBezTo>
                  <a:cubicBezTo>
                    <a:pt x="596138" y="261874"/>
                    <a:pt x="588772" y="253238"/>
                    <a:pt x="583692" y="246126"/>
                  </a:cubicBezTo>
                  <a:cubicBezTo>
                    <a:pt x="575818" y="268478"/>
                    <a:pt x="561848" y="285750"/>
                    <a:pt x="541782" y="297942"/>
                  </a:cubicBezTo>
                  <a:cubicBezTo>
                    <a:pt x="533654" y="303022"/>
                    <a:pt x="527177" y="309118"/>
                    <a:pt x="522351" y="316230"/>
                  </a:cubicBezTo>
                  <a:cubicBezTo>
                    <a:pt x="520827" y="318770"/>
                    <a:pt x="518922" y="320040"/>
                    <a:pt x="516636" y="320040"/>
                  </a:cubicBezTo>
                  <a:cubicBezTo>
                    <a:pt x="512318" y="320040"/>
                    <a:pt x="506603" y="314325"/>
                    <a:pt x="499491" y="302895"/>
                  </a:cubicBezTo>
                  <a:cubicBezTo>
                    <a:pt x="492379" y="291465"/>
                    <a:pt x="488823" y="278257"/>
                    <a:pt x="488823" y="263271"/>
                  </a:cubicBezTo>
                  <a:cubicBezTo>
                    <a:pt x="488823" y="248285"/>
                    <a:pt x="490347" y="231521"/>
                    <a:pt x="493395" y="212979"/>
                  </a:cubicBezTo>
                  <a:cubicBezTo>
                    <a:pt x="488315" y="215265"/>
                    <a:pt x="479679" y="219837"/>
                    <a:pt x="467487" y="226695"/>
                  </a:cubicBezTo>
                  <a:cubicBezTo>
                    <a:pt x="465201" y="227965"/>
                    <a:pt x="463296" y="228600"/>
                    <a:pt x="461772" y="228600"/>
                  </a:cubicBezTo>
                  <a:cubicBezTo>
                    <a:pt x="458724" y="228600"/>
                    <a:pt x="454406" y="224155"/>
                    <a:pt x="448818" y="215265"/>
                  </a:cubicBezTo>
                  <a:cubicBezTo>
                    <a:pt x="444754" y="232537"/>
                    <a:pt x="437579" y="249555"/>
                    <a:pt x="427292" y="266319"/>
                  </a:cubicBezTo>
                  <a:cubicBezTo>
                    <a:pt x="417005" y="283083"/>
                    <a:pt x="406591" y="295529"/>
                    <a:pt x="396050" y="303657"/>
                  </a:cubicBezTo>
                  <a:cubicBezTo>
                    <a:pt x="385509" y="311785"/>
                    <a:pt x="377317" y="315849"/>
                    <a:pt x="371475" y="315849"/>
                  </a:cubicBezTo>
                  <a:cubicBezTo>
                    <a:pt x="369443" y="315849"/>
                    <a:pt x="368427" y="315151"/>
                    <a:pt x="368427" y="313754"/>
                  </a:cubicBezTo>
                  <a:cubicBezTo>
                    <a:pt x="368427" y="312357"/>
                    <a:pt x="369316" y="310642"/>
                    <a:pt x="371094" y="308610"/>
                  </a:cubicBezTo>
                  <a:cubicBezTo>
                    <a:pt x="386080" y="291084"/>
                    <a:pt x="398907" y="271590"/>
                    <a:pt x="409575" y="250127"/>
                  </a:cubicBezTo>
                  <a:cubicBezTo>
                    <a:pt x="420243" y="228664"/>
                    <a:pt x="434086" y="190564"/>
                    <a:pt x="451104" y="135827"/>
                  </a:cubicBezTo>
                  <a:cubicBezTo>
                    <a:pt x="468122" y="81090"/>
                    <a:pt x="476631" y="51054"/>
                    <a:pt x="476631" y="45720"/>
                  </a:cubicBezTo>
                  <a:cubicBezTo>
                    <a:pt x="476631" y="44450"/>
                    <a:pt x="476250" y="43561"/>
                    <a:pt x="475488" y="43053"/>
                  </a:cubicBezTo>
                  <a:cubicBezTo>
                    <a:pt x="471678" y="40259"/>
                    <a:pt x="469773" y="37973"/>
                    <a:pt x="469773" y="36195"/>
                  </a:cubicBezTo>
                  <a:cubicBezTo>
                    <a:pt x="469773" y="34417"/>
                    <a:pt x="471742" y="32830"/>
                    <a:pt x="475679" y="31433"/>
                  </a:cubicBezTo>
                  <a:cubicBezTo>
                    <a:pt x="479616" y="30036"/>
                    <a:pt x="482791" y="29337"/>
                    <a:pt x="485204" y="29337"/>
                  </a:cubicBezTo>
                  <a:cubicBezTo>
                    <a:pt x="487617" y="29337"/>
                    <a:pt x="490093" y="29845"/>
                    <a:pt x="492633" y="30861"/>
                  </a:cubicBezTo>
                  <a:cubicBezTo>
                    <a:pt x="498983" y="30861"/>
                    <a:pt x="510731" y="27813"/>
                    <a:pt x="527876" y="21717"/>
                  </a:cubicBezTo>
                  <a:cubicBezTo>
                    <a:pt x="545021" y="15621"/>
                    <a:pt x="559562" y="9017"/>
                    <a:pt x="571500" y="1905"/>
                  </a:cubicBezTo>
                  <a:cubicBezTo>
                    <a:pt x="573786" y="635"/>
                    <a:pt x="576199" y="0"/>
                    <a:pt x="578739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63" name="文本框 7"/>
          <p:cNvSpPr/>
          <p:nvPr/>
        </p:nvSpPr>
        <p:spPr>
          <a:xfrm>
            <a:off x="585720" y="1268280"/>
            <a:ext cx="79722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谜是一种文字游戏，也是汉民族特有的一种语言文化现象。这种谜语的编写或是利用了汉字的造字规律，或是利用了汉字形、音、义某一方面的特点，显得既有趣味，又有知识内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nodeType="clickEffect" fill="hold">
                      <p:stCondLst>
                        <p:cond delay="0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17"/>
          <p:cNvGrpSpPr/>
          <p:nvPr/>
        </p:nvGrpSpPr>
        <p:grpSpPr>
          <a:xfrm>
            <a:off x="399960" y="2233440"/>
            <a:ext cx="8388000" cy="637560"/>
            <a:chOff x="399960" y="2233440"/>
            <a:chExt cx="8388000" cy="637560"/>
          </a:xfrm>
        </p:grpSpPr>
        <p:sp>
          <p:nvSpPr>
            <p:cNvPr id="765" name="矩形 8"/>
            <p:cNvSpPr/>
            <p:nvPr/>
          </p:nvSpPr>
          <p:spPr>
            <a:xfrm>
              <a:off x="1649520" y="2268360"/>
              <a:ext cx="775800" cy="50292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66" name="矩形 9"/>
            <p:cNvSpPr/>
            <p:nvPr/>
          </p:nvSpPr>
          <p:spPr>
            <a:xfrm>
              <a:off x="2771640" y="2303640"/>
              <a:ext cx="775800" cy="50292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67" name="文本框 3"/>
            <p:cNvSpPr/>
            <p:nvPr/>
          </p:nvSpPr>
          <p:spPr>
            <a:xfrm>
              <a:off x="399960" y="2233440"/>
              <a:ext cx="8388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▷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字形和字义编写：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心依赖实为惰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000" spc="-1" strike="noStrike">
                  <a:solidFill>
                    <a:srgbClr val="00a64a"/>
                  </a:solidFill>
                  <a:latin typeface="仿宋"/>
                  <a:ea typeface="仿宋"/>
                </a:rPr>
                <a:t>懒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19"/>
          <p:cNvGrpSpPr/>
          <p:nvPr/>
        </p:nvGrpSpPr>
        <p:grpSpPr>
          <a:xfrm>
            <a:off x="399960" y="3728880"/>
            <a:ext cx="8353080" cy="637560"/>
            <a:chOff x="399960" y="3728880"/>
            <a:chExt cx="8353080" cy="637560"/>
          </a:xfrm>
        </p:grpSpPr>
        <p:sp>
          <p:nvSpPr>
            <p:cNvPr id="769" name="矩形 13"/>
            <p:cNvSpPr/>
            <p:nvPr/>
          </p:nvSpPr>
          <p:spPr>
            <a:xfrm>
              <a:off x="1649520" y="3763800"/>
              <a:ext cx="775800" cy="502920"/>
            </a:xfrm>
            <a:prstGeom prst="rect">
              <a:avLst/>
            </a:prstGeom>
            <a:solidFill>
              <a:srgbClr val="d8f8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70" name="矩形 14"/>
            <p:cNvSpPr/>
            <p:nvPr/>
          </p:nvSpPr>
          <p:spPr>
            <a:xfrm>
              <a:off x="2781360" y="3763800"/>
              <a:ext cx="775800" cy="50292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71" name="文本框 4"/>
            <p:cNvSpPr/>
            <p:nvPr/>
          </p:nvSpPr>
          <p:spPr>
            <a:xfrm>
              <a:off x="399960" y="3728880"/>
              <a:ext cx="8353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▷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字音和字义编写：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抽刀断流溅声起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000" spc="-1" strike="noStrike">
                  <a:solidFill>
                    <a:srgbClr val="ff00ff"/>
                  </a:solidFill>
                  <a:latin typeface="仿宋"/>
                  <a:ea typeface="仿宋"/>
                </a:rPr>
                <a:t>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组合 16"/>
          <p:cNvGrpSpPr/>
          <p:nvPr/>
        </p:nvGrpSpPr>
        <p:grpSpPr>
          <a:xfrm>
            <a:off x="399960" y="1486080"/>
            <a:ext cx="8388000" cy="637560"/>
            <a:chOff x="399960" y="1486080"/>
            <a:chExt cx="8388000" cy="637560"/>
          </a:xfrm>
        </p:grpSpPr>
        <p:sp>
          <p:nvSpPr>
            <p:cNvPr id="773" name="矩形 10"/>
            <p:cNvSpPr/>
            <p:nvPr/>
          </p:nvSpPr>
          <p:spPr>
            <a:xfrm>
              <a:off x="1649520" y="1521000"/>
              <a:ext cx="775800" cy="50292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74" name="文本框 5"/>
            <p:cNvSpPr/>
            <p:nvPr/>
          </p:nvSpPr>
          <p:spPr>
            <a:xfrm>
              <a:off x="399960" y="1486080"/>
              <a:ext cx="8388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▷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字义编写：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客满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000" spc="-1" strike="noStrike">
                  <a:solidFill>
                    <a:srgbClr val="ff6600"/>
                  </a:solidFill>
                  <a:latin typeface="仿宋"/>
                  <a:ea typeface="仿宋"/>
                </a:rPr>
                <a:t>侈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18"/>
          <p:cNvGrpSpPr/>
          <p:nvPr/>
        </p:nvGrpSpPr>
        <p:grpSpPr>
          <a:xfrm>
            <a:off x="399960" y="2981160"/>
            <a:ext cx="8353080" cy="637560"/>
            <a:chOff x="399960" y="2981160"/>
            <a:chExt cx="8353080" cy="637560"/>
          </a:xfrm>
        </p:grpSpPr>
        <p:sp>
          <p:nvSpPr>
            <p:cNvPr id="776" name="矩形 11"/>
            <p:cNvSpPr/>
            <p:nvPr/>
          </p:nvSpPr>
          <p:spPr>
            <a:xfrm>
              <a:off x="1641600" y="3027240"/>
              <a:ext cx="775800" cy="504360"/>
            </a:xfrm>
            <a:prstGeom prst="rect">
              <a:avLst/>
            </a:prstGeom>
            <a:solidFill>
              <a:srgbClr val="d8f8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77" name="矩形 12"/>
            <p:cNvSpPr/>
            <p:nvPr/>
          </p:nvSpPr>
          <p:spPr>
            <a:xfrm>
              <a:off x="2781360" y="3027240"/>
              <a:ext cx="775800" cy="50436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78" name="文本框 6"/>
            <p:cNvSpPr/>
            <p:nvPr/>
          </p:nvSpPr>
          <p:spPr>
            <a:xfrm>
              <a:off x="399960" y="2981160"/>
              <a:ext cx="8353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▷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字音和字形编写：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恰似游鹅叫一声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000" spc="-1" strike="noStrike">
                  <a:solidFill>
                    <a:srgbClr val="9933ff"/>
                  </a:solidFill>
                  <a:latin typeface="仿宋"/>
                  <a:ea typeface="仿宋"/>
                </a:rPr>
                <a:t>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15"/>
          <p:cNvGrpSpPr/>
          <p:nvPr/>
        </p:nvGrpSpPr>
        <p:grpSpPr>
          <a:xfrm>
            <a:off x="399960" y="757080"/>
            <a:ext cx="7632360" cy="546480"/>
            <a:chOff x="399960" y="757080"/>
            <a:chExt cx="7632360" cy="546480"/>
          </a:xfrm>
        </p:grpSpPr>
        <p:sp>
          <p:nvSpPr>
            <p:cNvPr id="780" name="矩形 7"/>
            <p:cNvSpPr/>
            <p:nvPr/>
          </p:nvSpPr>
          <p:spPr>
            <a:xfrm>
              <a:off x="1649520" y="793800"/>
              <a:ext cx="761760" cy="504360"/>
            </a:xfrm>
            <a:prstGeom prst="rect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781" name="文本框 2"/>
            <p:cNvSpPr/>
            <p:nvPr/>
          </p:nvSpPr>
          <p:spPr>
            <a:xfrm>
              <a:off x="399960" y="757080"/>
              <a:ext cx="76323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▷</a:t>
              </a: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字形编写：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你一半，我一半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000" spc="-1" strike="noStrike">
                  <a:solidFill>
                    <a:srgbClr val="0000ff"/>
                  </a:solidFill>
                  <a:latin typeface="仿宋"/>
                  <a:ea typeface="仿宋"/>
                </a:rPr>
                <a:t>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0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7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7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7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75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75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4"/>
          <p:cNvGrpSpPr/>
          <p:nvPr/>
        </p:nvGrpSpPr>
        <p:grpSpPr>
          <a:xfrm>
            <a:off x="1589040" y="411120"/>
            <a:ext cx="5965560" cy="577080"/>
            <a:chOff x="1589040" y="411120"/>
            <a:chExt cx="5965560" cy="577080"/>
          </a:xfrm>
        </p:grpSpPr>
        <p:sp>
          <p:nvSpPr>
            <p:cNvPr id="783" name="文本框 13"/>
            <p:cNvSpPr/>
            <p:nvPr/>
          </p:nvSpPr>
          <p:spPr>
            <a:xfrm>
              <a:off x="2050920" y="411120"/>
              <a:ext cx="5503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accent2"/>
                  </a:solidFill>
                  <a:latin typeface="黑体"/>
                  <a:ea typeface="黑体"/>
                </a:rPr>
                <a:t>拓展二</a:t>
              </a:r>
              <a:r>
                <a:rPr b="1" lang="zh-CN" sz="3200" spc="-1" strike="noStrike">
                  <a:solidFill>
                    <a:schemeClr val="accent2"/>
                  </a:solidFill>
                  <a:latin typeface="宋体"/>
                  <a:ea typeface="宋体"/>
                </a:rPr>
                <a:t>：</a:t>
              </a:r>
              <a:r>
                <a:rPr b="1" lang="zh-CN" sz="3200" spc="-1" strike="noStrike">
                  <a:solidFill>
                    <a:schemeClr val="accent2"/>
                  </a:solidFill>
                  <a:latin typeface="黑体"/>
                  <a:ea typeface="黑体"/>
                </a:rPr>
                <a:t>汉字的主要构成方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4" name="图片 6" descr=""/>
            <p:cNvPicPr/>
            <p:nvPr/>
          </p:nvPicPr>
          <p:blipFill>
            <a:blip r:embed="rId1"/>
            <a:stretch/>
          </p:blipFill>
          <p:spPr>
            <a:xfrm>
              <a:off x="1589040" y="461160"/>
              <a:ext cx="525600" cy="45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5" name="文本框 4"/>
          <p:cNvSpPr/>
          <p:nvPr/>
        </p:nvSpPr>
        <p:spPr>
          <a:xfrm>
            <a:off x="971640" y="1028880"/>
            <a:ext cx="672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象形法：汉字最早的构成方法，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9"/>
          <p:cNvGrpSpPr/>
          <p:nvPr/>
        </p:nvGrpSpPr>
        <p:grpSpPr>
          <a:xfrm>
            <a:off x="2301840" y="1687680"/>
            <a:ext cx="1888920" cy="577080"/>
            <a:chOff x="2301840" y="1687680"/>
            <a:chExt cx="1888920" cy="577080"/>
          </a:xfrm>
        </p:grpSpPr>
        <p:pic>
          <p:nvPicPr>
            <p:cNvPr id="787" name="图片 13" descr=""/>
            <p:cNvPicPr/>
            <p:nvPr/>
          </p:nvPicPr>
          <p:blipFill>
            <a:blip r:embed="rId2"/>
            <a:stretch/>
          </p:blipFill>
          <p:spPr>
            <a:xfrm>
              <a:off x="2301840" y="1749600"/>
              <a:ext cx="5068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图片 15" descr=""/>
            <p:cNvPicPr/>
            <p:nvPr/>
          </p:nvPicPr>
          <p:blipFill>
            <a:blip r:embed="rId3"/>
            <a:stretch/>
          </p:blipFill>
          <p:spPr>
            <a:xfrm>
              <a:off x="2826000" y="1801800"/>
              <a:ext cx="831960" cy="3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文本框 16"/>
            <p:cNvSpPr/>
            <p:nvPr/>
          </p:nvSpPr>
          <p:spPr>
            <a:xfrm>
              <a:off x="3558600" y="1687680"/>
              <a:ext cx="632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a64a"/>
                  </a:solidFill>
                  <a:latin typeface="宋体"/>
                  <a:ea typeface="宋体"/>
                </a:rPr>
                <a:t>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20"/>
          <p:cNvGrpSpPr/>
          <p:nvPr/>
        </p:nvGrpSpPr>
        <p:grpSpPr>
          <a:xfrm>
            <a:off x="4989600" y="1687680"/>
            <a:ext cx="1767960" cy="582840"/>
            <a:chOff x="4989600" y="1687680"/>
            <a:chExt cx="1767960" cy="582840"/>
          </a:xfrm>
        </p:grpSpPr>
        <p:pic>
          <p:nvPicPr>
            <p:cNvPr id="791" name="图片 10" descr=""/>
            <p:cNvPicPr/>
            <p:nvPr/>
          </p:nvPicPr>
          <p:blipFill>
            <a:blip r:embed="rId4"/>
            <a:stretch/>
          </p:blipFill>
          <p:spPr>
            <a:xfrm>
              <a:off x="4989600" y="1694520"/>
              <a:ext cx="3322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17" descr=""/>
            <p:cNvPicPr/>
            <p:nvPr/>
          </p:nvPicPr>
          <p:blipFill>
            <a:blip r:embed="rId5"/>
            <a:stretch/>
          </p:blipFill>
          <p:spPr>
            <a:xfrm>
              <a:off x="5392800" y="1801800"/>
              <a:ext cx="831960" cy="3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文本框 18"/>
            <p:cNvSpPr/>
            <p:nvPr/>
          </p:nvSpPr>
          <p:spPr>
            <a:xfrm>
              <a:off x="6125400" y="1687680"/>
              <a:ext cx="632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a64a"/>
                  </a:solidFill>
                  <a:latin typeface="宋体"/>
                  <a:ea typeface="宋体"/>
                </a:rPr>
                <a:t>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文本框 22"/>
          <p:cNvSpPr/>
          <p:nvPr/>
        </p:nvSpPr>
        <p:spPr>
          <a:xfrm>
            <a:off x="971640" y="2300400"/>
            <a:ext cx="74880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616040" indent="-1616040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意法：如：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，表示日光、月光将空间照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23"/>
          <p:cNvSpPr/>
          <p:nvPr/>
        </p:nvSpPr>
        <p:spPr>
          <a:xfrm>
            <a:off x="971640" y="3498840"/>
            <a:ext cx="756108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616040" indent="-1616040">
              <a:lnSpc>
                <a:spcPct val="12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声法：如“清”，声旁“青”表读音，形旁“氵”表字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0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75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75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797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任意多边形: 形状 3"/>
            <p:cNvSpPr/>
            <p:nvPr/>
          </p:nvSpPr>
          <p:spPr>
            <a:xfrm>
              <a:off x="442800" y="266760"/>
              <a:ext cx="1393560" cy="34560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392555" h="346329">
                  <a:moveTo>
                    <a:pt x="548069" y="284226"/>
                  </a:moveTo>
                  <a:cubicBezTo>
                    <a:pt x="546164" y="284226"/>
                    <a:pt x="544513" y="286639"/>
                    <a:pt x="543116" y="291465"/>
                  </a:cubicBezTo>
                  <a:cubicBezTo>
                    <a:pt x="541719" y="296291"/>
                    <a:pt x="540639" y="299720"/>
                    <a:pt x="539877" y="301752"/>
                  </a:cubicBezTo>
                  <a:lnTo>
                    <a:pt x="560832" y="300228"/>
                  </a:lnTo>
                  <a:cubicBezTo>
                    <a:pt x="561594" y="298450"/>
                    <a:pt x="561975" y="297053"/>
                    <a:pt x="561975" y="296037"/>
                  </a:cubicBezTo>
                  <a:cubicBezTo>
                    <a:pt x="561975" y="295021"/>
                    <a:pt x="561848" y="294386"/>
                    <a:pt x="561594" y="294132"/>
                  </a:cubicBezTo>
                  <a:cubicBezTo>
                    <a:pt x="556006" y="289052"/>
                    <a:pt x="552831" y="286131"/>
                    <a:pt x="552069" y="285369"/>
                  </a:cubicBezTo>
                  <a:cubicBezTo>
                    <a:pt x="551307" y="284607"/>
                    <a:pt x="549974" y="284226"/>
                    <a:pt x="548069" y="284226"/>
                  </a:cubicBezTo>
                  <a:close/>
                  <a:moveTo>
                    <a:pt x="942213" y="256794"/>
                  </a:moveTo>
                  <a:cubicBezTo>
                    <a:pt x="927227" y="259842"/>
                    <a:pt x="914654" y="263652"/>
                    <a:pt x="904494" y="268224"/>
                  </a:cubicBezTo>
                  <a:cubicBezTo>
                    <a:pt x="919226" y="276860"/>
                    <a:pt x="929513" y="281178"/>
                    <a:pt x="935355" y="281178"/>
                  </a:cubicBezTo>
                  <a:cubicBezTo>
                    <a:pt x="937895" y="281178"/>
                    <a:pt x="939737" y="280289"/>
                    <a:pt x="940880" y="278511"/>
                  </a:cubicBezTo>
                  <a:cubicBezTo>
                    <a:pt x="942023" y="276733"/>
                    <a:pt x="942594" y="273876"/>
                    <a:pt x="942594" y="269939"/>
                  </a:cubicBezTo>
                  <a:cubicBezTo>
                    <a:pt x="942594" y="266002"/>
                    <a:pt x="942467" y="261620"/>
                    <a:pt x="942213" y="256794"/>
                  </a:cubicBezTo>
                  <a:close/>
                  <a:moveTo>
                    <a:pt x="206502" y="235458"/>
                  </a:moveTo>
                  <a:cubicBezTo>
                    <a:pt x="195072" y="244348"/>
                    <a:pt x="186944" y="251968"/>
                    <a:pt x="182118" y="258318"/>
                  </a:cubicBezTo>
                  <a:cubicBezTo>
                    <a:pt x="193294" y="262890"/>
                    <a:pt x="199898" y="265176"/>
                    <a:pt x="201930" y="265176"/>
                  </a:cubicBezTo>
                  <a:cubicBezTo>
                    <a:pt x="203962" y="265176"/>
                    <a:pt x="205232" y="264795"/>
                    <a:pt x="205740" y="264033"/>
                  </a:cubicBezTo>
                  <a:cubicBezTo>
                    <a:pt x="206248" y="263271"/>
                    <a:pt x="206566" y="259525"/>
                    <a:pt x="206693" y="252794"/>
                  </a:cubicBezTo>
                  <a:cubicBezTo>
                    <a:pt x="206820" y="246063"/>
                    <a:pt x="206756" y="240284"/>
                    <a:pt x="206502" y="235458"/>
                  </a:cubicBezTo>
                  <a:close/>
                  <a:moveTo>
                    <a:pt x="934974" y="174498"/>
                  </a:moveTo>
                  <a:cubicBezTo>
                    <a:pt x="930910" y="174498"/>
                    <a:pt x="926465" y="175514"/>
                    <a:pt x="921639" y="177546"/>
                  </a:cubicBezTo>
                  <a:cubicBezTo>
                    <a:pt x="920623" y="185420"/>
                    <a:pt x="919417" y="190881"/>
                    <a:pt x="918020" y="193929"/>
                  </a:cubicBezTo>
                  <a:cubicBezTo>
                    <a:pt x="916623" y="196977"/>
                    <a:pt x="915924" y="199454"/>
                    <a:pt x="915924" y="201359"/>
                  </a:cubicBezTo>
                  <a:cubicBezTo>
                    <a:pt x="915924" y="203264"/>
                    <a:pt x="916686" y="204216"/>
                    <a:pt x="918210" y="204216"/>
                  </a:cubicBezTo>
                  <a:cubicBezTo>
                    <a:pt x="919734" y="204216"/>
                    <a:pt x="921766" y="203454"/>
                    <a:pt x="924306" y="201930"/>
                  </a:cubicBezTo>
                  <a:cubicBezTo>
                    <a:pt x="926846" y="200406"/>
                    <a:pt x="933450" y="197104"/>
                    <a:pt x="944118" y="192024"/>
                  </a:cubicBezTo>
                  <a:cubicBezTo>
                    <a:pt x="944626" y="183642"/>
                    <a:pt x="944245" y="178626"/>
                    <a:pt x="942975" y="176975"/>
                  </a:cubicBezTo>
                  <a:cubicBezTo>
                    <a:pt x="941705" y="175324"/>
                    <a:pt x="939038" y="174498"/>
                    <a:pt x="934974" y="174498"/>
                  </a:cubicBezTo>
                  <a:close/>
                  <a:moveTo>
                    <a:pt x="556832" y="161544"/>
                  </a:moveTo>
                  <a:cubicBezTo>
                    <a:pt x="555943" y="161544"/>
                    <a:pt x="554736" y="162179"/>
                    <a:pt x="553212" y="163449"/>
                  </a:cubicBezTo>
                  <a:cubicBezTo>
                    <a:pt x="534416" y="179197"/>
                    <a:pt x="517398" y="186944"/>
                    <a:pt x="502158" y="186690"/>
                  </a:cubicBezTo>
                  <a:cubicBezTo>
                    <a:pt x="503174" y="190246"/>
                    <a:pt x="504317" y="195580"/>
                    <a:pt x="505587" y="202692"/>
                  </a:cubicBezTo>
                  <a:cubicBezTo>
                    <a:pt x="514985" y="200152"/>
                    <a:pt x="525272" y="198374"/>
                    <a:pt x="536448" y="197358"/>
                  </a:cubicBezTo>
                  <a:cubicBezTo>
                    <a:pt x="550926" y="183388"/>
                    <a:pt x="558165" y="172212"/>
                    <a:pt x="558165" y="163830"/>
                  </a:cubicBezTo>
                  <a:cubicBezTo>
                    <a:pt x="558165" y="162306"/>
                    <a:pt x="557721" y="161544"/>
                    <a:pt x="556832" y="161544"/>
                  </a:cubicBezTo>
                  <a:close/>
                  <a:moveTo>
                    <a:pt x="1202627" y="149733"/>
                  </a:moveTo>
                  <a:cubicBezTo>
                    <a:pt x="1199960" y="149733"/>
                    <a:pt x="1198626" y="151003"/>
                    <a:pt x="1198626" y="153543"/>
                  </a:cubicBezTo>
                  <a:cubicBezTo>
                    <a:pt x="1198626" y="156083"/>
                    <a:pt x="1200849" y="161481"/>
                    <a:pt x="1205294" y="169736"/>
                  </a:cubicBezTo>
                  <a:cubicBezTo>
                    <a:pt x="1209739" y="177991"/>
                    <a:pt x="1215009" y="185547"/>
                    <a:pt x="1221105" y="192405"/>
                  </a:cubicBezTo>
                  <a:cubicBezTo>
                    <a:pt x="1229741" y="174625"/>
                    <a:pt x="1234059" y="164465"/>
                    <a:pt x="1234059" y="161925"/>
                  </a:cubicBezTo>
                  <a:cubicBezTo>
                    <a:pt x="1234059" y="160909"/>
                    <a:pt x="1233107" y="160274"/>
                    <a:pt x="1231202" y="160020"/>
                  </a:cubicBezTo>
                  <a:cubicBezTo>
                    <a:pt x="1229297" y="159766"/>
                    <a:pt x="1226249" y="158941"/>
                    <a:pt x="1222058" y="157544"/>
                  </a:cubicBezTo>
                  <a:cubicBezTo>
                    <a:pt x="1217867" y="156147"/>
                    <a:pt x="1214247" y="154496"/>
                    <a:pt x="1211199" y="152591"/>
                  </a:cubicBezTo>
                  <a:cubicBezTo>
                    <a:pt x="1208151" y="150686"/>
                    <a:pt x="1205294" y="149733"/>
                    <a:pt x="1202627" y="149733"/>
                  </a:cubicBezTo>
                  <a:close/>
                  <a:moveTo>
                    <a:pt x="203454" y="130302"/>
                  </a:moveTo>
                  <a:cubicBezTo>
                    <a:pt x="194818" y="134112"/>
                    <a:pt x="184277" y="136017"/>
                    <a:pt x="171831" y="136017"/>
                  </a:cubicBezTo>
                  <a:cubicBezTo>
                    <a:pt x="171831" y="144145"/>
                    <a:pt x="172085" y="149352"/>
                    <a:pt x="172593" y="151638"/>
                  </a:cubicBezTo>
                  <a:cubicBezTo>
                    <a:pt x="173101" y="153924"/>
                    <a:pt x="174117" y="154813"/>
                    <a:pt x="175641" y="154305"/>
                  </a:cubicBezTo>
                  <a:cubicBezTo>
                    <a:pt x="185293" y="152019"/>
                    <a:pt x="194691" y="149987"/>
                    <a:pt x="203835" y="148209"/>
                  </a:cubicBezTo>
                  <a:cubicBezTo>
                    <a:pt x="203581" y="143637"/>
                    <a:pt x="203454" y="137668"/>
                    <a:pt x="203454" y="130302"/>
                  </a:cubicBezTo>
                  <a:close/>
                  <a:moveTo>
                    <a:pt x="603885" y="102108"/>
                  </a:moveTo>
                  <a:cubicBezTo>
                    <a:pt x="582549" y="102108"/>
                    <a:pt x="561213" y="107061"/>
                    <a:pt x="539877" y="116967"/>
                  </a:cubicBezTo>
                  <a:cubicBezTo>
                    <a:pt x="539623" y="122809"/>
                    <a:pt x="537972" y="132715"/>
                    <a:pt x="534924" y="146685"/>
                  </a:cubicBezTo>
                  <a:cubicBezTo>
                    <a:pt x="550926" y="140081"/>
                    <a:pt x="561467" y="136779"/>
                    <a:pt x="566547" y="136779"/>
                  </a:cubicBezTo>
                  <a:cubicBezTo>
                    <a:pt x="571627" y="136779"/>
                    <a:pt x="577723" y="138303"/>
                    <a:pt x="584835" y="141351"/>
                  </a:cubicBezTo>
                  <a:cubicBezTo>
                    <a:pt x="597535" y="135255"/>
                    <a:pt x="607759" y="129540"/>
                    <a:pt x="615506" y="124206"/>
                  </a:cubicBezTo>
                  <a:cubicBezTo>
                    <a:pt x="623253" y="118872"/>
                    <a:pt x="627507" y="115697"/>
                    <a:pt x="628269" y="114681"/>
                  </a:cubicBezTo>
                  <a:cubicBezTo>
                    <a:pt x="629031" y="113665"/>
                    <a:pt x="629412" y="112649"/>
                    <a:pt x="629412" y="111633"/>
                  </a:cubicBezTo>
                  <a:cubicBezTo>
                    <a:pt x="629412" y="105283"/>
                    <a:pt x="620903" y="102108"/>
                    <a:pt x="603885" y="102108"/>
                  </a:cubicBezTo>
                  <a:close/>
                  <a:moveTo>
                    <a:pt x="487299" y="91821"/>
                  </a:moveTo>
                  <a:cubicBezTo>
                    <a:pt x="485775" y="96647"/>
                    <a:pt x="483743" y="100330"/>
                    <a:pt x="481203" y="102870"/>
                  </a:cubicBezTo>
                  <a:cubicBezTo>
                    <a:pt x="478663" y="105410"/>
                    <a:pt x="477393" y="109093"/>
                    <a:pt x="477393" y="113919"/>
                  </a:cubicBezTo>
                  <a:cubicBezTo>
                    <a:pt x="489331" y="111887"/>
                    <a:pt x="497967" y="110490"/>
                    <a:pt x="503301" y="109728"/>
                  </a:cubicBezTo>
                  <a:cubicBezTo>
                    <a:pt x="502539" y="106172"/>
                    <a:pt x="497205" y="100203"/>
                    <a:pt x="487299" y="91821"/>
                  </a:cubicBezTo>
                  <a:close/>
                  <a:moveTo>
                    <a:pt x="198882" y="87630"/>
                  </a:moveTo>
                  <a:cubicBezTo>
                    <a:pt x="189230" y="90678"/>
                    <a:pt x="179197" y="92456"/>
                    <a:pt x="168783" y="92964"/>
                  </a:cubicBezTo>
                  <a:cubicBezTo>
                    <a:pt x="170815" y="98552"/>
                    <a:pt x="172466" y="105029"/>
                    <a:pt x="173736" y="112395"/>
                  </a:cubicBezTo>
                  <a:cubicBezTo>
                    <a:pt x="180340" y="109347"/>
                    <a:pt x="190754" y="106426"/>
                    <a:pt x="204978" y="103632"/>
                  </a:cubicBezTo>
                  <a:cubicBezTo>
                    <a:pt x="204470" y="96520"/>
                    <a:pt x="202438" y="91186"/>
                    <a:pt x="198882" y="87630"/>
                  </a:cubicBezTo>
                  <a:close/>
                  <a:moveTo>
                    <a:pt x="252794" y="67056"/>
                  </a:moveTo>
                  <a:cubicBezTo>
                    <a:pt x="248095" y="67056"/>
                    <a:pt x="239649" y="70993"/>
                    <a:pt x="227457" y="78867"/>
                  </a:cubicBezTo>
                  <a:cubicBezTo>
                    <a:pt x="230759" y="83693"/>
                    <a:pt x="232537" y="89408"/>
                    <a:pt x="232791" y="96012"/>
                  </a:cubicBezTo>
                  <a:cubicBezTo>
                    <a:pt x="239649" y="96520"/>
                    <a:pt x="244983" y="98108"/>
                    <a:pt x="248793" y="100775"/>
                  </a:cubicBezTo>
                  <a:cubicBezTo>
                    <a:pt x="252603" y="103442"/>
                    <a:pt x="254508" y="106109"/>
                    <a:pt x="254508" y="108776"/>
                  </a:cubicBezTo>
                  <a:cubicBezTo>
                    <a:pt x="254508" y="111443"/>
                    <a:pt x="252667" y="114046"/>
                    <a:pt x="248984" y="116586"/>
                  </a:cubicBezTo>
                  <a:cubicBezTo>
                    <a:pt x="245301" y="119126"/>
                    <a:pt x="239903" y="121158"/>
                    <a:pt x="232791" y="122682"/>
                  </a:cubicBezTo>
                  <a:cubicBezTo>
                    <a:pt x="232029" y="129032"/>
                    <a:pt x="231648" y="135255"/>
                    <a:pt x="231648" y="141351"/>
                  </a:cubicBezTo>
                  <a:cubicBezTo>
                    <a:pt x="239776" y="140589"/>
                    <a:pt x="245491" y="137859"/>
                    <a:pt x="248793" y="133160"/>
                  </a:cubicBezTo>
                  <a:cubicBezTo>
                    <a:pt x="252095" y="128461"/>
                    <a:pt x="255588" y="120269"/>
                    <a:pt x="259271" y="108585"/>
                  </a:cubicBezTo>
                  <a:cubicBezTo>
                    <a:pt x="262954" y="96901"/>
                    <a:pt x="264795" y="89218"/>
                    <a:pt x="264795" y="85535"/>
                  </a:cubicBezTo>
                  <a:cubicBezTo>
                    <a:pt x="264795" y="81852"/>
                    <a:pt x="263970" y="77851"/>
                    <a:pt x="262319" y="73533"/>
                  </a:cubicBezTo>
                  <a:cubicBezTo>
                    <a:pt x="260668" y="69215"/>
                    <a:pt x="257493" y="67056"/>
                    <a:pt x="252794" y="67056"/>
                  </a:cubicBezTo>
                  <a:close/>
                  <a:moveTo>
                    <a:pt x="514731" y="49530"/>
                  </a:moveTo>
                  <a:cubicBezTo>
                    <a:pt x="497967" y="71882"/>
                    <a:pt x="489585" y="84963"/>
                    <a:pt x="489585" y="88773"/>
                  </a:cubicBezTo>
                  <a:cubicBezTo>
                    <a:pt x="490347" y="89027"/>
                    <a:pt x="495300" y="91440"/>
                    <a:pt x="504444" y="96012"/>
                  </a:cubicBezTo>
                  <a:cubicBezTo>
                    <a:pt x="504952" y="96266"/>
                    <a:pt x="505651" y="96393"/>
                    <a:pt x="506540" y="96393"/>
                  </a:cubicBezTo>
                  <a:cubicBezTo>
                    <a:pt x="507429" y="96393"/>
                    <a:pt x="508572" y="95504"/>
                    <a:pt x="509969" y="93726"/>
                  </a:cubicBezTo>
                  <a:cubicBezTo>
                    <a:pt x="511366" y="91948"/>
                    <a:pt x="512572" y="84582"/>
                    <a:pt x="513588" y="71628"/>
                  </a:cubicBezTo>
                  <a:cubicBezTo>
                    <a:pt x="514604" y="58674"/>
                    <a:pt x="514985" y="51308"/>
                    <a:pt x="514731" y="49530"/>
                  </a:cubicBezTo>
                  <a:close/>
                  <a:moveTo>
                    <a:pt x="1321308" y="43434"/>
                  </a:moveTo>
                  <a:cubicBezTo>
                    <a:pt x="1331214" y="43434"/>
                    <a:pt x="1342327" y="45149"/>
                    <a:pt x="1354646" y="48578"/>
                  </a:cubicBezTo>
                  <a:cubicBezTo>
                    <a:pt x="1366965" y="52007"/>
                    <a:pt x="1374648" y="55499"/>
                    <a:pt x="1377696" y="59055"/>
                  </a:cubicBezTo>
                  <a:cubicBezTo>
                    <a:pt x="1380744" y="62611"/>
                    <a:pt x="1383983" y="66612"/>
                    <a:pt x="1387412" y="71057"/>
                  </a:cubicBezTo>
                  <a:cubicBezTo>
                    <a:pt x="1390841" y="75502"/>
                    <a:pt x="1392555" y="80518"/>
                    <a:pt x="1392555" y="86106"/>
                  </a:cubicBezTo>
                  <a:cubicBezTo>
                    <a:pt x="1392555" y="91694"/>
                    <a:pt x="1391666" y="99060"/>
                    <a:pt x="1389888" y="108204"/>
                  </a:cubicBezTo>
                  <a:cubicBezTo>
                    <a:pt x="1385316" y="131064"/>
                    <a:pt x="1382268" y="163703"/>
                    <a:pt x="1380744" y="206121"/>
                  </a:cubicBezTo>
                  <a:cubicBezTo>
                    <a:pt x="1379728" y="229743"/>
                    <a:pt x="1378014" y="246698"/>
                    <a:pt x="1375601" y="256985"/>
                  </a:cubicBezTo>
                  <a:cubicBezTo>
                    <a:pt x="1373188" y="267272"/>
                    <a:pt x="1367727" y="278765"/>
                    <a:pt x="1359218" y="291465"/>
                  </a:cubicBezTo>
                  <a:cubicBezTo>
                    <a:pt x="1350709" y="304165"/>
                    <a:pt x="1344676" y="312230"/>
                    <a:pt x="1341120" y="315659"/>
                  </a:cubicBezTo>
                  <a:cubicBezTo>
                    <a:pt x="1337564" y="319088"/>
                    <a:pt x="1334516" y="320802"/>
                    <a:pt x="1331976" y="320802"/>
                  </a:cubicBezTo>
                  <a:cubicBezTo>
                    <a:pt x="1329436" y="320802"/>
                    <a:pt x="1326769" y="319405"/>
                    <a:pt x="1323975" y="316611"/>
                  </a:cubicBezTo>
                  <a:cubicBezTo>
                    <a:pt x="1315847" y="308483"/>
                    <a:pt x="1303909" y="298704"/>
                    <a:pt x="1288161" y="287274"/>
                  </a:cubicBezTo>
                  <a:cubicBezTo>
                    <a:pt x="1274699" y="277114"/>
                    <a:pt x="1261872" y="262382"/>
                    <a:pt x="1249680" y="243078"/>
                  </a:cubicBezTo>
                  <a:cubicBezTo>
                    <a:pt x="1243076" y="248666"/>
                    <a:pt x="1233615" y="254889"/>
                    <a:pt x="1221296" y="261747"/>
                  </a:cubicBezTo>
                  <a:cubicBezTo>
                    <a:pt x="1208977" y="268605"/>
                    <a:pt x="1200976" y="272034"/>
                    <a:pt x="1197293" y="272034"/>
                  </a:cubicBezTo>
                  <a:cubicBezTo>
                    <a:pt x="1193610" y="272034"/>
                    <a:pt x="1191197" y="270320"/>
                    <a:pt x="1190054" y="266891"/>
                  </a:cubicBezTo>
                  <a:cubicBezTo>
                    <a:pt x="1188911" y="263462"/>
                    <a:pt x="1187895" y="257366"/>
                    <a:pt x="1187006" y="248603"/>
                  </a:cubicBezTo>
                  <a:cubicBezTo>
                    <a:pt x="1186117" y="239840"/>
                    <a:pt x="1185672" y="232918"/>
                    <a:pt x="1185672" y="227838"/>
                  </a:cubicBezTo>
                  <a:cubicBezTo>
                    <a:pt x="1185672" y="222758"/>
                    <a:pt x="1186561" y="219139"/>
                    <a:pt x="1188339" y="216980"/>
                  </a:cubicBezTo>
                  <a:cubicBezTo>
                    <a:pt x="1190117" y="214821"/>
                    <a:pt x="1193800" y="213043"/>
                    <a:pt x="1199388" y="211646"/>
                  </a:cubicBezTo>
                  <a:cubicBezTo>
                    <a:pt x="1204976" y="210249"/>
                    <a:pt x="1208786" y="208852"/>
                    <a:pt x="1210818" y="207455"/>
                  </a:cubicBezTo>
                  <a:cubicBezTo>
                    <a:pt x="1212850" y="206058"/>
                    <a:pt x="1215263" y="202946"/>
                    <a:pt x="1218057" y="198120"/>
                  </a:cubicBezTo>
                  <a:cubicBezTo>
                    <a:pt x="1210437" y="187452"/>
                    <a:pt x="1203198" y="175387"/>
                    <a:pt x="1196340" y="161925"/>
                  </a:cubicBezTo>
                  <a:cubicBezTo>
                    <a:pt x="1189482" y="148463"/>
                    <a:pt x="1186053" y="138113"/>
                    <a:pt x="1186053" y="130874"/>
                  </a:cubicBezTo>
                  <a:cubicBezTo>
                    <a:pt x="1186053" y="123635"/>
                    <a:pt x="1190498" y="119761"/>
                    <a:pt x="1199388" y="119253"/>
                  </a:cubicBezTo>
                  <a:cubicBezTo>
                    <a:pt x="1221232" y="117983"/>
                    <a:pt x="1234059" y="116967"/>
                    <a:pt x="1237869" y="116205"/>
                  </a:cubicBezTo>
                  <a:cubicBezTo>
                    <a:pt x="1241679" y="115443"/>
                    <a:pt x="1244346" y="115062"/>
                    <a:pt x="1245870" y="115062"/>
                  </a:cubicBezTo>
                  <a:cubicBezTo>
                    <a:pt x="1250950" y="115062"/>
                    <a:pt x="1257618" y="119063"/>
                    <a:pt x="1265873" y="127064"/>
                  </a:cubicBezTo>
                  <a:cubicBezTo>
                    <a:pt x="1274128" y="135065"/>
                    <a:pt x="1278255" y="142494"/>
                    <a:pt x="1278255" y="149352"/>
                  </a:cubicBezTo>
                  <a:cubicBezTo>
                    <a:pt x="1278255" y="152908"/>
                    <a:pt x="1277112" y="156083"/>
                    <a:pt x="1274826" y="158877"/>
                  </a:cubicBezTo>
                  <a:cubicBezTo>
                    <a:pt x="1256284" y="180975"/>
                    <a:pt x="1247013" y="193929"/>
                    <a:pt x="1247013" y="197739"/>
                  </a:cubicBezTo>
                  <a:cubicBezTo>
                    <a:pt x="1247013" y="198501"/>
                    <a:pt x="1247521" y="198882"/>
                    <a:pt x="1248537" y="198882"/>
                  </a:cubicBezTo>
                  <a:cubicBezTo>
                    <a:pt x="1250823" y="198882"/>
                    <a:pt x="1259840" y="194183"/>
                    <a:pt x="1275588" y="184785"/>
                  </a:cubicBezTo>
                  <a:lnTo>
                    <a:pt x="1296162" y="172593"/>
                  </a:lnTo>
                  <a:cubicBezTo>
                    <a:pt x="1297686" y="171323"/>
                    <a:pt x="1299210" y="170688"/>
                    <a:pt x="1300734" y="170688"/>
                  </a:cubicBezTo>
                  <a:cubicBezTo>
                    <a:pt x="1304036" y="170688"/>
                    <a:pt x="1305687" y="172847"/>
                    <a:pt x="1305687" y="177165"/>
                  </a:cubicBezTo>
                  <a:cubicBezTo>
                    <a:pt x="1305687" y="178689"/>
                    <a:pt x="1305370" y="180213"/>
                    <a:pt x="1304735" y="181737"/>
                  </a:cubicBezTo>
                  <a:cubicBezTo>
                    <a:pt x="1304100" y="183261"/>
                    <a:pt x="1300798" y="187960"/>
                    <a:pt x="1294829" y="195834"/>
                  </a:cubicBezTo>
                  <a:cubicBezTo>
                    <a:pt x="1288860" y="203708"/>
                    <a:pt x="1283018" y="210630"/>
                    <a:pt x="1277303" y="216599"/>
                  </a:cubicBezTo>
                  <a:cubicBezTo>
                    <a:pt x="1271588" y="222568"/>
                    <a:pt x="1266317" y="227965"/>
                    <a:pt x="1261491" y="232791"/>
                  </a:cubicBezTo>
                  <a:cubicBezTo>
                    <a:pt x="1274699" y="242697"/>
                    <a:pt x="1286891" y="250190"/>
                    <a:pt x="1298067" y="255270"/>
                  </a:cubicBezTo>
                  <a:cubicBezTo>
                    <a:pt x="1309243" y="260350"/>
                    <a:pt x="1317625" y="262890"/>
                    <a:pt x="1323213" y="262890"/>
                  </a:cubicBezTo>
                  <a:cubicBezTo>
                    <a:pt x="1328801" y="262890"/>
                    <a:pt x="1332865" y="262128"/>
                    <a:pt x="1335405" y="260604"/>
                  </a:cubicBezTo>
                  <a:cubicBezTo>
                    <a:pt x="1337945" y="259080"/>
                    <a:pt x="1341501" y="246317"/>
                    <a:pt x="1346073" y="222314"/>
                  </a:cubicBezTo>
                  <a:cubicBezTo>
                    <a:pt x="1350645" y="198311"/>
                    <a:pt x="1352931" y="171704"/>
                    <a:pt x="1352931" y="142494"/>
                  </a:cubicBezTo>
                  <a:cubicBezTo>
                    <a:pt x="1352931" y="113284"/>
                    <a:pt x="1352360" y="95060"/>
                    <a:pt x="1351217" y="87821"/>
                  </a:cubicBezTo>
                  <a:cubicBezTo>
                    <a:pt x="1350074" y="80582"/>
                    <a:pt x="1347915" y="74994"/>
                    <a:pt x="1344740" y="71057"/>
                  </a:cubicBezTo>
                  <a:cubicBezTo>
                    <a:pt x="1341565" y="67120"/>
                    <a:pt x="1338199" y="65151"/>
                    <a:pt x="1334643" y="65151"/>
                  </a:cubicBezTo>
                  <a:cubicBezTo>
                    <a:pt x="1327785" y="65151"/>
                    <a:pt x="1313180" y="71882"/>
                    <a:pt x="1290828" y="85344"/>
                  </a:cubicBezTo>
                  <a:cubicBezTo>
                    <a:pt x="1278382" y="92710"/>
                    <a:pt x="1269429" y="96393"/>
                    <a:pt x="1263968" y="96393"/>
                  </a:cubicBezTo>
                  <a:cubicBezTo>
                    <a:pt x="1258507" y="96393"/>
                    <a:pt x="1252792" y="94171"/>
                    <a:pt x="1246823" y="89726"/>
                  </a:cubicBezTo>
                  <a:cubicBezTo>
                    <a:pt x="1240854" y="85281"/>
                    <a:pt x="1234377" y="79375"/>
                    <a:pt x="1227392" y="72009"/>
                  </a:cubicBezTo>
                  <a:cubicBezTo>
                    <a:pt x="1220407" y="64643"/>
                    <a:pt x="1216914" y="60198"/>
                    <a:pt x="1216914" y="58674"/>
                  </a:cubicBezTo>
                  <a:cubicBezTo>
                    <a:pt x="1216914" y="57150"/>
                    <a:pt x="1217486" y="56388"/>
                    <a:pt x="1218629" y="56388"/>
                  </a:cubicBezTo>
                  <a:cubicBezTo>
                    <a:pt x="1219772" y="56388"/>
                    <a:pt x="1222629" y="57785"/>
                    <a:pt x="1227201" y="60579"/>
                  </a:cubicBezTo>
                  <a:cubicBezTo>
                    <a:pt x="1231773" y="63373"/>
                    <a:pt x="1235520" y="64770"/>
                    <a:pt x="1238441" y="64770"/>
                  </a:cubicBezTo>
                  <a:cubicBezTo>
                    <a:pt x="1241362" y="64770"/>
                    <a:pt x="1244600" y="64135"/>
                    <a:pt x="1248156" y="62865"/>
                  </a:cubicBezTo>
                  <a:cubicBezTo>
                    <a:pt x="1287018" y="49911"/>
                    <a:pt x="1311402" y="43434"/>
                    <a:pt x="1321308" y="43434"/>
                  </a:cubicBezTo>
                  <a:close/>
                  <a:moveTo>
                    <a:pt x="91059" y="39243"/>
                  </a:moveTo>
                  <a:cubicBezTo>
                    <a:pt x="105537" y="39243"/>
                    <a:pt x="116904" y="43307"/>
                    <a:pt x="125159" y="51435"/>
                  </a:cubicBezTo>
                  <a:cubicBezTo>
                    <a:pt x="133414" y="59563"/>
                    <a:pt x="137541" y="66104"/>
                    <a:pt x="137541" y="71057"/>
                  </a:cubicBezTo>
                  <a:cubicBezTo>
                    <a:pt x="137541" y="76010"/>
                    <a:pt x="135954" y="80137"/>
                    <a:pt x="132779" y="83439"/>
                  </a:cubicBezTo>
                  <a:cubicBezTo>
                    <a:pt x="129604" y="86741"/>
                    <a:pt x="126111" y="88392"/>
                    <a:pt x="122301" y="88392"/>
                  </a:cubicBezTo>
                  <a:cubicBezTo>
                    <a:pt x="121031" y="88392"/>
                    <a:pt x="119317" y="88075"/>
                    <a:pt x="117158" y="87440"/>
                  </a:cubicBezTo>
                  <a:cubicBezTo>
                    <a:pt x="114999" y="86805"/>
                    <a:pt x="112840" y="86487"/>
                    <a:pt x="110681" y="86487"/>
                  </a:cubicBezTo>
                  <a:cubicBezTo>
                    <a:pt x="108522" y="86487"/>
                    <a:pt x="105791" y="87249"/>
                    <a:pt x="102489" y="88773"/>
                  </a:cubicBezTo>
                  <a:cubicBezTo>
                    <a:pt x="99187" y="90297"/>
                    <a:pt x="93282" y="93726"/>
                    <a:pt x="84773" y="99060"/>
                  </a:cubicBezTo>
                  <a:cubicBezTo>
                    <a:pt x="76264" y="104394"/>
                    <a:pt x="70803" y="107506"/>
                    <a:pt x="68390" y="108395"/>
                  </a:cubicBezTo>
                  <a:cubicBezTo>
                    <a:pt x="65977" y="109284"/>
                    <a:pt x="63119" y="109728"/>
                    <a:pt x="59817" y="109728"/>
                  </a:cubicBezTo>
                  <a:cubicBezTo>
                    <a:pt x="51435" y="109728"/>
                    <a:pt x="41466" y="115316"/>
                    <a:pt x="29909" y="126492"/>
                  </a:cubicBezTo>
                  <a:cubicBezTo>
                    <a:pt x="18352" y="137668"/>
                    <a:pt x="12573" y="148336"/>
                    <a:pt x="12573" y="158496"/>
                  </a:cubicBezTo>
                  <a:cubicBezTo>
                    <a:pt x="12573" y="163068"/>
                    <a:pt x="13843" y="165354"/>
                    <a:pt x="16383" y="165354"/>
                  </a:cubicBezTo>
                  <a:cubicBezTo>
                    <a:pt x="21463" y="165354"/>
                    <a:pt x="30036" y="161417"/>
                    <a:pt x="42101" y="153543"/>
                  </a:cubicBezTo>
                  <a:cubicBezTo>
                    <a:pt x="54166" y="145669"/>
                    <a:pt x="62484" y="138557"/>
                    <a:pt x="67056" y="132207"/>
                  </a:cubicBezTo>
                  <a:cubicBezTo>
                    <a:pt x="69850" y="128143"/>
                    <a:pt x="75819" y="126111"/>
                    <a:pt x="84963" y="126111"/>
                  </a:cubicBezTo>
                  <a:cubicBezTo>
                    <a:pt x="102743" y="126111"/>
                    <a:pt x="111633" y="134112"/>
                    <a:pt x="111633" y="150114"/>
                  </a:cubicBezTo>
                  <a:cubicBezTo>
                    <a:pt x="111633" y="153416"/>
                    <a:pt x="111125" y="156718"/>
                    <a:pt x="110109" y="160020"/>
                  </a:cubicBezTo>
                  <a:cubicBezTo>
                    <a:pt x="101727" y="186436"/>
                    <a:pt x="96838" y="204216"/>
                    <a:pt x="95441" y="213360"/>
                  </a:cubicBezTo>
                  <a:cubicBezTo>
                    <a:pt x="94044" y="222504"/>
                    <a:pt x="93345" y="231585"/>
                    <a:pt x="93345" y="240602"/>
                  </a:cubicBezTo>
                  <a:cubicBezTo>
                    <a:pt x="93345" y="249619"/>
                    <a:pt x="93472" y="254572"/>
                    <a:pt x="93726" y="255461"/>
                  </a:cubicBezTo>
                  <a:cubicBezTo>
                    <a:pt x="93980" y="256350"/>
                    <a:pt x="94425" y="256794"/>
                    <a:pt x="95060" y="256794"/>
                  </a:cubicBezTo>
                  <a:cubicBezTo>
                    <a:pt x="95695" y="256794"/>
                    <a:pt x="96266" y="256413"/>
                    <a:pt x="96774" y="255651"/>
                  </a:cubicBezTo>
                  <a:cubicBezTo>
                    <a:pt x="97282" y="254889"/>
                    <a:pt x="100013" y="249619"/>
                    <a:pt x="104966" y="239840"/>
                  </a:cubicBezTo>
                  <a:cubicBezTo>
                    <a:pt x="109919" y="230061"/>
                    <a:pt x="114999" y="218885"/>
                    <a:pt x="120206" y="206312"/>
                  </a:cubicBezTo>
                  <a:cubicBezTo>
                    <a:pt x="125413" y="193739"/>
                    <a:pt x="131445" y="182245"/>
                    <a:pt x="138303" y="171831"/>
                  </a:cubicBezTo>
                  <a:cubicBezTo>
                    <a:pt x="135763" y="181229"/>
                    <a:pt x="133604" y="192405"/>
                    <a:pt x="131826" y="205359"/>
                  </a:cubicBezTo>
                  <a:cubicBezTo>
                    <a:pt x="155956" y="196977"/>
                    <a:pt x="180721" y="190246"/>
                    <a:pt x="206121" y="185166"/>
                  </a:cubicBezTo>
                  <a:lnTo>
                    <a:pt x="205359" y="171069"/>
                  </a:lnTo>
                  <a:cubicBezTo>
                    <a:pt x="194183" y="172593"/>
                    <a:pt x="185674" y="174308"/>
                    <a:pt x="179832" y="176213"/>
                  </a:cubicBezTo>
                  <a:cubicBezTo>
                    <a:pt x="173990" y="178118"/>
                    <a:pt x="170307" y="179070"/>
                    <a:pt x="168783" y="179070"/>
                  </a:cubicBezTo>
                  <a:cubicBezTo>
                    <a:pt x="161925" y="179070"/>
                    <a:pt x="156147" y="173482"/>
                    <a:pt x="151448" y="162306"/>
                  </a:cubicBezTo>
                  <a:cubicBezTo>
                    <a:pt x="146749" y="151130"/>
                    <a:pt x="144145" y="137414"/>
                    <a:pt x="143637" y="121158"/>
                  </a:cubicBezTo>
                  <a:cubicBezTo>
                    <a:pt x="143383" y="113030"/>
                    <a:pt x="141796" y="106934"/>
                    <a:pt x="138875" y="102870"/>
                  </a:cubicBezTo>
                  <a:cubicBezTo>
                    <a:pt x="135954" y="98806"/>
                    <a:pt x="134493" y="95822"/>
                    <a:pt x="134493" y="93917"/>
                  </a:cubicBezTo>
                  <a:cubicBezTo>
                    <a:pt x="134493" y="92012"/>
                    <a:pt x="135065" y="89218"/>
                    <a:pt x="136208" y="85535"/>
                  </a:cubicBezTo>
                  <a:cubicBezTo>
                    <a:pt x="137351" y="81852"/>
                    <a:pt x="138303" y="79629"/>
                    <a:pt x="139065" y="78867"/>
                  </a:cubicBezTo>
                  <a:cubicBezTo>
                    <a:pt x="139827" y="78105"/>
                    <a:pt x="141351" y="77724"/>
                    <a:pt x="143637" y="77724"/>
                  </a:cubicBezTo>
                  <a:cubicBezTo>
                    <a:pt x="145923" y="77724"/>
                    <a:pt x="151384" y="78613"/>
                    <a:pt x="160020" y="80391"/>
                  </a:cubicBezTo>
                  <a:cubicBezTo>
                    <a:pt x="173990" y="69977"/>
                    <a:pt x="190754" y="62294"/>
                    <a:pt x="210312" y="57341"/>
                  </a:cubicBezTo>
                  <a:cubicBezTo>
                    <a:pt x="229870" y="52388"/>
                    <a:pt x="243205" y="49911"/>
                    <a:pt x="250317" y="49911"/>
                  </a:cubicBezTo>
                  <a:cubicBezTo>
                    <a:pt x="262001" y="49911"/>
                    <a:pt x="274320" y="54674"/>
                    <a:pt x="287274" y="64199"/>
                  </a:cubicBezTo>
                  <a:cubicBezTo>
                    <a:pt x="300228" y="73724"/>
                    <a:pt x="306705" y="83058"/>
                    <a:pt x="306705" y="92202"/>
                  </a:cubicBezTo>
                  <a:cubicBezTo>
                    <a:pt x="306705" y="94488"/>
                    <a:pt x="306261" y="96774"/>
                    <a:pt x="305372" y="99060"/>
                  </a:cubicBezTo>
                  <a:cubicBezTo>
                    <a:pt x="304483" y="101346"/>
                    <a:pt x="301054" y="107188"/>
                    <a:pt x="295085" y="116586"/>
                  </a:cubicBezTo>
                  <a:cubicBezTo>
                    <a:pt x="289116" y="125984"/>
                    <a:pt x="283972" y="132715"/>
                    <a:pt x="279654" y="136779"/>
                  </a:cubicBezTo>
                  <a:cubicBezTo>
                    <a:pt x="275336" y="140843"/>
                    <a:pt x="270129" y="145288"/>
                    <a:pt x="264033" y="150114"/>
                  </a:cubicBezTo>
                  <a:cubicBezTo>
                    <a:pt x="264541" y="160274"/>
                    <a:pt x="257048" y="165354"/>
                    <a:pt x="241554" y="165354"/>
                  </a:cubicBezTo>
                  <a:cubicBezTo>
                    <a:pt x="236728" y="165354"/>
                    <a:pt x="233045" y="165735"/>
                    <a:pt x="230505" y="166497"/>
                  </a:cubicBezTo>
                  <a:lnTo>
                    <a:pt x="230505" y="181356"/>
                  </a:lnTo>
                  <a:cubicBezTo>
                    <a:pt x="249555" y="179070"/>
                    <a:pt x="262382" y="177927"/>
                    <a:pt x="268986" y="177927"/>
                  </a:cubicBezTo>
                  <a:cubicBezTo>
                    <a:pt x="275590" y="177927"/>
                    <a:pt x="283083" y="180404"/>
                    <a:pt x="291465" y="185357"/>
                  </a:cubicBezTo>
                  <a:cubicBezTo>
                    <a:pt x="299847" y="190310"/>
                    <a:pt x="304038" y="194501"/>
                    <a:pt x="304038" y="197930"/>
                  </a:cubicBezTo>
                  <a:cubicBezTo>
                    <a:pt x="304038" y="201359"/>
                    <a:pt x="302641" y="204216"/>
                    <a:pt x="299847" y="206502"/>
                  </a:cubicBezTo>
                  <a:cubicBezTo>
                    <a:pt x="297053" y="208788"/>
                    <a:pt x="293815" y="209931"/>
                    <a:pt x="290132" y="209931"/>
                  </a:cubicBezTo>
                  <a:cubicBezTo>
                    <a:pt x="286449" y="209931"/>
                    <a:pt x="282829" y="209423"/>
                    <a:pt x="279273" y="208407"/>
                  </a:cubicBezTo>
                  <a:cubicBezTo>
                    <a:pt x="264287" y="203835"/>
                    <a:pt x="251079" y="201549"/>
                    <a:pt x="239649" y="201549"/>
                  </a:cubicBezTo>
                  <a:cubicBezTo>
                    <a:pt x="236347" y="201549"/>
                    <a:pt x="233553" y="201803"/>
                    <a:pt x="231267" y="202311"/>
                  </a:cubicBezTo>
                  <a:cubicBezTo>
                    <a:pt x="231775" y="213233"/>
                    <a:pt x="232410" y="222123"/>
                    <a:pt x="233172" y="228981"/>
                  </a:cubicBezTo>
                  <a:cubicBezTo>
                    <a:pt x="246634" y="232029"/>
                    <a:pt x="258509" y="233617"/>
                    <a:pt x="268796" y="233744"/>
                  </a:cubicBezTo>
                  <a:cubicBezTo>
                    <a:pt x="279083" y="233871"/>
                    <a:pt x="288417" y="237490"/>
                    <a:pt x="296799" y="244602"/>
                  </a:cubicBezTo>
                  <a:cubicBezTo>
                    <a:pt x="305181" y="251714"/>
                    <a:pt x="309372" y="258953"/>
                    <a:pt x="309372" y="266319"/>
                  </a:cubicBezTo>
                  <a:cubicBezTo>
                    <a:pt x="309372" y="271145"/>
                    <a:pt x="308102" y="275717"/>
                    <a:pt x="305562" y="280035"/>
                  </a:cubicBezTo>
                  <a:cubicBezTo>
                    <a:pt x="303022" y="284353"/>
                    <a:pt x="298958" y="286512"/>
                    <a:pt x="293370" y="286512"/>
                  </a:cubicBezTo>
                  <a:cubicBezTo>
                    <a:pt x="284226" y="286512"/>
                    <a:pt x="272034" y="274447"/>
                    <a:pt x="256794" y="250317"/>
                  </a:cubicBezTo>
                  <a:cubicBezTo>
                    <a:pt x="249174" y="238379"/>
                    <a:pt x="241300" y="232283"/>
                    <a:pt x="233172" y="232029"/>
                  </a:cubicBezTo>
                  <a:cubicBezTo>
                    <a:pt x="234188" y="244983"/>
                    <a:pt x="234696" y="255905"/>
                    <a:pt x="234696" y="264795"/>
                  </a:cubicBezTo>
                  <a:cubicBezTo>
                    <a:pt x="234696" y="283083"/>
                    <a:pt x="232220" y="297180"/>
                    <a:pt x="227267" y="307086"/>
                  </a:cubicBezTo>
                  <a:cubicBezTo>
                    <a:pt x="222314" y="316992"/>
                    <a:pt x="217551" y="321945"/>
                    <a:pt x="212979" y="321945"/>
                  </a:cubicBezTo>
                  <a:cubicBezTo>
                    <a:pt x="211201" y="321945"/>
                    <a:pt x="209804" y="321183"/>
                    <a:pt x="208788" y="319659"/>
                  </a:cubicBezTo>
                  <a:cubicBezTo>
                    <a:pt x="202946" y="311277"/>
                    <a:pt x="197422" y="304610"/>
                    <a:pt x="192215" y="299657"/>
                  </a:cubicBezTo>
                  <a:cubicBezTo>
                    <a:pt x="187008" y="294704"/>
                    <a:pt x="182817" y="290005"/>
                    <a:pt x="179642" y="285560"/>
                  </a:cubicBezTo>
                  <a:cubicBezTo>
                    <a:pt x="176467" y="281115"/>
                    <a:pt x="173101" y="274701"/>
                    <a:pt x="169545" y="266319"/>
                  </a:cubicBezTo>
                  <a:cubicBezTo>
                    <a:pt x="163703" y="269621"/>
                    <a:pt x="159576" y="272542"/>
                    <a:pt x="157163" y="275082"/>
                  </a:cubicBezTo>
                  <a:cubicBezTo>
                    <a:pt x="154750" y="277622"/>
                    <a:pt x="151956" y="282004"/>
                    <a:pt x="148781" y="288227"/>
                  </a:cubicBezTo>
                  <a:cubicBezTo>
                    <a:pt x="145606" y="294450"/>
                    <a:pt x="142558" y="297561"/>
                    <a:pt x="139637" y="297561"/>
                  </a:cubicBezTo>
                  <a:cubicBezTo>
                    <a:pt x="136716" y="297561"/>
                    <a:pt x="134303" y="294450"/>
                    <a:pt x="132398" y="288227"/>
                  </a:cubicBezTo>
                  <a:cubicBezTo>
                    <a:pt x="130493" y="282004"/>
                    <a:pt x="129540" y="275717"/>
                    <a:pt x="129540" y="269367"/>
                  </a:cubicBezTo>
                  <a:cubicBezTo>
                    <a:pt x="129540" y="263017"/>
                    <a:pt x="130429" y="258128"/>
                    <a:pt x="132207" y="254699"/>
                  </a:cubicBezTo>
                  <a:cubicBezTo>
                    <a:pt x="133985" y="251270"/>
                    <a:pt x="135319" y="247015"/>
                    <a:pt x="136208" y="241935"/>
                  </a:cubicBezTo>
                  <a:cubicBezTo>
                    <a:pt x="137097" y="236855"/>
                    <a:pt x="138748" y="233236"/>
                    <a:pt x="141161" y="231077"/>
                  </a:cubicBezTo>
                  <a:cubicBezTo>
                    <a:pt x="143574" y="228918"/>
                    <a:pt x="145860" y="227838"/>
                    <a:pt x="148019" y="227838"/>
                  </a:cubicBezTo>
                  <a:cubicBezTo>
                    <a:pt x="150178" y="227838"/>
                    <a:pt x="152527" y="230886"/>
                    <a:pt x="155067" y="236982"/>
                  </a:cubicBezTo>
                  <a:cubicBezTo>
                    <a:pt x="153035" y="237236"/>
                    <a:pt x="152019" y="238506"/>
                    <a:pt x="152019" y="240792"/>
                  </a:cubicBezTo>
                  <a:cubicBezTo>
                    <a:pt x="152019" y="247142"/>
                    <a:pt x="152972" y="250317"/>
                    <a:pt x="154877" y="250317"/>
                  </a:cubicBezTo>
                  <a:cubicBezTo>
                    <a:pt x="156782" y="250317"/>
                    <a:pt x="159004" y="249555"/>
                    <a:pt x="161544" y="248031"/>
                  </a:cubicBezTo>
                  <a:cubicBezTo>
                    <a:pt x="159512" y="244221"/>
                    <a:pt x="158242" y="240665"/>
                    <a:pt x="157734" y="237363"/>
                  </a:cubicBezTo>
                  <a:cubicBezTo>
                    <a:pt x="161798" y="241935"/>
                    <a:pt x="164719" y="244983"/>
                    <a:pt x="166497" y="246507"/>
                  </a:cubicBezTo>
                  <a:cubicBezTo>
                    <a:pt x="185293" y="237617"/>
                    <a:pt x="198628" y="232537"/>
                    <a:pt x="206502" y="231267"/>
                  </a:cubicBezTo>
                  <a:cubicBezTo>
                    <a:pt x="206756" y="221107"/>
                    <a:pt x="206756" y="212979"/>
                    <a:pt x="206502" y="206883"/>
                  </a:cubicBezTo>
                  <a:cubicBezTo>
                    <a:pt x="193548" y="209677"/>
                    <a:pt x="176149" y="215138"/>
                    <a:pt x="154305" y="223266"/>
                  </a:cubicBezTo>
                  <a:cubicBezTo>
                    <a:pt x="148209" y="225552"/>
                    <a:pt x="142939" y="226695"/>
                    <a:pt x="138494" y="226695"/>
                  </a:cubicBezTo>
                  <a:cubicBezTo>
                    <a:pt x="134049" y="226695"/>
                    <a:pt x="129667" y="225552"/>
                    <a:pt x="125349" y="223266"/>
                  </a:cubicBezTo>
                  <a:cubicBezTo>
                    <a:pt x="121285" y="232156"/>
                    <a:pt x="118618" y="240856"/>
                    <a:pt x="117348" y="249365"/>
                  </a:cubicBezTo>
                  <a:cubicBezTo>
                    <a:pt x="116078" y="257874"/>
                    <a:pt x="113157" y="266446"/>
                    <a:pt x="108585" y="275082"/>
                  </a:cubicBezTo>
                  <a:cubicBezTo>
                    <a:pt x="105537" y="280924"/>
                    <a:pt x="104013" y="289814"/>
                    <a:pt x="104013" y="301752"/>
                  </a:cubicBezTo>
                  <a:cubicBezTo>
                    <a:pt x="104013" y="307086"/>
                    <a:pt x="102489" y="309753"/>
                    <a:pt x="99441" y="309753"/>
                  </a:cubicBezTo>
                  <a:cubicBezTo>
                    <a:pt x="94361" y="309753"/>
                    <a:pt x="88392" y="303784"/>
                    <a:pt x="81534" y="291846"/>
                  </a:cubicBezTo>
                  <a:cubicBezTo>
                    <a:pt x="74676" y="279908"/>
                    <a:pt x="71247" y="269113"/>
                    <a:pt x="71247" y="259461"/>
                  </a:cubicBezTo>
                  <a:lnTo>
                    <a:pt x="72390" y="235077"/>
                  </a:lnTo>
                  <a:cubicBezTo>
                    <a:pt x="72644" y="225679"/>
                    <a:pt x="72771" y="213297"/>
                    <a:pt x="72771" y="197930"/>
                  </a:cubicBezTo>
                  <a:cubicBezTo>
                    <a:pt x="72771" y="182563"/>
                    <a:pt x="72136" y="174879"/>
                    <a:pt x="70866" y="174879"/>
                  </a:cubicBezTo>
                  <a:cubicBezTo>
                    <a:pt x="70104" y="174879"/>
                    <a:pt x="69088" y="176022"/>
                    <a:pt x="67818" y="178308"/>
                  </a:cubicBezTo>
                  <a:cubicBezTo>
                    <a:pt x="64770" y="184150"/>
                    <a:pt x="59119" y="190246"/>
                    <a:pt x="50864" y="196596"/>
                  </a:cubicBezTo>
                  <a:cubicBezTo>
                    <a:pt x="42609" y="202946"/>
                    <a:pt x="34100" y="206121"/>
                    <a:pt x="25337" y="206121"/>
                  </a:cubicBezTo>
                  <a:cubicBezTo>
                    <a:pt x="16574" y="206121"/>
                    <a:pt x="10160" y="202438"/>
                    <a:pt x="6096" y="195072"/>
                  </a:cubicBezTo>
                  <a:cubicBezTo>
                    <a:pt x="2032" y="187706"/>
                    <a:pt x="0" y="179197"/>
                    <a:pt x="0" y="169545"/>
                  </a:cubicBezTo>
                  <a:cubicBezTo>
                    <a:pt x="0" y="159893"/>
                    <a:pt x="4318" y="149543"/>
                    <a:pt x="12954" y="138494"/>
                  </a:cubicBezTo>
                  <a:cubicBezTo>
                    <a:pt x="21590" y="127445"/>
                    <a:pt x="36195" y="113729"/>
                    <a:pt x="56769" y="97346"/>
                  </a:cubicBezTo>
                  <a:cubicBezTo>
                    <a:pt x="77343" y="80963"/>
                    <a:pt x="87630" y="69977"/>
                    <a:pt x="87630" y="64389"/>
                  </a:cubicBezTo>
                  <a:cubicBezTo>
                    <a:pt x="87630" y="63119"/>
                    <a:pt x="87313" y="62167"/>
                    <a:pt x="86678" y="61532"/>
                  </a:cubicBezTo>
                  <a:cubicBezTo>
                    <a:pt x="86043" y="60897"/>
                    <a:pt x="82804" y="57849"/>
                    <a:pt x="76962" y="52388"/>
                  </a:cubicBezTo>
                  <a:cubicBezTo>
                    <a:pt x="71120" y="46927"/>
                    <a:pt x="68199" y="43815"/>
                    <a:pt x="68199" y="43053"/>
                  </a:cubicBezTo>
                  <a:cubicBezTo>
                    <a:pt x="68199" y="41783"/>
                    <a:pt x="71247" y="40831"/>
                    <a:pt x="77343" y="40196"/>
                  </a:cubicBezTo>
                  <a:cubicBezTo>
                    <a:pt x="83439" y="39561"/>
                    <a:pt x="88011" y="39243"/>
                    <a:pt x="91059" y="39243"/>
                  </a:cubicBezTo>
                  <a:close/>
                  <a:moveTo>
                    <a:pt x="514160" y="9525"/>
                  </a:moveTo>
                  <a:cubicBezTo>
                    <a:pt x="522415" y="9525"/>
                    <a:pt x="529146" y="11303"/>
                    <a:pt x="534353" y="14859"/>
                  </a:cubicBezTo>
                  <a:cubicBezTo>
                    <a:pt x="539560" y="18415"/>
                    <a:pt x="544386" y="22543"/>
                    <a:pt x="548831" y="27242"/>
                  </a:cubicBezTo>
                  <a:cubicBezTo>
                    <a:pt x="553276" y="31941"/>
                    <a:pt x="555498" y="37148"/>
                    <a:pt x="555498" y="42863"/>
                  </a:cubicBezTo>
                  <a:cubicBezTo>
                    <a:pt x="555498" y="48578"/>
                    <a:pt x="553974" y="53848"/>
                    <a:pt x="550926" y="58674"/>
                  </a:cubicBezTo>
                  <a:cubicBezTo>
                    <a:pt x="547878" y="63500"/>
                    <a:pt x="545656" y="67564"/>
                    <a:pt x="544259" y="70866"/>
                  </a:cubicBezTo>
                  <a:cubicBezTo>
                    <a:pt x="542862" y="74168"/>
                    <a:pt x="541655" y="79248"/>
                    <a:pt x="540639" y="86106"/>
                  </a:cubicBezTo>
                  <a:cubicBezTo>
                    <a:pt x="548513" y="82550"/>
                    <a:pt x="556959" y="76200"/>
                    <a:pt x="565976" y="67056"/>
                  </a:cubicBezTo>
                  <a:cubicBezTo>
                    <a:pt x="574993" y="57912"/>
                    <a:pt x="579501" y="49403"/>
                    <a:pt x="579501" y="41529"/>
                  </a:cubicBezTo>
                  <a:cubicBezTo>
                    <a:pt x="579501" y="33655"/>
                    <a:pt x="576898" y="28766"/>
                    <a:pt x="571691" y="26861"/>
                  </a:cubicBezTo>
                  <a:cubicBezTo>
                    <a:pt x="566484" y="24956"/>
                    <a:pt x="563880" y="23686"/>
                    <a:pt x="563880" y="23051"/>
                  </a:cubicBezTo>
                  <a:cubicBezTo>
                    <a:pt x="563880" y="22416"/>
                    <a:pt x="565087" y="21844"/>
                    <a:pt x="567500" y="21336"/>
                  </a:cubicBezTo>
                  <a:cubicBezTo>
                    <a:pt x="569913" y="20828"/>
                    <a:pt x="572262" y="20574"/>
                    <a:pt x="574548" y="20574"/>
                  </a:cubicBezTo>
                  <a:cubicBezTo>
                    <a:pt x="583946" y="20574"/>
                    <a:pt x="591947" y="25273"/>
                    <a:pt x="598551" y="34671"/>
                  </a:cubicBezTo>
                  <a:cubicBezTo>
                    <a:pt x="605155" y="44069"/>
                    <a:pt x="608457" y="51435"/>
                    <a:pt x="608457" y="56769"/>
                  </a:cubicBezTo>
                  <a:cubicBezTo>
                    <a:pt x="608457" y="59055"/>
                    <a:pt x="607949" y="60833"/>
                    <a:pt x="606933" y="62103"/>
                  </a:cubicBezTo>
                  <a:cubicBezTo>
                    <a:pt x="605917" y="63373"/>
                    <a:pt x="600774" y="67310"/>
                    <a:pt x="591503" y="73914"/>
                  </a:cubicBezTo>
                  <a:cubicBezTo>
                    <a:pt x="582232" y="80518"/>
                    <a:pt x="574358" y="85027"/>
                    <a:pt x="567881" y="87440"/>
                  </a:cubicBezTo>
                  <a:cubicBezTo>
                    <a:pt x="561404" y="89853"/>
                    <a:pt x="555943" y="91059"/>
                    <a:pt x="551498" y="91059"/>
                  </a:cubicBezTo>
                  <a:cubicBezTo>
                    <a:pt x="547053" y="91059"/>
                    <a:pt x="543306" y="90805"/>
                    <a:pt x="540258" y="90297"/>
                  </a:cubicBezTo>
                  <a:cubicBezTo>
                    <a:pt x="540258" y="91313"/>
                    <a:pt x="540322" y="92837"/>
                    <a:pt x="540449" y="94869"/>
                  </a:cubicBezTo>
                  <a:cubicBezTo>
                    <a:pt x="540576" y="96901"/>
                    <a:pt x="540512" y="98425"/>
                    <a:pt x="540258" y="99441"/>
                  </a:cubicBezTo>
                  <a:cubicBezTo>
                    <a:pt x="563880" y="93853"/>
                    <a:pt x="581406" y="91059"/>
                    <a:pt x="592836" y="91059"/>
                  </a:cubicBezTo>
                  <a:cubicBezTo>
                    <a:pt x="604266" y="91059"/>
                    <a:pt x="612077" y="91758"/>
                    <a:pt x="616268" y="93155"/>
                  </a:cubicBezTo>
                  <a:cubicBezTo>
                    <a:pt x="620459" y="94552"/>
                    <a:pt x="623316" y="95377"/>
                    <a:pt x="624840" y="95631"/>
                  </a:cubicBezTo>
                  <a:cubicBezTo>
                    <a:pt x="626364" y="95885"/>
                    <a:pt x="629412" y="96012"/>
                    <a:pt x="633984" y="96012"/>
                  </a:cubicBezTo>
                  <a:cubicBezTo>
                    <a:pt x="642112" y="96012"/>
                    <a:pt x="649669" y="99441"/>
                    <a:pt x="656654" y="106299"/>
                  </a:cubicBezTo>
                  <a:cubicBezTo>
                    <a:pt x="663639" y="113157"/>
                    <a:pt x="668655" y="118364"/>
                    <a:pt x="671703" y="121920"/>
                  </a:cubicBezTo>
                  <a:cubicBezTo>
                    <a:pt x="674751" y="125476"/>
                    <a:pt x="676275" y="128969"/>
                    <a:pt x="676275" y="132398"/>
                  </a:cubicBezTo>
                  <a:cubicBezTo>
                    <a:pt x="676275" y="135827"/>
                    <a:pt x="675577" y="139065"/>
                    <a:pt x="674180" y="142113"/>
                  </a:cubicBezTo>
                  <a:cubicBezTo>
                    <a:pt x="672783" y="145161"/>
                    <a:pt x="671005" y="147130"/>
                    <a:pt x="668846" y="148019"/>
                  </a:cubicBezTo>
                  <a:cubicBezTo>
                    <a:pt x="666687" y="148908"/>
                    <a:pt x="663321" y="149352"/>
                    <a:pt x="658749" y="149352"/>
                  </a:cubicBezTo>
                  <a:lnTo>
                    <a:pt x="644652" y="148971"/>
                  </a:lnTo>
                  <a:cubicBezTo>
                    <a:pt x="641096" y="148971"/>
                    <a:pt x="638175" y="149479"/>
                    <a:pt x="635889" y="150495"/>
                  </a:cubicBezTo>
                  <a:cubicBezTo>
                    <a:pt x="627253" y="154559"/>
                    <a:pt x="614934" y="157480"/>
                    <a:pt x="598932" y="159258"/>
                  </a:cubicBezTo>
                  <a:cubicBezTo>
                    <a:pt x="599694" y="165354"/>
                    <a:pt x="598234" y="170879"/>
                    <a:pt x="594551" y="175832"/>
                  </a:cubicBezTo>
                  <a:cubicBezTo>
                    <a:pt x="590868" y="180785"/>
                    <a:pt x="586867" y="183579"/>
                    <a:pt x="582549" y="184214"/>
                  </a:cubicBezTo>
                  <a:cubicBezTo>
                    <a:pt x="578231" y="184849"/>
                    <a:pt x="575310" y="185992"/>
                    <a:pt x="573786" y="187643"/>
                  </a:cubicBezTo>
                  <a:cubicBezTo>
                    <a:pt x="572262" y="189294"/>
                    <a:pt x="570484" y="192659"/>
                    <a:pt x="568452" y="197739"/>
                  </a:cubicBezTo>
                  <a:cubicBezTo>
                    <a:pt x="575056" y="202311"/>
                    <a:pt x="578358" y="206248"/>
                    <a:pt x="578358" y="209550"/>
                  </a:cubicBezTo>
                  <a:cubicBezTo>
                    <a:pt x="578358" y="215392"/>
                    <a:pt x="570992" y="219329"/>
                    <a:pt x="556260" y="221361"/>
                  </a:cubicBezTo>
                  <a:cubicBezTo>
                    <a:pt x="554482" y="225425"/>
                    <a:pt x="552704" y="231775"/>
                    <a:pt x="550926" y="240411"/>
                  </a:cubicBezTo>
                  <a:cubicBezTo>
                    <a:pt x="555498" y="239141"/>
                    <a:pt x="559181" y="238506"/>
                    <a:pt x="561975" y="238506"/>
                  </a:cubicBezTo>
                  <a:cubicBezTo>
                    <a:pt x="568071" y="238506"/>
                    <a:pt x="574104" y="241237"/>
                    <a:pt x="580073" y="246698"/>
                  </a:cubicBezTo>
                  <a:cubicBezTo>
                    <a:pt x="586042" y="252159"/>
                    <a:pt x="589026" y="256794"/>
                    <a:pt x="589026" y="260604"/>
                  </a:cubicBezTo>
                  <a:cubicBezTo>
                    <a:pt x="589026" y="264414"/>
                    <a:pt x="587883" y="266573"/>
                    <a:pt x="585597" y="267081"/>
                  </a:cubicBezTo>
                  <a:cubicBezTo>
                    <a:pt x="564769" y="270637"/>
                    <a:pt x="554609" y="275082"/>
                    <a:pt x="555117" y="280416"/>
                  </a:cubicBezTo>
                  <a:cubicBezTo>
                    <a:pt x="562991" y="290068"/>
                    <a:pt x="572516" y="294894"/>
                    <a:pt x="583692" y="294894"/>
                  </a:cubicBezTo>
                  <a:cubicBezTo>
                    <a:pt x="594868" y="294894"/>
                    <a:pt x="604139" y="298450"/>
                    <a:pt x="611505" y="305562"/>
                  </a:cubicBezTo>
                  <a:cubicBezTo>
                    <a:pt x="618871" y="312674"/>
                    <a:pt x="622554" y="318643"/>
                    <a:pt x="622554" y="323469"/>
                  </a:cubicBezTo>
                  <a:cubicBezTo>
                    <a:pt x="622554" y="328295"/>
                    <a:pt x="619125" y="330708"/>
                    <a:pt x="612267" y="330708"/>
                  </a:cubicBezTo>
                  <a:cubicBezTo>
                    <a:pt x="611251" y="330708"/>
                    <a:pt x="607378" y="330391"/>
                    <a:pt x="600647" y="329756"/>
                  </a:cubicBezTo>
                  <a:cubicBezTo>
                    <a:pt x="593916" y="329121"/>
                    <a:pt x="588010" y="327660"/>
                    <a:pt x="582930" y="325374"/>
                  </a:cubicBezTo>
                  <a:cubicBezTo>
                    <a:pt x="577850" y="323088"/>
                    <a:pt x="571500" y="321945"/>
                    <a:pt x="563880" y="321945"/>
                  </a:cubicBezTo>
                  <a:cubicBezTo>
                    <a:pt x="545846" y="321945"/>
                    <a:pt x="521970" y="328168"/>
                    <a:pt x="492252" y="340614"/>
                  </a:cubicBezTo>
                  <a:cubicBezTo>
                    <a:pt x="483108" y="344424"/>
                    <a:pt x="475234" y="346329"/>
                    <a:pt x="468630" y="346329"/>
                  </a:cubicBezTo>
                  <a:cubicBezTo>
                    <a:pt x="454914" y="346329"/>
                    <a:pt x="448056" y="339471"/>
                    <a:pt x="448056" y="325755"/>
                  </a:cubicBezTo>
                  <a:cubicBezTo>
                    <a:pt x="448056" y="320421"/>
                    <a:pt x="451612" y="317754"/>
                    <a:pt x="458724" y="317754"/>
                  </a:cubicBezTo>
                  <a:lnTo>
                    <a:pt x="465963" y="318516"/>
                  </a:lnTo>
                  <a:cubicBezTo>
                    <a:pt x="469773" y="318516"/>
                    <a:pt x="474536" y="317246"/>
                    <a:pt x="480251" y="314706"/>
                  </a:cubicBezTo>
                  <a:cubicBezTo>
                    <a:pt x="485966" y="312166"/>
                    <a:pt x="497459" y="308864"/>
                    <a:pt x="514731" y="304800"/>
                  </a:cubicBezTo>
                  <a:cubicBezTo>
                    <a:pt x="513207" y="298196"/>
                    <a:pt x="512191" y="292989"/>
                    <a:pt x="511683" y="289179"/>
                  </a:cubicBezTo>
                  <a:cubicBezTo>
                    <a:pt x="506349" y="290449"/>
                    <a:pt x="500761" y="291084"/>
                    <a:pt x="494919" y="291084"/>
                  </a:cubicBezTo>
                  <a:cubicBezTo>
                    <a:pt x="489077" y="291084"/>
                    <a:pt x="482791" y="288608"/>
                    <a:pt x="476060" y="283655"/>
                  </a:cubicBezTo>
                  <a:cubicBezTo>
                    <a:pt x="469329" y="278702"/>
                    <a:pt x="465963" y="274003"/>
                    <a:pt x="465963" y="269558"/>
                  </a:cubicBezTo>
                  <a:cubicBezTo>
                    <a:pt x="465963" y="265113"/>
                    <a:pt x="467614" y="262890"/>
                    <a:pt x="470916" y="262890"/>
                  </a:cubicBezTo>
                  <a:lnTo>
                    <a:pt x="475869" y="264033"/>
                  </a:lnTo>
                  <a:cubicBezTo>
                    <a:pt x="479425" y="264033"/>
                    <a:pt x="490093" y="260858"/>
                    <a:pt x="507873" y="254508"/>
                  </a:cubicBezTo>
                  <a:cubicBezTo>
                    <a:pt x="507619" y="246126"/>
                    <a:pt x="507492" y="239268"/>
                    <a:pt x="507492" y="233934"/>
                  </a:cubicBezTo>
                  <a:cubicBezTo>
                    <a:pt x="503428" y="235204"/>
                    <a:pt x="500253" y="235839"/>
                    <a:pt x="497967" y="235839"/>
                  </a:cubicBezTo>
                  <a:cubicBezTo>
                    <a:pt x="492887" y="235839"/>
                    <a:pt x="487807" y="232220"/>
                    <a:pt x="482727" y="224981"/>
                  </a:cubicBezTo>
                  <a:cubicBezTo>
                    <a:pt x="477647" y="217742"/>
                    <a:pt x="474536" y="209233"/>
                    <a:pt x="473393" y="199454"/>
                  </a:cubicBezTo>
                  <a:cubicBezTo>
                    <a:pt x="472250" y="189675"/>
                    <a:pt x="470408" y="178943"/>
                    <a:pt x="467868" y="167259"/>
                  </a:cubicBezTo>
                  <a:cubicBezTo>
                    <a:pt x="467614" y="165989"/>
                    <a:pt x="467487" y="164465"/>
                    <a:pt x="467487" y="162687"/>
                  </a:cubicBezTo>
                  <a:cubicBezTo>
                    <a:pt x="467487" y="160909"/>
                    <a:pt x="468694" y="160020"/>
                    <a:pt x="471107" y="160020"/>
                  </a:cubicBezTo>
                  <a:cubicBezTo>
                    <a:pt x="473520" y="160020"/>
                    <a:pt x="477266" y="161798"/>
                    <a:pt x="482346" y="165354"/>
                  </a:cubicBezTo>
                  <a:lnTo>
                    <a:pt x="527304" y="148590"/>
                  </a:lnTo>
                  <a:cubicBezTo>
                    <a:pt x="516636" y="141224"/>
                    <a:pt x="510794" y="133858"/>
                    <a:pt x="509778" y="126492"/>
                  </a:cubicBezTo>
                  <a:cubicBezTo>
                    <a:pt x="507746" y="125984"/>
                    <a:pt x="505079" y="126492"/>
                    <a:pt x="501777" y="128016"/>
                  </a:cubicBezTo>
                  <a:cubicBezTo>
                    <a:pt x="498475" y="129540"/>
                    <a:pt x="495554" y="131572"/>
                    <a:pt x="493014" y="134112"/>
                  </a:cubicBezTo>
                  <a:cubicBezTo>
                    <a:pt x="487426" y="139700"/>
                    <a:pt x="481330" y="142494"/>
                    <a:pt x="474726" y="142494"/>
                  </a:cubicBezTo>
                  <a:lnTo>
                    <a:pt x="466344" y="142113"/>
                  </a:lnTo>
                  <a:cubicBezTo>
                    <a:pt x="457200" y="142113"/>
                    <a:pt x="449834" y="144145"/>
                    <a:pt x="444246" y="148209"/>
                  </a:cubicBezTo>
                  <a:cubicBezTo>
                    <a:pt x="438658" y="152273"/>
                    <a:pt x="435356" y="158115"/>
                    <a:pt x="434340" y="165735"/>
                  </a:cubicBezTo>
                  <a:cubicBezTo>
                    <a:pt x="434086" y="168783"/>
                    <a:pt x="432689" y="175324"/>
                    <a:pt x="430149" y="185357"/>
                  </a:cubicBezTo>
                  <a:cubicBezTo>
                    <a:pt x="427609" y="195390"/>
                    <a:pt x="425577" y="202883"/>
                    <a:pt x="424053" y="207836"/>
                  </a:cubicBezTo>
                  <a:cubicBezTo>
                    <a:pt x="422529" y="212789"/>
                    <a:pt x="421767" y="216408"/>
                    <a:pt x="421767" y="218694"/>
                  </a:cubicBezTo>
                  <a:cubicBezTo>
                    <a:pt x="421767" y="220980"/>
                    <a:pt x="421196" y="222758"/>
                    <a:pt x="420053" y="224028"/>
                  </a:cubicBezTo>
                  <a:cubicBezTo>
                    <a:pt x="418910" y="225298"/>
                    <a:pt x="417576" y="225933"/>
                    <a:pt x="416052" y="225933"/>
                  </a:cubicBezTo>
                  <a:cubicBezTo>
                    <a:pt x="412496" y="225933"/>
                    <a:pt x="408623" y="221679"/>
                    <a:pt x="404432" y="213170"/>
                  </a:cubicBezTo>
                  <a:cubicBezTo>
                    <a:pt x="400241" y="204661"/>
                    <a:pt x="398145" y="197549"/>
                    <a:pt x="398145" y="191834"/>
                  </a:cubicBezTo>
                  <a:cubicBezTo>
                    <a:pt x="398145" y="186119"/>
                    <a:pt x="399161" y="182182"/>
                    <a:pt x="401193" y="180023"/>
                  </a:cubicBezTo>
                  <a:cubicBezTo>
                    <a:pt x="403225" y="177864"/>
                    <a:pt x="405003" y="174117"/>
                    <a:pt x="406527" y="168783"/>
                  </a:cubicBezTo>
                  <a:cubicBezTo>
                    <a:pt x="408051" y="163449"/>
                    <a:pt x="408813" y="157925"/>
                    <a:pt x="408813" y="152210"/>
                  </a:cubicBezTo>
                  <a:cubicBezTo>
                    <a:pt x="408813" y="146495"/>
                    <a:pt x="408305" y="142113"/>
                    <a:pt x="407289" y="139065"/>
                  </a:cubicBezTo>
                  <a:cubicBezTo>
                    <a:pt x="406273" y="136017"/>
                    <a:pt x="405765" y="133731"/>
                    <a:pt x="405765" y="132207"/>
                  </a:cubicBezTo>
                  <a:cubicBezTo>
                    <a:pt x="405765" y="130683"/>
                    <a:pt x="406464" y="129921"/>
                    <a:pt x="407861" y="129921"/>
                  </a:cubicBezTo>
                  <a:cubicBezTo>
                    <a:pt x="409258" y="129921"/>
                    <a:pt x="411226" y="132398"/>
                    <a:pt x="413766" y="137351"/>
                  </a:cubicBezTo>
                  <a:cubicBezTo>
                    <a:pt x="416306" y="142304"/>
                    <a:pt x="417830" y="145733"/>
                    <a:pt x="418338" y="147638"/>
                  </a:cubicBezTo>
                  <a:cubicBezTo>
                    <a:pt x="418846" y="149543"/>
                    <a:pt x="419735" y="150495"/>
                    <a:pt x="421005" y="150495"/>
                  </a:cubicBezTo>
                  <a:cubicBezTo>
                    <a:pt x="422275" y="150495"/>
                    <a:pt x="423609" y="149162"/>
                    <a:pt x="425006" y="146495"/>
                  </a:cubicBezTo>
                  <a:cubicBezTo>
                    <a:pt x="426403" y="143828"/>
                    <a:pt x="429705" y="140081"/>
                    <a:pt x="434912" y="135255"/>
                  </a:cubicBezTo>
                  <a:cubicBezTo>
                    <a:pt x="440119" y="130429"/>
                    <a:pt x="444818" y="126937"/>
                    <a:pt x="449009" y="124778"/>
                  </a:cubicBezTo>
                  <a:cubicBezTo>
                    <a:pt x="453200" y="122619"/>
                    <a:pt x="455295" y="119761"/>
                    <a:pt x="455295" y="116205"/>
                  </a:cubicBezTo>
                  <a:cubicBezTo>
                    <a:pt x="455295" y="115189"/>
                    <a:pt x="455041" y="114046"/>
                    <a:pt x="454533" y="112776"/>
                  </a:cubicBezTo>
                  <a:cubicBezTo>
                    <a:pt x="450977" y="103886"/>
                    <a:pt x="449199" y="94996"/>
                    <a:pt x="449199" y="86106"/>
                  </a:cubicBezTo>
                  <a:cubicBezTo>
                    <a:pt x="449199" y="81788"/>
                    <a:pt x="450025" y="78550"/>
                    <a:pt x="451676" y="76391"/>
                  </a:cubicBezTo>
                  <a:cubicBezTo>
                    <a:pt x="453327" y="74232"/>
                    <a:pt x="454089" y="71946"/>
                    <a:pt x="453962" y="69533"/>
                  </a:cubicBezTo>
                  <a:cubicBezTo>
                    <a:pt x="453835" y="67120"/>
                    <a:pt x="453771" y="65405"/>
                    <a:pt x="453771" y="64389"/>
                  </a:cubicBezTo>
                  <a:cubicBezTo>
                    <a:pt x="453771" y="61341"/>
                    <a:pt x="455486" y="59817"/>
                    <a:pt x="458915" y="59817"/>
                  </a:cubicBezTo>
                  <a:cubicBezTo>
                    <a:pt x="462344" y="59817"/>
                    <a:pt x="464947" y="62484"/>
                    <a:pt x="466725" y="67818"/>
                  </a:cubicBezTo>
                  <a:cubicBezTo>
                    <a:pt x="467741" y="70612"/>
                    <a:pt x="469329" y="72009"/>
                    <a:pt x="471488" y="72009"/>
                  </a:cubicBezTo>
                  <a:cubicBezTo>
                    <a:pt x="473647" y="72009"/>
                    <a:pt x="479679" y="69088"/>
                    <a:pt x="489585" y="63246"/>
                  </a:cubicBezTo>
                  <a:cubicBezTo>
                    <a:pt x="499491" y="57404"/>
                    <a:pt x="507873" y="51816"/>
                    <a:pt x="514731" y="46482"/>
                  </a:cubicBezTo>
                  <a:cubicBezTo>
                    <a:pt x="510413" y="38608"/>
                    <a:pt x="504317" y="28575"/>
                    <a:pt x="496443" y="16383"/>
                  </a:cubicBezTo>
                  <a:cubicBezTo>
                    <a:pt x="495173" y="14605"/>
                    <a:pt x="494538" y="13208"/>
                    <a:pt x="494538" y="12192"/>
                  </a:cubicBezTo>
                  <a:cubicBezTo>
                    <a:pt x="494538" y="11176"/>
                    <a:pt x="495745" y="10478"/>
                    <a:pt x="498158" y="10097"/>
                  </a:cubicBezTo>
                  <a:cubicBezTo>
                    <a:pt x="500571" y="9716"/>
                    <a:pt x="505905" y="9525"/>
                    <a:pt x="514160" y="9525"/>
                  </a:cubicBezTo>
                  <a:close/>
                  <a:moveTo>
                    <a:pt x="946023" y="0"/>
                  </a:moveTo>
                  <a:cubicBezTo>
                    <a:pt x="948055" y="0"/>
                    <a:pt x="951421" y="7112"/>
                    <a:pt x="956120" y="21336"/>
                  </a:cubicBezTo>
                  <a:cubicBezTo>
                    <a:pt x="960819" y="35560"/>
                    <a:pt x="963168" y="45911"/>
                    <a:pt x="963168" y="52388"/>
                  </a:cubicBezTo>
                  <a:cubicBezTo>
                    <a:pt x="963168" y="58865"/>
                    <a:pt x="961771" y="65405"/>
                    <a:pt x="958977" y="72009"/>
                  </a:cubicBezTo>
                  <a:lnTo>
                    <a:pt x="951357" y="91059"/>
                  </a:lnTo>
                  <a:cubicBezTo>
                    <a:pt x="964819" y="84455"/>
                    <a:pt x="975741" y="78105"/>
                    <a:pt x="984123" y="72009"/>
                  </a:cubicBezTo>
                  <a:cubicBezTo>
                    <a:pt x="980567" y="62357"/>
                    <a:pt x="978789" y="56706"/>
                    <a:pt x="978789" y="55055"/>
                  </a:cubicBezTo>
                  <a:cubicBezTo>
                    <a:pt x="978789" y="53404"/>
                    <a:pt x="979043" y="52578"/>
                    <a:pt x="979551" y="52578"/>
                  </a:cubicBezTo>
                  <a:cubicBezTo>
                    <a:pt x="981075" y="52578"/>
                    <a:pt x="985393" y="56642"/>
                    <a:pt x="992505" y="64770"/>
                  </a:cubicBezTo>
                  <a:cubicBezTo>
                    <a:pt x="1007491" y="70612"/>
                    <a:pt x="1014984" y="76327"/>
                    <a:pt x="1014984" y="81915"/>
                  </a:cubicBezTo>
                  <a:cubicBezTo>
                    <a:pt x="1014984" y="84963"/>
                    <a:pt x="1013016" y="88964"/>
                    <a:pt x="1009079" y="93917"/>
                  </a:cubicBezTo>
                  <a:cubicBezTo>
                    <a:pt x="1005142" y="98870"/>
                    <a:pt x="1000189" y="101854"/>
                    <a:pt x="994220" y="102870"/>
                  </a:cubicBezTo>
                  <a:cubicBezTo>
                    <a:pt x="988251" y="103886"/>
                    <a:pt x="979234" y="106998"/>
                    <a:pt x="967169" y="112205"/>
                  </a:cubicBezTo>
                  <a:cubicBezTo>
                    <a:pt x="955104" y="117412"/>
                    <a:pt x="944880" y="122555"/>
                    <a:pt x="936498" y="127635"/>
                  </a:cubicBezTo>
                  <a:cubicBezTo>
                    <a:pt x="935990" y="132207"/>
                    <a:pt x="934339" y="137668"/>
                    <a:pt x="931545" y="144018"/>
                  </a:cubicBezTo>
                  <a:cubicBezTo>
                    <a:pt x="937133" y="140208"/>
                    <a:pt x="942912" y="138303"/>
                    <a:pt x="948881" y="138303"/>
                  </a:cubicBezTo>
                  <a:cubicBezTo>
                    <a:pt x="954850" y="138303"/>
                    <a:pt x="960565" y="140716"/>
                    <a:pt x="966026" y="145542"/>
                  </a:cubicBezTo>
                  <a:cubicBezTo>
                    <a:pt x="971487" y="150368"/>
                    <a:pt x="974217" y="153924"/>
                    <a:pt x="974217" y="156210"/>
                  </a:cubicBezTo>
                  <a:cubicBezTo>
                    <a:pt x="974217" y="158496"/>
                    <a:pt x="973709" y="161163"/>
                    <a:pt x="972693" y="164211"/>
                  </a:cubicBezTo>
                  <a:cubicBezTo>
                    <a:pt x="971677" y="167259"/>
                    <a:pt x="970661" y="172339"/>
                    <a:pt x="969645" y="179451"/>
                  </a:cubicBezTo>
                  <a:cubicBezTo>
                    <a:pt x="981583" y="173355"/>
                    <a:pt x="990029" y="170307"/>
                    <a:pt x="994982" y="170307"/>
                  </a:cubicBezTo>
                  <a:cubicBezTo>
                    <a:pt x="999935" y="170307"/>
                    <a:pt x="1003745" y="171577"/>
                    <a:pt x="1006412" y="174117"/>
                  </a:cubicBezTo>
                  <a:cubicBezTo>
                    <a:pt x="1009079" y="176657"/>
                    <a:pt x="1010412" y="179070"/>
                    <a:pt x="1010412" y="181356"/>
                  </a:cubicBezTo>
                  <a:cubicBezTo>
                    <a:pt x="1010412" y="186436"/>
                    <a:pt x="1007301" y="191199"/>
                    <a:pt x="1001078" y="195644"/>
                  </a:cubicBezTo>
                  <a:cubicBezTo>
                    <a:pt x="994855" y="200089"/>
                    <a:pt x="984377" y="204851"/>
                    <a:pt x="969645" y="209931"/>
                  </a:cubicBezTo>
                  <a:cubicBezTo>
                    <a:pt x="970153" y="215265"/>
                    <a:pt x="970407" y="221679"/>
                    <a:pt x="970407" y="229172"/>
                  </a:cubicBezTo>
                  <a:cubicBezTo>
                    <a:pt x="970407" y="236665"/>
                    <a:pt x="970153" y="242443"/>
                    <a:pt x="969645" y="246507"/>
                  </a:cubicBezTo>
                  <a:cubicBezTo>
                    <a:pt x="981329" y="245237"/>
                    <a:pt x="991616" y="243459"/>
                    <a:pt x="1000506" y="241173"/>
                  </a:cubicBezTo>
                  <a:cubicBezTo>
                    <a:pt x="1002030" y="240665"/>
                    <a:pt x="1004126" y="240411"/>
                    <a:pt x="1006793" y="240411"/>
                  </a:cubicBezTo>
                  <a:cubicBezTo>
                    <a:pt x="1009460" y="240411"/>
                    <a:pt x="1012889" y="241427"/>
                    <a:pt x="1017080" y="243459"/>
                  </a:cubicBezTo>
                  <a:cubicBezTo>
                    <a:pt x="1021271" y="245491"/>
                    <a:pt x="1025589" y="248476"/>
                    <a:pt x="1030034" y="252413"/>
                  </a:cubicBezTo>
                  <a:cubicBezTo>
                    <a:pt x="1034479" y="256350"/>
                    <a:pt x="1037336" y="260096"/>
                    <a:pt x="1038606" y="263652"/>
                  </a:cubicBezTo>
                  <a:cubicBezTo>
                    <a:pt x="1039876" y="267208"/>
                    <a:pt x="1040511" y="271272"/>
                    <a:pt x="1040511" y="275844"/>
                  </a:cubicBezTo>
                  <a:cubicBezTo>
                    <a:pt x="1040511" y="280416"/>
                    <a:pt x="1039559" y="285179"/>
                    <a:pt x="1037654" y="290132"/>
                  </a:cubicBezTo>
                  <a:cubicBezTo>
                    <a:pt x="1035749" y="295085"/>
                    <a:pt x="1032764" y="297561"/>
                    <a:pt x="1028700" y="297561"/>
                  </a:cubicBezTo>
                  <a:cubicBezTo>
                    <a:pt x="1024636" y="297561"/>
                    <a:pt x="1017143" y="294005"/>
                    <a:pt x="1006221" y="286893"/>
                  </a:cubicBezTo>
                  <a:cubicBezTo>
                    <a:pt x="995299" y="279781"/>
                    <a:pt x="989838" y="275527"/>
                    <a:pt x="989838" y="274130"/>
                  </a:cubicBezTo>
                  <a:cubicBezTo>
                    <a:pt x="989838" y="272733"/>
                    <a:pt x="991235" y="272034"/>
                    <a:pt x="994029" y="272034"/>
                  </a:cubicBezTo>
                  <a:cubicBezTo>
                    <a:pt x="996823" y="272034"/>
                    <a:pt x="999236" y="270701"/>
                    <a:pt x="1001268" y="268034"/>
                  </a:cubicBezTo>
                  <a:cubicBezTo>
                    <a:pt x="1003300" y="265367"/>
                    <a:pt x="1004316" y="263144"/>
                    <a:pt x="1004316" y="261366"/>
                  </a:cubicBezTo>
                  <a:cubicBezTo>
                    <a:pt x="1004316" y="259588"/>
                    <a:pt x="1003935" y="258445"/>
                    <a:pt x="1003173" y="257937"/>
                  </a:cubicBezTo>
                  <a:cubicBezTo>
                    <a:pt x="997585" y="253365"/>
                    <a:pt x="993775" y="249936"/>
                    <a:pt x="991743" y="247650"/>
                  </a:cubicBezTo>
                  <a:cubicBezTo>
                    <a:pt x="985647" y="246888"/>
                    <a:pt x="978281" y="247904"/>
                    <a:pt x="969645" y="250698"/>
                  </a:cubicBezTo>
                  <a:cubicBezTo>
                    <a:pt x="969645" y="259080"/>
                    <a:pt x="969201" y="269812"/>
                    <a:pt x="968312" y="282893"/>
                  </a:cubicBezTo>
                  <a:cubicBezTo>
                    <a:pt x="967423" y="295974"/>
                    <a:pt x="966470" y="304038"/>
                    <a:pt x="965454" y="307086"/>
                  </a:cubicBezTo>
                  <a:lnTo>
                    <a:pt x="961644" y="318516"/>
                  </a:lnTo>
                  <a:cubicBezTo>
                    <a:pt x="960120" y="323088"/>
                    <a:pt x="958660" y="326581"/>
                    <a:pt x="957263" y="328994"/>
                  </a:cubicBezTo>
                  <a:cubicBezTo>
                    <a:pt x="955866" y="331407"/>
                    <a:pt x="954469" y="332613"/>
                    <a:pt x="953072" y="332613"/>
                  </a:cubicBezTo>
                  <a:cubicBezTo>
                    <a:pt x="951675" y="332613"/>
                    <a:pt x="949198" y="330327"/>
                    <a:pt x="945642" y="325755"/>
                  </a:cubicBezTo>
                  <a:cubicBezTo>
                    <a:pt x="934466" y="311277"/>
                    <a:pt x="927227" y="302832"/>
                    <a:pt x="923925" y="300419"/>
                  </a:cubicBezTo>
                  <a:cubicBezTo>
                    <a:pt x="920623" y="298006"/>
                    <a:pt x="917448" y="294704"/>
                    <a:pt x="914400" y="290513"/>
                  </a:cubicBezTo>
                  <a:cubicBezTo>
                    <a:pt x="911352" y="286322"/>
                    <a:pt x="906018" y="282067"/>
                    <a:pt x="898398" y="277749"/>
                  </a:cubicBezTo>
                  <a:cubicBezTo>
                    <a:pt x="892556" y="288671"/>
                    <a:pt x="886905" y="297498"/>
                    <a:pt x="881444" y="304229"/>
                  </a:cubicBezTo>
                  <a:cubicBezTo>
                    <a:pt x="875983" y="310960"/>
                    <a:pt x="871665" y="314325"/>
                    <a:pt x="868490" y="314325"/>
                  </a:cubicBezTo>
                  <a:cubicBezTo>
                    <a:pt x="865315" y="314325"/>
                    <a:pt x="862457" y="311912"/>
                    <a:pt x="859917" y="307086"/>
                  </a:cubicBezTo>
                  <a:cubicBezTo>
                    <a:pt x="857377" y="302260"/>
                    <a:pt x="856107" y="297434"/>
                    <a:pt x="856107" y="292608"/>
                  </a:cubicBezTo>
                  <a:cubicBezTo>
                    <a:pt x="856107" y="287782"/>
                    <a:pt x="857187" y="281305"/>
                    <a:pt x="859346" y="273177"/>
                  </a:cubicBezTo>
                  <a:cubicBezTo>
                    <a:pt x="861505" y="265049"/>
                    <a:pt x="863473" y="259906"/>
                    <a:pt x="865251" y="257747"/>
                  </a:cubicBezTo>
                  <a:cubicBezTo>
                    <a:pt x="867029" y="255588"/>
                    <a:pt x="869125" y="254508"/>
                    <a:pt x="871538" y="254508"/>
                  </a:cubicBezTo>
                  <a:cubicBezTo>
                    <a:pt x="873951" y="254508"/>
                    <a:pt x="876618" y="255016"/>
                    <a:pt x="879539" y="256032"/>
                  </a:cubicBezTo>
                  <a:cubicBezTo>
                    <a:pt x="882460" y="257048"/>
                    <a:pt x="883920" y="258191"/>
                    <a:pt x="883920" y="259461"/>
                  </a:cubicBezTo>
                  <a:cubicBezTo>
                    <a:pt x="883920" y="259969"/>
                    <a:pt x="882968" y="260731"/>
                    <a:pt x="881063" y="261747"/>
                  </a:cubicBezTo>
                  <a:cubicBezTo>
                    <a:pt x="879158" y="262763"/>
                    <a:pt x="878205" y="264351"/>
                    <a:pt x="878205" y="266510"/>
                  </a:cubicBezTo>
                  <a:cubicBezTo>
                    <a:pt x="878205" y="268669"/>
                    <a:pt x="878967" y="269748"/>
                    <a:pt x="880491" y="269748"/>
                  </a:cubicBezTo>
                  <a:cubicBezTo>
                    <a:pt x="882015" y="269748"/>
                    <a:pt x="884174" y="269113"/>
                    <a:pt x="886968" y="267843"/>
                  </a:cubicBezTo>
                  <a:cubicBezTo>
                    <a:pt x="888492" y="264795"/>
                    <a:pt x="890207" y="263271"/>
                    <a:pt x="892112" y="263271"/>
                  </a:cubicBezTo>
                  <a:cubicBezTo>
                    <a:pt x="894017" y="263271"/>
                    <a:pt x="897001" y="263906"/>
                    <a:pt x="901065" y="265176"/>
                  </a:cubicBezTo>
                  <a:cubicBezTo>
                    <a:pt x="918591" y="257556"/>
                    <a:pt x="932180" y="253238"/>
                    <a:pt x="941832" y="252222"/>
                  </a:cubicBezTo>
                  <a:cubicBezTo>
                    <a:pt x="942594" y="240030"/>
                    <a:pt x="942848" y="230124"/>
                    <a:pt x="942594" y="222504"/>
                  </a:cubicBezTo>
                  <a:cubicBezTo>
                    <a:pt x="938530" y="223520"/>
                    <a:pt x="930783" y="228473"/>
                    <a:pt x="919353" y="237363"/>
                  </a:cubicBezTo>
                  <a:cubicBezTo>
                    <a:pt x="913511" y="241681"/>
                    <a:pt x="907542" y="243840"/>
                    <a:pt x="901446" y="243840"/>
                  </a:cubicBezTo>
                  <a:cubicBezTo>
                    <a:pt x="895350" y="243840"/>
                    <a:pt x="890334" y="241554"/>
                    <a:pt x="886397" y="236982"/>
                  </a:cubicBezTo>
                  <a:cubicBezTo>
                    <a:pt x="882460" y="232410"/>
                    <a:pt x="880491" y="226568"/>
                    <a:pt x="880491" y="219456"/>
                  </a:cubicBezTo>
                  <a:cubicBezTo>
                    <a:pt x="880491" y="212344"/>
                    <a:pt x="880936" y="207328"/>
                    <a:pt x="881825" y="204407"/>
                  </a:cubicBezTo>
                  <a:cubicBezTo>
                    <a:pt x="882714" y="201486"/>
                    <a:pt x="883984" y="200025"/>
                    <a:pt x="885635" y="200025"/>
                  </a:cubicBezTo>
                  <a:cubicBezTo>
                    <a:pt x="887286" y="200025"/>
                    <a:pt x="888619" y="200152"/>
                    <a:pt x="889635" y="200406"/>
                  </a:cubicBezTo>
                  <a:cubicBezTo>
                    <a:pt x="890651" y="200660"/>
                    <a:pt x="891731" y="200787"/>
                    <a:pt x="892874" y="200787"/>
                  </a:cubicBezTo>
                  <a:cubicBezTo>
                    <a:pt x="894017" y="200787"/>
                    <a:pt x="894588" y="200025"/>
                    <a:pt x="894588" y="198501"/>
                  </a:cubicBezTo>
                  <a:lnTo>
                    <a:pt x="894588" y="194691"/>
                  </a:lnTo>
                  <a:cubicBezTo>
                    <a:pt x="894588" y="188849"/>
                    <a:pt x="896366" y="181356"/>
                    <a:pt x="899922" y="172212"/>
                  </a:cubicBezTo>
                  <a:cubicBezTo>
                    <a:pt x="898652" y="172212"/>
                    <a:pt x="896811" y="171450"/>
                    <a:pt x="894398" y="169926"/>
                  </a:cubicBezTo>
                  <a:cubicBezTo>
                    <a:pt x="891985" y="168402"/>
                    <a:pt x="889572" y="167196"/>
                    <a:pt x="887159" y="166307"/>
                  </a:cubicBezTo>
                  <a:cubicBezTo>
                    <a:pt x="884746" y="165418"/>
                    <a:pt x="883539" y="164211"/>
                    <a:pt x="883539" y="162687"/>
                  </a:cubicBezTo>
                  <a:cubicBezTo>
                    <a:pt x="883539" y="159385"/>
                    <a:pt x="891286" y="155702"/>
                    <a:pt x="906780" y="151638"/>
                  </a:cubicBezTo>
                  <a:cubicBezTo>
                    <a:pt x="907796" y="146304"/>
                    <a:pt x="909447" y="141097"/>
                    <a:pt x="911733" y="136017"/>
                  </a:cubicBezTo>
                  <a:cubicBezTo>
                    <a:pt x="902335" y="135001"/>
                    <a:pt x="894715" y="132842"/>
                    <a:pt x="888873" y="129540"/>
                  </a:cubicBezTo>
                  <a:cubicBezTo>
                    <a:pt x="887603" y="129286"/>
                    <a:pt x="886333" y="129159"/>
                    <a:pt x="885063" y="129159"/>
                  </a:cubicBezTo>
                  <a:cubicBezTo>
                    <a:pt x="877951" y="129159"/>
                    <a:pt x="871792" y="132525"/>
                    <a:pt x="866585" y="139256"/>
                  </a:cubicBezTo>
                  <a:cubicBezTo>
                    <a:pt x="861378" y="145987"/>
                    <a:pt x="855853" y="156528"/>
                    <a:pt x="850011" y="170879"/>
                  </a:cubicBezTo>
                  <a:cubicBezTo>
                    <a:pt x="844169" y="185230"/>
                    <a:pt x="840486" y="197231"/>
                    <a:pt x="838962" y="206883"/>
                  </a:cubicBezTo>
                  <a:cubicBezTo>
                    <a:pt x="838454" y="219583"/>
                    <a:pt x="837565" y="228219"/>
                    <a:pt x="836295" y="232791"/>
                  </a:cubicBezTo>
                  <a:cubicBezTo>
                    <a:pt x="829437" y="253619"/>
                    <a:pt x="825119" y="270383"/>
                    <a:pt x="823341" y="283083"/>
                  </a:cubicBezTo>
                  <a:cubicBezTo>
                    <a:pt x="819785" y="308737"/>
                    <a:pt x="813816" y="321564"/>
                    <a:pt x="805434" y="321564"/>
                  </a:cubicBezTo>
                  <a:cubicBezTo>
                    <a:pt x="801370" y="321564"/>
                    <a:pt x="797751" y="318897"/>
                    <a:pt x="794576" y="313563"/>
                  </a:cubicBezTo>
                  <a:cubicBezTo>
                    <a:pt x="791401" y="308229"/>
                    <a:pt x="789813" y="302133"/>
                    <a:pt x="789813" y="295275"/>
                  </a:cubicBezTo>
                  <a:cubicBezTo>
                    <a:pt x="789813" y="288417"/>
                    <a:pt x="790448" y="283147"/>
                    <a:pt x="791718" y="279464"/>
                  </a:cubicBezTo>
                  <a:cubicBezTo>
                    <a:pt x="792988" y="275781"/>
                    <a:pt x="796862" y="266446"/>
                    <a:pt x="803339" y="251460"/>
                  </a:cubicBezTo>
                  <a:cubicBezTo>
                    <a:pt x="809816" y="236474"/>
                    <a:pt x="813562" y="227521"/>
                    <a:pt x="814578" y="224600"/>
                  </a:cubicBezTo>
                  <a:cubicBezTo>
                    <a:pt x="815594" y="221679"/>
                    <a:pt x="816102" y="219202"/>
                    <a:pt x="816102" y="217170"/>
                  </a:cubicBezTo>
                  <a:cubicBezTo>
                    <a:pt x="816102" y="215138"/>
                    <a:pt x="815340" y="214122"/>
                    <a:pt x="813816" y="214122"/>
                  </a:cubicBezTo>
                  <a:cubicBezTo>
                    <a:pt x="812292" y="214122"/>
                    <a:pt x="809816" y="215837"/>
                    <a:pt x="806387" y="219266"/>
                  </a:cubicBezTo>
                  <a:cubicBezTo>
                    <a:pt x="802958" y="222695"/>
                    <a:pt x="799846" y="224409"/>
                    <a:pt x="797052" y="224409"/>
                  </a:cubicBezTo>
                  <a:cubicBezTo>
                    <a:pt x="792480" y="224409"/>
                    <a:pt x="788797" y="220663"/>
                    <a:pt x="786003" y="213170"/>
                  </a:cubicBezTo>
                  <a:cubicBezTo>
                    <a:pt x="783209" y="205677"/>
                    <a:pt x="781812" y="199962"/>
                    <a:pt x="781812" y="196025"/>
                  </a:cubicBezTo>
                  <a:cubicBezTo>
                    <a:pt x="781812" y="192088"/>
                    <a:pt x="784035" y="188659"/>
                    <a:pt x="788480" y="185738"/>
                  </a:cubicBezTo>
                  <a:cubicBezTo>
                    <a:pt x="792925" y="182817"/>
                    <a:pt x="797751" y="176848"/>
                    <a:pt x="802958" y="167831"/>
                  </a:cubicBezTo>
                  <a:cubicBezTo>
                    <a:pt x="808165" y="158814"/>
                    <a:pt x="810768" y="153289"/>
                    <a:pt x="810768" y="151257"/>
                  </a:cubicBezTo>
                  <a:cubicBezTo>
                    <a:pt x="810768" y="149225"/>
                    <a:pt x="809625" y="148209"/>
                    <a:pt x="807339" y="148209"/>
                  </a:cubicBezTo>
                  <a:cubicBezTo>
                    <a:pt x="805053" y="148209"/>
                    <a:pt x="800735" y="149860"/>
                    <a:pt x="794385" y="153162"/>
                  </a:cubicBezTo>
                  <a:cubicBezTo>
                    <a:pt x="788035" y="156464"/>
                    <a:pt x="782193" y="158115"/>
                    <a:pt x="776859" y="158115"/>
                  </a:cubicBezTo>
                  <a:cubicBezTo>
                    <a:pt x="767461" y="158115"/>
                    <a:pt x="762762" y="150876"/>
                    <a:pt x="762762" y="136398"/>
                  </a:cubicBezTo>
                  <a:cubicBezTo>
                    <a:pt x="762762" y="127000"/>
                    <a:pt x="763461" y="121158"/>
                    <a:pt x="764858" y="118872"/>
                  </a:cubicBezTo>
                  <a:cubicBezTo>
                    <a:pt x="766255" y="116586"/>
                    <a:pt x="769493" y="115189"/>
                    <a:pt x="774573" y="114681"/>
                  </a:cubicBezTo>
                  <a:cubicBezTo>
                    <a:pt x="783463" y="113919"/>
                    <a:pt x="791147" y="111633"/>
                    <a:pt x="797624" y="107823"/>
                  </a:cubicBezTo>
                  <a:cubicBezTo>
                    <a:pt x="804101" y="104013"/>
                    <a:pt x="811086" y="97917"/>
                    <a:pt x="818579" y="89535"/>
                  </a:cubicBezTo>
                  <a:cubicBezTo>
                    <a:pt x="826072" y="81153"/>
                    <a:pt x="831660" y="74486"/>
                    <a:pt x="835343" y="69533"/>
                  </a:cubicBezTo>
                  <a:cubicBezTo>
                    <a:pt x="839026" y="64580"/>
                    <a:pt x="840867" y="60579"/>
                    <a:pt x="840867" y="57531"/>
                  </a:cubicBezTo>
                  <a:cubicBezTo>
                    <a:pt x="840867" y="54483"/>
                    <a:pt x="839851" y="52070"/>
                    <a:pt x="837819" y="50292"/>
                  </a:cubicBezTo>
                  <a:cubicBezTo>
                    <a:pt x="835787" y="48514"/>
                    <a:pt x="834771" y="47308"/>
                    <a:pt x="834771" y="46673"/>
                  </a:cubicBezTo>
                  <a:cubicBezTo>
                    <a:pt x="834771" y="46038"/>
                    <a:pt x="835279" y="45720"/>
                    <a:pt x="836295" y="45720"/>
                  </a:cubicBezTo>
                  <a:cubicBezTo>
                    <a:pt x="839089" y="45720"/>
                    <a:pt x="844106" y="47625"/>
                    <a:pt x="851345" y="51435"/>
                  </a:cubicBezTo>
                  <a:cubicBezTo>
                    <a:pt x="858584" y="55245"/>
                    <a:pt x="864426" y="60262"/>
                    <a:pt x="868871" y="66485"/>
                  </a:cubicBezTo>
                  <a:cubicBezTo>
                    <a:pt x="873316" y="72708"/>
                    <a:pt x="875538" y="78359"/>
                    <a:pt x="875538" y="83439"/>
                  </a:cubicBezTo>
                  <a:cubicBezTo>
                    <a:pt x="875538" y="88519"/>
                    <a:pt x="870712" y="92964"/>
                    <a:pt x="861060" y="96774"/>
                  </a:cubicBezTo>
                  <a:cubicBezTo>
                    <a:pt x="859282" y="97536"/>
                    <a:pt x="854393" y="100775"/>
                    <a:pt x="846392" y="106490"/>
                  </a:cubicBezTo>
                  <a:cubicBezTo>
                    <a:pt x="838391" y="112205"/>
                    <a:pt x="831342" y="117602"/>
                    <a:pt x="825246" y="122682"/>
                  </a:cubicBezTo>
                  <a:cubicBezTo>
                    <a:pt x="837184" y="132842"/>
                    <a:pt x="843153" y="141097"/>
                    <a:pt x="843153" y="147447"/>
                  </a:cubicBezTo>
                  <a:cubicBezTo>
                    <a:pt x="843153" y="151003"/>
                    <a:pt x="841756" y="154813"/>
                    <a:pt x="838962" y="158877"/>
                  </a:cubicBezTo>
                  <a:cubicBezTo>
                    <a:pt x="827786" y="174625"/>
                    <a:pt x="822325" y="184531"/>
                    <a:pt x="822579" y="188595"/>
                  </a:cubicBezTo>
                  <a:cubicBezTo>
                    <a:pt x="826389" y="191135"/>
                    <a:pt x="830199" y="194310"/>
                    <a:pt x="834009" y="198120"/>
                  </a:cubicBezTo>
                  <a:cubicBezTo>
                    <a:pt x="842645" y="172466"/>
                    <a:pt x="851281" y="153035"/>
                    <a:pt x="859917" y="139827"/>
                  </a:cubicBezTo>
                  <a:cubicBezTo>
                    <a:pt x="868553" y="126619"/>
                    <a:pt x="874776" y="118618"/>
                    <a:pt x="878586" y="115824"/>
                  </a:cubicBezTo>
                  <a:cubicBezTo>
                    <a:pt x="882396" y="113030"/>
                    <a:pt x="896366" y="108331"/>
                    <a:pt x="920496" y="101727"/>
                  </a:cubicBezTo>
                  <a:cubicBezTo>
                    <a:pt x="924306" y="91059"/>
                    <a:pt x="928624" y="75692"/>
                    <a:pt x="933450" y="55626"/>
                  </a:cubicBezTo>
                  <a:cubicBezTo>
                    <a:pt x="938276" y="35560"/>
                    <a:pt x="941070" y="21273"/>
                    <a:pt x="941832" y="12764"/>
                  </a:cubicBezTo>
                  <a:cubicBezTo>
                    <a:pt x="942594" y="4255"/>
                    <a:pt x="943991" y="0"/>
                    <a:pt x="946023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799" name="TextBox 3"/>
          <p:cNvSpPr/>
          <p:nvPr/>
        </p:nvSpPr>
        <p:spPr>
          <a:xfrm>
            <a:off x="693720" y="900000"/>
            <a:ext cx="44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比一比，再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"/>
          <p:cNvSpPr/>
          <p:nvPr/>
        </p:nvSpPr>
        <p:spPr>
          <a:xfrm>
            <a:off x="665280" y="1612800"/>
            <a:ext cx="78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（     ）  左（     ）  红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6"/>
          <p:cNvSpPr/>
          <p:nvPr/>
        </p:nvSpPr>
        <p:spPr>
          <a:xfrm>
            <a:off x="665280" y="2298600"/>
            <a:ext cx="78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子（     ）  右（     ）  工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665280" y="3098880"/>
            <a:ext cx="78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（     ）  动（     ）  万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8"/>
          <p:cNvSpPr/>
          <p:nvPr/>
        </p:nvSpPr>
        <p:spPr>
          <a:xfrm>
            <a:off x="665280" y="3784680"/>
            <a:ext cx="781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寸（     ）  云（     ）  方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2"/>
          <p:cNvSpPr/>
          <p:nvPr/>
        </p:nvSpPr>
        <p:spPr>
          <a:xfrm>
            <a:off x="1585800" y="16128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0"/>
          <p:cNvSpPr/>
          <p:nvPr/>
        </p:nvSpPr>
        <p:spPr>
          <a:xfrm>
            <a:off x="4246560" y="16128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11"/>
          <p:cNvSpPr/>
          <p:nvPr/>
        </p:nvSpPr>
        <p:spPr>
          <a:xfrm>
            <a:off x="6912000" y="16128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2"/>
          <p:cNvSpPr/>
          <p:nvPr/>
        </p:nvSpPr>
        <p:spPr>
          <a:xfrm>
            <a:off x="1585800" y="22986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13"/>
          <p:cNvSpPr/>
          <p:nvPr/>
        </p:nvSpPr>
        <p:spPr>
          <a:xfrm>
            <a:off x="4246560" y="22986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14"/>
          <p:cNvSpPr/>
          <p:nvPr/>
        </p:nvSpPr>
        <p:spPr>
          <a:xfrm>
            <a:off x="6912000" y="22986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工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15"/>
          <p:cNvSpPr/>
          <p:nvPr/>
        </p:nvSpPr>
        <p:spPr>
          <a:xfrm>
            <a:off x="1547640" y="307656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6"/>
          <p:cNvSpPr/>
          <p:nvPr/>
        </p:nvSpPr>
        <p:spPr>
          <a:xfrm>
            <a:off x="4246560" y="310356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17"/>
          <p:cNvSpPr/>
          <p:nvPr/>
        </p:nvSpPr>
        <p:spPr>
          <a:xfrm>
            <a:off x="6912000" y="310356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8"/>
          <p:cNvSpPr/>
          <p:nvPr/>
        </p:nvSpPr>
        <p:spPr>
          <a:xfrm>
            <a:off x="1585800" y="378792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尺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9"/>
          <p:cNvSpPr/>
          <p:nvPr/>
        </p:nvSpPr>
        <p:spPr>
          <a:xfrm>
            <a:off x="4246560" y="378792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白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0"/>
          <p:cNvSpPr/>
          <p:nvPr/>
        </p:nvSpPr>
        <p:spPr>
          <a:xfrm>
            <a:off x="6912000" y="378792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1"/>
          <p:cNvSpPr/>
          <p:nvPr/>
        </p:nvSpPr>
        <p:spPr>
          <a:xfrm>
            <a:off x="1258920" y="484200"/>
            <a:ext cx="65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根据课文内容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"/>
          <p:cNvSpPr/>
          <p:nvPr/>
        </p:nvSpPr>
        <p:spPr>
          <a:xfrm>
            <a:off x="1692360" y="1177920"/>
            <a:ext cx="7056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边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最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来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心”至令人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”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无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"/>
          <p:cNvSpPr/>
          <p:nvPr/>
        </p:nvSpPr>
        <p:spPr>
          <a:xfrm>
            <a:off x="2266920" y="1276200"/>
            <a:ext cx="10062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4"/>
          <p:cNvSpPr/>
          <p:nvPr/>
        </p:nvSpPr>
        <p:spPr>
          <a:xfrm>
            <a:off x="4572000" y="1203480"/>
            <a:ext cx="923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4"/>
          <p:cNvSpPr/>
          <p:nvPr/>
        </p:nvSpPr>
        <p:spPr>
          <a:xfrm>
            <a:off x="5940360" y="1203480"/>
            <a:ext cx="923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5508720" y="2859120"/>
            <a:ext cx="923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4067280" y="3724200"/>
            <a:ext cx="1512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4572000" y="2066760"/>
            <a:ext cx="1007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3"/>
          <p:cNvSpPr/>
          <p:nvPr/>
        </p:nvSpPr>
        <p:spPr>
          <a:xfrm>
            <a:off x="2266920" y="2066760"/>
            <a:ext cx="10062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2"/>
          <p:cNvGrpSpPr/>
          <p:nvPr/>
        </p:nvGrpSpPr>
        <p:grpSpPr>
          <a:xfrm>
            <a:off x="1123920" y="1084320"/>
            <a:ext cx="2028240" cy="638280"/>
            <a:chOff x="1123920" y="1084320"/>
            <a:chExt cx="2028240" cy="638280"/>
          </a:xfrm>
        </p:grpSpPr>
        <p:sp>
          <p:nvSpPr>
            <p:cNvPr id="826" name="TextBox 2"/>
            <p:cNvSpPr/>
            <p:nvPr/>
          </p:nvSpPr>
          <p:spPr>
            <a:xfrm>
              <a:off x="2067480" y="1084320"/>
              <a:ext cx="1084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Picture 2" descr=""/>
            <p:cNvPicPr/>
            <p:nvPr/>
          </p:nvPicPr>
          <p:blipFill>
            <a:blip r:embed="rId1"/>
            <a:stretch/>
          </p:blipFill>
          <p:spPr>
            <a:xfrm>
              <a:off x="1123920" y="1203480"/>
              <a:ext cx="464760" cy="46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8" name="TextBox 3"/>
          <p:cNvSpPr/>
          <p:nvPr/>
        </p:nvSpPr>
        <p:spPr>
          <a:xfrm>
            <a:off x="3325680" y="3219480"/>
            <a:ext cx="24919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谜底：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830" name="图片 21" descr=""/>
            <p:cNvPicPr/>
            <p:nvPr/>
          </p:nvPicPr>
          <p:blipFill>
            <a:blip r:embed="rId2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任意多边形: 形状 7"/>
            <p:cNvSpPr/>
            <p:nvPr/>
          </p:nvSpPr>
          <p:spPr>
            <a:xfrm>
              <a:off x="398520" y="266760"/>
              <a:ext cx="1472760" cy="313920"/>
            </a:xfrm>
            <a:custGeom>
              <a:avLst/>
              <a:gdLst>
                <a:gd name="textAreaLeft" fmla="*/ 0 w 1472760"/>
                <a:gd name="textAreaRight" fmla="*/ 1473120 w 14727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1472946" h="314706">
                  <a:moveTo>
                    <a:pt x="206502" y="218313"/>
                  </a:moveTo>
                  <a:cubicBezTo>
                    <a:pt x="195072" y="227203"/>
                    <a:pt x="186944" y="234823"/>
                    <a:pt x="182118" y="241173"/>
                  </a:cubicBezTo>
                  <a:cubicBezTo>
                    <a:pt x="193294" y="245745"/>
                    <a:pt x="199898" y="248031"/>
                    <a:pt x="201930" y="248031"/>
                  </a:cubicBezTo>
                  <a:cubicBezTo>
                    <a:pt x="203962" y="248031"/>
                    <a:pt x="205232" y="247650"/>
                    <a:pt x="205740" y="246888"/>
                  </a:cubicBezTo>
                  <a:cubicBezTo>
                    <a:pt x="206248" y="246126"/>
                    <a:pt x="206566" y="242380"/>
                    <a:pt x="206693" y="235649"/>
                  </a:cubicBezTo>
                  <a:cubicBezTo>
                    <a:pt x="206820" y="228918"/>
                    <a:pt x="206756" y="223139"/>
                    <a:pt x="206502" y="218313"/>
                  </a:cubicBezTo>
                  <a:close/>
                  <a:moveTo>
                    <a:pt x="594170" y="212217"/>
                  </a:moveTo>
                  <a:cubicBezTo>
                    <a:pt x="592773" y="212217"/>
                    <a:pt x="591312" y="212471"/>
                    <a:pt x="589788" y="212979"/>
                  </a:cubicBezTo>
                  <a:cubicBezTo>
                    <a:pt x="580898" y="216535"/>
                    <a:pt x="568770" y="220790"/>
                    <a:pt x="553403" y="225743"/>
                  </a:cubicBezTo>
                  <a:cubicBezTo>
                    <a:pt x="538036" y="230696"/>
                    <a:pt x="527939" y="233553"/>
                    <a:pt x="523113" y="234315"/>
                  </a:cubicBezTo>
                  <a:cubicBezTo>
                    <a:pt x="523113" y="246507"/>
                    <a:pt x="525145" y="258699"/>
                    <a:pt x="529209" y="270891"/>
                  </a:cubicBezTo>
                  <a:cubicBezTo>
                    <a:pt x="549021" y="270891"/>
                    <a:pt x="562864" y="267970"/>
                    <a:pt x="570738" y="262128"/>
                  </a:cubicBezTo>
                  <a:cubicBezTo>
                    <a:pt x="578612" y="256286"/>
                    <a:pt x="584835" y="247904"/>
                    <a:pt x="589407" y="236982"/>
                  </a:cubicBezTo>
                  <a:cubicBezTo>
                    <a:pt x="593979" y="226060"/>
                    <a:pt x="596265" y="219202"/>
                    <a:pt x="596265" y="216408"/>
                  </a:cubicBezTo>
                  <a:cubicBezTo>
                    <a:pt x="596265" y="213614"/>
                    <a:pt x="595567" y="212217"/>
                    <a:pt x="594170" y="212217"/>
                  </a:cubicBezTo>
                  <a:close/>
                  <a:moveTo>
                    <a:pt x="1299210" y="167640"/>
                  </a:moveTo>
                  <a:cubicBezTo>
                    <a:pt x="1291844" y="176530"/>
                    <a:pt x="1285494" y="182182"/>
                    <a:pt x="1280160" y="184595"/>
                  </a:cubicBezTo>
                  <a:cubicBezTo>
                    <a:pt x="1274826" y="187008"/>
                    <a:pt x="1270572" y="189484"/>
                    <a:pt x="1267397" y="192024"/>
                  </a:cubicBezTo>
                  <a:cubicBezTo>
                    <a:pt x="1264222" y="194564"/>
                    <a:pt x="1262634" y="196469"/>
                    <a:pt x="1262634" y="197739"/>
                  </a:cubicBezTo>
                  <a:cubicBezTo>
                    <a:pt x="1262634" y="199009"/>
                    <a:pt x="1264222" y="199962"/>
                    <a:pt x="1267397" y="200597"/>
                  </a:cubicBezTo>
                  <a:cubicBezTo>
                    <a:pt x="1270572" y="201232"/>
                    <a:pt x="1273429" y="202946"/>
                    <a:pt x="1275969" y="205740"/>
                  </a:cubicBezTo>
                  <a:cubicBezTo>
                    <a:pt x="1278509" y="208534"/>
                    <a:pt x="1279779" y="211836"/>
                    <a:pt x="1279779" y="215646"/>
                  </a:cubicBezTo>
                  <a:cubicBezTo>
                    <a:pt x="1279779" y="224282"/>
                    <a:pt x="1272921" y="233807"/>
                    <a:pt x="1259205" y="244221"/>
                  </a:cubicBezTo>
                  <a:cubicBezTo>
                    <a:pt x="1256919" y="245999"/>
                    <a:pt x="1255776" y="247587"/>
                    <a:pt x="1255776" y="248984"/>
                  </a:cubicBezTo>
                  <a:cubicBezTo>
                    <a:pt x="1255776" y="250381"/>
                    <a:pt x="1256538" y="251206"/>
                    <a:pt x="1258062" y="251460"/>
                  </a:cubicBezTo>
                  <a:cubicBezTo>
                    <a:pt x="1274572" y="253492"/>
                    <a:pt x="1287145" y="255524"/>
                    <a:pt x="1295781" y="257556"/>
                  </a:cubicBezTo>
                  <a:cubicBezTo>
                    <a:pt x="1294003" y="253492"/>
                    <a:pt x="1293114" y="249936"/>
                    <a:pt x="1293114" y="246888"/>
                  </a:cubicBezTo>
                  <a:cubicBezTo>
                    <a:pt x="1293114" y="243840"/>
                    <a:pt x="1294575" y="240729"/>
                    <a:pt x="1297496" y="237554"/>
                  </a:cubicBezTo>
                  <a:cubicBezTo>
                    <a:pt x="1300417" y="234379"/>
                    <a:pt x="1304735" y="231013"/>
                    <a:pt x="1310450" y="227457"/>
                  </a:cubicBezTo>
                  <a:cubicBezTo>
                    <a:pt x="1316165" y="223901"/>
                    <a:pt x="1321054" y="217361"/>
                    <a:pt x="1325118" y="207836"/>
                  </a:cubicBezTo>
                  <a:cubicBezTo>
                    <a:pt x="1329182" y="198311"/>
                    <a:pt x="1331214" y="191135"/>
                    <a:pt x="1331214" y="186309"/>
                  </a:cubicBezTo>
                  <a:cubicBezTo>
                    <a:pt x="1331214" y="181483"/>
                    <a:pt x="1329563" y="177165"/>
                    <a:pt x="1326261" y="173355"/>
                  </a:cubicBezTo>
                  <a:cubicBezTo>
                    <a:pt x="1325245" y="181737"/>
                    <a:pt x="1324039" y="189421"/>
                    <a:pt x="1322642" y="196406"/>
                  </a:cubicBezTo>
                  <a:cubicBezTo>
                    <a:pt x="1321245" y="203391"/>
                    <a:pt x="1320229" y="207201"/>
                    <a:pt x="1319594" y="207836"/>
                  </a:cubicBezTo>
                  <a:cubicBezTo>
                    <a:pt x="1318959" y="208471"/>
                    <a:pt x="1318133" y="208788"/>
                    <a:pt x="1317117" y="208788"/>
                  </a:cubicBezTo>
                  <a:cubicBezTo>
                    <a:pt x="1313815" y="208788"/>
                    <a:pt x="1309561" y="205931"/>
                    <a:pt x="1304354" y="200216"/>
                  </a:cubicBezTo>
                  <a:cubicBezTo>
                    <a:pt x="1299147" y="194501"/>
                    <a:pt x="1296543" y="189103"/>
                    <a:pt x="1296543" y="184023"/>
                  </a:cubicBezTo>
                  <a:cubicBezTo>
                    <a:pt x="1296543" y="178943"/>
                    <a:pt x="1297432" y="173482"/>
                    <a:pt x="1299210" y="167640"/>
                  </a:cubicBezTo>
                  <a:close/>
                  <a:moveTo>
                    <a:pt x="1208151" y="161925"/>
                  </a:moveTo>
                  <a:cubicBezTo>
                    <a:pt x="1185545" y="167005"/>
                    <a:pt x="1168400" y="172339"/>
                    <a:pt x="1156716" y="177927"/>
                  </a:cubicBezTo>
                  <a:cubicBezTo>
                    <a:pt x="1145032" y="183515"/>
                    <a:pt x="1139190" y="188087"/>
                    <a:pt x="1139190" y="191643"/>
                  </a:cubicBezTo>
                  <a:cubicBezTo>
                    <a:pt x="1139190" y="193167"/>
                    <a:pt x="1139825" y="193929"/>
                    <a:pt x="1141095" y="193929"/>
                  </a:cubicBezTo>
                  <a:cubicBezTo>
                    <a:pt x="1149223" y="193929"/>
                    <a:pt x="1173099" y="184912"/>
                    <a:pt x="1212723" y="166878"/>
                  </a:cubicBezTo>
                  <a:cubicBezTo>
                    <a:pt x="1211961" y="164338"/>
                    <a:pt x="1210437" y="162687"/>
                    <a:pt x="1208151" y="161925"/>
                  </a:cubicBezTo>
                  <a:close/>
                  <a:moveTo>
                    <a:pt x="1334643" y="157353"/>
                  </a:moveTo>
                  <a:cubicBezTo>
                    <a:pt x="1333373" y="157353"/>
                    <a:pt x="1332230" y="158623"/>
                    <a:pt x="1331214" y="161163"/>
                  </a:cubicBezTo>
                  <a:cubicBezTo>
                    <a:pt x="1330198" y="163703"/>
                    <a:pt x="1329690" y="166815"/>
                    <a:pt x="1329690" y="170498"/>
                  </a:cubicBezTo>
                  <a:cubicBezTo>
                    <a:pt x="1329690" y="174181"/>
                    <a:pt x="1330960" y="177038"/>
                    <a:pt x="1333500" y="179070"/>
                  </a:cubicBezTo>
                  <a:cubicBezTo>
                    <a:pt x="1335532" y="176022"/>
                    <a:pt x="1336548" y="171641"/>
                    <a:pt x="1336548" y="165926"/>
                  </a:cubicBezTo>
                  <a:cubicBezTo>
                    <a:pt x="1336548" y="160211"/>
                    <a:pt x="1335913" y="157353"/>
                    <a:pt x="1334643" y="157353"/>
                  </a:cubicBezTo>
                  <a:close/>
                  <a:moveTo>
                    <a:pt x="1233488" y="155829"/>
                  </a:moveTo>
                  <a:cubicBezTo>
                    <a:pt x="1229297" y="155829"/>
                    <a:pt x="1226058" y="156591"/>
                    <a:pt x="1223772" y="158115"/>
                  </a:cubicBezTo>
                  <a:cubicBezTo>
                    <a:pt x="1223518" y="159893"/>
                    <a:pt x="1223518" y="161798"/>
                    <a:pt x="1223772" y="163830"/>
                  </a:cubicBezTo>
                  <a:cubicBezTo>
                    <a:pt x="1231646" y="162052"/>
                    <a:pt x="1237742" y="159893"/>
                    <a:pt x="1242060" y="157353"/>
                  </a:cubicBezTo>
                  <a:cubicBezTo>
                    <a:pt x="1240536" y="156337"/>
                    <a:pt x="1237679" y="155829"/>
                    <a:pt x="1233488" y="155829"/>
                  </a:cubicBezTo>
                  <a:close/>
                  <a:moveTo>
                    <a:pt x="821627" y="132588"/>
                  </a:moveTo>
                  <a:cubicBezTo>
                    <a:pt x="818960" y="132588"/>
                    <a:pt x="817626" y="133858"/>
                    <a:pt x="817626" y="136398"/>
                  </a:cubicBezTo>
                  <a:cubicBezTo>
                    <a:pt x="817626" y="138938"/>
                    <a:pt x="819849" y="144336"/>
                    <a:pt x="824294" y="152591"/>
                  </a:cubicBezTo>
                  <a:cubicBezTo>
                    <a:pt x="828739" y="160846"/>
                    <a:pt x="834009" y="168402"/>
                    <a:pt x="840105" y="175260"/>
                  </a:cubicBezTo>
                  <a:cubicBezTo>
                    <a:pt x="848741" y="157480"/>
                    <a:pt x="853059" y="147320"/>
                    <a:pt x="853059" y="144780"/>
                  </a:cubicBezTo>
                  <a:cubicBezTo>
                    <a:pt x="853059" y="143764"/>
                    <a:pt x="852107" y="143129"/>
                    <a:pt x="850202" y="142875"/>
                  </a:cubicBezTo>
                  <a:cubicBezTo>
                    <a:pt x="848297" y="142621"/>
                    <a:pt x="845249" y="141796"/>
                    <a:pt x="841058" y="140399"/>
                  </a:cubicBezTo>
                  <a:cubicBezTo>
                    <a:pt x="836867" y="139002"/>
                    <a:pt x="833247" y="137351"/>
                    <a:pt x="830199" y="135446"/>
                  </a:cubicBezTo>
                  <a:cubicBezTo>
                    <a:pt x="827151" y="133541"/>
                    <a:pt x="824294" y="132588"/>
                    <a:pt x="821627" y="132588"/>
                  </a:cubicBezTo>
                  <a:close/>
                  <a:moveTo>
                    <a:pt x="1365504" y="121158"/>
                  </a:moveTo>
                  <a:cubicBezTo>
                    <a:pt x="1364996" y="121158"/>
                    <a:pt x="1361885" y="123381"/>
                    <a:pt x="1356170" y="127826"/>
                  </a:cubicBezTo>
                  <a:cubicBezTo>
                    <a:pt x="1350455" y="132271"/>
                    <a:pt x="1345565" y="136525"/>
                    <a:pt x="1341501" y="140589"/>
                  </a:cubicBezTo>
                  <a:cubicBezTo>
                    <a:pt x="1340993" y="141859"/>
                    <a:pt x="1340739" y="143066"/>
                    <a:pt x="1340739" y="144209"/>
                  </a:cubicBezTo>
                  <a:cubicBezTo>
                    <a:pt x="1340739" y="145352"/>
                    <a:pt x="1342454" y="145923"/>
                    <a:pt x="1345883" y="145923"/>
                  </a:cubicBezTo>
                  <a:cubicBezTo>
                    <a:pt x="1349312" y="145923"/>
                    <a:pt x="1352423" y="147574"/>
                    <a:pt x="1355217" y="150876"/>
                  </a:cubicBezTo>
                  <a:cubicBezTo>
                    <a:pt x="1358011" y="154178"/>
                    <a:pt x="1359408" y="157544"/>
                    <a:pt x="1359408" y="160973"/>
                  </a:cubicBezTo>
                  <a:cubicBezTo>
                    <a:pt x="1359408" y="164402"/>
                    <a:pt x="1359154" y="167132"/>
                    <a:pt x="1358646" y="169164"/>
                  </a:cubicBezTo>
                  <a:cubicBezTo>
                    <a:pt x="1356106" y="180848"/>
                    <a:pt x="1354836" y="189484"/>
                    <a:pt x="1354836" y="195072"/>
                  </a:cubicBezTo>
                  <a:cubicBezTo>
                    <a:pt x="1354836" y="195834"/>
                    <a:pt x="1355090" y="197104"/>
                    <a:pt x="1355598" y="198882"/>
                  </a:cubicBezTo>
                  <a:cubicBezTo>
                    <a:pt x="1356106" y="200660"/>
                    <a:pt x="1356614" y="201549"/>
                    <a:pt x="1357122" y="201549"/>
                  </a:cubicBezTo>
                  <a:cubicBezTo>
                    <a:pt x="1359154" y="201549"/>
                    <a:pt x="1361631" y="193993"/>
                    <a:pt x="1364552" y="178880"/>
                  </a:cubicBezTo>
                  <a:cubicBezTo>
                    <a:pt x="1367473" y="163767"/>
                    <a:pt x="1368933" y="150368"/>
                    <a:pt x="1368933" y="138684"/>
                  </a:cubicBezTo>
                  <a:cubicBezTo>
                    <a:pt x="1368933" y="127000"/>
                    <a:pt x="1367790" y="121158"/>
                    <a:pt x="1365504" y="121158"/>
                  </a:cubicBezTo>
                  <a:close/>
                  <a:moveTo>
                    <a:pt x="203454" y="113157"/>
                  </a:moveTo>
                  <a:cubicBezTo>
                    <a:pt x="194818" y="116967"/>
                    <a:pt x="184277" y="118872"/>
                    <a:pt x="171831" y="118872"/>
                  </a:cubicBezTo>
                  <a:cubicBezTo>
                    <a:pt x="171831" y="127000"/>
                    <a:pt x="172085" y="132207"/>
                    <a:pt x="172593" y="134493"/>
                  </a:cubicBezTo>
                  <a:cubicBezTo>
                    <a:pt x="173101" y="136779"/>
                    <a:pt x="174117" y="137668"/>
                    <a:pt x="175641" y="137160"/>
                  </a:cubicBezTo>
                  <a:cubicBezTo>
                    <a:pt x="185293" y="134874"/>
                    <a:pt x="194691" y="132842"/>
                    <a:pt x="203835" y="131064"/>
                  </a:cubicBezTo>
                  <a:cubicBezTo>
                    <a:pt x="203581" y="126492"/>
                    <a:pt x="203454" y="120523"/>
                    <a:pt x="203454" y="113157"/>
                  </a:cubicBezTo>
                  <a:close/>
                  <a:moveTo>
                    <a:pt x="1253490" y="108585"/>
                  </a:moveTo>
                  <a:cubicBezTo>
                    <a:pt x="1242568" y="108585"/>
                    <a:pt x="1232535" y="109728"/>
                    <a:pt x="1223391" y="112014"/>
                  </a:cubicBezTo>
                  <a:cubicBezTo>
                    <a:pt x="1222883" y="120142"/>
                    <a:pt x="1223137" y="126619"/>
                    <a:pt x="1224153" y="131445"/>
                  </a:cubicBezTo>
                  <a:cubicBezTo>
                    <a:pt x="1232027" y="127381"/>
                    <a:pt x="1241171" y="125730"/>
                    <a:pt x="1251585" y="126492"/>
                  </a:cubicBezTo>
                  <a:close/>
                  <a:moveTo>
                    <a:pt x="198882" y="70485"/>
                  </a:moveTo>
                  <a:cubicBezTo>
                    <a:pt x="189230" y="73533"/>
                    <a:pt x="179197" y="75311"/>
                    <a:pt x="168783" y="75819"/>
                  </a:cubicBezTo>
                  <a:cubicBezTo>
                    <a:pt x="170815" y="81407"/>
                    <a:pt x="172466" y="87884"/>
                    <a:pt x="173736" y="95250"/>
                  </a:cubicBezTo>
                  <a:cubicBezTo>
                    <a:pt x="180340" y="92202"/>
                    <a:pt x="190754" y="89281"/>
                    <a:pt x="204978" y="86487"/>
                  </a:cubicBezTo>
                  <a:cubicBezTo>
                    <a:pt x="204470" y="79375"/>
                    <a:pt x="202438" y="74041"/>
                    <a:pt x="198882" y="70485"/>
                  </a:cubicBezTo>
                  <a:close/>
                  <a:moveTo>
                    <a:pt x="252794" y="49911"/>
                  </a:moveTo>
                  <a:cubicBezTo>
                    <a:pt x="248095" y="49911"/>
                    <a:pt x="239649" y="53848"/>
                    <a:pt x="227457" y="61722"/>
                  </a:cubicBezTo>
                  <a:cubicBezTo>
                    <a:pt x="230759" y="66548"/>
                    <a:pt x="232537" y="72263"/>
                    <a:pt x="232791" y="78867"/>
                  </a:cubicBezTo>
                  <a:cubicBezTo>
                    <a:pt x="239649" y="79375"/>
                    <a:pt x="244983" y="80963"/>
                    <a:pt x="248793" y="83630"/>
                  </a:cubicBezTo>
                  <a:cubicBezTo>
                    <a:pt x="252603" y="86297"/>
                    <a:pt x="254508" y="88964"/>
                    <a:pt x="254508" y="91631"/>
                  </a:cubicBezTo>
                  <a:cubicBezTo>
                    <a:pt x="254508" y="94298"/>
                    <a:pt x="252667" y="96901"/>
                    <a:pt x="248984" y="99441"/>
                  </a:cubicBezTo>
                  <a:cubicBezTo>
                    <a:pt x="245301" y="101981"/>
                    <a:pt x="239903" y="104013"/>
                    <a:pt x="232791" y="105537"/>
                  </a:cubicBezTo>
                  <a:cubicBezTo>
                    <a:pt x="232029" y="111887"/>
                    <a:pt x="231648" y="118110"/>
                    <a:pt x="231648" y="124206"/>
                  </a:cubicBezTo>
                  <a:cubicBezTo>
                    <a:pt x="239776" y="123444"/>
                    <a:pt x="245491" y="120714"/>
                    <a:pt x="248793" y="116015"/>
                  </a:cubicBezTo>
                  <a:cubicBezTo>
                    <a:pt x="252095" y="111316"/>
                    <a:pt x="255588" y="103124"/>
                    <a:pt x="259271" y="91440"/>
                  </a:cubicBezTo>
                  <a:cubicBezTo>
                    <a:pt x="262954" y="79756"/>
                    <a:pt x="264795" y="72073"/>
                    <a:pt x="264795" y="68390"/>
                  </a:cubicBezTo>
                  <a:cubicBezTo>
                    <a:pt x="264795" y="64707"/>
                    <a:pt x="263970" y="60706"/>
                    <a:pt x="262319" y="56388"/>
                  </a:cubicBezTo>
                  <a:cubicBezTo>
                    <a:pt x="260668" y="52070"/>
                    <a:pt x="257493" y="49911"/>
                    <a:pt x="252794" y="49911"/>
                  </a:cubicBezTo>
                  <a:close/>
                  <a:moveTo>
                    <a:pt x="940308" y="26289"/>
                  </a:moveTo>
                  <a:cubicBezTo>
                    <a:pt x="950214" y="26289"/>
                    <a:pt x="961327" y="28004"/>
                    <a:pt x="973646" y="31433"/>
                  </a:cubicBezTo>
                  <a:cubicBezTo>
                    <a:pt x="985965" y="34862"/>
                    <a:pt x="993648" y="38354"/>
                    <a:pt x="996696" y="41910"/>
                  </a:cubicBezTo>
                  <a:cubicBezTo>
                    <a:pt x="999744" y="45466"/>
                    <a:pt x="1002983" y="49467"/>
                    <a:pt x="1006412" y="53912"/>
                  </a:cubicBezTo>
                  <a:cubicBezTo>
                    <a:pt x="1009841" y="58357"/>
                    <a:pt x="1011555" y="63373"/>
                    <a:pt x="1011555" y="68961"/>
                  </a:cubicBezTo>
                  <a:cubicBezTo>
                    <a:pt x="1011555" y="74549"/>
                    <a:pt x="1010666" y="81915"/>
                    <a:pt x="1008888" y="91059"/>
                  </a:cubicBezTo>
                  <a:cubicBezTo>
                    <a:pt x="1004316" y="113919"/>
                    <a:pt x="1001268" y="146558"/>
                    <a:pt x="999744" y="188976"/>
                  </a:cubicBezTo>
                  <a:cubicBezTo>
                    <a:pt x="998728" y="212598"/>
                    <a:pt x="997014" y="229553"/>
                    <a:pt x="994601" y="239840"/>
                  </a:cubicBezTo>
                  <a:cubicBezTo>
                    <a:pt x="992188" y="250127"/>
                    <a:pt x="986727" y="261620"/>
                    <a:pt x="978218" y="274320"/>
                  </a:cubicBezTo>
                  <a:cubicBezTo>
                    <a:pt x="969709" y="287020"/>
                    <a:pt x="963676" y="295085"/>
                    <a:pt x="960120" y="298514"/>
                  </a:cubicBezTo>
                  <a:cubicBezTo>
                    <a:pt x="956564" y="301943"/>
                    <a:pt x="953516" y="303657"/>
                    <a:pt x="950976" y="303657"/>
                  </a:cubicBezTo>
                  <a:cubicBezTo>
                    <a:pt x="948436" y="303657"/>
                    <a:pt x="945769" y="302260"/>
                    <a:pt x="942975" y="299466"/>
                  </a:cubicBezTo>
                  <a:cubicBezTo>
                    <a:pt x="934847" y="291338"/>
                    <a:pt x="922909" y="281559"/>
                    <a:pt x="907161" y="270129"/>
                  </a:cubicBezTo>
                  <a:cubicBezTo>
                    <a:pt x="893699" y="259969"/>
                    <a:pt x="880872" y="245237"/>
                    <a:pt x="868680" y="225933"/>
                  </a:cubicBezTo>
                  <a:cubicBezTo>
                    <a:pt x="862076" y="231521"/>
                    <a:pt x="852615" y="237744"/>
                    <a:pt x="840296" y="244602"/>
                  </a:cubicBezTo>
                  <a:cubicBezTo>
                    <a:pt x="827977" y="251460"/>
                    <a:pt x="819976" y="254889"/>
                    <a:pt x="816293" y="254889"/>
                  </a:cubicBezTo>
                  <a:cubicBezTo>
                    <a:pt x="812610" y="254889"/>
                    <a:pt x="810197" y="253175"/>
                    <a:pt x="809054" y="249746"/>
                  </a:cubicBezTo>
                  <a:cubicBezTo>
                    <a:pt x="807911" y="246317"/>
                    <a:pt x="806895" y="240221"/>
                    <a:pt x="806006" y="231458"/>
                  </a:cubicBezTo>
                  <a:cubicBezTo>
                    <a:pt x="805117" y="222695"/>
                    <a:pt x="804672" y="215773"/>
                    <a:pt x="804672" y="210693"/>
                  </a:cubicBezTo>
                  <a:cubicBezTo>
                    <a:pt x="804672" y="205613"/>
                    <a:pt x="805561" y="201994"/>
                    <a:pt x="807339" y="199835"/>
                  </a:cubicBezTo>
                  <a:cubicBezTo>
                    <a:pt x="809117" y="197676"/>
                    <a:pt x="812800" y="195898"/>
                    <a:pt x="818388" y="194501"/>
                  </a:cubicBezTo>
                  <a:cubicBezTo>
                    <a:pt x="823976" y="193104"/>
                    <a:pt x="827786" y="191707"/>
                    <a:pt x="829818" y="190310"/>
                  </a:cubicBezTo>
                  <a:cubicBezTo>
                    <a:pt x="831850" y="188913"/>
                    <a:pt x="834263" y="185801"/>
                    <a:pt x="837057" y="180975"/>
                  </a:cubicBezTo>
                  <a:cubicBezTo>
                    <a:pt x="829437" y="170307"/>
                    <a:pt x="822198" y="158242"/>
                    <a:pt x="815340" y="144780"/>
                  </a:cubicBezTo>
                  <a:cubicBezTo>
                    <a:pt x="808482" y="131318"/>
                    <a:pt x="805053" y="120968"/>
                    <a:pt x="805053" y="113729"/>
                  </a:cubicBezTo>
                  <a:cubicBezTo>
                    <a:pt x="805053" y="106490"/>
                    <a:pt x="809498" y="102616"/>
                    <a:pt x="818388" y="102108"/>
                  </a:cubicBezTo>
                  <a:cubicBezTo>
                    <a:pt x="840232" y="100838"/>
                    <a:pt x="853059" y="99822"/>
                    <a:pt x="856869" y="99060"/>
                  </a:cubicBezTo>
                  <a:cubicBezTo>
                    <a:pt x="860679" y="98298"/>
                    <a:pt x="863346" y="97917"/>
                    <a:pt x="864870" y="97917"/>
                  </a:cubicBezTo>
                  <a:cubicBezTo>
                    <a:pt x="869950" y="97917"/>
                    <a:pt x="876618" y="101918"/>
                    <a:pt x="884873" y="109919"/>
                  </a:cubicBezTo>
                  <a:cubicBezTo>
                    <a:pt x="893128" y="117920"/>
                    <a:pt x="897255" y="125349"/>
                    <a:pt x="897255" y="132207"/>
                  </a:cubicBezTo>
                  <a:cubicBezTo>
                    <a:pt x="897255" y="135763"/>
                    <a:pt x="896112" y="138938"/>
                    <a:pt x="893826" y="141732"/>
                  </a:cubicBezTo>
                  <a:cubicBezTo>
                    <a:pt x="875284" y="163830"/>
                    <a:pt x="866013" y="176784"/>
                    <a:pt x="866013" y="180594"/>
                  </a:cubicBezTo>
                  <a:cubicBezTo>
                    <a:pt x="866013" y="181356"/>
                    <a:pt x="866521" y="181737"/>
                    <a:pt x="867537" y="181737"/>
                  </a:cubicBezTo>
                  <a:cubicBezTo>
                    <a:pt x="869823" y="181737"/>
                    <a:pt x="878840" y="177038"/>
                    <a:pt x="894588" y="167640"/>
                  </a:cubicBezTo>
                  <a:lnTo>
                    <a:pt x="915162" y="155448"/>
                  </a:lnTo>
                  <a:cubicBezTo>
                    <a:pt x="916686" y="154178"/>
                    <a:pt x="918210" y="153543"/>
                    <a:pt x="919734" y="153543"/>
                  </a:cubicBezTo>
                  <a:cubicBezTo>
                    <a:pt x="923036" y="153543"/>
                    <a:pt x="924687" y="155702"/>
                    <a:pt x="924687" y="160020"/>
                  </a:cubicBezTo>
                  <a:cubicBezTo>
                    <a:pt x="924687" y="161544"/>
                    <a:pt x="924370" y="163068"/>
                    <a:pt x="923735" y="164592"/>
                  </a:cubicBezTo>
                  <a:cubicBezTo>
                    <a:pt x="923100" y="166116"/>
                    <a:pt x="919798" y="170815"/>
                    <a:pt x="913829" y="178689"/>
                  </a:cubicBezTo>
                  <a:cubicBezTo>
                    <a:pt x="907860" y="186563"/>
                    <a:pt x="902018" y="193485"/>
                    <a:pt x="896303" y="199454"/>
                  </a:cubicBezTo>
                  <a:cubicBezTo>
                    <a:pt x="890588" y="205423"/>
                    <a:pt x="885317" y="210820"/>
                    <a:pt x="880491" y="215646"/>
                  </a:cubicBezTo>
                  <a:cubicBezTo>
                    <a:pt x="893699" y="225552"/>
                    <a:pt x="905891" y="233045"/>
                    <a:pt x="917067" y="238125"/>
                  </a:cubicBezTo>
                  <a:cubicBezTo>
                    <a:pt x="928243" y="243205"/>
                    <a:pt x="936625" y="245745"/>
                    <a:pt x="942213" y="245745"/>
                  </a:cubicBezTo>
                  <a:cubicBezTo>
                    <a:pt x="947801" y="245745"/>
                    <a:pt x="951865" y="244983"/>
                    <a:pt x="954405" y="243459"/>
                  </a:cubicBezTo>
                  <a:cubicBezTo>
                    <a:pt x="956945" y="241935"/>
                    <a:pt x="960501" y="229172"/>
                    <a:pt x="965073" y="205169"/>
                  </a:cubicBezTo>
                  <a:cubicBezTo>
                    <a:pt x="969645" y="181166"/>
                    <a:pt x="971931" y="154559"/>
                    <a:pt x="971931" y="125349"/>
                  </a:cubicBezTo>
                  <a:cubicBezTo>
                    <a:pt x="971931" y="96139"/>
                    <a:pt x="971360" y="77915"/>
                    <a:pt x="970217" y="70676"/>
                  </a:cubicBezTo>
                  <a:cubicBezTo>
                    <a:pt x="969074" y="63437"/>
                    <a:pt x="966915" y="57849"/>
                    <a:pt x="963740" y="53912"/>
                  </a:cubicBezTo>
                  <a:cubicBezTo>
                    <a:pt x="960565" y="49975"/>
                    <a:pt x="957199" y="48006"/>
                    <a:pt x="953643" y="48006"/>
                  </a:cubicBezTo>
                  <a:cubicBezTo>
                    <a:pt x="946785" y="48006"/>
                    <a:pt x="932180" y="54737"/>
                    <a:pt x="909828" y="68199"/>
                  </a:cubicBezTo>
                  <a:cubicBezTo>
                    <a:pt x="897382" y="75565"/>
                    <a:pt x="888429" y="79248"/>
                    <a:pt x="882968" y="79248"/>
                  </a:cubicBezTo>
                  <a:cubicBezTo>
                    <a:pt x="877507" y="79248"/>
                    <a:pt x="871792" y="77026"/>
                    <a:pt x="865823" y="72581"/>
                  </a:cubicBezTo>
                  <a:cubicBezTo>
                    <a:pt x="859854" y="68136"/>
                    <a:pt x="853377" y="62230"/>
                    <a:pt x="846392" y="54864"/>
                  </a:cubicBezTo>
                  <a:cubicBezTo>
                    <a:pt x="839407" y="47498"/>
                    <a:pt x="835914" y="43053"/>
                    <a:pt x="835914" y="41529"/>
                  </a:cubicBezTo>
                  <a:cubicBezTo>
                    <a:pt x="835914" y="40005"/>
                    <a:pt x="836486" y="39243"/>
                    <a:pt x="837629" y="39243"/>
                  </a:cubicBezTo>
                  <a:cubicBezTo>
                    <a:pt x="838772" y="39243"/>
                    <a:pt x="841629" y="40640"/>
                    <a:pt x="846201" y="43434"/>
                  </a:cubicBezTo>
                  <a:cubicBezTo>
                    <a:pt x="850773" y="46228"/>
                    <a:pt x="854520" y="47625"/>
                    <a:pt x="857441" y="47625"/>
                  </a:cubicBezTo>
                  <a:cubicBezTo>
                    <a:pt x="860362" y="47625"/>
                    <a:pt x="863600" y="46990"/>
                    <a:pt x="867156" y="45720"/>
                  </a:cubicBezTo>
                  <a:cubicBezTo>
                    <a:pt x="906018" y="32766"/>
                    <a:pt x="930402" y="26289"/>
                    <a:pt x="940308" y="26289"/>
                  </a:cubicBezTo>
                  <a:close/>
                  <a:moveTo>
                    <a:pt x="91059" y="22098"/>
                  </a:moveTo>
                  <a:cubicBezTo>
                    <a:pt x="105537" y="22098"/>
                    <a:pt x="116904" y="26162"/>
                    <a:pt x="125159" y="34290"/>
                  </a:cubicBezTo>
                  <a:cubicBezTo>
                    <a:pt x="133414" y="42418"/>
                    <a:pt x="137541" y="48959"/>
                    <a:pt x="137541" y="53912"/>
                  </a:cubicBezTo>
                  <a:cubicBezTo>
                    <a:pt x="137541" y="58865"/>
                    <a:pt x="135954" y="62992"/>
                    <a:pt x="132779" y="66294"/>
                  </a:cubicBezTo>
                  <a:cubicBezTo>
                    <a:pt x="129604" y="69596"/>
                    <a:pt x="126111" y="71247"/>
                    <a:pt x="122301" y="71247"/>
                  </a:cubicBezTo>
                  <a:cubicBezTo>
                    <a:pt x="121031" y="71247"/>
                    <a:pt x="119317" y="70930"/>
                    <a:pt x="117158" y="70295"/>
                  </a:cubicBezTo>
                  <a:cubicBezTo>
                    <a:pt x="114999" y="69660"/>
                    <a:pt x="112840" y="69342"/>
                    <a:pt x="110681" y="69342"/>
                  </a:cubicBezTo>
                  <a:cubicBezTo>
                    <a:pt x="108522" y="69342"/>
                    <a:pt x="105791" y="70104"/>
                    <a:pt x="102489" y="71628"/>
                  </a:cubicBezTo>
                  <a:cubicBezTo>
                    <a:pt x="99187" y="73152"/>
                    <a:pt x="93282" y="76581"/>
                    <a:pt x="84773" y="81915"/>
                  </a:cubicBezTo>
                  <a:cubicBezTo>
                    <a:pt x="76264" y="87249"/>
                    <a:pt x="70803" y="90361"/>
                    <a:pt x="68390" y="91250"/>
                  </a:cubicBezTo>
                  <a:cubicBezTo>
                    <a:pt x="65977" y="92139"/>
                    <a:pt x="63119" y="92583"/>
                    <a:pt x="59817" y="92583"/>
                  </a:cubicBezTo>
                  <a:cubicBezTo>
                    <a:pt x="51435" y="92583"/>
                    <a:pt x="41466" y="98171"/>
                    <a:pt x="29909" y="109347"/>
                  </a:cubicBezTo>
                  <a:cubicBezTo>
                    <a:pt x="18352" y="120523"/>
                    <a:pt x="12573" y="131191"/>
                    <a:pt x="12573" y="141351"/>
                  </a:cubicBezTo>
                  <a:cubicBezTo>
                    <a:pt x="12573" y="145923"/>
                    <a:pt x="13843" y="148209"/>
                    <a:pt x="16383" y="148209"/>
                  </a:cubicBezTo>
                  <a:cubicBezTo>
                    <a:pt x="21463" y="148209"/>
                    <a:pt x="30036" y="144272"/>
                    <a:pt x="42101" y="136398"/>
                  </a:cubicBezTo>
                  <a:cubicBezTo>
                    <a:pt x="54166" y="128524"/>
                    <a:pt x="62484" y="121412"/>
                    <a:pt x="67056" y="115062"/>
                  </a:cubicBezTo>
                  <a:cubicBezTo>
                    <a:pt x="69850" y="110998"/>
                    <a:pt x="75819" y="108966"/>
                    <a:pt x="84963" y="108966"/>
                  </a:cubicBezTo>
                  <a:cubicBezTo>
                    <a:pt x="102743" y="108966"/>
                    <a:pt x="111633" y="116967"/>
                    <a:pt x="111633" y="132969"/>
                  </a:cubicBezTo>
                  <a:cubicBezTo>
                    <a:pt x="111633" y="136271"/>
                    <a:pt x="111125" y="139573"/>
                    <a:pt x="110109" y="142875"/>
                  </a:cubicBezTo>
                  <a:cubicBezTo>
                    <a:pt x="101727" y="169291"/>
                    <a:pt x="96838" y="187071"/>
                    <a:pt x="95441" y="196215"/>
                  </a:cubicBezTo>
                  <a:cubicBezTo>
                    <a:pt x="94044" y="205359"/>
                    <a:pt x="93345" y="214440"/>
                    <a:pt x="93345" y="223457"/>
                  </a:cubicBezTo>
                  <a:cubicBezTo>
                    <a:pt x="93345" y="232474"/>
                    <a:pt x="93472" y="237427"/>
                    <a:pt x="93726" y="238316"/>
                  </a:cubicBezTo>
                  <a:cubicBezTo>
                    <a:pt x="93980" y="239205"/>
                    <a:pt x="94425" y="239649"/>
                    <a:pt x="95060" y="239649"/>
                  </a:cubicBezTo>
                  <a:cubicBezTo>
                    <a:pt x="95695" y="239649"/>
                    <a:pt x="96266" y="239268"/>
                    <a:pt x="96774" y="238506"/>
                  </a:cubicBezTo>
                  <a:cubicBezTo>
                    <a:pt x="97282" y="237744"/>
                    <a:pt x="100013" y="232474"/>
                    <a:pt x="104966" y="222695"/>
                  </a:cubicBezTo>
                  <a:cubicBezTo>
                    <a:pt x="109919" y="212916"/>
                    <a:pt x="114999" y="201740"/>
                    <a:pt x="120206" y="189167"/>
                  </a:cubicBezTo>
                  <a:cubicBezTo>
                    <a:pt x="125413" y="176594"/>
                    <a:pt x="131445" y="165100"/>
                    <a:pt x="138303" y="154686"/>
                  </a:cubicBezTo>
                  <a:cubicBezTo>
                    <a:pt x="135763" y="164084"/>
                    <a:pt x="133604" y="175260"/>
                    <a:pt x="131826" y="188214"/>
                  </a:cubicBezTo>
                  <a:cubicBezTo>
                    <a:pt x="155956" y="179832"/>
                    <a:pt x="180721" y="173101"/>
                    <a:pt x="206121" y="168021"/>
                  </a:cubicBezTo>
                  <a:lnTo>
                    <a:pt x="205359" y="153924"/>
                  </a:lnTo>
                  <a:cubicBezTo>
                    <a:pt x="194183" y="155448"/>
                    <a:pt x="185674" y="157163"/>
                    <a:pt x="179832" y="159068"/>
                  </a:cubicBezTo>
                  <a:cubicBezTo>
                    <a:pt x="173990" y="160973"/>
                    <a:pt x="170307" y="161925"/>
                    <a:pt x="168783" y="161925"/>
                  </a:cubicBezTo>
                  <a:cubicBezTo>
                    <a:pt x="161925" y="161925"/>
                    <a:pt x="156147" y="156337"/>
                    <a:pt x="151448" y="145161"/>
                  </a:cubicBezTo>
                  <a:cubicBezTo>
                    <a:pt x="146749" y="133985"/>
                    <a:pt x="144145" y="120269"/>
                    <a:pt x="143637" y="104013"/>
                  </a:cubicBezTo>
                  <a:cubicBezTo>
                    <a:pt x="143383" y="95885"/>
                    <a:pt x="141796" y="89789"/>
                    <a:pt x="138875" y="85725"/>
                  </a:cubicBezTo>
                  <a:cubicBezTo>
                    <a:pt x="135954" y="81661"/>
                    <a:pt x="134493" y="78677"/>
                    <a:pt x="134493" y="76772"/>
                  </a:cubicBezTo>
                  <a:cubicBezTo>
                    <a:pt x="134493" y="74867"/>
                    <a:pt x="135065" y="72073"/>
                    <a:pt x="136208" y="68390"/>
                  </a:cubicBezTo>
                  <a:cubicBezTo>
                    <a:pt x="137351" y="64707"/>
                    <a:pt x="138303" y="62484"/>
                    <a:pt x="139065" y="61722"/>
                  </a:cubicBezTo>
                  <a:cubicBezTo>
                    <a:pt x="139827" y="60960"/>
                    <a:pt x="141351" y="60579"/>
                    <a:pt x="143637" y="60579"/>
                  </a:cubicBezTo>
                  <a:cubicBezTo>
                    <a:pt x="145923" y="60579"/>
                    <a:pt x="151384" y="61468"/>
                    <a:pt x="160020" y="63246"/>
                  </a:cubicBezTo>
                  <a:cubicBezTo>
                    <a:pt x="173990" y="52832"/>
                    <a:pt x="190754" y="45149"/>
                    <a:pt x="210312" y="40196"/>
                  </a:cubicBezTo>
                  <a:cubicBezTo>
                    <a:pt x="229870" y="35243"/>
                    <a:pt x="243205" y="32766"/>
                    <a:pt x="250317" y="32766"/>
                  </a:cubicBezTo>
                  <a:cubicBezTo>
                    <a:pt x="262001" y="32766"/>
                    <a:pt x="274320" y="37529"/>
                    <a:pt x="287274" y="47054"/>
                  </a:cubicBezTo>
                  <a:cubicBezTo>
                    <a:pt x="300228" y="56579"/>
                    <a:pt x="306705" y="65913"/>
                    <a:pt x="306705" y="75057"/>
                  </a:cubicBezTo>
                  <a:cubicBezTo>
                    <a:pt x="306705" y="77343"/>
                    <a:pt x="306261" y="79629"/>
                    <a:pt x="305372" y="81915"/>
                  </a:cubicBezTo>
                  <a:cubicBezTo>
                    <a:pt x="304483" y="84201"/>
                    <a:pt x="301054" y="90043"/>
                    <a:pt x="295085" y="99441"/>
                  </a:cubicBezTo>
                  <a:cubicBezTo>
                    <a:pt x="289116" y="108839"/>
                    <a:pt x="283972" y="115570"/>
                    <a:pt x="279654" y="119634"/>
                  </a:cubicBezTo>
                  <a:cubicBezTo>
                    <a:pt x="275336" y="123698"/>
                    <a:pt x="270129" y="128143"/>
                    <a:pt x="264033" y="132969"/>
                  </a:cubicBezTo>
                  <a:cubicBezTo>
                    <a:pt x="264541" y="143129"/>
                    <a:pt x="257048" y="148209"/>
                    <a:pt x="241554" y="148209"/>
                  </a:cubicBezTo>
                  <a:cubicBezTo>
                    <a:pt x="236728" y="148209"/>
                    <a:pt x="233045" y="148590"/>
                    <a:pt x="230505" y="149352"/>
                  </a:cubicBezTo>
                  <a:lnTo>
                    <a:pt x="230505" y="164211"/>
                  </a:lnTo>
                  <a:cubicBezTo>
                    <a:pt x="249555" y="161925"/>
                    <a:pt x="262382" y="160782"/>
                    <a:pt x="268986" y="160782"/>
                  </a:cubicBezTo>
                  <a:cubicBezTo>
                    <a:pt x="275590" y="160782"/>
                    <a:pt x="283083" y="163259"/>
                    <a:pt x="291465" y="168212"/>
                  </a:cubicBezTo>
                  <a:cubicBezTo>
                    <a:pt x="299847" y="173165"/>
                    <a:pt x="304038" y="177356"/>
                    <a:pt x="304038" y="180785"/>
                  </a:cubicBezTo>
                  <a:cubicBezTo>
                    <a:pt x="304038" y="184214"/>
                    <a:pt x="302641" y="187071"/>
                    <a:pt x="299847" y="189357"/>
                  </a:cubicBezTo>
                  <a:cubicBezTo>
                    <a:pt x="297053" y="191643"/>
                    <a:pt x="293815" y="192786"/>
                    <a:pt x="290132" y="192786"/>
                  </a:cubicBezTo>
                  <a:cubicBezTo>
                    <a:pt x="286449" y="192786"/>
                    <a:pt x="282829" y="192278"/>
                    <a:pt x="279273" y="191262"/>
                  </a:cubicBezTo>
                  <a:cubicBezTo>
                    <a:pt x="264287" y="186690"/>
                    <a:pt x="251079" y="184404"/>
                    <a:pt x="239649" y="184404"/>
                  </a:cubicBezTo>
                  <a:cubicBezTo>
                    <a:pt x="236347" y="184404"/>
                    <a:pt x="233553" y="184658"/>
                    <a:pt x="231267" y="185166"/>
                  </a:cubicBezTo>
                  <a:cubicBezTo>
                    <a:pt x="231775" y="196088"/>
                    <a:pt x="232410" y="204978"/>
                    <a:pt x="233172" y="211836"/>
                  </a:cubicBezTo>
                  <a:cubicBezTo>
                    <a:pt x="246634" y="214884"/>
                    <a:pt x="258509" y="216472"/>
                    <a:pt x="268796" y="216599"/>
                  </a:cubicBezTo>
                  <a:cubicBezTo>
                    <a:pt x="279083" y="216726"/>
                    <a:pt x="288417" y="220345"/>
                    <a:pt x="296799" y="227457"/>
                  </a:cubicBezTo>
                  <a:cubicBezTo>
                    <a:pt x="305181" y="234569"/>
                    <a:pt x="309372" y="241808"/>
                    <a:pt x="309372" y="249174"/>
                  </a:cubicBezTo>
                  <a:cubicBezTo>
                    <a:pt x="309372" y="254000"/>
                    <a:pt x="308102" y="258572"/>
                    <a:pt x="305562" y="262890"/>
                  </a:cubicBezTo>
                  <a:cubicBezTo>
                    <a:pt x="303022" y="267208"/>
                    <a:pt x="298958" y="269367"/>
                    <a:pt x="293370" y="269367"/>
                  </a:cubicBezTo>
                  <a:cubicBezTo>
                    <a:pt x="284226" y="269367"/>
                    <a:pt x="272034" y="257302"/>
                    <a:pt x="256794" y="233172"/>
                  </a:cubicBezTo>
                  <a:cubicBezTo>
                    <a:pt x="249174" y="221234"/>
                    <a:pt x="241300" y="215138"/>
                    <a:pt x="233172" y="214884"/>
                  </a:cubicBezTo>
                  <a:cubicBezTo>
                    <a:pt x="234188" y="227838"/>
                    <a:pt x="234696" y="238760"/>
                    <a:pt x="234696" y="247650"/>
                  </a:cubicBezTo>
                  <a:cubicBezTo>
                    <a:pt x="234696" y="265938"/>
                    <a:pt x="232220" y="280035"/>
                    <a:pt x="227267" y="289941"/>
                  </a:cubicBezTo>
                  <a:cubicBezTo>
                    <a:pt x="222314" y="299847"/>
                    <a:pt x="217551" y="304800"/>
                    <a:pt x="212979" y="304800"/>
                  </a:cubicBezTo>
                  <a:cubicBezTo>
                    <a:pt x="211201" y="304800"/>
                    <a:pt x="209804" y="304038"/>
                    <a:pt x="208788" y="302514"/>
                  </a:cubicBezTo>
                  <a:cubicBezTo>
                    <a:pt x="202946" y="294132"/>
                    <a:pt x="197422" y="287465"/>
                    <a:pt x="192215" y="282512"/>
                  </a:cubicBezTo>
                  <a:cubicBezTo>
                    <a:pt x="187008" y="277559"/>
                    <a:pt x="182817" y="272860"/>
                    <a:pt x="179642" y="268415"/>
                  </a:cubicBezTo>
                  <a:cubicBezTo>
                    <a:pt x="176467" y="263970"/>
                    <a:pt x="173101" y="257556"/>
                    <a:pt x="169545" y="249174"/>
                  </a:cubicBezTo>
                  <a:cubicBezTo>
                    <a:pt x="163703" y="252476"/>
                    <a:pt x="159576" y="255397"/>
                    <a:pt x="157163" y="257937"/>
                  </a:cubicBezTo>
                  <a:cubicBezTo>
                    <a:pt x="154750" y="260477"/>
                    <a:pt x="151956" y="264859"/>
                    <a:pt x="148781" y="271082"/>
                  </a:cubicBezTo>
                  <a:cubicBezTo>
                    <a:pt x="145606" y="277305"/>
                    <a:pt x="142558" y="280416"/>
                    <a:pt x="139637" y="280416"/>
                  </a:cubicBezTo>
                  <a:cubicBezTo>
                    <a:pt x="136716" y="280416"/>
                    <a:pt x="134303" y="277305"/>
                    <a:pt x="132398" y="271082"/>
                  </a:cubicBezTo>
                  <a:cubicBezTo>
                    <a:pt x="130493" y="264859"/>
                    <a:pt x="129540" y="258572"/>
                    <a:pt x="129540" y="252222"/>
                  </a:cubicBezTo>
                  <a:cubicBezTo>
                    <a:pt x="129540" y="245872"/>
                    <a:pt x="130429" y="240983"/>
                    <a:pt x="132207" y="237554"/>
                  </a:cubicBezTo>
                  <a:cubicBezTo>
                    <a:pt x="133985" y="234125"/>
                    <a:pt x="135319" y="229870"/>
                    <a:pt x="136208" y="224790"/>
                  </a:cubicBezTo>
                  <a:cubicBezTo>
                    <a:pt x="137097" y="219710"/>
                    <a:pt x="138748" y="216091"/>
                    <a:pt x="141161" y="213932"/>
                  </a:cubicBezTo>
                  <a:cubicBezTo>
                    <a:pt x="143574" y="211773"/>
                    <a:pt x="145860" y="210693"/>
                    <a:pt x="148019" y="210693"/>
                  </a:cubicBezTo>
                  <a:cubicBezTo>
                    <a:pt x="150178" y="210693"/>
                    <a:pt x="152527" y="213741"/>
                    <a:pt x="155067" y="219837"/>
                  </a:cubicBezTo>
                  <a:cubicBezTo>
                    <a:pt x="153035" y="220091"/>
                    <a:pt x="152019" y="221361"/>
                    <a:pt x="152019" y="223647"/>
                  </a:cubicBezTo>
                  <a:cubicBezTo>
                    <a:pt x="152019" y="229997"/>
                    <a:pt x="152972" y="233172"/>
                    <a:pt x="154877" y="233172"/>
                  </a:cubicBezTo>
                  <a:cubicBezTo>
                    <a:pt x="156782" y="233172"/>
                    <a:pt x="159004" y="232410"/>
                    <a:pt x="161544" y="230886"/>
                  </a:cubicBezTo>
                  <a:cubicBezTo>
                    <a:pt x="159512" y="227076"/>
                    <a:pt x="158242" y="223520"/>
                    <a:pt x="157734" y="220218"/>
                  </a:cubicBezTo>
                  <a:cubicBezTo>
                    <a:pt x="161798" y="224790"/>
                    <a:pt x="164719" y="227838"/>
                    <a:pt x="166497" y="229362"/>
                  </a:cubicBezTo>
                  <a:cubicBezTo>
                    <a:pt x="185293" y="220472"/>
                    <a:pt x="198628" y="215392"/>
                    <a:pt x="206502" y="214122"/>
                  </a:cubicBezTo>
                  <a:cubicBezTo>
                    <a:pt x="206756" y="203962"/>
                    <a:pt x="206756" y="195834"/>
                    <a:pt x="206502" y="189738"/>
                  </a:cubicBezTo>
                  <a:cubicBezTo>
                    <a:pt x="193548" y="192532"/>
                    <a:pt x="176149" y="197993"/>
                    <a:pt x="154305" y="206121"/>
                  </a:cubicBezTo>
                  <a:cubicBezTo>
                    <a:pt x="148209" y="208407"/>
                    <a:pt x="142939" y="209550"/>
                    <a:pt x="138494" y="209550"/>
                  </a:cubicBezTo>
                  <a:cubicBezTo>
                    <a:pt x="134049" y="209550"/>
                    <a:pt x="129667" y="208407"/>
                    <a:pt x="125349" y="206121"/>
                  </a:cubicBezTo>
                  <a:cubicBezTo>
                    <a:pt x="121285" y="215011"/>
                    <a:pt x="118618" y="223711"/>
                    <a:pt x="117348" y="232220"/>
                  </a:cubicBezTo>
                  <a:cubicBezTo>
                    <a:pt x="116078" y="240729"/>
                    <a:pt x="113157" y="249301"/>
                    <a:pt x="108585" y="257937"/>
                  </a:cubicBezTo>
                  <a:cubicBezTo>
                    <a:pt x="105537" y="263779"/>
                    <a:pt x="104013" y="272669"/>
                    <a:pt x="104013" y="284607"/>
                  </a:cubicBezTo>
                  <a:cubicBezTo>
                    <a:pt x="104013" y="289941"/>
                    <a:pt x="102489" y="292608"/>
                    <a:pt x="99441" y="292608"/>
                  </a:cubicBezTo>
                  <a:cubicBezTo>
                    <a:pt x="94361" y="292608"/>
                    <a:pt x="88392" y="286639"/>
                    <a:pt x="81534" y="274701"/>
                  </a:cubicBezTo>
                  <a:cubicBezTo>
                    <a:pt x="74676" y="262763"/>
                    <a:pt x="71247" y="251968"/>
                    <a:pt x="71247" y="242316"/>
                  </a:cubicBezTo>
                  <a:lnTo>
                    <a:pt x="72390" y="217932"/>
                  </a:lnTo>
                  <a:cubicBezTo>
                    <a:pt x="72644" y="208534"/>
                    <a:pt x="72771" y="196152"/>
                    <a:pt x="72771" y="180785"/>
                  </a:cubicBezTo>
                  <a:cubicBezTo>
                    <a:pt x="72771" y="165418"/>
                    <a:pt x="72136" y="157734"/>
                    <a:pt x="70866" y="157734"/>
                  </a:cubicBezTo>
                  <a:cubicBezTo>
                    <a:pt x="70104" y="157734"/>
                    <a:pt x="69088" y="158877"/>
                    <a:pt x="67818" y="161163"/>
                  </a:cubicBezTo>
                  <a:cubicBezTo>
                    <a:pt x="64770" y="167005"/>
                    <a:pt x="59119" y="173101"/>
                    <a:pt x="50864" y="179451"/>
                  </a:cubicBezTo>
                  <a:cubicBezTo>
                    <a:pt x="42609" y="185801"/>
                    <a:pt x="34100" y="188976"/>
                    <a:pt x="25337" y="188976"/>
                  </a:cubicBezTo>
                  <a:cubicBezTo>
                    <a:pt x="16574" y="188976"/>
                    <a:pt x="10160" y="185293"/>
                    <a:pt x="6096" y="177927"/>
                  </a:cubicBezTo>
                  <a:cubicBezTo>
                    <a:pt x="2032" y="170561"/>
                    <a:pt x="0" y="162052"/>
                    <a:pt x="0" y="152400"/>
                  </a:cubicBezTo>
                  <a:cubicBezTo>
                    <a:pt x="0" y="142748"/>
                    <a:pt x="4318" y="132398"/>
                    <a:pt x="12954" y="121349"/>
                  </a:cubicBezTo>
                  <a:cubicBezTo>
                    <a:pt x="21590" y="110300"/>
                    <a:pt x="36195" y="96584"/>
                    <a:pt x="56769" y="80201"/>
                  </a:cubicBezTo>
                  <a:cubicBezTo>
                    <a:pt x="77343" y="63818"/>
                    <a:pt x="87630" y="52832"/>
                    <a:pt x="87630" y="47244"/>
                  </a:cubicBezTo>
                  <a:cubicBezTo>
                    <a:pt x="87630" y="45974"/>
                    <a:pt x="87313" y="45022"/>
                    <a:pt x="86678" y="44387"/>
                  </a:cubicBezTo>
                  <a:cubicBezTo>
                    <a:pt x="86043" y="43752"/>
                    <a:pt x="82804" y="40704"/>
                    <a:pt x="76962" y="35243"/>
                  </a:cubicBezTo>
                  <a:cubicBezTo>
                    <a:pt x="71120" y="29782"/>
                    <a:pt x="68199" y="26670"/>
                    <a:pt x="68199" y="25908"/>
                  </a:cubicBezTo>
                  <a:cubicBezTo>
                    <a:pt x="68199" y="24638"/>
                    <a:pt x="71247" y="23686"/>
                    <a:pt x="77343" y="23051"/>
                  </a:cubicBezTo>
                  <a:cubicBezTo>
                    <a:pt x="83439" y="22416"/>
                    <a:pt x="88011" y="22098"/>
                    <a:pt x="91059" y="22098"/>
                  </a:cubicBezTo>
                  <a:close/>
                  <a:moveTo>
                    <a:pt x="1254443" y="17907"/>
                  </a:moveTo>
                  <a:cubicBezTo>
                    <a:pt x="1261174" y="17907"/>
                    <a:pt x="1269111" y="21971"/>
                    <a:pt x="1278255" y="30099"/>
                  </a:cubicBezTo>
                  <a:cubicBezTo>
                    <a:pt x="1287399" y="38227"/>
                    <a:pt x="1291971" y="47625"/>
                    <a:pt x="1291971" y="58293"/>
                  </a:cubicBezTo>
                  <a:cubicBezTo>
                    <a:pt x="1291971" y="62865"/>
                    <a:pt x="1291019" y="68009"/>
                    <a:pt x="1289114" y="73724"/>
                  </a:cubicBezTo>
                  <a:cubicBezTo>
                    <a:pt x="1287209" y="79439"/>
                    <a:pt x="1286002" y="87376"/>
                    <a:pt x="1285494" y="97536"/>
                  </a:cubicBezTo>
                  <a:cubicBezTo>
                    <a:pt x="1284986" y="107696"/>
                    <a:pt x="1281303" y="123952"/>
                    <a:pt x="1274445" y="146304"/>
                  </a:cubicBezTo>
                  <a:cubicBezTo>
                    <a:pt x="1282319" y="146558"/>
                    <a:pt x="1287844" y="147257"/>
                    <a:pt x="1291019" y="148400"/>
                  </a:cubicBezTo>
                  <a:cubicBezTo>
                    <a:pt x="1294194" y="149543"/>
                    <a:pt x="1298067" y="152146"/>
                    <a:pt x="1302639" y="156210"/>
                  </a:cubicBezTo>
                  <a:cubicBezTo>
                    <a:pt x="1308481" y="131826"/>
                    <a:pt x="1317625" y="109601"/>
                    <a:pt x="1330071" y="89535"/>
                  </a:cubicBezTo>
                  <a:cubicBezTo>
                    <a:pt x="1317371" y="90297"/>
                    <a:pt x="1307529" y="89091"/>
                    <a:pt x="1300544" y="85916"/>
                  </a:cubicBezTo>
                  <a:cubicBezTo>
                    <a:pt x="1293559" y="82741"/>
                    <a:pt x="1290066" y="80328"/>
                    <a:pt x="1290066" y="78677"/>
                  </a:cubicBezTo>
                  <a:cubicBezTo>
                    <a:pt x="1290066" y="77026"/>
                    <a:pt x="1290955" y="75946"/>
                    <a:pt x="1292733" y="75438"/>
                  </a:cubicBezTo>
                  <a:cubicBezTo>
                    <a:pt x="1304163" y="71628"/>
                    <a:pt x="1314069" y="67755"/>
                    <a:pt x="1322451" y="63818"/>
                  </a:cubicBezTo>
                  <a:cubicBezTo>
                    <a:pt x="1330833" y="59881"/>
                    <a:pt x="1341755" y="53340"/>
                    <a:pt x="1355217" y="44196"/>
                  </a:cubicBezTo>
                  <a:cubicBezTo>
                    <a:pt x="1359535" y="41148"/>
                    <a:pt x="1364298" y="39624"/>
                    <a:pt x="1369505" y="39624"/>
                  </a:cubicBezTo>
                  <a:cubicBezTo>
                    <a:pt x="1374712" y="39624"/>
                    <a:pt x="1379474" y="41148"/>
                    <a:pt x="1383792" y="44196"/>
                  </a:cubicBezTo>
                  <a:cubicBezTo>
                    <a:pt x="1388110" y="47244"/>
                    <a:pt x="1390269" y="50356"/>
                    <a:pt x="1390269" y="53531"/>
                  </a:cubicBezTo>
                  <a:cubicBezTo>
                    <a:pt x="1390269" y="56706"/>
                    <a:pt x="1388745" y="59182"/>
                    <a:pt x="1385697" y="60960"/>
                  </a:cubicBezTo>
                  <a:cubicBezTo>
                    <a:pt x="1374521" y="67564"/>
                    <a:pt x="1361186" y="83439"/>
                    <a:pt x="1345692" y="108585"/>
                  </a:cubicBezTo>
                  <a:cubicBezTo>
                    <a:pt x="1354328" y="105029"/>
                    <a:pt x="1360551" y="103251"/>
                    <a:pt x="1364361" y="103251"/>
                  </a:cubicBezTo>
                  <a:cubicBezTo>
                    <a:pt x="1372997" y="103251"/>
                    <a:pt x="1380109" y="106617"/>
                    <a:pt x="1385697" y="113348"/>
                  </a:cubicBezTo>
                  <a:cubicBezTo>
                    <a:pt x="1391285" y="120079"/>
                    <a:pt x="1394079" y="128143"/>
                    <a:pt x="1394079" y="137541"/>
                  </a:cubicBezTo>
                  <a:cubicBezTo>
                    <a:pt x="1394079" y="146939"/>
                    <a:pt x="1392873" y="160401"/>
                    <a:pt x="1390460" y="177927"/>
                  </a:cubicBezTo>
                  <a:cubicBezTo>
                    <a:pt x="1388047" y="195453"/>
                    <a:pt x="1382522" y="210312"/>
                    <a:pt x="1373886" y="222504"/>
                  </a:cubicBezTo>
                  <a:cubicBezTo>
                    <a:pt x="1384808" y="226568"/>
                    <a:pt x="1392873" y="231394"/>
                    <a:pt x="1398080" y="236982"/>
                  </a:cubicBezTo>
                  <a:cubicBezTo>
                    <a:pt x="1403287" y="242570"/>
                    <a:pt x="1405890" y="248857"/>
                    <a:pt x="1405890" y="255842"/>
                  </a:cubicBezTo>
                  <a:cubicBezTo>
                    <a:pt x="1405890" y="262827"/>
                    <a:pt x="1403350" y="266319"/>
                    <a:pt x="1398270" y="266319"/>
                  </a:cubicBezTo>
                  <a:cubicBezTo>
                    <a:pt x="1394714" y="266319"/>
                    <a:pt x="1390968" y="264922"/>
                    <a:pt x="1387031" y="262128"/>
                  </a:cubicBezTo>
                  <a:cubicBezTo>
                    <a:pt x="1383094" y="259334"/>
                    <a:pt x="1375918" y="253302"/>
                    <a:pt x="1365504" y="244031"/>
                  </a:cubicBezTo>
                  <a:cubicBezTo>
                    <a:pt x="1355090" y="234760"/>
                    <a:pt x="1349375" y="229680"/>
                    <a:pt x="1348359" y="228791"/>
                  </a:cubicBezTo>
                  <a:cubicBezTo>
                    <a:pt x="1347343" y="227902"/>
                    <a:pt x="1345883" y="227457"/>
                    <a:pt x="1343978" y="227457"/>
                  </a:cubicBezTo>
                  <a:cubicBezTo>
                    <a:pt x="1342073" y="227457"/>
                    <a:pt x="1340485" y="228473"/>
                    <a:pt x="1339215" y="230505"/>
                  </a:cubicBezTo>
                  <a:cubicBezTo>
                    <a:pt x="1334643" y="237617"/>
                    <a:pt x="1329881" y="243205"/>
                    <a:pt x="1324928" y="247269"/>
                  </a:cubicBezTo>
                  <a:cubicBezTo>
                    <a:pt x="1319975" y="251333"/>
                    <a:pt x="1313307" y="255524"/>
                    <a:pt x="1304925" y="259842"/>
                  </a:cubicBezTo>
                  <a:cubicBezTo>
                    <a:pt x="1347851" y="268732"/>
                    <a:pt x="1380236" y="273177"/>
                    <a:pt x="1402080" y="273177"/>
                  </a:cubicBezTo>
                  <a:cubicBezTo>
                    <a:pt x="1408684" y="273177"/>
                    <a:pt x="1414780" y="272923"/>
                    <a:pt x="1420368" y="272415"/>
                  </a:cubicBezTo>
                  <a:cubicBezTo>
                    <a:pt x="1425956" y="271907"/>
                    <a:pt x="1429004" y="271653"/>
                    <a:pt x="1429512" y="271653"/>
                  </a:cubicBezTo>
                  <a:cubicBezTo>
                    <a:pt x="1437894" y="271653"/>
                    <a:pt x="1447229" y="273241"/>
                    <a:pt x="1457516" y="276416"/>
                  </a:cubicBezTo>
                  <a:cubicBezTo>
                    <a:pt x="1467803" y="279591"/>
                    <a:pt x="1472946" y="283464"/>
                    <a:pt x="1472946" y="288036"/>
                  </a:cubicBezTo>
                  <a:cubicBezTo>
                    <a:pt x="1472946" y="289814"/>
                    <a:pt x="1471295" y="291656"/>
                    <a:pt x="1467993" y="293561"/>
                  </a:cubicBezTo>
                  <a:cubicBezTo>
                    <a:pt x="1464691" y="295466"/>
                    <a:pt x="1456563" y="297307"/>
                    <a:pt x="1443609" y="299085"/>
                  </a:cubicBezTo>
                  <a:cubicBezTo>
                    <a:pt x="1430655" y="300863"/>
                    <a:pt x="1416431" y="301752"/>
                    <a:pt x="1400937" y="301752"/>
                  </a:cubicBezTo>
                  <a:cubicBezTo>
                    <a:pt x="1385443" y="301752"/>
                    <a:pt x="1369822" y="300228"/>
                    <a:pt x="1354074" y="297180"/>
                  </a:cubicBezTo>
                  <a:cubicBezTo>
                    <a:pt x="1338326" y="294132"/>
                    <a:pt x="1318006" y="287909"/>
                    <a:pt x="1293114" y="278511"/>
                  </a:cubicBezTo>
                  <a:cubicBezTo>
                    <a:pt x="1275842" y="272161"/>
                    <a:pt x="1259332" y="268986"/>
                    <a:pt x="1243584" y="268986"/>
                  </a:cubicBezTo>
                  <a:cubicBezTo>
                    <a:pt x="1235202" y="268986"/>
                    <a:pt x="1226376" y="270002"/>
                    <a:pt x="1217105" y="272034"/>
                  </a:cubicBezTo>
                  <a:cubicBezTo>
                    <a:pt x="1207834" y="274066"/>
                    <a:pt x="1200912" y="275082"/>
                    <a:pt x="1196340" y="275082"/>
                  </a:cubicBezTo>
                  <a:cubicBezTo>
                    <a:pt x="1191768" y="275082"/>
                    <a:pt x="1188149" y="274066"/>
                    <a:pt x="1185482" y="272034"/>
                  </a:cubicBezTo>
                  <a:cubicBezTo>
                    <a:pt x="1182815" y="270002"/>
                    <a:pt x="1180148" y="268478"/>
                    <a:pt x="1177481" y="267462"/>
                  </a:cubicBezTo>
                  <a:cubicBezTo>
                    <a:pt x="1174814" y="266446"/>
                    <a:pt x="1172718" y="265938"/>
                    <a:pt x="1171194" y="265938"/>
                  </a:cubicBezTo>
                  <a:lnTo>
                    <a:pt x="1167003" y="266319"/>
                  </a:lnTo>
                  <a:cubicBezTo>
                    <a:pt x="1163955" y="266319"/>
                    <a:pt x="1162431" y="265430"/>
                    <a:pt x="1162431" y="263652"/>
                  </a:cubicBezTo>
                  <a:cubicBezTo>
                    <a:pt x="1162431" y="261874"/>
                    <a:pt x="1165162" y="259652"/>
                    <a:pt x="1170623" y="256985"/>
                  </a:cubicBezTo>
                  <a:cubicBezTo>
                    <a:pt x="1176084" y="254318"/>
                    <a:pt x="1181989" y="252984"/>
                    <a:pt x="1188339" y="252984"/>
                  </a:cubicBezTo>
                  <a:cubicBezTo>
                    <a:pt x="1202817" y="252730"/>
                    <a:pt x="1214882" y="250127"/>
                    <a:pt x="1224534" y="245174"/>
                  </a:cubicBezTo>
                  <a:cubicBezTo>
                    <a:pt x="1234186" y="240221"/>
                    <a:pt x="1241171" y="235077"/>
                    <a:pt x="1245489" y="229743"/>
                  </a:cubicBezTo>
                  <a:cubicBezTo>
                    <a:pt x="1249807" y="224409"/>
                    <a:pt x="1251966" y="221234"/>
                    <a:pt x="1251966" y="220218"/>
                  </a:cubicBezTo>
                  <a:cubicBezTo>
                    <a:pt x="1251966" y="219202"/>
                    <a:pt x="1251458" y="218694"/>
                    <a:pt x="1250442" y="218694"/>
                  </a:cubicBezTo>
                  <a:cubicBezTo>
                    <a:pt x="1247394" y="218694"/>
                    <a:pt x="1240028" y="220980"/>
                    <a:pt x="1228344" y="225552"/>
                  </a:cubicBezTo>
                  <a:cubicBezTo>
                    <a:pt x="1216660" y="230124"/>
                    <a:pt x="1208977" y="233744"/>
                    <a:pt x="1205294" y="236411"/>
                  </a:cubicBezTo>
                  <a:cubicBezTo>
                    <a:pt x="1201611" y="239078"/>
                    <a:pt x="1198499" y="240411"/>
                    <a:pt x="1195959" y="240411"/>
                  </a:cubicBezTo>
                  <a:cubicBezTo>
                    <a:pt x="1193419" y="240411"/>
                    <a:pt x="1191133" y="238125"/>
                    <a:pt x="1189101" y="233553"/>
                  </a:cubicBezTo>
                  <a:cubicBezTo>
                    <a:pt x="1187069" y="228981"/>
                    <a:pt x="1186053" y="225171"/>
                    <a:pt x="1186053" y="222123"/>
                  </a:cubicBezTo>
                  <a:cubicBezTo>
                    <a:pt x="1186053" y="214757"/>
                    <a:pt x="1189355" y="210566"/>
                    <a:pt x="1195959" y="209550"/>
                  </a:cubicBezTo>
                  <a:cubicBezTo>
                    <a:pt x="1197991" y="209296"/>
                    <a:pt x="1201547" y="207645"/>
                    <a:pt x="1206627" y="204597"/>
                  </a:cubicBezTo>
                  <a:cubicBezTo>
                    <a:pt x="1211707" y="201549"/>
                    <a:pt x="1220153" y="195834"/>
                    <a:pt x="1231964" y="187452"/>
                  </a:cubicBezTo>
                  <a:cubicBezTo>
                    <a:pt x="1243775" y="179070"/>
                    <a:pt x="1249998" y="174498"/>
                    <a:pt x="1250633" y="173736"/>
                  </a:cubicBezTo>
                  <a:cubicBezTo>
                    <a:pt x="1251268" y="172974"/>
                    <a:pt x="1251585" y="172149"/>
                    <a:pt x="1251585" y="171260"/>
                  </a:cubicBezTo>
                  <a:cubicBezTo>
                    <a:pt x="1251585" y="170371"/>
                    <a:pt x="1251014" y="169926"/>
                    <a:pt x="1249871" y="169926"/>
                  </a:cubicBezTo>
                  <a:cubicBezTo>
                    <a:pt x="1248728" y="169926"/>
                    <a:pt x="1237742" y="174435"/>
                    <a:pt x="1216914" y="183452"/>
                  </a:cubicBezTo>
                  <a:cubicBezTo>
                    <a:pt x="1196086" y="192469"/>
                    <a:pt x="1171702" y="204470"/>
                    <a:pt x="1143762" y="219456"/>
                  </a:cubicBezTo>
                  <a:cubicBezTo>
                    <a:pt x="1142238" y="220218"/>
                    <a:pt x="1140841" y="220599"/>
                    <a:pt x="1139571" y="220599"/>
                  </a:cubicBezTo>
                  <a:cubicBezTo>
                    <a:pt x="1135761" y="220599"/>
                    <a:pt x="1132459" y="218313"/>
                    <a:pt x="1129665" y="213741"/>
                  </a:cubicBezTo>
                  <a:cubicBezTo>
                    <a:pt x="1126871" y="209169"/>
                    <a:pt x="1125474" y="204788"/>
                    <a:pt x="1125474" y="200597"/>
                  </a:cubicBezTo>
                  <a:cubicBezTo>
                    <a:pt x="1125474" y="196406"/>
                    <a:pt x="1126871" y="193104"/>
                    <a:pt x="1129665" y="190691"/>
                  </a:cubicBezTo>
                  <a:cubicBezTo>
                    <a:pt x="1132459" y="188278"/>
                    <a:pt x="1140397" y="183960"/>
                    <a:pt x="1153478" y="177737"/>
                  </a:cubicBezTo>
                  <a:cubicBezTo>
                    <a:pt x="1166559" y="171514"/>
                    <a:pt x="1183386" y="164465"/>
                    <a:pt x="1203960" y="156591"/>
                  </a:cubicBezTo>
                  <a:cubicBezTo>
                    <a:pt x="1199134" y="151003"/>
                    <a:pt x="1195896" y="145796"/>
                    <a:pt x="1194245" y="140970"/>
                  </a:cubicBezTo>
                  <a:cubicBezTo>
                    <a:pt x="1192594" y="136144"/>
                    <a:pt x="1191768" y="128842"/>
                    <a:pt x="1191768" y="119063"/>
                  </a:cubicBezTo>
                  <a:cubicBezTo>
                    <a:pt x="1191768" y="109284"/>
                    <a:pt x="1193419" y="98171"/>
                    <a:pt x="1196721" y="85725"/>
                  </a:cubicBezTo>
                  <a:cubicBezTo>
                    <a:pt x="1197737" y="81407"/>
                    <a:pt x="1198245" y="78232"/>
                    <a:pt x="1198245" y="76200"/>
                  </a:cubicBezTo>
                  <a:cubicBezTo>
                    <a:pt x="1198245" y="74168"/>
                    <a:pt x="1197928" y="72263"/>
                    <a:pt x="1197293" y="70485"/>
                  </a:cubicBezTo>
                  <a:cubicBezTo>
                    <a:pt x="1196658" y="68707"/>
                    <a:pt x="1196340" y="67056"/>
                    <a:pt x="1196340" y="65532"/>
                  </a:cubicBezTo>
                  <a:cubicBezTo>
                    <a:pt x="1196340" y="64008"/>
                    <a:pt x="1197356" y="63246"/>
                    <a:pt x="1199388" y="63246"/>
                  </a:cubicBezTo>
                  <a:cubicBezTo>
                    <a:pt x="1201420" y="63246"/>
                    <a:pt x="1204659" y="65151"/>
                    <a:pt x="1209104" y="68961"/>
                  </a:cubicBezTo>
                  <a:cubicBezTo>
                    <a:pt x="1213549" y="72771"/>
                    <a:pt x="1217930" y="78105"/>
                    <a:pt x="1222248" y="84963"/>
                  </a:cubicBezTo>
                  <a:cubicBezTo>
                    <a:pt x="1230884" y="81153"/>
                    <a:pt x="1237679" y="79248"/>
                    <a:pt x="1242632" y="79248"/>
                  </a:cubicBezTo>
                  <a:cubicBezTo>
                    <a:pt x="1247585" y="79248"/>
                    <a:pt x="1251839" y="80518"/>
                    <a:pt x="1255395" y="83058"/>
                  </a:cubicBezTo>
                  <a:cubicBezTo>
                    <a:pt x="1255903" y="76708"/>
                    <a:pt x="1256157" y="70549"/>
                    <a:pt x="1256157" y="64580"/>
                  </a:cubicBezTo>
                  <a:cubicBezTo>
                    <a:pt x="1256157" y="58611"/>
                    <a:pt x="1255395" y="54356"/>
                    <a:pt x="1253871" y="51816"/>
                  </a:cubicBezTo>
                  <a:cubicBezTo>
                    <a:pt x="1249553" y="55880"/>
                    <a:pt x="1245108" y="57912"/>
                    <a:pt x="1240536" y="57912"/>
                  </a:cubicBezTo>
                  <a:cubicBezTo>
                    <a:pt x="1235964" y="57912"/>
                    <a:pt x="1231773" y="57404"/>
                    <a:pt x="1227963" y="56388"/>
                  </a:cubicBezTo>
                  <a:cubicBezTo>
                    <a:pt x="1224153" y="55372"/>
                    <a:pt x="1222121" y="54864"/>
                    <a:pt x="1221867" y="54864"/>
                  </a:cubicBezTo>
                  <a:cubicBezTo>
                    <a:pt x="1220089" y="54864"/>
                    <a:pt x="1218311" y="55944"/>
                    <a:pt x="1216533" y="58103"/>
                  </a:cubicBezTo>
                  <a:cubicBezTo>
                    <a:pt x="1214755" y="60262"/>
                    <a:pt x="1213422" y="61341"/>
                    <a:pt x="1212533" y="61341"/>
                  </a:cubicBezTo>
                  <a:cubicBezTo>
                    <a:pt x="1211644" y="61341"/>
                    <a:pt x="1211199" y="60262"/>
                    <a:pt x="1211199" y="58103"/>
                  </a:cubicBezTo>
                  <a:cubicBezTo>
                    <a:pt x="1211199" y="55944"/>
                    <a:pt x="1212152" y="52705"/>
                    <a:pt x="1214057" y="48387"/>
                  </a:cubicBezTo>
                  <a:cubicBezTo>
                    <a:pt x="1215962" y="44069"/>
                    <a:pt x="1219200" y="40323"/>
                    <a:pt x="1223772" y="37148"/>
                  </a:cubicBezTo>
                  <a:cubicBezTo>
                    <a:pt x="1228344" y="33973"/>
                    <a:pt x="1232916" y="29972"/>
                    <a:pt x="1237488" y="25146"/>
                  </a:cubicBezTo>
                  <a:cubicBezTo>
                    <a:pt x="1242060" y="20320"/>
                    <a:pt x="1247712" y="17907"/>
                    <a:pt x="1254443" y="17907"/>
                  </a:cubicBezTo>
                  <a:close/>
                  <a:moveTo>
                    <a:pt x="553403" y="0"/>
                  </a:moveTo>
                  <a:cubicBezTo>
                    <a:pt x="558356" y="0"/>
                    <a:pt x="565531" y="1270"/>
                    <a:pt x="574929" y="3810"/>
                  </a:cubicBezTo>
                  <a:cubicBezTo>
                    <a:pt x="584327" y="6350"/>
                    <a:pt x="591312" y="10160"/>
                    <a:pt x="595884" y="15240"/>
                  </a:cubicBezTo>
                  <a:cubicBezTo>
                    <a:pt x="600456" y="20320"/>
                    <a:pt x="602742" y="25781"/>
                    <a:pt x="602742" y="31623"/>
                  </a:cubicBezTo>
                  <a:cubicBezTo>
                    <a:pt x="602742" y="37465"/>
                    <a:pt x="601345" y="40767"/>
                    <a:pt x="598551" y="41529"/>
                  </a:cubicBezTo>
                  <a:cubicBezTo>
                    <a:pt x="584581" y="45085"/>
                    <a:pt x="575501" y="48959"/>
                    <a:pt x="571310" y="53150"/>
                  </a:cubicBezTo>
                  <a:cubicBezTo>
                    <a:pt x="567119" y="57341"/>
                    <a:pt x="539369" y="68707"/>
                    <a:pt x="488061" y="87249"/>
                  </a:cubicBezTo>
                  <a:cubicBezTo>
                    <a:pt x="488823" y="89535"/>
                    <a:pt x="489204" y="91948"/>
                    <a:pt x="489204" y="94488"/>
                  </a:cubicBezTo>
                  <a:cubicBezTo>
                    <a:pt x="489204" y="99822"/>
                    <a:pt x="488252" y="103505"/>
                    <a:pt x="486347" y="105537"/>
                  </a:cubicBezTo>
                  <a:cubicBezTo>
                    <a:pt x="484442" y="107569"/>
                    <a:pt x="482791" y="111125"/>
                    <a:pt x="481394" y="116205"/>
                  </a:cubicBezTo>
                  <a:cubicBezTo>
                    <a:pt x="479997" y="121285"/>
                    <a:pt x="479171" y="126365"/>
                    <a:pt x="478917" y="131445"/>
                  </a:cubicBezTo>
                  <a:cubicBezTo>
                    <a:pt x="488569" y="131445"/>
                    <a:pt x="511239" y="127064"/>
                    <a:pt x="546926" y="118301"/>
                  </a:cubicBezTo>
                  <a:cubicBezTo>
                    <a:pt x="582613" y="109538"/>
                    <a:pt x="602679" y="104140"/>
                    <a:pt x="607124" y="102108"/>
                  </a:cubicBezTo>
                  <a:cubicBezTo>
                    <a:pt x="611569" y="100076"/>
                    <a:pt x="617157" y="99060"/>
                    <a:pt x="623888" y="99060"/>
                  </a:cubicBezTo>
                  <a:cubicBezTo>
                    <a:pt x="630619" y="99060"/>
                    <a:pt x="637159" y="101537"/>
                    <a:pt x="643509" y="106490"/>
                  </a:cubicBezTo>
                  <a:cubicBezTo>
                    <a:pt x="649859" y="111443"/>
                    <a:pt x="653034" y="117602"/>
                    <a:pt x="653034" y="124968"/>
                  </a:cubicBezTo>
                  <a:cubicBezTo>
                    <a:pt x="653034" y="129032"/>
                    <a:pt x="652590" y="131826"/>
                    <a:pt x="651701" y="133350"/>
                  </a:cubicBezTo>
                  <a:cubicBezTo>
                    <a:pt x="650812" y="134874"/>
                    <a:pt x="648780" y="135700"/>
                    <a:pt x="645605" y="135827"/>
                  </a:cubicBezTo>
                  <a:cubicBezTo>
                    <a:pt x="642430" y="135954"/>
                    <a:pt x="639064" y="136017"/>
                    <a:pt x="635508" y="136017"/>
                  </a:cubicBezTo>
                  <a:cubicBezTo>
                    <a:pt x="627634" y="136017"/>
                    <a:pt x="614934" y="138621"/>
                    <a:pt x="597408" y="143828"/>
                  </a:cubicBezTo>
                  <a:cubicBezTo>
                    <a:pt x="579882" y="149035"/>
                    <a:pt x="563055" y="155131"/>
                    <a:pt x="546926" y="162116"/>
                  </a:cubicBezTo>
                  <a:cubicBezTo>
                    <a:pt x="530797" y="169101"/>
                    <a:pt x="520065" y="174816"/>
                    <a:pt x="514731" y="179261"/>
                  </a:cubicBezTo>
                  <a:cubicBezTo>
                    <a:pt x="509397" y="183706"/>
                    <a:pt x="506730" y="188468"/>
                    <a:pt x="506730" y="193548"/>
                  </a:cubicBezTo>
                  <a:cubicBezTo>
                    <a:pt x="506730" y="198628"/>
                    <a:pt x="509397" y="203962"/>
                    <a:pt x="514731" y="209550"/>
                  </a:cubicBezTo>
                  <a:cubicBezTo>
                    <a:pt x="551307" y="198882"/>
                    <a:pt x="573723" y="191135"/>
                    <a:pt x="581978" y="186309"/>
                  </a:cubicBezTo>
                  <a:cubicBezTo>
                    <a:pt x="590233" y="181483"/>
                    <a:pt x="596011" y="179070"/>
                    <a:pt x="599313" y="179070"/>
                  </a:cubicBezTo>
                  <a:cubicBezTo>
                    <a:pt x="604901" y="179070"/>
                    <a:pt x="613918" y="183198"/>
                    <a:pt x="626364" y="191453"/>
                  </a:cubicBezTo>
                  <a:cubicBezTo>
                    <a:pt x="638810" y="199708"/>
                    <a:pt x="645033" y="208534"/>
                    <a:pt x="645033" y="217932"/>
                  </a:cubicBezTo>
                  <a:cubicBezTo>
                    <a:pt x="645033" y="225298"/>
                    <a:pt x="635889" y="242062"/>
                    <a:pt x="617601" y="268224"/>
                  </a:cubicBezTo>
                  <a:cubicBezTo>
                    <a:pt x="615823" y="271018"/>
                    <a:pt x="614934" y="273177"/>
                    <a:pt x="614934" y="274701"/>
                  </a:cubicBezTo>
                  <a:cubicBezTo>
                    <a:pt x="614934" y="276225"/>
                    <a:pt x="616522" y="278384"/>
                    <a:pt x="619697" y="281178"/>
                  </a:cubicBezTo>
                  <a:cubicBezTo>
                    <a:pt x="622872" y="283972"/>
                    <a:pt x="624459" y="286703"/>
                    <a:pt x="624459" y="289370"/>
                  </a:cubicBezTo>
                  <a:cubicBezTo>
                    <a:pt x="624459" y="292037"/>
                    <a:pt x="623507" y="294069"/>
                    <a:pt x="621602" y="295466"/>
                  </a:cubicBezTo>
                  <a:cubicBezTo>
                    <a:pt x="619697" y="296863"/>
                    <a:pt x="617601" y="297561"/>
                    <a:pt x="615315" y="297561"/>
                  </a:cubicBezTo>
                  <a:cubicBezTo>
                    <a:pt x="613029" y="297561"/>
                    <a:pt x="611124" y="297434"/>
                    <a:pt x="609600" y="297180"/>
                  </a:cubicBezTo>
                  <a:cubicBezTo>
                    <a:pt x="602234" y="295656"/>
                    <a:pt x="593916" y="294894"/>
                    <a:pt x="584645" y="294894"/>
                  </a:cubicBezTo>
                  <a:cubicBezTo>
                    <a:pt x="575374" y="294894"/>
                    <a:pt x="566865" y="295656"/>
                    <a:pt x="559118" y="297180"/>
                  </a:cubicBezTo>
                  <a:cubicBezTo>
                    <a:pt x="551371" y="298704"/>
                    <a:pt x="546100" y="300609"/>
                    <a:pt x="543306" y="302895"/>
                  </a:cubicBezTo>
                  <a:cubicBezTo>
                    <a:pt x="534162" y="310769"/>
                    <a:pt x="527241" y="314706"/>
                    <a:pt x="522542" y="314706"/>
                  </a:cubicBezTo>
                  <a:cubicBezTo>
                    <a:pt x="517843" y="314706"/>
                    <a:pt x="514096" y="313182"/>
                    <a:pt x="511302" y="310134"/>
                  </a:cubicBezTo>
                  <a:cubicBezTo>
                    <a:pt x="508508" y="307086"/>
                    <a:pt x="505079" y="300355"/>
                    <a:pt x="501015" y="289941"/>
                  </a:cubicBezTo>
                  <a:cubicBezTo>
                    <a:pt x="496951" y="279527"/>
                    <a:pt x="493332" y="266891"/>
                    <a:pt x="490157" y="252032"/>
                  </a:cubicBezTo>
                  <a:cubicBezTo>
                    <a:pt x="486982" y="237173"/>
                    <a:pt x="485394" y="225489"/>
                    <a:pt x="485394" y="216980"/>
                  </a:cubicBezTo>
                  <a:cubicBezTo>
                    <a:pt x="485394" y="208471"/>
                    <a:pt x="486220" y="201803"/>
                    <a:pt x="487871" y="196977"/>
                  </a:cubicBezTo>
                  <a:cubicBezTo>
                    <a:pt x="489522" y="192151"/>
                    <a:pt x="492570" y="187833"/>
                    <a:pt x="497015" y="184023"/>
                  </a:cubicBezTo>
                  <a:cubicBezTo>
                    <a:pt x="501460" y="180213"/>
                    <a:pt x="510540" y="174244"/>
                    <a:pt x="524256" y="166116"/>
                  </a:cubicBezTo>
                  <a:cubicBezTo>
                    <a:pt x="537972" y="157988"/>
                    <a:pt x="551561" y="151257"/>
                    <a:pt x="565023" y="145923"/>
                  </a:cubicBezTo>
                  <a:cubicBezTo>
                    <a:pt x="568071" y="144907"/>
                    <a:pt x="569595" y="143955"/>
                    <a:pt x="569595" y="143066"/>
                  </a:cubicBezTo>
                  <a:cubicBezTo>
                    <a:pt x="569595" y="142177"/>
                    <a:pt x="567436" y="141732"/>
                    <a:pt x="563118" y="141732"/>
                  </a:cubicBezTo>
                  <a:cubicBezTo>
                    <a:pt x="552958" y="141732"/>
                    <a:pt x="540068" y="145161"/>
                    <a:pt x="524447" y="152019"/>
                  </a:cubicBezTo>
                  <a:cubicBezTo>
                    <a:pt x="508826" y="158877"/>
                    <a:pt x="499047" y="164021"/>
                    <a:pt x="495110" y="167450"/>
                  </a:cubicBezTo>
                  <a:cubicBezTo>
                    <a:pt x="491173" y="170879"/>
                    <a:pt x="486728" y="173927"/>
                    <a:pt x="481775" y="176594"/>
                  </a:cubicBezTo>
                  <a:cubicBezTo>
                    <a:pt x="476822" y="179261"/>
                    <a:pt x="472948" y="180594"/>
                    <a:pt x="470154" y="180594"/>
                  </a:cubicBezTo>
                  <a:cubicBezTo>
                    <a:pt x="458724" y="219710"/>
                    <a:pt x="448183" y="247777"/>
                    <a:pt x="438531" y="264795"/>
                  </a:cubicBezTo>
                  <a:cubicBezTo>
                    <a:pt x="428879" y="281813"/>
                    <a:pt x="418338" y="293751"/>
                    <a:pt x="406908" y="300609"/>
                  </a:cubicBezTo>
                  <a:cubicBezTo>
                    <a:pt x="395478" y="307467"/>
                    <a:pt x="387985" y="310896"/>
                    <a:pt x="384429" y="310896"/>
                  </a:cubicBezTo>
                  <a:cubicBezTo>
                    <a:pt x="382397" y="310896"/>
                    <a:pt x="381381" y="309817"/>
                    <a:pt x="381381" y="307658"/>
                  </a:cubicBezTo>
                  <a:cubicBezTo>
                    <a:pt x="381381" y="305499"/>
                    <a:pt x="382905" y="300419"/>
                    <a:pt x="385953" y="292418"/>
                  </a:cubicBezTo>
                  <a:cubicBezTo>
                    <a:pt x="389001" y="284417"/>
                    <a:pt x="391541" y="280416"/>
                    <a:pt x="393573" y="280416"/>
                  </a:cubicBezTo>
                  <a:cubicBezTo>
                    <a:pt x="394589" y="280416"/>
                    <a:pt x="395161" y="280988"/>
                    <a:pt x="395288" y="282131"/>
                  </a:cubicBezTo>
                  <a:cubicBezTo>
                    <a:pt x="395415" y="283274"/>
                    <a:pt x="395732" y="283845"/>
                    <a:pt x="396240" y="283845"/>
                  </a:cubicBezTo>
                  <a:cubicBezTo>
                    <a:pt x="399034" y="283845"/>
                    <a:pt x="403924" y="278702"/>
                    <a:pt x="410909" y="268415"/>
                  </a:cubicBezTo>
                  <a:cubicBezTo>
                    <a:pt x="417894" y="258128"/>
                    <a:pt x="424815" y="241872"/>
                    <a:pt x="431673" y="219647"/>
                  </a:cubicBezTo>
                  <a:cubicBezTo>
                    <a:pt x="438531" y="197422"/>
                    <a:pt x="442595" y="179324"/>
                    <a:pt x="443865" y="165354"/>
                  </a:cubicBezTo>
                  <a:cubicBezTo>
                    <a:pt x="436245" y="159766"/>
                    <a:pt x="432435" y="155067"/>
                    <a:pt x="432435" y="151257"/>
                  </a:cubicBezTo>
                  <a:cubicBezTo>
                    <a:pt x="432435" y="147447"/>
                    <a:pt x="437642" y="143002"/>
                    <a:pt x="448056" y="137922"/>
                  </a:cubicBezTo>
                  <a:cubicBezTo>
                    <a:pt x="450850" y="121412"/>
                    <a:pt x="452247" y="109728"/>
                    <a:pt x="452247" y="102870"/>
                  </a:cubicBezTo>
                  <a:cubicBezTo>
                    <a:pt x="452247" y="96012"/>
                    <a:pt x="450660" y="90615"/>
                    <a:pt x="447485" y="86678"/>
                  </a:cubicBezTo>
                  <a:cubicBezTo>
                    <a:pt x="444310" y="82741"/>
                    <a:pt x="441897" y="78677"/>
                    <a:pt x="440246" y="74486"/>
                  </a:cubicBezTo>
                  <a:cubicBezTo>
                    <a:pt x="438595" y="70295"/>
                    <a:pt x="437769" y="67056"/>
                    <a:pt x="437769" y="64770"/>
                  </a:cubicBezTo>
                  <a:cubicBezTo>
                    <a:pt x="437769" y="62484"/>
                    <a:pt x="438214" y="60579"/>
                    <a:pt x="439103" y="59055"/>
                  </a:cubicBezTo>
                  <a:cubicBezTo>
                    <a:pt x="439992" y="57531"/>
                    <a:pt x="441071" y="56769"/>
                    <a:pt x="442341" y="56769"/>
                  </a:cubicBezTo>
                  <a:cubicBezTo>
                    <a:pt x="443611" y="56769"/>
                    <a:pt x="444754" y="57277"/>
                    <a:pt x="445770" y="58293"/>
                  </a:cubicBezTo>
                  <a:cubicBezTo>
                    <a:pt x="448056" y="60579"/>
                    <a:pt x="452438" y="62484"/>
                    <a:pt x="458915" y="64008"/>
                  </a:cubicBezTo>
                  <a:cubicBezTo>
                    <a:pt x="465392" y="65532"/>
                    <a:pt x="471551" y="67564"/>
                    <a:pt x="477393" y="70104"/>
                  </a:cubicBezTo>
                  <a:cubicBezTo>
                    <a:pt x="487807" y="62484"/>
                    <a:pt x="500190" y="52832"/>
                    <a:pt x="514541" y="41148"/>
                  </a:cubicBezTo>
                  <a:cubicBezTo>
                    <a:pt x="528892" y="29464"/>
                    <a:pt x="538226" y="21400"/>
                    <a:pt x="542544" y="16955"/>
                  </a:cubicBezTo>
                  <a:cubicBezTo>
                    <a:pt x="546862" y="12510"/>
                    <a:pt x="549021" y="9652"/>
                    <a:pt x="549021" y="8382"/>
                  </a:cubicBezTo>
                  <a:cubicBezTo>
                    <a:pt x="549021" y="7112"/>
                    <a:pt x="548513" y="5906"/>
                    <a:pt x="547497" y="4763"/>
                  </a:cubicBezTo>
                  <a:cubicBezTo>
                    <a:pt x="546481" y="3620"/>
                    <a:pt x="545973" y="2540"/>
                    <a:pt x="545973" y="1524"/>
                  </a:cubicBezTo>
                  <a:cubicBezTo>
                    <a:pt x="545973" y="508"/>
                    <a:pt x="548450" y="0"/>
                    <a:pt x="553403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832" name="文本框 8"/>
          <p:cNvSpPr/>
          <p:nvPr/>
        </p:nvSpPr>
        <p:spPr>
          <a:xfrm>
            <a:off x="1258920" y="2128680"/>
            <a:ext cx="53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加一”，猜一个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图片 12"/>
          <p:cNvSpPr/>
          <p:nvPr/>
        </p:nvSpPr>
        <p:spPr>
          <a:xfrm>
            <a:off x="6156000" y="1085760"/>
            <a:ext cx="2277720" cy="2277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nodeType="clickEffect" fill="hold">
                      <p:stCondLst>
                        <p:cond delay="0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组合 1"/>
          <p:cNvGrpSpPr/>
          <p:nvPr/>
        </p:nvGrpSpPr>
        <p:grpSpPr>
          <a:xfrm>
            <a:off x="34920" y="50760"/>
            <a:ext cx="2177640" cy="712440"/>
            <a:chOff x="34920" y="50760"/>
            <a:chExt cx="2177640" cy="712440"/>
          </a:xfrm>
        </p:grpSpPr>
        <p:pic>
          <p:nvPicPr>
            <p:cNvPr id="835" name="图片 21" descr=""/>
            <p:cNvPicPr/>
            <p:nvPr/>
          </p:nvPicPr>
          <p:blipFill>
            <a:blip r:embed="rId1"/>
            <a:stretch/>
          </p:blipFill>
          <p:spPr>
            <a:xfrm>
              <a:off x="34920" y="50760"/>
              <a:ext cx="21776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任意多边形: 形状 3"/>
            <p:cNvSpPr/>
            <p:nvPr/>
          </p:nvSpPr>
          <p:spPr>
            <a:xfrm>
              <a:off x="465120" y="266760"/>
              <a:ext cx="1391760" cy="344160"/>
            </a:xfrm>
            <a:custGeom>
              <a:avLst/>
              <a:gdLst>
                <a:gd name="textAreaLeft" fmla="*/ 0 w 1391760"/>
                <a:gd name="textAreaRight" fmla="*/ 1392120 w 13917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392555" h="345567">
                  <a:moveTo>
                    <a:pt x="942213" y="256794"/>
                  </a:moveTo>
                  <a:cubicBezTo>
                    <a:pt x="927227" y="259842"/>
                    <a:pt x="914654" y="263652"/>
                    <a:pt x="904494" y="268224"/>
                  </a:cubicBezTo>
                  <a:cubicBezTo>
                    <a:pt x="919226" y="276860"/>
                    <a:pt x="929513" y="281178"/>
                    <a:pt x="935355" y="281178"/>
                  </a:cubicBezTo>
                  <a:cubicBezTo>
                    <a:pt x="937895" y="281178"/>
                    <a:pt x="939737" y="280289"/>
                    <a:pt x="940880" y="278511"/>
                  </a:cubicBezTo>
                  <a:cubicBezTo>
                    <a:pt x="942023" y="276733"/>
                    <a:pt x="942594" y="273876"/>
                    <a:pt x="942594" y="269939"/>
                  </a:cubicBezTo>
                  <a:cubicBezTo>
                    <a:pt x="942594" y="266002"/>
                    <a:pt x="942467" y="261620"/>
                    <a:pt x="942213" y="256794"/>
                  </a:cubicBezTo>
                  <a:close/>
                  <a:moveTo>
                    <a:pt x="206502" y="235458"/>
                  </a:moveTo>
                  <a:cubicBezTo>
                    <a:pt x="195072" y="244348"/>
                    <a:pt x="186944" y="251968"/>
                    <a:pt x="182118" y="258318"/>
                  </a:cubicBezTo>
                  <a:cubicBezTo>
                    <a:pt x="193294" y="262890"/>
                    <a:pt x="199898" y="265176"/>
                    <a:pt x="201930" y="265176"/>
                  </a:cubicBezTo>
                  <a:cubicBezTo>
                    <a:pt x="203962" y="265176"/>
                    <a:pt x="205232" y="264795"/>
                    <a:pt x="205740" y="264033"/>
                  </a:cubicBezTo>
                  <a:cubicBezTo>
                    <a:pt x="206248" y="263271"/>
                    <a:pt x="206566" y="259525"/>
                    <a:pt x="206693" y="252794"/>
                  </a:cubicBezTo>
                  <a:cubicBezTo>
                    <a:pt x="206820" y="246063"/>
                    <a:pt x="206756" y="240284"/>
                    <a:pt x="206502" y="235458"/>
                  </a:cubicBezTo>
                  <a:close/>
                  <a:moveTo>
                    <a:pt x="428816" y="189357"/>
                  </a:moveTo>
                  <a:cubicBezTo>
                    <a:pt x="425641" y="189357"/>
                    <a:pt x="419354" y="191008"/>
                    <a:pt x="409956" y="194310"/>
                  </a:cubicBezTo>
                  <a:cubicBezTo>
                    <a:pt x="400558" y="197612"/>
                    <a:pt x="392684" y="203073"/>
                    <a:pt x="386334" y="210693"/>
                  </a:cubicBezTo>
                  <a:cubicBezTo>
                    <a:pt x="379984" y="218313"/>
                    <a:pt x="376809" y="226695"/>
                    <a:pt x="376809" y="235839"/>
                  </a:cubicBezTo>
                  <a:cubicBezTo>
                    <a:pt x="376809" y="239395"/>
                    <a:pt x="377254" y="242888"/>
                    <a:pt x="378143" y="246317"/>
                  </a:cubicBezTo>
                  <a:cubicBezTo>
                    <a:pt x="379032" y="249746"/>
                    <a:pt x="380746" y="251460"/>
                    <a:pt x="383286" y="251460"/>
                  </a:cubicBezTo>
                  <a:cubicBezTo>
                    <a:pt x="385826" y="251460"/>
                    <a:pt x="393065" y="244856"/>
                    <a:pt x="405003" y="231648"/>
                  </a:cubicBezTo>
                  <a:cubicBezTo>
                    <a:pt x="416941" y="218440"/>
                    <a:pt x="427101" y="204978"/>
                    <a:pt x="435483" y="191262"/>
                  </a:cubicBezTo>
                  <a:cubicBezTo>
                    <a:pt x="434213" y="189992"/>
                    <a:pt x="431991" y="189357"/>
                    <a:pt x="428816" y="189357"/>
                  </a:cubicBezTo>
                  <a:close/>
                  <a:moveTo>
                    <a:pt x="934974" y="174498"/>
                  </a:moveTo>
                  <a:cubicBezTo>
                    <a:pt x="930910" y="174498"/>
                    <a:pt x="926465" y="175514"/>
                    <a:pt x="921639" y="177546"/>
                  </a:cubicBezTo>
                  <a:cubicBezTo>
                    <a:pt x="920623" y="185420"/>
                    <a:pt x="919417" y="190881"/>
                    <a:pt x="918020" y="193929"/>
                  </a:cubicBezTo>
                  <a:cubicBezTo>
                    <a:pt x="916623" y="196977"/>
                    <a:pt x="915924" y="199454"/>
                    <a:pt x="915924" y="201359"/>
                  </a:cubicBezTo>
                  <a:cubicBezTo>
                    <a:pt x="915924" y="203264"/>
                    <a:pt x="916686" y="204216"/>
                    <a:pt x="918210" y="204216"/>
                  </a:cubicBezTo>
                  <a:cubicBezTo>
                    <a:pt x="919734" y="204216"/>
                    <a:pt x="921766" y="203454"/>
                    <a:pt x="924306" y="201930"/>
                  </a:cubicBezTo>
                  <a:cubicBezTo>
                    <a:pt x="926846" y="200406"/>
                    <a:pt x="933450" y="197104"/>
                    <a:pt x="944118" y="192024"/>
                  </a:cubicBezTo>
                  <a:cubicBezTo>
                    <a:pt x="944626" y="183642"/>
                    <a:pt x="944245" y="178626"/>
                    <a:pt x="942975" y="176975"/>
                  </a:cubicBezTo>
                  <a:cubicBezTo>
                    <a:pt x="941705" y="175324"/>
                    <a:pt x="939038" y="174498"/>
                    <a:pt x="934974" y="174498"/>
                  </a:cubicBezTo>
                  <a:close/>
                  <a:moveTo>
                    <a:pt x="1202627" y="149733"/>
                  </a:moveTo>
                  <a:cubicBezTo>
                    <a:pt x="1199960" y="149733"/>
                    <a:pt x="1198626" y="151003"/>
                    <a:pt x="1198626" y="153543"/>
                  </a:cubicBezTo>
                  <a:cubicBezTo>
                    <a:pt x="1198626" y="156083"/>
                    <a:pt x="1200849" y="161481"/>
                    <a:pt x="1205294" y="169736"/>
                  </a:cubicBezTo>
                  <a:cubicBezTo>
                    <a:pt x="1209739" y="177991"/>
                    <a:pt x="1215009" y="185547"/>
                    <a:pt x="1221105" y="192405"/>
                  </a:cubicBezTo>
                  <a:cubicBezTo>
                    <a:pt x="1229741" y="174625"/>
                    <a:pt x="1234059" y="164465"/>
                    <a:pt x="1234059" y="161925"/>
                  </a:cubicBezTo>
                  <a:cubicBezTo>
                    <a:pt x="1234059" y="160909"/>
                    <a:pt x="1233107" y="160274"/>
                    <a:pt x="1231202" y="160020"/>
                  </a:cubicBezTo>
                  <a:cubicBezTo>
                    <a:pt x="1229297" y="159766"/>
                    <a:pt x="1226249" y="158941"/>
                    <a:pt x="1222058" y="157544"/>
                  </a:cubicBezTo>
                  <a:cubicBezTo>
                    <a:pt x="1217867" y="156147"/>
                    <a:pt x="1214247" y="154496"/>
                    <a:pt x="1211199" y="152591"/>
                  </a:cubicBezTo>
                  <a:cubicBezTo>
                    <a:pt x="1208151" y="150686"/>
                    <a:pt x="1205294" y="149733"/>
                    <a:pt x="1202627" y="149733"/>
                  </a:cubicBezTo>
                  <a:close/>
                  <a:moveTo>
                    <a:pt x="203454" y="130302"/>
                  </a:moveTo>
                  <a:cubicBezTo>
                    <a:pt x="194818" y="134112"/>
                    <a:pt x="184277" y="136017"/>
                    <a:pt x="171831" y="136017"/>
                  </a:cubicBezTo>
                  <a:cubicBezTo>
                    <a:pt x="171831" y="144145"/>
                    <a:pt x="172085" y="149352"/>
                    <a:pt x="172593" y="151638"/>
                  </a:cubicBezTo>
                  <a:cubicBezTo>
                    <a:pt x="173101" y="153924"/>
                    <a:pt x="174117" y="154813"/>
                    <a:pt x="175641" y="154305"/>
                  </a:cubicBezTo>
                  <a:cubicBezTo>
                    <a:pt x="185293" y="152019"/>
                    <a:pt x="194691" y="149987"/>
                    <a:pt x="203835" y="148209"/>
                  </a:cubicBezTo>
                  <a:cubicBezTo>
                    <a:pt x="203581" y="143637"/>
                    <a:pt x="203454" y="137668"/>
                    <a:pt x="203454" y="130302"/>
                  </a:cubicBezTo>
                  <a:close/>
                  <a:moveTo>
                    <a:pt x="198882" y="87630"/>
                  </a:moveTo>
                  <a:cubicBezTo>
                    <a:pt x="189230" y="90678"/>
                    <a:pt x="179197" y="92456"/>
                    <a:pt x="168783" y="92964"/>
                  </a:cubicBezTo>
                  <a:cubicBezTo>
                    <a:pt x="170815" y="98552"/>
                    <a:pt x="172466" y="105029"/>
                    <a:pt x="173736" y="112395"/>
                  </a:cubicBezTo>
                  <a:cubicBezTo>
                    <a:pt x="180340" y="109347"/>
                    <a:pt x="190754" y="106426"/>
                    <a:pt x="204978" y="103632"/>
                  </a:cubicBezTo>
                  <a:cubicBezTo>
                    <a:pt x="204470" y="96520"/>
                    <a:pt x="202438" y="91186"/>
                    <a:pt x="198882" y="87630"/>
                  </a:cubicBezTo>
                  <a:close/>
                  <a:moveTo>
                    <a:pt x="252794" y="67056"/>
                  </a:moveTo>
                  <a:cubicBezTo>
                    <a:pt x="248095" y="67056"/>
                    <a:pt x="239649" y="70993"/>
                    <a:pt x="227457" y="78867"/>
                  </a:cubicBezTo>
                  <a:cubicBezTo>
                    <a:pt x="230759" y="83693"/>
                    <a:pt x="232537" y="89408"/>
                    <a:pt x="232791" y="96012"/>
                  </a:cubicBezTo>
                  <a:cubicBezTo>
                    <a:pt x="239649" y="96520"/>
                    <a:pt x="244983" y="98108"/>
                    <a:pt x="248793" y="100775"/>
                  </a:cubicBezTo>
                  <a:cubicBezTo>
                    <a:pt x="252603" y="103442"/>
                    <a:pt x="254508" y="106109"/>
                    <a:pt x="254508" y="108776"/>
                  </a:cubicBezTo>
                  <a:cubicBezTo>
                    <a:pt x="254508" y="111443"/>
                    <a:pt x="252667" y="114046"/>
                    <a:pt x="248984" y="116586"/>
                  </a:cubicBezTo>
                  <a:cubicBezTo>
                    <a:pt x="245301" y="119126"/>
                    <a:pt x="239903" y="121158"/>
                    <a:pt x="232791" y="122682"/>
                  </a:cubicBezTo>
                  <a:cubicBezTo>
                    <a:pt x="232029" y="129032"/>
                    <a:pt x="231648" y="135255"/>
                    <a:pt x="231648" y="141351"/>
                  </a:cubicBezTo>
                  <a:cubicBezTo>
                    <a:pt x="239776" y="140589"/>
                    <a:pt x="245491" y="137859"/>
                    <a:pt x="248793" y="133160"/>
                  </a:cubicBezTo>
                  <a:cubicBezTo>
                    <a:pt x="252095" y="128461"/>
                    <a:pt x="255588" y="120269"/>
                    <a:pt x="259271" y="108585"/>
                  </a:cubicBezTo>
                  <a:cubicBezTo>
                    <a:pt x="262954" y="96901"/>
                    <a:pt x="264795" y="89218"/>
                    <a:pt x="264795" y="85535"/>
                  </a:cubicBezTo>
                  <a:cubicBezTo>
                    <a:pt x="264795" y="81852"/>
                    <a:pt x="263970" y="77851"/>
                    <a:pt x="262319" y="73533"/>
                  </a:cubicBezTo>
                  <a:cubicBezTo>
                    <a:pt x="260668" y="69215"/>
                    <a:pt x="257493" y="67056"/>
                    <a:pt x="252794" y="67056"/>
                  </a:cubicBezTo>
                  <a:close/>
                  <a:moveTo>
                    <a:pt x="1321308" y="43434"/>
                  </a:moveTo>
                  <a:cubicBezTo>
                    <a:pt x="1331214" y="43434"/>
                    <a:pt x="1342327" y="45149"/>
                    <a:pt x="1354646" y="48578"/>
                  </a:cubicBezTo>
                  <a:cubicBezTo>
                    <a:pt x="1366965" y="52007"/>
                    <a:pt x="1374648" y="55499"/>
                    <a:pt x="1377696" y="59055"/>
                  </a:cubicBezTo>
                  <a:cubicBezTo>
                    <a:pt x="1380744" y="62611"/>
                    <a:pt x="1383983" y="66612"/>
                    <a:pt x="1387412" y="71057"/>
                  </a:cubicBezTo>
                  <a:cubicBezTo>
                    <a:pt x="1390841" y="75502"/>
                    <a:pt x="1392555" y="80518"/>
                    <a:pt x="1392555" y="86106"/>
                  </a:cubicBezTo>
                  <a:cubicBezTo>
                    <a:pt x="1392555" y="91694"/>
                    <a:pt x="1391666" y="99060"/>
                    <a:pt x="1389888" y="108204"/>
                  </a:cubicBezTo>
                  <a:cubicBezTo>
                    <a:pt x="1385316" y="131064"/>
                    <a:pt x="1382268" y="163703"/>
                    <a:pt x="1380744" y="206121"/>
                  </a:cubicBezTo>
                  <a:cubicBezTo>
                    <a:pt x="1379728" y="229743"/>
                    <a:pt x="1378014" y="246698"/>
                    <a:pt x="1375601" y="256985"/>
                  </a:cubicBezTo>
                  <a:cubicBezTo>
                    <a:pt x="1373188" y="267272"/>
                    <a:pt x="1367727" y="278765"/>
                    <a:pt x="1359218" y="291465"/>
                  </a:cubicBezTo>
                  <a:cubicBezTo>
                    <a:pt x="1350709" y="304165"/>
                    <a:pt x="1344676" y="312230"/>
                    <a:pt x="1341120" y="315659"/>
                  </a:cubicBezTo>
                  <a:cubicBezTo>
                    <a:pt x="1337564" y="319088"/>
                    <a:pt x="1334516" y="320802"/>
                    <a:pt x="1331976" y="320802"/>
                  </a:cubicBezTo>
                  <a:cubicBezTo>
                    <a:pt x="1329436" y="320802"/>
                    <a:pt x="1326769" y="319405"/>
                    <a:pt x="1323975" y="316611"/>
                  </a:cubicBezTo>
                  <a:cubicBezTo>
                    <a:pt x="1315847" y="308483"/>
                    <a:pt x="1303909" y="298704"/>
                    <a:pt x="1288161" y="287274"/>
                  </a:cubicBezTo>
                  <a:cubicBezTo>
                    <a:pt x="1274699" y="277114"/>
                    <a:pt x="1261872" y="262382"/>
                    <a:pt x="1249680" y="243078"/>
                  </a:cubicBezTo>
                  <a:cubicBezTo>
                    <a:pt x="1243076" y="248666"/>
                    <a:pt x="1233615" y="254889"/>
                    <a:pt x="1221296" y="261747"/>
                  </a:cubicBezTo>
                  <a:cubicBezTo>
                    <a:pt x="1208977" y="268605"/>
                    <a:pt x="1200976" y="272034"/>
                    <a:pt x="1197293" y="272034"/>
                  </a:cubicBezTo>
                  <a:cubicBezTo>
                    <a:pt x="1193610" y="272034"/>
                    <a:pt x="1191197" y="270320"/>
                    <a:pt x="1190054" y="266891"/>
                  </a:cubicBezTo>
                  <a:cubicBezTo>
                    <a:pt x="1188911" y="263462"/>
                    <a:pt x="1187895" y="257366"/>
                    <a:pt x="1187006" y="248603"/>
                  </a:cubicBezTo>
                  <a:cubicBezTo>
                    <a:pt x="1186117" y="239840"/>
                    <a:pt x="1185672" y="232918"/>
                    <a:pt x="1185672" y="227838"/>
                  </a:cubicBezTo>
                  <a:cubicBezTo>
                    <a:pt x="1185672" y="222758"/>
                    <a:pt x="1186561" y="219139"/>
                    <a:pt x="1188339" y="216980"/>
                  </a:cubicBezTo>
                  <a:cubicBezTo>
                    <a:pt x="1190117" y="214821"/>
                    <a:pt x="1193800" y="213043"/>
                    <a:pt x="1199388" y="211646"/>
                  </a:cubicBezTo>
                  <a:cubicBezTo>
                    <a:pt x="1204976" y="210249"/>
                    <a:pt x="1208786" y="208852"/>
                    <a:pt x="1210818" y="207455"/>
                  </a:cubicBezTo>
                  <a:cubicBezTo>
                    <a:pt x="1212850" y="206058"/>
                    <a:pt x="1215263" y="202946"/>
                    <a:pt x="1218057" y="198120"/>
                  </a:cubicBezTo>
                  <a:cubicBezTo>
                    <a:pt x="1210437" y="187452"/>
                    <a:pt x="1203198" y="175387"/>
                    <a:pt x="1196340" y="161925"/>
                  </a:cubicBezTo>
                  <a:cubicBezTo>
                    <a:pt x="1189482" y="148463"/>
                    <a:pt x="1186053" y="138113"/>
                    <a:pt x="1186053" y="130874"/>
                  </a:cubicBezTo>
                  <a:cubicBezTo>
                    <a:pt x="1186053" y="123635"/>
                    <a:pt x="1190498" y="119761"/>
                    <a:pt x="1199388" y="119253"/>
                  </a:cubicBezTo>
                  <a:cubicBezTo>
                    <a:pt x="1221232" y="117983"/>
                    <a:pt x="1234059" y="116967"/>
                    <a:pt x="1237869" y="116205"/>
                  </a:cubicBezTo>
                  <a:cubicBezTo>
                    <a:pt x="1241679" y="115443"/>
                    <a:pt x="1244346" y="115062"/>
                    <a:pt x="1245870" y="115062"/>
                  </a:cubicBezTo>
                  <a:cubicBezTo>
                    <a:pt x="1250950" y="115062"/>
                    <a:pt x="1257618" y="119063"/>
                    <a:pt x="1265873" y="127064"/>
                  </a:cubicBezTo>
                  <a:cubicBezTo>
                    <a:pt x="1274128" y="135065"/>
                    <a:pt x="1278255" y="142494"/>
                    <a:pt x="1278255" y="149352"/>
                  </a:cubicBezTo>
                  <a:cubicBezTo>
                    <a:pt x="1278255" y="152908"/>
                    <a:pt x="1277112" y="156083"/>
                    <a:pt x="1274826" y="158877"/>
                  </a:cubicBezTo>
                  <a:cubicBezTo>
                    <a:pt x="1256284" y="180975"/>
                    <a:pt x="1247013" y="193929"/>
                    <a:pt x="1247013" y="197739"/>
                  </a:cubicBezTo>
                  <a:cubicBezTo>
                    <a:pt x="1247013" y="198501"/>
                    <a:pt x="1247521" y="198882"/>
                    <a:pt x="1248537" y="198882"/>
                  </a:cubicBezTo>
                  <a:cubicBezTo>
                    <a:pt x="1250823" y="198882"/>
                    <a:pt x="1259840" y="194183"/>
                    <a:pt x="1275588" y="184785"/>
                  </a:cubicBezTo>
                  <a:lnTo>
                    <a:pt x="1296162" y="172593"/>
                  </a:lnTo>
                  <a:cubicBezTo>
                    <a:pt x="1297686" y="171323"/>
                    <a:pt x="1299210" y="170688"/>
                    <a:pt x="1300734" y="170688"/>
                  </a:cubicBezTo>
                  <a:cubicBezTo>
                    <a:pt x="1304036" y="170688"/>
                    <a:pt x="1305687" y="172847"/>
                    <a:pt x="1305687" y="177165"/>
                  </a:cubicBezTo>
                  <a:cubicBezTo>
                    <a:pt x="1305687" y="178689"/>
                    <a:pt x="1305370" y="180213"/>
                    <a:pt x="1304735" y="181737"/>
                  </a:cubicBezTo>
                  <a:cubicBezTo>
                    <a:pt x="1304100" y="183261"/>
                    <a:pt x="1300798" y="187960"/>
                    <a:pt x="1294829" y="195834"/>
                  </a:cubicBezTo>
                  <a:cubicBezTo>
                    <a:pt x="1288860" y="203708"/>
                    <a:pt x="1283018" y="210630"/>
                    <a:pt x="1277303" y="216599"/>
                  </a:cubicBezTo>
                  <a:cubicBezTo>
                    <a:pt x="1271588" y="222568"/>
                    <a:pt x="1266317" y="227965"/>
                    <a:pt x="1261491" y="232791"/>
                  </a:cubicBezTo>
                  <a:cubicBezTo>
                    <a:pt x="1274699" y="242697"/>
                    <a:pt x="1286891" y="250190"/>
                    <a:pt x="1298067" y="255270"/>
                  </a:cubicBezTo>
                  <a:cubicBezTo>
                    <a:pt x="1309243" y="260350"/>
                    <a:pt x="1317625" y="262890"/>
                    <a:pt x="1323213" y="262890"/>
                  </a:cubicBezTo>
                  <a:cubicBezTo>
                    <a:pt x="1328801" y="262890"/>
                    <a:pt x="1332865" y="262128"/>
                    <a:pt x="1335405" y="260604"/>
                  </a:cubicBezTo>
                  <a:cubicBezTo>
                    <a:pt x="1337945" y="259080"/>
                    <a:pt x="1341501" y="246317"/>
                    <a:pt x="1346073" y="222314"/>
                  </a:cubicBezTo>
                  <a:cubicBezTo>
                    <a:pt x="1350645" y="198311"/>
                    <a:pt x="1352931" y="171704"/>
                    <a:pt x="1352931" y="142494"/>
                  </a:cubicBezTo>
                  <a:cubicBezTo>
                    <a:pt x="1352931" y="113284"/>
                    <a:pt x="1352360" y="95060"/>
                    <a:pt x="1351217" y="87821"/>
                  </a:cubicBezTo>
                  <a:cubicBezTo>
                    <a:pt x="1350074" y="80582"/>
                    <a:pt x="1347915" y="74994"/>
                    <a:pt x="1344740" y="71057"/>
                  </a:cubicBezTo>
                  <a:cubicBezTo>
                    <a:pt x="1341565" y="67120"/>
                    <a:pt x="1338199" y="65151"/>
                    <a:pt x="1334643" y="65151"/>
                  </a:cubicBezTo>
                  <a:cubicBezTo>
                    <a:pt x="1327785" y="65151"/>
                    <a:pt x="1313180" y="71882"/>
                    <a:pt x="1290828" y="85344"/>
                  </a:cubicBezTo>
                  <a:cubicBezTo>
                    <a:pt x="1278382" y="92710"/>
                    <a:pt x="1269429" y="96393"/>
                    <a:pt x="1263968" y="96393"/>
                  </a:cubicBezTo>
                  <a:cubicBezTo>
                    <a:pt x="1258507" y="96393"/>
                    <a:pt x="1252792" y="94171"/>
                    <a:pt x="1246823" y="89726"/>
                  </a:cubicBezTo>
                  <a:cubicBezTo>
                    <a:pt x="1240854" y="85281"/>
                    <a:pt x="1234377" y="79375"/>
                    <a:pt x="1227392" y="72009"/>
                  </a:cubicBezTo>
                  <a:cubicBezTo>
                    <a:pt x="1220407" y="64643"/>
                    <a:pt x="1216914" y="60198"/>
                    <a:pt x="1216914" y="58674"/>
                  </a:cubicBezTo>
                  <a:cubicBezTo>
                    <a:pt x="1216914" y="57150"/>
                    <a:pt x="1217486" y="56388"/>
                    <a:pt x="1218629" y="56388"/>
                  </a:cubicBezTo>
                  <a:cubicBezTo>
                    <a:pt x="1219772" y="56388"/>
                    <a:pt x="1222629" y="57785"/>
                    <a:pt x="1227201" y="60579"/>
                  </a:cubicBezTo>
                  <a:cubicBezTo>
                    <a:pt x="1231773" y="63373"/>
                    <a:pt x="1235520" y="64770"/>
                    <a:pt x="1238441" y="64770"/>
                  </a:cubicBezTo>
                  <a:cubicBezTo>
                    <a:pt x="1241362" y="64770"/>
                    <a:pt x="1244600" y="64135"/>
                    <a:pt x="1248156" y="62865"/>
                  </a:cubicBezTo>
                  <a:cubicBezTo>
                    <a:pt x="1287018" y="49911"/>
                    <a:pt x="1311402" y="43434"/>
                    <a:pt x="1321308" y="43434"/>
                  </a:cubicBezTo>
                  <a:close/>
                  <a:moveTo>
                    <a:pt x="91059" y="39243"/>
                  </a:moveTo>
                  <a:cubicBezTo>
                    <a:pt x="105537" y="39243"/>
                    <a:pt x="116904" y="43307"/>
                    <a:pt x="125159" y="51435"/>
                  </a:cubicBezTo>
                  <a:cubicBezTo>
                    <a:pt x="133414" y="59563"/>
                    <a:pt x="137541" y="66104"/>
                    <a:pt x="137541" y="71057"/>
                  </a:cubicBezTo>
                  <a:cubicBezTo>
                    <a:pt x="137541" y="76010"/>
                    <a:pt x="135954" y="80137"/>
                    <a:pt x="132779" y="83439"/>
                  </a:cubicBezTo>
                  <a:cubicBezTo>
                    <a:pt x="129604" y="86741"/>
                    <a:pt x="126111" y="88392"/>
                    <a:pt x="122301" y="88392"/>
                  </a:cubicBezTo>
                  <a:cubicBezTo>
                    <a:pt x="121031" y="88392"/>
                    <a:pt x="119317" y="88075"/>
                    <a:pt x="117158" y="87440"/>
                  </a:cubicBezTo>
                  <a:cubicBezTo>
                    <a:pt x="114999" y="86805"/>
                    <a:pt x="112840" y="86487"/>
                    <a:pt x="110681" y="86487"/>
                  </a:cubicBezTo>
                  <a:cubicBezTo>
                    <a:pt x="108522" y="86487"/>
                    <a:pt x="105791" y="87249"/>
                    <a:pt x="102489" y="88773"/>
                  </a:cubicBezTo>
                  <a:cubicBezTo>
                    <a:pt x="99187" y="90297"/>
                    <a:pt x="93282" y="93726"/>
                    <a:pt x="84773" y="99060"/>
                  </a:cubicBezTo>
                  <a:cubicBezTo>
                    <a:pt x="76264" y="104394"/>
                    <a:pt x="70803" y="107506"/>
                    <a:pt x="68390" y="108395"/>
                  </a:cubicBezTo>
                  <a:cubicBezTo>
                    <a:pt x="65977" y="109284"/>
                    <a:pt x="63119" y="109728"/>
                    <a:pt x="59817" y="109728"/>
                  </a:cubicBezTo>
                  <a:cubicBezTo>
                    <a:pt x="51435" y="109728"/>
                    <a:pt x="41466" y="115316"/>
                    <a:pt x="29909" y="126492"/>
                  </a:cubicBezTo>
                  <a:cubicBezTo>
                    <a:pt x="18352" y="137668"/>
                    <a:pt x="12573" y="148336"/>
                    <a:pt x="12573" y="158496"/>
                  </a:cubicBezTo>
                  <a:cubicBezTo>
                    <a:pt x="12573" y="163068"/>
                    <a:pt x="13843" y="165354"/>
                    <a:pt x="16383" y="165354"/>
                  </a:cubicBezTo>
                  <a:cubicBezTo>
                    <a:pt x="21463" y="165354"/>
                    <a:pt x="30036" y="161417"/>
                    <a:pt x="42101" y="153543"/>
                  </a:cubicBezTo>
                  <a:cubicBezTo>
                    <a:pt x="54166" y="145669"/>
                    <a:pt x="62484" y="138557"/>
                    <a:pt x="67056" y="132207"/>
                  </a:cubicBezTo>
                  <a:cubicBezTo>
                    <a:pt x="69850" y="128143"/>
                    <a:pt x="75819" y="126111"/>
                    <a:pt x="84963" y="126111"/>
                  </a:cubicBezTo>
                  <a:cubicBezTo>
                    <a:pt x="102743" y="126111"/>
                    <a:pt x="111633" y="134112"/>
                    <a:pt x="111633" y="150114"/>
                  </a:cubicBezTo>
                  <a:cubicBezTo>
                    <a:pt x="111633" y="153416"/>
                    <a:pt x="111125" y="156718"/>
                    <a:pt x="110109" y="160020"/>
                  </a:cubicBezTo>
                  <a:cubicBezTo>
                    <a:pt x="101727" y="186436"/>
                    <a:pt x="96838" y="204216"/>
                    <a:pt x="95441" y="213360"/>
                  </a:cubicBezTo>
                  <a:cubicBezTo>
                    <a:pt x="94044" y="222504"/>
                    <a:pt x="93345" y="231585"/>
                    <a:pt x="93345" y="240602"/>
                  </a:cubicBezTo>
                  <a:cubicBezTo>
                    <a:pt x="93345" y="249619"/>
                    <a:pt x="93472" y="254572"/>
                    <a:pt x="93726" y="255461"/>
                  </a:cubicBezTo>
                  <a:cubicBezTo>
                    <a:pt x="93980" y="256350"/>
                    <a:pt x="94425" y="256794"/>
                    <a:pt x="95060" y="256794"/>
                  </a:cubicBezTo>
                  <a:cubicBezTo>
                    <a:pt x="95695" y="256794"/>
                    <a:pt x="96266" y="256413"/>
                    <a:pt x="96774" y="255651"/>
                  </a:cubicBezTo>
                  <a:cubicBezTo>
                    <a:pt x="97282" y="254889"/>
                    <a:pt x="100013" y="249619"/>
                    <a:pt x="104966" y="239840"/>
                  </a:cubicBezTo>
                  <a:cubicBezTo>
                    <a:pt x="109919" y="230061"/>
                    <a:pt x="114999" y="218885"/>
                    <a:pt x="120206" y="206312"/>
                  </a:cubicBezTo>
                  <a:cubicBezTo>
                    <a:pt x="125413" y="193739"/>
                    <a:pt x="131445" y="182245"/>
                    <a:pt x="138303" y="171831"/>
                  </a:cubicBezTo>
                  <a:cubicBezTo>
                    <a:pt x="135763" y="181229"/>
                    <a:pt x="133604" y="192405"/>
                    <a:pt x="131826" y="205359"/>
                  </a:cubicBezTo>
                  <a:cubicBezTo>
                    <a:pt x="155956" y="196977"/>
                    <a:pt x="180721" y="190246"/>
                    <a:pt x="206121" y="185166"/>
                  </a:cubicBezTo>
                  <a:lnTo>
                    <a:pt x="205359" y="171069"/>
                  </a:lnTo>
                  <a:cubicBezTo>
                    <a:pt x="194183" y="172593"/>
                    <a:pt x="185674" y="174308"/>
                    <a:pt x="179832" y="176213"/>
                  </a:cubicBezTo>
                  <a:cubicBezTo>
                    <a:pt x="173990" y="178118"/>
                    <a:pt x="170307" y="179070"/>
                    <a:pt x="168783" y="179070"/>
                  </a:cubicBezTo>
                  <a:cubicBezTo>
                    <a:pt x="161925" y="179070"/>
                    <a:pt x="156147" y="173482"/>
                    <a:pt x="151448" y="162306"/>
                  </a:cubicBezTo>
                  <a:cubicBezTo>
                    <a:pt x="146749" y="151130"/>
                    <a:pt x="144145" y="137414"/>
                    <a:pt x="143637" y="121158"/>
                  </a:cubicBezTo>
                  <a:cubicBezTo>
                    <a:pt x="143383" y="113030"/>
                    <a:pt x="141796" y="106934"/>
                    <a:pt x="138875" y="102870"/>
                  </a:cubicBezTo>
                  <a:cubicBezTo>
                    <a:pt x="135954" y="98806"/>
                    <a:pt x="134493" y="95822"/>
                    <a:pt x="134493" y="93917"/>
                  </a:cubicBezTo>
                  <a:cubicBezTo>
                    <a:pt x="134493" y="92012"/>
                    <a:pt x="135065" y="89218"/>
                    <a:pt x="136208" y="85535"/>
                  </a:cubicBezTo>
                  <a:cubicBezTo>
                    <a:pt x="137351" y="81852"/>
                    <a:pt x="138303" y="79629"/>
                    <a:pt x="139065" y="78867"/>
                  </a:cubicBezTo>
                  <a:cubicBezTo>
                    <a:pt x="139827" y="78105"/>
                    <a:pt x="141351" y="77724"/>
                    <a:pt x="143637" y="77724"/>
                  </a:cubicBezTo>
                  <a:cubicBezTo>
                    <a:pt x="145923" y="77724"/>
                    <a:pt x="151384" y="78613"/>
                    <a:pt x="160020" y="80391"/>
                  </a:cubicBezTo>
                  <a:cubicBezTo>
                    <a:pt x="173990" y="69977"/>
                    <a:pt x="190754" y="62294"/>
                    <a:pt x="210312" y="57341"/>
                  </a:cubicBezTo>
                  <a:cubicBezTo>
                    <a:pt x="229870" y="52388"/>
                    <a:pt x="243205" y="49911"/>
                    <a:pt x="250317" y="49911"/>
                  </a:cubicBezTo>
                  <a:cubicBezTo>
                    <a:pt x="262001" y="49911"/>
                    <a:pt x="274320" y="54674"/>
                    <a:pt x="287274" y="64199"/>
                  </a:cubicBezTo>
                  <a:cubicBezTo>
                    <a:pt x="300228" y="73724"/>
                    <a:pt x="306705" y="83058"/>
                    <a:pt x="306705" y="92202"/>
                  </a:cubicBezTo>
                  <a:cubicBezTo>
                    <a:pt x="306705" y="94488"/>
                    <a:pt x="306261" y="96774"/>
                    <a:pt x="305372" y="99060"/>
                  </a:cubicBezTo>
                  <a:cubicBezTo>
                    <a:pt x="304483" y="101346"/>
                    <a:pt x="301054" y="107188"/>
                    <a:pt x="295085" y="116586"/>
                  </a:cubicBezTo>
                  <a:cubicBezTo>
                    <a:pt x="289116" y="125984"/>
                    <a:pt x="283972" y="132715"/>
                    <a:pt x="279654" y="136779"/>
                  </a:cubicBezTo>
                  <a:cubicBezTo>
                    <a:pt x="275336" y="140843"/>
                    <a:pt x="270129" y="145288"/>
                    <a:pt x="264033" y="150114"/>
                  </a:cubicBezTo>
                  <a:cubicBezTo>
                    <a:pt x="264541" y="160274"/>
                    <a:pt x="257048" y="165354"/>
                    <a:pt x="241554" y="165354"/>
                  </a:cubicBezTo>
                  <a:cubicBezTo>
                    <a:pt x="236728" y="165354"/>
                    <a:pt x="233045" y="165735"/>
                    <a:pt x="230505" y="166497"/>
                  </a:cubicBezTo>
                  <a:lnTo>
                    <a:pt x="230505" y="181356"/>
                  </a:lnTo>
                  <a:cubicBezTo>
                    <a:pt x="249555" y="179070"/>
                    <a:pt x="262382" y="177927"/>
                    <a:pt x="268986" y="177927"/>
                  </a:cubicBezTo>
                  <a:cubicBezTo>
                    <a:pt x="275590" y="177927"/>
                    <a:pt x="283083" y="180404"/>
                    <a:pt x="291465" y="185357"/>
                  </a:cubicBezTo>
                  <a:cubicBezTo>
                    <a:pt x="299847" y="190310"/>
                    <a:pt x="304038" y="194501"/>
                    <a:pt x="304038" y="197930"/>
                  </a:cubicBezTo>
                  <a:cubicBezTo>
                    <a:pt x="304038" y="201359"/>
                    <a:pt x="302641" y="204216"/>
                    <a:pt x="299847" y="206502"/>
                  </a:cubicBezTo>
                  <a:cubicBezTo>
                    <a:pt x="297053" y="208788"/>
                    <a:pt x="293815" y="209931"/>
                    <a:pt x="290132" y="209931"/>
                  </a:cubicBezTo>
                  <a:cubicBezTo>
                    <a:pt x="286449" y="209931"/>
                    <a:pt x="282829" y="209423"/>
                    <a:pt x="279273" y="208407"/>
                  </a:cubicBezTo>
                  <a:cubicBezTo>
                    <a:pt x="264287" y="203835"/>
                    <a:pt x="251079" y="201549"/>
                    <a:pt x="239649" y="201549"/>
                  </a:cubicBezTo>
                  <a:cubicBezTo>
                    <a:pt x="236347" y="201549"/>
                    <a:pt x="233553" y="201803"/>
                    <a:pt x="231267" y="202311"/>
                  </a:cubicBezTo>
                  <a:cubicBezTo>
                    <a:pt x="231775" y="213233"/>
                    <a:pt x="232410" y="222123"/>
                    <a:pt x="233172" y="228981"/>
                  </a:cubicBezTo>
                  <a:cubicBezTo>
                    <a:pt x="246634" y="232029"/>
                    <a:pt x="258509" y="233617"/>
                    <a:pt x="268796" y="233744"/>
                  </a:cubicBezTo>
                  <a:cubicBezTo>
                    <a:pt x="279083" y="233871"/>
                    <a:pt x="288417" y="237490"/>
                    <a:pt x="296799" y="244602"/>
                  </a:cubicBezTo>
                  <a:cubicBezTo>
                    <a:pt x="305181" y="251714"/>
                    <a:pt x="309372" y="258953"/>
                    <a:pt x="309372" y="266319"/>
                  </a:cubicBezTo>
                  <a:cubicBezTo>
                    <a:pt x="309372" y="271145"/>
                    <a:pt x="308102" y="275717"/>
                    <a:pt x="305562" y="280035"/>
                  </a:cubicBezTo>
                  <a:cubicBezTo>
                    <a:pt x="303022" y="284353"/>
                    <a:pt x="298958" y="286512"/>
                    <a:pt x="293370" y="286512"/>
                  </a:cubicBezTo>
                  <a:cubicBezTo>
                    <a:pt x="284226" y="286512"/>
                    <a:pt x="272034" y="274447"/>
                    <a:pt x="256794" y="250317"/>
                  </a:cubicBezTo>
                  <a:cubicBezTo>
                    <a:pt x="249174" y="238379"/>
                    <a:pt x="241300" y="232283"/>
                    <a:pt x="233172" y="232029"/>
                  </a:cubicBezTo>
                  <a:cubicBezTo>
                    <a:pt x="234188" y="244983"/>
                    <a:pt x="234696" y="255905"/>
                    <a:pt x="234696" y="264795"/>
                  </a:cubicBezTo>
                  <a:cubicBezTo>
                    <a:pt x="234696" y="283083"/>
                    <a:pt x="232220" y="297180"/>
                    <a:pt x="227267" y="307086"/>
                  </a:cubicBezTo>
                  <a:cubicBezTo>
                    <a:pt x="222314" y="316992"/>
                    <a:pt x="217551" y="321945"/>
                    <a:pt x="212979" y="321945"/>
                  </a:cubicBezTo>
                  <a:cubicBezTo>
                    <a:pt x="211201" y="321945"/>
                    <a:pt x="209804" y="321183"/>
                    <a:pt x="208788" y="319659"/>
                  </a:cubicBezTo>
                  <a:cubicBezTo>
                    <a:pt x="202946" y="311277"/>
                    <a:pt x="197422" y="304610"/>
                    <a:pt x="192215" y="299657"/>
                  </a:cubicBezTo>
                  <a:cubicBezTo>
                    <a:pt x="187008" y="294704"/>
                    <a:pt x="182817" y="290005"/>
                    <a:pt x="179642" y="285560"/>
                  </a:cubicBezTo>
                  <a:cubicBezTo>
                    <a:pt x="176467" y="281115"/>
                    <a:pt x="173101" y="274701"/>
                    <a:pt x="169545" y="266319"/>
                  </a:cubicBezTo>
                  <a:cubicBezTo>
                    <a:pt x="163703" y="269621"/>
                    <a:pt x="159576" y="272542"/>
                    <a:pt x="157163" y="275082"/>
                  </a:cubicBezTo>
                  <a:cubicBezTo>
                    <a:pt x="154750" y="277622"/>
                    <a:pt x="151956" y="282004"/>
                    <a:pt x="148781" y="288227"/>
                  </a:cubicBezTo>
                  <a:cubicBezTo>
                    <a:pt x="145606" y="294450"/>
                    <a:pt x="142558" y="297561"/>
                    <a:pt x="139637" y="297561"/>
                  </a:cubicBezTo>
                  <a:cubicBezTo>
                    <a:pt x="136716" y="297561"/>
                    <a:pt x="134303" y="294450"/>
                    <a:pt x="132398" y="288227"/>
                  </a:cubicBezTo>
                  <a:cubicBezTo>
                    <a:pt x="130493" y="282004"/>
                    <a:pt x="129540" y="275717"/>
                    <a:pt x="129540" y="269367"/>
                  </a:cubicBezTo>
                  <a:cubicBezTo>
                    <a:pt x="129540" y="263017"/>
                    <a:pt x="130429" y="258128"/>
                    <a:pt x="132207" y="254699"/>
                  </a:cubicBezTo>
                  <a:cubicBezTo>
                    <a:pt x="133985" y="251270"/>
                    <a:pt x="135319" y="247015"/>
                    <a:pt x="136208" y="241935"/>
                  </a:cubicBezTo>
                  <a:cubicBezTo>
                    <a:pt x="137097" y="236855"/>
                    <a:pt x="138748" y="233236"/>
                    <a:pt x="141161" y="231077"/>
                  </a:cubicBezTo>
                  <a:cubicBezTo>
                    <a:pt x="143574" y="228918"/>
                    <a:pt x="145860" y="227838"/>
                    <a:pt x="148019" y="227838"/>
                  </a:cubicBezTo>
                  <a:cubicBezTo>
                    <a:pt x="150178" y="227838"/>
                    <a:pt x="152527" y="230886"/>
                    <a:pt x="155067" y="236982"/>
                  </a:cubicBezTo>
                  <a:cubicBezTo>
                    <a:pt x="153035" y="237236"/>
                    <a:pt x="152019" y="238506"/>
                    <a:pt x="152019" y="240792"/>
                  </a:cubicBezTo>
                  <a:cubicBezTo>
                    <a:pt x="152019" y="247142"/>
                    <a:pt x="152972" y="250317"/>
                    <a:pt x="154877" y="250317"/>
                  </a:cubicBezTo>
                  <a:cubicBezTo>
                    <a:pt x="156782" y="250317"/>
                    <a:pt x="159004" y="249555"/>
                    <a:pt x="161544" y="248031"/>
                  </a:cubicBezTo>
                  <a:cubicBezTo>
                    <a:pt x="159512" y="244221"/>
                    <a:pt x="158242" y="240665"/>
                    <a:pt x="157734" y="237363"/>
                  </a:cubicBezTo>
                  <a:cubicBezTo>
                    <a:pt x="161798" y="241935"/>
                    <a:pt x="164719" y="244983"/>
                    <a:pt x="166497" y="246507"/>
                  </a:cubicBezTo>
                  <a:cubicBezTo>
                    <a:pt x="185293" y="237617"/>
                    <a:pt x="198628" y="232537"/>
                    <a:pt x="206502" y="231267"/>
                  </a:cubicBezTo>
                  <a:cubicBezTo>
                    <a:pt x="206756" y="221107"/>
                    <a:pt x="206756" y="212979"/>
                    <a:pt x="206502" y="206883"/>
                  </a:cubicBezTo>
                  <a:cubicBezTo>
                    <a:pt x="193548" y="209677"/>
                    <a:pt x="176149" y="215138"/>
                    <a:pt x="154305" y="223266"/>
                  </a:cubicBezTo>
                  <a:cubicBezTo>
                    <a:pt x="148209" y="225552"/>
                    <a:pt x="142939" y="226695"/>
                    <a:pt x="138494" y="226695"/>
                  </a:cubicBezTo>
                  <a:cubicBezTo>
                    <a:pt x="134049" y="226695"/>
                    <a:pt x="129667" y="225552"/>
                    <a:pt x="125349" y="223266"/>
                  </a:cubicBezTo>
                  <a:cubicBezTo>
                    <a:pt x="121285" y="232156"/>
                    <a:pt x="118618" y="240856"/>
                    <a:pt x="117348" y="249365"/>
                  </a:cubicBezTo>
                  <a:cubicBezTo>
                    <a:pt x="116078" y="257874"/>
                    <a:pt x="113157" y="266446"/>
                    <a:pt x="108585" y="275082"/>
                  </a:cubicBezTo>
                  <a:cubicBezTo>
                    <a:pt x="105537" y="280924"/>
                    <a:pt x="104013" y="289814"/>
                    <a:pt x="104013" y="301752"/>
                  </a:cubicBezTo>
                  <a:cubicBezTo>
                    <a:pt x="104013" y="307086"/>
                    <a:pt x="102489" y="309753"/>
                    <a:pt x="99441" y="309753"/>
                  </a:cubicBezTo>
                  <a:cubicBezTo>
                    <a:pt x="94361" y="309753"/>
                    <a:pt x="88392" y="303784"/>
                    <a:pt x="81534" y="291846"/>
                  </a:cubicBezTo>
                  <a:cubicBezTo>
                    <a:pt x="74676" y="279908"/>
                    <a:pt x="71247" y="269113"/>
                    <a:pt x="71247" y="259461"/>
                  </a:cubicBezTo>
                  <a:lnTo>
                    <a:pt x="72390" y="235077"/>
                  </a:lnTo>
                  <a:cubicBezTo>
                    <a:pt x="72644" y="225679"/>
                    <a:pt x="72771" y="213297"/>
                    <a:pt x="72771" y="197930"/>
                  </a:cubicBezTo>
                  <a:cubicBezTo>
                    <a:pt x="72771" y="182563"/>
                    <a:pt x="72136" y="174879"/>
                    <a:pt x="70866" y="174879"/>
                  </a:cubicBezTo>
                  <a:cubicBezTo>
                    <a:pt x="70104" y="174879"/>
                    <a:pt x="69088" y="176022"/>
                    <a:pt x="67818" y="178308"/>
                  </a:cubicBezTo>
                  <a:cubicBezTo>
                    <a:pt x="64770" y="184150"/>
                    <a:pt x="59119" y="190246"/>
                    <a:pt x="50864" y="196596"/>
                  </a:cubicBezTo>
                  <a:cubicBezTo>
                    <a:pt x="42609" y="202946"/>
                    <a:pt x="34100" y="206121"/>
                    <a:pt x="25337" y="206121"/>
                  </a:cubicBezTo>
                  <a:cubicBezTo>
                    <a:pt x="16574" y="206121"/>
                    <a:pt x="10160" y="202438"/>
                    <a:pt x="6096" y="195072"/>
                  </a:cubicBezTo>
                  <a:cubicBezTo>
                    <a:pt x="2032" y="187706"/>
                    <a:pt x="0" y="179197"/>
                    <a:pt x="0" y="169545"/>
                  </a:cubicBezTo>
                  <a:cubicBezTo>
                    <a:pt x="0" y="159893"/>
                    <a:pt x="4318" y="149543"/>
                    <a:pt x="12954" y="138494"/>
                  </a:cubicBezTo>
                  <a:cubicBezTo>
                    <a:pt x="21590" y="127445"/>
                    <a:pt x="36195" y="113729"/>
                    <a:pt x="56769" y="97346"/>
                  </a:cubicBezTo>
                  <a:cubicBezTo>
                    <a:pt x="77343" y="80963"/>
                    <a:pt x="87630" y="69977"/>
                    <a:pt x="87630" y="64389"/>
                  </a:cubicBezTo>
                  <a:cubicBezTo>
                    <a:pt x="87630" y="63119"/>
                    <a:pt x="87313" y="62167"/>
                    <a:pt x="86678" y="61532"/>
                  </a:cubicBezTo>
                  <a:cubicBezTo>
                    <a:pt x="86043" y="60897"/>
                    <a:pt x="82804" y="57849"/>
                    <a:pt x="76962" y="52388"/>
                  </a:cubicBezTo>
                  <a:cubicBezTo>
                    <a:pt x="71120" y="46927"/>
                    <a:pt x="68199" y="43815"/>
                    <a:pt x="68199" y="43053"/>
                  </a:cubicBezTo>
                  <a:cubicBezTo>
                    <a:pt x="68199" y="41783"/>
                    <a:pt x="71247" y="40831"/>
                    <a:pt x="77343" y="40196"/>
                  </a:cubicBezTo>
                  <a:cubicBezTo>
                    <a:pt x="83439" y="39561"/>
                    <a:pt x="88011" y="39243"/>
                    <a:pt x="91059" y="39243"/>
                  </a:cubicBezTo>
                  <a:close/>
                  <a:moveTo>
                    <a:pt x="454724" y="38862"/>
                  </a:moveTo>
                  <a:cubicBezTo>
                    <a:pt x="455105" y="38862"/>
                    <a:pt x="455803" y="39751"/>
                    <a:pt x="456819" y="41529"/>
                  </a:cubicBezTo>
                  <a:cubicBezTo>
                    <a:pt x="460375" y="47117"/>
                    <a:pt x="466471" y="50927"/>
                    <a:pt x="475107" y="52959"/>
                  </a:cubicBezTo>
                  <a:cubicBezTo>
                    <a:pt x="483743" y="54991"/>
                    <a:pt x="491046" y="58928"/>
                    <a:pt x="497015" y="64770"/>
                  </a:cubicBezTo>
                  <a:cubicBezTo>
                    <a:pt x="502984" y="70612"/>
                    <a:pt x="505968" y="76835"/>
                    <a:pt x="505968" y="83439"/>
                  </a:cubicBezTo>
                  <a:cubicBezTo>
                    <a:pt x="505968" y="86995"/>
                    <a:pt x="504952" y="90170"/>
                    <a:pt x="502920" y="92964"/>
                  </a:cubicBezTo>
                  <a:cubicBezTo>
                    <a:pt x="517398" y="98806"/>
                    <a:pt x="526987" y="103950"/>
                    <a:pt x="531686" y="108395"/>
                  </a:cubicBezTo>
                  <a:cubicBezTo>
                    <a:pt x="536385" y="112840"/>
                    <a:pt x="538734" y="117856"/>
                    <a:pt x="538734" y="123444"/>
                  </a:cubicBezTo>
                  <a:cubicBezTo>
                    <a:pt x="538734" y="125222"/>
                    <a:pt x="537401" y="128016"/>
                    <a:pt x="534734" y="131826"/>
                  </a:cubicBezTo>
                  <a:cubicBezTo>
                    <a:pt x="532067" y="135636"/>
                    <a:pt x="529209" y="138938"/>
                    <a:pt x="526161" y="141732"/>
                  </a:cubicBezTo>
                  <a:cubicBezTo>
                    <a:pt x="513969" y="152908"/>
                    <a:pt x="503301" y="166370"/>
                    <a:pt x="494157" y="182118"/>
                  </a:cubicBezTo>
                  <a:cubicBezTo>
                    <a:pt x="499237" y="189484"/>
                    <a:pt x="501777" y="196342"/>
                    <a:pt x="501777" y="202692"/>
                  </a:cubicBezTo>
                  <a:cubicBezTo>
                    <a:pt x="501777" y="205994"/>
                    <a:pt x="500571" y="209550"/>
                    <a:pt x="498158" y="213360"/>
                  </a:cubicBezTo>
                  <a:cubicBezTo>
                    <a:pt x="495745" y="217170"/>
                    <a:pt x="492760" y="219075"/>
                    <a:pt x="489204" y="219075"/>
                  </a:cubicBezTo>
                  <a:cubicBezTo>
                    <a:pt x="485648" y="219075"/>
                    <a:pt x="479806" y="217678"/>
                    <a:pt x="471678" y="214884"/>
                  </a:cubicBezTo>
                  <a:cubicBezTo>
                    <a:pt x="452374" y="241300"/>
                    <a:pt x="433007" y="258382"/>
                    <a:pt x="413576" y="266129"/>
                  </a:cubicBezTo>
                  <a:cubicBezTo>
                    <a:pt x="394145" y="273876"/>
                    <a:pt x="381635" y="277749"/>
                    <a:pt x="376047" y="277749"/>
                  </a:cubicBezTo>
                  <a:cubicBezTo>
                    <a:pt x="372237" y="277749"/>
                    <a:pt x="370332" y="275971"/>
                    <a:pt x="370332" y="272415"/>
                  </a:cubicBezTo>
                  <a:cubicBezTo>
                    <a:pt x="370332" y="262001"/>
                    <a:pt x="370840" y="252476"/>
                    <a:pt x="371856" y="243840"/>
                  </a:cubicBezTo>
                  <a:cubicBezTo>
                    <a:pt x="372872" y="235204"/>
                    <a:pt x="374904" y="227711"/>
                    <a:pt x="377952" y="221361"/>
                  </a:cubicBezTo>
                  <a:cubicBezTo>
                    <a:pt x="381000" y="215011"/>
                    <a:pt x="384620" y="208598"/>
                    <a:pt x="388811" y="202121"/>
                  </a:cubicBezTo>
                  <a:cubicBezTo>
                    <a:pt x="393002" y="195644"/>
                    <a:pt x="400050" y="186563"/>
                    <a:pt x="409956" y="174879"/>
                  </a:cubicBezTo>
                  <a:cubicBezTo>
                    <a:pt x="414782" y="169037"/>
                    <a:pt x="418910" y="165291"/>
                    <a:pt x="422339" y="163640"/>
                  </a:cubicBezTo>
                  <a:cubicBezTo>
                    <a:pt x="425768" y="161989"/>
                    <a:pt x="429959" y="161163"/>
                    <a:pt x="434912" y="161163"/>
                  </a:cubicBezTo>
                  <a:cubicBezTo>
                    <a:pt x="439865" y="161163"/>
                    <a:pt x="445516" y="161925"/>
                    <a:pt x="451866" y="163449"/>
                  </a:cubicBezTo>
                  <a:cubicBezTo>
                    <a:pt x="455930" y="159131"/>
                    <a:pt x="460883" y="152527"/>
                    <a:pt x="466725" y="143637"/>
                  </a:cubicBezTo>
                  <a:cubicBezTo>
                    <a:pt x="472567" y="134747"/>
                    <a:pt x="475869" y="129604"/>
                    <a:pt x="476631" y="128207"/>
                  </a:cubicBezTo>
                  <a:cubicBezTo>
                    <a:pt x="477393" y="126810"/>
                    <a:pt x="477774" y="125603"/>
                    <a:pt x="477774" y="124587"/>
                  </a:cubicBezTo>
                  <a:cubicBezTo>
                    <a:pt x="477774" y="121793"/>
                    <a:pt x="475234" y="120396"/>
                    <a:pt x="470154" y="120396"/>
                  </a:cubicBezTo>
                  <a:cubicBezTo>
                    <a:pt x="468122" y="120396"/>
                    <a:pt x="465582" y="120650"/>
                    <a:pt x="462534" y="121158"/>
                  </a:cubicBezTo>
                  <a:cubicBezTo>
                    <a:pt x="451612" y="130810"/>
                    <a:pt x="440373" y="139510"/>
                    <a:pt x="428816" y="147257"/>
                  </a:cubicBezTo>
                  <a:cubicBezTo>
                    <a:pt x="417259" y="155004"/>
                    <a:pt x="410337" y="158877"/>
                    <a:pt x="408051" y="158877"/>
                  </a:cubicBezTo>
                  <a:cubicBezTo>
                    <a:pt x="405765" y="158877"/>
                    <a:pt x="403289" y="156718"/>
                    <a:pt x="400622" y="152400"/>
                  </a:cubicBezTo>
                  <a:cubicBezTo>
                    <a:pt x="397955" y="148082"/>
                    <a:pt x="396621" y="142875"/>
                    <a:pt x="396621" y="136779"/>
                  </a:cubicBezTo>
                  <a:cubicBezTo>
                    <a:pt x="396621" y="130683"/>
                    <a:pt x="402336" y="122301"/>
                    <a:pt x="413766" y="111633"/>
                  </a:cubicBezTo>
                  <a:cubicBezTo>
                    <a:pt x="445516" y="82423"/>
                    <a:pt x="460375" y="64262"/>
                    <a:pt x="458343" y="57150"/>
                  </a:cubicBezTo>
                  <a:cubicBezTo>
                    <a:pt x="455549" y="48006"/>
                    <a:pt x="454152" y="42672"/>
                    <a:pt x="454152" y="41148"/>
                  </a:cubicBezTo>
                  <a:cubicBezTo>
                    <a:pt x="454152" y="39624"/>
                    <a:pt x="454343" y="38862"/>
                    <a:pt x="454724" y="38862"/>
                  </a:cubicBezTo>
                  <a:close/>
                  <a:moveTo>
                    <a:pt x="567881" y="2286"/>
                  </a:moveTo>
                  <a:cubicBezTo>
                    <a:pt x="568516" y="2286"/>
                    <a:pt x="570230" y="3556"/>
                    <a:pt x="573024" y="6096"/>
                  </a:cubicBezTo>
                  <a:cubicBezTo>
                    <a:pt x="575818" y="8636"/>
                    <a:pt x="580263" y="11367"/>
                    <a:pt x="586359" y="14288"/>
                  </a:cubicBezTo>
                  <a:cubicBezTo>
                    <a:pt x="592455" y="17209"/>
                    <a:pt x="597599" y="21527"/>
                    <a:pt x="601790" y="27242"/>
                  </a:cubicBezTo>
                  <a:cubicBezTo>
                    <a:pt x="605981" y="32957"/>
                    <a:pt x="608076" y="37910"/>
                    <a:pt x="608076" y="42101"/>
                  </a:cubicBezTo>
                  <a:cubicBezTo>
                    <a:pt x="608076" y="46292"/>
                    <a:pt x="607695" y="49403"/>
                    <a:pt x="606933" y="51435"/>
                  </a:cubicBezTo>
                  <a:cubicBezTo>
                    <a:pt x="605917" y="54229"/>
                    <a:pt x="603060" y="68898"/>
                    <a:pt x="598361" y="95441"/>
                  </a:cubicBezTo>
                  <a:cubicBezTo>
                    <a:pt x="593662" y="121984"/>
                    <a:pt x="590931" y="141859"/>
                    <a:pt x="590169" y="155067"/>
                  </a:cubicBezTo>
                  <a:cubicBezTo>
                    <a:pt x="607695" y="157353"/>
                    <a:pt x="626618" y="158877"/>
                    <a:pt x="646938" y="159639"/>
                  </a:cubicBezTo>
                  <a:cubicBezTo>
                    <a:pt x="652526" y="159893"/>
                    <a:pt x="658813" y="161608"/>
                    <a:pt x="665798" y="164783"/>
                  </a:cubicBezTo>
                  <a:cubicBezTo>
                    <a:pt x="672783" y="167958"/>
                    <a:pt x="677545" y="171577"/>
                    <a:pt x="680085" y="175641"/>
                  </a:cubicBezTo>
                  <a:cubicBezTo>
                    <a:pt x="685927" y="184785"/>
                    <a:pt x="690309" y="191326"/>
                    <a:pt x="693230" y="195263"/>
                  </a:cubicBezTo>
                  <a:cubicBezTo>
                    <a:pt x="696151" y="199200"/>
                    <a:pt x="697611" y="201930"/>
                    <a:pt x="697611" y="203454"/>
                  </a:cubicBezTo>
                  <a:cubicBezTo>
                    <a:pt x="697611" y="206248"/>
                    <a:pt x="691579" y="207645"/>
                    <a:pt x="679514" y="207645"/>
                  </a:cubicBezTo>
                  <a:cubicBezTo>
                    <a:pt x="667449" y="207645"/>
                    <a:pt x="656209" y="205105"/>
                    <a:pt x="645795" y="200025"/>
                  </a:cubicBezTo>
                  <a:cubicBezTo>
                    <a:pt x="639445" y="196977"/>
                    <a:pt x="630746" y="194120"/>
                    <a:pt x="619697" y="191453"/>
                  </a:cubicBezTo>
                  <a:cubicBezTo>
                    <a:pt x="608648" y="188786"/>
                    <a:pt x="599059" y="187325"/>
                    <a:pt x="590931" y="187071"/>
                  </a:cubicBezTo>
                  <a:cubicBezTo>
                    <a:pt x="588899" y="193929"/>
                    <a:pt x="587883" y="205613"/>
                    <a:pt x="587883" y="222123"/>
                  </a:cubicBezTo>
                  <a:cubicBezTo>
                    <a:pt x="587883" y="238633"/>
                    <a:pt x="588772" y="254889"/>
                    <a:pt x="590550" y="270891"/>
                  </a:cubicBezTo>
                  <a:lnTo>
                    <a:pt x="594360" y="310515"/>
                  </a:lnTo>
                  <a:cubicBezTo>
                    <a:pt x="594360" y="315849"/>
                    <a:pt x="593979" y="322136"/>
                    <a:pt x="593217" y="329375"/>
                  </a:cubicBezTo>
                  <a:cubicBezTo>
                    <a:pt x="592455" y="336614"/>
                    <a:pt x="591820" y="341122"/>
                    <a:pt x="591312" y="342900"/>
                  </a:cubicBezTo>
                  <a:cubicBezTo>
                    <a:pt x="590804" y="344678"/>
                    <a:pt x="590042" y="345567"/>
                    <a:pt x="589026" y="345567"/>
                  </a:cubicBezTo>
                  <a:cubicBezTo>
                    <a:pt x="588010" y="345567"/>
                    <a:pt x="585851" y="344170"/>
                    <a:pt x="582549" y="341376"/>
                  </a:cubicBezTo>
                  <a:cubicBezTo>
                    <a:pt x="579247" y="338582"/>
                    <a:pt x="576199" y="334264"/>
                    <a:pt x="573405" y="328422"/>
                  </a:cubicBezTo>
                  <a:cubicBezTo>
                    <a:pt x="570611" y="322580"/>
                    <a:pt x="568516" y="316992"/>
                    <a:pt x="567119" y="311658"/>
                  </a:cubicBezTo>
                  <a:cubicBezTo>
                    <a:pt x="565722" y="306324"/>
                    <a:pt x="565023" y="303022"/>
                    <a:pt x="565023" y="301752"/>
                  </a:cubicBezTo>
                  <a:cubicBezTo>
                    <a:pt x="565023" y="282702"/>
                    <a:pt x="564642" y="269939"/>
                    <a:pt x="563880" y="263462"/>
                  </a:cubicBezTo>
                  <a:cubicBezTo>
                    <a:pt x="563118" y="256985"/>
                    <a:pt x="561975" y="250444"/>
                    <a:pt x="560451" y="243840"/>
                  </a:cubicBezTo>
                  <a:cubicBezTo>
                    <a:pt x="558927" y="237236"/>
                    <a:pt x="558165" y="233299"/>
                    <a:pt x="558165" y="232029"/>
                  </a:cubicBezTo>
                  <a:cubicBezTo>
                    <a:pt x="558165" y="230759"/>
                    <a:pt x="558610" y="230124"/>
                    <a:pt x="559499" y="230124"/>
                  </a:cubicBezTo>
                  <a:cubicBezTo>
                    <a:pt x="560388" y="230124"/>
                    <a:pt x="561213" y="232156"/>
                    <a:pt x="561975" y="236220"/>
                  </a:cubicBezTo>
                  <a:cubicBezTo>
                    <a:pt x="563245" y="244094"/>
                    <a:pt x="565023" y="248031"/>
                    <a:pt x="567309" y="248031"/>
                  </a:cubicBezTo>
                  <a:cubicBezTo>
                    <a:pt x="568325" y="248031"/>
                    <a:pt x="568833" y="247142"/>
                    <a:pt x="568833" y="245364"/>
                  </a:cubicBezTo>
                  <a:cubicBezTo>
                    <a:pt x="568833" y="217932"/>
                    <a:pt x="569087" y="196850"/>
                    <a:pt x="569595" y="182118"/>
                  </a:cubicBezTo>
                  <a:cubicBezTo>
                    <a:pt x="564261" y="178308"/>
                    <a:pt x="560705" y="175387"/>
                    <a:pt x="558927" y="173355"/>
                  </a:cubicBezTo>
                  <a:cubicBezTo>
                    <a:pt x="557149" y="171323"/>
                    <a:pt x="556260" y="168910"/>
                    <a:pt x="556260" y="166116"/>
                  </a:cubicBezTo>
                  <a:cubicBezTo>
                    <a:pt x="556260" y="163322"/>
                    <a:pt x="557149" y="161163"/>
                    <a:pt x="558927" y="159639"/>
                  </a:cubicBezTo>
                  <a:cubicBezTo>
                    <a:pt x="560705" y="158115"/>
                    <a:pt x="564642" y="156718"/>
                    <a:pt x="570738" y="155448"/>
                  </a:cubicBezTo>
                  <a:cubicBezTo>
                    <a:pt x="570738" y="147066"/>
                    <a:pt x="571310" y="133223"/>
                    <a:pt x="572453" y="113919"/>
                  </a:cubicBezTo>
                  <a:cubicBezTo>
                    <a:pt x="573596" y="94615"/>
                    <a:pt x="574675" y="80328"/>
                    <a:pt x="575691" y="71057"/>
                  </a:cubicBezTo>
                  <a:cubicBezTo>
                    <a:pt x="576707" y="61786"/>
                    <a:pt x="577215" y="54991"/>
                    <a:pt x="577215" y="50673"/>
                  </a:cubicBezTo>
                  <a:cubicBezTo>
                    <a:pt x="577215" y="46355"/>
                    <a:pt x="576199" y="41783"/>
                    <a:pt x="574167" y="36957"/>
                  </a:cubicBezTo>
                  <a:cubicBezTo>
                    <a:pt x="572135" y="32131"/>
                    <a:pt x="570421" y="26226"/>
                    <a:pt x="569024" y="19241"/>
                  </a:cubicBezTo>
                  <a:cubicBezTo>
                    <a:pt x="567627" y="12256"/>
                    <a:pt x="566928" y="7684"/>
                    <a:pt x="566928" y="5525"/>
                  </a:cubicBezTo>
                  <a:cubicBezTo>
                    <a:pt x="566928" y="3366"/>
                    <a:pt x="567246" y="2286"/>
                    <a:pt x="567881" y="2286"/>
                  </a:cubicBezTo>
                  <a:close/>
                  <a:moveTo>
                    <a:pt x="946023" y="0"/>
                  </a:moveTo>
                  <a:cubicBezTo>
                    <a:pt x="948055" y="0"/>
                    <a:pt x="951421" y="7112"/>
                    <a:pt x="956120" y="21336"/>
                  </a:cubicBezTo>
                  <a:cubicBezTo>
                    <a:pt x="960819" y="35560"/>
                    <a:pt x="963168" y="45911"/>
                    <a:pt x="963168" y="52388"/>
                  </a:cubicBezTo>
                  <a:cubicBezTo>
                    <a:pt x="963168" y="58865"/>
                    <a:pt x="961771" y="65405"/>
                    <a:pt x="958977" y="72009"/>
                  </a:cubicBezTo>
                  <a:lnTo>
                    <a:pt x="951357" y="91059"/>
                  </a:lnTo>
                  <a:cubicBezTo>
                    <a:pt x="964819" y="84455"/>
                    <a:pt x="975741" y="78105"/>
                    <a:pt x="984123" y="72009"/>
                  </a:cubicBezTo>
                  <a:cubicBezTo>
                    <a:pt x="980567" y="62357"/>
                    <a:pt x="978789" y="56706"/>
                    <a:pt x="978789" y="55055"/>
                  </a:cubicBezTo>
                  <a:cubicBezTo>
                    <a:pt x="978789" y="53404"/>
                    <a:pt x="979043" y="52578"/>
                    <a:pt x="979551" y="52578"/>
                  </a:cubicBezTo>
                  <a:cubicBezTo>
                    <a:pt x="981075" y="52578"/>
                    <a:pt x="985393" y="56642"/>
                    <a:pt x="992505" y="64770"/>
                  </a:cubicBezTo>
                  <a:cubicBezTo>
                    <a:pt x="1007491" y="70612"/>
                    <a:pt x="1014984" y="76327"/>
                    <a:pt x="1014984" y="81915"/>
                  </a:cubicBezTo>
                  <a:cubicBezTo>
                    <a:pt x="1014984" y="84963"/>
                    <a:pt x="1013016" y="88964"/>
                    <a:pt x="1009079" y="93917"/>
                  </a:cubicBezTo>
                  <a:cubicBezTo>
                    <a:pt x="1005142" y="98870"/>
                    <a:pt x="1000189" y="101854"/>
                    <a:pt x="994220" y="102870"/>
                  </a:cubicBezTo>
                  <a:cubicBezTo>
                    <a:pt x="988251" y="103886"/>
                    <a:pt x="979234" y="106998"/>
                    <a:pt x="967169" y="112205"/>
                  </a:cubicBezTo>
                  <a:cubicBezTo>
                    <a:pt x="955104" y="117412"/>
                    <a:pt x="944880" y="122555"/>
                    <a:pt x="936498" y="127635"/>
                  </a:cubicBezTo>
                  <a:cubicBezTo>
                    <a:pt x="935990" y="132207"/>
                    <a:pt x="934339" y="137668"/>
                    <a:pt x="931545" y="144018"/>
                  </a:cubicBezTo>
                  <a:cubicBezTo>
                    <a:pt x="937133" y="140208"/>
                    <a:pt x="942912" y="138303"/>
                    <a:pt x="948881" y="138303"/>
                  </a:cubicBezTo>
                  <a:cubicBezTo>
                    <a:pt x="954850" y="138303"/>
                    <a:pt x="960565" y="140716"/>
                    <a:pt x="966026" y="145542"/>
                  </a:cubicBezTo>
                  <a:cubicBezTo>
                    <a:pt x="971487" y="150368"/>
                    <a:pt x="974217" y="153924"/>
                    <a:pt x="974217" y="156210"/>
                  </a:cubicBezTo>
                  <a:cubicBezTo>
                    <a:pt x="974217" y="158496"/>
                    <a:pt x="973709" y="161163"/>
                    <a:pt x="972693" y="164211"/>
                  </a:cubicBezTo>
                  <a:cubicBezTo>
                    <a:pt x="971677" y="167259"/>
                    <a:pt x="970661" y="172339"/>
                    <a:pt x="969645" y="179451"/>
                  </a:cubicBezTo>
                  <a:cubicBezTo>
                    <a:pt x="981583" y="173355"/>
                    <a:pt x="990029" y="170307"/>
                    <a:pt x="994982" y="170307"/>
                  </a:cubicBezTo>
                  <a:cubicBezTo>
                    <a:pt x="999935" y="170307"/>
                    <a:pt x="1003745" y="171577"/>
                    <a:pt x="1006412" y="174117"/>
                  </a:cubicBezTo>
                  <a:cubicBezTo>
                    <a:pt x="1009079" y="176657"/>
                    <a:pt x="1010412" y="179070"/>
                    <a:pt x="1010412" y="181356"/>
                  </a:cubicBezTo>
                  <a:cubicBezTo>
                    <a:pt x="1010412" y="186436"/>
                    <a:pt x="1007301" y="191199"/>
                    <a:pt x="1001078" y="195644"/>
                  </a:cubicBezTo>
                  <a:cubicBezTo>
                    <a:pt x="994855" y="200089"/>
                    <a:pt x="984377" y="204851"/>
                    <a:pt x="969645" y="209931"/>
                  </a:cubicBezTo>
                  <a:cubicBezTo>
                    <a:pt x="970153" y="215265"/>
                    <a:pt x="970407" y="221679"/>
                    <a:pt x="970407" y="229172"/>
                  </a:cubicBezTo>
                  <a:cubicBezTo>
                    <a:pt x="970407" y="236665"/>
                    <a:pt x="970153" y="242443"/>
                    <a:pt x="969645" y="246507"/>
                  </a:cubicBezTo>
                  <a:cubicBezTo>
                    <a:pt x="981329" y="245237"/>
                    <a:pt x="991616" y="243459"/>
                    <a:pt x="1000506" y="241173"/>
                  </a:cubicBezTo>
                  <a:cubicBezTo>
                    <a:pt x="1002030" y="240665"/>
                    <a:pt x="1004126" y="240411"/>
                    <a:pt x="1006793" y="240411"/>
                  </a:cubicBezTo>
                  <a:cubicBezTo>
                    <a:pt x="1009460" y="240411"/>
                    <a:pt x="1012889" y="241427"/>
                    <a:pt x="1017080" y="243459"/>
                  </a:cubicBezTo>
                  <a:cubicBezTo>
                    <a:pt x="1021271" y="245491"/>
                    <a:pt x="1025589" y="248476"/>
                    <a:pt x="1030034" y="252413"/>
                  </a:cubicBezTo>
                  <a:cubicBezTo>
                    <a:pt x="1034479" y="256350"/>
                    <a:pt x="1037336" y="260096"/>
                    <a:pt x="1038606" y="263652"/>
                  </a:cubicBezTo>
                  <a:cubicBezTo>
                    <a:pt x="1039876" y="267208"/>
                    <a:pt x="1040511" y="271272"/>
                    <a:pt x="1040511" y="275844"/>
                  </a:cubicBezTo>
                  <a:cubicBezTo>
                    <a:pt x="1040511" y="280416"/>
                    <a:pt x="1039559" y="285179"/>
                    <a:pt x="1037654" y="290132"/>
                  </a:cubicBezTo>
                  <a:cubicBezTo>
                    <a:pt x="1035749" y="295085"/>
                    <a:pt x="1032764" y="297561"/>
                    <a:pt x="1028700" y="297561"/>
                  </a:cubicBezTo>
                  <a:cubicBezTo>
                    <a:pt x="1024636" y="297561"/>
                    <a:pt x="1017143" y="294005"/>
                    <a:pt x="1006221" y="286893"/>
                  </a:cubicBezTo>
                  <a:cubicBezTo>
                    <a:pt x="995299" y="279781"/>
                    <a:pt x="989838" y="275527"/>
                    <a:pt x="989838" y="274130"/>
                  </a:cubicBezTo>
                  <a:cubicBezTo>
                    <a:pt x="989838" y="272733"/>
                    <a:pt x="991235" y="272034"/>
                    <a:pt x="994029" y="272034"/>
                  </a:cubicBezTo>
                  <a:cubicBezTo>
                    <a:pt x="996823" y="272034"/>
                    <a:pt x="999236" y="270701"/>
                    <a:pt x="1001268" y="268034"/>
                  </a:cubicBezTo>
                  <a:cubicBezTo>
                    <a:pt x="1003300" y="265367"/>
                    <a:pt x="1004316" y="263144"/>
                    <a:pt x="1004316" y="261366"/>
                  </a:cubicBezTo>
                  <a:cubicBezTo>
                    <a:pt x="1004316" y="259588"/>
                    <a:pt x="1003935" y="258445"/>
                    <a:pt x="1003173" y="257937"/>
                  </a:cubicBezTo>
                  <a:cubicBezTo>
                    <a:pt x="997585" y="253365"/>
                    <a:pt x="993775" y="249936"/>
                    <a:pt x="991743" y="247650"/>
                  </a:cubicBezTo>
                  <a:cubicBezTo>
                    <a:pt x="985647" y="246888"/>
                    <a:pt x="978281" y="247904"/>
                    <a:pt x="969645" y="250698"/>
                  </a:cubicBezTo>
                  <a:cubicBezTo>
                    <a:pt x="969645" y="259080"/>
                    <a:pt x="969201" y="269812"/>
                    <a:pt x="968312" y="282893"/>
                  </a:cubicBezTo>
                  <a:cubicBezTo>
                    <a:pt x="967423" y="295974"/>
                    <a:pt x="966470" y="304038"/>
                    <a:pt x="965454" y="307086"/>
                  </a:cubicBezTo>
                  <a:lnTo>
                    <a:pt x="961644" y="318516"/>
                  </a:lnTo>
                  <a:cubicBezTo>
                    <a:pt x="960120" y="323088"/>
                    <a:pt x="958660" y="326581"/>
                    <a:pt x="957263" y="328994"/>
                  </a:cubicBezTo>
                  <a:cubicBezTo>
                    <a:pt x="955866" y="331407"/>
                    <a:pt x="954469" y="332613"/>
                    <a:pt x="953072" y="332613"/>
                  </a:cubicBezTo>
                  <a:cubicBezTo>
                    <a:pt x="951675" y="332613"/>
                    <a:pt x="949198" y="330327"/>
                    <a:pt x="945642" y="325755"/>
                  </a:cubicBezTo>
                  <a:cubicBezTo>
                    <a:pt x="934466" y="311277"/>
                    <a:pt x="927227" y="302832"/>
                    <a:pt x="923925" y="300419"/>
                  </a:cubicBezTo>
                  <a:cubicBezTo>
                    <a:pt x="920623" y="298006"/>
                    <a:pt x="917448" y="294704"/>
                    <a:pt x="914400" y="290513"/>
                  </a:cubicBezTo>
                  <a:cubicBezTo>
                    <a:pt x="911352" y="286322"/>
                    <a:pt x="906018" y="282067"/>
                    <a:pt x="898398" y="277749"/>
                  </a:cubicBezTo>
                  <a:cubicBezTo>
                    <a:pt x="892556" y="288671"/>
                    <a:pt x="886905" y="297498"/>
                    <a:pt x="881444" y="304229"/>
                  </a:cubicBezTo>
                  <a:cubicBezTo>
                    <a:pt x="875983" y="310960"/>
                    <a:pt x="871665" y="314325"/>
                    <a:pt x="868490" y="314325"/>
                  </a:cubicBezTo>
                  <a:cubicBezTo>
                    <a:pt x="865315" y="314325"/>
                    <a:pt x="862457" y="311912"/>
                    <a:pt x="859917" y="307086"/>
                  </a:cubicBezTo>
                  <a:cubicBezTo>
                    <a:pt x="857377" y="302260"/>
                    <a:pt x="856107" y="297434"/>
                    <a:pt x="856107" y="292608"/>
                  </a:cubicBezTo>
                  <a:cubicBezTo>
                    <a:pt x="856107" y="287782"/>
                    <a:pt x="857187" y="281305"/>
                    <a:pt x="859346" y="273177"/>
                  </a:cubicBezTo>
                  <a:cubicBezTo>
                    <a:pt x="861505" y="265049"/>
                    <a:pt x="863473" y="259906"/>
                    <a:pt x="865251" y="257747"/>
                  </a:cubicBezTo>
                  <a:cubicBezTo>
                    <a:pt x="867029" y="255588"/>
                    <a:pt x="869125" y="254508"/>
                    <a:pt x="871538" y="254508"/>
                  </a:cubicBezTo>
                  <a:cubicBezTo>
                    <a:pt x="873951" y="254508"/>
                    <a:pt x="876618" y="255016"/>
                    <a:pt x="879539" y="256032"/>
                  </a:cubicBezTo>
                  <a:cubicBezTo>
                    <a:pt x="882460" y="257048"/>
                    <a:pt x="883920" y="258191"/>
                    <a:pt x="883920" y="259461"/>
                  </a:cubicBezTo>
                  <a:cubicBezTo>
                    <a:pt x="883920" y="259969"/>
                    <a:pt x="882968" y="260731"/>
                    <a:pt x="881063" y="261747"/>
                  </a:cubicBezTo>
                  <a:cubicBezTo>
                    <a:pt x="879158" y="262763"/>
                    <a:pt x="878205" y="264351"/>
                    <a:pt x="878205" y="266510"/>
                  </a:cubicBezTo>
                  <a:cubicBezTo>
                    <a:pt x="878205" y="268669"/>
                    <a:pt x="878967" y="269748"/>
                    <a:pt x="880491" y="269748"/>
                  </a:cubicBezTo>
                  <a:cubicBezTo>
                    <a:pt x="882015" y="269748"/>
                    <a:pt x="884174" y="269113"/>
                    <a:pt x="886968" y="267843"/>
                  </a:cubicBezTo>
                  <a:cubicBezTo>
                    <a:pt x="888492" y="264795"/>
                    <a:pt x="890207" y="263271"/>
                    <a:pt x="892112" y="263271"/>
                  </a:cubicBezTo>
                  <a:cubicBezTo>
                    <a:pt x="894017" y="263271"/>
                    <a:pt x="897001" y="263906"/>
                    <a:pt x="901065" y="265176"/>
                  </a:cubicBezTo>
                  <a:cubicBezTo>
                    <a:pt x="918591" y="257556"/>
                    <a:pt x="932180" y="253238"/>
                    <a:pt x="941832" y="252222"/>
                  </a:cubicBezTo>
                  <a:cubicBezTo>
                    <a:pt x="942594" y="240030"/>
                    <a:pt x="942848" y="230124"/>
                    <a:pt x="942594" y="222504"/>
                  </a:cubicBezTo>
                  <a:cubicBezTo>
                    <a:pt x="938530" y="223520"/>
                    <a:pt x="930783" y="228473"/>
                    <a:pt x="919353" y="237363"/>
                  </a:cubicBezTo>
                  <a:cubicBezTo>
                    <a:pt x="913511" y="241681"/>
                    <a:pt x="907542" y="243840"/>
                    <a:pt x="901446" y="243840"/>
                  </a:cubicBezTo>
                  <a:cubicBezTo>
                    <a:pt x="895350" y="243840"/>
                    <a:pt x="890334" y="241554"/>
                    <a:pt x="886397" y="236982"/>
                  </a:cubicBezTo>
                  <a:cubicBezTo>
                    <a:pt x="882460" y="232410"/>
                    <a:pt x="880491" y="226568"/>
                    <a:pt x="880491" y="219456"/>
                  </a:cubicBezTo>
                  <a:cubicBezTo>
                    <a:pt x="880491" y="212344"/>
                    <a:pt x="880936" y="207328"/>
                    <a:pt x="881825" y="204407"/>
                  </a:cubicBezTo>
                  <a:cubicBezTo>
                    <a:pt x="882714" y="201486"/>
                    <a:pt x="883984" y="200025"/>
                    <a:pt x="885635" y="200025"/>
                  </a:cubicBezTo>
                  <a:cubicBezTo>
                    <a:pt x="887286" y="200025"/>
                    <a:pt x="888619" y="200152"/>
                    <a:pt x="889635" y="200406"/>
                  </a:cubicBezTo>
                  <a:cubicBezTo>
                    <a:pt x="890651" y="200660"/>
                    <a:pt x="891731" y="200787"/>
                    <a:pt x="892874" y="200787"/>
                  </a:cubicBezTo>
                  <a:cubicBezTo>
                    <a:pt x="894017" y="200787"/>
                    <a:pt x="894588" y="200025"/>
                    <a:pt x="894588" y="198501"/>
                  </a:cubicBezTo>
                  <a:lnTo>
                    <a:pt x="894588" y="194691"/>
                  </a:lnTo>
                  <a:cubicBezTo>
                    <a:pt x="894588" y="188849"/>
                    <a:pt x="896366" y="181356"/>
                    <a:pt x="899922" y="172212"/>
                  </a:cubicBezTo>
                  <a:cubicBezTo>
                    <a:pt x="898652" y="172212"/>
                    <a:pt x="896811" y="171450"/>
                    <a:pt x="894398" y="169926"/>
                  </a:cubicBezTo>
                  <a:cubicBezTo>
                    <a:pt x="891985" y="168402"/>
                    <a:pt x="889572" y="167196"/>
                    <a:pt x="887159" y="166307"/>
                  </a:cubicBezTo>
                  <a:cubicBezTo>
                    <a:pt x="884746" y="165418"/>
                    <a:pt x="883539" y="164211"/>
                    <a:pt x="883539" y="162687"/>
                  </a:cubicBezTo>
                  <a:cubicBezTo>
                    <a:pt x="883539" y="159385"/>
                    <a:pt x="891286" y="155702"/>
                    <a:pt x="906780" y="151638"/>
                  </a:cubicBezTo>
                  <a:cubicBezTo>
                    <a:pt x="907796" y="146304"/>
                    <a:pt x="909447" y="141097"/>
                    <a:pt x="911733" y="136017"/>
                  </a:cubicBezTo>
                  <a:cubicBezTo>
                    <a:pt x="902335" y="135001"/>
                    <a:pt x="894715" y="132842"/>
                    <a:pt x="888873" y="129540"/>
                  </a:cubicBezTo>
                  <a:cubicBezTo>
                    <a:pt x="887603" y="129286"/>
                    <a:pt x="886333" y="129159"/>
                    <a:pt x="885063" y="129159"/>
                  </a:cubicBezTo>
                  <a:cubicBezTo>
                    <a:pt x="877951" y="129159"/>
                    <a:pt x="871792" y="132525"/>
                    <a:pt x="866585" y="139256"/>
                  </a:cubicBezTo>
                  <a:cubicBezTo>
                    <a:pt x="861378" y="145987"/>
                    <a:pt x="855853" y="156528"/>
                    <a:pt x="850011" y="170879"/>
                  </a:cubicBezTo>
                  <a:cubicBezTo>
                    <a:pt x="844169" y="185230"/>
                    <a:pt x="840486" y="197231"/>
                    <a:pt x="838962" y="206883"/>
                  </a:cubicBezTo>
                  <a:cubicBezTo>
                    <a:pt x="838454" y="219583"/>
                    <a:pt x="837565" y="228219"/>
                    <a:pt x="836295" y="232791"/>
                  </a:cubicBezTo>
                  <a:cubicBezTo>
                    <a:pt x="829437" y="253619"/>
                    <a:pt x="825119" y="270383"/>
                    <a:pt x="823341" y="283083"/>
                  </a:cubicBezTo>
                  <a:cubicBezTo>
                    <a:pt x="819785" y="308737"/>
                    <a:pt x="813816" y="321564"/>
                    <a:pt x="805434" y="321564"/>
                  </a:cubicBezTo>
                  <a:cubicBezTo>
                    <a:pt x="801370" y="321564"/>
                    <a:pt x="797751" y="318897"/>
                    <a:pt x="794576" y="313563"/>
                  </a:cubicBezTo>
                  <a:cubicBezTo>
                    <a:pt x="791401" y="308229"/>
                    <a:pt x="789813" y="302133"/>
                    <a:pt x="789813" y="295275"/>
                  </a:cubicBezTo>
                  <a:cubicBezTo>
                    <a:pt x="789813" y="288417"/>
                    <a:pt x="790448" y="283147"/>
                    <a:pt x="791718" y="279464"/>
                  </a:cubicBezTo>
                  <a:cubicBezTo>
                    <a:pt x="792988" y="275781"/>
                    <a:pt x="796862" y="266446"/>
                    <a:pt x="803339" y="251460"/>
                  </a:cubicBezTo>
                  <a:cubicBezTo>
                    <a:pt x="809816" y="236474"/>
                    <a:pt x="813562" y="227521"/>
                    <a:pt x="814578" y="224600"/>
                  </a:cubicBezTo>
                  <a:cubicBezTo>
                    <a:pt x="815594" y="221679"/>
                    <a:pt x="816102" y="219202"/>
                    <a:pt x="816102" y="217170"/>
                  </a:cubicBezTo>
                  <a:cubicBezTo>
                    <a:pt x="816102" y="215138"/>
                    <a:pt x="815340" y="214122"/>
                    <a:pt x="813816" y="214122"/>
                  </a:cubicBezTo>
                  <a:cubicBezTo>
                    <a:pt x="812292" y="214122"/>
                    <a:pt x="809816" y="215837"/>
                    <a:pt x="806387" y="219266"/>
                  </a:cubicBezTo>
                  <a:cubicBezTo>
                    <a:pt x="802958" y="222695"/>
                    <a:pt x="799846" y="224409"/>
                    <a:pt x="797052" y="224409"/>
                  </a:cubicBezTo>
                  <a:cubicBezTo>
                    <a:pt x="792480" y="224409"/>
                    <a:pt x="788797" y="220663"/>
                    <a:pt x="786003" y="213170"/>
                  </a:cubicBezTo>
                  <a:cubicBezTo>
                    <a:pt x="783209" y="205677"/>
                    <a:pt x="781812" y="199962"/>
                    <a:pt x="781812" y="196025"/>
                  </a:cubicBezTo>
                  <a:cubicBezTo>
                    <a:pt x="781812" y="192088"/>
                    <a:pt x="784035" y="188659"/>
                    <a:pt x="788480" y="185738"/>
                  </a:cubicBezTo>
                  <a:cubicBezTo>
                    <a:pt x="792925" y="182817"/>
                    <a:pt x="797751" y="176848"/>
                    <a:pt x="802958" y="167831"/>
                  </a:cubicBezTo>
                  <a:cubicBezTo>
                    <a:pt x="808165" y="158814"/>
                    <a:pt x="810768" y="153289"/>
                    <a:pt x="810768" y="151257"/>
                  </a:cubicBezTo>
                  <a:cubicBezTo>
                    <a:pt x="810768" y="149225"/>
                    <a:pt x="809625" y="148209"/>
                    <a:pt x="807339" y="148209"/>
                  </a:cubicBezTo>
                  <a:cubicBezTo>
                    <a:pt x="805053" y="148209"/>
                    <a:pt x="800735" y="149860"/>
                    <a:pt x="794385" y="153162"/>
                  </a:cubicBezTo>
                  <a:cubicBezTo>
                    <a:pt x="788035" y="156464"/>
                    <a:pt x="782193" y="158115"/>
                    <a:pt x="776859" y="158115"/>
                  </a:cubicBezTo>
                  <a:cubicBezTo>
                    <a:pt x="767461" y="158115"/>
                    <a:pt x="762762" y="150876"/>
                    <a:pt x="762762" y="136398"/>
                  </a:cubicBezTo>
                  <a:cubicBezTo>
                    <a:pt x="762762" y="127000"/>
                    <a:pt x="763461" y="121158"/>
                    <a:pt x="764858" y="118872"/>
                  </a:cubicBezTo>
                  <a:cubicBezTo>
                    <a:pt x="766255" y="116586"/>
                    <a:pt x="769493" y="115189"/>
                    <a:pt x="774573" y="114681"/>
                  </a:cubicBezTo>
                  <a:cubicBezTo>
                    <a:pt x="783463" y="113919"/>
                    <a:pt x="791147" y="111633"/>
                    <a:pt x="797624" y="107823"/>
                  </a:cubicBezTo>
                  <a:cubicBezTo>
                    <a:pt x="804101" y="104013"/>
                    <a:pt x="811086" y="97917"/>
                    <a:pt x="818579" y="89535"/>
                  </a:cubicBezTo>
                  <a:cubicBezTo>
                    <a:pt x="826072" y="81153"/>
                    <a:pt x="831660" y="74486"/>
                    <a:pt x="835343" y="69533"/>
                  </a:cubicBezTo>
                  <a:cubicBezTo>
                    <a:pt x="839026" y="64580"/>
                    <a:pt x="840867" y="60579"/>
                    <a:pt x="840867" y="57531"/>
                  </a:cubicBezTo>
                  <a:cubicBezTo>
                    <a:pt x="840867" y="54483"/>
                    <a:pt x="839851" y="52070"/>
                    <a:pt x="837819" y="50292"/>
                  </a:cubicBezTo>
                  <a:cubicBezTo>
                    <a:pt x="835787" y="48514"/>
                    <a:pt x="834771" y="47308"/>
                    <a:pt x="834771" y="46673"/>
                  </a:cubicBezTo>
                  <a:cubicBezTo>
                    <a:pt x="834771" y="46038"/>
                    <a:pt x="835279" y="45720"/>
                    <a:pt x="836295" y="45720"/>
                  </a:cubicBezTo>
                  <a:cubicBezTo>
                    <a:pt x="839089" y="45720"/>
                    <a:pt x="844106" y="47625"/>
                    <a:pt x="851345" y="51435"/>
                  </a:cubicBezTo>
                  <a:cubicBezTo>
                    <a:pt x="858584" y="55245"/>
                    <a:pt x="864426" y="60262"/>
                    <a:pt x="868871" y="66485"/>
                  </a:cubicBezTo>
                  <a:cubicBezTo>
                    <a:pt x="873316" y="72708"/>
                    <a:pt x="875538" y="78359"/>
                    <a:pt x="875538" y="83439"/>
                  </a:cubicBezTo>
                  <a:cubicBezTo>
                    <a:pt x="875538" y="88519"/>
                    <a:pt x="870712" y="92964"/>
                    <a:pt x="861060" y="96774"/>
                  </a:cubicBezTo>
                  <a:cubicBezTo>
                    <a:pt x="859282" y="97536"/>
                    <a:pt x="854393" y="100775"/>
                    <a:pt x="846392" y="106490"/>
                  </a:cubicBezTo>
                  <a:cubicBezTo>
                    <a:pt x="838391" y="112205"/>
                    <a:pt x="831342" y="117602"/>
                    <a:pt x="825246" y="122682"/>
                  </a:cubicBezTo>
                  <a:cubicBezTo>
                    <a:pt x="837184" y="132842"/>
                    <a:pt x="843153" y="141097"/>
                    <a:pt x="843153" y="147447"/>
                  </a:cubicBezTo>
                  <a:cubicBezTo>
                    <a:pt x="843153" y="151003"/>
                    <a:pt x="841756" y="154813"/>
                    <a:pt x="838962" y="158877"/>
                  </a:cubicBezTo>
                  <a:cubicBezTo>
                    <a:pt x="827786" y="174625"/>
                    <a:pt x="822325" y="184531"/>
                    <a:pt x="822579" y="188595"/>
                  </a:cubicBezTo>
                  <a:cubicBezTo>
                    <a:pt x="826389" y="191135"/>
                    <a:pt x="830199" y="194310"/>
                    <a:pt x="834009" y="198120"/>
                  </a:cubicBezTo>
                  <a:cubicBezTo>
                    <a:pt x="842645" y="172466"/>
                    <a:pt x="851281" y="153035"/>
                    <a:pt x="859917" y="139827"/>
                  </a:cubicBezTo>
                  <a:cubicBezTo>
                    <a:pt x="868553" y="126619"/>
                    <a:pt x="874776" y="118618"/>
                    <a:pt x="878586" y="115824"/>
                  </a:cubicBezTo>
                  <a:cubicBezTo>
                    <a:pt x="882396" y="113030"/>
                    <a:pt x="896366" y="108331"/>
                    <a:pt x="920496" y="101727"/>
                  </a:cubicBezTo>
                  <a:cubicBezTo>
                    <a:pt x="924306" y="91059"/>
                    <a:pt x="928624" y="75692"/>
                    <a:pt x="933450" y="55626"/>
                  </a:cubicBezTo>
                  <a:cubicBezTo>
                    <a:pt x="938276" y="35560"/>
                    <a:pt x="941070" y="21273"/>
                    <a:pt x="941832" y="12764"/>
                  </a:cubicBezTo>
                  <a:cubicBezTo>
                    <a:pt x="942594" y="4255"/>
                    <a:pt x="943991" y="0"/>
                    <a:pt x="946023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837" name="文本框 1"/>
          <p:cNvSpPr/>
          <p:nvPr/>
        </p:nvSpPr>
        <p:spPr>
          <a:xfrm>
            <a:off x="719280" y="979560"/>
            <a:ext cx="77054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等线 Light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确书写本课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等线 Light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将本课两则字谜讲给爸爸、妈妈听，让他们猜一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等线 Light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主找谜语、编谜语，在班里开展“猜谜大会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39" name="PA_库_文本框 9"/>
          <p:cNvSpPr/>
          <p:nvPr/>
        </p:nvSpPr>
        <p:spPr>
          <a:xfrm>
            <a:off x="4466160" y="15876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谢谢观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8" descr=""/>
          <p:cNvPicPr/>
          <p:nvPr/>
        </p:nvPicPr>
        <p:blipFill>
          <a:blip r:embed="rId2"/>
          <a:stretch/>
        </p:blipFill>
        <p:spPr>
          <a:xfrm flipH="1" rot="21144600">
            <a:off x="1895400" y="1204560"/>
            <a:ext cx="979200" cy="98064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3" descr=""/>
          <p:cNvPicPr/>
          <p:nvPr/>
        </p:nvPicPr>
        <p:blipFill>
          <a:blip r:embed="rId3"/>
          <a:stretch/>
        </p:blipFill>
        <p:spPr>
          <a:xfrm>
            <a:off x="1843200" y="2473200"/>
            <a:ext cx="2296800" cy="22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5" descr=""/>
          <p:cNvPicPr/>
          <p:nvPr/>
        </p:nvPicPr>
        <p:blipFill>
          <a:blip r:embed="rId4"/>
          <a:stretch/>
        </p:blipFill>
        <p:spPr>
          <a:xfrm>
            <a:off x="5292720" y="2716200"/>
            <a:ext cx="910800" cy="13647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" descr=""/>
          <p:cNvPicPr/>
          <p:nvPr/>
        </p:nvPicPr>
        <p:blipFill>
          <a:blip r:embed="rId5"/>
          <a:stretch/>
        </p:blipFill>
        <p:spPr>
          <a:xfrm flipH="1" rot="689400">
            <a:off x="6415560" y="1245960"/>
            <a:ext cx="979200" cy="9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685880" y="988920"/>
            <a:ext cx="64148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左 边 绿，右 边  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左 右 相  遇 起 凉  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绿 的 喜 欢 及 时 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红  的 最 怕 水 来 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1682640" y="703440"/>
            <a:ext cx="543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uǒ biān lǜ   yòu biān  hó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682640" y="1679400"/>
            <a:ext cx="646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uǒ yòu xiānɡ yù  qǐ liánɡ fē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1746360" y="2619360"/>
            <a:ext cx="655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ǜ  de  xǐ huɑn jí  shí  y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1646280" y="3571920"/>
            <a:ext cx="676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hónɡ  de  zuì  pà shuǐ lái ɡōn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246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任意多边形: 形状 8"/>
            <p:cNvSpPr/>
            <p:nvPr/>
          </p:nvSpPr>
          <p:spPr>
            <a:xfrm>
              <a:off x="372960" y="266760"/>
              <a:ext cx="1458720" cy="31068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1459230" h="310007">
                  <a:moveTo>
                    <a:pt x="618363" y="246761"/>
                  </a:moveTo>
                  <a:cubicBezTo>
                    <a:pt x="631825" y="246761"/>
                    <a:pt x="643446" y="249365"/>
                    <a:pt x="653225" y="254572"/>
                  </a:cubicBezTo>
                  <a:cubicBezTo>
                    <a:pt x="663004" y="259779"/>
                    <a:pt x="669798" y="265049"/>
                    <a:pt x="673608" y="270383"/>
                  </a:cubicBezTo>
                  <a:cubicBezTo>
                    <a:pt x="677418" y="275717"/>
                    <a:pt x="679323" y="282194"/>
                    <a:pt x="679323" y="289814"/>
                  </a:cubicBezTo>
                  <a:cubicBezTo>
                    <a:pt x="679323" y="303276"/>
                    <a:pt x="677545" y="310007"/>
                    <a:pt x="673989" y="310007"/>
                  </a:cubicBezTo>
                  <a:cubicBezTo>
                    <a:pt x="671449" y="310007"/>
                    <a:pt x="665480" y="305753"/>
                    <a:pt x="656082" y="297244"/>
                  </a:cubicBezTo>
                  <a:cubicBezTo>
                    <a:pt x="646684" y="288735"/>
                    <a:pt x="636905" y="279019"/>
                    <a:pt x="626745" y="268097"/>
                  </a:cubicBezTo>
                  <a:cubicBezTo>
                    <a:pt x="616585" y="257175"/>
                    <a:pt x="611505" y="250889"/>
                    <a:pt x="611505" y="249238"/>
                  </a:cubicBezTo>
                  <a:cubicBezTo>
                    <a:pt x="611505" y="247587"/>
                    <a:pt x="613791" y="246761"/>
                    <a:pt x="618363" y="246761"/>
                  </a:cubicBezTo>
                  <a:close/>
                  <a:moveTo>
                    <a:pt x="984123" y="211709"/>
                  </a:moveTo>
                  <a:cubicBezTo>
                    <a:pt x="972693" y="220599"/>
                    <a:pt x="964565" y="228219"/>
                    <a:pt x="959739" y="234569"/>
                  </a:cubicBezTo>
                  <a:cubicBezTo>
                    <a:pt x="970915" y="239141"/>
                    <a:pt x="977519" y="241427"/>
                    <a:pt x="979551" y="241427"/>
                  </a:cubicBezTo>
                  <a:cubicBezTo>
                    <a:pt x="981583" y="241427"/>
                    <a:pt x="982853" y="241046"/>
                    <a:pt x="983361" y="240284"/>
                  </a:cubicBezTo>
                  <a:cubicBezTo>
                    <a:pt x="983869" y="239522"/>
                    <a:pt x="984187" y="235776"/>
                    <a:pt x="984314" y="229045"/>
                  </a:cubicBezTo>
                  <a:cubicBezTo>
                    <a:pt x="984441" y="222314"/>
                    <a:pt x="984377" y="216535"/>
                    <a:pt x="984123" y="211709"/>
                  </a:cubicBezTo>
                  <a:close/>
                  <a:moveTo>
                    <a:pt x="591265" y="208566"/>
                  </a:moveTo>
                  <a:cubicBezTo>
                    <a:pt x="589963" y="208883"/>
                    <a:pt x="588645" y="209550"/>
                    <a:pt x="587312" y="210566"/>
                  </a:cubicBezTo>
                  <a:cubicBezTo>
                    <a:pt x="584645" y="212598"/>
                    <a:pt x="582930" y="215392"/>
                    <a:pt x="582168" y="218948"/>
                  </a:cubicBezTo>
                  <a:cubicBezTo>
                    <a:pt x="584962" y="218186"/>
                    <a:pt x="588645" y="217297"/>
                    <a:pt x="593217" y="216281"/>
                  </a:cubicBezTo>
                  <a:cubicBezTo>
                    <a:pt x="594233" y="213487"/>
                    <a:pt x="594868" y="210947"/>
                    <a:pt x="595122" y="208661"/>
                  </a:cubicBezTo>
                  <a:cubicBezTo>
                    <a:pt x="593852" y="208280"/>
                    <a:pt x="592566" y="208248"/>
                    <a:pt x="591265" y="208566"/>
                  </a:cubicBezTo>
                  <a:close/>
                  <a:moveTo>
                    <a:pt x="462915" y="127508"/>
                  </a:moveTo>
                  <a:cubicBezTo>
                    <a:pt x="469773" y="127508"/>
                    <a:pt x="475615" y="129794"/>
                    <a:pt x="480441" y="134366"/>
                  </a:cubicBezTo>
                  <a:cubicBezTo>
                    <a:pt x="485267" y="138938"/>
                    <a:pt x="487680" y="144018"/>
                    <a:pt x="487680" y="149606"/>
                  </a:cubicBezTo>
                  <a:cubicBezTo>
                    <a:pt x="487680" y="151638"/>
                    <a:pt x="487299" y="153416"/>
                    <a:pt x="486537" y="154940"/>
                  </a:cubicBezTo>
                  <a:cubicBezTo>
                    <a:pt x="483235" y="161544"/>
                    <a:pt x="480949" y="168783"/>
                    <a:pt x="479679" y="176657"/>
                  </a:cubicBezTo>
                  <a:lnTo>
                    <a:pt x="469011" y="237998"/>
                  </a:lnTo>
                  <a:cubicBezTo>
                    <a:pt x="468249" y="241808"/>
                    <a:pt x="467868" y="244348"/>
                    <a:pt x="467868" y="245618"/>
                  </a:cubicBezTo>
                  <a:cubicBezTo>
                    <a:pt x="467868" y="248412"/>
                    <a:pt x="468376" y="249809"/>
                    <a:pt x="469392" y="249809"/>
                  </a:cubicBezTo>
                  <a:cubicBezTo>
                    <a:pt x="470408" y="249809"/>
                    <a:pt x="471361" y="249301"/>
                    <a:pt x="472250" y="248285"/>
                  </a:cubicBezTo>
                  <a:cubicBezTo>
                    <a:pt x="473139" y="247269"/>
                    <a:pt x="476695" y="241046"/>
                    <a:pt x="482918" y="229616"/>
                  </a:cubicBezTo>
                  <a:cubicBezTo>
                    <a:pt x="489141" y="218186"/>
                    <a:pt x="493395" y="209169"/>
                    <a:pt x="495681" y="202565"/>
                  </a:cubicBezTo>
                  <a:cubicBezTo>
                    <a:pt x="496443" y="200533"/>
                    <a:pt x="497459" y="199517"/>
                    <a:pt x="498729" y="199517"/>
                  </a:cubicBezTo>
                  <a:cubicBezTo>
                    <a:pt x="499999" y="199517"/>
                    <a:pt x="500634" y="201295"/>
                    <a:pt x="500634" y="204851"/>
                  </a:cubicBezTo>
                  <a:cubicBezTo>
                    <a:pt x="500634" y="212217"/>
                    <a:pt x="494538" y="234696"/>
                    <a:pt x="482346" y="272288"/>
                  </a:cubicBezTo>
                  <a:cubicBezTo>
                    <a:pt x="479552" y="280670"/>
                    <a:pt x="478155" y="287401"/>
                    <a:pt x="478155" y="292481"/>
                  </a:cubicBezTo>
                  <a:lnTo>
                    <a:pt x="478536" y="301244"/>
                  </a:lnTo>
                  <a:cubicBezTo>
                    <a:pt x="478536" y="305816"/>
                    <a:pt x="476949" y="308102"/>
                    <a:pt x="473774" y="308102"/>
                  </a:cubicBezTo>
                  <a:cubicBezTo>
                    <a:pt x="470599" y="308102"/>
                    <a:pt x="466154" y="304800"/>
                    <a:pt x="460439" y="298196"/>
                  </a:cubicBezTo>
                  <a:cubicBezTo>
                    <a:pt x="454724" y="291592"/>
                    <a:pt x="450850" y="284671"/>
                    <a:pt x="448818" y="277432"/>
                  </a:cubicBezTo>
                  <a:cubicBezTo>
                    <a:pt x="446786" y="270193"/>
                    <a:pt x="445770" y="257683"/>
                    <a:pt x="445770" y="239903"/>
                  </a:cubicBezTo>
                  <a:cubicBezTo>
                    <a:pt x="445770" y="222123"/>
                    <a:pt x="446278" y="202692"/>
                    <a:pt x="447294" y="181610"/>
                  </a:cubicBezTo>
                  <a:cubicBezTo>
                    <a:pt x="438658" y="191008"/>
                    <a:pt x="429768" y="195707"/>
                    <a:pt x="420624" y="195707"/>
                  </a:cubicBezTo>
                  <a:cubicBezTo>
                    <a:pt x="414274" y="195707"/>
                    <a:pt x="408242" y="193739"/>
                    <a:pt x="402527" y="189802"/>
                  </a:cubicBezTo>
                  <a:cubicBezTo>
                    <a:pt x="396812" y="185865"/>
                    <a:pt x="392176" y="180277"/>
                    <a:pt x="388620" y="173038"/>
                  </a:cubicBezTo>
                  <a:cubicBezTo>
                    <a:pt x="385064" y="165799"/>
                    <a:pt x="383286" y="160719"/>
                    <a:pt x="383286" y="157798"/>
                  </a:cubicBezTo>
                  <a:cubicBezTo>
                    <a:pt x="383286" y="154877"/>
                    <a:pt x="384239" y="153416"/>
                    <a:pt x="386144" y="153416"/>
                  </a:cubicBezTo>
                  <a:cubicBezTo>
                    <a:pt x="388049" y="153416"/>
                    <a:pt x="389763" y="154305"/>
                    <a:pt x="391287" y="156083"/>
                  </a:cubicBezTo>
                  <a:cubicBezTo>
                    <a:pt x="392811" y="157861"/>
                    <a:pt x="395161" y="158750"/>
                    <a:pt x="398336" y="158750"/>
                  </a:cubicBezTo>
                  <a:cubicBezTo>
                    <a:pt x="401511" y="158750"/>
                    <a:pt x="406210" y="157544"/>
                    <a:pt x="412433" y="155131"/>
                  </a:cubicBezTo>
                  <a:cubicBezTo>
                    <a:pt x="418656" y="152718"/>
                    <a:pt x="425514" y="149416"/>
                    <a:pt x="433007" y="145225"/>
                  </a:cubicBezTo>
                  <a:cubicBezTo>
                    <a:pt x="440500" y="141034"/>
                    <a:pt x="444627" y="138367"/>
                    <a:pt x="445389" y="137224"/>
                  </a:cubicBezTo>
                  <a:cubicBezTo>
                    <a:pt x="446151" y="136081"/>
                    <a:pt x="446532" y="134620"/>
                    <a:pt x="446532" y="132842"/>
                  </a:cubicBezTo>
                  <a:cubicBezTo>
                    <a:pt x="446532" y="129286"/>
                    <a:pt x="451993" y="127508"/>
                    <a:pt x="462915" y="127508"/>
                  </a:cubicBezTo>
                  <a:close/>
                  <a:moveTo>
                    <a:pt x="255461" y="111125"/>
                  </a:moveTo>
                  <a:cubicBezTo>
                    <a:pt x="253048" y="111125"/>
                    <a:pt x="245999" y="115189"/>
                    <a:pt x="234315" y="123317"/>
                  </a:cubicBezTo>
                  <a:cubicBezTo>
                    <a:pt x="235077" y="130683"/>
                    <a:pt x="235458" y="136970"/>
                    <a:pt x="235458" y="142177"/>
                  </a:cubicBezTo>
                  <a:cubicBezTo>
                    <a:pt x="235458" y="147384"/>
                    <a:pt x="233998" y="151702"/>
                    <a:pt x="231077" y="155131"/>
                  </a:cubicBezTo>
                  <a:cubicBezTo>
                    <a:pt x="228156" y="158560"/>
                    <a:pt x="224917" y="163703"/>
                    <a:pt x="221361" y="170561"/>
                  </a:cubicBezTo>
                  <a:cubicBezTo>
                    <a:pt x="216027" y="181991"/>
                    <a:pt x="205359" y="197866"/>
                    <a:pt x="189357" y="218186"/>
                  </a:cubicBezTo>
                  <a:cubicBezTo>
                    <a:pt x="205867" y="230378"/>
                    <a:pt x="219583" y="236474"/>
                    <a:pt x="230505" y="236474"/>
                  </a:cubicBezTo>
                  <a:cubicBezTo>
                    <a:pt x="235585" y="236474"/>
                    <a:pt x="238887" y="235204"/>
                    <a:pt x="240411" y="232664"/>
                  </a:cubicBezTo>
                  <a:cubicBezTo>
                    <a:pt x="241935" y="230124"/>
                    <a:pt x="244920" y="222187"/>
                    <a:pt x="249365" y="208852"/>
                  </a:cubicBezTo>
                  <a:cubicBezTo>
                    <a:pt x="253810" y="195517"/>
                    <a:pt x="257302" y="180086"/>
                    <a:pt x="259842" y="162560"/>
                  </a:cubicBezTo>
                  <a:cubicBezTo>
                    <a:pt x="262382" y="145034"/>
                    <a:pt x="263652" y="131699"/>
                    <a:pt x="263652" y="122555"/>
                  </a:cubicBezTo>
                  <a:cubicBezTo>
                    <a:pt x="263652" y="118999"/>
                    <a:pt x="262890" y="116205"/>
                    <a:pt x="261366" y="114173"/>
                  </a:cubicBezTo>
                  <a:cubicBezTo>
                    <a:pt x="259842" y="112141"/>
                    <a:pt x="257874" y="111125"/>
                    <a:pt x="255461" y="111125"/>
                  </a:cubicBezTo>
                  <a:close/>
                  <a:moveTo>
                    <a:pt x="981075" y="106553"/>
                  </a:moveTo>
                  <a:cubicBezTo>
                    <a:pt x="972439" y="110363"/>
                    <a:pt x="961898" y="112268"/>
                    <a:pt x="949452" y="112268"/>
                  </a:cubicBezTo>
                  <a:cubicBezTo>
                    <a:pt x="949452" y="120396"/>
                    <a:pt x="949706" y="125603"/>
                    <a:pt x="950214" y="127889"/>
                  </a:cubicBezTo>
                  <a:cubicBezTo>
                    <a:pt x="950722" y="130175"/>
                    <a:pt x="951738" y="131064"/>
                    <a:pt x="953262" y="130556"/>
                  </a:cubicBezTo>
                  <a:cubicBezTo>
                    <a:pt x="962914" y="128270"/>
                    <a:pt x="972312" y="126238"/>
                    <a:pt x="981456" y="124460"/>
                  </a:cubicBezTo>
                  <a:cubicBezTo>
                    <a:pt x="981202" y="119888"/>
                    <a:pt x="981075" y="113919"/>
                    <a:pt x="981075" y="106553"/>
                  </a:cubicBezTo>
                  <a:close/>
                  <a:moveTo>
                    <a:pt x="112205" y="73406"/>
                  </a:moveTo>
                  <a:cubicBezTo>
                    <a:pt x="117412" y="73406"/>
                    <a:pt x="123190" y="76010"/>
                    <a:pt x="129540" y="81217"/>
                  </a:cubicBezTo>
                  <a:cubicBezTo>
                    <a:pt x="135890" y="86424"/>
                    <a:pt x="139065" y="91377"/>
                    <a:pt x="139065" y="96076"/>
                  </a:cubicBezTo>
                  <a:cubicBezTo>
                    <a:pt x="139065" y="100775"/>
                    <a:pt x="137795" y="103886"/>
                    <a:pt x="135255" y="105410"/>
                  </a:cubicBezTo>
                  <a:cubicBezTo>
                    <a:pt x="131445" y="107696"/>
                    <a:pt x="129540" y="113792"/>
                    <a:pt x="129540" y="123698"/>
                  </a:cubicBezTo>
                  <a:lnTo>
                    <a:pt x="129921" y="131699"/>
                  </a:lnTo>
                  <a:cubicBezTo>
                    <a:pt x="129921" y="138049"/>
                    <a:pt x="128461" y="143320"/>
                    <a:pt x="125540" y="147511"/>
                  </a:cubicBezTo>
                  <a:cubicBezTo>
                    <a:pt x="122619" y="151702"/>
                    <a:pt x="120777" y="156083"/>
                    <a:pt x="120015" y="160655"/>
                  </a:cubicBezTo>
                  <a:cubicBezTo>
                    <a:pt x="144907" y="135763"/>
                    <a:pt x="161227" y="119952"/>
                    <a:pt x="168974" y="113221"/>
                  </a:cubicBezTo>
                  <a:cubicBezTo>
                    <a:pt x="176721" y="106490"/>
                    <a:pt x="190564" y="99441"/>
                    <a:pt x="210503" y="92075"/>
                  </a:cubicBezTo>
                  <a:cubicBezTo>
                    <a:pt x="230442" y="84709"/>
                    <a:pt x="243332" y="81026"/>
                    <a:pt x="249174" y="81026"/>
                  </a:cubicBezTo>
                  <a:cubicBezTo>
                    <a:pt x="255016" y="81026"/>
                    <a:pt x="261684" y="82487"/>
                    <a:pt x="269177" y="85408"/>
                  </a:cubicBezTo>
                  <a:cubicBezTo>
                    <a:pt x="276670" y="88329"/>
                    <a:pt x="283401" y="92139"/>
                    <a:pt x="289370" y="96838"/>
                  </a:cubicBezTo>
                  <a:cubicBezTo>
                    <a:pt x="295339" y="101537"/>
                    <a:pt x="299657" y="106045"/>
                    <a:pt x="302324" y="110363"/>
                  </a:cubicBezTo>
                  <a:cubicBezTo>
                    <a:pt x="304991" y="114681"/>
                    <a:pt x="306324" y="118999"/>
                    <a:pt x="306324" y="123317"/>
                  </a:cubicBezTo>
                  <a:cubicBezTo>
                    <a:pt x="306324" y="127635"/>
                    <a:pt x="305181" y="131191"/>
                    <a:pt x="302895" y="133985"/>
                  </a:cubicBezTo>
                  <a:cubicBezTo>
                    <a:pt x="300609" y="136779"/>
                    <a:pt x="298958" y="142113"/>
                    <a:pt x="297942" y="149987"/>
                  </a:cubicBezTo>
                  <a:cubicBezTo>
                    <a:pt x="294894" y="173863"/>
                    <a:pt x="289941" y="195644"/>
                    <a:pt x="283083" y="215329"/>
                  </a:cubicBezTo>
                  <a:cubicBezTo>
                    <a:pt x="276225" y="235014"/>
                    <a:pt x="268605" y="251651"/>
                    <a:pt x="260223" y="265240"/>
                  </a:cubicBezTo>
                  <a:cubicBezTo>
                    <a:pt x="251841" y="278829"/>
                    <a:pt x="246317" y="286639"/>
                    <a:pt x="243650" y="288671"/>
                  </a:cubicBezTo>
                  <a:cubicBezTo>
                    <a:pt x="240983" y="290703"/>
                    <a:pt x="238062" y="291719"/>
                    <a:pt x="234887" y="291719"/>
                  </a:cubicBezTo>
                  <a:cubicBezTo>
                    <a:pt x="231712" y="291719"/>
                    <a:pt x="229489" y="290449"/>
                    <a:pt x="228219" y="287909"/>
                  </a:cubicBezTo>
                  <a:cubicBezTo>
                    <a:pt x="224663" y="281305"/>
                    <a:pt x="220472" y="276225"/>
                    <a:pt x="215646" y="272669"/>
                  </a:cubicBezTo>
                  <a:cubicBezTo>
                    <a:pt x="204978" y="265049"/>
                    <a:pt x="193040" y="250698"/>
                    <a:pt x="179832" y="229616"/>
                  </a:cubicBezTo>
                  <a:cubicBezTo>
                    <a:pt x="163322" y="246380"/>
                    <a:pt x="151638" y="254762"/>
                    <a:pt x="144780" y="254762"/>
                  </a:cubicBezTo>
                  <a:cubicBezTo>
                    <a:pt x="140970" y="254762"/>
                    <a:pt x="139065" y="253365"/>
                    <a:pt x="139065" y="250571"/>
                  </a:cubicBezTo>
                  <a:cubicBezTo>
                    <a:pt x="139065" y="247777"/>
                    <a:pt x="140843" y="244602"/>
                    <a:pt x="144399" y="241046"/>
                  </a:cubicBezTo>
                  <a:cubicBezTo>
                    <a:pt x="159893" y="225044"/>
                    <a:pt x="172657" y="206693"/>
                    <a:pt x="182690" y="185992"/>
                  </a:cubicBezTo>
                  <a:cubicBezTo>
                    <a:pt x="192723" y="165291"/>
                    <a:pt x="197739" y="151511"/>
                    <a:pt x="197739" y="144653"/>
                  </a:cubicBezTo>
                  <a:cubicBezTo>
                    <a:pt x="197739" y="141097"/>
                    <a:pt x="196215" y="138684"/>
                    <a:pt x="193167" y="137414"/>
                  </a:cubicBezTo>
                  <a:cubicBezTo>
                    <a:pt x="189357" y="138176"/>
                    <a:pt x="186500" y="138557"/>
                    <a:pt x="184595" y="138557"/>
                  </a:cubicBezTo>
                  <a:cubicBezTo>
                    <a:pt x="182690" y="138557"/>
                    <a:pt x="180594" y="138049"/>
                    <a:pt x="178308" y="137033"/>
                  </a:cubicBezTo>
                  <a:cubicBezTo>
                    <a:pt x="173228" y="137033"/>
                    <a:pt x="166942" y="139891"/>
                    <a:pt x="159449" y="145606"/>
                  </a:cubicBezTo>
                  <a:cubicBezTo>
                    <a:pt x="151956" y="151321"/>
                    <a:pt x="144590" y="159131"/>
                    <a:pt x="137351" y="169037"/>
                  </a:cubicBezTo>
                  <a:cubicBezTo>
                    <a:pt x="130112" y="178943"/>
                    <a:pt x="123063" y="186309"/>
                    <a:pt x="116205" y="191135"/>
                  </a:cubicBezTo>
                  <a:cubicBezTo>
                    <a:pt x="113919" y="201295"/>
                    <a:pt x="112776" y="209487"/>
                    <a:pt x="112776" y="215710"/>
                  </a:cubicBezTo>
                  <a:cubicBezTo>
                    <a:pt x="112776" y="221933"/>
                    <a:pt x="113221" y="228219"/>
                    <a:pt x="114110" y="234569"/>
                  </a:cubicBezTo>
                  <a:cubicBezTo>
                    <a:pt x="114999" y="240919"/>
                    <a:pt x="115316" y="247396"/>
                    <a:pt x="115062" y="254000"/>
                  </a:cubicBezTo>
                  <a:lnTo>
                    <a:pt x="114681" y="263144"/>
                  </a:lnTo>
                  <a:cubicBezTo>
                    <a:pt x="114681" y="271018"/>
                    <a:pt x="115189" y="276606"/>
                    <a:pt x="116205" y="279908"/>
                  </a:cubicBezTo>
                  <a:cubicBezTo>
                    <a:pt x="117221" y="283210"/>
                    <a:pt x="117729" y="285369"/>
                    <a:pt x="117729" y="286385"/>
                  </a:cubicBezTo>
                  <a:cubicBezTo>
                    <a:pt x="117729" y="289687"/>
                    <a:pt x="116523" y="291338"/>
                    <a:pt x="114110" y="291338"/>
                  </a:cubicBezTo>
                  <a:cubicBezTo>
                    <a:pt x="111697" y="291338"/>
                    <a:pt x="107887" y="287846"/>
                    <a:pt x="102680" y="280861"/>
                  </a:cubicBezTo>
                  <a:cubicBezTo>
                    <a:pt x="97473" y="273876"/>
                    <a:pt x="94234" y="268732"/>
                    <a:pt x="92964" y="265430"/>
                  </a:cubicBezTo>
                  <a:cubicBezTo>
                    <a:pt x="91694" y="262128"/>
                    <a:pt x="91059" y="255397"/>
                    <a:pt x="91059" y="245237"/>
                  </a:cubicBezTo>
                  <a:cubicBezTo>
                    <a:pt x="91059" y="235077"/>
                    <a:pt x="91186" y="222758"/>
                    <a:pt x="91440" y="208280"/>
                  </a:cubicBezTo>
                  <a:cubicBezTo>
                    <a:pt x="85090" y="212598"/>
                    <a:pt x="78867" y="218504"/>
                    <a:pt x="72771" y="225997"/>
                  </a:cubicBezTo>
                  <a:cubicBezTo>
                    <a:pt x="66675" y="233490"/>
                    <a:pt x="63373" y="238379"/>
                    <a:pt x="62865" y="240665"/>
                  </a:cubicBezTo>
                  <a:cubicBezTo>
                    <a:pt x="61849" y="244729"/>
                    <a:pt x="59373" y="246761"/>
                    <a:pt x="55436" y="246761"/>
                  </a:cubicBezTo>
                  <a:cubicBezTo>
                    <a:pt x="51499" y="246761"/>
                    <a:pt x="46736" y="243840"/>
                    <a:pt x="41148" y="237998"/>
                  </a:cubicBezTo>
                  <a:cubicBezTo>
                    <a:pt x="35560" y="232156"/>
                    <a:pt x="32766" y="227076"/>
                    <a:pt x="32766" y="222758"/>
                  </a:cubicBezTo>
                  <a:cubicBezTo>
                    <a:pt x="32766" y="217170"/>
                    <a:pt x="37719" y="212027"/>
                    <a:pt x="47625" y="207328"/>
                  </a:cubicBezTo>
                  <a:cubicBezTo>
                    <a:pt x="57531" y="202629"/>
                    <a:pt x="68072" y="192088"/>
                    <a:pt x="79248" y="175705"/>
                  </a:cubicBezTo>
                  <a:cubicBezTo>
                    <a:pt x="90424" y="159322"/>
                    <a:pt x="96012" y="145669"/>
                    <a:pt x="96012" y="134747"/>
                  </a:cubicBezTo>
                  <a:cubicBezTo>
                    <a:pt x="96012" y="132461"/>
                    <a:pt x="95758" y="130429"/>
                    <a:pt x="95250" y="128651"/>
                  </a:cubicBezTo>
                  <a:cubicBezTo>
                    <a:pt x="87376" y="137795"/>
                    <a:pt x="80328" y="144780"/>
                    <a:pt x="74105" y="149606"/>
                  </a:cubicBezTo>
                  <a:cubicBezTo>
                    <a:pt x="67882" y="154432"/>
                    <a:pt x="61849" y="156845"/>
                    <a:pt x="56007" y="156845"/>
                  </a:cubicBezTo>
                  <a:cubicBezTo>
                    <a:pt x="50165" y="156845"/>
                    <a:pt x="42228" y="154686"/>
                    <a:pt x="32195" y="150368"/>
                  </a:cubicBezTo>
                  <a:cubicBezTo>
                    <a:pt x="22162" y="146050"/>
                    <a:pt x="14288" y="141097"/>
                    <a:pt x="8573" y="135509"/>
                  </a:cubicBezTo>
                  <a:cubicBezTo>
                    <a:pt x="2858" y="129921"/>
                    <a:pt x="0" y="126238"/>
                    <a:pt x="0" y="124460"/>
                  </a:cubicBezTo>
                  <a:cubicBezTo>
                    <a:pt x="0" y="122682"/>
                    <a:pt x="381" y="121793"/>
                    <a:pt x="1143" y="121793"/>
                  </a:cubicBezTo>
                  <a:cubicBezTo>
                    <a:pt x="1905" y="121793"/>
                    <a:pt x="2667" y="122047"/>
                    <a:pt x="3429" y="122555"/>
                  </a:cubicBezTo>
                  <a:cubicBezTo>
                    <a:pt x="9017" y="125603"/>
                    <a:pt x="15431" y="127127"/>
                    <a:pt x="22670" y="127127"/>
                  </a:cubicBezTo>
                  <a:cubicBezTo>
                    <a:pt x="29909" y="127127"/>
                    <a:pt x="43561" y="121095"/>
                    <a:pt x="63627" y="109030"/>
                  </a:cubicBezTo>
                  <a:cubicBezTo>
                    <a:pt x="83693" y="96965"/>
                    <a:pt x="94107" y="88138"/>
                    <a:pt x="94869" y="82550"/>
                  </a:cubicBezTo>
                  <a:cubicBezTo>
                    <a:pt x="95123" y="79756"/>
                    <a:pt x="96774" y="77534"/>
                    <a:pt x="99822" y="75883"/>
                  </a:cubicBezTo>
                  <a:cubicBezTo>
                    <a:pt x="102870" y="74232"/>
                    <a:pt x="106998" y="73406"/>
                    <a:pt x="112205" y="73406"/>
                  </a:cubicBezTo>
                  <a:close/>
                  <a:moveTo>
                    <a:pt x="976503" y="63881"/>
                  </a:moveTo>
                  <a:cubicBezTo>
                    <a:pt x="966851" y="66929"/>
                    <a:pt x="956818" y="68707"/>
                    <a:pt x="946404" y="69215"/>
                  </a:cubicBezTo>
                  <a:cubicBezTo>
                    <a:pt x="948436" y="74803"/>
                    <a:pt x="950087" y="81280"/>
                    <a:pt x="951357" y="88646"/>
                  </a:cubicBezTo>
                  <a:cubicBezTo>
                    <a:pt x="957961" y="85598"/>
                    <a:pt x="968375" y="82677"/>
                    <a:pt x="982599" y="79883"/>
                  </a:cubicBezTo>
                  <a:cubicBezTo>
                    <a:pt x="982091" y="72771"/>
                    <a:pt x="980059" y="67437"/>
                    <a:pt x="976503" y="63881"/>
                  </a:cubicBezTo>
                  <a:close/>
                  <a:moveTo>
                    <a:pt x="1030415" y="43307"/>
                  </a:moveTo>
                  <a:cubicBezTo>
                    <a:pt x="1025716" y="43307"/>
                    <a:pt x="1017270" y="47244"/>
                    <a:pt x="1005078" y="55118"/>
                  </a:cubicBezTo>
                  <a:cubicBezTo>
                    <a:pt x="1008380" y="59944"/>
                    <a:pt x="1010158" y="65659"/>
                    <a:pt x="1010412" y="72263"/>
                  </a:cubicBezTo>
                  <a:cubicBezTo>
                    <a:pt x="1017270" y="72771"/>
                    <a:pt x="1022604" y="74359"/>
                    <a:pt x="1026414" y="77026"/>
                  </a:cubicBezTo>
                  <a:cubicBezTo>
                    <a:pt x="1030224" y="79693"/>
                    <a:pt x="1032129" y="82360"/>
                    <a:pt x="1032129" y="85027"/>
                  </a:cubicBezTo>
                  <a:cubicBezTo>
                    <a:pt x="1032129" y="87694"/>
                    <a:pt x="1030288" y="90297"/>
                    <a:pt x="1026605" y="92837"/>
                  </a:cubicBezTo>
                  <a:cubicBezTo>
                    <a:pt x="1022922" y="95377"/>
                    <a:pt x="1017524" y="97409"/>
                    <a:pt x="1010412" y="98933"/>
                  </a:cubicBezTo>
                  <a:cubicBezTo>
                    <a:pt x="1009650" y="105283"/>
                    <a:pt x="1009269" y="111506"/>
                    <a:pt x="1009269" y="117602"/>
                  </a:cubicBezTo>
                  <a:cubicBezTo>
                    <a:pt x="1017397" y="116840"/>
                    <a:pt x="1023112" y="114110"/>
                    <a:pt x="1026414" y="109411"/>
                  </a:cubicBezTo>
                  <a:cubicBezTo>
                    <a:pt x="1029716" y="104712"/>
                    <a:pt x="1033209" y="96520"/>
                    <a:pt x="1036892" y="84836"/>
                  </a:cubicBezTo>
                  <a:cubicBezTo>
                    <a:pt x="1040575" y="73152"/>
                    <a:pt x="1042416" y="65469"/>
                    <a:pt x="1042416" y="61786"/>
                  </a:cubicBezTo>
                  <a:cubicBezTo>
                    <a:pt x="1042416" y="58103"/>
                    <a:pt x="1041591" y="54102"/>
                    <a:pt x="1039940" y="49784"/>
                  </a:cubicBezTo>
                  <a:cubicBezTo>
                    <a:pt x="1038289" y="45466"/>
                    <a:pt x="1035114" y="43307"/>
                    <a:pt x="1030415" y="43307"/>
                  </a:cubicBezTo>
                  <a:close/>
                  <a:moveTo>
                    <a:pt x="452104" y="39878"/>
                  </a:moveTo>
                  <a:cubicBezTo>
                    <a:pt x="453025" y="39624"/>
                    <a:pt x="454406" y="39751"/>
                    <a:pt x="456248" y="40259"/>
                  </a:cubicBezTo>
                  <a:cubicBezTo>
                    <a:pt x="459931" y="41275"/>
                    <a:pt x="463169" y="41783"/>
                    <a:pt x="465963" y="41783"/>
                  </a:cubicBezTo>
                  <a:lnTo>
                    <a:pt x="478155" y="40640"/>
                  </a:lnTo>
                  <a:cubicBezTo>
                    <a:pt x="488061" y="40640"/>
                    <a:pt x="497396" y="43752"/>
                    <a:pt x="506159" y="49975"/>
                  </a:cubicBezTo>
                  <a:cubicBezTo>
                    <a:pt x="514922" y="56198"/>
                    <a:pt x="519303" y="63500"/>
                    <a:pt x="519303" y="71882"/>
                  </a:cubicBezTo>
                  <a:cubicBezTo>
                    <a:pt x="519303" y="75692"/>
                    <a:pt x="517970" y="78994"/>
                    <a:pt x="515303" y="81788"/>
                  </a:cubicBezTo>
                  <a:cubicBezTo>
                    <a:pt x="512636" y="84582"/>
                    <a:pt x="509143" y="85979"/>
                    <a:pt x="504825" y="85979"/>
                  </a:cubicBezTo>
                  <a:lnTo>
                    <a:pt x="496062" y="84836"/>
                  </a:lnTo>
                  <a:cubicBezTo>
                    <a:pt x="490728" y="84836"/>
                    <a:pt x="485585" y="87249"/>
                    <a:pt x="480632" y="92075"/>
                  </a:cubicBezTo>
                  <a:cubicBezTo>
                    <a:pt x="475679" y="96901"/>
                    <a:pt x="467233" y="101092"/>
                    <a:pt x="455295" y="104648"/>
                  </a:cubicBezTo>
                  <a:cubicBezTo>
                    <a:pt x="443357" y="108204"/>
                    <a:pt x="436118" y="109982"/>
                    <a:pt x="433578" y="109982"/>
                  </a:cubicBezTo>
                  <a:cubicBezTo>
                    <a:pt x="431038" y="109982"/>
                    <a:pt x="429768" y="109601"/>
                    <a:pt x="429768" y="108839"/>
                  </a:cubicBezTo>
                  <a:cubicBezTo>
                    <a:pt x="429768" y="108077"/>
                    <a:pt x="430403" y="107188"/>
                    <a:pt x="431673" y="106172"/>
                  </a:cubicBezTo>
                  <a:cubicBezTo>
                    <a:pt x="436499" y="102616"/>
                    <a:pt x="443294" y="96774"/>
                    <a:pt x="452057" y="88646"/>
                  </a:cubicBezTo>
                  <a:cubicBezTo>
                    <a:pt x="460820" y="80518"/>
                    <a:pt x="465709" y="75756"/>
                    <a:pt x="466725" y="74359"/>
                  </a:cubicBezTo>
                  <a:cubicBezTo>
                    <a:pt x="467741" y="72962"/>
                    <a:pt x="468249" y="71501"/>
                    <a:pt x="468249" y="69977"/>
                  </a:cubicBezTo>
                  <a:cubicBezTo>
                    <a:pt x="468249" y="66929"/>
                    <a:pt x="463550" y="59817"/>
                    <a:pt x="454152" y="48641"/>
                  </a:cubicBezTo>
                  <a:cubicBezTo>
                    <a:pt x="451866" y="46101"/>
                    <a:pt x="450723" y="43815"/>
                    <a:pt x="450723" y="41783"/>
                  </a:cubicBezTo>
                  <a:cubicBezTo>
                    <a:pt x="450723" y="40767"/>
                    <a:pt x="451184" y="40132"/>
                    <a:pt x="452104" y="39878"/>
                  </a:cubicBezTo>
                  <a:close/>
                  <a:moveTo>
                    <a:pt x="868680" y="15494"/>
                  </a:moveTo>
                  <a:cubicBezTo>
                    <a:pt x="883158" y="15494"/>
                    <a:pt x="894525" y="19558"/>
                    <a:pt x="902780" y="27686"/>
                  </a:cubicBezTo>
                  <a:cubicBezTo>
                    <a:pt x="911035" y="35814"/>
                    <a:pt x="915162" y="42355"/>
                    <a:pt x="915162" y="47308"/>
                  </a:cubicBezTo>
                  <a:cubicBezTo>
                    <a:pt x="915162" y="52261"/>
                    <a:pt x="913575" y="56388"/>
                    <a:pt x="910400" y="59690"/>
                  </a:cubicBezTo>
                  <a:cubicBezTo>
                    <a:pt x="907225" y="62992"/>
                    <a:pt x="903732" y="64643"/>
                    <a:pt x="899922" y="64643"/>
                  </a:cubicBezTo>
                  <a:cubicBezTo>
                    <a:pt x="898652" y="64643"/>
                    <a:pt x="896938" y="64326"/>
                    <a:pt x="894779" y="63691"/>
                  </a:cubicBezTo>
                  <a:cubicBezTo>
                    <a:pt x="892620" y="63056"/>
                    <a:pt x="890461" y="62738"/>
                    <a:pt x="888302" y="62738"/>
                  </a:cubicBezTo>
                  <a:cubicBezTo>
                    <a:pt x="886143" y="62738"/>
                    <a:pt x="883412" y="63500"/>
                    <a:pt x="880110" y="65024"/>
                  </a:cubicBezTo>
                  <a:cubicBezTo>
                    <a:pt x="876808" y="66548"/>
                    <a:pt x="870903" y="69977"/>
                    <a:pt x="862394" y="75311"/>
                  </a:cubicBezTo>
                  <a:cubicBezTo>
                    <a:pt x="853885" y="80645"/>
                    <a:pt x="848424" y="83757"/>
                    <a:pt x="846011" y="84646"/>
                  </a:cubicBezTo>
                  <a:cubicBezTo>
                    <a:pt x="843598" y="85535"/>
                    <a:pt x="840740" y="85979"/>
                    <a:pt x="837438" y="85979"/>
                  </a:cubicBezTo>
                  <a:cubicBezTo>
                    <a:pt x="829056" y="85979"/>
                    <a:pt x="819087" y="91567"/>
                    <a:pt x="807530" y="102743"/>
                  </a:cubicBezTo>
                  <a:cubicBezTo>
                    <a:pt x="795973" y="113919"/>
                    <a:pt x="790194" y="124587"/>
                    <a:pt x="790194" y="134747"/>
                  </a:cubicBezTo>
                  <a:cubicBezTo>
                    <a:pt x="790194" y="139319"/>
                    <a:pt x="791464" y="141605"/>
                    <a:pt x="794004" y="141605"/>
                  </a:cubicBezTo>
                  <a:cubicBezTo>
                    <a:pt x="799084" y="141605"/>
                    <a:pt x="807657" y="137668"/>
                    <a:pt x="819722" y="129794"/>
                  </a:cubicBezTo>
                  <a:cubicBezTo>
                    <a:pt x="831787" y="121920"/>
                    <a:pt x="840105" y="114808"/>
                    <a:pt x="844677" y="108458"/>
                  </a:cubicBezTo>
                  <a:cubicBezTo>
                    <a:pt x="847471" y="104394"/>
                    <a:pt x="853440" y="102362"/>
                    <a:pt x="862584" y="102362"/>
                  </a:cubicBezTo>
                  <a:cubicBezTo>
                    <a:pt x="880364" y="102362"/>
                    <a:pt x="889254" y="110363"/>
                    <a:pt x="889254" y="126365"/>
                  </a:cubicBezTo>
                  <a:cubicBezTo>
                    <a:pt x="889254" y="129667"/>
                    <a:pt x="888746" y="132969"/>
                    <a:pt x="887730" y="136271"/>
                  </a:cubicBezTo>
                  <a:cubicBezTo>
                    <a:pt x="879348" y="162687"/>
                    <a:pt x="874459" y="180467"/>
                    <a:pt x="873062" y="189611"/>
                  </a:cubicBezTo>
                  <a:cubicBezTo>
                    <a:pt x="871665" y="198755"/>
                    <a:pt x="870966" y="207836"/>
                    <a:pt x="870966" y="216853"/>
                  </a:cubicBezTo>
                  <a:cubicBezTo>
                    <a:pt x="870966" y="225870"/>
                    <a:pt x="871093" y="230823"/>
                    <a:pt x="871347" y="231712"/>
                  </a:cubicBezTo>
                  <a:cubicBezTo>
                    <a:pt x="871601" y="232601"/>
                    <a:pt x="872046" y="233045"/>
                    <a:pt x="872681" y="233045"/>
                  </a:cubicBezTo>
                  <a:cubicBezTo>
                    <a:pt x="873316" y="233045"/>
                    <a:pt x="873887" y="232664"/>
                    <a:pt x="874395" y="231902"/>
                  </a:cubicBezTo>
                  <a:cubicBezTo>
                    <a:pt x="874903" y="231140"/>
                    <a:pt x="877634" y="225870"/>
                    <a:pt x="882587" y="216091"/>
                  </a:cubicBezTo>
                  <a:cubicBezTo>
                    <a:pt x="887540" y="206312"/>
                    <a:pt x="892620" y="195136"/>
                    <a:pt x="897827" y="182563"/>
                  </a:cubicBezTo>
                  <a:cubicBezTo>
                    <a:pt x="903034" y="169990"/>
                    <a:pt x="909066" y="158496"/>
                    <a:pt x="915924" y="148082"/>
                  </a:cubicBezTo>
                  <a:cubicBezTo>
                    <a:pt x="913384" y="157480"/>
                    <a:pt x="911225" y="168656"/>
                    <a:pt x="909447" y="181610"/>
                  </a:cubicBezTo>
                  <a:cubicBezTo>
                    <a:pt x="933577" y="173228"/>
                    <a:pt x="958342" y="166497"/>
                    <a:pt x="983742" y="161417"/>
                  </a:cubicBezTo>
                  <a:lnTo>
                    <a:pt x="982980" y="147320"/>
                  </a:lnTo>
                  <a:cubicBezTo>
                    <a:pt x="971804" y="148844"/>
                    <a:pt x="963295" y="150559"/>
                    <a:pt x="957453" y="152464"/>
                  </a:cubicBezTo>
                  <a:cubicBezTo>
                    <a:pt x="951611" y="154369"/>
                    <a:pt x="947928" y="155321"/>
                    <a:pt x="946404" y="155321"/>
                  </a:cubicBezTo>
                  <a:cubicBezTo>
                    <a:pt x="939546" y="155321"/>
                    <a:pt x="933768" y="149733"/>
                    <a:pt x="929069" y="138557"/>
                  </a:cubicBezTo>
                  <a:cubicBezTo>
                    <a:pt x="924370" y="127381"/>
                    <a:pt x="921766" y="113665"/>
                    <a:pt x="921258" y="97409"/>
                  </a:cubicBezTo>
                  <a:cubicBezTo>
                    <a:pt x="921004" y="89281"/>
                    <a:pt x="919417" y="83185"/>
                    <a:pt x="916496" y="79121"/>
                  </a:cubicBezTo>
                  <a:cubicBezTo>
                    <a:pt x="913575" y="75057"/>
                    <a:pt x="912114" y="72073"/>
                    <a:pt x="912114" y="70168"/>
                  </a:cubicBezTo>
                  <a:cubicBezTo>
                    <a:pt x="912114" y="68263"/>
                    <a:pt x="912686" y="65469"/>
                    <a:pt x="913829" y="61786"/>
                  </a:cubicBezTo>
                  <a:cubicBezTo>
                    <a:pt x="914972" y="58103"/>
                    <a:pt x="915924" y="55880"/>
                    <a:pt x="916686" y="55118"/>
                  </a:cubicBezTo>
                  <a:cubicBezTo>
                    <a:pt x="917448" y="54356"/>
                    <a:pt x="918972" y="53975"/>
                    <a:pt x="921258" y="53975"/>
                  </a:cubicBezTo>
                  <a:cubicBezTo>
                    <a:pt x="923544" y="53975"/>
                    <a:pt x="929005" y="54864"/>
                    <a:pt x="937641" y="56642"/>
                  </a:cubicBezTo>
                  <a:cubicBezTo>
                    <a:pt x="951611" y="46228"/>
                    <a:pt x="968375" y="38545"/>
                    <a:pt x="987933" y="33592"/>
                  </a:cubicBezTo>
                  <a:cubicBezTo>
                    <a:pt x="1007491" y="28639"/>
                    <a:pt x="1020826" y="26162"/>
                    <a:pt x="1027938" y="26162"/>
                  </a:cubicBezTo>
                  <a:cubicBezTo>
                    <a:pt x="1039622" y="26162"/>
                    <a:pt x="1051941" y="30925"/>
                    <a:pt x="1064895" y="40450"/>
                  </a:cubicBezTo>
                  <a:cubicBezTo>
                    <a:pt x="1077849" y="49975"/>
                    <a:pt x="1084326" y="59309"/>
                    <a:pt x="1084326" y="68453"/>
                  </a:cubicBezTo>
                  <a:cubicBezTo>
                    <a:pt x="1084326" y="70739"/>
                    <a:pt x="1083882" y="73025"/>
                    <a:pt x="1082993" y="75311"/>
                  </a:cubicBezTo>
                  <a:cubicBezTo>
                    <a:pt x="1082104" y="77597"/>
                    <a:pt x="1078675" y="83439"/>
                    <a:pt x="1072706" y="92837"/>
                  </a:cubicBezTo>
                  <a:cubicBezTo>
                    <a:pt x="1066737" y="102235"/>
                    <a:pt x="1061593" y="108966"/>
                    <a:pt x="1057275" y="113030"/>
                  </a:cubicBezTo>
                  <a:cubicBezTo>
                    <a:pt x="1052957" y="117094"/>
                    <a:pt x="1047750" y="121539"/>
                    <a:pt x="1041654" y="126365"/>
                  </a:cubicBezTo>
                  <a:cubicBezTo>
                    <a:pt x="1042162" y="136525"/>
                    <a:pt x="1034669" y="141605"/>
                    <a:pt x="1019175" y="141605"/>
                  </a:cubicBezTo>
                  <a:cubicBezTo>
                    <a:pt x="1014349" y="141605"/>
                    <a:pt x="1010666" y="141986"/>
                    <a:pt x="1008126" y="142748"/>
                  </a:cubicBezTo>
                  <a:lnTo>
                    <a:pt x="1008126" y="157607"/>
                  </a:lnTo>
                  <a:cubicBezTo>
                    <a:pt x="1027176" y="155321"/>
                    <a:pt x="1040003" y="154178"/>
                    <a:pt x="1046607" y="154178"/>
                  </a:cubicBezTo>
                  <a:cubicBezTo>
                    <a:pt x="1053211" y="154178"/>
                    <a:pt x="1060704" y="156655"/>
                    <a:pt x="1069086" y="161608"/>
                  </a:cubicBezTo>
                  <a:cubicBezTo>
                    <a:pt x="1077468" y="166561"/>
                    <a:pt x="1081659" y="170752"/>
                    <a:pt x="1081659" y="174181"/>
                  </a:cubicBezTo>
                  <a:cubicBezTo>
                    <a:pt x="1081659" y="177610"/>
                    <a:pt x="1080262" y="180467"/>
                    <a:pt x="1077468" y="182753"/>
                  </a:cubicBezTo>
                  <a:cubicBezTo>
                    <a:pt x="1074674" y="185039"/>
                    <a:pt x="1071436" y="186182"/>
                    <a:pt x="1067753" y="186182"/>
                  </a:cubicBezTo>
                  <a:cubicBezTo>
                    <a:pt x="1064070" y="186182"/>
                    <a:pt x="1060450" y="185674"/>
                    <a:pt x="1056894" y="184658"/>
                  </a:cubicBezTo>
                  <a:cubicBezTo>
                    <a:pt x="1041908" y="180086"/>
                    <a:pt x="1028700" y="177800"/>
                    <a:pt x="1017270" y="177800"/>
                  </a:cubicBezTo>
                  <a:cubicBezTo>
                    <a:pt x="1013968" y="177800"/>
                    <a:pt x="1011174" y="178054"/>
                    <a:pt x="1008888" y="178562"/>
                  </a:cubicBezTo>
                  <a:cubicBezTo>
                    <a:pt x="1009396" y="189484"/>
                    <a:pt x="1010031" y="198374"/>
                    <a:pt x="1010793" y="205232"/>
                  </a:cubicBezTo>
                  <a:cubicBezTo>
                    <a:pt x="1024255" y="208280"/>
                    <a:pt x="1036130" y="209868"/>
                    <a:pt x="1046417" y="209995"/>
                  </a:cubicBezTo>
                  <a:cubicBezTo>
                    <a:pt x="1056704" y="210122"/>
                    <a:pt x="1066038" y="213741"/>
                    <a:pt x="1074420" y="220853"/>
                  </a:cubicBezTo>
                  <a:cubicBezTo>
                    <a:pt x="1082802" y="227965"/>
                    <a:pt x="1086993" y="235204"/>
                    <a:pt x="1086993" y="242570"/>
                  </a:cubicBezTo>
                  <a:cubicBezTo>
                    <a:pt x="1086993" y="247396"/>
                    <a:pt x="1085723" y="251968"/>
                    <a:pt x="1083183" y="256286"/>
                  </a:cubicBezTo>
                  <a:cubicBezTo>
                    <a:pt x="1080643" y="260604"/>
                    <a:pt x="1076579" y="262763"/>
                    <a:pt x="1070991" y="262763"/>
                  </a:cubicBezTo>
                  <a:cubicBezTo>
                    <a:pt x="1061847" y="262763"/>
                    <a:pt x="1049655" y="250698"/>
                    <a:pt x="1034415" y="226568"/>
                  </a:cubicBezTo>
                  <a:cubicBezTo>
                    <a:pt x="1026795" y="214630"/>
                    <a:pt x="1018921" y="208534"/>
                    <a:pt x="1010793" y="208280"/>
                  </a:cubicBezTo>
                  <a:cubicBezTo>
                    <a:pt x="1011809" y="221234"/>
                    <a:pt x="1012317" y="232156"/>
                    <a:pt x="1012317" y="241046"/>
                  </a:cubicBezTo>
                  <a:cubicBezTo>
                    <a:pt x="1012317" y="259334"/>
                    <a:pt x="1009841" y="273431"/>
                    <a:pt x="1004888" y="283337"/>
                  </a:cubicBezTo>
                  <a:cubicBezTo>
                    <a:pt x="999935" y="293243"/>
                    <a:pt x="995172" y="298196"/>
                    <a:pt x="990600" y="298196"/>
                  </a:cubicBezTo>
                  <a:cubicBezTo>
                    <a:pt x="988822" y="298196"/>
                    <a:pt x="987425" y="297434"/>
                    <a:pt x="986409" y="295910"/>
                  </a:cubicBezTo>
                  <a:cubicBezTo>
                    <a:pt x="980567" y="287528"/>
                    <a:pt x="975043" y="280861"/>
                    <a:pt x="969836" y="275908"/>
                  </a:cubicBezTo>
                  <a:cubicBezTo>
                    <a:pt x="964629" y="270955"/>
                    <a:pt x="960438" y="266256"/>
                    <a:pt x="957263" y="261811"/>
                  </a:cubicBezTo>
                  <a:cubicBezTo>
                    <a:pt x="954088" y="257366"/>
                    <a:pt x="950722" y="250952"/>
                    <a:pt x="947166" y="242570"/>
                  </a:cubicBezTo>
                  <a:cubicBezTo>
                    <a:pt x="941324" y="245872"/>
                    <a:pt x="937197" y="248793"/>
                    <a:pt x="934784" y="251333"/>
                  </a:cubicBezTo>
                  <a:cubicBezTo>
                    <a:pt x="932371" y="253873"/>
                    <a:pt x="929577" y="258255"/>
                    <a:pt x="926402" y="264478"/>
                  </a:cubicBezTo>
                  <a:cubicBezTo>
                    <a:pt x="923227" y="270701"/>
                    <a:pt x="920179" y="273812"/>
                    <a:pt x="917258" y="273812"/>
                  </a:cubicBezTo>
                  <a:cubicBezTo>
                    <a:pt x="914337" y="273812"/>
                    <a:pt x="911924" y="270701"/>
                    <a:pt x="910019" y="264478"/>
                  </a:cubicBezTo>
                  <a:cubicBezTo>
                    <a:pt x="908114" y="258255"/>
                    <a:pt x="907161" y="251968"/>
                    <a:pt x="907161" y="245618"/>
                  </a:cubicBezTo>
                  <a:cubicBezTo>
                    <a:pt x="907161" y="239268"/>
                    <a:pt x="908050" y="234379"/>
                    <a:pt x="909828" y="230950"/>
                  </a:cubicBezTo>
                  <a:cubicBezTo>
                    <a:pt x="911606" y="227521"/>
                    <a:pt x="912940" y="223266"/>
                    <a:pt x="913829" y="218186"/>
                  </a:cubicBezTo>
                  <a:cubicBezTo>
                    <a:pt x="914718" y="213106"/>
                    <a:pt x="916369" y="209487"/>
                    <a:pt x="918782" y="207328"/>
                  </a:cubicBezTo>
                  <a:cubicBezTo>
                    <a:pt x="921195" y="205169"/>
                    <a:pt x="923481" y="204089"/>
                    <a:pt x="925640" y="204089"/>
                  </a:cubicBezTo>
                  <a:cubicBezTo>
                    <a:pt x="927799" y="204089"/>
                    <a:pt x="930148" y="207137"/>
                    <a:pt x="932688" y="213233"/>
                  </a:cubicBezTo>
                  <a:cubicBezTo>
                    <a:pt x="930656" y="213487"/>
                    <a:pt x="929640" y="214757"/>
                    <a:pt x="929640" y="217043"/>
                  </a:cubicBezTo>
                  <a:cubicBezTo>
                    <a:pt x="929640" y="223393"/>
                    <a:pt x="930593" y="226568"/>
                    <a:pt x="932498" y="226568"/>
                  </a:cubicBezTo>
                  <a:cubicBezTo>
                    <a:pt x="934403" y="226568"/>
                    <a:pt x="936625" y="225806"/>
                    <a:pt x="939165" y="224282"/>
                  </a:cubicBezTo>
                  <a:cubicBezTo>
                    <a:pt x="937133" y="220472"/>
                    <a:pt x="935863" y="216916"/>
                    <a:pt x="935355" y="213614"/>
                  </a:cubicBezTo>
                  <a:cubicBezTo>
                    <a:pt x="939419" y="218186"/>
                    <a:pt x="942340" y="221234"/>
                    <a:pt x="944118" y="222758"/>
                  </a:cubicBezTo>
                  <a:cubicBezTo>
                    <a:pt x="962914" y="213868"/>
                    <a:pt x="976249" y="208788"/>
                    <a:pt x="984123" y="207518"/>
                  </a:cubicBezTo>
                  <a:cubicBezTo>
                    <a:pt x="984377" y="197358"/>
                    <a:pt x="984377" y="189230"/>
                    <a:pt x="984123" y="183134"/>
                  </a:cubicBezTo>
                  <a:cubicBezTo>
                    <a:pt x="971169" y="185928"/>
                    <a:pt x="953770" y="191389"/>
                    <a:pt x="931926" y="199517"/>
                  </a:cubicBezTo>
                  <a:cubicBezTo>
                    <a:pt x="925830" y="201803"/>
                    <a:pt x="920560" y="202946"/>
                    <a:pt x="916115" y="202946"/>
                  </a:cubicBezTo>
                  <a:cubicBezTo>
                    <a:pt x="911670" y="202946"/>
                    <a:pt x="907288" y="201803"/>
                    <a:pt x="902970" y="199517"/>
                  </a:cubicBezTo>
                  <a:cubicBezTo>
                    <a:pt x="898906" y="208407"/>
                    <a:pt x="896239" y="217107"/>
                    <a:pt x="894969" y="225616"/>
                  </a:cubicBezTo>
                  <a:cubicBezTo>
                    <a:pt x="893699" y="234125"/>
                    <a:pt x="890778" y="242697"/>
                    <a:pt x="886206" y="251333"/>
                  </a:cubicBezTo>
                  <a:cubicBezTo>
                    <a:pt x="883158" y="257175"/>
                    <a:pt x="881634" y="266065"/>
                    <a:pt x="881634" y="278003"/>
                  </a:cubicBezTo>
                  <a:cubicBezTo>
                    <a:pt x="881634" y="283337"/>
                    <a:pt x="880110" y="286004"/>
                    <a:pt x="877062" y="286004"/>
                  </a:cubicBezTo>
                  <a:cubicBezTo>
                    <a:pt x="871982" y="286004"/>
                    <a:pt x="866013" y="280035"/>
                    <a:pt x="859155" y="268097"/>
                  </a:cubicBezTo>
                  <a:cubicBezTo>
                    <a:pt x="852297" y="256159"/>
                    <a:pt x="848868" y="245364"/>
                    <a:pt x="848868" y="235712"/>
                  </a:cubicBezTo>
                  <a:lnTo>
                    <a:pt x="850011" y="211328"/>
                  </a:lnTo>
                  <a:cubicBezTo>
                    <a:pt x="850265" y="201930"/>
                    <a:pt x="850392" y="189548"/>
                    <a:pt x="850392" y="174181"/>
                  </a:cubicBezTo>
                  <a:cubicBezTo>
                    <a:pt x="850392" y="158814"/>
                    <a:pt x="849757" y="151130"/>
                    <a:pt x="848487" y="151130"/>
                  </a:cubicBezTo>
                  <a:cubicBezTo>
                    <a:pt x="847725" y="151130"/>
                    <a:pt x="846709" y="152273"/>
                    <a:pt x="845439" y="154559"/>
                  </a:cubicBezTo>
                  <a:cubicBezTo>
                    <a:pt x="842391" y="160401"/>
                    <a:pt x="836740" y="166497"/>
                    <a:pt x="828485" y="172847"/>
                  </a:cubicBezTo>
                  <a:cubicBezTo>
                    <a:pt x="820230" y="179197"/>
                    <a:pt x="811721" y="182372"/>
                    <a:pt x="802958" y="182372"/>
                  </a:cubicBezTo>
                  <a:cubicBezTo>
                    <a:pt x="794195" y="182372"/>
                    <a:pt x="787781" y="178689"/>
                    <a:pt x="783717" y="171323"/>
                  </a:cubicBezTo>
                  <a:cubicBezTo>
                    <a:pt x="779653" y="163957"/>
                    <a:pt x="777621" y="155448"/>
                    <a:pt x="777621" y="145796"/>
                  </a:cubicBezTo>
                  <a:cubicBezTo>
                    <a:pt x="777621" y="136144"/>
                    <a:pt x="781939" y="125794"/>
                    <a:pt x="790575" y="114745"/>
                  </a:cubicBezTo>
                  <a:cubicBezTo>
                    <a:pt x="799211" y="103696"/>
                    <a:pt x="813816" y="89980"/>
                    <a:pt x="834390" y="73597"/>
                  </a:cubicBezTo>
                  <a:cubicBezTo>
                    <a:pt x="854964" y="57214"/>
                    <a:pt x="865251" y="46228"/>
                    <a:pt x="865251" y="40640"/>
                  </a:cubicBezTo>
                  <a:cubicBezTo>
                    <a:pt x="865251" y="39370"/>
                    <a:pt x="864934" y="38418"/>
                    <a:pt x="864299" y="37783"/>
                  </a:cubicBezTo>
                  <a:cubicBezTo>
                    <a:pt x="863664" y="37148"/>
                    <a:pt x="860425" y="34100"/>
                    <a:pt x="854583" y="28639"/>
                  </a:cubicBezTo>
                  <a:cubicBezTo>
                    <a:pt x="848741" y="23178"/>
                    <a:pt x="845820" y="20066"/>
                    <a:pt x="845820" y="19304"/>
                  </a:cubicBezTo>
                  <a:cubicBezTo>
                    <a:pt x="845820" y="18034"/>
                    <a:pt x="848868" y="17082"/>
                    <a:pt x="854964" y="16447"/>
                  </a:cubicBezTo>
                  <a:cubicBezTo>
                    <a:pt x="861060" y="15812"/>
                    <a:pt x="865632" y="15494"/>
                    <a:pt x="868680" y="15494"/>
                  </a:cubicBezTo>
                  <a:close/>
                  <a:moveTo>
                    <a:pt x="587121" y="4064"/>
                  </a:moveTo>
                  <a:cubicBezTo>
                    <a:pt x="605917" y="4064"/>
                    <a:pt x="615315" y="12065"/>
                    <a:pt x="615315" y="28067"/>
                  </a:cubicBezTo>
                  <a:cubicBezTo>
                    <a:pt x="615315" y="31369"/>
                    <a:pt x="614807" y="34925"/>
                    <a:pt x="613791" y="38735"/>
                  </a:cubicBezTo>
                  <a:cubicBezTo>
                    <a:pt x="617855" y="38735"/>
                    <a:pt x="621348" y="38227"/>
                    <a:pt x="624269" y="37211"/>
                  </a:cubicBezTo>
                  <a:cubicBezTo>
                    <a:pt x="627190" y="36195"/>
                    <a:pt x="629603" y="35687"/>
                    <a:pt x="631508" y="35687"/>
                  </a:cubicBezTo>
                  <a:cubicBezTo>
                    <a:pt x="633413" y="35687"/>
                    <a:pt x="637096" y="37402"/>
                    <a:pt x="642557" y="40831"/>
                  </a:cubicBezTo>
                  <a:cubicBezTo>
                    <a:pt x="648018" y="44260"/>
                    <a:pt x="651574" y="46990"/>
                    <a:pt x="653225" y="49022"/>
                  </a:cubicBezTo>
                  <a:cubicBezTo>
                    <a:pt x="654876" y="51054"/>
                    <a:pt x="655701" y="53340"/>
                    <a:pt x="655701" y="55880"/>
                  </a:cubicBezTo>
                  <a:cubicBezTo>
                    <a:pt x="655701" y="60960"/>
                    <a:pt x="653161" y="64135"/>
                    <a:pt x="648081" y="65405"/>
                  </a:cubicBezTo>
                  <a:cubicBezTo>
                    <a:pt x="630301" y="69469"/>
                    <a:pt x="616966" y="74041"/>
                    <a:pt x="608076" y="79121"/>
                  </a:cubicBezTo>
                  <a:lnTo>
                    <a:pt x="606171" y="92075"/>
                  </a:lnTo>
                  <a:cubicBezTo>
                    <a:pt x="619125" y="88773"/>
                    <a:pt x="631190" y="87122"/>
                    <a:pt x="642366" y="87122"/>
                  </a:cubicBezTo>
                  <a:cubicBezTo>
                    <a:pt x="660400" y="87122"/>
                    <a:pt x="672021" y="90996"/>
                    <a:pt x="677228" y="98743"/>
                  </a:cubicBezTo>
                  <a:cubicBezTo>
                    <a:pt x="682435" y="106490"/>
                    <a:pt x="685038" y="112459"/>
                    <a:pt x="685038" y="116650"/>
                  </a:cubicBezTo>
                  <a:cubicBezTo>
                    <a:pt x="685038" y="120841"/>
                    <a:pt x="684340" y="123889"/>
                    <a:pt x="682943" y="125794"/>
                  </a:cubicBezTo>
                  <a:cubicBezTo>
                    <a:pt x="681546" y="127699"/>
                    <a:pt x="679450" y="128905"/>
                    <a:pt x="676656" y="129413"/>
                  </a:cubicBezTo>
                  <a:lnTo>
                    <a:pt x="661797" y="132461"/>
                  </a:lnTo>
                  <a:cubicBezTo>
                    <a:pt x="651129" y="134493"/>
                    <a:pt x="643890" y="136017"/>
                    <a:pt x="640080" y="137033"/>
                  </a:cubicBezTo>
                  <a:cubicBezTo>
                    <a:pt x="624586" y="141605"/>
                    <a:pt x="613791" y="143256"/>
                    <a:pt x="607695" y="141986"/>
                  </a:cubicBezTo>
                  <a:cubicBezTo>
                    <a:pt x="603377" y="141224"/>
                    <a:pt x="600075" y="140843"/>
                    <a:pt x="597789" y="140843"/>
                  </a:cubicBezTo>
                  <a:cubicBezTo>
                    <a:pt x="591185" y="140843"/>
                    <a:pt x="587883" y="142113"/>
                    <a:pt x="587883" y="144653"/>
                  </a:cubicBezTo>
                  <a:cubicBezTo>
                    <a:pt x="587883" y="145669"/>
                    <a:pt x="588645" y="146558"/>
                    <a:pt x="590169" y="147320"/>
                  </a:cubicBezTo>
                  <a:cubicBezTo>
                    <a:pt x="595757" y="150622"/>
                    <a:pt x="598551" y="153924"/>
                    <a:pt x="598551" y="157226"/>
                  </a:cubicBezTo>
                  <a:cubicBezTo>
                    <a:pt x="598551" y="158496"/>
                    <a:pt x="598043" y="159639"/>
                    <a:pt x="597027" y="160655"/>
                  </a:cubicBezTo>
                  <a:cubicBezTo>
                    <a:pt x="592455" y="165227"/>
                    <a:pt x="586486" y="172466"/>
                    <a:pt x="579120" y="182372"/>
                  </a:cubicBezTo>
                  <a:cubicBezTo>
                    <a:pt x="585470" y="185928"/>
                    <a:pt x="592074" y="190119"/>
                    <a:pt x="598932" y="194945"/>
                  </a:cubicBezTo>
                  <a:cubicBezTo>
                    <a:pt x="603504" y="179451"/>
                    <a:pt x="605790" y="169418"/>
                    <a:pt x="605790" y="164846"/>
                  </a:cubicBezTo>
                  <a:cubicBezTo>
                    <a:pt x="605790" y="160274"/>
                    <a:pt x="605155" y="157671"/>
                    <a:pt x="603885" y="157036"/>
                  </a:cubicBezTo>
                  <a:cubicBezTo>
                    <a:pt x="602615" y="156401"/>
                    <a:pt x="601980" y="155448"/>
                    <a:pt x="601980" y="154178"/>
                  </a:cubicBezTo>
                  <a:cubicBezTo>
                    <a:pt x="601980" y="152908"/>
                    <a:pt x="603060" y="151638"/>
                    <a:pt x="605219" y="150368"/>
                  </a:cubicBezTo>
                  <a:cubicBezTo>
                    <a:pt x="607378" y="149098"/>
                    <a:pt x="609981" y="148463"/>
                    <a:pt x="613029" y="148463"/>
                  </a:cubicBezTo>
                  <a:cubicBezTo>
                    <a:pt x="623951" y="148463"/>
                    <a:pt x="629412" y="151384"/>
                    <a:pt x="629412" y="157226"/>
                  </a:cubicBezTo>
                  <a:cubicBezTo>
                    <a:pt x="629412" y="164338"/>
                    <a:pt x="628460" y="169545"/>
                    <a:pt x="626555" y="172847"/>
                  </a:cubicBezTo>
                  <a:cubicBezTo>
                    <a:pt x="624650" y="176149"/>
                    <a:pt x="620776" y="188976"/>
                    <a:pt x="614934" y="211328"/>
                  </a:cubicBezTo>
                  <a:cubicBezTo>
                    <a:pt x="637286" y="206502"/>
                    <a:pt x="651891" y="204089"/>
                    <a:pt x="658749" y="204089"/>
                  </a:cubicBezTo>
                  <a:cubicBezTo>
                    <a:pt x="665607" y="204089"/>
                    <a:pt x="671259" y="206566"/>
                    <a:pt x="675704" y="211519"/>
                  </a:cubicBezTo>
                  <a:cubicBezTo>
                    <a:pt x="680149" y="216472"/>
                    <a:pt x="682371" y="220345"/>
                    <a:pt x="682371" y="223139"/>
                  </a:cubicBezTo>
                  <a:cubicBezTo>
                    <a:pt x="682371" y="227457"/>
                    <a:pt x="679450" y="229616"/>
                    <a:pt x="673608" y="229616"/>
                  </a:cubicBezTo>
                  <a:cubicBezTo>
                    <a:pt x="672084" y="229616"/>
                    <a:pt x="670306" y="229362"/>
                    <a:pt x="668274" y="228854"/>
                  </a:cubicBezTo>
                  <a:cubicBezTo>
                    <a:pt x="659130" y="226568"/>
                    <a:pt x="650113" y="225425"/>
                    <a:pt x="641223" y="225425"/>
                  </a:cubicBezTo>
                  <a:cubicBezTo>
                    <a:pt x="632333" y="225425"/>
                    <a:pt x="621919" y="226568"/>
                    <a:pt x="609981" y="228854"/>
                  </a:cubicBezTo>
                  <a:cubicBezTo>
                    <a:pt x="601599" y="255270"/>
                    <a:pt x="591122" y="274320"/>
                    <a:pt x="578549" y="286004"/>
                  </a:cubicBezTo>
                  <a:cubicBezTo>
                    <a:pt x="565976" y="297688"/>
                    <a:pt x="549529" y="303530"/>
                    <a:pt x="529209" y="303530"/>
                  </a:cubicBezTo>
                  <a:cubicBezTo>
                    <a:pt x="525399" y="303530"/>
                    <a:pt x="522986" y="303276"/>
                    <a:pt x="521970" y="302768"/>
                  </a:cubicBezTo>
                  <a:cubicBezTo>
                    <a:pt x="520954" y="302260"/>
                    <a:pt x="520446" y="301371"/>
                    <a:pt x="520446" y="300101"/>
                  </a:cubicBezTo>
                  <a:cubicBezTo>
                    <a:pt x="520446" y="297561"/>
                    <a:pt x="521970" y="295656"/>
                    <a:pt x="525018" y="294386"/>
                  </a:cubicBezTo>
                  <a:cubicBezTo>
                    <a:pt x="541528" y="288544"/>
                    <a:pt x="554419" y="280797"/>
                    <a:pt x="563690" y="271145"/>
                  </a:cubicBezTo>
                  <a:cubicBezTo>
                    <a:pt x="572961" y="261493"/>
                    <a:pt x="580263" y="249555"/>
                    <a:pt x="585597" y="235331"/>
                  </a:cubicBezTo>
                  <a:cubicBezTo>
                    <a:pt x="577977" y="238125"/>
                    <a:pt x="562229" y="245237"/>
                    <a:pt x="538353" y="256667"/>
                  </a:cubicBezTo>
                  <a:cubicBezTo>
                    <a:pt x="527685" y="261747"/>
                    <a:pt x="520383" y="264287"/>
                    <a:pt x="516446" y="264287"/>
                  </a:cubicBezTo>
                  <a:cubicBezTo>
                    <a:pt x="512509" y="264287"/>
                    <a:pt x="508127" y="262446"/>
                    <a:pt x="503301" y="258763"/>
                  </a:cubicBezTo>
                  <a:cubicBezTo>
                    <a:pt x="498475" y="255080"/>
                    <a:pt x="496062" y="252540"/>
                    <a:pt x="496062" y="251143"/>
                  </a:cubicBezTo>
                  <a:cubicBezTo>
                    <a:pt x="496062" y="249746"/>
                    <a:pt x="497205" y="248920"/>
                    <a:pt x="499491" y="248666"/>
                  </a:cubicBezTo>
                  <a:cubicBezTo>
                    <a:pt x="504571" y="248158"/>
                    <a:pt x="509397" y="246507"/>
                    <a:pt x="513969" y="243713"/>
                  </a:cubicBezTo>
                  <a:cubicBezTo>
                    <a:pt x="524891" y="237363"/>
                    <a:pt x="542544" y="230505"/>
                    <a:pt x="566928" y="223139"/>
                  </a:cubicBezTo>
                  <a:cubicBezTo>
                    <a:pt x="566166" y="221361"/>
                    <a:pt x="564833" y="220472"/>
                    <a:pt x="562928" y="220472"/>
                  </a:cubicBezTo>
                  <a:cubicBezTo>
                    <a:pt x="561023" y="220472"/>
                    <a:pt x="557911" y="221171"/>
                    <a:pt x="553593" y="222568"/>
                  </a:cubicBezTo>
                  <a:cubicBezTo>
                    <a:pt x="549275" y="223965"/>
                    <a:pt x="545846" y="225362"/>
                    <a:pt x="543306" y="226759"/>
                  </a:cubicBezTo>
                  <a:cubicBezTo>
                    <a:pt x="540766" y="228156"/>
                    <a:pt x="539179" y="228854"/>
                    <a:pt x="538544" y="228854"/>
                  </a:cubicBezTo>
                  <a:cubicBezTo>
                    <a:pt x="537909" y="228854"/>
                    <a:pt x="537591" y="228727"/>
                    <a:pt x="537591" y="228473"/>
                  </a:cubicBezTo>
                  <a:cubicBezTo>
                    <a:pt x="537591" y="226949"/>
                    <a:pt x="543179" y="222885"/>
                    <a:pt x="554355" y="216281"/>
                  </a:cubicBezTo>
                  <a:cubicBezTo>
                    <a:pt x="545973" y="213741"/>
                    <a:pt x="540766" y="211392"/>
                    <a:pt x="538734" y="209233"/>
                  </a:cubicBezTo>
                  <a:cubicBezTo>
                    <a:pt x="536702" y="207074"/>
                    <a:pt x="535686" y="202946"/>
                    <a:pt x="535686" y="196850"/>
                  </a:cubicBezTo>
                  <a:cubicBezTo>
                    <a:pt x="535686" y="190754"/>
                    <a:pt x="536702" y="186690"/>
                    <a:pt x="538734" y="184658"/>
                  </a:cubicBezTo>
                  <a:cubicBezTo>
                    <a:pt x="540766" y="182626"/>
                    <a:pt x="544703" y="181737"/>
                    <a:pt x="550545" y="181991"/>
                  </a:cubicBezTo>
                  <a:cubicBezTo>
                    <a:pt x="552069" y="178689"/>
                    <a:pt x="554165" y="176213"/>
                    <a:pt x="556832" y="174562"/>
                  </a:cubicBezTo>
                  <a:cubicBezTo>
                    <a:pt x="559499" y="172911"/>
                    <a:pt x="560832" y="171514"/>
                    <a:pt x="560832" y="170371"/>
                  </a:cubicBezTo>
                  <a:cubicBezTo>
                    <a:pt x="560832" y="169228"/>
                    <a:pt x="559181" y="167767"/>
                    <a:pt x="555879" y="165989"/>
                  </a:cubicBezTo>
                  <a:cubicBezTo>
                    <a:pt x="549783" y="162179"/>
                    <a:pt x="546735" y="157544"/>
                    <a:pt x="546735" y="152083"/>
                  </a:cubicBezTo>
                  <a:cubicBezTo>
                    <a:pt x="546735" y="146622"/>
                    <a:pt x="549148" y="143637"/>
                    <a:pt x="553974" y="143129"/>
                  </a:cubicBezTo>
                  <a:cubicBezTo>
                    <a:pt x="581152" y="140843"/>
                    <a:pt x="603377" y="134620"/>
                    <a:pt x="620649" y="124460"/>
                  </a:cubicBezTo>
                  <a:cubicBezTo>
                    <a:pt x="637921" y="114300"/>
                    <a:pt x="646557" y="107696"/>
                    <a:pt x="646557" y="104648"/>
                  </a:cubicBezTo>
                  <a:cubicBezTo>
                    <a:pt x="646557" y="103124"/>
                    <a:pt x="644652" y="102362"/>
                    <a:pt x="640842" y="102362"/>
                  </a:cubicBezTo>
                  <a:cubicBezTo>
                    <a:pt x="631190" y="102362"/>
                    <a:pt x="623189" y="103251"/>
                    <a:pt x="616839" y="105029"/>
                  </a:cubicBezTo>
                  <a:cubicBezTo>
                    <a:pt x="610489" y="106807"/>
                    <a:pt x="601726" y="110744"/>
                    <a:pt x="590550" y="116840"/>
                  </a:cubicBezTo>
                  <a:cubicBezTo>
                    <a:pt x="558800" y="134620"/>
                    <a:pt x="538798" y="145669"/>
                    <a:pt x="530543" y="149987"/>
                  </a:cubicBezTo>
                  <a:cubicBezTo>
                    <a:pt x="522288" y="154305"/>
                    <a:pt x="517398" y="156464"/>
                    <a:pt x="515874" y="156464"/>
                  </a:cubicBezTo>
                  <a:cubicBezTo>
                    <a:pt x="512318" y="156464"/>
                    <a:pt x="509461" y="152591"/>
                    <a:pt x="507302" y="144844"/>
                  </a:cubicBezTo>
                  <a:cubicBezTo>
                    <a:pt x="505143" y="137097"/>
                    <a:pt x="504063" y="132080"/>
                    <a:pt x="504063" y="129794"/>
                  </a:cubicBezTo>
                  <a:cubicBezTo>
                    <a:pt x="504063" y="124460"/>
                    <a:pt x="505968" y="121793"/>
                    <a:pt x="509778" y="121793"/>
                  </a:cubicBezTo>
                  <a:cubicBezTo>
                    <a:pt x="511302" y="121793"/>
                    <a:pt x="512445" y="122301"/>
                    <a:pt x="513207" y="123317"/>
                  </a:cubicBezTo>
                  <a:cubicBezTo>
                    <a:pt x="513969" y="124333"/>
                    <a:pt x="514985" y="124841"/>
                    <a:pt x="516255" y="124841"/>
                  </a:cubicBezTo>
                  <a:cubicBezTo>
                    <a:pt x="521081" y="124841"/>
                    <a:pt x="537718" y="118237"/>
                    <a:pt x="566166" y="105029"/>
                  </a:cubicBezTo>
                  <a:cubicBezTo>
                    <a:pt x="569214" y="100203"/>
                    <a:pt x="571373" y="94869"/>
                    <a:pt x="572643" y="89027"/>
                  </a:cubicBezTo>
                  <a:cubicBezTo>
                    <a:pt x="565785" y="89027"/>
                    <a:pt x="558229" y="85535"/>
                    <a:pt x="549974" y="78550"/>
                  </a:cubicBezTo>
                  <a:cubicBezTo>
                    <a:pt x="541719" y="71565"/>
                    <a:pt x="537591" y="67374"/>
                    <a:pt x="537591" y="65977"/>
                  </a:cubicBezTo>
                  <a:cubicBezTo>
                    <a:pt x="537591" y="64580"/>
                    <a:pt x="538861" y="63881"/>
                    <a:pt x="541401" y="63881"/>
                  </a:cubicBezTo>
                  <a:lnTo>
                    <a:pt x="545592" y="63881"/>
                  </a:lnTo>
                  <a:cubicBezTo>
                    <a:pt x="554482" y="63881"/>
                    <a:pt x="565658" y="60960"/>
                    <a:pt x="579120" y="55118"/>
                  </a:cubicBezTo>
                  <a:cubicBezTo>
                    <a:pt x="579374" y="48768"/>
                    <a:pt x="579501" y="42863"/>
                    <a:pt x="579501" y="37402"/>
                  </a:cubicBezTo>
                  <a:cubicBezTo>
                    <a:pt x="579501" y="31941"/>
                    <a:pt x="578612" y="28194"/>
                    <a:pt x="576834" y="26162"/>
                  </a:cubicBezTo>
                  <a:cubicBezTo>
                    <a:pt x="575056" y="24130"/>
                    <a:pt x="571246" y="22860"/>
                    <a:pt x="565404" y="22352"/>
                  </a:cubicBezTo>
                  <a:cubicBezTo>
                    <a:pt x="562356" y="22098"/>
                    <a:pt x="560832" y="20384"/>
                    <a:pt x="560832" y="17209"/>
                  </a:cubicBezTo>
                  <a:cubicBezTo>
                    <a:pt x="560832" y="14034"/>
                    <a:pt x="562737" y="11049"/>
                    <a:pt x="566547" y="8255"/>
                  </a:cubicBezTo>
                  <a:cubicBezTo>
                    <a:pt x="570357" y="5461"/>
                    <a:pt x="577215" y="4064"/>
                    <a:pt x="587121" y="4064"/>
                  </a:cubicBezTo>
                  <a:close/>
                  <a:moveTo>
                    <a:pt x="1259586" y="1397"/>
                  </a:moveTo>
                  <a:cubicBezTo>
                    <a:pt x="1262888" y="1397"/>
                    <a:pt x="1270953" y="4699"/>
                    <a:pt x="1283780" y="11303"/>
                  </a:cubicBezTo>
                  <a:cubicBezTo>
                    <a:pt x="1296607" y="17907"/>
                    <a:pt x="1306132" y="24257"/>
                    <a:pt x="1312355" y="30353"/>
                  </a:cubicBezTo>
                  <a:cubicBezTo>
                    <a:pt x="1318578" y="36449"/>
                    <a:pt x="1321689" y="42736"/>
                    <a:pt x="1321689" y="49213"/>
                  </a:cubicBezTo>
                  <a:cubicBezTo>
                    <a:pt x="1321689" y="55690"/>
                    <a:pt x="1318387" y="63627"/>
                    <a:pt x="1311783" y="73025"/>
                  </a:cubicBezTo>
                  <a:cubicBezTo>
                    <a:pt x="1327023" y="64135"/>
                    <a:pt x="1337247" y="58738"/>
                    <a:pt x="1342454" y="56833"/>
                  </a:cubicBezTo>
                  <a:cubicBezTo>
                    <a:pt x="1347661" y="54928"/>
                    <a:pt x="1350645" y="52959"/>
                    <a:pt x="1351407" y="50927"/>
                  </a:cubicBezTo>
                  <a:cubicBezTo>
                    <a:pt x="1352423" y="48387"/>
                    <a:pt x="1356360" y="47117"/>
                    <a:pt x="1363218" y="47117"/>
                  </a:cubicBezTo>
                  <a:cubicBezTo>
                    <a:pt x="1370076" y="47117"/>
                    <a:pt x="1375855" y="49784"/>
                    <a:pt x="1380554" y="55118"/>
                  </a:cubicBezTo>
                  <a:cubicBezTo>
                    <a:pt x="1385253" y="60452"/>
                    <a:pt x="1387602" y="65278"/>
                    <a:pt x="1387602" y="69596"/>
                  </a:cubicBezTo>
                  <a:cubicBezTo>
                    <a:pt x="1387602" y="78994"/>
                    <a:pt x="1384427" y="83693"/>
                    <a:pt x="1378077" y="83693"/>
                  </a:cubicBezTo>
                  <a:cubicBezTo>
                    <a:pt x="1367663" y="83693"/>
                    <a:pt x="1352804" y="89535"/>
                    <a:pt x="1333500" y="101219"/>
                  </a:cubicBezTo>
                  <a:cubicBezTo>
                    <a:pt x="1335024" y="110363"/>
                    <a:pt x="1338707" y="119126"/>
                    <a:pt x="1344549" y="127508"/>
                  </a:cubicBezTo>
                  <a:cubicBezTo>
                    <a:pt x="1346581" y="130302"/>
                    <a:pt x="1347597" y="136652"/>
                    <a:pt x="1347597" y="146558"/>
                  </a:cubicBezTo>
                  <a:cubicBezTo>
                    <a:pt x="1347597" y="162814"/>
                    <a:pt x="1344930" y="177292"/>
                    <a:pt x="1339596" y="189992"/>
                  </a:cubicBezTo>
                  <a:cubicBezTo>
                    <a:pt x="1383030" y="211328"/>
                    <a:pt x="1409700" y="223647"/>
                    <a:pt x="1419606" y="226949"/>
                  </a:cubicBezTo>
                  <a:cubicBezTo>
                    <a:pt x="1429512" y="230251"/>
                    <a:pt x="1438593" y="238824"/>
                    <a:pt x="1446848" y="252667"/>
                  </a:cubicBezTo>
                  <a:cubicBezTo>
                    <a:pt x="1455103" y="266510"/>
                    <a:pt x="1459230" y="278892"/>
                    <a:pt x="1459230" y="289814"/>
                  </a:cubicBezTo>
                  <a:cubicBezTo>
                    <a:pt x="1459230" y="295402"/>
                    <a:pt x="1457008" y="298196"/>
                    <a:pt x="1452563" y="298196"/>
                  </a:cubicBezTo>
                  <a:cubicBezTo>
                    <a:pt x="1448118" y="298196"/>
                    <a:pt x="1436434" y="292735"/>
                    <a:pt x="1417511" y="281813"/>
                  </a:cubicBezTo>
                  <a:cubicBezTo>
                    <a:pt x="1398588" y="270891"/>
                    <a:pt x="1386205" y="262763"/>
                    <a:pt x="1380363" y="257429"/>
                  </a:cubicBezTo>
                  <a:cubicBezTo>
                    <a:pt x="1364615" y="243713"/>
                    <a:pt x="1345819" y="230505"/>
                    <a:pt x="1323975" y="217805"/>
                  </a:cubicBezTo>
                  <a:cubicBezTo>
                    <a:pt x="1313307" y="229997"/>
                    <a:pt x="1300163" y="239268"/>
                    <a:pt x="1284542" y="245618"/>
                  </a:cubicBezTo>
                  <a:cubicBezTo>
                    <a:pt x="1268921" y="251968"/>
                    <a:pt x="1252919" y="255143"/>
                    <a:pt x="1236536" y="255143"/>
                  </a:cubicBezTo>
                  <a:cubicBezTo>
                    <a:pt x="1220153" y="255143"/>
                    <a:pt x="1205421" y="253111"/>
                    <a:pt x="1192340" y="249047"/>
                  </a:cubicBezTo>
                  <a:cubicBezTo>
                    <a:pt x="1179259" y="244983"/>
                    <a:pt x="1169162" y="239840"/>
                    <a:pt x="1162050" y="233617"/>
                  </a:cubicBezTo>
                  <a:cubicBezTo>
                    <a:pt x="1154938" y="227394"/>
                    <a:pt x="1151382" y="222631"/>
                    <a:pt x="1151382" y="219329"/>
                  </a:cubicBezTo>
                  <a:cubicBezTo>
                    <a:pt x="1151382" y="217551"/>
                    <a:pt x="1152144" y="216662"/>
                    <a:pt x="1153668" y="216662"/>
                  </a:cubicBezTo>
                  <a:cubicBezTo>
                    <a:pt x="1155192" y="216662"/>
                    <a:pt x="1157224" y="218059"/>
                    <a:pt x="1159764" y="220853"/>
                  </a:cubicBezTo>
                  <a:cubicBezTo>
                    <a:pt x="1169162" y="231013"/>
                    <a:pt x="1185037" y="236093"/>
                    <a:pt x="1207389" y="236093"/>
                  </a:cubicBezTo>
                  <a:cubicBezTo>
                    <a:pt x="1224153" y="236093"/>
                    <a:pt x="1240282" y="233045"/>
                    <a:pt x="1255776" y="226949"/>
                  </a:cubicBezTo>
                  <a:cubicBezTo>
                    <a:pt x="1271270" y="220853"/>
                    <a:pt x="1282827" y="212471"/>
                    <a:pt x="1290447" y="201803"/>
                  </a:cubicBezTo>
                  <a:cubicBezTo>
                    <a:pt x="1271905" y="194945"/>
                    <a:pt x="1256094" y="187008"/>
                    <a:pt x="1243013" y="177991"/>
                  </a:cubicBezTo>
                  <a:cubicBezTo>
                    <a:pt x="1229932" y="168974"/>
                    <a:pt x="1216851" y="164465"/>
                    <a:pt x="1203770" y="164465"/>
                  </a:cubicBezTo>
                  <a:cubicBezTo>
                    <a:pt x="1190689" y="164465"/>
                    <a:pt x="1178941" y="168275"/>
                    <a:pt x="1168527" y="175895"/>
                  </a:cubicBezTo>
                  <a:cubicBezTo>
                    <a:pt x="1165987" y="177673"/>
                    <a:pt x="1164082" y="178562"/>
                    <a:pt x="1162812" y="178562"/>
                  </a:cubicBezTo>
                  <a:cubicBezTo>
                    <a:pt x="1161542" y="178562"/>
                    <a:pt x="1160907" y="178054"/>
                    <a:pt x="1160907" y="177038"/>
                  </a:cubicBezTo>
                  <a:cubicBezTo>
                    <a:pt x="1160907" y="173736"/>
                    <a:pt x="1165098" y="168466"/>
                    <a:pt x="1173480" y="161227"/>
                  </a:cubicBezTo>
                  <a:cubicBezTo>
                    <a:pt x="1181862" y="153988"/>
                    <a:pt x="1193165" y="150368"/>
                    <a:pt x="1207389" y="150368"/>
                  </a:cubicBezTo>
                  <a:cubicBezTo>
                    <a:pt x="1212469" y="150368"/>
                    <a:pt x="1217676" y="150876"/>
                    <a:pt x="1223010" y="151892"/>
                  </a:cubicBezTo>
                  <a:cubicBezTo>
                    <a:pt x="1228344" y="152908"/>
                    <a:pt x="1239584" y="155893"/>
                    <a:pt x="1256729" y="160846"/>
                  </a:cubicBezTo>
                  <a:cubicBezTo>
                    <a:pt x="1273874" y="165799"/>
                    <a:pt x="1289558" y="170688"/>
                    <a:pt x="1303782" y="175514"/>
                  </a:cubicBezTo>
                  <a:cubicBezTo>
                    <a:pt x="1311656" y="154178"/>
                    <a:pt x="1316101" y="132715"/>
                    <a:pt x="1317117" y="111125"/>
                  </a:cubicBezTo>
                  <a:cubicBezTo>
                    <a:pt x="1301369" y="122809"/>
                    <a:pt x="1288606" y="131064"/>
                    <a:pt x="1278827" y="135890"/>
                  </a:cubicBezTo>
                  <a:cubicBezTo>
                    <a:pt x="1269048" y="140716"/>
                    <a:pt x="1262444" y="143129"/>
                    <a:pt x="1259015" y="143129"/>
                  </a:cubicBezTo>
                  <a:cubicBezTo>
                    <a:pt x="1255586" y="143129"/>
                    <a:pt x="1252411" y="141986"/>
                    <a:pt x="1249490" y="139700"/>
                  </a:cubicBezTo>
                  <a:cubicBezTo>
                    <a:pt x="1246569" y="137414"/>
                    <a:pt x="1242759" y="132652"/>
                    <a:pt x="1238060" y="125413"/>
                  </a:cubicBezTo>
                  <a:cubicBezTo>
                    <a:pt x="1233361" y="118174"/>
                    <a:pt x="1231011" y="112649"/>
                    <a:pt x="1231011" y="108839"/>
                  </a:cubicBezTo>
                  <a:cubicBezTo>
                    <a:pt x="1231011" y="105029"/>
                    <a:pt x="1233043" y="100203"/>
                    <a:pt x="1237107" y="94361"/>
                  </a:cubicBezTo>
                  <a:cubicBezTo>
                    <a:pt x="1250061" y="75311"/>
                    <a:pt x="1258443" y="62357"/>
                    <a:pt x="1262253" y="55499"/>
                  </a:cubicBezTo>
                  <a:cubicBezTo>
                    <a:pt x="1266063" y="48641"/>
                    <a:pt x="1267968" y="43815"/>
                    <a:pt x="1267968" y="41021"/>
                  </a:cubicBezTo>
                  <a:cubicBezTo>
                    <a:pt x="1267968" y="38227"/>
                    <a:pt x="1267143" y="33084"/>
                    <a:pt x="1265492" y="25591"/>
                  </a:cubicBezTo>
                  <a:cubicBezTo>
                    <a:pt x="1263841" y="18098"/>
                    <a:pt x="1262126" y="12764"/>
                    <a:pt x="1260348" y="9589"/>
                  </a:cubicBezTo>
                  <a:cubicBezTo>
                    <a:pt x="1258570" y="6414"/>
                    <a:pt x="1257681" y="4255"/>
                    <a:pt x="1257681" y="3112"/>
                  </a:cubicBezTo>
                  <a:cubicBezTo>
                    <a:pt x="1257681" y="1969"/>
                    <a:pt x="1258316" y="1397"/>
                    <a:pt x="1259586" y="1397"/>
                  </a:cubicBezTo>
                  <a:close/>
                  <a:moveTo>
                    <a:pt x="95250" y="254"/>
                  </a:moveTo>
                  <a:cubicBezTo>
                    <a:pt x="101854" y="-254"/>
                    <a:pt x="109538" y="0"/>
                    <a:pt x="118301" y="1016"/>
                  </a:cubicBezTo>
                  <a:cubicBezTo>
                    <a:pt x="127064" y="2032"/>
                    <a:pt x="133668" y="3366"/>
                    <a:pt x="138113" y="5017"/>
                  </a:cubicBezTo>
                  <a:cubicBezTo>
                    <a:pt x="142558" y="6668"/>
                    <a:pt x="146495" y="9271"/>
                    <a:pt x="149924" y="12827"/>
                  </a:cubicBezTo>
                  <a:cubicBezTo>
                    <a:pt x="153353" y="16383"/>
                    <a:pt x="156782" y="20828"/>
                    <a:pt x="160211" y="26162"/>
                  </a:cubicBezTo>
                  <a:cubicBezTo>
                    <a:pt x="163640" y="31496"/>
                    <a:pt x="165354" y="35052"/>
                    <a:pt x="165354" y="36830"/>
                  </a:cubicBezTo>
                  <a:cubicBezTo>
                    <a:pt x="165354" y="39878"/>
                    <a:pt x="163894" y="42291"/>
                    <a:pt x="160973" y="44069"/>
                  </a:cubicBezTo>
                  <a:cubicBezTo>
                    <a:pt x="158052" y="45847"/>
                    <a:pt x="152972" y="46736"/>
                    <a:pt x="145733" y="46736"/>
                  </a:cubicBezTo>
                  <a:cubicBezTo>
                    <a:pt x="138494" y="46736"/>
                    <a:pt x="133985" y="46165"/>
                    <a:pt x="132207" y="45022"/>
                  </a:cubicBezTo>
                  <a:cubicBezTo>
                    <a:pt x="130429" y="43879"/>
                    <a:pt x="128461" y="43307"/>
                    <a:pt x="126302" y="43307"/>
                  </a:cubicBezTo>
                  <a:cubicBezTo>
                    <a:pt x="124143" y="43307"/>
                    <a:pt x="121158" y="44196"/>
                    <a:pt x="117348" y="45974"/>
                  </a:cubicBezTo>
                  <a:cubicBezTo>
                    <a:pt x="106934" y="50292"/>
                    <a:pt x="99886" y="52451"/>
                    <a:pt x="96203" y="52451"/>
                  </a:cubicBezTo>
                  <a:cubicBezTo>
                    <a:pt x="92520" y="52451"/>
                    <a:pt x="89599" y="51943"/>
                    <a:pt x="87440" y="50927"/>
                  </a:cubicBezTo>
                  <a:cubicBezTo>
                    <a:pt x="85281" y="49911"/>
                    <a:pt x="82931" y="49403"/>
                    <a:pt x="80391" y="49403"/>
                  </a:cubicBezTo>
                  <a:cubicBezTo>
                    <a:pt x="77851" y="49403"/>
                    <a:pt x="72263" y="51308"/>
                    <a:pt x="63627" y="55118"/>
                  </a:cubicBezTo>
                  <a:cubicBezTo>
                    <a:pt x="80645" y="42926"/>
                    <a:pt x="91948" y="34354"/>
                    <a:pt x="97536" y="29401"/>
                  </a:cubicBezTo>
                  <a:cubicBezTo>
                    <a:pt x="103124" y="24448"/>
                    <a:pt x="105918" y="21082"/>
                    <a:pt x="105918" y="19304"/>
                  </a:cubicBezTo>
                  <a:cubicBezTo>
                    <a:pt x="105918" y="17526"/>
                    <a:pt x="105347" y="14796"/>
                    <a:pt x="104204" y="11113"/>
                  </a:cubicBezTo>
                  <a:cubicBezTo>
                    <a:pt x="103061" y="7430"/>
                    <a:pt x="100076" y="3810"/>
                    <a:pt x="95250" y="25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cxnSp>
        <p:nvCxnSpPr>
          <p:cNvPr id="248" name="直接连接符 10"/>
          <p:cNvCxnSpPr/>
          <p:nvPr/>
        </p:nvCxnSpPr>
        <p:spPr>
          <a:xfrm flipH="1">
            <a:off x="3132000" y="1215720"/>
            <a:ext cx="120960" cy="4640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49" name="直接连接符 16"/>
          <p:cNvCxnSpPr/>
          <p:nvPr/>
        </p:nvCxnSpPr>
        <p:spPr>
          <a:xfrm flipH="1">
            <a:off x="5829120" y="1215720"/>
            <a:ext cx="122760" cy="4640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0" name="直接连接符 17"/>
          <p:cNvCxnSpPr/>
          <p:nvPr/>
        </p:nvCxnSpPr>
        <p:spPr>
          <a:xfrm flipH="1">
            <a:off x="4852800" y="2147760"/>
            <a:ext cx="120960" cy="4622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1" name="直接连接符 18"/>
          <p:cNvCxnSpPr/>
          <p:nvPr/>
        </p:nvCxnSpPr>
        <p:spPr>
          <a:xfrm flipH="1">
            <a:off x="5580000" y="2147760"/>
            <a:ext cx="122400" cy="4622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2" name="直接连接符 19"/>
          <p:cNvCxnSpPr/>
          <p:nvPr/>
        </p:nvCxnSpPr>
        <p:spPr>
          <a:xfrm flipH="1">
            <a:off x="3132000" y="3109680"/>
            <a:ext cx="120960" cy="4622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3" name="直接连接符 20"/>
          <p:cNvCxnSpPr/>
          <p:nvPr/>
        </p:nvCxnSpPr>
        <p:spPr>
          <a:xfrm flipH="1">
            <a:off x="4638600" y="3109680"/>
            <a:ext cx="120960" cy="4622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4" name="直接连接符 21"/>
          <p:cNvCxnSpPr/>
          <p:nvPr/>
        </p:nvCxnSpPr>
        <p:spPr>
          <a:xfrm flipH="1">
            <a:off x="3350880" y="4047840"/>
            <a:ext cx="121320" cy="4640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255" name="直接连接符 22"/>
          <p:cNvCxnSpPr/>
          <p:nvPr/>
        </p:nvCxnSpPr>
        <p:spPr>
          <a:xfrm flipH="1">
            <a:off x="4797360" y="4047840"/>
            <a:ext cx="122400" cy="46404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</p:spTree>
  </p:cSld>
  <p:transition spd="slow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1"/>
          <p:cNvSpPr/>
          <p:nvPr/>
        </p:nvSpPr>
        <p:spPr>
          <a:xfrm>
            <a:off x="1220760" y="1487520"/>
            <a:ext cx="75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2664000" y="1487520"/>
            <a:ext cx="75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4108320" y="1487520"/>
            <a:ext cx="75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5551560" y="1487520"/>
            <a:ext cx="75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6996240" y="1487520"/>
            <a:ext cx="75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"/>
          <p:cNvGrpSpPr/>
          <p:nvPr/>
        </p:nvGrpSpPr>
        <p:grpSpPr>
          <a:xfrm>
            <a:off x="12600" y="50760"/>
            <a:ext cx="2179440" cy="712440"/>
            <a:chOff x="12600" y="50760"/>
            <a:chExt cx="2179440" cy="712440"/>
          </a:xfrm>
        </p:grpSpPr>
        <p:pic>
          <p:nvPicPr>
            <p:cNvPr id="262" name="图片 21" descr=""/>
            <p:cNvPicPr/>
            <p:nvPr/>
          </p:nvPicPr>
          <p:blipFill>
            <a:blip r:embed="rId1"/>
            <a:stretch/>
          </p:blipFill>
          <p:spPr>
            <a:xfrm>
              <a:off x="12600" y="50760"/>
              <a:ext cx="217944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任意多边形: 形状 12"/>
            <p:cNvSpPr/>
            <p:nvPr/>
          </p:nvSpPr>
          <p:spPr>
            <a:xfrm>
              <a:off x="420840" y="266760"/>
              <a:ext cx="1450440" cy="347400"/>
            </a:xfrm>
            <a:custGeom>
              <a:avLst/>
              <a:gdLst>
                <a:gd name="textAreaLeft" fmla="*/ 0 w 1450440"/>
                <a:gd name="textAreaRight" fmla="*/ 1450800 w 14504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51229" h="347091">
                  <a:moveTo>
                    <a:pt x="158496" y="218313"/>
                  </a:moveTo>
                  <a:cubicBezTo>
                    <a:pt x="154686" y="219075"/>
                    <a:pt x="149416" y="221044"/>
                    <a:pt x="142685" y="224219"/>
                  </a:cubicBezTo>
                  <a:cubicBezTo>
                    <a:pt x="135954" y="227394"/>
                    <a:pt x="124206" y="233617"/>
                    <a:pt x="107442" y="242888"/>
                  </a:cubicBezTo>
                  <a:cubicBezTo>
                    <a:pt x="90678" y="252159"/>
                    <a:pt x="81217" y="257747"/>
                    <a:pt x="79058" y="259652"/>
                  </a:cubicBezTo>
                  <a:cubicBezTo>
                    <a:pt x="76899" y="261557"/>
                    <a:pt x="75184" y="263589"/>
                    <a:pt x="73914" y="265748"/>
                  </a:cubicBezTo>
                  <a:cubicBezTo>
                    <a:pt x="72644" y="267907"/>
                    <a:pt x="72009" y="270320"/>
                    <a:pt x="72009" y="272987"/>
                  </a:cubicBezTo>
                  <a:cubicBezTo>
                    <a:pt x="72009" y="275654"/>
                    <a:pt x="72835" y="278321"/>
                    <a:pt x="74486" y="280988"/>
                  </a:cubicBezTo>
                  <a:cubicBezTo>
                    <a:pt x="76137" y="283655"/>
                    <a:pt x="80328" y="287211"/>
                    <a:pt x="87059" y="291656"/>
                  </a:cubicBezTo>
                  <a:cubicBezTo>
                    <a:pt x="93790" y="296101"/>
                    <a:pt x="101664" y="299593"/>
                    <a:pt x="110681" y="302133"/>
                  </a:cubicBezTo>
                  <a:cubicBezTo>
                    <a:pt x="119698" y="304673"/>
                    <a:pt x="126365" y="305943"/>
                    <a:pt x="130683" y="305943"/>
                  </a:cubicBezTo>
                  <a:cubicBezTo>
                    <a:pt x="141097" y="305943"/>
                    <a:pt x="148908" y="300355"/>
                    <a:pt x="154115" y="289179"/>
                  </a:cubicBezTo>
                  <a:cubicBezTo>
                    <a:pt x="159322" y="278003"/>
                    <a:pt x="162306" y="260985"/>
                    <a:pt x="163068" y="238125"/>
                  </a:cubicBezTo>
                  <a:cubicBezTo>
                    <a:pt x="157988" y="238887"/>
                    <a:pt x="153734" y="239268"/>
                    <a:pt x="150305" y="239268"/>
                  </a:cubicBezTo>
                  <a:cubicBezTo>
                    <a:pt x="146876" y="239268"/>
                    <a:pt x="145161" y="238760"/>
                    <a:pt x="145161" y="237744"/>
                  </a:cubicBezTo>
                  <a:cubicBezTo>
                    <a:pt x="145161" y="236728"/>
                    <a:pt x="146558" y="235458"/>
                    <a:pt x="149352" y="233934"/>
                  </a:cubicBezTo>
                  <a:cubicBezTo>
                    <a:pt x="156210" y="230378"/>
                    <a:pt x="159639" y="226695"/>
                    <a:pt x="159639" y="222885"/>
                  </a:cubicBezTo>
                  <a:cubicBezTo>
                    <a:pt x="159639" y="221361"/>
                    <a:pt x="159258" y="219837"/>
                    <a:pt x="158496" y="218313"/>
                  </a:cubicBezTo>
                  <a:close/>
                  <a:moveTo>
                    <a:pt x="576263" y="200025"/>
                  </a:moveTo>
                  <a:cubicBezTo>
                    <a:pt x="575120" y="200025"/>
                    <a:pt x="574040" y="200279"/>
                    <a:pt x="573024" y="200787"/>
                  </a:cubicBezTo>
                  <a:cubicBezTo>
                    <a:pt x="565150" y="205105"/>
                    <a:pt x="554482" y="209169"/>
                    <a:pt x="541020" y="212979"/>
                  </a:cubicBezTo>
                  <a:cubicBezTo>
                    <a:pt x="542798" y="218567"/>
                    <a:pt x="544195" y="224790"/>
                    <a:pt x="545211" y="231648"/>
                  </a:cubicBezTo>
                  <a:cubicBezTo>
                    <a:pt x="556133" y="229870"/>
                    <a:pt x="564325" y="225552"/>
                    <a:pt x="569786" y="218694"/>
                  </a:cubicBezTo>
                  <a:cubicBezTo>
                    <a:pt x="575247" y="211836"/>
                    <a:pt x="577977" y="207010"/>
                    <a:pt x="577977" y="204216"/>
                  </a:cubicBezTo>
                  <a:cubicBezTo>
                    <a:pt x="577977" y="201422"/>
                    <a:pt x="577406" y="200025"/>
                    <a:pt x="576263" y="200025"/>
                  </a:cubicBezTo>
                  <a:close/>
                  <a:moveTo>
                    <a:pt x="953643" y="199263"/>
                  </a:moveTo>
                  <a:cubicBezTo>
                    <a:pt x="954659" y="199263"/>
                    <a:pt x="955167" y="199644"/>
                    <a:pt x="955167" y="200406"/>
                  </a:cubicBezTo>
                  <a:cubicBezTo>
                    <a:pt x="955167" y="202184"/>
                    <a:pt x="950659" y="207582"/>
                    <a:pt x="941642" y="216599"/>
                  </a:cubicBezTo>
                  <a:cubicBezTo>
                    <a:pt x="932625" y="225616"/>
                    <a:pt x="921893" y="234823"/>
                    <a:pt x="909447" y="244221"/>
                  </a:cubicBezTo>
                  <a:cubicBezTo>
                    <a:pt x="905891" y="247015"/>
                    <a:pt x="903732" y="249301"/>
                    <a:pt x="902970" y="251079"/>
                  </a:cubicBezTo>
                  <a:cubicBezTo>
                    <a:pt x="902208" y="252857"/>
                    <a:pt x="901827" y="255969"/>
                    <a:pt x="901827" y="260414"/>
                  </a:cubicBezTo>
                  <a:cubicBezTo>
                    <a:pt x="901827" y="264859"/>
                    <a:pt x="900494" y="268859"/>
                    <a:pt x="897827" y="272415"/>
                  </a:cubicBezTo>
                  <a:cubicBezTo>
                    <a:pt x="895160" y="275971"/>
                    <a:pt x="892302" y="277749"/>
                    <a:pt x="889254" y="277749"/>
                  </a:cubicBezTo>
                  <a:cubicBezTo>
                    <a:pt x="880872" y="277749"/>
                    <a:pt x="875538" y="272796"/>
                    <a:pt x="873252" y="262890"/>
                  </a:cubicBezTo>
                  <a:cubicBezTo>
                    <a:pt x="872236" y="258064"/>
                    <a:pt x="870649" y="254572"/>
                    <a:pt x="868490" y="252413"/>
                  </a:cubicBezTo>
                  <a:cubicBezTo>
                    <a:pt x="866331" y="250254"/>
                    <a:pt x="865251" y="247142"/>
                    <a:pt x="865251" y="243078"/>
                  </a:cubicBezTo>
                  <a:cubicBezTo>
                    <a:pt x="865251" y="239014"/>
                    <a:pt x="867093" y="233299"/>
                    <a:pt x="870776" y="225933"/>
                  </a:cubicBezTo>
                  <a:cubicBezTo>
                    <a:pt x="874459" y="218567"/>
                    <a:pt x="877570" y="214884"/>
                    <a:pt x="880110" y="214884"/>
                  </a:cubicBezTo>
                  <a:cubicBezTo>
                    <a:pt x="881380" y="214884"/>
                    <a:pt x="882015" y="215900"/>
                    <a:pt x="882015" y="217932"/>
                  </a:cubicBezTo>
                  <a:lnTo>
                    <a:pt x="881634" y="224790"/>
                  </a:lnTo>
                  <a:cubicBezTo>
                    <a:pt x="881634" y="229108"/>
                    <a:pt x="882396" y="231267"/>
                    <a:pt x="883920" y="231267"/>
                  </a:cubicBezTo>
                  <a:cubicBezTo>
                    <a:pt x="885444" y="231267"/>
                    <a:pt x="887603" y="230505"/>
                    <a:pt x="890397" y="228981"/>
                  </a:cubicBezTo>
                  <a:cubicBezTo>
                    <a:pt x="927227" y="209169"/>
                    <a:pt x="948309" y="199263"/>
                    <a:pt x="953643" y="199263"/>
                  </a:cubicBezTo>
                  <a:close/>
                  <a:moveTo>
                    <a:pt x="1014603" y="192786"/>
                  </a:moveTo>
                  <a:cubicBezTo>
                    <a:pt x="1018921" y="192786"/>
                    <a:pt x="1027303" y="197930"/>
                    <a:pt x="1039749" y="208217"/>
                  </a:cubicBezTo>
                  <a:cubicBezTo>
                    <a:pt x="1052195" y="218504"/>
                    <a:pt x="1058418" y="228219"/>
                    <a:pt x="1058418" y="237363"/>
                  </a:cubicBezTo>
                  <a:cubicBezTo>
                    <a:pt x="1058418" y="245999"/>
                    <a:pt x="1054545" y="254826"/>
                    <a:pt x="1046798" y="263843"/>
                  </a:cubicBezTo>
                  <a:cubicBezTo>
                    <a:pt x="1039051" y="272860"/>
                    <a:pt x="1034225" y="277368"/>
                    <a:pt x="1032320" y="277368"/>
                  </a:cubicBezTo>
                  <a:cubicBezTo>
                    <a:pt x="1030415" y="277368"/>
                    <a:pt x="1028700" y="275971"/>
                    <a:pt x="1027176" y="273177"/>
                  </a:cubicBezTo>
                  <a:cubicBezTo>
                    <a:pt x="1024636" y="267589"/>
                    <a:pt x="1019175" y="261112"/>
                    <a:pt x="1010793" y="253746"/>
                  </a:cubicBezTo>
                  <a:cubicBezTo>
                    <a:pt x="1002411" y="246380"/>
                    <a:pt x="994664" y="241300"/>
                    <a:pt x="987552" y="238506"/>
                  </a:cubicBezTo>
                  <a:cubicBezTo>
                    <a:pt x="984504" y="237236"/>
                    <a:pt x="982980" y="235839"/>
                    <a:pt x="982980" y="234315"/>
                  </a:cubicBezTo>
                  <a:cubicBezTo>
                    <a:pt x="982980" y="232791"/>
                    <a:pt x="985647" y="232410"/>
                    <a:pt x="990981" y="233172"/>
                  </a:cubicBezTo>
                  <a:cubicBezTo>
                    <a:pt x="996315" y="233934"/>
                    <a:pt x="1001395" y="234315"/>
                    <a:pt x="1006221" y="234315"/>
                  </a:cubicBezTo>
                  <a:cubicBezTo>
                    <a:pt x="1015111" y="234315"/>
                    <a:pt x="1020255" y="233172"/>
                    <a:pt x="1021652" y="230886"/>
                  </a:cubicBezTo>
                  <a:cubicBezTo>
                    <a:pt x="1023049" y="228600"/>
                    <a:pt x="1023747" y="225933"/>
                    <a:pt x="1023747" y="222885"/>
                  </a:cubicBezTo>
                  <a:cubicBezTo>
                    <a:pt x="1023747" y="219837"/>
                    <a:pt x="1020191" y="211963"/>
                    <a:pt x="1013079" y="199263"/>
                  </a:cubicBezTo>
                  <a:cubicBezTo>
                    <a:pt x="1012317" y="197739"/>
                    <a:pt x="1011936" y="196279"/>
                    <a:pt x="1011936" y="194882"/>
                  </a:cubicBezTo>
                  <a:cubicBezTo>
                    <a:pt x="1011936" y="193485"/>
                    <a:pt x="1012825" y="192786"/>
                    <a:pt x="1014603" y="192786"/>
                  </a:cubicBezTo>
                  <a:close/>
                  <a:moveTo>
                    <a:pt x="538925" y="159258"/>
                  </a:moveTo>
                  <a:cubicBezTo>
                    <a:pt x="538036" y="159258"/>
                    <a:pt x="535305" y="160719"/>
                    <a:pt x="530733" y="163640"/>
                  </a:cubicBezTo>
                  <a:cubicBezTo>
                    <a:pt x="526161" y="166561"/>
                    <a:pt x="523875" y="169545"/>
                    <a:pt x="523875" y="172593"/>
                  </a:cubicBezTo>
                  <a:cubicBezTo>
                    <a:pt x="523875" y="173101"/>
                    <a:pt x="524002" y="173355"/>
                    <a:pt x="524256" y="173355"/>
                  </a:cubicBezTo>
                  <a:cubicBezTo>
                    <a:pt x="525272" y="173355"/>
                    <a:pt x="527622" y="171768"/>
                    <a:pt x="531305" y="168593"/>
                  </a:cubicBezTo>
                  <a:cubicBezTo>
                    <a:pt x="534988" y="165418"/>
                    <a:pt x="537401" y="163068"/>
                    <a:pt x="538544" y="161544"/>
                  </a:cubicBezTo>
                  <a:cubicBezTo>
                    <a:pt x="539687" y="160020"/>
                    <a:pt x="539814" y="159258"/>
                    <a:pt x="538925" y="159258"/>
                  </a:cubicBezTo>
                  <a:close/>
                  <a:moveTo>
                    <a:pt x="474726" y="124968"/>
                  </a:moveTo>
                  <a:cubicBezTo>
                    <a:pt x="479552" y="124968"/>
                    <a:pt x="484823" y="126873"/>
                    <a:pt x="490538" y="130683"/>
                  </a:cubicBezTo>
                  <a:cubicBezTo>
                    <a:pt x="496253" y="134493"/>
                    <a:pt x="499110" y="138557"/>
                    <a:pt x="499110" y="142875"/>
                  </a:cubicBezTo>
                  <a:cubicBezTo>
                    <a:pt x="499110" y="145669"/>
                    <a:pt x="497967" y="149352"/>
                    <a:pt x="495681" y="153924"/>
                  </a:cubicBezTo>
                  <a:cubicBezTo>
                    <a:pt x="487299" y="170434"/>
                    <a:pt x="481584" y="183071"/>
                    <a:pt x="478536" y="191834"/>
                  </a:cubicBezTo>
                  <a:cubicBezTo>
                    <a:pt x="475488" y="200597"/>
                    <a:pt x="473964" y="208153"/>
                    <a:pt x="473964" y="214503"/>
                  </a:cubicBezTo>
                  <a:cubicBezTo>
                    <a:pt x="473964" y="220853"/>
                    <a:pt x="474599" y="224028"/>
                    <a:pt x="475869" y="224028"/>
                  </a:cubicBezTo>
                  <a:cubicBezTo>
                    <a:pt x="476631" y="224028"/>
                    <a:pt x="477711" y="222060"/>
                    <a:pt x="479108" y="218123"/>
                  </a:cubicBezTo>
                  <a:cubicBezTo>
                    <a:pt x="480505" y="214186"/>
                    <a:pt x="481838" y="212090"/>
                    <a:pt x="483108" y="211836"/>
                  </a:cubicBezTo>
                  <a:cubicBezTo>
                    <a:pt x="485902" y="210820"/>
                    <a:pt x="487807" y="208407"/>
                    <a:pt x="488823" y="204597"/>
                  </a:cubicBezTo>
                  <a:cubicBezTo>
                    <a:pt x="489839" y="200787"/>
                    <a:pt x="490665" y="198882"/>
                    <a:pt x="491300" y="198882"/>
                  </a:cubicBezTo>
                  <a:cubicBezTo>
                    <a:pt x="491935" y="198882"/>
                    <a:pt x="492506" y="199517"/>
                    <a:pt x="493014" y="200787"/>
                  </a:cubicBezTo>
                  <a:cubicBezTo>
                    <a:pt x="493522" y="202057"/>
                    <a:pt x="493776" y="203518"/>
                    <a:pt x="493776" y="205169"/>
                  </a:cubicBezTo>
                  <a:cubicBezTo>
                    <a:pt x="493776" y="206820"/>
                    <a:pt x="492316" y="210693"/>
                    <a:pt x="489395" y="216789"/>
                  </a:cubicBezTo>
                  <a:cubicBezTo>
                    <a:pt x="486474" y="222885"/>
                    <a:pt x="483553" y="232728"/>
                    <a:pt x="480632" y="246317"/>
                  </a:cubicBezTo>
                  <a:cubicBezTo>
                    <a:pt x="477711" y="259906"/>
                    <a:pt x="476250" y="269558"/>
                    <a:pt x="476250" y="275273"/>
                  </a:cubicBezTo>
                  <a:cubicBezTo>
                    <a:pt x="476250" y="280988"/>
                    <a:pt x="476695" y="284671"/>
                    <a:pt x="477584" y="286322"/>
                  </a:cubicBezTo>
                  <a:cubicBezTo>
                    <a:pt x="478473" y="287973"/>
                    <a:pt x="478917" y="289751"/>
                    <a:pt x="478917" y="291656"/>
                  </a:cubicBezTo>
                  <a:cubicBezTo>
                    <a:pt x="478917" y="293561"/>
                    <a:pt x="478028" y="295085"/>
                    <a:pt x="476250" y="296228"/>
                  </a:cubicBezTo>
                  <a:cubicBezTo>
                    <a:pt x="474472" y="297371"/>
                    <a:pt x="472821" y="297942"/>
                    <a:pt x="471297" y="297942"/>
                  </a:cubicBezTo>
                  <a:cubicBezTo>
                    <a:pt x="466725" y="297942"/>
                    <a:pt x="461391" y="293243"/>
                    <a:pt x="455295" y="283845"/>
                  </a:cubicBezTo>
                  <a:cubicBezTo>
                    <a:pt x="449199" y="274447"/>
                    <a:pt x="446151" y="259588"/>
                    <a:pt x="446151" y="239268"/>
                  </a:cubicBezTo>
                  <a:cubicBezTo>
                    <a:pt x="446151" y="228346"/>
                    <a:pt x="446786" y="217170"/>
                    <a:pt x="448056" y="205740"/>
                  </a:cubicBezTo>
                  <a:lnTo>
                    <a:pt x="451485" y="176784"/>
                  </a:lnTo>
                  <a:cubicBezTo>
                    <a:pt x="451485" y="175768"/>
                    <a:pt x="451231" y="175260"/>
                    <a:pt x="450723" y="175260"/>
                  </a:cubicBezTo>
                  <a:cubicBezTo>
                    <a:pt x="448945" y="175260"/>
                    <a:pt x="443992" y="178816"/>
                    <a:pt x="435864" y="185928"/>
                  </a:cubicBezTo>
                  <a:cubicBezTo>
                    <a:pt x="422910" y="197612"/>
                    <a:pt x="411417" y="203454"/>
                    <a:pt x="401384" y="203454"/>
                  </a:cubicBezTo>
                  <a:cubicBezTo>
                    <a:pt x="391351" y="203454"/>
                    <a:pt x="383413" y="197803"/>
                    <a:pt x="377571" y="186500"/>
                  </a:cubicBezTo>
                  <a:cubicBezTo>
                    <a:pt x="371729" y="175197"/>
                    <a:pt x="368808" y="166878"/>
                    <a:pt x="368808" y="161544"/>
                  </a:cubicBezTo>
                  <a:cubicBezTo>
                    <a:pt x="368808" y="156210"/>
                    <a:pt x="371412" y="151321"/>
                    <a:pt x="376619" y="146876"/>
                  </a:cubicBezTo>
                  <a:cubicBezTo>
                    <a:pt x="381826" y="142431"/>
                    <a:pt x="385064" y="140208"/>
                    <a:pt x="386334" y="140208"/>
                  </a:cubicBezTo>
                  <a:cubicBezTo>
                    <a:pt x="387604" y="140208"/>
                    <a:pt x="388239" y="140780"/>
                    <a:pt x="388239" y="141923"/>
                  </a:cubicBezTo>
                  <a:cubicBezTo>
                    <a:pt x="388239" y="143066"/>
                    <a:pt x="387223" y="144844"/>
                    <a:pt x="385191" y="147257"/>
                  </a:cubicBezTo>
                  <a:cubicBezTo>
                    <a:pt x="383159" y="149670"/>
                    <a:pt x="382143" y="152464"/>
                    <a:pt x="382143" y="155639"/>
                  </a:cubicBezTo>
                  <a:cubicBezTo>
                    <a:pt x="382143" y="158814"/>
                    <a:pt x="382905" y="161354"/>
                    <a:pt x="384429" y="163259"/>
                  </a:cubicBezTo>
                  <a:cubicBezTo>
                    <a:pt x="385953" y="165164"/>
                    <a:pt x="387985" y="166116"/>
                    <a:pt x="390525" y="166116"/>
                  </a:cubicBezTo>
                  <a:cubicBezTo>
                    <a:pt x="394589" y="166116"/>
                    <a:pt x="406210" y="161798"/>
                    <a:pt x="425387" y="153162"/>
                  </a:cubicBezTo>
                  <a:cubicBezTo>
                    <a:pt x="444564" y="144526"/>
                    <a:pt x="454914" y="138049"/>
                    <a:pt x="456438" y="133731"/>
                  </a:cubicBezTo>
                  <a:cubicBezTo>
                    <a:pt x="457200" y="131191"/>
                    <a:pt x="459232" y="129096"/>
                    <a:pt x="462534" y="127445"/>
                  </a:cubicBezTo>
                  <a:cubicBezTo>
                    <a:pt x="465836" y="125794"/>
                    <a:pt x="469900" y="124968"/>
                    <a:pt x="474726" y="124968"/>
                  </a:cubicBezTo>
                  <a:close/>
                  <a:moveTo>
                    <a:pt x="582549" y="115062"/>
                  </a:moveTo>
                  <a:cubicBezTo>
                    <a:pt x="587375" y="115062"/>
                    <a:pt x="592836" y="115888"/>
                    <a:pt x="598932" y="117539"/>
                  </a:cubicBezTo>
                  <a:cubicBezTo>
                    <a:pt x="605028" y="119190"/>
                    <a:pt x="608838" y="122047"/>
                    <a:pt x="610362" y="126111"/>
                  </a:cubicBezTo>
                  <a:cubicBezTo>
                    <a:pt x="611886" y="130175"/>
                    <a:pt x="612648" y="133541"/>
                    <a:pt x="612648" y="136208"/>
                  </a:cubicBezTo>
                  <a:cubicBezTo>
                    <a:pt x="612648" y="138875"/>
                    <a:pt x="611378" y="140843"/>
                    <a:pt x="608838" y="142113"/>
                  </a:cubicBezTo>
                  <a:cubicBezTo>
                    <a:pt x="606298" y="143383"/>
                    <a:pt x="602933" y="144018"/>
                    <a:pt x="598742" y="144018"/>
                  </a:cubicBezTo>
                  <a:cubicBezTo>
                    <a:pt x="594551" y="144018"/>
                    <a:pt x="588518" y="145796"/>
                    <a:pt x="580644" y="149352"/>
                  </a:cubicBezTo>
                  <a:cubicBezTo>
                    <a:pt x="572770" y="152908"/>
                    <a:pt x="564769" y="157226"/>
                    <a:pt x="556641" y="162306"/>
                  </a:cubicBezTo>
                  <a:cubicBezTo>
                    <a:pt x="548513" y="167386"/>
                    <a:pt x="542925" y="170688"/>
                    <a:pt x="539877" y="172212"/>
                  </a:cubicBezTo>
                  <a:cubicBezTo>
                    <a:pt x="536829" y="173736"/>
                    <a:pt x="533400" y="174879"/>
                    <a:pt x="529590" y="175641"/>
                  </a:cubicBezTo>
                  <a:cubicBezTo>
                    <a:pt x="525780" y="176403"/>
                    <a:pt x="523875" y="178054"/>
                    <a:pt x="523875" y="180594"/>
                  </a:cubicBezTo>
                  <a:cubicBezTo>
                    <a:pt x="523875" y="183134"/>
                    <a:pt x="525145" y="185928"/>
                    <a:pt x="527685" y="188976"/>
                  </a:cubicBezTo>
                  <a:cubicBezTo>
                    <a:pt x="556895" y="175260"/>
                    <a:pt x="575374" y="168402"/>
                    <a:pt x="583121" y="168402"/>
                  </a:cubicBezTo>
                  <a:cubicBezTo>
                    <a:pt x="590868" y="168402"/>
                    <a:pt x="598678" y="171260"/>
                    <a:pt x="606552" y="176975"/>
                  </a:cubicBezTo>
                  <a:cubicBezTo>
                    <a:pt x="614426" y="182690"/>
                    <a:pt x="618363" y="188341"/>
                    <a:pt x="618363" y="193929"/>
                  </a:cubicBezTo>
                  <a:cubicBezTo>
                    <a:pt x="618363" y="196723"/>
                    <a:pt x="616903" y="199009"/>
                    <a:pt x="613982" y="200787"/>
                  </a:cubicBezTo>
                  <a:cubicBezTo>
                    <a:pt x="611061" y="202565"/>
                    <a:pt x="608076" y="207137"/>
                    <a:pt x="605028" y="214503"/>
                  </a:cubicBezTo>
                  <a:cubicBezTo>
                    <a:pt x="601980" y="221869"/>
                    <a:pt x="600456" y="227267"/>
                    <a:pt x="600456" y="230696"/>
                  </a:cubicBezTo>
                  <a:cubicBezTo>
                    <a:pt x="600456" y="234125"/>
                    <a:pt x="600710" y="236284"/>
                    <a:pt x="601218" y="237173"/>
                  </a:cubicBezTo>
                  <a:cubicBezTo>
                    <a:pt x="601726" y="238062"/>
                    <a:pt x="601980" y="239014"/>
                    <a:pt x="601980" y="240030"/>
                  </a:cubicBezTo>
                  <a:cubicBezTo>
                    <a:pt x="601980" y="243586"/>
                    <a:pt x="599059" y="245936"/>
                    <a:pt x="593217" y="247079"/>
                  </a:cubicBezTo>
                  <a:cubicBezTo>
                    <a:pt x="587375" y="248222"/>
                    <a:pt x="574929" y="251968"/>
                    <a:pt x="555879" y="258318"/>
                  </a:cubicBezTo>
                  <a:cubicBezTo>
                    <a:pt x="548513" y="260858"/>
                    <a:pt x="542227" y="262128"/>
                    <a:pt x="537020" y="262128"/>
                  </a:cubicBezTo>
                  <a:cubicBezTo>
                    <a:pt x="531813" y="262128"/>
                    <a:pt x="527558" y="259271"/>
                    <a:pt x="524256" y="253556"/>
                  </a:cubicBezTo>
                  <a:cubicBezTo>
                    <a:pt x="520954" y="247841"/>
                    <a:pt x="517462" y="237427"/>
                    <a:pt x="513779" y="222314"/>
                  </a:cubicBezTo>
                  <a:cubicBezTo>
                    <a:pt x="510096" y="207201"/>
                    <a:pt x="508254" y="195834"/>
                    <a:pt x="508254" y="188214"/>
                  </a:cubicBezTo>
                  <a:cubicBezTo>
                    <a:pt x="508254" y="180594"/>
                    <a:pt x="510286" y="175514"/>
                    <a:pt x="514350" y="172974"/>
                  </a:cubicBezTo>
                  <a:lnTo>
                    <a:pt x="526923" y="163449"/>
                  </a:lnTo>
                  <a:cubicBezTo>
                    <a:pt x="531241" y="159893"/>
                    <a:pt x="533591" y="157861"/>
                    <a:pt x="533972" y="157353"/>
                  </a:cubicBezTo>
                  <a:cubicBezTo>
                    <a:pt x="534353" y="156845"/>
                    <a:pt x="534543" y="156147"/>
                    <a:pt x="534543" y="155258"/>
                  </a:cubicBezTo>
                  <a:cubicBezTo>
                    <a:pt x="534543" y="154369"/>
                    <a:pt x="533718" y="153416"/>
                    <a:pt x="532067" y="152400"/>
                  </a:cubicBezTo>
                  <a:cubicBezTo>
                    <a:pt x="530416" y="151384"/>
                    <a:pt x="528193" y="147574"/>
                    <a:pt x="525399" y="140970"/>
                  </a:cubicBezTo>
                  <a:cubicBezTo>
                    <a:pt x="522605" y="134366"/>
                    <a:pt x="521208" y="130493"/>
                    <a:pt x="521208" y="129350"/>
                  </a:cubicBezTo>
                  <a:cubicBezTo>
                    <a:pt x="521208" y="128207"/>
                    <a:pt x="521843" y="127635"/>
                    <a:pt x="523113" y="127635"/>
                  </a:cubicBezTo>
                  <a:lnTo>
                    <a:pt x="526923" y="128016"/>
                  </a:lnTo>
                  <a:cubicBezTo>
                    <a:pt x="532003" y="128016"/>
                    <a:pt x="539687" y="126810"/>
                    <a:pt x="549974" y="124397"/>
                  </a:cubicBezTo>
                  <a:cubicBezTo>
                    <a:pt x="560261" y="121984"/>
                    <a:pt x="567817" y="119380"/>
                    <a:pt x="572643" y="116586"/>
                  </a:cubicBezTo>
                  <a:cubicBezTo>
                    <a:pt x="574421" y="115570"/>
                    <a:pt x="577723" y="115062"/>
                    <a:pt x="582549" y="115062"/>
                  </a:cubicBezTo>
                  <a:close/>
                  <a:moveTo>
                    <a:pt x="984504" y="97536"/>
                  </a:moveTo>
                  <a:cubicBezTo>
                    <a:pt x="983742" y="97536"/>
                    <a:pt x="982599" y="97917"/>
                    <a:pt x="981075" y="98679"/>
                  </a:cubicBezTo>
                  <a:cubicBezTo>
                    <a:pt x="974471" y="101981"/>
                    <a:pt x="958977" y="104775"/>
                    <a:pt x="934593" y="107061"/>
                  </a:cubicBezTo>
                  <a:cubicBezTo>
                    <a:pt x="936625" y="111125"/>
                    <a:pt x="937641" y="114808"/>
                    <a:pt x="937641" y="118110"/>
                  </a:cubicBezTo>
                  <a:cubicBezTo>
                    <a:pt x="937641" y="121412"/>
                    <a:pt x="937387" y="124651"/>
                    <a:pt x="936879" y="127826"/>
                  </a:cubicBezTo>
                  <a:cubicBezTo>
                    <a:pt x="936371" y="131001"/>
                    <a:pt x="936117" y="134303"/>
                    <a:pt x="936117" y="137732"/>
                  </a:cubicBezTo>
                  <a:cubicBezTo>
                    <a:pt x="936117" y="141161"/>
                    <a:pt x="936625" y="144399"/>
                    <a:pt x="937641" y="147447"/>
                  </a:cubicBezTo>
                  <a:cubicBezTo>
                    <a:pt x="942721" y="147447"/>
                    <a:pt x="948944" y="146304"/>
                    <a:pt x="956310" y="144018"/>
                  </a:cubicBezTo>
                  <a:cubicBezTo>
                    <a:pt x="963676" y="141732"/>
                    <a:pt x="968756" y="139129"/>
                    <a:pt x="971550" y="136208"/>
                  </a:cubicBezTo>
                  <a:cubicBezTo>
                    <a:pt x="974344" y="133287"/>
                    <a:pt x="977392" y="126937"/>
                    <a:pt x="980694" y="117158"/>
                  </a:cubicBezTo>
                  <a:cubicBezTo>
                    <a:pt x="983996" y="107379"/>
                    <a:pt x="985647" y="101664"/>
                    <a:pt x="985647" y="100013"/>
                  </a:cubicBezTo>
                  <a:cubicBezTo>
                    <a:pt x="985647" y="98362"/>
                    <a:pt x="985266" y="97536"/>
                    <a:pt x="984504" y="97536"/>
                  </a:cubicBezTo>
                  <a:close/>
                  <a:moveTo>
                    <a:pt x="990600" y="57912"/>
                  </a:moveTo>
                  <a:cubicBezTo>
                    <a:pt x="997458" y="57912"/>
                    <a:pt x="1006475" y="61659"/>
                    <a:pt x="1017651" y="69152"/>
                  </a:cubicBezTo>
                  <a:cubicBezTo>
                    <a:pt x="1028827" y="76645"/>
                    <a:pt x="1034415" y="83693"/>
                    <a:pt x="1034415" y="90297"/>
                  </a:cubicBezTo>
                  <a:cubicBezTo>
                    <a:pt x="1034415" y="93345"/>
                    <a:pt x="1033018" y="96584"/>
                    <a:pt x="1030224" y="100013"/>
                  </a:cubicBezTo>
                  <a:cubicBezTo>
                    <a:pt x="1027430" y="103442"/>
                    <a:pt x="1018667" y="117729"/>
                    <a:pt x="1003935" y="142875"/>
                  </a:cubicBezTo>
                  <a:cubicBezTo>
                    <a:pt x="1008761" y="148971"/>
                    <a:pt x="1011174" y="154242"/>
                    <a:pt x="1011174" y="158687"/>
                  </a:cubicBezTo>
                  <a:cubicBezTo>
                    <a:pt x="1011174" y="163132"/>
                    <a:pt x="1007999" y="165481"/>
                    <a:pt x="1001649" y="165735"/>
                  </a:cubicBezTo>
                  <a:cubicBezTo>
                    <a:pt x="998855" y="165735"/>
                    <a:pt x="995299" y="166180"/>
                    <a:pt x="990981" y="167069"/>
                  </a:cubicBezTo>
                  <a:cubicBezTo>
                    <a:pt x="986663" y="167958"/>
                    <a:pt x="983298" y="169164"/>
                    <a:pt x="980885" y="170688"/>
                  </a:cubicBezTo>
                  <a:cubicBezTo>
                    <a:pt x="978472" y="172212"/>
                    <a:pt x="974789" y="173673"/>
                    <a:pt x="969836" y="175070"/>
                  </a:cubicBezTo>
                  <a:cubicBezTo>
                    <a:pt x="964883" y="176467"/>
                    <a:pt x="960501" y="177165"/>
                    <a:pt x="956691" y="177165"/>
                  </a:cubicBezTo>
                  <a:cubicBezTo>
                    <a:pt x="948563" y="177165"/>
                    <a:pt x="943229" y="180213"/>
                    <a:pt x="940689" y="186309"/>
                  </a:cubicBezTo>
                  <a:cubicBezTo>
                    <a:pt x="938657" y="190373"/>
                    <a:pt x="931672" y="192405"/>
                    <a:pt x="919734" y="192405"/>
                  </a:cubicBezTo>
                  <a:cubicBezTo>
                    <a:pt x="917448" y="192405"/>
                    <a:pt x="915670" y="192024"/>
                    <a:pt x="914400" y="191262"/>
                  </a:cubicBezTo>
                  <a:cubicBezTo>
                    <a:pt x="913130" y="190500"/>
                    <a:pt x="912495" y="189357"/>
                    <a:pt x="912495" y="187833"/>
                  </a:cubicBezTo>
                  <a:lnTo>
                    <a:pt x="912495" y="183642"/>
                  </a:lnTo>
                  <a:cubicBezTo>
                    <a:pt x="912495" y="178562"/>
                    <a:pt x="911098" y="174752"/>
                    <a:pt x="908304" y="172212"/>
                  </a:cubicBezTo>
                  <a:cubicBezTo>
                    <a:pt x="907288" y="171196"/>
                    <a:pt x="905637" y="163957"/>
                    <a:pt x="903351" y="150495"/>
                  </a:cubicBezTo>
                  <a:cubicBezTo>
                    <a:pt x="901065" y="137033"/>
                    <a:pt x="899732" y="126873"/>
                    <a:pt x="899351" y="120015"/>
                  </a:cubicBezTo>
                  <a:cubicBezTo>
                    <a:pt x="898970" y="113157"/>
                    <a:pt x="898017" y="108585"/>
                    <a:pt x="896493" y="106299"/>
                  </a:cubicBezTo>
                  <a:cubicBezTo>
                    <a:pt x="894969" y="104013"/>
                    <a:pt x="892810" y="101918"/>
                    <a:pt x="890016" y="100013"/>
                  </a:cubicBezTo>
                  <a:cubicBezTo>
                    <a:pt x="887222" y="98108"/>
                    <a:pt x="885825" y="96457"/>
                    <a:pt x="885825" y="95060"/>
                  </a:cubicBezTo>
                  <a:cubicBezTo>
                    <a:pt x="885825" y="93663"/>
                    <a:pt x="886460" y="92393"/>
                    <a:pt x="887730" y="91250"/>
                  </a:cubicBezTo>
                  <a:cubicBezTo>
                    <a:pt x="889000" y="90107"/>
                    <a:pt x="891159" y="89535"/>
                    <a:pt x="894207" y="89535"/>
                  </a:cubicBezTo>
                  <a:cubicBezTo>
                    <a:pt x="897255" y="89535"/>
                    <a:pt x="904113" y="91186"/>
                    <a:pt x="914781" y="94488"/>
                  </a:cubicBezTo>
                  <a:cubicBezTo>
                    <a:pt x="925449" y="84836"/>
                    <a:pt x="938784" y="77343"/>
                    <a:pt x="954786" y="72009"/>
                  </a:cubicBezTo>
                  <a:cubicBezTo>
                    <a:pt x="963168" y="69215"/>
                    <a:pt x="970153" y="65659"/>
                    <a:pt x="975741" y="61341"/>
                  </a:cubicBezTo>
                  <a:cubicBezTo>
                    <a:pt x="978789" y="59055"/>
                    <a:pt x="983742" y="57912"/>
                    <a:pt x="990600" y="57912"/>
                  </a:cubicBezTo>
                  <a:close/>
                  <a:moveTo>
                    <a:pt x="617792" y="52959"/>
                  </a:moveTo>
                  <a:cubicBezTo>
                    <a:pt x="628587" y="52959"/>
                    <a:pt x="640271" y="57214"/>
                    <a:pt x="652844" y="65723"/>
                  </a:cubicBezTo>
                  <a:cubicBezTo>
                    <a:pt x="665417" y="74232"/>
                    <a:pt x="671703" y="82931"/>
                    <a:pt x="671703" y="91821"/>
                  </a:cubicBezTo>
                  <a:cubicBezTo>
                    <a:pt x="671703" y="94107"/>
                    <a:pt x="671322" y="96266"/>
                    <a:pt x="670560" y="98298"/>
                  </a:cubicBezTo>
                  <a:cubicBezTo>
                    <a:pt x="669036" y="102108"/>
                    <a:pt x="667703" y="112268"/>
                    <a:pt x="666560" y="128778"/>
                  </a:cubicBezTo>
                  <a:cubicBezTo>
                    <a:pt x="665417" y="145288"/>
                    <a:pt x="664845" y="161671"/>
                    <a:pt x="664845" y="177927"/>
                  </a:cubicBezTo>
                  <a:cubicBezTo>
                    <a:pt x="664845" y="194183"/>
                    <a:pt x="665226" y="207836"/>
                    <a:pt x="665988" y="218885"/>
                  </a:cubicBezTo>
                  <a:cubicBezTo>
                    <a:pt x="666750" y="229934"/>
                    <a:pt x="667131" y="240030"/>
                    <a:pt x="667131" y="249174"/>
                  </a:cubicBezTo>
                  <a:cubicBezTo>
                    <a:pt x="667131" y="274066"/>
                    <a:pt x="664337" y="292418"/>
                    <a:pt x="658749" y="304229"/>
                  </a:cubicBezTo>
                  <a:cubicBezTo>
                    <a:pt x="653161" y="316040"/>
                    <a:pt x="648462" y="321945"/>
                    <a:pt x="644652" y="321945"/>
                  </a:cubicBezTo>
                  <a:cubicBezTo>
                    <a:pt x="643128" y="321945"/>
                    <a:pt x="641350" y="321056"/>
                    <a:pt x="639318" y="319278"/>
                  </a:cubicBezTo>
                  <a:cubicBezTo>
                    <a:pt x="631952" y="312420"/>
                    <a:pt x="625221" y="307340"/>
                    <a:pt x="619125" y="304038"/>
                  </a:cubicBezTo>
                  <a:cubicBezTo>
                    <a:pt x="613029" y="300736"/>
                    <a:pt x="605282" y="295656"/>
                    <a:pt x="595884" y="288798"/>
                  </a:cubicBezTo>
                  <a:cubicBezTo>
                    <a:pt x="586486" y="281940"/>
                    <a:pt x="581787" y="277495"/>
                    <a:pt x="581787" y="275463"/>
                  </a:cubicBezTo>
                  <a:cubicBezTo>
                    <a:pt x="581787" y="273431"/>
                    <a:pt x="583184" y="272415"/>
                    <a:pt x="585978" y="272415"/>
                  </a:cubicBezTo>
                  <a:cubicBezTo>
                    <a:pt x="588772" y="272415"/>
                    <a:pt x="592519" y="272923"/>
                    <a:pt x="597218" y="273939"/>
                  </a:cubicBezTo>
                  <a:cubicBezTo>
                    <a:pt x="601917" y="274955"/>
                    <a:pt x="606870" y="275463"/>
                    <a:pt x="612077" y="275463"/>
                  </a:cubicBezTo>
                  <a:cubicBezTo>
                    <a:pt x="617284" y="275463"/>
                    <a:pt x="621665" y="274892"/>
                    <a:pt x="625221" y="273749"/>
                  </a:cubicBezTo>
                  <a:cubicBezTo>
                    <a:pt x="628777" y="272606"/>
                    <a:pt x="631635" y="271018"/>
                    <a:pt x="633794" y="268986"/>
                  </a:cubicBezTo>
                  <a:cubicBezTo>
                    <a:pt x="635953" y="266954"/>
                    <a:pt x="637159" y="264478"/>
                    <a:pt x="637413" y="261557"/>
                  </a:cubicBezTo>
                  <a:cubicBezTo>
                    <a:pt x="637667" y="258636"/>
                    <a:pt x="637921" y="254064"/>
                    <a:pt x="638175" y="247841"/>
                  </a:cubicBezTo>
                  <a:cubicBezTo>
                    <a:pt x="638429" y="241618"/>
                    <a:pt x="638556" y="234696"/>
                    <a:pt x="638556" y="227076"/>
                  </a:cubicBezTo>
                  <a:lnTo>
                    <a:pt x="636651" y="158877"/>
                  </a:lnTo>
                  <a:cubicBezTo>
                    <a:pt x="636651" y="151511"/>
                    <a:pt x="637223" y="140716"/>
                    <a:pt x="638366" y="126492"/>
                  </a:cubicBezTo>
                  <a:cubicBezTo>
                    <a:pt x="639509" y="112268"/>
                    <a:pt x="640080" y="101981"/>
                    <a:pt x="640080" y="95631"/>
                  </a:cubicBezTo>
                  <a:cubicBezTo>
                    <a:pt x="640080" y="89281"/>
                    <a:pt x="639509" y="85027"/>
                    <a:pt x="638366" y="82868"/>
                  </a:cubicBezTo>
                  <a:cubicBezTo>
                    <a:pt x="637223" y="80709"/>
                    <a:pt x="634302" y="78613"/>
                    <a:pt x="629603" y="76581"/>
                  </a:cubicBezTo>
                  <a:cubicBezTo>
                    <a:pt x="624904" y="74549"/>
                    <a:pt x="620014" y="73533"/>
                    <a:pt x="614934" y="73533"/>
                  </a:cubicBezTo>
                  <a:cubicBezTo>
                    <a:pt x="604520" y="73533"/>
                    <a:pt x="597408" y="76708"/>
                    <a:pt x="593598" y="83058"/>
                  </a:cubicBezTo>
                  <a:cubicBezTo>
                    <a:pt x="591058" y="86868"/>
                    <a:pt x="587947" y="89916"/>
                    <a:pt x="584264" y="92202"/>
                  </a:cubicBezTo>
                  <a:cubicBezTo>
                    <a:pt x="580581" y="94488"/>
                    <a:pt x="577596" y="95631"/>
                    <a:pt x="575310" y="95631"/>
                  </a:cubicBezTo>
                  <a:cubicBezTo>
                    <a:pt x="573024" y="95631"/>
                    <a:pt x="571627" y="95377"/>
                    <a:pt x="571119" y="94869"/>
                  </a:cubicBezTo>
                  <a:cubicBezTo>
                    <a:pt x="567817" y="92329"/>
                    <a:pt x="562102" y="91059"/>
                    <a:pt x="553974" y="91059"/>
                  </a:cubicBezTo>
                  <a:cubicBezTo>
                    <a:pt x="550418" y="91059"/>
                    <a:pt x="548259" y="91440"/>
                    <a:pt x="547497" y="92202"/>
                  </a:cubicBezTo>
                  <a:cubicBezTo>
                    <a:pt x="545211" y="94488"/>
                    <a:pt x="543624" y="95631"/>
                    <a:pt x="542735" y="95631"/>
                  </a:cubicBezTo>
                  <a:cubicBezTo>
                    <a:pt x="541846" y="95631"/>
                    <a:pt x="541401" y="94742"/>
                    <a:pt x="541401" y="92964"/>
                  </a:cubicBezTo>
                  <a:cubicBezTo>
                    <a:pt x="541401" y="84328"/>
                    <a:pt x="544068" y="78169"/>
                    <a:pt x="549402" y="74486"/>
                  </a:cubicBezTo>
                  <a:cubicBezTo>
                    <a:pt x="554736" y="70803"/>
                    <a:pt x="564769" y="66294"/>
                    <a:pt x="579501" y="60960"/>
                  </a:cubicBezTo>
                  <a:cubicBezTo>
                    <a:pt x="594233" y="55626"/>
                    <a:pt x="606997" y="52959"/>
                    <a:pt x="617792" y="52959"/>
                  </a:cubicBezTo>
                  <a:close/>
                  <a:moveTo>
                    <a:pt x="1341501" y="51816"/>
                  </a:moveTo>
                  <a:cubicBezTo>
                    <a:pt x="1346581" y="51816"/>
                    <a:pt x="1354646" y="56325"/>
                    <a:pt x="1365695" y="65342"/>
                  </a:cubicBezTo>
                  <a:cubicBezTo>
                    <a:pt x="1376744" y="74359"/>
                    <a:pt x="1382268" y="81661"/>
                    <a:pt x="1382268" y="87249"/>
                  </a:cubicBezTo>
                  <a:cubicBezTo>
                    <a:pt x="1382268" y="90043"/>
                    <a:pt x="1380998" y="92837"/>
                    <a:pt x="1378458" y="95631"/>
                  </a:cubicBezTo>
                  <a:cubicBezTo>
                    <a:pt x="1366012" y="109093"/>
                    <a:pt x="1359789" y="119507"/>
                    <a:pt x="1359789" y="126873"/>
                  </a:cubicBezTo>
                  <a:cubicBezTo>
                    <a:pt x="1359789" y="128397"/>
                    <a:pt x="1360170" y="130112"/>
                    <a:pt x="1360932" y="132017"/>
                  </a:cubicBezTo>
                  <a:cubicBezTo>
                    <a:pt x="1361694" y="133922"/>
                    <a:pt x="1362075" y="135763"/>
                    <a:pt x="1362075" y="137541"/>
                  </a:cubicBezTo>
                  <a:cubicBezTo>
                    <a:pt x="1362075" y="142621"/>
                    <a:pt x="1356741" y="146685"/>
                    <a:pt x="1346073" y="149733"/>
                  </a:cubicBezTo>
                  <a:cubicBezTo>
                    <a:pt x="1319403" y="157861"/>
                    <a:pt x="1301306" y="170371"/>
                    <a:pt x="1291781" y="187262"/>
                  </a:cubicBezTo>
                  <a:cubicBezTo>
                    <a:pt x="1282256" y="204153"/>
                    <a:pt x="1277493" y="221742"/>
                    <a:pt x="1277493" y="240030"/>
                  </a:cubicBezTo>
                  <a:cubicBezTo>
                    <a:pt x="1277493" y="245110"/>
                    <a:pt x="1282065" y="249047"/>
                    <a:pt x="1291209" y="251841"/>
                  </a:cubicBezTo>
                  <a:cubicBezTo>
                    <a:pt x="1300353" y="254635"/>
                    <a:pt x="1311910" y="256032"/>
                    <a:pt x="1325880" y="256032"/>
                  </a:cubicBezTo>
                  <a:cubicBezTo>
                    <a:pt x="1339850" y="256032"/>
                    <a:pt x="1353312" y="255207"/>
                    <a:pt x="1366266" y="253556"/>
                  </a:cubicBezTo>
                  <a:cubicBezTo>
                    <a:pt x="1379220" y="251905"/>
                    <a:pt x="1389253" y="249809"/>
                    <a:pt x="1396365" y="247269"/>
                  </a:cubicBezTo>
                  <a:cubicBezTo>
                    <a:pt x="1403477" y="244729"/>
                    <a:pt x="1409002" y="241427"/>
                    <a:pt x="1412939" y="237363"/>
                  </a:cubicBezTo>
                  <a:cubicBezTo>
                    <a:pt x="1416876" y="233299"/>
                    <a:pt x="1419479" y="228791"/>
                    <a:pt x="1420749" y="223838"/>
                  </a:cubicBezTo>
                  <a:cubicBezTo>
                    <a:pt x="1422019" y="218885"/>
                    <a:pt x="1422654" y="211519"/>
                    <a:pt x="1422654" y="201740"/>
                  </a:cubicBezTo>
                  <a:cubicBezTo>
                    <a:pt x="1422654" y="191961"/>
                    <a:pt x="1423035" y="187071"/>
                    <a:pt x="1423797" y="187071"/>
                  </a:cubicBezTo>
                  <a:cubicBezTo>
                    <a:pt x="1424559" y="187071"/>
                    <a:pt x="1426083" y="191135"/>
                    <a:pt x="1428369" y="199263"/>
                  </a:cubicBezTo>
                  <a:cubicBezTo>
                    <a:pt x="1433957" y="220599"/>
                    <a:pt x="1440180" y="235839"/>
                    <a:pt x="1447038" y="244983"/>
                  </a:cubicBezTo>
                  <a:cubicBezTo>
                    <a:pt x="1449832" y="248539"/>
                    <a:pt x="1451229" y="251968"/>
                    <a:pt x="1451229" y="255270"/>
                  </a:cubicBezTo>
                  <a:cubicBezTo>
                    <a:pt x="1451229" y="263906"/>
                    <a:pt x="1441831" y="270955"/>
                    <a:pt x="1423035" y="276416"/>
                  </a:cubicBezTo>
                  <a:cubicBezTo>
                    <a:pt x="1404239" y="281877"/>
                    <a:pt x="1379982" y="284607"/>
                    <a:pt x="1350264" y="284607"/>
                  </a:cubicBezTo>
                  <a:cubicBezTo>
                    <a:pt x="1333754" y="284607"/>
                    <a:pt x="1320546" y="283845"/>
                    <a:pt x="1310640" y="282321"/>
                  </a:cubicBezTo>
                  <a:cubicBezTo>
                    <a:pt x="1300734" y="280797"/>
                    <a:pt x="1293432" y="278829"/>
                    <a:pt x="1288733" y="276416"/>
                  </a:cubicBezTo>
                  <a:cubicBezTo>
                    <a:pt x="1284034" y="274003"/>
                    <a:pt x="1279652" y="270701"/>
                    <a:pt x="1275588" y="266510"/>
                  </a:cubicBezTo>
                  <a:cubicBezTo>
                    <a:pt x="1271524" y="262319"/>
                    <a:pt x="1268476" y="257493"/>
                    <a:pt x="1266444" y="252032"/>
                  </a:cubicBezTo>
                  <a:cubicBezTo>
                    <a:pt x="1264412" y="246571"/>
                    <a:pt x="1263396" y="237554"/>
                    <a:pt x="1263396" y="224981"/>
                  </a:cubicBezTo>
                  <a:cubicBezTo>
                    <a:pt x="1263396" y="212408"/>
                    <a:pt x="1266571" y="193929"/>
                    <a:pt x="1272921" y="169545"/>
                  </a:cubicBezTo>
                  <a:cubicBezTo>
                    <a:pt x="1268603" y="163703"/>
                    <a:pt x="1266444" y="158687"/>
                    <a:pt x="1266444" y="154496"/>
                  </a:cubicBezTo>
                  <a:cubicBezTo>
                    <a:pt x="1266444" y="150305"/>
                    <a:pt x="1270508" y="147066"/>
                    <a:pt x="1278636" y="144780"/>
                  </a:cubicBezTo>
                  <a:cubicBezTo>
                    <a:pt x="1298702" y="139192"/>
                    <a:pt x="1312101" y="133541"/>
                    <a:pt x="1318832" y="127826"/>
                  </a:cubicBezTo>
                  <a:cubicBezTo>
                    <a:pt x="1325563" y="122111"/>
                    <a:pt x="1330770" y="115443"/>
                    <a:pt x="1334453" y="107823"/>
                  </a:cubicBezTo>
                  <a:cubicBezTo>
                    <a:pt x="1338136" y="100203"/>
                    <a:pt x="1339977" y="94742"/>
                    <a:pt x="1339977" y="91440"/>
                  </a:cubicBezTo>
                  <a:cubicBezTo>
                    <a:pt x="1339977" y="88138"/>
                    <a:pt x="1338961" y="86487"/>
                    <a:pt x="1336929" y="86487"/>
                  </a:cubicBezTo>
                  <a:cubicBezTo>
                    <a:pt x="1333119" y="86487"/>
                    <a:pt x="1327595" y="90488"/>
                    <a:pt x="1320356" y="98489"/>
                  </a:cubicBezTo>
                  <a:cubicBezTo>
                    <a:pt x="1313117" y="106490"/>
                    <a:pt x="1304544" y="110490"/>
                    <a:pt x="1294638" y="110490"/>
                  </a:cubicBezTo>
                  <a:cubicBezTo>
                    <a:pt x="1290320" y="110490"/>
                    <a:pt x="1286002" y="109728"/>
                    <a:pt x="1281684" y="108204"/>
                  </a:cubicBezTo>
                  <a:cubicBezTo>
                    <a:pt x="1272286" y="108966"/>
                    <a:pt x="1263587" y="115062"/>
                    <a:pt x="1255586" y="126492"/>
                  </a:cubicBezTo>
                  <a:cubicBezTo>
                    <a:pt x="1247585" y="137922"/>
                    <a:pt x="1237044" y="162624"/>
                    <a:pt x="1223963" y="200597"/>
                  </a:cubicBezTo>
                  <a:cubicBezTo>
                    <a:pt x="1210882" y="238570"/>
                    <a:pt x="1204341" y="262128"/>
                    <a:pt x="1204341" y="271272"/>
                  </a:cubicBezTo>
                  <a:lnTo>
                    <a:pt x="1205103" y="283083"/>
                  </a:lnTo>
                  <a:cubicBezTo>
                    <a:pt x="1205103" y="288671"/>
                    <a:pt x="1203198" y="291465"/>
                    <a:pt x="1199388" y="291465"/>
                  </a:cubicBezTo>
                  <a:cubicBezTo>
                    <a:pt x="1195578" y="291465"/>
                    <a:pt x="1190752" y="286893"/>
                    <a:pt x="1184910" y="277749"/>
                  </a:cubicBezTo>
                  <a:cubicBezTo>
                    <a:pt x="1179068" y="268605"/>
                    <a:pt x="1176147" y="260985"/>
                    <a:pt x="1176147" y="254889"/>
                  </a:cubicBezTo>
                  <a:cubicBezTo>
                    <a:pt x="1176147" y="253111"/>
                    <a:pt x="1176274" y="251333"/>
                    <a:pt x="1176528" y="249555"/>
                  </a:cubicBezTo>
                  <a:cubicBezTo>
                    <a:pt x="1177544" y="244475"/>
                    <a:pt x="1178497" y="233617"/>
                    <a:pt x="1179386" y="216980"/>
                  </a:cubicBezTo>
                  <a:cubicBezTo>
                    <a:pt x="1180275" y="200343"/>
                    <a:pt x="1180719" y="183134"/>
                    <a:pt x="1180719" y="165354"/>
                  </a:cubicBezTo>
                  <a:cubicBezTo>
                    <a:pt x="1172337" y="176530"/>
                    <a:pt x="1166749" y="184150"/>
                    <a:pt x="1163955" y="188214"/>
                  </a:cubicBezTo>
                  <a:cubicBezTo>
                    <a:pt x="1161161" y="192278"/>
                    <a:pt x="1158240" y="194945"/>
                    <a:pt x="1155192" y="196215"/>
                  </a:cubicBezTo>
                  <a:cubicBezTo>
                    <a:pt x="1152144" y="197485"/>
                    <a:pt x="1149223" y="198120"/>
                    <a:pt x="1146429" y="198120"/>
                  </a:cubicBezTo>
                  <a:cubicBezTo>
                    <a:pt x="1137285" y="198120"/>
                    <a:pt x="1129792" y="193612"/>
                    <a:pt x="1123950" y="184595"/>
                  </a:cubicBezTo>
                  <a:cubicBezTo>
                    <a:pt x="1118108" y="175578"/>
                    <a:pt x="1115187" y="166878"/>
                    <a:pt x="1115187" y="158496"/>
                  </a:cubicBezTo>
                  <a:cubicBezTo>
                    <a:pt x="1115187" y="153670"/>
                    <a:pt x="1116394" y="148717"/>
                    <a:pt x="1118807" y="143637"/>
                  </a:cubicBezTo>
                  <a:cubicBezTo>
                    <a:pt x="1121220" y="138557"/>
                    <a:pt x="1122871" y="136017"/>
                    <a:pt x="1123760" y="136017"/>
                  </a:cubicBezTo>
                  <a:cubicBezTo>
                    <a:pt x="1124649" y="136017"/>
                    <a:pt x="1125093" y="137224"/>
                    <a:pt x="1125093" y="139637"/>
                  </a:cubicBezTo>
                  <a:cubicBezTo>
                    <a:pt x="1125093" y="142050"/>
                    <a:pt x="1124839" y="144907"/>
                    <a:pt x="1124331" y="148209"/>
                  </a:cubicBezTo>
                  <a:cubicBezTo>
                    <a:pt x="1123823" y="151511"/>
                    <a:pt x="1123569" y="154369"/>
                    <a:pt x="1123569" y="156782"/>
                  </a:cubicBezTo>
                  <a:cubicBezTo>
                    <a:pt x="1123569" y="159195"/>
                    <a:pt x="1125220" y="160401"/>
                    <a:pt x="1128522" y="160401"/>
                  </a:cubicBezTo>
                  <a:cubicBezTo>
                    <a:pt x="1135634" y="160401"/>
                    <a:pt x="1144080" y="157544"/>
                    <a:pt x="1153859" y="151829"/>
                  </a:cubicBezTo>
                  <a:cubicBezTo>
                    <a:pt x="1163638" y="146114"/>
                    <a:pt x="1169797" y="141288"/>
                    <a:pt x="1172337" y="137351"/>
                  </a:cubicBezTo>
                  <a:cubicBezTo>
                    <a:pt x="1174877" y="133414"/>
                    <a:pt x="1178497" y="130429"/>
                    <a:pt x="1183196" y="128397"/>
                  </a:cubicBezTo>
                  <a:cubicBezTo>
                    <a:pt x="1187895" y="126365"/>
                    <a:pt x="1193102" y="125349"/>
                    <a:pt x="1198817" y="125349"/>
                  </a:cubicBezTo>
                  <a:cubicBezTo>
                    <a:pt x="1204532" y="125349"/>
                    <a:pt x="1209104" y="127445"/>
                    <a:pt x="1212533" y="131636"/>
                  </a:cubicBezTo>
                  <a:cubicBezTo>
                    <a:pt x="1215962" y="135827"/>
                    <a:pt x="1217676" y="140335"/>
                    <a:pt x="1217676" y="145161"/>
                  </a:cubicBezTo>
                  <a:cubicBezTo>
                    <a:pt x="1217676" y="148463"/>
                    <a:pt x="1216343" y="152464"/>
                    <a:pt x="1213676" y="157163"/>
                  </a:cubicBezTo>
                  <a:cubicBezTo>
                    <a:pt x="1211009" y="161862"/>
                    <a:pt x="1208151" y="170180"/>
                    <a:pt x="1205103" y="182118"/>
                  </a:cubicBezTo>
                  <a:cubicBezTo>
                    <a:pt x="1202055" y="194056"/>
                    <a:pt x="1200531" y="202692"/>
                    <a:pt x="1200531" y="208026"/>
                  </a:cubicBezTo>
                  <a:cubicBezTo>
                    <a:pt x="1200531" y="213360"/>
                    <a:pt x="1200785" y="216916"/>
                    <a:pt x="1201293" y="218694"/>
                  </a:cubicBezTo>
                  <a:cubicBezTo>
                    <a:pt x="1215263" y="187706"/>
                    <a:pt x="1226820" y="163957"/>
                    <a:pt x="1235964" y="147447"/>
                  </a:cubicBezTo>
                  <a:cubicBezTo>
                    <a:pt x="1245108" y="130937"/>
                    <a:pt x="1255395" y="116078"/>
                    <a:pt x="1266825" y="102870"/>
                  </a:cubicBezTo>
                  <a:cubicBezTo>
                    <a:pt x="1266571" y="101854"/>
                    <a:pt x="1266444" y="100965"/>
                    <a:pt x="1266444" y="100203"/>
                  </a:cubicBezTo>
                  <a:cubicBezTo>
                    <a:pt x="1266444" y="96139"/>
                    <a:pt x="1270381" y="91821"/>
                    <a:pt x="1278255" y="87249"/>
                  </a:cubicBezTo>
                  <a:cubicBezTo>
                    <a:pt x="1286129" y="82677"/>
                    <a:pt x="1301369" y="75946"/>
                    <a:pt x="1323975" y="67056"/>
                  </a:cubicBezTo>
                  <a:cubicBezTo>
                    <a:pt x="1330579" y="56896"/>
                    <a:pt x="1336421" y="51816"/>
                    <a:pt x="1341501" y="51816"/>
                  </a:cubicBezTo>
                  <a:close/>
                  <a:moveTo>
                    <a:pt x="1177481" y="42672"/>
                  </a:moveTo>
                  <a:cubicBezTo>
                    <a:pt x="1178116" y="42672"/>
                    <a:pt x="1179513" y="43180"/>
                    <a:pt x="1181672" y="44196"/>
                  </a:cubicBezTo>
                  <a:cubicBezTo>
                    <a:pt x="1183831" y="45212"/>
                    <a:pt x="1185672" y="45720"/>
                    <a:pt x="1187196" y="45720"/>
                  </a:cubicBezTo>
                  <a:cubicBezTo>
                    <a:pt x="1188720" y="45720"/>
                    <a:pt x="1190498" y="45466"/>
                    <a:pt x="1192530" y="44958"/>
                  </a:cubicBezTo>
                  <a:cubicBezTo>
                    <a:pt x="1194562" y="44450"/>
                    <a:pt x="1196467" y="44196"/>
                    <a:pt x="1198245" y="44196"/>
                  </a:cubicBezTo>
                  <a:cubicBezTo>
                    <a:pt x="1201293" y="44196"/>
                    <a:pt x="1208659" y="45149"/>
                    <a:pt x="1220343" y="47054"/>
                  </a:cubicBezTo>
                  <a:cubicBezTo>
                    <a:pt x="1232027" y="48959"/>
                    <a:pt x="1238949" y="52324"/>
                    <a:pt x="1241108" y="57150"/>
                  </a:cubicBezTo>
                  <a:cubicBezTo>
                    <a:pt x="1243267" y="61976"/>
                    <a:pt x="1244346" y="66866"/>
                    <a:pt x="1244346" y="71819"/>
                  </a:cubicBezTo>
                  <a:cubicBezTo>
                    <a:pt x="1244346" y="76772"/>
                    <a:pt x="1243584" y="79820"/>
                    <a:pt x="1242060" y="80963"/>
                  </a:cubicBezTo>
                  <a:cubicBezTo>
                    <a:pt x="1240536" y="82106"/>
                    <a:pt x="1237425" y="83249"/>
                    <a:pt x="1232726" y="84392"/>
                  </a:cubicBezTo>
                  <a:cubicBezTo>
                    <a:pt x="1228027" y="85535"/>
                    <a:pt x="1223836" y="86805"/>
                    <a:pt x="1220153" y="88202"/>
                  </a:cubicBezTo>
                  <a:cubicBezTo>
                    <a:pt x="1216470" y="89599"/>
                    <a:pt x="1208405" y="93218"/>
                    <a:pt x="1195959" y="99060"/>
                  </a:cubicBezTo>
                  <a:lnTo>
                    <a:pt x="1155192" y="118491"/>
                  </a:lnTo>
                  <a:cubicBezTo>
                    <a:pt x="1148588" y="121539"/>
                    <a:pt x="1144588" y="123063"/>
                    <a:pt x="1143191" y="123063"/>
                  </a:cubicBezTo>
                  <a:cubicBezTo>
                    <a:pt x="1141794" y="123063"/>
                    <a:pt x="1141095" y="122936"/>
                    <a:pt x="1141095" y="122682"/>
                  </a:cubicBezTo>
                  <a:cubicBezTo>
                    <a:pt x="1141095" y="121920"/>
                    <a:pt x="1142238" y="120777"/>
                    <a:pt x="1144524" y="119253"/>
                  </a:cubicBezTo>
                  <a:cubicBezTo>
                    <a:pt x="1152652" y="113919"/>
                    <a:pt x="1161923" y="106617"/>
                    <a:pt x="1172337" y="97346"/>
                  </a:cubicBezTo>
                  <a:cubicBezTo>
                    <a:pt x="1182751" y="88075"/>
                    <a:pt x="1189165" y="81915"/>
                    <a:pt x="1191578" y="78867"/>
                  </a:cubicBezTo>
                  <a:cubicBezTo>
                    <a:pt x="1193991" y="75819"/>
                    <a:pt x="1195197" y="73152"/>
                    <a:pt x="1195197" y="70866"/>
                  </a:cubicBezTo>
                  <a:cubicBezTo>
                    <a:pt x="1195197" y="68834"/>
                    <a:pt x="1193292" y="66548"/>
                    <a:pt x="1189482" y="64008"/>
                  </a:cubicBezTo>
                  <a:cubicBezTo>
                    <a:pt x="1185672" y="61468"/>
                    <a:pt x="1182561" y="57785"/>
                    <a:pt x="1180148" y="52959"/>
                  </a:cubicBezTo>
                  <a:cubicBezTo>
                    <a:pt x="1177735" y="48133"/>
                    <a:pt x="1176528" y="45212"/>
                    <a:pt x="1176528" y="44196"/>
                  </a:cubicBezTo>
                  <a:cubicBezTo>
                    <a:pt x="1176528" y="43180"/>
                    <a:pt x="1176846" y="42672"/>
                    <a:pt x="1177481" y="42672"/>
                  </a:cubicBezTo>
                  <a:close/>
                  <a:moveTo>
                    <a:pt x="826008" y="32004"/>
                  </a:moveTo>
                  <a:cubicBezTo>
                    <a:pt x="828040" y="32004"/>
                    <a:pt x="830263" y="32385"/>
                    <a:pt x="832676" y="33147"/>
                  </a:cubicBezTo>
                  <a:cubicBezTo>
                    <a:pt x="835089" y="33909"/>
                    <a:pt x="838708" y="34290"/>
                    <a:pt x="843534" y="34290"/>
                  </a:cubicBezTo>
                  <a:cubicBezTo>
                    <a:pt x="861314" y="34290"/>
                    <a:pt x="874205" y="37592"/>
                    <a:pt x="882206" y="44196"/>
                  </a:cubicBezTo>
                  <a:cubicBezTo>
                    <a:pt x="890207" y="50800"/>
                    <a:pt x="894207" y="56896"/>
                    <a:pt x="894207" y="62484"/>
                  </a:cubicBezTo>
                  <a:cubicBezTo>
                    <a:pt x="894207" y="66548"/>
                    <a:pt x="892302" y="69977"/>
                    <a:pt x="888492" y="72771"/>
                  </a:cubicBezTo>
                  <a:cubicBezTo>
                    <a:pt x="884682" y="75565"/>
                    <a:pt x="880110" y="76962"/>
                    <a:pt x="874776" y="76962"/>
                  </a:cubicBezTo>
                  <a:lnTo>
                    <a:pt x="867537" y="76581"/>
                  </a:lnTo>
                  <a:cubicBezTo>
                    <a:pt x="863473" y="76581"/>
                    <a:pt x="857504" y="78423"/>
                    <a:pt x="849630" y="82106"/>
                  </a:cubicBezTo>
                  <a:cubicBezTo>
                    <a:pt x="841756" y="85789"/>
                    <a:pt x="827532" y="90551"/>
                    <a:pt x="806958" y="96393"/>
                  </a:cubicBezTo>
                  <a:cubicBezTo>
                    <a:pt x="795020" y="99949"/>
                    <a:pt x="785305" y="105918"/>
                    <a:pt x="777812" y="114300"/>
                  </a:cubicBezTo>
                  <a:cubicBezTo>
                    <a:pt x="770319" y="122682"/>
                    <a:pt x="766572" y="131826"/>
                    <a:pt x="766572" y="141732"/>
                  </a:cubicBezTo>
                  <a:cubicBezTo>
                    <a:pt x="766572" y="145796"/>
                    <a:pt x="767080" y="148654"/>
                    <a:pt x="768096" y="150305"/>
                  </a:cubicBezTo>
                  <a:cubicBezTo>
                    <a:pt x="769112" y="151956"/>
                    <a:pt x="771335" y="152781"/>
                    <a:pt x="774764" y="152781"/>
                  </a:cubicBezTo>
                  <a:cubicBezTo>
                    <a:pt x="778193" y="152781"/>
                    <a:pt x="785114" y="149670"/>
                    <a:pt x="795528" y="143447"/>
                  </a:cubicBezTo>
                  <a:cubicBezTo>
                    <a:pt x="805942" y="137224"/>
                    <a:pt x="813372" y="132842"/>
                    <a:pt x="817817" y="130302"/>
                  </a:cubicBezTo>
                  <a:cubicBezTo>
                    <a:pt x="822262" y="127762"/>
                    <a:pt x="824865" y="124397"/>
                    <a:pt x="825627" y="120206"/>
                  </a:cubicBezTo>
                  <a:cubicBezTo>
                    <a:pt x="826389" y="116015"/>
                    <a:pt x="827405" y="113602"/>
                    <a:pt x="828675" y="112967"/>
                  </a:cubicBezTo>
                  <a:cubicBezTo>
                    <a:pt x="829945" y="112332"/>
                    <a:pt x="833565" y="112014"/>
                    <a:pt x="839534" y="112014"/>
                  </a:cubicBezTo>
                  <a:cubicBezTo>
                    <a:pt x="845503" y="112014"/>
                    <a:pt x="850519" y="114237"/>
                    <a:pt x="854583" y="118682"/>
                  </a:cubicBezTo>
                  <a:cubicBezTo>
                    <a:pt x="858647" y="123127"/>
                    <a:pt x="860679" y="127381"/>
                    <a:pt x="860679" y="131445"/>
                  </a:cubicBezTo>
                  <a:cubicBezTo>
                    <a:pt x="860679" y="137287"/>
                    <a:pt x="857758" y="146304"/>
                    <a:pt x="851916" y="158496"/>
                  </a:cubicBezTo>
                  <a:cubicBezTo>
                    <a:pt x="849884" y="162560"/>
                    <a:pt x="847916" y="171831"/>
                    <a:pt x="846011" y="186309"/>
                  </a:cubicBezTo>
                  <a:cubicBezTo>
                    <a:pt x="844106" y="200787"/>
                    <a:pt x="843153" y="211265"/>
                    <a:pt x="843153" y="217742"/>
                  </a:cubicBezTo>
                  <a:cubicBezTo>
                    <a:pt x="843153" y="224219"/>
                    <a:pt x="843280" y="228219"/>
                    <a:pt x="843534" y="229743"/>
                  </a:cubicBezTo>
                  <a:cubicBezTo>
                    <a:pt x="850900" y="220091"/>
                    <a:pt x="857885" y="209931"/>
                    <a:pt x="864489" y="199263"/>
                  </a:cubicBezTo>
                  <a:cubicBezTo>
                    <a:pt x="871093" y="188595"/>
                    <a:pt x="874903" y="182055"/>
                    <a:pt x="875919" y="179642"/>
                  </a:cubicBezTo>
                  <a:cubicBezTo>
                    <a:pt x="876935" y="177229"/>
                    <a:pt x="877824" y="176022"/>
                    <a:pt x="878586" y="176022"/>
                  </a:cubicBezTo>
                  <a:cubicBezTo>
                    <a:pt x="880364" y="176022"/>
                    <a:pt x="881253" y="180340"/>
                    <a:pt x="881253" y="188976"/>
                  </a:cubicBezTo>
                  <a:cubicBezTo>
                    <a:pt x="881253" y="194310"/>
                    <a:pt x="879729" y="199136"/>
                    <a:pt x="876681" y="203454"/>
                  </a:cubicBezTo>
                  <a:cubicBezTo>
                    <a:pt x="873125" y="208280"/>
                    <a:pt x="867601" y="219710"/>
                    <a:pt x="860108" y="237744"/>
                  </a:cubicBezTo>
                  <a:cubicBezTo>
                    <a:pt x="852615" y="255778"/>
                    <a:pt x="846582" y="273558"/>
                    <a:pt x="842010" y="291084"/>
                  </a:cubicBezTo>
                  <a:cubicBezTo>
                    <a:pt x="840994" y="294640"/>
                    <a:pt x="839153" y="297942"/>
                    <a:pt x="836486" y="300990"/>
                  </a:cubicBezTo>
                  <a:cubicBezTo>
                    <a:pt x="833819" y="304038"/>
                    <a:pt x="830961" y="305562"/>
                    <a:pt x="827913" y="305562"/>
                  </a:cubicBezTo>
                  <a:cubicBezTo>
                    <a:pt x="824865" y="305562"/>
                    <a:pt x="822198" y="304229"/>
                    <a:pt x="819912" y="301562"/>
                  </a:cubicBezTo>
                  <a:cubicBezTo>
                    <a:pt x="817626" y="298895"/>
                    <a:pt x="814642" y="293116"/>
                    <a:pt x="810959" y="284226"/>
                  </a:cubicBezTo>
                  <a:cubicBezTo>
                    <a:pt x="807276" y="275336"/>
                    <a:pt x="805434" y="269177"/>
                    <a:pt x="805434" y="265748"/>
                  </a:cubicBezTo>
                  <a:cubicBezTo>
                    <a:pt x="805434" y="262319"/>
                    <a:pt x="806831" y="260223"/>
                    <a:pt x="809625" y="259461"/>
                  </a:cubicBezTo>
                  <a:cubicBezTo>
                    <a:pt x="811149" y="258953"/>
                    <a:pt x="812165" y="257429"/>
                    <a:pt x="812673" y="254889"/>
                  </a:cubicBezTo>
                  <a:cubicBezTo>
                    <a:pt x="813181" y="252349"/>
                    <a:pt x="813689" y="244094"/>
                    <a:pt x="814197" y="230124"/>
                  </a:cubicBezTo>
                  <a:lnTo>
                    <a:pt x="814959" y="182880"/>
                  </a:lnTo>
                  <a:cubicBezTo>
                    <a:pt x="807085" y="189484"/>
                    <a:pt x="798195" y="192786"/>
                    <a:pt x="788289" y="192786"/>
                  </a:cubicBezTo>
                  <a:cubicBezTo>
                    <a:pt x="782447" y="192786"/>
                    <a:pt x="777685" y="191643"/>
                    <a:pt x="774002" y="189357"/>
                  </a:cubicBezTo>
                  <a:cubicBezTo>
                    <a:pt x="770319" y="187071"/>
                    <a:pt x="766318" y="181674"/>
                    <a:pt x="762000" y="173165"/>
                  </a:cubicBezTo>
                  <a:cubicBezTo>
                    <a:pt x="757682" y="164656"/>
                    <a:pt x="755523" y="156274"/>
                    <a:pt x="755523" y="148019"/>
                  </a:cubicBezTo>
                  <a:cubicBezTo>
                    <a:pt x="755523" y="139764"/>
                    <a:pt x="757111" y="132271"/>
                    <a:pt x="760286" y="125540"/>
                  </a:cubicBezTo>
                  <a:cubicBezTo>
                    <a:pt x="763461" y="118809"/>
                    <a:pt x="767969" y="112713"/>
                    <a:pt x="773811" y="107252"/>
                  </a:cubicBezTo>
                  <a:cubicBezTo>
                    <a:pt x="779653" y="101791"/>
                    <a:pt x="795655" y="88265"/>
                    <a:pt x="821817" y="66675"/>
                  </a:cubicBezTo>
                  <a:cubicBezTo>
                    <a:pt x="828167" y="61341"/>
                    <a:pt x="831914" y="58230"/>
                    <a:pt x="833057" y="57341"/>
                  </a:cubicBezTo>
                  <a:cubicBezTo>
                    <a:pt x="834200" y="56452"/>
                    <a:pt x="834771" y="54547"/>
                    <a:pt x="834771" y="51626"/>
                  </a:cubicBezTo>
                  <a:cubicBezTo>
                    <a:pt x="834771" y="48705"/>
                    <a:pt x="831977" y="44831"/>
                    <a:pt x="826389" y="40005"/>
                  </a:cubicBezTo>
                  <a:cubicBezTo>
                    <a:pt x="824103" y="37973"/>
                    <a:pt x="822960" y="36132"/>
                    <a:pt x="822960" y="34481"/>
                  </a:cubicBezTo>
                  <a:cubicBezTo>
                    <a:pt x="822960" y="32830"/>
                    <a:pt x="823976" y="32004"/>
                    <a:pt x="826008" y="32004"/>
                  </a:cubicBezTo>
                  <a:close/>
                  <a:moveTo>
                    <a:pt x="470535" y="32004"/>
                  </a:moveTo>
                  <a:cubicBezTo>
                    <a:pt x="474345" y="32004"/>
                    <a:pt x="482664" y="33084"/>
                    <a:pt x="495491" y="35243"/>
                  </a:cubicBezTo>
                  <a:cubicBezTo>
                    <a:pt x="508318" y="37402"/>
                    <a:pt x="516890" y="41339"/>
                    <a:pt x="521208" y="47054"/>
                  </a:cubicBezTo>
                  <a:cubicBezTo>
                    <a:pt x="525526" y="52769"/>
                    <a:pt x="527685" y="57595"/>
                    <a:pt x="527685" y="61532"/>
                  </a:cubicBezTo>
                  <a:cubicBezTo>
                    <a:pt x="527685" y="65469"/>
                    <a:pt x="525844" y="68771"/>
                    <a:pt x="522161" y="71438"/>
                  </a:cubicBezTo>
                  <a:cubicBezTo>
                    <a:pt x="518478" y="74105"/>
                    <a:pt x="514096" y="75565"/>
                    <a:pt x="509016" y="75819"/>
                  </a:cubicBezTo>
                  <a:cubicBezTo>
                    <a:pt x="503936" y="76073"/>
                    <a:pt x="499110" y="76962"/>
                    <a:pt x="494538" y="78486"/>
                  </a:cubicBezTo>
                  <a:cubicBezTo>
                    <a:pt x="489966" y="80010"/>
                    <a:pt x="480251" y="83820"/>
                    <a:pt x="465392" y="89916"/>
                  </a:cubicBezTo>
                  <a:cubicBezTo>
                    <a:pt x="450533" y="96012"/>
                    <a:pt x="441706" y="99060"/>
                    <a:pt x="438912" y="99060"/>
                  </a:cubicBezTo>
                  <a:cubicBezTo>
                    <a:pt x="437896" y="99060"/>
                    <a:pt x="437388" y="98806"/>
                    <a:pt x="437388" y="98298"/>
                  </a:cubicBezTo>
                  <a:cubicBezTo>
                    <a:pt x="437388" y="97282"/>
                    <a:pt x="439547" y="94933"/>
                    <a:pt x="443865" y="91250"/>
                  </a:cubicBezTo>
                  <a:cubicBezTo>
                    <a:pt x="448183" y="87567"/>
                    <a:pt x="454470" y="81661"/>
                    <a:pt x="462725" y="73533"/>
                  </a:cubicBezTo>
                  <a:cubicBezTo>
                    <a:pt x="470980" y="65405"/>
                    <a:pt x="475488" y="60579"/>
                    <a:pt x="476250" y="59055"/>
                  </a:cubicBezTo>
                  <a:cubicBezTo>
                    <a:pt x="477012" y="57531"/>
                    <a:pt x="477393" y="56007"/>
                    <a:pt x="477393" y="54483"/>
                  </a:cubicBezTo>
                  <a:cubicBezTo>
                    <a:pt x="477393" y="50673"/>
                    <a:pt x="474599" y="45466"/>
                    <a:pt x="469011" y="38862"/>
                  </a:cubicBezTo>
                  <a:cubicBezTo>
                    <a:pt x="467233" y="36576"/>
                    <a:pt x="466344" y="34862"/>
                    <a:pt x="466344" y="33719"/>
                  </a:cubicBezTo>
                  <a:cubicBezTo>
                    <a:pt x="466344" y="32576"/>
                    <a:pt x="467741" y="32004"/>
                    <a:pt x="470535" y="32004"/>
                  </a:cubicBezTo>
                  <a:close/>
                  <a:moveTo>
                    <a:pt x="97536" y="0"/>
                  </a:moveTo>
                  <a:cubicBezTo>
                    <a:pt x="120396" y="0"/>
                    <a:pt x="142113" y="9271"/>
                    <a:pt x="162687" y="27813"/>
                  </a:cubicBezTo>
                  <a:cubicBezTo>
                    <a:pt x="169799" y="27559"/>
                    <a:pt x="179388" y="27432"/>
                    <a:pt x="191453" y="27432"/>
                  </a:cubicBezTo>
                  <a:cubicBezTo>
                    <a:pt x="203518" y="27432"/>
                    <a:pt x="215964" y="28893"/>
                    <a:pt x="228791" y="31814"/>
                  </a:cubicBezTo>
                  <a:cubicBezTo>
                    <a:pt x="241618" y="34735"/>
                    <a:pt x="250190" y="40640"/>
                    <a:pt x="254508" y="49530"/>
                  </a:cubicBezTo>
                  <a:cubicBezTo>
                    <a:pt x="258826" y="58420"/>
                    <a:pt x="260985" y="64770"/>
                    <a:pt x="260985" y="68580"/>
                  </a:cubicBezTo>
                  <a:cubicBezTo>
                    <a:pt x="260985" y="72390"/>
                    <a:pt x="259715" y="75502"/>
                    <a:pt x="257175" y="77915"/>
                  </a:cubicBezTo>
                  <a:cubicBezTo>
                    <a:pt x="254635" y="80328"/>
                    <a:pt x="242951" y="84963"/>
                    <a:pt x="222123" y="91821"/>
                  </a:cubicBezTo>
                  <a:cubicBezTo>
                    <a:pt x="201295" y="98679"/>
                    <a:pt x="187325" y="103124"/>
                    <a:pt x="180213" y="105156"/>
                  </a:cubicBezTo>
                  <a:cubicBezTo>
                    <a:pt x="186563" y="110490"/>
                    <a:pt x="189738" y="116396"/>
                    <a:pt x="189738" y="122873"/>
                  </a:cubicBezTo>
                  <a:cubicBezTo>
                    <a:pt x="189738" y="129350"/>
                    <a:pt x="187706" y="134620"/>
                    <a:pt x="183642" y="138684"/>
                  </a:cubicBezTo>
                  <a:cubicBezTo>
                    <a:pt x="174752" y="147574"/>
                    <a:pt x="166497" y="158242"/>
                    <a:pt x="158877" y="170688"/>
                  </a:cubicBezTo>
                  <a:cubicBezTo>
                    <a:pt x="165989" y="173990"/>
                    <a:pt x="171958" y="179070"/>
                    <a:pt x="176784" y="185928"/>
                  </a:cubicBezTo>
                  <a:cubicBezTo>
                    <a:pt x="179578" y="185674"/>
                    <a:pt x="182245" y="185547"/>
                    <a:pt x="184785" y="185547"/>
                  </a:cubicBezTo>
                  <a:cubicBezTo>
                    <a:pt x="195961" y="185547"/>
                    <a:pt x="205232" y="189230"/>
                    <a:pt x="212598" y="196596"/>
                  </a:cubicBezTo>
                  <a:cubicBezTo>
                    <a:pt x="219964" y="203962"/>
                    <a:pt x="223647" y="210312"/>
                    <a:pt x="223647" y="215646"/>
                  </a:cubicBezTo>
                  <a:cubicBezTo>
                    <a:pt x="223647" y="220980"/>
                    <a:pt x="222377" y="224854"/>
                    <a:pt x="219837" y="227267"/>
                  </a:cubicBezTo>
                  <a:cubicBezTo>
                    <a:pt x="217297" y="229680"/>
                    <a:pt x="213995" y="230886"/>
                    <a:pt x="209931" y="230886"/>
                  </a:cubicBezTo>
                  <a:lnTo>
                    <a:pt x="203454" y="230505"/>
                  </a:lnTo>
                  <a:cubicBezTo>
                    <a:pt x="199898" y="230505"/>
                    <a:pt x="195326" y="231521"/>
                    <a:pt x="189738" y="233553"/>
                  </a:cubicBezTo>
                  <a:cubicBezTo>
                    <a:pt x="189484" y="263779"/>
                    <a:pt x="186754" y="286766"/>
                    <a:pt x="181547" y="302514"/>
                  </a:cubicBezTo>
                  <a:cubicBezTo>
                    <a:pt x="176340" y="318262"/>
                    <a:pt x="169228" y="329629"/>
                    <a:pt x="160211" y="336614"/>
                  </a:cubicBezTo>
                  <a:cubicBezTo>
                    <a:pt x="151194" y="343599"/>
                    <a:pt x="144971" y="347091"/>
                    <a:pt x="141542" y="347091"/>
                  </a:cubicBezTo>
                  <a:cubicBezTo>
                    <a:pt x="138113" y="347091"/>
                    <a:pt x="130302" y="343535"/>
                    <a:pt x="118110" y="336423"/>
                  </a:cubicBezTo>
                  <a:cubicBezTo>
                    <a:pt x="105918" y="329311"/>
                    <a:pt x="97981" y="324422"/>
                    <a:pt x="94298" y="321755"/>
                  </a:cubicBezTo>
                  <a:cubicBezTo>
                    <a:pt x="90615" y="319088"/>
                    <a:pt x="85725" y="314389"/>
                    <a:pt x="79629" y="307658"/>
                  </a:cubicBezTo>
                  <a:cubicBezTo>
                    <a:pt x="73533" y="300927"/>
                    <a:pt x="67247" y="292291"/>
                    <a:pt x="60770" y="281750"/>
                  </a:cubicBezTo>
                  <a:cubicBezTo>
                    <a:pt x="54293" y="271209"/>
                    <a:pt x="51054" y="262065"/>
                    <a:pt x="51054" y="254318"/>
                  </a:cubicBezTo>
                  <a:cubicBezTo>
                    <a:pt x="51054" y="246571"/>
                    <a:pt x="55245" y="239014"/>
                    <a:pt x="63627" y="231648"/>
                  </a:cubicBezTo>
                  <a:cubicBezTo>
                    <a:pt x="72009" y="224282"/>
                    <a:pt x="90170" y="214884"/>
                    <a:pt x="118110" y="203454"/>
                  </a:cubicBezTo>
                  <a:cubicBezTo>
                    <a:pt x="115062" y="195072"/>
                    <a:pt x="113538" y="188151"/>
                    <a:pt x="113538" y="182690"/>
                  </a:cubicBezTo>
                  <a:cubicBezTo>
                    <a:pt x="113538" y="177229"/>
                    <a:pt x="114618" y="171133"/>
                    <a:pt x="116777" y="164402"/>
                  </a:cubicBezTo>
                  <a:cubicBezTo>
                    <a:pt x="118936" y="157671"/>
                    <a:pt x="123190" y="154051"/>
                    <a:pt x="129540" y="153543"/>
                  </a:cubicBezTo>
                  <a:cubicBezTo>
                    <a:pt x="135890" y="153035"/>
                    <a:pt x="141796" y="148209"/>
                    <a:pt x="147257" y="139065"/>
                  </a:cubicBezTo>
                  <a:cubicBezTo>
                    <a:pt x="152718" y="129921"/>
                    <a:pt x="155448" y="124460"/>
                    <a:pt x="155448" y="122682"/>
                  </a:cubicBezTo>
                  <a:cubicBezTo>
                    <a:pt x="155448" y="121920"/>
                    <a:pt x="154940" y="121539"/>
                    <a:pt x="153924" y="121539"/>
                  </a:cubicBezTo>
                  <a:cubicBezTo>
                    <a:pt x="152654" y="121539"/>
                    <a:pt x="148717" y="123508"/>
                    <a:pt x="142113" y="127445"/>
                  </a:cubicBezTo>
                  <a:cubicBezTo>
                    <a:pt x="135509" y="131382"/>
                    <a:pt x="124397" y="137414"/>
                    <a:pt x="108776" y="145542"/>
                  </a:cubicBezTo>
                  <a:cubicBezTo>
                    <a:pt x="93155" y="153670"/>
                    <a:pt x="84582" y="158115"/>
                    <a:pt x="83058" y="158877"/>
                  </a:cubicBezTo>
                  <a:cubicBezTo>
                    <a:pt x="81534" y="159639"/>
                    <a:pt x="79820" y="160020"/>
                    <a:pt x="77915" y="160020"/>
                  </a:cubicBezTo>
                  <a:cubicBezTo>
                    <a:pt x="76010" y="160020"/>
                    <a:pt x="75057" y="157988"/>
                    <a:pt x="75057" y="153924"/>
                  </a:cubicBezTo>
                  <a:cubicBezTo>
                    <a:pt x="75057" y="149860"/>
                    <a:pt x="76010" y="143574"/>
                    <a:pt x="77915" y="135065"/>
                  </a:cubicBezTo>
                  <a:cubicBezTo>
                    <a:pt x="79820" y="126556"/>
                    <a:pt x="84074" y="121730"/>
                    <a:pt x="90678" y="120587"/>
                  </a:cubicBezTo>
                  <a:cubicBezTo>
                    <a:pt x="97282" y="119444"/>
                    <a:pt x="117856" y="110554"/>
                    <a:pt x="152400" y="93917"/>
                  </a:cubicBezTo>
                  <a:cubicBezTo>
                    <a:pt x="186944" y="77280"/>
                    <a:pt x="207137" y="66167"/>
                    <a:pt x="212979" y="60579"/>
                  </a:cubicBezTo>
                  <a:cubicBezTo>
                    <a:pt x="218821" y="54991"/>
                    <a:pt x="221742" y="50927"/>
                    <a:pt x="221742" y="48387"/>
                  </a:cubicBezTo>
                  <a:cubicBezTo>
                    <a:pt x="221742" y="45847"/>
                    <a:pt x="219583" y="44577"/>
                    <a:pt x="215265" y="44577"/>
                  </a:cubicBezTo>
                  <a:cubicBezTo>
                    <a:pt x="201295" y="44577"/>
                    <a:pt x="187960" y="47752"/>
                    <a:pt x="175260" y="54102"/>
                  </a:cubicBezTo>
                  <a:cubicBezTo>
                    <a:pt x="172212" y="66548"/>
                    <a:pt x="169101" y="75502"/>
                    <a:pt x="165926" y="80963"/>
                  </a:cubicBezTo>
                  <a:cubicBezTo>
                    <a:pt x="162751" y="86424"/>
                    <a:pt x="158115" y="89154"/>
                    <a:pt x="152019" y="89154"/>
                  </a:cubicBezTo>
                  <a:cubicBezTo>
                    <a:pt x="145923" y="89154"/>
                    <a:pt x="134620" y="84074"/>
                    <a:pt x="118110" y="73914"/>
                  </a:cubicBezTo>
                  <a:cubicBezTo>
                    <a:pt x="111252" y="77978"/>
                    <a:pt x="104902" y="80010"/>
                    <a:pt x="99060" y="80010"/>
                  </a:cubicBezTo>
                  <a:cubicBezTo>
                    <a:pt x="93218" y="80010"/>
                    <a:pt x="87884" y="79375"/>
                    <a:pt x="83058" y="78105"/>
                  </a:cubicBezTo>
                  <a:cubicBezTo>
                    <a:pt x="78232" y="76835"/>
                    <a:pt x="74168" y="76200"/>
                    <a:pt x="70866" y="76200"/>
                  </a:cubicBezTo>
                  <a:cubicBezTo>
                    <a:pt x="62230" y="76200"/>
                    <a:pt x="54483" y="79502"/>
                    <a:pt x="47625" y="86106"/>
                  </a:cubicBezTo>
                  <a:cubicBezTo>
                    <a:pt x="47117" y="93472"/>
                    <a:pt x="45784" y="101918"/>
                    <a:pt x="43625" y="111443"/>
                  </a:cubicBezTo>
                  <a:cubicBezTo>
                    <a:pt x="41466" y="120968"/>
                    <a:pt x="37275" y="134112"/>
                    <a:pt x="31052" y="150876"/>
                  </a:cubicBezTo>
                  <a:cubicBezTo>
                    <a:pt x="24829" y="167640"/>
                    <a:pt x="21019" y="176911"/>
                    <a:pt x="19622" y="178689"/>
                  </a:cubicBezTo>
                  <a:cubicBezTo>
                    <a:pt x="18225" y="180467"/>
                    <a:pt x="16891" y="181356"/>
                    <a:pt x="15621" y="181356"/>
                  </a:cubicBezTo>
                  <a:cubicBezTo>
                    <a:pt x="12573" y="181356"/>
                    <a:pt x="9208" y="176594"/>
                    <a:pt x="5525" y="167069"/>
                  </a:cubicBezTo>
                  <a:cubicBezTo>
                    <a:pt x="1842" y="157544"/>
                    <a:pt x="0" y="149860"/>
                    <a:pt x="0" y="144018"/>
                  </a:cubicBezTo>
                  <a:cubicBezTo>
                    <a:pt x="0" y="138176"/>
                    <a:pt x="2159" y="131064"/>
                    <a:pt x="6477" y="122682"/>
                  </a:cubicBezTo>
                  <a:cubicBezTo>
                    <a:pt x="17907" y="100838"/>
                    <a:pt x="23622" y="83566"/>
                    <a:pt x="23622" y="70866"/>
                  </a:cubicBezTo>
                  <a:cubicBezTo>
                    <a:pt x="23622" y="67310"/>
                    <a:pt x="23368" y="64135"/>
                    <a:pt x="22860" y="61341"/>
                  </a:cubicBezTo>
                  <a:cubicBezTo>
                    <a:pt x="22352" y="58547"/>
                    <a:pt x="22098" y="56325"/>
                    <a:pt x="22098" y="54674"/>
                  </a:cubicBezTo>
                  <a:cubicBezTo>
                    <a:pt x="22098" y="53023"/>
                    <a:pt x="22860" y="52197"/>
                    <a:pt x="24384" y="52197"/>
                  </a:cubicBezTo>
                  <a:cubicBezTo>
                    <a:pt x="25908" y="52197"/>
                    <a:pt x="28321" y="54610"/>
                    <a:pt x="31623" y="59436"/>
                  </a:cubicBezTo>
                  <a:cubicBezTo>
                    <a:pt x="34925" y="64262"/>
                    <a:pt x="38227" y="70358"/>
                    <a:pt x="41529" y="77724"/>
                  </a:cubicBezTo>
                  <a:cubicBezTo>
                    <a:pt x="61849" y="62230"/>
                    <a:pt x="86106" y="49149"/>
                    <a:pt x="114300" y="38481"/>
                  </a:cubicBezTo>
                  <a:cubicBezTo>
                    <a:pt x="107950" y="31115"/>
                    <a:pt x="102870" y="23749"/>
                    <a:pt x="99060" y="16383"/>
                  </a:cubicBezTo>
                  <a:cubicBezTo>
                    <a:pt x="95250" y="9017"/>
                    <a:pt x="93345" y="4445"/>
                    <a:pt x="93345" y="2667"/>
                  </a:cubicBezTo>
                  <a:cubicBezTo>
                    <a:pt x="93345" y="889"/>
                    <a:pt x="94742" y="0"/>
                    <a:pt x="97536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264" name="组合 1"/>
          <p:cNvGrpSpPr/>
          <p:nvPr/>
        </p:nvGrpSpPr>
        <p:grpSpPr>
          <a:xfrm>
            <a:off x="3591000" y="582480"/>
            <a:ext cx="2319120" cy="748800"/>
            <a:chOff x="3591000" y="582480"/>
            <a:chExt cx="2319120" cy="748800"/>
          </a:xfrm>
        </p:grpSpPr>
        <p:sp>
          <p:nvSpPr>
            <p:cNvPr id="265" name="文本框 14"/>
            <p:cNvSpPr/>
            <p:nvPr/>
          </p:nvSpPr>
          <p:spPr>
            <a:xfrm>
              <a:off x="3591000" y="706320"/>
              <a:ext cx="1402920" cy="57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575">
              <a:solidFill>
                <a:srgbClr val="00b0f0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图片 16" descr=""/>
            <p:cNvPicPr/>
            <p:nvPr/>
          </p:nvPicPr>
          <p:blipFill>
            <a:blip r:embed="rId2"/>
            <a:stretch/>
          </p:blipFill>
          <p:spPr>
            <a:xfrm flipH="1">
              <a:off x="4844520" y="582480"/>
              <a:ext cx="1065600" cy="74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Box 36"/>
          <p:cNvSpPr/>
          <p:nvPr/>
        </p:nvSpPr>
        <p:spPr>
          <a:xfrm>
            <a:off x="2714760" y="13208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6"/>
          <p:cNvSpPr/>
          <p:nvPr/>
        </p:nvSpPr>
        <p:spPr>
          <a:xfrm>
            <a:off x="7061040" y="1320840"/>
            <a:ext cx="61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6"/>
          <p:cNvSpPr/>
          <p:nvPr/>
        </p:nvSpPr>
        <p:spPr>
          <a:xfrm>
            <a:off x="4179960" y="13208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5400720" y="132084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6"/>
          <p:cNvSpPr/>
          <p:nvPr/>
        </p:nvSpPr>
        <p:spPr>
          <a:xfrm>
            <a:off x="1023840" y="1320840"/>
            <a:ext cx="117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ā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1"/>
          <p:cNvGrpSpPr/>
          <p:nvPr/>
        </p:nvGrpSpPr>
        <p:grpSpPr>
          <a:xfrm>
            <a:off x="855720" y="2550960"/>
            <a:ext cx="2161800" cy="2101320"/>
            <a:chOff x="855720" y="2550960"/>
            <a:chExt cx="2161800" cy="2101320"/>
          </a:xfrm>
        </p:grpSpPr>
        <p:sp>
          <p:nvSpPr>
            <p:cNvPr id="273" name="图片 2"/>
            <p:cNvSpPr/>
            <p:nvPr/>
          </p:nvSpPr>
          <p:spPr>
            <a:xfrm>
              <a:off x="855720" y="2550960"/>
              <a:ext cx="2161800" cy="1439640"/>
            </a:xfrm>
            <a:prstGeom prst="roundRect">
              <a:avLst>
                <a:gd name="adj" fmla="val 8594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reflection algn="bl" blurRad="12700" dir="5400000" dist="5000" endPos="28000" rotWithShape="0" stA="38000" sy="-10000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7"/>
            <p:cNvSpPr/>
            <p:nvPr/>
          </p:nvSpPr>
          <p:spPr>
            <a:xfrm>
              <a:off x="1431720" y="4075200"/>
              <a:ext cx="10094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相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3"/>
          <p:cNvGrpSpPr/>
          <p:nvPr/>
        </p:nvGrpSpPr>
        <p:grpSpPr>
          <a:xfrm>
            <a:off x="3751200" y="2550960"/>
            <a:ext cx="2093400" cy="2101320"/>
            <a:chOff x="3751200" y="2550960"/>
            <a:chExt cx="2093400" cy="2101320"/>
          </a:xfrm>
        </p:grpSpPr>
        <p:sp>
          <p:nvSpPr>
            <p:cNvPr id="276" name="图片 4"/>
            <p:cNvSpPr/>
            <p:nvPr/>
          </p:nvSpPr>
          <p:spPr>
            <a:xfrm>
              <a:off x="3751200" y="2550960"/>
              <a:ext cx="2093400" cy="1439640"/>
            </a:xfrm>
            <a:prstGeom prst="roundRect">
              <a:avLst>
                <a:gd name="adj" fmla="val 859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reflection algn="bl" blurRad="12700" dir="5400000" dist="5000" endPos="28000" rotWithShape="0" stA="38000" sy="-10000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36"/>
            <p:cNvSpPr/>
            <p:nvPr/>
          </p:nvSpPr>
          <p:spPr>
            <a:xfrm>
              <a:off x="4246200" y="4075200"/>
              <a:ext cx="1010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喜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5"/>
          <p:cNvGrpSpPr/>
          <p:nvPr/>
        </p:nvGrpSpPr>
        <p:grpSpPr>
          <a:xfrm>
            <a:off x="6578640" y="2550960"/>
            <a:ext cx="1974600" cy="2101320"/>
            <a:chOff x="6578640" y="2550960"/>
            <a:chExt cx="1974600" cy="2101320"/>
          </a:xfrm>
        </p:grpSpPr>
        <p:sp>
          <p:nvSpPr>
            <p:cNvPr id="279" name="图片 6"/>
            <p:cNvSpPr/>
            <p:nvPr/>
          </p:nvSpPr>
          <p:spPr>
            <a:xfrm>
              <a:off x="6578640" y="2550960"/>
              <a:ext cx="1974600" cy="1439640"/>
            </a:xfrm>
            <a:prstGeom prst="roundRect">
              <a:avLst>
                <a:gd name="adj" fmla="val 8594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reflection algn="bl" blurRad="12700" dir="5400000" dist="5000" endPos="28000" rotWithShape="0" stA="38000" sy="-10000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37"/>
            <p:cNvSpPr/>
            <p:nvPr/>
          </p:nvSpPr>
          <p:spPr>
            <a:xfrm>
              <a:off x="7060680" y="4075200"/>
              <a:ext cx="10094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害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8" descr=""/>
          <p:cNvPicPr/>
          <p:nvPr/>
        </p:nvPicPr>
        <p:blipFill>
          <a:blip r:embed="rId1"/>
          <a:stretch/>
        </p:blipFill>
        <p:spPr>
          <a:xfrm>
            <a:off x="2174760" y="2325600"/>
            <a:ext cx="4793760" cy="237312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合 4"/>
          <p:cNvGrpSpPr/>
          <p:nvPr/>
        </p:nvGrpSpPr>
        <p:grpSpPr>
          <a:xfrm>
            <a:off x="3443400" y="195120"/>
            <a:ext cx="2256840" cy="638280"/>
            <a:chOff x="3443400" y="195120"/>
            <a:chExt cx="2256840" cy="638280"/>
          </a:xfrm>
        </p:grpSpPr>
        <p:sp>
          <p:nvSpPr>
            <p:cNvPr id="283" name="文本框 13"/>
            <p:cNvSpPr/>
            <p:nvPr/>
          </p:nvSpPr>
          <p:spPr>
            <a:xfrm>
              <a:off x="4101480" y="195120"/>
              <a:ext cx="1598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猜字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图片 6" descr=""/>
            <p:cNvPicPr/>
            <p:nvPr/>
          </p:nvPicPr>
          <p:blipFill>
            <a:blip r:embed="rId2"/>
            <a:stretch/>
          </p:blipFill>
          <p:spPr>
            <a:xfrm>
              <a:off x="3443400" y="199080"/>
              <a:ext cx="67932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文本框 7"/>
          <p:cNvSpPr/>
          <p:nvPr/>
        </p:nvSpPr>
        <p:spPr>
          <a:xfrm>
            <a:off x="1849320" y="1133640"/>
            <a:ext cx="255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木不成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9" descr=""/>
          <p:cNvPicPr/>
          <p:nvPr/>
        </p:nvPicPr>
        <p:blipFill>
          <a:blip r:embed="rId3"/>
          <a:stretch/>
        </p:blipFill>
        <p:spPr>
          <a:xfrm>
            <a:off x="5364000" y="925560"/>
            <a:ext cx="1217160" cy="120456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11"/>
          <p:cNvGrpSpPr/>
          <p:nvPr/>
        </p:nvGrpSpPr>
        <p:grpSpPr>
          <a:xfrm>
            <a:off x="6036120" y="1262160"/>
            <a:ext cx="351720" cy="633960"/>
            <a:chOff x="6036120" y="1262160"/>
            <a:chExt cx="351720" cy="633960"/>
          </a:xfrm>
        </p:grpSpPr>
        <p:sp>
          <p:nvSpPr>
            <p:cNvPr id="288" name="Freeform 6"/>
            <p:cNvSpPr/>
            <p:nvPr/>
          </p:nvSpPr>
          <p:spPr>
            <a:xfrm>
              <a:off x="6036120" y="1298880"/>
              <a:ext cx="68400" cy="568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37" h="1949">
                  <a:moveTo>
                    <a:pt x="237" y="25"/>
                  </a:moveTo>
                  <a:lnTo>
                    <a:pt x="235" y="89"/>
                  </a:lnTo>
                  <a:lnTo>
                    <a:pt x="233" y="152"/>
                  </a:lnTo>
                  <a:lnTo>
                    <a:pt x="231" y="212"/>
                  </a:lnTo>
                  <a:lnTo>
                    <a:pt x="227" y="272"/>
                  </a:lnTo>
                  <a:lnTo>
                    <a:pt x="225" y="331"/>
                  </a:lnTo>
                  <a:lnTo>
                    <a:pt x="223" y="387"/>
                  </a:lnTo>
                  <a:lnTo>
                    <a:pt x="221" y="443"/>
                  </a:lnTo>
                  <a:lnTo>
                    <a:pt x="219" y="497"/>
                  </a:lnTo>
                  <a:lnTo>
                    <a:pt x="217" y="549"/>
                  </a:lnTo>
                  <a:lnTo>
                    <a:pt x="217" y="599"/>
                  </a:lnTo>
                  <a:lnTo>
                    <a:pt x="216" y="649"/>
                  </a:lnTo>
                  <a:lnTo>
                    <a:pt x="214" y="697"/>
                  </a:lnTo>
                  <a:lnTo>
                    <a:pt x="212" y="743"/>
                  </a:lnTo>
                  <a:lnTo>
                    <a:pt x="210" y="789"/>
                  </a:lnTo>
                  <a:lnTo>
                    <a:pt x="210" y="833"/>
                  </a:lnTo>
                  <a:lnTo>
                    <a:pt x="208" y="876"/>
                  </a:lnTo>
                  <a:lnTo>
                    <a:pt x="208" y="916"/>
                  </a:lnTo>
                  <a:lnTo>
                    <a:pt x="206" y="957"/>
                  </a:lnTo>
                  <a:lnTo>
                    <a:pt x="204" y="993"/>
                  </a:lnTo>
                  <a:lnTo>
                    <a:pt x="204" y="1030"/>
                  </a:lnTo>
                  <a:lnTo>
                    <a:pt x="202" y="1066"/>
                  </a:lnTo>
                  <a:lnTo>
                    <a:pt x="202" y="1099"/>
                  </a:lnTo>
                  <a:lnTo>
                    <a:pt x="202" y="1132"/>
                  </a:lnTo>
                  <a:lnTo>
                    <a:pt x="200" y="1162"/>
                  </a:lnTo>
                  <a:lnTo>
                    <a:pt x="200" y="1193"/>
                  </a:lnTo>
                  <a:lnTo>
                    <a:pt x="200" y="1220"/>
                  </a:lnTo>
                  <a:lnTo>
                    <a:pt x="200" y="1247"/>
                  </a:lnTo>
                  <a:lnTo>
                    <a:pt x="198" y="1272"/>
                  </a:lnTo>
                  <a:lnTo>
                    <a:pt x="198" y="1295"/>
                  </a:lnTo>
                  <a:lnTo>
                    <a:pt x="198" y="1318"/>
                  </a:lnTo>
                  <a:lnTo>
                    <a:pt x="198" y="1339"/>
                  </a:lnTo>
                  <a:lnTo>
                    <a:pt x="198" y="1359"/>
                  </a:lnTo>
                  <a:lnTo>
                    <a:pt x="198" y="1395"/>
                  </a:lnTo>
                  <a:lnTo>
                    <a:pt x="198" y="1430"/>
                  </a:lnTo>
                  <a:lnTo>
                    <a:pt x="196" y="1465"/>
                  </a:lnTo>
                  <a:lnTo>
                    <a:pt x="196" y="1499"/>
                  </a:lnTo>
                  <a:lnTo>
                    <a:pt x="194" y="1530"/>
                  </a:lnTo>
                  <a:lnTo>
                    <a:pt x="192" y="1561"/>
                  </a:lnTo>
                  <a:lnTo>
                    <a:pt x="191" y="1592"/>
                  </a:lnTo>
                  <a:lnTo>
                    <a:pt x="189" y="1620"/>
                  </a:lnTo>
                  <a:lnTo>
                    <a:pt x="187" y="1647"/>
                  </a:lnTo>
                  <a:lnTo>
                    <a:pt x="185" y="1674"/>
                  </a:lnTo>
                  <a:lnTo>
                    <a:pt x="181" y="1699"/>
                  </a:lnTo>
                  <a:lnTo>
                    <a:pt x="177" y="1722"/>
                  </a:lnTo>
                  <a:lnTo>
                    <a:pt x="175" y="1745"/>
                  </a:lnTo>
                  <a:lnTo>
                    <a:pt x="171" y="1767"/>
                  </a:lnTo>
                  <a:lnTo>
                    <a:pt x="166" y="1788"/>
                  </a:lnTo>
                  <a:lnTo>
                    <a:pt x="162" y="1807"/>
                  </a:lnTo>
                  <a:lnTo>
                    <a:pt x="158" y="1824"/>
                  </a:lnTo>
                  <a:lnTo>
                    <a:pt x="152" y="1842"/>
                  </a:lnTo>
                  <a:lnTo>
                    <a:pt x="148" y="1857"/>
                  </a:lnTo>
                  <a:lnTo>
                    <a:pt x="144" y="1872"/>
                  </a:lnTo>
                  <a:lnTo>
                    <a:pt x="139" y="1886"/>
                  </a:lnTo>
                  <a:lnTo>
                    <a:pt x="135" y="1897"/>
                  </a:lnTo>
                  <a:lnTo>
                    <a:pt x="131" y="1907"/>
                  </a:lnTo>
                  <a:lnTo>
                    <a:pt x="127" y="1917"/>
                  </a:lnTo>
                  <a:lnTo>
                    <a:pt x="123" y="1926"/>
                  </a:lnTo>
                  <a:lnTo>
                    <a:pt x="119" y="1932"/>
                  </a:lnTo>
                  <a:lnTo>
                    <a:pt x="116" y="1938"/>
                  </a:lnTo>
                  <a:lnTo>
                    <a:pt x="114" y="1944"/>
                  </a:lnTo>
                  <a:lnTo>
                    <a:pt x="110" y="1946"/>
                  </a:lnTo>
                  <a:lnTo>
                    <a:pt x="106" y="1949"/>
                  </a:lnTo>
                  <a:lnTo>
                    <a:pt x="104" y="1949"/>
                  </a:lnTo>
                  <a:lnTo>
                    <a:pt x="100" y="1949"/>
                  </a:lnTo>
                  <a:lnTo>
                    <a:pt x="96" y="1947"/>
                  </a:lnTo>
                  <a:lnTo>
                    <a:pt x="94" y="1946"/>
                  </a:lnTo>
                  <a:lnTo>
                    <a:pt x="91" y="1942"/>
                  </a:lnTo>
                  <a:lnTo>
                    <a:pt x="87" y="1938"/>
                  </a:lnTo>
                  <a:lnTo>
                    <a:pt x="83" y="1932"/>
                  </a:lnTo>
                  <a:lnTo>
                    <a:pt x="79" y="1926"/>
                  </a:lnTo>
                  <a:lnTo>
                    <a:pt x="75" y="1919"/>
                  </a:lnTo>
                  <a:lnTo>
                    <a:pt x="71" y="1909"/>
                  </a:lnTo>
                  <a:lnTo>
                    <a:pt x="67" y="1899"/>
                  </a:lnTo>
                  <a:lnTo>
                    <a:pt x="64" y="1888"/>
                  </a:lnTo>
                  <a:lnTo>
                    <a:pt x="60" y="1876"/>
                  </a:lnTo>
                  <a:lnTo>
                    <a:pt x="54" y="1863"/>
                  </a:lnTo>
                  <a:lnTo>
                    <a:pt x="50" y="1849"/>
                  </a:lnTo>
                  <a:lnTo>
                    <a:pt x="46" y="1834"/>
                  </a:lnTo>
                  <a:lnTo>
                    <a:pt x="41" y="1819"/>
                  </a:lnTo>
                  <a:lnTo>
                    <a:pt x="37" y="1801"/>
                  </a:lnTo>
                  <a:lnTo>
                    <a:pt x="33" y="1784"/>
                  </a:lnTo>
                  <a:lnTo>
                    <a:pt x="29" y="1765"/>
                  </a:lnTo>
                  <a:lnTo>
                    <a:pt x="25" y="1745"/>
                  </a:lnTo>
                  <a:lnTo>
                    <a:pt x="23" y="1724"/>
                  </a:lnTo>
                  <a:lnTo>
                    <a:pt x="19" y="1705"/>
                  </a:lnTo>
                  <a:lnTo>
                    <a:pt x="17" y="1684"/>
                  </a:lnTo>
                  <a:lnTo>
                    <a:pt x="17" y="1663"/>
                  </a:lnTo>
                  <a:lnTo>
                    <a:pt x="17" y="1640"/>
                  </a:lnTo>
                  <a:lnTo>
                    <a:pt x="16" y="1617"/>
                  </a:lnTo>
                  <a:lnTo>
                    <a:pt x="17" y="1593"/>
                  </a:lnTo>
                  <a:lnTo>
                    <a:pt x="17" y="1570"/>
                  </a:lnTo>
                  <a:lnTo>
                    <a:pt x="19" y="1547"/>
                  </a:lnTo>
                  <a:lnTo>
                    <a:pt x="21" y="1522"/>
                  </a:lnTo>
                  <a:lnTo>
                    <a:pt x="23" y="1497"/>
                  </a:lnTo>
                  <a:lnTo>
                    <a:pt x="27" y="1472"/>
                  </a:lnTo>
                  <a:lnTo>
                    <a:pt x="31" y="1445"/>
                  </a:lnTo>
                  <a:lnTo>
                    <a:pt x="33" y="1432"/>
                  </a:lnTo>
                  <a:lnTo>
                    <a:pt x="35" y="1418"/>
                  </a:lnTo>
                  <a:lnTo>
                    <a:pt x="37" y="1403"/>
                  </a:lnTo>
                  <a:lnTo>
                    <a:pt x="39" y="1388"/>
                  </a:lnTo>
                  <a:lnTo>
                    <a:pt x="41" y="1372"/>
                  </a:lnTo>
                  <a:lnTo>
                    <a:pt x="42" y="1355"/>
                  </a:lnTo>
                  <a:lnTo>
                    <a:pt x="42" y="1338"/>
                  </a:lnTo>
                  <a:lnTo>
                    <a:pt x="44" y="1320"/>
                  </a:lnTo>
                  <a:lnTo>
                    <a:pt x="46" y="1301"/>
                  </a:lnTo>
                  <a:lnTo>
                    <a:pt x="48" y="1282"/>
                  </a:lnTo>
                  <a:lnTo>
                    <a:pt x="48" y="1263"/>
                  </a:lnTo>
                  <a:lnTo>
                    <a:pt x="50" y="1241"/>
                  </a:lnTo>
                  <a:lnTo>
                    <a:pt x="52" y="1220"/>
                  </a:lnTo>
                  <a:lnTo>
                    <a:pt x="52" y="1199"/>
                  </a:lnTo>
                  <a:lnTo>
                    <a:pt x="54" y="1176"/>
                  </a:lnTo>
                  <a:lnTo>
                    <a:pt x="54" y="1153"/>
                  </a:lnTo>
                  <a:lnTo>
                    <a:pt x="56" y="1130"/>
                  </a:lnTo>
                  <a:lnTo>
                    <a:pt x="56" y="1105"/>
                  </a:lnTo>
                  <a:lnTo>
                    <a:pt x="56" y="1080"/>
                  </a:lnTo>
                  <a:lnTo>
                    <a:pt x="58" y="1055"/>
                  </a:lnTo>
                  <a:lnTo>
                    <a:pt x="58" y="1028"/>
                  </a:lnTo>
                  <a:lnTo>
                    <a:pt x="60" y="1001"/>
                  </a:lnTo>
                  <a:lnTo>
                    <a:pt x="60" y="974"/>
                  </a:lnTo>
                  <a:lnTo>
                    <a:pt x="60" y="945"/>
                  </a:lnTo>
                  <a:lnTo>
                    <a:pt x="60" y="916"/>
                  </a:lnTo>
                  <a:lnTo>
                    <a:pt x="60" y="887"/>
                  </a:lnTo>
                  <a:lnTo>
                    <a:pt x="62" y="857"/>
                  </a:lnTo>
                  <a:lnTo>
                    <a:pt x="62" y="826"/>
                  </a:lnTo>
                  <a:lnTo>
                    <a:pt x="62" y="795"/>
                  </a:lnTo>
                  <a:lnTo>
                    <a:pt x="62" y="762"/>
                  </a:lnTo>
                  <a:lnTo>
                    <a:pt x="62" y="730"/>
                  </a:lnTo>
                  <a:lnTo>
                    <a:pt x="62" y="697"/>
                  </a:lnTo>
                  <a:lnTo>
                    <a:pt x="62" y="664"/>
                  </a:lnTo>
                  <a:lnTo>
                    <a:pt x="62" y="631"/>
                  </a:lnTo>
                  <a:lnTo>
                    <a:pt x="62" y="601"/>
                  </a:lnTo>
                  <a:lnTo>
                    <a:pt x="62" y="572"/>
                  </a:lnTo>
                  <a:lnTo>
                    <a:pt x="62" y="541"/>
                  </a:lnTo>
                  <a:lnTo>
                    <a:pt x="60" y="514"/>
                  </a:lnTo>
                  <a:lnTo>
                    <a:pt x="60" y="487"/>
                  </a:lnTo>
                  <a:lnTo>
                    <a:pt x="60" y="460"/>
                  </a:lnTo>
                  <a:lnTo>
                    <a:pt x="60" y="435"/>
                  </a:lnTo>
                  <a:lnTo>
                    <a:pt x="60" y="410"/>
                  </a:lnTo>
                  <a:lnTo>
                    <a:pt x="58" y="387"/>
                  </a:lnTo>
                  <a:lnTo>
                    <a:pt x="58" y="364"/>
                  </a:lnTo>
                  <a:lnTo>
                    <a:pt x="56" y="343"/>
                  </a:lnTo>
                  <a:lnTo>
                    <a:pt x="56" y="322"/>
                  </a:lnTo>
                  <a:lnTo>
                    <a:pt x="56" y="302"/>
                  </a:lnTo>
                  <a:lnTo>
                    <a:pt x="54" y="283"/>
                  </a:lnTo>
                  <a:lnTo>
                    <a:pt x="54" y="266"/>
                  </a:lnTo>
                  <a:lnTo>
                    <a:pt x="52" y="249"/>
                  </a:lnTo>
                  <a:lnTo>
                    <a:pt x="52" y="233"/>
                  </a:lnTo>
                  <a:lnTo>
                    <a:pt x="50" y="218"/>
                  </a:lnTo>
                  <a:lnTo>
                    <a:pt x="48" y="204"/>
                  </a:lnTo>
                  <a:lnTo>
                    <a:pt x="48" y="191"/>
                  </a:lnTo>
                  <a:lnTo>
                    <a:pt x="46" y="177"/>
                  </a:lnTo>
                  <a:lnTo>
                    <a:pt x="44" y="168"/>
                  </a:lnTo>
                  <a:lnTo>
                    <a:pt x="42" y="156"/>
                  </a:lnTo>
                  <a:lnTo>
                    <a:pt x="42" y="149"/>
                  </a:lnTo>
                  <a:lnTo>
                    <a:pt x="41" y="139"/>
                  </a:lnTo>
                  <a:lnTo>
                    <a:pt x="39" y="131"/>
                  </a:lnTo>
                  <a:lnTo>
                    <a:pt x="37" y="125"/>
                  </a:lnTo>
                  <a:lnTo>
                    <a:pt x="35" y="120"/>
                  </a:lnTo>
                  <a:lnTo>
                    <a:pt x="33" y="116"/>
                  </a:lnTo>
                  <a:lnTo>
                    <a:pt x="31" y="112"/>
                  </a:lnTo>
                  <a:lnTo>
                    <a:pt x="23" y="100"/>
                  </a:lnTo>
                  <a:lnTo>
                    <a:pt x="17" y="89"/>
                  </a:lnTo>
                  <a:lnTo>
                    <a:pt x="12" y="77"/>
                  </a:lnTo>
                  <a:lnTo>
                    <a:pt x="8" y="66"/>
                  </a:lnTo>
                  <a:lnTo>
                    <a:pt x="4" y="54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2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1" y="6"/>
                  </a:lnTo>
                  <a:lnTo>
                    <a:pt x="121" y="14"/>
                  </a:lnTo>
                  <a:lnTo>
                    <a:pt x="141" y="18"/>
                  </a:lnTo>
                  <a:lnTo>
                    <a:pt x="160" y="20"/>
                  </a:lnTo>
                  <a:lnTo>
                    <a:pt x="179" y="22"/>
                  </a:lnTo>
                  <a:lnTo>
                    <a:pt x="198" y="24"/>
                  </a:lnTo>
                  <a:lnTo>
                    <a:pt x="217" y="25"/>
                  </a:lnTo>
                  <a:lnTo>
                    <a:pt x="237" y="25"/>
                  </a:lnTo>
                  <a:lnTo>
                    <a:pt x="237" y="25"/>
                  </a:lnTo>
                  <a:lnTo>
                    <a:pt x="237" y="25"/>
                  </a:lnTo>
                </a:path>
              </a:pathLst>
            </a:custGeom>
            <a:solidFill>
              <a:srgbClr val="e5ffe5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6086880" y="1434960"/>
              <a:ext cx="177120" cy="5220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8" h="179">
                  <a:moveTo>
                    <a:pt x="0" y="67"/>
                  </a:moveTo>
                  <a:lnTo>
                    <a:pt x="35" y="67"/>
                  </a:lnTo>
                  <a:lnTo>
                    <a:pt x="69" y="65"/>
                  </a:lnTo>
                  <a:lnTo>
                    <a:pt x="106" y="62"/>
                  </a:lnTo>
                  <a:lnTo>
                    <a:pt x="142" y="58"/>
                  </a:lnTo>
                  <a:lnTo>
                    <a:pt x="181" y="52"/>
                  </a:lnTo>
                  <a:lnTo>
                    <a:pt x="219" y="44"/>
                  </a:lnTo>
                  <a:lnTo>
                    <a:pt x="258" y="35"/>
                  </a:lnTo>
                  <a:lnTo>
                    <a:pt x="298" y="25"/>
                  </a:lnTo>
                  <a:lnTo>
                    <a:pt x="317" y="19"/>
                  </a:lnTo>
                  <a:lnTo>
                    <a:pt x="337" y="15"/>
                  </a:lnTo>
                  <a:lnTo>
                    <a:pt x="356" y="11"/>
                  </a:lnTo>
                  <a:lnTo>
                    <a:pt x="375" y="8"/>
                  </a:lnTo>
                  <a:lnTo>
                    <a:pt x="392" y="4"/>
                  </a:lnTo>
                  <a:lnTo>
                    <a:pt x="410" y="2"/>
                  </a:lnTo>
                  <a:lnTo>
                    <a:pt x="425" y="2"/>
                  </a:lnTo>
                  <a:lnTo>
                    <a:pt x="440" y="0"/>
                  </a:lnTo>
                  <a:lnTo>
                    <a:pt x="456" y="0"/>
                  </a:lnTo>
                  <a:lnTo>
                    <a:pt x="471" y="0"/>
                  </a:lnTo>
                  <a:lnTo>
                    <a:pt x="485" y="2"/>
                  </a:lnTo>
                  <a:lnTo>
                    <a:pt x="500" y="4"/>
                  </a:lnTo>
                  <a:lnTo>
                    <a:pt x="512" y="6"/>
                  </a:lnTo>
                  <a:lnTo>
                    <a:pt x="525" y="10"/>
                  </a:lnTo>
                  <a:lnTo>
                    <a:pt x="537" y="13"/>
                  </a:lnTo>
                  <a:lnTo>
                    <a:pt x="548" y="17"/>
                  </a:lnTo>
                  <a:lnTo>
                    <a:pt x="558" y="21"/>
                  </a:lnTo>
                  <a:lnTo>
                    <a:pt x="567" y="27"/>
                  </a:lnTo>
                  <a:lnTo>
                    <a:pt x="577" y="31"/>
                  </a:lnTo>
                  <a:lnTo>
                    <a:pt x="583" y="36"/>
                  </a:lnTo>
                  <a:lnTo>
                    <a:pt x="590" y="40"/>
                  </a:lnTo>
                  <a:lnTo>
                    <a:pt x="596" y="46"/>
                  </a:lnTo>
                  <a:lnTo>
                    <a:pt x="600" y="50"/>
                  </a:lnTo>
                  <a:lnTo>
                    <a:pt x="604" y="56"/>
                  </a:lnTo>
                  <a:lnTo>
                    <a:pt x="606" y="60"/>
                  </a:lnTo>
                  <a:lnTo>
                    <a:pt x="608" y="63"/>
                  </a:lnTo>
                  <a:lnTo>
                    <a:pt x="608" y="69"/>
                  </a:lnTo>
                  <a:lnTo>
                    <a:pt x="608" y="73"/>
                  </a:lnTo>
                  <a:lnTo>
                    <a:pt x="606" y="79"/>
                  </a:lnTo>
                  <a:lnTo>
                    <a:pt x="604" y="83"/>
                  </a:lnTo>
                  <a:lnTo>
                    <a:pt x="600" y="88"/>
                  </a:lnTo>
                  <a:lnTo>
                    <a:pt x="596" y="92"/>
                  </a:lnTo>
                  <a:lnTo>
                    <a:pt x="594" y="94"/>
                  </a:lnTo>
                  <a:lnTo>
                    <a:pt x="590" y="96"/>
                  </a:lnTo>
                  <a:lnTo>
                    <a:pt x="585" y="100"/>
                  </a:lnTo>
                  <a:lnTo>
                    <a:pt x="579" y="102"/>
                  </a:lnTo>
                  <a:lnTo>
                    <a:pt x="571" y="104"/>
                  </a:lnTo>
                  <a:lnTo>
                    <a:pt x="564" y="108"/>
                  </a:lnTo>
                  <a:lnTo>
                    <a:pt x="556" y="110"/>
                  </a:lnTo>
                  <a:lnTo>
                    <a:pt x="544" y="112"/>
                  </a:lnTo>
                  <a:lnTo>
                    <a:pt x="535" y="113"/>
                  </a:lnTo>
                  <a:lnTo>
                    <a:pt x="521" y="117"/>
                  </a:lnTo>
                  <a:lnTo>
                    <a:pt x="510" y="119"/>
                  </a:lnTo>
                  <a:lnTo>
                    <a:pt x="494" y="121"/>
                  </a:lnTo>
                  <a:lnTo>
                    <a:pt x="481" y="125"/>
                  </a:lnTo>
                  <a:lnTo>
                    <a:pt x="464" y="127"/>
                  </a:lnTo>
                  <a:lnTo>
                    <a:pt x="446" y="131"/>
                  </a:lnTo>
                  <a:lnTo>
                    <a:pt x="429" y="133"/>
                  </a:lnTo>
                  <a:lnTo>
                    <a:pt x="410" y="135"/>
                  </a:lnTo>
                  <a:lnTo>
                    <a:pt x="389" y="138"/>
                  </a:lnTo>
                  <a:lnTo>
                    <a:pt x="367" y="140"/>
                  </a:lnTo>
                  <a:lnTo>
                    <a:pt x="346" y="144"/>
                  </a:lnTo>
                  <a:lnTo>
                    <a:pt x="323" y="146"/>
                  </a:lnTo>
                  <a:lnTo>
                    <a:pt x="298" y="150"/>
                  </a:lnTo>
                  <a:lnTo>
                    <a:pt x="273" y="152"/>
                  </a:lnTo>
                  <a:lnTo>
                    <a:pt x="246" y="156"/>
                  </a:lnTo>
                  <a:lnTo>
                    <a:pt x="219" y="158"/>
                  </a:lnTo>
                  <a:lnTo>
                    <a:pt x="192" y="162"/>
                  </a:lnTo>
                  <a:lnTo>
                    <a:pt x="162" y="163"/>
                  </a:lnTo>
                  <a:lnTo>
                    <a:pt x="133" y="167"/>
                  </a:lnTo>
                  <a:lnTo>
                    <a:pt x="100" y="169"/>
                  </a:lnTo>
                  <a:lnTo>
                    <a:pt x="67" y="173"/>
                  </a:lnTo>
                  <a:lnTo>
                    <a:pt x="35" y="175"/>
                  </a:lnTo>
                  <a:lnTo>
                    <a:pt x="0" y="179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e5ffe5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6086880" y="1262160"/>
              <a:ext cx="300960" cy="63396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633960"/>
                <a:gd name="textAreaBottom" fmla="*/ 634320 h 633960"/>
              </a:gdLst>
              <a:ahLst/>
              <a:rect l="textAreaLeft" t="textAreaTop" r="textAreaRight" b="textAreaBottom"/>
              <a:pathLst>
                <a:path w="1033" h="2174">
                  <a:moveTo>
                    <a:pt x="596" y="1745"/>
                  </a:moveTo>
                  <a:lnTo>
                    <a:pt x="615" y="1749"/>
                  </a:lnTo>
                  <a:lnTo>
                    <a:pt x="635" y="1753"/>
                  </a:lnTo>
                  <a:lnTo>
                    <a:pt x="652" y="1757"/>
                  </a:lnTo>
                  <a:lnTo>
                    <a:pt x="669" y="1759"/>
                  </a:lnTo>
                  <a:lnTo>
                    <a:pt x="685" y="1761"/>
                  </a:lnTo>
                  <a:lnTo>
                    <a:pt x="698" y="1761"/>
                  </a:lnTo>
                  <a:lnTo>
                    <a:pt x="712" y="1761"/>
                  </a:lnTo>
                  <a:lnTo>
                    <a:pt x="723" y="1761"/>
                  </a:lnTo>
                  <a:lnTo>
                    <a:pt x="735" y="1761"/>
                  </a:lnTo>
                  <a:lnTo>
                    <a:pt x="744" y="1759"/>
                  </a:lnTo>
                  <a:lnTo>
                    <a:pt x="752" y="1755"/>
                  </a:lnTo>
                  <a:lnTo>
                    <a:pt x="760" y="1753"/>
                  </a:lnTo>
                  <a:lnTo>
                    <a:pt x="765" y="1747"/>
                  </a:lnTo>
                  <a:lnTo>
                    <a:pt x="771" y="1743"/>
                  </a:lnTo>
                  <a:lnTo>
                    <a:pt x="775" y="1738"/>
                  </a:lnTo>
                  <a:lnTo>
                    <a:pt x="777" y="1732"/>
                  </a:lnTo>
                  <a:lnTo>
                    <a:pt x="779" y="1728"/>
                  </a:lnTo>
                  <a:lnTo>
                    <a:pt x="779" y="1724"/>
                  </a:lnTo>
                  <a:lnTo>
                    <a:pt x="781" y="1718"/>
                  </a:lnTo>
                  <a:lnTo>
                    <a:pt x="781" y="1711"/>
                  </a:lnTo>
                  <a:lnTo>
                    <a:pt x="783" y="1703"/>
                  </a:lnTo>
                  <a:lnTo>
                    <a:pt x="785" y="1693"/>
                  </a:lnTo>
                  <a:lnTo>
                    <a:pt x="785" y="1684"/>
                  </a:lnTo>
                  <a:lnTo>
                    <a:pt x="787" y="1672"/>
                  </a:lnTo>
                  <a:lnTo>
                    <a:pt x="787" y="1661"/>
                  </a:lnTo>
                  <a:lnTo>
                    <a:pt x="787" y="1647"/>
                  </a:lnTo>
                  <a:lnTo>
                    <a:pt x="789" y="1634"/>
                  </a:lnTo>
                  <a:lnTo>
                    <a:pt x="789" y="1618"/>
                  </a:lnTo>
                  <a:lnTo>
                    <a:pt x="790" y="1601"/>
                  </a:lnTo>
                  <a:lnTo>
                    <a:pt x="790" y="1584"/>
                  </a:lnTo>
                  <a:lnTo>
                    <a:pt x="790" y="1565"/>
                  </a:lnTo>
                  <a:lnTo>
                    <a:pt x="792" y="1545"/>
                  </a:lnTo>
                  <a:lnTo>
                    <a:pt x="792" y="1524"/>
                  </a:lnTo>
                  <a:lnTo>
                    <a:pt x="792" y="1503"/>
                  </a:lnTo>
                  <a:lnTo>
                    <a:pt x="792" y="1480"/>
                  </a:lnTo>
                  <a:lnTo>
                    <a:pt x="794" y="1457"/>
                  </a:lnTo>
                  <a:lnTo>
                    <a:pt x="794" y="1432"/>
                  </a:lnTo>
                  <a:lnTo>
                    <a:pt x="794" y="1405"/>
                  </a:lnTo>
                  <a:lnTo>
                    <a:pt x="794" y="1378"/>
                  </a:lnTo>
                  <a:lnTo>
                    <a:pt x="794" y="1349"/>
                  </a:lnTo>
                  <a:lnTo>
                    <a:pt x="796" y="1320"/>
                  </a:lnTo>
                  <a:lnTo>
                    <a:pt x="796" y="1289"/>
                  </a:lnTo>
                  <a:lnTo>
                    <a:pt x="796" y="1257"/>
                  </a:lnTo>
                  <a:lnTo>
                    <a:pt x="796" y="1226"/>
                  </a:lnTo>
                  <a:lnTo>
                    <a:pt x="796" y="1191"/>
                  </a:lnTo>
                  <a:lnTo>
                    <a:pt x="796" y="1157"/>
                  </a:lnTo>
                  <a:lnTo>
                    <a:pt x="796" y="1120"/>
                  </a:lnTo>
                  <a:lnTo>
                    <a:pt x="796" y="1084"/>
                  </a:lnTo>
                  <a:lnTo>
                    <a:pt x="796" y="1047"/>
                  </a:lnTo>
                  <a:lnTo>
                    <a:pt x="796" y="1010"/>
                  </a:lnTo>
                  <a:lnTo>
                    <a:pt x="796" y="976"/>
                  </a:lnTo>
                  <a:lnTo>
                    <a:pt x="796" y="941"/>
                  </a:lnTo>
                  <a:lnTo>
                    <a:pt x="796" y="908"/>
                  </a:lnTo>
                  <a:lnTo>
                    <a:pt x="796" y="876"/>
                  </a:lnTo>
                  <a:lnTo>
                    <a:pt x="796" y="845"/>
                  </a:lnTo>
                  <a:lnTo>
                    <a:pt x="794" y="814"/>
                  </a:lnTo>
                  <a:lnTo>
                    <a:pt x="794" y="785"/>
                  </a:lnTo>
                  <a:lnTo>
                    <a:pt x="794" y="756"/>
                  </a:lnTo>
                  <a:lnTo>
                    <a:pt x="794" y="730"/>
                  </a:lnTo>
                  <a:lnTo>
                    <a:pt x="794" y="703"/>
                  </a:lnTo>
                  <a:lnTo>
                    <a:pt x="792" y="678"/>
                  </a:lnTo>
                  <a:lnTo>
                    <a:pt x="792" y="653"/>
                  </a:lnTo>
                  <a:lnTo>
                    <a:pt x="792" y="629"/>
                  </a:lnTo>
                  <a:lnTo>
                    <a:pt x="792" y="606"/>
                  </a:lnTo>
                  <a:lnTo>
                    <a:pt x="790" y="583"/>
                  </a:lnTo>
                  <a:lnTo>
                    <a:pt x="790" y="562"/>
                  </a:lnTo>
                  <a:lnTo>
                    <a:pt x="790" y="543"/>
                  </a:lnTo>
                  <a:lnTo>
                    <a:pt x="789" y="524"/>
                  </a:lnTo>
                  <a:lnTo>
                    <a:pt x="789" y="506"/>
                  </a:lnTo>
                  <a:lnTo>
                    <a:pt x="787" y="489"/>
                  </a:lnTo>
                  <a:lnTo>
                    <a:pt x="787" y="472"/>
                  </a:lnTo>
                  <a:lnTo>
                    <a:pt x="787" y="456"/>
                  </a:lnTo>
                  <a:lnTo>
                    <a:pt x="785" y="443"/>
                  </a:lnTo>
                  <a:lnTo>
                    <a:pt x="785" y="429"/>
                  </a:lnTo>
                  <a:lnTo>
                    <a:pt x="783" y="416"/>
                  </a:lnTo>
                  <a:lnTo>
                    <a:pt x="781" y="404"/>
                  </a:lnTo>
                  <a:lnTo>
                    <a:pt x="781" y="395"/>
                  </a:lnTo>
                  <a:lnTo>
                    <a:pt x="779" y="385"/>
                  </a:lnTo>
                  <a:lnTo>
                    <a:pt x="779" y="376"/>
                  </a:lnTo>
                  <a:lnTo>
                    <a:pt x="777" y="368"/>
                  </a:lnTo>
                  <a:lnTo>
                    <a:pt x="775" y="354"/>
                  </a:lnTo>
                  <a:lnTo>
                    <a:pt x="773" y="339"/>
                  </a:lnTo>
                  <a:lnTo>
                    <a:pt x="769" y="327"/>
                  </a:lnTo>
                  <a:lnTo>
                    <a:pt x="767" y="314"/>
                  </a:lnTo>
                  <a:lnTo>
                    <a:pt x="765" y="302"/>
                  </a:lnTo>
                  <a:lnTo>
                    <a:pt x="762" y="291"/>
                  </a:lnTo>
                  <a:lnTo>
                    <a:pt x="760" y="281"/>
                  </a:lnTo>
                  <a:lnTo>
                    <a:pt x="756" y="272"/>
                  </a:lnTo>
                  <a:lnTo>
                    <a:pt x="752" y="262"/>
                  </a:lnTo>
                  <a:lnTo>
                    <a:pt x="748" y="254"/>
                  </a:lnTo>
                  <a:lnTo>
                    <a:pt x="746" y="247"/>
                  </a:lnTo>
                  <a:lnTo>
                    <a:pt x="742" y="239"/>
                  </a:lnTo>
                  <a:lnTo>
                    <a:pt x="739" y="233"/>
                  </a:lnTo>
                  <a:lnTo>
                    <a:pt x="735" y="227"/>
                  </a:lnTo>
                  <a:lnTo>
                    <a:pt x="731" y="222"/>
                  </a:lnTo>
                  <a:lnTo>
                    <a:pt x="727" y="218"/>
                  </a:lnTo>
                  <a:lnTo>
                    <a:pt x="723" y="214"/>
                  </a:lnTo>
                  <a:lnTo>
                    <a:pt x="719" y="212"/>
                  </a:lnTo>
                  <a:lnTo>
                    <a:pt x="714" y="208"/>
                  </a:lnTo>
                  <a:lnTo>
                    <a:pt x="708" y="204"/>
                  </a:lnTo>
                  <a:lnTo>
                    <a:pt x="702" y="202"/>
                  </a:lnTo>
                  <a:lnTo>
                    <a:pt x="694" y="200"/>
                  </a:lnTo>
                  <a:lnTo>
                    <a:pt x="689" y="199"/>
                  </a:lnTo>
                  <a:lnTo>
                    <a:pt x="679" y="197"/>
                  </a:lnTo>
                  <a:lnTo>
                    <a:pt x="671" y="195"/>
                  </a:lnTo>
                  <a:lnTo>
                    <a:pt x="662" y="195"/>
                  </a:lnTo>
                  <a:lnTo>
                    <a:pt x="652" y="193"/>
                  </a:lnTo>
                  <a:lnTo>
                    <a:pt x="642" y="193"/>
                  </a:lnTo>
                  <a:lnTo>
                    <a:pt x="631" y="193"/>
                  </a:lnTo>
                  <a:lnTo>
                    <a:pt x="621" y="193"/>
                  </a:lnTo>
                  <a:lnTo>
                    <a:pt x="608" y="193"/>
                  </a:lnTo>
                  <a:lnTo>
                    <a:pt x="596" y="193"/>
                  </a:lnTo>
                  <a:lnTo>
                    <a:pt x="583" y="195"/>
                  </a:lnTo>
                  <a:lnTo>
                    <a:pt x="571" y="195"/>
                  </a:lnTo>
                  <a:lnTo>
                    <a:pt x="558" y="197"/>
                  </a:lnTo>
                  <a:lnTo>
                    <a:pt x="542" y="199"/>
                  </a:lnTo>
                  <a:lnTo>
                    <a:pt x="527" y="199"/>
                  </a:lnTo>
                  <a:lnTo>
                    <a:pt x="512" y="200"/>
                  </a:lnTo>
                  <a:lnTo>
                    <a:pt x="496" y="202"/>
                  </a:lnTo>
                  <a:lnTo>
                    <a:pt x="481" y="204"/>
                  </a:lnTo>
                  <a:lnTo>
                    <a:pt x="464" y="206"/>
                  </a:lnTo>
                  <a:lnTo>
                    <a:pt x="446" y="208"/>
                  </a:lnTo>
                  <a:lnTo>
                    <a:pt x="427" y="212"/>
                  </a:lnTo>
                  <a:lnTo>
                    <a:pt x="408" y="214"/>
                  </a:lnTo>
                  <a:lnTo>
                    <a:pt x="389" y="216"/>
                  </a:lnTo>
                  <a:lnTo>
                    <a:pt x="369" y="220"/>
                  </a:lnTo>
                  <a:lnTo>
                    <a:pt x="350" y="222"/>
                  </a:lnTo>
                  <a:lnTo>
                    <a:pt x="329" y="225"/>
                  </a:lnTo>
                  <a:lnTo>
                    <a:pt x="287" y="231"/>
                  </a:lnTo>
                  <a:lnTo>
                    <a:pt x="246" y="235"/>
                  </a:lnTo>
                  <a:lnTo>
                    <a:pt x="204" y="241"/>
                  </a:lnTo>
                  <a:lnTo>
                    <a:pt x="164" y="243"/>
                  </a:lnTo>
                  <a:lnTo>
                    <a:pt x="121" y="247"/>
                  </a:lnTo>
                  <a:lnTo>
                    <a:pt x="81" y="249"/>
                  </a:lnTo>
                  <a:lnTo>
                    <a:pt x="41" y="249"/>
                  </a:lnTo>
                  <a:lnTo>
                    <a:pt x="0" y="249"/>
                  </a:lnTo>
                  <a:lnTo>
                    <a:pt x="0" y="150"/>
                  </a:lnTo>
                  <a:lnTo>
                    <a:pt x="58" y="150"/>
                  </a:lnTo>
                  <a:lnTo>
                    <a:pt x="116" y="149"/>
                  </a:lnTo>
                  <a:lnTo>
                    <a:pt x="171" y="145"/>
                  </a:lnTo>
                  <a:lnTo>
                    <a:pt x="227" y="139"/>
                  </a:lnTo>
                  <a:lnTo>
                    <a:pt x="281" y="133"/>
                  </a:lnTo>
                  <a:lnTo>
                    <a:pt x="333" y="125"/>
                  </a:lnTo>
                  <a:lnTo>
                    <a:pt x="385" y="116"/>
                  </a:lnTo>
                  <a:lnTo>
                    <a:pt x="435" y="106"/>
                  </a:lnTo>
                  <a:lnTo>
                    <a:pt x="460" y="100"/>
                  </a:lnTo>
                  <a:lnTo>
                    <a:pt x="483" y="95"/>
                  </a:lnTo>
                  <a:lnTo>
                    <a:pt x="504" y="91"/>
                  </a:lnTo>
                  <a:lnTo>
                    <a:pt x="523" y="85"/>
                  </a:lnTo>
                  <a:lnTo>
                    <a:pt x="542" y="79"/>
                  </a:lnTo>
                  <a:lnTo>
                    <a:pt x="560" y="75"/>
                  </a:lnTo>
                  <a:lnTo>
                    <a:pt x="577" y="70"/>
                  </a:lnTo>
                  <a:lnTo>
                    <a:pt x="592" y="64"/>
                  </a:lnTo>
                  <a:lnTo>
                    <a:pt x="606" y="60"/>
                  </a:lnTo>
                  <a:lnTo>
                    <a:pt x="617" y="54"/>
                  </a:lnTo>
                  <a:lnTo>
                    <a:pt x="629" y="50"/>
                  </a:lnTo>
                  <a:lnTo>
                    <a:pt x="639" y="45"/>
                  </a:lnTo>
                  <a:lnTo>
                    <a:pt x="648" y="39"/>
                  </a:lnTo>
                  <a:lnTo>
                    <a:pt x="656" y="35"/>
                  </a:lnTo>
                  <a:lnTo>
                    <a:pt x="662" y="29"/>
                  </a:lnTo>
                  <a:lnTo>
                    <a:pt x="665" y="25"/>
                  </a:lnTo>
                  <a:lnTo>
                    <a:pt x="673" y="18"/>
                  </a:lnTo>
                  <a:lnTo>
                    <a:pt x="683" y="10"/>
                  </a:lnTo>
                  <a:lnTo>
                    <a:pt x="694" y="6"/>
                  </a:lnTo>
                  <a:lnTo>
                    <a:pt x="706" y="2"/>
                  </a:lnTo>
                  <a:lnTo>
                    <a:pt x="719" y="0"/>
                  </a:lnTo>
                  <a:lnTo>
                    <a:pt x="733" y="0"/>
                  </a:lnTo>
                  <a:lnTo>
                    <a:pt x="748" y="2"/>
                  </a:lnTo>
                  <a:lnTo>
                    <a:pt x="765" y="6"/>
                  </a:lnTo>
                  <a:lnTo>
                    <a:pt x="783" y="12"/>
                  </a:lnTo>
                  <a:lnTo>
                    <a:pt x="802" y="20"/>
                  </a:lnTo>
                  <a:lnTo>
                    <a:pt x="821" y="29"/>
                  </a:lnTo>
                  <a:lnTo>
                    <a:pt x="842" y="39"/>
                  </a:lnTo>
                  <a:lnTo>
                    <a:pt x="864" y="52"/>
                  </a:lnTo>
                  <a:lnTo>
                    <a:pt x="885" y="66"/>
                  </a:lnTo>
                  <a:lnTo>
                    <a:pt x="910" y="83"/>
                  </a:lnTo>
                  <a:lnTo>
                    <a:pt x="933" y="100"/>
                  </a:lnTo>
                  <a:lnTo>
                    <a:pt x="944" y="110"/>
                  </a:lnTo>
                  <a:lnTo>
                    <a:pt x="956" y="118"/>
                  </a:lnTo>
                  <a:lnTo>
                    <a:pt x="967" y="127"/>
                  </a:lnTo>
                  <a:lnTo>
                    <a:pt x="977" y="135"/>
                  </a:lnTo>
                  <a:lnTo>
                    <a:pt x="987" y="143"/>
                  </a:lnTo>
                  <a:lnTo>
                    <a:pt x="994" y="150"/>
                  </a:lnTo>
                  <a:lnTo>
                    <a:pt x="1002" y="158"/>
                  </a:lnTo>
                  <a:lnTo>
                    <a:pt x="1008" y="166"/>
                  </a:lnTo>
                  <a:lnTo>
                    <a:pt x="1014" y="172"/>
                  </a:lnTo>
                  <a:lnTo>
                    <a:pt x="1019" y="179"/>
                  </a:lnTo>
                  <a:lnTo>
                    <a:pt x="1023" y="185"/>
                  </a:lnTo>
                  <a:lnTo>
                    <a:pt x="1027" y="191"/>
                  </a:lnTo>
                  <a:lnTo>
                    <a:pt x="1029" y="197"/>
                  </a:lnTo>
                  <a:lnTo>
                    <a:pt x="1031" y="202"/>
                  </a:lnTo>
                  <a:lnTo>
                    <a:pt x="1033" y="208"/>
                  </a:lnTo>
                  <a:lnTo>
                    <a:pt x="1033" y="212"/>
                  </a:lnTo>
                  <a:lnTo>
                    <a:pt x="1033" y="222"/>
                  </a:lnTo>
                  <a:lnTo>
                    <a:pt x="1031" y="229"/>
                  </a:lnTo>
                  <a:lnTo>
                    <a:pt x="1027" y="237"/>
                  </a:lnTo>
                  <a:lnTo>
                    <a:pt x="1023" y="245"/>
                  </a:lnTo>
                  <a:lnTo>
                    <a:pt x="1019" y="252"/>
                  </a:lnTo>
                  <a:lnTo>
                    <a:pt x="1012" y="258"/>
                  </a:lnTo>
                  <a:lnTo>
                    <a:pt x="1006" y="264"/>
                  </a:lnTo>
                  <a:lnTo>
                    <a:pt x="996" y="268"/>
                  </a:lnTo>
                  <a:lnTo>
                    <a:pt x="992" y="272"/>
                  </a:lnTo>
                  <a:lnTo>
                    <a:pt x="987" y="275"/>
                  </a:lnTo>
                  <a:lnTo>
                    <a:pt x="983" y="279"/>
                  </a:lnTo>
                  <a:lnTo>
                    <a:pt x="979" y="285"/>
                  </a:lnTo>
                  <a:lnTo>
                    <a:pt x="977" y="293"/>
                  </a:lnTo>
                  <a:lnTo>
                    <a:pt x="973" y="301"/>
                  </a:lnTo>
                  <a:lnTo>
                    <a:pt x="969" y="310"/>
                  </a:lnTo>
                  <a:lnTo>
                    <a:pt x="967" y="320"/>
                  </a:lnTo>
                  <a:lnTo>
                    <a:pt x="965" y="331"/>
                  </a:lnTo>
                  <a:lnTo>
                    <a:pt x="964" y="343"/>
                  </a:lnTo>
                  <a:lnTo>
                    <a:pt x="962" y="356"/>
                  </a:lnTo>
                  <a:lnTo>
                    <a:pt x="960" y="370"/>
                  </a:lnTo>
                  <a:lnTo>
                    <a:pt x="960" y="385"/>
                  </a:lnTo>
                  <a:lnTo>
                    <a:pt x="958" y="402"/>
                  </a:lnTo>
                  <a:lnTo>
                    <a:pt x="958" y="420"/>
                  </a:lnTo>
                  <a:lnTo>
                    <a:pt x="958" y="437"/>
                  </a:lnTo>
                  <a:lnTo>
                    <a:pt x="958" y="447"/>
                  </a:lnTo>
                  <a:lnTo>
                    <a:pt x="958" y="458"/>
                  </a:lnTo>
                  <a:lnTo>
                    <a:pt x="958" y="470"/>
                  </a:lnTo>
                  <a:lnTo>
                    <a:pt x="958" y="481"/>
                  </a:lnTo>
                  <a:lnTo>
                    <a:pt x="958" y="495"/>
                  </a:lnTo>
                  <a:lnTo>
                    <a:pt x="958" y="508"/>
                  </a:lnTo>
                  <a:lnTo>
                    <a:pt x="958" y="524"/>
                  </a:lnTo>
                  <a:lnTo>
                    <a:pt x="958" y="539"/>
                  </a:lnTo>
                  <a:lnTo>
                    <a:pt x="958" y="554"/>
                  </a:lnTo>
                  <a:lnTo>
                    <a:pt x="958" y="572"/>
                  </a:lnTo>
                  <a:lnTo>
                    <a:pt x="958" y="591"/>
                  </a:lnTo>
                  <a:lnTo>
                    <a:pt x="958" y="608"/>
                  </a:lnTo>
                  <a:lnTo>
                    <a:pt x="960" y="629"/>
                  </a:lnTo>
                  <a:lnTo>
                    <a:pt x="960" y="649"/>
                  </a:lnTo>
                  <a:lnTo>
                    <a:pt x="960" y="670"/>
                  </a:lnTo>
                  <a:lnTo>
                    <a:pt x="960" y="693"/>
                  </a:lnTo>
                  <a:lnTo>
                    <a:pt x="960" y="716"/>
                  </a:lnTo>
                  <a:lnTo>
                    <a:pt x="960" y="739"/>
                  </a:lnTo>
                  <a:lnTo>
                    <a:pt x="960" y="764"/>
                  </a:lnTo>
                  <a:lnTo>
                    <a:pt x="960" y="789"/>
                  </a:lnTo>
                  <a:lnTo>
                    <a:pt x="960" y="816"/>
                  </a:lnTo>
                  <a:lnTo>
                    <a:pt x="960" y="843"/>
                  </a:lnTo>
                  <a:lnTo>
                    <a:pt x="962" y="870"/>
                  </a:lnTo>
                  <a:lnTo>
                    <a:pt x="962" y="899"/>
                  </a:lnTo>
                  <a:lnTo>
                    <a:pt x="962" y="930"/>
                  </a:lnTo>
                  <a:lnTo>
                    <a:pt x="962" y="958"/>
                  </a:lnTo>
                  <a:lnTo>
                    <a:pt x="962" y="991"/>
                  </a:lnTo>
                  <a:lnTo>
                    <a:pt x="962" y="1022"/>
                  </a:lnTo>
                  <a:lnTo>
                    <a:pt x="962" y="1055"/>
                  </a:lnTo>
                  <a:lnTo>
                    <a:pt x="964" y="1089"/>
                  </a:lnTo>
                  <a:lnTo>
                    <a:pt x="964" y="1124"/>
                  </a:lnTo>
                  <a:lnTo>
                    <a:pt x="964" y="1159"/>
                  </a:lnTo>
                  <a:lnTo>
                    <a:pt x="964" y="1193"/>
                  </a:lnTo>
                  <a:lnTo>
                    <a:pt x="965" y="1228"/>
                  </a:lnTo>
                  <a:lnTo>
                    <a:pt x="965" y="1262"/>
                  </a:lnTo>
                  <a:lnTo>
                    <a:pt x="965" y="1295"/>
                  </a:lnTo>
                  <a:lnTo>
                    <a:pt x="965" y="1328"/>
                  </a:lnTo>
                  <a:lnTo>
                    <a:pt x="965" y="1359"/>
                  </a:lnTo>
                  <a:lnTo>
                    <a:pt x="965" y="1389"/>
                  </a:lnTo>
                  <a:lnTo>
                    <a:pt x="965" y="1420"/>
                  </a:lnTo>
                  <a:lnTo>
                    <a:pt x="965" y="1449"/>
                  </a:lnTo>
                  <a:lnTo>
                    <a:pt x="965" y="1476"/>
                  </a:lnTo>
                  <a:lnTo>
                    <a:pt x="965" y="1503"/>
                  </a:lnTo>
                  <a:lnTo>
                    <a:pt x="965" y="1530"/>
                  </a:lnTo>
                  <a:lnTo>
                    <a:pt x="964" y="1555"/>
                  </a:lnTo>
                  <a:lnTo>
                    <a:pt x="964" y="1580"/>
                  </a:lnTo>
                  <a:lnTo>
                    <a:pt x="964" y="1605"/>
                  </a:lnTo>
                  <a:lnTo>
                    <a:pt x="964" y="1628"/>
                  </a:lnTo>
                  <a:lnTo>
                    <a:pt x="962" y="1651"/>
                  </a:lnTo>
                  <a:lnTo>
                    <a:pt x="962" y="1672"/>
                  </a:lnTo>
                  <a:lnTo>
                    <a:pt x="962" y="1691"/>
                  </a:lnTo>
                  <a:lnTo>
                    <a:pt x="960" y="1713"/>
                  </a:lnTo>
                  <a:lnTo>
                    <a:pt x="960" y="1732"/>
                  </a:lnTo>
                  <a:lnTo>
                    <a:pt x="958" y="1749"/>
                  </a:lnTo>
                  <a:lnTo>
                    <a:pt x="958" y="1767"/>
                  </a:lnTo>
                  <a:lnTo>
                    <a:pt x="956" y="1784"/>
                  </a:lnTo>
                  <a:lnTo>
                    <a:pt x="956" y="1799"/>
                  </a:lnTo>
                  <a:lnTo>
                    <a:pt x="954" y="1815"/>
                  </a:lnTo>
                  <a:lnTo>
                    <a:pt x="952" y="1828"/>
                  </a:lnTo>
                  <a:lnTo>
                    <a:pt x="952" y="1842"/>
                  </a:lnTo>
                  <a:lnTo>
                    <a:pt x="950" y="1855"/>
                  </a:lnTo>
                  <a:lnTo>
                    <a:pt x="948" y="1867"/>
                  </a:lnTo>
                  <a:lnTo>
                    <a:pt x="948" y="1878"/>
                  </a:lnTo>
                  <a:lnTo>
                    <a:pt x="946" y="1888"/>
                  </a:lnTo>
                  <a:lnTo>
                    <a:pt x="942" y="1907"/>
                  </a:lnTo>
                  <a:lnTo>
                    <a:pt x="939" y="1926"/>
                  </a:lnTo>
                  <a:lnTo>
                    <a:pt x="935" y="1944"/>
                  </a:lnTo>
                  <a:lnTo>
                    <a:pt x="931" y="1961"/>
                  </a:lnTo>
                  <a:lnTo>
                    <a:pt x="927" y="1976"/>
                  </a:lnTo>
                  <a:lnTo>
                    <a:pt x="921" y="1992"/>
                  </a:lnTo>
                  <a:lnTo>
                    <a:pt x="917" y="2007"/>
                  </a:lnTo>
                  <a:lnTo>
                    <a:pt x="912" y="2022"/>
                  </a:lnTo>
                  <a:lnTo>
                    <a:pt x="906" y="2036"/>
                  </a:lnTo>
                  <a:lnTo>
                    <a:pt x="900" y="2049"/>
                  </a:lnTo>
                  <a:lnTo>
                    <a:pt x="894" y="2061"/>
                  </a:lnTo>
                  <a:lnTo>
                    <a:pt x="887" y="2072"/>
                  </a:lnTo>
                  <a:lnTo>
                    <a:pt x="881" y="2084"/>
                  </a:lnTo>
                  <a:lnTo>
                    <a:pt x="873" y="2094"/>
                  </a:lnTo>
                  <a:lnTo>
                    <a:pt x="865" y="2103"/>
                  </a:lnTo>
                  <a:lnTo>
                    <a:pt x="858" y="2113"/>
                  </a:lnTo>
                  <a:lnTo>
                    <a:pt x="850" y="2121"/>
                  </a:lnTo>
                  <a:lnTo>
                    <a:pt x="842" y="2128"/>
                  </a:lnTo>
                  <a:lnTo>
                    <a:pt x="837" y="2136"/>
                  </a:lnTo>
                  <a:lnTo>
                    <a:pt x="829" y="2142"/>
                  </a:lnTo>
                  <a:lnTo>
                    <a:pt x="823" y="2147"/>
                  </a:lnTo>
                  <a:lnTo>
                    <a:pt x="815" y="2153"/>
                  </a:lnTo>
                  <a:lnTo>
                    <a:pt x="810" y="2157"/>
                  </a:lnTo>
                  <a:lnTo>
                    <a:pt x="804" y="2161"/>
                  </a:lnTo>
                  <a:lnTo>
                    <a:pt x="796" y="2165"/>
                  </a:lnTo>
                  <a:lnTo>
                    <a:pt x="790" y="2169"/>
                  </a:lnTo>
                  <a:lnTo>
                    <a:pt x="785" y="2171"/>
                  </a:lnTo>
                  <a:lnTo>
                    <a:pt x="781" y="2172"/>
                  </a:lnTo>
                  <a:lnTo>
                    <a:pt x="775" y="2174"/>
                  </a:lnTo>
                  <a:lnTo>
                    <a:pt x="769" y="2174"/>
                  </a:lnTo>
                  <a:lnTo>
                    <a:pt x="765" y="2174"/>
                  </a:lnTo>
                  <a:lnTo>
                    <a:pt x="760" y="2174"/>
                  </a:lnTo>
                  <a:lnTo>
                    <a:pt x="756" y="2172"/>
                  </a:lnTo>
                  <a:lnTo>
                    <a:pt x="752" y="2171"/>
                  </a:lnTo>
                  <a:lnTo>
                    <a:pt x="748" y="2169"/>
                  </a:lnTo>
                  <a:lnTo>
                    <a:pt x="744" y="2165"/>
                  </a:lnTo>
                  <a:lnTo>
                    <a:pt x="740" y="2159"/>
                  </a:lnTo>
                  <a:lnTo>
                    <a:pt x="739" y="2153"/>
                  </a:lnTo>
                  <a:lnTo>
                    <a:pt x="737" y="2147"/>
                  </a:lnTo>
                  <a:lnTo>
                    <a:pt x="735" y="2140"/>
                  </a:lnTo>
                  <a:lnTo>
                    <a:pt x="733" y="2132"/>
                  </a:lnTo>
                  <a:lnTo>
                    <a:pt x="733" y="2122"/>
                  </a:lnTo>
                  <a:lnTo>
                    <a:pt x="731" y="2113"/>
                  </a:lnTo>
                  <a:lnTo>
                    <a:pt x="731" y="2101"/>
                  </a:lnTo>
                  <a:lnTo>
                    <a:pt x="731" y="2090"/>
                  </a:lnTo>
                  <a:lnTo>
                    <a:pt x="733" y="2078"/>
                  </a:lnTo>
                  <a:lnTo>
                    <a:pt x="733" y="2063"/>
                  </a:lnTo>
                  <a:lnTo>
                    <a:pt x="735" y="2049"/>
                  </a:lnTo>
                  <a:lnTo>
                    <a:pt x="735" y="2034"/>
                  </a:lnTo>
                  <a:lnTo>
                    <a:pt x="735" y="2019"/>
                  </a:lnTo>
                  <a:lnTo>
                    <a:pt x="733" y="2003"/>
                  </a:lnTo>
                  <a:lnTo>
                    <a:pt x="731" y="1986"/>
                  </a:lnTo>
                  <a:lnTo>
                    <a:pt x="727" y="1969"/>
                  </a:lnTo>
                  <a:lnTo>
                    <a:pt x="721" y="1951"/>
                  </a:lnTo>
                  <a:lnTo>
                    <a:pt x="714" y="1932"/>
                  </a:lnTo>
                  <a:lnTo>
                    <a:pt x="706" y="1915"/>
                  </a:lnTo>
                  <a:lnTo>
                    <a:pt x="696" y="1895"/>
                  </a:lnTo>
                  <a:lnTo>
                    <a:pt x="687" y="1874"/>
                  </a:lnTo>
                  <a:lnTo>
                    <a:pt x="675" y="1855"/>
                  </a:lnTo>
                  <a:lnTo>
                    <a:pt x="662" y="1834"/>
                  </a:lnTo>
                  <a:lnTo>
                    <a:pt x="646" y="1813"/>
                  </a:lnTo>
                  <a:lnTo>
                    <a:pt x="631" y="1792"/>
                  </a:lnTo>
                  <a:lnTo>
                    <a:pt x="614" y="1768"/>
                  </a:lnTo>
                  <a:lnTo>
                    <a:pt x="596" y="1745"/>
                  </a:lnTo>
                  <a:lnTo>
                    <a:pt x="596" y="1745"/>
                  </a:lnTo>
                  <a:lnTo>
                    <a:pt x="596" y="1745"/>
                  </a:lnTo>
                </a:path>
              </a:pathLst>
            </a:custGeom>
            <a:solidFill>
              <a:srgbClr val="e5ffe5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6065280" y="1567440"/>
              <a:ext cx="202680" cy="511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96" h="175">
                  <a:moveTo>
                    <a:pt x="548" y="150"/>
                  </a:moveTo>
                  <a:lnTo>
                    <a:pt x="539" y="152"/>
                  </a:lnTo>
                  <a:lnTo>
                    <a:pt x="529" y="152"/>
                  </a:lnTo>
                  <a:lnTo>
                    <a:pt x="517" y="154"/>
                  </a:lnTo>
                  <a:lnTo>
                    <a:pt x="508" y="156"/>
                  </a:lnTo>
                  <a:lnTo>
                    <a:pt x="494" y="158"/>
                  </a:lnTo>
                  <a:lnTo>
                    <a:pt x="483" y="158"/>
                  </a:lnTo>
                  <a:lnTo>
                    <a:pt x="471" y="160"/>
                  </a:lnTo>
                  <a:lnTo>
                    <a:pt x="458" y="160"/>
                  </a:lnTo>
                  <a:lnTo>
                    <a:pt x="444" y="162"/>
                  </a:lnTo>
                  <a:lnTo>
                    <a:pt x="431" y="164"/>
                  </a:lnTo>
                  <a:lnTo>
                    <a:pt x="415" y="164"/>
                  </a:lnTo>
                  <a:lnTo>
                    <a:pt x="400" y="165"/>
                  </a:lnTo>
                  <a:lnTo>
                    <a:pt x="385" y="165"/>
                  </a:lnTo>
                  <a:lnTo>
                    <a:pt x="369" y="167"/>
                  </a:lnTo>
                  <a:lnTo>
                    <a:pt x="354" y="167"/>
                  </a:lnTo>
                  <a:lnTo>
                    <a:pt x="337" y="169"/>
                  </a:lnTo>
                  <a:lnTo>
                    <a:pt x="319" y="169"/>
                  </a:lnTo>
                  <a:lnTo>
                    <a:pt x="300" y="169"/>
                  </a:lnTo>
                  <a:lnTo>
                    <a:pt x="283" y="171"/>
                  </a:lnTo>
                  <a:lnTo>
                    <a:pt x="264" y="171"/>
                  </a:lnTo>
                  <a:lnTo>
                    <a:pt x="244" y="171"/>
                  </a:lnTo>
                  <a:lnTo>
                    <a:pt x="225" y="173"/>
                  </a:lnTo>
                  <a:lnTo>
                    <a:pt x="204" y="173"/>
                  </a:lnTo>
                  <a:lnTo>
                    <a:pt x="183" y="173"/>
                  </a:lnTo>
                  <a:lnTo>
                    <a:pt x="162" y="173"/>
                  </a:lnTo>
                  <a:lnTo>
                    <a:pt x="141" y="175"/>
                  </a:lnTo>
                  <a:lnTo>
                    <a:pt x="119" y="175"/>
                  </a:lnTo>
                  <a:lnTo>
                    <a:pt x="96" y="175"/>
                  </a:lnTo>
                  <a:lnTo>
                    <a:pt x="73" y="175"/>
                  </a:lnTo>
                  <a:lnTo>
                    <a:pt x="48" y="175"/>
                  </a:lnTo>
                  <a:lnTo>
                    <a:pt x="25" y="175"/>
                  </a:lnTo>
                  <a:lnTo>
                    <a:pt x="0" y="175"/>
                  </a:lnTo>
                  <a:lnTo>
                    <a:pt x="0" y="75"/>
                  </a:lnTo>
                  <a:lnTo>
                    <a:pt x="41" y="75"/>
                  </a:lnTo>
                  <a:lnTo>
                    <a:pt x="81" y="73"/>
                  </a:lnTo>
                  <a:lnTo>
                    <a:pt x="119" y="69"/>
                  </a:lnTo>
                  <a:lnTo>
                    <a:pt x="160" y="65"/>
                  </a:lnTo>
                  <a:lnTo>
                    <a:pt x="198" y="60"/>
                  </a:lnTo>
                  <a:lnTo>
                    <a:pt x="237" y="54"/>
                  </a:lnTo>
                  <a:lnTo>
                    <a:pt x="273" y="46"/>
                  </a:lnTo>
                  <a:lnTo>
                    <a:pt x="312" y="37"/>
                  </a:lnTo>
                  <a:lnTo>
                    <a:pt x="329" y="33"/>
                  </a:lnTo>
                  <a:lnTo>
                    <a:pt x="346" y="29"/>
                  </a:lnTo>
                  <a:lnTo>
                    <a:pt x="364" y="25"/>
                  </a:lnTo>
                  <a:lnTo>
                    <a:pt x="379" y="21"/>
                  </a:lnTo>
                  <a:lnTo>
                    <a:pt x="394" y="17"/>
                  </a:lnTo>
                  <a:lnTo>
                    <a:pt x="410" y="15"/>
                  </a:lnTo>
                  <a:lnTo>
                    <a:pt x="423" y="12"/>
                  </a:lnTo>
                  <a:lnTo>
                    <a:pt x="435" y="10"/>
                  </a:lnTo>
                  <a:lnTo>
                    <a:pt x="448" y="8"/>
                  </a:lnTo>
                  <a:lnTo>
                    <a:pt x="458" y="6"/>
                  </a:lnTo>
                  <a:lnTo>
                    <a:pt x="469" y="4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23" y="0"/>
                  </a:lnTo>
                  <a:lnTo>
                    <a:pt x="537" y="2"/>
                  </a:lnTo>
                  <a:lnTo>
                    <a:pt x="550" y="6"/>
                  </a:lnTo>
                  <a:lnTo>
                    <a:pt x="565" y="10"/>
                  </a:lnTo>
                  <a:lnTo>
                    <a:pt x="581" y="15"/>
                  </a:lnTo>
                  <a:lnTo>
                    <a:pt x="596" y="21"/>
                  </a:lnTo>
                  <a:lnTo>
                    <a:pt x="612" y="29"/>
                  </a:lnTo>
                  <a:lnTo>
                    <a:pt x="629" y="37"/>
                  </a:lnTo>
                  <a:lnTo>
                    <a:pt x="637" y="40"/>
                  </a:lnTo>
                  <a:lnTo>
                    <a:pt x="644" y="46"/>
                  </a:lnTo>
                  <a:lnTo>
                    <a:pt x="652" y="50"/>
                  </a:lnTo>
                  <a:lnTo>
                    <a:pt x="660" y="54"/>
                  </a:lnTo>
                  <a:lnTo>
                    <a:pt x="665" y="60"/>
                  </a:lnTo>
                  <a:lnTo>
                    <a:pt x="671" y="63"/>
                  </a:lnTo>
                  <a:lnTo>
                    <a:pt x="675" y="67"/>
                  </a:lnTo>
                  <a:lnTo>
                    <a:pt x="681" y="71"/>
                  </a:lnTo>
                  <a:lnTo>
                    <a:pt x="685" y="75"/>
                  </a:lnTo>
                  <a:lnTo>
                    <a:pt x="687" y="79"/>
                  </a:lnTo>
                  <a:lnTo>
                    <a:pt x="690" y="83"/>
                  </a:lnTo>
                  <a:lnTo>
                    <a:pt x="692" y="87"/>
                  </a:lnTo>
                  <a:lnTo>
                    <a:pt x="694" y="90"/>
                  </a:lnTo>
                  <a:lnTo>
                    <a:pt x="696" y="94"/>
                  </a:lnTo>
                  <a:lnTo>
                    <a:pt x="696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4" y="106"/>
                  </a:lnTo>
                  <a:lnTo>
                    <a:pt x="690" y="110"/>
                  </a:lnTo>
                  <a:lnTo>
                    <a:pt x="687" y="112"/>
                  </a:lnTo>
                  <a:lnTo>
                    <a:pt x="681" y="115"/>
                  </a:lnTo>
                  <a:lnTo>
                    <a:pt x="675" y="117"/>
                  </a:lnTo>
                  <a:lnTo>
                    <a:pt x="667" y="121"/>
                  </a:lnTo>
                  <a:lnTo>
                    <a:pt x="660" y="125"/>
                  </a:lnTo>
                  <a:lnTo>
                    <a:pt x="650" y="127"/>
                  </a:lnTo>
                  <a:lnTo>
                    <a:pt x="639" y="131"/>
                  </a:lnTo>
                  <a:lnTo>
                    <a:pt x="625" y="135"/>
                  </a:lnTo>
                  <a:lnTo>
                    <a:pt x="614" y="137"/>
                  </a:lnTo>
                  <a:lnTo>
                    <a:pt x="598" y="140"/>
                  </a:lnTo>
                  <a:lnTo>
                    <a:pt x="583" y="144"/>
                  </a:lnTo>
                  <a:lnTo>
                    <a:pt x="565" y="146"/>
                  </a:lnTo>
                  <a:lnTo>
                    <a:pt x="548" y="150"/>
                  </a:lnTo>
                  <a:lnTo>
                    <a:pt x="548" y="150"/>
                  </a:lnTo>
                  <a:lnTo>
                    <a:pt x="548" y="150"/>
                  </a:lnTo>
                </a:path>
              </a:pathLst>
            </a:custGeom>
            <a:solidFill>
              <a:srgbClr val="e5ffe5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6075720" y="1734840"/>
              <a:ext cx="221400" cy="5796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59" h="200">
                  <a:moveTo>
                    <a:pt x="380" y="45"/>
                  </a:moveTo>
                  <a:lnTo>
                    <a:pt x="402" y="39"/>
                  </a:lnTo>
                  <a:lnTo>
                    <a:pt x="423" y="35"/>
                  </a:lnTo>
                  <a:lnTo>
                    <a:pt x="442" y="29"/>
                  </a:lnTo>
                  <a:lnTo>
                    <a:pt x="461" y="25"/>
                  </a:lnTo>
                  <a:lnTo>
                    <a:pt x="478" y="21"/>
                  </a:lnTo>
                  <a:lnTo>
                    <a:pt x="496" y="18"/>
                  </a:lnTo>
                  <a:lnTo>
                    <a:pt x="511" y="14"/>
                  </a:lnTo>
                  <a:lnTo>
                    <a:pt x="525" y="12"/>
                  </a:lnTo>
                  <a:lnTo>
                    <a:pt x="538" y="10"/>
                  </a:lnTo>
                  <a:lnTo>
                    <a:pt x="550" y="6"/>
                  </a:lnTo>
                  <a:lnTo>
                    <a:pt x="561" y="4"/>
                  </a:lnTo>
                  <a:lnTo>
                    <a:pt x="571" y="4"/>
                  </a:lnTo>
                  <a:lnTo>
                    <a:pt x="578" y="2"/>
                  </a:lnTo>
                  <a:lnTo>
                    <a:pt x="586" y="0"/>
                  </a:lnTo>
                  <a:lnTo>
                    <a:pt x="592" y="0"/>
                  </a:lnTo>
                  <a:lnTo>
                    <a:pt x="598" y="0"/>
                  </a:lnTo>
                  <a:lnTo>
                    <a:pt x="603" y="0"/>
                  </a:lnTo>
                  <a:lnTo>
                    <a:pt x="609" y="2"/>
                  </a:lnTo>
                  <a:lnTo>
                    <a:pt x="615" y="6"/>
                  </a:lnTo>
                  <a:lnTo>
                    <a:pt x="623" y="10"/>
                  </a:lnTo>
                  <a:lnTo>
                    <a:pt x="630" y="14"/>
                  </a:lnTo>
                  <a:lnTo>
                    <a:pt x="638" y="20"/>
                  </a:lnTo>
                  <a:lnTo>
                    <a:pt x="648" y="27"/>
                  </a:lnTo>
                  <a:lnTo>
                    <a:pt x="657" y="35"/>
                  </a:lnTo>
                  <a:lnTo>
                    <a:pt x="667" y="45"/>
                  </a:lnTo>
                  <a:lnTo>
                    <a:pt x="678" y="54"/>
                  </a:lnTo>
                  <a:lnTo>
                    <a:pt x="690" y="66"/>
                  </a:lnTo>
                  <a:lnTo>
                    <a:pt x="703" y="77"/>
                  </a:lnTo>
                  <a:lnTo>
                    <a:pt x="715" y="91"/>
                  </a:lnTo>
                  <a:lnTo>
                    <a:pt x="730" y="104"/>
                  </a:lnTo>
                  <a:lnTo>
                    <a:pt x="744" y="120"/>
                  </a:lnTo>
                  <a:lnTo>
                    <a:pt x="759" y="137"/>
                  </a:lnTo>
                  <a:lnTo>
                    <a:pt x="752" y="137"/>
                  </a:lnTo>
                  <a:lnTo>
                    <a:pt x="742" y="137"/>
                  </a:lnTo>
                  <a:lnTo>
                    <a:pt x="730" y="139"/>
                  </a:lnTo>
                  <a:lnTo>
                    <a:pt x="719" y="139"/>
                  </a:lnTo>
                  <a:lnTo>
                    <a:pt x="705" y="141"/>
                  </a:lnTo>
                  <a:lnTo>
                    <a:pt x="690" y="141"/>
                  </a:lnTo>
                  <a:lnTo>
                    <a:pt x="673" y="143"/>
                  </a:lnTo>
                  <a:lnTo>
                    <a:pt x="655" y="145"/>
                  </a:lnTo>
                  <a:lnTo>
                    <a:pt x="636" y="147"/>
                  </a:lnTo>
                  <a:lnTo>
                    <a:pt x="617" y="150"/>
                  </a:lnTo>
                  <a:lnTo>
                    <a:pt x="594" y="152"/>
                  </a:lnTo>
                  <a:lnTo>
                    <a:pt x="573" y="154"/>
                  </a:lnTo>
                  <a:lnTo>
                    <a:pt x="548" y="158"/>
                  </a:lnTo>
                  <a:lnTo>
                    <a:pt x="523" y="160"/>
                  </a:lnTo>
                  <a:lnTo>
                    <a:pt x="496" y="164"/>
                  </a:lnTo>
                  <a:lnTo>
                    <a:pt x="467" y="168"/>
                  </a:lnTo>
                  <a:lnTo>
                    <a:pt x="409" y="175"/>
                  </a:lnTo>
                  <a:lnTo>
                    <a:pt x="352" y="181"/>
                  </a:lnTo>
                  <a:lnTo>
                    <a:pt x="294" y="187"/>
                  </a:lnTo>
                  <a:lnTo>
                    <a:pt x="234" y="193"/>
                  </a:lnTo>
                  <a:lnTo>
                    <a:pt x="177" y="197"/>
                  </a:lnTo>
                  <a:lnTo>
                    <a:pt x="117" y="198"/>
                  </a:lnTo>
                  <a:lnTo>
                    <a:pt x="59" y="200"/>
                  </a:lnTo>
                  <a:lnTo>
                    <a:pt x="0" y="200"/>
                  </a:lnTo>
                  <a:lnTo>
                    <a:pt x="0" y="87"/>
                  </a:lnTo>
                  <a:lnTo>
                    <a:pt x="50" y="87"/>
                  </a:lnTo>
                  <a:lnTo>
                    <a:pt x="98" y="85"/>
                  </a:lnTo>
                  <a:lnTo>
                    <a:pt x="146" y="81"/>
                  </a:lnTo>
                  <a:lnTo>
                    <a:pt x="194" y="77"/>
                  </a:lnTo>
                  <a:lnTo>
                    <a:pt x="242" y="71"/>
                  </a:lnTo>
                  <a:lnTo>
                    <a:pt x="288" y="64"/>
                  </a:lnTo>
                  <a:lnTo>
                    <a:pt x="334" y="54"/>
                  </a:lnTo>
                  <a:lnTo>
                    <a:pt x="380" y="45"/>
                  </a:lnTo>
                  <a:lnTo>
                    <a:pt x="380" y="45"/>
                  </a:lnTo>
                  <a:lnTo>
                    <a:pt x="380" y="45"/>
                  </a:lnTo>
                </a:path>
              </a:pathLst>
            </a:custGeom>
            <a:solidFill>
              <a:srgbClr val="e5ffe5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93" name="组合 12"/>
          <p:cNvGrpSpPr/>
          <p:nvPr/>
        </p:nvGrpSpPr>
        <p:grpSpPr>
          <a:xfrm>
            <a:off x="5557680" y="1098720"/>
            <a:ext cx="429840" cy="858600"/>
            <a:chOff x="5557680" y="1098720"/>
            <a:chExt cx="429840" cy="858600"/>
          </a:xfrm>
        </p:grpSpPr>
        <p:sp>
          <p:nvSpPr>
            <p:cNvPr id="294" name="Freeform 5"/>
            <p:cNvSpPr/>
            <p:nvPr/>
          </p:nvSpPr>
          <p:spPr>
            <a:xfrm>
              <a:off x="5591520" y="1356480"/>
              <a:ext cx="396000" cy="10908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358" h="375">
                  <a:moveTo>
                    <a:pt x="92" y="336"/>
                  </a:moveTo>
                  <a:lnTo>
                    <a:pt x="81" y="332"/>
                  </a:lnTo>
                  <a:lnTo>
                    <a:pt x="71" y="327"/>
                  </a:lnTo>
                  <a:lnTo>
                    <a:pt x="62" y="323"/>
                  </a:lnTo>
                  <a:lnTo>
                    <a:pt x="52" y="319"/>
                  </a:lnTo>
                  <a:lnTo>
                    <a:pt x="44" y="315"/>
                  </a:lnTo>
                  <a:lnTo>
                    <a:pt x="37" y="311"/>
                  </a:lnTo>
                  <a:lnTo>
                    <a:pt x="29" y="307"/>
                  </a:lnTo>
                  <a:lnTo>
                    <a:pt x="23" y="304"/>
                  </a:lnTo>
                  <a:lnTo>
                    <a:pt x="17" y="302"/>
                  </a:lnTo>
                  <a:lnTo>
                    <a:pt x="13" y="298"/>
                  </a:lnTo>
                  <a:lnTo>
                    <a:pt x="10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2" y="286"/>
                  </a:lnTo>
                  <a:lnTo>
                    <a:pt x="0" y="282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2" y="277"/>
                  </a:lnTo>
                  <a:lnTo>
                    <a:pt x="6" y="273"/>
                  </a:lnTo>
                  <a:lnTo>
                    <a:pt x="10" y="271"/>
                  </a:lnTo>
                  <a:lnTo>
                    <a:pt x="17" y="269"/>
                  </a:lnTo>
                  <a:lnTo>
                    <a:pt x="23" y="265"/>
                  </a:lnTo>
                  <a:lnTo>
                    <a:pt x="33" y="263"/>
                  </a:lnTo>
                  <a:lnTo>
                    <a:pt x="42" y="259"/>
                  </a:lnTo>
                  <a:lnTo>
                    <a:pt x="54" y="255"/>
                  </a:lnTo>
                  <a:lnTo>
                    <a:pt x="65" y="252"/>
                  </a:lnTo>
                  <a:lnTo>
                    <a:pt x="79" y="250"/>
                  </a:lnTo>
                  <a:lnTo>
                    <a:pt x="94" y="246"/>
                  </a:lnTo>
                  <a:lnTo>
                    <a:pt x="110" y="242"/>
                  </a:lnTo>
                  <a:lnTo>
                    <a:pt x="129" y="238"/>
                  </a:lnTo>
                  <a:lnTo>
                    <a:pt x="146" y="234"/>
                  </a:lnTo>
                  <a:lnTo>
                    <a:pt x="167" y="230"/>
                  </a:lnTo>
                  <a:lnTo>
                    <a:pt x="188" y="227"/>
                  </a:lnTo>
                  <a:lnTo>
                    <a:pt x="213" y="221"/>
                  </a:lnTo>
                  <a:lnTo>
                    <a:pt x="238" y="217"/>
                  </a:lnTo>
                  <a:lnTo>
                    <a:pt x="263" y="211"/>
                  </a:lnTo>
                  <a:lnTo>
                    <a:pt x="292" y="204"/>
                  </a:lnTo>
                  <a:lnTo>
                    <a:pt x="323" y="198"/>
                  </a:lnTo>
                  <a:lnTo>
                    <a:pt x="354" y="190"/>
                  </a:lnTo>
                  <a:lnTo>
                    <a:pt x="388" y="182"/>
                  </a:lnTo>
                  <a:lnTo>
                    <a:pt x="423" y="175"/>
                  </a:lnTo>
                  <a:lnTo>
                    <a:pt x="460" y="165"/>
                  </a:lnTo>
                  <a:lnTo>
                    <a:pt x="498" y="155"/>
                  </a:lnTo>
                  <a:lnTo>
                    <a:pt x="538" y="146"/>
                  </a:lnTo>
                  <a:lnTo>
                    <a:pt x="581" y="134"/>
                  </a:lnTo>
                  <a:lnTo>
                    <a:pt x="623" y="125"/>
                  </a:lnTo>
                  <a:lnTo>
                    <a:pt x="669" y="111"/>
                  </a:lnTo>
                  <a:lnTo>
                    <a:pt x="715" y="100"/>
                  </a:lnTo>
                  <a:lnTo>
                    <a:pt x="738" y="94"/>
                  </a:lnTo>
                  <a:lnTo>
                    <a:pt x="761" y="88"/>
                  </a:lnTo>
                  <a:lnTo>
                    <a:pt x="785" y="82"/>
                  </a:lnTo>
                  <a:lnTo>
                    <a:pt x="806" y="77"/>
                  </a:lnTo>
                  <a:lnTo>
                    <a:pt x="827" y="71"/>
                  </a:lnTo>
                  <a:lnTo>
                    <a:pt x="848" y="67"/>
                  </a:lnTo>
                  <a:lnTo>
                    <a:pt x="867" y="61"/>
                  </a:lnTo>
                  <a:lnTo>
                    <a:pt x="886" y="57"/>
                  </a:lnTo>
                  <a:lnTo>
                    <a:pt x="906" y="52"/>
                  </a:lnTo>
                  <a:lnTo>
                    <a:pt x="925" y="48"/>
                  </a:lnTo>
                  <a:lnTo>
                    <a:pt x="942" y="44"/>
                  </a:lnTo>
                  <a:lnTo>
                    <a:pt x="960" y="40"/>
                  </a:lnTo>
                  <a:lnTo>
                    <a:pt x="975" y="36"/>
                  </a:lnTo>
                  <a:lnTo>
                    <a:pt x="990" y="32"/>
                  </a:lnTo>
                  <a:lnTo>
                    <a:pt x="1006" y="28"/>
                  </a:lnTo>
                  <a:lnTo>
                    <a:pt x="1021" y="25"/>
                  </a:lnTo>
                  <a:lnTo>
                    <a:pt x="1035" y="23"/>
                  </a:lnTo>
                  <a:lnTo>
                    <a:pt x="1048" y="19"/>
                  </a:lnTo>
                  <a:lnTo>
                    <a:pt x="1061" y="17"/>
                  </a:lnTo>
                  <a:lnTo>
                    <a:pt x="1075" y="15"/>
                  </a:lnTo>
                  <a:lnTo>
                    <a:pt x="1086" y="11"/>
                  </a:lnTo>
                  <a:lnTo>
                    <a:pt x="1098" y="9"/>
                  </a:lnTo>
                  <a:lnTo>
                    <a:pt x="1108" y="7"/>
                  </a:lnTo>
                  <a:lnTo>
                    <a:pt x="1117" y="5"/>
                  </a:lnTo>
                  <a:lnTo>
                    <a:pt x="1127" y="5"/>
                  </a:lnTo>
                  <a:lnTo>
                    <a:pt x="1136" y="3"/>
                  </a:lnTo>
                  <a:lnTo>
                    <a:pt x="1144" y="2"/>
                  </a:lnTo>
                  <a:lnTo>
                    <a:pt x="1152" y="2"/>
                  </a:lnTo>
                  <a:lnTo>
                    <a:pt x="1160" y="0"/>
                  </a:lnTo>
                  <a:lnTo>
                    <a:pt x="1165" y="0"/>
                  </a:lnTo>
                  <a:lnTo>
                    <a:pt x="1171" y="0"/>
                  </a:lnTo>
                  <a:lnTo>
                    <a:pt x="1177" y="0"/>
                  </a:lnTo>
                  <a:lnTo>
                    <a:pt x="1196" y="0"/>
                  </a:lnTo>
                  <a:lnTo>
                    <a:pt x="1215" y="2"/>
                  </a:lnTo>
                  <a:lnTo>
                    <a:pt x="1233" y="3"/>
                  </a:lnTo>
                  <a:lnTo>
                    <a:pt x="1250" y="5"/>
                  </a:lnTo>
                  <a:lnTo>
                    <a:pt x="1265" y="7"/>
                  </a:lnTo>
                  <a:lnTo>
                    <a:pt x="1281" y="11"/>
                  </a:lnTo>
                  <a:lnTo>
                    <a:pt x="1294" y="15"/>
                  </a:lnTo>
                  <a:lnTo>
                    <a:pt x="1308" y="19"/>
                  </a:lnTo>
                  <a:lnTo>
                    <a:pt x="1319" y="25"/>
                  </a:lnTo>
                  <a:lnTo>
                    <a:pt x="1329" y="28"/>
                  </a:lnTo>
                  <a:lnTo>
                    <a:pt x="1338" y="34"/>
                  </a:lnTo>
                  <a:lnTo>
                    <a:pt x="1344" y="42"/>
                  </a:lnTo>
                  <a:lnTo>
                    <a:pt x="1350" y="48"/>
                  </a:lnTo>
                  <a:lnTo>
                    <a:pt x="1354" y="53"/>
                  </a:lnTo>
                  <a:lnTo>
                    <a:pt x="1358" y="61"/>
                  </a:lnTo>
                  <a:lnTo>
                    <a:pt x="1358" y="69"/>
                  </a:lnTo>
                  <a:lnTo>
                    <a:pt x="1358" y="71"/>
                  </a:lnTo>
                  <a:lnTo>
                    <a:pt x="1356" y="73"/>
                  </a:lnTo>
                  <a:lnTo>
                    <a:pt x="1356" y="75"/>
                  </a:lnTo>
                  <a:lnTo>
                    <a:pt x="1352" y="78"/>
                  </a:lnTo>
                  <a:lnTo>
                    <a:pt x="1350" y="80"/>
                  </a:lnTo>
                  <a:lnTo>
                    <a:pt x="1346" y="82"/>
                  </a:lnTo>
                  <a:lnTo>
                    <a:pt x="1342" y="86"/>
                  </a:lnTo>
                  <a:lnTo>
                    <a:pt x="1338" y="88"/>
                  </a:lnTo>
                  <a:lnTo>
                    <a:pt x="1333" y="90"/>
                  </a:lnTo>
                  <a:lnTo>
                    <a:pt x="1327" y="94"/>
                  </a:lnTo>
                  <a:lnTo>
                    <a:pt x="1321" y="98"/>
                  </a:lnTo>
                  <a:lnTo>
                    <a:pt x="1313" y="100"/>
                  </a:lnTo>
                  <a:lnTo>
                    <a:pt x="1306" y="103"/>
                  </a:lnTo>
                  <a:lnTo>
                    <a:pt x="1298" y="107"/>
                  </a:lnTo>
                  <a:lnTo>
                    <a:pt x="1288" y="111"/>
                  </a:lnTo>
                  <a:lnTo>
                    <a:pt x="1281" y="115"/>
                  </a:lnTo>
                  <a:lnTo>
                    <a:pt x="1269" y="117"/>
                  </a:lnTo>
                  <a:lnTo>
                    <a:pt x="1260" y="121"/>
                  </a:lnTo>
                  <a:lnTo>
                    <a:pt x="1248" y="127"/>
                  </a:lnTo>
                  <a:lnTo>
                    <a:pt x="1236" y="130"/>
                  </a:lnTo>
                  <a:lnTo>
                    <a:pt x="1223" y="134"/>
                  </a:lnTo>
                  <a:lnTo>
                    <a:pt x="1210" y="138"/>
                  </a:lnTo>
                  <a:lnTo>
                    <a:pt x="1196" y="142"/>
                  </a:lnTo>
                  <a:lnTo>
                    <a:pt x="1183" y="148"/>
                  </a:lnTo>
                  <a:lnTo>
                    <a:pt x="1167" y="152"/>
                  </a:lnTo>
                  <a:lnTo>
                    <a:pt x="1152" y="157"/>
                  </a:lnTo>
                  <a:lnTo>
                    <a:pt x="1136" y="161"/>
                  </a:lnTo>
                  <a:lnTo>
                    <a:pt x="1119" y="167"/>
                  </a:lnTo>
                  <a:lnTo>
                    <a:pt x="1102" y="173"/>
                  </a:lnTo>
                  <a:lnTo>
                    <a:pt x="1085" y="177"/>
                  </a:lnTo>
                  <a:lnTo>
                    <a:pt x="1065" y="182"/>
                  </a:lnTo>
                  <a:lnTo>
                    <a:pt x="1046" y="188"/>
                  </a:lnTo>
                  <a:lnTo>
                    <a:pt x="1008" y="200"/>
                  </a:lnTo>
                  <a:lnTo>
                    <a:pt x="969" y="209"/>
                  </a:lnTo>
                  <a:lnTo>
                    <a:pt x="931" y="219"/>
                  </a:lnTo>
                  <a:lnTo>
                    <a:pt x="894" y="229"/>
                  </a:lnTo>
                  <a:lnTo>
                    <a:pt x="858" y="238"/>
                  </a:lnTo>
                  <a:lnTo>
                    <a:pt x="821" y="248"/>
                  </a:lnTo>
                  <a:lnTo>
                    <a:pt x="750" y="265"/>
                  </a:lnTo>
                  <a:lnTo>
                    <a:pt x="681" y="282"/>
                  </a:lnTo>
                  <a:lnTo>
                    <a:pt x="613" y="298"/>
                  </a:lnTo>
                  <a:lnTo>
                    <a:pt x="548" y="311"/>
                  </a:lnTo>
                  <a:lnTo>
                    <a:pt x="485" y="325"/>
                  </a:lnTo>
                  <a:lnTo>
                    <a:pt x="454" y="331"/>
                  </a:lnTo>
                  <a:lnTo>
                    <a:pt x="427" y="336"/>
                  </a:lnTo>
                  <a:lnTo>
                    <a:pt x="400" y="342"/>
                  </a:lnTo>
                  <a:lnTo>
                    <a:pt x="375" y="346"/>
                  </a:lnTo>
                  <a:lnTo>
                    <a:pt x="352" y="352"/>
                  </a:lnTo>
                  <a:lnTo>
                    <a:pt x="329" y="356"/>
                  </a:lnTo>
                  <a:lnTo>
                    <a:pt x="310" y="359"/>
                  </a:lnTo>
                  <a:lnTo>
                    <a:pt x="292" y="361"/>
                  </a:lnTo>
                  <a:lnTo>
                    <a:pt x="275" y="365"/>
                  </a:lnTo>
                  <a:lnTo>
                    <a:pt x="262" y="367"/>
                  </a:lnTo>
                  <a:lnTo>
                    <a:pt x="248" y="369"/>
                  </a:lnTo>
                  <a:lnTo>
                    <a:pt x="237" y="371"/>
                  </a:lnTo>
                  <a:lnTo>
                    <a:pt x="229" y="373"/>
                  </a:lnTo>
                  <a:lnTo>
                    <a:pt x="221" y="375"/>
                  </a:lnTo>
                  <a:lnTo>
                    <a:pt x="215" y="375"/>
                  </a:lnTo>
                  <a:lnTo>
                    <a:pt x="212" y="375"/>
                  </a:lnTo>
                  <a:lnTo>
                    <a:pt x="208" y="375"/>
                  </a:lnTo>
                  <a:lnTo>
                    <a:pt x="204" y="375"/>
                  </a:lnTo>
                  <a:lnTo>
                    <a:pt x="200" y="373"/>
                  </a:lnTo>
                  <a:lnTo>
                    <a:pt x="194" y="373"/>
                  </a:lnTo>
                  <a:lnTo>
                    <a:pt x="188" y="371"/>
                  </a:lnTo>
                  <a:lnTo>
                    <a:pt x="183" y="369"/>
                  </a:lnTo>
                  <a:lnTo>
                    <a:pt x="177" y="367"/>
                  </a:lnTo>
                  <a:lnTo>
                    <a:pt x="169" y="365"/>
                  </a:lnTo>
                  <a:lnTo>
                    <a:pt x="162" y="363"/>
                  </a:lnTo>
                  <a:lnTo>
                    <a:pt x="154" y="359"/>
                  </a:lnTo>
                  <a:lnTo>
                    <a:pt x="144" y="356"/>
                  </a:lnTo>
                  <a:lnTo>
                    <a:pt x="135" y="354"/>
                  </a:lnTo>
                  <a:lnTo>
                    <a:pt x="125" y="350"/>
                  </a:lnTo>
                  <a:lnTo>
                    <a:pt x="115" y="346"/>
                  </a:lnTo>
                  <a:lnTo>
                    <a:pt x="104" y="340"/>
                  </a:lnTo>
                  <a:lnTo>
                    <a:pt x="92" y="336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5853240" y="1519920"/>
              <a:ext cx="128520" cy="92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442" h="320">
                  <a:moveTo>
                    <a:pt x="337" y="52"/>
                  </a:moveTo>
                  <a:lnTo>
                    <a:pt x="350" y="60"/>
                  </a:lnTo>
                  <a:lnTo>
                    <a:pt x="364" y="68"/>
                  </a:lnTo>
                  <a:lnTo>
                    <a:pt x="375" y="75"/>
                  </a:lnTo>
                  <a:lnTo>
                    <a:pt x="385" y="85"/>
                  </a:lnTo>
                  <a:lnTo>
                    <a:pt x="394" y="93"/>
                  </a:lnTo>
                  <a:lnTo>
                    <a:pt x="404" y="102"/>
                  </a:lnTo>
                  <a:lnTo>
                    <a:pt x="412" y="112"/>
                  </a:lnTo>
                  <a:lnTo>
                    <a:pt x="419" y="122"/>
                  </a:lnTo>
                  <a:lnTo>
                    <a:pt x="425" y="131"/>
                  </a:lnTo>
                  <a:lnTo>
                    <a:pt x="431" y="141"/>
                  </a:lnTo>
                  <a:lnTo>
                    <a:pt x="435" y="152"/>
                  </a:lnTo>
                  <a:lnTo>
                    <a:pt x="439" y="162"/>
                  </a:lnTo>
                  <a:lnTo>
                    <a:pt x="440" y="174"/>
                  </a:lnTo>
                  <a:lnTo>
                    <a:pt x="442" y="185"/>
                  </a:lnTo>
                  <a:lnTo>
                    <a:pt x="442" y="197"/>
                  </a:lnTo>
                  <a:lnTo>
                    <a:pt x="442" y="208"/>
                  </a:lnTo>
                  <a:lnTo>
                    <a:pt x="442" y="220"/>
                  </a:lnTo>
                  <a:lnTo>
                    <a:pt x="440" y="229"/>
                  </a:lnTo>
                  <a:lnTo>
                    <a:pt x="440" y="241"/>
                  </a:lnTo>
                  <a:lnTo>
                    <a:pt x="439" y="251"/>
                  </a:lnTo>
                  <a:lnTo>
                    <a:pt x="439" y="258"/>
                  </a:lnTo>
                  <a:lnTo>
                    <a:pt x="437" y="268"/>
                  </a:lnTo>
                  <a:lnTo>
                    <a:pt x="435" y="276"/>
                  </a:lnTo>
                  <a:lnTo>
                    <a:pt x="433" y="283"/>
                  </a:lnTo>
                  <a:lnTo>
                    <a:pt x="433" y="289"/>
                  </a:lnTo>
                  <a:lnTo>
                    <a:pt x="431" y="295"/>
                  </a:lnTo>
                  <a:lnTo>
                    <a:pt x="429" y="301"/>
                  </a:lnTo>
                  <a:lnTo>
                    <a:pt x="427" y="306"/>
                  </a:lnTo>
                  <a:lnTo>
                    <a:pt x="425" y="310"/>
                  </a:lnTo>
                  <a:lnTo>
                    <a:pt x="423" y="314"/>
                  </a:lnTo>
                  <a:lnTo>
                    <a:pt x="419" y="318"/>
                  </a:lnTo>
                  <a:lnTo>
                    <a:pt x="417" y="320"/>
                  </a:lnTo>
                  <a:lnTo>
                    <a:pt x="415" y="320"/>
                  </a:lnTo>
                  <a:lnTo>
                    <a:pt x="414" y="320"/>
                  </a:lnTo>
                  <a:lnTo>
                    <a:pt x="412" y="320"/>
                  </a:lnTo>
                  <a:lnTo>
                    <a:pt x="408" y="318"/>
                  </a:lnTo>
                  <a:lnTo>
                    <a:pt x="402" y="316"/>
                  </a:lnTo>
                  <a:lnTo>
                    <a:pt x="398" y="314"/>
                  </a:lnTo>
                  <a:lnTo>
                    <a:pt x="390" y="310"/>
                  </a:lnTo>
                  <a:lnTo>
                    <a:pt x="385" y="306"/>
                  </a:lnTo>
                  <a:lnTo>
                    <a:pt x="377" y="303"/>
                  </a:lnTo>
                  <a:lnTo>
                    <a:pt x="369" y="297"/>
                  </a:lnTo>
                  <a:lnTo>
                    <a:pt x="360" y="291"/>
                  </a:lnTo>
                  <a:lnTo>
                    <a:pt x="350" y="283"/>
                  </a:lnTo>
                  <a:lnTo>
                    <a:pt x="340" y="276"/>
                  </a:lnTo>
                  <a:lnTo>
                    <a:pt x="329" y="268"/>
                  </a:lnTo>
                  <a:lnTo>
                    <a:pt x="317" y="258"/>
                  </a:lnTo>
                  <a:lnTo>
                    <a:pt x="304" y="249"/>
                  </a:lnTo>
                  <a:lnTo>
                    <a:pt x="290" y="239"/>
                  </a:lnTo>
                  <a:lnTo>
                    <a:pt x="277" y="227"/>
                  </a:lnTo>
                  <a:lnTo>
                    <a:pt x="262" y="216"/>
                  </a:lnTo>
                  <a:lnTo>
                    <a:pt x="246" y="204"/>
                  </a:lnTo>
                  <a:lnTo>
                    <a:pt x="229" y="191"/>
                  </a:lnTo>
                  <a:lnTo>
                    <a:pt x="212" y="177"/>
                  </a:lnTo>
                  <a:lnTo>
                    <a:pt x="194" y="162"/>
                  </a:lnTo>
                  <a:lnTo>
                    <a:pt x="175" y="149"/>
                  </a:lnTo>
                  <a:lnTo>
                    <a:pt x="156" y="131"/>
                  </a:lnTo>
                  <a:lnTo>
                    <a:pt x="137" y="116"/>
                  </a:lnTo>
                  <a:lnTo>
                    <a:pt x="115" y="99"/>
                  </a:lnTo>
                  <a:lnTo>
                    <a:pt x="94" y="81"/>
                  </a:lnTo>
                  <a:lnTo>
                    <a:pt x="71" y="62"/>
                  </a:lnTo>
                  <a:lnTo>
                    <a:pt x="48" y="43"/>
                  </a:lnTo>
                  <a:lnTo>
                    <a:pt x="25" y="24"/>
                  </a:lnTo>
                  <a:lnTo>
                    <a:pt x="0" y="2"/>
                  </a:lnTo>
                  <a:lnTo>
                    <a:pt x="27" y="0"/>
                  </a:lnTo>
                  <a:lnTo>
                    <a:pt x="54" y="0"/>
                  </a:lnTo>
                  <a:lnTo>
                    <a:pt x="81" y="0"/>
                  </a:lnTo>
                  <a:lnTo>
                    <a:pt x="106" y="0"/>
                  </a:lnTo>
                  <a:lnTo>
                    <a:pt x="129" y="2"/>
                  </a:lnTo>
                  <a:lnTo>
                    <a:pt x="152" y="4"/>
                  </a:lnTo>
                  <a:lnTo>
                    <a:pt x="175" y="6"/>
                  </a:lnTo>
                  <a:lnTo>
                    <a:pt x="196" y="8"/>
                  </a:lnTo>
                  <a:lnTo>
                    <a:pt x="217" y="12"/>
                  </a:lnTo>
                  <a:lnTo>
                    <a:pt x="237" y="16"/>
                  </a:lnTo>
                  <a:lnTo>
                    <a:pt x="256" y="20"/>
                  </a:lnTo>
                  <a:lnTo>
                    <a:pt x="273" y="25"/>
                  </a:lnTo>
                  <a:lnTo>
                    <a:pt x="290" y="31"/>
                  </a:lnTo>
                  <a:lnTo>
                    <a:pt x="308" y="37"/>
                  </a:lnTo>
                  <a:lnTo>
                    <a:pt x="321" y="45"/>
                  </a:lnTo>
                  <a:lnTo>
                    <a:pt x="337" y="52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5800680" y="1098720"/>
              <a:ext cx="89640" cy="8586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w="310" h="2938">
                  <a:moveTo>
                    <a:pt x="306" y="135"/>
                  </a:moveTo>
                  <a:lnTo>
                    <a:pt x="308" y="145"/>
                  </a:lnTo>
                  <a:lnTo>
                    <a:pt x="310" y="154"/>
                  </a:lnTo>
                  <a:lnTo>
                    <a:pt x="310" y="166"/>
                  </a:lnTo>
                  <a:lnTo>
                    <a:pt x="308" y="177"/>
                  </a:lnTo>
                  <a:lnTo>
                    <a:pt x="306" y="189"/>
                  </a:lnTo>
                  <a:lnTo>
                    <a:pt x="302" y="201"/>
                  </a:lnTo>
                  <a:lnTo>
                    <a:pt x="298" y="214"/>
                  </a:lnTo>
                  <a:lnTo>
                    <a:pt x="293" y="227"/>
                  </a:lnTo>
                  <a:lnTo>
                    <a:pt x="293" y="229"/>
                  </a:lnTo>
                  <a:lnTo>
                    <a:pt x="291" y="231"/>
                  </a:lnTo>
                  <a:lnTo>
                    <a:pt x="291" y="235"/>
                  </a:lnTo>
                  <a:lnTo>
                    <a:pt x="291" y="239"/>
                  </a:lnTo>
                  <a:lnTo>
                    <a:pt x="289" y="243"/>
                  </a:lnTo>
                  <a:lnTo>
                    <a:pt x="289" y="249"/>
                  </a:lnTo>
                  <a:lnTo>
                    <a:pt x="287" y="252"/>
                  </a:lnTo>
                  <a:lnTo>
                    <a:pt x="287" y="258"/>
                  </a:lnTo>
                  <a:lnTo>
                    <a:pt x="287" y="266"/>
                  </a:lnTo>
                  <a:lnTo>
                    <a:pt x="285" y="272"/>
                  </a:lnTo>
                  <a:lnTo>
                    <a:pt x="285" y="279"/>
                  </a:lnTo>
                  <a:lnTo>
                    <a:pt x="285" y="287"/>
                  </a:lnTo>
                  <a:lnTo>
                    <a:pt x="283" y="295"/>
                  </a:lnTo>
                  <a:lnTo>
                    <a:pt x="283" y="304"/>
                  </a:lnTo>
                  <a:lnTo>
                    <a:pt x="283" y="314"/>
                  </a:lnTo>
                  <a:lnTo>
                    <a:pt x="281" y="324"/>
                  </a:lnTo>
                  <a:lnTo>
                    <a:pt x="281" y="335"/>
                  </a:lnTo>
                  <a:lnTo>
                    <a:pt x="281" y="347"/>
                  </a:lnTo>
                  <a:lnTo>
                    <a:pt x="279" y="358"/>
                  </a:lnTo>
                  <a:lnTo>
                    <a:pt x="279" y="370"/>
                  </a:lnTo>
                  <a:lnTo>
                    <a:pt x="279" y="381"/>
                  </a:lnTo>
                  <a:lnTo>
                    <a:pt x="277" y="395"/>
                  </a:lnTo>
                  <a:lnTo>
                    <a:pt x="277" y="408"/>
                  </a:lnTo>
                  <a:lnTo>
                    <a:pt x="277" y="424"/>
                  </a:lnTo>
                  <a:lnTo>
                    <a:pt x="275" y="439"/>
                  </a:lnTo>
                  <a:lnTo>
                    <a:pt x="275" y="454"/>
                  </a:lnTo>
                  <a:lnTo>
                    <a:pt x="275" y="470"/>
                  </a:lnTo>
                  <a:lnTo>
                    <a:pt x="273" y="485"/>
                  </a:lnTo>
                  <a:lnTo>
                    <a:pt x="273" y="503"/>
                  </a:lnTo>
                  <a:lnTo>
                    <a:pt x="273" y="520"/>
                  </a:lnTo>
                  <a:lnTo>
                    <a:pt x="271" y="539"/>
                  </a:lnTo>
                  <a:lnTo>
                    <a:pt x="271" y="556"/>
                  </a:lnTo>
                  <a:lnTo>
                    <a:pt x="271" y="576"/>
                  </a:lnTo>
                  <a:lnTo>
                    <a:pt x="270" y="595"/>
                  </a:lnTo>
                  <a:lnTo>
                    <a:pt x="270" y="616"/>
                  </a:lnTo>
                  <a:lnTo>
                    <a:pt x="270" y="635"/>
                  </a:lnTo>
                  <a:lnTo>
                    <a:pt x="270" y="656"/>
                  </a:lnTo>
                  <a:lnTo>
                    <a:pt x="268" y="680"/>
                  </a:lnTo>
                  <a:lnTo>
                    <a:pt x="268" y="701"/>
                  </a:lnTo>
                  <a:lnTo>
                    <a:pt x="268" y="724"/>
                  </a:lnTo>
                  <a:lnTo>
                    <a:pt x="266" y="747"/>
                  </a:lnTo>
                  <a:lnTo>
                    <a:pt x="266" y="772"/>
                  </a:lnTo>
                  <a:lnTo>
                    <a:pt x="266" y="795"/>
                  </a:lnTo>
                  <a:lnTo>
                    <a:pt x="266" y="820"/>
                  </a:lnTo>
                  <a:lnTo>
                    <a:pt x="264" y="845"/>
                  </a:lnTo>
                  <a:lnTo>
                    <a:pt x="264" y="872"/>
                  </a:lnTo>
                  <a:lnTo>
                    <a:pt x="264" y="899"/>
                  </a:lnTo>
                  <a:lnTo>
                    <a:pt x="264" y="926"/>
                  </a:lnTo>
                  <a:lnTo>
                    <a:pt x="262" y="953"/>
                  </a:lnTo>
                  <a:lnTo>
                    <a:pt x="262" y="982"/>
                  </a:lnTo>
                  <a:lnTo>
                    <a:pt x="262" y="1009"/>
                  </a:lnTo>
                  <a:lnTo>
                    <a:pt x="262" y="1039"/>
                  </a:lnTo>
                  <a:lnTo>
                    <a:pt x="260" y="1068"/>
                  </a:lnTo>
                  <a:lnTo>
                    <a:pt x="260" y="1099"/>
                  </a:lnTo>
                  <a:lnTo>
                    <a:pt x="260" y="1130"/>
                  </a:lnTo>
                  <a:lnTo>
                    <a:pt x="260" y="1161"/>
                  </a:lnTo>
                  <a:lnTo>
                    <a:pt x="258" y="1191"/>
                  </a:lnTo>
                  <a:lnTo>
                    <a:pt x="258" y="1224"/>
                  </a:lnTo>
                  <a:lnTo>
                    <a:pt x="258" y="1257"/>
                  </a:lnTo>
                  <a:lnTo>
                    <a:pt x="258" y="1291"/>
                  </a:lnTo>
                  <a:lnTo>
                    <a:pt x="258" y="1324"/>
                  </a:lnTo>
                  <a:lnTo>
                    <a:pt x="256" y="1359"/>
                  </a:lnTo>
                  <a:lnTo>
                    <a:pt x="256" y="1393"/>
                  </a:lnTo>
                  <a:lnTo>
                    <a:pt x="256" y="1430"/>
                  </a:lnTo>
                  <a:lnTo>
                    <a:pt x="256" y="1466"/>
                  </a:lnTo>
                  <a:lnTo>
                    <a:pt x="256" y="1501"/>
                  </a:lnTo>
                  <a:lnTo>
                    <a:pt x="254" y="1536"/>
                  </a:lnTo>
                  <a:lnTo>
                    <a:pt x="254" y="1570"/>
                  </a:lnTo>
                  <a:lnTo>
                    <a:pt x="254" y="1603"/>
                  </a:lnTo>
                  <a:lnTo>
                    <a:pt x="254" y="1636"/>
                  </a:lnTo>
                  <a:lnTo>
                    <a:pt x="254" y="1668"/>
                  </a:lnTo>
                  <a:lnTo>
                    <a:pt x="252" y="1701"/>
                  </a:lnTo>
                  <a:lnTo>
                    <a:pt x="252" y="1732"/>
                  </a:lnTo>
                  <a:lnTo>
                    <a:pt x="252" y="1763"/>
                  </a:lnTo>
                  <a:lnTo>
                    <a:pt x="252" y="1794"/>
                  </a:lnTo>
                  <a:lnTo>
                    <a:pt x="252" y="1824"/>
                  </a:lnTo>
                  <a:lnTo>
                    <a:pt x="250" y="1853"/>
                  </a:lnTo>
                  <a:lnTo>
                    <a:pt x="250" y="1882"/>
                  </a:lnTo>
                  <a:lnTo>
                    <a:pt x="250" y="1911"/>
                  </a:lnTo>
                  <a:lnTo>
                    <a:pt x="250" y="1940"/>
                  </a:lnTo>
                  <a:lnTo>
                    <a:pt x="248" y="1967"/>
                  </a:lnTo>
                  <a:lnTo>
                    <a:pt x="248" y="1994"/>
                  </a:lnTo>
                  <a:lnTo>
                    <a:pt x="248" y="2021"/>
                  </a:lnTo>
                  <a:lnTo>
                    <a:pt x="248" y="2046"/>
                  </a:lnTo>
                  <a:lnTo>
                    <a:pt x="248" y="2071"/>
                  </a:lnTo>
                  <a:lnTo>
                    <a:pt x="246" y="2096"/>
                  </a:lnTo>
                  <a:lnTo>
                    <a:pt x="246" y="2121"/>
                  </a:lnTo>
                  <a:lnTo>
                    <a:pt x="246" y="2144"/>
                  </a:lnTo>
                  <a:lnTo>
                    <a:pt x="246" y="2169"/>
                  </a:lnTo>
                  <a:lnTo>
                    <a:pt x="245" y="2190"/>
                  </a:lnTo>
                  <a:lnTo>
                    <a:pt x="245" y="2213"/>
                  </a:lnTo>
                  <a:lnTo>
                    <a:pt x="245" y="2234"/>
                  </a:lnTo>
                  <a:lnTo>
                    <a:pt x="245" y="2257"/>
                  </a:lnTo>
                  <a:lnTo>
                    <a:pt x="243" y="2276"/>
                  </a:lnTo>
                  <a:lnTo>
                    <a:pt x="243" y="2298"/>
                  </a:lnTo>
                  <a:lnTo>
                    <a:pt x="243" y="2317"/>
                  </a:lnTo>
                  <a:lnTo>
                    <a:pt x="243" y="2336"/>
                  </a:lnTo>
                  <a:lnTo>
                    <a:pt x="241" y="2355"/>
                  </a:lnTo>
                  <a:lnTo>
                    <a:pt x="241" y="2375"/>
                  </a:lnTo>
                  <a:lnTo>
                    <a:pt x="241" y="2392"/>
                  </a:lnTo>
                  <a:lnTo>
                    <a:pt x="239" y="2409"/>
                  </a:lnTo>
                  <a:lnTo>
                    <a:pt x="239" y="2426"/>
                  </a:lnTo>
                  <a:lnTo>
                    <a:pt x="239" y="2442"/>
                  </a:lnTo>
                  <a:lnTo>
                    <a:pt x="239" y="2457"/>
                  </a:lnTo>
                  <a:lnTo>
                    <a:pt x="237" y="2473"/>
                  </a:lnTo>
                  <a:lnTo>
                    <a:pt x="237" y="2488"/>
                  </a:lnTo>
                  <a:lnTo>
                    <a:pt x="237" y="2502"/>
                  </a:lnTo>
                  <a:lnTo>
                    <a:pt x="237" y="2515"/>
                  </a:lnTo>
                  <a:lnTo>
                    <a:pt x="235" y="2528"/>
                  </a:lnTo>
                  <a:lnTo>
                    <a:pt x="235" y="2542"/>
                  </a:lnTo>
                  <a:lnTo>
                    <a:pt x="235" y="2553"/>
                  </a:lnTo>
                  <a:lnTo>
                    <a:pt x="233" y="2565"/>
                  </a:lnTo>
                  <a:lnTo>
                    <a:pt x="233" y="2577"/>
                  </a:lnTo>
                  <a:lnTo>
                    <a:pt x="233" y="2586"/>
                  </a:lnTo>
                  <a:lnTo>
                    <a:pt x="233" y="2598"/>
                  </a:lnTo>
                  <a:lnTo>
                    <a:pt x="231" y="2607"/>
                  </a:lnTo>
                  <a:lnTo>
                    <a:pt x="231" y="2615"/>
                  </a:lnTo>
                  <a:lnTo>
                    <a:pt x="231" y="2625"/>
                  </a:lnTo>
                  <a:lnTo>
                    <a:pt x="231" y="2632"/>
                  </a:lnTo>
                  <a:lnTo>
                    <a:pt x="229" y="2640"/>
                  </a:lnTo>
                  <a:lnTo>
                    <a:pt x="229" y="2648"/>
                  </a:lnTo>
                  <a:lnTo>
                    <a:pt x="229" y="2654"/>
                  </a:lnTo>
                  <a:lnTo>
                    <a:pt x="227" y="2659"/>
                  </a:lnTo>
                  <a:lnTo>
                    <a:pt x="227" y="2665"/>
                  </a:lnTo>
                  <a:lnTo>
                    <a:pt x="227" y="2671"/>
                  </a:lnTo>
                  <a:lnTo>
                    <a:pt x="227" y="2675"/>
                  </a:lnTo>
                  <a:lnTo>
                    <a:pt x="225" y="2679"/>
                  </a:lnTo>
                  <a:lnTo>
                    <a:pt x="225" y="2682"/>
                  </a:lnTo>
                  <a:lnTo>
                    <a:pt x="220" y="2709"/>
                  </a:lnTo>
                  <a:lnTo>
                    <a:pt x="216" y="2734"/>
                  </a:lnTo>
                  <a:lnTo>
                    <a:pt x="210" y="2757"/>
                  </a:lnTo>
                  <a:lnTo>
                    <a:pt x="204" y="2780"/>
                  </a:lnTo>
                  <a:lnTo>
                    <a:pt x="198" y="2804"/>
                  </a:lnTo>
                  <a:lnTo>
                    <a:pt x="193" y="2825"/>
                  </a:lnTo>
                  <a:lnTo>
                    <a:pt x="187" y="2844"/>
                  </a:lnTo>
                  <a:lnTo>
                    <a:pt x="181" y="2863"/>
                  </a:lnTo>
                  <a:lnTo>
                    <a:pt x="177" y="2873"/>
                  </a:lnTo>
                  <a:lnTo>
                    <a:pt x="175" y="2881"/>
                  </a:lnTo>
                  <a:lnTo>
                    <a:pt x="171" y="2888"/>
                  </a:lnTo>
                  <a:lnTo>
                    <a:pt x="168" y="2896"/>
                  </a:lnTo>
                  <a:lnTo>
                    <a:pt x="166" y="2904"/>
                  </a:lnTo>
                  <a:lnTo>
                    <a:pt x="162" y="2909"/>
                  </a:lnTo>
                  <a:lnTo>
                    <a:pt x="160" y="2915"/>
                  </a:lnTo>
                  <a:lnTo>
                    <a:pt x="156" y="2919"/>
                  </a:lnTo>
                  <a:lnTo>
                    <a:pt x="152" y="2925"/>
                  </a:lnTo>
                  <a:lnTo>
                    <a:pt x="150" y="2929"/>
                  </a:lnTo>
                  <a:lnTo>
                    <a:pt x="146" y="2931"/>
                  </a:lnTo>
                  <a:lnTo>
                    <a:pt x="145" y="2934"/>
                  </a:lnTo>
                  <a:lnTo>
                    <a:pt x="141" y="2936"/>
                  </a:lnTo>
                  <a:lnTo>
                    <a:pt x="137" y="2936"/>
                  </a:lnTo>
                  <a:lnTo>
                    <a:pt x="135" y="2938"/>
                  </a:lnTo>
                  <a:lnTo>
                    <a:pt x="131" y="2938"/>
                  </a:lnTo>
                  <a:lnTo>
                    <a:pt x="127" y="2938"/>
                  </a:lnTo>
                  <a:lnTo>
                    <a:pt x="125" y="2936"/>
                  </a:lnTo>
                  <a:lnTo>
                    <a:pt x="121" y="2934"/>
                  </a:lnTo>
                  <a:lnTo>
                    <a:pt x="118" y="2931"/>
                  </a:lnTo>
                  <a:lnTo>
                    <a:pt x="116" y="2927"/>
                  </a:lnTo>
                  <a:lnTo>
                    <a:pt x="112" y="2921"/>
                  </a:lnTo>
                  <a:lnTo>
                    <a:pt x="108" y="2915"/>
                  </a:lnTo>
                  <a:lnTo>
                    <a:pt x="104" y="2907"/>
                  </a:lnTo>
                  <a:lnTo>
                    <a:pt x="100" y="2900"/>
                  </a:lnTo>
                  <a:lnTo>
                    <a:pt x="96" y="2892"/>
                  </a:lnTo>
                  <a:lnTo>
                    <a:pt x="93" y="2882"/>
                  </a:lnTo>
                  <a:lnTo>
                    <a:pt x="87" y="2871"/>
                  </a:lnTo>
                  <a:lnTo>
                    <a:pt x="83" y="2859"/>
                  </a:lnTo>
                  <a:lnTo>
                    <a:pt x="79" y="2846"/>
                  </a:lnTo>
                  <a:lnTo>
                    <a:pt x="73" y="2832"/>
                  </a:lnTo>
                  <a:lnTo>
                    <a:pt x="70" y="2819"/>
                  </a:lnTo>
                  <a:lnTo>
                    <a:pt x="66" y="2806"/>
                  </a:lnTo>
                  <a:lnTo>
                    <a:pt x="60" y="2790"/>
                  </a:lnTo>
                  <a:lnTo>
                    <a:pt x="56" y="2779"/>
                  </a:lnTo>
                  <a:lnTo>
                    <a:pt x="52" y="2765"/>
                  </a:lnTo>
                  <a:lnTo>
                    <a:pt x="50" y="2754"/>
                  </a:lnTo>
                  <a:lnTo>
                    <a:pt x="46" y="2744"/>
                  </a:lnTo>
                  <a:lnTo>
                    <a:pt x="43" y="2732"/>
                  </a:lnTo>
                  <a:lnTo>
                    <a:pt x="41" y="2723"/>
                  </a:lnTo>
                  <a:lnTo>
                    <a:pt x="39" y="2715"/>
                  </a:lnTo>
                  <a:lnTo>
                    <a:pt x="37" y="2705"/>
                  </a:lnTo>
                  <a:lnTo>
                    <a:pt x="35" y="2698"/>
                  </a:lnTo>
                  <a:lnTo>
                    <a:pt x="33" y="2692"/>
                  </a:lnTo>
                  <a:lnTo>
                    <a:pt x="33" y="2686"/>
                  </a:lnTo>
                  <a:lnTo>
                    <a:pt x="31" y="2680"/>
                  </a:lnTo>
                  <a:lnTo>
                    <a:pt x="31" y="2675"/>
                  </a:lnTo>
                  <a:lnTo>
                    <a:pt x="31" y="2671"/>
                  </a:lnTo>
                  <a:lnTo>
                    <a:pt x="31" y="2667"/>
                  </a:lnTo>
                  <a:lnTo>
                    <a:pt x="31" y="2661"/>
                  </a:lnTo>
                  <a:lnTo>
                    <a:pt x="33" y="2655"/>
                  </a:lnTo>
                  <a:lnTo>
                    <a:pt x="33" y="2650"/>
                  </a:lnTo>
                  <a:lnTo>
                    <a:pt x="33" y="2642"/>
                  </a:lnTo>
                  <a:lnTo>
                    <a:pt x="35" y="2632"/>
                  </a:lnTo>
                  <a:lnTo>
                    <a:pt x="37" y="2625"/>
                  </a:lnTo>
                  <a:lnTo>
                    <a:pt x="39" y="2615"/>
                  </a:lnTo>
                  <a:lnTo>
                    <a:pt x="39" y="2603"/>
                  </a:lnTo>
                  <a:lnTo>
                    <a:pt x="41" y="2592"/>
                  </a:lnTo>
                  <a:lnTo>
                    <a:pt x="43" y="2580"/>
                  </a:lnTo>
                  <a:lnTo>
                    <a:pt x="46" y="2569"/>
                  </a:lnTo>
                  <a:lnTo>
                    <a:pt x="48" y="2555"/>
                  </a:lnTo>
                  <a:lnTo>
                    <a:pt x="50" y="2540"/>
                  </a:lnTo>
                  <a:lnTo>
                    <a:pt x="54" y="2525"/>
                  </a:lnTo>
                  <a:lnTo>
                    <a:pt x="56" y="2509"/>
                  </a:lnTo>
                  <a:lnTo>
                    <a:pt x="58" y="2500"/>
                  </a:lnTo>
                  <a:lnTo>
                    <a:pt x="60" y="2490"/>
                  </a:lnTo>
                  <a:lnTo>
                    <a:pt x="62" y="2480"/>
                  </a:lnTo>
                  <a:lnTo>
                    <a:pt x="62" y="2469"/>
                  </a:lnTo>
                  <a:lnTo>
                    <a:pt x="64" y="2455"/>
                  </a:lnTo>
                  <a:lnTo>
                    <a:pt x="66" y="2442"/>
                  </a:lnTo>
                  <a:lnTo>
                    <a:pt x="68" y="2428"/>
                  </a:lnTo>
                  <a:lnTo>
                    <a:pt x="70" y="2413"/>
                  </a:lnTo>
                  <a:lnTo>
                    <a:pt x="71" y="2396"/>
                  </a:lnTo>
                  <a:lnTo>
                    <a:pt x="71" y="2378"/>
                  </a:lnTo>
                  <a:lnTo>
                    <a:pt x="73" y="2361"/>
                  </a:lnTo>
                  <a:lnTo>
                    <a:pt x="75" y="2342"/>
                  </a:lnTo>
                  <a:lnTo>
                    <a:pt x="77" y="2321"/>
                  </a:lnTo>
                  <a:lnTo>
                    <a:pt x="79" y="2300"/>
                  </a:lnTo>
                  <a:lnTo>
                    <a:pt x="81" y="2278"/>
                  </a:lnTo>
                  <a:lnTo>
                    <a:pt x="81" y="2255"/>
                  </a:lnTo>
                  <a:lnTo>
                    <a:pt x="83" y="2230"/>
                  </a:lnTo>
                  <a:lnTo>
                    <a:pt x="85" y="2205"/>
                  </a:lnTo>
                  <a:lnTo>
                    <a:pt x="87" y="2180"/>
                  </a:lnTo>
                  <a:lnTo>
                    <a:pt x="89" y="2153"/>
                  </a:lnTo>
                  <a:lnTo>
                    <a:pt x="89" y="2124"/>
                  </a:lnTo>
                  <a:lnTo>
                    <a:pt x="91" y="2096"/>
                  </a:lnTo>
                  <a:lnTo>
                    <a:pt x="93" y="2067"/>
                  </a:lnTo>
                  <a:lnTo>
                    <a:pt x="95" y="2036"/>
                  </a:lnTo>
                  <a:lnTo>
                    <a:pt x="96" y="2003"/>
                  </a:lnTo>
                  <a:lnTo>
                    <a:pt x="96" y="1971"/>
                  </a:lnTo>
                  <a:lnTo>
                    <a:pt x="98" y="1938"/>
                  </a:lnTo>
                  <a:lnTo>
                    <a:pt x="100" y="1903"/>
                  </a:lnTo>
                  <a:lnTo>
                    <a:pt x="102" y="1869"/>
                  </a:lnTo>
                  <a:lnTo>
                    <a:pt x="104" y="1832"/>
                  </a:lnTo>
                  <a:lnTo>
                    <a:pt x="104" y="1794"/>
                  </a:lnTo>
                  <a:lnTo>
                    <a:pt x="106" y="1755"/>
                  </a:lnTo>
                  <a:lnTo>
                    <a:pt x="108" y="1717"/>
                  </a:lnTo>
                  <a:lnTo>
                    <a:pt x="110" y="1680"/>
                  </a:lnTo>
                  <a:lnTo>
                    <a:pt x="110" y="1643"/>
                  </a:lnTo>
                  <a:lnTo>
                    <a:pt x="112" y="1607"/>
                  </a:lnTo>
                  <a:lnTo>
                    <a:pt x="114" y="1572"/>
                  </a:lnTo>
                  <a:lnTo>
                    <a:pt x="116" y="1538"/>
                  </a:lnTo>
                  <a:lnTo>
                    <a:pt x="116" y="1505"/>
                  </a:lnTo>
                  <a:lnTo>
                    <a:pt x="118" y="1474"/>
                  </a:lnTo>
                  <a:lnTo>
                    <a:pt x="118" y="1443"/>
                  </a:lnTo>
                  <a:lnTo>
                    <a:pt x="120" y="1413"/>
                  </a:lnTo>
                  <a:lnTo>
                    <a:pt x="121" y="1384"/>
                  </a:lnTo>
                  <a:lnTo>
                    <a:pt x="121" y="1357"/>
                  </a:lnTo>
                  <a:lnTo>
                    <a:pt x="123" y="1330"/>
                  </a:lnTo>
                  <a:lnTo>
                    <a:pt x="123" y="1303"/>
                  </a:lnTo>
                  <a:lnTo>
                    <a:pt x="123" y="1278"/>
                  </a:lnTo>
                  <a:lnTo>
                    <a:pt x="125" y="1255"/>
                  </a:lnTo>
                  <a:lnTo>
                    <a:pt x="125" y="1232"/>
                  </a:lnTo>
                  <a:lnTo>
                    <a:pt x="127" y="1209"/>
                  </a:lnTo>
                  <a:lnTo>
                    <a:pt x="127" y="1187"/>
                  </a:lnTo>
                  <a:lnTo>
                    <a:pt x="127" y="1168"/>
                  </a:lnTo>
                  <a:lnTo>
                    <a:pt x="129" y="1149"/>
                  </a:lnTo>
                  <a:lnTo>
                    <a:pt x="129" y="1130"/>
                  </a:lnTo>
                  <a:lnTo>
                    <a:pt x="129" y="1112"/>
                  </a:lnTo>
                  <a:lnTo>
                    <a:pt x="129" y="1097"/>
                  </a:lnTo>
                  <a:lnTo>
                    <a:pt x="129" y="1082"/>
                  </a:lnTo>
                  <a:lnTo>
                    <a:pt x="131" y="1066"/>
                  </a:lnTo>
                  <a:lnTo>
                    <a:pt x="131" y="1053"/>
                  </a:lnTo>
                  <a:lnTo>
                    <a:pt x="131" y="1041"/>
                  </a:lnTo>
                  <a:lnTo>
                    <a:pt x="131" y="1030"/>
                  </a:lnTo>
                  <a:lnTo>
                    <a:pt x="131" y="1018"/>
                  </a:lnTo>
                  <a:lnTo>
                    <a:pt x="131" y="1009"/>
                  </a:lnTo>
                  <a:lnTo>
                    <a:pt x="131" y="1001"/>
                  </a:lnTo>
                  <a:lnTo>
                    <a:pt x="131" y="984"/>
                  </a:lnTo>
                  <a:lnTo>
                    <a:pt x="131" y="966"/>
                  </a:lnTo>
                  <a:lnTo>
                    <a:pt x="131" y="949"/>
                  </a:lnTo>
                  <a:lnTo>
                    <a:pt x="131" y="930"/>
                  </a:lnTo>
                  <a:lnTo>
                    <a:pt x="129" y="910"/>
                  </a:lnTo>
                  <a:lnTo>
                    <a:pt x="129" y="891"/>
                  </a:lnTo>
                  <a:lnTo>
                    <a:pt x="129" y="872"/>
                  </a:lnTo>
                  <a:lnTo>
                    <a:pt x="129" y="851"/>
                  </a:lnTo>
                  <a:lnTo>
                    <a:pt x="127" y="828"/>
                  </a:lnTo>
                  <a:lnTo>
                    <a:pt x="127" y="807"/>
                  </a:lnTo>
                  <a:lnTo>
                    <a:pt x="125" y="783"/>
                  </a:lnTo>
                  <a:lnTo>
                    <a:pt x="125" y="758"/>
                  </a:lnTo>
                  <a:lnTo>
                    <a:pt x="123" y="735"/>
                  </a:lnTo>
                  <a:lnTo>
                    <a:pt x="121" y="710"/>
                  </a:lnTo>
                  <a:lnTo>
                    <a:pt x="121" y="685"/>
                  </a:lnTo>
                  <a:lnTo>
                    <a:pt x="120" y="658"/>
                  </a:lnTo>
                  <a:lnTo>
                    <a:pt x="116" y="606"/>
                  </a:lnTo>
                  <a:lnTo>
                    <a:pt x="112" y="555"/>
                  </a:lnTo>
                  <a:lnTo>
                    <a:pt x="110" y="506"/>
                  </a:lnTo>
                  <a:lnTo>
                    <a:pt x="106" y="458"/>
                  </a:lnTo>
                  <a:lnTo>
                    <a:pt x="104" y="414"/>
                  </a:lnTo>
                  <a:lnTo>
                    <a:pt x="100" y="370"/>
                  </a:lnTo>
                  <a:lnTo>
                    <a:pt x="98" y="326"/>
                  </a:lnTo>
                  <a:lnTo>
                    <a:pt x="95" y="285"/>
                  </a:lnTo>
                  <a:lnTo>
                    <a:pt x="93" y="266"/>
                  </a:lnTo>
                  <a:lnTo>
                    <a:pt x="91" y="247"/>
                  </a:lnTo>
                  <a:lnTo>
                    <a:pt x="89" y="227"/>
                  </a:lnTo>
                  <a:lnTo>
                    <a:pt x="85" y="212"/>
                  </a:lnTo>
                  <a:lnTo>
                    <a:pt x="83" y="197"/>
                  </a:lnTo>
                  <a:lnTo>
                    <a:pt x="81" y="181"/>
                  </a:lnTo>
                  <a:lnTo>
                    <a:pt x="77" y="168"/>
                  </a:lnTo>
                  <a:lnTo>
                    <a:pt x="73" y="154"/>
                  </a:lnTo>
                  <a:lnTo>
                    <a:pt x="70" y="143"/>
                  </a:lnTo>
                  <a:lnTo>
                    <a:pt x="66" y="133"/>
                  </a:lnTo>
                  <a:lnTo>
                    <a:pt x="62" y="124"/>
                  </a:lnTo>
                  <a:lnTo>
                    <a:pt x="58" y="114"/>
                  </a:lnTo>
                  <a:lnTo>
                    <a:pt x="54" y="108"/>
                  </a:lnTo>
                  <a:lnTo>
                    <a:pt x="48" y="100"/>
                  </a:lnTo>
                  <a:lnTo>
                    <a:pt x="45" y="95"/>
                  </a:lnTo>
                  <a:lnTo>
                    <a:pt x="39" y="91"/>
                  </a:lnTo>
                  <a:lnTo>
                    <a:pt x="27" y="83"/>
                  </a:lnTo>
                  <a:lnTo>
                    <a:pt x="20" y="75"/>
                  </a:lnTo>
                  <a:lnTo>
                    <a:pt x="12" y="68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2"/>
                  </a:lnTo>
                  <a:lnTo>
                    <a:pt x="73" y="4"/>
                  </a:lnTo>
                  <a:lnTo>
                    <a:pt x="83" y="6"/>
                  </a:lnTo>
                  <a:lnTo>
                    <a:pt x="95" y="10"/>
                  </a:lnTo>
                  <a:lnTo>
                    <a:pt x="116" y="16"/>
                  </a:lnTo>
                  <a:lnTo>
                    <a:pt x="137" y="24"/>
                  </a:lnTo>
                  <a:lnTo>
                    <a:pt x="156" y="29"/>
                  </a:lnTo>
                  <a:lnTo>
                    <a:pt x="173" y="37"/>
                  </a:lnTo>
                  <a:lnTo>
                    <a:pt x="191" y="43"/>
                  </a:lnTo>
                  <a:lnTo>
                    <a:pt x="208" y="50"/>
                  </a:lnTo>
                  <a:lnTo>
                    <a:pt x="223" y="58"/>
                  </a:lnTo>
                  <a:lnTo>
                    <a:pt x="237" y="66"/>
                  </a:lnTo>
                  <a:lnTo>
                    <a:pt x="250" y="74"/>
                  </a:lnTo>
                  <a:lnTo>
                    <a:pt x="264" y="81"/>
                  </a:lnTo>
                  <a:lnTo>
                    <a:pt x="273" y="91"/>
                  </a:lnTo>
                  <a:lnTo>
                    <a:pt x="283" y="99"/>
                  </a:lnTo>
                  <a:lnTo>
                    <a:pt x="291" y="108"/>
                  </a:lnTo>
                  <a:lnTo>
                    <a:pt x="298" y="116"/>
                  </a:lnTo>
                  <a:lnTo>
                    <a:pt x="302" y="125"/>
                  </a:lnTo>
                  <a:lnTo>
                    <a:pt x="306" y="135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5557680" y="1385640"/>
              <a:ext cx="299160" cy="4032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025" h="1379">
                  <a:moveTo>
                    <a:pt x="588" y="935"/>
                  </a:moveTo>
                  <a:lnTo>
                    <a:pt x="567" y="960"/>
                  </a:lnTo>
                  <a:lnTo>
                    <a:pt x="544" y="983"/>
                  </a:lnTo>
                  <a:lnTo>
                    <a:pt x="521" y="1008"/>
                  </a:lnTo>
                  <a:lnTo>
                    <a:pt x="500" y="1031"/>
                  </a:lnTo>
                  <a:lnTo>
                    <a:pt x="477" y="1052"/>
                  </a:lnTo>
                  <a:lnTo>
                    <a:pt x="453" y="1075"/>
                  </a:lnTo>
                  <a:lnTo>
                    <a:pt x="432" y="1096"/>
                  </a:lnTo>
                  <a:lnTo>
                    <a:pt x="409" y="1117"/>
                  </a:lnTo>
                  <a:lnTo>
                    <a:pt x="386" y="1137"/>
                  </a:lnTo>
                  <a:lnTo>
                    <a:pt x="363" y="1158"/>
                  </a:lnTo>
                  <a:lnTo>
                    <a:pt x="340" y="1177"/>
                  </a:lnTo>
                  <a:lnTo>
                    <a:pt x="317" y="1194"/>
                  </a:lnTo>
                  <a:lnTo>
                    <a:pt x="292" y="1214"/>
                  </a:lnTo>
                  <a:lnTo>
                    <a:pt x="269" y="1231"/>
                  </a:lnTo>
                  <a:lnTo>
                    <a:pt x="246" y="1248"/>
                  </a:lnTo>
                  <a:lnTo>
                    <a:pt x="221" y="1266"/>
                  </a:lnTo>
                  <a:lnTo>
                    <a:pt x="198" y="1281"/>
                  </a:lnTo>
                  <a:lnTo>
                    <a:pt x="175" y="1296"/>
                  </a:lnTo>
                  <a:lnTo>
                    <a:pt x="153" y="1310"/>
                  </a:lnTo>
                  <a:lnTo>
                    <a:pt x="134" y="1321"/>
                  </a:lnTo>
                  <a:lnTo>
                    <a:pt x="117" y="1333"/>
                  </a:lnTo>
                  <a:lnTo>
                    <a:pt x="100" y="1343"/>
                  </a:lnTo>
                  <a:lnTo>
                    <a:pt x="84" y="1350"/>
                  </a:lnTo>
                  <a:lnTo>
                    <a:pt x="69" y="1358"/>
                  </a:lnTo>
                  <a:lnTo>
                    <a:pt x="55" y="1364"/>
                  </a:lnTo>
                  <a:lnTo>
                    <a:pt x="44" y="1369"/>
                  </a:lnTo>
                  <a:lnTo>
                    <a:pt x="34" y="1373"/>
                  </a:lnTo>
                  <a:lnTo>
                    <a:pt x="25" y="1377"/>
                  </a:lnTo>
                  <a:lnTo>
                    <a:pt x="17" y="1379"/>
                  </a:lnTo>
                  <a:lnTo>
                    <a:pt x="11" y="1379"/>
                  </a:lnTo>
                  <a:lnTo>
                    <a:pt x="5" y="1379"/>
                  </a:lnTo>
                  <a:lnTo>
                    <a:pt x="2" y="1377"/>
                  </a:lnTo>
                  <a:lnTo>
                    <a:pt x="0" y="1375"/>
                  </a:lnTo>
                  <a:lnTo>
                    <a:pt x="0" y="1373"/>
                  </a:lnTo>
                  <a:lnTo>
                    <a:pt x="0" y="1371"/>
                  </a:lnTo>
                  <a:lnTo>
                    <a:pt x="2" y="1368"/>
                  </a:lnTo>
                  <a:lnTo>
                    <a:pt x="2" y="1364"/>
                  </a:lnTo>
                  <a:lnTo>
                    <a:pt x="3" y="1360"/>
                  </a:lnTo>
                  <a:lnTo>
                    <a:pt x="7" y="1356"/>
                  </a:lnTo>
                  <a:lnTo>
                    <a:pt x="11" y="1350"/>
                  </a:lnTo>
                  <a:lnTo>
                    <a:pt x="15" y="1344"/>
                  </a:lnTo>
                  <a:lnTo>
                    <a:pt x="19" y="1337"/>
                  </a:lnTo>
                  <a:lnTo>
                    <a:pt x="25" y="1331"/>
                  </a:lnTo>
                  <a:lnTo>
                    <a:pt x="30" y="1323"/>
                  </a:lnTo>
                  <a:lnTo>
                    <a:pt x="36" y="1316"/>
                  </a:lnTo>
                  <a:lnTo>
                    <a:pt x="44" y="1306"/>
                  </a:lnTo>
                  <a:lnTo>
                    <a:pt x="52" y="1298"/>
                  </a:lnTo>
                  <a:lnTo>
                    <a:pt x="59" y="1289"/>
                  </a:lnTo>
                  <a:lnTo>
                    <a:pt x="69" y="1277"/>
                  </a:lnTo>
                  <a:lnTo>
                    <a:pt x="78" y="1267"/>
                  </a:lnTo>
                  <a:lnTo>
                    <a:pt x="88" y="1256"/>
                  </a:lnTo>
                  <a:lnTo>
                    <a:pt x="100" y="1244"/>
                  </a:lnTo>
                  <a:lnTo>
                    <a:pt x="111" y="1231"/>
                  </a:lnTo>
                  <a:lnTo>
                    <a:pt x="125" y="1219"/>
                  </a:lnTo>
                  <a:lnTo>
                    <a:pt x="136" y="1206"/>
                  </a:lnTo>
                  <a:lnTo>
                    <a:pt x="150" y="1191"/>
                  </a:lnTo>
                  <a:lnTo>
                    <a:pt x="165" y="1177"/>
                  </a:lnTo>
                  <a:lnTo>
                    <a:pt x="178" y="1162"/>
                  </a:lnTo>
                  <a:lnTo>
                    <a:pt x="196" y="1146"/>
                  </a:lnTo>
                  <a:lnTo>
                    <a:pt x="211" y="1129"/>
                  </a:lnTo>
                  <a:lnTo>
                    <a:pt x="228" y="1114"/>
                  </a:lnTo>
                  <a:lnTo>
                    <a:pt x="246" y="1096"/>
                  </a:lnTo>
                  <a:lnTo>
                    <a:pt x="263" y="1079"/>
                  </a:lnTo>
                  <a:lnTo>
                    <a:pt x="282" y="1060"/>
                  </a:lnTo>
                  <a:lnTo>
                    <a:pt x="302" y="1040"/>
                  </a:lnTo>
                  <a:lnTo>
                    <a:pt x="321" y="1021"/>
                  </a:lnTo>
                  <a:lnTo>
                    <a:pt x="340" y="1000"/>
                  </a:lnTo>
                  <a:lnTo>
                    <a:pt x="359" y="977"/>
                  </a:lnTo>
                  <a:lnTo>
                    <a:pt x="380" y="954"/>
                  </a:lnTo>
                  <a:lnTo>
                    <a:pt x="400" y="931"/>
                  </a:lnTo>
                  <a:lnTo>
                    <a:pt x="421" y="906"/>
                  </a:lnTo>
                  <a:lnTo>
                    <a:pt x="440" y="881"/>
                  </a:lnTo>
                  <a:lnTo>
                    <a:pt x="461" y="854"/>
                  </a:lnTo>
                  <a:lnTo>
                    <a:pt x="480" y="827"/>
                  </a:lnTo>
                  <a:lnTo>
                    <a:pt x="502" y="800"/>
                  </a:lnTo>
                  <a:lnTo>
                    <a:pt x="523" y="771"/>
                  </a:lnTo>
                  <a:lnTo>
                    <a:pt x="544" y="740"/>
                  </a:lnTo>
                  <a:lnTo>
                    <a:pt x="565" y="710"/>
                  </a:lnTo>
                  <a:lnTo>
                    <a:pt x="586" y="677"/>
                  </a:lnTo>
                  <a:lnTo>
                    <a:pt x="609" y="646"/>
                  </a:lnTo>
                  <a:lnTo>
                    <a:pt x="630" y="611"/>
                  </a:lnTo>
                  <a:lnTo>
                    <a:pt x="651" y="577"/>
                  </a:lnTo>
                  <a:lnTo>
                    <a:pt x="675" y="542"/>
                  </a:lnTo>
                  <a:lnTo>
                    <a:pt x="696" y="506"/>
                  </a:lnTo>
                  <a:lnTo>
                    <a:pt x="719" y="469"/>
                  </a:lnTo>
                  <a:lnTo>
                    <a:pt x="740" y="431"/>
                  </a:lnTo>
                  <a:lnTo>
                    <a:pt x="763" y="392"/>
                  </a:lnTo>
                  <a:lnTo>
                    <a:pt x="786" y="352"/>
                  </a:lnTo>
                  <a:lnTo>
                    <a:pt x="809" y="311"/>
                  </a:lnTo>
                  <a:lnTo>
                    <a:pt x="832" y="269"/>
                  </a:lnTo>
                  <a:lnTo>
                    <a:pt x="855" y="227"/>
                  </a:lnTo>
                  <a:lnTo>
                    <a:pt x="878" y="182"/>
                  </a:lnTo>
                  <a:lnTo>
                    <a:pt x="903" y="138"/>
                  </a:lnTo>
                  <a:lnTo>
                    <a:pt x="926" y="94"/>
                  </a:lnTo>
                  <a:lnTo>
                    <a:pt x="950" y="48"/>
                  </a:lnTo>
                  <a:lnTo>
                    <a:pt x="975" y="0"/>
                  </a:lnTo>
                  <a:lnTo>
                    <a:pt x="975" y="5"/>
                  </a:lnTo>
                  <a:lnTo>
                    <a:pt x="975" y="11"/>
                  </a:lnTo>
                  <a:lnTo>
                    <a:pt x="976" y="21"/>
                  </a:lnTo>
                  <a:lnTo>
                    <a:pt x="978" y="28"/>
                  </a:lnTo>
                  <a:lnTo>
                    <a:pt x="978" y="40"/>
                  </a:lnTo>
                  <a:lnTo>
                    <a:pt x="982" y="52"/>
                  </a:lnTo>
                  <a:lnTo>
                    <a:pt x="984" y="65"/>
                  </a:lnTo>
                  <a:lnTo>
                    <a:pt x="986" y="80"/>
                  </a:lnTo>
                  <a:lnTo>
                    <a:pt x="990" y="98"/>
                  </a:lnTo>
                  <a:lnTo>
                    <a:pt x="994" y="115"/>
                  </a:lnTo>
                  <a:lnTo>
                    <a:pt x="998" y="134"/>
                  </a:lnTo>
                  <a:lnTo>
                    <a:pt x="1001" y="154"/>
                  </a:lnTo>
                  <a:lnTo>
                    <a:pt x="1007" y="177"/>
                  </a:lnTo>
                  <a:lnTo>
                    <a:pt x="1013" y="200"/>
                  </a:lnTo>
                  <a:lnTo>
                    <a:pt x="1019" y="225"/>
                  </a:lnTo>
                  <a:lnTo>
                    <a:pt x="1025" y="250"/>
                  </a:lnTo>
                  <a:lnTo>
                    <a:pt x="1001" y="296"/>
                  </a:lnTo>
                  <a:lnTo>
                    <a:pt x="980" y="340"/>
                  </a:lnTo>
                  <a:lnTo>
                    <a:pt x="959" y="384"/>
                  </a:lnTo>
                  <a:lnTo>
                    <a:pt x="936" y="427"/>
                  </a:lnTo>
                  <a:lnTo>
                    <a:pt x="915" y="469"/>
                  </a:lnTo>
                  <a:lnTo>
                    <a:pt x="894" y="509"/>
                  </a:lnTo>
                  <a:lnTo>
                    <a:pt x="871" y="548"/>
                  </a:lnTo>
                  <a:lnTo>
                    <a:pt x="850" y="586"/>
                  </a:lnTo>
                  <a:lnTo>
                    <a:pt x="838" y="606"/>
                  </a:lnTo>
                  <a:lnTo>
                    <a:pt x="826" y="625"/>
                  </a:lnTo>
                  <a:lnTo>
                    <a:pt x="813" y="644"/>
                  </a:lnTo>
                  <a:lnTo>
                    <a:pt x="801" y="663"/>
                  </a:lnTo>
                  <a:lnTo>
                    <a:pt x="786" y="685"/>
                  </a:lnTo>
                  <a:lnTo>
                    <a:pt x="773" y="706"/>
                  </a:lnTo>
                  <a:lnTo>
                    <a:pt x="757" y="727"/>
                  </a:lnTo>
                  <a:lnTo>
                    <a:pt x="740" y="748"/>
                  </a:lnTo>
                  <a:lnTo>
                    <a:pt x="725" y="769"/>
                  </a:lnTo>
                  <a:lnTo>
                    <a:pt x="707" y="792"/>
                  </a:lnTo>
                  <a:lnTo>
                    <a:pt x="688" y="815"/>
                  </a:lnTo>
                  <a:lnTo>
                    <a:pt x="669" y="838"/>
                  </a:lnTo>
                  <a:lnTo>
                    <a:pt x="650" y="862"/>
                  </a:lnTo>
                  <a:lnTo>
                    <a:pt x="630" y="887"/>
                  </a:lnTo>
                  <a:lnTo>
                    <a:pt x="609" y="910"/>
                  </a:lnTo>
                  <a:lnTo>
                    <a:pt x="588" y="935"/>
                  </a:lnTo>
                </a:path>
              </a:pathLst>
            </a:custGeom>
            <a:solidFill>
              <a:schemeClr val="tx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298" name="图片 23" descr=""/>
          <p:cNvPicPr/>
          <p:nvPr/>
        </p:nvPicPr>
        <p:blipFill>
          <a:blip r:embed="rId4"/>
          <a:stretch/>
        </p:blipFill>
        <p:spPr>
          <a:xfrm>
            <a:off x="4273560" y="1266840"/>
            <a:ext cx="1099800" cy="477360"/>
          </a:xfrm>
          <a:prstGeom prst="rect">
            <a:avLst/>
          </a:prstGeom>
          <a:ln w="0">
            <a:noFill/>
          </a:ln>
        </p:spPr>
      </p:pic>
      <p:grpSp>
        <p:nvGrpSpPr>
          <p:cNvPr id="299" name="组合 24"/>
          <p:cNvGrpSpPr/>
          <p:nvPr/>
        </p:nvGrpSpPr>
        <p:grpSpPr>
          <a:xfrm>
            <a:off x="3179880" y="2176560"/>
            <a:ext cx="2783880" cy="638280"/>
            <a:chOff x="3179880" y="2176560"/>
            <a:chExt cx="2783880" cy="638280"/>
          </a:xfrm>
        </p:grpSpPr>
        <p:sp>
          <p:nvSpPr>
            <p:cNvPr id="300" name="文本框 13"/>
            <p:cNvSpPr/>
            <p:nvPr/>
          </p:nvSpPr>
          <p:spPr>
            <a:xfrm>
              <a:off x="3837960" y="2176560"/>
              <a:ext cx="2125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a64a"/>
                  </a:solidFill>
                  <a:latin typeface="黑体"/>
                  <a:ea typeface="黑体"/>
                </a:rPr>
                <a:t>情境表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图片 26" descr=""/>
            <p:cNvPicPr/>
            <p:nvPr/>
          </p:nvPicPr>
          <p:blipFill>
            <a:blip r:embed="rId5"/>
            <a:stretch/>
          </p:blipFill>
          <p:spPr>
            <a:xfrm>
              <a:off x="3179880" y="2180520"/>
              <a:ext cx="679320" cy="58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图片 4" descr=""/>
          <p:cNvPicPr/>
          <p:nvPr/>
        </p:nvPicPr>
        <p:blipFill>
          <a:blip r:embed="rId6"/>
          <a:stretch/>
        </p:blipFill>
        <p:spPr>
          <a:xfrm>
            <a:off x="6918480" y="3149640"/>
            <a:ext cx="1740960" cy="153648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6" descr=""/>
          <p:cNvPicPr/>
          <p:nvPr/>
        </p:nvPicPr>
        <p:blipFill>
          <a:blip r:embed="rId7"/>
          <a:stretch/>
        </p:blipFill>
        <p:spPr>
          <a:xfrm>
            <a:off x="611280" y="2870280"/>
            <a:ext cx="1466640" cy="201276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9"/>
          <p:cNvSpPr/>
          <p:nvPr/>
        </p:nvSpPr>
        <p:spPr>
          <a:xfrm>
            <a:off x="6581880" y="2959200"/>
            <a:ext cx="18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1717 -3.7037E-006 E">
                                      <p:cBhvr>
                                        <p:cTn id="291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0062 L 3.88889E-006 0.00031 C -0.00313 0.00031 -0.00573 0.00031 -0.00868 -0.00031 C -0.00973 -0.00031 -0.01042 -0.00062 -0.01146 -0.00062 C -0.0125 -0.00093 -0.01389 -0.00124 -0.01511 -0.00154 C -0.0257 -0.0034 -0.01441 -0.00124 -0.02309 -0.00309 C -0.04688 -0.00278 -0.0625 -0.00154 -0.08611 -0.00309 C -0.08976 -0.0034 -0.09202 -0.00494 -0.09514 -0.00617 C -0.09688 -0.00679 -0.09879 -0.0071 -0.1007 -0.00772 L -0.10816 -0.00895 C -0.11389 -0.00895 -0.1198 -0.00895 -0.12552 -0.00833 C -0.12865 -0.00803 -0.13195 -0.00772 -0.1349 -0.0071 C -0.13664 -0.00648 -0.14184 -0.00463 -0.14393 -0.00463 C -0.14757 -0.00432 -0.15139 -0.00401 -0.15504 -0.00401 C -0.15608 -0.00371 -0.15677 -0.0034 -0.15782 -0.00309 C -0.16007 -0.00278 -0.17171 -0.00154 -0.17361 -0.00154 C -0.18421 0.00154 -0.17674 -0.00031 -0.20209 -0.00154 C -0.204 -0.00154 -0.2099 -0.00278 -0.21233 -0.00309 C -0.21389 -0.0034 -0.2158 -0.00371 -0.21754 -0.00401 C -0.22257 -0.00463 -0.22014 -0.00432 -0.22431 -0.00525 C -0.2323 -0.0071 -0.22414 -0.00494 -0.23056 -0.0071 L -0.25261 -0.00525 C -0.25539 -0.00494 -0.2566 -0.00432 -0.25921 -0.00401 C -0.26042 -0.00371 -0.26164 -0.0034 -0.26285 -0.00309 C -0.26459 -0.00185 -0.26615 -0.00031 -0.26841 -0.00031 C -0.27292 0.00031 -0.27622 0.00062 -0.28056 0.00154 C -0.28125 0.00185 -0.28212 0.00216 -0.28316 0.00216 C -0.28438 0.00247 -0.28559 0.00278 -0.28681 0.00308 L -0.30434 0.00216 C -0.31372 0.00185 -0.31667 0.00154 -0.3257 0.00062 C -0.33941 -0.00216 -0.31841 0.00247 -0.33264 -0.00154 C -0.33681 -0.00278 -0.34618 -0.00309 -0.34861 -0.00309 C -0.35296 -0.00525 -0.34948 -0.00401 -0.35486 -0.00525 C -0.35677 -0.00556 -0.35868 -0.00648 -0.36042 -0.0071 C -0.36146 -0.0071 -0.3625 -0.00741 -0.36337 -0.00772 L -0.36806 -0.00833 C -0.37118 -0.00833 -0.38455 -0.00833 -0.3908 -0.0071 C -0.40018 -0.00463 -0.39167 -0.00617 -0.39827 -0.00463 C -0.4007 -0.00401 -0.40348 -0.00401 -0.40556 -0.00309 C -0.41025 -0.00093 -0.40799 -0.00185 -0.41302 -0.00062 C -0.42084 0.00339 -0.41111 -0.00154 -0.41875 0.00154 C -0.41962 0.00216 -0.41997 0.00278 -0.42136 0.00308 C -0.42396 0.00339 -0.42691 0.00339 -0.42952 0.0037 L -0.43195 0.00463 E">
                                      <p:cBhvr>
                                        <p:cTn id="293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1"/>
          <p:cNvGrpSpPr/>
          <p:nvPr/>
        </p:nvGrpSpPr>
        <p:grpSpPr>
          <a:xfrm>
            <a:off x="2746440" y="268200"/>
            <a:ext cx="3191760" cy="638280"/>
            <a:chOff x="2746440" y="268200"/>
            <a:chExt cx="3191760" cy="638280"/>
          </a:xfrm>
        </p:grpSpPr>
        <p:sp>
          <p:nvSpPr>
            <p:cNvPr id="306" name="文本框 13"/>
            <p:cNvSpPr/>
            <p:nvPr/>
          </p:nvSpPr>
          <p:spPr>
            <a:xfrm>
              <a:off x="3404520" y="268200"/>
              <a:ext cx="2533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9933ff"/>
                  </a:solidFill>
                  <a:latin typeface="黑体"/>
                  <a:ea typeface="黑体"/>
                </a:rPr>
                <a:t>图文、字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图片 3" descr=""/>
            <p:cNvPicPr/>
            <p:nvPr/>
          </p:nvPicPr>
          <p:blipFill>
            <a:blip r:embed="rId1"/>
            <a:stretch/>
          </p:blipFill>
          <p:spPr>
            <a:xfrm>
              <a:off x="2746440" y="272160"/>
              <a:ext cx="6793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图片 5"/>
          <p:cNvSpPr/>
          <p:nvPr/>
        </p:nvSpPr>
        <p:spPr>
          <a:xfrm>
            <a:off x="1475640" y="1059480"/>
            <a:ext cx="1619640" cy="161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2700">
            <a:solidFill>
              <a:srgbClr val="ff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图片 7"/>
          <p:cNvSpPr/>
          <p:nvPr/>
        </p:nvSpPr>
        <p:spPr>
          <a:xfrm>
            <a:off x="3762000" y="1059480"/>
            <a:ext cx="1619640" cy="161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700">
            <a:solidFill>
              <a:srgbClr val="ff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图片 9"/>
          <p:cNvSpPr/>
          <p:nvPr/>
        </p:nvSpPr>
        <p:spPr>
          <a:xfrm>
            <a:off x="6048360" y="1059480"/>
            <a:ext cx="1619640" cy="161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2700">
            <a:solidFill>
              <a:srgbClr val="ff81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6"/>
          <p:cNvGrpSpPr/>
          <p:nvPr/>
        </p:nvGrpSpPr>
        <p:grpSpPr>
          <a:xfrm>
            <a:off x="3804480" y="3003840"/>
            <a:ext cx="1534320" cy="1179720"/>
            <a:chOff x="3804480" y="3003840"/>
            <a:chExt cx="1534320" cy="1179720"/>
          </a:xfrm>
        </p:grpSpPr>
        <p:sp>
          <p:nvSpPr>
            <p:cNvPr id="312" name="Freeform 18"/>
            <p:cNvSpPr/>
            <p:nvPr/>
          </p:nvSpPr>
          <p:spPr>
            <a:xfrm>
              <a:off x="3804480" y="3975480"/>
              <a:ext cx="1534320" cy="208080"/>
            </a:xfrm>
            <a:custGeom>
              <a:avLst/>
              <a:gdLst>
                <a:gd name="textAreaLeft" fmla="*/ 0 w 1534320"/>
                <a:gd name="textAreaRight" fmla="*/ 1534680 w 15343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59" h="402">
                  <a:moveTo>
                    <a:pt x="1953" y="54"/>
                  </a:moveTo>
                  <a:lnTo>
                    <a:pt x="2000" y="50"/>
                  </a:lnTo>
                  <a:lnTo>
                    <a:pt x="2046" y="44"/>
                  </a:lnTo>
                  <a:lnTo>
                    <a:pt x="2090" y="40"/>
                  </a:lnTo>
                  <a:lnTo>
                    <a:pt x="2130" y="36"/>
                  </a:lnTo>
                  <a:lnTo>
                    <a:pt x="2173" y="32"/>
                  </a:lnTo>
                  <a:lnTo>
                    <a:pt x="2211" y="29"/>
                  </a:lnTo>
                  <a:lnTo>
                    <a:pt x="2248" y="25"/>
                  </a:lnTo>
                  <a:lnTo>
                    <a:pt x="2284" y="23"/>
                  </a:lnTo>
                  <a:lnTo>
                    <a:pt x="2319" y="19"/>
                  </a:lnTo>
                  <a:lnTo>
                    <a:pt x="2351" y="17"/>
                  </a:lnTo>
                  <a:lnTo>
                    <a:pt x="2382" y="13"/>
                  </a:lnTo>
                  <a:lnTo>
                    <a:pt x="2411" y="11"/>
                  </a:lnTo>
                  <a:lnTo>
                    <a:pt x="2438" y="9"/>
                  </a:lnTo>
                  <a:lnTo>
                    <a:pt x="2465" y="7"/>
                  </a:lnTo>
                  <a:lnTo>
                    <a:pt x="2490" y="6"/>
                  </a:lnTo>
                  <a:lnTo>
                    <a:pt x="2513" y="4"/>
                  </a:lnTo>
                  <a:lnTo>
                    <a:pt x="2536" y="2"/>
                  </a:lnTo>
                  <a:lnTo>
                    <a:pt x="2557" y="2"/>
                  </a:lnTo>
                  <a:lnTo>
                    <a:pt x="2578" y="2"/>
                  </a:lnTo>
                  <a:lnTo>
                    <a:pt x="2598" y="0"/>
                  </a:lnTo>
                  <a:lnTo>
                    <a:pt x="2617" y="0"/>
                  </a:lnTo>
                  <a:lnTo>
                    <a:pt x="2636" y="2"/>
                  </a:lnTo>
                  <a:lnTo>
                    <a:pt x="2653" y="2"/>
                  </a:lnTo>
                  <a:lnTo>
                    <a:pt x="2671" y="2"/>
                  </a:lnTo>
                  <a:lnTo>
                    <a:pt x="2688" y="4"/>
                  </a:lnTo>
                  <a:lnTo>
                    <a:pt x="2703" y="6"/>
                  </a:lnTo>
                  <a:lnTo>
                    <a:pt x="2719" y="7"/>
                  </a:lnTo>
                  <a:lnTo>
                    <a:pt x="2732" y="9"/>
                  </a:lnTo>
                  <a:lnTo>
                    <a:pt x="2746" y="13"/>
                  </a:lnTo>
                  <a:lnTo>
                    <a:pt x="2759" y="15"/>
                  </a:lnTo>
                  <a:lnTo>
                    <a:pt x="2771" y="19"/>
                  </a:lnTo>
                  <a:lnTo>
                    <a:pt x="2782" y="23"/>
                  </a:lnTo>
                  <a:lnTo>
                    <a:pt x="2803" y="31"/>
                  </a:lnTo>
                  <a:lnTo>
                    <a:pt x="2825" y="42"/>
                  </a:lnTo>
                  <a:lnTo>
                    <a:pt x="2844" y="52"/>
                  </a:lnTo>
                  <a:lnTo>
                    <a:pt x="2861" y="65"/>
                  </a:lnTo>
                  <a:lnTo>
                    <a:pt x="2878" y="79"/>
                  </a:lnTo>
                  <a:lnTo>
                    <a:pt x="2896" y="94"/>
                  </a:lnTo>
                  <a:lnTo>
                    <a:pt x="2911" y="111"/>
                  </a:lnTo>
                  <a:lnTo>
                    <a:pt x="2925" y="129"/>
                  </a:lnTo>
                  <a:lnTo>
                    <a:pt x="2932" y="138"/>
                  </a:lnTo>
                  <a:lnTo>
                    <a:pt x="2938" y="146"/>
                  </a:lnTo>
                  <a:lnTo>
                    <a:pt x="2942" y="156"/>
                  </a:lnTo>
                  <a:lnTo>
                    <a:pt x="2948" y="163"/>
                  </a:lnTo>
                  <a:lnTo>
                    <a:pt x="2951" y="169"/>
                  </a:lnTo>
                  <a:lnTo>
                    <a:pt x="2953" y="177"/>
                  </a:lnTo>
                  <a:lnTo>
                    <a:pt x="2957" y="183"/>
                  </a:lnTo>
                  <a:lnTo>
                    <a:pt x="2957" y="190"/>
                  </a:lnTo>
                  <a:lnTo>
                    <a:pt x="2959" y="194"/>
                  </a:lnTo>
                  <a:lnTo>
                    <a:pt x="2959" y="200"/>
                  </a:lnTo>
                  <a:lnTo>
                    <a:pt x="2957" y="204"/>
                  </a:lnTo>
                  <a:lnTo>
                    <a:pt x="2957" y="209"/>
                  </a:lnTo>
                  <a:lnTo>
                    <a:pt x="2955" y="213"/>
                  </a:lnTo>
                  <a:lnTo>
                    <a:pt x="2951" y="215"/>
                  </a:lnTo>
                  <a:lnTo>
                    <a:pt x="2948" y="219"/>
                  </a:lnTo>
                  <a:lnTo>
                    <a:pt x="2944" y="221"/>
                  </a:lnTo>
                  <a:lnTo>
                    <a:pt x="2938" y="223"/>
                  </a:lnTo>
                  <a:lnTo>
                    <a:pt x="2932" y="225"/>
                  </a:lnTo>
                  <a:lnTo>
                    <a:pt x="2926" y="227"/>
                  </a:lnTo>
                  <a:lnTo>
                    <a:pt x="2921" y="229"/>
                  </a:lnTo>
                  <a:lnTo>
                    <a:pt x="2913" y="231"/>
                  </a:lnTo>
                  <a:lnTo>
                    <a:pt x="2903" y="231"/>
                  </a:lnTo>
                  <a:lnTo>
                    <a:pt x="2896" y="231"/>
                  </a:lnTo>
                  <a:lnTo>
                    <a:pt x="2886" y="231"/>
                  </a:lnTo>
                  <a:lnTo>
                    <a:pt x="2876" y="231"/>
                  </a:lnTo>
                  <a:lnTo>
                    <a:pt x="2865" y="231"/>
                  </a:lnTo>
                  <a:lnTo>
                    <a:pt x="2853" y="231"/>
                  </a:lnTo>
                  <a:lnTo>
                    <a:pt x="2842" y="229"/>
                  </a:lnTo>
                  <a:lnTo>
                    <a:pt x="2830" y="227"/>
                  </a:lnTo>
                  <a:lnTo>
                    <a:pt x="2817" y="225"/>
                  </a:lnTo>
                  <a:lnTo>
                    <a:pt x="2803" y="223"/>
                  </a:lnTo>
                  <a:lnTo>
                    <a:pt x="2788" y="221"/>
                  </a:lnTo>
                  <a:lnTo>
                    <a:pt x="2728" y="211"/>
                  </a:lnTo>
                  <a:lnTo>
                    <a:pt x="2667" y="204"/>
                  </a:lnTo>
                  <a:lnTo>
                    <a:pt x="2636" y="198"/>
                  </a:lnTo>
                  <a:lnTo>
                    <a:pt x="2603" y="194"/>
                  </a:lnTo>
                  <a:lnTo>
                    <a:pt x="2571" y="188"/>
                  </a:lnTo>
                  <a:lnTo>
                    <a:pt x="2538" y="184"/>
                  </a:lnTo>
                  <a:lnTo>
                    <a:pt x="2521" y="183"/>
                  </a:lnTo>
                  <a:lnTo>
                    <a:pt x="2501" y="181"/>
                  </a:lnTo>
                  <a:lnTo>
                    <a:pt x="2480" y="179"/>
                  </a:lnTo>
                  <a:lnTo>
                    <a:pt x="2459" y="179"/>
                  </a:lnTo>
                  <a:lnTo>
                    <a:pt x="2434" y="177"/>
                  </a:lnTo>
                  <a:lnTo>
                    <a:pt x="2407" y="177"/>
                  </a:lnTo>
                  <a:lnTo>
                    <a:pt x="2378" y="177"/>
                  </a:lnTo>
                  <a:lnTo>
                    <a:pt x="2350" y="177"/>
                  </a:lnTo>
                  <a:lnTo>
                    <a:pt x="2317" y="177"/>
                  </a:lnTo>
                  <a:lnTo>
                    <a:pt x="2282" y="177"/>
                  </a:lnTo>
                  <a:lnTo>
                    <a:pt x="2248" y="177"/>
                  </a:lnTo>
                  <a:lnTo>
                    <a:pt x="2209" y="179"/>
                  </a:lnTo>
                  <a:lnTo>
                    <a:pt x="2171" y="179"/>
                  </a:lnTo>
                  <a:lnTo>
                    <a:pt x="2128" y="181"/>
                  </a:lnTo>
                  <a:lnTo>
                    <a:pt x="2086" y="183"/>
                  </a:lnTo>
                  <a:lnTo>
                    <a:pt x="2040" y="184"/>
                  </a:lnTo>
                  <a:lnTo>
                    <a:pt x="1950" y="188"/>
                  </a:lnTo>
                  <a:lnTo>
                    <a:pt x="1857" y="194"/>
                  </a:lnTo>
                  <a:lnTo>
                    <a:pt x="1767" y="200"/>
                  </a:lnTo>
                  <a:lnTo>
                    <a:pt x="1678" y="208"/>
                  </a:lnTo>
                  <a:lnTo>
                    <a:pt x="1588" y="215"/>
                  </a:lnTo>
                  <a:lnTo>
                    <a:pt x="1500" y="223"/>
                  </a:lnTo>
                  <a:lnTo>
                    <a:pt x="1413" y="231"/>
                  </a:lnTo>
                  <a:lnTo>
                    <a:pt x="1325" y="240"/>
                  </a:lnTo>
                  <a:lnTo>
                    <a:pt x="1282" y="244"/>
                  </a:lnTo>
                  <a:lnTo>
                    <a:pt x="1240" y="250"/>
                  </a:lnTo>
                  <a:lnTo>
                    <a:pt x="1200" y="254"/>
                  </a:lnTo>
                  <a:lnTo>
                    <a:pt x="1159" y="260"/>
                  </a:lnTo>
                  <a:lnTo>
                    <a:pt x="1121" y="263"/>
                  </a:lnTo>
                  <a:lnTo>
                    <a:pt x="1084" y="267"/>
                  </a:lnTo>
                  <a:lnTo>
                    <a:pt x="1048" y="273"/>
                  </a:lnTo>
                  <a:lnTo>
                    <a:pt x="1013" y="277"/>
                  </a:lnTo>
                  <a:lnTo>
                    <a:pt x="980" y="281"/>
                  </a:lnTo>
                  <a:lnTo>
                    <a:pt x="948" y="285"/>
                  </a:lnTo>
                  <a:lnTo>
                    <a:pt x="915" y="288"/>
                  </a:lnTo>
                  <a:lnTo>
                    <a:pt x="886" y="294"/>
                  </a:lnTo>
                  <a:lnTo>
                    <a:pt x="857" y="298"/>
                  </a:lnTo>
                  <a:lnTo>
                    <a:pt x="828" y="302"/>
                  </a:lnTo>
                  <a:lnTo>
                    <a:pt x="802" y="306"/>
                  </a:lnTo>
                  <a:lnTo>
                    <a:pt x="777" y="310"/>
                  </a:lnTo>
                  <a:lnTo>
                    <a:pt x="728" y="317"/>
                  </a:lnTo>
                  <a:lnTo>
                    <a:pt x="680" y="325"/>
                  </a:lnTo>
                  <a:lnTo>
                    <a:pt x="634" y="333"/>
                  </a:lnTo>
                  <a:lnTo>
                    <a:pt x="590" y="340"/>
                  </a:lnTo>
                  <a:lnTo>
                    <a:pt x="548" y="348"/>
                  </a:lnTo>
                  <a:lnTo>
                    <a:pt x="505" y="356"/>
                  </a:lnTo>
                  <a:lnTo>
                    <a:pt x="467" y="363"/>
                  </a:lnTo>
                  <a:lnTo>
                    <a:pt x="429" y="371"/>
                  </a:lnTo>
                  <a:lnTo>
                    <a:pt x="409" y="375"/>
                  </a:lnTo>
                  <a:lnTo>
                    <a:pt x="392" y="379"/>
                  </a:lnTo>
                  <a:lnTo>
                    <a:pt x="377" y="383"/>
                  </a:lnTo>
                  <a:lnTo>
                    <a:pt x="359" y="385"/>
                  </a:lnTo>
                  <a:lnTo>
                    <a:pt x="346" y="388"/>
                  </a:lnTo>
                  <a:lnTo>
                    <a:pt x="330" y="390"/>
                  </a:lnTo>
                  <a:lnTo>
                    <a:pt x="317" y="392"/>
                  </a:lnTo>
                  <a:lnTo>
                    <a:pt x="305" y="394"/>
                  </a:lnTo>
                  <a:lnTo>
                    <a:pt x="294" y="396"/>
                  </a:lnTo>
                  <a:lnTo>
                    <a:pt x="282" y="398"/>
                  </a:lnTo>
                  <a:lnTo>
                    <a:pt x="273" y="400"/>
                  </a:lnTo>
                  <a:lnTo>
                    <a:pt x="263" y="400"/>
                  </a:lnTo>
                  <a:lnTo>
                    <a:pt x="254" y="400"/>
                  </a:lnTo>
                  <a:lnTo>
                    <a:pt x="248" y="402"/>
                  </a:lnTo>
                  <a:lnTo>
                    <a:pt x="240" y="402"/>
                  </a:lnTo>
                  <a:lnTo>
                    <a:pt x="234" y="402"/>
                  </a:lnTo>
                  <a:lnTo>
                    <a:pt x="223" y="402"/>
                  </a:lnTo>
                  <a:lnTo>
                    <a:pt x="211" y="400"/>
                  </a:lnTo>
                  <a:lnTo>
                    <a:pt x="198" y="396"/>
                  </a:lnTo>
                  <a:lnTo>
                    <a:pt x="182" y="392"/>
                  </a:lnTo>
                  <a:lnTo>
                    <a:pt x="165" y="386"/>
                  </a:lnTo>
                  <a:lnTo>
                    <a:pt x="148" y="379"/>
                  </a:lnTo>
                  <a:lnTo>
                    <a:pt x="130" y="369"/>
                  </a:lnTo>
                  <a:lnTo>
                    <a:pt x="109" y="360"/>
                  </a:lnTo>
                  <a:lnTo>
                    <a:pt x="90" y="350"/>
                  </a:lnTo>
                  <a:lnTo>
                    <a:pt x="73" y="338"/>
                  </a:lnTo>
                  <a:lnTo>
                    <a:pt x="57" y="329"/>
                  </a:lnTo>
                  <a:lnTo>
                    <a:pt x="42" y="321"/>
                  </a:lnTo>
                  <a:lnTo>
                    <a:pt x="30" y="311"/>
                  </a:lnTo>
                  <a:lnTo>
                    <a:pt x="19" y="304"/>
                  </a:lnTo>
                  <a:lnTo>
                    <a:pt x="11" y="298"/>
                  </a:lnTo>
                  <a:lnTo>
                    <a:pt x="4" y="290"/>
                  </a:lnTo>
                  <a:lnTo>
                    <a:pt x="2" y="286"/>
                  </a:lnTo>
                  <a:lnTo>
                    <a:pt x="0" y="285"/>
                  </a:lnTo>
                  <a:lnTo>
                    <a:pt x="0" y="281"/>
                  </a:lnTo>
                  <a:lnTo>
                    <a:pt x="2" y="279"/>
                  </a:lnTo>
                  <a:lnTo>
                    <a:pt x="4" y="275"/>
                  </a:lnTo>
                  <a:lnTo>
                    <a:pt x="7" y="273"/>
                  </a:lnTo>
                  <a:lnTo>
                    <a:pt x="13" y="271"/>
                  </a:lnTo>
                  <a:lnTo>
                    <a:pt x="19" y="269"/>
                  </a:lnTo>
                  <a:lnTo>
                    <a:pt x="25" y="267"/>
                  </a:lnTo>
                  <a:lnTo>
                    <a:pt x="34" y="263"/>
                  </a:lnTo>
                  <a:lnTo>
                    <a:pt x="44" y="261"/>
                  </a:lnTo>
                  <a:lnTo>
                    <a:pt x="54" y="260"/>
                  </a:lnTo>
                  <a:lnTo>
                    <a:pt x="67" y="258"/>
                  </a:lnTo>
                  <a:lnTo>
                    <a:pt x="79" y="258"/>
                  </a:lnTo>
                  <a:lnTo>
                    <a:pt x="94" y="256"/>
                  </a:lnTo>
                  <a:lnTo>
                    <a:pt x="109" y="254"/>
                  </a:lnTo>
                  <a:lnTo>
                    <a:pt x="127" y="252"/>
                  </a:lnTo>
                  <a:lnTo>
                    <a:pt x="146" y="250"/>
                  </a:lnTo>
                  <a:lnTo>
                    <a:pt x="167" y="248"/>
                  </a:lnTo>
                  <a:lnTo>
                    <a:pt x="188" y="246"/>
                  </a:lnTo>
                  <a:lnTo>
                    <a:pt x="211" y="242"/>
                  </a:lnTo>
                  <a:lnTo>
                    <a:pt x="238" y="240"/>
                  </a:lnTo>
                  <a:lnTo>
                    <a:pt x="263" y="238"/>
                  </a:lnTo>
                  <a:lnTo>
                    <a:pt x="292" y="234"/>
                  </a:lnTo>
                  <a:lnTo>
                    <a:pt x="323" y="231"/>
                  </a:lnTo>
                  <a:lnTo>
                    <a:pt x="354" y="229"/>
                  </a:lnTo>
                  <a:lnTo>
                    <a:pt x="388" y="225"/>
                  </a:lnTo>
                  <a:lnTo>
                    <a:pt x="423" y="221"/>
                  </a:lnTo>
                  <a:lnTo>
                    <a:pt x="457" y="217"/>
                  </a:lnTo>
                  <a:lnTo>
                    <a:pt x="496" y="213"/>
                  </a:lnTo>
                  <a:lnTo>
                    <a:pt x="536" y="208"/>
                  </a:lnTo>
                  <a:lnTo>
                    <a:pt x="577" y="204"/>
                  </a:lnTo>
                  <a:lnTo>
                    <a:pt x="744" y="184"/>
                  </a:lnTo>
                  <a:lnTo>
                    <a:pt x="911" y="167"/>
                  </a:lnTo>
                  <a:lnTo>
                    <a:pt x="1078" y="148"/>
                  </a:lnTo>
                  <a:lnTo>
                    <a:pt x="1244" y="129"/>
                  </a:lnTo>
                  <a:lnTo>
                    <a:pt x="1327" y="119"/>
                  </a:lnTo>
                  <a:lnTo>
                    <a:pt x="1411" y="109"/>
                  </a:lnTo>
                  <a:lnTo>
                    <a:pt x="1498" y="100"/>
                  </a:lnTo>
                  <a:lnTo>
                    <a:pt x="1586" y="92"/>
                  </a:lnTo>
                  <a:lnTo>
                    <a:pt x="1675" y="83"/>
                  </a:lnTo>
                  <a:lnTo>
                    <a:pt x="1767" y="73"/>
                  </a:lnTo>
                  <a:lnTo>
                    <a:pt x="1859" y="63"/>
                  </a:lnTo>
                  <a:lnTo>
                    <a:pt x="1953" y="54"/>
                  </a:lnTo>
                  <a:lnTo>
                    <a:pt x="1953" y="54"/>
                  </a:lnTo>
                  <a:lnTo>
                    <a:pt x="1953" y="54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3" name="Freeform 19"/>
            <p:cNvSpPr/>
            <p:nvPr/>
          </p:nvSpPr>
          <p:spPr>
            <a:xfrm>
              <a:off x="4297320" y="3873960"/>
              <a:ext cx="149040" cy="1656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88" h="321">
                  <a:moveTo>
                    <a:pt x="275" y="300"/>
                  </a:moveTo>
                  <a:lnTo>
                    <a:pt x="271" y="307"/>
                  </a:lnTo>
                  <a:lnTo>
                    <a:pt x="267" y="313"/>
                  </a:lnTo>
                  <a:lnTo>
                    <a:pt x="261" y="317"/>
                  </a:lnTo>
                  <a:lnTo>
                    <a:pt x="257" y="319"/>
                  </a:lnTo>
                  <a:lnTo>
                    <a:pt x="250" y="321"/>
                  </a:lnTo>
                  <a:lnTo>
                    <a:pt x="244" y="321"/>
                  </a:lnTo>
                  <a:lnTo>
                    <a:pt x="236" y="321"/>
                  </a:lnTo>
                  <a:lnTo>
                    <a:pt x="228" y="319"/>
                  </a:lnTo>
                  <a:lnTo>
                    <a:pt x="219" y="315"/>
                  </a:lnTo>
                  <a:lnTo>
                    <a:pt x="209" y="309"/>
                  </a:lnTo>
                  <a:lnTo>
                    <a:pt x="200" y="304"/>
                  </a:lnTo>
                  <a:lnTo>
                    <a:pt x="188" y="294"/>
                  </a:lnTo>
                  <a:lnTo>
                    <a:pt x="177" y="286"/>
                  </a:lnTo>
                  <a:lnTo>
                    <a:pt x="165" y="275"/>
                  </a:lnTo>
                  <a:lnTo>
                    <a:pt x="152" y="263"/>
                  </a:lnTo>
                  <a:lnTo>
                    <a:pt x="138" y="250"/>
                  </a:lnTo>
                  <a:lnTo>
                    <a:pt x="125" y="236"/>
                  </a:lnTo>
                  <a:lnTo>
                    <a:pt x="111" y="223"/>
                  </a:lnTo>
                  <a:lnTo>
                    <a:pt x="100" y="209"/>
                  </a:lnTo>
                  <a:lnTo>
                    <a:pt x="88" y="196"/>
                  </a:lnTo>
                  <a:lnTo>
                    <a:pt x="77" y="184"/>
                  </a:lnTo>
                  <a:lnTo>
                    <a:pt x="67" y="171"/>
                  </a:lnTo>
                  <a:lnTo>
                    <a:pt x="57" y="159"/>
                  </a:lnTo>
                  <a:lnTo>
                    <a:pt x="50" y="148"/>
                  </a:lnTo>
                  <a:lnTo>
                    <a:pt x="42" y="138"/>
                  </a:lnTo>
                  <a:lnTo>
                    <a:pt x="34" y="127"/>
                  </a:lnTo>
                  <a:lnTo>
                    <a:pt x="28" y="117"/>
                  </a:lnTo>
                  <a:lnTo>
                    <a:pt x="23" y="105"/>
                  </a:lnTo>
                  <a:lnTo>
                    <a:pt x="17" y="96"/>
                  </a:lnTo>
                  <a:lnTo>
                    <a:pt x="13" y="86"/>
                  </a:lnTo>
                  <a:lnTo>
                    <a:pt x="9" y="78"/>
                  </a:lnTo>
                  <a:lnTo>
                    <a:pt x="7" y="69"/>
                  </a:lnTo>
                  <a:lnTo>
                    <a:pt x="5" y="61"/>
                  </a:lnTo>
                  <a:lnTo>
                    <a:pt x="3" y="53"/>
                  </a:lnTo>
                  <a:lnTo>
                    <a:pt x="2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3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40" y="3"/>
                  </a:lnTo>
                  <a:lnTo>
                    <a:pt x="46" y="5"/>
                  </a:lnTo>
                  <a:lnTo>
                    <a:pt x="52" y="7"/>
                  </a:lnTo>
                  <a:lnTo>
                    <a:pt x="59" y="9"/>
                  </a:lnTo>
                  <a:lnTo>
                    <a:pt x="67" y="13"/>
                  </a:lnTo>
                  <a:lnTo>
                    <a:pt x="77" y="15"/>
                  </a:lnTo>
                  <a:lnTo>
                    <a:pt x="84" y="19"/>
                  </a:lnTo>
                  <a:lnTo>
                    <a:pt x="94" y="23"/>
                  </a:lnTo>
                  <a:lnTo>
                    <a:pt x="105" y="28"/>
                  </a:lnTo>
                  <a:lnTo>
                    <a:pt x="115" y="32"/>
                  </a:lnTo>
                  <a:lnTo>
                    <a:pt x="127" y="38"/>
                  </a:lnTo>
                  <a:lnTo>
                    <a:pt x="138" y="44"/>
                  </a:lnTo>
                  <a:lnTo>
                    <a:pt x="150" y="50"/>
                  </a:lnTo>
                  <a:lnTo>
                    <a:pt x="161" y="55"/>
                  </a:lnTo>
                  <a:lnTo>
                    <a:pt x="173" y="63"/>
                  </a:lnTo>
                  <a:lnTo>
                    <a:pt x="184" y="69"/>
                  </a:lnTo>
                  <a:lnTo>
                    <a:pt x="196" y="76"/>
                  </a:lnTo>
                  <a:lnTo>
                    <a:pt x="205" y="84"/>
                  </a:lnTo>
                  <a:lnTo>
                    <a:pt x="215" y="90"/>
                  </a:lnTo>
                  <a:lnTo>
                    <a:pt x="223" y="98"/>
                  </a:lnTo>
                  <a:lnTo>
                    <a:pt x="230" y="105"/>
                  </a:lnTo>
                  <a:lnTo>
                    <a:pt x="238" y="113"/>
                  </a:lnTo>
                  <a:lnTo>
                    <a:pt x="246" y="121"/>
                  </a:lnTo>
                  <a:lnTo>
                    <a:pt x="252" y="128"/>
                  </a:lnTo>
                  <a:lnTo>
                    <a:pt x="257" y="136"/>
                  </a:lnTo>
                  <a:lnTo>
                    <a:pt x="263" y="144"/>
                  </a:lnTo>
                  <a:lnTo>
                    <a:pt x="267" y="152"/>
                  </a:lnTo>
                  <a:lnTo>
                    <a:pt x="271" y="161"/>
                  </a:lnTo>
                  <a:lnTo>
                    <a:pt x="275" y="169"/>
                  </a:lnTo>
                  <a:lnTo>
                    <a:pt x="280" y="186"/>
                  </a:lnTo>
                  <a:lnTo>
                    <a:pt x="284" y="203"/>
                  </a:lnTo>
                  <a:lnTo>
                    <a:pt x="286" y="219"/>
                  </a:lnTo>
                  <a:lnTo>
                    <a:pt x="288" y="236"/>
                  </a:lnTo>
                  <a:lnTo>
                    <a:pt x="286" y="252"/>
                  </a:lnTo>
                  <a:lnTo>
                    <a:pt x="284" y="267"/>
                  </a:lnTo>
                  <a:lnTo>
                    <a:pt x="280" y="284"/>
                  </a:lnTo>
                  <a:lnTo>
                    <a:pt x="275" y="300"/>
                  </a:lnTo>
                  <a:lnTo>
                    <a:pt x="275" y="300"/>
                  </a:lnTo>
                  <a:lnTo>
                    <a:pt x="275" y="300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4653000" y="3806280"/>
              <a:ext cx="266040" cy="2412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14" h="465">
                  <a:moveTo>
                    <a:pt x="262" y="80"/>
                  </a:moveTo>
                  <a:lnTo>
                    <a:pt x="256" y="71"/>
                  </a:lnTo>
                  <a:lnTo>
                    <a:pt x="252" y="61"/>
                  </a:lnTo>
                  <a:lnTo>
                    <a:pt x="248" y="54"/>
                  </a:lnTo>
                  <a:lnTo>
                    <a:pt x="246" y="44"/>
                  </a:lnTo>
                  <a:lnTo>
                    <a:pt x="244" y="36"/>
                  </a:lnTo>
                  <a:lnTo>
                    <a:pt x="244" y="27"/>
                  </a:lnTo>
                  <a:lnTo>
                    <a:pt x="246" y="19"/>
                  </a:lnTo>
                  <a:lnTo>
                    <a:pt x="248" y="11"/>
                  </a:lnTo>
                  <a:lnTo>
                    <a:pt x="250" y="7"/>
                  </a:lnTo>
                  <a:lnTo>
                    <a:pt x="254" y="5"/>
                  </a:lnTo>
                  <a:lnTo>
                    <a:pt x="258" y="2"/>
                  </a:lnTo>
                  <a:lnTo>
                    <a:pt x="264" y="2"/>
                  </a:lnTo>
                  <a:lnTo>
                    <a:pt x="269" y="0"/>
                  </a:lnTo>
                  <a:lnTo>
                    <a:pt x="277" y="0"/>
                  </a:lnTo>
                  <a:lnTo>
                    <a:pt x="285" y="0"/>
                  </a:lnTo>
                  <a:lnTo>
                    <a:pt x="292" y="2"/>
                  </a:lnTo>
                  <a:lnTo>
                    <a:pt x="302" y="3"/>
                  </a:lnTo>
                  <a:lnTo>
                    <a:pt x="314" y="5"/>
                  </a:lnTo>
                  <a:lnTo>
                    <a:pt x="325" y="9"/>
                  </a:lnTo>
                  <a:lnTo>
                    <a:pt x="339" y="13"/>
                  </a:lnTo>
                  <a:lnTo>
                    <a:pt x="352" y="17"/>
                  </a:lnTo>
                  <a:lnTo>
                    <a:pt x="365" y="23"/>
                  </a:lnTo>
                  <a:lnTo>
                    <a:pt x="381" y="28"/>
                  </a:lnTo>
                  <a:lnTo>
                    <a:pt x="398" y="36"/>
                  </a:lnTo>
                  <a:lnTo>
                    <a:pt x="415" y="44"/>
                  </a:lnTo>
                  <a:lnTo>
                    <a:pt x="431" y="50"/>
                  </a:lnTo>
                  <a:lnTo>
                    <a:pt x="444" y="57"/>
                  </a:lnTo>
                  <a:lnTo>
                    <a:pt x="458" y="63"/>
                  </a:lnTo>
                  <a:lnTo>
                    <a:pt x="469" y="71"/>
                  </a:lnTo>
                  <a:lnTo>
                    <a:pt x="479" y="77"/>
                  </a:lnTo>
                  <a:lnTo>
                    <a:pt x="487" y="84"/>
                  </a:lnTo>
                  <a:lnTo>
                    <a:pt x="494" y="90"/>
                  </a:lnTo>
                  <a:lnTo>
                    <a:pt x="502" y="98"/>
                  </a:lnTo>
                  <a:lnTo>
                    <a:pt x="506" y="104"/>
                  </a:lnTo>
                  <a:lnTo>
                    <a:pt x="510" y="111"/>
                  </a:lnTo>
                  <a:lnTo>
                    <a:pt x="514" y="117"/>
                  </a:lnTo>
                  <a:lnTo>
                    <a:pt x="514" y="123"/>
                  </a:lnTo>
                  <a:lnTo>
                    <a:pt x="514" y="130"/>
                  </a:lnTo>
                  <a:lnTo>
                    <a:pt x="512" y="136"/>
                  </a:lnTo>
                  <a:lnTo>
                    <a:pt x="510" y="142"/>
                  </a:lnTo>
                  <a:lnTo>
                    <a:pt x="506" y="148"/>
                  </a:lnTo>
                  <a:lnTo>
                    <a:pt x="502" y="155"/>
                  </a:lnTo>
                  <a:lnTo>
                    <a:pt x="498" y="161"/>
                  </a:lnTo>
                  <a:lnTo>
                    <a:pt x="492" y="169"/>
                  </a:lnTo>
                  <a:lnTo>
                    <a:pt x="485" y="177"/>
                  </a:lnTo>
                  <a:lnTo>
                    <a:pt x="477" y="184"/>
                  </a:lnTo>
                  <a:lnTo>
                    <a:pt x="469" y="192"/>
                  </a:lnTo>
                  <a:lnTo>
                    <a:pt x="462" y="202"/>
                  </a:lnTo>
                  <a:lnTo>
                    <a:pt x="452" y="209"/>
                  </a:lnTo>
                  <a:lnTo>
                    <a:pt x="440" y="219"/>
                  </a:lnTo>
                  <a:lnTo>
                    <a:pt x="429" y="229"/>
                  </a:lnTo>
                  <a:lnTo>
                    <a:pt x="417" y="238"/>
                  </a:lnTo>
                  <a:lnTo>
                    <a:pt x="404" y="248"/>
                  </a:lnTo>
                  <a:lnTo>
                    <a:pt x="390" y="257"/>
                  </a:lnTo>
                  <a:lnTo>
                    <a:pt x="377" y="267"/>
                  </a:lnTo>
                  <a:lnTo>
                    <a:pt x="362" y="279"/>
                  </a:lnTo>
                  <a:lnTo>
                    <a:pt x="331" y="300"/>
                  </a:lnTo>
                  <a:lnTo>
                    <a:pt x="298" y="323"/>
                  </a:lnTo>
                  <a:lnTo>
                    <a:pt x="266" y="346"/>
                  </a:lnTo>
                  <a:lnTo>
                    <a:pt x="231" y="369"/>
                  </a:lnTo>
                  <a:lnTo>
                    <a:pt x="196" y="392"/>
                  </a:lnTo>
                  <a:lnTo>
                    <a:pt x="160" y="417"/>
                  </a:lnTo>
                  <a:lnTo>
                    <a:pt x="123" y="440"/>
                  </a:lnTo>
                  <a:lnTo>
                    <a:pt x="87" y="465"/>
                  </a:lnTo>
                  <a:lnTo>
                    <a:pt x="0" y="465"/>
                  </a:lnTo>
                  <a:lnTo>
                    <a:pt x="17" y="444"/>
                  </a:lnTo>
                  <a:lnTo>
                    <a:pt x="35" y="423"/>
                  </a:lnTo>
                  <a:lnTo>
                    <a:pt x="50" y="402"/>
                  </a:lnTo>
                  <a:lnTo>
                    <a:pt x="67" y="382"/>
                  </a:lnTo>
                  <a:lnTo>
                    <a:pt x="81" y="363"/>
                  </a:lnTo>
                  <a:lnTo>
                    <a:pt x="96" y="346"/>
                  </a:lnTo>
                  <a:lnTo>
                    <a:pt x="110" y="327"/>
                  </a:lnTo>
                  <a:lnTo>
                    <a:pt x="123" y="311"/>
                  </a:lnTo>
                  <a:lnTo>
                    <a:pt x="137" y="294"/>
                  </a:lnTo>
                  <a:lnTo>
                    <a:pt x="148" y="279"/>
                  </a:lnTo>
                  <a:lnTo>
                    <a:pt x="160" y="263"/>
                  </a:lnTo>
                  <a:lnTo>
                    <a:pt x="171" y="248"/>
                  </a:lnTo>
                  <a:lnTo>
                    <a:pt x="181" y="234"/>
                  </a:lnTo>
                  <a:lnTo>
                    <a:pt x="191" y="221"/>
                  </a:lnTo>
                  <a:lnTo>
                    <a:pt x="200" y="207"/>
                  </a:lnTo>
                  <a:lnTo>
                    <a:pt x="208" y="196"/>
                  </a:lnTo>
                  <a:lnTo>
                    <a:pt x="216" y="182"/>
                  </a:lnTo>
                  <a:lnTo>
                    <a:pt x="223" y="173"/>
                  </a:lnTo>
                  <a:lnTo>
                    <a:pt x="229" y="161"/>
                  </a:lnTo>
                  <a:lnTo>
                    <a:pt x="237" y="152"/>
                  </a:lnTo>
                  <a:lnTo>
                    <a:pt x="241" y="142"/>
                  </a:lnTo>
                  <a:lnTo>
                    <a:pt x="246" y="134"/>
                  </a:lnTo>
                  <a:lnTo>
                    <a:pt x="250" y="127"/>
                  </a:lnTo>
                  <a:lnTo>
                    <a:pt x="254" y="119"/>
                  </a:lnTo>
                  <a:lnTo>
                    <a:pt x="258" y="111"/>
                  </a:lnTo>
                  <a:lnTo>
                    <a:pt x="260" y="105"/>
                  </a:lnTo>
                  <a:lnTo>
                    <a:pt x="262" y="100"/>
                  </a:lnTo>
                  <a:lnTo>
                    <a:pt x="264" y="94"/>
                  </a:lnTo>
                  <a:lnTo>
                    <a:pt x="264" y="90"/>
                  </a:lnTo>
                  <a:lnTo>
                    <a:pt x="264" y="86"/>
                  </a:lnTo>
                  <a:lnTo>
                    <a:pt x="264" y="82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2" y="80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4215240" y="3621960"/>
              <a:ext cx="166680" cy="2318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21" h="448">
                  <a:moveTo>
                    <a:pt x="60" y="92"/>
                  </a:moveTo>
                  <a:lnTo>
                    <a:pt x="50" y="84"/>
                  </a:lnTo>
                  <a:lnTo>
                    <a:pt x="42" y="77"/>
                  </a:lnTo>
                  <a:lnTo>
                    <a:pt x="35" y="69"/>
                  </a:lnTo>
                  <a:lnTo>
                    <a:pt x="29" y="61"/>
                  </a:lnTo>
                  <a:lnTo>
                    <a:pt x="21" y="56"/>
                  </a:lnTo>
                  <a:lnTo>
                    <a:pt x="17" y="50"/>
                  </a:lnTo>
                  <a:lnTo>
                    <a:pt x="11" y="42"/>
                  </a:lnTo>
                  <a:lnTo>
                    <a:pt x="8" y="38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7" y="2"/>
                  </a:lnTo>
                  <a:lnTo>
                    <a:pt x="81" y="4"/>
                  </a:lnTo>
                  <a:lnTo>
                    <a:pt x="98" y="5"/>
                  </a:lnTo>
                  <a:lnTo>
                    <a:pt x="113" y="7"/>
                  </a:lnTo>
                  <a:lnTo>
                    <a:pt x="133" y="9"/>
                  </a:lnTo>
                  <a:lnTo>
                    <a:pt x="152" y="13"/>
                  </a:lnTo>
                  <a:lnTo>
                    <a:pt x="175" y="17"/>
                  </a:lnTo>
                  <a:lnTo>
                    <a:pt x="196" y="21"/>
                  </a:lnTo>
                  <a:lnTo>
                    <a:pt x="221" y="25"/>
                  </a:lnTo>
                  <a:lnTo>
                    <a:pt x="233" y="57"/>
                  </a:lnTo>
                  <a:lnTo>
                    <a:pt x="244" y="88"/>
                  </a:lnTo>
                  <a:lnTo>
                    <a:pt x="256" y="117"/>
                  </a:lnTo>
                  <a:lnTo>
                    <a:pt x="265" y="144"/>
                  </a:lnTo>
                  <a:lnTo>
                    <a:pt x="275" y="171"/>
                  </a:lnTo>
                  <a:lnTo>
                    <a:pt x="283" y="196"/>
                  </a:lnTo>
                  <a:lnTo>
                    <a:pt x="290" y="219"/>
                  </a:lnTo>
                  <a:lnTo>
                    <a:pt x="296" y="242"/>
                  </a:lnTo>
                  <a:lnTo>
                    <a:pt x="302" y="261"/>
                  </a:lnTo>
                  <a:lnTo>
                    <a:pt x="308" y="281"/>
                  </a:lnTo>
                  <a:lnTo>
                    <a:pt x="311" y="300"/>
                  </a:lnTo>
                  <a:lnTo>
                    <a:pt x="315" y="315"/>
                  </a:lnTo>
                  <a:lnTo>
                    <a:pt x="317" y="331"/>
                  </a:lnTo>
                  <a:lnTo>
                    <a:pt x="319" y="344"/>
                  </a:lnTo>
                  <a:lnTo>
                    <a:pt x="321" y="356"/>
                  </a:lnTo>
                  <a:lnTo>
                    <a:pt x="321" y="367"/>
                  </a:lnTo>
                  <a:lnTo>
                    <a:pt x="321" y="377"/>
                  </a:lnTo>
                  <a:lnTo>
                    <a:pt x="321" y="386"/>
                  </a:lnTo>
                  <a:lnTo>
                    <a:pt x="321" y="394"/>
                  </a:lnTo>
                  <a:lnTo>
                    <a:pt x="319" y="402"/>
                  </a:lnTo>
                  <a:lnTo>
                    <a:pt x="319" y="410"/>
                  </a:lnTo>
                  <a:lnTo>
                    <a:pt x="319" y="417"/>
                  </a:lnTo>
                  <a:lnTo>
                    <a:pt x="317" y="423"/>
                  </a:lnTo>
                  <a:lnTo>
                    <a:pt x="317" y="429"/>
                  </a:lnTo>
                  <a:lnTo>
                    <a:pt x="315" y="433"/>
                  </a:lnTo>
                  <a:lnTo>
                    <a:pt x="313" y="436"/>
                  </a:lnTo>
                  <a:lnTo>
                    <a:pt x="311" y="440"/>
                  </a:lnTo>
                  <a:lnTo>
                    <a:pt x="311" y="442"/>
                  </a:lnTo>
                  <a:lnTo>
                    <a:pt x="310" y="446"/>
                  </a:lnTo>
                  <a:lnTo>
                    <a:pt x="306" y="446"/>
                  </a:lnTo>
                  <a:lnTo>
                    <a:pt x="304" y="448"/>
                  </a:lnTo>
                  <a:lnTo>
                    <a:pt x="302" y="448"/>
                  </a:lnTo>
                  <a:lnTo>
                    <a:pt x="298" y="448"/>
                  </a:lnTo>
                  <a:lnTo>
                    <a:pt x="292" y="446"/>
                  </a:lnTo>
                  <a:lnTo>
                    <a:pt x="286" y="444"/>
                  </a:lnTo>
                  <a:lnTo>
                    <a:pt x="281" y="440"/>
                  </a:lnTo>
                  <a:lnTo>
                    <a:pt x="273" y="436"/>
                  </a:lnTo>
                  <a:lnTo>
                    <a:pt x="267" y="431"/>
                  </a:lnTo>
                  <a:lnTo>
                    <a:pt x="260" y="425"/>
                  </a:lnTo>
                  <a:lnTo>
                    <a:pt x="252" y="417"/>
                  </a:lnTo>
                  <a:lnTo>
                    <a:pt x="248" y="413"/>
                  </a:lnTo>
                  <a:lnTo>
                    <a:pt x="244" y="408"/>
                  </a:lnTo>
                  <a:lnTo>
                    <a:pt x="240" y="402"/>
                  </a:lnTo>
                  <a:lnTo>
                    <a:pt x="235" y="396"/>
                  </a:lnTo>
                  <a:lnTo>
                    <a:pt x="231" y="390"/>
                  </a:lnTo>
                  <a:lnTo>
                    <a:pt x="227" y="383"/>
                  </a:lnTo>
                  <a:lnTo>
                    <a:pt x="221" y="375"/>
                  </a:lnTo>
                  <a:lnTo>
                    <a:pt x="217" y="365"/>
                  </a:lnTo>
                  <a:lnTo>
                    <a:pt x="213" y="356"/>
                  </a:lnTo>
                  <a:lnTo>
                    <a:pt x="208" y="346"/>
                  </a:lnTo>
                  <a:lnTo>
                    <a:pt x="202" y="334"/>
                  </a:lnTo>
                  <a:lnTo>
                    <a:pt x="198" y="325"/>
                  </a:lnTo>
                  <a:lnTo>
                    <a:pt x="192" y="311"/>
                  </a:lnTo>
                  <a:lnTo>
                    <a:pt x="188" y="300"/>
                  </a:lnTo>
                  <a:lnTo>
                    <a:pt x="183" y="286"/>
                  </a:lnTo>
                  <a:lnTo>
                    <a:pt x="177" y="273"/>
                  </a:lnTo>
                  <a:lnTo>
                    <a:pt x="165" y="246"/>
                  </a:lnTo>
                  <a:lnTo>
                    <a:pt x="154" y="221"/>
                  </a:lnTo>
                  <a:lnTo>
                    <a:pt x="140" y="196"/>
                  </a:lnTo>
                  <a:lnTo>
                    <a:pt x="127" y="173"/>
                  </a:lnTo>
                  <a:lnTo>
                    <a:pt x="111" y="150"/>
                  </a:lnTo>
                  <a:lnTo>
                    <a:pt x="94" y="129"/>
                  </a:lnTo>
                  <a:lnTo>
                    <a:pt x="77" y="109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0" y="92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4298400" y="3559680"/>
              <a:ext cx="660240" cy="21132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1274" h="407">
                  <a:moveTo>
                    <a:pt x="0" y="146"/>
                  </a:moveTo>
                  <a:lnTo>
                    <a:pt x="7" y="146"/>
                  </a:lnTo>
                  <a:lnTo>
                    <a:pt x="15" y="146"/>
                  </a:lnTo>
                  <a:lnTo>
                    <a:pt x="23" y="146"/>
                  </a:lnTo>
                  <a:lnTo>
                    <a:pt x="30" y="146"/>
                  </a:lnTo>
                  <a:lnTo>
                    <a:pt x="40" y="144"/>
                  </a:lnTo>
                  <a:lnTo>
                    <a:pt x="50" y="144"/>
                  </a:lnTo>
                  <a:lnTo>
                    <a:pt x="61" y="144"/>
                  </a:lnTo>
                  <a:lnTo>
                    <a:pt x="71" y="142"/>
                  </a:lnTo>
                  <a:lnTo>
                    <a:pt x="82" y="142"/>
                  </a:lnTo>
                  <a:lnTo>
                    <a:pt x="94" y="140"/>
                  </a:lnTo>
                  <a:lnTo>
                    <a:pt x="107" y="140"/>
                  </a:lnTo>
                  <a:lnTo>
                    <a:pt x="119" y="138"/>
                  </a:lnTo>
                  <a:lnTo>
                    <a:pt x="132" y="136"/>
                  </a:lnTo>
                  <a:lnTo>
                    <a:pt x="148" y="134"/>
                  </a:lnTo>
                  <a:lnTo>
                    <a:pt x="161" y="134"/>
                  </a:lnTo>
                  <a:lnTo>
                    <a:pt x="176" y="132"/>
                  </a:lnTo>
                  <a:lnTo>
                    <a:pt x="192" y="130"/>
                  </a:lnTo>
                  <a:lnTo>
                    <a:pt x="207" y="128"/>
                  </a:lnTo>
                  <a:lnTo>
                    <a:pt x="225" y="126"/>
                  </a:lnTo>
                  <a:lnTo>
                    <a:pt x="242" y="125"/>
                  </a:lnTo>
                  <a:lnTo>
                    <a:pt x="259" y="121"/>
                  </a:lnTo>
                  <a:lnTo>
                    <a:pt x="276" y="119"/>
                  </a:lnTo>
                  <a:lnTo>
                    <a:pt x="296" y="117"/>
                  </a:lnTo>
                  <a:lnTo>
                    <a:pt x="315" y="115"/>
                  </a:lnTo>
                  <a:lnTo>
                    <a:pt x="334" y="111"/>
                  </a:lnTo>
                  <a:lnTo>
                    <a:pt x="353" y="109"/>
                  </a:lnTo>
                  <a:lnTo>
                    <a:pt x="375" y="105"/>
                  </a:lnTo>
                  <a:lnTo>
                    <a:pt x="396" y="103"/>
                  </a:lnTo>
                  <a:lnTo>
                    <a:pt x="417" y="100"/>
                  </a:lnTo>
                  <a:lnTo>
                    <a:pt x="438" y="96"/>
                  </a:lnTo>
                  <a:lnTo>
                    <a:pt x="461" y="94"/>
                  </a:lnTo>
                  <a:lnTo>
                    <a:pt x="484" y="90"/>
                  </a:lnTo>
                  <a:lnTo>
                    <a:pt x="507" y="86"/>
                  </a:lnTo>
                  <a:lnTo>
                    <a:pt x="530" y="82"/>
                  </a:lnTo>
                  <a:lnTo>
                    <a:pt x="551" y="80"/>
                  </a:lnTo>
                  <a:lnTo>
                    <a:pt x="573" y="76"/>
                  </a:lnTo>
                  <a:lnTo>
                    <a:pt x="594" y="73"/>
                  </a:lnTo>
                  <a:lnTo>
                    <a:pt x="613" y="71"/>
                  </a:lnTo>
                  <a:lnTo>
                    <a:pt x="632" y="67"/>
                  </a:lnTo>
                  <a:lnTo>
                    <a:pt x="650" y="63"/>
                  </a:lnTo>
                  <a:lnTo>
                    <a:pt x="669" y="61"/>
                  </a:lnTo>
                  <a:lnTo>
                    <a:pt x="686" y="57"/>
                  </a:lnTo>
                  <a:lnTo>
                    <a:pt x="701" y="55"/>
                  </a:lnTo>
                  <a:lnTo>
                    <a:pt x="717" y="51"/>
                  </a:lnTo>
                  <a:lnTo>
                    <a:pt x="732" y="50"/>
                  </a:lnTo>
                  <a:lnTo>
                    <a:pt x="748" y="48"/>
                  </a:lnTo>
                  <a:lnTo>
                    <a:pt x="761" y="46"/>
                  </a:lnTo>
                  <a:lnTo>
                    <a:pt x="775" y="42"/>
                  </a:lnTo>
                  <a:lnTo>
                    <a:pt x="786" y="40"/>
                  </a:lnTo>
                  <a:lnTo>
                    <a:pt x="800" y="38"/>
                  </a:lnTo>
                  <a:lnTo>
                    <a:pt x="809" y="36"/>
                  </a:lnTo>
                  <a:lnTo>
                    <a:pt x="821" y="34"/>
                  </a:lnTo>
                  <a:lnTo>
                    <a:pt x="830" y="32"/>
                  </a:lnTo>
                  <a:lnTo>
                    <a:pt x="840" y="30"/>
                  </a:lnTo>
                  <a:lnTo>
                    <a:pt x="848" y="28"/>
                  </a:lnTo>
                  <a:lnTo>
                    <a:pt x="855" y="26"/>
                  </a:lnTo>
                  <a:lnTo>
                    <a:pt x="863" y="25"/>
                  </a:lnTo>
                  <a:lnTo>
                    <a:pt x="871" y="23"/>
                  </a:lnTo>
                  <a:lnTo>
                    <a:pt x="876" y="21"/>
                  </a:lnTo>
                  <a:lnTo>
                    <a:pt x="880" y="21"/>
                  </a:lnTo>
                  <a:lnTo>
                    <a:pt x="886" y="19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896" y="15"/>
                  </a:lnTo>
                  <a:lnTo>
                    <a:pt x="905" y="11"/>
                  </a:lnTo>
                  <a:lnTo>
                    <a:pt x="915" y="7"/>
                  </a:lnTo>
                  <a:lnTo>
                    <a:pt x="926" y="3"/>
                  </a:lnTo>
                  <a:lnTo>
                    <a:pt x="938" y="1"/>
                  </a:lnTo>
                  <a:lnTo>
                    <a:pt x="950" y="1"/>
                  </a:lnTo>
                  <a:lnTo>
                    <a:pt x="963" y="0"/>
                  </a:lnTo>
                  <a:lnTo>
                    <a:pt x="976" y="0"/>
                  </a:lnTo>
                  <a:lnTo>
                    <a:pt x="990" y="1"/>
                  </a:lnTo>
                  <a:lnTo>
                    <a:pt x="998" y="3"/>
                  </a:lnTo>
                  <a:lnTo>
                    <a:pt x="1005" y="3"/>
                  </a:lnTo>
                  <a:lnTo>
                    <a:pt x="1013" y="5"/>
                  </a:lnTo>
                  <a:lnTo>
                    <a:pt x="1021" y="7"/>
                  </a:lnTo>
                  <a:lnTo>
                    <a:pt x="1030" y="11"/>
                  </a:lnTo>
                  <a:lnTo>
                    <a:pt x="1040" y="13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3" y="23"/>
                  </a:lnTo>
                  <a:lnTo>
                    <a:pt x="1084" y="26"/>
                  </a:lnTo>
                  <a:lnTo>
                    <a:pt x="1096" y="30"/>
                  </a:lnTo>
                  <a:lnTo>
                    <a:pt x="1107" y="36"/>
                  </a:lnTo>
                  <a:lnTo>
                    <a:pt x="1121" y="40"/>
                  </a:lnTo>
                  <a:lnTo>
                    <a:pt x="1134" y="46"/>
                  </a:lnTo>
                  <a:lnTo>
                    <a:pt x="1148" y="51"/>
                  </a:lnTo>
                  <a:lnTo>
                    <a:pt x="1163" y="57"/>
                  </a:lnTo>
                  <a:lnTo>
                    <a:pt x="1176" y="63"/>
                  </a:lnTo>
                  <a:lnTo>
                    <a:pt x="1190" y="71"/>
                  </a:lnTo>
                  <a:lnTo>
                    <a:pt x="1203" y="76"/>
                  </a:lnTo>
                  <a:lnTo>
                    <a:pt x="1215" y="82"/>
                  </a:lnTo>
                  <a:lnTo>
                    <a:pt x="1224" y="88"/>
                  </a:lnTo>
                  <a:lnTo>
                    <a:pt x="1234" y="94"/>
                  </a:lnTo>
                  <a:lnTo>
                    <a:pt x="1244" y="100"/>
                  </a:lnTo>
                  <a:lnTo>
                    <a:pt x="1251" y="105"/>
                  </a:lnTo>
                  <a:lnTo>
                    <a:pt x="1257" y="111"/>
                  </a:lnTo>
                  <a:lnTo>
                    <a:pt x="1263" y="115"/>
                  </a:lnTo>
                  <a:lnTo>
                    <a:pt x="1267" y="121"/>
                  </a:lnTo>
                  <a:lnTo>
                    <a:pt x="1271" y="126"/>
                  </a:lnTo>
                  <a:lnTo>
                    <a:pt x="1273" y="130"/>
                  </a:lnTo>
                  <a:lnTo>
                    <a:pt x="1274" y="136"/>
                  </a:lnTo>
                  <a:lnTo>
                    <a:pt x="1274" y="142"/>
                  </a:lnTo>
                  <a:lnTo>
                    <a:pt x="1274" y="146"/>
                  </a:lnTo>
                  <a:lnTo>
                    <a:pt x="1273" y="155"/>
                  </a:lnTo>
                  <a:lnTo>
                    <a:pt x="1269" y="163"/>
                  </a:lnTo>
                  <a:lnTo>
                    <a:pt x="1263" y="169"/>
                  </a:lnTo>
                  <a:lnTo>
                    <a:pt x="1255" y="175"/>
                  </a:lnTo>
                  <a:lnTo>
                    <a:pt x="1246" y="180"/>
                  </a:lnTo>
                  <a:lnTo>
                    <a:pt x="1234" y="184"/>
                  </a:lnTo>
                  <a:lnTo>
                    <a:pt x="1221" y="186"/>
                  </a:lnTo>
                  <a:lnTo>
                    <a:pt x="1207" y="188"/>
                  </a:lnTo>
                  <a:lnTo>
                    <a:pt x="1199" y="190"/>
                  </a:lnTo>
                  <a:lnTo>
                    <a:pt x="1190" y="194"/>
                  </a:lnTo>
                  <a:lnTo>
                    <a:pt x="1178" y="198"/>
                  </a:lnTo>
                  <a:lnTo>
                    <a:pt x="1167" y="205"/>
                  </a:lnTo>
                  <a:lnTo>
                    <a:pt x="1155" y="213"/>
                  </a:lnTo>
                  <a:lnTo>
                    <a:pt x="1142" y="223"/>
                  </a:lnTo>
                  <a:lnTo>
                    <a:pt x="1126" y="234"/>
                  </a:lnTo>
                  <a:lnTo>
                    <a:pt x="1111" y="246"/>
                  </a:lnTo>
                  <a:lnTo>
                    <a:pt x="1094" y="261"/>
                  </a:lnTo>
                  <a:lnTo>
                    <a:pt x="1076" y="277"/>
                  </a:lnTo>
                  <a:lnTo>
                    <a:pt x="1057" y="294"/>
                  </a:lnTo>
                  <a:lnTo>
                    <a:pt x="1036" y="313"/>
                  </a:lnTo>
                  <a:lnTo>
                    <a:pt x="1015" y="334"/>
                  </a:lnTo>
                  <a:lnTo>
                    <a:pt x="994" y="357"/>
                  </a:lnTo>
                  <a:lnTo>
                    <a:pt x="971" y="382"/>
                  </a:lnTo>
                  <a:lnTo>
                    <a:pt x="946" y="407"/>
                  </a:lnTo>
                  <a:lnTo>
                    <a:pt x="846" y="407"/>
                  </a:lnTo>
                  <a:lnTo>
                    <a:pt x="857" y="379"/>
                  </a:lnTo>
                  <a:lnTo>
                    <a:pt x="869" y="352"/>
                  </a:lnTo>
                  <a:lnTo>
                    <a:pt x="878" y="327"/>
                  </a:lnTo>
                  <a:lnTo>
                    <a:pt x="888" y="303"/>
                  </a:lnTo>
                  <a:lnTo>
                    <a:pt x="898" y="282"/>
                  </a:lnTo>
                  <a:lnTo>
                    <a:pt x="905" y="261"/>
                  </a:lnTo>
                  <a:lnTo>
                    <a:pt x="911" y="244"/>
                  </a:lnTo>
                  <a:lnTo>
                    <a:pt x="917" y="227"/>
                  </a:lnTo>
                  <a:lnTo>
                    <a:pt x="921" y="211"/>
                  </a:lnTo>
                  <a:lnTo>
                    <a:pt x="925" y="200"/>
                  </a:lnTo>
                  <a:lnTo>
                    <a:pt x="926" y="188"/>
                  </a:lnTo>
                  <a:lnTo>
                    <a:pt x="928" y="178"/>
                  </a:lnTo>
                  <a:lnTo>
                    <a:pt x="930" y="171"/>
                  </a:lnTo>
                  <a:lnTo>
                    <a:pt x="930" y="165"/>
                  </a:lnTo>
                  <a:lnTo>
                    <a:pt x="928" y="159"/>
                  </a:lnTo>
                  <a:lnTo>
                    <a:pt x="926" y="157"/>
                  </a:lnTo>
                  <a:lnTo>
                    <a:pt x="925" y="155"/>
                  </a:lnTo>
                  <a:lnTo>
                    <a:pt x="921" y="155"/>
                  </a:lnTo>
                  <a:lnTo>
                    <a:pt x="917" y="153"/>
                  </a:lnTo>
                  <a:lnTo>
                    <a:pt x="913" y="151"/>
                  </a:lnTo>
                  <a:lnTo>
                    <a:pt x="907" y="151"/>
                  </a:lnTo>
                  <a:lnTo>
                    <a:pt x="901" y="150"/>
                  </a:lnTo>
                  <a:lnTo>
                    <a:pt x="896" y="150"/>
                  </a:lnTo>
                  <a:lnTo>
                    <a:pt x="888" y="150"/>
                  </a:lnTo>
                  <a:lnTo>
                    <a:pt x="880" y="148"/>
                  </a:lnTo>
                  <a:lnTo>
                    <a:pt x="873" y="148"/>
                  </a:lnTo>
                  <a:lnTo>
                    <a:pt x="863" y="148"/>
                  </a:lnTo>
                  <a:lnTo>
                    <a:pt x="853" y="146"/>
                  </a:lnTo>
                  <a:lnTo>
                    <a:pt x="844" y="146"/>
                  </a:lnTo>
                  <a:lnTo>
                    <a:pt x="832" y="146"/>
                  </a:lnTo>
                  <a:lnTo>
                    <a:pt x="821" y="146"/>
                  </a:lnTo>
                  <a:lnTo>
                    <a:pt x="809" y="146"/>
                  </a:lnTo>
                  <a:lnTo>
                    <a:pt x="801" y="146"/>
                  </a:lnTo>
                  <a:lnTo>
                    <a:pt x="794" y="146"/>
                  </a:lnTo>
                  <a:lnTo>
                    <a:pt x="784" y="148"/>
                  </a:lnTo>
                  <a:lnTo>
                    <a:pt x="775" y="148"/>
                  </a:lnTo>
                  <a:lnTo>
                    <a:pt x="763" y="148"/>
                  </a:lnTo>
                  <a:lnTo>
                    <a:pt x="750" y="150"/>
                  </a:lnTo>
                  <a:lnTo>
                    <a:pt x="736" y="151"/>
                  </a:lnTo>
                  <a:lnTo>
                    <a:pt x="721" y="153"/>
                  </a:lnTo>
                  <a:lnTo>
                    <a:pt x="705" y="155"/>
                  </a:lnTo>
                  <a:lnTo>
                    <a:pt x="686" y="157"/>
                  </a:lnTo>
                  <a:lnTo>
                    <a:pt x="669" y="159"/>
                  </a:lnTo>
                  <a:lnTo>
                    <a:pt x="648" y="161"/>
                  </a:lnTo>
                  <a:lnTo>
                    <a:pt x="626" y="163"/>
                  </a:lnTo>
                  <a:lnTo>
                    <a:pt x="605" y="167"/>
                  </a:lnTo>
                  <a:lnTo>
                    <a:pt x="580" y="171"/>
                  </a:lnTo>
                  <a:lnTo>
                    <a:pt x="557" y="173"/>
                  </a:lnTo>
                  <a:lnTo>
                    <a:pt x="530" y="177"/>
                  </a:lnTo>
                  <a:lnTo>
                    <a:pt x="503" y="180"/>
                  </a:lnTo>
                  <a:lnTo>
                    <a:pt x="475" y="184"/>
                  </a:lnTo>
                  <a:lnTo>
                    <a:pt x="446" y="190"/>
                  </a:lnTo>
                  <a:lnTo>
                    <a:pt x="415" y="194"/>
                  </a:lnTo>
                  <a:lnTo>
                    <a:pt x="384" y="198"/>
                  </a:lnTo>
                  <a:lnTo>
                    <a:pt x="350" y="203"/>
                  </a:lnTo>
                  <a:lnTo>
                    <a:pt x="317" y="209"/>
                  </a:lnTo>
                  <a:lnTo>
                    <a:pt x="280" y="213"/>
                  </a:lnTo>
                  <a:lnTo>
                    <a:pt x="244" y="219"/>
                  </a:lnTo>
                  <a:lnTo>
                    <a:pt x="207" y="225"/>
                  </a:lnTo>
                  <a:lnTo>
                    <a:pt x="167" y="230"/>
                  </a:lnTo>
                  <a:lnTo>
                    <a:pt x="126" y="238"/>
                  </a:lnTo>
                  <a:lnTo>
                    <a:pt x="86" y="244"/>
                  </a:lnTo>
                  <a:lnTo>
                    <a:pt x="44" y="250"/>
                  </a:lnTo>
                  <a:lnTo>
                    <a:pt x="0" y="25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4361400" y="3751560"/>
              <a:ext cx="484920" cy="9000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934" h="173">
                  <a:moveTo>
                    <a:pt x="934" y="31"/>
                  </a:moveTo>
                  <a:lnTo>
                    <a:pt x="934" y="40"/>
                  </a:lnTo>
                  <a:lnTo>
                    <a:pt x="932" y="50"/>
                  </a:lnTo>
                  <a:lnTo>
                    <a:pt x="930" y="58"/>
                  </a:lnTo>
                  <a:lnTo>
                    <a:pt x="928" y="65"/>
                  </a:lnTo>
                  <a:lnTo>
                    <a:pt x="925" y="73"/>
                  </a:lnTo>
                  <a:lnTo>
                    <a:pt x="921" y="81"/>
                  </a:lnTo>
                  <a:lnTo>
                    <a:pt x="915" y="86"/>
                  </a:lnTo>
                  <a:lnTo>
                    <a:pt x="909" y="92"/>
                  </a:lnTo>
                  <a:lnTo>
                    <a:pt x="903" y="96"/>
                  </a:lnTo>
                  <a:lnTo>
                    <a:pt x="896" y="100"/>
                  </a:lnTo>
                  <a:lnTo>
                    <a:pt x="888" y="104"/>
                  </a:lnTo>
                  <a:lnTo>
                    <a:pt x="878" y="106"/>
                  </a:lnTo>
                  <a:lnTo>
                    <a:pt x="869" y="109"/>
                  </a:lnTo>
                  <a:lnTo>
                    <a:pt x="857" y="109"/>
                  </a:lnTo>
                  <a:lnTo>
                    <a:pt x="846" y="111"/>
                  </a:lnTo>
                  <a:lnTo>
                    <a:pt x="834" y="111"/>
                  </a:lnTo>
                  <a:lnTo>
                    <a:pt x="821" y="111"/>
                  </a:lnTo>
                  <a:lnTo>
                    <a:pt x="805" y="111"/>
                  </a:lnTo>
                  <a:lnTo>
                    <a:pt x="790" y="113"/>
                  </a:lnTo>
                  <a:lnTo>
                    <a:pt x="771" y="113"/>
                  </a:lnTo>
                  <a:lnTo>
                    <a:pt x="752" y="115"/>
                  </a:lnTo>
                  <a:lnTo>
                    <a:pt x="728" y="115"/>
                  </a:lnTo>
                  <a:lnTo>
                    <a:pt x="705" y="117"/>
                  </a:lnTo>
                  <a:lnTo>
                    <a:pt x="680" y="119"/>
                  </a:lnTo>
                  <a:lnTo>
                    <a:pt x="653" y="121"/>
                  </a:lnTo>
                  <a:lnTo>
                    <a:pt x="625" y="123"/>
                  </a:lnTo>
                  <a:lnTo>
                    <a:pt x="594" y="125"/>
                  </a:lnTo>
                  <a:lnTo>
                    <a:pt x="563" y="129"/>
                  </a:lnTo>
                  <a:lnTo>
                    <a:pt x="528" y="131"/>
                  </a:lnTo>
                  <a:lnTo>
                    <a:pt x="494" y="134"/>
                  </a:lnTo>
                  <a:lnTo>
                    <a:pt x="455" y="138"/>
                  </a:lnTo>
                  <a:lnTo>
                    <a:pt x="417" y="142"/>
                  </a:lnTo>
                  <a:lnTo>
                    <a:pt x="378" y="146"/>
                  </a:lnTo>
                  <a:lnTo>
                    <a:pt x="342" y="150"/>
                  </a:lnTo>
                  <a:lnTo>
                    <a:pt x="305" y="154"/>
                  </a:lnTo>
                  <a:lnTo>
                    <a:pt x="273" y="156"/>
                  </a:lnTo>
                  <a:lnTo>
                    <a:pt x="240" y="160"/>
                  </a:lnTo>
                  <a:lnTo>
                    <a:pt x="209" y="161"/>
                  </a:lnTo>
                  <a:lnTo>
                    <a:pt x="180" y="163"/>
                  </a:lnTo>
                  <a:lnTo>
                    <a:pt x="153" y="165"/>
                  </a:lnTo>
                  <a:lnTo>
                    <a:pt x="128" y="167"/>
                  </a:lnTo>
                  <a:lnTo>
                    <a:pt x="105" y="169"/>
                  </a:lnTo>
                  <a:lnTo>
                    <a:pt x="84" y="171"/>
                  </a:lnTo>
                  <a:lnTo>
                    <a:pt x="63" y="171"/>
                  </a:lnTo>
                  <a:lnTo>
                    <a:pt x="46" y="171"/>
                  </a:lnTo>
                  <a:lnTo>
                    <a:pt x="28" y="173"/>
                  </a:lnTo>
                  <a:lnTo>
                    <a:pt x="13" y="173"/>
                  </a:lnTo>
                  <a:lnTo>
                    <a:pt x="0" y="173"/>
                  </a:lnTo>
                  <a:lnTo>
                    <a:pt x="0" y="86"/>
                  </a:lnTo>
                  <a:lnTo>
                    <a:pt x="57" y="79"/>
                  </a:lnTo>
                  <a:lnTo>
                    <a:pt x="113" y="69"/>
                  </a:lnTo>
                  <a:lnTo>
                    <a:pt x="167" y="63"/>
                  </a:lnTo>
                  <a:lnTo>
                    <a:pt x="219" y="56"/>
                  </a:lnTo>
                  <a:lnTo>
                    <a:pt x="269" y="48"/>
                  </a:lnTo>
                  <a:lnTo>
                    <a:pt x="317" y="42"/>
                  </a:lnTo>
                  <a:lnTo>
                    <a:pt x="363" y="36"/>
                  </a:lnTo>
                  <a:lnTo>
                    <a:pt x="409" y="31"/>
                  </a:lnTo>
                  <a:lnTo>
                    <a:pt x="452" y="27"/>
                  </a:lnTo>
                  <a:lnTo>
                    <a:pt x="492" y="21"/>
                  </a:lnTo>
                  <a:lnTo>
                    <a:pt x="532" y="17"/>
                  </a:lnTo>
                  <a:lnTo>
                    <a:pt x="569" y="13"/>
                  </a:lnTo>
                  <a:lnTo>
                    <a:pt x="605" y="11"/>
                  </a:lnTo>
                  <a:lnTo>
                    <a:pt x="638" y="8"/>
                  </a:lnTo>
                  <a:lnTo>
                    <a:pt x="671" y="6"/>
                  </a:lnTo>
                  <a:lnTo>
                    <a:pt x="702" y="4"/>
                  </a:lnTo>
                  <a:lnTo>
                    <a:pt x="728" y="2"/>
                  </a:lnTo>
                  <a:lnTo>
                    <a:pt x="755" y="2"/>
                  </a:lnTo>
                  <a:lnTo>
                    <a:pt x="780" y="0"/>
                  </a:lnTo>
                  <a:lnTo>
                    <a:pt x="803" y="0"/>
                  </a:lnTo>
                  <a:lnTo>
                    <a:pt x="825" y="0"/>
                  </a:lnTo>
                  <a:lnTo>
                    <a:pt x="844" y="2"/>
                  </a:lnTo>
                  <a:lnTo>
                    <a:pt x="861" y="2"/>
                  </a:lnTo>
                  <a:lnTo>
                    <a:pt x="876" y="4"/>
                  </a:lnTo>
                  <a:lnTo>
                    <a:pt x="890" y="6"/>
                  </a:lnTo>
                  <a:lnTo>
                    <a:pt x="901" y="8"/>
                  </a:lnTo>
                  <a:lnTo>
                    <a:pt x="911" y="11"/>
                  </a:lnTo>
                  <a:lnTo>
                    <a:pt x="919" y="13"/>
                  </a:lnTo>
                  <a:lnTo>
                    <a:pt x="926" y="17"/>
                  </a:lnTo>
                  <a:lnTo>
                    <a:pt x="930" y="21"/>
                  </a:lnTo>
                  <a:lnTo>
                    <a:pt x="934" y="27"/>
                  </a:lnTo>
                  <a:lnTo>
                    <a:pt x="934" y="31"/>
                  </a:lnTo>
                  <a:lnTo>
                    <a:pt x="934" y="31"/>
                  </a:lnTo>
                  <a:lnTo>
                    <a:pt x="934" y="31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4272480" y="3408120"/>
              <a:ext cx="594720" cy="10944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48" h="212">
                  <a:moveTo>
                    <a:pt x="167" y="212"/>
                  </a:moveTo>
                  <a:lnTo>
                    <a:pt x="155" y="212"/>
                  </a:lnTo>
                  <a:lnTo>
                    <a:pt x="144" y="210"/>
                  </a:lnTo>
                  <a:lnTo>
                    <a:pt x="132" y="208"/>
                  </a:lnTo>
                  <a:lnTo>
                    <a:pt x="119" y="206"/>
                  </a:lnTo>
                  <a:lnTo>
                    <a:pt x="105" y="202"/>
                  </a:lnTo>
                  <a:lnTo>
                    <a:pt x="92" y="198"/>
                  </a:lnTo>
                  <a:lnTo>
                    <a:pt x="76" y="192"/>
                  </a:lnTo>
                  <a:lnTo>
                    <a:pt x="61" y="187"/>
                  </a:lnTo>
                  <a:lnTo>
                    <a:pt x="48" y="181"/>
                  </a:lnTo>
                  <a:lnTo>
                    <a:pt x="34" y="175"/>
                  </a:lnTo>
                  <a:lnTo>
                    <a:pt x="25" y="169"/>
                  </a:lnTo>
                  <a:lnTo>
                    <a:pt x="15" y="162"/>
                  </a:lnTo>
                  <a:lnTo>
                    <a:pt x="9" y="156"/>
                  </a:lnTo>
                  <a:lnTo>
                    <a:pt x="5" y="152"/>
                  </a:lnTo>
                  <a:lnTo>
                    <a:pt x="3" y="150"/>
                  </a:lnTo>
                  <a:lnTo>
                    <a:pt x="1" y="146"/>
                  </a:lnTo>
                  <a:lnTo>
                    <a:pt x="1" y="142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5" y="131"/>
                  </a:lnTo>
                  <a:lnTo>
                    <a:pt x="9" y="129"/>
                  </a:lnTo>
                  <a:lnTo>
                    <a:pt x="13" y="127"/>
                  </a:lnTo>
                  <a:lnTo>
                    <a:pt x="19" y="125"/>
                  </a:lnTo>
                  <a:lnTo>
                    <a:pt x="25" y="123"/>
                  </a:lnTo>
                  <a:lnTo>
                    <a:pt x="30" y="121"/>
                  </a:lnTo>
                  <a:lnTo>
                    <a:pt x="38" y="119"/>
                  </a:lnTo>
                  <a:lnTo>
                    <a:pt x="46" y="117"/>
                  </a:lnTo>
                  <a:lnTo>
                    <a:pt x="55" y="114"/>
                  </a:lnTo>
                  <a:lnTo>
                    <a:pt x="65" y="112"/>
                  </a:lnTo>
                  <a:lnTo>
                    <a:pt x="76" y="110"/>
                  </a:lnTo>
                  <a:lnTo>
                    <a:pt x="88" y="108"/>
                  </a:lnTo>
                  <a:lnTo>
                    <a:pt x="100" y="106"/>
                  </a:lnTo>
                  <a:lnTo>
                    <a:pt x="111" y="102"/>
                  </a:lnTo>
                  <a:lnTo>
                    <a:pt x="126" y="100"/>
                  </a:lnTo>
                  <a:lnTo>
                    <a:pt x="140" y="96"/>
                  </a:lnTo>
                  <a:lnTo>
                    <a:pt x="155" y="94"/>
                  </a:lnTo>
                  <a:lnTo>
                    <a:pt x="171" y="92"/>
                  </a:lnTo>
                  <a:lnTo>
                    <a:pt x="188" y="88"/>
                  </a:lnTo>
                  <a:lnTo>
                    <a:pt x="205" y="85"/>
                  </a:lnTo>
                  <a:lnTo>
                    <a:pt x="223" y="83"/>
                  </a:lnTo>
                  <a:lnTo>
                    <a:pt x="242" y="79"/>
                  </a:lnTo>
                  <a:lnTo>
                    <a:pt x="263" y="77"/>
                  </a:lnTo>
                  <a:lnTo>
                    <a:pt x="282" y="73"/>
                  </a:lnTo>
                  <a:lnTo>
                    <a:pt x="305" y="69"/>
                  </a:lnTo>
                  <a:lnTo>
                    <a:pt x="326" y="65"/>
                  </a:lnTo>
                  <a:lnTo>
                    <a:pt x="350" y="63"/>
                  </a:lnTo>
                  <a:lnTo>
                    <a:pt x="373" y="60"/>
                  </a:lnTo>
                  <a:lnTo>
                    <a:pt x="398" y="56"/>
                  </a:lnTo>
                  <a:lnTo>
                    <a:pt x="423" y="52"/>
                  </a:lnTo>
                  <a:lnTo>
                    <a:pt x="446" y="50"/>
                  </a:lnTo>
                  <a:lnTo>
                    <a:pt x="471" y="46"/>
                  </a:lnTo>
                  <a:lnTo>
                    <a:pt x="494" y="42"/>
                  </a:lnTo>
                  <a:lnTo>
                    <a:pt x="515" y="40"/>
                  </a:lnTo>
                  <a:lnTo>
                    <a:pt x="538" y="37"/>
                  </a:lnTo>
                  <a:lnTo>
                    <a:pt x="559" y="35"/>
                  </a:lnTo>
                  <a:lnTo>
                    <a:pt x="580" y="31"/>
                  </a:lnTo>
                  <a:lnTo>
                    <a:pt x="601" y="29"/>
                  </a:lnTo>
                  <a:lnTo>
                    <a:pt x="621" y="27"/>
                  </a:lnTo>
                  <a:lnTo>
                    <a:pt x="640" y="25"/>
                  </a:lnTo>
                  <a:lnTo>
                    <a:pt x="659" y="21"/>
                  </a:lnTo>
                  <a:lnTo>
                    <a:pt x="676" y="19"/>
                  </a:lnTo>
                  <a:lnTo>
                    <a:pt x="696" y="17"/>
                  </a:lnTo>
                  <a:lnTo>
                    <a:pt x="713" y="15"/>
                  </a:lnTo>
                  <a:lnTo>
                    <a:pt x="728" y="13"/>
                  </a:lnTo>
                  <a:lnTo>
                    <a:pt x="746" y="13"/>
                  </a:lnTo>
                  <a:lnTo>
                    <a:pt x="761" y="12"/>
                  </a:lnTo>
                  <a:lnTo>
                    <a:pt x="776" y="10"/>
                  </a:lnTo>
                  <a:lnTo>
                    <a:pt x="792" y="8"/>
                  </a:lnTo>
                  <a:lnTo>
                    <a:pt x="805" y="8"/>
                  </a:lnTo>
                  <a:lnTo>
                    <a:pt x="819" y="6"/>
                  </a:lnTo>
                  <a:lnTo>
                    <a:pt x="832" y="4"/>
                  </a:lnTo>
                  <a:lnTo>
                    <a:pt x="844" y="4"/>
                  </a:lnTo>
                  <a:lnTo>
                    <a:pt x="857" y="2"/>
                  </a:lnTo>
                  <a:lnTo>
                    <a:pt x="869" y="2"/>
                  </a:lnTo>
                  <a:lnTo>
                    <a:pt x="878" y="2"/>
                  </a:lnTo>
                  <a:lnTo>
                    <a:pt x="890" y="0"/>
                  </a:lnTo>
                  <a:lnTo>
                    <a:pt x="900" y="0"/>
                  </a:lnTo>
                  <a:lnTo>
                    <a:pt x="909" y="0"/>
                  </a:lnTo>
                  <a:lnTo>
                    <a:pt x="919" y="0"/>
                  </a:lnTo>
                  <a:lnTo>
                    <a:pt x="926" y="0"/>
                  </a:lnTo>
                  <a:lnTo>
                    <a:pt x="942" y="0"/>
                  </a:lnTo>
                  <a:lnTo>
                    <a:pt x="959" y="0"/>
                  </a:lnTo>
                  <a:lnTo>
                    <a:pt x="973" y="2"/>
                  </a:lnTo>
                  <a:lnTo>
                    <a:pt x="988" y="4"/>
                  </a:lnTo>
                  <a:lnTo>
                    <a:pt x="1001" y="6"/>
                  </a:lnTo>
                  <a:lnTo>
                    <a:pt x="1013" y="8"/>
                  </a:lnTo>
                  <a:lnTo>
                    <a:pt x="1026" y="10"/>
                  </a:lnTo>
                  <a:lnTo>
                    <a:pt x="1038" y="13"/>
                  </a:lnTo>
                  <a:lnTo>
                    <a:pt x="1049" y="15"/>
                  </a:lnTo>
                  <a:lnTo>
                    <a:pt x="1059" y="19"/>
                  </a:lnTo>
                  <a:lnTo>
                    <a:pt x="1069" y="23"/>
                  </a:lnTo>
                  <a:lnTo>
                    <a:pt x="1078" y="29"/>
                  </a:lnTo>
                  <a:lnTo>
                    <a:pt x="1086" y="33"/>
                  </a:lnTo>
                  <a:lnTo>
                    <a:pt x="1094" y="38"/>
                  </a:lnTo>
                  <a:lnTo>
                    <a:pt x="1101" y="44"/>
                  </a:lnTo>
                  <a:lnTo>
                    <a:pt x="1107" y="50"/>
                  </a:lnTo>
                  <a:lnTo>
                    <a:pt x="1119" y="62"/>
                  </a:lnTo>
                  <a:lnTo>
                    <a:pt x="1128" y="73"/>
                  </a:lnTo>
                  <a:lnTo>
                    <a:pt x="1136" y="83"/>
                  </a:lnTo>
                  <a:lnTo>
                    <a:pt x="1142" y="92"/>
                  </a:lnTo>
                  <a:lnTo>
                    <a:pt x="1146" y="100"/>
                  </a:lnTo>
                  <a:lnTo>
                    <a:pt x="1148" y="104"/>
                  </a:lnTo>
                  <a:lnTo>
                    <a:pt x="1148" y="108"/>
                  </a:lnTo>
                  <a:lnTo>
                    <a:pt x="1148" y="112"/>
                  </a:lnTo>
                  <a:lnTo>
                    <a:pt x="1148" y="114"/>
                  </a:lnTo>
                  <a:lnTo>
                    <a:pt x="1148" y="117"/>
                  </a:lnTo>
                  <a:lnTo>
                    <a:pt x="1146" y="119"/>
                  </a:lnTo>
                  <a:lnTo>
                    <a:pt x="1144" y="121"/>
                  </a:lnTo>
                  <a:lnTo>
                    <a:pt x="1140" y="123"/>
                  </a:lnTo>
                  <a:lnTo>
                    <a:pt x="1138" y="125"/>
                  </a:lnTo>
                  <a:lnTo>
                    <a:pt x="1134" y="127"/>
                  </a:lnTo>
                  <a:lnTo>
                    <a:pt x="1128" y="129"/>
                  </a:lnTo>
                  <a:lnTo>
                    <a:pt x="1123" y="131"/>
                  </a:lnTo>
                  <a:lnTo>
                    <a:pt x="1117" y="131"/>
                  </a:lnTo>
                  <a:lnTo>
                    <a:pt x="1111" y="133"/>
                  </a:lnTo>
                  <a:lnTo>
                    <a:pt x="1103" y="133"/>
                  </a:lnTo>
                  <a:lnTo>
                    <a:pt x="1096" y="135"/>
                  </a:lnTo>
                  <a:lnTo>
                    <a:pt x="1086" y="135"/>
                  </a:lnTo>
                  <a:lnTo>
                    <a:pt x="1076" y="135"/>
                  </a:lnTo>
                  <a:lnTo>
                    <a:pt x="1067" y="137"/>
                  </a:lnTo>
                  <a:lnTo>
                    <a:pt x="1055" y="137"/>
                  </a:lnTo>
                  <a:lnTo>
                    <a:pt x="1044" y="137"/>
                  </a:lnTo>
                  <a:lnTo>
                    <a:pt x="1032" y="137"/>
                  </a:lnTo>
                  <a:lnTo>
                    <a:pt x="1026" y="137"/>
                  </a:lnTo>
                  <a:lnTo>
                    <a:pt x="1019" y="137"/>
                  </a:lnTo>
                  <a:lnTo>
                    <a:pt x="1011" y="137"/>
                  </a:lnTo>
                  <a:lnTo>
                    <a:pt x="1003" y="137"/>
                  </a:lnTo>
                  <a:lnTo>
                    <a:pt x="996" y="139"/>
                  </a:lnTo>
                  <a:lnTo>
                    <a:pt x="986" y="139"/>
                  </a:lnTo>
                  <a:lnTo>
                    <a:pt x="976" y="139"/>
                  </a:lnTo>
                  <a:lnTo>
                    <a:pt x="967" y="139"/>
                  </a:lnTo>
                  <a:lnTo>
                    <a:pt x="955" y="140"/>
                  </a:lnTo>
                  <a:lnTo>
                    <a:pt x="946" y="140"/>
                  </a:lnTo>
                  <a:lnTo>
                    <a:pt x="934" y="140"/>
                  </a:lnTo>
                  <a:lnTo>
                    <a:pt x="921" y="142"/>
                  </a:lnTo>
                  <a:lnTo>
                    <a:pt x="909" y="142"/>
                  </a:lnTo>
                  <a:lnTo>
                    <a:pt x="896" y="144"/>
                  </a:lnTo>
                  <a:lnTo>
                    <a:pt x="882" y="146"/>
                  </a:lnTo>
                  <a:lnTo>
                    <a:pt x="869" y="146"/>
                  </a:lnTo>
                  <a:lnTo>
                    <a:pt x="853" y="148"/>
                  </a:lnTo>
                  <a:lnTo>
                    <a:pt x="838" y="148"/>
                  </a:lnTo>
                  <a:lnTo>
                    <a:pt x="823" y="150"/>
                  </a:lnTo>
                  <a:lnTo>
                    <a:pt x="807" y="152"/>
                  </a:lnTo>
                  <a:lnTo>
                    <a:pt x="790" y="154"/>
                  </a:lnTo>
                  <a:lnTo>
                    <a:pt x="773" y="156"/>
                  </a:lnTo>
                  <a:lnTo>
                    <a:pt x="755" y="156"/>
                  </a:lnTo>
                  <a:lnTo>
                    <a:pt x="736" y="158"/>
                  </a:lnTo>
                  <a:lnTo>
                    <a:pt x="719" y="160"/>
                  </a:lnTo>
                  <a:lnTo>
                    <a:pt x="700" y="162"/>
                  </a:lnTo>
                  <a:lnTo>
                    <a:pt x="678" y="164"/>
                  </a:lnTo>
                  <a:lnTo>
                    <a:pt x="659" y="165"/>
                  </a:lnTo>
                  <a:lnTo>
                    <a:pt x="638" y="169"/>
                  </a:lnTo>
                  <a:lnTo>
                    <a:pt x="617" y="171"/>
                  </a:lnTo>
                  <a:lnTo>
                    <a:pt x="596" y="173"/>
                  </a:lnTo>
                  <a:lnTo>
                    <a:pt x="573" y="175"/>
                  </a:lnTo>
                  <a:lnTo>
                    <a:pt x="550" y="177"/>
                  </a:lnTo>
                  <a:lnTo>
                    <a:pt x="528" y="179"/>
                  </a:lnTo>
                  <a:lnTo>
                    <a:pt x="507" y="181"/>
                  </a:lnTo>
                  <a:lnTo>
                    <a:pt x="486" y="185"/>
                  </a:lnTo>
                  <a:lnTo>
                    <a:pt x="467" y="187"/>
                  </a:lnTo>
                  <a:lnTo>
                    <a:pt x="448" y="189"/>
                  </a:lnTo>
                  <a:lnTo>
                    <a:pt x="428" y="190"/>
                  </a:lnTo>
                  <a:lnTo>
                    <a:pt x="411" y="190"/>
                  </a:lnTo>
                  <a:lnTo>
                    <a:pt x="394" y="192"/>
                  </a:lnTo>
                  <a:lnTo>
                    <a:pt x="376" y="194"/>
                  </a:lnTo>
                  <a:lnTo>
                    <a:pt x="361" y="196"/>
                  </a:lnTo>
                  <a:lnTo>
                    <a:pt x="346" y="198"/>
                  </a:lnTo>
                  <a:lnTo>
                    <a:pt x="330" y="198"/>
                  </a:lnTo>
                  <a:lnTo>
                    <a:pt x="317" y="200"/>
                  </a:lnTo>
                  <a:lnTo>
                    <a:pt x="303" y="202"/>
                  </a:lnTo>
                  <a:lnTo>
                    <a:pt x="290" y="202"/>
                  </a:lnTo>
                  <a:lnTo>
                    <a:pt x="276" y="204"/>
                  </a:lnTo>
                  <a:lnTo>
                    <a:pt x="265" y="204"/>
                  </a:lnTo>
                  <a:lnTo>
                    <a:pt x="255" y="206"/>
                  </a:lnTo>
                  <a:lnTo>
                    <a:pt x="244" y="206"/>
                  </a:lnTo>
                  <a:lnTo>
                    <a:pt x="234" y="208"/>
                  </a:lnTo>
                  <a:lnTo>
                    <a:pt x="225" y="208"/>
                  </a:lnTo>
                  <a:lnTo>
                    <a:pt x="217" y="210"/>
                  </a:lnTo>
                  <a:lnTo>
                    <a:pt x="209" y="210"/>
                  </a:lnTo>
                  <a:lnTo>
                    <a:pt x="201" y="210"/>
                  </a:lnTo>
                  <a:lnTo>
                    <a:pt x="194" y="210"/>
                  </a:lnTo>
                  <a:lnTo>
                    <a:pt x="188" y="212"/>
                  </a:lnTo>
                  <a:lnTo>
                    <a:pt x="182" y="212"/>
                  </a:lnTo>
                  <a:lnTo>
                    <a:pt x="178" y="212"/>
                  </a:lnTo>
                  <a:lnTo>
                    <a:pt x="173" y="212"/>
                  </a:lnTo>
                  <a:lnTo>
                    <a:pt x="171" y="212"/>
                  </a:lnTo>
                  <a:lnTo>
                    <a:pt x="167" y="212"/>
                  </a:lnTo>
                  <a:lnTo>
                    <a:pt x="167" y="212"/>
                  </a:lnTo>
                  <a:lnTo>
                    <a:pt x="167" y="212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4478760" y="3003840"/>
              <a:ext cx="161280" cy="4568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11" h="881">
                  <a:moveTo>
                    <a:pt x="298" y="158"/>
                  </a:moveTo>
                  <a:lnTo>
                    <a:pt x="296" y="165"/>
                  </a:lnTo>
                  <a:lnTo>
                    <a:pt x="292" y="173"/>
                  </a:lnTo>
                  <a:lnTo>
                    <a:pt x="290" y="181"/>
                  </a:lnTo>
                  <a:lnTo>
                    <a:pt x="286" y="190"/>
                  </a:lnTo>
                  <a:lnTo>
                    <a:pt x="284" y="200"/>
                  </a:lnTo>
                  <a:lnTo>
                    <a:pt x="282" y="212"/>
                  </a:lnTo>
                  <a:lnTo>
                    <a:pt x="280" y="223"/>
                  </a:lnTo>
                  <a:lnTo>
                    <a:pt x="278" y="235"/>
                  </a:lnTo>
                  <a:lnTo>
                    <a:pt x="277" y="248"/>
                  </a:lnTo>
                  <a:lnTo>
                    <a:pt x="275" y="262"/>
                  </a:lnTo>
                  <a:lnTo>
                    <a:pt x="273" y="277"/>
                  </a:lnTo>
                  <a:lnTo>
                    <a:pt x="271" y="292"/>
                  </a:lnTo>
                  <a:lnTo>
                    <a:pt x="271" y="310"/>
                  </a:lnTo>
                  <a:lnTo>
                    <a:pt x="269" y="327"/>
                  </a:lnTo>
                  <a:lnTo>
                    <a:pt x="267" y="344"/>
                  </a:lnTo>
                  <a:lnTo>
                    <a:pt x="267" y="364"/>
                  </a:lnTo>
                  <a:lnTo>
                    <a:pt x="267" y="385"/>
                  </a:lnTo>
                  <a:lnTo>
                    <a:pt x="265" y="406"/>
                  </a:lnTo>
                  <a:lnTo>
                    <a:pt x="265" y="429"/>
                  </a:lnTo>
                  <a:lnTo>
                    <a:pt x="265" y="454"/>
                  </a:lnTo>
                  <a:lnTo>
                    <a:pt x="263" y="481"/>
                  </a:lnTo>
                  <a:lnTo>
                    <a:pt x="263" y="510"/>
                  </a:lnTo>
                  <a:lnTo>
                    <a:pt x="263" y="539"/>
                  </a:lnTo>
                  <a:lnTo>
                    <a:pt x="263" y="571"/>
                  </a:lnTo>
                  <a:lnTo>
                    <a:pt x="263" y="604"/>
                  </a:lnTo>
                  <a:lnTo>
                    <a:pt x="261" y="639"/>
                  </a:lnTo>
                  <a:lnTo>
                    <a:pt x="261" y="675"/>
                  </a:lnTo>
                  <a:lnTo>
                    <a:pt x="261" y="714"/>
                  </a:lnTo>
                  <a:lnTo>
                    <a:pt x="261" y="752"/>
                  </a:lnTo>
                  <a:lnTo>
                    <a:pt x="261" y="794"/>
                  </a:lnTo>
                  <a:lnTo>
                    <a:pt x="261" y="837"/>
                  </a:lnTo>
                  <a:lnTo>
                    <a:pt x="261" y="881"/>
                  </a:lnTo>
                  <a:lnTo>
                    <a:pt x="125" y="881"/>
                  </a:lnTo>
                  <a:lnTo>
                    <a:pt x="123" y="850"/>
                  </a:lnTo>
                  <a:lnTo>
                    <a:pt x="121" y="819"/>
                  </a:lnTo>
                  <a:lnTo>
                    <a:pt x="121" y="791"/>
                  </a:lnTo>
                  <a:lnTo>
                    <a:pt x="119" y="762"/>
                  </a:lnTo>
                  <a:lnTo>
                    <a:pt x="117" y="735"/>
                  </a:lnTo>
                  <a:lnTo>
                    <a:pt x="115" y="706"/>
                  </a:lnTo>
                  <a:lnTo>
                    <a:pt x="115" y="681"/>
                  </a:lnTo>
                  <a:lnTo>
                    <a:pt x="113" y="654"/>
                  </a:lnTo>
                  <a:lnTo>
                    <a:pt x="111" y="629"/>
                  </a:lnTo>
                  <a:lnTo>
                    <a:pt x="109" y="604"/>
                  </a:lnTo>
                  <a:lnTo>
                    <a:pt x="109" y="581"/>
                  </a:lnTo>
                  <a:lnTo>
                    <a:pt x="107" y="558"/>
                  </a:lnTo>
                  <a:lnTo>
                    <a:pt x="105" y="535"/>
                  </a:lnTo>
                  <a:lnTo>
                    <a:pt x="105" y="514"/>
                  </a:lnTo>
                  <a:lnTo>
                    <a:pt x="103" y="492"/>
                  </a:lnTo>
                  <a:lnTo>
                    <a:pt x="103" y="473"/>
                  </a:lnTo>
                  <a:lnTo>
                    <a:pt x="102" y="454"/>
                  </a:lnTo>
                  <a:lnTo>
                    <a:pt x="100" y="435"/>
                  </a:lnTo>
                  <a:lnTo>
                    <a:pt x="100" y="415"/>
                  </a:lnTo>
                  <a:lnTo>
                    <a:pt x="98" y="398"/>
                  </a:lnTo>
                  <a:lnTo>
                    <a:pt x="98" y="383"/>
                  </a:lnTo>
                  <a:lnTo>
                    <a:pt x="96" y="367"/>
                  </a:lnTo>
                  <a:lnTo>
                    <a:pt x="96" y="352"/>
                  </a:lnTo>
                  <a:lnTo>
                    <a:pt x="94" y="337"/>
                  </a:lnTo>
                  <a:lnTo>
                    <a:pt x="92" y="323"/>
                  </a:lnTo>
                  <a:lnTo>
                    <a:pt x="92" y="310"/>
                  </a:lnTo>
                  <a:lnTo>
                    <a:pt x="90" y="298"/>
                  </a:lnTo>
                  <a:lnTo>
                    <a:pt x="90" y="287"/>
                  </a:lnTo>
                  <a:lnTo>
                    <a:pt x="88" y="275"/>
                  </a:lnTo>
                  <a:lnTo>
                    <a:pt x="88" y="265"/>
                  </a:lnTo>
                  <a:lnTo>
                    <a:pt x="86" y="256"/>
                  </a:lnTo>
                  <a:lnTo>
                    <a:pt x="86" y="246"/>
                  </a:lnTo>
                  <a:lnTo>
                    <a:pt x="84" y="229"/>
                  </a:lnTo>
                  <a:lnTo>
                    <a:pt x="82" y="213"/>
                  </a:lnTo>
                  <a:lnTo>
                    <a:pt x="80" y="198"/>
                  </a:lnTo>
                  <a:lnTo>
                    <a:pt x="78" y="185"/>
                  </a:lnTo>
                  <a:lnTo>
                    <a:pt x="77" y="171"/>
                  </a:lnTo>
                  <a:lnTo>
                    <a:pt x="73" y="158"/>
                  </a:lnTo>
                  <a:lnTo>
                    <a:pt x="71" y="146"/>
                  </a:lnTo>
                  <a:lnTo>
                    <a:pt x="67" y="136"/>
                  </a:lnTo>
                  <a:lnTo>
                    <a:pt x="65" y="127"/>
                  </a:lnTo>
                  <a:lnTo>
                    <a:pt x="61" y="117"/>
                  </a:lnTo>
                  <a:lnTo>
                    <a:pt x="57" y="110"/>
                  </a:lnTo>
                  <a:lnTo>
                    <a:pt x="53" y="102"/>
                  </a:lnTo>
                  <a:lnTo>
                    <a:pt x="50" y="96"/>
                  </a:lnTo>
                  <a:lnTo>
                    <a:pt x="46" y="90"/>
                  </a:lnTo>
                  <a:lnTo>
                    <a:pt x="40" y="86"/>
                  </a:lnTo>
                  <a:lnTo>
                    <a:pt x="36" y="83"/>
                  </a:lnTo>
                  <a:lnTo>
                    <a:pt x="27" y="77"/>
                  </a:lnTo>
                  <a:lnTo>
                    <a:pt x="21" y="69"/>
                  </a:lnTo>
                  <a:lnTo>
                    <a:pt x="13" y="63"/>
                  </a:lnTo>
                  <a:lnTo>
                    <a:pt x="9" y="56"/>
                  </a:lnTo>
                  <a:lnTo>
                    <a:pt x="5" y="48"/>
                  </a:lnTo>
                  <a:lnTo>
                    <a:pt x="2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3" y="4"/>
                  </a:lnTo>
                  <a:lnTo>
                    <a:pt x="119" y="6"/>
                  </a:lnTo>
                  <a:lnTo>
                    <a:pt x="136" y="10"/>
                  </a:lnTo>
                  <a:lnTo>
                    <a:pt x="153" y="13"/>
                  </a:lnTo>
                  <a:lnTo>
                    <a:pt x="169" y="15"/>
                  </a:lnTo>
                  <a:lnTo>
                    <a:pt x="184" y="19"/>
                  </a:lnTo>
                  <a:lnTo>
                    <a:pt x="198" y="23"/>
                  </a:lnTo>
                  <a:lnTo>
                    <a:pt x="211" y="25"/>
                  </a:lnTo>
                  <a:lnTo>
                    <a:pt x="225" y="29"/>
                  </a:lnTo>
                  <a:lnTo>
                    <a:pt x="236" y="33"/>
                  </a:lnTo>
                  <a:lnTo>
                    <a:pt x="246" y="36"/>
                  </a:lnTo>
                  <a:lnTo>
                    <a:pt x="255" y="40"/>
                  </a:lnTo>
                  <a:lnTo>
                    <a:pt x="265" y="44"/>
                  </a:lnTo>
                  <a:lnTo>
                    <a:pt x="273" y="48"/>
                  </a:lnTo>
                  <a:lnTo>
                    <a:pt x="278" y="54"/>
                  </a:lnTo>
                  <a:lnTo>
                    <a:pt x="284" y="58"/>
                  </a:lnTo>
                  <a:lnTo>
                    <a:pt x="290" y="61"/>
                  </a:lnTo>
                  <a:lnTo>
                    <a:pt x="294" y="67"/>
                  </a:lnTo>
                  <a:lnTo>
                    <a:pt x="298" y="71"/>
                  </a:lnTo>
                  <a:lnTo>
                    <a:pt x="303" y="81"/>
                  </a:lnTo>
                  <a:lnTo>
                    <a:pt x="307" y="90"/>
                  </a:lnTo>
                  <a:lnTo>
                    <a:pt x="309" y="100"/>
                  </a:lnTo>
                  <a:lnTo>
                    <a:pt x="311" y="111"/>
                  </a:lnTo>
                  <a:lnTo>
                    <a:pt x="309" y="123"/>
                  </a:lnTo>
                  <a:lnTo>
                    <a:pt x="307" y="135"/>
                  </a:lnTo>
                  <a:lnTo>
                    <a:pt x="303" y="146"/>
                  </a:lnTo>
                  <a:lnTo>
                    <a:pt x="298" y="158"/>
                  </a:lnTo>
                  <a:lnTo>
                    <a:pt x="298" y="158"/>
                  </a:lnTo>
                  <a:lnTo>
                    <a:pt x="298" y="158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4136400" y="3177000"/>
              <a:ext cx="888480" cy="166680"/>
            </a:xfrm>
            <a:custGeom>
              <a:avLst/>
              <a:gdLst>
                <a:gd name="textAreaLeft" fmla="*/ 0 w 888480"/>
                <a:gd name="textAreaRight" fmla="*/ 888840 w 88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13" h="321">
                  <a:moveTo>
                    <a:pt x="0" y="240"/>
                  </a:moveTo>
                  <a:lnTo>
                    <a:pt x="0" y="238"/>
                  </a:lnTo>
                  <a:lnTo>
                    <a:pt x="2" y="236"/>
                  </a:lnTo>
                  <a:lnTo>
                    <a:pt x="6" y="234"/>
                  </a:lnTo>
                  <a:lnTo>
                    <a:pt x="10" y="231"/>
                  </a:lnTo>
                  <a:lnTo>
                    <a:pt x="15" y="229"/>
                  </a:lnTo>
                  <a:lnTo>
                    <a:pt x="21" y="227"/>
                  </a:lnTo>
                  <a:lnTo>
                    <a:pt x="29" y="225"/>
                  </a:lnTo>
                  <a:lnTo>
                    <a:pt x="37" y="223"/>
                  </a:lnTo>
                  <a:lnTo>
                    <a:pt x="48" y="219"/>
                  </a:lnTo>
                  <a:lnTo>
                    <a:pt x="58" y="217"/>
                  </a:lnTo>
                  <a:lnTo>
                    <a:pt x="71" y="215"/>
                  </a:lnTo>
                  <a:lnTo>
                    <a:pt x="83" y="213"/>
                  </a:lnTo>
                  <a:lnTo>
                    <a:pt x="98" y="209"/>
                  </a:lnTo>
                  <a:lnTo>
                    <a:pt x="113" y="207"/>
                  </a:lnTo>
                  <a:lnTo>
                    <a:pt x="131" y="206"/>
                  </a:lnTo>
                  <a:lnTo>
                    <a:pt x="148" y="204"/>
                  </a:lnTo>
                  <a:lnTo>
                    <a:pt x="185" y="198"/>
                  </a:lnTo>
                  <a:lnTo>
                    <a:pt x="221" y="194"/>
                  </a:lnTo>
                  <a:lnTo>
                    <a:pt x="256" y="188"/>
                  </a:lnTo>
                  <a:lnTo>
                    <a:pt x="290" y="184"/>
                  </a:lnTo>
                  <a:lnTo>
                    <a:pt x="323" y="180"/>
                  </a:lnTo>
                  <a:lnTo>
                    <a:pt x="356" y="175"/>
                  </a:lnTo>
                  <a:lnTo>
                    <a:pt x="387" y="171"/>
                  </a:lnTo>
                  <a:lnTo>
                    <a:pt x="417" y="165"/>
                  </a:lnTo>
                  <a:lnTo>
                    <a:pt x="425" y="163"/>
                  </a:lnTo>
                  <a:lnTo>
                    <a:pt x="433" y="163"/>
                  </a:lnTo>
                  <a:lnTo>
                    <a:pt x="442" y="161"/>
                  </a:lnTo>
                  <a:lnTo>
                    <a:pt x="452" y="159"/>
                  </a:lnTo>
                  <a:lnTo>
                    <a:pt x="462" y="157"/>
                  </a:lnTo>
                  <a:lnTo>
                    <a:pt x="473" y="155"/>
                  </a:lnTo>
                  <a:lnTo>
                    <a:pt x="485" y="155"/>
                  </a:lnTo>
                  <a:lnTo>
                    <a:pt x="496" y="152"/>
                  </a:lnTo>
                  <a:lnTo>
                    <a:pt x="510" y="150"/>
                  </a:lnTo>
                  <a:lnTo>
                    <a:pt x="523" y="148"/>
                  </a:lnTo>
                  <a:lnTo>
                    <a:pt x="538" y="146"/>
                  </a:lnTo>
                  <a:lnTo>
                    <a:pt x="552" y="144"/>
                  </a:lnTo>
                  <a:lnTo>
                    <a:pt x="567" y="140"/>
                  </a:lnTo>
                  <a:lnTo>
                    <a:pt x="585" y="138"/>
                  </a:lnTo>
                  <a:lnTo>
                    <a:pt x="600" y="134"/>
                  </a:lnTo>
                  <a:lnTo>
                    <a:pt x="617" y="132"/>
                  </a:lnTo>
                  <a:lnTo>
                    <a:pt x="637" y="129"/>
                  </a:lnTo>
                  <a:lnTo>
                    <a:pt x="654" y="125"/>
                  </a:lnTo>
                  <a:lnTo>
                    <a:pt x="673" y="123"/>
                  </a:lnTo>
                  <a:lnTo>
                    <a:pt x="694" y="119"/>
                  </a:lnTo>
                  <a:lnTo>
                    <a:pt x="713" y="115"/>
                  </a:lnTo>
                  <a:lnTo>
                    <a:pt x="735" y="111"/>
                  </a:lnTo>
                  <a:lnTo>
                    <a:pt x="758" y="107"/>
                  </a:lnTo>
                  <a:lnTo>
                    <a:pt x="779" y="104"/>
                  </a:lnTo>
                  <a:lnTo>
                    <a:pt x="802" y="100"/>
                  </a:lnTo>
                  <a:lnTo>
                    <a:pt x="827" y="96"/>
                  </a:lnTo>
                  <a:lnTo>
                    <a:pt x="852" y="90"/>
                  </a:lnTo>
                  <a:lnTo>
                    <a:pt x="877" y="86"/>
                  </a:lnTo>
                  <a:lnTo>
                    <a:pt x="902" y="82"/>
                  </a:lnTo>
                  <a:lnTo>
                    <a:pt x="929" y="77"/>
                  </a:lnTo>
                  <a:lnTo>
                    <a:pt x="956" y="73"/>
                  </a:lnTo>
                  <a:lnTo>
                    <a:pt x="983" y="67"/>
                  </a:lnTo>
                  <a:lnTo>
                    <a:pt x="1010" y="61"/>
                  </a:lnTo>
                  <a:lnTo>
                    <a:pt x="1038" y="57"/>
                  </a:lnTo>
                  <a:lnTo>
                    <a:pt x="1063" y="54"/>
                  </a:lnTo>
                  <a:lnTo>
                    <a:pt x="1090" y="48"/>
                  </a:lnTo>
                  <a:lnTo>
                    <a:pt x="1115" y="44"/>
                  </a:lnTo>
                  <a:lnTo>
                    <a:pt x="1140" y="40"/>
                  </a:lnTo>
                  <a:lnTo>
                    <a:pt x="1163" y="36"/>
                  </a:lnTo>
                  <a:lnTo>
                    <a:pt x="1187" y="32"/>
                  </a:lnTo>
                  <a:lnTo>
                    <a:pt x="1210" y="29"/>
                  </a:lnTo>
                  <a:lnTo>
                    <a:pt x="1231" y="27"/>
                  </a:lnTo>
                  <a:lnTo>
                    <a:pt x="1252" y="23"/>
                  </a:lnTo>
                  <a:lnTo>
                    <a:pt x="1273" y="21"/>
                  </a:lnTo>
                  <a:lnTo>
                    <a:pt x="1292" y="17"/>
                  </a:lnTo>
                  <a:lnTo>
                    <a:pt x="1311" y="15"/>
                  </a:lnTo>
                  <a:lnTo>
                    <a:pt x="1331" y="13"/>
                  </a:lnTo>
                  <a:lnTo>
                    <a:pt x="1348" y="11"/>
                  </a:lnTo>
                  <a:lnTo>
                    <a:pt x="1365" y="9"/>
                  </a:lnTo>
                  <a:lnTo>
                    <a:pt x="1381" y="7"/>
                  </a:lnTo>
                  <a:lnTo>
                    <a:pt x="1398" y="5"/>
                  </a:lnTo>
                  <a:lnTo>
                    <a:pt x="1413" y="3"/>
                  </a:lnTo>
                  <a:lnTo>
                    <a:pt x="1427" y="3"/>
                  </a:lnTo>
                  <a:lnTo>
                    <a:pt x="1440" y="2"/>
                  </a:lnTo>
                  <a:lnTo>
                    <a:pt x="1454" y="2"/>
                  </a:lnTo>
                  <a:lnTo>
                    <a:pt x="1467" y="2"/>
                  </a:lnTo>
                  <a:lnTo>
                    <a:pt x="1479" y="2"/>
                  </a:lnTo>
                  <a:lnTo>
                    <a:pt x="1490" y="0"/>
                  </a:lnTo>
                  <a:lnTo>
                    <a:pt x="1500" y="0"/>
                  </a:lnTo>
                  <a:lnTo>
                    <a:pt x="1511" y="2"/>
                  </a:lnTo>
                  <a:lnTo>
                    <a:pt x="1521" y="2"/>
                  </a:lnTo>
                  <a:lnTo>
                    <a:pt x="1529" y="2"/>
                  </a:lnTo>
                  <a:lnTo>
                    <a:pt x="1536" y="3"/>
                  </a:lnTo>
                  <a:lnTo>
                    <a:pt x="1544" y="3"/>
                  </a:lnTo>
                  <a:lnTo>
                    <a:pt x="1558" y="5"/>
                  </a:lnTo>
                  <a:lnTo>
                    <a:pt x="1571" y="9"/>
                  </a:lnTo>
                  <a:lnTo>
                    <a:pt x="1585" y="11"/>
                  </a:lnTo>
                  <a:lnTo>
                    <a:pt x="1596" y="13"/>
                  </a:lnTo>
                  <a:lnTo>
                    <a:pt x="1608" y="17"/>
                  </a:lnTo>
                  <a:lnTo>
                    <a:pt x="1617" y="19"/>
                  </a:lnTo>
                  <a:lnTo>
                    <a:pt x="1629" y="23"/>
                  </a:lnTo>
                  <a:lnTo>
                    <a:pt x="1638" y="27"/>
                  </a:lnTo>
                  <a:lnTo>
                    <a:pt x="1646" y="29"/>
                  </a:lnTo>
                  <a:lnTo>
                    <a:pt x="1656" y="32"/>
                  </a:lnTo>
                  <a:lnTo>
                    <a:pt x="1663" y="36"/>
                  </a:lnTo>
                  <a:lnTo>
                    <a:pt x="1671" y="38"/>
                  </a:lnTo>
                  <a:lnTo>
                    <a:pt x="1677" y="42"/>
                  </a:lnTo>
                  <a:lnTo>
                    <a:pt x="1685" y="46"/>
                  </a:lnTo>
                  <a:lnTo>
                    <a:pt x="1688" y="50"/>
                  </a:lnTo>
                  <a:lnTo>
                    <a:pt x="1694" y="54"/>
                  </a:lnTo>
                  <a:lnTo>
                    <a:pt x="1698" y="57"/>
                  </a:lnTo>
                  <a:lnTo>
                    <a:pt x="1702" y="61"/>
                  </a:lnTo>
                  <a:lnTo>
                    <a:pt x="1706" y="65"/>
                  </a:lnTo>
                  <a:lnTo>
                    <a:pt x="1708" y="69"/>
                  </a:lnTo>
                  <a:lnTo>
                    <a:pt x="1710" y="73"/>
                  </a:lnTo>
                  <a:lnTo>
                    <a:pt x="1711" y="77"/>
                  </a:lnTo>
                  <a:lnTo>
                    <a:pt x="1713" y="80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1" y="94"/>
                  </a:lnTo>
                  <a:lnTo>
                    <a:pt x="1710" y="98"/>
                  </a:lnTo>
                  <a:lnTo>
                    <a:pt x="1708" y="102"/>
                  </a:lnTo>
                  <a:lnTo>
                    <a:pt x="1706" y="105"/>
                  </a:lnTo>
                  <a:lnTo>
                    <a:pt x="1702" y="109"/>
                  </a:lnTo>
                  <a:lnTo>
                    <a:pt x="1698" y="113"/>
                  </a:lnTo>
                  <a:lnTo>
                    <a:pt x="1694" y="117"/>
                  </a:lnTo>
                  <a:lnTo>
                    <a:pt x="1692" y="119"/>
                  </a:lnTo>
                  <a:lnTo>
                    <a:pt x="1688" y="121"/>
                  </a:lnTo>
                  <a:lnTo>
                    <a:pt x="1683" y="123"/>
                  </a:lnTo>
                  <a:lnTo>
                    <a:pt x="1679" y="125"/>
                  </a:lnTo>
                  <a:lnTo>
                    <a:pt x="1673" y="127"/>
                  </a:lnTo>
                  <a:lnTo>
                    <a:pt x="1665" y="129"/>
                  </a:lnTo>
                  <a:lnTo>
                    <a:pt x="1658" y="130"/>
                  </a:lnTo>
                  <a:lnTo>
                    <a:pt x="1650" y="132"/>
                  </a:lnTo>
                  <a:lnTo>
                    <a:pt x="1640" y="134"/>
                  </a:lnTo>
                  <a:lnTo>
                    <a:pt x="1631" y="138"/>
                  </a:lnTo>
                  <a:lnTo>
                    <a:pt x="1619" y="140"/>
                  </a:lnTo>
                  <a:lnTo>
                    <a:pt x="1608" y="142"/>
                  </a:lnTo>
                  <a:lnTo>
                    <a:pt x="1596" y="144"/>
                  </a:lnTo>
                  <a:lnTo>
                    <a:pt x="1583" y="146"/>
                  </a:lnTo>
                  <a:lnTo>
                    <a:pt x="1567" y="150"/>
                  </a:lnTo>
                  <a:lnTo>
                    <a:pt x="1554" y="152"/>
                  </a:lnTo>
                  <a:lnTo>
                    <a:pt x="1538" y="154"/>
                  </a:lnTo>
                  <a:lnTo>
                    <a:pt x="1521" y="157"/>
                  </a:lnTo>
                  <a:lnTo>
                    <a:pt x="1504" y="159"/>
                  </a:lnTo>
                  <a:lnTo>
                    <a:pt x="1486" y="161"/>
                  </a:lnTo>
                  <a:lnTo>
                    <a:pt x="1467" y="165"/>
                  </a:lnTo>
                  <a:lnTo>
                    <a:pt x="1448" y="167"/>
                  </a:lnTo>
                  <a:lnTo>
                    <a:pt x="1427" y="171"/>
                  </a:lnTo>
                  <a:lnTo>
                    <a:pt x="1406" y="173"/>
                  </a:lnTo>
                  <a:lnTo>
                    <a:pt x="1385" y="177"/>
                  </a:lnTo>
                  <a:lnTo>
                    <a:pt x="1361" y="179"/>
                  </a:lnTo>
                  <a:lnTo>
                    <a:pt x="1338" y="182"/>
                  </a:lnTo>
                  <a:lnTo>
                    <a:pt x="1313" y="184"/>
                  </a:lnTo>
                  <a:lnTo>
                    <a:pt x="1288" y="188"/>
                  </a:lnTo>
                  <a:lnTo>
                    <a:pt x="1262" y="192"/>
                  </a:lnTo>
                  <a:lnTo>
                    <a:pt x="1235" y="194"/>
                  </a:lnTo>
                  <a:lnTo>
                    <a:pt x="1208" y="198"/>
                  </a:lnTo>
                  <a:lnTo>
                    <a:pt x="1152" y="204"/>
                  </a:lnTo>
                  <a:lnTo>
                    <a:pt x="1100" y="209"/>
                  </a:lnTo>
                  <a:lnTo>
                    <a:pt x="1048" y="215"/>
                  </a:lnTo>
                  <a:lnTo>
                    <a:pt x="998" y="221"/>
                  </a:lnTo>
                  <a:lnTo>
                    <a:pt x="950" y="227"/>
                  </a:lnTo>
                  <a:lnTo>
                    <a:pt x="906" y="232"/>
                  </a:lnTo>
                  <a:lnTo>
                    <a:pt x="862" y="238"/>
                  </a:lnTo>
                  <a:lnTo>
                    <a:pt x="819" y="244"/>
                  </a:lnTo>
                  <a:lnTo>
                    <a:pt x="779" y="250"/>
                  </a:lnTo>
                  <a:lnTo>
                    <a:pt x="740" y="256"/>
                  </a:lnTo>
                  <a:lnTo>
                    <a:pt x="704" y="259"/>
                  </a:lnTo>
                  <a:lnTo>
                    <a:pt x="669" y="265"/>
                  </a:lnTo>
                  <a:lnTo>
                    <a:pt x="635" y="269"/>
                  </a:lnTo>
                  <a:lnTo>
                    <a:pt x="604" y="275"/>
                  </a:lnTo>
                  <a:lnTo>
                    <a:pt x="575" y="281"/>
                  </a:lnTo>
                  <a:lnTo>
                    <a:pt x="548" y="284"/>
                  </a:lnTo>
                  <a:lnTo>
                    <a:pt x="521" y="288"/>
                  </a:lnTo>
                  <a:lnTo>
                    <a:pt x="498" y="294"/>
                  </a:lnTo>
                  <a:lnTo>
                    <a:pt x="473" y="298"/>
                  </a:lnTo>
                  <a:lnTo>
                    <a:pt x="452" y="300"/>
                  </a:lnTo>
                  <a:lnTo>
                    <a:pt x="431" y="304"/>
                  </a:lnTo>
                  <a:lnTo>
                    <a:pt x="410" y="307"/>
                  </a:lnTo>
                  <a:lnTo>
                    <a:pt x="392" y="309"/>
                  </a:lnTo>
                  <a:lnTo>
                    <a:pt x="375" y="311"/>
                  </a:lnTo>
                  <a:lnTo>
                    <a:pt x="358" y="313"/>
                  </a:lnTo>
                  <a:lnTo>
                    <a:pt x="344" y="315"/>
                  </a:lnTo>
                  <a:lnTo>
                    <a:pt x="329" y="317"/>
                  </a:lnTo>
                  <a:lnTo>
                    <a:pt x="317" y="319"/>
                  </a:lnTo>
                  <a:lnTo>
                    <a:pt x="306" y="319"/>
                  </a:lnTo>
                  <a:lnTo>
                    <a:pt x="296" y="321"/>
                  </a:lnTo>
                  <a:lnTo>
                    <a:pt x="287" y="321"/>
                  </a:lnTo>
                  <a:lnTo>
                    <a:pt x="279" y="321"/>
                  </a:lnTo>
                  <a:lnTo>
                    <a:pt x="263" y="321"/>
                  </a:lnTo>
                  <a:lnTo>
                    <a:pt x="248" y="319"/>
                  </a:lnTo>
                  <a:lnTo>
                    <a:pt x="229" y="317"/>
                  </a:lnTo>
                  <a:lnTo>
                    <a:pt x="210" y="313"/>
                  </a:lnTo>
                  <a:lnTo>
                    <a:pt x="188" y="309"/>
                  </a:lnTo>
                  <a:lnTo>
                    <a:pt x="163" y="304"/>
                  </a:lnTo>
                  <a:lnTo>
                    <a:pt x="138" y="298"/>
                  </a:lnTo>
                  <a:lnTo>
                    <a:pt x="112" y="290"/>
                  </a:lnTo>
                  <a:lnTo>
                    <a:pt x="98" y="286"/>
                  </a:lnTo>
                  <a:lnTo>
                    <a:pt x="85" y="282"/>
                  </a:lnTo>
                  <a:lnTo>
                    <a:pt x="73" y="279"/>
                  </a:lnTo>
                  <a:lnTo>
                    <a:pt x="63" y="275"/>
                  </a:lnTo>
                  <a:lnTo>
                    <a:pt x="52" y="273"/>
                  </a:lnTo>
                  <a:lnTo>
                    <a:pt x="44" y="269"/>
                  </a:lnTo>
                  <a:lnTo>
                    <a:pt x="35" y="265"/>
                  </a:lnTo>
                  <a:lnTo>
                    <a:pt x="27" y="263"/>
                  </a:lnTo>
                  <a:lnTo>
                    <a:pt x="21" y="259"/>
                  </a:lnTo>
                  <a:lnTo>
                    <a:pt x="15" y="256"/>
                  </a:lnTo>
                  <a:lnTo>
                    <a:pt x="12" y="254"/>
                  </a:lnTo>
                  <a:lnTo>
                    <a:pt x="8" y="250"/>
                  </a:lnTo>
                  <a:lnTo>
                    <a:pt x="4" y="248"/>
                  </a:lnTo>
                  <a:lnTo>
                    <a:pt x="2" y="246"/>
                  </a:lnTo>
                  <a:lnTo>
                    <a:pt x="0" y="242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0"/>
                  </a:lnTo>
                </a:path>
              </a:pathLst>
            </a:custGeom>
            <a:solidFill>
              <a:srgbClr val="ff0000"/>
            </a:solidFill>
            <a:ln w="127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1" name="组合 31"/>
          <p:cNvGrpSpPr/>
          <p:nvPr/>
        </p:nvGrpSpPr>
        <p:grpSpPr>
          <a:xfrm>
            <a:off x="4206960" y="4179600"/>
            <a:ext cx="807840" cy="409320"/>
            <a:chOff x="4206960" y="4179600"/>
            <a:chExt cx="807840" cy="409320"/>
          </a:xfrm>
        </p:grpSpPr>
        <p:sp>
          <p:nvSpPr>
            <p:cNvPr id="322" name="Freeform 27"/>
            <p:cNvSpPr/>
            <p:nvPr/>
          </p:nvSpPr>
          <p:spPr>
            <a:xfrm>
              <a:off x="4206960" y="4235760"/>
              <a:ext cx="174960" cy="353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6" h="683">
                  <a:moveTo>
                    <a:pt x="0" y="31"/>
                  </a:moveTo>
                  <a:lnTo>
                    <a:pt x="0" y="27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3" y="17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4"/>
                  </a:lnTo>
                  <a:lnTo>
                    <a:pt x="32" y="4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6" y="0"/>
                  </a:lnTo>
                  <a:lnTo>
                    <a:pt x="101" y="2"/>
                  </a:lnTo>
                  <a:lnTo>
                    <a:pt x="117" y="2"/>
                  </a:lnTo>
                  <a:lnTo>
                    <a:pt x="132" y="4"/>
                  </a:lnTo>
                  <a:lnTo>
                    <a:pt x="146" y="8"/>
                  </a:lnTo>
                  <a:lnTo>
                    <a:pt x="161" y="11"/>
                  </a:lnTo>
                  <a:lnTo>
                    <a:pt x="173" y="15"/>
                  </a:lnTo>
                  <a:lnTo>
                    <a:pt x="186" y="19"/>
                  </a:lnTo>
                  <a:lnTo>
                    <a:pt x="192" y="23"/>
                  </a:lnTo>
                  <a:lnTo>
                    <a:pt x="198" y="27"/>
                  </a:lnTo>
                  <a:lnTo>
                    <a:pt x="205" y="33"/>
                  </a:lnTo>
                  <a:lnTo>
                    <a:pt x="211" y="42"/>
                  </a:lnTo>
                  <a:lnTo>
                    <a:pt x="217" y="52"/>
                  </a:lnTo>
                  <a:lnTo>
                    <a:pt x="223" y="63"/>
                  </a:lnTo>
                  <a:lnTo>
                    <a:pt x="230" y="75"/>
                  </a:lnTo>
                  <a:lnTo>
                    <a:pt x="236" y="90"/>
                  </a:lnTo>
                  <a:lnTo>
                    <a:pt x="242" y="108"/>
                  </a:lnTo>
                  <a:lnTo>
                    <a:pt x="250" y="125"/>
                  </a:lnTo>
                  <a:lnTo>
                    <a:pt x="255" y="144"/>
                  </a:lnTo>
                  <a:lnTo>
                    <a:pt x="261" y="165"/>
                  </a:lnTo>
                  <a:lnTo>
                    <a:pt x="267" y="188"/>
                  </a:lnTo>
                  <a:lnTo>
                    <a:pt x="275" y="213"/>
                  </a:lnTo>
                  <a:lnTo>
                    <a:pt x="280" y="240"/>
                  </a:lnTo>
                  <a:lnTo>
                    <a:pt x="286" y="267"/>
                  </a:lnTo>
                  <a:lnTo>
                    <a:pt x="292" y="296"/>
                  </a:lnTo>
                  <a:lnTo>
                    <a:pt x="298" y="323"/>
                  </a:lnTo>
                  <a:lnTo>
                    <a:pt x="303" y="348"/>
                  </a:lnTo>
                  <a:lnTo>
                    <a:pt x="307" y="373"/>
                  </a:lnTo>
                  <a:lnTo>
                    <a:pt x="313" y="396"/>
                  </a:lnTo>
                  <a:lnTo>
                    <a:pt x="317" y="419"/>
                  </a:lnTo>
                  <a:lnTo>
                    <a:pt x="321" y="440"/>
                  </a:lnTo>
                  <a:lnTo>
                    <a:pt x="323" y="462"/>
                  </a:lnTo>
                  <a:lnTo>
                    <a:pt x="326" y="479"/>
                  </a:lnTo>
                  <a:lnTo>
                    <a:pt x="328" y="498"/>
                  </a:lnTo>
                  <a:lnTo>
                    <a:pt x="330" y="514"/>
                  </a:lnTo>
                  <a:lnTo>
                    <a:pt x="332" y="529"/>
                  </a:lnTo>
                  <a:lnTo>
                    <a:pt x="334" y="544"/>
                  </a:lnTo>
                  <a:lnTo>
                    <a:pt x="336" y="556"/>
                  </a:lnTo>
                  <a:lnTo>
                    <a:pt x="336" y="567"/>
                  </a:lnTo>
                  <a:lnTo>
                    <a:pt x="336" y="579"/>
                  </a:lnTo>
                  <a:lnTo>
                    <a:pt x="336" y="598"/>
                  </a:lnTo>
                  <a:lnTo>
                    <a:pt x="334" y="616"/>
                  </a:lnTo>
                  <a:lnTo>
                    <a:pt x="334" y="623"/>
                  </a:lnTo>
                  <a:lnTo>
                    <a:pt x="334" y="631"/>
                  </a:lnTo>
                  <a:lnTo>
                    <a:pt x="332" y="639"/>
                  </a:lnTo>
                  <a:lnTo>
                    <a:pt x="332" y="644"/>
                  </a:lnTo>
                  <a:lnTo>
                    <a:pt x="330" y="650"/>
                  </a:lnTo>
                  <a:lnTo>
                    <a:pt x="328" y="656"/>
                  </a:lnTo>
                  <a:lnTo>
                    <a:pt x="326" y="662"/>
                  </a:lnTo>
                  <a:lnTo>
                    <a:pt x="326" y="666"/>
                  </a:lnTo>
                  <a:lnTo>
                    <a:pt x="325" y="669"/>
                  </a:lnTo>
                  <a:lnTo>
                    <a:pt x="321" y="673"/>
                  </a:lnTo>
                  <a:lnTo>
                    <a:pt x="319" y="677"/>
                  </a:lnTo>
                  <a:lnTo>
                    <a:pt x="317" y="679"/>
                  </a:lnTo>
                  <a:lnTo>
                    <a:pt x="315" y="681"/>
                  </a:lnTo>
                  <a:lnTo>
                    <a:pt x="311" y="683"/>
                  </a:lnTo>
                  <a:lnTo>
                    <a:pt x="309" y="683"/>
                  </a:lnTo>
                  <a:lnTo>
                    <a:pt x="305" y="683"/>
                  </a:lnTo>
                  <a:lnTo>
                    <a:pt x="303" y="681"/>
                  </a:lnTo>
                  <a:lnTo>
                    <a:pt x="300" y="679"/>
                  </a:lnTo>
                  <a:lnTo>
                    <a:pt x="296" y="677"/>
                  </a:lnTo>
                  <a:lnTo>
                    <a:pt x="292" y="673"/>
                  </a:lnTo>
                  <a:lnTo>
                    <a:pt x="286" y="669"/>
                  </a:lnTo>
                  <a:lnTo>
                    <a:pt x="282" y="664"/>
                  </a:lnTo>
                  <a:lnTo>
                    <a:pt x="276" y="658"/>
                  </a:lnTo>
                  <a:lnTo>
                    <a:pt x="273" y="652"/>
                  </a:lnTo>
                  <a:lnTo>
                    <a:pt x="267" y="644"/>
                  </a:lnTo>
                  <a:lnTo>
                    <a:pt x="261" y="637"/>
                  </a:lnTo>
                  <a:lnTo>
                    <a:pt x="255" y="627"/>
                  </a:lnTo>
                  <a:lnTo>
                    <a:pt x="250" y="617"/>
                  </a:lnTo>
                  <a:lnTo>
                    <a:pt x="244" y="608"/>
                  </a:lnTo>
                  <a:lnTo>
                    <a:pt x="236" y="596"/>
                  </a:lnTo>
                  <a:lnTo>
                    <a:pt x="230" y="583"/>
                  </a:lnTo>
                  <a:lnTo>
                    <a:pt x="225" y="571"/>
                  </a:lnTo>
                  <a:lnTo>
                    <a:pt x="219" y="558"/>
                  </a:lnTo>
                  <a:lnTo>
                    <a:pt x="213" y="542"/>
                  </a:lnTo>
                  <a:lnTo>
                    <a:pt x="205" y="527"/>
                  </a:lnTo>
                  <a:lnTo>
                    <a:pt x="200" y="512"/>
                  </a:lnTo>
                  <a:lnTo>
                    <a:pt x="194" y="494"/>
                  </a:lnTo>
                  <a:lnTo>
                    <a:pt x="188" y="477"/>
                  </a:lnTo>
                  <a:lnTo>
                    <a:pt x="182" y="458"/>
                  </a:lnTo>
                  <a:lnTo>
                    <a:pt x="176" y="439"/>
                  </a:lnTo>
                  <a:lnTo>
                    <a:pt x="173" y="419"/>
                  </a:lnTo>
                  <a:lnTo>
                    <a:pt x="167" y="400"/>
                  </a:lnTo>
                  <a:lnTo>
                    <a:pt x="161" y="377"/>
                  </a:lnTo>
                  <a:lnTo>
                    <a:pt x="155" y="356"/>
                  </a:lnTo>
                  <a:lnTo>
                    <a:pt x="150" y="333"/>
                  </a:lnTo>
                  <a:lnTo>
                    <a:pt x="144" y="312"/>
                  </a:lnTo>
                  <a:lnTo>
                    <a:pt x="138" y="292"/>
                  </a:lnTo>
                  <a:lnTo>
                    <a:pt x="132" y="273"/>
                  </a:lnTo>
                  <a:lnTo>
                    <a:pt x="126" y="254"/>
                  </a:lnTo>
                  <a:lnTo>
                    <a:pt x="121" y="237"/>
                  </a:lnTo>
                  <a:lnTo>
                    <a:pt x="115" y="221"/>
                  </a:lnTo>
                  <a:lnTo>
                    <a:pt x="109" y="206"/>
                  </a:lnTo>
                  <a:lnTo>
                    <a:pt x="103" y="192"/>
                  </a:lnTo>
                  <a:lnTo>
                    <a:pt x="96" y="179"/>
                  </a:lnTo>
                  <a:lnTo>
                    <a:pt x="90" y="165"/>
                  </a:lnTo>
                  <a:lnTo>
                    <a:pt x="82" y="154"/>
                  </a:lnTo>
                  <a:lnTo>
                    <a:pt x="76" y="144"/>
                  </a:lnTo>
                  <a:lnTo>
                    <a:pt x="69" y="135"/>
                  </a:lnTo>
                  <a:lnTo>
                    <a:pt x="63" y="127"/>
                  </a:lnTo>
                  <a:lnTo>
                    <a:pt x="55" y="119"/>
                  </a:lnTo>
                  <a:lnTo>
                    <a:pt x="42" y="106"/>
                  </a:lnTo>
                  <a:lnTo>
                    <a:pt x="30" y="92"/>
                  </a:lnTo>
                  <a:lnTo>
                    <a:pt x="21" y="81"/>
                  </a:lnTo>
                  <a:lnTo>
                    <a:pt x="13" y="69"/>
                  </a:lnTo>
                  <a:lnTo>
                    <a:pt x="7" y="58"/>
                  </a:lnTo>
                  <a:lnTo>
                    <a:pt x="3" y="4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chemeClr val="accent2"/>
            </a:solidFill>
            <a:ln w="1270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3" name="Freeform 28"/>
            <p:cNvSpPr/>
            <p:nvPr/>
          </p:nvSpPr>
          <p:spPr>
            <a:xfrm>
              <a:off x="4272480" y="4179600"/>
              <a:ext cx="742320" cy="29520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432" h="570">
                  <a:moveTo>
                    <a:pt x="1038" y="21"/>
                  </a:moveTo>
                  <a:lnTo>
                    <a:pt x="1049" y="16"/>
                  </a:lnTo>
                  <a:lnTo>
                    <a:pt x="1061" y="10"/>
                  </a:lnTo>
                  <a:lnTo>
                    <a:pt x="1073" y="6"/>
                  </a:lnTo>
                  <a:lnTo>
                    <a:pt x="1086" y="4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24" y="2"/>
                  </a:lnTo>
                  <a:lnTo>
                    <a:pt x="1138" y="2"/>
                  </a:lnTo>
                  <a:lnTo>
                    <a:pt x="1146" y="4"/>
                  </a:lnTo>
                  <a:lnTo>
                    <a:pt x="1153" y="4"/>
                  </a:lnTo>
                  <a:lnTo>
                    <a:pt x="1161" y="8"/>
                  </a:lnTo>
                  <a:lnTo>
                    <a:pt x="1171" y="10"/>
                  </a:lnTo>
                  <a:lnTo>
                    <a:pt x="1180" y="14"/>
                  </a:lnTo>
                  <a:lnTo>
                    <a:pt x="1190" y="17"/>
                  </a:lnTo>
                  <a:lnTo>
                    <a:pt x="1199" y="21"/>
                  </a:lnTo>
                  <a:lnTo>
                    <a:pt x="1211" y="27"/>
                  </a:lnTo>
                  <a:lnTo>
                    <a:pt x="1221" y="33"/>
                  </a:lnTo>
                  <a:lnTo>
                    <a:pt x="1232" y="39"/>
                  </a:lnTo>
                  <a:lnTo>
                    <a:pt x="1246" y="46"/>
                  </a:lnTo>
                  <a:lnTo>
                    <a:pt x="1257" y="52"/>
                  </a:lnTo>
                  <a:lnTo>
                    <a:pt x="1271" y="62"/>
                  </a:lnTo>
                  <a:lnTo>
                    <a:pt x="1284" y="69"/>
                  </a:lnTo>
                  <a:lnTo>
                    <a:pt x="1298" y="79"/>
                  </a:lnTo>
                  <a:lnTo>
                    <a:pt x="1313" y="89"/>
                  </a:lnTo>
                  <a:lnTo>
                    <a:pt x="1326" y="98"/>
                  </a:lnTo>
                  <a:lnTo>
                    <a:pt x="1340" y="108"/>
                  </a:lnTo>
                  <a:lnTo>
                    <a:pt x="1353" y="118"/>
                  </a:lnTo>
                  <a:lnTo>
                    <a:pt x="1365" y="127"/>
                  </a:lnTo>
                  <a:lnTo>
                    <a:pt x="1376" y="137"/>
                  </a:lnTo>
                  <a:lnTo>
                    <a:pt x="1386" y="144"/>
                  </a:lnTo>
                  <a:lnTo>
                    <a:pt x="1394" y="152"/>
                  </a:lnTo>
                  <a:lnTo>
                    <a:pt x="1401" y="160"/>
                  </a:lnTo>
                  <a:lnTo>
                    <a:pt x="1409" y="168"/>
                  </a:lnTo>
                  <a:lnTo>
                    <a:pt x="1415" y="173"/>
                  </a:lnTo>
                  <a:lnTo>
                    <a:pt x="1421" y="181"/>
                  </a:lnTo>
                  <a:lnTo>
                    <a:pt x="1424" y="187"/>
                  </a:lnTo>
                  <a:lnTo>
                    <a:pt x="1428" y="193"/>
                  </a:lnTo>
                  <a:lnTo>
                    <a:pt x="1430" y="198"/>
                  </a:lnTo>
                  <a:lnTo>
                    <a:pt x="1432" y="204"/>
                  </a:lnTo>
                  <a:lnTo>
                    <a:pt x="1432" y="208"/>
                  </a:lnTo>
                  <a:lnTo>
                    <a:pt x="1432" y="212"/>
                  </a:lnTo>
                  <a:lnTo>
                    <a:pt x="1430" y="218"/>
                  </a:lnTo>
                  <a:lnTo>
                    <a:pt x="1430" y="221"/>
                  </a:lnTo>
                  <a:lnTo>
                    <a:pt x="1428" y="225"/>
                  </a:lnTo>
                  <a:lnTo>
                    <a:pt x="1424" y="229"/>
                  </a:lnTo>
                  <a:lnTo>
                    <a:pt x="1423" y="231"/>
                  </a:lnTo>
                  <a:lnTo>
                    <a:pt x="1419" y="235"/>
                  </a:lnTo>
                  <a:lnTo>
                    <a:pt x="1413" y="237"/>
                  </a:lnTo>
                  <a:lnTo>
                    <a:pt x="1409" y="241"/>
                  </a:lnTo>
                  <a:lnTo>
                    <a:pt x="1403" y="243"/>
                  </a:lnTo>
                  <a:lnTo>
                    <a:pt x="1398" y="245"/>
                  </a:lnTo>
                  <a:lnTo>
                    <a:pt x="1390" y="246"/>
                  </a:lnTo>
                  <a:lnTo>
                    <a:pt x="1382" y="248"/>
                  </a:lnTo>
                  <a:lnTo>
                    <a:pt x="1374" y="250"/>
                  </a:lnTo>
                  <a:lnTo>
                    <a:pt x="1367" y="250"/>
                  </a:lnTo>
                  <a:lnTo>
                    <a:pt x="1357" y="252"/>
                  </a:lnTo>
                  <a:lnTo>
                    <a:pt x="1351" y="252"/>
                  </a:lnTo>
                  <a:lnTo>
                    <a:pt x="1348" y="254"/>
                  </a:lnTo>
                  <a:lnTo>
                    <a:pt x="1342" y="256"/>
                  </a:lnTo>
                  <a:lnTo>
                    <a:pt x="1336" y="258"/>
                  </a:lnTo>
                  <a:lnTo>
                    <a:pt x="1330" y="262"/>
                  </a:lnTo>
                  <a:lnTo>
                    <a:pt x="1323" y="266"/>
                  </a:lnTo>
                  <a:lnTo>
                    <a:pt x="1317" y="270"/>
                  </a:lnTo>
                  <a:lnTo>
                    <a:pt x="1309" y="273"/>
                  </a:lnTo>
                  <a:lnTo>
                    <a:pt x="1301" y="279"/>
                  </a:lnTo>
                  <a:lnTo>
                    <a:pt x="1294" y="285"/>
                  </a:lnTo>
                  <a:lnTo>
                    <a:pt x="1286" y="293"/>
                  </a:lnTo>
                  <a:lnTo>
                    <a:pt x="1276" y="300"/>
                  </a:lnTo>
                  <a:lnTo>
                    <a:pt x="1267" y="308"/>
                  </a:lnTo>
                  <a:lnTo>
                    <a:pt x="1259" y="316"/>
                  </a:lnTo>
                  <a:lnTo>
                    <a:pt x="1249" y="325"/>
                  </a:lnTo>
                  <a:lnTo>
                    <a:pt x="1238" y="335"/>
                  </a:lnTo>
                  <a:lnTo>
                    <a:pt x="1228" y="345"/>
                  </a:lnTo>
                  <a:lnTo>
                    <a:pt x="1217" y="356"/>
                  </a:lnTo>
                  <a:lnTo>
                    <a:pt x="1207" y="368"/>
                  </a:lnTo>
                  <a:lnTo>
                    <a:pt x="1196" y="379"/>
                  </a:lnTo>
                  <a:lnTo>
                    <a:pt x="1184" y="391"/>
                  </a:lnTo>
                  <a:lnTo>
                    <a:pt x="1173" y="404"/>
                  </a:lnTo>
                  <a:lnTo>
                    <a:pt x="1159" y="418"/>
                  </a:lnTo>
                  <a:lnTo>
                    <a:pt x="1146" y="433"/>
                  </a:lnTo>
                  <a:lnTo>
                    <a:pt x="1134" y="448"/>
                  </a:lnTo>
                  <a:lnTo>
                    <a:pt x="1121" y="464"/>
                  </a:lnTo>
                  <a:lnTo>
                    <a:pt x="1107" y="479"/>
                  </a:lnTo>
                  <a:lnTo>
                    <a:pt x="1092" y="497"/>
                  </a:lnTo>
                  <a:lnTo>
                    <a:pt x="1078" y="514"/>
                  </a:lnTo>
                  <a:lnTo>
                    <a:pt x="1063" y="531"/>
                  </a:lnTo>
                  <a:lnTo>
                    <a:pt x="1048" y="550"/>
                  </a:lnTo>
                  <a:lnTo>
                    <a:pt x="1032" y="570"/>
                  </a:lnTo>
                  <a:lnTo>
                    <a:pt x="932" y="570"/>
                  </a:lnTo>
                  <a:lnTo>
                    <a:pt x="940" y="547"/>
                  </a:lnTo>
                  <a:lnTo>
                    <a:pt x="948" y="525"/>
                  </a:lnTo>
                  <a:lnTo>
                    <a:pt x="955" y="504"/>
                  </a:lnTo>
                  <a:lnTo>
                    <a:pt x="961" y="485"/>
                  </a:lnTo>
                  <a:lnTo>
                    <a:pt x="969" y="466"/>
                  </a:lnTo>
                  <a:lnTo>
                    <a:pt x="975" y="447"/>
                  </a:lnTo>
                  <a:lnTo>
                    <a:pt x="980" y="427"/>
                  </a:lnTo>
                  <a:lnTo>
                    <a:pt x="986" y="410"/>
                  </a:lnTo>
                  <a:lnTo>
                    <a:pt x="992" y="393"/>
                  </a:lnTo>
                  <a:lnTo>
                    <a:pt x="996" y="377"/>
                  </a:lnTo>
                  <a:lnTo>
                    <a:pt x="1001" y="360"/>
                  </a:lnTo>
                  <a:lnTo>
                    <a:pt x="1005" y="345"/>
                  </a:lnTo>
                  <a:lnTo>
                    <a:pt x="1009" y="331"/>
                  </a:lnTo>
                  <a:lnTo>
                    <a:pt x="1013" y="318"/>
                  </a:lnTo>
                  <a:lnTo>
                    <a:pt x="1017" y="304"/>
                  </a:lnTo>
                  <a:lnTo>
                    <a:pt x="1019" y="291"/>
                  </a:lnTo>
                  <a:lnTo>
                    <a:pt x="1023" y="279"/>
                  </a:lnTo>
                  <a:lnTo>
                    <a:pt x="1025" y="268"/>
                  </a:lnTo>
                  <a:lnTo>
                    <a:pt x="1026" y="258"/>
                  </a:lnTo>
                  <a:lnTo>
                    <a:pt x="1028" y="246"/>
                  </a:lnTo>
                  <a:lnTo>
                    <a:pt x="1030" y="239"/>
                  </a:lnTo>
                  <a:lnTo>
                    <a:pt x="1030" y="229"/>
                  </a:lnTo>
                  <a:lnTo>
                    <a:pt x="1032" y="221"/>
                  </a:lnTo>
                  <a:lnTo>
                    <a:pt x="1032" y="214"/>
                  </a:lnTo>
                  <a:lnTo>
                    <a:pt x="1032" y="206"/>
                  </a:lnTo>
                  <a:lnTo>
                    <a:pt x="1032" y="200"/>
                  </a:lnTo>
                  <a:lnTo>
                    <a:pt x="1032" y="194"/>
                  </a:lnTo>
                  <a:lnTo>
                    <a:pt x="1032" y="191"/>
                  </a:lnTo>
                  <a:lnTo>
                    <a:pt x="1030" y="187"/>
                  </a:lnTo>
                  <a:lnTo>
                    <a:pt x="1030" y="183"/>
                  </a:lnTo>
                  <a:lnTo>
                    <a:pt x="1028" y="179"/>
                  </a:lnTo>
                  <a:lnTo>
                    <a:pt x="1026" y="177"/>
                  </a:lnTo>
                  <a:lnTo>
                    <a:pt x="1025" y="175"/>
                  </a:lnTo>
                  <a:lnTo>
                    <a:pt x="1019" y="173"/>
                  </a:lnTo>
                  <a:lnTo>
                    <a:pt x="1013" y="173"/>
                  </a:lnTo>
                  <a:lnTo>
                    <a:pt x="1003" y="171"/>
                  </a:lnTo>
                  <a:lnTo>
                    <a:pt x="994" y="171"/>
                  </a:lnTo>
                  <a:lnTo>
                    <a:pt x="980" y="169"/>
                  </a:lnTo>
                  <a:lnTo>
                    <a:pt x="967" y="169"/>
                  </a:lnTo>
                  <a:lnTo>
                    <a:pt x="950" y="169"/>
                  </a:lnTo>
                  <a:lnTo>
                    <a:pt x="932" y="169"/>
                  </a:lnTo>
                  <a:lnTo>
                    <a:pt x="913" y="169"/>
                  </a:lnTo>
                  <a:lnTo>
                    <a:pt x="890" y="171"/>
                  </a:lnTo>
                  <a:lnTo>
                    <a:pt x="867" y="171"/>
                  </a:lnTo>
                  <a:lnTo>
                    <a:pt x="842" y="173"/>
                  </a:lnTo>
                  <a:lnTo>
                    <a:pt x="815" y="175"/>
                  </a:lnTo>
                  <a:lnTo>
                    <a:pt x="784" y="177"/>
                  </a:lnTo>
                  <a:lnTo>
                    <a:pt x="753" y="179"/>
                  </a:lnTo>
                  <a:lnTo>
                    <a:pt x="721" y="181"/>
                  </a:lnTo>
                  <a:lnTo>
                    <a:pt x="686" y="183"/>
                  </a:lnTo>
                  <a:lnTo>
                    <a:pt x="650" y="187"/>
                  </a:lnTo>
                  <a:lnTo>
                    <a:pt x="611" y="189"/>
                  </a:lnTo>
                  <a:lnTo>
                    <a:pt x="571" y="193"/>
                  </a:lnTo>
                  <a:lnTo>
                    <a:pt x="528" y="196"/>
                  </a:lnTo>
                  <a:lnTo>
                    <a:pt x="482" y="200"/>
                  </a:lnTo>
                  <a:lnTo>
                    <a:pt x="436" y="204"/>
                  </a:lnTo>
                  <a:lnTo>
                    <a:pt x="388" y="208"/>
                  </a:lnTo>
                  <a:lnTo>
                    <a:pt x="338" y="212"/>
                  </a:lnTo>
                  <a:lnTo>
                    <a:pt x="288" y="218"/>
                  </a:lnTo>
                  <a:lnTo>
                    <a:pt x="234" y="221"/>
                  </a:lnTo>
                  <a:lnTo>
                    <a:pt x="178" y="227"/>
                  </a:lnTo>
                  <a:lnTo>
                    <a:pt x="121" y="233"/>
                  </a:lnTo>
                  <a:lnTo>
                    <a:pt x="61" y="239"/>
                  </a:lnTo>
                  <a:lnTo>
                    <a:pt x="0" y="245"/>
                  </a:lnTo>
                  <a:lnTo>
                    <a:pt x="0" y="146"/>
                  </a:lnTo>
                  <a:lnTo>
                    <a:pt x="9" y="146"/>
                  </a:lnTo>
                  <a:lnTo>
                    <a:pt x="21" y="146"/>
                  </a:lnTo>
                  <a:lnTo>
                    <a:pt x="32" y="146"/>
                  </a:lnTo>
                  <a:lnTo>
                    <a:pt x="44" y="146"/>
                  </a:lnTo>
                  <a:lnTo>
                    <a:pt x="55" y="144"/>
                  </a:lnTo>
                  <a:lnTo>
                    <a:pt x="69" y="144"/>
                  </a:lnTo>
                  <a:lnTo>
                    <a:pt x="82" y="144"/>
                  </a:lnTo>
                  <a:lnTo>
                    <a:pt x="96" y="143"/>
                  </a:lnTo>
                  <a:lnTo>
                    <a:pt x="111" y="143"/>
                  </a:lnTo>
                  <a:lnTo>
                    <a:pt x="125" y="141"/>
                  </a:lnTo>
                  <a:lnTo>
                    <a:pt x="140" y="141"/>
                  </a:lnTo>
                  <a:lnTo>
                    <a:pt x="157" y="139"/>
                  </a:lnTo>
                  <a:lnTo>
                    <a:pt x="173" y="139"/>
                  </a:lnTo>
                  <a:lnTo>
                    <a:pt x="190" y="137"/>
                  </a:lnTo>
                  <a:lnTo>
                    <a:pt x="207" y="135"/>
                  </a:lnTo>
                  <a:lnTo>
                    <a:pt x="225" y="133"/>
                  </a:lnTo>
                  <a:lnTo>
                    <a:pt x="244" y="133"/>
                  </a:lnTo>
                  <a:lnTo>
                    <a:pt x="261" y="131"/>
                  </a:lnTo>
                  <a:lnTo>
                    <a:pt x="282" y="129"/>
                  </a:lnTo>
                  <a:lnTo>
                    <a:pt x="301" y="127"/>
                  </a:lnTo>
                  <a:lnTo>
                    <a:pt x="321" y="125"/>
                  </a:lnTo>
                  <a:lnTo>
                    <a:pt x="342" y="123"/>
                  </a:lnTo>
                  <a:lnTo>
                    <a:pt x="363" y="119"/>
                  </a:lnTo>
                  <a:lnTo>
                    <a:pt x="386" y="118"/>
                  </a:lnTo>
                  <a:lnTo>
                    <a:pt x="407" y="116"/>
                  </a:lnTo>
                  <a:lnTo>
                    <a:pt x="430" y="114"/>
                  </a:lnTo>
                  <a:lnTo>
                    <a:pt x="453" y="110"/>
                  </a:lnTo>
                  <a:lnTo>
                    <a:pt x="478" y="108"/>
                  </a:lnTo>
                  <a:lnTo>
                    <a:pt x="501" y="106"/>
                  </a:lnTo>
                  <a:lnTo>
                    <a:pt x="526" y="102"/>
                  </a:lnTo>
                  <a:lnTo>
                    <a:pt x="553" y="100"/>
                  </a:lnTo>
                  <a:lnTo>
                    <a:pt x="578" y="96"/>
                  </a:lnTo>
                  <a:lnTo>
                    <a:pt x="603" y="93"/>
                  </a:lnTo>
                  <a:lnTo>
                    <a:pt x="628" y="91"/>
                  </a:lnTo>
                  <a:lnTo>
                    <a:pt x="653" y="87"/>
                  </a:lnTo>
                  <a:lnTo>
                    <a:pt x="676" y="85"/>
                  </a:lnTo>
                  <a:lnTo>
                    <a:pt x="700" y="81"/>
                  </a:lnTo>
                  <a:lnTo>
                    <a:pt x="723" y="77"/>
                  </a:lnTo>
                  <a:lnTo>
                    <a:pt x="744" y="75"/>
                  </a:lnTo>
                  <a:lnTo>
                    <a:pt x="763" y="71"/>
                  </a:lnTo>
                  <a:lnTo>
                    <a:pt x="784" y="69"/>
                  </a:lnTo>
                  <a:lnTo>
                    <a:pt x="803" y="68"/>
                  </a:lnTo>
                  <a:lnTo>
                    <a:pt x="821" y="64"/>
                  </a:lnTo>
                  <a:lnTo>
                    <a:pt x="838" y="62"/>
                  </a:lnTo>
                  <a:lnTo>
                    <a:pt x="855" y="60"/>
                  </a:lnTo>
                  <a:lnTo>
                    <a:pt x="873" y="56"/>
                  </a:lnTo>
                  <a:lnTo>
                    <a:pt x="888" y="54"/>
                  </a:lnTo>
                  <a:lnTo>
                    <a:pt x="901" y="52"/>
                  </a:lnTo>
                  <a:lnTo>
                    <a:pt x="917" y="50"/>
                  </a:lnTo>
                  <a:lnTo>
                    <a:pt x="928" y="46"/>
                  </a:lnTo>
                  <a:lnTo>
                    <a:pt x="942" y="44"/>
                  </a:lnTo>
                  <a:lnTo>
                    <a:pt x="953" y="43"/>
                  </a:lnTo>
                  <a:lnTo>
                    <a:pt x="965" y="41"/>
                  </a:lnTo>
                  <a:lnTo>
                    <a:pt x="975" y="39"/>
                  </a:lnTo>
                  <a:lnTo>
                    <a:pt x="984" y="37"/>
                  </a:lnTo>
                  <a:lnTo>
                    <a:pt x="994" y="35"/>
                  </a:lnTo>
                  <a:lnTo>
                    <a:pt x="1001" y="33"/>
                  </a:lnTo>
                  <a:lnTo>
                    <a:pt x="1009" y="31"/>
                  </a:lnTo>
                  <a:lnTo>
                    <a:pt x="1015" y="29"/>
                  </a:lnTo>
                  <a:lnTo>
                    <a:pt x="1021" y="27"/>
                  </a:lnTo>
                  <a:lnTo>
                    <a:pt x="1026" y="25"/>
                  </a:lnTo>
                  <a:lnTo>
                    <a:pt x="1030" y="25"/>
                  </a:lnTo>
                  <a:lnTo>
                    <a:pt x="1034" y="23"/>
                  </a:lnTo>
                  <a:lnTo>
                    <a:pt x="1038" y="21"/>
                  </a:lnTo>
                  <a:lnTo>
                    <a:pt x="1038" y="21"/>
                  </a:lnTo>
                  <a:lnTo>
                    <a:pt x="1038" y="21"/>
                  </a:lnTo>
                </a:path>
              </a:pathLst>
            </a:custGeom>
            <a:solidFill>
              <a:schemeClr val="accent2"/>
            </a:solidFill>
            <a:ln w="1270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4" name="Freeform 29"/>
            <p:cNvSpPr/>
            <p:nvPr/>
          </p:nvSpPr>
          <p:spPr>
            <a:xfrm>
              <a:off x="4342680" y="4442040"/>
              <a:ext cx="548280" cy="8460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58" h="164">
                  <a:moveTo>
                    <a:pt x="1058" y="106"/>
                  </a:moveTo>
                  <a:lnTo>
                    <a:pt x="1058" y="114"/>
                  </a:lnTo>
                  <a:lnTo>
                    <a:pt x="1056" y="119"/>
                  </a:lnTo>
                  <a:lnTo>
                    <a:pt x="1052" y="125"/>
                  </a:lnTo>
                  <a:lnTo>
                    <a:pt x="1046" y="131"/>
                  </a:lnTo>
                  <a:lnTo>
                    <a:pt x="1038" y="135"/>
                  </a:lnTo>
                  <a:lnTo>
                    <a:pt x="1031" y="137"/>
                  </a:lnTo>
                  <a:lnTo>
                    <a:pt x="1021" y="139"/>
                  </a:lnTo>
                  <a:lnTo>
                    <a:pt x="1010" y="139"/>
                  </a:lnTo>
                  <a:lnTo>
                    <a:pt x="1006" y="139"/>
                  </a:lnTo>
                  <a:lnTo>
                    <a:pt x="1000" y="139"/>
                  </a:lnTo>
                  <a:lnTo>
                    <a:pt x="992" y="139"/>
                  </a:lnTo>
                  <a:lnTo>
                    <a:pt x="983" y="139"/>
                  </a:lnTo>
                  <a:lnTo>
                    <a:pt x="971" y="139"/>
                  </a:lnTo>
                  <a:lnTo>
                    <a:pt x="958" y="139"/>
                  </a:lnTo>
                  <a:lnTo>
                    <a:pt x="944" y="141"/>
                  </a:lnTo>
                  <a:lnTo>
                    <a:pt x="927" y="141"/>
                  </a:lnTo>
                  <a:lnTo>
                    <a:pt x="910" y="141"/>
                  </a:lnTo>
                  <a:lnTo>
                    <a:pt x="889" y="141"/>
                  </a:lnTo>
                  <a:lnTo>
                    <a:pt x="867" y="141"/>
                  </a:lnTo>
                  <a:lnTo>
                    <a:pt x="844" y="143"/>
                  </a:lnTo>
                  <a:lnTo>
                    <a:pt x="817" y="143"/>
                  </a:lnTo>
                  <a:lnTo>
                    <a:pt x="790" y="143"/>
                  </a:lnTo>
                  <a:lnTo>
                    <a:pt x="762" y="144"/>
                  </a:lnTo>
                  <a:lnTo>
                    <a:pt x="731" y="144"/>
                  </a:lnTo>
                  <a:lnTo>
                    <a:pt x="698" y="146"/>
                  </a:lnTo>
                  <a:lnTo>
                    <a:pt x="665" y="146"/>
                  </a:lnTo>
                  <a:lnTo>
                    <a:pt x="629" y="146"/>
                  </a:lnTo>
                  <a:lnTo>
                    <a:pt x="590" y="148"/>
                  </a:lnTo>
                  <a:lnTo>
                    <a:pt x="552" y="148"/>
                  </a:lnTo>
                  <a:lnTo>
                    <a:pt x="510" y="150"/>
                  </a:lnTo>
                  <a:lnTo>
                    <a:pt x="467" y="152"/>
                  </a:lnTo>
                  <a:lnTo>
                    <a:pt x="423" y="152"/>
                  </a:lnTo>
                  <a:lnTo>
                    <a:pt x="375" y="154"/>
                  </a:lnTo>
                  <a:lnTo>
                    <a:pt x="327" y="154"/>
                  </a:lnTo>
                  <a:lnTo>
                    <a:pt x="277" y="156"/>
                  </a:lnTo>
                  <a:lnTo>
                    <a:pt x="225" y="158"/>
                  </a:lnTo>
                  <a:lnTo>
                    <a:pt x="171" y="160"/>
                  </a:lnTo>
                  <a:lnTo>
                    <a:pt x="115" y="160"/>
                  </a:lnTo>
                  <a:lnTo>
                    <a:pt x="60" y="162"/>
                  </a:lnTo>
                  <a:lnTo>
                    <a:pt x="0" y="164"/>
                  </a:lnTo>
                  <a:lnTo>
                    <a:pt x="0" y="64"/>
                  </a:lnTo>
                  <a:lnTo>
                    <a:pt x="42" y="62"/>
                  </a:lnTo>
                  <a:lnTo>
                    <a:pt x="83" y="60"/>
                  </a:lnTo>
                  <a:lnTo>
                    <a:pt x="123" y="58"/>
                  </a:lnTo>
                  <a:lnTo>
                    <a:pt x="164" y="56"/>
                  </a:lnTo>
                  <a:lnTo>
                    <a:pt x="204" y="54"/>
                  </a:lnTo>
                  <a:lnTo>
                    <a:pt x="242" y="52"/>
                  </a:lnTo>
                  <a:lnTo>
                    <a:pt x="281" y="50"/>
                  </a:lnTo>
                  <a:lnTo>
                    <a:pt x="317" y="48"/>
                  </a:lnTo>
                  <a:lnTo>
                    <a:pt x="356" y="44"/>
                  </a:lnTo>
                  <a:lnTo>
                    <a:pt x="390" y="42"/>
                  </a:lnTo>
                  <a:lnTo>
                    <a:pt x="427" y="41"/>
                  </a:lnTo>
                  <a:lnTo>
                    <a:pt x="462" y="37"/>
                  </a:lnTo>
                  <a:lnTo>
                    <a:pt x="498" y="35"/>
                  </a:lnTo>
                  <a:lnTo>
                    <a:pt x="531" y="31"/>
                  </a:lnTo>
                  <a:lnTo>
                    <a:pt x="565" y="29"/>
                  </a:lnTo>
                  <a:lnTo>
                    <a:pt x="598" y="25"/>
                  </a:lnTo>
                  <a:lnTo>
                    <a:pt x="631" y="23"/>
                  </a:lnTo>
                  <a:lnTo>
                    <a:pt x="660" y="19"/>
                  </a:lnTo>
                  <a:lnTo>
                    <a:pt x="689" y="17"/>
                  </a:lnTo>
                  <a:lnTo>
                    <a:pt x="715" y="16"/>
                  </a:lnTo>
                  <a:lnTo>
                    <a:pt x="740" y="12"/>
                  </a:lnTo>
                  <a:lnTo>
                    <a:pt x="765" y="10"/>
                  </a:lnTo>
                  <a:lnTo>
                    <a:pt x="787" y="8"/>
                  </a:lnTo>
                  <a:lnTo>
                    <a:pt x="808" y="8"/>
                  </a:lnTo>
                  <a:lnTo>
                    <a:pt x="825" y="6"/>
                  </a:lnTo>
                  <a:lnTo>
                    <a:pt x="842" y="4"/>
                  </a:lnTo>
                  <a:lnTo>
                    <a:pt x="858" y="2"/>
                  </a:lnTo>
                  <a:lnTo>
                    <a:pt x="871" y="2"/>
                  </a:lnTo>
                  <a:lnTo>
                    <a:pt x="885" y="2"/>
                  </a:lnTo>
                  <a:lnTo>
                    <a:pt x="894" y="0"/>
                  </a:lnTo>
                  <a:lnTo>
                    <a:pt x="902" y="0"/>
                  </a:lnTo>
                  <a:lnTo>
                    <a:pt x="910" y="0"/>
                  </a:lnTo>
                  <a:lnTo>
                    <a:pt x="921" y="0"/>
                  </a:lnTo>
                  <a:lnTo>
                    <a:pt x="935" y="2"/>
                  </a:lnTo>
                  <a:lnTo>
                    <a:pt x="946" y="6"/>
                  </a:lnTo>
                  <a:lnTo>
                    <a:pt x="960" y="10"/>
                  </a:lnTo>
                  <a:lnTo>
                    <a:pt x="971" y="16"/>
                  </a:lnTo>
                  <a:lnTo>
                    <a:pt x="985" y="21"/>
                  </a:lnTo>
                  <a:lnTo>
                    <a:pt x="996" y="29"/>
                  </a:lnTo>
                  <a:lnTo>
                    <a:pt x="1010" y="39"/>
                  </a:lnTo>
                  <a:lnTo>
                    <a:pt x="1021" y="48"/>
                  </a:lnTo>
                  <a:lnTo>
                    <a:pt x="1031" y="58"/>
                  </a:lnTo>
                  <a:lnTo>
                    <a:pt x="1038" y="66"/>
                  </a:lnTo>
                  <a:lnTo>
                    <a:pt x="1046" y="75"/>
                  </a:lnTo>
                  <a:lnTo>
                    <a:pt x="1052" y="83"/>
                  </a:lnTo>
                  <a:lnTo>
                    <a:pt x="1056" y="91"/>
                  </a:lnTo>
                  <a:lnTo>
                    <a:pt x="1058" y="98"/>
                  </a:lnTo>
                  <a:lnTo>
                    <a:pt x="1058" y="106"/>
                  </a:lnTo>
                  <a:lnTo>
                    <a:pt x="1058" y="106"/>
                  </a:lnTo>
                  <a:lnTo>
                    <a:pt x="1058" y="106"/>
                  </a:lnTo>
                </a:path>
              </a:pathLst>
            </a:custGeom>
            <a:solidFill>
              <a:schemeClr val="accent2"/>
            </a:solidFill>
            <a:ln w="1270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25" name="左中括号 28"/>
          <p:cNvSpPr/>
          <p:nvPr/>
        </p:nvSpPr>
        <p:spPr>
          <a:xfrm>
            <a:off x="3095640" y="3003480"/>
            <a:ext cx="288720" cy="1176120"/>
          </a:xfrm>
          <a:prstGeom prst="leftBracket">
            <a:avLst>
              <a:gd name="adj" fmla="val 64752"/>
            </a:avLst>
          </a:prstGeom>
          <a:noFill/>
          <a:ln w="22225">
            <a:solidFill>
              <a:srgbClr val="ff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等线"/>
              <a:ea typeface="宋体"/>
            </a:endParaRPr>
          </a:p>
        </p:txBody>
      </p:sp>
      <p:sp>
        <p:nvSpPr>
          <p:cNvPr id="326" name="文本框 29"/>
          <p:cNvSpPr/>
          <p:nvPr/>
        </p:nvSpPr>
        <p:spPr>
          <a:xfrm>
            <a:off x="1011240" y="3268800"/>
            <a:ext cx="208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擂鼓庆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左中括号 30"/>
          <p:cNvSpPr/>
          <p:nvPr/>
        </p:nvSpPr>
        <p:spPr>
          <a:xfrm flipH="1">
            <a:off x="5699160" y="4168800"/>
            <a:ext cx="288720" cy="358560"/>
          </a:xfrm>
          <a:prstGeom prst="leftBracket">
            <a:avLst>
              <a:gd name="adj" fmla="val 36185"/>
            </a:avLst>
          </a:prstGeom>
          <a:noFill/>
          <a:ln w="22225">
            <a:solidFill>
              <a:srgbClr val="ed7d31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  <a:ea typeface="宋体"/>
            </a:endParaRPr>
          </a:p>
        </p:txBody>
      </p:sp>
      <p:sp>
        <p:nvSpPr>
          <p:cNvPr id="328" name="文本框 32"/>
          <p:cNvSpPr/>
          <p:nvPr/>
        </p:nvSpPr>
        <p:spPr>
          <a:xfrm>
            <a:off x="6048360" y="4003560"/>
            <a:ext cx="208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口欢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12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25" fill="hold">
                                          <p:stCondLst>
                                            <p:cond delay="11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052640" y="3613320"/>
            <a:ext cx="1056960" cy="1045800"/>
            <a:chOff x="1052640" y="3613320"/>
            <a:chExt cx="1056960" cy="1045800"/>
          </a:xfrm>
        </p:grpSpPr>
        <p:pic>
          <p:nvPicPr>
            <p:cNvPr id="330" name="图片 61" descr=""/>
            <p:cNvPicPr/>
            <p:nvPr/>
          </p:nvPicPr>
          <p:blipFill>
            <a:blip r:embed="rId1"/>
            <a:stretch/>
          </p:blipFill>
          <p:spPr>
            <a:xfrm>
              <a:off x="1052640" y="3613320"/>
              <a:ext cx="1056960" cy="10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组合 80"/>
            <p:cNvGrpSpPr/>
            <p:nvPr/>
          </p:nvGrpSpPr>
          <p:grpSpPr>
            <a:xfrm>
              <a:off x="1209960" y="3754800"/>
              <a:ext cx="308880" cy="761400"/>
              <a:chOff x="1209960" y="3754800"/>
              <a:chExt cx="308880" cy="761400"/>
            </a:xfrm>
          </p:grpSpPr>
          <p:sp>
            <p:nvSpPr>
              <p:cNvPr id="332" name="Freeform 5"/>
              <p:cNvSpPr/>
              <p:nvPr/>
            </p:nvSpPr>
            <p:spPr>
              <a:xfrm>
                <a:off x="1354320" y="3754800"/>
                <a:ext cx="83880" cy="7614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298" h="2699">
                    <a:moveTo>
                      <a:pt x="31" y="2532"/>
                    </a:moveTo>
                    <a:lnTo>
                      <a:pt x="25" y="2511"/>
                    </a:lnTo>
                    <a:lnTo>
                      <a:pt x="21" y="2491"/>
                    </a:lnTo>
                    <a:lnTo>
                      <a:pt x="17" y="2472"/>
                    </a:lnTo>
                    <a:lnTo>
                      <a:pt x="13" y="2455"/>
                    </a:lnTo>
                    <a:lnTo>
                      <a:pt x="10" y="2438"/>
                    </a:lnTo>
                    <a:lnTo>
                      <a:pt x="8" y="2420"/>
                    </a:lnTo>
                    <a:lnTo>
                      <a:pt x="6" y="2405"/>
                    </a:lnTo>
                    <a:lnTo>
                      <a:pt x="4" y="2391"/>
                    </a:lnTo>
                    <a:lnTo>
                      <a:pt x="2" y="2376"/>
                    </a:lnTo>
                    <a:lnTo>
                      <a:pt x="2" y="2363"/>
                    </a:lnTo>
                    <a:lnTo>
                      <a:pt x="0" y="2351"/>
                    </a:lnTo>
                    <a:lnTo>
                      <a:pt x="0" y="2339"/>
                    </a:lnTo>
                    <a:lnTo>
                      <a:pt x="2" y="2328"/>
                    </a:lnTo>
                    <a:lnTo>
                      <a:pt x="2" y="2318"/>
                    </a:lnTo>
                    <a:lnTo>
                      <a:pt x="4" y="2309"/>
                    </a:lnTo>
                    <a:lnTo>
                      <a:pt x="6" y="2301"/>
                    </a:lnTo>
                    <a:lnTo>
                      <a:pt x="8" y="2297"/>
                    </a:lnTo>
                    <a:lnTo>
                      <a:pt x="8" y="2291"/>
                    </a:lnTo>
                    <a:lnTo>
                      <a:pt x="10" y="2286"/>
                    </a:lnTo>
                    <a:lnTo>
                      <a:pt x="12" y="2278"/>
                    </a:lnTo>
                    <a:lnTo>
                      <a:pt x="13" y="2268"/>
                    </a:lnTo>
                    <a:lnTo>
                      <a:pt x="13" y="2259"/>
                    </a:lnTo>
                    <a:lnTo>
                      <a:pt x="15" y="2249"/>
                    </a:lnTo>
                    <a:lnTo>
                      <a:pt x="17" y="2237"/>
                    </a:lnTo>
                    <a:lnTo>
                      <a:pt x="19" y="2226"/>
                    </a:lnTo>
                    <a:lnTo>
                      <a:pt x="21" y="2212"/>
                    </a:lnTo>
                    <a:lnTo>
                      <a:pt x="21" y="2197"/>
                    </a:lnTo>
                    <a:lnTo>
                      <a:pt x="23" y="2184"/>
                    </a:lnTo>
                    <a:lnTo>
                      <a:pt x="25" y="2166"/>
                    </a:lnTo>
                    <a:lnTo>
                      <a:pt x="27" y="2149"/>
                    </a:lnTo>
                    <a:lnTo>
                      <a:pt x="29" y="2132"/>
                    </a:lnTo>
                    <a:lnTo>
                      <a:pt x="31" y="2112"/>
                    </a:lnTo>
                    <a:lnTo>
                      <a:pt x="33" y="2091"/>
                    </a:lnTo>
                    <a:lnTo>
                      <a:pt x="35" y="2070"/>
                    </a:lnTo>
                    <a:lnTo>
                      <a:pt x="37" y="2049"/>
                    </a:lnTo>
                    <a:lnTo>
                      <a:pt x="38" y="2026"/>
                    </a:lnTo>
                    <a:lnTo>
                      <a:pt x="40" y="2001"/>
                    </a:lnTo>
                    <a:lnTo>
                      <a:pt x="42" y="1976"/>
                    </a:lnTo>
                    <a:lnTo>
                      <a:pt x="46" y="1951"/>
                    </a:lnTo>
                    <a:lnTo>
                      <a:pt x="48" y="1924"/>
                    </a:lnTo>
                    <a:lnTo>
                      <a:pt x="50" y="1895"/>
                    </a:lnTo>
                    <a:lnTo>
                      <a:pt x="52" y="1866"/>
                    </a:lnTo>
                    <a:lnTo>
                      <a:pt x="54" y="1837"/>
                    </a:lnTo>
                    <a:lnTo>
                      <a:pt x="58" y="1805"/>
                    </a:lnTo>
                    <a:lnTo>
                      <a:pt x="60" y="1774"/>
                    </a:lnTo>
                    <a:lnTo>
                      <a:pt x="62" y="1741"/>
                    </a:lnTo>
                    <a:lnTo>
                      <a:pt x="65" y="1706"/>
                    </a:lnTo>
                    <a:lnTo>
                      <a:pt x="67" y="1672"/>
                    </a:lnTo>
                    <a:lnTo>
                      <a:pt x="73" y="1601"/>
                    </a:lnTo>
                    <a:lnTo>
                      <a:pt x="79" y="1531"/>
                    </a:lnTo>
                    <a:lnTo>
                      <a:pt x="83" y="1462"/>
                    </a:lnTo>
                    <a:lnTo>
                      <a:pt x="87" y="1393"/>
                    </a:lnTo>
                    <a:lnTo>
                      <a:pt x="90" y="1326"/>
                    </a:lnTo>
                    <a:lnTo>
                      <a:pt x="94" y="1258"/>
                    </a:lnTo>
                    <a:lnTo>
                      <a:pt x="96" y="1191"/>
                    </a:lnTo>
                    <a:lnTo>
                      <a:pt x="100" y="1125"/>
                    </a:lnTo>
                    <a:lnTo>
                      <a:pt x="102" y="1060"/>
                    </a:lnTo>
                    <a:lnTo>
                      <a:pt x="104" y="995"/>
                    </a:lnTo>
                    <a:lnTo>
                      <a:pt x="104" y="931"/>
                    </a:lnTo>
                    <a:lnTo>
                      <a:pt x="106" y="868"/>
                    </a:lnTo>
                    <a:lnTo>
                      <a:pt x="106" y="804"/>
                    </a:lnTo>
                    <a:lnTo>
                      <a:pt x="106" y="743"/>
                    </a:lnTo>
                    <a:lnTo>
                      <a:pt x="106" y="681"/>
                    </a:lnTo>
                    <a:lnTo>
                      <a:pt x="106" y="619"/>
                    </a:lnTo>
                    <a:lnTo>
                      <a:pt x="106" y="589"/>
                    </a:lnTo>
                    <a:lnTo>
                      <a:pt x="106" y="560"/>
                    </a:lnTo>
                    <a:lnTo>
                      <a:pt x="104" y="533"/>
                    </a:lnTo>
                    <a:lnTo>
                      <a:pt x="104" y="504"/>
                    </a:lnTo>
                    <a:lnTo>
                      <a:pt x="104" y="479"/>
                    </a:lnTo>
                    <a:lnTo>
                      <a:pt x="102" y="452"/>
                    </a:lnTo>
                    <a:lnTo>
                      <a:pt x="102" y="427"/>
                    </a:lnTo>
                    <a:lnTo>
                      <a:pt x="100" y="404"/>
                    </a:lnTo>
                    <a:lnTo>
                      <a:pt x="98" y="381"/>
                    </a:lnTo>
                    <a:lnTo>
                      <a:pt x="98" y="358"/>
                    </a:lnTo>
                    <a:lnTo>
                      <a:pt x="96" y="337"/>
                    </a:lnTo>
                    <a:lnTo>
                      <a:pt x="94" y="317"/>
                    </a:lnTo>
                    <a:lnTo>
                      <a:pt x="94" y="296"/>
                    </a:lnTo>
                    <a:lnTo>
                      <a:pt x="92" y="279"/>
                    </a:lnTo>
                    <a:lnTo>
                      <a:pt x="90" y="260"/>
                    </a:lnTo>
                    <a:lnTo>
                      <a:pt x="88" y="244"/>
                    </a:lnTo>
                    <a:lnTo>
                      <a:pt x="87" y="227"/>
                    </a:lnTo>
                    <a:lnTo>
                      <a:pt x="85" y="212"/>
                    </a:lnTo>
                    <a:lnTo>
                      <a:pt x="83" y="198"/>
                    </a:lnTo>
                    <a:lnTo>
                      <a:pt x="81" y="185"/>
                    </a:lnTo>
                    <a:lnTo>
                      <a:pt x="79" y="171"/>
                    </a:lnTo>
                    <a:lnTo>
                      <a:pt x="77" y="160"/>
                    </a:lnTo>
                    <a:lnTo>
                      <a:pt x="75" y="148"/>
                    </a:lnTo>
                    <a:lnTo>
                      <a:pt x="71" y="138"/>
                    </a:lnTo>
                    <a:lnTo>
                      <a:pt x="69" y="129"/>
                    </a:lnTo>
                    <a:lnTo>
                      <a:pt x="67" y="121"/>
                    </a:lnTo>
                    <a:lnTo>
                      <a:pt x="63" y="113"/>
                    </a:lnTo>
                    <a:lnTo>
                      <a:pt x="62" y="108"/>
                    </a:lnTo>
                    <a:lnTo>
                      <a:pt x="60" y="102"/>
                    </a:lnTo>
                    <a:lnTo>
                      <a:pt x="56" y="96"/>
                    </a:lnTo>
                    <a:lnTo>
                      <a:pt x="54" y="92"/>
                    </a:lnTo>
                    <a:lnTo>
                      <a:pt x="50" y="88"/>
                    </a:lnTo>
                    <a:lnTo>
                      <a:pt x="44" y="83"/>
                    </a:lnTo>
                    <a:lnTo>
                      <a:pt x="38" y="77"/>
                    </a:lnTo>
                    <a:lnTo>
                      <a:pt x="33" y="73"/>
                    </a:lnTo>
                    <a:lnTo>
                      <a:pt x="29" y="67"/>
                    </a:lnTo>
                    <a:lnTo>
                      <a:pt x="25" y="63"/>
                    </a:lnTo>
                    <a:lnTo>
                      <a:pt x="21" y="58"/>
                    </a:lnTo>
                    <a:lnTo>
                      <a:pt x="19" y="54"/>
                    </a:lnTo>
                    <a:lnTo>
                      <a:pt x="17" y="48"/>
                    </a:lnTo>
                    <a:lnTo>
                      <a:pt x="15" y="44"/>
                    </a:lnTo>
                    <a:lnTo>
                      <a:pt x="13" y="38"/>
                    </a:lnTo>
                    <a:lnTo>
                      <a:pt x="13" y="35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3" y="23"/>
                    </a:lnTo>
                    <a:lnTo>
                      <a:pt x="15" y="19"/>
                    </a:lnTo>
                    <a:lnTo>
                      <a:pt x="17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9" y="6"/>
                    </a:lnTo>
                    <a:lnTo>
                      <a:pt x="33" y="4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5" y="0"/>
                    </a:lnTo>
                    <a:lnTo>
                      <a:pt x="85" y="2"/>
                    </a:lnTo>
                    <a:lnTo>
                      <a:pt x="96" y="4"/>
                    </a:lnTo>
                    <a:lnTo>
                      <a:pt x="106" y="6"/>
                    </a:lnTo>
                    <a:lnTo>
                      <a:pt x="117" y="8"/>
                    </a:lnTo>
                    <a:lnTo>
                      <a:pt x="129" y="11"/>
                    </a:lnTo>
                    <a:lnTo>
                      <a:pt x="142" y="15"/>
                    </a:lnTo>
                    <a:lnTo>
                      <a:pt x="156" y="19"/>
                    </a:lnTo>
                    <a:lnTo>
                      <a:pt x="167" y="23"/>
                    </a:lnTo>
                    <a:lnTo>
                      <a:pt x="179" y="27"/>
                    </a:lnTo>
                    <a:lnTo>
                      <a:pt x="190" y="31"/>
                    </a:lnTo>
                    <a:lnTo>
                      <a:pt x="202" y="35"/>
                    </a:lnTo>
                    <a:lnTo>
                      <a:pt x="212" y="38"/>
                    </a:lnTo>
                    <a:lnTo>
                      <a:pt x="221" y="44"/>
                    </a:lnTo>
                    <a:lnTo>
                      <a:pt x="231" y="48"/>
                    </a:lnTo>
                    <a:lnTo>
                      <a:pt x="238" y="54"/>
                    </a:lnTo>
                    <a:lnTo>
                      <a:pt x="246" y="58"/>
                    </a:lnTo>
                    <a:lnTo>
                      <a:pt x="254" y="63"/>
                    </a:lnTo>
                    <a:lnTo>
                      <a:pt x="260" y="67"/>
                    </a:lnTo>
                    <a:lnTo>
                      <a:pt x="265" y="73"/>
                    </a:lnTo>
                    <a:lnTo>
                      <a:pt x="271" y="77"/>
                    </a:lnTo>
                    <a:lnTo>
                      <a:pt x="275" y="83"/>
                    </a:lnTo>
                    <a:lnTo>
                      <a:pt x="279" y="88"/>
                    </a:lnTo>
                    <a:lnTo>
                      <a:pt x="287" y="100"/>
                    </a:lnTo>
                    <a:lnTo>
                      <a:pt x="292" y="112"/>
                    </a:lnTo>
                    <a:lnTo>
                      <a:pt x="296" y="125"/>
                    </a:lnTo>
                    <a:lnTo>
                      <a:pt x="298" y="138"/>
                    </a:lnTo>
                    <a:lnTo>
                      <a:pt x="298" y="152"/>
                    </a:lnTo>
                    <a:lnTo>
                      <a:pt x="298" y="165"/>
                    </a:lnTo>
                    <a:lnTo>
                      <a:pt x="296" y="179"/>
                    </a:lnTo>
                    <a:lnTo>
                      <a:pt x="292" y="194"/>
                    </a:lnTo>
                    <a:lnTo>
                      <a:pt x="290" y="204"/>
                    </a:lnTo>
                    <a:lnTo>
                      <a:pt x="287" y="214"/>
                    </a:lnTo>
                    <a:lnTo>
                      <a:pt x="285" y="225"/>
                    </a:lnTo>
                    <a:lnTo>
                      <a:pt x="283" y="239"/>
                    </a:lnTo>
                    <a:lnTo>
                      <a:pt x="281" y="252"/>
                    </a:lnTo>
                    <a:lnTo>
                      <a:pt x="279" y="269"/>
                    </a:lnTo>
                    <a:lnTo>
                      <a:pt x="275" y="287"/>
                    </a:lnTo>
                    <a:lnTo>
                      <a:pt x="273" y="306"/>
                    </a:lnTo>
                    <a:lnTo>
                      <a:pt x="271" y="327"/>
                    </a:lnTo>
                    <a:lnTo>
                      <a:pt x="269" y="348"/>
                    </a:lnTo>
                    <a:lnTo>
                      <a:pt x="267" y="373"/>
                    </a:lnTo>
                    <a:lnTo>
                      <a:pt x="265" y="398"/>
                    </a:lnTo>
                    <a:lnTo>
                      <a:pt x="262" y="425"/>
                    </a:lnTo>
                    <a:lnTo>
                      <a:pt x="260" y="452"/>
                    </a:lnTo>
                    <a:lnTo>
                      <a:pt x="258" y="483"/>
                    </a:lnTo>
                    <a:lnTo>
                      <a:pt x="256" y="514"/>
                    </a:lnTo>
                    <a:lnTo>
                      <a:pt x="254" y="529"/>
                    </a:lnTo>
                    <a:lnTo>
                      <a:pt x="254" y="546"/>
                    </a:lnTo>
                    <a:lnTo>
                      <a:pt x="252" y="564"/>
                    </a:lnTo>
                    <a:lnTo>
                      <a:pt x="252" y="581"/>
                    </a:lnTo>
                    <a:lnTo>
                      <a:pt x="250" y="600"/>
                    </a:lnTo>
                    <a:lnTo>
                      <a:pt x="248" y="619"/>
                    </a:lnTo>
                    <a:lnTo>
                      <a:pt x="248" y="639"/>
                    </a:lnTo>
                    <a:lnTo>
                      <a:pt x="246" y="660"/>
                    </a:lnTo>
                    <a:lnTo>
                      <a:pt x="246" y="679"/>
                    </a:lnTo>
                    <a:lnTo>
                      <a:pt x="244" y="700"/>
                    </a:lnTo>
                    <a:lnTo>
                      <a:pt x="244" y="723"/>
                    </a:lnTo>
                    <a:lnTo>
                      <a:pt x="242" y="746"/>
                    </a:lnTo>
                    <a:lnTo>
                      <a:pt x="242" y="770"/>
                    </a:lnTo>
                    <a:lnTo>
                      <a:pt x="240" y="793"/>
                    </a:lnTo>
                    <a:lnTo>
                      <a:pt x="240" y="816"/>
                    </a:lnTo>
                    <a:lnTo>
                      <a:pt x="240" y="841"/>
                    </a:lnTo>
                    <a:lnTo>
                      <a:pt x="238" y="866"/>
                    </a:lnTo>
                    <a:lnTo>
                      <a:pt x="238" y="893"/>
                    </a:lnTo>
                    <a:lnTo>
                      <a:pt x="238" y="920"/>
                    </a:lnTo>
                    <a:lnTo>
                      <a:pt x="237" y="947"/>
                    </a:lnTo>
                    <a:lnTo>
                      <a:pt x="237" y="973"/>
                    </a:lnTo>
                    <a:lnTo>
                      <a:pt x="237" y="1002"/>
                    </a:lnTo>
                    <a:lnTo>
                      <a:pt x="235" y="1031"/>
                    </a:lnTo>
                    <a:lnTo>
                      <a:pt x="235" y="1060"/>
                    </a:lnTo>
                    <a:lnTo>
                      <a:pt x="235" y="1091"/>
                    </a:lnTo>
                    <a:lnTo>
                      <a:pt x="233" y="1122"/>
                    </a:lnTo>
                    <a:lnTo>
                      <a:pt x="233" y="1152"/>
                    </a:lnTo>
                    <a:lnTo>
                      <a:pt x="233" y="1183"/>
                    </a:lnTo>
                    <a:lnTo>
                      <a:pt x="233" y="1216"/>
                    </a:lnTo>
                    <a:lnTo>
                      <a:pt x="231" y="1249"/>
                    </a:lnTo>
                    <a:lnTo>
                      <a:pt x="231" y="1281"/>
                    </a:lnTo>
                    <a:lnTo>
                      <a:pt x="231" y="1316"/>
                    </a:lnTo>
                    <a:lnTo>
                      <a:pt x="229" y="1383"/>
                    </a:lnTo>
                    <a:lnTo>
                      <a:pt x="229" y="1451"/>
                    </a:lnTo>
                    <a:lnTo>
                      <a:pt x="227" y="1518"/>
                    </a:lnTo>
                    <a:lnTo>
                      <a:pt x="225" y="1581"/>
                    </a:lnTo>
                    <a:lnTo>
                      <a:pt x="223" y="1647"/>
                    </a:lnTo>
                    <a:lnTo>
                      <a:pt x="221" y="1708"/>
                    </a:lnTo>
                    <a:lnTo>
                      <a:pt x="219" y="1772"/>
                    </a:lnTo>
                    <a:lnTo>
                      <a:pt x="215" y="1832"/>
                    </a:lnTo>
                    <a:lnTo>
                      <a:pt x="213" y="1891"/>
                    </a:lnTo>
                    <a:lnTo>
                      <a:pt x="210" y="1951"/>
                    </a:lnTo>
                    <a:lnTo>
                      <a:pt x="208" y="2009"/>
                    </a:lnTo>
                    <a:lnTo>
                      <a:pt x="204" y="2066"/>
                    </a:lnTo>
                    <a:lnTo>
                      <a:pt x="200" y="2122"/>
                    </a:lnTo>
                    <a:lnTo>
                      <a:pt x="196" y="2176"/>
                    </a:lnTo>
                    <a:lnTo>
                      <a:pt x="190" y="2230"/>
                    </a:lnTo>
                    <a:lnTo>
                      <a:pt x="187" y="2282"/>
                    </a:lnTo>
                    <a:lnTo>
                      <a:pt x="185" y="2307"/>
                    </a:lnTo>
                    <a:lnTo>
                      <a:pt x="183" y="2332"/>
                    </a:lnTo>
                    <a:lnTo>
                      <a:pt x="179" y="2357"/>
                    </a:lnTo>
                    <a:lnTo>
                      <a:pt x="177" y="2380"/>
                    </a:lnTo>
                    <a:lnTo>
                      <a:pt x="175" y="2403"/>
                    </a:lnTo>
                    <a:lnTo>
                      <a:pt x="173" y="2424"/>
                    </a:lnTo>
                    <a:lnTo>
                      <a:pt x="169" y="2445"/>
                    </a:lnTo>
                    <a:lnTo>
                      <a:pt x="167" y="2464"/>
                    </a:lnTo>
                    <a:lnTo>
                      <a:pt x="165" y="2484"/>
                    </a:lnTo>
                    <a:lnTo>
                      <a:pt x="163" y="2503"/>
                    </a:lnTo>
                    <a:lnTo>
                      <a:pt x="162" y="2520"/>
                    </a:lnTo>
                    <a:lnTo>
                      <a:pt x="158" y="2536"/>
                    </a:lnTo>
                    <a:lnTo>
                      <a:pt x="156" y="2553"/>
                    </a:lnTo>
                    <a:lnTo>
                      <a:pt x="154" y="2566"/>
                    </a:lnTo>
                    <a:lnTo>
                      <a:pt x="152" y="2582"/>
                    </a:lnTo>
                    <a:lnTo>
                      <a:pt x="150" y="2595"/>
                    </a:lnTo>
                    <a:lnTo>
                      <a:pt x="146" y="2607"/>
                    </a:lnTo>
                    <a:lnTo>
                      <a:pt x="144" y="2620"/>
                    </a:lnTo>
                    <a:lnTo>
                      <a:pt x="142" y="2630"/>
                    </a:lnTo>
                    <a:lnTo>
                      <a:pt x="140" y="2641"/>
                    </a:lnTo>
                    <a:lnTo>
                      <a:pt x="137" y="2649"/>
                    </a:lnTo>
                    <a:lnTo>
                      <a:pt x="135" y="2659"/>
                    </a:lnTo>
                    <a:lnTo>
                      <a:pt x="133" y="2666"/>
                    </a:lnTo>
                    <a:lnTo>
                      <a:pt x="131" y="2674"/>
                    </a:lnTo>
                    <a:lnTo>
                      <a:pt x="129" y="2680"/>
                    </a:lnTo>
                    <a:lnTo>
                      <a:pt x="125" y="2684"/>
                    </a:lnTo>
                    <a:lnTo>
                      <a:pt x="123" y="2690"/>
                    </a:lnTo>
                    <a:lnTo>
                      <a:pt x="121" y="2693"/>
                    </a:lnTo>
                    <a:lnTo>
                      <a:pt x="119" y="2695"/>
                    </a:lnTo>
                    <a:lnTo>
                      <a:pt x="115" y="2697"/>
                    </a:lnTo>
                    <a:lnTo>
                      <a:pt x="113" y="2699"/>
                    </a:lnTo>
                    <a:lnTo>
                      <a:pt x="112" y="2699"/>
                    </a:lnTo>
                    <a:lnTo>
                      <a:pt x="108" y="2699"/>
                    </a:lnTo>
                    <a:lnTo>
                      <a:pt x="102" y="2697"/>
                    </a:lnTo>
                    <a:lnTo>
                      <a:pt x="98" y="2693"/>
                    </a:lnTo>
                    <a:lnTo>
                      <a:pt x="92" y="2690"/>
                    </a:lnTo>
                    <a:lnTo>
                      <a:pt x="88" y="2684"/>
                    </a:lnTo>
                    <a:lnTo>
                      <a:pt x="83" y="2676"/>
                    </a:lnTo>
                    <a:lnTo>
                      <a:pt x="77" y="2666"/>
                    </a:lnTo>
                    <a:lnTo>
                      <a:pt x="73" y="2657"/>
                    </a:lnTo>
                    <a:lnTo>
                      <a:pt x="67" y="2645"/>
                    </a:lnTo>
                    <a:lnTo>
                      <a:pt x="62" y="2634"/>
                    </a:lnTo>
                    <a:lnTo>
                      <a:pt x="58" y="2620"/>
                    </a:lnTo>
                    <a:lnTo>
                      <a:pt x="52" y="2605"/>
                    </a:lnTo>
                    <a:lnTo>
                      <a:pt x="46" y="2590"/>
                    </a:lnTo>
                    <a:lnTo>
                      <a:pt x="42" y="2570"/>
                    </a:lnTo>
                    <a:lnTo>
                      <a:pt x="37" y="2553"/>
                    </a:lnTo>
                    <a:lnTo>
                      <a:pt x="31" y="2532"/>
                    </a:lnTo>
                    <a:lnTo>
                      <a:pt x="31" y="2532"/>
                    </a:lnTo>
                    <a:lnTo>
                      <a:pt x="31" y="2532"/>
                    </a:lnTo>
                  </a:path>
                </a:pathLst>
              </a:custGeom>
              <a:solidFill>
                <a:srgbClr val="c00000"/>
              </a:solidFill>
              <a:ln w="127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3" name="Freeform 6"/>
              <p:cNvSpPr/>
              <p:nvPr/>
            </p:nvSpPr>
            <p:spPr>
              <a:xfrm>
                <a:off x="1209960" y="4014000"/>
                <a:ext cx="86400" cy="2210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7" h="785">
                    <a:moveTo>
                      <a:pt x="300" y="361"/>
                    </a:moveTo>
                    <a:lnTo>
                      <a:pt x="296" y="386"/>
                    </a:lnTo>
                    <a:lnTo>
                      <a:pt x="292" y="409"/>
                    </a:lnTo>
                    <a:lnTo>
                      <a:pt x="288" y="433"/>
                    </a:lnTo>
                    <a:lnTo>
                      <a:pt x="284" y="456"/>
                    </a:lnTo>
                    <a:lnTo>
                      <a:pt x="280" y="477"/>
                    </a:lnTo>
                    <a:lnTo>
                      <a:pt x="275" y="498"/>
                    </a:lnTo>
                    <a:lnTo>
                      <a:pt x="271" y="519"/>
                    </a:lnTo>
                    <a:lnTo>
                      <a:pt x="265" y="538"/>
                    </a:lnTo>
                    <a:lnTo>
                      <a:pt x="259" y="558"/>
                    </a:lnTo>
                    <a:lnTo>
                      <a:pt x="253" y="577"/>
                    </a:lnTo>
                    <a:lnTo>
                      <a:pt x="248" y="594"/>
                    </a:lnTo>
                    <a:lnTo>
                      <a:pt x="240" y="611"/>
                    </a:lnTo>
                    <a:lnTo>
                      <a:pt x="234" y="629"/>
                    </a:lnTo>
                    <a:lnTo>
                      <a:pt x="226" y="644"/>
                    </a:lnTo>
                    <a:lnTo>
                      <a:pt x="219" y="660"/>
                    </a:lnTo>
                    <a:lnTo>
                      <a:pt x="211" y="673"/>
                    </a:lnTo>
                    <a:lnTo>
                      <a:pt x="203" y="686"/>
                    </a:lnTo>
                    <a:lnTo>
                      <a:pt x="196" y="700"/>
                    </a:lnTo>
                    <a:lnTo>
                      <a:pt x="190" y="712"/>
                    </a:lnTo>
                    <a:lnTo>
                      <a:pt x="182" y="723"/>
                    </a:lnTo>
                    <a:lnTo>
                      <a:pt x="176" y="733"/>
                    </a:lnTo>
                    <a:lnTo>
                      <a:pt x="171" y="742"/>
                    </a:lnTo>
                    <a:lnTo>
                      <a:pt x="163" y="750"/>
                    </a:lnTo>
                    <a:lnTo>
                      <a:pt x="157" y="758"/>
                    </a:lnTo>
                    <a:lnTo>
                      <a:pt x="151" y="763"/>
                    </a:lnTo>
                    <a:lnTo>
                      <a:pt x="148" y="769"/>
                    </a:lnTo>
                    <a:lnTo>
                      <a:pt x="142" y="773"/>
                    </a:lnTo>
                    <a:lnTo>
                      <a:pt x="136" y="777"/>
                    </a:lnTo>
                    <a:lnTo>
                      <a:pt x="132" y="781"/>
                    </a:lnTo>
                    <a:lnTo>
                      <a:pt x="126" y="783"/>
                    </a:lnTo>
                    <a:lnTo>
                      <a:pt x="123" y="785"/>
                    </a:lnTo>
                    <a:lnTo>
                      <a:pt x="119" y="785"/>
                    </a:lnTo>
                    <a:lnTo>
                      <a:pt x="115" y="785"/>
                    </a:lnTo>
                    <a:lnTo>
                      <a:pt x="111" y="783"/>
                    </a:lnTo>
                    <a:lnTo>
                      <a:pt x="107" y="783"/>
                    </a:lnTo>
                    <a:lnTo>
                      <a:pt x="101" y="781"/>
                    </a:lnTo>
                    <a:lnTo>
                      <a:pt x="98" y="779"/>
                    </a:lnTo>
                    <a:lnTo>
                      <a:pt x="94" y="775"/>
                    </a:lnTo>
                    <a:lnTo>
                      <a:pt x="88" y="771"/>
                    </a:lnTo>
                    <a:lnTo>
                      <a:pt x="84" y="767"/>
                    </a:lnTo>
                    <a:lnTo>
                      <a:pt x="80" y="763"/>
                    </a:lnTo>
                    <a:lnTo>
                      <a:pt x="75" y="758"/>
                    </a:lnTo>
                    <a:lnTo>
                      <a:pt x="69" y="752"/>
                    </a:lnTo>
                    <a:lnTo>
                      <a:pt x="65" y="746"/>
                    </a:lnTo>
                    <a:lnTo>
                      <a:pt x="59" y="740"/>
                    </a:lnTo>
                    <a:lnTo>
                      <a:pt x="55" y="733"/>
                    </a:lnTo>
                    <a:lnTo>
                      <a:pt x="50" y="725"/>
                    </a:lnTo>
                    <a:lnTo>
                      <a:pt x="44" y="717"/>
                    </a:lnTo>
                    <a:lnTo>
                      <a:pt x="34" y="700"/>
                    </a:lnTo>
                    <a:lnTo>
                      <a:pt x="25" y="686"/>
                    </a:lnTo>
                    <a:lnTo>
                      <a:pt x="17" y="671"/>
                    </a:lnTo>
                    <a:lnTo>
                      <a:pt x="11" y="660"/>
                    </a:lnTo>
                    <a:lnTo>
                      <a:pt x="5" y="648"/>
                    </a:lnTo>
                    <a:lnTo>
                      <a:pt x="3" y="638"/>
                    </a:lnTo>
                    <a:lnTo>
                      <a:pt x="0" y="631"/>
                    </a:lnTo>
                    <a:lnTo>
                      <a:pt x="0" y="623"/>
                    </a:lnTo>
                    <a:lnTo>
                      <a:pt x="0" y="619"/>
                    </a:lnTo>
                    <a:lnTo>
                      <a:pt x="1" y="615"/>
                    </a:lnTo>
                    <a:lnTo>
                      <a:pt x="1" y="610"/>
                    </a:lnTo>
                    <a:lnTo>
                      <a:pt x="3" y="604"/>
                    </a:lnTo>
                    <a:lnTo>
                      <a:pt x="5" y="598"/>
                    </a:lnTo>
                    <a:lnTo>
                      <a:pt x="9" y="590"/>
                    </a:lnTo>
                    <a:lnTo>
                      <a:pt x="11" y="583"/>
                    </a:lnTo>
                    <a:lnTo>
                      <a:pt x="15" y="575"/>
                    </a:lnTo>
                    <a:lnTo>
                      <a:pt x="19" y="565"/>
                    </a:lnTo>
                    <a:lnTo>
                      <a:pt x="25" y="554"/>
                    </a:lnTo>
                    <a:lnTo>
                      <a:pt x="30" y="544"/>
                    </a:lnTo>
                    <a:lnTo>
                      <a:pt x="36" y="533"/>
                    </a:lnTo>
                    <a:lnTo>
                      <a:pt x="42" y="519"/>
                    </a:lnTo>
                    <a:lnTo>
                      <a:pt x="48" y="508"/>
                    </a:lnTo>
                    <a:lnTo>
                      <a:pt x="55" y="494"/>
                    </a:lnTo>
                    <a:lnTo>
                      <a:pt x="63" y="479"/>
                    </a:lnTo>
                    <a:lnTo>
                      <a:pt x="71" y="463"/>
                    </a:lnTo>
                    <a:lnTo>
                      <a:pt x="78" y="448"/>
                    </a:lnTo>
                    <a:lnTo>
                      <a:pt x="84" y="433"/>
                    </a:lnTo>
                    <a:lnTo>
                      <a:pt x="92" y="415"/>
                    </a:lnTo>
                    <a:lnTo>
                      <a:pt x="100" y="398"/>
                    </a:lnTo>
                    <a:lnTo>
                      <a:pt x="105" y="381"/>
                    </a:lnTo>
                    <a:lnTo>
                      <a:pt x="111" y="363"/>
                    </a:lnTo>
                    <a:lnTo>
                      <a:pt x="119" y="344"/>
                    </a:lnTo>
                    <a:lnTo>
                      <a:pt x="125" y="325"/>
                    </a:lnTo>
                    <a:lnTo>
                      <a:pt x="130" y="306"/>
                    </a:lnTo>
                    <a:lnTo>
                      <a:pt x="136" y="284"/>
                    </a:lnTo>
                    <a:lnTo>
                      <a:pt x="142" y="263"/>
                    </a:lnTo>
                    <a:lnTo>
                      <a:pt x="146" y="242"/>
                    </a:lnTo>
                    <a:lnTo>
                      <a:pt x="151" y="221"/>
                    </a:lnTo>
                    <a:lnTo>
                      <a:pt x="157" y="198"/>
                    </a:lnTo>
                    <a:lnTo>
                      <a:pt x="161" y="175"/>
                    </a:lnTo>
                    <a:lnTo>
                      <a:pt x="165" y="152"/>
                    </a:lnTo>
                    <a:lnTo>
                      <a:pt x="171" y="130"/>
                    </a:lnTo>
                    <a:lnTo>
                      <a:pt x="175" y="111"/>
                    </a:lnTo>
                    <a:lnTo>
                      <a:pt x="178" y="94"/>
                    </a:lnTo>
                    <a:lnTo>
                      <a:pt x="182" y="77"/>
                    </a:lnTo>
                    <a:lnTo>
                      <a:pt x="186" y="63"/>
                    </a:lnTo>
                    <a:lnTo>
                      <a:pt x="190" y="50"/>
                    </a:lnTo>
                    <a:lnTo>
                      <a:pt x="194" y="38"/>
                    </a:lnTo>
                    <a:lnTo>
                      <a:pt x="198" y="27"/>
                    </a:lnTo>
                    <a:lnTo>
                      <a:pt x="201" y="19"/>
                    </a:lnTo>
                    <a:lnTo>
                      <a:pt x="205" y="11"/>
                    </a:lnTo>
                    <a:lnTo>
                      <a:pt x="207" y="5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1" y="2"/>
                    </a:lnTo>
                    <a:lnTo>
                      <a:pt x="225" y="4"/>
                    </a:lnTo>
                    <a:lnTo>
                      <a:pt x="226" y="7"/>
                    </a:lnTo>
                    <a:lnTo>
                      <a:pt x="228" y="9"/>
                    </a:lnTo>
                    <a:lnTo>
                      <a:pt x="232" y="13"/>
                    </a:lnTo>
                    <a:lnTo>
                      <a:pt x="236" y="17"/>
                    </a:lnTo>
                    <a:lnTo>
                      <a:pt x="240" y="23"/>
                    </a:lnTo>
                    <a:lnTo>
                      <a:pt x="244" y="29"/>
                    </a:lnTo>
                    <a:lnTo>
                      <a:pt x="251" y="40"/>
                    </a:lnTo>
                    <a:lnTo>
                      <a:pt x="261" y="54"/>
                    </a:lnTo>
                    <a:lnTo>
                      <a:pt x="271" y="69"/>
                    </a:lnTo>
                    <a:lnTo>
                      <a:pt x="280" y="86"/>
                    </a:lnTo>
                    <a:lnTo>
                      <a:pt x="286" y="96"/>
                    </a:lnTo>
                    <a:lnTo>
                      <a:pt x="290" y="107"/>
                    </a:lnTo>
                    <a:lnTo>
                      <a:pt x="294" y="119"/>
                    </a:lnTo>
                    <a:lnTo>
                      <a:pt x="298" y="132"/>
                    </a:lnTo>
                    <a:lnTo>
                      <a:pt x="301" y="146"/>
                    </a:lnTo>
                    <a:lnTo>
                      <a:pt x="303" y="159"/>
                    </a:lnTo>
                    <a:lnTo>
                      <a:pt x="305" y="177"/>
                    </a:lnTo>
                    <a:lnTo>
                      <a:pt x="307" y="192"/>
                    </a:lnTo>
                    <a:lnTo>
                      <a:pt x="307" y="211"/>
                    </a:lnTo>
                    <a:lnTo>
                      <a:pt x="307" y="229"/>
                    </a:lnTo>
                    <a:lnTo>
                      <a:pt x="307" y="250"/>
                    </a:lnTo>
                    <a:lnTo>
                      <a:pt x="307" y="269"/>
                    </a:lnTo>
                    <a:lnTo>
                      <a:pt x="305" y="290"/>
                    </a:lnTo>
                    <a:lnTo>
                      <a:pt x="305" y="313"/>
                    </a:lnTo>
                    <a:lnTo>
                      <a:pt x="301" y="336"/>
                    </a:lnTo>
                    <a:lnTo>
                      <a:pt x="300" y="361"/>
                    </a:lnTo>
                    <a:lnTo>
                      <a:pt x="300" y="361"/>
                    </a:lnTo>
                    <a:lnTo>
                      <a:pt x="300" y="361"/>
                    </a:lnTo>
                  </a:path>
                </a:pathLst>
              </a:custGeom>
              <a:solidFill>
                <a:srgbClr val="c00000"/>
              </a:solidFill>
              <a:ln w="127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4" name="Freeform 7"/>
              <p:cNvSpPr/>
              <p:nvPr/>
            </p:nvSpPr>
            <p:spPr>
              <a:xfrm>
                <a:off x="1406880" y="3961440"/>
                <a:ext cx="111960" cy="9936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398" h="356">
                    <a:moveTo>
                      <a:pt x="230" y="281"/>
                    </a:moveTo>
                    <a:lnTo>
                      <a:pt x="217" y="271"/>
                    </a:lnTo>
                    <a:lnTo>
                      <a:pt x="203" y="260"/>
                    </a:lnTo>
                    <a:lnTo>
                      <a:pt x="190" y="246"/>
                    </a:lnTo>
                    <a:lnTo>
                      <a:pt x="176" y="233"/>
                    </a:lnTo>
                    <a:lnTo>
                      <a:pt x="161" y="219"/>
                    </a:lnTo>
                    <a:lnTo>
                      <a:pt x="148" y="204"/>
                    </a:lnTo>
                    <a:lnTo>
                      <a:pt x="134" y="187"/>
                    </a:lnTo>
                    <a:lnTo>
                      <a:pt x="119" y="169"/>
                    </a:lnTo>
                    <a:lnTo>
                      <a:pt x="105" y="152"/>
                    </a:lnTo>
                    <a:lnTo>
                      <a:pt x="90" y="133"/>
                    </a:lnTo>
                    <a:lnTo>
                      <a:pt x="75" y="114"/>
                    </a:lnTo>
                    <a:lnTo>
                      <a:pt x="61" y="92"/>
                    </a:lnTo>
                    <a:lnTo>
                      <a:pt x="46" y="71"/>
                    </a:lnTo>
                    <a:lnTo>
                      <a:pt x="30" y="48"/>
                    </a:lnTo>
                    <a:lnTo>
                      <a:pt x="15" y="25"/>
                    </a:lnTo>
                    <a:lnTo>
                      <a:pt x="0" y="0"/>
                    </a:lnTo>
                    <a:lnTo>
                      <a:pt x="28" y="6"/>
                    </a:lnTo>
                    <a:lnTo>
                      <a:pt x="57" y="10"/>
                    </a:lnTo>
                    <a:lnTo>
                      <a:pt x="82" y="15"/>
                    </a:lnTo>
                    <a:lnTo>
                      <a:pt x="107" y="21"/>
                    </a:lnTo>
                    <a:lnTo>
                      <a:pt x="132" y="25"/>
                    </a:lnTo>
                    <a:lnTo>
                      <a:pt x="155" y="31"/>
                    </a:lnTo>
                    <a:lnTo>
                      <a:pt x="176" y="37"/>
                    </a:lnTo>
                    <a:lnTo>
                      <a:pt x="198" y="44"/>
                    </a:lnTo>
                    <a:lnTo>
                      <a:pt x="217" y="50"/>
                    </a:lnTo>
                    <a:lnTo>
                      <a:pt x="234" y="56"/>
                    </a:lnTo>
                    <a:lnTo>
                      <a:pt x="251" y="64"/>
                    </a:lnTo>
                    <a:lnTo>
                      <a:pt x="267" y="69"/>
                    </a:lnTo>
                    <a:lnTo>
                      <a:pt x="280" y="77"/>
                    </a:lnTo>
                    <a:lnTo>
                      <a:pt x="294" y="85"/>
                    </a:lnTo>
                    <a:lnTo>
                      <a:pt x="305" y="92"/>
                    </a:lnTo>
                    <a:lnTo>
                      <a:pt x="317" y="100"/>
                    </a:lnTo>
                    <a:lnTo>
                      <a:pt x="326" y="108"/>
                    </a:lnTo>
                    <a:lnTo>
                      <a:pt x="336" y="115"/>
                    </a:lnTo>
                    <a:lnTo>
                      <a:pt x="344" y="123"/>
                    </a:lnTo>
                    <a:lnTo>
                      <a:pt x="351" y="133"/>
                    </a:lnTo>
                    <a:lnTo>
                      <a:pt x="359" y="140"/>
                    </a:lnTo>
                    <a:lnTo>
                      <a:pt x="367" y="150"/>
                    </a:lnTo>
                    <a:lnTo>
                      <a:pt x="373" y="160"/>
                    </a:lnTo>
                    <a:lnTo>
                      <a:pt x="378" y="169"/>
                    </a:lnTo>
                    <a:lnTo>
                      <a:pt x="382" y="179"/>
                    </a:lnTo>
                    <a:lnTo>
                      <a:pt x="386" y="189"/>
                    </a:lnTo>
                    <a:lnTo>
                      <a:pt x="390" y="200"/>
                    </a:lnTo>
                    <a:lnTo>
                      <a:pt x="392" y="210"/>
                    </a:lnTo>
                    <a:lnTo>
                      <a:pt x="396" y="221"/>
                    </a:lnTo>
                    <a:lnTo>
                      <a:pt x="396" y="233"/>
                    </a:lnTo>
                    <a:lnTo>
                      <a:pt x="398" y="244"/>
                    </a:lnTo>
                    <a:lnTo>
                      <a:pt x="398" y="256"/>
                    </a:lnTo>
                    <a:lnTo>
                      <a:pt x="398" y="267"/>
                    </a:lnTo>
                    <a:lnTo>
                      <a:pt x="398" y="277"/>
                    </a:lnTo>
                    <a:lnTo>
                      <a:pt x="396" y="287"/>
                    </a:lnTo>
                    <a:lnTo>
                      <a:pt x="396" y="296"/>
                    </a:lnTo>
                    <a:lnTo>
                      <a:pt x="396" y="306"/>
                    </a:lnTo>
                    <a:lnTo>
                      <a:pt x="394" y="314"/>
                    </a:lnTo>
                    <a:lnTo>
                      <a:pt x="392" y="319"/>
                    </a:lnTo>
                    <a:lnTo>
                      <a:pt x="390" y="327"/>
                    </a:lnTo>
                    <a:lnTo>
                      <a:pt x="388" y="333"/>
                    </a:lnTo>
                    <a:lnTo>
                      <a:pt x="386" y="339"/>
                    </a:lnTo>
                    <a:lnTo>
                      <a:pt x="384" y="342"/>
                    </a:lnTo>
                    <a:lnTo>
                      <a:pt x="380" y="346"/>
                    </a:lnTo>
                    <a:lnTo>
                      <a:pt x="378" y="350"/>
                    </a:lnTo>
                    <a:lnTo>
                      <a:pt x="375" y="352"/>
                    </a:lnTo>
                    <a:lnTo>
                      <a:pt x="371" y="354"/>
                    </a:lnTo>
                    <a:lnTo>
                      <a:pt x="367" y="356"/>
                    </a:lnTo>
                    <a:lnTo>
                      <a:pt x="363" y="356"/>
                    </a:lnTo>
                    <a:lnTo>
                      <a:pt x="357" y="356"/>
                    </a:lnTo>
                    <a:lnTo>
                      <a:pt x="351" y="356"/>
                    </a:lnTo>
                    <a:lnTo>
                      <a:pt x="346" y="354"/>
                    </a:lnTo>
                    <a:lnTo>
                      <a:pt x="340" y="352"/>
                    </a:lnTo>
                    <a:lnTo>
                      <a:pt x="332" y="348"/>
                    </a:lnTo>
                    <a:lnTo>
                      <a:pt x="325" y="344"/>
                    </a:lnTo>
                    <a:lnTo>
                      <a:pt x="317" y="341"/>
                    </a:lnTo>
                    <a:lnTo>
                      <a:pt x="307" y="335"/>
                    </a:lnTo>
                    <a:lnTo>
                      <a:pt x="298" y="329"/>
                    </a:lnTo>
                    <a:lnTo>
                      <a:pt x="288" y="323"/>
                    </a:lnTo>
                    <a:lnTo>
                      <a:pt x="278" y="316"/>
                    </a:lnTo>
                    <a:lnTo>
                      <a:pt x="267" y="308"/>
                    </a:lnTo>
                    <a:lnTo>
                      <a:pt x="255" y="300"/>
                    </a:lnTo>
                    <a:lnTo>
                      <a:pt x="244" y="291"/>
                    </a:lnTo>
                    <a:lnTo>
                      <a:pt x="230" y="281"/>
                    </a:lnTo>
                    <a:lnTo>
                      <a:pt x="230" y="281"/>
                    </a:lnTo>
                    <a:lnTo>
                      <a:pt x="230" y="281"/>
                    </a:lnTo>
                  </a:path>
                </a:pathLst>
              </a:custGeom>
              <a:solidFill>
                <a:srgbClr val="c00000"/>
              </a:solidFill>
              <a:ln w="1270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335" name="组合 81"/>
            <p:cNvGrpSpPr/>
            <p:nvPr/>
          </p:nvGrpSpPr>
          <p:grpSpPr>
            <a:xfrm>
              <a:off x="1568520" y="3767040"/>
              <a:ext cx="383400" cy="704520"/>
              <a:chOff x="1568520" y="3767040"/>
              <a:chExt cx="383400" cy="704520"/>
            </a:xfrm>
          </p:grpSpPr>
          <p:sp>
            <p:nvSpPr>
              <p:cNvPr id="336" name="Freeform 8"/>
              <p:cNvSpPr/>
              <p:nvPr/>
            </p:nvSpPr>
            <p:spPr>
              <a:xfrm>
                <a:off x="1631880" y="3767040"/>
                <a:ext cx="169920" cy="2743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05" h="972">
                    <a:moveTo>
                      <a:pt x="325" y="81"/>
                    </a:moveTo>
                    <a:lnTo>
                      <a:pt x="317" y="77"/>
                    </a:lnTo>
                    <a:lnTo>
                      <a:pt x="309" y="73"/>
                    </a:lnTo>
                    <a:lnTo>
                      <a:pt x="304" y="69"/>
                    </a:lnTo>
                    <a:lnTo>
                      <a:pt x="298" y="66"/>
                    </a:lnTo>
                    <a:lnTo>
                      <a:pt x="294" y="62"/>
                    </a:lnTo>
                    <a:lnTo>
                      <a:pt x="288" y="58"/>
                    </a:lnTo>
                    <a:lnTo>
                      <a:pt x="286" y="54"/>
                    </a:lnTo>
                    <a:lnTo>
                      <a:pt x="282" y="50"/>
                    </a:lnTo>
                    <a:lnTo>
                      <a:pt x="280" y="44"/>
                    </a:lnTo>
                    <a:lnTo>
                      <a:pt x="279" y="41"/>
                    </a:lnTo>
                    <a:lnTo>
                      <a:pt x="277" y="37"/>
                    </a:lnTo>
                    <a:lnTo>
                      <a:pt x="277" y="33"/>
                    </a:lnTo>
                    <a:lnTo>
                      <a:pt x="277" y="29"/>
                    </a:lnTo>
                    <a:lnTo>
                      <a:pt x="277" y="25"/>
                    </a:lnTo>
                    <a:lnTo>
                      <a:pt x="279" y="21"/>
                    </a:lnTo>
                    <a:lnTo>
                      <a:pt x="280" y="17"/>
                    </a:lnTo>
                    <a:lnTo>
                      <a:pt x="282" y="14"/>
                    </a:lnTo>
                    <a:lnTo>
                      <a:pt x="286" y="12"/>
                    </a:lnTo>
                    <a:lnTo>
                      <a:pt x="290" y="8"/>
                    </a:lnTo>
                    <a:lnTo>
                      <a:pt x="296" y="6"/>
                    </a:lnTo>
                    <a:lnTo>
                      <a:pt x="300" y="4"/>
                    </a:lnTo>
                    <a:lnTo>
                      <a:pt x="305" y="2"/>
                    </a:lnTo>
                    <a:lnTo>
                      <a:pt x="311" y="0"/>
                    </a:lnTo>
                    <a:lnTo>
                      <a:pt x="319" y="0"/>
                    </a:lnTo>
                    <a:lnTo>
                      <a:pt x="325" y="0"/>
                    </a:lnTo>
                    <a:lnTo>
                      <a:pt x="332" y="0"/>
                    </a:lnTo>
                    <a:lnTo>
                      <a:pt x="342" y="0"/>
                    </a:lnTo>
                    <a:lnTo>
                      <a:pt x="350" y="0"/>
                    </a:lnTo>
                    <a:lnTo>
                      <a:pt x="359" y="0"/>
                    </a:lnTo>
                    <a:lnTo>
                      <a:pt x="371" y="2"/>
                    </a:lnTo>
                    <a:lnTo>
                      <a:pt x="380" y="4"/>
                    </a:lnTo>
                    <a:lnTo>
                      <a:pt x="392" y="6"/>
                    </a:lnTo>
                    <a:lnTo>
                      <a:pt x="415" y="12"/>
                    </a:lnTo>
                    <a:lnTo>
                      <a:pt x="438" y="17"/>
                    </a:lnTo>
                    <a:lnTo>
                      <a:pt x="459" y="25"/>
                    </a:lnTo>
                    <a:lnTo>
                      <a:pt x="478" y="33"/>
                    </a:lnTo>
                    <a:lnTo>
                      <a:pt x="498" y="42"/>
                    </a:lnTo>
                    <a:lnTo>
                      <a:pt x="515" y="54"/>
                    </a:lnTo>
                    <a:lnTo>
                      <a:pt x="532" y="67"/>
                    </a:lnTo>
                    <a:lnTo>
                      <a:pt x="548" y="81"/>
                    </a:lnTo>
                    <a:lnTo>
                      <a:pt x="555" y="89"/>
                    </a:lnTo>
                    <a:lnTo>
                      <a:pt x="563" y="94"/>
                    </a:lnTo>
                    <a:lnTo>
                      <a:pt x="569" y="100"/>
                    </a:lnTo>
                    <a:lnTo>
                      <a:pt x="575" y="108"/>
                    </a:lnTo>
                    <a:lnTo>
                      <a:pt x="580" y="114"/>
                    </a:lnTo>
                    <a:lnTo>
                      <a:pt x="586" y="119"/>
                    </a:lnTo>
                    <a:lnTo>
                      <a:pt x="590" y="125"/>
                    </a:lnTo>
                    <a:lnTo>
                      <a:pt x="594" y="131"/>
                    </a:lnTo>
                    <a:lnTo>
                      <a:pt x="598" y="137"/>
                    </a:lnTo>
                    <a:lnTo>
                      <a:pt x="600" y="142"/>
                    </a:lnTo>
                    <a:lnTo>
                      <a:pt x="602" y="148"/>
                    </a:lnTo>
                    <a:lnTo>
                      <a:pt x="603" y="154"/>
                    </a:lnTo>
                    <a:lnTo>
                      <a:pt x="605" y="158"/>
                    </a:lnTo>
                    <a:lnTo>
                      <a:pt x="605" y="164"/>
                    </a:lnTo>
                    <a:lnTo>
                      <a:pt x="605" y="169"/>
                    </a:lnTo>
                    <a:lnTo>
                      <a:pt x="605" y="173"/>
                    </a:lnTo>
                    <a:lnTo>
                      <a:pt x="603" y="179"/>
                    </a:lnTo>
                    <a:lnTo>
                      <a:pt x="602" y="185"/>
                    </a:lnTo>
                    <a:lnTo>
                      <a:pt x="598" y="194"/>
                    </a:lnTo>
                    <a:lnTo>
                      <a:pt x="592" y="204"/>
                    </a:lnTo>
                    <a:lnTo>
                      <a:pt x="586" y="216"/>
                    </a:lnTo>
                    <a:lnTo>
                      <a:pt x="580" y="227"/>
                    </a:lnTo>
                    <a:lnTo>
                      <a:pt x="573" y="243"/>
                    </a:lnTo>
                    <a:lnTo>
                      <a:pt x="563" y="258"/>
                    </a:lnTo>
                    <a:lnTo>
                      <a:pt x="553" y="275"/>
                    </a:lnTo>
                    <a:lnTo>
                      <a:pt x="542" y="294"/>
                    </a:lnTo>
                    <a:lnTo>
                      <a:pt x="530" y="314"/>
                    </a:lnTo>
                    <a:lnTo>
                      <a:pt x="517" y="335"/>
                    </a:lnTo>
                    <a:lnTo>
                      <a:pt x="503" y="358"/>
                    </a:lnTo>
                    <a:lnTo>
                      <a:pt x="488" y="383"/>
                    </a:lnTo>
                    <a:lnTo>
                      <a:pt x="473" y="408"/>
                    </a:lnTo>
                    <a:lnTo>
                      <a:pt x="455" y="435"/>
                    </a:lnTo>
                    <a:lnTo>
                      <a:pt x="436" y="464"/>
                    </a:lnTo>
                    <a:lnTo>
                      <a:pt x="417" y="493"/>
                    </a:lnTo>
                    <a:lnTo>
                      <a:pt x="398" y="522"/>
                    </a:lnTo>
                    <a:lnTo>
                      <a:pt x="377" y="552"/>
                    </a:lnTo>
                    <a:lnTo>
                      <a:pt x="355" y="585"/>
                    </a:lnTo>
                    <a:lnTo>
                      <a:pt x="332" y="616"/>
                    </a:lnTo>
                    <a:lnTo>
                      <a:pt x="309" y="648"/>
                    </a:lnTo>
                    <a:lnTo>
                      <a:pt x="286" y="681"/>
                    </a:lnTo>
                    <a:lnTo>
                      <a:pt x="261" y="716"/>
                    </a:lnTo>
                    <a:lnTo>
                      <a:pt x="234" y="750"/>
                    </a:lnTo>
                    <a:lnTo>
                      <a:pt x="207" y="785"/>
                    </a:lnTo>
                    <a:lnTo>
                      <a:pt x="180" y="822"/>
                    </a:lnTo>
                    <a:lnTo>
                      <a:pt x="152" y="858"/>
                    </a:lnTo>
                    <a:lnTo>
                      <a:pt x="123" y="895"/>
                    </a:lnTo>
                    <a:lnTo>
                      <a:pt x="94" y="933"/>
                    </a:lnTo>
                    <a:lnTo>
                      <a:pt x="63" y="972"/>
                    </a:lnTo>
                    <a:lnTo>
                      <a:pt x="0" y="922"/>
                    </a:lnTo>
                    <a:lnTo>
                      <a:pt x="21" y="887"/>
                    </a:lnTo>
                    <a:lnTo>
                      <a:pt x="42" y="852"/>
                    </a:lnTo>
                    <a:lnTo>
                      <a:pt x="63" y="820"/>
                    </a:lnTo>
                    <a:lnTo>
                      <a:pt x="82" y="785"/>
                    </a:lnTo>
                    <a:lnTo>
                      <a:pt x="102" y="750"/>
                    </a:lnTo>
                    <a:lnTo>
                      <a:pt x="121" y="718"/>
                    </a:lnTo>
                    <a:lnTo>
                      <a:pt x="140" y="683"/>
                    </a:lnTo>
                    <a:lnTo>
                      <a:pt x="157" y="648"/>
                    </a:lnTo>
                    <a:lnTo>
                      <a:pt x="175" y="616"/>
                    </a:lnTo>
                    <a:lnTo>
                      <a:pt x="192" y="581"/>
                    </a:lnTo>
                    <a:lnTo>
                      <a:pt x="207" y="548"/>
                    </a:lnTo>
                    <a:lnTo>
                      <a:pt x="223" y="514"/>
                    </a:lnTo>
                    <a:lnTo>
                      <a:pt x="238" y="479"/>
                    </a:lnTo>
                    <a:lnTo>
                      <a:pt x="254" y="446"/>
                    </a:lnTo>
                    <a:lnTo>
                      <a:pt x="267" y="412"/>
                    </a:lnTo>
                    <a:lnTo>
                      <a:pt x="280" y="379"/>
                    </a:lnTo>
                    <a:lnTo>
                      <a:pt x="294" y="346"/>
                    </a:lnTo>
                    <a:lnTo>
                      <a:pt x="304" y="316"/>
                    </a:lnTo>
                    <a:lnTo>
                      <a:pt x="315" y="287"/>
                    </a:lnTo>
                    <a:lnTo>
                      <a:pt x="323" y="260"/>
                    </a:lnTo>
                    <a:lnTo>
                      <a:pt x="330" y="235"/>
                    </a:lnTo>
                    <a:lnTo>
                      <a:pt x="336" y="212"/>
                    </a:lnTo>
                    <a:lnTo>
                      <a:pt x="342" y="191"/>
                    </a:lnTo>
                    <a:lnTo>
                      <a:pt x="344" y="171"/>
                    </a:lnTo>
                    <a:lnTo>
                      <a:pt x="346" y="154"/>
                    </a:lnTo>
                    <a:lnTo>
                      <a:pt x="348" y="137"/>
                    </a:lnTo>
                    <a:lnTo>
                      <a:pt x="346" y="123"/>
                    </a:lnTo>
                    <a:lnTo>
                      <a:pt x="344" y="112"/>
                    </a:lnTo>
                    <a:lnTo>
                      <a:pt x="342" y="100"/>
                    </a:lnTo>
                    <a:lnTo>
                      <a:pt x="338" y="92"/>
                    </a:lnTo>
                    <a:lnTo>
                      <a:pt x="332" y="87"/>
                    </a:lnTo>
                    <a:lnTo>
                      <a:pt x="325" y="81"/>
                    </a:lnTo>
                  </a:path>
                </a:pathLst>
              </a:cu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7" name="Freeform 9"/>
              <p:cNvSpPr/>
              <p:nvPr/>
            </p:nvSpPr>
            <p:spPr>
              <a:xfrm>
                <a:off x="1614600" y="4150800"/>
                <a:ext cx="205920" cy="5292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35" h="187">
                    <a:moveTo>
                      <a:pt x="0" y="99"/>
                    </a:moveTo>
                    <a:lnTo>
                      <a:pt x="27" y="93"/>
                    </a:lnTo>
                    <a:lnTo>
                      <a:pt x="54" y="87"/>
                    </a:lnTo>
                    <a:lnTo>
                      <a:pt x="79" y="81"/>
                    </a:lnTo>
                    <a:lnTo>
                      <a:pt x="104" y="75"/>
                    </a:lnTo>
                    <a:lnTo>
                      <a:pt x="129" y="70"/>
                    </a:lnTo>
                    <a:lnTo>
                      <a:pt x="152" y="66"/>
                    </a:lnTo>
                    <a:lnTo>
                      <a:pt x="175" y="60"/>
                    </a:lnTo>
                    <a:lnTo>
                      <a:pt x="196" y="56"/>
                    </a:lnTo>
                    <a:lnTo>
                      <a:pt x="219" y="50"/>
                    </a:lnTo>
                    <a:lnTo>
                      <a:pt x="241" y="47"/>
                    </a:lnTo>
                    <a:lnTo>
                      <a:pt x="260" y="43"/>
                    </a:lnTo>
                    <a:lnTo>
                      <a:pt x="279" y="39"/>
                    </a:lnTo>
                    <a:lnTo>
                      <a:pt x="298" y="35"/>
                    </a:lnTo>
                    <a:lnTo>
                      <a:pt x="317" y="31"/>
                    </a:lnTo>
                    <a:lnTo>
                      <a:pt x="335" y="27"/>
                    </a:lnTo>
                    <a:lnTo>
                      <a:pt x="352" y="25"/>
                    </a:lnTo>
                    <a:lnTo>
                      <a:pt x="369" y="22"/>
                    </a:lnTo>
                    <a:lnTo>
                      <a:pt x="385" y="20"/>
                    </a:lnTo>
                    <a:lnTo>
                      <a:pt x="400" y="16"/>
                    </a:lnTo>
                    <a:lnTo>
                      <a:pt x="414" y="14"/>
                    </a:lnTo>
                    <a:lnTo>
                      <a:pt x="427" y="12"/>
                    </a:lnTo>
                    <a:lnTo>
                      <a:pt x="440" y="10"/>
                    </a:lnTo>
                    <a:lnTo>
                      <a:pt x="454" y="8"/>
                    </a:lnTo>
                    <a:lnTo>
                      <a:pt x="465" y="6"/>
                    </a:lnTo>
                    <a:lnTo>
                      <a:pt x="477" y="4"/>
                    </a:lnTo>
                    <a:lnTo>
                      <a:pt x="487" y="4"/>
                    </a:lnTo>
                    <a:lnTo>
                      <a:pt x="496" y="2"/>
                    </a:lnTo>
                    <a:lnTo>
                      <a:pt x="506" y="2"/>
                    </a:lnTo>
                    <a:lnTo>
                      <a:pt x="515" y="0"/>
                    </a:lnTo>
                    <a:lnTo>
                      <a:pt x="523" y="0"/>
                    </a:lnTo>
                    <a:lnTo>
                      <a:pt x="531" y="0"/>
                    </a:lnTo>
                    <a:lnTo>
                      <a:pt x="537" y="0"/>
                    </a:lnTo>
                    <a:lnTo>
                      <a:pt x="560" y="0"/>
                    </a:lnTo>
                    <a:lnTo>
                      <a:pt x="583" y="2"/>
                    </a:lnTo>
                    <a:lnTo>
                      <a:pt x="604" y="2"/>
                    </a:lnTo>
                    <a:lnTo>
                      <a:pt x="623" y="4"/>
                    </a:lnTo>
                    <a:lnTo>
                      <a:pt x="640" y="8"/>
                    </a:lnTo>
                    <a:lnTo>
                      <a:pt x="658" y="10"/>
                    </a:lnTo>
                    <a:lnTo>
                      <a:pt x="671" y="14"/>
                    </a:lnTo>
                    <a:lnTo>
                      <a:pt x="685" y="18"/>
                    </a:lnTo>
                    <a:lnTo>
                      <a:pt x="696" y="23"/>
                    </a:lnTo>
                    <a:lnTo>
                      <a:pt x="708" y="27"/>
                    </a:lnTo>
                    <a:lnTo>
                      <a:pt x="715" y="31"/>
                    </a:lnTo>
                    <a:lnTo>
                      <a:pt x="723" y="35"/>
                    </a:lnTo>
                    <a:lnTo>
                      <a:pt x="729" y="39"/>
                    </a:lnTo>
                    <a:lnTo>
                      <a:pt x="731" y="43"/>
                    </a:lnTo>
                    <a:lnTo>
                      <a:pt x="735" y="47"/>
                    </a:lnTo>
                    <a:lnTo>
                      <a:pt x="735" y="50"/>
                    </a:lnTo>
                    <a:lnTo>
                      <a:pt x="735" y="54"/>
                    </a:lnTo>
                    <a:lnTo>
                      <a:pt x="731" y="58"/>
                    </a:lnTo>
                    <a:lnTo>
                      <a:pt x="729" y="64"/>
                    </a:lnTo>
                    <a:lnTo>
                      <a:pt x="723" y="70"/>
                    </a:lnTo>
                    <a:lnTo>
                      <a:pt x="715" y="75"/>
                    </a:lnTo>
                    <a:lnTo>
                      <a:pt x="708" y="83"/>
                    </a:lnTo>
                    <a:lnTo>
                      <a:pt x="696" y="91"/>
                    </a:lnTo>
                    <a:lnTo>
                      <a:pt x="685" y="100"/>
                    </a:lnTo>
                    <a:lnTo>
                      <a:pt x="679" y="104"/>
                    </a:lnTo>
                    <a:lnTo>
                      <a:pt x="671" y="110"/>
                    </a:lnTo>
                    <a:lnTo>
                      <a:pt x="664" y="114"/>
                    </a:lnTo>
                    <a:lnTo>
                      <a:pt x="654" y="118"/>
                    </a:lnTo>
                    <a:lnTo>
                      <a:pt x="646" y="122"/>
                    </a:lnTo>
                    <a:lnTo>
                      <a:pt x="637" y="125"/>
                    </a:lnTo>
                    <a:lnTo>
                      <a:pt x="625" y="127"/>
                    </a:lnTo>
                    <a:lnTo>
                      <a:pt x="614" y="131"/>
                    </a:lnTo>
                    <a:lnTo>
                      <a:pt x="602" y="133"/>
                    </a:lnTo>
                    <a:lnTo>
                      <a:pt x="589" y="137"/>
                    </a:lnTo>
                    <a:lnTo>
                      <a:pt x="575" y="139"/>
                    </a:lnTo>
                    <a:lnTo>
                      <a:pt x="562" y="141"/>
                    </a:lnTo>
                    <a:lnTo>
                      <a:pt x="546" y="143"/>
                    </a:lnTo>
                    <a:lnTo>
                      <a:pt x="531" y="145"/>
                    </a:lnTo>
                    <a:lnTo>
                      <a:pt x="515" y="147"/>
                    </a:lnTo>
                    <a:lnTo>
                      <a:pt x="498" y="149"/>
                    </a:lnTo>
                    <a:lnTo>
                      <a:pt x="481" y="150"/>
                    </a:lnTo>
                    <a:lnTo>
                      <a:pt x="462" y="152"/>
                    </a:lnTo>
                    <a:lnTo>
                      <a:pt x="439" y="154"/>
                    </a:lnTo>
                    <a:lnTo>
                      <a:pt x="415" y="156"/>
                    </a:lnTo>
                    <a:lnTo>
                      <a:pt x="391" y="158"/>
                    </a:lnTo>
                    <a:lnTo>
                      <a:pt x="364" y="160"/>
                    </a:lnTo>
                    <a:lnTo>
                      <a:pt x="337" y="162"/>
                    </a:lnTo>
                    <a:lnTo>
                      <a:pt x="306" y="166"/>
                    </a:lnTo>
                    <a:lnTo>
                      <a:pt x="273" y="168"/>
                    </a:lnTo>
                    <a:lnTo>
                      <a:pt x="241" y="170"/>
                    </a:lnTo>
                    <a:lnTo>
                      <a:pt x="204" y="172"/>
                    </a:lnTo>
                    <a:lnTo>
                      <a:pt x="167" y="175"/>
                    </a:lnTo>
                    <a:lnTo>
                      <a:pt x="127" y="177"/>
                    </a:lnTo>
                    <a:lnTo>
                      <a:pt x="87" y="181"/>
                    </a:lnTo>
                    <a:lnTo>
                      <a:pt x="44" y="183"/>
                    </a:lnTo>
                    <a:lnTo>
                      <a:pt x="0" y="187"/>
                    </a:lnTo>
                    <a:lnTo>
                      <a:pt x="0" y="99"/>
                    </a:lnTo>
                  </a:path>
                </a:pathLst>
              </a:cu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8" name="Freeform 10"/>
              <p:cNvSpPr/>
              <p:nvPr/>
            </p:nvSpPr>
            <p:spPr>
              <a:xfrm>
                <a:off x="1604520" y="4316400"/>
                <a:ext cx="223560" cy="4896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96" h="175">
                    <a:moveTo>
                      <a:pt x="0" y="75"/>
                    </a:moveTo>
                    <a:lnTo>
                      <a:pt x="38" y="70"/>
                    </a:lnTo>
                    <a:lnTo>
                      <a:pt x="77" y="64"/>
                    </a:lnTo>
                    <a:lnTo>
                      <a:pt x="113" y="58"/>
                    </a:lnTo>
                    <a:lnTo>
                      <a:pt x="150" y="52"/>
                    </a:lnTo>
                    <a:lnTo>
                      <a:pt x="184" y="46"/>
                    </a:lnTo>
                    <a:lnTo>
                      <a:pt x="219" y="43"/>
                    </a:lnTo>
                    <a:lnTo>
                      <a:pt x="252" y="37"/>
                    </a:lnTo>
                    <a:lnTo>
                      <a:pt x="282" y="33"/>
                    </a:lnTo>
                    <a:lnTo>
                      <a:pt x="313" y="29"/>
                    </a:lnTo>
                    <a:lnTo>
                      <a:pt x="342" y="25"/>
                    </a:lnTo>
                    <a:lnTo>
                      <a:pt x="371" y="21"/>
                    </a:lnTo>
                    <a:lnTo>
                      <a:pt x="398" y="20"/>
                    </a:lnTo>
                    <a:lnTo>
                      <a:pt x="425" y="16"/>
                    </a:lnTo>
                    <a:lnTo>
                      <a:pt x="450" y="14"/>
                    </a:lnTo>
                    <a:lnTo>
                      <a:pt x="473" y="10"/>
                    </a:lnTo>
                    <a:lnTo>
                      <a:pt x="496" y="8"/>
                    </a:lnTo>
                    <a:lnTo>
                      <a:pt x="517" y="6"/>
                    </a:lnTo>
                    <a:lnTo>
                      <a:pt x="538" y="4"/>
                    </a:lnTo>
                    <a:lnTo>
                      <a:pt x="557" y="2"/>
                    </a:lnTo>
                    <a:lnTo>
                      <a:pt x="576" y="2"/>
                    </a:lnTo>
                    <a:lnTo>
                      <a:pt x="594" y="0"/>
                    </a:lnTo>
                    <a:lnTo>
                      <a:pt x="611" y="0"/>
                    </a:lnTo>
                    <a:lnTo>
                      <a:pt x="626" y="0"/>
                    </a:lnTo>
                    <a:lnTo>
                      <a:pt x="640" y="0"/>
                    </a:lnTo>
                    <a:lnTo>
                      <a:pt x="653" y="0"/>
                    </a:lnTo>
                    <a:lnTo>
                      <a:pt x="665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6" y="2"/>
                    </a:lnTo>
                    <a:lnTo>
                      <a:pt x="703" y="2"/>
                    </a:lnTo>
                    <a:lnTo>
                      <a:pt x="709" y="4"/>
                    </a:lnTo>
                    <a:lnTo>
                      <a:pt x="715" y="6"/>
                    </a:lnTo>
                    <a:lnTo>
                      <a:pt x="725" y="10"/>
                    </a:lnTo>
                    <a:lnTo>
                      <a:pt x="734" y="14"/>
                    </a:lnTo>
                    <a:lnTo>
                      <a:pt x="742" y="20"/>
                    </a:lnTo>
                    <a:lnTo>
                      <a:pt x="750" y="25"/>
                    </a:lnTo>
                    <a:lnTo>
                      <a:pt x="757" y="29"/>
                    </a:lnTo>
                    <a:lnTo>
                      <a:pt x="765" y="35"/>
                    </a:lnTo>
                    <a:lnTo>
                      <a:pt x="771" y="43"/>
                    </a:lnTo>
                    <a:lnTo>
                      <a:pt x="776" y="48"/>
                    </a:lnTo>
                    <a:lnTo>
                      <a:pt x="780" y="54"/>
                    </a:lnTo>
                    <a:lnTo>
                      <a:pt x="784" y="62"/>
                    </a:lnTo>
                    <a:lnTo>
                      <a:pt x="788" y="70"/>
                    </a:lnTo>
                    <a:lnTo>
                      <a:pt x="790" y="77"/>
                    </a:lnTo>
                    <a:lnTo>
                      <a:pt x="794" y="85"/>
                    </a:lnTo>
                    <a:lnTo>
                      <a:pt x="794" y="95"/>
                    </a:lnTo>
                    <a:lnTo>
                      <a:pt x="796" y="102"/>
                    </a:lnTo>
                    <a:lnTo>
                      <a:pt x="796" y="112"/>
                    </a:lnTo>
                    <a:lnTo>
                      <a:pt x="782" y="112"/>
                    </a:lnTo>
                    <a:lnTo>
                      <a:pt x="769" y="112"/>
                    </a:lnTo>
                    <a:lnTo>
                      <a:pt x="755" y="112"/>
                    </a:lnTo>
                    <a:lnTo>
                      <a:pt x="740" y="114"/>
                    </a:lnTo>
                    <a:lnTo>
                      <a:pt x="725" y="114"/>
                    </a:lnTo>
                    <a:lnTo>
                      <a:pt x="707" y="114"/>
                    </a:lnTo>
                    <a:lnTo>
                      <a:pt x="690" y="116"/>
                    </a:lnTo>
                    <a:lnTo>
                      <a:pt x="671" y="116"/>
                    </a:lnTo>
                    <a:lnTo>
                      <a:pt x="651" y="118"/>
                    </a:lnTo>
                    <a:lnTo>
                      <a:pt x="632" y="118"/>
                    </a:lnTo>
                    <a:lnTo>
                      <a:pt x="611" y="120"/>
                    </a:lnTo>
                    <a:lnTo>
                      <a:pt x="590" y="121"/>
                    </a:lnTo>
                    <a:lnTo>
                      <a:pt x="569" y="121"/>
                    </a:lnTo>
                    <a:lnTo>
                      <a:pt x="546" y="123"/>
                    </a:lnTo>
                    <a:lnTo>
                      <a:pt x="523" y="125"/>
                    </a:lnTo>
                    <a:lnTo>
                      <a:pt x="498" y="127"/>
                    </a:lnTo>
                    <a:lnTo>
                      <a:pt x="473" y="129"/>
                    </a:lnTo>
                    <a:lnTo>
                      <a:pt x="446" y="131"/>
                    </a:lnTo>
                    <a:lnTo>
                      <a:pt x="419" y="135"/>
                    </a:lnTo>
                    <a:lnTo>
                      <a:pt x="392" y="137"/>
                    </a:lnTo>
                    <a:lnTo>
                      <a:pt x="363" y="139"/>
                    </a:lnTo>
                    <a:lnTo>
                      <a:pt x="334" y="143"/>
                    </a:lnTo>
                    <a:lnTo>
                      <a:pt x="303" y="145"/>
                    </a:lnTo>
                    <a:lnTo>
                      <a:pt x="273" y="148"/>
                    </a:lnTo>
                    <a:lnTo>
                      <a:pt x="242" y="150"/>
                    </a:lnTo>
                    <a:lnTo>
                      <a:pt x="209" y="154"/>
                    </a:lnTo>
                    <a:lnTo>
                      <a:pt x="177" y="158"/>
                    </a:lnTo>
                    <a:lnTo>
                      <a:pt x="142" y="160"/>
                    </a:lnTo>
                    <a:lnTo>
                      <a:pt x="107" y="164"/>
                    </a:lnTo>
                    <a:lnTo>
                      <a:pt x="73" y="168"/>
                    </a:lnTo>
                    <a:lnTo>
                      <a:pt x="36" y="172"/>
                    </a:lnTo>
                    <a:lnTo>
                      <a:pt x="0" y="175"/>
                    </a:lnTo>
                    <a:lnTo>
                      <a:pt x="0" y="75"/>
                    </a:lnTo>
                  </a:path>
                </a:pathLst>
              </a:cu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39" name="Freeform 11"/>
              <p:cNvSpPr/>
              <p:nvPr/>
            </p:nvSpPr>
            <p:spPr>
              <a:xfrm>
                <a:off x="1596960" y="3972960"/>
                <a:ext cx="354960" cy="498600"/>
              </a:xfrm>
              <a:custGeom>
                <a:avLst/>
                <a:gdLst>
                  <a:gd name="textAreaLeft" fmla="*/ 0 w 354960"/>
                  <a:gd name="textAreaRight" fmla="*/ 355320 w 35496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1263" h="1767">
                    <a:moveTo>
                      <a:pt x="0" y="195"/>
                    </a:moveTo>
                    <a:lnTo>
                      <a:pt x="25" y="195"/>
                    </a:lnTo>
                    <a:lnTo>
                      <a:pt x="48" y="195"/>
                    </a:lnTo>
                    <a:lnTo>
                      <a:pt x="73" y="193"/>
                    </a:lnTo>
                    <a:lnTo>
                      <a:pt x="96" y="193"/>
                    </a:lnTo>
                    <a:lnTo>
                      <a:pt x="117" y="193"/>
                    </a:lnTo>
                    <a:lnTo>
                      <a:pt x="140" y="191"/>
                    </a:lnTo>
                    <a:lnTo>
                      <a:pt x="161" y="189"/>
                    </a:lnTo>
                    <a:lnTo>
                      <a:pt x="182" y="187"/>
                    </a:lnTo>
                    <a:lnTo>
                      <a:pt x="202" y="185"/>
                    </a:lnTo>
                    <a:lnTo>
                      <a:pt x="221" y="183"/>
                    </a:lnTo>
                    <a:lnTo>
                      <a:pt x="240" y="181"/>
                    </a:lnTo>
                    <a:lnTo>
                      <a:pt x="259" y="177"/>
                    </a:lnTo>
                    <a:lnTo>
                      <a:pt x="277" y="175"/>
                    </a:lnTo>
                    <a:lnTo>
                      <a:pt x="296" y="172"/>
                    </a:lnTo>
                    <a:lnTo>
                      <a:pt x="311" y="168"/>
                    </a:lnTo>
                    <a:lnTo>
                      <a:pt x="328" y="164"/>
                    </a:lnTo>
                    <a:lnTo>
                      <a:pt x="363" y="156"/>
                    </a:lnTo>
                    <a:lnTo>
                      <a:pt x="398" y="149"/>
                    </a:lnTo>
                    <a:lnTo>
                      <a:pt x="436" y="139"/>
                    </a:lnTo>
                    <a:lnTo>
                      <a:pt x="475" y="131"/>
                    </a:lnTo>
                    <a:lnTo>
                      <a:pt x="515" y="122"/>
                    </a:lnTo>
                    <a:lnTo>
                      <a:pt x="557" y="114"/>
                    </a:lnTo>
                    <a:lnTo>
                      <a:pt x="600" y="104"/>
                    </a:lnTo>
                    <a:lnTo>
                      <a:pt x="646" y="95"/>
                    </a:lnTo>
                    <a:lnTo>
                      <a:pt x="669" y="91"/>
                    </a:lnTo>
                    <a:lnTo>
                      <a:pt x="690" y="85"/>
                    </a:lnTo>
                    <a:lnTo>
                      <a:pt x="711" y="81"/>
                    </a:lnTo>
                    <a:lnTo>
                      <a:pt x="730" y="75"/>
                    </a:lnTo>
                    <a:lnTo>
                      <a:pt x="748" y="72"/>
                    </a:lnTo>
                    <a:lnTo>
                      <a:pt x="765" y="68"/>
                    </a:lnTo>
                    <a:lnTo>
                      <a:pt x="780" y="64"/>
                    </a:lnTo>
                    <a:lnTo>
                      <a:pt x="794" y="58"/>
                    </a:lnTo>
                    <a:lnTo>
                      <a:pt x="807" y="54"/>
                    </a:lnTo>
                    <a:lnTo>
                      <a:pt x="819" y="50"/>
                    </a:lnTo>
                    <a:lnTo>
                      <a:pt x="830" y="47"/>
                    </a:lnTo>
                    <a:lnTo>
                      <a:pt x="840" y="43"/>
                    </a:lnTo>
                    <a:lnTo>
                      <a:pt x="848" y="39"/>
                    </a:lnTo>
                    <a:lnTo>
                      <a:pt x="855" y="35"/>
                    </a:lnTo>
                    <a:lnTo>
                      <a:pt x="861" y="31"/>
                    </a:lnTo>
                    <a:lnTo>
                      <a:pt x="865" y="27"/>
                    </a:lnTo>
                    <a:lnTo>
                      <a:pt x="873" y="20"/>
                    </a:lnTo>
                    <a:lnTo>
                      <a:pt x="880" y="14"/>
                    </a:lnTo>
                    <a:lnTo>
                      <a:pt x="890" y="8"/>
                    </a:lnTo>
                    <a:lnTo>
                      <a:pt x="898" y="4"/>
                    </a:lnTo>
                    <a:lnTo>
                      <a:pt x="905" y="2"/>
                    </a:lnTo>
                    <a:lnTo>
                      <a:pt x="915" y="0"/>
                    </a:lnTo>
                    <a:lnTo>
                      <a:pt x="923" y="0"/>
                    </a:lnTo>
                    <a:lnTo>
                      <a:pt x="932" y="2"/>
                    </a:lnTo>
                    <a:lnTo>
                      <a:pt x="942" y="4"/>
                    </a:lnTo>
                    <a:lnTo>
                      <a:pt x="953" y="8"/>
                    </a:lnTo>
                    <a:lnTo>
                      <a:pt x="967" y="12"/>
                    </a:lnTo>
                    <a:lnTo>
                      <a:pt x="980" y="18"/>
                    </a:lnTo>
                    <a:lnTo>
                      <a:pt x="998" y="23"/>
                    </a:lnTo>
                    <a:lnTo>
                      <a:pt x="1013" y="31"/>
                    </a:lnTo>
                    <a:lnTo>
                      <a:pt x="1032" y="41"/>
                    </a:lnTo>
                    <a:lnTo>
                      <a:pt x="1051" y="52"/>
                    </a:lnTo>
                    <a:lnTo>
                      <a:pt x="1071" y="64"/>
                    </a:lnTo>
                    <a:lnTo>
                      <a:pt x="1090" y="73"/>
                    </a:lnTo>
                    <a:lnTo>
                      <a:pt x="1109" y="85"/>
                    </a:lnTo>
                    <a:lnTo>
                      <a:pt x="1128" y="97"/>
                    </a:lnTo>
                    <a:lnTo>
                      <a:pt x="1146" y="108"/>
                    </a:lnTo>
                    <a:lnTo>
                      <a:pt x="1163" y="120"/>
                    </a:lnTo>
                    <a:lnTo>
                      <a:pt x="1178" y="133"/>
                    </a:lnTo>
                    <a:lnTo>
                      <a:pt x="1194" y="145"/>
                    </a:lnTo>
                    <a:lnTo>
                      <a:pt x="1209" y="156"/>
                    </a:lnTo>
                    <a:lnTo>
                      <a:pt x="1223" y="168"/>
                    </a:lnTo>
                    <a:lnTo>
                      <a:pt x="1234" y="177"/>
                    </a:lnTo>
                    <a:lnTo>
                      <a:pt x="1244" y="189"/>
                    </a:lnTo>
                    <a:lnTo>
                      <a:pt x="1251" y="197"/>
                    </a:lnTo>
                    <a:lnTo>
                      <a:pt x="1257" y="206"/>
                    </a:lnTo>
                    <a:lnTo>
                      <a:pt x="1261" y="212"/>
                    </a:lnTo>
                    <a:lnTo>
                      <a:pt x="1263" y="220"/>
                    </a:lnTo>
                    <a:lnTo>
                      <a:pt x="1263" y="225"/>
                    </a:lnTo>
                    <a:lnTo>
                      <a:pt x="1263" y="231"/>
                    </a:lnTo>
                    <a:lnTo>
                      <a:pt x="1259" y="237"/>
                    </a:lnTo>
                    <a:lnTo>
                      <a:pt x="1255" y="243"/>
                    </a:lnTo>
                    <a:lnTo>
                      <a:pt x="1250" y="249"/>
                    </a:lnTo>
                    <a:lnTo>
                      <a:pt x="1240" y="254"/>
                    </a:lnTo>
                    <a:lnTo>
                      <a:pt x="1236" y="256"/>
                    </a:lnTo>
                    <a:lnTo>
                      <a:pt x="1230" y="258"/>
                    </a:lnTo>
                    <a:lnTo>
                      <a:pt x="1225" y="262"/>
                    </a:lnTo>
                    <a:lnTo>
                      <a:pt x="1219" y="264"/>
                    </a:lnTo>
                    <a:lnTo>
                      <a:pt x="1215" y="266"/>
                    </a:lnTo>
                    <a:lnTo>
                      <a:pt x="1213" y="268"/>
                    </a:lnTo>
                    <a:lnTo>
                      <a:pt x="1211" y="270"/>
                    </a:lnTo>
                    <a:lnTo>
                      <a:pt x="1207" y="272"/>
                    </a:lnTo>
                    <a:lnTo>
                      <a:pt x="1205" y="275"/>
                    </a:lnTo>
                    <a:lnTo>
                      <a:pt x="1203" y="279"/>
                    </a:lnTo>
                    <a:lnTo>
                      <a:pt x="1200" y="283"/>
                    </a:lnTo>
                    <a:lnTo>
                      <a:pt x="1198" y="289"/>
                    </a:lnTo>
                    <a:lnTo>
                      <a:pt x="1196" y="295"/>
                    </a:lnTo>
                    <a:lnTo>
                      <a:pt x="1194" y="300"/>
                    </a:lnTo>
                    <a:lnTo>
                      <a:pt x="1192" y="306"/>
                    </a:lnTo>
                    <a:lnTo>
                      <a:pt x="1190" y="314"/>
                    </a:lnTo>
                    <a:lnTo>
                      <a:pt x="1190" y="322"/>
                    </a:lnTo>
                    <a:lnTo>
                      <a:pt x="1188" y="329"/>
                    </a:lnTo>
                    <a:lnTo>
                      <a:pt x="1186" y="337"/>
                    </a:lnTo>
                    <a:lnTo>
                      <a:pt x="1186" y="347"/>
                    </a:lnTo>
                    <a:lnTo>
                      <a:pt x="1184" y="356"/>
                    </a:lnTo>
                    <a:lnTo>
                      <a:pt x="1184" y="366"/>
                    </a:lnTo>
                    <a:lnTo>
                      <a:pt x="1182" y="376"/>
                    </a:lnTo>
                    <a:lnTo>
                      <a:pt x="1182" y="387"/>
                    </a:lnTo>
                    <a:lnTo>
                      <a:pt x="1180" y="399"/>
                    </a:lnTo>
                    <a:lnTo>
                      <a:pt x="1180" y="410"/>
                    </a:lnTo>
                    <a:lnTo>
                      <a:pt x="1180" y="422"/>
                    </a:lnTo>
                    <a:lnTo>
                      <a:pt x="1180" y="435"/>
                    </a:lnTo>
                    <a:lnTo>
                      <a:pt x="1180" y="449"/>
                    </a:lnTo>
                    <a:lnTo>
                      <a:pt x="1180" y="462"/>
                    </a:lnTo>
                    <a:lnTo>
                      <a:pt x="1180" y="477"/>
                    </a:lnTo>
                    <a:lnTo>
                      <a:pt x="1180" y="491"/>
                    </a:lnTo>
                    <a:lnTo>
                      <a:pt x="1180" y="506"/>
                    </a:lnTo>
                    <a:lnTo>
                      <a:pt x="1180" y="524"/>
                    </a:lnTo>
                    <a:lnTo>
                      <a:pt x="1182" y="539"/>
                    </a:lnTo>
                    <a:lnTo>
                      <a:pt x="1182" y="556"/>
                    </a:lnTo>
                    <a:lnTo>
                      <a:pt x="1184" y="624"/>
                    </a:lnTo>
                    <a:lnTo>
                      <a:pt x="1186" y="693"/>
                    </a:lnTo>
                    <a:lnTo>
                      <a:pt x="1186" y="758"/>
                    </a:lnTo>
                    <a:lnTo>
                      <a:pt x="1186" y="824"/>
                    </a:lnTo>
                    <a:lnTo>
                      <a:pt x="1186" y="889"/>
                    </a:lnTo>
                    <a:lnTo>
                      <a:pt x="1184" y="955"/>
                    </a:lnTo>
                    <a:lnTo>
                      <a:pt x="1180" y="1018"/>
                    </a:lnTo>
                    <a:lnTo>
                      <a:pt x="1176" y="1080"/>
                    </a:lnTo>
                    <a:lnTo>
                      <a:pt x="1175" y="1110"/>
                    </a:lnTo>
                    <a:lnTo>
                      <a:pt x="1171" y="1139"/>
                    </a:lnTo>
                    <a:lnTo>
                      <a:pt x="1169" y="1168"/>
                    </a:lnTo>
                    <a:lnTo>
                      <a:pt x="1165" y="1195"/>
                    </a:lnTo>
                    <a:lnTo>
                      <a:pt x="1163" y="1222"/>
                    </a:lnTo>
                    <a:lnTo>
                      <a:pt x="1159" y="1247"/>
                    </a:lnTo>
                    <a:lnTo>
                      <a:pt x="1157" y="1272"/>
                    </a:lnTo>
                    <a:lnTo>
                      <a:pt x="1153" y="1295"/>
                    </a:lnTo>
                    <a:lnTo>
                      <a:pt x="1150" y="1318"/>
                    </a:lnTo>
                    <a:lnTo>
                      <a:pt x="1146" y="1339"/>
                    </a:lnTo>
                    <a:lnTo>
                      <a:pt x="1142" y="1361"/>
                    </a:lnTo>
                    <a:lnTo>
                      <a:pt x="1138" y="1380"/>
                    </a:lnTo>
                    <a:lnTo>
                      <a:pt x="1134" y="1399"/>
                    </a:lnTo>
                    <a:lnTo>
                      <a:pt x="1130" y="1416"/>
                    </a:lnTo>
                    <a:lnTo>
                      <a:pt x="1125" y="1432"/>
                    </a:lnTo>
                    <a:lnTo>
                      <a:pt x="1121" y="1447"/>
                    </a:lnTo>
                    <a:lnTo>
                      <a:pt x="1111" y="1476"/>
                    </a:lnTo>
                    <a:lnTo>
                      <a:pt x="1100" y="1505"/>
                    </a:lnTo>
                    <a:lnTo>
                      <a:pt x="1088" y="1534"/>
                    </a:lnTo>
                    <a:lnTo>
                      <a:pt x="1075" y="1563"/>
                    </a:lnTo>
                    <a:lnTo>
                      <a:pt x="1061" y="1590"/>
                    </a:lnTo>
                    <a:lnTo>
                      <a:pt x="1046" y="1616"/>
                    </a:lnTo>
                    <a:lnTo>
                      <a:pt x="1030" y="1643"/>
                    </a:lnTo>
                    <a:lnTo>
                      <a:pt x="1013" y="1670"/>
                    </a:lnTo>
                    <a:lnTo>
                      <a:pt x="1005" y="1684"/>
                    </a:lnTo>
                    <a:lnTo>
                      <a:pt x="998" y="1695"/>
                    </a:lnTo>
                    <a:lnTo>
                      <a:pt x="988" y="1707"/>
                    </a:lnTo>
                    <a:lnTo>
                      <a:pt x="980" y="1716"/>
                    </a:lnTo>
                    <a:lnTo>
                      <a:pt x="973" y="1726"/>
                    </a:lnTo>
                    <a:lnTo>
                      <a:pt x="967" y="1734"/>
                    </a:lnTo>
                    <a:lnTo>
                      <a:pt x="959" y="1742"/>
                    </a:lnTo>
                    <a:lnTo>
                      <a:pt x="951" y="1747"/>
                    </a:lnTo>
                    <a:lnTo>
                      <a:pt x="944" y="1753"/>
                    </a:lnTo>
                    <a:lnTo>
                      <a:pt x="938" y="1757"/>
                    </a:lnTo>
                    <a:lnTo>
                      <a:pt x="930" y="1761"/>
                    </a:lnTo>
                    <a:lnTo>
                      <a:pt x="925" y="1763"/>
                    </a:lnTo>
                    <a:lnTo>
                      <a:pt x="919" y="1765"/>
                    </a:lnTo>
                    <a:lnTo>
                      <a:pt x="913" y="1767"/>
                    </a:lnTo>
                    <a:lnTo>
                      <a:pt x="907" y="1767"/>
                    </a:lnTo>
                    <a:lnTo>
                      <a:pt x="901" y="1765"/>
                    </a:lnTo>
                    <a:lnTo>
                      <a:pt x="896" y="1763"/>
                    </a:lnTo>
                    <a:lnTo>
                      <a:pt x="892" y="1761"/>
                    </a:lnTo>
                    <a:lnTo>
                      <a:pt x="888" y="1757"/>
                    </a:lnTo>
                    <a:lnTo>
                      <a:pt x="884" y="1753"/>
                    </a:lnTo>
                    <a:lnTo>
                      <a:pt x="880" y="1747"/>
                    </a:lnTo>
                    <a:lnTo>
                      <a:pt x="878" y="1742"/>
                    </a:lnTo>
                    <a:lnTo>
                      <a:pt x="876" y="1736"/>
                    </a:lnTo>
                    <a:lnTo>
                      <a:pt x="875" y="1730"/>
                    </a:lnTo>
                    <a:lnTo>
                      <a:pt x="873" y="1720"/>
                    </a:lnTo>
                    <a:lnTo>
                      <a:pt x="873" y="1713"/>
                    </a:lnTo>
                    <a:lnTo>
                      <a:pt x="871" y="1703"/>
                    </a:lnTo>
                    <a:lnTo>
                      <a:pt x="871" y="1693"/>
                    </a:lnTo>
                    <a:lnTo>
                      <a:pt x="873" y="1684"/>
                    </a:lnTo>
                    <a:lnTo>
                      <a:pt x="873" y="1672"/>
                    </a:lnTo>
                    <a:lnTo>
                      <a:pt x="875" y="1661"/>
                    </a:lnTo>
                    <a:lnTo>
                      <a:pt x="876" y="1647"/>
                    </a:lnTo>
                    <a:lnTo>
                      <a:pt x="878" y="1634"/>
                    </a:lnTo>
                    <a:lnTo>
                      <a:pt x="878" y="1618"/>
                    </a:lnTo>
                    <a:lnTo>
                      <a:pt x="878" y="1603"/>
                    </a:lnTo>
                    <a:lnTo>
                      <a:pt x="875" y="1588"/>
                    </a:lnTo>
                    <a:lnTo>
                      <a:pt x="871" y="1570"/>
                    </a:lnTo>
                    <a:lnTo>
                      <a:pt x="865" y="1553"/>
                    </a:lnTo>
                    <a:lnTo>
                      <a:pt x="859" y="1534"/>
                    </a:lnTo>
                    <a:lnTo>
                      <a:pt x="851" y="1514"/>
                    </a:lnTo>
                    <a:lnTo>
                      <a:pt x="842" y="1493"/>
                    </a:lnTo>
                    <a:lnTo>
                      <a:pt x="830" y="1472"/>
                    </a:lnTo>
                    <a:lnTo>
                      <a:pt x="817" y="1451"/>
                    </a:lnTo>
                    <a:lnTo>
                      <a:pt x="803" y="1428"/>
                    </a:lnTo>
                    <a:lnTo>
                      <a:pt x="788" y="1405"/>
                    </a:lnTo>
                    <a:lnTo>
                      <a:pt x="773" y="1380"/>
                    </a:lnTo>
                    <a:lnTo>
                      <a:pt x="753" y="1355"/>
                    </a:lnTo>
                    <a:lnTo>
                      <a:pt x="734" y="1328"/>
                    </a:lnTo>
                    <a:lnTo>
                      <a:pt x="907" y="1328"/>
                    </a:lnTo>
                    <a:lnTo>
                      <a:pt x="917" y="1309"/>
                    </a:lnTo>
                    <a:lnTo>
                      <a:pt x="925" y="1291"/>
                    </a:lnTo>
                    <a:lnTo>
                      <a:pt x="932" y="1274"/>
                    </a:lnTo>
                    <a:lnTo>
                      <a:pt x="938" y="1257"/>
                    </a:lnTo>
                    <a:lnTo>
                      <a:pt x="944" y="1239"/>
                    </a:lnTo>
                    <a:lnTo>
                      <a:pt x="950" y="1224"/>
                    </a:lnTo>
                    <a:lnTo>
                      <a:pt x="953" y="1207"/>
                    </a:lnTo>
                    <a:lnTo>
                      <a:pt x="957" y="1191"/>
                    </a:lnTo>
                    <a:lnTo>
                      <a:pt x="959" y="1184"/>
                    </a:lnTo>
                    <a:lnTo>
                      <a:pt x="961" y="1174"/>
                    </a:lnTo>
                    <a:lnTo>
                      <a:pt x="963" y="1164"/>
                    </a:lnTo>
                    <a:lnTo>
                      <a:pt x="965" y="1153"/>
                    </a:lnTo>
                    <a:lnTo>
                      <a:pt x="965" y="1139"/>
                    </a:lnTo>
                    <a:lnTo>
                      <a:pt x="967" y="1126"/>
                    </a:lnTo>
                    <a:lnTo>
                      <a:pt x="969" y="1110"/>
                    </a:lnTo>
                    <a:lnTo>
                      <a:pt x="971" y="1095"/>
                    </a:lnTo>
                    <a:lnTo>
                      <a:pt x="973" y="1078"/>
                    </a:lnTo>
                    <a:lnTo>
                      <a:pt x="973" y="1060"/>
                    </a:lnTo>
                    <a:lnTo>
                      <a:pt x="975" y="1041"/>
                    </a:lnTo>
                    <a:lnTo>
                      <a:pt x="976" y="1020"/>
                    </a:lnTo>
                    <a:lnTo>
                      <a:pt x="978" y="999"/>
                    </a:lnTo>
                    <a:lnTo>
                      <a:pt x="980" y="978"/>
                    </a:lnTo>
                    <a:lnTo>
                      <a:pt x="980" y="955"/>
                    </a:lnTo>
                    <a:lnTo>
                      <a:pt x="982" y="930"/>
                    </a:lnTo>
                    <a:lnTo>
                      <a:pt x="984" y="905"/>
                    </a:lnTo>
                    <a:lnTo>
                      <a:pt x="986" y="882"/>
                    </a:lnTo>
                    <a:lnTo>
                      <a:pt x="988" y="858"/>
                    </a:lnTo>
                    <a:lnTo>
                      <a:pt x="988" y="835"/>
                    </a:lnTo>
                    <a:lnTo>
                      <a:pt x="990" y="814"/>
                    </a:lnTo>
                    <a:lnTo>
                      <a:pt x="990" y="793"/>
                    </a:lnTo>
                    <a:lnTo>
                      <a:pt x="992" y="772"/>
                    </a:lnTo>
                    <a:lnTo>
                      <a:pt x="992" y="753"/>
                    </a:lnTo>
                    <a:lnTo>
                      <a:pt x="994" y="733"/>
                    </a:lnTo>
                    <a:lnTo>
                      <a:pt x="994" y="714"/>
                    </a:lnTo>
                    <a:lnTo>
                      <a:pt x="994" y="697"/>
                    </a:lnTo>
                    <a:lnTo>
                      <a:pt x="996" y="680"/>
                    </a:lnTo>
                    <a:lnTo>
                      <a:pt x="996" y="664"/>
                    </a:lnTo>
                    <a:lnTo>
                      <a:pt x="996" y="647"/>
                    </a:lnTo>
                    <a:lnTo>
                      <a:pt x="996" y="633"/>
                    </a:lnTo>
                    <a:lnTo>
                      <a:pt x="996" y="618"/>
                    </a:lnTo>
                    <a:lnTo>
                      <a:pt x="996" y="589"/>
                    </a:lnTo>
                    <a:lnTo>
                      <a:pt x="994" y="560"/>
                    </a:lnTo>
                    <a:lnTo>
                      <a:pt x="994" y="529"/>
                    </a:lnTo>
                    <a:lnTo>
                      <a:pt x="992" y="499"/>
                    </a:lnTo>
                    <a:lnTo>
                      <a:pt x="988" y="466"/>
                    </a:lnTo>
                    <a:lnTo>
                      <a:pt x="986" y="431"/>
                    </a:lnTo>
                    <a:lnTo>
                      <a:pt x="980" y="397"/>
                    </a:lnTo>
                    <a:lnTo>
                      <a:pt x="976" y="362"/>
                    </a:lnTo>
                    <a:lnTo>
                      <a:pt x="975" y="345"/>
                    </a:lnTo>
                    <a:lnTo>
                      <a:pt x="971" y="329"/>
                    </a:lnTo>
                    <a:lnTo>
                      <a:pt x="969" y="314"/>
                    </a:lnTo>
                    <a:lnTo>
                      <a:pt x="965" y="299"/>
                    </a:lnTo>
                    <a:lnTo>
                      <a:pt x="963" y="285"/>
                    </a:lnTo>
                    <a:lnTo>
                      <a:pt x="959" y="274"/>
                    </a:lnTo>
                    <a:lnTo>
                      <a:pt x="955" y="262"/>
                    </a:lnTo>
                    <a:lnTo>
                      <a:pt x="951" y="250"/>
                    </a:lnTo>
                    <a:lnTo>
                      <a:pt x="946" y="241"/>
                    </a:lnTo>
                    <a:lnTo>
                      <a:pt x="942" y="233"/>
                    </a:lnTo>
                    <a:lnTo>
                      <a:pt x="936" y="225"/>
                    </a:lnTo>
                    <a:lnTo>
                      <a:pt x="930" y="218"/>
                    </a:lnTo>
                    <a:lnTo>
                      <a:pt x="926" y="212"/>
                    </a:lnTo>
                    <a:lnTo>
                      <a:pt x="919" y="208"/>
                    </a:lnTo>
                    <a:lnTo>
                      <a:pt x="913" y="204"/>
                    </a:lnTo>
                    <a:lnTo>
                      <a:pt x="907" y="200"/>
                    </a:lnTo>
                    <a:lnTo>
                      <a:pt x="896" y="197"/>
                    </a:lnTo>
                    <a:lnTo>
                      <a:pt x="882" y="193"/>
                    </a:lnTo>
                    <a:lnTo>
                      <a:pt x="869" y="191"/>
                    </a:lnTo>
                    <a:lnTo>
                      <a:pt x="855" y="187"/>
                    </a:lnTo>
                    <a:lnTo>
                      <a:pt x="842" y="185"/>
                    </a:lnTo>
                    <a:lnTo>
                      <a:pt x="826" y="185"/>
                    </a:lnTo>
                    <a:lnTo>
                      <a:pt x="811" y="183"/>
                    </a:lnTo>
                    <a:lnTo>
                      <a:pt x="796" y="183"/>
                    </a:lnTo>
                    <a:lnTo>
                      <a:pt x="792" y="183"/>
                    </a:lnTo>
                    <a:lnTo>
                      <a:pt x="786" y="183"/>
                    </a:lnTo>
                    <a:lnTo>
                      <a:pt x="778" y="185"/>
                    </a:lnTo>
                    <a:lnTo>
                      <a:pt x="771" y="185"/>
                    </a:lnTo>
                    <a:lnTo>
                      <a:pt x="761" y="187"/>
                    </a:lnTo>
                    <a:lnTo>
                      <a:pt x="750" y="187"/>
                    </a:lnTo>
                    <a:lnTo>
                      <a:pt x="736" y="189"/>
                    </a:lnTo>
                    <a:lnTo>
                      <a:pt x="723" y="191"/>
                    </a:lnTo>
                    <a:lnTo>
                      <a:pt x="707" y="193"/>
                    </a:lnTo>
                    <a:lnTo>
                      <a:pt x="692" y="195"/>
                    </a:lnTo>
                    <a:lnTo>
                      <a:pt x="675" y="199"/>
                    </a:lnTo>
                    <a:lnTo>
                      <a:pt x="655" y="200"/>
                    </a:lnTo>
                    <a:lnTo>
                      <a:pt x="634" y="202"/>
                    </a:lnTo>
                    <a:lnTo>
                      <a:pt x="613" y="206"/>
                    </a:lnTo>
                    <a:lnTo>
                      <a:pt x="590" y="210"/>
                    </a:lnTo>
                    <a:lnTo>
                      <a:pt x="565" y="214"/>
                    </a:lnTo>
                    <a:lnTo>
                      <a:pt x="540" y="218"/>
                    </a:lnTo>
                    <a:lnTo>
                      <a:pt x="513" y="222"/>
                    </a:lnTo>
                    <a:lnTo>
                      <a:pt x="484" y="225"/>
                    </a:lnTo>
                    <a:lnTo>
                      <a:pt x="455" y="231"/>
                    </a:lnTo>
                    <a:lnTo>
                      <a:pt x="425" y="235"/>
                    </a:lnTo>
                    <a:lnTo>
                      <a:pt x="392" y="241"/>
                    </a:lnTo>
                    <a:lnTo>
                      <a:pt x="359" y="247"/>
                    </a:lnTo>
                    <a:lnTo>
                      <a:pt x="325" y="252"/>
                    </a:lnTo>
                    <a:lnTo>
                      <a:pt x="288" y="258"/>
                    </a:lnTo>
                    <a:lnTo>
                      <a:pt x="252" y="264"/>
                    </a:lnTo>
                    <a:lnTo>
                      <a:pt x="213" y="270"/>
                    </a:lnTo>
                    <a:lnTo>
                      <a:pt x="173" y="277"/>
                    </a:lnTo>
                    <a:lnTo>
                      <a:pt x="130" y="285"/>
                    </a:lnTo>
                    <a:lnTo>
                      <a:pt x="88" y="291"/>
                    </a:lnTo>
                    <a:lnTo>
                      <a:pt x="44" y="299"/>
                    </a:lnTo>
                    <a:lnTo>
                      <a:pt x="0" y="306"/>
                    </a:lnTo>
                    <a:lnTo>
                      <a:pt x="0" y="195"/>
                    </a:lnTo>
                  </a:path>
                </a:pathLst>
              </a:cu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40" name="Freeform 12"/>
              <p:cNvSpPr/>
              <p:nvPr/>
            </p:nvSpPr>
            <p:spPr>
              <a:xfrm>
                <a:off x="1568520" y="4020480"/>
                <a:ext cx="55800" cy="4190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200" h="1483">
                    <a:moveTo>
                      <a:pt x="13" y="75"/>
                    </a:moveTo>
                    <a:lnTo>
                      <a:pt x="9" y="65"/>
                    </a:lnTo>
                    <a:lnTo>
                      <a:pt x="5" y="57"/>
                    </a:lnTo>
                    <a:lnTo>
                      <a:pt x="4" y="50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9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9" y="2"/>
                    </a:lnTo>
                    <a:lnTo>
                      <a:pt x="25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55" y="0"/>
                    </a:lnTo>
                    <a:lnTo>
                      <a:pt x="73" y="2"/>
                    </a:lnTo>
                    <a:lnTo>
                      <a:pt x="90" y="5"/>
                    </a:lnTo>
                    <a:lnTo>
                      <a:pt x="111" y="9"/>
                    </a:lnTo>
                    <a:lnTo>
                      <a:pt x="130" y="15"/>
                    </a:lnTo>
                    <a:lnTo>
                      <a:pt x="154" y="21"/>
                    </a:lnTo>
                    <a:lnTo>
                      <a:pt x="177" y="29"/>
                    </a:lnTo>
                    <a:lnTo>
                      <a:pt x="200" y="36"/>
                    </a:lnTo>
                    <a:lnTo>
                      <a:pt x="200" y="123"/>
                    </a:lnTo>
                    <a:lnTo>
                      <a:pt x="200" y="207"/>
                    </a:lnTo>
                    <a:lnTo>
                      <a:pt x="200" y="288"/>
                    </a:lnTo>
                    <a:lnTo>
                      <a:pt x="200" y="367"/>
                    </a:lnTo>
                    <a:lnTo>
                      <a:pt x="200" y="442"/>
                    </a:lnTo>
                    <a:lnTo>
                      <a:pt x="200" y="515"/>
                    </a:lnTo>
                    <a:lnTo>
                      <a:pt x="200" y="586"/>
                    </a:lnTo>
                    <a:lnTo>
                      <a:pt x="198" y="654"/>
                    </a:lnTo>
                    <a:lnTo>
                      <a:pt x="198" y="719"/>
                    </a:lnTo>
                    <a:lnTo>
                      <a:pt x="198" y="781"/>
                    </a:lnTo>
                    <a:lnTo>
                      <a:pt x="198" y="840"/>
                    </a:lnTo>
                    <a:lnTo>
                      <a:pt x="198" y="898"/>
                    </a:lnTo>
                    <a:lnTo>
                      <a:pt x="198" y="952"/>
                    </a:lnTo>
                    <a:lnTo>
                      <a:pt x="196" y="1004"/>
                    </a:lnTo>
                    <a:lnTo>
                      <a:pt x="196" y="1052"/>
                    </a:lnTo>
                    <a:lnTo>
                      <a:pt x="196" y="1098"/>
                    </a:lnTo>
                    <a:lnTo>
                      <a:pt x="194" y="1141"/>
                    </a:lnTo>
                    <a:lnTo>
                      <a:pt x="194" y="1181"/>
                    </a:lnTo>
                    <a:lnTo>
                      <a:pt x="194" y="1219"/>
                    </a:lnTo>
                    <a:lnTo>
                      <a:pt x="194" y="1254"/>
                    </a:lnTo>
                    <a:lnTo>
                      <a:pt x="192" y="1287"/>
                    </a:lnTo>
                    <a:lnTo>
                      <a:pt x="192" y="1318"/>
                    </a:lnTo>
                    <a:lnTo>
                      <a:pt x="190" y="1344"/>
                    </a:lnTo>
                    <a:lnTo>
                      <a:pt x="190" y="1368"/>
                    </a:lnTo>
                    <a:lnTo>
                      <a:pt x="190" y="1389"/>
                    </a:lnTo>
                    <a:lnTo>
                      <a:pt x="188" y="1408"/>
                    </a:lnTo>
                    <a:lnTo>
                      <a:pt x="188" y="1423"/>
                    </a:lnTo>
                    <a:lnTo>
                      <a:pt x="186" y="1437"/>
                    </a:lnTo>
                    <a:lnTo>
                      <a:pt x="186" y="1448"/>
                    </a:lnTo>
                    <a:lnTo>
                      <a:pt x="184" y="1456"/>
                    </a:lnTo>
                    <a:lnTo>
                      <a:pt x="184" y="1462"/>
                    </a:lnTo>
                    <a:lnTo>
                      <a:pt x="182" y="1464"/>
                    </a:lnTo>
                    <a:lnTo>
                      <a:pt x="177" y="1468"/>
                    </a:lnTo>
                    <a:lnTo>
                      <a:pt x="173" y="1473"/>
                    </a:lnTo>
                    <a:lnTo>
                      <a:pt x="169" y="1475"/>
                    </a:lnTo>
                    <a:lnTo>
                      <a:pt x="165" y="1479"/>
                    </a:lnTo>
                    <a:lnTo>
                      <a:pt x="161" y="1481"/>
                    </a:lnTo>
                    <a:lnTo>
                      <a:pt x="157" y="1481"/>
                    </a:lnTo>
                    <a:lnTo>
                      <a:pt x="155" y="1483"/>
                    </a:lnTo>
                    <a:lnTo>
                      <a:pt x="152" y="1483"/>
                    </a:lnTo>
                    <a:lnTo>
                      <a:pt x="150" y="1483"/>
                    </a:lnTo>
                    <a:lnTo>
                      <a:pt x="148" y="1481"/>
                    </a:lnTo>
                    <a:lnTo>
                      <a:pt x="146" y="1479"/>
                    </a:lnTo>
                    <a:lnTo>
                      <a:pt x="142" y="1475"/>
                    </a:lnTo>
                    <a:lnTo>
                      <a:pt x="140" y="1473"/>
                    </a:lnTo>
                    <a:lnTo>
                      <a:pt x="138" y="1468"/>
                    </a:lnTo>
                    <a:lnTo>
                      <a:pt x="134" y="1462"/>
                    </a:lnTo>
                    <a:lnTo>
                      <a:pt x="130" y="1456"/>
                    </a:lnTo>
                    <a:lnTo>
                      <a:pt x="127" y="1448"/>
                    </a:lnTo>
                    <a:lnTo>
                      <a:pt x="123" y="1441"/>
                    </a:lnTo>
                    <a:lnTo>
                      <a:pt x="119" y="1433"/>
                    </a:lnTo>
                    <a:lnTo>
                      <a:pt x="115" y="1423"/>
                    </a:lnTo>
                    <a:lnTo>
                      <a:pt x="109" y="1412"/>
                    </a:lnTo>
                    <a:lnTo>
                      <a:pt x="105" y="1402"/>
                    </a:lnTo>
                    <a:lnTo>
                      <a:pt x="100" y="1391"/>
                    </a:lnTo>
                    <a:lnTo>
                      <a:pt x="94" y="1377"/>
                    </a:lnTo>
                    <a:lnTo>
                      <a:pt x="88" y="1364"/>
                    </a:lnTo>
                    <a:lnTo>
                      <a:pt x="84" y="1348"/>
                    </a:lnTo>
                    <a:lnTo>
                      <a:pt x="80" y="1331"/>
                    </a:lnTo>
                    <a:lnTo>
                      <a:pt x="77" y="1312"/>
                    </a:lnTo>
                    <a:lnTo>
                      <a:pt x="73" y="1293"/>
                    </a:lnTo>
                    <a:lnTo>
                      <a:pt x="71" y="1271"/>
                    </a:lnTo>
                    <a:lnTo>
                      <a:pt x="69" y="1248"/>
                    </a:lnTo>
                    <a:lnTo>
                      <a:pt x="67" y="1223"/>
                    </a:lnTo>
                    <a:lnTo>
                      <a:pt x="65" y="1198"/>
                    </a:lnTo>
                    <a:lnTo>
                      <a:pt x="65" y="1171"/>
                    </a:lnTo>
                    <a:lnTo>
                      <a:pt x="63" y="1142"/>
                    </a:lnTo>
                    <a:lnTo>
                      <a:pt x="63" y="1112"/>
                    </a:lnTo>
                    <a:lnTo>
                      <a:pt x="65" y="1081"/>
                    </a:lnTo>
                    <a:lnTo>
                      <a:pt x="65" y="1048"/>
                    </a:lnTo>
                    <a:lnTo>
                      <a:pt x="67" y="1014"/>
                    </a:lnTo>
                    <a:lnTo>
                      <a:pt x="69" y="977"/>
                    </a:lnTo>
                    <a:lnTo>
                      <a:pt x="73" y="904"/>
                    </a:lnTo>
                    <a:lnTo>
                      <a:pt x="77" y="833"/>
                    </a:lnTo>
                    <a:lnTo>
                      <a:pt x="79" y="762"/>
                    </a:lnTo>
                    <a:lnTo>
                      <a:pt x="79" y="692"/>
                    </a:lnTo>
                    <a:lnTo>
                      <a:pt x="79" y="621"/>
                    </a:lnTo>
                    <a:lnTo>
                      <a:pt x="77" y="554"/>
                    </a:lnTo>
                    <a:lnTo>
                      <a:pt x="73" y="484"/>
                    </a:lnTo>
                    <a:lnTo>
                      <a:pt x="69" y="417"/>
                    </a:lnTo>
                    <a:lnTo>
                      <a:pt x="67" y="384"/>
                    </a:lnTo>
                    <a:lnTo>
                      <a:pt x="65" y="354"/>
                    </a:lnTo>
                    <a:lnTo>
                      <a:pt x="61" y="323"/>
                    </a:lnTo>
                    <a:lnTo>
                      <a:pt x="59" y="296"/>
                    </a:lnTo>
                    <a:lnTo>
                      <a:pt x="55" y="269"/>
                    </a:lnTo>
                    <a:lnTo>
                      <a:pt x="54" y="244"/>
                    </a:lnTo>
                    <a:lnTo>
                      <a:pt x="50" y="219"/>
                    </a:lnTo>
                    <a:lnTo>
                      <a:pt x="46" y="198"/>
                    </a:lnTo>
                    <a:lnTo>
                      <a:pt x="42" y="177"/>
                    </a:lnTo>
                    <a:lnTo>
                      <a:pt x="38" y="157"/>
                    </a:lnTo>
                    <a:lnTo>
                      <a:pt x="34" y="140"/>
                    </a:lnTo>
                    <a:lnTo>
                      <a:pt x="30" y="125"/>
                    </a:lnTo>
                    <a:lnTo>
                      <a:pt x="27" y="109"/>
                    </a:lnTo>
                    <a:lnTo>
                      <a:pt x="23" y="96"/>
                    </a:lnTo>
                    <a:lnTo>
                      <a:pt x="17" y="84"/>
                    </a:lnTo>
                    <a:lnTo>
                      <a:pt x="13" y="75"/>
                    </a:lnTo>
                  </a:path>
                </a:pathLst>
              </a:cu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341" name="文本框 14"/>
          <p:cNvSpPr/>
          <p:nvPr/>
        </p:nvSpPr>
        <p:spPr>
          <a:xfrm>
            <a:off x="2340000" y="3792600"/>
            <a:ext cx="640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偏旁是竖心旁，与心情有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83"/>
          <p:cNvGrpSpPr/>
          <p:nvPr/>
        </p:nvGrpSpPr>
        <p:grpSpPr>
          <a:xfrm>
            <a:off x="2303640" y="349200"/>
            <a:ext cx="4847760" cy="638280"/>
            <a:chOff x="2303640" y="349200"/>
            <a:chExt cx="4847760" cy="638280"/>
          </a:xfrm>
        </p:grpSpPr>
        <p:sp>
          <p:nvSpPr>
            <p:cNvPr id="343" name="文本框 13"/>
            <p:cNvSpPr/>
            <p:nvPr/>
          </p:nvSpPr>
          <p:spPr>
            <a:xfrm>
              <a:off x="2961720" y="349200"/>
              <a:ext cx="4189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一比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：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欢</a:t>
              </a: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——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图片 85" descr=""/>
            <p:cNvPicPr/>
            <p:nvPr/>
          </p:nvPicPr>
          <p:blipFill>
            <a:blip r:embed="rId2"/>
            <a:stretch/>
          </p:blipFill>
          <p:spPr>
            <a:xfrm>
              <a:off x="2303640" y="353160"/>
              <a:ext cx="679320" cy="5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组合 86"/>
          <p:cNvGrpSpPr/>
          <p:nvPr/>
        </p:nvGrpSpPr>
        <p:grpSpPr>
          <a:xfrm>
            <a:off x="3565440" y="3143160"/>
            <a:ext cx="2012760" cy="638280"/>
            <a:chOff x="3565440" y="3143160"/>
            <a:chExt cx="2012760" cy="638280"/>
          </a:xfrm>
        </p:grpSpPr>
        <p:sp>
          <p:nvSpPr>
            <p:cNvPr id="346" name="文本框 13"/>
            <p:cNvSpPr/>
            <p:nvPr/>
          </p:nvSpPr>
          <p:spPr>
            <a:xfrm>
              <a:off x="4223880" y="3143160"/>
              <a:ext cx="1354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偏 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图片 88" descr=""/>
            <p:cNvPicPr/>
            <p:nvPr/>
          </p:nvPicPr>
          <p:blipFill>
            <a:blip r:embed="rId3"/>
            <a:stretch/>
          </p:blipFill>
          <p:spPr>
            <a:xfrm>
              <a:off x="3565440" y="3147120"/>
              <a:ext cx="679320" cy="58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组合 110"/>
          <p:cNvGrpSpPr/>
          <p:nvPr/>
        </p:nvGrpSpPr>
        <p:grpSpPr>
          <a:xfrm>
            <a:off x="2987640" y="1924200"/>
            <a:ext cx="869760" cy="861480"/>
            <a:chOff x="2987640" y="1924200"/>
            <a:chExt cx="869760" cy="861480"/>
          </a:xfrm>
        </p:grpSpPr>
        <p:pic>
          <p:nvPicPr>
            <p:cNvPr id="349" name="图片 90" descr=""/>
            <p:cNvPicPr/>
            <p:nvPr/>
          </p:nvPicPr>
          <p:blipFill>
            <a:blip r:embed="rId4"/>
            <a:stretch/>
          </p:blipFill>
          <p:spPr>
            <a:xfrm>
              <a:off x="2987640" y="1924200"/>
              <a:ext cx="8697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3"/>
            <p:cNvSpPr/>
            <p:nvPr/>
          </p:nvSpPr>
          <p:spPr>
            <a:xfrm>
              <a:off x="3070800" y="2130840"/>
              <a:ext cx="703440" cy="448200"/>
            </a:xfrm>
            <a:custGeom>
              <a:avLst/>
              <a:gdLst>
                <a:gd name="textAreaLeft" fmla="*/ 0 w 703440"/>
                <a:gd name="textAreaRight" fmla="*/ 703800 w 703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704080" h="448452">
                  <a:moveTo>
                    <a:pt x="246115" y="10272"/>
                  </a:moveTo>
                  <a:cubicBezTo>
                    <a:pt x="252851" y="9606"/>
                    <a:pt x="259998" y="11113"/>
                    <a:pt x="267556" y="14795"/>
                  </a:cubicBezTo>
                  <a:cubicBezTo>
                    <a:pt x="282671" y="22159"/>
                    <a:pt x="296593" y="31112"/>
                    <a:pt x="309321" y="41654"/>
                  </a:cubicBezTo>
                  <a:cubicBezTo>
                    <a:pt x="322049" y="52196"/>
                    <a:pt x="322870" y="62544"/>
                    <a:pt x="311786" y="72699"/>
                  </a:cubicBezTo>
                  <a:cubicBezTo>
                    <a:pt x="300701" y="82853"/>
                    <a:pt x="293213" y="95201"/>
                    <a:pt x="289322" y="109743"/>
                  </a:cubicBezTo>
                  <a:cubicBezTo>
                    <a:pt x="285431" y="124285"/>
                    <a:pt x="278230" y="148787"/>
                    <a:pt x="267719" y="183250"/>
                  </a:cubicBezTo>
                  <a:cubicBezTo>
                    <a:pt x="257208" y="217713"/>
                    <a:pt x="245348" y="247331"/>
                    <a:pt x="232140" y="272105"/>
                  </a:cubicBezTo>
                  <a:cubicBezTo>
                    <a:pt x="253006" y="292166"/>
                    <a:pt x="267951" y="312490"/>
                    <a:pt x="276974" y="333078"/>
                  </a:cubicBezTo>
                  <a:cubicBezTo>
                    <a:pt x="285997" y="353666"/>
                    <a:pt x="284710" y="372572"/>
                    <a:pt x="273114" y="389796"/>
                  </a:cubicBezTo>
                  <a:cubicBezTo>
                    <a:pt x="261518" y="407019"/>
                    <a:pt x="245643" y="402345"/>
                    <a:pt x="225489" y="375773"/>
                  </a:cubicBezTo>
                  <a:cubicBezTo>
                    <a:pt x="205335" y="349201"/>
                    <a:pt x="193599" y="331357"/>
                    <a:pt x="190282" y="322242"/>
                  </a:cubicBezTo>
                  <a:cubicBezTo>
                    <a:pt x="171244" y="350147"/>
                    <a:pt x="145269" y="374076"/>
                    <a:pt x="112356" y="394028"/>
                  </a:cubicBezTo>
                  <a:cubicBezTo>
                    <a:pt x="79443" y="413980"/>
                    <a:pt x="49290" y="426460"/>
                    <a:pt x="21897" y="431468"/>
                  </a:cubicBezTo>
                  <a:cubicBezTo>
                    <a:pt x="-5497" y="436475"/>
                    <a:pt x="-7187" y="429576"/>
                    <a:pt x="16827" y="410771"/>
                  </a:cubicBezTo>
                  <a:cubicBezTo>
                    <a:pt x="40841" y="391966"/>
                    <a:pt x="64995" y="371874"/>
                    <a:pt x="89288" y="350496"/>
                  </a:cubicBezTo>
                  <a:cubicBezTo>
                    <a:pt x="113581" y="329117"/>
                    <a:pt x="136750" y="305421"/>
                    <a:pt x="158795" y="279407"/>
                  </a:cubicBezTo>
                  <a:cubicBezTo>
                    <a:pt x="140657" y="259129"/>
                    <a:pt x="125262" y="241208"/>
                    <a:pt x="112612" y="225643"/>
                  </a:cubicBezTo>
                  <a:cubicBezTo>
                    <a:pt x="99962" y="210078"/>
                    <a:pt x="86017" y="191095"/>
                    <a:pt x="70777" y="168693"/>
                  </a:cubicBezTo>
                  <a:cubicBezTo>
                    <a:pt x="55538" y="146291"/>
                    <a:pt x="64041" y="142694"/>
                    <a:pt x="96287" y="157903"/>
                  </a:cubicBezTo>
                  <a:cubicBezTo>
                    <a:pt x="128533" y="173111"/>
                    <a:pt x="159136" y="195660"/>
                    <a:pt x="188096" y="225550"/>
                  </a:cubicBezTo>
                  <a:cubicBezTo>
                    <a:pt x="197863" y="203474"/>
                    <a:pt x="207095" y="173212"/>
                    <a:pt x="215792" y="134765"/>
                  </a:cubicBezTo>
                  <a:cubicBezTo>
                    <a:pt x="224489" y="96317"/>
                    <a:pt x="223807" y="77559"/>
                    <a:pt x="213745" y="78489"/>
                  </a:cubicBezTo>
                  <a:cubicBezTo>
                    <a:pt x="203684" y="79419"/>
                    <a:pt x="191824" y="81838"/>
                    <a:pt x="178166" y="85744"/>
                  </a:cubicBezTo>
                  <a:cubicBezTo>
                    <a:pt x="164508" y="89651"/>
                    <a:pt x="150819" y="92589"/>
                    <a:pt x="137099" y="94558"/>
                  </a:cubicBezTo>
                  <a:cubicBezTo>
                    <a:pt x="123379" y="96527"/>
                    <a:pt x="106543" y="90163"/>
                    <a:pt x="86590" y="75466"/>
                  </a:cubicBezTo>
                  <a:cubicBezTo>
                    <a:pt x="66638" y="60769"/>
                    <a:pt x="68398" y="53421"/>
                    <a:pt x="91869" y="53421"/>
                  </a:cubicBezTo>
                  <a:cubicBezTo>
                    <a:pt x="108674" y="53421"/>
                    <a:pt x="132463" y="50157"/>
                    <a:pt x="163237" y="43631"/>
                  </a:cubicBezTo>
                  <a:cubicBezTo>
                    <a:pt x="194010" y="37104"/>
                    <a:pt x="215311" y="28825"/>
                    <a:pt x="227140" y="18795"/>
                  </a:cubicBezTo>
                  <a:cubicBezTo>
                    <a:pt x="233054" y="13780"/>
                    <a:pt x="239379" y="10939"/>
                    <a:pt x="246115" y="10272"/>
                  </a:cubicBezTo>
                  <a:close/>
                  <a:moveTo>
                    <a:pt x="500891" y="145"/>
                  </a:moveTo>
                  <a:cubicBezTo>
                    <a:pt x="508472" y="-576"/>
                    <a:pt x="517114" y="1393"/>
                    <a:pt x="526819" y="6052"/>
                  </a:cubicBezTo>
                  <a:cubicBezTo>
                    <a:pt x="546229" y="15369"/>
                    <a:pt x="561305" y="24740"/>
                    <a:pt x="572049" y="34166"/>
                  </a:cubicBezTo>
                  <a:cubicBezTo>
                    <a:pt x="582793" y="43592"/>
                    <a:pt x="584583" y="52421"/>
                    <a:pt x="577421" y="60653"/>
                  </a:cubicBezTo>
                  <a:cubicBezTo>
                    <a:pt x="570258" y="68885"/>
                    <a:pt x="564228" y="81807"/>
                    <a:pt x="559329" y="99418"/>
                  </a:cubicBezTo>
                  <a:cubicBezTo>
                    <a:pt x="554430" y="117029"/>
                    <a:pt x="545733" y="145516"/>
                    <a:pt x="533237" y="184878"/>
                  </a:cubicBezTo>
                  <a:cubicBezTo>
                    <a:pt x="520742" y="224240"/>
                    <a:pt x="507921" y="257346"/>
                    <a:pt x="494775" y="284197"/>
                  </a:cubicBezTo>
                  <a:cubicBezTo>
                    <a:pt x="522711" y="318769"/>
                    <a:pt x="551864" y="345550"/>
                    <a:pt x="582234" y="364541"/>
                  </a:cubicBezTo>
                  <a:cubicBezTo>
                    <a:pt x="612605" y="383532"/>
                    <a:pt x="645021" y="400043"/>
                    <a:pt x="679484" y="414073"/>
                  </a:cubicBezTo>
                  <a:cubicBezTo>
                    <a:pt x="713947" y="428103"/>
                    <a:pt x="712195" y="437707"/>
                    <a:pt x="674229" y="442885"/>
                  </a:cubicBezTo>
                  <a:cubicBezTo>
                    <a:pt x="636262" y="448063"/>
                    <a:pt x="605892" y="449629"/>
                    <a:pt x="583118" y="447583"/>
                  </a:cubicBezTo>
                  <a:cubicBezTo>
                    <a:pt x="560344" y="445536"/>
                    <a:pt x="543167" y="439242"/>
                    <a:pt x="531586" y="428700"/>
                  </a:cubicBezTo>
                  <a:cubicBezTo>
                    <a:pt x="520006" y="418158"/>
                    <a:pt x="508301" y="404516"/>
                    <a:pt x="496472" y="387773"/>
                  </a:cubicBezTo>
                  <a:cubicBezTo>
                    <a:pt x="484644" y="371029"/>
                    <a:pt x="470032" y="350147"/>
                    <a:pt x="452638" y="325125"/>
                  </a:cubicBezTo>
                  <a:cubicBezTo>
                    <a:pt x="433321" y="345713"/>
                    <a:pt x="411036" y="361053"/>
                    <a:pt x="385781" y="371146"/>
                  </a:cubicBezTo>
                  <a:cubicBezTo>
                    <a:pt x="360527" y="381238"/>
                    <a:pt x="333412" y="387284"/>
                    <a:pt x="304437" y="389284"/>
                  </a:cubicBezTo>
                  <a:cubicBezTo>
                    <a:pt x="275462" y="391284"/>
                    <a:pt x="271331" y="386114"/>
                    <a:pt x="292043" y="373773"/>
                  </a:cubicBezTo>
                  <a:cubicBezTo>
                    <a:pt x="312755" y="361433"/>
                    <a:pt x="335428" y="347682"/>
                    <a:pt x="360062" y="332520"/>
                  </a:cubicBezTo>
                  <a:cubicBezTo>
                    <a:pt x="384696" y="317358"/>
                    <a:pt x="405168" y="300429"/>
                    <a:pt x="421477" y="281732"/>
                  </a:cubicBezTo>
                  <a:cubicBezTo>
                    <a:pt x="406904" y="261486"/>
                    <a:pt x="389122" y="237999"/>
                    <a:pt x="368131" y="211272"/>
                  </a:cubicBezTo>
                  <a:cubicBezTo>
                    <a:pt x="347140" y="184545"/>
                    <a:pt x="328893" y="163709"/>
                    <a:pt x="313390" y="148764"/>
                  </a:cubicBezTo>
                  <a:cubicBezTo>
                    <a:pt x="297887" y="133819"/>
                    <a:pt x="303887" y="127393"/>
                    <a:pt x="331389" y="129486"/>
                  </a:cubicBezTo>
                  <a:cubicBezTo>
                    <a:pt x="358891" y="131579"/>
                    <a:pt x="375379" y="138082"/>
                    <a:pt x="380851" y="148996"/>
                  </a:cubicBezTo>
                  <a:cubicBezTo>
                    <a:pt x="386324" y="159910"/>
                    <a:pt x="395672" y="173398"/>
                    <a:pt x="408896" y="189459"/>
                  </a:cubicBezTo>
                  <a:cubicBezTo>
                    <a:pt x="422120" y="205520"/>
                    <a:pt x="435460" y="222418"/>
                    <a:pt x="448917" y="240154"/>
                  </a:cubicBezTo>
                  <a:cubicBezTo>
                    <a:pt x="461846" y="214233"/>
                    <a:pt x="471691" y="184862"/>
                    <a:pt x="478450" y="152043"/>
                  </a:cubicBezTo>
                  <a:cubicBezTo>
                    <a:pt x="485209" y="119223"/>
                    <a:pt x="489077" y="97062"/>
                    <a:pt x="490054" y="85558"/>
                  </a:cubicBezTo>
                  <a:cubicBezTo>
                    <a:pt x="491031" y="74055"/>
                    <a:pt x="485566" y="70164"/>
                    <a:pt x="473660" y="73885"/>
                  </a:cubicBezTo>
                  <a:cubicBezTo>
                    <a:pt x="449444" y="81853"/>
                    <a:pt x="432143" y="87295"/>
                    <a:pt x="421756" y="90209"/>
                  </a:cubicBezTo>
                  <a:cubicBezTo>
                    <a:pt x="411369" y="93124"/>
                    <a:pt x="396075" y="88163"/>
                    <a:pt x="375875" y="75326"/>
                  </a:cubicBezTo>
                  <a:cubicBezTo>
                    <a:pt x="355675" y="62490"/>
                    <a:pt x="356341" y="54700"/>
                    <a:pt x="377875" y="51956"/>
                  </a:cubicBezTo>
                  <a:cubicBezTo>
                    <a:pt x="399408" y="49212"/>
                    <a:pt x="419306" y="44646"/>
                    <a:pt x="437569" y="38259"/>
                  </a:cubicBezTo>
                  <a:cubicBezTo>
                    <a:pt x="455831" y="31872"/>
                    <a:pt x="470420" y="22578"/>
                    <a:pt x="481334" y="10377"/>
                  </a:cubicBezTo>
                  <a:cubicBezTo>
                    <a:pt x="486791" y="4277"/>
                    <a:pt x="493310" y="866"/>
                    <a:pt x="500891" y="14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51" name="组合 109"/>
          <p:cNvGrpSpPr/>
          <p:nvPr/>
        </p:nvGrpSpPr>
        <p:grpSpPr>
          <a:xfrm>
            <a:off x="4500720" y="1924200"/>
            <a:ext cx="869760" cy="861480"/>
            <a:chOff x="4500720" y="1924200"/>
            <a:chExt cx="869760" cy="861480"/>
          </a:xfrm>
        </p:grpSpPr>
        <p:pic>
          <p:nvPicPr>
            <p:cNvPr id="352" name="图片 94" descr=""/>
            <p:cNvPicPr/>
            <p:nvPr/>
          </p:nvPicPr>
          <p:blipFill>
            <a:blip r:embed="rId5"/>
            <a:stretch/>
          </p:blipFill>
          <p:spPr>
            <a:xfrm>
              <a:off x="4500720" y="1924200"/>
              <a:ext cx="8697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文本框 97"/>
            <p:cNvSpPr/>
            <p:nvPr/>
          </p:nvSpPr>
          <p:spPr>
            <a:xfrm>
              <a:off x="4590720" y="2059920"/>
              <a:ext cx="689400" cy="589680"/>
            </a:xfrm>
            <a:custGeom>
              <a:avLst/>
              <a:gdLst>
                <a:gd name="textAreaLeft" fmla="*/ 0 w 689400"/>
                <a:gd name="textAreaRight" fmla="*/ 689760 w 689400"/>
                <a:gd name="textAreaTop" fmla="*/ 0 h 589680"/>
                <a:gd name="textAreaBottom" fmla="*/ 590040 h 589680"/>
              </a:gdLst>
              <a:ahLst/>
              <a:rect l="textAreaLeft" t="textAreaTop" r="textAreaRight" b="textAreaBottom"/>
              <a:pathLst>
                <a:path w="689974" h="589815">
                  <a:moveTo>
                    <a:pt x="497082" y="82629"/>
                  </a:moveTo>
                  <a:cubicBezTo>
                    <a:pt x="500929" y="82952"/>
                    <a:pt x="505144" y="83633"/>
                    <a:pt x="509725" y="84671"/>
                  </a:cubicBezTo>
                  <a:cubicBezTo>
                    <a:pt x="528049" y="88826"/>
                    <a:pt x="544281" y="96260"/>
                    <a:pt x="558419" y="106972"/>
                  </a:cubicBezTo>
                  <a:cubicBezTo>
                    <a:pt x="572558" y="117685"/>
                    <a:pt x="575504" y="127235"/>
                    <a:pt x="567256" y="135622"/>
                  </a:cubicBezTo>
                  <a:cubicBezTo>
                    <a:pt x="559008" y="144009"/>
                    <a:pt x="552551" y="154714"/>
                    <a:pt x="547885" y="167736"/>
                  </a:cubicBezTo>
                  <a:cubicBezTo>
                    <a:pt x="543219" y="180759"/>
                    <a:pt x="536521" y="204253"/>
                    <a:pt x="527793" y="238220"/>
                  </a:cubicBezTo>
                  <a:cubicBezTo>
                    <a:pt x="519065" y="272187"/>
                    <a:pt x="509105" y="301557"/>
                    <a:pt x="497911" y="326331"/>
                  </a:cubicBezTo>
                  <a:cubicBezTo>
                    <a:pt x="529382" y="360872"/>
                    <a:pt x="559334" y="385723"/>
                    <a:pt x="587766" y="400885"/>
                  </a:cubicBezTo>
                  <a:cubicBezTo>
                    <a:pt x="616199" y="416047"/>
                    <a:pt x="644321" y="429302"/>
                    <a:pt x="672133" y="440650"/>
                  </a:cubicBezTo>
                  <a:cubicBezTo>
                    <a:pt x="699946" y="451998"/>
                    <a:pt x="695240" y="459703"/>
                    <a:pt x="658018" y="463765"/>
                  </a:cubicBezTo>
                  <a:cubicBezTo>
                    <a:pt x="620795" y="467826"/>
                    <a:pt x="591510" y="468346"/>
                    <a:pt x="570163" y="465323"/>
                  </a:cubicBezTo>
                  <a:cubicBezTo>
                    <a:pt x="548815" y="462300"/>
                    <a:pt x="533328" y="457579"/>
                    <a:pt x="523701" y="451161"/>
                  </a:cubicBezTo>
                  <a:cubicBezTo>
                    <a:pt x="514073" y="444743"/>
                    <a:pt x="504051" y="435270"/>
                    <a:pt x="493633" y="422744"/>
                  </a:cubicBezTo>
                  <a:lnTo>
                    <a:pt x="461495" y="367677"/>
                  </a:lnTo>
                  <a:cubicBezTo>
                    <a:pt x="442798" y="391707"/>
                    <a:pt x="420769" y="410822"/>
                    <a:pt x="395406" y="425023"/>
                  </a:cubicBezTo>
                  <a:cubicBezTo>
                    <a:pt x="370043" y="439223"/>
                    <a:pt x="341332" y="447812"/>
                    <a:pt x="309272" y="450789"/>
                  </a:cubicBezTo>
                  <a:cubicBezTo>
                    <a:pt x="277212" y="453765"/>
                    <a:pt x="273840" y="447680"/>
                    <a:pt x="299156" y="432534"/>
                  </a:cubicBezTo>
                  <a:cubicBezTo>
                    <a:pt x="324472" y="417388"/>
                    <a:pt x="348107" y="401706"/>
                    <a:pt x="370059" y="385490"/>
                  </a:cubicBezTo>
                  <a:cubicBezTo>
                    <a:pt x="392011" y="369274"/>
                    <a:pt x="412134" y="349772"/>
                    <a:pt x="430427" y="326982"/>
                  </a:cubicBezTo>
                  <a:cubicBezTo>
                    <a:pt x="417560" y="304503"/>
                    <a:pt x="406863" y="287116"/>
                    <a:pt x="398336" y="274823"/>
                  </a:cubicBezTo>
                  <a:cubicBezTo>
                    <a:pt x="389810" y="262529"/>
                    <a:pt x="380337" y="249747"/>
                    <a:pt x="369919" y="236476"/>
                  </a:cubicBezTo>
                  <a:cubicBezTo>
                    <a:pt x="359501" y="223206"/>
                    <a:pt x="347037" y="210090"/>
                    <a:pt x="332526" y="197130"/>
                  </a:cubicBezTo>
                  <a:cubicBezTo>
                    <a:pt x="318015" y="184169"/>
                    <a:pt x="323472" y="177689"/>
                    <a:pt x="348897" y="177689"/>
                  </a:cubicBezTo>
                  <a:cubicBezTo>
                    <a:pt x="374012" y="177689"/>
                    <a:pt x="388499" y="180115"/>
                    <a:pt x="392360" y="184968"/>
                  </a:cubicBezTo>
                  <a:cubicBezTo>
                    <a:pt x="396220" y="189820"/>
                    <a:pt x="404840" y="203013"/>
                    <a:pt x="418219" y="224547"/>
                  </a:cubicBezTo>
                  <a:cubicBezTo>
                    <a:pt x="431598" y="246080"/>
                    <a:pt x="444612" y="266443"/>
                    <a:pt x="457263" y="285636"/>
                  </a:cubicBezTo>
                  <a:cubicBezTo>
                    <a:pt x="462720" y="269575"/>
                    <a:pt x="468851" y="242422"/>
                    <a:pt x="475657" y="204176"/>
                  </a:cubicBezTo>
                  <a:cubicBezTo>
                    <a:pt x="482463" y="165930"/>
                    <a:pt x="483060" y="146172"/>
                    <a:pt x="477448" y="144900"/>
                  </a:cubicBezTo>
                  <a:cubicBezTo>
                    <a:pt x="471835" y="143629"/>
                    <a:pt x="461526" y="145396"/>
                    <a:pt x="446519" y="150202"/>
                  </a:cubicBezTo>
                  <a:cubicBezTo>
                    <a:pt x="431512" y="155008"/>
                    <a:pt x="413762" y="161326"/>
                    <a:pt x="393267" y="169155"/>
                  </a:cubicBezTo>
                  <a:cubicBezTo>
                    <a:pt x="372772" y="176984"/>
                    <a:pt x="353416" y="174092"/>
                    <a:pt x="335200" y="160481"/>
                  </a:cubicBezTo>
                  <a:cubicBezTo>
                    <a:pt x="316984" y="146869"/>
                    <a:pt x="315357" y="138583"/>
                    <a:pt x="330317" y="135622"/>
                  </a:cubicBezTo>
                  <a:cubicBezTo>
                    <a:pt x="345277" y="132661"/>
                    <a:pt x="361284" y="129289"/>
                    <a:pt x="378337" y="125506"/>
                  </a:cubicBezTo>
                  <a:cubicBezTo>
                    <a:pt x="395391" y="121723"/>
                    <a:pt x="413676" y="116584"/>
                    <a:pt x="433194" y="110089"/>
                  </a:cubicBezTo>
                  <a:cubicBezTo>
                    <a:pt x="452713" y="103593"/>
                    <a:pt x="465766" y="96694"/>
                    <a:pt x="472355" y="89392"/>
                  </a:cubicBezTo>
                  <a:cubicBezTo>
                    <a:pt x="477296" y="83916"/>
                    <a:pt x="485539" y="81661"/>
                    <a:pt x="497082" y="82629"/>
                  </a:cubicBezTo>
                  <a:close/>
                  <a:moveTo>
                    <a:pt x="224486" y="70021"/>
                  </a:moveTo>
                  <a:cubicBezTo>
                    <a:pt x="182473" y="77711"/>
                    <a:pt x="148119" y="82377"/>
                    <a:pt x="121423" y="84020"/>
                  </a:cubicBezTo>
                  <a:cubicBezTo>
                    <a:pt x="132864" y="83276"/>
                    <a:pt x="142049" y="85842"/>
                    <a:pt x="148979" y="91718"/>
                  </a:cubicBezTo>
                  <a:cubicBezTo>
                    <a:pt x="155909" y="97593"/>
                    <a:pt x="158397" y="105244"/>
                    <a:pt x="156444" y="114670"/>
                  </a:cubicBezTo>
                  <a:cubicBezTo>
                    <a:pt x="154491" y="124095"/>
                    <a:pt x="153514" y="141195"/>
                    <a:pt x="153514" y="165969"/>
                  </a:cubicBezTo>
                  <a:cubicBezTo>
                    <a:pt x="159312" y="166186"/>
                    <a:pt x="168180" y="163806"/>
                    <a:pt x="180117" y="158830"/>
                  </a:cubicBezTo>
                  <a:cubicBezTo>
                    <a:pt x="192054" y="153853"/>
                    <a:pt x="204712" y="156101"/>
                    <a:pt x="218091" y="165573"/>
                  </a:cubicBezTo>
                  <a:cubicBezTo>
                    <a:pt x="231470" y="175046"/>
                    <a:pt x="231742" y="183348"/>
                    <a:pt x="218905" y="190479"/>
                  </a:cubicBezTo>
                  <a:cubicBezTo>
                    <a:pt x="206069" y="197610"/>
                    <a:pt x="192891" y="202176"/>
                    <a:pt x="179373" y="204176"/>
                  </a:cubicBezTo>
                  <a:cubicBezTo>
                    <a:pt x="165854" y="206176"/>
                    <a:pt x="156738" y="206199"/>
                    <a:pt x="152026" y="204246"/>
                  </a:cubicBezTo>
                  <a:cubicBezTo>
                    <a:pt x="151095" y="212152"/>
                    <a:pt x="150630" y="229546"/>
                    <a:pt x="150630" y="256428"/>
                  </a:cubicBezTo>
                  <a:cubicBezTo>
                    <a:pt x="159932" y="256738"/>
                    <a:pt x="170699" y="253901"/>
                    <a:pt x="182931" y="247917"/>
                  </a:cubicBezTo>
                  <a:cubicBezTo>
                    <a:pt x="195162" y="241933"/>
                    <a:pt x="207914" y="244972"/>
                    <a:pt x="221184" y="257033"/>
                  </a:cubicBezTo>
                  <a:cubicBezTo>
                    <a:pt x="234455" y="269094"/>
                    <a:pt x="228928" y="279365"/>
                    <a:pt x="204604" y="287845"/>
                  </a:cubicBezTo>
                  <a:cubicBezTo>
                    <a:pt x="180280" y="296325"/>
                    <a:pt x="161994" y="298627"/>
                    <a:pt x="149747" y="294752"/>
                  </a:cubicBezTo>
                  <a:cubicBezTo>
                    <a:pt x="146429" y="340485"/>
                    <a:pt x="144770" y="366623"/>
                    <a:pt x="144770" y="373166"/>
                  </a:cubicBezTo>
                  <a:cubicBezTo>
                    <a:pt x="167622" y="363864"/>
                    <a:pt x="195728" y="352190"/>
                    <a:pt x="229091" y="338144"/>
                  </a:cubicBezTo>
                  <a:cubicBezTo>
                    <a:pt x="231013" y="225717"/>
                    <a:pt x="231494" y="158551"/>
                    <a:pt x="230532" y="136645"/>
                  </a:cubicBezTo>
                  <a:cubicBezTo>
                    <a:pt x="229571" y="114739"/>
                    <a:pt x="227556" y="92531"/>
                    <a:pt x="224486" y="70021"/>
                  </a:cubicBezTo>
                  <a:close/>
                  <a:moveTo>
                    <a:pt x="327558" y="66"/>
                  </a:moveTo>
                  <a:cubicBezTo>
                    <a:pt x="331223" y="233"/>
                    <a:pt x="334623" y="715"/>
                    <a:pt x="337758" y="1514"/>
                  </a:cubicBezTo>
                  <a:cubicBezTo>
                    <a:pt x="350300" y="4707"/>
                    <a:pt x="361160" y="10567"/>
                    <a:pt x="370338" y="19094"/>
                  </a:cubicBezTo>
                  <a:cubicBezTo>
                    <a:pt x="379516" y="27621"/>
                    <a:pt x="377748" y="35256"/>
                    <a:pt x="365036" y="42000"/>
                  </a:cubicBezTo>
                  <a:cubicBezTo>
                    <a:pt x="352323" y="48743"/>
                    <a:pt x="334898" y="54123"/>
                    <a:pt x="312760" y="58138"/>
                  </a:cubicBezTo>
                  <a:cubicBezTo>
                    <a:pt x="290622" y="62153"/>
                    <a:pt x="270623" y="64487"/>
                    <a:pt x="252764" y="65138"/>
                  </a:cubicBezTo>
                  <a:cubicBezTo>
                    <a:pt x="267367" y="68052"/>
                    <a:pt x="277343" y="74385"/>
                    <a:pt x="282692" y="84137"/>
                  </a:cubicBezTo>
                  <a:cubicBezTo>
                    <a:pt x="288041" y="93888"/>
                    <a:pt x="289219" y="105872"/>
                    <a:pt x="286227" y="120088"/>
                  </a:cubicBezTo>
                  <a:cubicBezTo>
                    <a:pt x="283235" y="134304"/>
                    <a:pt x="281289" y="156907"/>
                    <a:pt x="280390" y="187898"/>
                  </a:cubicBezTo>
                  <a:cubicBezTo>
                    <a:pt x="279491" y="218888"/>
                    <a:pt x="279041" y="263141"/>
                    <a:pt x="279041" y="320657"/>
                  </a:cubicBezTo>
                  <a:cubicBezTo>
                    <a:pt x="298482" y="313092"/>
                    <a:pt x="315496" y="308278"/>
                    <a:pt x="330084" y="306216"/>
                  </a:cubicBezTo>
                  <a:cubicBezTo>
                    <a:pt x="344673" y="304154"/>
                    <a:pt x="345409" y="310286"/>
                    <a:pt x="332294" y="324610"/>
                  </a:cubicBezTo>
                  <a:cubicBezTo>
                    <a:pt x="319178" y="338935"/>
                    <a:pt x="301427" y="351275"/>
                    <a:pt x="279041" y="361631"/>
                  </a:cubicBezTo>
                  <a:lnTo>
                    <a:pt x="279041" y="504692"/>
                  </a:lnTo>
                  <a:cubicBezTo>
                    <a:pt x="279041" y="528877"/>
                    <a:pt x="274902" y="551976"/>
                    <a:pt x="266623" y="573990"/>
                  </a:cubicBezTo>
                  <a:cubicBezTo>
                    <a:pt x="258345" y="596005"/>
                    <a:pt x="247586" y="595051"/>
                    <a:pt x="234346" y="571130"/>
                  </a:cubicBezTo>
                  <a:cubicBezTo>
                    <a:pt x="221107" y="547209"/>
                    <a:pt x="216433" y="525676"/>
                    <a:pt x="220324" y="506529"/>
                  </a:cubicBezTo>
                  <a:cubicBezTo>
                    <a:pt x="224215" y="487383"/>
                    <a:pt x="227122" y="444991"/>
                    <a:pt x="229044" y="379351"/>
                  </a:cubicBezTo>
                  <a:cubicBezTo>
                    <a:pt x="200364" y="398358"/>
                    <a:pt x="169815" y="415016"/>
                    <a:pt x="137399" y="429325"/>
                  </a:cubicBezTo>
                  <a:cubicBezTo>
                    <a:pt x="104982" y="443634"/>
                    <a:pt x="83100" y="456393"/>
                    <a:pt x="71751" y="467602"/>
                  </a:cubicBezTo>
                  <a:cubicBezTo>
                    <a:pt x="60403" y="478810"/>
                    <a:pt x="42924" y="472880"/>
                    <a:pt x="19313" y="449812"/>
                  </a:cubicBezTo>
                  <a:cubicBezTo>
                    <a:pt x="-4298" y="426744"/>
                    <a:pt x="-6259" y="414566"/>
                    <a:pt x="13429" y="413279"/>
                  </a:cubicBezTo>
                  <a:cubicBezTo>
                    <a:pt x="33118" y="411993"/>
                    <a:pt x="61256" y="405257"/>
                    <a:pt x="97843" y="393071"/>
                  </a:cubicBezTo>
                  <a:cubicBezTo>
                    <a:pt x="99703" y="317851"/>
                    <a:pt x="100153" y="264234"/>
                    <a:pt x="99192" y="232221"/>
                  </a:cubicBezTo>
                  <a:cubicBezTo>
                    <a:pt x="98230" y="200207"/>
                    <a:pt x="97277" y="174712"/>
                    <a:pt x="96331" y="155737"/>
                  </a:cubicBezTo>
                  <a:cubicBezTo>
                    <a:pt x="95386" y="136761"/>
                    <a:pt x="91595" y="114018"/>
                    <a:pt x="84960" y="87508"/>
                  </a:cubicBezTo>
                  <a:cubicBezTo>
                    <a:pt x="71689" y="87508"/>
                    <a:pt x="58830" y="80307"/>
                    <a:pt x="46381" y="65905"/>
                  </a:cubicBezTo>
                  <a:cubicBezTo>
                    <a:pt x="33932" y="51503"/>
                    <a:pt x="41040" y="43697"/>
                    <a:pt x="67705" y="42488"/>
                  </a:cubicBezTo>
                  <a:cubicBezTo>
                    <a:pt x="94370" y="41279"/>
                    <a:pt x="121376" y="38721"/>
                    <a:pt x="148723" y="34814"/>
                  </a:cubicBezTo>
                  <a:cubicBezTo>
                    <a:pt x="176071" y="30907"/>
                    <a:pt x="200775" y="27039"/>
                    <a:pt x="222835" y="23210"/>
                  </a:cubicBezTo>
                  <a:cubicBezTo>
                    <a:pt x="244896" y="19381"/>
                    <a:pt x="266429" y="14009"/>
                    <a:pt x="287436" y="7095"/>
                  </a:cubicBezTo>
                  <a:cubicBezTo>
                    <a:pt x="303191" y="1909"/>
                    <a:pt x="316565" y="-434"/>
                    <a:pt x="327558" y="66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54" name="组合 108"/>
          <p:cNvGrpSpPr/>
          <p:nvPr/>
        </p:nvGrpSpPr>
        <p:grpSpPr>
          <a:xfrm>
            <a:off x="5867280" y="1924200"/>
            <a:ext cx="869760" cy="861480"/>
            <a:chOff x="5867280" y="1924200"/>
            <a:chExt cx="869760" cy="861480"/>
          </a:xfrm>
        </p:grpSpPr>
        <p:pic>
          <p:nvPicPr>
            <p:cNvPr id="355" name="图片 98" descr=""/>
            <p:cNvPicPr/>
            <p:nvPr/>
          </p:nvPicPr>
          <p:blipFill>
            <a:blip r:embed="rId6"/>
            <a:stretch/>
          </p:blipFill>
          <p:spPr>
            <a:xfrm>
              <a:off x="5867280" y="1924200"/>
              <a:ext cx="86976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文本框 102"/>
            <p:cNvSpPr/>
            <p:nvPr/>
          </p:nvSpPr>
          <p:spPr>
            <a:xfrm>
              <a:off x="5966280" y="2030040"/>
              <a:ext cx="672120" cy="64944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672705" h="649537">
                  <a:moveTo>
                    <a:pt x="316513" y="308861"/>
                  </a:moveTo>
                  <a:cubicBezTo>
                    <a:pt x="320243" y="308301"/>
                    <a:pt x="325113" y="308916"/>
                    <a:pt x="331124" y="310707"/>
                  </a:cubicBezTo>
                  <a:cubicBezTo>
                    <a:pt x="355169" y="317869"/>
                    <a:pt x="373168" y="325799"/>
                    <a:pt x="385121" y="334496"/>
                  </a:cubicBezTo>
                  <a:cubicBezTo>
                    <a:pt x="397074" y="343193"/>
                    <a:pt x="404081" y="355022"/>
                    <a:pt x="406143" y="369982"/>
                  </a:cubicBezTo>
                  <a:cubicBezTo>
                    <a:pt x="408205" y="384942"/>
                    <a:pt x="405034" y="398957"/>
                    <a:pt x="396632" y="412026"/>
                  </a:cubicBezTo>
                  <a:cubicBezTo>
                    <a:pt x="388229" y="425095"/>
                    <a:pt x="375850" y="422351"/>
                    <a:pt x="359495" y="403794"/>
                  </a:cubicBezTo>
                  <a:cubicBezTo>
                    <a:pt x="343139" y="385237"/>
                    <a:pt x="327892" y="365851"/>
                    <a:pt x="313753" y="345635"/>
                  </a:cubicBezTo>
                  <a:cubicBezTo>
                    <a:pt x="304405" y="322799"/>
                    <a:pt x="305325" y="310541"/>
                    <a:pt x="316513" y="308861"/>
                  </a:cubicBezTo>
                  <a:close/>
                  <a:moveTo>
                    <a:pt x="222131" y="116027"/>
                  </a:moveTo>
                  <a:cubicBezTo>
                    <a:pt x="228828" y="115294"/>
                    <a:pt x="236177" y="116486"/>
                    <a:pt x="244176" y="119602"/>
                  </a:cubicBezTo>
                  <a:cubicBezTo>
                    <a:pt x="260175" y="125834"/>
                    <a:pt x="274174" y="133911"/>
                    <a:pt x="286174" y="143833"/>
                  </a:cubicBezTo>
                  <a:cubicBezTo>
                    <a:pt x="298173" y="153755"/>
                    <a:pt x="299576" y="162328"/>
                    <a:pt x="290383" y="169552"/>
                  </a:cubicBezTo>
                  <a:cubicBezTo>
                    <a:pt x="281189" y="176777"/>
                    <a:pt x="274306" y="188606"/>
                    <a:pt x="269733" y="205039"/>
                  </a:cubicBezTo>
                  <a:cubicBezTo>
                    <a:pt x="265159" y="221472"/>
                    <a:pt x="258478" y="245323"/>
                    <a:pt x="249687" y="276592"/>
                  </a:cubicBezTo>
                  <a:cubicBezTo>
                    <a:pt x="240897" y="307862"/>
                    <a:pt x="232797" y="334023"/>
                    <a:pt x="225387" y="355076"/>
                  </a:cubicBezTo>
                  <a:cubicBezTo>
                    <a:pt x="256082" y="391105"/>
                    <a:pt x="275911" y="418250"/>
                    <a:pt x="284871" y="436513"/>
                  </a:cubicBezTo>
                  <a:cubicBezTo>
                    <a:pt x="293832" y="454775"/>
                    <a:pt x="293739" y="474092"/>
                    <a:pt x="284592" y="494463"/>
                  </a:cubicBezTo>
                  <a:cubicBezTo>
                    <a:pt x="275446" y="514834"/>
                    <a:pt x="260981" y="511400"/>
                    <a:pt x="241200" y="484161"/>
                  </a:cubicBezTo>
                  <a:cubicBezTo>
                    <a:pt x="221418" y="456922"/>
                    <a:pt x="205295" y="431629"/>
                    <a:pt x="192830" y="408282"/>
                  </a:cubicBezTo>
                  <a:cubicBezTo>
                    <a:pt x="170072" y="445427"/>
                    <a:pt x="144205" y="475495"/>
                    <a:pt x="115231" y="498486"/>
                  </a:cubicBezTo>
                  <a:cubicBezTo>
                    <a:pt x="86256" y="521477"/>
                    <a:pt x="56451" y="537972"/>
                    <a:pt x="25817" y="547971"/>
                  </a:cubicBezTo>
                  <a:cubicBezTo>
                    <a:pt x="-4816" y="557971"/>
                    <a:pt x="-8188" y="551692"/>
                    <a:pt x="15702" y="529135"/>
                  </a:cubicBezTo>
                  <a:cubicBezTo>
                    <a:pt x="39592" y="506578"/>
                    <a:pt x="63559" y="483277"/>
                    <a:pt x="87604" y="459232"/>
                  </a:cubicBezTo>
                  <a:cubicBezTo>
                    <a:pt x="111649" y="435187"/>
                    <a:pt x="134105" y="405135"/>
                    <a:pt x="154972" y="369075"/>
                  </a:cubicBezTo>
                  <a:cubicBezTo>
                    <a:pt x="131935" y="342689"/>
                    <a:pt x="114331" y="322628"/>
                    <a:pt x="102162" y="308893"/>
                  </a:cubicBezTo>
                  <a:cubicBezTo>
                    <a:pt x="89992" y="295157"/>
                    <a:pt x="75326" y="277104"/>
                    <a:pt x="58164" y="254733"/>
                  </a:cubicBezTo>
                  <a:cubicBezTo>
                    <a:pt x="41002" y="232363"/>
                    <a:pt x="48576" y="229781"/>
                    <a:pt x="80884" y="246990"/>
                  </a:cubicBezTo>
                  <a:cubicBezTo>
                    <a:pt x="113192" y="264198"/>
                    <a:pt x="145515" y="288661"/>
                    <a:pt x="177855" y="320380"/>
                  </a:cubicBezTo>
                  <a:cubicBezTo>
                    <a:pt x="182071" y="308226"/>
                    <a:pt x="189040" y="283212"/>
                    <a:pt x="198760" y="245338"/>
                  </a:cubicBezTo>
                  <a:cubicBezTo>
                    <a:pt x="208481" y="207465"/>
                    <a:pt x="212170" y="187218"/>
                    <a:pt x="209829" y="184598"/>
                  </a:cubicBezTo>
                  <a:cubicBezTo>
                    <a:pt x="207488" y="181978"/>
                    <a:pt x="204830" y="180668"/>
                    <a:pt x="201853" y="180668"/>
                  </a:cubicBezTo>
                  <a:cubicBezTo>
                    <a:pt x="198877" y="180668"/>
                    <a:pt x="187342" y="183536"/>
                    <a:pt x="167251" y="189272"/>
                  </a:cubicBezTo>
                  <a:cubicBezTo>
                    <a:pt x="147159" y="195008"/>
                    <a:pt x="127726" y="200357"/>
                    <a:pt x="108952" y="205318"/>
                  </a:cubicBezTo>
                  <a:cubicBezTo>
                    <a:pt x="90178" y="210279"/>
                    <a:pt x="71264" y="205604"/>
                    <a:pt x="52211" y="191295"/>
                  </a:cubicBezTo>
                  <a:cubicBezTo>
                    <a:pt x="33158" y="176986"/>
                    <a:pt x="36902" y="169180"/>
                    <a:pt x="63443" y="167878"/>
                  </a:cubicBezTo>
                  <a:cubicBezTo>
                    <a:pt x="89984" y="166576"/>
                    <a:pt x="117347" y="161227"/>
                    <a:pt x="145531" y="151833"/>
                  </a:cubicBezTo>
                  <a:cubicBezTo>
                    <a:pt x="173715" y="142438"/>
                    <a:pt x="193202" y="133159"/>
                    <a:pt x="203993" y="123997"/>
                  </a:cubicBezTo>
                  <a:cubicBezTo>
                    <a:pt x="209388" y="119416"/>
                    <a:pt x="215434" y="116759"/>
                    <a:pt x="222131" y="116027"/>
                  </a:cubicBezTo>
                  <a:close/>
                  <a:moveTo>
                    <a:pt x="447536" y="150"/>
                  </a:moveTo>
                  <a:cubicBezTo>
                    <a:pt x="456744" y="-862"/>
                    <a:pt x="473976" y="3252"/>
                    <a:pt x="499230" y="12492"/>
                  </a:cubicBezTo>
                  <a:cubicBezTo>
                    <a:pt x="530670" y="25577"/>
                    <a:pt x="543910" y="38777"/>
                    <a:pt x="538949" y="52094"/>
                  </a:cubicBezTo>
                  <a:cubicBezTo>
                    <a:pt x="533988" y="65411"/>
                    <a:pt x="530585" y="84100"/>
                    <a:pt x="528740" y="108161"/>
                  </a:cubicBezTo>
                  <a:cubicBezTo>
                    <a:pt x="526895" y="132221"/>
                    <a:pt x="525973" y="164049"/>
                    <a:pt x="525973" y="203643"/>
                  </a:cubicBezTo>
                  <a:cubicBezTo>
                    <a:pt x="559552" y="199923"/>
                    <a:pt x="586419" y="195101"/>
                    <a:pt x="606573" y="189179"/>
                  </a:cubicBezTo>
                  <a:cubicBezTo>
                    <a:pt x="626726" y="183257"/>
                    <a:pt x="645570" y="190365"/>
                    <a:pt x="663104" y="210503"/>
                  </a:cubicBezTo>
                  <a:cubicBezTo>
                    <a:pt x="680638" y="230642"/>
                    <a:pt x="674158" y="241866"/>
                    <a:pt x="643663" y="244176"/>
                  </a:cubicBezTo>
                  <a:cubicBezTo>
                    <a:pt x="613169" y="246486"/>
                    <a:pt x="573939" y="250307"/>
                    <a:pt x="525973" y="255640"/>
                  </a:cubicBezTo>
                  <a:cubicBezTo>
                    <a:pt x="527833" y="376501"/>
                    <a:pt x="530244" y="457674"/>
                    <a:pt x="533205" y="499160"/>
                  </a:cubicBezTo>
                  <a:cubicBezTo>
                    <a:pt x="536166" y="540646"/>
                    <a:pt x="533484" y="571272"/>
                    <a:pt x="525159" y="591038"/>
                  </a:cubicBezTo>
                  <a:cubicBezTo>
                    <a:pt x="516834" y="610805"/>
                    <a:pt x="503858" y="627610"/>
                    <a:pt x="486231" y="641454"/>
                  </a:cubicBezTo>
                  <a:cubicBezTo>
                    <a:pt x="468604" y="655298"/>
                    <a:pt x="456341" y="651360"/>
                    <a:pt x="449443" y="629641"/>
                  </a:cubicBezTo>
                  <a:cubicBezTo>
                    <a:pt x="442544" y="607921"/>
                    <a:pt x="426762" y="583543"/>
                    <a:pt x="402097" y="556506"/>
                  </a:cubicBezTo>
                  <a:cubicBezTo>
                    <a:pt x="377432" y="529468"/>
                    <a:pt x="378540" y="520337"/>
                    <a:pt x="405422" y="529112"/>
                  </a:cubicBezTo>
                  <a:cubicBezTo>
                    <a:pt x="432304" y="537887"/>
                    <a:pt x="451032" y="542274"/>
                    <a:pt x="461605" y="542274"/>
                  </a:cubicBezTo>
                  <a:cubicBezTo>
                    <a:pt x="467310" y="542274"/>
                    <a:pt x="470162" y="522849"/>
                    <a:pt x="470162" y="483998"/>
                  </a:cubicBezTo>
                  <a:lnTo>
                    <a:pt x="470162" y="262384"/>
                  </a:lnTo>
                  <a:cubicBezTo>
                    <a:pt x="452148" y="264275"/>
                    <a:pt x="431870" y="266686"/>
                    <a:pt x="409329" y="269616"/>
                  </a:cubicBezTo>
                  <a:cubicBezTo>
                    <a:pt x="386788" y="272546"/>
                    <a:pt x="366696" y="275965"/>
                    <a:pt x="349053" y="279871"/>
                  </a:cubicBezTo>
                  <a:cubicBezTo>
                    <a:pt x="331411" y="283778"/>
                    <a:pt x="312164" y="277112"/>
                    <a:pt x="291313" y="259872"/>
                  </a:cubicBezTo>
                  <a:cubicBezTo>
                    <a:pt x="270461" y="242633"/>
                    <a:pt x="271942" y="233370"/>
                    <a:pt x="295754" y="232083"/>
                  </a:cubicBezTo>
                  <a:cubicBezTo>
                    <a:pt x="319567" y="230797"/>
                    <a:pt x="344899" y="228719"/>
                    <a:pt x="371750" y="225851"/>
                  </a:cubicBezTo>
                  <a:cubicBezTo>
                    <a:pt x="398601" y="222983"/>
                    <a:pt x="431405" y="218898"/>
                    <a:pt x="470162" y="213596"/>
                  </a:cubicBezTo>
                  <a:cubicBezTo>
                    <a:pt x="470162" y="186063"/>
                    <a:pt x="469217" y="152305"/>
                    <a:pt x="467325" y="112323"/>
                  </a:cubicBezTo>
                  <a:cubicBezTo>
                    <a:pt x="465434" y="72341"/>
                    <a:pt x="457651" y="41087"/>
                    <a:pt x="443978" y="18562"/>
                  </a:cubicBezTo>
                  <a:cubicBezTo>
                    <a:pt x="437141" y="7299"/>
                    <a:pt x="438327" y="1162"/>
                    <a:pt x="447536" y="15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57" name="组合 107"/>
          <p:cNvGrpSpPr/>
          <p:nvPr/>
        </p:nvGrpSpPr>
        <p:grpSpPr>
          <a:xfrm>
            <a:off x="7380360" y="1924200"/>
            <a:ext cx="869760" cy="861480"/>
            <a:chOff x="7380360" y="1924200"/>
            <a:chExt cx="869760" cy="861480"/>
          </a:xfrm>
        </p:grpSpPr>
        <p:sp>
          <p:nvSpPr>
            <p:cNvPr id="358" name="文本框 105"/>
            <p:cNvSpPr/>
            <p:nvPr/>
          </p:nvSpPr>
          <p:spPr>
            <a:xfrm>
              <a:off x="7493400" y="2037600"/>
              <a:ext cx="643320" cy="635040"/>
            </a:xfrm>
            <a:custGeom>
              <a:avLst/>
              <a:gdLst>
                <a:gd name="textAreaLeft" fmla="*/ 0 w 643320"/>
                <a:gd name="textAreaRight" fmla="*/ 643680 w 64332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644046" h="634896">
                  <a:moveTo>
                    <a:pt x="187362" y="138997"/>
                  </a:moveTo>
                  <a:cubicBezTo>
                    <a:pt x="192955" y="138490"/>
                    <a:pt x="199639" y="139557"/>
                    <a:pt x="207413" y="142201"/>
                  </a:cubicBezTo>
                  <a:cubicBezTo>
                    <a:pt x="222963" y="147487"/>
                    <a:pt x="235195" y="154456"/>
                    <a:pt x="244109" y="163106"/>
                  </a:cubicBezTo>
                  <a:cubicBezTo>
                    <a:pt x="253023" y="171757"/>
                    <a:pt x="253891" y="180167"/>
                    <a:pt x="246713" y="188337"/>
                  </a:cubicBezTo>
                  <a:cubicBezTo>
                    <a:pt x="239535" y="196508"/>
                    <a:pt x="232125" y="215413"/>
                    <a:pt x="224482" y="245055"/>
                  </a:cubicBezTo>
                  <a:cubicBezTo>
                    <a:pt x="216839" y="274697"/>
                    <a:pt x="205468" y="307377"/>
                    <a:pt x="190368" y="343095"/>
                  </a:cubicBezTo>
                  <a:cubicBezTo>
                    <a:pt x="228474" y="367342"/>
                    <a:pt x="251132" y="386279"/>
                    <a:pt x="258340" y="399906"/>
                  </a:cubicBezTo>
                  <a:cubicBezTo>
                    <a:pt x="265549" y="413533"/>
                    <a:pt x="265883" y="430602"/>
                    <a:pt x="259340" y="451112"/>
                  </a:cubicBezTo>
                  <a:cubicBezTo>
                    <a:pt x="252798" y="471623"/>
                    <a:pt x="239535" y="471250"/>
                    <a:pt x="219552" y="449996"/>
                  </a:cubicBezTo>
                  <a:cubicBezTo>
                    <a:pt x="199569" y="428741"/>
                    <a:pt x="181671" y="410192"/>
                    <a:pt x="165858" y="394348"/>
                  </a:cubicBezTo>
                  <a:cubicBezTo>
                    <a:pt x="147533" y="425571"/>
                    <a:pt x="126845" y="450709"/>
                    <a:pt x="103792" y="469762"/>
                  </a:cubicBezTo>
                  <a:cubicBezTo>
                    <a:pt x="80739" y="488815"/>
                    <a:pt x="54810" y="503380"/>
                    <a:pt x="26006" y="513457"/>
                  </a:cubicBezTo>
                  <a:cubicBezTo>
                    <a:pt x="-2799" y="523534"/>
                    <a:pt x="-7674" y="519224"/>
                    <a:pt x="11379" y="500528"/>
                  </a:cubicBezTo>
                  <a:cubicBezTo>
                    <a:pt x="30432" y="481831"/>
                    <a:pt x="50539" y="459995"/>
                    <a:pt x="71701" y="435020"/>
                  </a:cubicBezTo>
                  <a:cubicBezTo>
                    <a:pt x="92862" y="410045"/>
                    <a:pt x="111861" y="385527"/>
                    <a:pt x="128697" y="361466"/>
                  </a:cubicBezTo>
                  <a:cubicBezTo>
                    <a:pt x="87707" y="327267"/>
                    <a:pt x="62872" y="302734"/>
                    <a:pt x="54190" y="287866"/>
                  </a:cubicBezTo>
                  <a:cubicBezTo>
                    <a:pt x="45508" y="272999"/>
                    <a:pt x="52136" y="269627"/>
                    <a:pt x="74073" y="277751"/>
                  </a:cubicBezTo>
                  <a:cubicBezTo>
                    <a:pt x="96009" y="285874"/>
                    <a:pt x="120295" y="297377"/>
                    <a:pt x="146929" y="312260"/>
                  </a:cubicBezTo>
                  <a:cubicBezTo>
                    <a:pt x="154339" y="292261"/>
                    <a:pt x="160935" y="267867"/>
                    <a:pt x="166718" y="239079"/>
                  </a:cubicBezTo>
                  <a:cubicBezTo>
                    <a:pt x="172501" y="210290"/>
                    <a:pt x="171416" y="197321"/>
                    <a:pt x="163463" y="200174"/>
                  </a:cubicBezTo>
                  <a:cubicBezTo>
                    <a:pt x="155509" y="203026"/>
                    <a:pt x="137441" y="209832"/>
                    <a:pt x="109257" y="220591"/>
                  </a:cubicBezTo>
                  <a:cubicBezTo>
                    <a:pt x="81072" y="231350"/>
                    <a:pt x="57329" y="230436"/>
                    <a:pt x="38028" y="217847"/>
                  </a:cubicBezTo>
                  <a:cubicBezTo>
                    <a:pt x="18727" y="205259"/>
                    <a:pt x="20301" y="196988"/>
                    <a:pt x="42749" y="193035"/>
                  </a:cubicBezTo>
                  <a:cubicBezTo>
                    <a:pt x="65197" y="189082"/>
                    <a:pt x="90955" y="181958"/>
                    <a:pt x="120023" y="171664"/>
                  </a:cubicBezTo>
                  <a:cubicBezTo>
                    <a:pt x="149091" y="161370"/>
                    <a:pt x="167036" y="152564"/>
                    <a:pt x="173857" y="145247"/>
                  </a:cubicBezTo>
                  <a:cubicBezTo>
                    <a:pt x="177268" y="141588"/>
                    <a:pt x="181770" y="139505"/>
                    <a:pt x="187362" y="138997"/>
                  </a:cubicBezTo>
                  <a:close/>
                  <a:moveTo>
                    <a:pt x="467421" y="55532"/>
                  </a:moveTo>
                  <a:cubicBezTo>
                    <a:pt x="489528" y="55532"/>
                    <a:pt x="507728" y="61772"/>
                    <a:pt x="522022" y="74251"/>
                  </a:cubicBezTo>
                  <a:cubicBezTo>
                    <a:pt x="536316" y="86731"/>
                    <a:pt x="539129" y="101366"/>
                    <a:pt x="530463" y="118156"/>
                  </a:cubicBezTo>
                  <a:cubicBezTo>
                    <a:pt x="521797" y="134945"/>
                    <a:pt x="508093" y="137620"/>
                    <a:pt x="489350" y="126178"/>
                  </a:cubicBezTo>
                  <a:cubicBezTo>
                    <a:pt x="470607" y="114737"/>
                    <a:pt x="452995" y="101808"/>
                    <a:pt x="436516" y="87390"/>
                  </a:cubicBezTo>
                  <a:cubicBezTo>
                    <a:pt x="420036" y="72972"/>
                    <a:pt x="416439" y="64058"/>
                    <a:pt x="425726" y="60648"/>
                  </a:cubicBezTo>
                  <a:cubicBezTo>
                    <a:pt x="435012" y="57237"/>
                    <a:pt x="448910" y="55532"/>
                    <a:pt x="467421" y="55532"/>
                  </a:cubicBezTo>
                  <a:close/>
                  <a:moveTo>
                    <a:pt x="319786" y="52"/>
                  </a:moveTo>
                  <a:cubicBezTo>
                    <a:pt x="331160" y="541"/>
                    <a:pt x="344684" y="4500"/>
                    <a:pt x="360357" y="11930"/>
                  </a:cubicBezTo>
                  <a:cubicBezTo>
                    <a:pt x="381255" y="21836"/>
                    <a:pt x="389278" y="34672"/>
                    <a:pt x="384426" y="50439"/>
                  </a:cubicBezTo>
                  <a:cubicBezTo>
                    <a:pt x="379573" y="66205"/>
                    <a:pt x="383488" y="118458"/>
                    <a:pt x="396169" y="207197"/>
                  </a:cubicBezTo>
                  <a:cubicBezTo>
                    <a:pt x="412757" y="200406"/>
                    <a:pt x="428384" y="193360"/>
                    <a:pt x="443050" y="186059"/>
                  </a:cubicBezTo>
                  <a:cubicBezTo>
                    <a:pt x="457716" y="178757"/>
                    <a:pt x="472281" y="180160"/>
                    <a:pt x="486745" y="190268"/>
                  </a:cubicBezTo>
                  <a:cubicBezTo>
                    <a:pt x="501209" y="200375"/>
                    <a:pt x="500806" y="210987"/>
                    <a:pt x="485536" y="222103"/>
                  </a:cubicBezTo>
                  <a:cubicBezTo>
                    <a:pt x="470265" y="233218"/>
                    <a:pt x="443856" y="245877"/>
                    <a:pt x="406308" y="260077"/>
                  </a:cubicBezTo>
                  <a:cubicBezTo>
                    <a:pt x="408168" y="281099"/>
                    <a:pt x="414370" y="310167"/>
                    <a:pt x="424912" y="347281"/>
                  </a:cubicBezTo>
                  <a:cubicBezTo>
                    <a:pt x="430710" y="337576"/>
                    <a:pt x="438748" y="325724"/>
                    <a:pt x="449026" y="311725"/>
                  </a:cubicBezTo>
                  <a:cubicBezTo>
                    <a:pt x="459305" y="297726"/>
                    <a:pt x="465599" y="282161"/>
                    <a:pt x="467909" y="265030"/>
                  </a:cubicBezTo>
                  <a:cubicBezTo>
                    <a:pt x="470219" y="247900"/>
                    <a:pt x="477490" y="241520"/>
                    <a:pt x="489722" y="245892"/>
                  </a:cubicBezTo>
                  <a:cubicBezTo>
                    <a:pt x="501953" y="250264"/>
                    <a:pt x="514945" y="258884"/>
                    <a:pt x="528696" y="271751"/>
                  </a:cubicBezTo>
                  <a:cubicBezTo>
                    <a:pt x="542447" y="284618"/>
                    <a:pt x="543036" y="295719"/>
                    <a:pt x="530463" y="305051"/>
                  </a:cubicBezTo>
                  <a:cubicBezTo>
                    <a:pt x="517890" y="314384"/>
                    <a:pt x="506341" y="326724"/>
                    <a:pt x="495814" y="342072"/>
                  </a:cubicBezTo>
                  <a:cubicBezTo>
                    <a:pt x="485288" y="357420"/>
                    <a:pt x="469080" y="376504"/>
                    <a:pt x="447189" y="399325"/>
                  </a:cubicBezTo>
                  <a:cubicBezTo>
                    <a:pt x="471839" y="452562"/>
                    <a:pt x="499341" y="492218"/>
                    <a:pt x="529696" y="518294"/>
                  </a:cubicBezTo>
                  <a:cubicBezTo>
                    <a:pt x="560051" y="544370"/>
                    <a:pt x="577732" y="552284"/>
                    <a:pt x="582739" y="542037"/>
                  </a:cubicBezTo>
                  <a:cubicBezTo>
                    <a:pt x="587747" y="531789"/>
                    <a:pt x="597537" y="511853"/>
                    <a:pt x="612110" y="482227"/>
                  </a:cubicBezTo>
                  <a:cubicBezTo>
                    <a:pt x="626682" y="452600"/>
                    <a:pt x="633457" y="460119"/>
                    <a:pt x="632434" y="504783"/>
                  </a:cubicBezTo>
                  <a:cubicBezTo>
                    <a:pt x="631411" y="549447"/>
                    <a:pt x="634814" y="585499"/>
                    <a:pt x="642643" y="612939"/>
                  </a:cubicBezTo>
                  <a:cubicBezTo>
                    <a:pt x="650471" y="640380"/>
                    <a:pt x="625543" y="642101"/>
                    <a:pt x="567856" y="618102"/>
                  </a:cubicBezTo>
                  <a:cubicBezTo>
                    <a:pt x="510170" y="594103"/>
                    <a:pt x="456336" y="532169"/>
                    <a:pt x="406355" y="432299"/>
                  </a:cubicBezTo>
                  <a:cubicBezTo>
                    <a:pt x="360404" y="476514"/>
                    <a:pt x="314314" y="504589"/>
                    <a:pt x="268084" y="516527"/>
                  </a:cubicBezTo>
                  <a:cubicBezTo>
                    <a:pt x="221854" y="528464"/>
                    <a:pt x="213304" y="524464"/>
                    <a:pt x="242434" y="504528"/>
                  </a:cubicBezTo>
                  <a:cubicBezTo>
                    <a:pt x="271564" y="484591"/>
                    <a:pt x="299012" y="463646"/>
                    <a:pt x="324778" y="441694"/>
                  </a:cubicBezTo>
                  <a:cubicBezTo>
                    <a:pt x="350544" y="419742"/>
                    <a:pt x="370791" y="401666"/>
                    <a:pt x="385519" y="387465"/>
                  </a:cubicBezTo>
                  <a:cubicBezTo>
                    <a:pt x="374109" y="351033"/>
                    <a:pt x="364993" y="313438"/>
                    <a:pt x="358172" y="274681"/>
                  </a:cubicBezTo>
                  <a:cubicBezTo>
                    <a:pt x="346854" y="278433"/>
                    <a:pt x="334514" y="282774"/>
                    <a:pt x="321151" y="287703"/>
                  </a:cubicBezTo>
                  <a:cubicBezTo>
                    <a:pt x="307787" y="292633"/>
                    <a:pt x="290858" y="290944"/>
                    <a:pt x="270363" y="282634"/>
                  </a:cubicBezTo>
                  <a:cubicBezTo>
                    <a:pt x="249868" y="274324"/>
                    <a:pt x="252248" y="265116"/>
                    <a:pt x="277502" y="255008"/>
                  </a:cubicBezTo>
                  <a:cubicBezTo>
                    <a:pt x="302756" y="244900"/>
                    <a:pt x="326127" y="235815"/>
                    <a:pt x="347614" y="227754"/>
                  </a:cubicBezTo>
                  <a:cubicBezTo>
                    <a:pt x="339832" y="190175"/>
                    <a:pt x="332584" y="151200"/>
                    <a:pt x="325871" y="110831"/>
                  </a:cubicBezTo>
                  <a:cubicBezTo>
                    <a:pt x="319158" y="70461"/>
                    <a:pt x="311376" y="42625"/>
                    <a:pt x="302524" y="27324"/>
                  </a:cubicBezTo>
                  <a:cubicBezTo>
                    <a:pt x="293672" y="12023"/>
                    <a:pt x="295873" y="3155"/>
                    <a:pt x="309128" y="721"/>
                  </a:cubicBezTo>
                  <a:cubicBezTo>
                    <a:pt x="312442" y="113"/>
                    <a:pt x="315994" y="-110"/>
                    <a:pt x="319786" y="52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359" name="图片 106" descr=""/>
            <p:cNvPicPr/>
            <p:nvPr/>
          </p:nvPicPr>
          <p:blipFill>
            <a:blip r:embed="rId7"/>
            <a:stretch/>
          </p:blipFill>
          <p:spPr>
            <a:xfrm>
              <a:off x="7380360" y="1924200"/>
              <a:ext cx="869760" cy="86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合 27"/>
          <p:cNvGrpSpPr/>
          <p:nvPr/>
        </p:nvGrpSpPr>
        <p:grpSpPr>
          <a:xfrm>
            <a:off x="863640" y="1244520"/>
            <a:ext cx="1439640" cy="1565640"/>
            <a:chOff x="863640" y="1244520"/>
            <a:chExt cx="1439640" cy="1565640"/>
          </a:xfrm>
        </p:grpSpPr>
        <p:grpSp>
          <p:nvGrpSpPr>
            <p:cNvPr id="361" name="组合 4"/>
            <p:cNvGrpSpPr/>
            <p:nvPr/>
          </p:nvGrpSpPr>
          <p:grpSpPr>
            <a:xfrm>
              <a:off x="863640" y="1244520"/>
              <a:ext cx="1439640" cy="1565640"/>
              <a:chOff x="863640" y="1244520"/>
              <a:chExt cx="1439640" cy="1565640"/>
            </a:xfrm>
          </p:grpSpPr>
          <p:sp>
            <p:nvSpPr>
              <p:cNvPr id="362" name="文本框 5"/>
              <p:cNvSpPr/>
              <p:nvPr/>
            </p:nvSpPr>
            <p:spPr>
              <a:xfrm>
                <a:off x="863640" y="2233080"/>
                <a:ext cx="143964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又字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组合 4"/>
              <p:cNvGrpSpPr/>
              <p:nvPr/>
            </p:nvGrpSpPr>
            <p:grpSpPr>
              <a:xfrm>
                <a:off x="1066680" y="1244520"/>
                <a:ext cx="1033200" cy="1031400"/>
                <a:chOff x="1066680" y="1244520"/>
                <a:chExt cx="1033200" cy="1031400"/>
              </a:xfrm>
            </p:grpSpPr>
            <p:sp>
              <p:nvSpPr>
                <p:cNvPr id="364" name="椭圆 52"/>
                <p:cNvSpPr/>
                <p:nvPr/>
              </p:nvSpPr>
              <p:spPr>
                <a:xfrm>
                  <a:off x="1066680" y="1244520"/>
                  <a:ext cx="1033200" cy="1031400"/>
                </a:xfrm>
                <a:prstGeom prst="ellipse">
                  <a:avLst/>
                </a:prstGeom>
                <a:noFill/>
                <a:ln>
                  <a:solidFill>
                    <a:srgbClr val="c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6000" spc="-1" strike="noStrike">
                    <a:solidFill>
                      <a:srgbClr val="000000"/>
                    </a:solidFill>
                    <a:latin typeface="楷体"/>
                    <a:ea typeface="楷体"/>
                  </a:endParaRPr>
                </a:p>
              </p:txBody>
            </p:sp>
            <p:sp>
              <p:nvSpPr>
                <p:cNvPr id="365" name="椭圆 53"/>
                <p:cNvSpPr/>
                <p:nvPr/>
              </p:nvSpPr>
              <p:spPr>
                <a:xfrm>
                  <a:off x="1109520" y="1287360"/>
                  <a:ext cx="947520" cy="945720"/>
                </a:xfrm>
                <a:prstGeom prst="ellipse">
                  <a:avLst/>
                </a:prstGeom>
                <a:noFill/>
                <a:ln>
                  <a:solidFill>
                    <a:srgbClr val="c00000"/>
                  </a:solidFill>
                  <a:prstDash val="sysDash"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6000" spc="-1" strike="noStrike">
                    <a:solidFill>
                      <a:srgbClr val="000000"/>
                    </a:solidFill>
                    <a:latin typeface="楷体"/>
                    <a:ea typeface="楷体"/>
                  </a:endParaRPr>
                </a:p>
              </p:txBody>
            </p:sp>
          </p:grpSp>
        </p:grpSp>
        <p:sp>
          <p:nvSpPr>
            <p:cNvPr id="366" name="文本框 42"/>
            <p:cNvSpPr/>
            <p:nvPr/>
          </p:nvSpPr>
          <p:spPr>
            <a:xfrm>
              <a:off x="1321560" y="1443600"/>
              <a:ext cx="480600" cy="6429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414558" h="554674">
                  <a:moveTo>
                    <a:pt x="327450" y="299"/>
                  </a:moveTo>
                  <a:cubicBezTo>
                    <a:pt x="335412" y="-696"/>
                    <a:pt x="343706" y="797"/>
                    <a:pt x="352332" y="4778"/>
                  </a:cubicBezTo>
                  <a:cubicBezTo>
                    <a:pt x="369584" y="12740"/>
                    <a:pt x="386172" y="22693"/>
                    <a:pt x="402096" y="34636"/>
                  </a:cubicBezTo>
                  <a:cubicBezTo>
                    <a:pt x="418021" y="46580"/>
                    <a:pt x="418684" y="58523"/>
                    <a:pt x="404087" y="70467"/>
                  </a:cubicBezTo>
                  <a:cubicBezTo>
                    <a:pt x="389489" y="82410"/>
                    <a:pt x="379536" y="98335"/>
                    <a:pt x="374228" y="118241"/>
                  </a:cubicBezTo>
                  <a:cubicBezTo>
                    <a:pt x="368920" y="138146"/>
                    <a:pt x="358967" y="171986"/>
                    <a:pt x="344370" y="219760"/>
                  </a:cubicBezTo>
                  <a:cubicBezTo>
                    <a:pt x="329772" y="267534"/>
                    <a:pt x="313184" y="309999"/>
                    <a:pt x="294605" y="347157"/>
                  </a:cubicBezTo>
                  <a:cubicBezTo>
                    <a:pt x="323800" y="376352"/>
                    <a:pt x="344370" y="404220"/>
                    <a:pt x="356313" y="430761"/>
                  </a:cubicBezTo>
                  <a:cubicBezTo>
                    <a:pt x="368256" y="457302"/>
                    <a:pt x="368256" y="480526"/>
                    <a:pt x="356313" y="500431"/>
                  </a:cubicBezTo>
                  <a:cubicBezTo>
                    <a:pt x="344370" y="520337"/>
                    <a:pt x="326454" y="513038"/>
                    <a:pt x="302567" y="478535"/>
                  </a:cubicBezTo>
                  <a:cubicBezTo>
                    <a:pt x="278681" y="444032"/>
                    <a:pt x="261429" y="418818"/>
                    <a:pt x="250812" y="402893"/>
                  </a:cubicBezTo>
                  <a:cubicBezTo>
                    <a:pt x="218963" y="442705"/>
                    <a:pt x="181142" y="475881"/>
                    <a:pt x="137350" y="502422"/>
                  </a:cubicBezTo>
                  <a:cubicBezTo>
                    <a:pt x="93557" y="528963"/>
                    <a:pt x="55736" y="545551"/>
                    <a:pt x="23887" y="552186"/>
                  </a:cubicBezTo>
                  <a:cubicBezTo>
                    <a:pt x="-7962" y="558821"/>
                    <a:pt x="-7962" y="552186"/>
                    <a:pt x="23887" y="532281"/>
                  </a:cubicBezTo>
                  <a:cubicBezTo>
                    <a:pt x="55736" y="512375"/>
                    <a:pt x="88249" y="487824"/>
                    <a:pt x="121425" y="458629"/>
                  </a:cubicBezTo>
                  <a:cubicBezTo>
                    <a:pt x="154601" y="429434"/>
                    <a:pt x="187114" y="394931"/>
                    <a:pt x="218963" y="355119"/>
                  </a:cubicBezTo>
                  <a:cubicBezTo>
                    <a:pt x="192422" y="323270"/>
                    <a:pt x="170526" y="296729"/>
                    <a:pt x="153274" y="275496"/>
                  </a:cubicBezTo>
                  <a:cubicBezTo>
                    <a:pt x="136023" y="254263"/>
                    <a:pt x="117444" y="231704"/>
                    <a:pt x="97538" y="207817"/>
                  </a:cubicBezTo>
                  <a:cubicBezTo>
                    <a:pt x="77632" y="183930"/>
                    <a:pt x="86258" y="181276"/>
                    <a:pt x="123416" y="199854"/>
                  </a:cubicBezTo>
                  <a:cubicBezTo>
                    <a:pt x="160573" y="218433"/>
                    <a:pt x="203039" y="250282"/>
                    <a:pt x="250812" y="295402"/>
                  </a:cubicBezTo>
                  <a:cubicBezTo>
                    <a:pt x="269391" y="258244"/>
                    <a:pt x="284652" y="211134"/>
                    <a:pt x="296596" y="154071"/>
                  </a:cubicBezTo>
                  <a:cubicBezTo>
                    <a:pt x="308539" y="97008"/>
                    <a:pt x="305222" y="69140"/>
                    <a:pt x="286643" y="70467"/>
                  </a:cubicBezTo>
                  <a:cubicBezTo>
                    <a:pt x="268064" y="71794"/>
                    <a:pt x="249485" y="75112"/>
                    <a:pt x="230907" y="80420"/>
                  </a:cubicBezTo>
                  <a:cubicBezTo>
                    <a:pt x="212328" y="85728"/>
                    <a:pt x="194413" y="89709"/>
                    <a:pt x="177161" y="92363"/>
                  </a:cubicBezTo>
                  <a:cubicBezTo>
                    <a:pt x="159910" y="95017"/>
                    <a:pt x="139340" y="89709"/>
                    <a:pt x="115453" y="76439"/>
                  </a:cubicBezTo>
                  <a:cubicBezTo>
                    <a:pt x="91566" y="63168"/>
                    <a:pt x="91566" y="56533"/>
                    <a:pt x="115453" y="56533"/>
                  </a:cubicBezTo>
                  <a:cubicBezTo>
                    <a:pt x="139340" y="56533"/>
                    <a:pt x="173180" y="51888"/>
                    <a:pt x="216973" y="42599"/>
                  </a:cubicBezTo>
                  <a:cubicBezTo>
                    <a:pt x="260765" y="33309"/>
                    <a:pt x="289961" y="22693"/>
                    <a:pt x="304558" y="10750"/>
                  </a:cubicBezTo>
                  <a:cubicBezTo>
                    <a:pt x="311857" y="4778"/>
                    <a:pt x="319487" y="1294"/>
                    <a:pt x="327450" y="29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67" name="组合 14336"/>
          <p:cNvGrpSpPr/>
          <p:nvPr/>
        </p:nvGrpSpPr>
        <p:grpSpPr>
          <a:xfrm>
            <a:off x="2340000" y="1077840"/>
            <a:ext cx="6803640" cy="802800"/>
            <a:chOff x="2340000" y="1077840"/>
            <a:chExt cx="6803640" cy="802800"/>
          </a:xfrm>
        </p:grpSpPr>
        <p:sp>
          <p:nvSpPr>
            <p:cNvPr id="368" name="文本框 14"/>
            <p:cNvSpPr/>
            <p:nvPr/>
          </p:nvSpPr>
          <p:spPr>
            <a:xfrm>
              <a:off x="2340000" y="1077840"/>
              <a:ext cx="6803640" cy="8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含“  ”的字大多与</a:t>
              </a:r>
              <a:r>
                <a:rPr b="1" lang="zh-CN" sz="36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有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84"/>
            <p:cNvSpPr/>
            <p:nvPr/>
          </p:nvSpPr>
          <p:spPr>
            <a:xfrm>
              <a:off x="3942720" y="1321200"/>
              <a:ext cx="214920" cy="3729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92825" h="334667">
                  <a:moveTo>
                    <a:pt x="160929" y="0"/>
                  </a:moveTo>
                  <a:lnTo>
                    <a:pt x="192825" y="33151"/>
                  </a:lnTo>
                  <a:lnTo>
                    <a:pt x="174463" y="45625"/>
                  </a:lnTo>
                  <a:cubicBezTo>
                    <a:pt x="167859" y="66591"/>
                    <a:pt x="161487" y="86878"/>
                    <a:pt x="155348" y="106486"/>
                  </a:cubicBezTo>
                  <a:cubicBezTo>
                    <a:pt x="149804" y="125350"/>
                    <a:pt x="141284" y="147665"/>
                    <a:pt x="129787" y="173431"/>
                  </a:cubicBezTo>
                  <a:cubicBezTo>
                    <a:pt x="152948" y="202006"/>
                    <a:pt x="167785" y="223395"/>
                    <a:pt x="174296" y="237599"/>
                  </a:cubicBezTo>
                  <a:cubicBezTo>
                    <a:pt x="180807" y="251803"/>
                    <a:pt x="184063" y="261937"/>
                    <a:pt x="184063" y="268002"/>
                  </a:cubicBezTo>
                  <a:cubicBezTo>
                    <a:pt x="184063" y="275927"/>
                    <a:pt x="181909" y="283471"/>
                    <a:pt x="177603" y="290633"/>
                  </a:cubicBezTo>
                  <a:cubicBezTo>
                    <a:pt x="173296" y="297795"/>
                    <a:pt x="168994" y="301377"/>
                    <a:pt x="164696" y="301377"/>
                  </a:cubicBezTo>
                  <a:cubicBezTo>
                    <a:pt x="157348" y="301377"/>
                    <a:pt x="150958" y="292568"/>
                    <a:pt x="145526" y="274950"/>
                  </a:cubicBezTo>
                  <a:cubicBezTo>
                    <a:pt x="137470" y="254207"/>
                    <a:pt x="126485" y="230330"/>
                    <a:pt x="112569" y="203317"/>
                  </a:cubicBezTo>
                  <a:cubicBezTo>
                    <a:pt x="107230" y="217865"/>
                    <a:pt x="96268" y="237283"/>
                    <a:pt x="79683" y="261570"/>
                  </a:cubicBezTo>
                  <a:cubicBezTo>
                    <a:pt x="63098" y="285857"/>
                    <a:pt x="39076" y="310222"/>
                    <a:pt x="7618" y="334667"/>
                  </a:cubicBezTo>
                  <a:lnTo>
                    <a:pt x="0" y="324203"/>
                  </a:lnTo>
                  <a:cubicBezTo>
                    <a:pt x="39923" y="280020"/>
                    <a:pt x="70851" y="231195"/>
                    <a:pt x="92785" y="177728"/>
                  </a:cubicBezTo>
                  <a:cubicBezTo>
                    <a:pt x="71260" y="143163"/>
                    <a:pt x="46164" y="109351"/>
                    <a:pt x="17496" y="76293"/>
                  </a:cubicBezTo>
                  <a:lnTo>
                    <a:pt x="25142" y="64796"/>
                  </a:lnTo>
                  <a:cubicBezTo>
                    <a:pt x="61680" y="96403"/>
                    <a:pt x="88943" y="124420"/>
                    <a:pt x="106933" y="148846"/>
                  </a:cubicBezTo>
                  <a:cubicBezTo>
                    <a:pt x="116216" y="123973"/>
                    <a:pt x="126680" y="88431"/>
                    <a:pt x="138326" y="42220"/>
                  </a:cubicBezTo>
                  <a:lnTo>
                    <a:pt x="39346" y="42220"/>
                  </a:lnTo>
                  <a:lnTo>
                    <a:pt x="21068" y="45736"/>
                  </a:lnTo>
                  <a:lnTo>
                    <a:pt x="3488" y="22798"/>
                  </a:lnTo>
                  <a:lnTo>
                    <a:pt x="138968" y="22798"/>
                  </a:lnTo>
                  <a:lnTo>
                    <a:pt x="160929" y="0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7"/>
          <p:cNvGrpSpPr/>
          <p:nvPr/>
        </p:nvGrpSpPr>
        <p:grpSpPr>
          <a:xfrm>
            <a:off x="2790720" y="1390680"/>
            <a:ext cx="836640" cy="850680"/>
            <a:chOff x="2790720" y="1390680"/>
            <a:chExt cx="836640" cy="850680"/>
          </a:xfrm>
        </p:grpSpPr>
        <p:sp>
          <p:nvSpPr>
            <p:cNvPr id="371" name="矩形 1"/>
            <p:cNvSpPr/>
            <p:nvPr/>
          </p:nvSpPr>
          <p:spPr>
            <a:xfrm>
              <a:off x="2790720" y="1390680"/>
              <a:ext cx="836280" cy="8370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72" name="直接连接符 4"/>
            <p:cNvCxnSpPr/>
            <p:nvPr/>
          </p:nvCxnSpPr>
          <p:spPr>
            <a:xfrm>
              <a:off x="2790720" y="1802880"/>
              <a:ext cx="837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73" name="直接连接符 6"/>
            <p:cNvCxnSpPr/>
            <p:nvPr/>
          </p:nvCxnSpPr>
          <p:spPr>
            <a:xfrm>
              <a:off x="3209400" y="1404000"/>
              <a:ext cx="360" cy="83772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74" name="组合 7"/>
          <p:cNvGrpSpPr/>
          <p:nvPr/>
        </p:nvGrpSpPr>
        <p:grpSpPr>
          <a:xfrm>
            <a:off x="1430280" y="1390680"/>
            <a:ext cx="835560" cy="851400"/>
            <a:chOff x="1430280" y="1390680"/>
            <a:chExt cx="835560" cy="851400"/>
          </a:xfrm>
        </p:grpSpPr>
        <p:sp>
          <p:nvSpPr>
            <p:cNvPr id="375" name="矩形 1"/>
            <p:cNvSpPr/>
            <p:nvPr/>
          </p:nvSpPr>
          <p:spPr>
            <a:xfrm>
              <a:off x="1430280" y="1390680"/>
              <a:ext cx="835200" cy="837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76" name="直接连接符 4"/>
            <p:cNvCxnSpPr/>
            <p:nvPr/>
          </p:nvCxnSpPr>
          <p:spPr>
            <a:xfrm>
              <a:off x="1430280" y="1803240"/>
              <a:ext cx="8359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77" name="直接连接符 6"/>
            <p:cNvCxnSpPr/>
            <p:nvPr/>
          </p:nvCxnSpPr>
          <p:spPr>
            <a:xfrm>
              <a:off x="1848240" y="1404000"/>
              <a:ext cx="360" cy="8384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78" name="组合 7"/>
          <p:cNvGrpSpPr/>
          <p:nvPr/>
        </p:nvGrpSpPr>
        <p:grpSpPr>
          <a:xfrm>
            <a:off x="4152600" y="1390680"/>
            <a:ext cx="835920" cy="851400"/>
            <a:chOff x="4152600" y="1390680"/>
            <a:chExt cx="835920" cy="851400"/>
          </a:xfrm>
        </p:grpSpPr>
        <p:sp>
          <p:nvSpPr>
            <p:cNvPr id="379" name="矩形 1"/>
            <p:cNvSpPr/>
            <p:nvPr/>
          </p:nvSpPr>
          <p:spPr>
            <a:xfrm>
              <a:off x="4152960" y="1390680"/>
              <a:ext cx="835200" cy="837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80" name="直接连接符 4"/>
            <p:cNvCxnSpPr/>
            <p:nvPr/>
          </p:nvCxnSpPr>
          <p:spPr>
            <a:xfrm>
              <a:off x="4152600" y="1803240"/>
              <a:ext cx="83628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81" name="直接连接符 6"/>
            <p:cNvCxnSpPr/>
            <p:nvPr/>
          </p:nvCxnSpPr>
          <p:spPr>
            <a:xfrm>
              <a:off x="4570920" y="1404000"/>
              <a:ext cx="360" cy="8384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82" name="组合 7"/>
          <p:cNvGrpSpPr/>
          <p:nvPr/>
        </p:nvGrpSpPr>
        <p:grpSpPr>
          <a:xfrm>
            <a:off x="6875280" y="1390680"/>
            <a:ext cx="835560" cy="851400"/>
            <a:chOff x="6875280" y="1390680"/>
            <a:chExt cx="835560" cy="851400"/>
          </a:xfrm>
        </p:grpSpPr>
        <p:sp>
          <p:nvSpPr>
            <p:cNvPr id="383" name="矩形 1"/>
            <p:cNvSpPr/>
            <p:nvPr/>
          </p:nvSpPr>
          <p:spPr>
            <a:xfrm>
              <a:off x="6875640" y="1390680"/>
              <a:ext cx="835200" cy="837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84" name="直接连接符 4"/>
            <p:cNvCxnSpPr/>
            <p:nvPr/>
          </p:nvCxnSpPr>
          <p:spPr>
            <a:xfrm>
              <a:off x="6875280" y="1803240"/>
              <a:ext cx="8359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85" name="直接连接符 6"/>
            <p:cNvCxnSpPr/>
            <p:nvPr/>
          </p:nvCxnSpPr>
          <p:spPr>
            <a:xfrm>
              <a:off x="7293600" y="1404000"/>
              <a:ext cx="360" cy="8384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grpSp>
        <p:nvGrpSpPr>
          <p:cNvPr id="386" name="组合 7"/>
          <p:cNvGrpSpPr/>
          <p:nvPr/>
        </p:nvGrpSpPr>
        <p:grpSpPr>
          <a:xfrm>
            <a:off x="5513040" y="1390680"/>
            <a:ext cx="837360" cy="851400"/>
            <a:chOff x="5513040" y="1390680"/>
            <a:chExt cx="837360" cy="851400"/>
          </a:xfrm>
        </p:grpSpPr>
        <p:sp>
          <p:nvSpPr>
            <p:cNvPr id="387" name="矩形 1"/>
            <p:cNvSpPr/>
            <p:nvPr/>
          </p:nvSpPr>
          <p:spPr>
            <a:xfrm>
              <a:off x="5513400" y="1390680"/>
              <a:ext cx="837000" cy="83772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楷体"/>
                <a:ea typeface="楷体"/>
              </a:endParaRPr>
            </a:p>
          </p:txBody>
        </p:sp>
        <p:cxnSp>
          <p:nvCxnSpPr>
            <p:cNvPr id="388" name="直接连接符 4"/>
            <p:cNvCxnSpPr/>
            <p:nvPr/>
          </p:nvCxnSpPr>
          <p:spPr>
            <a:xfrm>
              <a:off x="5513040" y="1803240"/>
              <a:ext cx="837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389" name="直接连接符 6"/>
            <p:cNvCxnSpPr/>
            <p:nvPr/>
          </p:nvCxnSpPr>
          <p:spPr>
            <a:xfrm>
              <a:off x="5932080" y="1404000"/>
              <a:ext cx="360" cy="8384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dash"/>
              <a:round/>
            </a:ln>
          </p:spPr>
        </p:cxnSp>
      </p:grpSp>
      <p:sp>
        <p:nvSpPr>
          <p:cNvPr id="390" name="文本框 3"/>
          <p:cNvSpPr/>
          <p:nvPr/>
        </p:nvSpPr>
        <p:spPr>
          <a:xfrm>
            <a:off x="1695600" y="2571840"/>
            <a:ext cx="5752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按音序给上面的生字排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44"/>
          <p:cNvSpPr/>
          <p:nvPr/>
        </p:nvSpPr>
        <p:spPr>
          <a:xfrm>
            <a:off x="1862280" y="3435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64"/>
          <p:cNvSpPr/>
          <p:nvPr/>
        </p:nvSpPr>
        <p:spPr>
          <a:xfrm>
            <a:off x="3014640" y="3435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64"/>
          <p:cNvSpPr/>
          <p:nvPr/>
        </p:nvSpPr>
        <p:spPr>
          <a:xfrm>
            <a:off x="4167360" y="3435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64"/>
          <p:cNvSpPr/>
          <p:nvPr/>
        </p:nvSpPr>
        <p:spPr>
          <a:xfrm>
            <a:off x="5318280" y="3435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64"/>
          <p:cNvSpPr/>
          <p:nvPr/>
        </p:nvSpPr>
        <p:spPr>
          <a:xfrm>
            <a:off x="6470640" y="343548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64"/>
          <p:cNvSpPr/>
          <p:nvPr/>
        </p:nvSpPr>
        <p:spPr>
          <a:xfrm>
            <a:off x="1454040" y="13604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64"/>
          <p:cNvSpPr/>
          <p:nvPr/>
        </p:nvSpPr>
        <p:spPr>
          <a:xfrm>
            <a:off x="4170240" y="13604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64"/>
          <p:cNvSpPr/>
          <p:nvPr/>
        </p:nvSpPr>
        <p:spPr>
          <a:xfrm>
            <a:off x="5529240" y="13604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64"/>
          <p:cNvSpPr/>
          <p:nvPr/>
        </p:nvSpPr>
        <p:spPr>
          <a:xfrm>
            <a:off x="6888240" y="13604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64"/>
          <p:cNvSpPr/>
          <p:nvPr/>
        </p:nvSpPr>
        <p:spPr>
          <a:xfrm>
            <a:off x="2813040" y="1360440"/>
            <a:ext cx="81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3"/>
          <p:cNvGrpSpPr/>
          <p:nvPr/>
        </p:nvGrpSpPr>
        <p:grpSpPr>
          <a:xfrm>
            <a:off x="35280" y="0"/>
            <a:ext cx="2131200" cy="980640"/>
            <a:chOff x="35280" y="0"/>
            <a:chExt cx="2131200" cy="980640"/>
          </a:xfrm>
        </p:grpSpPr>
        <p:sp>
          <p:nvSpPr>
            <p:cNvPr id="402" name="文本框 58"/>
            <p:cNvSpPr/>
            <p:nvPr/>
          </p:nvSpPr>
          <p:spPr>
            <a:xfrm>
              <a:off x="763560" y="306360"/>
              <a:ext cx="1402920" cy="57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575">
              <a:solidFill>
                <a:srgbClr val="43ceff"/>
              </a:solidFill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写一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图片 9" descr=""/>
            <p:cNvPicPr/>
            <p:nvPr/>
          </p:nvPicPr>
          <p:blipFill>
            <a:blip r:embed="rId1"/>
            <a:stretch/>
          </p:blipFill>
          <p:spPr>
            <a:xfrm flipH="1">
              <a:off x="35280" y="0"/>
              <a:ext cx="816480" cy="980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842</Words>
  <Paragraphs>2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1-15T08:52:11Z</dcterms:modified>
  <cp:revision>8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KSOProductBuildVer">
    <vt:lpwstr>2052-11.1.0.9339</vt:lpwstr>
  </property>
  <property fmtid="{D5CDD505-2E9C-101B-9397-08002B2CF9AE}" pid="4" name="Notes">
    <vt:r8>3</vt:r8>
  </property>
  <property fmtid="{D5CDD505-2E9C-101B-9397-08002B2CF9AE}" pid="5" name="PresentationFormat">
    <vt:lpwstr>全屏显示(16:9)</vt:lpwstr>
  </property>
  <property fmtid="{D5CDD505-2E9C-101B-9397-08002B2CF9AE}" pid="6" name="Slides">
    <vt:r8>40</vt:r8>
  </property>
  <property fmtid="{D5CDD505-2E9C-101B-9397-08002B2CF9AE}" pid="7" name="来源">
    <vt:lpwstr>状元成才路系列</vt:lpwstr>
  </property>
</Properties>
</file>