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B97-C238-46F8-9A60-E7B2DCD8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43C-EC9F-464F-A0B4-B0BFA81F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449-D47B-4949-8026-7116E730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B84-6D4F-42EF-8115-AD1DC0BA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4EE-B35A-444B-8C6B-2990270F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249-07E5-413A-80C0-370EEF65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6FAB-6C35-4C37-9BB8-602F0BD5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46D-DAB7-479C-8AA3-6D83A495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2DE-BC38-4851-8FA5-F6A1CCCF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DBA6-014E-4AF9-B415-68054052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D13-77E4-45C6-BBB2-4EE71096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00B-5F80-48FC-AEAB-75373FFD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6B75DB-9709-43A0-9462-29F017D9A91C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2"/>
          <p:cNvSpPr/>
          <p:nvPr/>
        </p:nvSpPr>
        <p:spPr>
          <a:xfrm>
            <a:off x="5937120" y="366480"/>
            <a:ext cx="205776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语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年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配人教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0" y="1801800"/>
            <a:ext cx="91436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  <a:scene3d>
              <a:camera prst="orthographicFront"/>
              <a:lightRig dir="t" rig="soft">
                <a:rot lat="0" lon="0" rev="0"/>
              </a:lightRig>
            </a:scene3d>
            <a:sp3d extrusionH="336550" prstMaterial="plastic">
              <a:extrusionClr>
                <a:srgbClr val="77defb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青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0" y="412848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认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942840" y="902160"/>
            <a:ext cx="20379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ǐ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407960" y="170100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7"/>
          <p:cNvSpPr/>
          <p:nvPr/>
        </p:nvSpPr>
        <p:spPr>
          <a:xfrm>
            <a:off x="4067640" y="2345400"/>
            <a:ext cx="490464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（请假）（请进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有事不能来学校，一定要和老师请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749160" y="1985400"/>
            <a:ext cx="2944080" cy="2765880"/>
            <a:chOff x="749160" y="1985400"/>
            <a:chExt cx="2944080" cy="2765880"/>
          </a:xfrm>
        </p:grpSpPr>
        <p:sp>
          <p:nvSpPr>
            <p:cNvPr id="147" name="Line 4"/>
            <p:cNvSpPr/>
            <p:nvPr/>
          </p:nvSpPr>
          <p:spPr>
            <a:xfrm>
              <a:off x="749160" y="336852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48" name="Group 5"/>
            <p:cNvGrpSpPr/>
            <p:nvPr/>
          </p:nvGrpSpPr>
          <p:grpSpPr>
            <a:xfrm>
              <a:off x="749520" y="1985400"/>
              <a:ext cx="2943720" cy="2765880"/>
              <a:chOff x="749520" y="1985400"/>
              <a:chExt cx="2943720" cy="2765880"/>
            </a:xfrm>
          </p:grpSpPr>
          <p:sp>
            <p:nvSpPr>
              <p:cNvPr id="149" name="Rectangle 6"/>
              <p:cNvSpPr/>
              <p:nvPr/>
            </p:nvSpPr>
            <p:spPr>
              <a:xfrm>
                <a:off x="749520" y="198576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50" name="Line 7"/>
              <p:cNvSpPr/>
              <p:nvPr/>
            </p:nvSpPr>
            <p:spPr>
              <a:xfrm>
                <a:off x="2221200" y="198540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151" name="Rectangle 9"/>
          <p:cNvSpPr/>
          <p:nvPr/>
        </p:nvSpPr>
        <p:spPr>
          <a:xfrm>
            <a:off x="1265400" y="19634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2"/>
          <p:cNvSpPr/>
          <p:nvPr/>
        </p:nvSpPr>
        <p:spPr>
          <a:xfrm>
            <a:off x="942840" y="19116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认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671400" y="879480"/>
            <a:ext cx="26193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ē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1407960" y="170100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7"/>
          <p:cNvSpPr/>
          <p:nvPr/>
        </p:nvSpPr>
        <p:spPr>
          <a:xfrm>
            <a:off x="4049280" y="2364480"/>
            <a:ext cx="44247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（生长）（生命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我家的花生长得很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742680" y="1970280"/>
            <a:ext cx="2944080" cy="2765880"/>
            <a:chOff x="742680" y="1970280"/>
            <a:chExt cx="2944080" cy="2765880"/>
          </a:xfrm>
        </p:grpSpPr>
        <p:sp>
          <p:nvSpPr>
            <p:cNvPr id="158" name="Line 4"/>
            <p:cNvSpPr/>
            <p:nvPr/>
          </p:nvSpPr>
          <p:spPr>
            <a:xfrm>
              <a:off x="742680" y="335340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59" name="Group 5"/>
            <p:cNvGrpSpPr/>
            <p:nvPr/>
          </p:nvGrpSpPr>
          <p:grpSpPr>
            <a:xfrm>
              <a:off x="742680" y="1970280"/>
              <a:ext cx="2943720" cy="2765880"/>
              <a:chOff x="742680" y="1970280"/>
              <a:chExt cx="2943720" cy="2765880"/>
            </a:xfrm>
          </p:grpSpPr>
          <p:sp>
            <p:nvSpPr>
              <p:cNvPr id="160" name="Rectangle 6"/>
              <p:cNvSpPr/>
              <p:nvPr/>
            </p:nvSpPr>
            <p:spPr>
              <a:xfrm>
                <a:off x="742680" y="197064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61" name="Line 7"/>
              <p:cNvSpPr/>
              <p:nvPr/>
            </p:nvSpPr>
            <p:spPr>
              <a:xfrm>
                <a:off x="2214720" y="197028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162" name="Rectangle 9"/>
          <p:cNvSpPr/>
          <p:nvPr/>
        </p:nvSpPr>
        <p:spPr>
          <a:xfrm>
            <a:off x="1265400" y="19634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"/>
          <p:cNvSpPr/>
          <p:nvPr/>
        </p:nvSpPr>
        <p:spPr>
          <a:xfrm>
            <a:off x="942840" y="19116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标题 1"/>
          <p:cNvSpPr/>
          <p:nvPr/>
        </p:nvSpPr>
        <p:spPr>
          <a:xfrm>
            <a:off x="68688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词汇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45240" y="3975120"/>
            <a:ext cx="64908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太阳形 16"/>
          <p:cNvSpPr/>
          <p:nvPr/>
        </p:nvSpPr>
        <p:spPr>
          <a:xfrm>
            <a:off x="302040" y="1061640"/>
            <a:ext cx="685440" cy="685440"/>
          </a:xfrm>
          <a:prstGeom prst="sun">
            <a:avLst>
              <a:gd name="adj" fmla="val 16428"/>
            </a:avLst>
          </a:prstGeom>
          <a:gradFill rotWithShape="0">
            <a:gsLst>
              <a:gs pos="0">
                <a:srgbClr val="00642d"/>
              </a:gs>
              <a:gs pos="100000">
                <a:srgbClr val="e0ebfa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67" name="TextBox 17"/>
          <p:cNvSpPr/>
          <p:nvPr/>
        </p:nvSpPr>
        <p:spPr>
          <a:xfrm>
            <a:off x="1165320" y="1139400"/>
            <a:ext cx="2508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多音字辨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116640" y="-10836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231120" y="612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70" name="AutoShape 17"/>
          <p:cNvSpPr/>
          <p:nvPr/>
        </p:nvSpPr>
        <p:spPr>
          <a:xfrm>
            <a:off x="345240" y="12024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5296320" y="2903400"/>
            <a:ext cx="32731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表格 4"/>
          <p:cNvGraphicFramePr/>
          <p:nvPr/>
        </p:nvGraphicFramePr>
        <p:xfrm>
          <a:off x="686880" y="1761480"/>
          <a:ext cx="5618880" cy="1938960"/>
        </p:xfrm>
        <a:graphic>
          <a:graphicData uri="http://schemas.openxmlformats.org/drawingml/2006/table">
            <a:tbl>
              <a:tblPr/>
              <a:tblGrid>
                <a:gridCol w="352080"/>
                <a:gridCol w="2379960"/>
                <a:gridCol w="721440"/>
                <a:gridCol w="2164680"/>
              </a:tblGrid>
              <a:tr h="1938960">
                <a:tc>
                  <a:txBody>
                    <a:bodyPr lIns="51120" rIns="511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endParaRPr>
                    </a:p>
                  </a:txBody>
                  <a:tcPr anchor="ctr" marL="51120" marR="5112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endParaRPr>
                    </a:p>
                  </a:txBody>
                  <a:tcPr anchor="t" marL="51120" marR="5112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endParaRPr>
                    </a:p>
                  </a:txBody>
                  <a:tcPr anchor="ctr" marL="51120" marR="5112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endParaRPr>
                    </a:p>
                  </a:txBody>
                  <a:tcPr anchor="t" marL="51120" marR="5112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Left Brace 81"/>
          <p:cNvSpPr/>
          <p:nvPr/>
        </p:nvSpPr>
        <p:spPr>
          <a:xfrm>
            <a:off x="918360" y="2285640"/>
            <a:ext cx="275400" cy="890640"/>
          </a:xfrm>
          <a:prstGeom prst="leftBrace">
            <a:avLst>
              <a:gd name="adj1" fmla="val 51761"/>
              <a:gd name="adj2" fmla="val 51732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upright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4"/>
              </a:solidFill>
              <a:latin typeface="华文楷体"/>
              <a:ea typeface="华文楷体"/>
            </a:endParaRPr>
          </a:p>
        </p:txBody>
      </p:sp>
      <p:sp>
        <p:nvSpPr>
          <p:cNvPr id="174" name="Left Brace 81"/>
          <p:cNvSpPr/>
          <p:nvPr/>
        </p:nvSpPr>
        <p:spPr>
          <a:xfrm>
            <a:off x="942120" y="3700800"/>
            <a:ext cx="275400" cy="890640"/>
          </a:xfrm>
          <a:prstGeom prst="leftBrace">
            <a:avLst>
              <a:gd name="adj1" fmla="val 51761"/>
              <a:gd name="adj2" fmla="val 51732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upright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4"/>
              </a:solidFill>
              <a:latin typeface="华文楷体"/>
              <a:ea typeface="华文楷体"/>
            </a:endParaRPr>
          </a:p>
        </p:txBody>
      </p:sp>
      <p:sp>
        <p:nvSpPr>
          <p:cNvPr id="175" name="文本框 11"/>
          <p:cNvSpPr/>
          <p:nvPr/>
        </p:nvSpPr>
        <p:spPr>
          <a:xfrm>
            <a:off x="2106720" y="3558240"/>
            <a:ext cx="123588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hǎ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多少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hà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少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2"/>
          <p:cNvSpPr/>
          <p:nvPr/>
        </p:nvSpPr>
        <p:spPr>
          <a:xfrm>
            <a:off x="506880" y="2419920"/>
            <a:ext cx="275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3"/>
          <p:cNvSpPr/>
          <p:nvPr/>
        </p:nvSpPr>
        <p:spPr>
          <a:xfrm>
            <a:off x="2176920" y="2142720"/>
            <a:ext cx="109548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iǎ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明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l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好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标题 1"/>
          <p:cNvSpPr/>
          <p:nvPr/>
        </p:nvSpPr>
        <p:spPr>
          <a:xfrm>
            <a:off x="116640" y="438120"/>
            <a:ext cx="24094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词汇积累及运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116640" y="-10836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80" name="AutoShape 15"/>
          <p:cNvSpPr/>
          <p:nvPr/>
        </p:nvSpPr>
        <p:spPr>
          <a:xfrm>
            <a:off x="231120" y="612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81" name="AutoShape 17"/>
          <p:cNvSpPr/>
          <p:nvPr/>
        </p:nvSpPr>
        <p:spPr>
          <a:xfrm>
            <a:off x="345240" y="12024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graphicFrame>
        <p:nvGraphicFramePr>
          <p:cNvPr id="182" name="表格 4"/>
          <p:cNvGraphicFramePr/>
          <p:nvPr/>
        </p:nvGraphicFramePr>
        <p:xfrm>
          <a:off x="686880" y="1761480"/>
          <a:ext cx="5618880" cy="1938960"/>
        </p:xfrm>
        <a:graphic>
          <a:graphicData uri="http://schemas.openxmlformats.org/drawingml/2006/table">
            <a:tbl>
              <a:tblPr/>
              <a:tblGrid>
                <a:gridCol w="352080"/>
                <a:gridCol w="2379960"/>
                <a:gridCol w="721440"/>
                <a:gridCol w="2164680"/>
              </a:tblGrid>
              <a:tr h="1938960">
                <a:tc>
                  <a:txBody>
                    <a:bodyPr lIns="51120" rIns="511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endParaRPr>
                    </a:p>
                  </a:txBody>
                  <a:tcPr anchor="ctr" marL="51120" marR="5112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endParaRPr>
                    </a:p>
                  </a:txBody>
                  <a:tcPr anchor="t" marL="51120" marR="5112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endParaRPr>
                    </a:p>
                  </a:txBody>
                  <a:tcPr anchor="ctr" marL="51120" marR="5112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endParaRPr>
                    </a:p>
                  </a:txBody>
                  <a:tcPr anchor="t" marL="51120" marR="5112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文本框 99"/>
          <p:cNvSpPr/>
          <p:nvPr/>
        </p:nvSpPr>
        <p:spPr>
          <a:xfrm>
            <a:off x="459720" y="1023480"/>
            <a:ext cx="7998120" cy="226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保护：尽力照顾，使自身（或他人）免受可能遇到的伤害、破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例句：我们要保护小动物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禾苗：谷类庄稼的嫩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例句：绿油油的禾苗非常漂亮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害虫：凡直接或间接对人类有害的虫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例句：青蛙在帮农民伯伯捕捉害虫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事情：人类生活中的一切活动和现象；事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例句：我必须把这个事情查个水落石出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标题 1"/>
          <p:cNvSpPr/>
          <p:nvPr/>
        </p:nvSpPr>
        <p:spPr>
          <a:xfrm>
            <a:off x="68688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词汇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14480" y="112680"/>
            <a:ext cx="138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86" name="太阳形 16"/>
          <p:cNvSpPr/>
          <p:nvPr/>
        </p:nvSpPr>
        <p:spPr>
          <a:xfrm>
            <a:off x="302040" y="1061640"/>
            <a:ext cx="685440" cy="685440"/>
          </a:xfrm>
          <a:prstGeom prst="sun">
            <a:avLst>
              <a:gd name="adj" fmla="val 16428"/>
            </a:avLst>
          </a:prstGeom>
          <a:gradFill rotWithShape="0">
            <a:gsLst>
              <a:gs pos="0">
                <a:srgbClr val="00642d"/>
              </a:gs>
              <a:gs pos="100000">
                <a:srgbClr val="e0ebfa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87" name="TextBox 17"/>
          <p:cNvSpPr/>
          <p:nvPr/>
        </p:nvSpPr>
        <p:spPr>
          <a:xfrm>
            <a:off x="1165320" y="1139400"/>
            <a:ext cx="2508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近反义词辨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3"/>
          <p:cNvSpPr/>
          <p:nvPr/>
        </p:nvSpPr>
        <p:spPr>
          <a:xfrm>
            <a:off x="116640" y="-10836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89" name="AutoShape 15"/>
          <p:cNvSpPr/>
          <p:nvPr/>
        </p:nvSpPr>
        <p:spPr>
          <a:xfrm>
            <a:off x="231120" y="612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90" name="AutoShape 17"/>
          <p:cNvSpPr/>
          <p:nvPr/>
        </p:nvSpPr>
        <p:spPr>
          <a:xfrm>
            <a:off x="345240" y="12024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91" name="文本框 99"/>
          <p:cNvSpPr/>
          <p:nvPr/>
        </p:nvSpPr>
        <p:spPr>
          <a:xfrm>
            <a:off x="345600" y="1747440"/>
            <a:ext cx="8852040" cy="143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近义词：保护——爱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辨析：保护——爱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同：都有“使不受到伤害”的意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异：“保护”是尽量照顾，不损害；“爱护”重在“爱”上，对身边的一草一木也可以这样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例句：我们每个人都要爱护花草树木，保护环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标题 1"/>
          <p:cNvSpPr/>
          <p:nvPr/>
        </p:nvSpPr>
        <p:spPr>
          <a:xfrm>
            <a:off x="68688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词汇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114480" y="112680"/>
            <a:ext cx="138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lIns="68760" rIns="68760" tIns="34200" bIns="342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94" name="太阳形 16"/>
          <p:cNvSpPr/>
          <p:nvPr/>
        </p:nvSpPr>
        <p:spPr>
          <a:xfrm>
            <a:off x="302040" y="1061640"/>
            <a:ext cx="685440" cy="685440"/>
          </a:xfrm>
          <a:prstGeom prst="sun">
            <a:avLst>
              <a:gd name="adj" fmla="val 16428"/>
            </a:avLst>
          </a:prstGeom>
          <a:gradFill rotWithShape="0">
            <a:gsLst>
              <a:gs pos="0">
                <a:srgbClr val="00642d"/>
              </a:gs>
              <a:gs pos="100000">
                <a:srgbClr val="e0ebfa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95" name="TextBox 17"/>
          <p:cNvSpPr/>
          <p:nvPr/>
        </p:nvSpPr>
        <p:spPr>
          <a:xfrm>
            <a:off x="1165320" y="1139400"/>
            <a:ext cx="2508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近反义词辨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3"/>
          <p:cNvSpPr/>
          <p:nvPr/>
        </p:nvSpPr>
        <p:spPr>
          <a:xfrm>
            <a:off x="116640" y="-10836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231120" y="612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98" name="AutoShape 17"/>
          <p:cNvSpPr/>
          <p:nvPr/>
        </p:nvSpPr>
        <p:spPr>
          <a:xfrm>
            <a:off x="345240" y="120240"/>
            <a:ext cx="22824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99" name="文本框 99"/>
          <p:cNvSpPr/>
          <p:nvPr/>
        </p:nvSpPr>
        <p:spPr>
          <a:xfrm>
            <a:off x="686880" y="1747440"/>
            <a:ext cx="8456760" cy="171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反义词：晴——阴    大——小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少——多    害虫——益虫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辨析：多——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多：数量大；有余；不必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少：数量小；缺乏；不常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例句：树上有那么多的苹果，但是熟透了的很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句段导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397800" y="1068840"/>
            <a:ext cx="81968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保护禾苗吃害虫，做了不少好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6"/>
          <p:cNvSpPr/>
          <p:nvPr/>
        </p:nvSpPr>
        <p:spPr>
          <a:xfrm>
            <a:off x="397800" y="2357280"/>
            <a:ext cx="83037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句话写出了青蛙吃害虫，保护庄稼，为人类做了许多有益的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句段导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397800" y="1107360"/>
            <a:ext cx="81968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请你爱护小青蛙，好让禾苗不生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495360" y="2507040"/>
            <a:ext cx="8362080" cy="479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句话浅层次地告诉我们要保护青蛙，让庄稼不生病；更深层次上告诫我们从小做起，保护动物，保护我们大自然的生态环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99"/>
          <p:cNvSpPr/>
          <p:nvPr/>
        </p:nvSpPr>
        <p:spPr>
          <a:xfrm>
            <a:off x="2563560" y="1290960"/>
            <a:ext cx="3809520" cy="1165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绿衣小英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田间捉害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冬天它休息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夏天勤劳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"/>
          <p:cNvSpPr/>
          <p:nvPr/>
        </p:nvSpPr>
        <p:spPr>
          <a:xfrm>
            <a:off x="1071000" y="415440"/>
            <a:ext cx="5940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识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标题 1"/>
          <p:cNvSpPr/>
          <p:nvPr/>
        </p:nvSpPr>
        <p:spPr>
          <a:xfrm>
            <a:off x="475920" y="4399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认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43"/>
          <p:cNvGrpSpPr/>
          <p:nvPr/>
        </p:nvGrpSpPr>
        <p:grpSpPr>
          <a:xfrm>
            <a:off x="441000" y="1699200"/>
            <a:ext cx="1366560" cy="2281680"/>
            <a:chOff x="441000" y="1699200"/>
            <a:chExt cx="1366560" cy="2281680"/>
          </a:xfrm>
        </p:grpSpPr>
        <p:sp>
          <p:nvSpPr>
            <p:cNvPr id="49" name="Oval 15"/>
            <p:cNvSpPr/>
            <p:nvPr/>
          </p:nvSpPr>
          <p:spPr>
            <a:xfrm>
              <a:off x="441000" y="2802240"/>
              <a:ext cx="1316520" cy="117072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pic>
          <p:nvPicPr>
            <p:cNvPr id="50" name="Picture 17" descr="xiuxianyule2_0313"/>
            <p:cNvPicPr/>
            <p:nvPr/>
          </p:nvPicPr>
          <p:blipFill>
            <a:blip r:embed="rId1"/>
            <a:stretch/>
          </p:blipFill>
          <p:spPr>
            <a:xfrm>
              <a:off x="441000" y="1699200"/>
              <a:ext cx="1366560" cy="11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矩形 42"/>
            <p:cNvSpPr/>
            <p:nvPr/>
          </p:nvSpPr>
          <p:spPr>
            <a:xfrm>
              <a:off x="958680" y="2886120"/>
              <a:ext cx="432720" cy="109476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识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3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字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AutoShape 12"/>
          <p:cNvSpPr/>
          <p:nvPr/>
        </p:nvSpPr>
        <p:spPr>
          <a:xfrm>
            <a:off x="3192480" y="2795040"/>
            <a:ext cx="790200" cy="639720"/>
          </a:xfrm>
          <a:prstGeom prst="actionButtonBlank">
            <a:avLst/>
          </a:prstGeom>
          <a:gradFill rotWithShape="0">
            <a:gsLst>
              <a:gs pos="0">
                <a:srgbClr val="2e75b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4494240" y="2795040"/>
            <a:ext cx="792000" cy="637920"/>
          </a:xfrm>
          <a:prstGeom prst="actionButtonBlank">
            <a:avLst/>
          </a:prstGeom>
          <a:gradFill rotWithShape="0">
            <a:gsLst>
              <a:gs pos="0">
                <a:srgbClr val="2e75b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8"/>
          <p:cNvSpPr/>
          <p:nvPr/>
        </p:nvSpPr>
        <p:spPr>
          <a:xfrm>
            <a:off x="5840280" y="2802240"/>
            <a:ext cx="791280" cy="639720"/>
          </a:xfrm>
          <a:prstGeom prst="actionButtonBlank">
            <a:avLst/>
          </a:prstGeom>
          <a:gradFill rotWithShape="0">
            <a:gsLst>
              <a:gs pos="0">
                <a:srgbClr val="2e75b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9"/>
          <p:cNvSpPr/>
          <p:nvPr/>
        </p:nvSpPr>
        <p:spPr>
          <a:xfrm>
            <a:off x="7347600" y="2771640"/>
            <a:ext cx="801000" cy="661320"/>
          </a:xfrm>
          <a:prstGeom prst="actionButtonBlank">
            <a:avLst/>
          </a:prstGeom>
          <a:gradFill rotWithShape="0">
            <a:gsLst>
              <a:gs pos="0">
                <a:srgbClr val="2e75b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4114800" y="1938240"/>
            <a:ext cx="1363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ī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7329600" y="1938240"/>
            <a:ext cx="8193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8"/>
          <p:cNvSpPr/>
          <p:nvPr/>
        </p:nvSpPr>
        <p:spPr>
          <a:xfrm>
            <a:off x="2775600" y="3652200"/>
            <a:ext cx="14328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左眼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9"/>
          <p:cNvSpPr/>
          <p:nvPr/>
        </p:nvSpPr>
        <p:spPr>
          <a:xfrm>
            <a:off x="4074840" y="3652200"/>
            <a:ext cx="14439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眼睛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0"/>
          <p:cNvSpPr/>
          <p:nvPr/>
        </p:nvSpPr>
        <p:spPr>
          <a:xfrm>
            <a:off x="5576040" y="3652200"/>
            <a:ext cx="15541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保护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1"/>
          <p:cNvSpPr/>
          <p:nvPr/>
        </p:nvSpPr>
        <p:spPr>
          <a:xfrm>
            <a:off x="6980400" y="3652200"/>
            <a:ext cx="15361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护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5"/>
          <p:cNvSpPr/>
          <p:nvPr/>
        </p:nvSpPr>
        <p:spPr>
          <a:xfrm>
            <a:off x="2911320" y="1938240"/>
            <a:ext cx="13518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ǎ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6"/>
          <p:cNvSpPr/>
          <p:nvPr/>
        </p:nvSpPr>
        <p:spPr>
          <a:xfrm>
            <a:off x="5286960" y="1938240"/>
            <a:ext cx="1897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ǎ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组合 21"/>
          <p:cNvGrpSpPr/>
          <p:nvPr/>
        </p:nvGrpSpPr>
        <p:grpSpPr>
          <a:xfrm>
            <a:off x="446400" y="1694520"/>
            <a:ext cx="1354320" cy="2281320"/>
            <a:chOff x="446400" y="1694520"/>
            <a:chExt cx="1354320" cy="2281320"/>
          </a:xfrm>
        </p:grpSpPr>
        <p:sp>
          <p:nvSpPr>
            <p:cNvPr id="65" name="Oval 15"/>
            <p:cNvSpPr/>
            <p:nvPr/>
          </p:nvSpPr>
          <p:spPr>
            <a:xfrm>
              <a:off x="446400" y="2797200"/>
              <a:ext cx="1304640" cy="117072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pic>
          <p:nvPicPr>
            <p:cNvPr id="66" name="Picture 17" descr="xiuxianyule2_0313"/>
            <p:cNvPicPr/>
            <p:nvPr/>
          </p:nvPicPr>
          <p:blipFill>
            <a:blip r:embed="rId2"/>
            <a:stretch/>
          </p:blipFill>
          <p:spPr>
            <a:xfrm>
              <a:off x="446400" y="1694520"/>
              <a:ext cx="1354320" cy="11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矩形 24"/>
            <p:cNvSpPr/>
            <p:nvPr/>
          </p:nvSpPr>
          <p:spPr>
            <a:xfrm>
              <a:off x="959760" y="2881080"/>
              <a:ext cx="432720" cy="109476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识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3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字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标题 1"/>
          <p:cNvSpPr/>
          <p:nvPr/>
        </p:nvSpPr>
        <p:spPr>
          <a:xfrm>
            <a:off x="475920" y="4399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认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43"/>
          <p:cNvGrpSpPr/>
          <p:nvPr/>
        </p:nvGrpSpPr>
        <p:grpSpPr>
          <a:xfrm>
            <a:off x="441000" y="1699200"/>
            <a:ext cx="1366560" cy="2281680"/>
            <a:chOff x="441000" y="1699200"/>
            <a:chExt cx="1366560" cy="2281680"/>
          </a:xfrm>
        </p:grpSpPr>
        <p:sp>
          <p:nvSpPr>
            <p:cNvPr id="70" name="Oval 15"/>
            <p:cNvSpPr/>
            <p:nvPr/>
          </p:nvSpPr>
          <p:spPr>
            <a:xfrm>
              <a:off x="441000" y="2802240"/>
              <a:ext cx="1316520" cy="117072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pic>
          <p:nvPicPr>
            <p:cNvPr id="71" name="Picture 17" descr="xiuxianyule2_0313"/>
            <p:cNvPicPr/>
            <p:nvPr/>
          </p:nvPicPr>
          <p:blipFill>
            <a:blip r:embed="rId1"/>
            <a:stretch/>
          </p:blipFill>
          <p:spPr>
            <a:xfrm>
              <a:off x="441000" y="1699200"/>
              <a:ext cx="1366560" cy="11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矩形 42"/>
            <p:cNvSpPr/>
            <p:nvPr/>
          </p:nvSpPr>
          <p:spPr>
            <a:xfrm>
              <a:off x="958680" y="2886120"/>
              <a:ext cx="432720" cy="109476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识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3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字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AutoShape 19"/>
          <p:cNvSpPr/>
          <p:nvPr/>
        </p:nvSpPr>
        <p:spPr>
          <a:xfrm>
            <a:off x="2699280" y="2475720"/>
            <a:ext cx="801000" cy="661320"/>
          </a:xfrm>
          <a:prstGeom prst="actionButtonBlank">
            <a:avLst/>
          </a:prstGeom>
          <a:gradFill rotWithShape="0">
            <a:gsLst>
              <a:gs pos="0">
                <a:srgbClr val="2e75b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2632680" y="1852920"/>
            <a:ext cx="934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à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2331720" y="3357720"/>
            <a:ext cx="15361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伤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9"/>
          <p:cNvSpPr/>
          <p:nvPr/>
        </p:nvSpPr>
        <p:spPr>
          <a:xfrm>
            <a:off x="3913200" y="2475720"/>
            <a:ext cx="801000" cy="661320"/>
          </a:xfrm>
          <a:prstGeom prst="actionButtonBlank">
            <a:avLst/>
          </a:prstGeom>
          <a:gradFill rotWithShape="0">
            <a:gsLst>
              <a:gs pos="0">
                <a:srgbClr val="2e75b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3748680" y="1852920"/>
            <a:ext cx="1182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ì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3501000" y="3357720"/>
            <a:ext cx="17143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生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21"/>
          <p:cNvGrpSpPr/>
          <p:nvPr/>
        </p:nvGrpSpPr>
        <p:grpSpPr>
          <a:xfrm>
            <a:off x="446400" y="1694520"/>
            <a:ext cx="1354320" cy="2281320"/>
            <a:chOff x="446400" y="1694520"/>
            <a:chExt cx="1354320" cy="2281320"/>
          </a:xfrm>
        </p:grpSpPr>
        <p:sp>
          <p:nvSpPr>
            <p:cNvPr id="80" name="Oval 15"/>
            <p:cNvSpPr/>
            <p:nvPr/>
          </p:nvSpPr>
          <p:spPr>
            <a:xfrm>
              <a:off x="446400" y="2797200"/>
              <a:ext cx="1304640" cy="1170720"/>
            </a:xfrm>
            <a:prstGeom prst="ellipse">
              <a:avLst/>
            </a:prstGeom>
            <a:solidFill>
              <a:schemeClr val="accent1">
                <a:lumMod val="7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pic>
          <p:nvPicPr>
            <p:cNvPr id="81" name="Picture 17" descr="xiuxianyule2_0313"/>
            <p:cNvPicPr/>
            <p:nvPr/>
          </p:nvPicPr>
          <p:blipFill>
            <a:blip r:embed="rId2"/>
            <a:stretch/>
          </p:blipFill>
          <p:spPr>
            <a:xfrm>
              <a:off x="446400" y="1694520"/>
              <a:ext cx="1354320" cy="11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矩形 24"/>
            <p:cNvSpPr/>
            <p:nvPr/>
          </p:nvSpPr>
          <p:spPr>
            <a:xfrm>
              <a:off x="959760" y="2881080"/>
              <a:ext cx="432720" cy="109476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识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3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字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12"/>
          <p:cNvSpPr/>
          <p:nvPr/>
        </p:nvSpPr>
        <p:spPr>
          <a:xfrm>
            <a:off x="5329800" y="2476080"/>
            <a:ext cx="747000" cy="660600"/>
          </a:xfrm>
          <a:prstGeom prst="actionButtonBlank">
            <a:avLst/>
          </a:prstGeom>
          <a:gradFill rotWithShape="0">
            <a:gsLst>
              <a:gs pos="0">
                <a:srgbClr val="2e75b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5352120" y="3352320"/>
            <a:ext cx="6872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让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4865400" y="1853640"/>
            <a:ext cx="15663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à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9"/>
          <p:cNvSpPr/>
          <p:nvPr/>
        </p:nvSpPr>
        <p:spPr>
          <a:xfrm>
            <a:off x="6691320" y="2475720"/>
            <a:ext cx="801000" cy="661320"/>
          </a:xfrm>
          <a:prstGeom prst="actionButtonBlank">
            <a:avLst/>
          </a:prstGeom>
          <a:gradFill rotWithShape="0">
            <a:gsLst>
              <a:gs pos="0">
                <a:srgbClr val="2e75b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6432120" y="1853640"/>
            <a:ext cx="14101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1"/>
          <p:cNvSpPr/>
          <p:nvPr/>
        </p:nvSpPr>
        <p:spPr>
          <a:xfrm>
            <a:off x="6274080" y="3352320"/>
            <a:ext cx="15361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事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写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3915360" y="2591280"/>
            <a:ext cx="49197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（青菜）（青山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造句：小朋友要多吃青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13000" y="856800"/>
            <a:ext cx="27018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ī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749160" y="1985400"/>
            <a:ext cx="2944080" cy="2765880"/>
            <a:chOff x="749160" y="1985400"/>
            <a:chExt cx="2944080" cy="2765880"/>
          </a:xfrm>
        </p:grpSpPr>
        <p:sp>
          <p:nvSpPr>
            <p:cNvPr id="93" name="Line 4"/>
            <p:cNvSpPr/>
            <p:nvPr/>
          </p:nvSpPr>
          <p:spPr>
            <a:xfrm>
              <a:off x="749160" y="336852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94" name="Group 5"/>
            <p:cNvGrpSpPr/>
            <p:nvPr/>
          </p:nvGrpSpPr>
          <p:grpSpPr>
            <a:xfrm>
              <a:off x="749520" y="1985400"/>
              <a:ext cx="2943720" cy="2765880"/>
              <a:chOff x="749520" y="1985400"/>
              <a:chExt cx="2943720" cy="2765880"/>
            </a:xfrm>
          </p:grpSpPr>
          <p:sp>
            <p:nvSpPr>
              <p:cNvPr id="95" name="Rectangle 6"/>
              <p:cNvSpPr/>
              <p:nvPr/>
            </p:nvSpPr>
            <p:spPr>
              <a:xfrm>
                <a:off x="749520" y="198576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96" name="Line 7"/>
              <p:cNvSpPr/>
              <p:nvPr/>
            </p:nvSpPr>
            <p:spPr>
              <a:xfrm>
                <a:off x="2221200" y="198540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97" name="文本框 2"/>
          <p:cNvSpPr/>
          <p:nvPr/>
        </p:nvSpPr>
        <p:spPr>
          <a:xfrm>
            <a:off x="1026360" y="21240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写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749520" y="851400"/>
            <a:ext cx="237564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ī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407960" y="16088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236240" y="166032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7"/>
          <p:cNvSpPr/>
          <p:nvPr/>
        </p:nvSpPr>
        <p:spPr>
          <a:xfrm>
            <a:off x="3950280" y="2617920"/>
            <a:ext cx="522144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（清澈）（清楚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这条小河清澈见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749160" y="1985400"/>
            <a:ext cx="2944080" cy="2765880"/>
            <a:chOff x="749160" y="1985400"/>
            <a:chExt cx="2944080" cy="2765880"/>
          </a:xfrm>
        </p:grpSpPr>
        <p:sp>
          <p:nvSpPr>
            <p:cNvPr id="104" name="Line 4"/>
            <p:cNvSpPr/>
            <p:nvPr/>
          </p:nvSpPr>
          <p:spPr>
            <a:xfrm>
              <a:off x="749160" y="336852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749520" y="1985400"/>
              <a:ext cx="2943720" cy="2765880"/>
              <a:chOff x="749520" y="1985400"/>
              <a:chExt cx="2943720" cy="2765880"/>
            </a:xfrm>
          </p:grpSpPr>
          <p:sp>
            <p:nvSpPr>
              <p:cNvPr id="106" name="Rectangle 6"/>
              <p:cNvSpPr/>
              <p:nvPr/>
            </p:nvSpPr>
            <p:spPr>
              <a:xfrm>
                <a:off x="749520" y="198576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2221200" y="198540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108" name="文本框 2"/>
          <p:cNvSpPr/>
          <p:nvPr/>
        </p:nvSpPr>
        <p:spPr>
          <a:xfrm>
            <a:off x="952200" y="190116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写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952200" y="901080"/>
            <a:ext cx="1728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407960" y="16088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1236240" y="166032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7"/>
          <p:cNvSpPr/>
          <p:nvPr/>
        </p:nvSpPr>
        <p:spPr>
          <a:xfrm>
            <a:off x="3959640" y="2598840"/>
            <a:ext cx="525600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（气温）（气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近几天气温比较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749160" y="1985400"/>
            <a:ext cx="2944080" cy="2765880"/>
            <a:chOff x="749160" y="1985400"/>
            <a:chExt cx="2944080" cy="2765880"/>
          </a:xfrm>
        </p:grpSpPr>
        <p:sp>
          <p:nvSpPr>
            <p:cNvPr id="115" name="Line 4"/>
            <p:cNvSpPr/>
            <p:nvPr/>
          </p:nvSpPr>
          <p:spPr>
            <a:xfrm>
              <a:off x="749160" y="336852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749520" y="1985400"/>
              <a:ext cx="2943720" cy="2765880"/>
              <a:chOff x="749520" y="1985400"/>
              <a:chExt cx="2943720" cy="276588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749520" y="198576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8" name="Line 7"/>
              <p:cNvSpPr/>
              <p:nvPr/>
            </p:nvSpPr>
            <p:spPr>
              <a:xfrm>
                <a:off x="2221200" y="198540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119" name="文本框 2"/>
          <p:cNvSpPr/>
          <p:nvPr/>
        </p:nvSpPr>
        <p:spPr>
          <a:xfrm>
            <a:off x="942840" y="19116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认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-45720" y="925920"/>
            <a:ext cx="34563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í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407960" y="170100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7"/>
          <p:cNvSpPr/>
          <p:nvPr/>
        </p:nvSpPr>
        <p:spPr>
          <a:xfrm>
            <a:off x="3926880" y="2364480"/>
            <a:ext cx="44247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（晴天）（晴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我多么希望明天是一个晴天啊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"/>
          <p:cNvGrpSpPr/>
          <p:nvPr/>
        </p:nvGrpSpPr>
        <p:grpSpPr>
          <a:xfrm>
            <a:off x="749160" y="1985400"/>
            <a:ext cx="2944080" cy="2765880"/>
            <a:chOff x="749160" y="1985400"/>
            <a:chExt cx="2944080" cy="2765880"/>
          </a:xfrm>
        </p:grpSpPr>
        <p:sp>
          <p:nvSpPr>
            <p:cNvPr id="125" name="Line 4"/>
            <p:cNvSpPr/>
            <p:nvPr/>
          </p:nvSpPr>
          <p:spPr>
            <a:xfrm>
              <a:off x="749160" y="336852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26" name="Group 5"/>
            <p:cNvGrpSpPr/>
            <p:nvPr/>
          </p:nvGrpSpPr>
          <p:grpSpPr>
            <a:xfrm>
              <a:off x="749520" y="1985400"/>
              <a:ext cx="2943720" cy="2765880"/>
              <a:chOff x="749520" y="1985400"/>
              <a:chExt cx="2943720" cy="2765880"/>
            </a:xfrm>
          </p:grpSpPr>
          <p:sp>
            <p:nvSpPr>
              <p:cNvPr id="127" name="Rectangle 6"/>
              <p:cNvSpPr/>
              <p:nvPr/>
            </p:nvSpPr>
            <p:spPr>
              <a:xfrm>
                <a:off x="749520" y="198576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8" name="Line 7"/>
              <p:cNvSpPr/>
              <p:nvPr/>
            </p:nvSpPr>
            <p:spPr>
              <a:xfrm>
                <a:off x="2221200" y="198540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129" name="Rectangle 9"/>
          <p:cNvSpPr/>
          <p:nvPr/>
        </p:nvSpPr>
        <p:spPr>
          <a:xfrm>
            <a:off x="1265400" y="19634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"/>
          <p:cNvSpPr/>
          <p:nvPr/>
        </p:nvSpPr>
        <p:spPr>
          <a:xfrm>
            <a:off x="942840" y="19116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513000" y="438120"/>
            <a:ext cx="1523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会认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942840" y="879480"/>
            <a:ext cx="22190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í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407960" y="170100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7"/>
          <p:cNvSpPr/>
          <p:nvPr/>
        </p:nvSpPr>
        <p:spPr>
          <a:xfrm>
            <a:off x="4049280" y="2318040"/>
            <a:ext cx="44247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词：（感情）（事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造句：读课文时，我们要读出感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749160" y="1985400"/>
            <a:ext cx="2944080" cy="2765880"/>
            <a:chOff x="749160" y="1985400"/>
            <a:chExt cx="2944080" cy="2765880"/>
          </a:xfrm>
        </p:grpSpPr>
        <p:sp>
          <p:nvSpPr>
            <p:cNvPr id="136" name="Line 4"/>
            <p:cNvSpPr/>
            <p:nvPr/>
          </p:nvSpPr>
          <p:spPr>
            <a:xfrm>
              <a:off x="749160" y="3368520"/>
              <a:ext cx="2944080" cy="360"/>
            </a:xfrm>
            <a:prstGeom prst="line">
              <a:avLst/>
            </a:prstGeom>
            <a:ln cap="rnd" w="1905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37" name="Group 5"/>
            <p:cNvGrpSpPr/>
            <p:nvPr/>
          </p:nvGrpSpPr>
          <p:grpSpPr>
            <a:xfrm>
              <a:off x="749520" y="1985400"/>
              <a:ext cx="2943720" cy="2765880"/>
              <a:chOff x="749520" y="1985400"/>
              <a:chExt cx="2943720" cy="2765880"/>
            </a:xfrm>
          </p:grpSpPr>
          <p:sp>
            <p:nvSpPr>
              <p:cNvPr id="138" name="Rectangle 6"/>
              <p:cNvSpPr/>
              <p:nvPr/>
            </p:nvSpPr>
            <p:spPr>
              <a:xfrm>
                <a:off x="749520" y="1985760"/>
                <a:ext cx="2943720" cy="2765520"/>
              </a:xfrm>
              <a:prstGeom prst="rect">
                <a:avLst/>
              </a:prstGeom>
              <a:noFill/>
              <a:ln w="2857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9" name="Line 7"/>
              <p:cNvSpPr/>
              <p:nvPr/>
            </p:nvSpPr>
            <p:spPr>
              <a:xfrm>
                <a:off x="2221200" y="1985400"/>
                <a:ext cx="360" cy="2765880"/>
              </a:xfrm>
              <a:prstGeom prst="line">
                <a:avLst/>
              </a:prstGeom>
              <a:ln cap="rnd" w="1905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140" name="Rectangle 9"/>
          <p:cNvSpPr/>
          <p:nvPr/>
        </p:nvSpPr>
        <p:spPr>
          <a:xfrm>
            <a:off x="1265400" y="1963440"/>
            <a:ext cx="63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"/>
          <p:cNvSpPr/>
          <p:nvPr/>
        </p:nvSpPr>
        <p:spPr>
          <a:xfrm>
            <a:off x="942840" y="1911600"/>
            <a:ext cx="2424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  <Words>996</Words>
  <Paragraphs>14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8T08:03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12-05T07:17:15Z</dcterms:modified>
  <cp:revision>45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098</vt:lpwstr>
  </property>
  <property fmtid="{D5CDD505-2E9C-101B-9397-08002B2CF9AE}" pid="3" name="PresentationFormat">
    <vt:lpwstr>全屏显示(16:9)</vt:lpwstr>
  </property>
  <property fmtid="{D5CDD505-2E9C-101B-9397-08002B2CF9AE}" pid="4" name="Slides">
    <vt:r8>18</vt:r8>
  </property>
</Properties>
</file>