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D1E-9C36-4A4F-800D-2333D80C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16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16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62B-1AA4-4494-B30F-B23255FE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F99-2584-41F2-8F51-70DF64F6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21932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680" y="121932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377064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680" y="377064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0A2-521E-40A6-B6E9-97405311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2C00-FEB3-4770-80A2-9C5D15EC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16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346F-1CA3-49E6-941E-8B48DB73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16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6DFB-69C5-434C-813D-BBEE0338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622C-9B7E-4E66-B739-BE31A382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F8A1-2FF1-4193-82EE-FEDA870D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19040" y="312840"/>
            <a:ext cx="82911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C286-3871-413E-A268-84FBEC34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4C1C-B74A-4A77-A616-49C25DF0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16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33B-F6F9-4E4D-931E-AF01A88D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F750-FC22-46EB-A825-C4CCA1BE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16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8D13-65F8-4C07-AD50-E25ED564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16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16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2E25-C2A8-482D-955D-D6842A45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BCDA-B311-49C7-BFC3-BB0AA741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21932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5680" y="121932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377064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5680" y="377064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F205-786A-420A-BAFF-01146DA0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B1BB2-0251-42B9-B653-FF54C14B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9040" y="1219320"/>
            <a:ext cx="829116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C119-1EA2-4F95-9121-C8F61F55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16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14BDF-417B-4244-8C4C-BF3B0D68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D7198-CBAE-4E2F-9AD1-6578D42C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4A358-C501-4F13-A19D-9DE757F2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16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C0D-9DE9-453F-B501-C1C0B8D8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9040" y="312840"/>
            <a:ext cx="82911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C60A9-29C9-4897-9FFB-92758159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B562-3BDE-4240-9459-B1330A0B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3879-E45D-4806-8434-2A73EA7B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16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FAB1-CBFD-41C3-BB28-D95A9B14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829116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9040" y="3770640"/>
            <a:ext cx="829116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5FF0-541B-426F-BB04-31C825D0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C796D-11EC-4530-BB82-365D34B7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22360" y="121932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5680" y="121932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9040" y="377064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22360" y="377064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5680" y="3770640"/>
            <a:ext cx="266940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B2661-6E6D-4287-915D-B5D0635C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9C2-0DB8-41F6-A65F-1EE899C9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C31-81AF-4020-9119-9CE408CF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312840"/>
            <a:ext cx="829116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59F-0A68-473E-9379-B9E8E009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9DB-2013-4B5F-B1C4-57879D62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48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77064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D0D-1306-4F2F-97B2-46FFE6EF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904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219320"/>
            <a:ext cx="404604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9040" y="3770640"/>
            <a:ext cx="8291160" cy="23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1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767-F371-4A6C-B9FF-1E4A52C3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2" descr=""/>
          <p:cNvPicPr/>
          <p:nvPr/>
        </p:nvPicPr>
        <p:blipFill>
          <a:blip r:embed="rId2"/>
          <a:srcRect l="-1139" t="0" r="-650" b="0"/>
          <a:stretch/>
        </p:blipFill>
        <p:spPr>
          <a:xfrm>
            <a:off x="2021040" y="5834160"/>
            <a:ext cx="7122600" cy="102672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58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14520" y="2471760"/>
            <a:ext cx="6446520" cy="794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3376ad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F1D4D0-BD5A-48D6-A757-B284812D53C5}" type="slidenum">
              <a:rPr b="0" lang="en-US" sz="12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just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chemeClr val="accent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2" descr=""/>
          <p:cNvPicPr/>
          <p:nvPr/>
        </p:nvPicPr>
        <p:blipFill>
          <a:blip r:embed="rId2"/>
          <a:srcRect l="-1139" t="0" r="-650" b="0"/>
          <a:stretch/>
        </p:blipFill>
        <p:spPr>
          <a:xfrm>
            <a:off x="2021040" y="5834160"/>
            <a:ext cx="7122600" cy="1026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312840"/>
            <a:ext cx="8291160" cy="653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3376ad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19040" y="1219320"/>
            <a:ext cx="8291160" cy="4884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5b9bcf"/>
              </a:buClr>
              <a:buSzPct val="60000"/>
              <a:buFont typeface="Wingdings 2" charset="2"/>
              <a:buChar char=""/>
            </a:pPr>
            <a:r>
              <a:rPr b="0" lang="zh-CN" sz="2400" spc="-1" strike="noStrike">
                <a:solidFill>
                  <a:schemeClr val="accent1"/>
                </a:solidFill>
                <a:latin typeface="幼圆"/>
                <a:ea typeface="幼圆"/>
              </a:rPr>
              <a:t>单击此处编辑母版文本样式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lvl="1" marL="357120" indent="-357120">
              <a:lnSpc>
                <a:spcPct val="120000"/>
              </a:lnSpc>
              <a:spcAft>
                <a:spcPts val="601"/>
              </a:spcAft>
              <a:buClr>
                <a:srgbClr val="5dd4ff"/>
              </a:buClr>
              <a:buFont typeface="幼圆"/>
              <a:buChar char=" "/>
            </a:pPr>
            <a:r>
              <a:rPr b="0" lang="zh-CN" sz="1600" spc="-1" strike="noStrike">
                <a:solidFill>
                  <a:srgbClr val="5f5f5f"/>
                </a:solidFill>
                <a:latin typeface="幼圆"/>
                <a:ea typeface="幼圆"/>
              </a:rPr>
              <a:t>第二级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5f5f5f"/>
                </a:solidFill>
                <a:latin typeface="Calibri"/>
                <a:ea typeface="幼圆"/>
              </a:rPr>
              <a:t>第三级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5f5f5f"/>
                </a:solidFill>
                <a:latin typeface="Calibri"/>
                <a:ea typeface="幼圆"/>
              </a:rPr>
              <a:t>第四级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5f5f5f"/>
                </a:solidFill>
                <a:latin typeface="Calibri"/>
                <a:ea typeface="幼圆"/>
              </a:rPr>
              <a:t>第五级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0AB81B-10D6-4AEF-99D7-32601858AFAE}" type="slidenum">
              <a:rPr b="0" lang="en-US" sz="12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2" descr=""/>
          <p:cNvPicPr/>
          <p:nvPr/>
        </p:nvPicPr>
        <p:blipFill>
          <a:blip r:embed="rId2"/>
          <a:srcRect l="-1139" t="0" r="-650" b="0"/>
          <a:stretch/>
        </p:blipFill>
        <p:spPr>
          <a:xfrm>
            <a:off x="2021040" y="5834160"/>
            <a:ext cx="7122600" cy="1026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085609-1C25-4655-8DCF-0F8F3FE27E1A}" type="slidenum">
              <a:rPr b="0" lang="en-US" sz="12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just">
              <a:lnSpc>
                <a:spcPct val="11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chemeClr val="accent1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chemeClr val="accent1"/>
              </a:solidFill>
              <a:latin typeface="幼圆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5f5f5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5640" y="2997000"/>
            <a:ext cx="6446520" cy="794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50000"/>
              </a:lnSpc>
              <a:buNone/>
            </a:pPr>
            <a:r>
              <a:rPr b="1" lang="zh-CN" sz="3200" spc="-1" strike="noStrike">
                <a:solidFill>
                  <a:srgbClr val="3376ad"/>
                </a:solidFill>
                <a:latin typeface="微软雅黑"/>
                <a:ea typeface="微软雅黑"/>
              </a:rPr>
              <a:t>《谈读书》</a:t>
            </a:r>
            <a:br>
              <a:rPr sz="3200"/>
            </a:br>
            <a:r>
              <a:rPr b="1" lang="en-US" sz="3200" spc="-1" strike="noStrike">
                <a:solidFill>
                  <a:srgbClr val="3376ad"/>
                </a:solidFill>
                <a:latin typeface="微软雅黑"/>
                <a:ea typeface="微软雅黑"/>
              </a:rPr>
              <a:t>——培根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75640" y="4797000"/>
            <a:ext cx="6460920" cy="641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chemeClr val="accent2"/>
                </a:solidFill>
                <a:latin typeface="幼圆"/>
                <a:ea typeface="幼圆"/>
              </a:rPr>
              <a:t>多特软件</a:t>
            </a:r>
            <a:r>
              <a:rPr b="0" lang="en-US" sz="2000" spc="-1" strike="noStrike">
                <a:solidFill>
                  <a:schemeClr val="accent2"/>
                </a:solidFill>
                <a:latin typeface="幼圆"/>
                <a:ea typeface="幼圆"/>
              </a:rPr>
              <a:t>-WWW.DUO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文本框 12"/>
          <p:cNvSpPr/>
          <p:nvPr/>
        </p:nvSpPr>
        <p:spPr>
          <a:xfrm>
            <a:off x="1311120" y="446760"/>
            <a:ext cx="23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"/>
          <p:cNvSpPr/>
          <p:nvPr/>
        </p:nvSpPr>
        <p:spPr>
          <a:xfrm>
            <a:off x="428760" y="1312200"/>
            <a:ext cx="1375920" cy="48240"/>
          </a:xfrm>
          <a:prstGeom prst="rect">
            <a:avLst/>
          </a:prstGeom>
          <a:solidFill>
            <a:srgbClr val="358cc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10" name="矩形 4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11" name="矩形 2"/>
          <p:cNvSpPr/>
          <p:nvPr/>
        </p:nvSpPr>
        <p:spPr>
          <a:xfrm>
            <a:off x="3179880" y="1312200"/>
            <a:ext cx="1375920" cy="48240"/>
          </a:xfrm>
          <a:prstGeom prst="rect">
            <a:avLst/>
          </a:prstGeom>
          <a:solidFill>
            <a:srgbClr val="7da44b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12" name="矩形 6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13" name="矩形 7"/>
          <p:cNvSpPr/>
          <p:nvPr/>
        </p:nvSpPr>
        <p:spPr>
          <a:xfrm>
            <a:off x="500040" y="1523880"/>
            <a:ext cx="7714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理解“盖天生才干犹如自然花草，读书然后知如何修剪移接。”的含义。说说比喻说理的好处。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云形标注 8"/>
          <p:cNvSpPr/>
          <p:nvPr/>
        </p:nvSpPr>
        <p:spPr>
          <a:xfrm>
            <a:off x="2428920" y="3238560"/>
            <a:ext cx="6428880" cy="1999800"/>
          </a:xfrm>
          <a:prstGeom prst="cloudCallout">
            <a:avLst>
              <a:gd name="adj1" fmla="val -52233"/>
              <a:gd name="adj2" fmla="val -53283"/>
            </a:avLst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幼圆"/>
              <a:ea typeface="幼圆"/>
            </a:endParaRPr>
          </a:p>
        </p:txBody>
      </p:sp>
      <p:sp>
        <p:nvSpPr>
          <p:cNvPr id="215" name="矩形 9"/>
          <p:cNvSpPr/>
          <p:nvPr/>
        </p:nvSpPr>
        <p:spPr>
          <a:xfrm>
            <a:off x="3286080" y="3501000"/>
            <a:ext cx="5071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人要扬长避短，不断进步，就要读书明理，明智，不断完善自己，努力趋于完美。生动深刻，通俗易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" descr="C:\Users\Administrator\Desktop\最拥有图片\好看的人物\2303245.png"/>
          <p:cNvPicPr/>
          <p:nvPr/>
        </p:nvPicPr>
        <p:blipFill>
          <a:blip r:embed="rId1"/>
          <a:stretch/>
        </p:blipFill>
        <p:spPr>
          <a:xfrm>
            <a:off x="606600" y="3045960"/>
            <a:ext cx="18219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12"/>
          <p:cNvSpPr/>
          <p:nvPr/>
        </p:nvSpPr>
        <p:spPr>
          <a:xfrm>
            <a:off x="1311120" y="446760"/>
            <a:ext cx="23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"/>
          <p:cNvSpPr/>
          <p:nvPr/>
        </p:nvSpPr>
        <p:spPr>
          <a:xfrm>
            <a:off x="428760" y="1312200"/>
            <a:ext cx="1375920" cy="48240"/>
          </a:xfrm>
          <a:prstGeom prst="rect">
            <a:avLst/>
          </a:prstGeom>
          <a:solidFill>
            <a:srgbClr val="358cc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19" name="矩形 4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3179880" y="1312200"/>
            <a:ext cx="1375920" cy="48240"/>
          </a:xfrm>
          <a:prstGeom prst="rect">
            <a:avLst/>
          </a:prstGeom>
          <a:solidFill>
            <a:srgbClr val="7da44b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22" name="矩形 7"/>
          <p:cNvSpPr/>
          <p:nvPr/>
        </p:nvSpPr>
        <p:spPr>
          <a:xfrm>
            <a:off x="500040" y="1523880"/>
            <a:ext cx="35715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正面说读书有三种不同目的：“怡情、傅彩和长才”与反面指出读书的三种偏向：“惰、矫和学究”，用的是哪种议论方法？另举一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>
            <a:off x="1114920" y="3907440"/>
            <a:ext cx="1749240" cy="9126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对比论证，正反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面，对比有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4929120" y="1798200"/>
            <a:ext cx="35668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作者介绍哪些读书的方法？并谈一谈你的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989600" y="3475080"/>
            <a:ext cx="3785760" cy="132372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①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读书要仔细推敲细思，反对故意挑刺，迷信书本和公限于文字推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②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对不同的书，要不同的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③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提倡把读书和讨论、作文、做笔记结合起来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10"/>
          <p:cNvSpPr/>
          <p:nvPr/>
        </p:nvSpPr>
        <p:spPr>
          <a:xfrm>
            <a:off x="4046400" y="1636200"/>
            <a:ext cx="506160" cy="3507120"/>
          </a:xfrm>
          <a:custGeom>
            <a:avLst/>
            <a:gdLst>
              <a:gd name="textAreaLeft" fmla="*/ 0 w 506160"/>
              <a:gd name="textAreaRight" fmla="*/ 506520 w 506160"/>
              <a:gd name="textAreaTop" fmla="*/ 0 h 3507120"/>
              <a:gd name="textAreaBottom" fmla="*/ 3507480 h 3507120"/>
            </a:gdLst>
            <a:ahLst/>
            <a:rect l="textAreaLeft" t="textAreaTop" r="textAreaRight" b="textAreaBottom"/>
            <a:pathLst>
              <a:path w="506589" h="1744133">
                <a:moveTo>
                  <a:pt x="0" y="0"/>
                </a:moveTo>
                <a:cubicBezTo>
                  <a:pt x="203905" y="150988"/>
                  <a:pt x="407811" y="301977"/>
                  <a:pt x="457200" y="592666"/>
                </a:cubicBezTo>
                <a:cubicBezTo>
                  <a:pt x="506589" y="883355"/>
                  <a:pt x="296333" y="1744133"/>
                  <a:pt x="296333" y="1744133"/>
                </a:cubicBezTo>
              </a:path>
            </a:pathLst>
          </a:custGeom>
          <a:noFill/>
          <a:ln w="57150">
            <a:solidFill>
              <a:srgbClr val="5597cd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5f5f5f"/>
              </a:solidFill>
              <a:latin typeface="幼圆"/>
              <a:ea typeface="幼圆"/>
            </a:endParaRPr>
          </a:p>
        </p:txBody>
      </p:sp>
      <p:pic>
        <p:nvPicPr>
          <p:cNvPr id="227" name="Picture 3" descr="C:\Users\Administrator\Desktop\最拥有图片\图片542.png"/>
          <p:cNvPicPr/>
          <p:nvPr/>
        </p:nvPicPr>
        <p:blipFill>
          <a:blip r:embed="rId1"/>
          <a:stretch/>
        </p:blipFill>
        <p:spPr>
          <a:xfrm>
            <a:off x="3571920" y="5429160"/>
            <a:ext cx="61560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12"/>
          <p:cNvSpPr/>
          <p:nvPr/>
        </p:nvSpPr>
        <p:spPr>
          <a:xfrm>
            <a:off x="1311120" y="446760"/>
            <a:ext cx="23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"/>
          <p:cNvSpPr/>
          <p:nvPr/>
        </p:nvSpPr>
        <p:spPr>
          <a:xfrm>
            <a:off x="428760" y="1312200"/>
            <a:ext cx="1375920" cy="48240"/>
          </a:xfrm>
          <a:prstGeom prst="rect">
            <a:avLst/>
          </a:prstGeom>
          <a:solidFill>
            <a:srgbClr val="358cc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31" name="矩形 2"/>
          <p:cNvSpPr/>
          <p:nvPr/>
        </p:nvSpPr>
        <p:spPr>
          <a:xfrm>
            <a:off x="3179880" y="1312200"/>
            <a:ext cx="1375920" cy="48240"/>
          </a:xfrm>
          <a:prstGeom prst="rect">
            <a:avLst/>
          </a:prstGeom>
          <a:solidFill>
            <a:srgbClr val="7da44b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33" name="Rectangle 1"/>
          <p:cNvSpPr/>
          <p:nvPr/>
        </p:nvSpPr>
        <p:spPr>
          <a:xfrm>
            <a:off x="2080800" y="1777680"/>
            <a:ext cx="2375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53352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读书会有哪些功效呢？试举例说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云形标注 7"/>
          <p:cNvSpPr/>
          <p:nvPr/>
        </p:nvSpPr>
        <p:spPr>
          <a:xfrm>
            <a:off x="3500280" y="2857680"/>
            <a:ext cx="4928760" cy="1523520"/>
          </a:xfrm>
          <a:prstGeom prst="cloudCallout">
            <a:avLst>
              <a:gd name="adj1" fmla="val -50720"/>
              <a:gd name="adj2" fmla="val -70832"/>
            </a:avLst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幼圆"/>
              <a:ea typeface="幼圆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5960880" y="3398040"/>
            <a:ext cx="292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读书能塑造人的性格和弥补精神上各种缺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C:\Users\Administrator\Desktop\最拥有图片\好看的人物\图片1.png"/>
          <p:cNvPicPr/>
          <p:nvPr/>
        </p:nvPicPr>
        <p:blipFill>
          <a:blip r:embed="rId1"/>
          <a:stretch/>
        </p:blipFill>
        <p:spPr>
          <a:xfrm>
            <a:off x="857160" y="2571840"/>
            <a:ext cx="23158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C:\Users\Administrator\Desktop\最拥有图片\好看的人物\3.2014.png"/>
          <p:cNvPicPr/>
          <p:nvPr/>
        </p:nvPicPr>
        <p:blipFill>
          <a:blip r:embed="rId1"/>
          <a:stretch/>
        </p:blipFill>
        <p:spPr>
          <a:xfrm>
            <a:off x="498600" y="2849040"/>
            <a:ext cx="1912680" cy="30517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12"/>
          <p:cNvSpPr/>
          <p:nvPr/>
        </p:nvSpPr>
        <p:spPr>
          <a:xfrm>
            <a:off x="1311120" y="446760"/>
            <a:ext cx="23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3"/>
          <p:cNvSpPr/>
          <p:nvPr/>
        </p:nvSpPr>
        <p:spPr>
          <a:xfrm>
            <a:off x="428760" y="1312200"/>
            <a:ext cx="1375920" cy="48240"/>
          </a:xfrm>
          <a:prstGeom prst="rect">
            <a:avLst/>
          </a:prstGeom>
          <a:solidFill>
            <a:srgbClr val="358cc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40" name="矩形 4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41" name="矩形 2"/>
          <p:cNvSpPr/>
          <p:nvPr/>
        </p:nvSpPr>
        <p:spPr>
          <a:xfrm>
            <a:off x="3179880" y="1312200"/>
            <a:ext cx="1375920" cy="48240"/>
          </a:xfrm>
          <a:prstGeom prst="rect">
            <a:avLst/>
          </a:prstGeom>
          <a:solidFill>
            <a:srgbClr val="7da44b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43" name="Rectangle 1"/>
          <p:cNvSpPr/>
          <p:nvPr/>
        </p:nvSpPr>
        <p:spPr>
          <a:xfrm>
            <a:off x="1726200" y="1592640"/>
            <a:ext cx="302292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探究课 文运用的论证方法，体味其表达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）读书足以怡情，足以傅彩，足以长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标注 7"/>
          <p:cNvSpPr/>
          <p:nvPr/>
        </p:nvSpPr>
        <p:spPr>
          <a:xfrm>
            <a:off x="1857240" y="2762280"/>
            <a:ext cx="6714720" cy="1428480"/>
          </a:xfrm>
          <a:prstGeom prst="wedgeRoundRectCallout">
            <a:avLst>
              <a:gd name="adj1" fmla="val -36995"/>
              <a:gd name="adj2" fmla="val -67023"/>
              <a:gd name="adj3" fmla="val 16667"/>
            </a:avLst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幼圆"/>
              <a:ea typeface="幼圆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928880" y="2981880"/>
            <a:ext cx="644652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运用举例论证方法阐明了读书的三个正确目的，简单明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排比论证使所说道理十分显豁，读起来富于气势，增强说服力和感染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2435400" y="4425120"/>
            <a:ext cx="486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）从“其怡情也，最见于独处幽居之时”到“全凭条文断事乃学究故态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标注 10"/>
          <p:cNvSpPr/>
          <p:nvPr/>
        </p:nvSpPr>
        <p:spPr>
          <a:xfrm>
            <a:off x="1855800" y="4952880"/>
            <a:ext cx="6643440" cy="1047240"/>
          </a:xfrm>
          <a:prstGeom prst="wedgeRoundRectCallout">
            <a:avLst>
              <a:gd name="adj1" fmla="val -35121"/>
              <a:gd name="adj2" fmla="val -69378"/>
              <a:gd name="adj3" fmla="val 16667"/>
            </a:avLst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幼圆"/>
              <a:ea typeface="幼圆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927080" y="5132160"/>
            <a:ext cx="628632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运用对比论证阐述了 “ 读书三个目的的具体表现”和“三个不良倾向”，正面说了，再从反面来说 ，使说理更加全面、有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2"/>
          <p:cNvSpPr/>
          <p:nvPr/>
        </p:nvSpPr>
        <p:spPr>
          <a:xfrm>
            <a:off x="1311120" y="446760"/>
            <a:ext cx="23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3"/>
          <p:cNvSpPr/>
          <p:nvPr/>
        </p:nvSpPr>
        <p:spPr>
          <a:xfrm>
            <a:off x="428760" y="1312200"/>
            <a:ext cx="1375920" cy="48240"/>
          </a:xfrm>
          <a:prstGeom prst="rect">
            <a:avLst/>
          </a:prstGeom>
          <a:solidFill>
            <a:srgbClr val="358cc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52" name="矩形 2"/>
          <p:cNvSpPr/>
          <p:nvPr/>
        </p:nvSpPr>
        <p:spPr>
          <a:xfrm>
            <a:off x="3179880" y="1312200"/>
            <a:ext cx="1375920" cy="48240"/>
          </a:xfrm>
          <a:prstGeom prst="rect">
            <a:avLst/>
          </a:prstGeom>
          <a:solidFill>
            <a:srgbClr val="7da44b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53" name="矩形 6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1891440" y="1662840"/>
            <a:ext cx="4097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）从“读书补天然之不足”到“读书然后知如何修剪移接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标注 7"/>
          <p:cNvSpPr/>
          <p:nvPr/>
        </p:nvSpPr>
        <p:spPr>
          <a:xfrm>
            <a:off x="1496880" y="2286000"/>
            <a:ext cx="6071760" cy="1047240"/>
          </a:xfrm>
          <a:prstGeom prst="wedgeRoundRectCallout">
            <a:avLst>
              <a:gd name="adj1" fmla="val -50672"/>
              <a:gd name="adj2" fmla="val -68947"/>
              <a:gd name="adj3" fmla="val 16667"/>
            </a:avLst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幼圆"/>
              <a:ea typeface="幼圆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1568520" y="2560320"/>
            <a:ext cx="58575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运用比喻论证方法论证了“读书对经验的作用及二者关系”的观点，使阐述的道理通俗易懂，也使语言生动形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646280" y="3758400"/>
            <a:ext cx="2764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(4)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从“书亦可请人代读”到“味同嚼蜡矣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标注 10"/>
          <p:cNvSpPr/>
          <p:nvPr/>
        </p:nvSpPr>
        <p:spPr>
          <a:xfrm>
            <a:off x="1569960" y="4476600"/>
            <a:ext cx="6286320" cy="1047240"/>
          </a:xfrm>
          <a:prstGeom prst="wedgeRoundRectCallout">
            <a:avLst>
              <a:gd name="adj1" fmla="val -38880"/>
              <a:gd name="adj2" fmla="val -70024"/>
              <a:gd name="adj3" fmla="val 16667"/>
            </a:avLst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幼圆"/>
              <a:ea typeface="幼圆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927080" y="4750920"/>
            <a:ext cx="571464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运用比喻证法论证了“好书一定要揣摩钻研才能读出味道”的观点，使语言生动形象、说理通俗易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文本框 12"/>
          <p:cNvSpPr/>
          <p:nvPr/>
        </p:nvSpPr>
        <p:spPr>
          <a:xfrm>
            <a:off x="1311120" y="446760"/>
            <a:ext cx="23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428760" y="1312200"/>
            <a:ext cx="1375920" cy="48240"/>
          </a:xfrm>
          <a:prstGeom prst="rect">
            <a:avLst/>
          </a:prstGeom>
          <a:solidFill>
            <a:srgbClr val="358cc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63" name="矩形 2"/>
          <p:cNvSpPr/>
          <p:nvPr/>
        </p:nvSpPr>
        <p:spPr>
          <a:xfrm>
            <a:off x="3179880" y="1312200"/>
            <a:ext cx="1375920" cy="48240"/>
          </a:xfrm>
          <a:prstGeom prst="rect">
            <a:avLst/>
          </a:prstGeom>
          <a:solidFill>
            <a:srgbClr val="7da44b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64" name="矩形 6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414800" y="1689120"/>
            <a:ext cx="26661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）从“读史使人明智”到“皆成性格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圆角矩形标注 7"/>
          <p:cNvSpPr/>
          <p:nvPr/>
        </p:nvSpPr>
        <p:spPr>
          <a:xfrm>
            <a:off x="1281240" y="2381400"/>
            <a:ext cx="6143400" cy="1142640"/>
          </a:xfrm>
          <a:prstGeom prst="wedgeRoundRectCallout">
            <a:avLst>
              <a:gd name="adj1" fmla="val -39575"/>
              <a:gd name="adj2" fmla="val -60956"/>
              <a:gd name="adj3" fmla="val 16667"/>
            </a:avLst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幼圆"/>
              <a:ea typeface="幼圆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1424160" y="2655720"/>
            <a:ext cx="592884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运用举例论证方法论证了“读书能够塑造人的性格”的观点。先列举六门学科的作用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,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最后加以归纳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使人信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611000" y="3719160"/>
            <a:ext cx="3411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）从“人之才智但有滞碍”到“皆有特药可医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圆角矩形标注 10"/>
          <p:cNvSpPr/>
          <p:nvPr/>
        </p:nvSpPr>
        <p:spPr>
          <a:xfrm>
            <a:off x="1352520" y="4379400"/>
            <a:ext cx="6143400" cy="1142640"/>
          </a:xfrm>
          <a:prstGeom prst="wedgeRoundRectCallout">
            <a:avLst>
              <a:gd name="adj1" fmla="val -39575"/>
              <a:gd name="adj2" fmla="val -60956"/>
              <a:gd name="adj3" fmla="val 16667"/>
            </a:avLst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幼圆"/>
              <a:ea typeface="幼圆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369880" y="4804920"/>
            <a:ext cx="4021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运用归纳法证明观点。先列举六门学科的作用，最后加以归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C:\Users\Administrator\Desktop\最拥有图片\好看的人物\图片1231.597.png"/>
          <p:cNvPicPr/>
          <p:nvPr/>
        </p:nvPicPr>
        <p:blipFill>
          <a:blip r:embed="rId1"/>
          <a:stretch/>
        </p:blipFill>
        <p:spPr>
          <a:xfrm>
            <a:off x="-220680" y="3181320"/>
            <a:ext cx="1572840" cy="24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12"/>
          <p:cNvSpPr/>
          <p:nvPr/>
        </p:nvSpPr>
        <p:spPr>
          <a:xfrm>
            <a:off x="1311120" y="446760"/>
            <a:ext cx="23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"/>
          <p:cNvSpPr/>
          <p:nvPr/>
        </p:nvSpPr>
        <p:spPr>
          <a:xfrm>
            <a:off x="428760" y="1312200"/>
            <a:ext cx="1375920" cy="48240"/>
          </a:xfrm>
          <a:prstGeom prst="rect">
            <a:avLst/>
          </a:prstGeom>
          <a:solidFill>
            <a:srgbClr val="358cc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75" name="矩形 2"/>
          <p:cNvSpPr/>
          <p:nvPr/>
        </p:nvSpPr>
        <p:spPr>
          <a:xfrm>
            <a:off x="3179880" y="1312200"/>
            <a:ext cx="1375920" cy="48240"/>
          </a:xfrm>
          <a:prstGeom prst="rect">
            <a:avLst/>
          </a:prstGeom>
          <a:solidFill>
            <a:srgbClr val="7da44b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76" name="矩形 6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77" name="Rectangle 1"/>
          <p:cNvSpPr/>
          <p:nvPr/>
        </p:nvSpPr>
        <p:spPr>
          <a:xfrm>
            <a:off x="1684800" y="1641600"/>
            <a:ext cx="23756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课文的语言有何特点？试举例分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3049200" y="2329560"/>
            <a:ext cx="875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）语言精辟，表意透彻、富有智慧，用词简明、含义深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888840" y="3258360"/>
            <a:ext cx="7786440" cy="173520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如：书有可浅尝者，有可吞食者，少数则咀嚼消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“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浅尝、吞食、咀嚼”三个词准确生动写出了不同的书需不同的读法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再如：读书使人充实，讨论使人机智，作文使人准确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句子分别以“读书”“讨论”“作文”为例论述了学以致用的观点，句式整齐，使论证更为有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文本框 12"/>
          <p:cNvSpPr/>
          <p:nvPr/>
        </p:nvSpPr>
        <p:spPr>
          <a:xfrm>
            <a:off x="1311120" y="446760"/>
            <a:ext cx="23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3"/>
          <p:cNvSpPr/>
          <p:nvPr/>
        </p:nvSpPr>
        <p:spPr>
          <a:xfrm>
            <a:off x="428760" y="1312200"/>
            <a:ext cx="1375920" cy="48240"/>
          </a:xfrm>
          <a:prstGeom prst="rect">
            <a:avLst/>
          </a:prstGeom>
          <a:solidFill>
            <a:srgbClr val="358cc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82" name="矩形 4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83" name="矩形 2"/>
          <p:cNvSpPr/>
          <p:nvPr/>
        </p:nvSpPr>
        <p:spPr>
          <a:xfrm>
            <a:off x="3179880" y="1312200"/>
            <a:ext cx="1375920" cy="48240"/>
          </a:xfrm>
          <a:prstGeom prst="rect">
            <a:avLst/>
          </a:prstGeom>
          <a:solidFill>
            <a:srgbClr val="7da44b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84" name="矩形 6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3665880" y="1645560"/>
            <a:ext cx="6652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）行文灵活，笔法生动，大量运用排比和比喻修辞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785880" y="2845440"/>
            <a:ext cx="5476680" cy="91224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如：天生才干犹如自然花草，读书然后知如何修剪移栽。运用比喻巧妙地写出了读书的重要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再如：读书足以怡情，足以傅彩，足以长才。用排比的修辞，句式整齐地例举了读书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C:\Users\Administrator\Desktop\最拥有图片\好看的人物\图片1.3254.png"/>
          <p:cNvPicPr/>
          <p:nvPr/>
        </p:nvPicPr>
        <p:blipFill>
          <a:blip r:embed="rId1"/>
          <a:stretch/>
        </p:blipFill>
        <p:spPr>
          <a:xfrm>
            <a:off x="5925960" y="3310560"/>
            <a:ext cx="1510920" cy="22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10"/>
          <p:cNvGrpSpPr/>
          <p:nvPr/>
        </p:nvGrpSpPr>
        <p:grpSpPr>
          <a:xfrm>
            <a:off x="500040" y="380880"/>
            <a:ext cx="4090680" cy="905760"/>
            <a:chOff x="500040" y="380880"/>
            <a:chExt cx="4090680" cy="905760"/>
          </a:xfrm>
        </p:grpSpPr>
        <p:sp>
          <p:nvSpPr>
            <p:cNvPr id="289" name="文本框 1"/>
            <p:cNvSpPr/>
            <p:nvPr/>
          </p:nvSpPr>
          <p:spPr>
            <a:xfrm>
              <a:off x="1428840" y="380880"/>
              <a:ext cx="23968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随堂检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3"/>
            <p:cNvSpPr/>
            <p:nvPr/>
          </p:nvSpPr>
          <p:spPr>
            <a:xfrm>
              <a:off x="500040" y="1238400"/>
              <a:ext cx="1375920" cy="48240"/>
            </a:xfrm>
            <a:prstGeom prst="rect">
              <a:avLst/>
            </a:prstGeom>
            <a:solidFill>
              <a:srgbClr val="358cc1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  <p:sp>
          <p:nvSpPr>
            <p:cNvPr id="291" name="矩形 4"/>
            <p:cNvSpPr/>
            <p:nvPr/>
          </p:nvSpPr>
          <p:spPr>
            <a:xfrm>
              <a:off x="3214800" y="1238400"/>
              <a:ext cx="1375920" cy="48240"/>
            </a:xfrm>
            <a:prstGeom prst="rect">
              <a:avLst/>
            </a:prstGeom>
            <a:solidFill>
              <a:srgbClr val="7da44b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  <p:sp>
          <p:nvSpPr>
            <p:cNvPr id="292" name="矩形 2"/>
            <p:cNvSpPr/>
            <p:nvPr/>
          </p:nvSpPr>
          <p:spPr>
            <a:xfrm>
              <a:off x="1857240" y="1238400"/>
              <a:ext cx="1374480" cy="48240"/>
            </a:xfrm>
            <a:prstGeom prst="rect">
              <a:avLst/>
            </a:prstGeom>
            <a:solidFill>
              <a:srgbClr val="2d9c9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</p:grpSp>
      <p:pic>
        <p:nvPicPr>
          <p:cNvPr id="293" name="Picture 2" descr="C:\Users\Administrator\Desktop\最拥有图片\课件图片\写作\QQ截图20160922154929.png"/>
          <p:cNvPicPr/>
          <p:nvPr/>
        </p:nvPicPr>
        <p:blipFill>
          <a:blip r:embed="rId1"/>
          <a:stretch/>
        </p:blipFill>
        <p:spPr>
          <a:xfrm>
            <a:off x="6251400" y="2662920"/>
            <a:ext cx="1922040" cy="3036960"/>
          </a:xfrm>
          <a:prstGeom prst="rect">
            <a:avLst/>
          </a:prstGeom>
          <a:ln w="0">
            <a:noFill/>
          </a:ln>
        </p:spPr>
      </p:pic>
      <p:sp>
        <p:nvSpPr>
          <p:cNvPr id="294" name="矩形 8"/>
          <p:cNvSpPr/>
          <p:nvPr/>
        </p:nvSpPr>
        <p:spPr>
          <a:xfrm>
            <a:off x="500040" y="1428840"/>
            <a:ext cx="557172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下列各句中，加点的成语使用恰当的一项是（   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在这次演讲比赛中，来自基层单位的选手个个表现出色，他们口若悬河，巧舌如簧，给大家留下了深刻印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陶渊明早年曾经几度出仕，后来因为不满当时黑暗腐败的政治而走上归隐之路，过起了瓜田李下的田园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C.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抗洪救灾形势严峻，各级领导都坚守岗位，没有擅离职守，久假不归现象，确保了人民群众生命财产的安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D.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五四时期，革命青年为救亡图存、振兴中华而奔走呼号，奋不顾身，表现出高尚的爱国情操和不屈的斗争精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9"/>
          <p:cNvSpPr/>
          <p:nvPr/>
        </p:nvSpPr>
        <p:spPr>
          <a:xfrm>
            <a:off x="4798080" y="1523880"/>
            <a:ext cx="33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2"/>
          <p:cNvSpPr/>
          <p:nvPr/>
        </p:nvSpPr>
        <p:spPr>
          <a:xfrm>
            <a:off x="642960" y="1132560"/>
            <a:ext cx="8353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1"/>
          <p:cNvSpPr/>
          <p:nvPr/>
        </p:nvSpPr>
        <p:spPr>
          <a:xfrm>
            <a:off x="1428840" y="380880"/>
            <a:ext cx="23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随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3"/>
          <p:cNvSpPr/>
          <p:nvPr/>
        </p:nvSpPr>
        <p:spPr>
          <a:xfrm>
            <a:off x="500040" y="1238400"/>
            <a:ext cx="1375920" cy="48240"/>
          </a:xfrm>
          <a:prstGeom prst="rect">
            <a:avLst/>
          </a:prstGeom>
          <a:solidFill>
            <a:srgbClr val="358cc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299" name="矩形 4"/>
          <p:cNvSpPr/>
          <p:nvPr/>
        </p:nvSpPr>
        <p:spPr>
          <a:xfrm>
            <a:off x="3214800" y="1238400"/>
            <a:ext cx="1375920" cy="48240"/>
          </a:xfrm>
          <a:prstGeom prst="rect">
            <a:avLst/>
          </a:prstGeom>
          <a:solidFill>
            <a:srgbClr val="7da44b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300" name="矩形 2"/>
          <p:cNvSpPr/>
          <p:nvPr/>
        </p:nvSpPr>
        <p:spPr>
          <a:xfrm>
            <a:off x="1857240" y="12384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301" name="TextBox 8"/>
          <p:cNvSpPr/>
          <p:nvPr/>
        </p:nvSpPr>
        <p:spPr>
          <a:xfrm>
            <a:off x="500040" y="1238400"/>
            <a:ext cx="79293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对下面文段中所使用的修辞方法及作用理解正确的是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皎洁的月光装饰了春天的夜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田野、村庄、树木，在幽静的睡眠里，披着银色的薄纱。那些稠密的白杨树叶子，像是一条流水，沙沙沙，沙沙沙，在人们看不见的地方，平静又响亮地流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我喜爱夜的柔和、舒缓；我喜爱夜的安宁、静谧；我更喜爱夜使一切浮华和喧嚣退去，让我们重新找到了自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．选段首句运用了夸张的修辞手法，生动地描写出春天夜空的明亮、透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B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．选段中连用“沙沙沙”，是运用反复的修辞手法，突出了夜晚的喧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C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．选段中把“月光”比喻成“银色的薄纱”，形象地描绘出春天夜景的朦胧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D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．选段中运用“我喜爱……”的排比句式，描写了山村夜晚的柔美、安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9"/>
          <p:cNvSpPr/>
          <p:nvPr/>
        </p:nvSpPr>
        <p:spPr>
          <a:xfrm>
            <a:off x="5646240" y="1333440"/>
            <a:ext cx="34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p3.so.qhmsg.com/bdr/_240_/t01c1ea38ec312ebf0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2"/>
          <p:cNvSpPr/>
          <p:nvPr/>
        </p:nvSpPr>
        <p:spPr>
          <a:xfrm>
            <a:off x="3243240" y="321840"/>
            <a:ext cx="5751000" cy="5011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有人说，现在已经进入“读图时代”，各种各样的图铺天盖地一般呈现在人们眼前，读图已经成为时尚。有人认为，读图是造成全民族阅读水平低下的重要因素。因此要回归读书，尤其是中学生要多读书，读好书。那么我们为什么读书，怎样读书，今天我们一起来聆听几百年以前的先哲的高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1" descr="e553cbf40faa8515b0c4dc469301b224"/>
          <p:cNvPicPr/>
          <p:nvPr/>
        </p:nvPicPr>
        <p:blipFill>
          <a:blip r:embed="rId1"/>
          <a:stretch/>
        </p:blipFill>
        <p:spPr>
          <a:xfrm>
            <a:off x="3908520" y="1922040"/>
            <a:ext cx="4128840" cy="3471120"/>
          </a:xfrm>
          <a:prstGeom prst="rect">
            <a:avLst/>
          </a:prstGeom>
          <a:ln w="0">
            <a:noFill/>
          </a:ln>
        </p:spPr>
      </p:pic>
      <p:sp>
        <p:nvSpPr>
          <p:cNvPr id="304" name="文本框 12"/>
          <p:cNvSpPr/>
          <p:nvPr/>
        </p:nvSpPr>
        <p:spPr>
          <a:xfrm>
            <a:off x="1382760" y="446760"/>
            <a:ext cx="23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课后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"/>
          <p:cNvSpPr/>
          <p:nvPr/>
        </p:nvSpPr>
        <p:spPr>
          <a:xfrm>
            <a:off x="428760" y="1312200"/>
            <a:ext cx="1375920" cy="48240"/>
          </a:xfrm>
          <a:prstGeom prst="rect">
            <a:avLst/>
          </a:prstGeom>
          <a:solidFill>
            <a:srgbClr val="358cc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306" name="矩形 4"/>
          <p:cNvSpPr/>
          <p:nvPr/>
        </p:nvSpPr>
        <p:spPr>
          <a:xfrm>
            <a:off x="3179880" y="1312200"/>
            <a:ext cx="1375920" cy="48240"/>
          </a:xfrm>
          <a:prstGeom prst="rect">
            <a:avLst/>
          </a:prstGeom>
          <a:solidFill>
            <a:srgbClr val="7da44b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307" name="矩形 6"/>
          <p:cNvSpPr/>
          <p:nvPr/>
        </p:nvSpPr>
        <p:spPr>
          <a:xfrm>
            <a:off x="1805040" y="131220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79800" y="2819160"/>
            <a:ext cx="417636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完成同步练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预习下一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5" descr="07b2ca806fc15761d1134f8e43e3084f"/>
          <p:cNvPicPr/>
          <p:nvPr/>
        </p:nvPicPr>
        <p:blipFill>
          <a:blip r:embed="rId2"/>
          <a:stretch/>
        </p:blipFill>
        <p:spPr>
          <a:xfrm>
            <a:off x="969840" y="2061000"/>
            <a:ext cx="26618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-1276200" y="247032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再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2"/>
          <p:cNvSpPr/>
          <p:nvPr/>
        </p:nvSpPr>
        <p:spPr>
          <a:xfrm>
            <a:off x="679320" y="1989000"/>
            <a:ext cx="72846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通过诵读课文，能说出文章的主要内容，领会读书的要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通过品读语言，能辨别比喻论证、对比论证等论证方法，并能说出其作用，且会运用这种方法解决此类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428760" y="1217160"/>
            <a:ext cx="1375920" cy="48240"/>
          </a:xfrm>
          <a:prstGeom prst="rect">
            <a:avLst/>
          </a:prstGeom>
          <a:solidFill>
            <a:srgbClr val="358cc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1805040" y="121716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3179880" y="1217160"/>
            <a:ext cx="1375920" cy="48240"/>
          </a:xfrm>
          <a:prstGeom prst="rect">
            <a:avLst/>
          </a:prstGeom>
          <a:solidFill>
            <a:srgbClr val="7da44b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135" name="文本框 9"/>
          <p:cNvSpPr/>
          <p:nvPr/>
        </p:nvSpPr>
        <p:spPr>
          <a:xfrm>
            <a:off x="1454040" y="351360"/>
            <a:ext cx="23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7"/>
          <p:cNvSpPr/>
          <p:nvPr/>
        </p:nvSpPr>
        <p:spPr>
          <a:xfrm>
            <a:off x="357120" y="1714680"/>
            <a:ext cx="7929360" cy="29523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4372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15"/>
          <p:cNvSpPr/>
          <p:nvPr/>
        </p:nvSpPr>
        <p:spPr>
          <a:xfrm rot="5400000">
            <a:off x="1449360" y="2998440"/>
            <a:ext cx="155736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8800" spc="-1" strike="noStrike">
              <a:solidFill>
                <a:srgbClr val="d2dbe6"/>
              </a:solidFill>
              <a:latin typeface="Baskerville Old Face"/>
              <a:ea typeface="华文新魏"/>
            </a:endParaRPr>
          </a:p>
        </p:txBody>
      </p:sp>
      <p:sp>
        <p:nvSpPr>
          <p:cNvPr id="138" name="文本框 1"/>
          <p:cNvSpPr/>
          <p:nvPr/>
        </p:nvSpPr>
        <p:spPr>
          <a:xfrm>
            <a:off x="3070080" y="1619280"/>
            <a:ext cx="5382720" cy="9126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培根（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1561—1626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）英国哲学家、作家，出生贵族家庭。剑桥大学毕业，后又学习法律，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1618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年任大理院院长，封为勋爵。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1621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年因受贿为国会弹劾去职，嗣后居家著述。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1626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年冬由于在野外试验雪的防腐作用而受寒致死。《随笔》是其文学方面主要著作，开创英国随笔这特有体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2"/>
          <p:cNvSpPr/>
          <p:nvPr/>
        </p:nvSpPr>
        <p:spPr>
          <a:xfrm>
            <a:off x="1454040" y="351360"/>
            <a:ext cx="23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走近作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428760" y="1217160"/>
            <a:ext cx="1375920" cy="48240"/>
          </a:xfrm>
          <a:prstGeom prst="rect">
            <a:avLst/>
          </a:prstGeom>
          <a:solidFill>
            <a:srgbClr val="358cc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1805040" y="121716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3179880" y="1217160"/>
            <a:ext cx="1375920" cy="48240"/>
          </a:xfrm>
          <a:prstGeom prst="rect">
            <a:avLst/>
          </a:prstGeom>
          <a:solidFill>
            <a:srgbClr val="7da44b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pic>
        <p:nvPicPr>
          <p:cNvPr id="143" name="Picture 2" descr="http://p4.so.qhmsg.com/bdr/_240_/t01fc4262a54f7875c9.jpg"/>
          <p:cNvPicPr/>
          <p:nvPr/>
        </p:nvPicPr>
        <p:blipFill>
          <a:blip r:embed="rId1"/>
          <a:stretch/>
        </p:blipFill>
        <p:spPr>
          <a:xfrm>
            <a:off x="1290600" y="1619280"/>
            <a:ext cx="1809360" cy="344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2"/>
          <p:cNvSpPr/>
          <p:nvPr/>
        </p:nvSpPr>
        <p:spPr>
          <a:xfrm>
            <a:off x="1311120" y="351360"/>
            <a:ext cx="239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基础知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428760" y="1217160"/>
            <a:ext cx="1375920" cy="48240"/>
          </a:xfrm>
          <a:prstGeom prst="rect">
            <a:avLst/>
          </a:prstGeom>
          <a:solidFill>
            <a:srgbClr val="358cc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146" name="矩形 7"/>
          <p:cNvSpPr/>
          <p:nvPr/>
        </p:nvSpPr>
        <p:spPr>
          <a:xfrm>
            <a:off x="1805040" y="1217160"/>
            <a:ext cx="1374480" cy="48240"/>
          </a:xfrm>
          <a:prstGeom prst="rect">
            <a:avLst/>
          </a:prstGeom>
          <a:solidFill>
            <a:srgbClr val="2d9c9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147" name="矩形 8"/>
          <p:cNvSpPr/>
          <p:nvPr/>
        </p:nvSpPr>
        <p:spPr>
          <a:xfrm>
            <a:off x="3179880" y="1217160"/>
            <a:ext cx="1375920" cy="48240"/>
          </a:xfrm>
          <a:prstGeom prst="rect">
            <a:avLst/>
          </a:prstGeom>
          <a:solidFill>
            <a:srgbClr val="7da44b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仿宋"/>
            </a:endParaRPr>
          </a:p>
        </p:txBody>
      </p:sp>
      <p:sp>
        <p:nvSpPr>
          <p:cNvPr id="148" name="圆角矩形 18"/>
          <p:cNvSpPr/>
          <p:nvPr/>
        </p:nvSpPr>
        <p:spPr>
          <a:xfrm>
            <a:off x="641520" y="2095560"/>
            <a:ext cx="7786440" cy="33483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9fd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幼圆"/>
              <a:ea typeface="幼圆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954000" y="13737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读准字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712800" y="2995920"/>
            <a:ext cx="72147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怡（       ）情     统筹（       ）    藻（      ）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狡黠（        ）  诘（       ）难   要诀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蒸馏（        ）  劝诫（        ）  滞（      ）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吹毛求疵（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1816920" y="2997000"/>
            <a:ext cx="379296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yí                        chóu             zǎ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Xiá                jié                     ju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liú                   jiè                 z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c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http://p3.so.qhmsg.com/bdr/_240_/t01b3b111ef6c71fc58.jpg"/>
          <p:cNvPicPr/>
          <p:nvPr/>
        </p:nvPicPr>
        <p:blipFill>
          <a:blip r:embed="rId1"/>
          <a:stretch/>
        </p:blipFill>
        <p:spPr>
          <a:xfrm>
            <a:off x="6427800" y="2286000"/>
            <a:ext cx="2304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37"/>
          <p:cNvGrpSpPr/>
          <p:nvPr/>
        </p:nvGrpSpPr>
        <p:grpSpPr>
          <a:xfrm>
            <a:off x="520560" y="351360"/>
            <a:ext cx="4035240" cy="914040"/>
            <a:chOff x="520560" y="351360"/>
            <a:chExt cx="4035240" cy="914040"/>
          </a:xfrm>
        </p:grpSpPr>
        <p:sp>
          <p:nvSpPr>
            <p:cNvPr id="154" name="文本框 12"/>
            <p:cNvSpPr/>
            <p:nvPr/>
          </p:nvSpPr>
          <p:spPr>
            <a:xfrm>
              <a:off x="1403280" y="351360"/>
              <a:ext cx="23968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基础知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39"/>
            <p:cNvSpPr/>
            <p:nvPr/>
          </p:nvSpPr>
          <p:spPr>
            <a:xfrm>
              <a:off x="520560" y="1217160"/>
              <a:ext cx="1375920" cy="48240"/>
            </a:xfrm>
            <a:prstGeom prst="rect">
              <a:avLst/>
            </a:prstGeom>
            <a:solidFill>
              <a:srgbClr val="358cc1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  <p:sp>
          <p:nvSpPr>
            <p:cNvPr id="156" name="矩形 40"/>
            <p:cNvSpPr/>
            <p:nvPr/>
          </p:nvSpPr>
          <p:spPr>
            <a:xfrm>
              <a:off x="1805040" y="1217160"/>
              <a:ext cx="1374480" cy="48240"/>
            </a:xfrm>
            <a:prstGeom prst="rect">
              <a:avLst/>
            </a:prstGeom>
            <a:solidFill>
              <a:srgbClr val="2d9c9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  <p:sp>
          <p:nvSpPr>
            <p:cNvPr id="157" name="矩形 41"/>
            <p:cNvSpPr/>
            <p:nvPr/>
          </p:nvSpPr>
          <p:spPr>
            <a:xfrm>
              <a:off x="3179880" y="1217160"/>
              <a:ext cx="1375920" cy="48240"/>
            </a:xfrm>
            <a:prstGeom prst="rect">
              <a:avLst/>
            </a:prstGeom>
            <a:solidFill>
              <a:srgbClr val="7da44b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</p:grpSp>
      <p:sp>
        <p:nvSpPr>
          <p:cNvPr id="158" name="矩形 15"/>
          <p:cNvSpPr/>
          <p:nvPr/>
        </p:nvSpPr>
        <p:spPr>
          <a:xfrm>
            <a:off x="1071720" y="1556640"/>
            <a:ext cx="457164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怡情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文采藻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诘难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寻章摘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味同嚼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滞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吹毛求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狡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6"/>
          <p:cNvSpPr/>
          <p:nvPr/>
        </p:nvSpPr>
        <p:spPr>
          <a:xfrm>
            <a:off x="2561400" y="171468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使心情愉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7"/>
          <p:cNvSpPr/>
          <p:nvPr/>
        </p:nvSpPr>
        <p:spPr>
          <a:xfrm>
            <a:off x="3391560" y="219060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修饰文词，使之富有文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8"/>
          <p:cNvSpPr/>
          <p:nvPr/>
        </p:nvSpPr>
        <p:spPr>
          <a:xfrm>
            <a:off x="2506680" y="2666880"/>
            <a:ext cx="46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诘问，为难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9"/>
          <p:cNvSpPr/>
          <p:nvPr/>
        </p:nvSpPr>
        <p:spPr>
          <a:xfrm>
            <a:off x="2143080" y="3048120"/>
            <a:ext cx="5428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搜寻、摘取文章的片断语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指读书局限于文字的推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0"/>
          <p:cNvSpPr/>
          <p:nvPr/>
        </p:nvSpPr>
        <p:spPr>
          <a:xfrm>
            <a:off x="3494160" y="409572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形容写文章或说话枯燥无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1"/>
          <p:cNvSpPr/>
          <p:nvPr/>
        </p:nvSpPr>
        <p:spPr>
          <a:xfrm>
            <a:off x="2272320" y="466740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不通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2"/>
          <p:cNvSpPr/>
          <p:nvPr/>
        </p:nvSpPr>
        <p:spPr>
          <a:xfrm>
            <a:off x="3575160" y="5143680"/>
            <a:ext cx="39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这里指细致到烦琐、挑剔的地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2315880" y="561960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狡猾奸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24"/>
          <p:cNvSpPr/>
          <p:nvPr/>
        </p:nvSpPr>
        <p:spPr>
          <a:xfrm>
            <a:off x="642960" y="1523880"/>
            <a:ext cx="7786440" cy="4571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9fd9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幼圆"/>
              <a:ea typeface="幼圆"/>
            </a:endParaRPr>
          </a:p>
        </p:txBody>
      </p:sp>
      <p:pic>
        <p:nvPicPr>
          <p:cNvPr id="168" name="Picture 2" descr="http://p2.so.qhimgs1.com/bdr/_240_/t012370395840f74b8e.jpg"/>
          <p:cNvPicPr/>
          <p:nvPr/>
        </p:nvPicPr>
        <p:blipFill>
          <a:blip r:embed="rId1"/>
          <a:stretch/>
        </p:blipFill>
        <p:spPr>
          <a:xfrm>
            <a:off x="5797440" y="2466000"/>
            <a:ext cx="2285640" cy="3365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组合 5"/>
          <p:cNvGrpSpPr/>
          <p:nvPr/>
        </p:nvGrpSpPr>
        <p:grpSpPr>
          <a:xfrm>
            <a:off x="520560" y="351360"/>
            <a:ext cx="4035240" cy="914040"/>
            <a:chOff x="520560" y="351360"/>
            <a:chExt cx="4035240" cy="914040"/>
          </a:xfrm>
        </p:grpSpPr>
        <p:sp>
          <p:nvSpPr>
            <p:cNvPr id="170" name="文本框 12"/>
            <p:cNvSpPr/>
            <p:nvPr/>
          </p:nvSpPr>
          <p:spPr>
            <a:xfrm>
              <a:off x="1403280" y="351360"/>
              <a:ext cx="23968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整体感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3"/>
            <p:cNvSpPr/>
            <p:nvPr/>
          </p:nvSpPr>
          <p:spPr>
            <a:xfrm>
              <a:off x="520560" y="1217160"/>
              <a:ext cx="1375920" cy="48240"/>
            </a:xfrm>
            <a:prstGeom prst="rect">
              <a:avLst/>
            </a:prstGeom>
            <a:solidFill>
              <a:srgbClr val="358cc1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  <p:sp>
          <p:nvSpPr>
            <p:cNvPr id="172" name="矩形 4"/>
            <p:cNvSpPr/>
            <p:nvPr/>
          </p:nvSpPr>
          <p:spPr>
            <a:xfrm>
              <a:off x="1805040" y="1217160"/>
              <a:ext cx="1374480" cy="48240"/>
            </a:xfrm>
            <a:prstGeom prst="rect">
              <a:avLst/>
            </a:prstGeom>
            <a:solidFill>
              <a:srgbClr val="2d9c9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  <p:sp>
          <p:nvSpPr>
            <p:cNvPr id="173" name="矩形 5"/>
            <p:cNvSpPr/>
            <p:nvPr/>
          </p:nvSpPr>
          <p:spPr>
            <a:xfrm>
              <a:off x="3179880" y="1217160"/>
              <a:ext cx="1375920" cy="48240"/>
            </a:xfrm>
            <a:prstGeom prst="rect">
              <a:avLst/>
            </a:prstGeom>
            <a:solidFill>
              <a:srgbClr val="7da44b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</p:grpSp>
      <p:sp>
        <p:nvSpPr>
          <p:cNvPr id="174" name="Rectangle 1"/>
          <p:cNvSpPr/>
          <p:nvPr/>
        </p:nvSpPr>
        <p:spPr>
          <a:xfrm>
            <a:off x="2696400" y="1588680"/>
            <a:ext cx="2965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本文的中心话题“读书”，围绕这一话题，谈了什么内容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7"/>
          <p:cNvGrpSpPr/>
          <p:nvPr/>
        </p:nvGrpSpPr>
        <p:grpSpPr>
          <a:xfrm>
            <a:off x="785880" y="4476600"/>
            <a:ext cx="1213920" cy="952200"/>
            <a:chOff x="785880" y="4476600"/>
            <a:chExt cx="1213920" cy="952200"/>
          </a:xfrm>
        </p:grpSpPr>
        <p:sp>
          <p:nvSpPr>
            <p:cNvPr id="176" name="六边形 8"/>
            <p:cNvSpPr/>
            <p:nvPr/>
          </p:nvSpPr>
          <p:spPr>
            <a:xfrm>
              <a:off x="785880" y="4476600"/>
              <a:ext cx="1213920" cy="952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幼圆"/>
                <a:ea typeface="幼圆"/>
              </a:endParaRPr>
            </a:p>
          </p:txBody>
        </p:sp>
        <p:sp>
          <p:nvSpPr>
            <p:cNvPr id="177" name="矩形 12"/>
            <p:cNvSpPr/>
            <p:nvPr/>
          </p:nvSpPr>
          <p:spPr>
            <a:xfrm>
              <a:off x="1046520" y="4667400"/>
              <a:ext cx="695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0"/>
          <p:cNvGrpSpPr/>
          <p:nvPr/>
        </p:nvGrpSpPr>
        <p:grpSpPr>
          <a:xfrm>
            <a:off x="785880" y="3382560"/>
            <a:ext cx="1213920" cy="952200"/>
            <a:chOff x="785880" y="3382560"/>
            <a:chExt cx="1213920" cy="952200"/>
          </a:xfrm>
        </p:grpSpPr>
        <p:sp>
          <p:nvSpPr>
            <p:cNvPr id="179" name="六边形 11"/>
            <p:cNvSpPr/>
            <p:nvPr/>
          </p:nvSpPr>
          <p:spPr>
            <a:xfrm>
              <a:off x="785880" y="3382560"/>
              <a:ext cx="1213920" cy="952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幼圆"/>
                <a:ea typeface="幼圆"/>
              </a:endParaRPr>
            </a:p>
          </p:txBody>
        </p:sp>
        <p:sp>
          <p:nvSpPr>
            <p:cNvPr id="180" name="矩形 16"/>
            <p:cNvSpPr/>
            <p:nvPr/>
          </p:nvSpPr>
          <p:spPr>
            <a:xfrm>
              <a:off x="1046520" y="3573000"/>
              <a:ext cx="695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3"/>
          <p:cNvGrpSpPr/>
          <p:nvPr/>
        </p:nvGrpSpPr>
        <p:grpSpPr>
          <a:xfrm>
            <a:off x="785880" y="2286000"/>
            <a:ext cx="1213920" cy="952200"/>
            <a:chOff x="785880" y="2286000"/>
            <a:chExt cx="1213920" cy="952200"/>
          </a:xfrm>
        </p:grpSpPr>
        <p:sp>
          <p:nvSpPr>
            <p:cNvPr id="182" name="六边形 14"/>
            <p:cNvSpPr/>
            <p:nvPr/>
          </p:nvSpPr>
          <p:spPr>
            <a:xfrm>
              <a:off x="785880" y="2286000"/>
              <a:ext cx="1213920" cy="952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6"/>
            </a:lnRef>
            <a:fillRef idx="1">
              <a:schemeClr val="lt1"/>
            </a:fillRef>
            <a:effectRef idx="0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幼圆"/>
                <a:ea typeface="幼圆"/>
              </a:endParaRPr>
            </a:p>
          </p:txBody>
        </p:sp>
        <p:sp>
          <p:nvSpPr>
            <p:cNvPr id="183" name="矩形 19"/>
            <p:cNvSpPr/>
            <p:nvPr/>
          </p:nvSpPr>
          <p:spPr>
            <a:xfrm>
              <a:off x="1046520" y="2476440"/>
              <a:ext cx="695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16"/>
          <p:cNvSpPr/>
          <p:nvPr/>
        </p:nvSpPr>
        <p:spPr>
          <a:xfrm>
            <a:off x="3196440" y="2381400"/>
            <a:ext cx="3655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读书的正确目的：（读书足以怡情——全凭观察得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7"/>
          <p:cNvSpPr/>
          <p:nvPr/>
        </p:nvSpPr>
        <p:spPr>
          <a:xfrm>
            <a:off x="2143080" y="3238560"/>
            <a:ext cx="5428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要讲究读书的方法：（读书时不可存心诘难作者——始能无知而显有知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8"/>
          <p:cNvSpPr/>
          <p:nvPr/>
        </p:nvSpPr>
        <p:spPr>
          <a:xfrm>
            <a:off x="4079520" y="4667400"/>
            <a:ext cx="2009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读书能塑造人的性格和弥补精神上的各种缺陷。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读史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人明智——皆有特药可医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37"/>
          <p:cNvGrpSpPr/>
          <p:nvPr/>
        </p:nvGrpSpPr>
        <p:grpSpPr>
          <a:xfrm>
            <a:off x="520560" y="351360"/>
            <a:ext cx="4035240" cy="914040"/>
            <a:chOff x="520560" y="351360"/>
            <a:chExt cx="4035240" cy="914040"/>
          </a:xfrm>
        </p:grpSpPr>
        <p:sp>
          <p:nvSpPr>
            <p:cNvPr id="188" name="文本框 12"/>
            <p:cNvSpPr/>
            <p:nvPr/>
          </p:nvSpPr>
          <p:spPr>
            <a:xfrm>
              <a:off x="1403280" y="351360"/>
              <a:ext cx="23968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36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合作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39"/>
            <p:cNvSpPr/>
            <p:nvPr/>
          </p:nvSpPr>
          <p:spPr>
            <a:xfrm>
              <a:off x="520560" y="1217160"/>
              <a:ext cx="1375920" cy="48240"/>
            </a:xfrm>
            <a:prstGeom prst="rect">
              <a:avLst/>
            </a:prstGeom>
            <a:solidFill>
              <a:srgbClr val="358cc1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  <p:sp>
          <p:nvSpPr>
            <p:cNvPr id="190" name="矩形 40"/>
            <p:cNvSpPr/>
            <p:nvPr/>
          </p:nvSpPr>
          <p:spPr>
            <a:xfrm>
              <a:off x="1805040" y="1217160"/>
              <a:ext cx="1374480" cy="48240"/>
            </a:xfrm>
            <a:prstGeom prst="rect">
              <a:avLst/>
            </a:prstGeom>
            <a:solidFill>
              <a:srgbClr val="2d9c9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  <p:sp>
          <p:nvSpPr>
            <p:cNvPr id="191" name="矩形 41"/>
            <p:cNvSpPr/>
            <p:nvPr/>
          </p:nvSpPr>
          <p:spPr>
            <a:xfrm>
              <a:off x="3179880" y="1217160"/>
              <a:ext cx="1375920" cy="48240"/>
            </a:xfrm>
            <a:prstGeom prst="rect">
              <a:avLst/>
            </a:prstGeom>
            <a:solidFill>
              <a:srgbClr val="7da44b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</p:grpSp>
      <p:sp>
        <p:nvSpPr>
          <p:cNvPr id="192" name="Rectangle 1"/>
          <p:cNvSpPr/>
          <p:nvPr/>
        </p:nvSpPr>
        <p:spPr>
          <a:xfrm>
            <a:off x="1509840" y="1604160"/>
            <a:ext cx="15526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读书要有哪些好处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云形标注 16"/>
          <p:cNvSpPr/>
          <p:nvPr/>
        </p:nvSpPr>
        <p:spPr>
          <a:xfrm>
            <a:off x="2428920" y="2381400"/>
            <a:ext cx="4928760" cy="816840"/>
          </a:xfrm>
          <a:prstGeom prst="cloudCallout">
            <a:avLst>
              <a:gd name="adj1" fmla="val -48487"/>
              <a:gd name="adj2" fmla="val -64642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幼圆"/>
              <a:ea typeface="幼圆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057920" y="2636280"/>
            <a:ext cx="14155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怡情、傅彩和长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090240" y="3589560"/>
            <a:ext cx="1827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读书与经验的关系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云形标注 19"/>
          <p:cNvSpPr/>
          <p:nvPr/>
        </p:nvSpPr>
        <p:spPr>
          <a:xfrm>
            <a:off x="2643120" y="4286160"/>
            <a:ext cx="5643360" cy="952200"/>
          </a:xfrm>
          <a:prstGeom prst="cloudCallout">
            <a:avLst>
              <a:gd name="adj1" fmla="val -47151"/>
              <a:gd name="adj2" fmla="val -77351"/>
            </a:avLst>
          </a:prstGeom>
          <a:solidFill>
            <a:srgbClr val="00b0f0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幼圆"/>
              <a:ea typeface="幼圆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62920" y="4541040"/>
            <a:ext cx="292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经验不读书之不足，经验范书中所示，互相补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C:\Users\Administrator\Desktop\最拥有图片\好看的人物\图片11245.png"/>
          <p:cNvPicPr/>
          <p:nvPr/>
        </p:nvPicPr>
        <p:blipFill>
          <a:blip r:embed="rId1"/>
          <a:stretch/>
        </p:blipFill>
        <p:spPr>
          <a:xfrm>
            <a:off x="520560" y="3450240"/>
            <a:ext cx="2192040" cy="1788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14"/>
          <p:cNvGrpSpPr/>
          <p:nvPr/>
        </p:nvGrpSpPr>
        <p:grpSpPr>
          <a:xfrm>
            <a:off x="520560" y="351360"/>
            <a:ext cx="4035240" cy="914040"/>
            <a:chOff x="520560" y="351360"/>
            <a:chExt cx="4035240" cy="914040"/>
          </a:xfrm>
        </p:grpSpPr>
        <p:sp>
          <p:nvSpPr>
            <p:cNvPr id="200" name="文本框 12"/>
            <p:cNvSpPr/>
            <p:nvPr/>
          </p:nvSpPr>
          <p:spPr>
            <a:xfrm>
              <a:off x="1403280" y="351360"/>
              <a:ext cx="23968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合作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3"/>
            <p:cNvSpPr/>
            <p:nvPr/>
          </p:nvSpPr>
          <p:spPr>
            <a:xfrm>
              <a:off x="520560" y="1217160"/>
              <a:ext cx="1375920" cy="48240"/>
            </a:xfrm>
            <a:prstGeom prst="rect">
              <a:avLst/>
            </a:prstGeom>
            <a:solidFill>
              <a:srgbClr val="358cc1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  <p:sp>
          <p:nvSpPr>
            <p:cNvPr id="202" name="矩形 4"/>
            <p:cNvSpPr/>
            <p:nvPr/>
          </p:nvSpPr>
          <p:spPr>
            <a:xfrm>
              <a:off x="1805040" y="1217160"/>
              <a:ext cx="1374480" cy="48240"/>
            </a:xfrm>
            <a:prstGeom prst="rect">
              <a:avLst/>
            </a:prstGeom>
            <a:solidFill>
              <a:srgbClr val="2d9c9f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  <p:sp>
          <p:nvSpPr>
            <p:cNvPr id="203" name="矩形 5"/>
            <p:cNvSpPr/>
            <p:nvPr/>
          </p:nvSpPr>
          <p:spPr>
            <a:xfrm>
              <a:off x="3179880" y="1217160"/>
              <a:ext cx="1375920" cy="48240"/>
            </a:xfrm>
            <a:prstGeom prst="rect">
              <a:avLst/>
            </a:prstGeom>
            <a:solidFill>
              <a:srgbClr val="7da44b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仿宋"/>
              </a:endParaRPr>
            </a:p>
          </p:txBody>
        </p:sp>
      </p:grpSp>
      <p:sp>
        <p:nvSpPr>
          <p:cNvPr id="204" name="矩形 19"/>
          <p:cNvSpPr/>
          <p:nvPr/>
        </p:nvSpPr>
        <p:spPr>
          <a:xfrm>
            <a:off x="828720" y="1431000"/>
            <a:ext cx="8286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什么人才可读书用书？用书的智慧从何而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云形标注 7"/>
          <p:cNvSpPr/>
          <p:nvPr/>
        </p:nvSpPr>
        <p:spPr>
          <a:xfrm>
            <a:off x="3643200" y="3333600"/>
            <a:ext cx="4642920" cy="1523520"/>
          </a:xfrm>
          <a:prstGeom prst="cloudCallout">
            <a:avLst>
              <a:gd name="adj1" fmla="val -49914"/>
              <a:gd name="adj2" fmla="val -87792"/>
            </a:avLst>
          </a:prstGeom>
          <a:solidFill>
            <a:schemeClr val="tx2">
              <a:lumMod val="60000"/>
              <a:lumOff val="4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幼圆"/>
              <a:ea typeface="幼圆"/>
            </a:endParaRPr>
          </a:p>
        </p:txBody>
      </p:sp>
      <p:sp>
        <p:nvSpPr>
          <p:cNvPr id="206" name="矩形 8"/>
          <p:cNvSpPr/>
          <p:nvPr/>
        </p:nvSpPr>
        <p:spPr>
          <a:xfrm>
            <a:off x="4429080" y="3524400"/>
            <a:ext cx="3428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5f5f5f"/>
                </a:solidFill>
                <a:latin typeface="Arial"/>
                <a:ea typeface="宋体"/>
              </a:rPr>
              <a:t>明智之士（明察事理的人）。“全凭观察得之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" descr="C:\Users\Administrator\Desktop\最拥有图片\好看的人物\6981.32.png"/>
          <p:cNvPicPr/>
          <p:nvPr/>
        </p:nvPicPr>
        <p:blipFill>
          <a:blip r:embed="rId1"/>
          <a:stretch/>
        </p:blipFill>
        <p:spPr>
          <a:xfrm>
            <a:off x="1082520" y="2529360"/>
            <a:ext cx="2184120" cy="269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A000120150324A08PWBG 1">
      <a:dk1>
        <a:srgbClr val="5f5f5f"/>
      </a:dk1>
      <a:lt1>
        <a:srgbClr val="ffffff"/>
      </a:lt1>
      <a:dk2>
        <a:srgbClr val="5f5f5f"/>
      </a:dk2>
      <a:lt2>
        <a:srgbClr val="ffffff"/>
      </a:lt2>
      <a:accent1>
        <a:srgbClr val="5b9bcf"/>
      </a:accent1>
      <a:accent2>
        <a:srgbClr val="00b0f0"/>
      </a:accent2>
      <a:accent3>
        <a:srgbClr val="ffffff"/>
      </a:accent3>
      <a:accent4>
        <a:srgbClr val="505050"/>
      </a:accent4>
      <a:accent5>
        <a:srgbClr val="b5cbe4"/>
      </a:accent5>
      <a:accent6>
        <a:srgbClr val="009fd9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A000120150324A08PWBG 1">
      <a:dk1>
        <a:srgbClr val="5f5f5f"/>
      </a:dk1>
      <a:lt1>
        <a:srgbClr val="ffffff"/>
      </a:lt1>
      <a:dk2>
        <a:srgbClr val="5f5f5f"/>
      </a:dk2>
      <a:lt2>
        <a:srgbClr val="ffffff"/>
      </a:lt2>
      <a:accent1>
        <a:srgbClr val="5b9bcf"/>
      </a:accent1>
      <a:accent2>
        <a:srgbClr val="00b0f0"/>
      </a:accent2>
      <a:accent3>
        <a:srgbClr val="ffffff"/>
      </a:accent3>
      <a:accent4>
        <a:srgbClr val="505050"/>
      </a:accent4>
      <a:accent5>
        <a:srgbClr val="b5cbe4"/>
      </a:accent5>
      <a:accent6>
        <a:srgbClr val="009fd9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A000120150324A08PWBG 1">
      <a:dk1>
        <a:srgbClr val="5f5f5f"/>
      </a:dk1>
      <a:lt1>
        <a:srgbClr val="ffffff"/>
      </a:lt1>
      <a:dk2>
        <a:srgbClr val="5f5f5f"/>
      </a:dk2>
      <a:lt2>
        <a:srgbClr val="ffffff"/>
      </a:lt2>
      <a:accent1>
        <a:srgbClr val="5b9bcf"/>
      </a:accent1>
      <a:accent2>
        <a:srgbClr val="00b0f0"/>
      </a:accent2>
      <a:accent3>
        <a:srgbClr val="ffffff"/>
      </a:accent3>
      <a:accent4>
        <a:srgbClr val="505050"/>
      </a:accent4>
      <a:accent5>
        <a:srgbClr val="b5cbe4"/>
      </a:accent5>
      <a:accent6>
        <a:srgbClr val="009fd9"/>
      </a:accent6>
      <a:hlink>
        <a:srgbClr val="00b0f0"/>
      </a:hlink>
      <a:folHlink>
        <a:srgbClr val="afb2b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  <Words>2583</Words>
  <Paragraphs>1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01:40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3-05T07:35:12Z</dcterms:modified>
  <cp:revision>4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697</vt:lpwstr>
  </property>
  <property fmtid="{D5CDD505-2E9C-101B-9397-08002B2CF9AE}" pid="3" name="Notes">
    <vt:r8>4</vt:r8>
  </property>
  <property fmtid="{D5CDD505-2E9C-101B-9397-08002B2CF9AE}" pid="4" name="PresentationFormat">
    <vt:lpwstr>全屏显示(4:3)</vt:lpwstr>
  </property>
  <property fmtid="{D5CDD505-2E9C-101B-9397-08002B2CF9AE}" pid="5" name="Slides">
    <vt:r8>22</vt:r8>
  </property>
</Properties>
</file>