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94A-ED9D-4AAE-A667-B4B21C2B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798-306C-4F08-8A8E-0DA1A908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210-76D4-43AE-8E5D-CD5B73FC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147-C54F-4D55-80A6-8CE853C2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807-B703-49D7-BC51-AED530EE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39C-8137-4042-B7BE-0EDA274C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B5F-6C90-4010-8B7F-E1D9FEEC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73D-5A9D-4D18-A3EB-FEC73586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739-4ED5-4A90-8E22-CA8A3CD0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518-4488-4869-8498-8348AAA1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150-F569-4CD3-83C2-34190D8F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5CC-ECDF-4E31-9444-DBA2E9B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5AE529-21E7-4A15-8A9E-5D17294EF5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5932440" y="6013440"/>
            <a:ext cx="663120" cy="36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611280" y="1413000"/>
            <a:ext cx="8064000" cy="1871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978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小苗与大树的对话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003640" y="5084640"/>
            <a:ext cx="2520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访谈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3071880" y="609300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457200"/>
            <a:ext cx="9143640" cy="159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莎士比亚说： 书籍是全人类的营养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培根说：      书籍是横渡时间大海的航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尔基说：    书籍是人类进步的阶梯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国人说：    书籍是积累世人智慧的不灭的明灯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贝内特说：书籍是作者为我们渡过危险的人生之海而准备的罗盘、望远镜、六分仪和海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539640" y="1268280"/>
            <a:ext cx="7992720" cy="47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绿林好汉    水浒传    济公传滚瓜烂熟    跟前儿    偏科  文理贯通    起码  一百单八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24000" y="878040"/>
            <a:ext cx="844668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苗苗和季先生交流了哪几方面的问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836720" y="1413000"/>
            <a:ext cx="1655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36720" y="2174760"/>
            <a:ext cx="1655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偏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836720" y="2995560"/>
            <a:ext cx="295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外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36720" y="3860640"/>
            <a:ext cx="367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积累古诗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79280" y="4797360"/>
            <a:ext cx="8640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于这几个问题他们各有哪些见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从哪些词句了解到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81080" y="1844640"/>
            <a:ext cx="914364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阅读，是一把钥匙，为我打开知识的宝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阅读，是           ，       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阅读，是           ，       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阅读，是           ，       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944720" y="2421000"/>
            <a:ext cx="2160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位向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944720" y="3139920"/>
            <a:ext cx="244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架望远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08360" y="2421000"/>
            <a:ext cx="424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帮我找到智慧的源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608360" y="3139920"/>
            <a:ext cx="424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让我看得很远很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260280"/>
            <a:ext cx="9143640" cy="198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坎普腾的托马斯： 我到处寻找安宁，却无处可觅，只有在独自阅读一本小书时，我才得到了安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国： 把一页书好好消化，胜过匆忙地阅读一本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塔吉克族： 草要经过牛的反复消化，才能变成牛奶；书要经过人的反复思考，才能变成知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司马光： 读重要之书，不可不背诵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切斯特菲尔德： 你们把世界这本伟大的书认真读一读吧，读一遍，再读一遍，把它铭记心里，采纳它的风格，然后将它变成你自己的东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未见书，如得良友；读已见书，如逢故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  <Words>568</Words>
  <Paragraphs>54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2:10:57Z</dcterms:created>
  <dc:creator>微软用户</dc:creator>
  <dc:description>第一PPT模板网-WWW.1PPT.COM</dc:description>
  <dc:language>en-US</dc:language>
  <cp:lastModifiedBy>Windows 用户</cp:lastModifiedBy>
  <dcterms:modified xsi:type="dcterms:W3CDTF">2021-07-29T11:44:05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