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dt" idx="3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ftr" idx="3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 type="sldNum" idx="3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56AB01-E661-42E7-A21B-9BBDD62EF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863371-822C-4CF7-8AE3-40834195940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50F8F1-4F33-4A16-A1A9-B4864B09475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664B28-54D1-415D-90C0-3540463746A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BEB222-FBF7-4980-A733-BE2AA77AF01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778FEF-6AB5-460F-828C-465A85135BF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5D181E-1F65-4517-9ED2-211CC3F79DE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B470A7-97E7-489A-B614-6196F07E321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2EE40B-D37D-4BF1-8A39-2672D0C65B8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C1C35C-0C20-495D-9506-ED621268756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A60AB6-E41D-40B4-86F3-364A096F770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451341-B671-49CA-8F5B-EB98810A9BD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6E0C4E-2593-45C4-A97D-19C5C81ED8F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78E652-3E62-4F2D-9126-CFDE7DBB343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1CBD1C-1293-44C0-89E0-DB3E4D791D5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C2E6-D333-4C8C-8282-CF7DC4EE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767-9B3E-4192-A2ED-DE975CF7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F84E2-251E-41A5-BE4A-A8FAA10D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044F7-35E8-49F4-8905-D8A13DB4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32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A2B35-55AE-453B-834E-C61C9421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59D36-C050-4FE2-A3AE-9C65CB5D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8629F-6959-42AC-99C7-2E7A04FF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DA245-C13F-44D4-9EC2-B9765ADD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4DFD9-84EA-4CE6-ADA8-8974F195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60728-8D32-40DB-B267-1676C15B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9508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6124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856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9508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6124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B3435-9F06-404D-BDE4-14E9CB7C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9F00E-2600-4C59-8231-B019C9A4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758-5349-4EED-8431-F516825C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1D1CC-E150-4E45-8A2D-BAAFC8F5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FEA43-B471-4DC3-AE31-7098980B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97A10-8DCD-42FB-A043-D3FB954F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51D6B-5150-441B-91F1-240DEB72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32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81D85-9C3B-4FD9-8F9E-02C72626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80774-08C2-4165-9433-D2D698AC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B0C10-9ADC-46C1-AB4B-E3E06E68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2F88A-EA43-4719-A751-1E9BF995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50A02-9BA9-4376-92DA-A921DDFC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DAF1A-6CCC-4AD6-8155-3C4F1B09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508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124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2856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508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124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D67-2645-488D-8BA1-72E0CFE6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9508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6124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2856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9508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6124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FADF1-29E7-42A4-8383-084E6A9F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3F637-D7D2-4FEA-A899-C358838F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9848D-45EC-4B6F-A28D-6FEB0CFD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CA2A4-2A15-48EC-82AE-CA8F949C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1955B-D98F-412B-BEFA-392030E8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65EC2-5268-4513-BF91-905080FD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32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22D9D-5D3E-448B-9D8B-2E0EBE12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4EF10-3A12-483D-958B-7EF596E9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490CE-65B3-432D-9951-CA23FF4E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7075E-EA7F-4BB5-9E2A-CFAE8948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93AA-F615-4C92-91EA-2DF104FA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35FC0-D5CD-4A2A-8D1B-96952ED2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463AC-7D3F-47D2-8489-C780A847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9508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96124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2856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9508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596124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07175-E4CF-4D04-91B1-DB32A83C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C329A-1C23-4F82-A007-2DEAB147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376F3-F9F0-461B-A725-A82C1BC1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5D19E-CC57-4752-AB2B-6E0AEA55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9070B-7EC2-4673-A4AF-BC9CFF18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E1A89-F68E-4C10-ACA6-61B8744F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32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4FB57-8080-42CE-BAB9-B4610AD3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3E9F2-8CE5-4E59-86A6-BEF76796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3B81-072C-4D89-81CC-A72E5787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A9BFD-ED9A-41A7-AD69-9544C17B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9972F-46FF-4964-AF2E-A66D805E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3AFCD-BFED-4CDF-9238-A8A7D4AF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0B8AE-2120-4502-AA07-62A8C067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9508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6124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856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9508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6124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79BB2-B0DB-4922-86D0-D3CB3D95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A549-B825-4FEF-BEE7-8D888070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A38D-4390-41CD-8020-489589BD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B336-C918-4AFA-8CCA-6CCF7083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32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02B8-7AF4-4572-BAB2-8DB14FAE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A2DE-03C9-4AD4-A6D9-A2487CB1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CDB-9A91-4F5A-AD06-56F5304C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022B-E6DD-4180-94BA-AC062A03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90C2-4C5D-4687-93DA-A4814222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931A-0B99-4AFF-AB9E-0DD3BCB9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3552-8736-4EBD-BA37-A5A0AE4C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508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124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2856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508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124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A8D3-9B02-4F86-BD4F-F6FD2315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59477-AED5-417A-B7F6-B79C138C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4CE1C-EEF4-4E8E-BDA9-4307DB2B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EB1BF-1C1D-4E27-A5D2-0C500304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70181-A792-41C8-9EF2-AE8A9F32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298C8-4BEF-41C1-A0A1-BF59ECE4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9BDB-413A-4741-B7B8-7755EAA0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32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A431D-1BA3-46F0-AE0E-7C66F049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CE5EE-092B-4791-B536-7A40A395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39996-976C-4512-BB26-1E4389A1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3D6B2-F5EF-4559-8CCE-B0DFF107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AFC8E-C2A1-4109-8D84-D9DCD5A6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41516-4865-4A66-B94C-D13DC5E1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508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6124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856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508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6124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1BBBB-B0A3-4580-AA62-2C5C4CB6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B0AA2-AD4B-4D62-8063-3AE227D4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DDA87-416E-4679-AACA-91E82F86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4687F-BC34-49B7-B1D4-8EAF40BA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B64-DB6F-4916-B702-0DA4BDB2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82F95-3D3A-49E1-9967-2E854678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67341-3E07-4DE6-B1CE-8769A56D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32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A0014-6018-4329-AE30-FD1CB5D6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7B868-47B8-4B23-92B3-BE504D00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C1F2C-73D1-4838-8965-8E4322BB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D2946-B85E-4CCC-8218-19AE7DD2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7A431-0614-491A-BBED-5FFB8094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72604-5255-448A-B09C-AEB30A4C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508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6124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856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508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6124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4122C-67E2-4FE5-BBDB-EFD6307F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364B4-8FE7-4C95-B032-7B626FAB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6F71-E338-4AF2-A157-3F7D12D5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BC1D5-84E7-4DD4-A894-E00F7A3D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9DE70-BAC0-446F-A7CF-64FD38E7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EA558-56F0-4288-969E-60B5E96D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7902A-1AFD-4CD0-BF48-B845E765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32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76772-1FDB-446F-846C-CB7DDB86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C5E16-135B-4805-85E8-6DBEE45E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38805-7312-44C2-9E79-5E688390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B74B9-0AB4-4F6A-A9B1-23A31C24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1D2B5-6A92-4CD1-8590-F1456002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326E3-A151-44D0-9D9A-A8E9B1F0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32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662-EF65-4781-B3C1-A98F9642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9508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6124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856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9508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6124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5882C-6D11-49E1-8ABE-A116BE09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23031-DA72-47A4-95A6-81AB7438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EB0AF-8E78-4002-AE4B-5BA9492C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DAB43-94AD-4DF5-A439-6C5C1A2F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E7E7D-8134-4F45-818A-2E4CBD39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8F3FB-C797-4437-8893-1A39F75F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32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B4B69-6D56-4C9D-BB64-C846E043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81730-785B-4AD6-8F3B-B64BB1C0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3F9ED-3FC4-479E-BF71-B51A75F1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7DDBF-FF11-42FF-8879-D260D46E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454-1FA0-414C-A3F2-D7C96BC2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DF4C3-EC9C-41F4-BB59-40697E75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8AD69-1F7A-40D8-A01C-7091D458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9508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6124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2856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9508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6124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CB300-9AF1-487B-8D14-B6BFAE37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519B4-56FB-4F0A-9F57-8579EA30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8998C-2C8A-4553-9FD2-5DFF2048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83BB9-833D-48DA-A852-EDDAF051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5D981-4234-4227-9436-0BFB5C34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075CD-5C7C-44C6-A3C4-1DD2E988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32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95CFF-61F0-4F9E-811D-4C3E1848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A1B03-A930-41FA-A20D-6EB8A53B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FA7-BE55-4B79-81CB-685D4745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C6F5C-0151-4E3B-B31C-324903C2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BC2AD-0E90-4D02-AE99-A0B8A63C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4CAE7-FA92-443A-8012-BE016ED5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08B10-5BB3-4585-B77F-4EF11688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9508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6124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856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9508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6124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A0A46-D782-448F-871E-DBC01B03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F627B-85BD-43EA-92C6-4A353DDD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76BED-22A4-4560-9F9D-3AF16AF3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A10CC-100C-4A08-B319-0F8EA617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2ACE4-CC3D-487E-A7D3-8EBBD75E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EF3CB-E7F9-4F58-9FA9-1506A919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DE18-C795-4971-8F9E-317D6957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32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1157A-3F73-4D56-BB0A-FAB73DA4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797C2-31FC-4452-8DFE-D774127B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32495-A2D8-44E6-A485-90D55DC5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09980-2813-4031-9D5E-F11E4093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8560" y="2002680"/>
            <a:ext cx="788652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3389D-150D-4CF6-9156-9C333FA1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9920" y="110592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69920" y="2002680"/>
            <a:ext cx="384840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BBEE0-A2E2-4E4B-8274-3E1568F5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9508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61240" y="110592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2856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9508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61240" y="2002680"/>
            <a:ext cx="2539080" cy="8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DAE82-1935-43DD-8CBB-BB6436E3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B9764-FF86-44E8-9B8D-A415BE06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C368C-C791-49DC-AB4A-8C0FDFB2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04284-24E5-421C-B3E2-A5F94B1C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530640"/>
            <a:ext cx="9143640" cy="461268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0"/>
            <a:ext cx="9143640" cy="4753800"/>
          </a:xfrm>
          <a:prstGeom prst="rect">
            <a:avLst/>
          </a:prstGeom>
          <a:gradFill rotWithShape="0">
            <a:gsLst>
              <a:gs pos="8400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21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单击此处编辑母版标题样式</a:t>
            </a:r>
            <a:endParaRPr b="0" lang="en-US" sz="21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SzPct val="100112"/>
              <a:buBlip>
                <a:blip r:embed="rId3"/>
              </a:buBlip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单击此处编辑母版文本样式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3d3f41"/>
                </a:solidFill>
                <a:latin typeface="黑体"/>
                <a:ea typeface="黑体"/>
              </a:rPr>
              <a:t>第二级</a:t>
            </a:r>
            <a:endParaRPr b="0" lang="en-US" sz="1500" spc="-1" strike="noStrike">
              <a:solidFill>
                <a:srgbClr val="3d3f41"/>
              </a:solidFill>
              <a:latin typeface="黑体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三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四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五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929293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57FD91-F762-4E35-B72B-861F99FD4234}" type="slidenum">
              <a:rPr b="0" lang="en-US" sz="900" spc="-1" strike="noStrike">
                <a:solidFill>
                  <a:srgbClr val="92929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矩形 6"/>
          <p:cNvSpPr/>
          <p:nvPr/>
        </p:nvSpPr>
        <p:spPr>
          <a:xfrm>
            <a:off x="350280" y="1917000"/>
            <a:ext cx="734760" cy="240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个人简历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nli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手抄报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ouchaobao/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lish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0" y="530640"/>
            <a:ext cx="9143640" cy="4612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7"/>
          <p:cNvSpPr/>
          <p:nvPr/>
        </p:nvSpPr>
        <p:spPr>
          <a:xfrm>
            <a:off x="0" y="0"/>
            <a:ext cx="9143640" cy="4753800"/>
          </a:xfrm>
          <a:prstGeom prst="rect">
            <a:avLst/>
          </a:prstGeom>
          <a:gradFill rotWithShape="0">
            <a:gsLst>
              <a:gs pos="8400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21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单击此处编辑母版标题样式</a:t>
            </a:r>
            <a:endParaRPr b="0" lang="en-US" sz="21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SzPct val="100112"/>
              <a:buBlip>
                <a:blip r:embed="rId3"/>
              </a:buBlip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单击此处编辑母版文本样式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3d3f41"/>
                </a:solidFill>
                <a:latin typeface="黑体"/>
                <a:ea typeface="黑体"/>
              </a:rPr>
              <a:t>第二级</a:t>
            </a:r>
            <a:endParaRPr b="0" lang="en-US" sz="1500" spc="-1" strike="noStrike">
              <a:solidFill>
                <a:srgbClr val="3d3f41"/>
              </a:solidFill>
              <a:latin typeface="黑体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三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四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五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929293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278BE2-89E4-4304-8A93-C58530C39E5E}" type="slidenum">
              <a:rPr b="0" lang="en-US" sz="900" spc="-1" strike="noStrike">
                <a:solidFill>
                  <a:srgbClr val="92929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0" y="530640"/>
            <a:ext cx="9143640" cy="4612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7"/>
          <p:cNvSpPr/>
          <p:nvPr/>
        </p:nvSpPr>
        <p:spPr>
          <a:xfrm>
            <a:off x="0" y="0"/>
            <a:ext cx="9143640" cy="4753800"/>
          </a:xfrm>
          <a:prstGeom prst="rect">
            <a:avLst/>
          </a:prstGeom>
          <a:gradFill rotWithShape="0">
            <a:gsLst>
              <a:gs pos="8400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21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单击此处编辑母版标题样式</a:t>
            </a:r>
            <a:endParaRPr b="0" lang="en-US" sz="21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SzPct val="100112"/>
              <a:buBlip>
                <a:blip r:embed="rId3"/>
              </a:buBlip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单击此处编辑母版文本样式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3d3f41"/>
                </a:solidFill>
                <a:latin typeface="黑体"/>
                <a:ea typeface="黑体"/>
              </a:rPr>
              <a:t>第二级</a:t>
            </a:r>
            <a:endParaRPr b="0" lang="en-US" sz="1500" spc="-1" strike="noStrike">
              <a:solidFill>
                <a:srgbClr val="3d3f41"/>
              </a:solidFill>
              <a:latin typeface="黑体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三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四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五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929293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884F06-19B8-4F6F-9DC6-8E8B4198654D}" type="slidenum">
              <a:rPr b="0" lang="en-US" sz="900" spc="-1" strike="noStrike">
                <a:solidFill>
                  <a:srgbClr val="92929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图片 6" descr=""/>
          <p:cNvPicPr/>
          <p:nvPr/>
        </p:nvPicPr>
        <p:blipFill>
          <a:blip r:embed="rId2"/>
          <a:stretch/>
        </p:blipFill>
        <p:spPr>
          <a:xfrm>
            <a:off x="0" y="530640"/>
            <a:ext cx="9143640" cy="4612680"/>
          </a:xfrm>
          <a:prstGeom prst="rect">
            <a:avLst/>
          </a:prstGeom>
          <a:ln w="0">
            <a:noFill/>
          </a:ln>
        </p:spPr>
      </p:pic>
      <p:sp>
        <p:nvSpPr>
          <p:cNvPr id="475" name="矩形 7"/>
          <p:cNvSpPr/>
          <p:nvPr/>
        </p:nvSpPr>
        <p:spPr>
          <a:xfrm>
            <a:off x="0" y="0"/>
            <a:ext cx="9143640" cy="4753800"/>
          </a:xfrm>
          <a:prstGeom prst="rect">
            <a:avLst/>
          </a:prstGeom>
          <a:gradFill rotWithShape="0">
            <a:gsLst>
              <a:gs pos="8400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zh-CN" sz="24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单击此处编辑母版标题样式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28560" y="110592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SzPct val="100112"/>
              <a:buBlip>
                <a:blip r:embed="rId3"/>
              </a:buBlip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单击此处编辑母版文本样式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3d3f41"/>
                </a:solidFill>
                <a:latin typeface="黑体"/>
                <a:ea typeface="黑体"/>
              </a:rPr>
              <a:t>第二级</a:t>
            </a:r>
            <a:endParaRPr b="0" lang="en-US" sz="1500" spc="-1" strike="noStrike">
              <a:solidFill>
                <a:srgbClr val="3d3f41"/>
              </a:solidFill>
              <a:latin typeface="黑体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三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四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五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body"/>
          </p:nvPr>
        </p:nvSpPr>
        <p:spPr>
          <a:xfrm>
            <a:off x="628560" y="2957760"/>
            <a:ext cx="7886520" cy="1716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SzPct val="100112"/>
              <a:buBlip>
                <a:blip r:embed="rId4"/>
              </a:buBlip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单击此处编辑母版文本样式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3d3f41"/>
                </a:solidFill>
                <a:latin typeface="黑体"/>
                <a:ea typeface="黑体"/>
              </a:rPr>
              <a:t>第二级</a:t>
            </a:r>
            <a:endParaRPr b="0" lang="en-US" sz="1500" spc="-1" strike="noStrike">
              <a:solidFill>
                <a:srgbClr val="3d3f41"/>
              </a:solidFill>
              <a:latin typeface="黑体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三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四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五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dt" idx="34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929293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ftr" idx="35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 type="sldNum" idx="36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7153FD-7A3B-4D23-A89E-B8CF12E2752A}" type="slidenum">
              <a:rPr b="0" lang="en-US" sz="900" spc="-1" strike="noStrike">
                <a:solidFill>
                  <a:srgbClr val="92929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"/>
          <p:cNvPicPr/>
          <p:nvPr/>
        </p:nvPicPr>
        <p:blipFill>
          <a:blip r:embed="rId2"/>
          <a:stretch/>
        </p:blipFill>
        <p:spPr>
          <a:xfrm>
            <a:off x="0" y="530640"/>
            <a:ext cx="9143640" cy="461268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0" y="0"/>
            <a:ext cx="9143640" cy="4753800"/>
          </a:xfrm>
          <a:prstGeom prst="rect">
            <a:avLst/>
          </a:prstGeom>
          <a:gradFill rotWithShape="0">
            <a:gsLst>
              <a:gs pos="8400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21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单击此处编辑母版标题样式</a:t>
            </a:r>
            <a:endParaRPr b="0" lang="en-US" sz="21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SzPct val="100112"/>
              <a:buBlip>
                <a:blip r:embed="rId3"/>
              </a:buBlip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单击此处编辑母版文本样式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3d3f41"/>
                </a:solidFill>
                <a:latin typeface="黑体"/>
                <a:ea typeface="黑体"/>
              </a:rPr>
              <a:t>第二级</a:t>
            </a:r>
            <a:endParaRPr b="0" lang="en-US" sz="1500" spc="-1" strike="noStrike">
              <a:solidFill>
                <a:srgbClr val="3d3f41"/>
              </a:solidFill>
              <a:latin typeface="黑体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三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四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五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929293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C8CC98-9238-4274-A0A5-5A0E2C43C1DA}" type="slidenum">
              <a:rPr b="0" lang="en-US" sz="900" spc="-1" strike="noStrike">
                <a:solidFill>
                  <a:srgbClr val="92929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6" descr=""/>
          <p:cNvPicPr/>
          <p:nvPr/>
        </p:nvPicPr>
        <p:blipFill>
          <a:blip r:embed="rId2"/>
          <a:stretch/>
        </p:blipFill>
        <p:spPr>
          <a:xfrm>
            <a:off x="0" y="530640"/>
            <a:ext cx="9143640" cy="4612680"/>
          </a:xfrm>
          <a:prstGeom prst="rect">
            <a:avLst/>
          </a:prstGeom>
          <a:ln w="0">
            <a:noFill/>
          </a:ln>
        </p:spPr>
      </p:pic>
      <p:sp>
        <p:nvSpPr>
          <p:cNvPr id="88" name="矩形 7"/>
          <p:cNvSpPr/>
          <p:nvPr/>
        </p:nvSpPr>
        <p:spPr>
          <a:xfrm>
            <a:off x="0" y="0"/>
            <a:ext cx="9143640" cy="4753800"/>
          </a:xfrm>
          <a:prstGeom prst="rect">
            <a:avLst/>
          </a:prstGeom>
          <a:gradFill rotWithShape="0">
            <a:gsLst>
              <a:gs pos="8400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21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单击此处编辑母版标题样式</a:t>
            </a:r>
            <a:endParaRPr b="0" lang="en-US" sz="21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SzPct val="100112"/>
              <a:buBlip>
                <a:blip r:embed="rId3"/>
              </a:buBlip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单击此处编辑母版文本样式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3d3f41"/>
                </a:solidFill>
                <a:latin typeface="黑体"/>
                <a:ea typeface="黑体"/>
              </a:rPr>
              <a:t>第二级</a:t>
            </a:r>
            <a:endParaRPr b="0" lang="en-US" sz="1500" spc="-1" strike="noStrike">
              <a:solidFill>
                <a:srgbClr val="3d3f41"/>
              </a:solidFill>
              <a:latin typeface="黑体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三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四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五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929293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BAA873-0F90-4CD3-B7A5-726832316181}" type="slidenum">
              <a:rPr b="0" lang="en-US" sz="900" spc="-1" strike="noStrike">
                <a:solidFill>
                  <a:srgbClr val="92929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6" descr=""/>
          <p:cNvPicPr/>
          <p:nvPr/>
        </p:nvPicPr>
        <p:blipFill>
          <a:blip r:embed="rId2"/>
          <a:stretch/>
        </p:blipFill>
        <p:spPr>
          <a:xfrm>
            <a:off x="0" y="530640"/>
            <a:ext cx="9143640" cy="4612680"/>
          </a:xfrm>
          <a:prstGeom prst="rect">
            <a:avLst/>
          </a:prstGeom>
          <a:ln w="0">
            <a:noFill/>
          </a:ln>
        </p:spPr>
      </p:pic>
      <p:sp>
        <p:nvSpPr>
          <p:cNvPr id="131" name="矩形 7"/>
          <p:cNvSpPr/>
          <p:nvPr/>
        </p:nvSpPr>
        <p:spPr>
          <a:xfrm>
            <a:off x="0" y="0"/>
            <a:ext cx="9143640" cy="4753800"/>
          </a:xfrm>
          <a:prstGeom prst="rect">
            <a:avLst/>
          </a:prstGeom>
          <a:gradFill rotWithShape="0">
            <a:gsLst>
              <a:gs pos="8400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21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单击此处编辑母版标题样式</a:t>
            </a:r>
            <a:endParaRPr b="0" lang="en-US" sz="21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SzPct val="100112"/>
              <a:buBlip>
                <a:blip r:embed="rId3"/>
              </a:buBlip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单击此处编辑母版文本样式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3d3f41"/>
                </a:solidFill>
                <a:latin typeface="黑体"/>
                <a:ea typeface="黑体"/>
              </a:rPr>
              <a:t>第二级</a:t>
            </a:r>
            <a:endParaRPr b="0" lang="en-US" sz="1500" spc="-1" strike="noStrike">
              <a:solidFill>
                <a:srgbClr val="3d3f41"/>
              </a:solidFill>
              <a:latin typeface="黑体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三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四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五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929293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1BFF7F-EFB9-4EA5-9F50-5A9759BF4481}" type="slidenum">
              <a:rPr b="0" lang="en-US" sz="900" spc="-1" strike="noStrike">
                <a:solidFill>
                  <a:srgbClr val="92929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6" descr=""/>
          <p:cNvPicPr/>
          <p:nvPr/>
        </p:nvPicPr>
        <p:blipFill>
          <a:blip r:embed="rId2"/>
          <a:stretch/>
        </p:blipFill>
        <p:spPr>
          <a:xfrm>
            <a:off x="0" y="530640"/>
            <a:ext cx="9143640" cy="4612680"/>
          </a:xfrm>
          <a:prstGeom prst="rect">
            <a:avLst/>
          </a:prstGeom>
          <a:ln w="0">
            <a:noFill/>
          </a:ln>
        </p:spPr>
      </p:pic>
      <p:sp>
        <p:nvSpPr>
          <p:cNvPr id="174" name="矩形 7"/>
          <p:cNvSpPr/>
          <p:nvPr/>
        </p:nvSpPr>
        <p:spPr>
          <a:xfrm>
            <a:off x="0" y="0"/>
            <a:ext cx="9143640" cy="4753800"/>
          </a:xfrm>
          <a:prstGeom prst="rect">
            <a:avLst/>
          </a:prstGeom>
          <a:gradFill rotWithShape="0">
            <a:gsLst>
              <a:gs pos="8400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21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单击此处编辑母版标题样式</a:t>
            </a:r>
            <a:endParaRPr b="0" lang="en-US" sz="21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SzPct val="100112"/>
              <a:buBlip>
                <a:blip r:embed="rId3"/>
              </a:buBlip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单击此处编辑母版文本样式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3d3f41"/>
                </a:solidFill>
                <a:latin typeface="黑体"/>
                <a:ea typeface="黑体"/>
              </a:rPr>
              <a:t>第二级</a:t>
            </a:r>
            <a:endParaRPr b="0" lang="en-US" sz="1500" spc="-1" strike="noStrike">
              <a:solidFill>
                <a:srgbClr val="3d3f41"/>
              </a:solidFill>
              <a:latin typeface="黑体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三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四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五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929293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C75F4B-62A9-4C0C-BBEB-F3DA191676BE}" type="slidenum">
              <a:rPr b="0" lang="en-US" sz="900" spc="-1" strike="noStrike">
                <a:solidFill>
                  <a:srgbClr val="92929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6" descr=""/>
          <p:cNvPicPr/>
          <p:nvPr/>
        </p:nvPicPr>
        <p:blipFill>
          <a:blip r:embed="rId2"/>
          <a:stretch/>
        </p:blipFill>
        <p:spPr>
          <a:xfrm>
            <a:off x="0" y="530640"/>
            <a:ext cx="9143640" cy="4612680"/>
          </a:xfrm>
          <a:prstGeom prst="rect">
            <a:avLst/>
          </a:prstGeom>
          <a:ln w="0">
            <a:noFill/>
          </a:ln>
        </p:spPr>
      </p:pic>
      <p:sp>
        <p:nvSpPr>
          <p:cNvPr id="217" name="矩形 7"/>
          <p:cNvSpPr/>
          <p:nvPr/>
        </p:nvSpPr>
        <p:spPr>
          <a:xfrm>
            <a:off x="0" y="0"/>
            <a:ext cx="9143640" cy="4753800"/>
          </a:xfrm>
          <a:prstGeom prst="rect">
            <a:avLst/>
          </a:prstGeom>
          <a:gradFill rotWithShape="0">
            <a:gsLst>
              <a:gs pos="8400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21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单击此处编辑母版标题样式</a:t>
            </a:r>
            <a:endParaRPr b="0" lang="en-US" sz="21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SzPct val="100112"/>
              <a:buBlip>
                <a:blip r:embed="rId3"/>
              </a:buBlip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单击此处编辑母版文本样式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3d3f41"/>
                </a:solidFill>
                <a:latin typeface="黑体"/>
                <a:ea typeface="黑体"/>
              </a:rPr>
              <a:t>第二级</a:t>
            </a:r>
            <a:endParaRPr b="0" lang="en-US" sz="1500" spc="-1" strike="noStrike">
              <a:solidFill>
                <a:srgbClr val="3d3f41"/>
              </a:solidFill>
              <a:latin typeface="黑体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三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四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五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929293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9CE5B7-1CCE-4C32-AAC8-692CEE4313C0}" type="slidenum">
              <a:rPr b="0" lang="en-US" sz="900" spc="-1" strike="noStrike">
                <a:solidFill>
                  <a:srgbClr val="92929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6" descr=""/>
          <p:cNvPicPr/>
          <p:nvPr/>
        </p:nvPicPr>
        <p:blipFill>
          <a:blip r:embed="rId2"/>
          <a:stretch/>
        </p:blipFill>
        <p:spPr>
          <a:xfrm>
            <a:off x="0" y="530640"/>
            <a:ext cx="9143640" cy="4612680"/>
          </a:xfrm>
          <a:prstGeom prst="rect">
            <a:avLst/>
          </a:prstGeom>
          <a:ln w="0">
            <a:noFill/>
          </a:ln>
        </p:spPr>
      </p:pic>
      <p:sp>
        <p:nvSpPr>
          <p:cNvPr id="260" name="矩形 7"/>
          <p:cNvSpPr/>
          <p:nvPr/>
        </p:nvSpPr>
        <p:spPr>
          <a:xfrm>
            <a:off x="0" y="0"/>
            <a:ext cx="9143640" cy="4753800"/>
          </a:xfrm>
          <a:prstGeom prst="rect">
            <a:avLst/>
          </a:prstGeom>
          <a:gradFill rotWithShape="0">
            <a:gsLst>
              <a:gs pos="8400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21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单击此处编辑母版标题样式</a:t>
            </a:r>
            <a:endParaRPr b="0" lang="en-US" sz="21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SzPct val="100112"/>
              <a:buBlip>
                <a:blip r:embed="rId3"/>
              </a:buBlip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单击此处编辑母版文本样式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3d3f41"/>
                </a:solidFill>
                <a:latin typeface="黑体"/>
                <a:ea typeface="黑体"/>
              </a:rPr>
              <a:t>第二级</a:t>
            </a:r>
            <a:endParaRPr b="0" lang="en-US" sz="1500" spc="-1" strike="noStrike">
              <a:solidFill>
                <a:srgbClr val="3d3f41"/>
              </a:solidFill>
              <a:latin typeface="黑体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三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四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五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929293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CA6D34-15E8-49D7-B6A7-D2CC7F21724F}" type="slidenum">
              <a:rPr b="0" lang="en-US" sz="900" spc="-1" strike="noStrike">
                <a:solidFill>
                  <a:srgbClr val="92929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图片 6" descr=""/>
          <p:cNvPicPr/>
          <p:nvPr/>
        </p:nvPicPr>
        <p:blipFill>
          <a:blip r:embed="rId2"/>
          <a:stretch/>
        </p:blipFill>
        <p:spPr>
          <a:xfrm>
            <a:off x="0" y="530640"/>
            <a:ext cx="9143640" cy="4612680"/>
          </a:xfrm>
          <a:prstGeom prst="rect">
            <a:avLst/>
          </a:prstGeom>
          <a:ln w="0">
            <a:noFill/>
          </a:ln>
        </p:spPr>
      </p:pic>
      <p:sp>
        <p:nvSpPr>
          <p:cNvPr id="303" name="矩形 7"/>
          <p:cNvSpPr/>
          <p:nvPr/>
        </p:nvSpPr>
        <p:spPr>
          <a:xfrm>
            <a:off x="0" y="0"/>
            <a:ext cx="9143640" cy="4753800"/>
          </a:xfrm>
          <a:prstGeom prst="rect">
            <a:avLst/>
          </a:prstGeom>
          <a:gradFill rotWithShape="0">
            <a:gsLst>
              <a:gs pos="8400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21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单击此处编辑母版标题样式</a:t>
            </a:r>
            <a:endParaRPr b="0" lang="en-US" sz="21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SzPct val="100112"/>
              <a:buBlip>
                <a:blip r:embed="rId3"/>
              </a:buBlip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单击此处编辑母版文本样式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3d3f41"/>
                </a:solidFill>
                <a:latin typeface="黑体"/>
                <a:ea typeface="黑体"/>
              </a:rPr>
              <a:t>第二级</a:t>
            </a:r>
            <a:endParaRPr b="0" lang="en-US" sz="1500" spc="-1" strike="noStrike">
              <a:solidFill>
                <a:srgbClr val="3d3f41"/>
              </a:solidFill>
              <a:latin typeface="黑体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三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四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五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929293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7E9576-A93E-41E2-812A-1B4E69A901FE}" type="slidenum">
              <a:rPr b="0" lang="en-US" sz="900" spc="-1" strike="noStrike">
                <a:solidFill>
                  <a:srgbClr val="92929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图片 6" descr=""/>
          <p:cNvPicPr/>
          <p:nvPr/>
        </p:nvPicPr>
        <p:blipFill>
          <a:blip r:embed="rId2"/>
          <a:stretch/>
        </p:blipFill>
        <p:spPr>
          <a:xfrm>
            <a:off x="0" y="530640"/>
            <a:ext cx="9143640" cy="4612680"/>
          </a:xfrm>
          <a:prstGeom prst="rect">
            <a:avLst/>
          </a:prstGeom>
          <a:ln w="0">
            <a:noFill/>
          </a:ln>
        </p:spPr>
      </p:pic>
      <p:sp>
        <p:nvSpPr>
          <p:cNvPr id="346" name="矩形 7"/>
          <p:cNvSpPr/>
          <p:nvPr/>
        </p:nvSpPr>
        <p:spPr>
          <a:xfrm>
            <a:off x="0" y="0"/>
            <a:ext cx="9143640" cy="4753800"/>
          </a:xfrm>
          <a:prstGeom prst="rect">
            <a:avLst/>
          </a:prstGeom>
          <a:gradFill rotWithShape="0">
            <a:gsLst>
              <a:gs pos="8400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21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单击此处编辑母版标题样式</a:t>
            </a:r>
            <a:endParaRPr b="0" lang="en-US" sz="21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SzPct val="100112"/>
              <a:buBlip>
                <a:blip r:embed="rId3"/>
              </a:buBlip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单击此处编辑母版文本样式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3d3f41"/>
                </a:solidFill>
                <a:latin typeface="黑体"/>
                <a:ea typeface="黑体"/>
              </a:rPr>
              <a:t>第二级</a:t>
            </a:r>
            <a:endParaRPr b="0" lang="en-US" sz="1500" spc="-1" strike="noStrike">
              <a:solidFill>
                <a:srgbClr val="3d3f41"/>
              </a:solidFill>
              <a:latin typeface="黑体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三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四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3d3f41"/>
                </a:solidFill>
                <a:latin typeface="黑体"/>
                <a:ea typeface="黑体"/>
              </a:rPr>
              <a:t>第五级</a:t>
            </a: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929293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6E0517-518D-40D8-910E-8802BE79B575}" type="slidenum">
              <a:rPr b="0" lang="en-US" sz="900" spc="-1" strike="noStrike">
                <a:solidFill>
                  <a:srgbClr val="92929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6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图片 1" descr="3af3d4262f85afbcc4946fdce4caeb47"/>
          <p:cNvPicPr/>
          <p:nvPr/>
        </p:nvPicPr>
        <p:blipFill>
          <a:blip r:embed="rId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628560" y="1108800"/>
            <a:ext cx="7886520" cy="3523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25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indent="0">
              <a:lnSpc>
                <a:spcPct val="25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indent="0">
              <a:lnSpc>
                <a:spcPct val="25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26" name="矩形 5"/>
          <p:cNvSpPr/>
          <p:nvPr/>
        </p:nvSpPr>
        <p:spPr>
          <a:xfrm>
            <a:off x="0" y="1532520"/>
            <a:ext cx="9143640" cy="2238840"/>
          </a:xfrm>
          <a:prstGeom prst="rect">
            <a:avLst/>
          </a:prstGeom>
          <a:solidFill>
            <a:srgbClr val="ffffff">
              <a:alpha val="5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27" name="文本框 7"/>
          <p:cNvSpPr/>
          <p:nvPr/>
        </p:nvSpPr>
        <p:spPr>
          <a:xfrm>
            <a:off x="0" y="1838160"/>
            <a:ext cx="9143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学习改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8"/>
          <p:cNvSpPr/>
          <p:nvPr/>
        </p:nvSpPr>
        <p:spPr>
          <a:xfrm>
            <a:off x="0" y="3115080"/>
            <a:ext cx="91436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多特软件</a:t>
            </a: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-WWW.DUO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文本框 1"/>
          <p:cNvSpPr/>
          <p:nvPr/>
        </p:nvSpPr>
        <p:spPr>
          <a:xfrm>
            <a:off x="69840" y="181800"/>
            <a:ext cx="6343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实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直接连接符 4"/>
          <p:cNvCxnSpPr/>
          <p:nvPr/>
        </p:nvCxnSpPr>
        <p:spPr>
          <a:xfrm flipH="1" flipV="1">
            <a:off x="734760" y="-8280"/>
            <a:ext cx="10440" cy="876240"/>
          </a:xfrm>
          <a:prstGeom prst="straightConnector1">
            <a:avLst/>
          </a:prstGeom>
          <a:ln w="34925">
            <a:solidFill>
              <a:srgbClr val="babd3d"/>
            </a:solidFill>
          </a:ln>
        </p:spPr>
      </p:cxnSp>
      <p:sp>
        <p:nvSpPr>
          <p:cNvPr id="613" name="文本框 6"/>
          <p:cNvSpPr/>
          <p:nvPr/>
        </p:nvSpPr>
        <p:spPr>
          <a:xfrm>
            <a:off x="822600" y="358560"/>
            <a:ext cx="1337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例文点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直接连接符 7"/>
          <p:cNvCxnSpPr/>
          <p:nvPr/>
        </p:nvCxnSpPr>
        <p:spPr>
          <a:xfrm>
            <a:off x="978120" y="634680"/>
            <a:ext cx="444600" cy="360"/>
          </a:xfrm>
          <a:prstGeom prst="straightConnector1">
            <a:avLst/>
          </a:prstGeom>
          <a:ln w="34925">
            <a:solidFill>
              <a:srgbClr val="babd3d"/>
            </a:solidFill>
          </a:ln>
        </p:spPr>
      </p:cxnSp>
      <p:sp>
        <p:nvSpPr>
          <p:cNvPr id="615" name="文本框 2"/>
          <p:cNvSpPr/>
          <p:nvPr/>
        </p:nvSpPr>
        <p:spPr>
          <a:xfrm>
            <a:off x="3472920" y="641520"/>
            <a:ext cx="2197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改写《三顾茅庐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3"/>
          <p:cNvSpPr/>
          <p:nvPr/>
        </p:nvSpPr>
        <p:spPr>
          <a:xfrm>
            <a:off x="640440" y="1177920"/>
            <a:ext cx="830844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旁白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东汉末年，天下大乱，群雄四起，百姓身处水深火热之中，苦不堪言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为了天下太平，刘备领兵出战，但是因为缺乏谋士，屡战屡败。经过徐庶的推荐，刘备决定请诸葛亮做军师。刘备连着去了两次诸葛亮的家，却都没见着他，便决定再去第三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右箭头 5"/>
          <p:cNvSpPr/>
          <p:nvPr/>
        </p:nvSpPr>
        <p:spPr>
          <a:xfrm>
            <a:off x="704880" y="3493440"/>
            <a:ext cx="418320" cy="2343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618" name="文本框 9"/>
          <p:cNvSpPr/>
          <p:nvPr/>
        </p:nvSpPr>
        <p:spPr>
          <a:xfrm>
            <a:off x="1180800" y="3170880"/>
            <a:ext cx="722808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1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剧本前面的旁白十分有必要，这里介绍清楚前两次拜访的情况，为“三顾茅庐”做了铺垫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图片 11" descr="768cccec29c0c005b33431417770fbe2"/>
          <p:cNvPicPr/>
          <p:nvPr/>
        </p:nvPicPr>
        <p:blipFill>
          <a:blip r:embed="rId1"/>
          <a:stretch/>
        </p:blipFill>
        <p:spPr>
          <a:xfrm rot="10800000">
            <a:off x="7012800" y="360"/>
            <a:ext cx="2131200" cy="14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文本框 1"/>
          <p:cNvSpPr/>
          <p:nvPr/>
        </p:nvSpPr>
        <p:spPr>
          <a:xfrm>
            <a:off x="69840" y="181800"/>
            <a:ext cx="6343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实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直接连接符 4"/>
          <p:cNvCxnSpPr/>
          <p:nvPr/>
        </p:nvCxnSpPr>
        <p:spPr>
          <a:xfrm flipH="1" flipV="1">
            <a:off x="734760" y="-8280"/>
            <a:ext cx="10440" cy="876240"/>
          </a:xfrm>
          <a:prstGeom prst="straightConnector1">
            <a:avLst/>
          </a:prstGeom>
          <a:ln w="34925">
            <a:solidFill>
              <a:srgbClr val="babd3d"/>
            </a:solidFill>
          </a:ln>
        </p:spPr>
      </p:cxnSp>
      <p:sp>
        <p:nvSpPr>
          <p:cNvPr id="622" name="文本框 6"/>
          <p:cNvSpPr/>
          <p:nvPr/>
        </p:nvSpPr>
        <p:spPr>
          <a:xfrm>
            <a:off x="822600" y="358560"/>
            <a:ext cx="1337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例文点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直接连接符 7"/>
          <p:cNvCxnSpPr/>
          <p:nvPr/>
        </p:nvCxnSpPr>
        <p:spPr>
          <a:xfrm>
            <a:off x="978120" y="634680"/>
            <a:ext cx="444600" cy="360"/>
          </a:xfrm>
          <a:prstGeom prst="straightConnector1">
            <a:avLst/>
          </a:prstGeom>
          <a:ln w="34925">
            <a:solidFill>
              <a:srgbClr val="babd3d"/>
            </a:solidFill>
          </a:ln>
        </p:spPr>
      </p:cxnSp>
      <p:sp>
        <p:nvSpPr>
          <p:cNvPr id="624" name="文本框 8"/>
          <p:cNvSpPr/>
          <p:nvPr/>
        </p:nvSpPr>
        <p:spPr>
          <a:xfrm>
            <a:off x="657720" y="1417680"/>
            <a:ext cx="614124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张飞：诸葛亮不过一个村夫，值得大哥你亲自去请吗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   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叫个人来把他绑来不就行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（……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右箭头 10"/>
          <p:cNvSpPr/>
          <p:nvPr/>
        </p:nvSpPr>
        <p:spPr>
          <a:xfrm>
            <a:off x="735840" y="2962800"/>
            <a:ext cx="418320" cy="2343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626" name="文本框 11"/>
          <p:cNvSpPr/>
          <p:nvPr/>
        </p:nvSpPr>
        <p:spPr>
          <a:xfrm>
            <a:off x="1180800" y="2843280"/>
            <a:ext cx="3794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1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张飞的语言设计十分符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人物的性格特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图片 12" descr="ed67296d3b5f9a1726a478d64557f2b8"/>
          <p:cNvPicPr/>
          <p:nvPr/>
        </p:nvPicPr>
        <p:blipFill>
          <a:blip r:embed="rId1"/>
          <a:stretch/>
        </p:blipFill>
        <p:spPr>
          <a:xfrm>
            <a:off x="6445080" y="1122480"/>
            <a:ext cx="22546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文本框 1"/>
          <p:cNvSpPr/>
          <p:nvPr/>
        </p:nvSpPr>
        <p:spPr>
          <a:xfrm>
            <a:off x="69840" y="181800"/>
            <a:ext cx="6343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实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9" name="直接连接符 4"/>
          <p:cNvCxnSpPr/>
          <p:nvPr/>
        </p:nvCxnSpPr>
        <p:spPr>
          <a:xfrm flipH="1" flipV="1">
            <a:off x="734760" y="-8280"/>
            <a:ext cx="10440" cy="876240"/>
          </a:xfrm>
          <a:prstGeom prst="straightConnector1">
            <a:avLst/>
          </a:prstGeom>
          <a:ln w="34925">
            <a:solidFill>
              <a:srgbClr val="babd3d"/>
            </a:solidFill>
          </a:ln>
        </p:spPr>
      </p:cxnSp>
      <p:sp>
        <p:nvSpPr>
          <p:cNvPr id="630" name="文本框 6"/>
          <p:cNvSpPr/>
          <p:nvPr/>
        </p:nvSpPr>
        <p:spPr>
          <a:xfrm>
            <a:off x="822600" y="358560"/>
            <a:ext cx="1337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例文点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直接连接符 7"/>
          <p:cNvCxnSpPr/>
          <p:nvPr/>
        </p:nvCxnSpPr>
        <p:spPr>
          <a:xfrm>
            <a:off x="978120" y="634680"/>
            <a:ext cx="444600" cy="360"/>
          </a:xfrm>
          <a:prstGeom prst="straightConnector1">
            <a:avLst/>
          </a:prstGeom>
          <a:ln w="34925">
            <a:solidFill>
              <a:srgbClr val="babd3d"/>
            </a:solidFill>
          </a:ln>
        </p:spPr>
      </p:cxnSp>
      <p:sp>
        <p:nvSpPr>
          <p:cNvPr id="632" name="文本框 8"/>
          <p:cNvSpPr/>
          <p:nvPr/>
        </p:nvSpPr>
        <p:spPr>
          <a:xfrm>
            <a:off x="653400" y="1339200"/>
            <a:ext cx="877248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关羽：大哥，这人如此傲慢，我看他是无德无才，不值得您在这儿浪费时间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          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还是快快回去吧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3"/>
          <p:cNvSpPr/>
          <p:nvPr/>
        </p:nvSpPr>
        <p:spPr>
          <a:xfrm>
            <a:off x="655200" y="2094480"/>
            <a:ext cx="67827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9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刘备：连徐庶都自叹不如，必定是有真才实学之人，你不必多说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          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和三弟做伴去吧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（……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右箭头 10"/>
          <p:cNvSpPr/>
          <p:nvPr/>
        </p:nvSpPr>
        <p:spPr>
          <a:xfrm>
            <a:off x="734760" y="3348360"/>
            <a:ext cx="418320" cy="2343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635" name="文本框 11"/>
          <p:cNvSpPr/>
          <p:nvPr/>
        </p:nvSpPr>
        <p:spPr>
          <a:xfrm>
            <a:off x="1184760" y="3228480"/>
            <a:ext cx="443772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1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刘备锲而不舍的精神与原著相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图片 9" descr="3344556775"/>
          <p:cNvPicPr/>
          <p:nvPr/>
        </p:nvPicPr>
        <p:blipFill>
          <a:blip r:embed="rId1"/>
          <a:stretch/>
        </p:blipFill>
        <p:spPr>
          <a:xfrm>
            <a:off x="7176240" y="2361600"/>
            <a:ext cx="1967400" cy="288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文本框 1"/>
          <p:cNvSpPr/>
          <p:nvPr/>
        </p:nvSpPr>
        <p:spPr>
          <a:xfrm>
            <a:off x="69840" y="181800"/>
            <a:ext cx="6343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实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直接连接符 4"/>
          <p:cNvCxnSpPr/>
          <p:nvPr/>
        </p:nvCxnSpPr>
        <p:spPr>
          <a:xfrm flipH="1" flipV="1">
            <a:off x="734760" y="-8280"/>
            <a:ext cx="10440" cy="876240"/>
          </a:xfrm>
          <a:prstGeom prst="straightConnector1">
            <a:avLst/>
          </a:prstGeom>
          <a:ln w="34925">
            <a:solidFill>
              <a:srgbClr val="babd3d"/>
            </a:solidFill>
          </a:ln>
        </p:spPr>
      </p:cxnSp>
      <p:sp>
        <p:nvSpPr>
          <p:cNvPr id="639" name="文本框 6"/>
          <p:cNvSpPr/>
          <p:nvPr/>
        </p:nvSpPr>
        <p:spPr>
          <a:xfrm>
            <a:off x="822600" y="358560"/>
            <a:ext cx="1337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例文点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0" name="直接连接符 7"/>
          <p:cNvCxnSpPr/>
          <p:nvPr/>
        </p:nvCxnSpPr>
        <p:spPr>
          <a:xfrm>
            <a:off x="978120" y="634680"/>
            <a:ext cx="444600" cy="360"/>
          </a:xfrm>
          <a:prstGeom prst="straightConnector1">
            <a:avLst/>
          </a:prstGeom>
          <a:ln w="34925">
            <a:solidFill>
              <a:srgbClr val="babd3d"/>
            </a:solidFill>
          </a:ln>
        </p:spPr>
      </p:cxnSp>
      <p:sp>
        <p:nvSpPr>
          <p:cNvPr id="641" name="文本框 8"/>
          <p:cNvSpPr/>
          <p:nvPr/>
        </p:nvSpPr>
        <p:spPr>
          <a:xfrm>
            <a:off x="684360" y="1302480"/>
            <a:ext cx="771588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1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刘备：听君一席话，胜读十年书，真令我有如茅塞顿开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          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先生这样的人才，怎么忍心看内奸当道，更有生灵涂炭，百姓受苦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          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愿先生助我振兴汉室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（哭泣，下跪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（……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右箭头 10"/>
          <p:cNvSpPr/>
          <p:nvPr/>
        </p:nvSpPr>
        <p:spPr>
          <a:xfrm>
            <a:off x="734760" y="3348360"/>
            <a:ext cx="418320" cy="2343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643" name="文本框 11"/>
          <p:cNvSpPr/>
          <p:nvPr/>
        </p:nvSpPr>
        <p:spPr>
          <a:xfrm>
            <a:off x="1171080" y="3125520"/>
            <a:ext cx="740232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1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刘备的哭和下跪设计得合情合理，符合人物的性格，也表现了刘备的诚意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图片 5" descr="43b0b666162d5091e99408233c672738"/>
          <p:cNvPicPr/>
          <p:nvPr/>
        </p:nvPicPr>
        <p:blipFill>
          <a:blip r:embed="rId1"/>
          <a:stretch/>
        </p:blipFill>
        <p:spPr>
          <a:xfrm rot="10800000">
            <a:off x="7561440" y="-8280"/>
            <a:ext cx="1582560" cy="1747080"/>
          </a:xfrm>
          <a:prstGeom prst="rect">
            <a:avLst/>
          </a:prstGeom>
          <a:ln w="0">
            <a:noFill/>
          </a:ln>
        </p:spPr>
      </p:pic>
      <p:pic>
        <p:nvPicPr>
          <p:cNvPr id="645" name="图片 15" descr="43b0b666162d5091e99408233c672738"/>
          <p:cNvPicPr/>
          <p:nvPr/>
        </p:nvPicPr>
        <p:blipFill>
          <a:blip r:embed="rId2"/>
          <a:stretch/>
        </p:blipFill>
        <p:spPr>
          <a:xfrm flipH="1" rot="10800000">
            <a:off x="-49680" y="3696120"/>
            <a:ext cx="871200" cy="109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图片 9" descr="timg"/>
          <p:cNvPicPr/>
          <p:nvPr/>
        </p:nvPicPr>
        <p:blipFill>
          <a:blip r:embed="rId1"/>
          <a:stretch/>
        </p:blipFill>
        <p:spPr>
          <a:xfrm flipH="1">
            <a:off x="360" y="32040"/>
            <a:ext cx="1862640" cy="101988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85120" y="375120"/>
            <a:ext cx="1851480" cy="522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24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课堂小结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cxnSp>
        <p:nvCxnSpPr>
          <p:cNvPr id="648" name="直接连接符 5"/>
          <p:cNvCxnSpPr/>
          <p:nvPr/>
        </p:nvCxnSpPr>
        <p:spPr>
          <a:xfrm>
            <a:off x="285120" y="809280"/>
            <a:ext cx="8859240" cy="360"/>
          </a:xfrm>
          <a:prstGeom prst="straightConnector1">
            <a:avLst/>
          </a:prstGeom>
          <a:ln w="22225">
            <a:solidFill>
              <a:srgbClr val="babd3d"/>
            </a:solidFill>
          </a:ln>
        </p:spPr>
      </p:cxnSp>
      <p:sp>
        <p:nvSpPr>
          <p:cNvPr id="649" name="文本框 11"/>
          <p:cNvSpPr/>
          <p:nvPr/>
        </p:nvSpPr>
        <p:spPr>
          <a:xfrm>
            <a:off x="1447920" y="1979640"/>
            <a:ext cx="14378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改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右大括号 13"/>
          <p:cNvSpPr/>
          <p:nvPr/>
        </p:nvSpPr>
        <p:spPr>
          <a:xfrm flipH="1">
            <a:off x="2728800" y="1386000"/>
            <a:ext cx="321120" cy="2358360"/>
          </a:xfrm>
          <a:prstGeom prst="rightBrace">
            <a:avLst>
              <a:gd name="adj1" fmla="val 8333"/>
              <a:gd name="adj2" fmla="val 40114"/>
            </a:avLst>
          </a:prstGeom>
          <a:noFill/>
          <a:ln w="19050">
            <a:solidFill>
              <a:srgbClr val="babd3d">
                <a:lumMod val="50000"/>
              </a:srgbClr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1" name="文本框 1"/>
          <p:cNvSpPr/>
          <p:nvPr/>
        </p:nvSpPr>
        <p:spPr>
          <a:xfrm>
            <a:off x="2955960" y="1182600"/>
            <a:ext cx="3109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改写的常见形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文本框 4"/>
          <p:cNvSpPr/>
          <p:nvPr/>
        </p:nvSpPr>
        <p:spPr>
          <a:xfrm>
            <a:off x="3058920" y="2300400"/>
            <a:ext cx="29070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改写的基本要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7"/>
          <p:cNvSpPr/>
          <p:nvPr/>
        </p:nvSpPr>
        <p:spPr>
          <a:xfrm>
            <a:off x="3076200" y="3428640"/>
            <a:ext cx="43560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改写的一般方法和步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timg (3)"/>
          <p:cNvPicPr/>
          <p:nvPr/>
        </p:nvPicPr>
        <p:blipFill>
          <a:blip r:embed="rId2"/>
          <a:stretch/>
        </p:blipFill>
        <p:spPr>
          <a:xfrm>
            <a:off x="410400" y="1193040"/>
            <a:ext cx="1129680" cy="119700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29" descr="timg (1)"/>
          <p:cNvPicPr/>
          <p:nvPr/>
        </p:nvPicPr>
        <p:blipFill>
          <a:blip r:embed="rId3"/>
          <a:stretch/>
        </p:blipFill>
        <p:spPr>
          <a:xfrm>
            <a:off x="6954840" y="3413160"/>
            <a:ext cx="2188800" cy="17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图片 2" descr="timg"/>
          <p:cNvPicPr/>
          <p:nvPr/>
        </p:nvPicPr>
        <p:blipFill>
          <a:blip r:embed="rId1"/>
          <a:stretch/>
        </p:blipFill>
        <p:spPr>
          <a:xfrm flipH="1">
            <a:off x="4320" y="-13680"/>
            <a:ext cx="2576160" cy="141012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47320" y="230400"/>
            <a:ext cx="1946880" cy="6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21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教学目标：</a:t>
            </a:r>
            <a:endParaRPr b="0" lang="en-US" sz="21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1" name="任意多边形 49"/>
          <p:cNvSpPr/>
          <p:nvPr/>
        </p:nvSpPr>
        <p:spPr>
          <a:xfrm>
            <a:off x="824400" y="1560240"/>
            <a:ext cx="213480" cy="201960"/>
          </a:xfrm>
          <a:custGeom>
            <a:avLst/>
            <a:gdLst>
              <a:gd name="textAreaLeft" fmla="*/ 0 w 213480"/>
              <a:gd name="textAreaRight" fmla="*/ 213840 w 213480"/>
              <a:gd name="textAreaTop" fmla="*/ 0 h 201960"/>
              <a:gd name="textAreaBottom" fmla="*/ 202320 h 201960"/>
            </a:gdLst>
            <a:ahLst/>
            <a:rect l="textAreaLeft" t="textAreaTop" r="textAreaRight" b="textAreaBottom"/>
            <a:pathLst>
              <a:path w="800580" h="755406">
                <a:moveTo>
                  <a:pt x="697056" y="58976"/>
                </a:moveTo>
                <a:cubicBezTo>
                  <a:pt x="673147" y="58976"/>
                  <a:pt x="653765" y="76392"/>
                  <a:pt x="653765" y="97876"/>
                </a:cubicBezTo>
                <a:cubicBezTo>
                  <a:pt x="653765" y="119360"/>
                  <a:pt x="673147" y="136776"/>
                  <a:pt x="697056" y="136776"/>
                </a:cubicBezTo>
                <a:cubicBezTo>
                  <a:pt x="720965" y="136776"/>
                  <a:pt x="740347" y="119360"/>
                  <a:pt x="740347" y="97876"/>
                </a:cubicBezTo>
                <a:cubicBezTo>
                  <a:pt x="740347" y="76392"/>
                  <a:pt x="720965" y="58976"/>
                  <a:pt x="697056" y="58976"/>
                </a:cubicBezTo>
                <a:close/>
                <a:moveTo>
                  <a:pt x="400291" y="0"/>
                </a:moveTo>
                <a:lnTo>
                  <a:pt x="800580" y="0"/>
                </a:lnTo>
                <a:lnTo>
                  <a:pt x="800580" y="377703"/>
                </a:lnTo>
                <a:cubicBezTo>
                  <a:pt x="800580" y="586303"/>
                  <a:pt x="621364" y="755406"/>
                  <a:pt x="400290" y="755406"/>
                </a:cubicBezTo>
                <a:cubicBezTo>
                  <a:pt x="179216" y="755406"/>
                  <a:pt x="0" y="586303"/>
                  <a:pt x="0" y="377703"/>
                </a:cubicBezTo>
                <a:lnTo>
                  <a:pt x="1" y="377703"/>
                </a:lnTo>
                <a:cubicBezTo>
                  <a:pt x="1" y="169103"/>
                  <a:pt x="179217" y="0"/>
                  <a:pt x="400291" y="0"/>
                </a:cubicBez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2" name="直接连接符 5"/>
          <p:cNvCxnSpPr/>
          <p:nvPr/>
        </p:nvCxnSpPr>
        <p:spPr>
          <a:xfrm>
            <a:off x="246960" y="928080"/>
            <a:ext cx="8859240" cy="360"/>
          </a:xfrm>
          <a:prstGeom prst="straightConnector1">
            <a:avLst/>
          </a:prstGeom>
          <a:ln w="22225">
            <a:solidFill>
              <a:srgbClr val="babd3d"/>
            </a:solidFill>
          </a:ln>
        </p:spPr>
      </p:cxnSp>
      <p:graphicFrame>
        <p:nvGraphicFramePr>
          <p:cNvPr id="533" name="对象 7"/>
          <p:cNvGraphicFramePr/>
          <p:nvPr/>
        </p:nvGraphicFramePr>
        <p:xfrm>
          <a:off x="4229280" y="2490840"/>
          <a:ext cx="685440" cy="161640"/>
        </p:xfrm>
        <a:graphic>
          <a:graphicData uri="http://schemas.openxmlformats.org/presentationml/2006/ole">
            <p:oleObj progId="Equation.KSEE3" r:id="rId2" spid="">
              <p:embed/>
              <p:pic>
                <p:nvPicPr>
                  <p:cNvPr id="534" name="对象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29280" y="2490840"/>
                    <a:ext cx="685440" cy="16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任意多边形 11"/>
          <p:cNvSpPr/>
          <p:nvPr/>
        </p:nvSpPr>
        <p:spPr>
          <a:xfrm>
            <a:off x="824400" y="2632680"/>
            <a:ext cx="213480" cy="201960"/>
          </a:xfrm>
          <a:custGeom>
            <a:avLst/>
            <a:gdLst>
              <a:gd name="textAreaLeft" fmla="*/ 0 w 213480"/>
              <a:gd name="textAreaRight" fmla="*/ 213840 w 213480"/>
              <a:gd name="textAreaTop" fmla="*/ 0 h 201960"/>
              <a:gd name="textAreaBottom" fmla="*/ 202320 h 201960"/>
            </a:gdLst>
            <a:ahLst/>
            <a:rect l="textAreaLeft" t="textAreaTop" r="textAreaRight" b="textAreaBottom"/>
            <a:pathLst>
              <a:path w="800580" h="755406">
                <a:moveTo>
                  <a:pt x="697056" y="58976"/>
                </a:moveTo>
                <a:cubicBezTo>
                  <a:pt x="673147" y="58976"/>
                  <a:pt x="653765" y="76392"/>
                  <a:pt x="653765" y="97876"/>
                </a:cubicBezTo>
                <a:cubicBezTo>
                  <a:pt x="653765" y="119360"/>
                  <a:pt x="673147" y="136776"/>
                  <a:pt x="697056" y="136776"/>
                </a:cubicBezTo>
                <a:cubicBezTo>
                  <a:pt x="720965" y="136776"/>
                  <a:pt x="740347" y="119360"/>
                  <a:pt x="740347" y="97876"/>
                </a:cubicBezTo>
                <a:cubicBezTo>
                  <a:pt x="740347" y="76392"/>
                  <a:pt x="720965" y="58976"/>
                  <a:pt x="697056" y="58976"/>
                </a:cubicBezTo>
                <a:close/>
                <a:moveTo>
                  <a:pt x="400291" y="0"/>
                </a:moveTo>
                <a:lnTo>
                  <a:pt x="800580" y="0"/>
                </a:lnTo>
                <a:lnTo>
                  <a:pt x="800580" y="377703"/>
                </a:lnTo>
                <a:cubicBezTo>
                  <a:pt x="800580" y="586303"/>
                  <a:pt x="621364" y="755406"/>
                  <a:pt x="400290" y="755406"/>
                </a:cubicBezTo>
                <a:cubicBezTo>
                  <a:pt x="179216" y="755406"/>
                  <a:pt x="0" y="586303"/>
                  <a:pt x="0" y="377703"/>
                </a:cubicBezTo>
                <a:lnTo>
                  <a:pt x="1" y="377703"/>
                </a:lnTo>
                <a:cubicBezTo>
                  <a:pt x="1" y="169103"/>
                  <a:pt x="179217" y="0"/>
                  <a:pt x="400291" y="0"/>
                </a:cubicBezTo>
                <a:close/>
              </a:path>
            </a:pathLst>
          </a:custGeom>
          <a:solidFill>
            <a:srgbClr val="8b8e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任意多边形 12"/>
          <p:cNvSpPr/>
          <p:nvPr/>
        </p:nvSpPr>
        <p:spPr>
          <a:xfrm>
            <a:off x="824400" y="3658680"/>
            <a:ext cx="213480" cy="201960"/>
          </a:xfrm>
          <a:custGeom>
            <a:avLst/>
            <a:gdLst>
              <a:gd name="textAreaLeft" fmla="*/ 0 w 213480"/>
              <a:gd name="textAreaRight" fmla="*/ 213840 w 213480"/>
              <a:gd name="textAreaTop" fmla="*/ 0 h 201960"/>
              <a:gd name="textAreaBottom" fmla="*/ 202320 h 201960"/>
            </a:gdLst>
            <a:ahLst/>
            <a:rect l="textAreaLeft" t="textAreaTop" r="textAreaRight" b="textAreaBottom"/>
            <a:pathLst>
              <a:path w="800580" h="755406">
                <a:moveTo>
                  <a:pt x="697056" y="58976"/>
                </a:moveTo>
                <a:cubicBezTo>
                  <a:pt x="673147" y="58976"/>
                  <a:pt x="653765" y="76392"/>
                  <a:pt x="653765" y="97876"/>
                </a:cubicBezTo>
                <a:cubicBezTo>
                  <a:pt x="653765" y="119360"/>
                  <a:pt x="673147" y="136776"/>
                  <a:pt x="697056" y="136776"/>
                </a:cubicBezTo>
                <a:cubicBezTo>
                  <a:pt x="720965" y="136776"/>
                  <a:pt x="740347" y="119360"/>
                  <a:pt x="740347" y="97876"/>
                </a:cubicBezTo>
                <a:cubicBezTo>
                  <a:pt x="740347" y="76392"/>
                  <a:pt x="720965" y="58976"/>
                  <a:pt x="697056" y="58976"/>
                </a:cubicBezTo>
                <a:close/>
                <a:moveTo>
                  <a:pt x="400291" y="0"/>
                </a:moveTo>
                <a:lnTo>
                  <a:pt x="800580" y="0"/>
                </a:lnTo>
                <a:lnTo>
                  <a:pt x="800580" y="377703"/>
                </a:lnTo>
                <a:cubicBezTo>
                  <a:pt x="800580" y="586303"/>
                  <a:pt x="621364" y="755406"/>
                  <a:pt x="400290" y="755406"/>
                </a:cubicBezTo>
                <a:cubicBezTo>
                  <a:pt x="179216" y="755406"/>
                  <a:pt x="0" y="586303"/>
                  <a:pt x="0" y="377703"/>
                </a:cubicBezTo>
                <a:lnTo>
                  <a:pt x="1" y="377703"/>
                </a:lnTo>
                <a:cubicBezTo>
                  <a:pt x="1" y="169103"/>
                  <a:pt x="179217" y="0"/>
                  <a:pt x="400291" y="0"/>
                </a:cubicBez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文本框 6"/>
          <p:cNvSpPr/>
          <p:nvPr/>
        </p:nvSpPr>
        <p:spPr>
          <a:xfrm>
            <a:off x="1285560" y="2477520"/>
            <a:ext cx="61110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1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学会根据原文主题内容进行恰当的联想和想象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避免偏离主题太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3"/>
          <p:cNvSpPr/>
          <p:nvPr/>
        </p:nvSpPr>
        <p:spPr>
          <a:xfrm>
            <a:off x="1285560" y="1418400"/>
            <a:ext cx="7540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1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学习改写的要领，注意把握主题，做到详略得当、语言得体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适当运用修辞手法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4"/>
          <p:cNvSpPr/>
          <p:nvPr/>
        </p:nvSpPr>
        <p:spPr>
          <a:xfrm>
            <a:off x="1285560" y="3536640"/>
            <a:ext cx="61110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1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通过改写，加深对原文的理解，培养创新能力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文本框 5"/>
          <p:cNvSpPr/>
          <p:nvPr/>
        </p:nvSpPr>
        <p:spPr>
          <a:xfrm>
            <a:off x="3695400" y="607680"/>
            <a:ext cx="114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1" name="文本框 8"/>
          <p:cNvSpPr/>
          <p:nvPr/>
        </p:nvSpPr>
        <p:spPr>
          <a:xfrm>
            <a:off x="69840" y="181800"/>
            <a:ext cx="63432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学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诊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直接连接符 9"/>
          <p:cNvCxnSpPr/>
          <p:nvPr/>
        </p:nvCxnSpPr>
        <p:spPr>
          <a:xfrm flipH="1" flipV="1">
            <a:off x="734760" y="-8280"/>
            <a:ext cx="10440" cy="876240"/>
          </a:xfrm>
          <a:prstGeom prst="straightConnector1">
            <a:avLst/>
          </a:prstGeom>
          <a:ln w="34925">
            <a:solidFill>
              <a:srgbClr val="babd3d"/>
            </a:solidFill>
          </a:ln>
        </p:spPr>
      </p:cxnSp>
      <p:sp>
        <p:nvSpPr>
          <p:cNvPr id="543" name="文本框 10"/>
          <p:cNvSpPr/>
          <p:nvPr/>
        </p:nvSpPr>
        <p:spPr>
          <a:xfrm>
            <a:off x="822600" y="358560"/>
            <a:ext cx="839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导入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直接连接符 18"/>
          <p:cNvCxnSpPr/>
          <p:nvPr/>
        </p:nvCxnSpPr>
        <p:spPr>
          <a:xfrm>
            <a:off x="1012320" y="634680"/>
            <a:ext cx="459360" cy="4320"/>
          </a:xfrm>
          <a:prstGeom prst="straightConnector1">
            <a:avLst/>
          </a:prstGeom>
          <a:ln w="34925">
            <a:solidFill>
              <a:srgbClr val="babd3d"/>
            </a:solidFill>
          </a:ln>
        </p:spPr>
      </p:cxnSp>
      <p:pic>
        <p:nvPicPr>
          <p:cNvPr id="545" name="图片 1" descr="c255c1c2b1eedb9292cd17b5c9b4c2c3"/>
          <p:cNvPicPr/>
          <p:nvPr/>
        </p:nvPicPr>
        <p:blipFill>
          <a:blip r:embed="rId1"/>
          <a:stretch/>
        </p:blipFill>
        <p:spPr>
          <a:xfrm>
            <a:off x="5096880" y="911160"/>
            <a:ext cx="3081960" cy="3025080"/>
          </a:xfrm>
          <a:prstGeom prst="rect">
            <a:avLst/>
          </a:prstGeom>
          <a:ln w="0">
            <a:noFill/>
          </a:ln>
        </p:spPr>
      </p:pic>
      <p:sp>
        <p:nvSpPr>
          <p:cNvPr id="546" name="文本框 2"/>
          <p:cNvSpPr/>
          <p:nvPr/>
        </p:nvSpPr>
        <p:spPr>
          <a:xfrm>
            <a:off x="1083600" y="1259280"/>
            <a:ext cx="3777840" cy="15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4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如果菲利浦夫妇在船上遇到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已成为百万富翁的于勒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故事会如何发展呢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如果范进就此疯掉了治不好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那一众人会如何表现呢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文本框 8"/>
          <p:cNvSpPr/>
          <p:nvPr/>
        </p:nvSpPr>
        <p:spPr>
          <a:xfrm>
            <a:off x="69840" y="181800"/>
            <a:ext cx="6343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形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8" name="直接连接符 9"/>
          <p:cNvCxnSpPr/>
          <p:nvPr/>
        </p:nvCxnSpPr>
        <p:spPr>
          <a:xfrm flipH="1" flipV="1">
            <a:off x="734760" y="-8280"/>
            <a:ext cx="10440" cy="876240"/>
          </a:xfrm>
          <a:prstGeom prst="straightConnector1">
            <a:avLst/>
          </a:prstGeom>
          <a:ln w="34925">
            <a:solidFill>
              <a:srgbClr val="babd3d"/>
            </a:solidFill>
          </a:ln>
        </p:spPr>
      </p:cxnSp>
      <p:cxnSp>
        <p:nvCxnSpPr>
          <p:cNvPr id="549" name="直接连接符 18"/>
          <p:cNvCxnSpPr/>
          <p:nvPr/>
        </p:nvCxnSpPr>
        <p:spPr>
          <a:xfrm>
            <a:off x="1006200" y="634680"/>
            <a:ext cx="742320" cy="9000"/>
          </a:xfrm>
          <a:prstGeom prst="straightConnector1">
            <a:avLst/>
          </a:prstGeom>
          <a:ln w="34925">
            <a:solidFill>
              <a:srgbClr val="babd3d"/>
            </a:solidFill>
          </a:ln>
        </p:spPr>
      </p:cxnSp>
      <p:sp>
        <p:nvSpPr>
          <p:cNvPr id="550" name="文本框 12"/>
          <p:cNvSpPr/>
          <p:nvPr/>
        </p:nvSpPr>
        <p:spPr>
          <a:xfrm>
            <a:off x="905040" y="347040"/>
            <a:ext cx="10029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什么是改写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1"/>
          <p:cNvSpPr/>
          <p:nvPr/>
        </p:nvSpPr>
        <p:spPr>
          <a:xfrm>
            <a:off x="641880" y="2048400"/>
            <a:ext cx="14378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改写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1"/>
          <p:cNvSpPr/>
          <p:nvPr/>
        </p:nvSpPr>
        <p:spPr>
          <a:xfrm>
            <a:off x="2589480" y="1229760"/>
            <a:ext cx="6165720" cy="15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4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就是忠于原作内容的基础上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通过改变问题、语体和叙述角度等，进行“再创作”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以服务于特定的需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改写有助于培养文体知识，提高写作能力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还有助于更深入地把握原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直接连接符 19"/>
          <p:cNvCxnSpPr/>
          <p:nvPr/>
        </p:nvCxnSpPr>
        <p:spPr>
          <a:xfrm>
            <a:off x="2194560" y="997560"/>
            <a:ext cx="360" cy="2793600"/>
          </a:xfrm>
          <a:prstGeom prst="straightConnector1">
            <a:avLst/>
          </a:prstGeom>
          <a:ln w="25400">
            <a:solidFill>
              <a:srgbClr val="babd3d">
                <a:lumMod val="50000"/>
              </a:srgbClr>
            </a:solidFill>
            <a:prstDash val="lgDash"/>
          </a:ln>
        </p:spPr>
      </p:cxnSp>
      <p:pic>
        <p:nvPicPr>
          <p:cNvPr id="554" name="图片 21" descr="c61a035239fc37c83a42049ca8667228"/>
          <p:cNvPicPr/>
          <p:nvPr/>
        </p:nvPicPr>
        <p:blipFill>
          <a:blip r:embed="rId1"/>
          <a:stretch/>
        </p:blipFill>
        <p:spPr>
          <a:xfrm>
            <a:off x="1310040" y="2828520"/>
            <a:ext cx="807480" cy="65736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26" descr="c61a035239fc37c83a42049ca8667228"/>
          <p:cNvPicPr/>
          <p:nvPr/>
        </p:nvPicPr>
        <p:blipFill>
          <a:blip r:embed="rId2"/>
          <a:stretch/>
        </p:blipFill>
        <p:spPr>
          <a:xfrm rot="17640000">
            <a:off x="7446960" y="3154680"/>
            <a:ext cx="2412000" cy="16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矩形 15"/>
          <p:cNvSpPr/>
          <p:nvPr/>
        </p:nvSpPr>
        <p:spPr>
          <a:xfrm>
            <a:off x="1027440" y="1642680"/>
            <a:ext cx="741240" cy="134856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57" name="文本框 8"/>
          <p:cNvSpPr/>
          <p:nvPr/>
        </p:nvSpPr>
        <p:spPr>
          <a:xfrm>
            <a:off x="69840" y="181800"/>
            <a:ext cx="6343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形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8" name="直接连接符 9"/>
          <p:cNvCxnSpPr/>
          <p:nvPr/>
        </p:nvCxnSpPr>
        <p:spPr>
          <a:xfrm flipH="1" flipV="1">
            <a:off x="734760" y="-8280"/>
            <a:ext cx="10440" cy="876240"/>
          </a:xfrm>
          <a:prstGeom prst="straightConnector1">
            <a:avLst/>
          </a:prstGeom>
          <a:ln w="34925">
            <a:solidFill>
              <a:srgbClr val="babd3d"/>
            </a:solidFill>
          </a:ln>
        </p:spPr>
      </p:cxnSp>
      <p:cxnSp>
        <p:nvCxnSpPr>
          <p:cNvPr id="559" name="直接连接符 18"/>
          <p:cNvCxnSpPr/>
          <p:nvPr/>
        </p:nvCxnSpPr>
        <p:spPr>
          <a:xfrm>
            <a:off x="1006200" y="634680"/>
            <a:ext cx="742320" cy="9000"/>
          </a:xfrm>
          <a:prstGeom prst="straightConnector1">
            <a:avLst/>
          </a:prstGeom>
          <a:ln w="34925">
            <a:solidFill>
              <a:srgbClr val="babd3d"/>
            </a:solidFill>
          </a:ln>
        </p:spPr>
      </p:cxnSp>
      <p:sp>
        <p:nvSpPr>
          <p:cNvPr id="560" name="文本框 12"/>
          <p:cNvSpPr/>
          <p:nvPr/>
        </p:nvSpPr>
        <p:spPr>
          <a:xfrm>
            <a:off x="744840" y="327240"/>
            <a:ext cx="15426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改写的常见形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"/>
          <p:cNvSpPr/>
          <p:nvPr/>
        </p:nvSpPr>
        <p:spPr>
          <a:xfrm>
            <a:off x="481320" y="1784520"/>
            <a:ext cx="1832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改写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常见形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3"/>
          <p:cNvSpPr/>
          <p:nvPr/>
        </p:nvSpPr>
        <p:spPr>
          <a:xfrm>
            <a:off x="2579040" y="603360"/>
            <a:ext cx="50137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1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改变人称，如把第一人称改为第三人称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或把第三人称改为第一人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2"/>
          <p:cNvSpPr/>
          <p:nvPr/>
        </p:nvSpPr>
        <p:spPr>
          <a:xfrm>
            <a:off x="2579040" y="2617920"/>
            <a:ext cx="50137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1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改变文章的体裁，如把诗歌改写成散文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将小说改写成剧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4"/>
          <p:cNvSpPr/>
          <p:nvPr/>
        </p:nvSpPr>
        <p:spPr>
          <a:xfrm>
            <a:off x="2579040" y="1610640"/>
            <a:ext cx="5236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1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改变语体，如将文言文改写成现代白话文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把书面语改成口语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5"/>
          <p:cNvSpPr/>
          <p:nvPr/>
        </p:nvSpPr>
        <p:spPr>
          <a:xfrm>
            <a:off x="2579040" y="3625200"/>
            <a:ext cx="54090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1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改变结构，如将顺叙改为倒叙、插叙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或重新组织材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文本框 8"/>
          <p:cNvSpPr/>
          <p:nvPr/>
        </p:nvSpPr>
        <p:spPr>
          <a:xfrm>
            <a:off x="69840" y="181800"/>
            <a:ext cx="6343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形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7" name="直接连接符 9"/>
          <p:cNvCxnSpPr/>
          <p:nvPr/>
        </p:nvCxnSpPr>
        <p:spPr>
          <a:xfrm flipH="1" flipV="1">
            <a:off x="734760" y="-8280"/>
            <a:ext cx="10440" cy="876240"/>
          </a:xfrm>
          <a:prstGeom prst="straightConnector1">
            <a:avLst/>
          </a:prstGeom>
          <a:ln w="34925">
            <a:solidFill>
              <a:srgbClr val="babd3d"/>
            </a:solidFill>
          </a:ln>
        </p:spPr>
      </p:cxnSp>
      <p:cxnSp>
        <p:nvCxnSpPr>
          <p:cNvPr id="568" name="直接连接符 18"/>
          <p:cNvCxnSpPr/>
          <p:nvPr/>
        </p:nvCxnSpPr>
        <p:spPr>
          <a:xfrm>
            <a:off x="1006200" y="634680"/>
            <a:ext cx="742320" cy="9000"/>
          </a:xfrm>
          <a:prstGeom prst="straightConnector1">
            <a:avLst/>
          </a:prstGeom>
          <a:ln w="34925">
            <a:solidFill>
              <a:srgbClr val="babd3d"/>
            </a:solidFill>
          </a:ln>
        </p:spPr>
      </p:cxnSp>
      <p:sp>
        <p:nvSpPr>
          <p:cNvPr id="569" name="文本框 12"/>
          <p:cNvSpPr/>
          <p:nvPr/>
        </p:nvSpPr>
        <p:spPr>
          <a:xfrm>
            <a:off x="744840" y="327240"/>
            <a:ext cx="15426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改写的基本要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文本框 1"/>
          <p:cNvSpPr/>
          <p:nvPr/>
        </p:nvSpPr>
        <p:spPr>
          <a:xfrm>
            <a:off x="2906640" y="521640"/>
            <a:ext cx="25509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改写的基本要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3"/>
          <p:cNvSpPr/>
          <p:nvPr/>
        </p:nvSpPr>
        <p:spPr>
          <a:xfrm>
            <a:off x="687600" y="1312560"/>
            <a:ext cx="8220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改写后的文章不能出现与原文不一致的中心思想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要抓住原文的中心思想和重点部分，确定其取舍、详略和结构安排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2" name="直接连接符 17"/>
          <p:cNvCxnSpPr/>
          <p:nvPr/>
        </p:nvCxnSpPr>
        <p:spPr>
          <a:xfrm>
            <a:off x="2863080" y="1087920"/>
            <a:ext cx="2638440" cy="360"/>
          </a:xfrm>
          <a:prstGeom prst="straightConnector1">
            <a:avLst/>
          </a:prstGeom>
          <a:ln w="34925">
            <a:solidFill>
              <a:srgbClr val="babd3d">
                <a:lumMod val="50000"/>
              </a:srgbClr>
            </a:solidFill>
          </a:ln>
        </p:spPr>
      </p:cxnSp>
      <p:sp>
        <p:nvSpPr>
          <p:cNvPr id="573" name="文本框 2"/>
          <p:cNvSpPr/>
          <p:nvPr/>
        </p:nvSpPr>
        <p:spPr>
          <a:xfrm>
            <a:off x="687600" y="2209680"/>
            <a:ext cx="64051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要处理好原文和改写文的关系，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既要符合原文的意思，又应加上自己的理解和想象；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借助联想又不凭空乱想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文本框 5"/>
          <p:cNvSpPr/>
          <p:nvPr/>
        </p:nvSpPr>
        <p:spPr>
          <a:xfrm>
            <a:off x="650160" y="3494880"/>
            <a:ext cx="8017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要处理好不同体裁、不同写法的关系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既要保持原文的精彩之处，又应符合新体裁、新写法的要求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图片 16" descr="fa99bb4a5bfee0b21bea742a6dcd49e6"/>
          <p:cNvPicPr/>
          <p:nvPr/>
        </p:nvPicPr>
        <p:blipFill>
          <a:blip r:embed="rId1"/>
          <a:stretch/>
        </p:blipFill>
        <p:spPr>
          <a:xfrm flipH="1">
            <a:off x="6849000" y="-420840"/>
            <a:ext cx="22950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文本框 8"/>
          <p:cNvSpPr/>
          <p:nvPr/>
        </p:nvSpPr>
        <p:spPr>
          <a:xfrm>
            <a:off x="69840" y="181800"/>
            <a:ext cx="6343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形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直接连接符 9"/>
          <p:cNvCxnSpPr/>
          <p:nvPr/>
        </p:nvCxnSpPr>
        <p:spPr>
          <a:xfrm flipH="1" flipV="1">
            <a:off x="734760" y="-8280"/>
            <a:ext cx="10440" cy="876240"/>
          </a:xfrm>
          <a:prstGeom prst="straightConnector1">
            <a:avLst/>
          </a:prstGeom>
          <a:ln w="34925">
            <a:solidFill>
              <a:srgbClr val="babd3d"/>
            </a:solidFill>
          </a:ln>
        </p:spPr>
      </p:cxnSp>
      <p:cxnSp>
        <p:nvCxnSpPr>
          <p:cNvPr id="578" name="直接连接符 18"/>
          <p:cNvCxnSpPr/>
          <p:nvPr/>
        </p:nvCxnSpPr>
        <p:spPr>
          <a:xfrm>
            <a:off x="1006200" y="634680"/>
            <a:ext cx="742320" cy="9000"/>
          </a:xfrm>
          <a:prstGeom prst="straightConnector1">
            <a:avLst/>
          </a:prstGeom>
          <a:ln w="34925">
            <a:solidFill>
              <a:srgbClr val="babd3d"/>
            </a:solidFill>
          </a:ln>
        </p:spPr>
      </p:cxnSp>
      <p:sp>
        <p:nvSpPr>
          <p:cNvPr id="579" name="文本框 12"/>
          <p:cNvSpPr/>
          <p:nvPr/>
        </p:nvSpPr>
        <p:spPr>
          <a:xfrm>
            <a:off x="744840" y="347040"/>
            <a:ext cx="15426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改写的方法和步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1"/>
          <p:cNvSpPr/>
          <p:nvPr/>
        </p:nvSpPr>
        <p:spPr>
          <a:xfrm>
            <a:off x="644760" y="1697040"/>
            <a:ext cx="153000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改写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一般方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和步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3"/>
          <p:cNvSpPr/>
          <p:nvPr/>
        </p:nvSpPr>
        <p:spPr>
          <a:xfrm>
            <a:off x="2766960" y="1009800"/>
            <a:ext cx="271764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1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明确改写要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2"/>
          <p:cNvSpPr/>
          <p:nvPr/>
        </p:nvSpPr>
        <p:spPr>
          <a:xfrm>
            <a:off x="2789280" y="1405800"/>
            <a:ext cx="593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要想把改写文章写好，必须认真审清改写的要求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明确改写后的文章与原文有什么不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5"/>
          <p:cNvSpPr/>
          <p:nvPr/>
        </p:nvSpPr>
        <p:spPr>
          <a:xfrm>
            <a:off x="2771280" y="2352240"/>
            <a:ext cx="17460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1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读懂原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6"/>
          <p:cNvSpPr/>
          <p:nvPr/>
        </p:nvSpPr>
        <p:spPr>
          <a:xfrm>
            <a:off x="2772360" y="2835720"/>
            <a:ext cx="6905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虽然改写是一种“再创作”，但又必须忠实于原文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不能把原文改得面目全非，随意增删大量的内容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那样改弦更辙也是不符合改写要求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右大括号 13"/>
          <p:cNvSpPr/>
          <p:nvPr/>
        </p:nvSpPr>
        <p:spPr>
          <a:xfrm flipH="1">
            <a:off x="2365200" y="1383480"/>
            <a:ext cx="321120" cy="2375640"/>
          </a:xfrm>
          <a:prstGeom prst="rightBrace">
            <a:avLst>
              <a:gd name="adj1" fmla="val 8333"/>
              <a:gd name="adj2" fmla="val 40114"/>
            </a:avLst>
          </a:prstGeom>
          <a:noFill/>
          <a:ln w="25400">
            <a:solidFill>
              <a:srgbClr val="babd3d">
                <a:lumMod val="50000"/>
              </a:srgbClr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586" name="图片 7" descr="6d5cde883c7ca842d804ebcc2cebf3af"/>
          <p:cNvPicPr/>
          <p:nvPr/>
        </p:nvPicPr>
        <p:blipFill>
          <a:blip r:embed="rId1"/>
          <a:stretch/>
        </p:blipFill>
        <p:spPr>
          <a:xfrm flipH="1">
            <a:off x="360" y="3399480"/>
            <a:ext cx="7858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文本框 8"/>
          <p:cNvSpPr/>
          <p:nvPr/>
        </p:nvSpPr>
        <p:spPr>
          <a:xfrm>
            <a:off x="2305440" y="967320"/>
            <a:ext cx="45327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1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讲究改写方法，展开合理想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10"/>
          <p:cNvSpPr/>
          <p:nvPr/>
        </p:nvSpPr>
        <p:spPr>
          <a:xfrm>
            <a:off x="2634840" y="1373040"/>
            <a:ext cx="37368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（以将诗歌改写成记叙文为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12"/>
          <p:cNvSpPr/>
          <p:nvPr/>
        </p:nvSpPr>
        <p:spPr>
          <a:xfrm>
            <a:off x="418680" y="1955880"/>
            <a:ext cx="2763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）把握文章的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思想，展开合理的想象和联想，进行巧妙构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13"/>
          <p:cNvSpPr/>
          <p:nvPr/>
        </p:nvSpPr>
        <p:spPr>
          <a:xfrm>
            <a:off x="6241320" y="1960200"/>
            <a:ext cx="2568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）改写要有扩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和缩写的基本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14"/>
          <p:cNvSpPr/>
          <p:nvPr/>
        </p:nvSpPr>
        <p:spPr>
          <a:xfrm>
            <a:off x="3484080" y="1960200"/>
            <a:ext cx="231660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）要对原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做大量的情节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细节的增补工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15"/>
          <p:cNvSpPr/>
          <p:nvPr/>
        </p:nvSpPr>
        <p:spPr>
          <a:xfrm>
            <a:off x="69840" y="181800"/>
            <a:ext cx="6343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形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3" name="直接连接符 16"/>
          <p:cNvCxnSpPr/>
          <p:nvPr/>
        </p:nvCxnSpPr>
        <p:spPr>
          <a:xfrm flipH="1" flipV="1">
            <a:off x="734760" y="-8280"/>
            <a:ext cx="10440" cy="876240"/>
          </a:xfrm>
          <a:prstGeom prst="straightConnector1">
            <a:avLst/>
          </a:prstGeom>
          <a:ln w="34925">
            <a:solidFill>
              <a:srgbClr val="babd3d"/>
            </a:solidFill>
          </a:ln>
        </p:spPr>
      </p:cxnSp>
      <p:cxnSp>
        <p:nvCxnSpPr>
          <p:cNvPr id="594" name="直接连接符 18"/>
          <p:cNvCxnSpPr/>
          <p:nvPr/>
        </p:nvCxnSpPr>
        <p:spPr>
          <a:xfrm>
            <a:off x="1006200" y="634680"/>
            <a:ext cx="742320" cy="9000"/>
          </a:xfrm>
          <a:prstGeom prst="straightConnector1">
            <a:avLst/>
          </a:prstGeom>
          <a:ln w="34925">
            <a:solidFill>
              <a:srgbClr val="babd3d"/>
            </a:solidFill>
          </a:ln>
        </p:spPr>
      </p:cxnSp>
      <p:sp>
        <p:nvSpPr>
          <p:cNvPr id="595" name="文本框 17"/>
          <p:cNvSpPr/>
          <p:nvPr/>
        </p:nvSpPr>
        <p:spPr>
          <a:xfrm>
            <a:off x="744840" y="347040"/>
            <a:ext cx="15426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改写的方法和步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6" name="直接连接符 19"/>
          <p:cNvCxnSpPr/>
          <p:nvPr/>
        </p:nvCxnSpPr>
        <p:spPr>
          <a:xfrm flipV="1">
            <a:off x="3180240" y="2087280"/>
            <a:ext cx="2160" cy="1722960"/>
          </a:xfrm>
          <a:prstGeom prst="straightConnector1">
            <a:avLst/>
          </a:prstGeom>
          <a:ln w="25400">
            <a:solidFill>
              <a:srgbClr val="babd3d">
                <a:lumMod val="50000"/>
              </a:srgbClr>
            </a:solidFill>
            <a:prstDash val="lgDash"/>
          </a:ln>
        </p:spPr>
      </p:cxnSp>
      <p:cxnSp>
        <p:nvCxnSpPr>
          <p:cNvPr id="597" name="直接连接符 20"/>
          <p:cNvCxnSpPr/>
          <p:nvPr/>
        </p:nvCxnSpPr>
        <p:spPr>
          <a:xfrm flipV="1">
            <a:off x="5893920" y="2087280"/>
            <a:ext cx="2160" cy="1722960"/>
          </a:xfrm>
          <a:prstGeom prst="straightConnector1">
            <a:avLst/>
          </a:prstGeom>
          <a:ln w="25400">
            <a:solidFill>
              <a:srgbClr val="babd3d">
                <a:lumMod val="50000"/>
              </a:srgbClr>
            </a:solidFill>
            <a:prstDash val="lgDash"/>
          </a:ln>
        </p:spPr>
      </p:cxnSp>
      <p:pic>
        <p:nvPicPr>
          <p:cNvPr id="598" name="图片 24" descr="e22a4b2b8a1dc8450c277ef1cdaf09e7"/>
          <p:cNvPicPr/>
          <p:nvPr/>
        </p:nvPicPr>
        <p:blipFill>
          <a:blip r:embed="rId1"/>
          <a:stretch/>
        </p:blipFill>
        <p:spPr>
          <a:xfrm flipH="1">
            <a:off x="8040600" y="-42840"/>
            <a:ext cx="877320" cy="178884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25" descr="e22a4b2b8a1dc8450c277ef1cdaf09e7"/>
          <p:cNvPicPr/>
          <p:nvPr/>
        </p:nvPicPr>
        <p:blipFill>
          <a:blip r:embed="rId2"/>
          <a:stretch/>
        </p:blipFill>
        <p:spPr>
          <a:xfrm flipH="1">
            <a:off x="8468640" y="-8640"/>
            <a:ext cx="666720" cy="136044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26" descr="f7050f5ea7625d957863c604cae6272a"/>
          <p:cNvPicPr/>
          <p:nvPr/>
        </p:nvPicPr>
        <p:blipFill>
          <a:blip r:embed="rId3"/>
          <a:stretch/>
        </p:blipFill>
        <p:spPr>
          <a:xfrm flipH="1">
            <a:off x="-511200" y="3822840"/>
            <a:ext cx="1482120" cy="13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文本框 15"/>
          <p:cNvSpPr/>
          <p:nvPr/>
        </p:nvSpPr>
        <p:spPr>
          <a:xfrm>
            <a:off x="69840" y="181800"/>
            <a:ext cx="6343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写作形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2" name="直接连接符 16"/>
          <p:cNvCxnSpPr/>
          <p:nvPr/>
        </p:nvCxnSpPr>
        <p:spPr>
          <a:xfrm flipH="1" flipV="1">
            <a:off x="734760" y="-8280"/>
            <a:ext cx="10440" cy="876240"/>
          </a:xfrm>
          <a:prstGeom prst="straightConnector1">
            <a:avLst/>
          </a:prstGeom>
          <a:ln w="34925">
            <a:solidFill>
              <a:srgbClr val="babd3d"/>
            </a:solidFill>
          </a:ln>
        </p:spPr>
      </p:cxnSp>
      <p:cxnSp>
        <p:nvCxnSpPr>
          <p:cNvPr id="603" name="直接连接符 18"/>
          <p:cNvCxnSpPr/>
          <p:nvPr/>
        </p:nvCxnSpPr>
        <p:spPr>
          <a:xfrm>
            <a:off x="1006200" y="634680"/>
            <a:ext cx="742320" cy="9000"/>
          </a:xfrm>
          <a:prstGeom prst="straightConnector1">
            <a:avLst/>
          </a:prstGeom>
          <a:ln w="34925">
            <a:solidFill>
              <a:srgbClr val="babd3d"/>
            </a:solidFill>
          </a:ln>
        </p:spPr>
      </p:cxnSp>
      <p:sp>
        <p:nvSpPr>
          <p:cNvPr id="604" name="文本框 17"/>
          <p:cNvSpPr/>
          <p:nvPr/>
        </p:nvSpPr>
        <p:spPr>
          <a:xfrm>
            <a:off x="744840" y="347040"/>
            <a:ext cx="15426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改写的方法和步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1"/>
          <p:cNvSpPr/>
          <p:nvPr/>
        </p:nvSpPr>
        <p:spPr>
          <a:xfrm>
            <a:off x="654480" y="1182600"/>
            <a:ext cx="819252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1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在代词和名词的使用上，要仔细推敲， 使之合于情理和叙述习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2"/>
          <p:cNvSpPr/>
          <p:nvPr/>
        </p:nvSpPr>
        <p:spPr>
          <a:xfrm>
            <a:off x="3116520" y="1529280"/>
            <a:ext cx="32680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（以转换人称的改写为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3"/>
          <p:cNvSpPr/>
          <p:nvPr/>
        </p:nvSpPr>
        <p:spPr>
          <a:xfrm>
            <a:off x="508680" y="2173680"/>
            <a:ext cx="70984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）要弄清原文中“你”“我”“他”等代词所指的对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4"/>
          <p:cNvSpPr/>
          <p:nvPr/>
        </p:nvSpPr>
        <p:spPr>
          <a:xfrm>
            <a:off x="500040" y="2722680"/>
            <a:ext cx="54385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）改写后的人称一定要准确，不能有遗漏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5"/>
          <p:cNvSpPr/>
          <p:nvPr/>
        </p:nvSpPr>
        <p:spPr>
          <a:xfrm>
            <a:off x="551520" y="3271680"/>
            <a:ext cx="6179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）改变了人称，叙述人的角度就变了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3d3f41"/>
                </a:solidFill>
                <a:latin typeface="Arial"/>
              </a:rPr>
              <a:t>        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</a:rPr>
              <a:t>因此，根据具体内容，要增删一些文字和细节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图片 6" descr="14cc2d6964f4149c864d1583489f2adb"/>
          <p:cNvPicPr/>
          <p:nvPr/>
        </p:nvPicPr>
        <p:blipFill>
          <a:blip r:embed="rId1"/>
          <a:stretch/>
        </p:blipFill>
        <p:spPr>
          <a:xfrm>
            <a:off x="8005320" y="3384720"/>
            <a:ext cx="11383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104">
      <a:dk1>
        <a:srgbClr val="3d3f41"/>
      </a:dk1>
      <a:lt1>
        <a:srgbClr val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9_第一PPT，www.1ppt.com">
  <a:themeElements>
    <a:clrScheme name="104">
      <a:dk1>
        <a:srgbClr val="3d3f41"/>
      </a:dk1>
      <a:lt1>
        <a:srgbClr val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10_第一PPT，www.1ppt.com">
  <a:themeElements>
    <a:clrScheme name="104">
      <a:dk1>
        <a:srgbClr val="3d3f41"/>
      </a:dk1>
      <a:lt1>
        <a:srgbClr val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1_第一PPT，www.1ppt.com">
  <a:themeElements>
    <a:clrScheme name="104">
      <a:dk1>
        <a:srgbClr val="3d3f41"/>
      </a:dk1>
      <a:lt1>
        <a:srgbClr val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3_第一PPT，www.1ppt.com">
  <a:themeElements>
    <a:clrScheme name="104">
      <a:dk1>
        <a:srgbClr val="3d3f41"/>
      </a:dk1>
      <a:lt1>
        <a:srgbClr val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第一PPT，www.1ppt.com">
  <a:themeElements>
    <a:clrScheme name="104">
      <a:dk1>
        <a:srgbClr val="3d3f41"/>
      </a:dk1>
      <a:lt1>
        <a:srgbClr val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2_第一PPT，www.1ppt.com">
  <a:themeElements>
    <a:clrScheme name="104">
      <a:dk1>
        <a:srgbClr val="3d3f41"/>
      </a:dk1>
      <a:lt1>
        <a:srgbClr val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4_第一PPT，www.1ppt.com">
  <a:themeElements>
    <a:clrScheme name="104">
      <a:dk1>
        <a:srgbClr val="3d3f41"/>
      </a:dk1>
      <a:lt1>
        <a:srgbClr val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5_第一PPT，www.1ppt.com">
  <a:themeElements>
    <a:clrScheme name="104">
      <a:dk1>
        <a:srgbClr val="3d3f41"/>
      </a:dk1>
      <a:lt1>
        <a:srgbClr val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7_第一PPT，www.1ppt.com">
  <a:themeElements>
    <a:clrScheme name="104">
      <a:dk1>
        <a:srgbClr val="3d3f41"/>
      </a:dk1>
      <a:lt1>
        <a:srgbClr val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6_第一PPT，www.1ppt.com">
  <a:themeElements>
    <a:clrScheme name="104">
      <a:dk1>
        <a:srgbClr val="3d3f41"/>
      </a:dk1>
      <a:lt1>
        <a:srgbClr val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8_第一PPT，www.1ppt.com">
  <a:themeElements>
    <a:clrScheme name="104">
      <a:dk1>
        <a:srgbClr val="3d3f41"/>
      </a:dk1>
      <a:lt1>
        <a:srgbClr val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7</TotalTime>
  <Application>LibreOffice/7.4.7.2$Linux_X86_64 LibreOffice_project/40$Build-2</Application>
  <AppVersion>15.0000</AppVersion>
  <Words>1536</Words>
  <Paragraphs>1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07:05:00Z</dcterms:created>
  <dc:creator>第一PPT模板网-WWW.1PPT.COM</dc:creator>
  <dc:description>http://www.ypppt.com/</dc:description>
  <cp:keywords>第一PPT模板网-WWW.1PPT.COM</cp:keywords>
  <dc:language>en-US</dc:language>
  <cp:lastModifiedBy>123</cp:lastModifiedBy>
  <dcterms:modified xsi:type="dcterms:W3CDTF">2020-04-28T07:29:09Z</dcterms:modified>
  <cp:revision>156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976</vt:lpwstr>
  </property>
  <property fmtid="{D5CDD505-2E9C-101B-9397-08002B2CF9AE}" pid="3" name="Notes">
    <vt:r8>15</vt:r8>
  </property>
  <property fmtid="{D5CDD505-2E9C-101B-9397-08002B2CF9AE}" pid="4" name="PresentationFormat">
    <vt:lpwstr>全屏显示(16:9)</vt:lpwstr>
  </property>
  <property fmtid="{D5CDD505-2E9C-101B-9397-08002B2CF9AE}" pid="5" name="Slides">
    <vt:r8>15</vt:r8>
  </property>
</Properties>
</file>