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7F4EBF-350F-41FE-A14A-B4D66D577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027-CF6F-43E7-A295-FF5FEBDB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532-BB0F-4A65-8700-3F4F51E0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16C-222F-485A-935D-1C276916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BFF-4D95-4EE0-B4C0-A859C2C2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D9D1-43AE-4968-B7C0-2B8253C8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8C2B-9FD4-44C7-BE59-4D1042B6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3E3B-C446-4E12-ABC6-62C82E6D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B2A1-1D63-4913-9A3A-34EBCF2A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FE99-7CAD-4569-8245-79C681AA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5351-FC52-4456-A252-9BDD22CD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3275-D057-4EC4-A6DF-DDFB6C85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690-7660-47F1-8313-B2D59B53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D703-E35E-46B3-8E11-5C76848F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9A45-9CCB-49D0-AF96-D3797DE0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D551-0B03-4871-8CF1-F4B21F49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8F12-83D6-4886-9D36-7808C342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4BFE-F75D-4DF3-8DBE-5957F7F9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B2073-EA66-4EFC-BD60-85EABB55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54814-3EA3-4A46-B5F3-216B9FC1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41C61-691A-4F32-B73C-8B1425AB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37097-2EA6-40F4-8721-6E17DF76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AD5D-61C2-4F18-8B2C-D76BF6CF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45E-4E50-4C43-B0BC-49E61E88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9C4F7-A2D7-4717-8C96-3C50D556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A6CB4-FD6F-4A85-9048-202DEA94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366A2-FAC7-4412-81B5-8620A488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31AEC-260A-4710-A63F-A87CB460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AB98-05FF-4BF8-A0FD-4D42F2D2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E3223-57EC-4BC4-8A09-BAAF65BA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C8CFA-7EEA-4A9C-943A-48FDD74C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1FB4A-1628-4FC0-ACCA-682F76E7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8FE1A-D177-4E39-AE7C-1D5D60C3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AFF5F-E539-417D-83E4-F73D6306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343-8A2F-4B7F-AB02-DE81C6B5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843BE-DC75-4EAA-80D5-63ECE6AE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0E1A5-E3CE-4761-B5D5-A529CB67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0134-E2C3-4945-B65A-11645BDC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106F1-CBA6-4A28-8FEB-CD96CD8D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1044E-77A1-4E6C-9D6F-9650BE5B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FDFC7-AE5A-477A-A850-5209DDDF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F5FC5-A9CA-4B8F-B5E7-1E1C8684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C1A79-23B0-4B8F-B9E7-F8C192A0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E6FB1-5BF3-4FA5-A9CD-C4EE88B4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02D84-D4BC-4F89-BC42-88800520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3D1-4B2F-4405-9517-4B57FC19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D58A8-2CA7-4852-AFCA-EDA7696E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814EF-5477-473A-83C3-837D36D1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21FD3-F030-4BA8-AED7-99BA3C4E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48135-545C-4811-A9CD-77AB8716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7758A-61DE-4858-8172-56935B43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20E22-8008-4EC4-BF2A-1C31CF95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EC689-3976-4FE4-BC20-4492D00E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16FEE-7266-46EF-8A8E-31257A0C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DE310-8805-49BC-8320-1E04DB55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5D282-9CB6-4C18-9ADD-3B8A2524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327-B6E0-4B84-8A2A-66A64324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549C9-591E-410A-AE5E-D3536694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9B2-1623-4C94-BEFE-2A418246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7BC-4302-435C-82BD-CC37ECB9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679-09AB-44A2-916B-00C16BD6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48A454-BABB-4CF8-A01E-A26C70B13D23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D954B3-9C41-4FA7-8B7C-F8135FD6B31E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8165EA-5672-45CB-8205-8B6F4E564349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5ADC78-8649-4D2D-BB2B-491C4DFA693A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60C671-B054-4749-8524-80E0F4A7347D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35"/>
          <p:cNvSpPr/>
          <p:nvPr/>
        </p:nvSpPr>
        <p:spPr>
          <a:xfrm>
            <a:off x="4580280" y="1222920"/>
            <a:ext cx="33620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学习改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占位符 5"/>
          <p:cNvSpPr/>
          <p:nvPr/>
        </p:nvSpPr>
        <p:spPr>
          <a:xfrm>
            <a:off x="4600440" y="3025080"/>
            <a:ext cx="3590640" cy="31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九年级语文（部编版上）习作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图片 3"/>
          <p:cNvSpPr/>
          <p:nvPr/>
        </p:nvSpPr>
        <p:spPr>
          <a:xfrm flipH="1">
            <a:off x="670680" y="646920"/>
            <a:ext cx="2861640" cy="3794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4671000" y="4200840"/>
            <a:ext cx="314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marL="257040" indent="-25704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278" name="文本框 7"/>
          <p:cNvSpPr/>
          <p:nvPr/>
        </p:nvSpPr>
        <p:spPr>
          <a:xfrm>
            <a:off x="982440" y="564480"/>
            <a:ext cx="6872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写作实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1" descr="$RWH8D)IGHMKFEP[Q%]M6[B"/>
          <p:cNvPicPr/>
          <p:nvPr/>
        </p:nvPicPr>
        <p:blipFill>
          <a:blip r:embed="rId2"/>
          <a:stretch/>
        </p:blipFill>
        <p:spPr>
          <a:xfrm>
            <a:off x="4609080" y="395280"/>
            <a:ext cx="4278600" cy="4450320"/>
          </a:xfrm>
          <a:prstGeom prst="rect">
            <a:avLst/>
          </a:prstGeom>
          <a:ln w="9525">
            <a:noFill/>
          </a:ln>
        </p:spPr>
      </p:pic>
      <p:sp>
        <p:nvSpPr>
          <p:cNvPr id="280" name="文本框 1"/>
          <p:cNvSpPr/>
          <p:nvPr/>
        </p:nvSpPr>
        <p:spPr>
          <a:xfrm>
            <a:off x="720360" y="1173960"/>
            <a:ext cx="3431160" cy="160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按顺序分层训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选取一则古代寓言，用现代汉语改写成一篇小故事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字左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从学过的小说中选择一篇，改变原来的叙事视角，换成另一个人物的口吻来讲述这个故事。不少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3" descr="u=4273785634,1378365447&amp;fm=26&amp;gp=0"/>
          <p:cNvPicPr/>
          <p:nvPr/>
        </p:nvPicPr>
        <p:blipFill>
          <a:blip r:embed="rId1"/>
          <a:stretch/>
        </p:blipFill>
        <p:spPr>
          <a:xfrm>
            <a:off x="344160" y="1016640"/>
            <a:ext cx="1712880" cy="1285560"/>
          </a:xfrm>
          <a:prstGeom prst="rect">
            <a:avLst/>
          </a:prstGeom>
          <a:ln w="9525">
            <a:noFill/>
          </a:ln>
        </p:spPr>
      </p:pic>
      <p:pic>
        <p:nvPicPr>
          <p:cNvPr id="282" name="图片 1" descr="组48325同意"/>
          <p:cNvPicPr/>
          <p:nvPr/>
        </p:nvPicPr>
        <p:blipFill>
          <a:blip r:embed="rId2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283" name="文本框 7"/>
          <p:cNvSpPr/>
          <p:nvPr/>
        </p:nvSpPr>
        <p:spPr>
          <a:xfrm>
            <a:off x="1026720" y="564480"/>
            <a:ext cx="36720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任务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"/>
          <p:cNvSpPr/>
          <p:nvPr/>
        </p:nvSpPr>
        <p:spPr>
          <a:xfrm>
            <a:off x="480960" y="1854360"/>
            <a:ext cx="8181720" cy="1631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拔苗助长（改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从前，宋国有个农夫，每天起早贪黑的下地耕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这天他下地耕种完后，路过邻居家的田地，抬头一看：绿色的稻苗已经长的十分茂盛而且长得很快很高了，而自己家的庄稼才食指高矮。他心急如焚，在原地走来走去地苦思冥想让庄稼快速长高的方法。忽然，他想出了一个“妙计”，然后便向自家的田地走去，撸起袖子小心翼翼地把庄稼拔高了一些。这样把所有的庄稼都拔高后，看了一眼邻居家的稻苗比自家的稻苗还矮，脸上终于露出了满意的笑容，扛起锄头又累又乏的回了家。刚回到家就对家人说：今天我帮助庄稼长高了，可把我累坏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农夫的儿子听了后赶快跑到地里去，一看，发现禾苗全都枯死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"/>
          <p:cNvSpPr/>
          <p:nvPr/>
        </p:nvSpPr>
        <p:spPr>
          <a:xfrm>
            <a:off x="2338560" y="564480"/>
            <a:ext cx="6055200" cy="64404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拔苗助长（原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宋人有闵其苗之不长而揠之者，芒芒然归，谓其人曰：“今日病矣！予助苗长矣！”其子趋而往视之，苗则槁矣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爆炸形 1 5"/>
          <p:cNvSpPr/>
          <p:nvPr/>
        </p:nvSpPr>
        <p:spPr>
          <a:xfrm>
            <a:off x="5859000" y="1313280"/>
            <a:ext cx="2648880" cy="1081800"/>
          </a:xfrm>
          <a:prstGeom prst="irregularSeal1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紫色的内容都是作者想象加工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288" name="文本框 7"/>
          <p:cNvSpPr/>
          <p:nvPr/>
        </p:nvSpPr>
        <p:spPr>
          <a:xfrm>
            <a:off x="935280" y="564480"/>
            <a:ext cx="55008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任务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"/>
          <p:cNvSpPr/>
          <p:nvPr/>
        </p:nvSpPr>
        <p:spPr>
          <a:xfrm>
            <a:off x="720360" y="1257120"/>
            <a:ext cx="7994520" cy="160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《武松打虎》改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我乃是景阳冈的第一猛兽——老虎是也。选择景阳冈做领地很正确，这里山好水好空气也好。但是我被一个我盯上的“猎物”给打死了。真是气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那天，我一天都没有吃到东西了，饿得直发晕，就想着四处走走，碰碰运气。终于，在一块青石旁发现了一个醉倒的“猎物”——也就是武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我放轻脚步，慢慢地走近武松，本想偷袭他，可老毛病犯了，嗓子好痛，就大吼一声，把那武松给惊醒了。反应超快的我马上跳起来，扑向他。可他抡起哨棒把我打出三尺之外，与此同时，他却闪在了青石旁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爆炸形 1 3"/>
          <p:cNvSpPr/>
          <p:nvPr/>
        </p:nvSpPr>
        <p:spPr>
          <a:xfrm>
            <a:off x="6226200" y="366840"/>
            <a:ext cx="2489040" cy="1236960"/>
          </a:xfrm>
          <a:prstGeom prst="irregularSeal1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改变叙述方式，改变人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292" name="文本框 7"/>
          <p:cNvSpPr/>
          <p:nvPr/>
        </p:nvSpPr>
        <p:spPr>
          <a:xfrm>
            <a:off x="935280" y="564480"/>
            <a:ext cx="55008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任务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"/>
          <p:cNvSpPr/>
          <p:nvPr/>
        </p:nvSpPr>
        <p:spPr>
          <a:xfrm>
            <a:off x="551160" y="1016640"/>
            <a:ext cx="8336520" cy="97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我见那武松身手敏捷、力量超群，就知道这人不容易对付。我想：对于他用强攻不大可能，用智取也不行——我智商还没他高呢！只能用强攻和智取的结合体了——我的绝招，此乃镇虎之功。到现在还没有一次不成功，这小子不用说肯定是我口下之食了！可人算不如天算！我用前爪按了按地面，使劲一跳扑向武松。武松看明白了我的动作，往前跑，以躲避我的进攻。我只好用力蹿下来了，正落在武松前面。可武松反应太快了，闪到了我的背后。没有办法，我只好把前爪搭在地上，一掀，可还是被武松闪开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这下，我急了，大吼一声，震得那山冈摇摇晃晃，同时也将尾巴倒竖起来，一剪，还没剪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武松反倒把我摁倒在地，狠狠地揍了起来。我大声喊“饶了我吧，我不吃你还不行吗？”可是他非但不听，反而打得更猛烈了。我渐渐地失去了知觉，不知道后来发生了什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爆炸形 1 3"/>
          <p:cNvSpPr/>
          <p:nvPr/>
        </p:nvSpPr>
        <p:spPr>
          <a:xfrm>
            <a:off x="6225840" y="268920"/>
            <a:ext cx="2307240" cy="747360"/>
          </a:xfrm>
          <a:prstGeom prst="irregularSeal1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换了角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296" name="文本框 7"/>
          <p:cNvSpPr/>
          <p:nvPr/>
        </p:nvSpPr>
        <p:spPr>
          <a:xfrm>
            <a:off x="982440" y="564480"/>
            <a:ext cx="6872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写作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1"/>
          <p:cNvSpPr/>
          <p:nvPr/>
        </p:nvSpPr>
        <p:spPr>
          <a:xfrm>
            <a:off x="676800" y="1004040"/>
            <a:ext cx="7855200" cy="198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如何改写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要领会原文的主题、情节、表达方式等，审清题意、明确要求，对改体裁、改人称、改语体及字数限制要作到心中有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要明确中心与标题。如有的原文是记事的，要求改成写人的，那么要作相应的改变，标题自然不能使用原文的，要按照要求确定中心，按中心确定标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改写需要想象，在改写的过程中，要融入个人风格，避免千人一面，展示自己的语言风格和行文风格。既区别于原文，又有个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保持两个“一致”，一是文章风格要一致，二是叙述方式要一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299" name="文本框 7"/>
          <p:cNvSpPr/>
          <p:nvPr/>
        </p:nvSpPr>
        <p:spPr>
          <a:xfrm>
            <a:off x="982440" y="564480"/>
            <a:ext cx="6872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作业布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1" descr="$RWH8D)IGHMKFEP[Q%]M6[B"/>
          <p:cNvPicPr/>
          <p:nvPr/>
        </p:nvPicPr>
        <p:blipFill>
          <a:blip r:embed="rId2"/>
          <a:stretch/>
        </p:blipFill>
        <p:spPr>
          <a:xfrm>
            <a:off x="2180160" y="2858400"/>
            <a:ext cx="4839840" cy="2084400"/>
          </a:xfrm>
          <a:prstGeom prst="rect">
            <a:avLst/>
          </a:prstGeom>
          <a:ln w="9525">
            <a:noFill/>
          </a:ln>
        </p:spPr>
      </p:pic>
      <p:sp>
        <p:nvSpPr>
          <p:cNvPr id="301" name="前凸带形 1"/>
          <p:cNvSpPr/>
          <p:nvPr/>
        </p:nvSpPr>
        <p:spPr>
          <a:xfrm>
            <a:off x="1747800" y="1216800"/>
            <a:ext cx="5908680" cy="145116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本单元的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改写课本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303" name="文本框 7"/>
          <p:cNvSpPr/>
          <p:nvPr/>
        </p:nvSpPr>
        <p:spPr>
          <a:xfrm>
            <a:off x="982440" y="564480"/>
            <a:ext cx="6872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路导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2"/>
          <p:cNvSpPr/>
          <p:nvPr/>
        </p:nvSpPr>
        <p:spPr>
          <a:xfrm>
            <a:off x="720720" y="1149120"/>
            <a:ext cx="7953840" cy="1850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本单元学过的课文有《智取生辰纲》、《范进中举》、《三顾茅庐》、《刘姥姥进大观园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一步：确定主题，你想写哪篇？表达什么主题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二步：剧本不同于小说，需要确定时间、人物、情节、场景。你就是导演，先来安排一下吧！哪些人物出场？在什么场景表演？他们说些什么才能推动情节的发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三步：内容以语言对话的方式来呈现，需要确定人物的对话。心理描写可改为自白或旁白，环境描写可改为舞台说明。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步：写好后交流评比，试着表演表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306" name="文本框 7"/>
          <p:cNvSpPr/>
          <p:nvPr/>
        </p:nvSpPr>
        <p:spPr>
          <a:xfrm>
            <a:off x="982440" y="564480"/>
            <a:ext cx="6872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例文欣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"/>
          <p:cNvSpPr/>
          <p:nvPr/>
        </p:nvSpPr>
        <p:spPr>
          <a:xfrm>
            <a:off x="977760" y="909720"/>
            <a:ext cx="7464960" cy="434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范进中举（课本剧节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二场   报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物：范进，范母，三个报喜人，五个邻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场景：范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范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推门进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娘，我回来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范母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从后面出来，声音微弱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儿啊，你这几天去哪里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范：我进城参加考试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范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儿啊，我有一只生蛋的母鸡，你快拿集上去卖了，买几升米来煮餐粥吃，我已是饿的两眼都看不见了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范：好！（抓鸡，抱鸡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片锣声响起，报喜人一骑着马来到范进家门前，把马拴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报喜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快！快请范老爷出来，恭喜高中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范母忙躲进屋子里，又探出头来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范母：小儿方才出去了，去集市上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309" name="文本框 7"/>
          <p:cNvSpPr/>
          <p:nvPr/>
        </p:nvSpPr>
        <p:spPr>
          <a:xfrm>
            <a:off x="982440" y="564480"/>
            <a:ext cx="6872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例文欣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"/>
          <p:cNvSpPr/>
          <p:nvPr/>
        </p:nvSpPr>
        <p:spPr>
          <a:xfrm>
            <a:off x="708480" y="1114920"/>
            <a:ext cx="7779600" cy="4344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报：原来是老太太。恭喜，恭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拱手，老太太出来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范母：客官快快请坐！（报喜人坐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个邻居簇拥而至，有的笑着，有的显出惊讶的神色，有的好奇地往里瞧，并小声谈论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邻甲：范老太太，恭喜恭喜，您老终于可以享福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邻乙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嬉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范老太太，赏点钱吧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二报：恭喜范老爷高中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三报：范府范老爷高中亚元，恭喜恭喜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又两个邻居上，围在门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邻居丙：范府要翻身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报：老太太，把范老爷请回来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对邻居甲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高邻，麻烦您去找小儿回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邻甲（惊喜地）好！我马上就去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312" name="文本框 7"/>
          <p:cNvSpPr/>
          <p:nvPr/>
        </p:nvSpPr>
        <p:spPr>
          <a:xfrm>
            <a:off x="982440" y="564480"/>
            <a:ext cx="6872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板书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"/>
          <p:cNvSpPr/>
          <p:nvPr/>
        </p:nvSpPr>
        <p:spPr>
          <a:xfrm>
            <a:off x="2836080" y="1238400"/>
            <a:ext cx="3903840" cy="2034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学习改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改写文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改变语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改变人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2"/>
          <p:cNvSpPr/>
          <p:nvPr/>
        </p:nvSpPr>
        <p:spPr>
          <a:xfrm>
            <a:off x="5182920" y="2004840"/>
            <a:ext cx="1352160" cy="97308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尊重原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适当创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行文协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直接箭头连接符 3"/>
          <p:cNvCxnSpPr/>
          <p:nvPr/>
        </p:nvCxnSpPr>
        <p:spPr>
          <a:xfrm>
            <a:off x="3911040" y="2143080"/>
            <a:ext cx="1231560" cy="334800"/>
          </a:xfrm>
          <a:prstGeom prst="straightConnector1">
            <a:avLst/>
          </a:prstGeom>
          <a:ln>
            <a:solidFill>
              <a:srgbClr val="5b9bd5"/>
            </a:solidFill>
            <a:tailEnd len="med" type="arrow" w="med"/>
          </a:ln>
        </p:spPr>
      </p:cxnSp>
      <p:cxnSp>
        <p:nvCxnSpPr>
          <p:cNvPr id="316" name="直接箭头连接符 4"/>
          <p:cNvCxnSpPr/>
          <p:nvPr/>
        </p:nvCxnSpPr>
        <p:spPr>
          <a:xfrm flipV="1">
            <a:off x="4016880" y="2526480"/>
            <a:ext cx="1085040" cy="627840"/>
          </a:xfrm>
          <a:prstGeom prst="straightConnector1">
            <a:avLst/>
          </a:prstGeom>
          <a:ln>
            <a:solidFill>
              <a:srgbClr val="5b9bd5"/>
            </a:solidFill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216" name="文本框 7"/>
          <p:cNvSpPr/>
          <p:nvPr/>
        </p:nvSpPr>
        <p:spPr>
          <a:xfrm>
            <a:off x="982440" y="564480"/>
            <a:ext cx="6872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激趣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4"/>
          <p:cNvSpPr/>
          <p:nvPr/>
        </p:nvSpPr>
        <p:spPr>
          <a:xfrm>
            <a:off x="335520" y="1042920"/>
            <a:ext cx="2867760" cy="2042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缩写就是在保持主题思想不变的前提下，压缩文章篇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扩写就是在保持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不变的情况下增加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容，使文章更加丰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续写就是从原文出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遵循原文的思路，对于原文做适当的延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图片 5"/>
          <p:cNvSpPr/>
          <p:nvPr/>
        </p:nvSpPr>
        <p:spPr>
          <a:xfrm>
            <a:off x="2904840" y="977400"/>
            <a:ext cx="2741760" cy="318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直接箭头连接符 7"/>
          <p:cNvCxnSpPr/>
          <p:nvPr/>
        </p:nvCxnSpPr>
        <p:spPr>
          <a:xfrm flipV="1">
            <a:off x="5646960" y="2273760"/>
            <a:ext cx="1768320" cy="170640"/>
          </a:xfrm>
          <a:prstGeom prst="straightConnector1">
            <a:avLst/>
          </a:prstGeom>
          <a:ln>
            <a:solidFill>
              <a:srgbClr val="70ad47"/>
            </a:solidFill>
            <a:tailEnd len="med" type="arrow" w="med"/>
          </a:ln>
        </p:spPr>
      </p:cxnSp>
      <p:sp>
        <p:nvSpPr>
          <p:cNvPr id="220" name="文本框 8"/>
          <p:cNvSpPr/>
          <p:nvPr/>
        </p:nvSpPr>
        <p:spPr>
          <a:xfrm>
            <a:off x="6410160" y="2244240"/>
            <a:ext cx="62820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缩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直接箭头连接符 9"/>
          <p:cNvCxnSpPr/>
          <p:nvPr/>
        </p:nvCxnSpPr>
        <p:spPr>
          <a:xfrm flipH="1" flipV="1">
            <a:off x="5402880" y="1621440"/>
            <a:ext cx="2070000" cy="73800"/>
          </a:xfrm>
          <a:prstGeom prst="straightConnector1">
            <a:avLst/>
          </a:prstGeom>
          <a:ln>
            <a:solidFill>
              <a:srgbClr val="ed7d31"/>
            </a:solidFill>
            <a:tailEnd len="med" type="arrow" w="med"/>
          </a:ln>
        </p:spPr>
      </p:cxnSp>
      <p:sp>
        <p:nvSpPr>
          <p:cNvPr id="222" name="文本框 10"/>
          <p:cNvSpPr/>
          <p:nvPr/>
        </p:nvSpPr>
        <p:spPr>
          <a:xfrm>
            <a:off x="6422400" y="1263240"/>
            <a:ext cx="6998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扩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1" descr="u=207594935,2164883288&amp;fm=173&amp;app=49&amp;f=JPEG"/>
          <p:cNvPicPr/>
          <p:nvPr/>
        </p:nvPicPr>
        <p:blipFill>
          <a:blip r:embed="rId3"/>
          <a:stretch/>
        </p:blipFill>
        <p:spPr>
          <a:xfrm>
            <a:off x="6109200" y="3064680"/>
            <a:ext cx="2546280" cy="1811880"/>
          </a:xfrm>
          <a:prstGeom prst="rect">
            <a:avLst/>
          </a:prstGeom>
          <a:ln w="9525">
            <a:noFill/>
          </a:ln>
        </p:spPr>
      </p:pic>
      <p:sp>
        <p:nvSpPr>
          <p:cNvPr id="224" name="图片 12"/>
          <p:cNvSpPr/>
          <p:nvPr/>
        </p:nvSpPr>
        <p:spPr>
          <a:xfrm>
            <a:off x="7604640" y="1194480"/>
            <a:ext cx="1287720" cy="1494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直接箭头连接符 13"/>
          <p:cNvCxnSpPr/>
          <p:nvPr/>
        </p:nvCxnSpPr>
        <p:spPr>
          <a:xfrm>
            <a:off x="5256360" y="3618000"/>
            <a:ext cx="799200" cy="399240"/>
          </a:xfrm>
          <a:prstGeom prst="straightConnector1">
            <a:avLst/>
          </a:prstGeom>
          <a:ln>
            <a:solidFill>
              <a:srgbClr val="5b9bd5"/>
            </a:solidFill>
            <a:tailEnd len="med" type="arrow" w="med"/>
          </a:ln>
        </p:spPr>
      </p:cxnSp>
      <p:sp>
        <p:nvSpPr>
          <p:cNvPr id="226" name="文本框 14"/>
          <p:cNvSpPr/>
          <p:nvPr/>
        </p:nvSpPr>
        <p:spPr>
          <a:xfrm>
            <a:off x="4856400" y="3870720"/>
            <a:ext cx="93672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续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对角圆角矩形 15"/>
          <p:cNvSpPr/>
          <p:nvPr/>
        </p:nvSpPr>
        <p:spPr>
          <a:xfrm>
            <a:off x="5110200" y="456120"/>
            <a:ext cx="2827440" cy="5864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仔细观察图画，能否明白其中的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229" name="文本框 7"/>
          <p:cNvSpPr/>
          <p:nvPr/>
        </p:nvSpPr>
        <p:spPr>
          <a:xfrm>
            <a:off x="982440" y="564480"/>
            <a:ext cx="6872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新知讲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2" descr="{D)JA@IP9EU{DR9N~@$JB%7"/>
          <p:cNvPicPr/>
          <p:nvPr/>
        </p:nvPicPr>
        <p:blipFill>
          <a:blip r:embed="rId2"/>
          <a:stretch/>
        </p:blipFill>
        <p:spPr>
          <a:xfrm>
            <a:off x="4631400" y="345240"/>
            <a:ext cx="4395600" cy="4660920"/>
          </a:xfrm>
          <a:prstGeom prst="rect">
            <a:avLst/>
          </a:prstGeom>
          <a:ln w="9525">
            <a:noFill/>
          </a:ln>
        </p:spPr>
      </p:pic>
      <p:sp>
        <p:nvSpPr>
          <p:cNvPr id="231" name="文本框 3"/>
          <p:cNvSpPr/>
          <p:nvPr/>
        </p:nvSpPr>
        <p:spPr>
          <a:xfrm>
            <a:off x="590400" y="1126440"/>
            <a:ext cx="3683520" cy="281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6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阅读课本写作—学习改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考讨论下列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什么是改写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改写有什么作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改写有哪些形式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改写有哪些要求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"/>
          <p:cNvSpPr/>
          <p:nvPr/>
        </p:nvSpPr>
        <p:spPr>
          <a:xfrm>
            <a:off x="6503040" y="2583360"/>
            <a:ext cx="138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234" name="文本框 7"/>
          <p:cNvSpPr/>
          <p:nvPr/>
        </p:nvSpPr>
        <p:spPr>
          <a:xfrm>
            <a:off x="982440" y="564480"/>
            <a:ext cx="6872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讨论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"/>
          <p:cNvSpPr/>
          <p:nvPr/>
        </p:nvSpPr>
        <p:spPr>
          <a:xfrm>
            <a:off x="720360" y="950040"/>
            <a:ext cx="2279520" cy="506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6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什么是改写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"/>
          <p:cNvSpPr/>
          <p:nvPr/>
        </p:nvSpPr>
        <p:spPr>
          <a:xfrm>
            <a:off x="565920" y="3289320"/>
            <a:ext cx="3733560" cy="451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改写有助于培养文体意识，提高写作能力，还有助于更深入地把握原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7"/>
          <p:cNvSpPr/>
          <p:nvPr/>
        </p:nvSpPr>
        <p:spPr>
          <a:xfrm>
            <a:off x="565560" y="1436760"/>
            <a:ext cx="348696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改写就是在忠于原作内容的基础上，通过改变文体、语体和叙述方式等，进行“再创作”，以服务于特定的需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9"/>
          <p:cNvSpPr/>
          <p:nvPr/>
        </p:nvSpPr>
        <p:spPr>
          <a:xfrm>
            <a:off x="565920" y="2944080"/>
            <a:ext cx="32835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改写有什么作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"/>
          <p:cNvSpPr/>
          <p:nvPr/>
        </p:nvSpPr>
        <p:spPr>
          <a:xfrm>
            <a:off x="4517640" y="1353960"/>
            <a:ext cx="4105080" cy="149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可以改变文体，比如将诗歌改写成散文，将小说改写成剧本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可以改变语体，比如将文言文改写 成 白话文，把书面语改成口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可以改变叙述方式，比如将第一人称改成第三人称，或将顺叙改为倒叙、插叙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总之，可以从各个角度进行改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0"/>
          <p:cNvSpPr/>
          <p:nvPr/>
        </p:nvSpPr>
        <p:spPr>
          <a:xfrm>
            <a:off x="4517640" y="826200"/>
            <a:ext cx="28281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改写有哪些形式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图片 4"/>
          <p:cNvSpPr/>
          <p:nvPr/>
        </p:nvSpPr>
        <p:spPr>
          <a:xfrm flipH="1">
            <a:off x="7383960" y="458640"/>
            <a:ext cx="1610640" cy="825120"/>
          </a:xfrm>
          <a:prstGeom prst="cloud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243" name="文本框 7"/>
          <p:cNvSpPr/>
          <p:nvPr/>
        </p:nvSpPr>
        <p:spPr>
          <a:xfrm>
            <a:off x="982440" y="564480"/>
            <a:ext cx="6872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讨论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6"/>
          <p:cNvSpPr/>
          <p:nvPr/>
        </p:nvSpPr>
        <p:spPr>
          <a:xfrm>
            <a:off x="980280" y="1328760"/>
            <a:ext cx="6580800" cy="1823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6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改写要以原作为基础，不能背离原作 “戏说”，这就要去下笔前深入体会原 作，把握其内容和精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改写也不是原封不动地照搬，要根据改写的目的，进行适当的再创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要注意行文的协调，不要各种文体、语体混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避免人称不统一和情节上的混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8"/>
          <p:cNvSpPr/>
          <p:nvPr/>
        </p:nvSpPr>
        <p:spPr>
          <a:xfrm>
            <a:off x="3154320" y="564480"/>
            <a:ext cx="2835720" cy="506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6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改写有哪些要求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图片 2"/>
          <p:cNvSpPr/>
          <p:nvPr/>
        </p:nvSpPr>
        <p:spPr>
          <a:xfrm flipH="1">
            <a:off x="7202160" y="2607120"/>
            <a:ext cx="1740240" cy="2307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248" name="文本框 7"/>
          <p:cNvSpPr/>
          <p:nvPr/>
        </p:nvSpPr>
        <p:spPr>
          <a:xfrm>
            <a:off x="982440" y="564480"/>
            <a:ext cx="6872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对比阅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5"/>
          <p:cNvSpPr/>
          <p:nvPr/>
        </p:nvSpPr>
        <p:spPr>
          <a:xfrm>
            <a:off x="1287000" y="1415520"/>
            <a:ext cx="2215440" cy="185004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成礼兮会鼓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传芭兮代舞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姱女倡兮容与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春兰兮秋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长无绝兮终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"/>
          <p:cNvSpPr/>
          <p:nvPr/>
        </p:nvSpPr>
        <p:spPr>
          <a:xfrm>
            <a:off x="5236200" y="950040"/>
            <a:ext cx="2908440" cy="266040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唱着歌，打着鼓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手拿着花枝齐跳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我把花给你，你把花给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心爱的人儿，歌舞而婆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春天有兰花，秋天有菊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馨香百代，敬礼无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2"/>
          <p:cNvSpPr/>
          <p:nvPr/>
        </p:nvSpPr>
        <p:spPr>
          <a:xfrm>
            <a:off x="964800" y="3610800"/>
            <a:ext cx="28598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《楚辞》中的《九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礼魂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3"/>
          <p:cNvSpPr/>
          <p:nvPr/>
        </p:nvSpPr>
        <p:spPr>
          <a:xfrm>
            <a:off x="5547960" y="3691800"/>
            <a:ext cx="2505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郭沫若改写的现代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右箭头 4"/>
          <p:cNvSpPr/>
          <p:nvPr/>
        </p:nvSpPr>
        <p:spPr>
          <a:xfrm>
            <a:off x="3569040" y="1997280"/>
            <a:ext cx="1605600" cy="9122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60000"/>
              <a:lumOff val="40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改变语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5"/>
          <p:cNvSpPr/>
          <p:nvPr/>
        </p:nvSpPr>
        <p:spPr>
          <a:xfrm>
            <a:off x="3711960" y="793080"/>
            <a:ext cx="1319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言文改为现代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图片 6"/>
          <p:cNvSpPr/>
          <p:nvPr/>
        </p:nvSpPr>
        <p:spPr>
          <a:xfrm>
            <a:off x="3908160" y="3111480"/>
            <a:ext cx="1266480" cy="1689480"/>
          </a:xfrm>
          <a:prstGeom prst="smileyFace">
            <a:avLst>
              <a:gd name="adj" fmla="val 4653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257" name="文本框 7"/>
          <p:cNvSpPr/>
          <p:nvPr/>
        </p:nvSpPr>
        <p:spPr>
          <a:xfrm>
            <a:off x="982440" y="564480"/>
            <a:ext cx="6872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写作引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"/>
          <p:cNvSpPr/>
          <p:nvPr/>
        </p:nvSpPr>
        <p:spPr>
          <a:xfrm>
            <a:off x="387000" y="1464480"/>
            <a:ext cx="4422240" cy="78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精卫填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又北二百里，曰发鸠之山，其上多柘木，有鸟焉，其状如乌，文首，白喙，赤足，名曰：“精卫”，其鸣自詨。是炎帝之少女，名曰女娃。女娃游于东海，溺而不返，故为精卫，常衔西山之木石，以堙于东海。漳水出焉，东流注于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4" descr="u=3768819525,1603561399&amp;fm=26&amp;gp=0"/>
          <p:cNvPicPr/>
          <p:nvPr/>
        </p:nvPicPr>
        <p:blipFill>
          <a:blip r:embed="rId2"/>
          <a:stretch/>
        </p:blipFill>
        <p:spPr>
          <a:xfrm>
            <a:off x="4951800" y="494280"/>
            <a:ext cx="4043160" cy="4333680"/>
          </a:xfrm>
          <a:prstGeom prst="rect">
            <a:avLst/>
          </a:prstGeom>
          <a:ln w="9525">
            <a:noFill/>
          </a:ln>
        </p:spPr>
      </p:pic>
      <p:sp>
        <p:nvSpPr>
          <p:cNvPr id="260" name="文本框 5"/>
          <p:cNvSpPr/>
          <p:nvPr/>
        </p:nvSpPr>
        <p:spPr>
          <a:xfrm>
            <a:off x="2248920" y="676440"/>
            <a:ext cx="2215440" cy="3423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引导一：精读原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262" name="文本框 7"/>
          <p:cNvSpPr/>
          <p:nvPr/>
        </p:nvSpPr>
        <p:spPr>
          <a:xfrm>
            <a:off x="982440" y="564480"/>
            <a:ext cx="6872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写作引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"/>
          <p:cNvSpPr/>
          <p:nvPr/>
        </p:nvSpPr>
        <p:spPr>
          <a:xfrm>
            <a:off x="2554200" y="644400"/>
            <a:ext cx="6244200" cy="17132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精卫填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从前，有一位部落首领叫炎帝，他有一个小女儿，叫女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女娃特别喜欢在皇宫的池塘里划船。有一天，仆人对她说：“世界上有一种池塘，人们说它叫海。”女娃听了两眼放光，仆人还说，海里面有许多可爱的小鱼，还有珠宝呢！女娃听了更加喜欢，心里产生了对大海的无限向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有一天，女娃趁侍卫没注意，悄悄地溜了出去，她走啊走，终于来到了大海边。啊！大海好蓝呀！女娃不知从哪儿找来一艘小船。她轻轻地把船推到海边，她上了船，慢慢划荡双浆，小船随着飘动起来。突然，一股巨浪朝女娃扑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云形 1"/>
          <p:cNvSpPr/>
          <p:nvPr/>
        </p:nvSpPr>
        <p:spPr>
          <a:xfrm>
            <a:off x="6780600" y="494280"/>
            <a:ext cx="2110680" cy="766440"/>
          </a:xfrm>
          <a:prstGeom prst="cloud">
            <a:avLst/>
          </a:prstGeom>
          <a:solidFill>
            <a:srgbClr val="ffc000"/>
          </a:solidFill>
          <a:ln>
            <a:solidFill>
              <a:srgbClr val="bc8e00"/>
            </a:solidFill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引导二：“再创作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"/>
          <p:cNvSpPr/>
          <p:nvPr/>
        </p:nvSpPr>
        <p:spPr>
          <a:xfrm>
            <a:off x="304920" y="1834920"/>
            <a:ext cx="1393200" cy="3423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是炎帝之少女，名曰女娃。女娃游于东海，溺而不返，故为精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右箭头 4"/>
          <p:cNvSpPr/>
          <p:nvPr/>
        </p:nvSpPr>
        <p:spPr>
          <a:xfrm>
            <a:off x="1686960" y="2428920"/>
            <a:ext cx="862920" cy="569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文本框 5"/>
          <p:cNvSpPr/>
          <p:nvPr/>
        </p:nvSpPr>
        <p:spPr>
          <a:xfrm>
            <a:off x="1645920" y="1450080"/>
            <a:ext cx="9450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由倒叙变为顺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6"/>
          <p:cNvSpPr/>
          <p:nvPr/>
        </p:nvSpPr>
        <p:spPr>
          <a:xfrm>
            <a:off x="1703160" y="3178080"/>
            <a:ext cx="765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言文变为现代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7"/>
          <p:cNvSpPr/>
          <p:nvPr/>
        </p:nvSpPr>
        <p:spPr>
          <a:xfrm>
            <a:off x="1254960" y="4098960"/>
            <a:ext cx="109152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了许多情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1" descr="组48325同意"/>
          <p:cNvPicPr/>
          <p:nvPr/>
        </p:nvPicPr>
        <p:blipFill>
          <a:blip r:embed="rId1"/>
          <a:stretch/>
        </p:blipFill>
        <p:spPr>
          <a:xfrm>
            <a:off x="304920" y="494280"/>
            <a:ext cx="1791360" cy="455760"/>
          </a:xfrm>
          <a:prstGeom prst="rect">
            <a:avLst/>
          </a:prstGeom>
          <a:ln w="9525">
            <a:noFill/>
          </a:ln>
        </p:spPr>
      </p:pic>
      <p:sp>
        <p:nvSpPr>
          <p:cNvPr id="271" name="文本框 7"/>
          <p:cNvSpPr/>
          <p:nvPr/>
        </p:nvSpPr>
        <p:spPr>
          <a:xfrm>
            <a:off x="982440" y="564480"/>
            <a:ext cx="6872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写作引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"/>
          <p:cNvSpPr/>
          <p:nvPr/>
        </p:nvSpPr>
        <p:spPr>
          <a:xfrm>
            <a:off x="3176640" y="852840"/>
            <a:ext cx="5715000" cy="138420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女娃赶紧快速撤离，可是已经来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及了，大浪已经扑了过来。“啊！”随着一声惨叫，小船被巨浪吞没了。等女娃醒来，她发现自己已经变成了一只鸟，正站在树上。有很多鸟儿也都栖息在这里，人们称她为“精卫”，她听到这些小鸟叽叽喳喳地在说些什么，仔细一听，原来是在诉说大海给人们带来的危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精卫听了愤怒不已。她下定决心，要把大海填平。就这样，精卫每天都会去西山衔石子飞来扔进大海，不管风吹雨打，她也一刻不停地往大海里扔石子。她的目的就是要把大海填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到了今天，如果你去大海玩，很有可能会看到这只小鸟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云形 1"/>
          <p:cNvSpPr/>
          <p:nvPr/>
        </p:nvSpPr>
        <p:spPr>
          <a:xfrm>
            <a:off x="6780600" y="494280"/>
            <a:ext cx="2110680" cy="766440"/>
          </a:xfrm>
          <a:prstGeom prst="cloud">
            <a:avLst/>
          </a:prstGeom>
          <a:solidFill>
            <a:srgbClr val="ffc000"/>
          </a:solidFill>
          <a:ln>
            <a:solidFill>
              <a:srgbClr val="bc8e00"/>
            </a:solidFill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引导二：“再创作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3"/>
          <p:cNvSpPr/>
          <p:nvPr/>
        </p:nvSpPr>
        <p:spPr>
          <a:xfrm>
            <a:off x="304920" y="1464840"/>
            <a:ext cx="1841760" cy="61668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又北二百里，曰发鸠之山，其上多柘木，有鸟焉，其状如乌，文首，白喙，赤足，名曰：“精卫”，其鸣自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常衔西山之木石，以堙于东海。漳水出焉，东流注于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右箭头 4"/>
          <p:cNvSpPr/>
          <p:nvPr/>
        </p:nvSpPr>
        <p:spPr>
          <a:xfrm>
            <a:off x="2167560" y="2607840"/>
            <a:ext cx="987840" cy="59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文本框 5"/>
          <p:cNvSpPr/>
          <p:nvPr/>
        </p:nvSpPr>
        <p:spPr>
          <a:xfrm>
            <a:off x="2250360" y="1385280"/>
            <a:ext cx="822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为中心服务也删减了一些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3_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3737</Words>
  <Paragraphs>175</Paragraphs>
  <Company>Lenov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8T07:00:42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4-28T07:02:54Z</dcterms:modified>
  <cp:revision>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全屏显示(16:9)</vt:lpwstr>
  </property>
  <property fmtid="{D5CDD505-2E9C-101B-9397-08002B2CF9AE}" pid="4" name="Slides">
    <vt:r8>20</vt:r8>
  </property>
</Properties>
</file>