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audio1.wav" ContentType="audio/x-wav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75FCDA-A715-4386-9AE4-23FBE1D20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55AAE3-AA87-474E-9445-223C43ADC22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A0ED-375F-4CBD-AACC-44765D51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760" y="-166680"/>
            <a:ext cx="314280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AD8A-0B4C-4691-BEEF-474D6EF6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760" y="-166680"/>
            <a:ext cx="314280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C45-0B57-4DE4-99AB-149E1626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760" y="-166680"/>
            <a:ext cx="314280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B85F-00F0-4565-8EA6-C0042C51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760" y="-166680"/>
            <a:ext cx="314280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63A0-8EF8-45E6-BBB0-F607E024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760" y="-166680"/>
            <a:ext cx="314280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5F0-5F66-465C-B1F0-6EEBACD2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760" y="-166680"/>
            <a:ext cx="314280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492-170D-4358-90F9-81DDD5A5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760" y="-166680"/>
            <a:ext cx="314280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81BB-FB9A-417D-B289-BEBE75A8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760" y="142920"/>
            <a:ext cx="314280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368-E716-4B03-A897-AFA2CBBE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760" y="-166680"/>
            <a:ext cx="314280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63D-13DD-47CE-9D37-88CD8C12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760" y="-166680"/>
            <a:ext cx="314280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8244-A1D1-40FF-9B95-F2C14400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760" y="-166680"/>
            <a:ext cx="314280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C1FC-89E2-44FF-98EE-4446A413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Administrator\桌面\ppt\666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Line 36"/>
          <p:cNvSpPr/>
          <p:nvPr/>
        </p:nvSpPr>
        <p:spPr>
          <a:xfrm>
            <a:off x="-7920" y="790560"/>
            <a:ext cx="9180360" cy="360"/>
          </a:xfrm>
          <a:prstGeom prst="line">
            <a:avLst/>
          </a:prstGeom>
          <a:ln w="152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" name="Line 36"/>
          <p:cNvSpPr/>
          <p:nvPr/>
        </p:nvSpPr>
        <p:spPr>
          <a:xfrm>
            <a:off x="55440" y="6438600"/>
            <a:ext cx="8999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00760" y="142920"/>
            <a:ext cx="3142800" cy="499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8E6297-2C98-402A-9F46-623AB983D06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9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2073240" y="2113200"/>
            <a:ext cx="5400360" cy="647280"/>
          </a:xfrm>
          <a:prstGeom prst="rect">
            <a:avLst/>
          </a:prstGeom>
        </p:spPr>
        <p:txBody>
          <a:bodyPr wrap="none" fromWordArt="1" lIns="90000" rIns="90000" tIns="45000" bIns="45000" anchor="t" anchorCtr="1">
            <a:prstTxWarp prst="textArchDown">
              <a:avLst>
                <a:gd name="adj" fmla="val 21585015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Calibri"/>
                <a:ea typeface="宋体"/>
              </a:rPr>
              <a:t>钟楼读书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1928160" y="4383720"/>
            <a:ext cx="890280" cy="757080"/>
            <a:chOff x="1928160" y="4383720"/>
            <a:chExt cx="890280" cy="757080"/>
          </a:xfrm>
        </p:grpSpPr>
        <p:sp>
          <p:nvSpPr>
            <p:cNvPr id="52" name="AutoShape 6"/>
            <p:cNvSpPr/>
            <p:nvPr/>
          </p:nvSpPr>
          <p:spPr>
            <a:xfrm rot="720000">
              <a:off x="1982520" y="4458240"/>
              <a:ext cx="780840" cy="608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525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720000">
              <a:off x="2003040" y="4477320"/>
              <a:ext cx="736920" cy="55764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525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Calibri"/>
                  <a:ea typeface="华文新魏"/>
                  <a:hlinkClick r:id="rId1" action="ppaction://hlinksldjump"/>
                </a:rPr>
                <a:t>预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8"/>
          <p:cNvGrpSpPr/>
          <p:nvPr/>
        </p:nvGrpSpPr>
        <p:grpSpPr>
          <a:xfrm>
            <a:off x="3429000" y="4455720"/>
            <a:ext cx="812880" cy="692280"/>
            <a:chOff x="3429000" y="4455720"/>
            <a:chExt cx="812880" cy="692280"/>
          </a:xfrm>
        </p:grpSpPr>
        <p:sp>
          <p:nvSpPr>
            <p:cNvPr id="55" name="AutoShape 9"/>
            <p:cNvSpPr/>
            <p:nvPr/>
          </p:nvSpPr>
          <p:spPr>
            <a:xfrm rot="120000">
              <a:off x="3440160" y="4469040"/>
              <a:ext cx="790200" cy="6652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525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6" name="AutoShape 10"/>
            <p:cNvSpPr/>
            <p:nvPr/>
          </p:nvSpPr>
          <p:spPr>
            <a:xfrm rot="120000">
              <a:off x="3459600" y="4491000"/>
              <a:ext cx="745920" cy="60984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525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Calibri"/>
                  <a:ea typeface="华文新魏"/>
                  <a:hlinkClick r:id="rId2" action="ppaction://hlinksldjump"/>
                </a:rPr>
                <a:t>详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1"/>
          <p:cNvGrpSpPr/>
          <p:nvPr/>
        </p:nvGrpSpPr>
        <p:grpSpPr>
          <a:xfrm>
            <a:off x="6637320" y="4293000"/>
            <a:ext cx="869760" cy="668160"/>
            <a:chOff x="6637320" y="4293000"/>
            <a:chExt cx="869760" cy="668160"/>
          </a:xfrm>
        </p:grpSpPr>
        <p:sp>
          <p:nvSpPr>
            <p:cNvPr id="58" name="AutoShape 12"/>
            <p:cNvSpPr/>
            <p:nvPr/>
          </p:nvSpPr>
          <p:spPr>
            <a:xfrm rot="21060000">
              <a:off x="6675480" y="4351680"/>
              <a:ext cx="793440" cy="5508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525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9" name="AutoShape 13"/>
            <p:cNvSpPr/>
            <p:nvPr/>
          </p:nvSpPr>
          <p:spPr>
            <a:xfrm rot="21060000">
              <a:off x="6693840" y="4370400"/>
              <a:ext cx="748800" cy="50508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525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Calibri"/>
                  <a:ea typeface="华文新魏"/>
                  <a:hlinkClick r:id="rId3" action="ppaction://hlinksldjump"/>
                </a:rPr>
                <a:t>练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4881240" y="4344120"/>
            <a:ext cx="952560" cy="839520"/>
            <a:chOff x="4881240" y="4344120"/>
            <a:chExt cx="952560" cy="839520"/>
          </a:xfrm>
        </p:grpSpPr>
        <p:sp>
          <p:nvSpPr>
            <p:cNvPr id="61" name="AutoShape 15"/>
            <p:cNvSpPr/>
            <p:nvPr/>
          </p:nvSpPr>
          <p:spPr>
            <a:xfrm rot="20220000">
              <a:off x="4962240" y="4475520"/>
              <a:ext cx="790200" cy="57636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525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2" name="AutoShape 16"/>
            <p:cNvSpPr/>
            <p:nvPr/>
          </p:nvSpPr>
          <p:spPr>
            <a:xfrm rot="20220000">
              <a:off x="4980240" y="4495680"/>
              <a:ext cx="745920" cy="52848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525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Calibri"/>
                  <a:ea typeface="华文新魏"/>
                  <a:hlinkClick r:id="rId4" action="ppaction://hlinksldjump"/>
                </a:rPr>
                <a:t>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矩形 15"/>
          <p:cNvSpPr/>
          <p:nvPr/>
        </p:nvSpPr>
        <p:spPr>
          <a:xfrm>
            <a:off x="0" y="566136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内容占位符 2"/>
          <p:cNvSpPr/>
          <p:nvPr/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课文解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0" y="1868400"/>
            <a:ext cx="881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“我看见熊猫阿姨向长颈鹿小弟弟看了一眼，长颈鹿小弟弟马上踏着舞步在草地上跳舞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95280" y="3664080"/>
            <a:ext cx="763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从这句话中你读懂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95280" y="4421160"/>
            <a:ext cx="828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体会到动物们之间的默契，感受幼儿园小动物们的快乐心情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内容占位符 2"/>
          <p:cNvSpPr/>
          <p:nvPr/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课文解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0" y="171756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  我好像听见书里有一阵音乐传来了，我看见熊猫阿姨已经坐在钢琴前面，弹起好听的歌曲了；我看见小朋友们按照歌曲的节奏，踏着拍子了；我看见熊猫阿姨向长颈鹿小弟弟看了一眼，长颈鹿小弟弟马上踏着舞步在草地上跳舞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4920" y="4091040"/>
            <a:ext cx="896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段话运用了什么修辞手法？这样写有什么好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08000" y="5016600"/>
            <a:ext cx="835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段话描写的并不是作者真正听到和看到的，这样的描述是为了表现什么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内容占位符 2"/>
          <p:cNvSpPr/>
          <p:nvPr/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课文解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79280" y="1811160"/>
            <a:ext cx="8496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从下列句子中体会作者的心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“我赶紧把书翻下去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好像听见书里有一阵音乐传来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...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非常喜欢我们学校的阅览室，它原是一座钟楼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0" y="4292640"/>
            <a:ext cx="896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在钟楼里读书，作者认识了好多可爱的动物，被小动物们的快乐情绪感染着，这就是作者读这本书的乐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内容占位符 2"/>
          <p:cNvSpPr/>
          <p:nvPr/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课文解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24000" y="1844640"/>
            <a:ext cx="84960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非常喜欢我们学校的阅览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非常喜欢我们学校的阅览室，它原是一座钟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真的，我非常喜欢我们学校的阅览室，它以前是一座钟楼，现在楼上放着好多书架和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非常喜欢我们学校的阅览室。在很久以前，它是一座钟楼，有一口铜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9"/>
          <p:cNvSpPr/>
          <p:nvPr/>
        </p:nvSpPr>
        <p:spPr>
          <a:xfrm>
            <a:off x="3216960" y="5300640"/>
            <a:ext cx="3197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四句话中破折号的作用是表示话题的突然转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内容占位符 2"/>
          <p:cNvSpPr/>
          <p:nvPr/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梳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"/>
          <p:cNvSpPr/>
          <p:nvPr/>
        </p:nvSpPr>
        <p:spPr>
          <a:xfrm>
            <a:off x="826920" y="1932120"/>
            <a:ext cx="763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一部分（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~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然段）介绍了钟楼（学校阅览室）的位置、陈设和“我”对它的喜爱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"/>
          <p:cNvSpPr/>
          <p:nvPr/>
        </p:nvSpPr>
        <p:spPr>
          <a:xfrm>
            <a:off x="755640" y="3576600"/>
            <a:ext cx="777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二部分（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~1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然段）介绍“我”在钟楼读过得三本书和“我”的读书感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5"/>
          <p:cNvSpPr/>
          <p:nvPr/>
        </p:nvSpPr>
        <p:spPr>
          <a:xfrm>
            <a:off x="684360" y="4811760"/>
            <a:ext cx="791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三部分（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6~1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然段）写“我”在钟楼里展开的丰富想象，表达了对读书的喜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内容占位符 2"/>
          <p:cNvSpPr/>
          <p:nvPr/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主题概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611280" y="2637000"/>
            <a:ext cx="712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本文通过介绍在钟楼读书的经历，与读者分享读书的乐趣，表达了作者爱读书、乐读书的感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内容占位符 2"/>
          <p:cNvSpPr/>
          <p:nvPr/>
        </p:nvSpPr>
        <p:spPr>
          <a:xfrm>
            <a:off x="3234600" y="83664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写法点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95280" y="2347920"/>
            <a:ext cx="8353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从全文来看，先介绍学校、学校阅览室；再写自己读书享受到的乐趣；最后写我的理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539640" y="1700280"/>
            <a:ext cx="3311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写作顺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144360" y="4159080"/>
            <a:ext cx="8856360" cy="6382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我非常喜欢我们学校的阅览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这句话在文中出现了多次，这种写法叫“反复”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5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Qingwa_deskTX_1600-1200"/>
          <p:cNvPicPr/>
          <p:nvPr/>
        </p:nvPicPr>
        <p:blipFill>
          <a:blip r:embed="rId1"/>
          <a:stretch/>
        </p:blipFill>
        <p:spPr>
          <a:xfrm>
            <a:off x="683640" y="4397760"/>
            <a:ext cx="7776360" cy="2204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34" name="内容占位符 2"/>
          <p:cNvSpPr/>
          <p:nvPr/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拓展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11280" y="2276640"/>
            <a:ext cx="784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仿照“有一天，我看到一本书，里面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....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好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.....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写一段话，表达自己的真情实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内容占位符 2"/>
          <p:cNvSpPr/>
          <p:nvPr/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心灵感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"/>
          <p:cNvSpPr/>
          <p:nvPr/>
        </p:nvSpPr>
        <p:spPr>
          <a:xfrm>
            <a:off x="1116000" y="2421000"/>
            <a:ext cx="684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读书，使作者的视野不仅仅停留在家乡的大海和兴化湾；读书，使作者能够思接千载，视通万里；读书，使作者拥有一个又一个美好的梦想……让我们也像作者一样热爱读书吧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内容占位符 2"/>
          <p:cNvSpPr/>
          <p:nvPr/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随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"/>
          <p:cNvSpPr/>
          <p:nvPr/>
        </p:nvSpPr>
        <p:spPr>
          <a:xfrm>
            <a:off x="395280" y="1900080"/>
            <a:ext cx="8532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、填空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钟楼读书 ”以读书的感受为线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通过介绍在（ ）读书的经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与我们分享了（ ）的乐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表达（ ）、（ ）的情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4"/>
          <p:cNvSpPr/>
          <p:nvPr/>
        </p:nvSpPr>
        <p:spPr>
          <a:xfrm>
            <a:off x="395280" y="2924280"/>
            <a:ext cx="8280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二、把下面有关读书的名言补充完整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读书破万卷，（                                  ）             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--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杜  甫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读万卷书，（                                  ）                  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--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刘  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黑发不知勤学早，（                                  ）       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--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颜真卿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少壮不努力，（                                  ）  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---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汉乐府•长歌行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5"/>
          <p:cNvSpPr/>
          <p:nvPr/>
        </p:nvSpPr>
        <p:spPr>
          <a:xfrm>
            <a:off x="395280" y="4508640"/>
            <a:ext cx="7489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三、加标点，注意体会顿号和分号的用法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小刺猬弟弟  小白兔弟弟  小青蛙弟弟  都坐在幼儿园的小椅子上了  我赶紧把书再翻下去  看见小松鼠弟弟背起书包  从澳洲大沙漠跑来了  随后  看见长颈鹿小弟弟从非洲坐一条独木舟来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noFill/>
          </a:ln>
          <a:effectLst>
            <a:outerShdw dist="50760" dir="5400000" blurRad="50760" rotWithShape="0">
              <a:srgbClr val="948a54"/>
            </a:outerShdw>
          </a:effectLst>
        </p:spPr>
        <p:txBody>
          <a:bodyPr numCol="1" spcCol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资料宝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216000" y="3923640"/>
            <a:ext cx="4355640" cy="362520"/>
          </a:xfrm>
          <a:prstGeom prst="rect">
            <a:avLst/>
          </a:prstGeom>
          <a:solidFill>
            <a:srgbClr val="f3ff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8892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钟楼   中国旧时悬挂大钟的楼。城里钟楼的功能是击钟报时，寺院里钟楼还有击钟聚众等功能。近代西式建筑传入中国后，安装时钟的高层建筑物也称“钟楼”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acer\appdata\roaming\360se6\USERDA~1\Temp\T01FB1~1.JPG"/>
          <p:cNvPicPr/>
          <p:nvPr/>
        </p:nvPicPr>
        <p:blipFill>
          <a:blip r:embed="rId1"/>
          <a:stretch/>
        </p:blipFill>
        <p:spPr>
          <a:xfrm>
            <a:off x="4356000" y="1772640"/>
            <a:ext cx="2304000" cy="4536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67" name="Picture 3" descr="c:\users\lenovo\appdata\roaming\360se6\User Data\temp\t0197b2e5f42e6dc700.jpg"/>
          <p:cNvPicPr/>
          <p:nvPr/>
        </p:nvPicPr>
        <p:blipFill>
          <a:blip r:embed="rId2"/>
          <a:stretch/>
        </p:blipFill>
        <p:spPr>
          <a:xfrm>
            <a:off x="6660360" y="1772640"/>
            <a:ext cx="2411280" cy="4536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内容占位符 2"/>
          <p:cNvSpPr/>
          <p:nvPr/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随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"/>
          <p:cNvSpPr/>
          <p:nvPr/>
        </p:nvSpPr>
        <p:spPr>
          <a:xfrm>
            <a:off x="179280" y="1784520"/>
            <a:ext cx="828000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选词填空。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                         安慰    宽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安徒生老爷爷坐在马车上，脸上好像有一种（        ）的微笑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次考试没考好，妈妈（         ）我说：“不要紧，以后努力就行了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                        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沉思    深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他的脸上显着（        ）的样子，他在想着，给拇指姑娘一个胡桃壳雕成的小摇篮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环境保护，这是一个值得（         ）的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因为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所以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.        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如果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就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.     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无论……总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（       ）能够从兴化湾乘船出发，（      ）到安徒生老爷爷的故乡奥登塞去看看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        ）我爱读书，（        ）我经常去学校的阅览室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        ）遇到怎样的困难，他（        ）要坚持到最后一刻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5508720" y="2381400"/>
            <a:ext cx="129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宽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3324960" y="27082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安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/>
          <p:cNvSpPr/>
          <p:nvPr/>
        </p:nvSpPr>
        <p:spPr>
          <a:xfrm>
            <a:off x="2316960" y="32846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沉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3612960" y="38926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深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0"/>
          <p:cNvSpPr/>
          <p:nvPr/>
        </p:nvSpPr>
        <p:spPr>
          <a:xfrm>
            <a:off x="1020600" y="45086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如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1"/>
          <p:cNvSpPr/>
          <p:nvPr/>
        </p:nvSpPr>
        <p:spPr>
          <a:xfrm>
            <a:off x="4777560" y="45086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2"/>
          <p:cNvSpPr/>
          <p:nvPr/>
        </p:nvSpPr>
        <p:spPr>
          <a:xfrm>
            <a:off x="804960" y="51577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因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3"/>
          <p:cNvSpPr/>
          <p:nvPr/>
        </p:nvSpPr>
        <p:spPr>
          <a:xfrm>
            <a:off x="3036960" y="51166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所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804960" y="54450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无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5"/>
          <p:cNvSpPr/>
          <p:nvPr/>
        </p:nvSpPr>
        <p:spPr>
          <a:xfrm>
            <a:off x="4128480" y="54450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noFill/>
          </a:ln>
          <a:effectLst>
            <a:outerShdw dist="50760" dir="5400000" blurRad="50760" rotWithShape="0">
              <a:srgbClr val="948a54"/>
            </a:outerShdw>
          </a:effectLst>
        </p:spPr>
        <p:txBody>
          <a:bodyPr numCol="1" spcCol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资料宝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2143080"/>
            <a:ext cx="454608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42440" indent="-44244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爱斯基摩：出自印第安语，意思是“吃生肉的人”。因为历史上印第安人与爱斯基摩人又矛盾，所以这一名字含有贬义。爱斯基摩人自称为“因纽特人”，在爱斯基摩语中即“真正的人”之义。多住在北极圈内的格陵兰岛（丹麦）、加拿大的北冰洋沿岸和美国的阿拉斯加地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lenovo\appdata\roaming\360se6\User Data\temp\u=2225445562,3050227030&amp;fm=21&amp;gp=0.jpg"/>
          <p:cNvPicPr/>
          <p:nvPr/>
        </p:nvPicPr>
        <p:blipFill>
          <a:blip r:embed="rId1"/>
          <a:stretch/>
        </p:blipFill>
        <p:spPr>
          <a:xfrm>
            <a:off x="4716000" y="1845000"/>
            <a:ext cx="4032000" cy="4248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noFill/>
          </a:ln>
          <a:effectLst>
            <a:outerShdw dist="50760" dir="5400000" blurRad="50760" rotWithShape="0">
              <a:srgbClr val="948a54"/>
            </a:outerShdw>
          </a:effectLst>
        </p:spPr>
        <p:txBody>
          <a:bodyPr numCol="1" spcCol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字词乐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692280" y="2436840"/>
            <a:ext cx="7775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凤山    阅览        阿姨    白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澳洲    长颈鹿    爱斯基摩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渔叉    篮球        荔枝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1241280" y="5489640"/>
            <a:ext cx="72259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雪橇  刺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读一读"/>
          <p:cNvPicPr/>
          <p:nvPr/>
        </p:nvPicPr>
        <p:blipFill>
          <a:blip r:embed="rId1"/>
          <a:stretch/>
        </p:blipFill>
        <p:spPr>
          <a:xfrm>
            <a:off x="0" y="907920"/>
            <a:ext cx="248400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0"/>
          <p:cNvSpPr/>
          <p:nvPr/>
        </p:nvSpPr>
        <p:spPr>
          <a:xfrm>
            <a:off x="827640" y="2304360"/>
            <a:ext cx="734760" cy="240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模板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素材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背景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图表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教程： 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资料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范文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试卷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教案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论坛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语文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数学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英语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美术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科学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物理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化学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生物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地理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历史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noFill/>
          </a:ln>
          <a:effectLst>
            <a:outerShdw dist="50760" dir="5400000" blurRad="50760" rotWithShape="0">
              <a:srgbClr val="948a54"/>
            </a:outerShdw>
          </a:effectLst>
        </p:spPr>
        <p:txBody>
          <a:bodyPr numCol="1" spcCol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字词乐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987640" y="2133720"/>
            <a:ext cx="86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6443640" y="2093760"/>
            <a:ext cx="86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987640" y="2852640"/>
            <a:ext cx="86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2987640" y="3500280"/>
            <a:ext cx="86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6443640" y="2846520"/>
            <a:ext cx="86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6443640" y="3533760"/>
            <a:ext cx="86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2987640" y="4149720"/>
            <a:ext cx="86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6443640" y="4181400"/>
            <a:ext cx="86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2987640" y="4797360"/>
            <a:ext cx="86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6443640" y="4830840"/>
            <a:ext cx="86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接连接符 15"/>
          <p:cNvCxnSpPr>
            <a:stCxn id="77" idx="3"/>
          </p:cNvCxnSpPr>
          <p:nvPr/>
        </p:nvCxnSpPr>
        <p:spPr>
          <a:xfrm>
            <a:off x="3850920" y="2547720"/>
            <a:ext cx="2521440" cy="180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88" name="直接连接符 16"/>
          <p:cNvCxnSpPr/>
          <p:nvPr/>
        </p:nvCxnSpPr>
        <p:spPr>
          <a:xfrm>
            <a:off x="3850920" y="3213000"/>
            <a:ext cx="2521440" cy="162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89" name="直接连接符 17"/>
          <p:cNvCxnSpPr/>
          <p:nvPr/>
        </p:nvCxnSpPr>
        <p:spPr>
          <a:xfrm>
            <a:off x="3850920" y="3916080"/>
            <a:ext cx="2521440" cy="180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90" name="直接连接符 18"/>
          <p:cNvCxnSpPr/>
          <p:nvPr/>
        </p:nvCxnSpPr>
        <p:spPr>
          <a:xfrm>
            <a:off x="3850920" y="4563720"/>
            <a:ext cx="2521440" cy="180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91" name="直接连接符 19"/>
          <p:cNvCxnSpPr/>
          <p:nvPr/>
        </p:nvCxnSpPr>
        <p:spPr>
          <a:xfrm>
            <a:off x="3850920" y="5213160"/>
            <a:ext cx="2521440" cy="162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grpSp>
        <p:nvGrpSpPr>
          <p:cNvPr id="92" name="组合 21"/>
          <p:cNvGrpSpPr/>
          <p:nvPr/>
        </p:nvGrpSpPr>
        <p:grpSpPr>
          <a:xfrm>
            <a:off x="250920" y="907920"/>
            <a:ext cx="3058920" cy="2304720"/>
            <a:chOff x="250920" y="907920"/>
            <a:chExt cx="3058920" cy="2304720"/>
          </a:xfrm>
        </p:grpSpPr>
        <p:sp>
          <p:nvSpPr>
            <p:cNvPr id="93" name="爆炸形 2 22"/>
            <p:cNvSpPr/>
            <p:nvPr/>
          </p:nvSpPr>
          <p:spPr>
            <a:xfrm>
              <a:off x="250920" y="907920"/>
              <a:ext cx="3058920" cy="2304720"/>
            </a:xfrm>
            <a:prstGeom prst="irregularSeal2">
              <a:avLst/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4" name="矩形 23"/>
            <p:cNvSpPr/>
            <p:nvPr/>
          </p:nvSpPr>
          <p:spPr>
            <a:xfrm>
              <a:off x="318600" y="1484280"/>
              <a:ext cx="2702880" cy="1186920"/>
            </a:xfrm>
            <a:prstGeom prst="rect">
              <a:avLst/>
            </a:prstGeom>
            <a:noFill/>
            <a:ln w="0">
              <a:noFill/>
            </a:ln>
            <a:effectLst>
              <a:glow rad="228600">
                <a:srgbClr val="eb2722">
                  <a:alpha val="40000"/>
                </a:srgbClr>
              </a:glo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  <a:scene3d>
                <a:camera prst="orthographicFront"/>
                <a:lightRig dir="tl" rig="glow">
                  <a:rot lat="0" lon="0" rev="5400000"/>
                </a:lightRig>
              </a:scene3d>
              <a:sp3d contourW="12700">
                <a:bevelT w="25400" h="25400"/>
                <a:contourClr>
                  <a:schemeClr val="accent6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比一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读一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1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内容占位符 2"/>
          <p:cNvSpPr/>
          <p:nvPr/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预习检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468360" y="1773360"/>
            <a:ext cx="79912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”在钟楼读书，享受到了哪些乐趣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内容占位符 2"/>
          <p:cNvSpPr/>
          <p:nvPr/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课文解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24000" y="1916280"/>
            <a:ext cx="8677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小刺猬弟弟、小白兔弟弟、小青蛙弟弟，都坐在幼儿园的小椅子上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能不能把这句改成“小刺猬、小白兔、小青蛙都坐在幼儿园的椅子上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.....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24000" y="4149720"/>
            <a:ext cx="806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表达了作者对书中小动物们有什么样的感情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60360" y="5457960"/>
            <a:ext cx="774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作者对书中小动物们的喜爱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内容占位符 2"/>
          <p:cNvSpPr/>
          <p:nvPr/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课文解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95280" y="1844640"/>
            <a:ext cx="842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赶紧把书再翻下去，看见小松鼠弟弟背起书包，从 澳洲大沙漠跑来了；随后，看见长颈鹿小弟弟从非洲坐一条独木舟来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...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39640" y="4100400"/>
            <a:ext cx="7992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里的省略号省略了什么？你能仿照课文接着说一句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看见（             ）从（          ）。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内容占位符 2"/>
          <p:cNvSpPr/>
          <p:nvPr/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课文解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24000" y="1933560"/>
            <a:ext cx="842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....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看见小松鼠弟弟背起书包，从澳洲大沙漠跑来了；随后；随后，看见长颈鹿小弟弟从非洲坐一条独木舟来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...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24000" y="3279600"/>
            <a:ext cx="806400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      熊猫生活在哪里？看见从澳洲和非洲来的小动物，生活在中国的小动物心情会怎样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50920" y="4292640"/>
            <a:ext cx="6697440" cy="18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表达了作者怎样的感情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24000" y="4941720"/>
            <a:ext cx="604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表达了作者的喜悦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  <Words>1851</Words>
  <Paragraphs>1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/>
  <cp:keywords>第一PPT模板网-WWW.1PPT.COM</cp:keywords>
  <dc:language>en-US</dc:language>
  <cp:lastModifiedBy>123</cp:lastModifiedBy>
  <dcterms:modified xsi:type="dcterms:W3CDTF">2019-01-11T02:41:29Z</dcterms:modified>
  <cp:revision>3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21</vt:r8>
  </property>
</Properties>
</file>