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28922B7-6543-487A-AC1B-AA4C77360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20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BA6D1-3CA2-46CE-82BC-03112BE27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0D0-FC8D-4D85-8AE0-49D69D60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CA1-E1AE-475C-B36B-68C38EC0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427-B4F7-477E-96EC-A8B0DC9E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6B5-F85D-4780-9908-779ADB84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831-9380-4A44-B152-A1AC2BBA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71E-7A8A-4658-B8BE-132134E0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145-8936-4805-9434-B8828818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055-57D8-4E21-BB2A-89E8ECF5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858-C4F6-49FE-AD70-65BEE765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B60D-2D66-41F9-8709-87BA351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C40-899B-41F2-B2A2-61E9EF7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1A5-459C-411B-AAF4-C2802E11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同侧圆角矩形 1"/>
          <p:cNvSpPr/>
          <p:nvPr/>
        </p:nvSpPr>
        <p:spPr>
          <a:xfrm>
            <a:off x="468360" y="333360"/>
            <a:ext cx="8206920" cy="611928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ffffff">
              <a:alpha val="80000"/>
            </a:srgbClr>
          </a:solidFill>
          <a:ln>
            <a:solidFill>
              <a:srgbClr val="c00000">
                <a:alpha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EB6745-6BA7-42EE-8BCE-C2C5137EE0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image/faacb5645b18f0c0f73654a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C:/360&#23433;&#20840;&#27983;&#35272;&#22120;&#19979;&#36733;/&#29233;&#26159;&#20160;&#20040;_baofeng.avi" TargetMode="External"/><Relationship Id="rId2" Type="http://schemas.microsoft.com/office/2007/relationships/media" Target="file:///C:/360&#23433;&#20840;&#27983;&#35272;&#22120;&#19979;&#36733;/&#29233;&#26159;&#20160;&#20040;_baofeng.avi" TargetMode="External"/><Relationship Id="rId3" Type="http://schemas.openxmlformats.org/officeDocument/2006/relationships/image" Target="../media/image3.jpeg"/><Relationship Id="rId4" Type="http://schemas.openxmlformats.org/officeDocument/2006/relationships/audio" Target="file:///C:/Documents%20and%20Settings/Administrator/&#26700;&#38754;/&#29233;&#26159;&#20160;&#20040;_baofeng.mp3" TargetMode="External"/><Relationship Id="rId5" Type="http://schemas.microsoft.com/office/2007/relationships/media" Target="file:///C:/Documents%20and%20Settings/Administrator/&#26700;&#38754;/&#29233;&#26159;&#20160;&#20040;_baofeng.mp3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240" cy="122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240" cy="718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湘教版 四年级下册  语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736360" y="551016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是什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她轻轻搂着我，在我手上写出“我爱海伦”几个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她把我拉得更近些，指着我的心说：“爱在这里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老师把我搂得紧紧的，我觉得她的脸上挂着微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老师耐心地一次又一次地给我纠正。弄到最后，我发现有一大段穿错了，老师碰碰我的额头，拼写出一个“想”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700360" y="1484280"/>
            <a:ext cx="6109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39640" y="1052640"/>
            <a:ext cx="8064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有点像太阳，也有点像云彩。云彩你是摸不着的，但你却能感觉到雨，而且知道花草和土地干渴时得到雨水会多么高兴。爱也是摸不着的，但你却能感觉到她。没有爱，你就不快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8360" y="1515960"/>
            <a:ext cx="820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刹那间，我的心中充满甜蜜的感觉。我的身上好像洒满暖暖的阳光，我好像一株小芽儿，迎着小雨点儿在频频地点头，我感觉到像有许多金线把我和别人的心连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900000" y="1197000"/>
            <a:ext cx="2819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悟“爱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619280" y="1989000"/>
            <a:ext cx="686412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妈妈哼唱的歌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同学共用的雨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老师嘴角的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    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    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    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                        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63600" y="6350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571680" y="2300400"/>
            <a:ext cx="8103960" cy="1186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给人带来甘露和解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给人带来温暖和光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鲜花，能给人带来芳香和美丽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太阳，能给人带来光和热 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撇是和煦的春风，三点是晴天的细雨，秃宝盖像弯曲的手臂，把挚友抱在怀里。它，使世界变得美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打一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谜底：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1440000" y="234936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acb5645b18f0c0f73654a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173240"/>
            <a:ext cx="3123720" cy="5184360"/>
          </a:xfrm>
          <a:prstGeom prst="rect">
            <a:avLst/>
          </a:prstGeom>
          <a:ln w="9525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919680" y="2090880"/>
            <a:ext cx="4738320" cy="79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国盲聋女作家、教育家、慈善家、社会活动家。主要作品有《假如给我三天光明》、《我的生活》、《我的老师》等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272560" y="1438200"/>
            <a:ext cx="13557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凯勒   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700280"/>
            <a:ext cx="80593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爱是什么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边听边思考：课文主要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967120" y="3968640"/>
            <a:ext cx="3098520" cy="223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211640" y="50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delay="0" evt="onClick">
                    <p:tgtEl>
                      <p:spTgt spid="58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delay="0"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6067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447920" y="7650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39640" y="1825560"/>
            <a:ext cx="8135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文主要讲了“我”因为小时侯的一场重病，导致双耳———，双目——，与————————隔绝。盲哑学校的老师——用——的方法教“我”知识和人生道理，让我懂得了—————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740840" y="220500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失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020000" y="2216160"/>
            <a:ext cx="1007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失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204920" y="2878200"/>
            <a:ext cx="3024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声有色的世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824840" y="331308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萨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209040" y="3313080"/>
            <a:ext cx="455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特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5970600" y="38336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爱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一岁半时，我生了一场重病。从此，双耳失聪，双目失明，与有声有色的世界隔绝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同学们不妨想像一下：海伦会遇到一些什么困难？她可能会怎么想？怎样做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684360" y="3554280"/>
            <a:ext cx="788472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天，老师在海伦的手心写了“水”这个字，海伦总是没法子记下来。老师知道海伦的困难处在哪儿，她带着海伦走到喷水池边，要海伦把小手放在喷水孔下，让清凉的泉水溅溢在海伦的手上。接着，萨勒老师又在海伦的手心，写下“水”这个字，从此海伦就牢牢记住了，再也不会搞不清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450800" y="57960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资料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539640" y="333360"/>
            <a:ext cx="457164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800" spc="-1" strike="noStrike">
              <a:solidFill>
                <a:schemeClr val="accent2"/>
              </a:solidFill>
              <a:latin typeface="Arial"/>
              <a:ea typeface="宋体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71640" y="1916280"/>
            <a:ext cx="7488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萨勒老师替海伦找了一位专家，教导她利用双手去感受别人说话时嘴型的变化，以及鼻腔吸气、吐气的不同，来学习发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1700280"/>
            <a:ext cx="7632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默读课文，画出使自己感动的句子或段落，并在旁边空白的地方写上自己的感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www.7cxk.com0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ww.7cxk.com0</Template>
  <Manager>7C教育资源网www.7cxk.net</Manager>
  <TotalTime>269</TotalTime>
  <Application>LibreOffice/7.4.7.2$Linux_X86_64 LibreOffice_project/40$Build-2</Application>
  <AppVersion>15.0000</AppVersion>
  <Words>1061</Words>
  <Paragraphs>84</Paragraphs>
  <Company>7C教育资源网www.7cxk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第一PPT模板网-WWW.1PPT.COM</cp:category>
  <dcterms:created xsi:type="dcterms:W3CDTF">2010-03-17T13:35:40Z</dcterms:created>
  <dc:creator>第一PPT模板网-WWW.1PPT.COM</dc:creator>
  <dc:description>第一PPT模板网-WWW.1PPT.COM_x005F_x000d_
</dc:description>
  <cp:keywords>第一PPT模板网-WWW.1PPT.COM</cp:keywords>
  <dc:language>en-US</dc:language>
  <cp:lastModifiedBy>Windows 用户</cp:lastModifiedBy>
  <dcterms:modified xsi:type="dcterms:W3CDTF">2021-07-29T13:00:50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