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dt" idx="3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818B18-7005-414A-B01F-B7222557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CEB3C8A-DCDA-40AA-B411-75FDEDC0E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B0D-75E6-4E5C-8F73-363C60B4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744-01D4-44A3-A3BB-5D13EA14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6843F-450B-4E1F-96DD-DC73C80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1188-1462-4CE3-BB67-450B0141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505B8-2B60-4E50-B4C2-076072C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99C29-EAD6-4469-ACFD-4C2950F4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7973C-B41D-4286-BCB2-90AB30C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C698-5C73-4E17-BF7A-8740774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31937-8C7D-4098-AA41-F1FB66F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A56E-1A0E-4E7B-941E-A5AC7292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5B52F-8835-4A8B-A4B1-AEBB34AF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DE5FA-4A4C-4362-9168-51215931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142-0FDD-4541-83DE-DD6FB0AE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F0CC7-ACEB-4102-A55B-D64917B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404D4-B203-4CFB-B1D3-D97A2446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2417A-2133-40E4-8A0E-197096FB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793FA-1090-475B-B535-91A26D77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0D3A8-939F-4C04-A6CF-665C09E4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3DD57-D361-4FC5-84FA-CDB0CCA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EAA32-2772-4297-B566-F03FD8B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8C7ED-9A4F-4CBC-BE7E-64ADAB1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5EB33-EF1D-4654-A2B4-0DF2AAEF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0E67-739A-454D-BEB7-B490F77A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30C-207A-4E41-8F30-6695EE01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BD96C-0408-4192-B77D-8BCF7DAB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0DB7D-C38D-4D5E-A373-913C47DB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36B4F-C665-494A-85E9-83C5F315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C900-8FC0-44EE-92DD-E7D1B6A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248F1-C54A-4416-B434-D26AB793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34689-F556-40DB-8E6A-9B79408E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3732A-6C1B-4F1B-91D2-F73A01FB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3106C-C7E6-4101-A10D-D99E0B1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64CD6-E3BA-4B01-AA98-1C4FF4C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3B85-5BA8-4247-99BE-F0125E7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8043-0C0F-4DCE-B3F2-A18017A9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64A09-75FF-4BF2-A528-46FA7C8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A95D-B8B0-44BA-A4AD-6B080A83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E2E38-9CAF-4A49-A2B8-40E8414F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32474-1263-4E57-85F9-095B75EB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E9898-04DA-431C-A3ED-7FE94D05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C974D-4A89-4896-86DA-64496551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EE96E-F5BF-4126-942E-55ED716A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E1348-7111-4ED0-B7DF-ECE06FB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A826F-6029-405D-84D3-EF55E94F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9C5E7-4ED1-4880-A750-D1D68A2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561E-130F-49BA-858A-36AF69A1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D29C9-8F3B-414E-8A2C-3B6875E1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A9048-9860-4203-B5C0-597619B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77424-0870-4231-B82A-E75845D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37B8C-F84D-427E-874E-D277C92E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D455A-63FC-430C-9F53-F50A8B9D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6B0F-0BE4-474A-AD13-CF300FA9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AD16-947D-4542-9865-CE5D8C37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28AD-D9B8-486B-A351-9088ECA7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7BC5-D223-4216-B3A4-F8A5DEC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F175-3396-495D-A01E-BAEC5A8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E7C-9CBD-4317-8067-9CC96790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39B5-168C-440F-8F7C-09CAAE6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0378-7D10-4B7D-B710-EE10A9B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8FBB-4FBA-42A9-8964-0E682A1D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07B-C1C6-41E0-BB73-46C7E2A6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0568-1E64-4B13-862C-AE938BAA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BF39-A84F-4E92-9082-A76503D0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EA28-3155-42EF-911A-87D21269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22B8-8EB9-405D-96B3-2EEE888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F37C-3E0B-447B-8917-4AE2A624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F3A4-EAE3-40ED-A4AF-D1751024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481-74C6-4E28-8F1A-5F4490E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231C-2D01-477F-BA7D-A87E2B3A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8358-1A6D-4B33-A391-B183E2F4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ADA6-AFA3-412B-A628-DD6E08F7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1730-8DB3-479E-8634-9B9B1DB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79FC-B795-40A0-84B1-9263539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B1C7-1AE5-435A-808D-2EB6E701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12D7-DD5A-4139-B10C-C5BBA5CC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F60F-20D0-4E16-9912-224D4000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AA91-FD47-4A78-948E-66BD361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2646-B88B-48EF-A1A4-1853F57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624-FDB7-440B-BBE1-25151C10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C147-0430-42DB-9B2A-772BCBC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F734-784C-4497-ADD8-922EE06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242A-7E1D-4A09-A63B-FDB922DF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2D035-25AC-4209-B9A6-84E32278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8FCE-47FE-4F09-9342-DF59CFB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F6DD-E94E-4C94-BF4B-3C0FF1A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7D76-BD09-4424-8B31-AD47A159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D02C-4E59-4CFF-89D4-E525F1DF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3C1F-3E6B-491E-8ABD-4C6C201E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FF69-BD0C-4D48-89A1-EC70B704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203-B084-4088-B1A9-F35441CF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27FB-7A6E-4C69-B659-BB403E3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8223-D12A-40E3-BDC1-329E2EF6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8F71-804D-4C9B-96E0-2B6083F9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F0D70-ABEE-4864-8D3F-F582A0CA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537A-ADB5-435A-9270-9E58770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5739D-56FF-469B-B908-15FEC29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7DD3-D1FD-4814-B978-C099C0D3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3459-4864-4FAB-BFA6-AAB84C9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B76C-3F45-4F82-A918-9FF7DD21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4A50-AEDB-4E64-8004-F1C31151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5CB-D53C-41D7-B45C-04B1794D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4197-BCCE-44C2-B23F-07785D57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66588-4C2D-470F-9685-1AFE2C15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5378-F6EF-4503-A77A-9DEF345B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C99CD-0579-4662-A452-7F5C7233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22A9F-BB1F-4608-8CC7-57E25D6D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461C-FB20-44CB-B9B8-F3AB86CA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CCCBE-BAA7-4BA1-BB91-DAE4749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ECB4-C37D-4689-83BE-EE9DC5D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0DF1B-ABF1-4F92-8051-F49FB94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6819-BD2D-4B2D-8557-6F78457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C21-D4D6-48D1-831E-1ACD590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2C5E9-DE3B-4C24-90FB-34ECD2E4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F740D-6588-4D5F-9807-36787427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DDC6-DC8D-484A-947A-03112149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2648F-CF45-44EB-B0BC-27A2DA38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1F634-2BD3-4B0C-AA71-3311D153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8F6D-56DA-43F5-BD98-3CCCDFA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35F6-7D7B-404B-AEF2-A0F38779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A4C4C-F960-4B49-BACE-F3A77EC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71AB7-31F9-4F36-8619-2F0A3513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42B5D-AFFE-4539-98AD-C19E151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C27-CABC-4D2A-9B96-12177710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F8CF-3382-4952-A1B1-991435C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E39D-D896-491F-B579-B76DF5B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98C35-56B4-4BDA-8D37-46B092E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0996-2B87-4FC2-9625-31EE5BD5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A0689-2E82-4DCB-B285-8AAB99C6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B7F8-3D83-416D-8BE3-1E714DFA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A64F-4585-4A8A-A987-D7D3A72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3C3A6-3588-4680-BD19-CAF4F95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193B9-C88F-4837-B9EF-C41D7EEE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310B-88C8-4008-BE4C-D2EFE02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079-6446-44D6-A488-E8563FA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9FCAC-3B0D-4EEF-837B-7C6F9D78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1A5C-BFA5-431E-9379-981807E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547F-49B7-4B7B-A517-5241B23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45382-3E88-45A5-A4D0-A518F40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E99AC-996F-4269-BE6F-A84D8441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88D16-56A5-43F6-9348-8260DFAA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9BB7-F3CB-4719-B343-E7AD5B6A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843FA-340A-472E-A195-EA69861F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1164A-9AA1-44BB-87FC-CEDF6CFE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134BC-F1B8-4E6A-87C6-82C35912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2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5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C1FDEE7-C488-4B88-BFAB-8D67EA1BBDD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24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425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6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27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428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28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30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0A12EC4-3563-456B-96B4-257C6AABEE9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71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472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3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74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475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3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1205B7B-92C6-49CD-B92B-0294431D965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8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519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0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21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522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dt" idx="3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C726408-7AAF-4820-832A-23FAFBC4A41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49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52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BB4595E-056A-4986-A10C-F52BFC1B16A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5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96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8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99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66AFEDF-1D28-4F9E-9144-431379447DA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2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143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5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146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C60ACE6-661A-418D-AE41-4A48050D9F7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9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190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2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193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5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BBBB25B-AEBA-43DB-A6E8-7844E06CDC2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6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237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8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9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240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AD3AB26-6749-430A-B64B-DC7C0EFC05C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83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284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5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86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287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9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1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AD3B34F-E9B2-41AE-9CF1-C1FDB2132EF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30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331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33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334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2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4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E38F6DF-671B-484D-904A-11155DCA3CA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77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2757600" y="1312560"/>
            <a:ext cx="6105240" cy="3701520"/>
          </a:xfrm>
          <a:prstGeom prst="rect">
            <a:avLst/>
          </a:prstGeom>
          <a:ln w="9525">
            <a:noFill/>
          </a:ln>
        </p:spPr>
      </p:pic>
      <p:sp>
        <p:nvSpPr>
          <p:cNvPr id="378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9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80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sp>
        <p:nvSpPr>
          <p:cNvPr id="381" name="矩形 8"/>
          <p:cNvSpPr/>
          <p:nvPr/>
        </p:nvSpPr>
        <p:spPr>
          <a:xfrm>
            <a:off x="5817960" y="281160"/>
            <a:ext cx="222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湖北教育出版社 二年级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5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7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8BEDB77-73F3-400D-8159-69CD9DB98F5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in/&#28418;&#20142;&#34676;&#34678;.f4v" TargetMode="External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14"/>
          <p:cNvSpPr/>
          <p:nvPr/>
        </p:nvSpPr>
        <p:spPr>
          <a:xfrm>
            <a:off x="0" y="84096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71" name="图片 6" descr=""/>
          <p:cNvPicPr/>
          <p:nvPr/>
        </p:nvPicPr>
        <p:blipFill>
          <a:blip r:embed="rId1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9525">
            <a:noFill/>
          </a:ln>
        </p:spPr>
      </p:pic>
      <p:grpSp>
        <p:nvGrpSpPr>
          <p:cNvPr id="572" name="组合 8"/>
          <p:cNvGrpSpPr/>
          <p:nvPr/>
        </p:nvGrpSpPr>
        <p:grpSpPr>
          <a:xfrm>
            <a:off x="783720" y="1833120"/>
            <a:ext cx="4397400" cy="1738800"/>
            <a:chOff x="783720" y="1833120"/>
            <a:chExt cx="4397400" cy="1738800"/>
          </a:xfrm>
        </p:grpSpPr>
        <p:sp>
          <p:nvSpPr>
            <p:cNvPr id="573" name="矩形 24"/>
            <p:cNvSpPr/>
            <p:nvPr/>
          </p:nvSpPr>
          <p:spPr>
            <a:xfrm>
              <a:off x="1639080" y="1833120"/>
              <a:ext cx="2686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单元 </a:t>
              </a:r>
              <a:r>
                <a:rPr b="1" lang="en-US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 </a:t>
              </a: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6</a:t>
              </a: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2"/>
            <p:cNvSpPr/>
            <p:nvPr/>
          </p:nvSpPr>
          <p:spPr>
            <a:xfrm>
              <a:off x="783720" y="2659320"/>
              <a:ext cx="4397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5400" spc="299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变成什么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5" name="图片 2" descr=""/>
          <p:cNvPicPr/>
          <p:nvPr/>
        </p:nvPicPr>
        <p:blipFill>
          <a:blip r:embed="rId2"/>
          <a:stretch/>
        </p:blipFill>
        <p:spPr>
          <a:xfrm>
            <a:off x="6109920" y="1523880"/>
            <a:ext cx="3034080" cy="4472640"/>
          </a:xfrm>
          <a:prstGeom prst="rect">
            <a:avLst/>
          </a:prstGeom>
          <a:ln w="0">
            <a:noFill/>
          </a:ln>
        </p:spPr>
      </p:pic>
      <p:sp>
        <p:nvSpPr>
          <p:cNvPr id="576" name="矩形 7"/>
          <p:cNvSpPr/>
          <p:nvPr/>
        </p:nvSpPr>
        <p:spPr>
          <a:xfrm>
            <a:off x="1455840" y="552672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5"/>
          <p:cNvSpPr/>
          <p:nvPr/>
        </p:nvSpPr>
        <p:spPr>
          <a:xfrm>
            <a:off x="439200" y="1622880"/>
            <a:ext cx="7184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一只蝴蝶吧！蝴蝶倒是很       ，但是蝴蝶都活不长久。还是不变成蝴蝶好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>
            <a:hlinkClick r:id="rId1"/>
          </p:cNvPr>
          <p:cNvSpPr/>
          <p:nvPr/>
        </p:nvSpPr>
        <p:spPr>
          <a:xfrm>
            <a:off x="5546160" y="2498400"/>
            <a:ext cx="93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漂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2813040" y="4667400"/>
            <a:ext cx="419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活不长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直接连接符 2"/>
          <p:cNvCxnSpPr/>
          <p:nvPr/>
        </p:nvCxnSpPr>
        <p:spPr>
          <a:xfrm>
            <a:off x="5520240" y="3025080"/>
            <a:ext cx="84672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296640" y="1351440"/>
            <a:ext cx="83959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要想               ，最好变成乌龟。可是，乌龟              ，也不能变成乌龟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534960" y="3245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3351960" y="2498040"/>
            <a:ext cx="194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活得长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2899440" y="3910680"/>
            <a:ext cx="25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走路太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直接连接符 6"/>
          <p:cNvCxnSpPr/>
          <p:nvPr/>
        </p:nvCxnSpPr>
        <p:spPr>
          <a:xfrm>
            <a:off x="3327480" y="3103560"/>
            <a:ext cx="144540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644" name="直接连接符 8"/>
          <p:cNvCxnSpPr/>
          <p:nvPr/>
        </p:nvCxnSpPr>
        <p:spPr>
          <a:xfrm>
            <a:off x="2928600" y="4553280"/>
            <a:ext cx="139320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55160" y="1293840"/>
            <a:ext cx="7406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还是变蚂蚁吧！蚂蚁           。哦，不行，蚂蚁会           的呀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424120" y="2560680"/>
            <a:ext cx="16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爬得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3656160" y="3873240"/>
            <a:ext cx="142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被人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直接连接符 5"/>
          <p:cNvCxnSpPr/>
          <p:nvPr/>
        </p:nvCxnSpPr>
        <p:spPr>
          <a:xfrm>
            <a:off x="3825360" y="4437360"/>
            <a:ext cx="89244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650" name="直接连接符 6"/>
          <p:cNvCxnSpPr/>
          <p:nvPr/>
        </p:nvCxnSpPr>
        <p:spPr>
          <a:xfrm>
            <a:off x="5391360" y="3108240"/>
            <a:ext cx="92736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-522360" y="1676520"/>
            <a:ext cx="90486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变成鸟儿吧。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可是鸟儿吃虫子，这                 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4555080" y="3468960"/>
            <a:ext cx="222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点恶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4168800" y="1863000"/>
            <a:ext cx="458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鸟儿整天玩玩，唱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4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直接连接符 5"/>
          <p:cNvCxnSpPr/>
          <p:nvPr/>
        </p:nvCxnSpPr>
        <p:spPr>
          <a:xfrm>
            <a:off x="4654080" y="2415240"/>
            <a:ext cx="273744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656" name="直接连接符 7"/>
          <p:cNvCxnSpPr/>
          <p:nvPr/>
        </p:nvCxnSpPr>
        <p:spPr>
          <a:xfrm flipV="1">
            <a:off x="4555080" y="4115160"/>
            <a:ext cx="1573920" cy="172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7"/>
          <p:cNvSpPr/>
          <p:nvPr/>
        </p:nvSpPr>
        <p:spPr>
          <a:xfrm>
            <a:off x="142200" y="1586160"/>
            <a:ext cx="85028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成一头大象倒是               。可是，那怎么走进现在的家呢？我喜欢现在的家，又舒服又安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5000040" y="2393640"/>
            <a:ext cx="242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挺不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3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0" name="直接连接符 4"/>
          <p:cNvCxnSpPr/>
          <p:nvPr/>
        </p:nvCxnSpPr>
        <p:spPr>
          <a:xfrm>
            <a:off x="5027040" y="2978280"/>
            <a:ext cx="122148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228960" y="664920"/>
            <a:ext cx="6640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做老鼠是不太好。不过我至少知道该怎么做。变成别的东西，说不定更糟呢！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7" descr="2_副本"/>
          <p:cNvPicPr/>
          <p:nvPr/>
        </p:nvPicPr>
        <p:blipFill>
          <a:blip r:embed="rId1"/>
          <a:stretch/>
        </p:blipFill>
        <p:spPr>
          <a:xfrm>
            <a:off x="5351040" y="3048120"/>
            <a:ext cx="3782520" cy="380952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9"/>
          <p:cNvSpPr/>
          <p:nvPr/>
        </p:nvSpPr>
        <p:spPr>
          <a:xfrm>
            <a:off x="2683800" y="3906000"/>
            <a:ext cx="2666520" cy="1105920"/>
          </a:xfrm>
          <a:prstGeom prst="flowChartMagneticTape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得快活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"/>
          <p:cNvSpPr/>
          <p:nvPr/>
        </p:nvSpPr>
        <p:spPr>
          <a:xfrm>
            <a:off x="311760" y="2467080"/>
            <a:ext cx="5049000" cy="1325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会本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字，会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生字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、流利的朗读课文，理解生字组成词语的意思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解课文内容，正确看待自己，感受快乐，学会欣赏自己的优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3"/>
          <p:cNvSpPr/>
          <p:nvPr/>
        </p:nvSpPr>
        <p:spPr>
          <a:xfrm>
            <a:off x="33516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2_副本"/>
          <p:cNvPicPr/>
          <p:nvPr/>
        </p:nvPicPr>
        <p:blipFill>
          <a:blip r:embed="rId1"/>
          <a:stretch/>
        </p:blipFill>
        <p:spPr>
          <a:xfrm>
            <a:off x="5361120" y="1260000"/>
            <a:ext cx="37825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1"/>
          <p:cNvSpPr/>
          <p:nvPr/>
        </p:nvSpPr>
        <p:spPr>
          <a:xfrm>
            <a:off x="890640" y="1808280"/>
            <a:ext cx="6174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生自读课文，圈出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课文，说说文章的主要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初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http://wenwen.soso.com/p/20110521/20110521150346-844988269.jpg"/>
          <p:cNvPicPr/>
          <p:nvPr/>
        </p:nvPicPr>
        <p:blipFill>
          <a:blip r:embed="rId1"/>
          <a:stretch/>
        </p:blipFill>
        <p:spPr>
          <a:xfrm>
            <a:off x="1679040" y="2254320"/>
            <a:ext cx="1628280" cy="2161800"/>
          </a:xfrm>
          <a:prstGeom prst="rect">
            <a:avLst/>
          </a:prstGeom>
          <a:ln w="9525">
            <a:noFill/>
          </a:ln>
        </p:spPr>
      </p:pic>
      <p:pic>
        <p:nvPicPr>
          <p:cNvPr id="583" name="Picture 2" descr="http://wenwen.soso.com/p/20110521/20110521150346-844988269.jpg"/>
          <p:cNvPicPr/>
          <p:nvPr/>
        </p:nvPicPr>
        <p:blipFill>
          <a:blip r:embed="rId2"/>
          <a:stretch/>
        </p:blipFill>
        <p:spPr>
          <a:xfrm>
            <a:off x="4054680" y="2310480"/>
            <a:ext cx="1628280" cy="2161800"/>
          </a:xfrm>
          <a:prstGeom prst="rect">
            <a:avLst/>
          </a:prstGeom>
          <a:ln w="9525">
            <a:noFill/>
          </a:ln>
        </p:spPr>
      </p:pic>
      <p:pic>
        <p:nvPicPr>
          <p:cNvPr id="584" name="Picture 2" descr="http://wenwen.soso.com/p/20110521/20110521150346-844988269.jpg"/>
          <p:cNvPicPr/>
          <p:nvPr/>
        </p:nvPicPr>
        <p:blipFill>
          <a:blip r:embed="rId3"/>
          <a:stretch/>
        </p:blipFill>
        <p:spPr>
          <a:xfrm>
            <a:off x="6451200" y="2351880"/>
            <a:ext cx="1628280" cy="2161800"/>
          </a:xfrm>
          <a:prstGeom prst="rect">
            <a:avLst/>
          </a:prstGeom>
          <a:ln w="9525">
            <a:noFill/>
          </a:ln>
        </p:spPr>
      </p:pic>
      <p:sp>
        <p:nvSpPr>
          <p:cNvPr id="585" name="TextBox 8"/>
          <p:cNvSpPr/>
          <p:nvPr/>
        </p:nvSpPr>
        <p:spPr>
          <a:xfrm>
            <a:off x="1789200" y="2550600"/>
            <a:ext cx="126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4129200" y="2593440"/>
            <a:ext cx="1244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6532920" y="2647800"/>
            <a:ext cx="131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1897200" y="1540440"/>
            <a:ext cx="1391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4326120" y="1532880"/>
            <a:ext cx="115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5"/>
          <p:cNvSpPr/>
          <p:nvPr/>
        </p:nvSpPr>
        <p:spPr>
          <a:xfrm>
            <a:off x="6847560" y="1440720"/>
            <a:ext cx="1096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5"/>
          <p:cNvSpPr/>
          <p:nvPr/>
        </p:nvSpPr>
        <p:spPr>
          <a:xfrm>
            <a:off x="1707480" y="4416480"/>
            <a:ext cx="1599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师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6"/>
          <p:cNvSpPr/>
          <p:nvPr/>
        </p:nvSpPr>
        <p:spPr>
          <a:xfrm>
            <a:off x="4054680" y="4514040"/>
            <a:ext cx="1393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7"/>
          <p:cNvSpPr/>
          <p:nvPr/>
        </p:nvSpPr>
        <p:spPr>
          <a:xfrm>
            <a:off x="6440760" y="4514040"/>
            <a:ext cx="1599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回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8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字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15"/>
          <p:cNvSpPr/>
          <p:nvPr/>
        </p:nvSpPr>
        <p:spPr>
          <a:xfrm>
            <a:off x="4313880" y="404244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http://wenwen.soso.com/p/20110521/20110521150346-844988269.jpg"/>
          <p:cNvPicPr/>
          <p:nvPr/>
        </p:nvPicPr>
        <p:blipFill>
          <a:blip r:embed="rId1"/>
          <a:stretch/>
        </p:blipFill>
        <p:spPr>
          <a:xfrm>
            <a:off x="1679040" y="2254320"/>
            <a:ext cx="1628280" cy="2161800"/>
          </a:xfrm>
          <a:prstGeom prst="rect">
            <a:avLst/>
          </a:prstGeom>
          <a:ln w="9525">
            <a:noFill/>
          </a:ln>
        </p:spPr>
      </p:pic>
      <p:pic>
        <p:nvPicPr>
          <p:cNvPr id="597" name="Picture 2" descr="http://wenwen.soso.com/p/20110521/20110521150346-844988269.jpg"/>
          <p:cNvPicPr/>
          <p:nvPr/>
        </p:nvPicPr>
        <p:blipFill>
          <a:blip r:embed="rId2"/>
          <a:stretch/>
        </p:blipFill>
        <p:spPr>
          <a:xfrm>
            <a:off x="4054680" y="2310480"/>
            <a:ext cx="1628280" cy="2161800"/>
          </a:xfrm>
          <a:prstGeom prst="rect">
            <a:avLst/>
          </a:prstGeom>
          <a:ln w="9525">
            <a:noFill/>
          </a:ln>
        </p:spPr>
      </p:pic>
      <p:pic>
        <p:nvPicPr>
          <p:cNvPr id="598" name="Picture 2" descr="http://wenwen.soso.com/p/20110521/20110521150346-844988269.jpg"/>
          <p:cNvPicPr/>
          <p:nvPr/>
        </p:nvPicPr>
        <p:blipFill>
          <a:blip r:embed="rId3"/>
          <a:stretch/>
        </p:blipFill>
        <p:spPr>
          <a:xfrm>
            <a:off x="6451200" y="2351880"/>
            <a:ext cx="1628280" cy="2161800"/>
          </a:xfrm>
          <a:prstGeom prst="rect">
            <a:avLst/>
          </a:prstGeom>
          <a:ln w="9525">
            <a:noFill/>
          </a:ln>
        </p:spPr>
      </p:pic>
      <p:sp>
        <p:nvSpPr>
          <p:cNvPr id="599" name="TextBox 8"/>
          <p:cNvSpPr/>
          <p:nvPr/>
        </p:nvSpPr>
        <p:spPr>
          <a:xfrm>
            <a:off x="1789200" y="2550600"/>
            <a:ext cx="126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0"/>
          <p:cNvSpPr/>
          <p:nvPr/>
        </p:nvSpPr>
        <p:spPr>
          <a:xfrm>
            <a:off x="4129200" y="2593440"/>
            <a:ext cx="1244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1"/>
          <p:cNvSpPr/>
          <p:nvPr/>
        </p:nvSpPr>
        <p:spPr>
          <a:xfrm>
            <a:off x="6532920" y="2647800"/>
            <a:ext cx="131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2"/>
          <p:cNvSpPr/>
          <p:nvPr/>
        </p:nvSpPr>
        <p:spPr>
          <a:xfrm>
            <a:off x="1915920" y="1482480"/>
            <a:ext cx="1391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u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4"/>
          <p:cNvSpPr/>
          <p:nvPr/>
        </p:nvSpPr>
        <p:spPr>
          <a:xfrm>
            <a:off x="4313880" y="1440720"/>
            <a:ext cx="115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5"/>
          <p:cNvSpPr/>
          <p:nvPr/>
        </p:nvSpPr>
        <p:spPr>
          <a:xfrm>
            <a:off x="6847560" y="1440720"/>
            <a:ext cx="1096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5"/>
          <p:cNvSpPr/>
          <p:nvPr/>
        </p:nvSpPr>
        <p:spPr>
          <a:xfrm>
            <a:off x="1707480" y="4503600"/>
            <a:ext cx="1599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乌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神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6"/>
          <p:cNvSpPr/>
          <p:nvPr/>
        </p:nvSpPr>
        <p:spPr>
          <a:xfrm>
            <a:off x="4054680" y="4514040"/>
            <a:ext cx="1393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慢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7"/>
          <p:cNvSpPr/>
          <p:nvPr/>
        </p:nvSpPr>
        <p:spPr>
          <a:xfrm>
            <a:off x="6440760" y="4514040"/>
            <a:ext cx="1599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辛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辛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8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字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http://wenwen.soso.com/p/20110521/20110521150346-844988269.jpg"/>
          <p:cNvPicPr/>
          <p:nvPr/>
        </p:nvPicPr>
        <p:blipFill>
          <a:blip r:embed="rId1"/>
          <a:stretch/>
        </p:blipFill>
        <p:spPr>
          <a:xfrm>
            <a:off x="1679040" y="2254320"/>
            <a:ext cx="1628280" cy="2161800"/>
          </a:xfrm>
          <a:prstGeom prst="rect">
            <a:avLst/>
          </a:prstGeom>
          <a:ln w="9525">
            <a:noFill/>
          </a:ln>
        </p:spPr>
      </p:pic>
      <p:pic>
        <p:nvPicPr>
          <p:cNvPr id="610" name="Picture 2" descr="http://wenwen.soso.com/p/20110521/20110521150346-844988269.jpg"/>
          <p:cNvPicPr/>
          <p:nvPr/>
        </p:nvPicPr>
        <p:blipFill>
          <a:blip r:embed="rId2"/>
          <a:stretch/>
        </p:blipFill>
        <p:spPr>
          <a:xfrm>
            <a:off x="4054680" y="2310480"/>
            <a:ext cx="1628280" cy="2161800"/>
          </a:xfrm>
          <a:prstGeom prst="rect">
            <a:avLst/>
          </a:prstGeom>
          <a:ln w="9525">
            <a:noFill/>
          </a:ln>
        </p:spPr>
      </p:pic>
      <p:pic>
        <p:nvPicPr>
          <p:cNvPr id="611" name="Picture 2" descr="http://wenwen.soso.com/p/20110521/20110521150346-844988269.jpg"/>
          <p:cNvPicPr/>
          <p:nvPr/>
        </p:nvPicPr>
        <p:blipFill>
          <a:blip r:embed="rId3"/>
          <a:stretch/>
        </p:blipFill>
        <p:spPr>
          <a:xfrm>
            <a:off x="6451200" y="2351880"/>
            <a:ext cx="1628280" cy="2161800"/>
          </a:xfrm>
          <a:prstGeom prst="rect">
            <a:avLst/>
          </a:prstGeom>
          <a:ln w="9525">
            <a:noFill/>
          </a:ln>
        </p:spPr>
      </p:pic>
      <p:sp>
        <p:nvSpPr>
          <p:cNvPr id="612" name="TextBox 8"/>
          <p:cNvSpPr/>
          <p:nvPr/>
        </p:nvSpPr>
        <p:spPr>
          <a:xfrm>
            <a:off x="1789200" y="2550600"/>
            <a:ext cx="126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0"/>
          <p:cNvSpPr/>
          <p:nvPr/>
        </p:nvSpPr>
        <p:spPr>
          <a:xfrm>
            <a:off x="4208040" y="2593440"/>
            <a:ext cx="124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6595560" y="2647800"/>
            <a:ext cx="1251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2"/>
          <p:cNvSpPr/>
          <p:nvPr/>
        </p:nvSpPr>
        <p:spPr>
          <a:xfrm>
            <a:off x="1897200" y="1484280"/>
            <a:ext cx="1391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4"/>
          <p:cNvSpPr/>
          <p:nvPr/>
        </p:nvSpPr>
        <p:spPr>
          <a:xfrm>
            <a:off x="4359600" y="1440720"/>
            <a:ext cx="115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ǎ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5"/>
          <p:cNvSpPr/>
          <p:nvPr/>
        </p:nvSpPr>
        <p:spPr>
          <a:xfrm>
            <a:off x="6847560" y="1440720"/>
            <a:ext cx="1096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ì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5"/>
          <p:cNvSpPr/>
          <p:nvPr/>
        </p:nvSpPr>
        <p:spPr>
          <a:xfrm>
            <a:off x="1707480" y="4416480"/>
            <a:ext cx="1599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劳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辛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6"/>
          <p:cNvSpPr/>
          <p:nvPr/>
        </p:nvSpPr>
        <p:spPr>
          <a:xfrm>
            <a:off x="4054680" y="4514040"/>
            <a:ext cx="1393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踩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踩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7"/>
          <p:cNvSpPr/>
          <p:nvPr/>
        </p:nvSpPr>
        <p:spPr>
          <a:xfrm>
            <a:off x="6440760" y="4514040"/>
            <a:ext cx="1599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8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字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6"/>
          <p:cNvSpPr/>
          <p:nvPr/>
        </p:nvSpPr>
        <p:spPr>
          <a:xfrm>
            <a:off x="985680" y="1748880"/>
            <a:ext cx="7386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由朗读课文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—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，找一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老鼠想变成哪些动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想变成这些动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后又为什么没有变成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表格 2"/>
          <p:cNvGraphicFramePr/>
          <p:nvPr/>
        </p:nvGraphicFramePr>
        <p:xfrm>
          <a:off x="724320" y="2199600"/>
          <a:ext cx="7872840" cy="4429440"/>
        </p:xfrm>
        <a:graphic>
          <a:graphicData uri="http://schemas.openxmlformats.org/drawingml/2006/table">
            <a:tbl>
              <a:tblPr/>
              <a:tblGrid>
                <a:gridCol w="2559600"/>
                <a:gridCol w="3258360"/>
                <a:gridCol w="2054880"/>
              </a:tblGrid>
              <a:tr h="575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想变成哪些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想变成这些动物的原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没有变成的原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11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11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11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11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20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2216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625" name="TextBox 1"/>
          <p:cNvSpPr/>
          <p:nvPr/>
        </p:nvSpPr>
        <p:spPr>
          <a:xfrm>
            <a:off x="1229040" y="1468440"/>
            <a:ext cx="695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-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，想一想，试着填一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3"/>
          <p:cNvSpPr/>
          <p:nvPr/>
        </p:nvSpPr>
        <p:spPr>
          <a:xfrm>
            <a:off x="240120" y="1093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蝴蝶_副本"/>
          <p:cNvPicPr/>
          <p:nvPr/>
        </p:nvPicPr>
        <p:blipFill>
          <a:blip r:embed="rId1"/>
          <a:stretch/>
        </p:blipFill>
        <p:spPr>
          <a:xfrm>
            <a:off x="1049760" y="1403280"/>
            <a:ext cx="1693080" cy="19490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乌龟_副本_副本"/>
          <p:cNvPicPr/>
          <p:nvPr/>
        </p:nvPicPr>
        <p:blipFill>
          <a:blip r:embed="rId2"/>
          <a:stretch/>
        </p:blipFill>
        <p:spPr>
          <a:xfrm>
            <a:off x="3505320" y="1431000"/>
            <a:ext cx="1989360" cy="1550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蜜蜂_副本"/>
          <p:cNvPicPr/>
          <p:nvPr/>
        </p:nvPicPr>
        <p:blipFill>
          <a:blip r:embed="rId3"/>
          <a:stretch/>
        </p:blipFill>
        <p:spPr>
          <a:xfrm>
            <a:off x="6248880" y="893880"/>
            <a:ext cx="2138400" cy="2624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蚂蚁_副本"/>
          <p:cNvPicPr/>
          <p:nvPr/>
        </p:nvPicPr>
        <p:blipFill>
          <a:blip r:embed="rId4"/>
          <a:stretch/>
        </p:blipFill>
        <p:spPr>
          <a:xfrm>
            <a:off x="6451920" y="3352680"/>
            <a:ext cx="1732680" cy="2449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9" descr="鸟_副本"/>
          <p:cNvPicPr/>
          <p:nvPr/>
        </p:nvPicPr>
        <p:blipFill>
          <a:blip r:embed="rId5"/>
          <a:stretch/>
        </p:blipFill>
        <p:spPr>
          <a:xfrm>
            <a:off x="3669840" y="3902040"/>
            <a:ext cx="1660320" cy="18759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0" descr="大象_副本_副本"/>
          <p:cNvPicPr/>
          <p:nvPr/>
        </p:nvPicPr>
        <p:blipFill>
          <a:blip r:embed="rId6"/>
          <a:stretch/>
        </p:blipFill>
        <p:spPr>
          <a:xfrm>
            <a:off x="952560" y="3670200"/>
            <a:ext cx="1887840" cy="21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985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1-01T01:12:27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16</vt:r8>
  </property>
</Properties>
</file>