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83092-2263-4340-89E5-98270C8C3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D95A0B-7429-42A7-9AA0-D24EE4318C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53120D-6BA2-4EE1-84E2-2DE2D9B986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DA5-EB83-4A8C-A1C1-F63E29F2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8352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640" y="3904920"/>
            <a:ext cx="8352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527-68D8-43D3-9433-EB69BF47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640" y="390492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90492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5B4-AFA6-4BB3-B7E6-8386FD13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3680" y="119664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640" y="390492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390492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3680" y="390492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712-AA45-4269-9074-2DB227B5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0B41-3425-4511-BAC2-33CCDAC1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640" y="1196640"/>
            <a:ext cx="83527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F079-7B53-4686-919F-5B83110B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83527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51DD-BE7E-474E-85FA-CE08AC52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0759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59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B246-E25F-4639-8F8D-ABEF1CBD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FED6-3FF7-494F-AED2-9AB88A86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25560"/>
            <a:ext cx="8229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0CE1-0E58-47D9-9F43-02918C92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59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640" y="390492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3076-8A87-40BC-978C-BD4EC500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640" y="1196640"/>
            <a:ext cx="83527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01A-DB46-4587-80E7-E650EF96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0759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680" y="390492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CDFF-1FF7-42C3-8405-4D1FF96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640" y="3904920"/>
            <a:ext cx="8352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4093-6312-43F9-9E17-155588AC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8352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640" y="3904920"/>
            <a:ext cx="8352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D479-6D3E-494C-8B7A-640AC87B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640" y="390492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680" y="390492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454B-ACD5-45CF-A1B6-89D0FDBD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3680" y="119664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640" y="390492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9840" y="390492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3680" y="3904920"/>
            <a:ext cx="2689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0C93-2F18-4859-8DFA-A19E8BF5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83527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AE2-292F-4901-A8AA-2651B301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0759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59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5F7-E397-474F-9D52-4468EACE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1D5-7DC3-45CB-A213-A0404A6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25560"/>
            <a:ext cx="8229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DFC-B7D6-449B-BF59-C103EDC7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59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640" y="390492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623-0B59-4B59-95CE-1CF6AACE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075920" cy="51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90492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4D2-EAD1-4EB0-9E86-FE7E3C63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64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59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640" y="3904920"/>
            <a:ext cx="8352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126-441A-4B81-B88D-FE0821E2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9cb8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3640" y="1124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1FC772-7CDE-4290-908E-E4A2ACA35D2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楷体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9cb8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640" y="1196640"/>
            <a:ext cx="8352720" cy="518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4572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级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marL="91440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第三级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marL="1828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F19E7A-1447-4971-907D-5FC466AC718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7.png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0320" y="15987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护器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440" cy="83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://p3.so.qhmsg.com/bdr/_240_/t016b501342dddf6518.png"/>
          <p:cNvPicPr/>
          <p:nvPr/>
        </p:nvPicPr>
        <p:blipFill>
          <a:blip r:embed="rId1"/>
          <a:stretch/>
        </p:blipFill>
        <p:spPr>
          <a:xfrm>
            <a:off x="4572000" y="3429000"/>
            <a:ext cx="3285720" cy="2285640"/>
          </a:xfrm>
          <a:prstGeom prst="rect">
            <a:avLst/>
          </a:prstGeom>
          <a:ln w="0">
            <a:noFill/>
          </a:ln>
        </p:spPr>
      </p:pic>
      <p:sp>
        <p:nvSpPr>
          <p:cNvPr id="91" name="矩形 4"/>
          <p:cNvSpPr/>
          <p:nvPr/>
        </p:nvSpPr>
        <p:spPr>
          <a:xfrm>
            <a:off x="14040" y="5661360"/>
            <a:ext cx="912960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字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9360" y="1268280"/>
            <a:ext cx="24476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162080" y="1125360"/>
            <a:ext cx="2592000" cy="13240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门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211640" y="1568520"/>
            <a:ext cx="24476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867280" y="1268280"/>
            <a:ext cx="2592000" cy="13240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耳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眼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6" descr="http://p2.so.qhmsg.com/bdr/_240_/t01af40478cb1b93997.png"/>
          <p:cNvPicPr/>
          <p:nvPr/>
        </p:nvPicPr>
        <p:blipFill>
          <a:blip r:embed="rId1"/>
          <a:stretch/>
        </p:blipFill>
        <p:spPr>
          <a:xfrm>
            <a:off x="7164360" y="-27000"/>
            <a:ext cx="1881000" cy="1595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0" y="-17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字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-287280" y="1700280"/>
            <a:ext cx="385092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476360" y="1817640"/>
            <a:ext cx="2592000" cy="13240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500720" y="1817640"/>
            <a:ext cx="295236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ǒ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345360" y="1531800"/>
            <a:ext cx="2592000" cy="13240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8" descr="http://p0.so.qhmsg.com/bdr/_240_/t0166fb2d7d428b9955.png"/>
          <p:cNvPicPr/>
          <p:nvPr/>
        </p:nvPicPr>
        <p:blipFill>
          <a:blip r:embed="rId1"/>
          <a:stretch/>
        </p:blipFill>
        <p:spPr>
          <a:xfrm>
            <a:off x="5846760" y="5229360"/>
            <a:ext cx="1693440" cy="1628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字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1484280"/>
            <a:ext cx="24476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ě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1233360" y="1268280"/>
            <a:ext cx="2592000" cy="13240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耳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耳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木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307120" y="2367000"/>
            <a:ext cx="24476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821640" y="1521000"/>
            <a:ext cx="2592000" cy="132408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火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舌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http://p3.so.qhmsg.com/bdr/_240_/t01f87b4f5fd7f884dd.png"/>
          <p:cNvPicPr/>
          <p:nvPr/>
        </p:nvPicPr>
        <p:blipFill>
          <a:blip r:embed="rId1"/>
          <a:stretch/>
        </p:blipFill>
        <p:spPr>
          <a:xfrm>
            <a:off x="2916360" y="3765600"/>
            <a:ext cx="2790360" cy="2285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口语交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46080" y="1989000"/>
            <a:ext cx="7657920" cy="44604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眼睛很重要，说说你是怎样保护它的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946080" y="3213000"/>
            <a:ext cx="7657920" cy="13086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还知道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器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它的作用是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946080" y="1285920"/>
            <a:ext cx="4344480" cy="44604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器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1.7wenta.com/upload/qa/20140526/14011068298803287.jpg"/>
          <p:cNvPicPr/>
          <p:nvPr/>
        </p:nvPicPr>
        <p:blipFill>
          <a:blip r:embed="rId1"/>
          <a:stretch/>
        </p:blipFill>
        <p:spPr>
          <a:xfrm>
            <a:off x="6060960" y="27000"/>
            <a:ext cx="2646000" cy="3293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温故而知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625320" y="2798640"/>
            <a:ext cx="110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7973280" y="2798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4569480" y="2805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048360" y="2798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2783520" y="2805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"/>
          <p:cNvSpPr/>
          <p:nvPr/>
        </p:nvSpPr>
        <p:spPr>
          <a:xfrm>
            <a:off x="630360" y="4581360"/>
            <a:ext cx="110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9"/>
          <p:cNvSpPr/>
          <p:nvPr/>
        </p:nvSpPr>
        <p:spPr>
          <a:xfrm>
            <a:off x="4221000" y="4581360"/>
            <a:ext cx="110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0"/>
          <p:cNvSpPr/>
          <p:nvPr/>
        </p:nvSpPr>
        <p:spPr>
          <a:xfrm>
            <a:off x="5940360" y="4581360"/>
            <a:ext cx="110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1"/>
          <p:cNvSpPr/>
          <p:nvPr/>
        </p:nvSpPr>
        <p:spPr>
          <a:xfrm>
            <a:off x="7655040" y="4581360"/>
            <a:ext cx="110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2"/>
          <p:cNvSpPr/>
          <p:nvPr/>
        </p:nvSpPr>
        <p:spPr>
          <a:xfrm>
            <a:off x="2259000" y="4583160"/>
            <a:ext cx="110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http://p2.so.qhmsg.com/bdr/_240_/t0109bc546f3a072f0c.png"/>
          <p:cNvPicPr/>
          <p:nvPr/>
        </p:nvPicPr>
        <p:blipFill>
          <a:blip r:embed="rId1"/>
          <a:stretch/>
        </p:blipFill>
        <p:spPr>
          <a:xfrm>
            <a:off x="5245200" y="404640"/>
            <a:ext cx="2285640" cy="2285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引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5219640" y="2637000"/>
            <a:ext cx="310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6" descr="15"/>
          <p:cNvPicPr/>
          <p:nvPr/>
        </p:nvPicPr>
        <p:blipFill>
          <a:blip r:embed="rId1"/>
          <a:stretch/>
        </p:blipFill>
        <p:spPr>
          <a:xfrm>
            <a:off x="966960" y="2905200"/>
            <a:ext cx="3455640" cy="1660320"/>
          </a:xfrm>
          <a:prstGeom prst="rect">
            <a:avLst/>
          </a:prstGeom>
          <a:ln w="0">
            <a:noFill/>
          </a:ln>
          <a:effectLst>
            <a:outerShdw algn="ctr" dir="2700000" dist="35638" rotWithShape="0">
              <a:srgbClr val="808080"/>
            </a:outerShdw>
          </a:effectLst>
        </p:spPr>
      </p:pic>
      <p:sp>
        <p:nvSpPr>
          <p:cNvPr id="107" name="Text Box 17"/>
          <p:cNvSpPr/>
          <p:nvPr/>
        </p:nvSpPr>
        <p:spPr>
          <a:xfrm>
            <a:off x="4948200" y="3006720"/>
            <a:ext cx="14076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5219640" y="2701800"/>
            <a:ext cx="11505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6"/>
          <p:cNvSpPr/>
          <p:nvPr/>
        </p:nvSpPr>
        <p:spPr>
          <a:xfrm>
            <a:off x="521640" y="202896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p50 副本"/>
          <p:cNvPicPr/>
          <p:nvPr/>
        </p:nvPicPr>
        <p:blipFill>
          <a:blip r:embed="rId1"/>
          <a:srcRect l="31783" t="43989" r="29240" b="0"/>
          <a:stretch/>
        </p:blipFill>
        <p:spPr>
          <a:xfrm>
            <a:off x="250920" y="1341360"/>
            <a:ext cx="1514160" cy="1274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1"/>
          <p:cNvSpPr/>
          <p:nvPr/>
        </p:nvSpPr>
        <p:spPr>
          <a:xfrm>
            <a:off x="395280" y="3789360"/>
            <a:ext cx="14076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523800" y="3357720"/>
            <a:ext cx="11505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p50 副本"/>
          <p:cNvPicPr/>
          <p:nvPr/>
        </p:nvPicPr>
        <p:blipFill>
          <a:blip r:embed="rId2"/>
          <a:srcRect l="35758" t="0" r="34602" b="53491"/>
          <a:stretch/>
        </p:blipFill>
        <p:spPr>
          <a:xfrm>
            <a:off x="2556000" y="1330200"/>
            <a:ext cx="1731600" cy="1593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1"/>
          <p:cNvSpPr/>
          <p:nvPr/>
        </p:nvSpPr>
        <p:spPr>
          <a:xfrm>
            <a:off x="2717640" y="4010040"/>
            <a:ext cx="14076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2952720" y="3408480"/>
            <a:ext cx="11505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p50 副本"/>
          <p:cNvPicPr/>
          <p:nvPr/>
        </p:nvPicPr>
        <p:blipFill>
          <a:blip r:embed="rId3"/>
          <a:srcRect l="71338" t="46342" r="0" b="0"/>
          <a:stretch/>
        </p:blipFill>
        <p:spPr>
          <a:xfrm>
            <a:off x="4788000" y="1344600"/>
            <a:ext cx="1688760" cy="1854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2"/>
          <p:cNvSpPr/>
          <p:nvPr/>
        </p:nvSpPr>
        <p:spPr>
          <a:xfrm>
            <a:off x="4929120" y="4021200"/>
            <a:ext cx="14076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5057640" y="3438360"/>
            <a:ext cx="11505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p50 副本"/>
          <p:cNvPicPr/>
          <p:nvPr/>
        </p:nvPicPr>
        <p:blipFill>
          <a:blip r:embed="rId4"/>
          <a:srcRect l="0" t="45158" r="58417" b="0"/>
          <a:stretch/>
        </p:blipFill>
        <p:spPr>
          <a:xfrm>
            <a:off x="6811920" y="1390680"/>
            <a:ext cx="2298240" cy="1825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0"/>
          <p:cNvSpPr/>
          <p:nvPr/>
        </p:nvSpPr>
        <p:spPr>
          <a:xfrm>
            <a:off x="6811920" y="4105440"/>
            <a:ext cx="14076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7059600" y="3440160"/>
            <a:ext cx="11505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" descr="p50 副本"/>
          <p:cNvPicPr/>
          <p:nvPr/>
        </p:nvPicPr>
        <p:blipFill>
          <a:blip r:embed="rId1"/>
          <a:srcRect l="3450" t="3673" r="68217" b="58364"/>
          <a:stretch/>
        </p:blipFill>
        <p:spPr>
          <a:xfrm>
            <a:off x="1332000" y="1328760"/>
            <a:ext cx="1439640" cy="914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p50 副本"/>
          <p:cNvPicPr/>
          <p:nvPr/>
        </p:nvPicPr>
        <p:blipFill>
          <a:blip r:embed="rId2"/>
          <a:srcRect l="70076" t="55237" r="-685" b="0"/>
          <a:stretch/>
        </p:blipFill>
        <p:spPr>
          <a:xfrm>
            <a:off x="6229440" y="3789360"/>
            <a:ext cx="1368000" cy="117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50 副本"/>
          <p:cNvPicPr/>
          <p:nvPr/>
        </p:nvPicPr>
        <p:blipFill>
          <a:blip r:embed="rId3"/>
          <a:srcRect l="34584" t="3673" r="30422" b="54402"/>
          <a:stretch/>
        </p:blipFill>
        <p:spPr>
          <a:xfrm>
            <a:off x="3852720" y="1233360"/>
            <a:ext cx="1584000" cy="1112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50 副本"/>
          <p:cNvPicPr/>
          <p:nvPr/>
        </p:nvPicPr>
        <p:blipFill>
          <a:blip r:embed="rId4"/>
          <a:srcRect l="66830" t="3673" r="-1129" b="53855"/>
          <a:stretch/>
        </p:blipFill>
        <p:spPr>
          <a:xfrm>
            <a:off x="6157800" y="1160640"/>
            <a:ext cx="1942920" cy="1410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50 副本"/>
          <p:cNvPicPr/>
          <p:nvPr/>
        </p:nvPicPr>
        <p:blipFill>
          <a:blip r:embed="rId5"/>
          <a:srcRect l="3450" t="57999" r="65896" b="0"/>
          <a:stretch/>
        </p:blipFill>
        <p:spPr>
          <a:xfrm>
            <a:off x="1332000" y="3790800"/>
            <a:ext cx="1368000" cy="109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50 副本"/>
          <p:cNvPicPr/>
          <p:nvPr/>
        </p:nvPicPr>
        <p:blipFill>
          <a:blip r:embed="rId6"/>
          <a:srcRect l="37572" t="56831" r="31578" b="0"/>
          <a:stretch/>
        </p:blipFill>
        <p:spPr>
          <a:xfrm>
            <a:off x="3924360" y="3903840"/>
            <a:ext cx="1466640" cy="12013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9"/>
          <p:cNvSpPr/>
          <p:nvPr/>
        </p:nvSpPr>
        <p:spPr>
          <a:xfrm>
            <a:off x="1753560" y="2097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331520" y="2097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857280" y="2082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1715400" y="4653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450680" y="47149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6822360" y="47149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口说"/>
          <p:cNvPicPr/>
          <p:nvPr/>
        </p:nvPicPr>
        <p:blipFill>
          <a:blip r:embed="rId7"/>
          <a:stretch/>
        </p:blipFill>
        <p:spPr>
          <a:xfrm>
            <a:off x="1260360" y="2895480"/>
            <a:ext cx="1223640" cy="680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耳听"/>
          <p:cNvPicPr/>
          <p:nvPr/>
        </p:nvPicPr>
        <p:blipFill>
          <a:blip r:embed="rId8"/>
          <a:stretch/>
        </p:blipFill>
        <p:spPr>
          <a:xfrm>
            <a:off x="4010040" y="2997360"/>
            <a:ext cx="1137960" cy="63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目视"/>
          <p:cNvPicPr/>
          <p:nvPr/>
        </p:nvPicPr>
        <p:blipFill>
          <a:blip r:embed="rId9"/>
          <a:stretch/>
        </p:blipFill>
        <p:spPr>
          <a:xfrm>
            <a:off x="6445080" y="2927520"/>
            <a:ext cx="1223640" cy="680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鼻闻"/>
          <p:cNvPicPr/>
          <p:nvPr/>
        </p:nvPicPr>
        <p:blipFill>
          <a:blip r:embed="rId10"/>
          <a:stretch/>
        </p:blipFill>
        <p:spPr>
          <a:xfrm>
            <a:off x="6481800" y="5538960"/>
            <a:ext cx="1185480" cy="659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1" descr=""/>
          <p:cNvPicPr/>
          <p:nvPr/>
        </p:nvPicPr>
        <p:blipFill>
          <a:blip r:embed="rId11"/>
          <a:stretch/>
        </p:blipFill>
        <p:spPr>
          <a:xfrm>
            <a:off x="1434960" y="5373720"/>
            <a:ext cx="952200" cy="829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2" descr=""/>
          <p:cNvPicPr/>
          <p:nvPr/>
        </p:nvPicPr>
        <p:blipFill>
          <a:blip r:embed="rId12"/>
          <a:stretch/>
        </p:blipFill>
        <p:spPr>
          <a:xfrm>
            <a:off x="4054320" y="5442120"/>
            <a:ext cx="1226880" cy="786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3862800" y="2081160"/>
            <a:ext cx="1635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 体 器 官 作 用 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 要 好 好 保 护 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2811960" y="1798560"/>
            <a:ext cx="3587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én   tǐ    qì    guān   zuò  yòng  d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900000" y="3573360"/>
            <a:ext cx="7848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ǒ   yào  hǎo  hǎo  bǎo   hù    t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3448800" y="1616040"/>
            <a:ext cx="1520640" cy="11869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  说   听   目  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咬  舌  鼻  人   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71440" y="1144440"/>
            <a:ext cx="7540200" cy="5011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ǒu    shuō    tīng      mù       y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71440" y="3040200"/>
            <a:ext cx="6963840" cy="5011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ǎo     shé      bí      rén       t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7386480" y="3121200"/>
            <a:ext cx="11505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7652880" y="3882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3"/>
          <p:cNvSpPr/>
          <p:nvPr/>
        </p:nvSpPr>
        <p:spPr>
          <a:xfrm>
            <a:off x="3937680" y="981000"/>
            <a:ext cx="1520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  说   听   目  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539640" y="2932200"/>
            <a:ext cx="860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咬  舌  鼻  人   它  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http://p0.so.qhmsg.com/bdr/_240_/t011e5c0a157126bf10.png"/>
          <p:cNvPicPr/>
          <p:nvPr/>
        </p:nvPicPr>
        <p:blipFill>
          <a:blip r:embed="rId1"/>
          <a:stretch/>
        </p:blipFill>
        <p:spPr>
          <a:xfrm>
            <a:off x="1258920" y="5068800"/>
            <a:ext cx="1944360" cy="117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25560"/>
            <a:ext cx="8229240" cy="1141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20050911182444755"/>
          <p:cNvPicPr/>
          <p:nvPr/>
        </p:nvPicPr>
        <p:blipFill>
          <a:blip r:embed="rId1"/>
          <a:stretch/>
        </p:blipFill>
        <p:spPr>
          <a:xfrm>
            <a:off x="442800" y="1165320"/>
            <a:ext cx="7127640" cy="537192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6"/>
          <p:cNvGrpSpPr/>
          <p:nvPr/>
        </p:nvGrpSpPr>
        <p:grpSpPr>
          <a:xfrm>
            <a:off x="6372360" y="3139920"/>
            <a:ext cx="790200" cy="718920"/>
            <a:chOff x="6372360" y="3139920"/>
            <a:chExt cx="790200" cy="718920"/>
          </a:xfrm>
        </p:grpSpPr>
        <p:pic>
          <p:nvPicPr>
            <p:cNvPr id="157" name="Picture 7" descr="苹果"/>
            <p:cNvPicPr/>
            <p:nvPr/>
          </p:nvPicPr>
          <p:blipFill>
            <a:blip r:embed="rId2"/>
            <a:stretch/>
          </p:blipFill>
          <p:spPr>
            <a:xfrm>
              <a:off x="6372360" y="3139920"/>
              <a:ext cx="7902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8"/>
            <p:cNvSpPr/>
            <p:nvPr/>
          </p:nvSpPr>
          <p:spPr>
            <a:xfrm>
              <a:off x="6499440" y="3198960"/>
              <a:ext cx="5122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66ffff"/>
                  </a:solidFill>
                  <a:latin typeface="楷体"/>
                  <a:ea typeface="楷体"/>
                </a:rPr>
                <a:t>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643280" y="1849320"/>
            <a:ext cx="720360" cy="642600"/>
            <a:chOff x="4643280" y="1849320"/>
            <a:chExt cx="720360" cy="642600"/>
          </a:xfrm>
        </p:grpSpPr>
        <p:pic>
          <p:nvPicPr>
            <p:cNvPr id="160" name="Picture 10" descr="苹果"/>
            <p:cNvPicPr/>
            <p:nvPr/>
          </p:nvPicPr>
          <p:blipFill>
            <a:blip r:embed="rId3"/>
            <a:stretch/>
          </p:blipFill>
          <p:spPr>
            <a:xfrm>
              <a:off x="4643280" y="1849320"/>
              <a:ext cx="720360" cy="64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4759200" y="1901880"/>
              <a:ext cx="409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002060"/>
                  </a:solidFill>
                  <a:latin typeface="楷体"/>
                  <a:ea typeface="楷体"/>
                </a:rPr>
                <a:t>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971640" y="2203560"/>
            <a:ext cx="863280" cy="718920"/>
            <a:chOff x="971640" y="2203560"/>
            <a:chExt cx="863280" cy="718920"/>
          </a:xfrm>
        </p:grpSpPr>
        <p:pic>
          <p:nvPicPr>
            <p:cNvPr id="163" name="Picture 13" descr="苹果"/>
            <p:cNvPicPr/>
            <p:nvPr/>
          </p:nvPicPr>
          <p:blipFill>
            <a:blip r:embed="rId4"/>
            <a:stretch/>
          </p:blipFill>
          <p:spPr>
            <a:xfrm>
              <a:off x="971640" y="2203560"/>
              <a:ext cx="863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14"/>
            <p:cNvSpPr/>
            <p:nvPr/>
          </p:nvSpPr>
          <p:spPr>
            <a:xfrm>
              <a:off x="1109520" y="2262240"/>
              <a:ext cx="5616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002060"/>
                  </a:solidFill>
                  <a:latin typeface="楷体"/>
                  <a:ea typeface="楷体"/>
                </a:rPr>
                <a:t>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9"/>
          <p:cNvGrpSpPr/>
          <p:nvPr/>
        </p:nvGrpSpPr>
        <p:grpSpPr>
          <a:xfrm>
            <a:off x="3851280" y="2995560"/>
            <a:ext cx="718920" cy="636120"/>
            <a:chOff x="3851280" y="2995560"/>
            <a:chExt cx="718920" cy="636120"/>
          </a:xfrm>
        </p:grpSpPr>
        <p:pic>
          <p:nvPicPr>
            <p:cNvPr id="166" name="Picture 20" descr="苹果"/>
            <p:cNvPicPr/>
            <p:nvPr/>
          </p:nvPicPr>
          <p:blipFill>
            <a:blip r:embed="rId5"/>
            <a:stretch/>
          </p:blipFill>
          <p:spPr>
            <a:xfrm>
              <a:off x="3851280" y="2995560"/>
              <a:ext cx="718920" cy="6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21"/>
            <p:cNvSpPr/>
            <p:nvPr/>
          </p:nvSpPr>
          <p:spPr>
            <a:xfrm>
              <a:off x="3908520" y="3020760"/>
              <a:ext cx="526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002060"/>
                  </a:solidFill>
                  <a:latin typeface="楷体"/>
                  <a:ea typeface="楷体"/>
                </a:rPr>
                <a:t>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5"/>
          <p:cNvGrpSpPr/>
          <p:nvPr/>
        </p:nvGrpSpPr>
        <p:grpSpPr>
          <a:xfrm>
            <a:off x="1546200" y="1555920"/>
            <a:ext cx="863280" cy="647280"/>
            <a:chOff x="1546200" y="1555920"/>
            <a:chExt cx="863280" cy="647280"/>
          </a:xfrm>
        </p:grpSpPr>
        <p:pic>
          <p:nvPicPr>
            <p:cNvPr id="169" name="Picture 26" descr="苹果"/>
            <p:cNvPicPr/>
            <p:nvPr/>
          </p:nvPicPr>
          <p:blipFill>
            <a:blip r:embed="rId6"/>
            <a:stretch/>
          </p:blipFill>
          <p:spPr>
            <a:xfrm>
              <a:off x="1546200" y="1555920"/>
              <a:ext cx="735120" cy="6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27"/>
            <p:cNvSpPr/>
            <p:nvPr/>
          </p:nvSpPr>
          <p:spPr>
            <a:xfrm>
              <a:off x="1633680" y="1623960"/>
              <a:ext cx="7758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66ffff"/>
                  </a:solidFill>
                  <a:latin typeface="楷体"/>
                  <a:ea typeface="楷体"/>
                </a:rPr>
                <a:t>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8"/>
          <p:cNvGrpSpPr/>
          <p:nvPr/>
        </p:nvGrpSpPr>
        <p:grpSpPr>
          <a:xfrm>
            <a:off x="2698920" y="1484280"/>
            <a:ext cx="791640" cy="720360"/>
            <a:chOff x="2698920" y="1484280"/>
            <a:chExt cx="791640" cy="720360"/>
          </a:xfrm>
        </p:grpSpPr>
        <p:pic>
          <p:nvPicPr>
            <p:cNvPr id="172" name="Picture 29" descr="苹果"/>
            <p:cNvPicPr/>
            <p:nvPr/>
          </p:nvPicPr>
          <p:blipFill>
            <a:blip r:embed="rId7"/>
            <a:stretch/>
          </p:blipFill>
          <p:spPr>
            <a:xfrm>
              <a:off x="2698920" y="1484280"/>
              <a:ext cx="67428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30"/>
            <p:cNvSpPr/>
            <p:nvPr/>
          </p:nvSpPr>
          <p:spPr>
            <a:xfrm>
              <a:off x="2779560" y="1562040"/>
              <a:ext cx="711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66ffff"/>
                  </a:solidFill>
                  <a:latin typeface="楷体"/>
                  <a:ea typeface="楷体"/>
                </a:rPr>
                <a:t>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4"/>
          <p:cNvGrpSpPr/>
          <p:nvPr/>
        </p:nvGrpSpPr>
        <p:grpSpPr>
          <a:xfrm>
            <a:off x="5722920" y="2421000"/>
            <a:ext cx="791640" cy="718920"/>
            <a:chOff x="5722920" y="2421000"/>
            <a:chExt cx="791640" cy="718920"/>
          </a:xfrm>
        </p:grpSpPr>
        <p:pic>
          <p:nvPicPr>
            <p:cNvPr id="175" name="Picture 35" descr="苹果"/>
            <p:cNvPicPr/>
            <p:nvPr/>
          </p:nvPicPr>
          <p:blipFill>
            <a:blip r:embed="rId8"/>
            <a:stretch/>
          </p:blipFill>
          <p:spPr>
            <a:xfrm>
              <a:off x="5722920" y="2421000"/>
              <a:ext cx="674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36"/>
            <p:cNvSpPr/>
            <p:nvPr/>
          </p:nvSpPr>
          <p:spPr>
            <a:xfrm>
              <a:off x="5805360" y="2497320"/>
              <a:ext cx="709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002060"/>
                  </a:solidFill>
                  <a:latin typeface="楷体"/>
                  <a:ea typeface="楷体"/>
                </a:rPr>
                <a:t>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7"/>
          <p:cNvGrpSpPr/>
          <p:nvPr/>
        </p:nvGrpSpPr>
        <p:grpSpPr>
          <a:xfrm>
            <a:off x="5580000" y="3716280"/>
            <a:ext cx="863280" cy="720360"/>
            <a:chOff x="5580000" y="3716280"/>
            <a:chExt cx="863280" cy="720360"/>
          </a:xfrm>
        </p:grpSpPr>
        <p:pic>
          <p:nvPicPr>
            <p:cNvPr id="178" name="Picture 38" descr="苹果"/>
            <p:cNvPicPr/>
            <p:nvPr/>
          </p:nvPicPr>
          <p:blipFill>
            <a:blip r:embed="rId9"/>
            <a:stretch/>
          </p:blipFill>
          <p:spPr>
            <a:xfrm>
              <a:off x="5580000" y="3716280"/>
              <a:ext cx="73512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39"/>
            <p:cNvSpPr/>
            <p:nvPr/>
          </p:nvSpPr>
          <p:spPr>
            <a:xfrm>
              <a:off x="5668560" y="3792960"/>
              <a:ext cx="7747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002060"/>
                  </a:solidFill>
                  <a:latin typeface="楷体"/>
                  <a:ea typeface="楷体"/>
                </a:rPr>
                <a:t>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43"/>
          <p:cNvGrpSpPr/>
          <p:nvPr/>
        </p:nvGrpSpPr>
        <p:grpSpPr>
          <a:xfrm>
            <a:off x="5002200" y="2781360"/>
            <a:ext cx="791640" cy="718920"/>
            <a:chOff x="5002200" y="2781360"/>
            <a:chExt cx="791640" cy="718920"/>
          </a:xfrm>
        </p:grpSpPr>
        <p:pic>
          <p:nvPicPr>
            <p:cNvPr id="181" name="Picture 44" descr="苹果"/>
            <p:cNvPicPr/>
            <p:nvPr/>
          </p:nvPicPr>
          <p:blipFill>
            <a:blip r:embed="rId10"/>
            <a:stretch/>
          </p:blipFill>
          <p:spPr>
            <a:xfrm>
              <a:off x="5002200" y="2781360"/>
              <a:ext cx="674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45"/>
            <p:cNvSpPr/>
            <p:nvPr/>
          </p:nvSpPr>
          <p:spPr>
            <a:xfrm>
              <a:off x="5084640" y="2857680"/>
              <a:ext cx="709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66ffff"/>
                  </a:solidFill>
                  <a:latin typeface="楷体"/>
                  <a:ea typeface="楷体"/>
                </a:rPr>
                <a:t>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49"/>
          <p:cNvGrpSpPr/>
          <p:nvPr/>
        </p:nvGrpSpPr>
        <p:grpSpPr>
          <a:xfrm>
            <a:off x="2843280" y="2276640"/>
            <a:ext cx="718920" cy="718920"/>
            <a:chOff x="2843280" y="2276640"/>
            <a:chExt cx="718920" cy="718920"/>
          </a:xfrm>
        </p:grpSpPr>
        <p:pic>
          <p:nvPicPr>
            <p:cNvPr id="184" name="Picture 50" descr="苹果"/>
            <p:cNvPicPr/>
            <p:nvPr/>
          </p:nvPicPr>
          <p:blipFill>
            <a:blip r:embed="rId11"/>
            <a:stretch/>
          </p:blipFill>
          <p:spPr>
            <a:xfrm>
              <a:off x="2843280" y="227664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51"/>
            <p:cNvSpPr/>
            <p:nvPr/>
          </p:nvSpPr>
          <p:spPr>
            <a:xfrm>
              <a:off x="2958840" y="2335320"/>
              <a:ext cx="466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66ffff"/>
                  </a:solidFill>
                  <a:latin typeface="楷体"/>
                  <a:ea typeface="楷体"/>
                </a:rPr>
                <a:t>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55"/>
          <p:cNvGrpSpPr/>
          <p:nvPr/>
        </p:nvGrpSpPr>
        <p:grpSpPr>
          <a:xfrm>
            <a:off x="3706920" y="1987560"/>
            <a:ext cx="791640" cy="720360"/>
            <a:chOff x="3706920" y="1987560"/>
            <a:chExt cx="791640" cy="720360"/>
          </a:xfrm>
        </p:grpSpPr>
        <p:pic>
          <p:nvPicPr>
            <p:cNvPr id="187" name="Picture 56" descr="苹果"/>
            <p:cNvPicPr/>
            <p:nvPr/>
          </p:nvPicPr>
          <p:blipFill>
            <a:blip r:embed="rId12"/>
            <a:stretch/>
          </p:blipFill>
          <p:spPr>
            <a:xfrm>
              <a:off x="3706920" y="1987560"/>
              <a:ext cx="674280" cy="72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7"/>
            <p:cNvSpPr/>
            <p:nvPr/>
          </p:nvSpPr>
          <p:spPr>
            <a:xfrm>
              <a:off x="3787560" y="2063880"/>
              <a:ext cx="711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400"/>
                </a:spcBef>
              </a:pPr>
              <a:r>
                <a:rPr b="1" lang="zh-CN" sz="2800" spc="-1" strike="noStrike">
                  <a:solidFill>
                    <a:srgbClr val="002060"/>
                  </a:solidFill>
                  <a:latin typeface="楷体"/>
                  <a:ea typeface="楷体"/>
                </a:rPr>
                <a:t>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64"/>
          <p:cNvSpPr/>
          <p:nvPr/>
        </p:nvSpPr>
        <p:spPr>
          <a:xfrm>
            <a:off x="5149440" y="5013360"/>
            <a:ext cx="1964160" cy="43236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谁读对了，苹果摘下来送给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9" descr="http://p4.so.qhmsg.com/bdr/_240_/t010ce9c50a37ea1f69.gif"/>
          <p:cNvPicPr/>
          <p:nvPr/>
        </p:nvPicPr>
        <p:blipFill>
          <a:blip r:embed="rId13"/>
          <a:stretch/>
        </p:blipFill>
        <p:spPr>
          <a:xfrm>
            <a:off x="155520" y="-1096920"/>
            <a:ext cx="2342880" cy="228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1" descr="http://p4.so.qhmsg.com/bdr/_240_/t010ce9c50a37ea1f69.gif"/>
          <p:cNvPicPr/>
          <p:nvPr/>
        </p:nvPicPr>
        <p:blipFill>
          <a:blip r:embed="rId14"/>
          <a:stretch/>
        </p:blipFill>
        <p:spPr>
          <a:xfrm>
            <a:off x="307800" y="-944640"/>
            <a:ext cx="2342880" cy="2285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delay="0" evt="onClick">
                    <p:tgtEl>
                      <p:spTgt spid="162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delay="0"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delay="0" evt="onClick">
                    <p:tgtEl>
                      <p:spTgt spid="15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delay="0"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0"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delay="0" evt="onClick">
                    <p:tgtEl>
                      <p:spTgt spid="156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delay="0"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delay="0" evt="onClick">
                    <p:tgtEl>
                      <p:spTgt spid="165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delay="0"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delay="0" evt="onClick">
                    <p:tgtEl>
                      <p:spTgt spid="171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delay="0"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delay="0" evt="onClick">
                    <p:tgtEl>
                      <p:spTgt spid="17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delay="0"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delay="0" evt="onClick">
                    <p:tgtEl>
                      <p:spTgt spid="177"/>
                    </p:tgtEl>
                  </p:cond>
                </p:stCondLst>
                <p:childTnLst>
                  <p:par>
                    <p:cTn id="284" nodeType="clickEffect" fill="hold">
                      <p:stCondLst>
                        <p:cond delay="0"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delay="0" evt="onClick">
                    <p:tgtEl>
                      <p:spTgt spid="180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delay="0"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delay="0" evt="onClick">
                    <p:tgtEl>
                      <p:spTgt spid="183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delay="0"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delay="0" evt="onClick">
                    <p:tgtEl>
                      <p:spTgt spid="186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delay="0"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1_一上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1_一上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  <Pages>0</Pages>
  <Words>772</Words>
  <Characters>0</Characters>
  <CharactersWithSpaces>0</CharactersWithSpaces>
  <Paragraphs>1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6-19T07:27:20Z</dcterms:modified>
  <cp:revision>1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15</vt:r8>
  </property>
</Properties>
</file>