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F6C250-B257-43AB-9FD2-C1995939AC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word/" TargetMode="External"/><Relationship Id="rId8" Type="http://schemas.openxmlformats.org/officeDocument/2006/relationships/hyperlink" Target="http://www.1ppt.com/excel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om/jianli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 type="ftr" idx="4"/>
          </p:nvPr>
        </p:nvSpPr>
        <p:spPr>
          <a:xfrm>
            <a:off x="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Word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www.1ppt.com/word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Excel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www.1ppt.com/excel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个人简历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www.1ppt.com/jian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6000" indent="0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F0E02CD-F356-45F9-B25E-120C0585521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标题 1"/>
          <p:cNvSpPr/>
          <p:nvPr/>
        </p:nvSpPr>
        <p:spPr>
          <a:xfrm>
            <a:off x="3348000" y="1779840"/>
            <a:ext cx="506844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口语交际：辩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图片 2" descr=""/>
          <p:cNvPicPr/>
          <p:nvPr/>
        </p:nvPicPr>
        <p:blipFill>
          <a:blip r:embed="rId2"/>
          <a:stretch/>
        </p:blipFill>
        <p:spPr>
          <a:xfrm>
            <a:off x="611640" y="267480"/>
            <a:ext cx="2293560" cy="463320"/>
          </a:xfrm>
          <a:prstGeom prst="rect">
            <a:avLst/>
          </a:prstGeom>
          <a:ln w="0">
            <a:noFill/>
          </a:ln>
        </p:spPr>
      </p:pic>
      <p:sp>
        <p:nvSpPr>
          <p:cNvPr id="388" name="矩形 3"/>
          <p:cNvSpPr/>
          <p:nvPr/>
        </p:nvSpPr>
        <p:spPr>
          <a:xfrm>
            <a:off x="4262040" y="3820320"/>
            <a:ext cx="33573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多特软件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-WWW.DUOT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文本框 1"/>
          <p:cNvSpPr/>
          <p:nvPr/>
        </p:nvSpPr>
        <p:spPr>
          <a:xfrm>
            <a:off x="755640" y="843120"/>
            <a:ext cx="7632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正方二辩：使用电脑打字，并不一定环保，因为电脑打字需要用电，打印时一样要使用纸张，对方辩友所说的练字不环保的说法是片面、错误的。更何况，书法是中国的传统艺术，我们学习练一手好字，才能更好地传承中华优秀传统文化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矩形 8"/>
          <p:cNvSpPr/>
          <p:nvPr/>
        </p:nvSpPr>
        <p:spPr>
          <a:xfrm>
            <a:off x="971640" y="268200"/>
            <a:ext cx="2663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※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交际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文本框 1"/>
          <p:cNvSpPr/>
          <p:nvPr/>
        </p:nvSpPr>
        <p:spPr>
          <a:xfrm>
            <a:off x="611280" y="1058760"/>
            <a:ext cx="813708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本次口语交际的内容是辩论，要求同学们对日常生活中一些有分歧的问题进行辩论，要求先选择话题，然后围绕话题，分正反两方，确定自己的观点，最后正反两方进行辩论。通过摆事实、讲道理来丰富认识，帮助我们全面地看待事情、处理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矩形 4"/>
          <p:cNvSpPr/>
          <p:nvPr/>
        </p:nvSpPr>
        <p:spPr>
          <a:xfrm>
            <a:off x="2555640" y="1908720"/>
            <a:ext cx="734760" cy="240840"/>
          </a:xfrm>
          <a:prstGeom prst="rect">
            <a:avLst/>
          </a:prstGeom>
          <a:noFill/>
          <a:ln w="2540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模板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素材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背景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图表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tubiao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程：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powerpoint/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资料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个人简历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nli/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试卷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教案下载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jiaoan/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手抄报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shouchaobao/          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语文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数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uxue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英语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美术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meish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科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物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wul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化学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生物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shengwu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地理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历史课件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www.1ppt.com/kejian/lishi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"/>
          <p:cNvSpPr/>
          <p:nvPr/>
        </p:nvSpPr>
        <p:spPr>
          <a:xfrm>
            <a:off x="971640" y="268200"/>
            <a:ext cx="2663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※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交际指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文本框 2"/>
          <p:cNvSpPr/>
          <p:nvPr/>
        </p:nvSpPr>
        <p:spPr>
          <a:xfrm>
            <a:off x="684360" y="1708200"/>
            <a:ext cx="7632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选好辩题。全班同学分成若干小组，每个小组选择一个感兴趣的辩题，然后抽签决定做正方还是反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文本框 1"/>
          <p:cNvSpPr/>
          <p:nvPr/>
        </p:nvSpPr>
        <p:spPr>
          <a:xfrm>
            <a:off x="468360" y="627120"/>
            <a:ext cx="8135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收集资料。在辩论前，有针对性地收集资料。既要收集能证明自己观点的材料，也要收集能反驳对方观点的材料。材料要有说服力，可以引用名人名言。辩论时，充分利用时间，清晰表达自己的观点。对方发言时，要细心聆听，抓住对方的漏洞进行反驳，注意用语的文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文本框 1"/>
          <p:cNvSpPr/>
          <p:nvPr/>
        </p:nvSpPr>
        <p:spPr>
          <a:xfrm>
            <a:off x="684360" y="1708200"/>
            <a:ext cx="784836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总结活动。辩论结束后，总结内容，用更加全面的眼光看待问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矩形 1"/>
          <p:cNvSpPr/>
          <p:nvPr/>
        </p:nvSpPr>
        <p:spPr>
          <a:xfrm>
            <a:off x="971640" y="268200"/>
            <a:ext cx="266364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※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交际示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文本框 2"/>
          <p:cNvSpPr/>
          <p:nvPr/>
        </p:nvSpPr>
        <p:spPr>
          <a:xfrm>
            <a:off x="1612800" y="3595680"/>
            <a:ext cx="6192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正方：电脑时代需要认真练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反方：电脑时代不需要认真练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图片 4" descr=""/>
          <p:cNvPicPr/>
          <p:nvPr/>
        </p:nvPicPr>
        <p:blipFill>
          <a:blip r:embed="rId1"/>
          <a:stretch/>
        </p:blipFill>
        <p:spPr>
          <a:xfrm>
            <a:off x="1979640" y="861840"/>
            <a:ext cx="4911480" cy="28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文本框 1"/>
          <p:cNvSpPr/>
          <p:nvPr/>
        </p:nvSpPr>
        <p:spPr>
          <a:xfrm>
            <a:off x="684360" y="1131840"/>
            <a:ext cx="784836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反方一辩：关于“电脑时代还需不需要认真练字”这个辩题，我方一致认为：电脑已进入千家万户，我们写文章、写信都可以用电脑代替，且电脑打印出来的字整齐美观，所以我认为不需要认真练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文本框 1"/>
          <p:cNvSpPr/>
          <p:nvPr/>
        </p:nvSpPr>
        <p:spPr>
          <a:xfrm>
            <a:off x="755640" y="627120"/>
            <a:ext cx="770364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正方一辩：电脑是可以打字，但是它并不能取代我们自己的书写。过于依赖电脑打字，会造成识字量不足，提笔忘字等问题。而练字，不仅能增加识字量，巩固记忆汉字，还能修养性情，陶冶情操，一举多得。所以我方认为：在电脑时代，更需要大力提倡练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文本框 1"/>
          <p:cNvSpPr/>
          <p:nvPr/>
        </p:nvSpPr>
        <p:spPr>
          <a:xfrm>
            <a:off x="971640" y="1203480"/>
            <a:ext cx="7272000" cy="4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2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反方二辩：现在很多单位都在提倡“无纸化办公”，尽量减少使用纸张，这是环保的新理念。而练字需要耗费大量的纸张，不符合环保的新思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第一PPT模板网-WWW.1PPT.COM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1212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49Z</dcterms:created>
  <dc:creator>第一PPT模板网-WWW.1PPT.COM</dc:creator>
  <dc:description/>
  <cp:keywords>第一PPT模板网-WWW.1PPT.COM</cp:keywords>
  <dc:language>en-US</dc:language>
  <cp:lastModifiedBy>123</cp:lastModifiedBy>
  <dcterms:modified xsi:type="dcterms:W3CDTF">2019-12-26T05:40:31Z</dcterms:modified>
  <cp:revision>43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05</vt:lpwstr>
  </property>
  <property fmtid="{D5CDD505-2E9C-101B-9397-08002B2CF9AE}" pid="3" name="Notes">
    <vt:r8>2</vt:r8>
  </property>
  <property fmtid="{D5CDD505-2E9C-101B-9397-08002B2CF9AE}" pid="4" name="PresentationFormat">
    <vt:lpwstr>全屏显示(16:9)</vt:lpwstr>
  </property>
  <property fmtid="{D5CDD505-2E9C-101B-9397-08002B2CF9AE}" pid="5" name="Slides">
    <vt:r8>11</vt:r8>
  </property>
</Properties>
</file>