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C7D48-35D2-41CE-A432-2ABC099EF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86C16F-3274-4CC4-90DD-607596D313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jzhan.com/mp3/8s/list_4920_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"/>
          <p:cNvSpPr/>
          <p:nvPr/>
        </p:nvSpPr>
        <p:spPr>
          <a:xfrm>
            <a:off x="323640" y="980640"/>
            <a:ext cx="2945880" cy="91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赤 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杜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-14040" y="5733360"/>
            <a:ext cx="9157680" cy="391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723960" y="1157760"/>
            <a:ext cx="7432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怎样理解一、二两句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021200" y="2432160"/>
            <a:ext cx="4462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诗叙史点题，含蓄委婉的表达出诗人对历史兴亡的感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" descr=""/>
          <p:cNvPicPr/>
          <p:nvPr/>
        </p:nvPicPr>
        <p:blipFill>
          <a:blip r:embed="rId1"/>
          <a:stretch/>
        </p:blipFill>
        <p:spPr>
          <a:xfrm>
            <a:off x="640080" y="2256480"/>
            <a:ext cx="3380400" cy="3443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517680" y="340920"/>
            <a:ext cx="7838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诗中三、四句是实写还是虚写？这样写的目的是什么？说说这两句诗的深刻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17680" y="1659600"/>
            <a:ext cx="7959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虚写。作者设想与事实相反的结果，认为若不是东风给周瑜方便，胜者就可能是曹操，历史就将要重写。作者借史倾吐胸中的抑郁之气。诗人认为历史上英雄的成功都有某种机遇，只要有机遇，相信自己也定会有所作为，反映出作者抑郁不平的心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641520" y="582120"/>
            <a:ext cx="7714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后两联在表达上有什么不同？有什么内在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708120" y="2112480"/>
            <a:ext cx="7754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前者是叙事，后者是议论感慨，由叙事引发议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3464640" y="2992680"/>
            <a:ext cx="3435120" cy="3050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695160" y="567360"/>
            <a:ext cx="8199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全诗抒发了作者怎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95160" y="1477440"/>
            <a:ext cx="77544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人慨叹历史上英雄成名的机遇，是因为他自己生不逢时，有政治军事才能而不得一展。只要有机遇，相信自己总会有所作为，显示出一种逼人的英气。同时，诗人借古讽今，告诫当朝统治者要把握时局，不要因轻敌而亡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27"/>
          <p:cNvGrpSpPr/>
          <p:nvPr/>
        </p:nvGrpSpPr>
        <p:grpSpPr>
          <a:xfrm>
            <a:off x="106560" y="304200"/>
            <a:ext cx="2731320" cy="1043640"/>
            <a:chOff x="106560" y="304200"/>
            <a:chExt cx="2731320" cy="1043640"/>
          </a:xfrm>
        </p:grpSpPr>
        <p:sp>
          <p:nvSpPr>
            <p:cNvPr id="98" name="矩形: 圆角 28"/>
            <p:cNvSpPr/>
            <p:nvPr/>
          </p:nvSpPr>
          <p:spPr>
            <a:xfrm rot="20527800">
              <a:off x="201600" y="4910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: 圆角 29"/>
            <p:cNvSpPr/>
            <p:nvPr/>
          </p:nvSpPr>
          <p:spPr>
            <a:xfrm rot="294600">
              <a:off x="865080" y="5270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: 圆角 30"/>
            <p:cNvSpPr/>
            <p:nvPr/>
          </p:nvSpPr>
          <p:spPr>
            <a:xfrm rot="1137000">
              <a:off x="1518840" y="38088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: 圆角 31"/>
            <p:cNvSpPr/>
            <p:nvPr/>
          </p:nvSpPr>
          <p:spPr>
            <a:xfrm rot="20889600">
              <a:off x="2180880" y="58176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6"/>
          <p:cNvSpPr/>
          <p:nvPr/>
        </p:nvSpPr>
        <p:spPr>
          <a:xfrm>
            <a:off x="347760" y="1346040"/>
            <a:ext cx="86547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样看待《赤壁》一诗中最后两句对周郎的评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347760" y="2110320"/>
            <a:ext cx="8108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生甲：“东风不与周郎便，铜雀春深锁二乔”是议论赤壁大战中周瑜战胜曹操的事情。战胜曹操有各种历史原因，其中天时的作用不可忽略。诗人抓住这一点发表议论，认为周瑜胜利的决定性因素是东风，他从反面着笔：假使东风不给周瑜方便，那么历史将会完全改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7"/>
          <p:cNvSpPr/>
          <p:nvPr/>
        </p:nvSpPr>
        <p:spPr>
          <a:xfrm>
            <a:off x="669960" y="1155600"/>
            <a:ext cx="80704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生乙：此处，诗人笔锋一转，将赤壁之战的胜负归结于侥幸和偶然，完全改变了周瑜在战争中的决定性地位与作用。杜牧有经邦济世之才，通晓政治军事，他常以武略自负，自认知兵。诗中对周瑜侥幸成功的议论，正是他军事上的自负之情的自然流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7"/>
          <p:cNvSpPr/>
          <p:nvPr/>
        </p:nvSpPr>
        <p:spPr>
          <a:xfrm>
            <a:off x="977760" y="3232080"/>
            <a:ext cx="1361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赤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左大括号 7"/>
          <p:cNvSpPr/>
          <p:nvPr/>
        </p:nvSpPr>
        <p:spPr>
          <a:xfrm>
            <a:off x="2400480" y="2006640"/>
            <a:ext cx="232920" cy="3399120"/>
          </a:xfrm>
          <a:prstGeom prst="leftBrace">
            <a:avLst>
              <a:gd name="adj1" fmla="val 38708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575080" y="2290320"/>
            <a:ext cx="1358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兴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右大括号 11"/>
          <p:cNvSpPr/>
          <p:nvPr/>
        </p:nvSpPr>
        <p:spPr>
          <a:xfrm>
            <a:off x="5464080" y="2006640"/>
            <a:ext cx="253800" cy="3399120"/>
          </a:xfrm>
          <a:prstGeom prst="rightBrace">
            <a:avLst>
              <a:gd name="adj1" fmla="val 44612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5859360" y="2986560"/>
            <a:ext cx="2206440" cy="6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古讽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警策世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746520" y="1972800"/>
            <a:ext cx="1909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戟未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前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2633760" y="4222800"/>
            <a:ext cx="1115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咏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左大括号 28"/>
          <p:cNvSpPr/>
          <p:nvPr/>
        </p:nvSpPr>
        <p:spPr>
          <a:xfrm>
            <a:off x="3543480" y="2070000"/>
            <a:ext cx="205920" cy="1274040"/>
          </a:xfrm>
          <a:prstGeom prst="leftBrace">
            <a:avLst>
              <a:gd name="adj1" fmla="val 25506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746520" y="3943440"/>
            <a:ext cx="184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风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史将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左大括号 24"/>
          <p:cNvSpPr/>
          <p:nvPr/>
        </p:nvSpPr>
        <p:spPr>
          <a:xfrm>
            <a:off x="3543480" y="4040640"/>
            <a:ext cx="205920" cy="1275840"/>
          </a:xfrm>
          <a:prstGeom prst="leftBrace">
            <a:avLst>
              <a:gd name="adj1" fmla="val 32376"/>
              <a:gd name="adj2" fmla="val 50000"/>
            </a:avLst>
          </a:prstGeom>
          <a:noFill/>
          <a:ln w="19050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grpSp>
        <p:nvGrpSpPr>
          <p:cNvPr id="115" name="组合 27"/>
          <p:cNvGrpSpPr/>
          <p:nvPr/>
        </p:nvGrpSpPr>
        <p:grpSpPr>
          <a:xfrm>
            <a:off x="106560" y="302040"/>
            <a:ext cx="2731320" cy="1043640"/>
            <a:chOff x="106560" y="302040"/>
            <a:chExt cx="2731320" cy="1043640"/>
          </a:xfrm>
        </p:grpSpPr>
        <p:sp>
          <p:nvSpPr>
            <p:cNvPr id="116" name="矩形: 圆角 28"/>
            <p:cNvSpPr/>
            <p:nvPr/>
          </p:nvSpPr>
          <p:spPr>
            <a:xfrm rot="20527800">
              <a:off x="201600" y="48888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: 圆角 29"/>
            <p:cNvSpPr/>
            <p:nvPr/>
          </p:nvSpPr>
          <p:spPr>
            <a:xfrm rot="294600">
              <a:off x="865080" y="52488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: 圆角 30"/>
            <p:cNvSpPr/>
            <p:nvPr/>
          </p:nvSpPr>
          <p:spPr>
            <a:xfrm rot="1137000">
              <a:off x="1518840" y="37872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: 圆角 31"/>
            <p:cNvSpPr/>
            <p:nvPr/>
          </p:nvSpPr>
          <p:spPr>
            <a:xfrm rot="20889600">
              <a:off x="2180880" y="5796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27"/>
          <p:cNvGrpSpPr/>
          <p:nvPr/>
        </p:nvGrpSpPr>
        <p:grpSpPr>
          <a:xfrm>
            <a:off x="106560" y="308520"/>
            <a:ext cx="2731320" cy="1043640"/>
            <a:chOff x="106560" y="308520"/>
            <a:chExt cx="2731320" cy="1043640"/>
          </a:xfrm>
        </p:grpSpPr>
        <p:sp>
          <p:nvSpPr>
            <p:cNvPr id="121" name="矩形: 圆角 28"/>
            <p:cNvSpPr/>
            <p:nvPr/>
          </p:nvSpPr>
          <p:spPr>
            <a:xfrm rot="20527800">
              <a:off x="201600" y="4950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: 圆角 29"/>
            <p:cNvSpPr/>
            <p:nvPr/>
          </p:nvSpPr>
          <p:spPr>
            <a:xfrm rot="294600">
              <a:off x="865080" y="5310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: 圆角 30"/>
            <p:cNvSpPr/>
            <p:nvPr/>
          </p:nvSpPr>
          <p:spPr>
            <a:xfrm rot="1137000">
              <a:off x="1518840" y="38520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: 圆角 31"/>
            <p:cNvSpPr/>
            <p:nvPr/>
          </p:nvSpPr>
          <p:spPr>
            <a:xfrm rot="20889600">
              <a:off x="2180880" y="58608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20"/>
          <p:cNvSpPr/>
          <p:nvPr/>
        </p:nvSpPr>
        <p:spPr>
          <a:xfrm>
            <a:off x="560520" y="1418040"/>
            <a:ext cx="81165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首咏史抒怀诗，借对赤壁之战的评述来抒发诗人的自负感慨，吐露壮志未酬、报国无门的抑郁不平，也告诫统治者不要寄希望于偶然的侥幸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" descr=""/>
          <p:cNvPicPr/>
          <p:nvPr/>
        </p:nvPicPr>
        <p:blipFill>
          <a:blip r:embed="rId1"/>
          <a:stretch/>
        </p:blipFill>
        <p:spPr>
          <a:xfrm>
            <a:off x="3852000" y="3826080"/>
            <a:ext cx="3579480" cy="2778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6"/>
          <p:cNvSpPr/>
          <p:nvPr/>
        </p:nvSpPr>
        <p:spPr>
          <a:xfrm>
            <a:off x="390600" y="1566360"/>
            <a:ext cx="62384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牧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3—85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字牧之，号樊川居士，京兆万年（今陕西西安）人，晚唐著名诗人。与李商隐并称“小李杜”。诗风独树一帜，尤其是抒情绘景的绝句，写得清丽生动。著有《樊川文集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图片 7"/>
          <p:cNvSpPr/>
          <p:nvPr/>
        </p:nvSpPr>
        <p:spPr>
          <a:xfrm>
            <a:off x="6686280" y="1286280"/>
            <a:ext cx="2031840" cy="369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27"/>
          <p:cNvGrpSpPr/>
          <p:nvPr/>
        </p:nvGrpSpPr>
        <p:grpSpPr>
          <a:xfrm>
            <a:off x="106560" y="282960"/>
            <a:ext cx="2731320" cy="1043640"/>
            <a:chOff x="106560" y="282960"/>
            <a:chExt cx="2731320" cy="1043640"/>
          </a:xfrm>
        </p:grpSpPr>
        <p:sp>
          <p:nvSpPr>
            <p:cNvPr id="50" name="矩形: 圆角 28"/>
            <p:cNvSpPr/>
            <p:nvPr/>
          </p:nvSpPr>
          <p:spPr>
            <a:xfrm rot="20527800">
              <a:off x="201600" y="4698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: 圆角 29"/>
            <p:cNvSpPr/>
            <p:nvPr/>
          </p:nvSpPr>
          <p:spPr>
            <a:xfrm rot="294600">
              <a:off x="865080" y="50580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: 圆角 30"/>
            <p:cNvSpPr/>
            <p:nvPr/>
          </p:nvSpPr>
          <p:spPr>
            <a:xfrm rot="1137000">
              <a:off x="1518840" y="35964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: 圆角 31"/>
            <p:cNvSpPr/>
            <p:nvPr/>
          </p:nvSpPr>
          <p:spPr>
            <a:xfrm rot="20889600">
              <a:off x="2180880" y="56052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38040" y="1458360"/>
            <a:ext cx="86468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赤壁》选自《樊川诗集注》卷四（上海古籍出版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97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版）。诗人任黄州刺史时所作。赤壁是东汉末年周瑜大败曹操的地方，在今湖北赤壁西北长江南岸。杜牧所咏的赤壁并非三国时孙、曹大战的地方，二是湖北黄冈的赤鼻矶。所以说此诗虽为咏史诗，其实是作者借题发挥，借以抒发自己的感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7"/>
          <p:cNvGrpSpPr/>
          <p:nvPr/>
        </p:nvGrpSpPr>
        <p:grpSpPr>
          <a:xfrm>
            <a:off x="106560" y="293760"/>
            <a:ext cx="2731320" cy="1043640"/>
            <a:chOff x="106560" y="293760"/>
            <a:chExt cx="2731320" cy="1043640"/>
          </a:xfrm>
        </p:grpSpPr>
        <p:sp>
          <p:nvSpPr>
            <p:cNvPr id="56" name="矩形: 圆角 28"/>
            <p:cNvSpPr/>
            <p:nvPr/>
          </p:nvSpPr>
          <p:spPr>
            <a:xfrm rot="20527800">
              <a:off x="201600" y="480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: 圆角 29"/>
            <p:cNvSpPr/>
            <p:nvPr/>
          </p:nvSpPr>
          <p:spPr>
            <a:xfrm rot="294600">
              <a:off x="865080" y="516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: 圆角 30"/>
            <p:cNvSpPr/>
            <p:nvPr/>
          </p:nvSpPr>
          <p:spPr>
            <a:xfrm rot="1137000">
              <a:off x="1518840" y="37044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: 圆角 31"/>
            <p:cNvSpPr/>
            <p:nvPr/>
          </p:nvSpPr>
          <p:spPr>
            <a:xfrm rot="20889600">
              <a:off x="2180880" y="57132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27"/>
          <p:cNvGrpSpPr/>
          <p:nvPr/>
        </p:nvGrpSpPr>
        <p:grpSpPr>
          <a:xfrm>
            <a:off x="106560" y="293760"/>
            <a:ext cx="2731320" cy="1043640"/>
            <a:chOff x="106560" y="293760"/>
            <a:chExt cx="2731320" cy="1043640"/>
          </a:xfrm>
        </p:grpSpPr>
        <p:sp>
          <p:nvSpPr>
            <p:cNvPr id="61" name="矩形: 圆角 28"/>
            <p:cNvSpPr/>
            <p:nvPr/>
          </p:nvSpPr>
          <p:spPr>
            <a:xfrm rot="20527800">
              <a:off x="201600" y="480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: 圆角 29"/>
            <p:cNvSpPr/>
            <p:nvPr/>
          </p:nvSpPr>
          <p:spPr>
            <a:xfrm rot="294600">
              <a:off x="865080" y="516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: 圆角 30"/>
            <p:cNvSpPr/>
            <p:nvPr/>
          </p:nvSpPr>
          <p:spPr>
            <a:xfrm rot="1137000">
              <a:off x="1518840" y="37044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: 圆角 31"/>
            <p:cNvSpPr/>
            <p:nvPr/>
          </p:nvSpPr>
          <p:spPr>
            <a:xfrm rot="20889600">
              <a:off x="2180880" y="57132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5"/>
          <p:cNvSpPr/>
          <p:nvPr/>
        </p:nvSpPr>
        <p:spPr>
          <a:xfrm>
            <a:off x="1569960" y="835920"/>
            <a:ext cx="593532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赤 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 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折戟沉沙铁未销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将磨洗认前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东风不与周郎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铜雀春深锁二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9640" y="1811880"/>
            <a:ext cx="7822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4"/>
          <p:cNvSpPr/>
          <p:nvPr/>
        </p:nvSpPr>
        <p:spPr>
          <a:xfrm>
            <a:off x="1216080" y="1356840"/>
            <a:ext cx="6778440" cy="11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spcBef>
                <a:spcPts val="45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赤  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45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折戟沉沙铁未销，自将磨洗认前朝。东风不与周郎便，铜雀春深锁二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7"/>
          <p:cNvSpPr/>
          <p:nvPr/>
        </p:nvSpPr>
        <p:spPr>
          <a:xfrm>
            <a:off x="2093760" y="2489040"/>
            <a:ext cx="76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3605040" y="2489040"/>
            <a:ext cx="117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销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2"/>
          <p:cNvSpPr/>
          <p:nvPr/>
        </p:nvSpPr>
        <p:spPr>
          <a:xfrm>
            <a:off x="2549520" y="3818520"/>
            <a:ext cx="766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3"/>
          <p:cNvSpPr/>
          <p:nvPr/>
        </p:nvSpPr>
        <p:spPr>
          <a:xfrm>
            <a:off x="3618000" y="3818520"/>
            <a:ext cx="1133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7"/>
          <p:cNvGrpSpPr/>
          <p:nvPr/>
        </p:nvGrpSpPr>
        <p:grpSpPr>
          <a:xfrm>
            <a:off x="106560" y="293760"/>
            <a:ext cx="2731320" cy="1043640"/>
            <a:chOff x="106560" y="293760"/>
            <a:chExt cx="2731320" cy="1043640"/>
          </a:xfrm>
        </p:grpSpPr>
        <p:sp>
          <p:nvSpPr>
            <p:cNvPr id="73" name="矩形: 圆角 28"/>
            <p:cNvSpPr/>
            <p:nvPr/>
          </p:nvSpPr>
          <p:spPr>
            <a:xfrm rot="20527800">
              <a:off x="201600" y="480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>
              <a:solidFill>
                <a:srgbClr val="ff9999">
                  <a:alpha val="3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: 圆角 29"/>
            <p:cNvSpPr/>
            <p:nvPr/>
          </p:nvSpPr>
          <p:spPr>
            <a:xfrm rot="294600">
              <a:off x="865080" y="51624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>
              <a:solidFill>
                <a:srgbClr val="99ff99">
                  <a:alpha val="20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: 圆角 30"/>
            <p:cNvSpPr/>
            <p:nvPr/>
          </p:nvSpPr>
          <p:spPr>
            <a:xfrm rot="1137000">
              <a:off x="1518840" y="370440"/>
              <a:ext cx="591840" cy="7128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>
              <a:solidFill>
                <a:srgbClr val="ffcc6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: 圆角 31"/>
            <p:cNvSpPr/>
            <p:nvPr/>
          </p:nvSpPr>
          <p:spPr>
            <a:xfrm rot="20889600">
              <a:off x="2180880" y="571320"/>
              <a:ext cx="590040" cy="7128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>
              <a:solidFill>
                <a:srgbClr val="66ccff">
                  <a:alpha val="19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763640" y="1331280"/>
            <a:ext cx="667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折戟沉沙铁未销，自将磨洗认前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46200" y="2565360"/>
            <a:ext cx="76928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铺垫】诗篇开头借一件古物来兴起对前朝人物和事迹的慨叹。这两句是写其兴感之由，为下文的议论做铺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: 圆角 2"/>
          <p:cNvSpPr/>
          <p:nvPr/>
        </p:nvSpPr>
        <p:spPr>
          <a:xfrm>
            <a:off x="552600" y="1242360"/>
            <a:ext cx="7881480" cy="9565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铺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6"/>
          <p:cNvSpPr/>
          <p:nvPr/>
        </p:nvSpPr>
        <p:spPr>
          <a:xfrm>
            <a:off x="504720" y="2324160"/>
            <a:ext cx="826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【议论】这两句是议论。杜牧认为历史上英雄的成功都有某种机遇。不直言战争之胜败，而说“铜雀春深锁二乔”。“二乔”的命运在这里形象地代表了东吴的命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781280" y="1181160"/>
            <a:ext cx="667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东风不与周郎便，铜雀春深锁二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: 圆角 5"/>
          <p:cNvSpPr/>
          <p:nvPr/>
        </p:nvSpPr>
        <p:spPr>
          <a:xfrm>
            <a:off x="569880" y="1092240"/>
            <a:ext cx="7881480" cy="958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宋体"/>
              </a:rPr>
              <a:t>议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590400" y="1530360"/>
            <a:ext cx="8135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牧之所以这样写，除了为表现出非凡的见识，还曲折地反映出他的抑郁不平和豪迈胸襟。诗人从反面设想入手，化实为虚，评析历史，突出中心，讽喻统治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512640" y="628560"/>
            <a:ext cx="8199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赤壁”开头为什么从很不起眼的折戟写起，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85720" y="2717640"/>
            <a:ext cx="44035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一把折戟与古代战争有联系，很自然地引起后文对历史的咏叹，其实是借题发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4" descr=""/>
          <p:cNvPicPr/>
          <p:nvPr/>
        </p:nvPicPr>
        <p:blipFill>
          <a:blip r:embed="rId1"/>
          <a:stretch/>
        </p:blipFill>
        <p:spPr>
          <a:xfrm>
            <a:off x="5116320" y="1852920"/>
            <a:ext cx="3060000" cy="4327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684</Words>
  <Paragraphs>102</Paragraphs>
  <Company>Lenov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37:4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10-15T02:43:36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8</vt:r8>
  </property>
</Properties>
</file>