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DFD849-BEC9-4C6D-A773-1121A6BBF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9.xml"/><Relationship Id="rId24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0C4587-E080-4132-90C4-9811C90DDB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589-41F9-4625-A0EA-487D2371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F42-9656-444B-9DF9-CA1977DD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8CC-0A58-4671-981A-CF5247E0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BD1-A1AD-4631-907B-0008B767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E99-4358-49F1-926F-4C496F73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6A5-7773-49F3-B1F4-35ABC8BE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E98-0705-4AA8-BCC5-AA376602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C12-2932-484E-910B-73BEBEC9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AF8-E1A5-4DB5-A38E-E92A03D5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A6F-A46B-4608-BEC1-AE533BEE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06E-9B1E-4CE9-83F0-79258382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C36-9470-4E50-B063-74FFEF84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BBFF42-3C99-4C8A-8BEF-A09DC41BCC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0" y="162900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迟 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2892960" y="537300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"/>
          <p:cNvSpPr/>
          <p:nvPr/>
        </p:nvSpPr>
        <p:spPr>
          <a:xfrm>
            <a:off x="539640" y="2639880"/>
            <a:ext cx="816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    父亲为什么打“我”？打了“我”为什么还要给“我”送东西？父亲是否爱“我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"/>
          <p:cNvSpPr/>
          <p:nvPr/>
        </p:nvSpPr>
        <p:spPr>
          <a:xfrm>
            <a:off x="534960" y="1568520"/>
            <a:ext cx="352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着问题读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1"/>
          <p:cNvSpPr/>
          <p:nvPr/>
        </p:nvSpPr>
        <p:spPr>
          <a:xfrm>
            <a:off x="549360" y="1052640"/>
            <a:ext cx="806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         父亲为什么要狠狠地打“我”？你从哪儿能读出父亲打得狠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776160" y="2776680"/>
            <a:ext cx="7611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打的动作：从“抄起”“倒转”“一抡”等词语可体会出父亲打得非常用力，打得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打的声音：“嗖嗖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2"/>
          <p:cNvSpPr/>
          <p:nvPr/>
        </p:nvSpPr>
        <p:spPr>
          <a:xfrm>
            <a:off x="776160" y="1773360"/>
            <a:ext cx="761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打的过程：“哭号”、“躲避”等可以看出打得厉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565200" y="1413000"/>
            <a:ext cx="80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   体验品读：谁最能体会作者挨打时的心情？你有过这样的经历吗？她会在这时想些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"/>
          <p:cNvSpPr/>
          <p:nvPr/>
        </p:nvSpPr>
        <p:spPr>
          <a:xfrm>
            <a:off x="771480" y="3166920"/>
            <a:ext cx="806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预设：我曾经因为撒谎被爸爸打过，当时觉得很羞愧，但是觉爸爸那么重地打我，又让我觉得很委屈。相信她也是和我一样既羞愧又委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"/>
          <p:cNvSpPr/>
          <p:nvPr/>
        </p:nvSpPr>
        <p:spPr>
          <a:xfrm>
            <a:off x="682560" y="1339920"/>
            <a:ext cx="7337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为什么会打得这么狠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"/>
          <p:cNvSpPr/>
          <p:nvPr/>
        </p:nvSpPr>
        <p:spPr>
          <a:xfrm>
            <a:off x="865080" y="2637000"/>
            <a:ext cx="6946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直接原因（即从表面上看）：因为本次下雨天“我”不仅起晚了，还不想上学了，妈和爸在反复催促“我”仍然无动于衷的情况下，实在气极了，打了“我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2"/>
          <p:cNvSpPr/>
          <p:nvPr/>
        </p:nvSpPr>
        <p:spPr>
          <a:xfrm>
            <a:off x="539640" y="2349360"/>
            <a:ext cx="809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间接原因：运用联系上文的方法领悟出，上一年级时，我就经常迟到，再不打就很难改了。从打的效果来看——眼前效果，“最后还是冒着大雨上学去了”；长远效果，后来我“每天早晨”再也不迟到了，发生了很大的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638280" y="2376360"/>
            <a:ext cx="8005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   隐形原因：怕将来养不成好的习惯，体现了父亲的对我的关心——深深的父爱。（可以在学课文的结尾部分再回顾，体会父亲打“我”的良苦用心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539640" y="1773360"/>
            <a:ext cx="80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讨论：打了“我”为什么还要给我送东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406440" y="2419200"/>
            <a:ext cx="80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父亲关心“我”的身体，这是对“我”深沉的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539640" y="1557360"/>
            <a:ext cx="80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正在静默时，有人拍了我的肩头一下，我急忙睁开了眼，原来是老师站在我的位子边。他用眼神告诉我，让我向教室的窗外看去”，结果怎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668160" y="3789360"/>
            <a:ext cx="806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猛一转头看，是爸爸那瘦高的影子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1109520" y="5073480"/>
            <a:ext cx="6918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爸爸来到教室给“我”送东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539640" y="1052640"/>
            <a:ext cx="818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从爸爸来到学校给“我”送花夹袄和两块钱的细节中，你体会到什么？你能通过朗读表现人物心情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668160" y="3500280"/>
            <a:ext cx="714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”体会到了父亲既关注“我”的良好品质的形成，又关心“我”的身体健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836640" y="1901880"/>
            <a:ext cx="8343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林海音 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18—200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林海音，台湾作家。原名林含英，小名英子，祖籍台湾省苗栗县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出生于日本大阪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2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随父母回到台湾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2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又随全家迁居北京，并在北京城南定居下来。后毕业于北京新闻专科学校，并担任《世界日报》记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324000" y="110952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者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3919320" y="981000"/>
            <a:ext cx="460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爸爸的花儿落了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539640" y="1600200"/>
            <a:ext cx="7992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新建的大礼堂里，坐满了人；我们毕业生坐在前八排，我又是坐在最前一排的中间位子上。我的衣襟上有一朵粉红色的夹竹桃，是临来时妈妈从院子里摘下来给我别上的。她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夹竹桃是你爸爸种的，戴着它，就像爸爸看见你上台一样！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爸爸病倒了，他住在医院里不能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539640" y="981000"/>
            <a:ext cx="799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昨天我去看爸爸，他的喉咙肿胀着，声音是低哑的。我告诉爸，行毕业典礼的时候，我代表全体同学领毕业证书，并且致谢词。我问爸，能不能起来，参加我的毕业典礼？六年前他参加了我们学校的那次欢送毕业同学同乐会时，曾经要我好好用功，六年后也代表同学领毕业证书和致谢词。今天，“六年后”到了，我真的被选做这件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358920" y="1209600"/>
            <a:ext cx="7992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爸爸哑着嗓子，拉起我的手笑笑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我怎么能够去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但是我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爸爸，你不去，我很害怕，你在台底下，我上台说话就不发慌了。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爸爸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英子，不要怕，无论什么困难的事，只要硬着头皮去做，就闯过去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539640" y="1339920"/>
            <a:ext cx="841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知道，爸爸。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没有爸爸，你更要自己管自己，并且管弟弟和妹妹，你已经大了，是不是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是。”我虽然这么答应了，但是觉得爸爸讲的话很使我不舒服，自从六年前的那一次，我何曾再迟到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766800" y="907920"/>
            <a:ext cx="7692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那么爸不也可以硬着头皮从床上起来到我们学校去吗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爸爸看着我，摇摇头，不说话了。他把脸转向墙那边，举起他的手，看那上面的指甲。然后，他又转过脸来叮嘱我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明天要早起，收拾好就到学校去，这是你在小学的最后一天了，可不能迟到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468360" y="907920"/>
            <a:ext cx="799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啊！这样的早晨，一年年都过去了，今天是我最后一天在这学校里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当当当，钟响了，毕业典礼就要开始。看外面的天，有点阴，我忽然想，爸爸会不会忽然从床上起来，给我送来花夹袄？我又想，爸爸的病几时才能好？妈妈今早的眼睛为什么红肿着？院里大盆的石榴和夹竹桃今年爸爸都没有给上麻渣，他为了叔叔给日本人害死，急得吐血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"/>
          <p:cNvSpPr/>
          <p:nvPr/>
        </p:nvSpPr>
        <p:spPr>
          <a:xfrm>
            <a:off x="468360" y="907920"/>
            <a:ext cx="79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到了五月节，石榴花没有开得那么红，那么大。如果秋天来了，爸还要买那样多的菊花，摆满在我们的院子里、廊檐下、客厅的花架上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爸是多么喜欢花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每天他下班回来，我们在门口等他，他把草帽推到头后面抱起弟弟，经过自来水龙头，拿起灌满了水的喷水壶，唱着歌儿走到后院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468360" y="1114560"/>
            <a:ext cx="799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回家来的第一件事就是浇花。那时太阳快要下去了，院子里吹着凉爽的风，爸爸摘下一朵茉莉插到瘦鸡妹妹的头发上。陈家的伯伯对爸爸说：“老林，你这样喜欢花，所以你太太生了一堆女儿！”我有四个妹妹，只有两个弟弟。我才十二岁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为什么总想到这些呢？韩主任已经上台了，他很正经地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468360" y="1114560"/>
            <a:ext cx="799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各位同学都毕业了，就要离开上了六年的小学到中学去读书，做了中学生就不是小孩子了，当你们回到小学来看老师的时候，我一定高兴看你们都长高了，长大了…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于是我唱了五年的骊歌，现在轮到同学们唱给我们送别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2"/>
          <p:cNvSpPr/>
          <p:nvPr/>
        </p:nvSpPr>
        <p:spPr>
          <a:xfrm>
            <a:off x="468360" y="923760"/>
            <a:ext cx="79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长亭外，古道边，芳草碧连天。问君此去几时来，来时莫徘徊！天之涯，地之角，知交半零落，人生难得是欢聚，惟有别离多…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  我哭了，我们毕业生都哭了。我们是多么喜欢长高了变成大人，我们又是多么怕呢！当我们回到小学来的时候，无论长得多么高，多么大，老师！你们要永远拿我当个孩子呀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做大人，常常有人要我做大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979560" y="1488960"/>
            <a:ext cx="727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检查预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7101000" y="2286000"/>
            <a:ext cx="16552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300720" y="1619280"/>
            <a:ext cx="1655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6453360" y="1771560"/>
            <a:ext cx="1655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605640" y="1924200"/>
            <a:ext cx="1655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5713560" y="1916280"/>
            <a:ext cx="1655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009800" y="2308320"/>
            <a:ext cx="727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同桌互相检查读课文情况，重点检查字音。同位互相进行评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1258920" y="4194000"/>
            <a:ext cx="6913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罚    羞     惧      催       挪     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避     默    搭      袄       烤      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0"/>
          <p:cNvSpPr/>
          <p:nvPr/>
        </p:nvSpPr>
        <p:spPr>
          <a:xfrm>
            <a:off x="1251000" y="3665520"/>
            <a:ext cx="6913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á    xiū     jù     cuī      nuó    l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ì     mò   dā      ăo      kăo    h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468360" y="1158840"/>
            <a:ext cx="79912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宋妈临回她的老家的时候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英子，你大了，可不能跟弟弟再吵嘴！他还小。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兰姨娘跟着那个四眼狗上马车的时候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英子，你大了，可不能招你妈妈生气了！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2"/>
          <p:cNvSpPr/>
          <p:nvPr/>
        </p:nvSpPr>
        <p:spPr>
          <a:xfrm>
            <a:off x="468360" y="1114560"/>
            <a:ext cx="79912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蹲在草地里的那个人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等到你小学毕业了，长大了，我们看海去。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虽然，这些人都随着我的长大没有了影子了。是跟着我失去的童年一起失去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爸爸也不拿我当孩子了，他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英子，去把这些钱寄给在日本读书的陈叔叔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2"/>
          <p:cNvSpPr/>
          <p:nvPr/>
        </p:nvSpPr>
        <p:spPr>
          <a:xfrm>
            <a:off x="468360" y="1114560"/>
            <a:ext cx="79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爸爸！——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不要怕，英子，你要学做许多事，将来好帮着你妈妈。你最大。”于是他数了钱，告诉我怎样到东交民巷的正金银行去寄这笔钱——到最里面的台子上去要一张寄款单，填上“金柒拾圆也”，写上日本横滨的地址，交给柜台里的小日本儿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2"/>
          <p:cNvSpPr/>
          <p:nvPr/>
        </p:nvSpPr>
        <p:spPr>
          <a:xfrm>
            <a:off x="468360" y="1308240"/>
            <a:ext cx="79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我虽然很害怕，但是也得硬着头皮去。——这是爸曾说的，无论什么困难的事，只要硬着头皮去做，就闯过去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闯练，闯练，英子。”我临去时爸爸还这样叮嘱我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2"/>
          <p:cNvSpPr/>
          <p:nvPr/>
        </p:nvSpPr>
        <p:spPr>
          <a:xfrm>
            <a:off x="468360" y="836640"/>
            <a:ext cx="79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我心情紧张，手里捏紧一卷钞票到银行去。等到从高台阶的正金银行出来，看着东交民巷街道中的花圃种满了蒲公英，我高兴地想：闯过来了，快回家去，告诉爸爸，并且要他明天在花池里也种满蒲公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快回家去！快回家去！拿着刚发下来的小学毕业文凭——红丝带子系着的白纸筒，催着自己，我好像怕赶不上什么事情似的，为什么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2"/>
          <p:cNvSpPr/>
          <p:nvPr/>
        </p:nvSpPr>
        <p:spPr>
          <a:xfrm>
            <a:off x="468360" y="836640"/>
            <a:ext cx="79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进了家门来，静悄悄的，四个妹妹和两个弟弟都坐在院子里的小板凳上，他们在玩沙土，旁边的夹竹桃不知什么时候垂下了好几个枝子，散散落落地很不像样，是因为爸爸今年没有收拾它们——修剪、捆扎和施肥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石榴树大盆底下也有几粒没有长成的小石榴，我很生气，问妹妹们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是谁把爸爸的石榴摘下来的？我要告诉爸爸去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2"/>
          <p:cNvSpPr/>
          <p:nvPr/>
        </p:nvSpPr>
        <p:spPr>
          <a:xfrm>
            <a:off x="468360" y="1014480"/>
            <a:ext cx="79912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妹妹们惊奇地睁大了眼，她们摇摇头说：“是它们自己掉下来的。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我捡起小青石榴。缺了一根手指头的厨子老高从外面进来了，他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大小姐，别说什么告诉你爸爸了，你妈妈刚从医院来了电话，叫你赶快去，你爸爸已经……”他为什么不说下去了？我忽然觉得着急起来，大声喊着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你说什么？老高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"/>
          <p:cNvSpPr/>
          <p:nvPr/>
        </p:nvSpPr>
        <p:spPr>
          <a:xfrm>
            <a:off x="468360" y="836640"/>
            <a:ext cx="79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大小姐，到了医院，好好儿劝劝你妈，这里就数你大了！就数你大了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瘦鸡妹妹还在抢燕燕的小玩意儿，弟弟把沙土灌进玻璃瓶里。是的，这里就数我大了，我是小小的大人。我对老高说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“老高，我知道是什么事了，我就去医院。”我从来没有过这样的镇定，这样的安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3"/>
          <p:cNvSpPr/>
          <p:nvPr/>
        </p:nvSpPr>
        <p:spPr>
          <a:xfrm>
            <a:off x="1619640" y="200916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模板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素材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背景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图表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程： 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资料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范文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试卷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案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论坛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语文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数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英语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美术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科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物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化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生物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地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历史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466560" y="1236600"/>
            <a:ext cx="84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我把小学毕业文凭，放到书桌的抽屉里，再出来，老高已经替我雇好了到医院的车子。走过院子，看到那垂落的夹竹桃，我默念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爸爸的花儿落了，我也不再是小孩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148068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"/>
          <p:cNvSpPr/>
          <p:nvPr/>
        </p:nvSpPr>
        <p:spPr>
          <a:xfrm>
            <a:off x="1187280" y="1525680"/>
            <a:ext cx="662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林海音在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岁的时候曾经说过：“我七十多岁了，一生经历的事不少，但这件‘迟到’的事，对我应当是刻骨铭心的，如果爸爸影响了我，我又影响了读者，该是一件多么好的事！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3368520" y="1773360"/>
            <a:ext cx="182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了课文，你读懂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1112760" y="2997360"/>
            <a:ext cx="6835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提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①主要内容，②所写事情，③文中人物——“我”和“父亲”等不同方面交流自己所读懂的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/>
          <p:nvPr/>
        </p:nvSpPr>
        <p:spPr>
          <a:xfrm>
            <a:off x="1187280" y="152568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训练语言表达：能不能用比喻的方式说说你对父爱的认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1187280" y="314172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父爱如山，父爱如大海，如阳光、月光、春风、春雨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1042920" y="1484280"/>
            <a:ext cx="7345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最大的失败是失败了不觉悟。——卡莱尔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错误是不可避免的，但是不要重复错误。——周恩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只有什么事也不干的人才不会犯错误。——列宁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我的最重要发现是由失败给我的启发。——戴维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187280" y="1201680"/>
            <a:ext cx="662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布置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971640" y="1928880"/>
            <a:ext cx="7597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推荐阅读：林海音的小说《城南旧事》和朱自清的散文《背影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写一件自己和父亲之间的故事。要求写出父亲充满爱意的语言、表情、动作，写出你是怎样在父亲的关怀、支持、鼓励、鞭策下成长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4143240" y="191628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篇课文主要讲了一件什么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912960" y="3789360"/>
            <a:ext cx="713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者小时候因为迟到发生在她和父亲之间的一个小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>
            <a:off x="3585240" y="2160720"/>
            <a:ext cx="166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快速读文，边读边想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858960" y="3608280"/>
            <a:ext cx="675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者林海音的父亲是不是一位好父亲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>
            <a:off x="755640" y="1136520"/>
            <a:ext cx="7345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围绕“上学迟到”这条线索，按照事情发展的顺序，理清作者的写作思路，把全文整理为四个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“我”有赖床的习惯，恰逢今天下雨，“我”干脆不起来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父亲严厉地惩处了“我”，而结果是，“我”上学也迟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1476360" y="2060640"/>
            <a:ext cx="6335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上课的时候，父亲给“我”送花夹袄来了，“我”感受了到父亲默默的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从此以后，“我”成了到校最早的学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3549240" y="2205000"/>
            <a:ext cx="196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通过第一课时的学习，我们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了课文主要在讲一件什么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"/>
          <p:cNvSpPr/>
          <p:nvPr/>
        </p:nvSpPr>
        <p:spPr>
          <a:xfrm>
            <a:off x="324000" y="4221000"/>
            <a:ext cx="864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者小时候因为迟到，发生在她和父亲之间的一个小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1860</Words>
  <Paragraphs>1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3T05:48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1-09T02:40:02Z</dcterms:modified>
  <cp:revision>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43</vt:r8>
  </property>
</Properties>
</file>