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F85-0547-465C-91A2-5E678060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6BD-A1A3-413E-BEB9-18D8F928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C80-2350-4D27-B631-C4CCE76B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861-1CED-4B78-9610-A38FD393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2EA7-4BDC-4CA1-BA89-5978AFAE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5B0A-5128-4C95-BF91-C603F298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4DAF-CC7B-42FF-B7DD-62470BC3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113B-3E32-4544-B92A-3559862D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BCA6-86D0-407F-9CF1-056A8E69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149D-D1BA-4C1F-91FF-80BAB218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6A7D-34CB-4A1A-A223-63ECDC9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EC6-23DD-4898-BFFA-2D295BA8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0CBB-7373-4124-BEC9-06B5C00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6E46-BC81-4C04-A445-1FEB0E5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6199-DEC8-4E68-B5D9-F9177464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2243-08A8-4ED5-B307-EDBD2F25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C555-C07D-465C-8B45-5FAC5F50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493-EC46-433D-81BB-02141E26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953-77D9-42FB-BC3B-ECFC218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30A-7CA4-406F-A112-65DD70DA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5C8-6E4A-4497-8005-71A099AC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0DF-C4CB-46B1-A226-02C79BC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343-04A2-4F38-88E9-518D599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FF9-654D-4A4A-9B17-F1B31C79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801933-3DE6-4A5D-B316-1C9FA0E954D3}" type="slidenum">
              <a:rPr b="0" lang="en-US" sz="1200" spc="-1" strike="noStrike">
                <a:solidFill>
                  <a:srgbClr val="808080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FB6D52-E75A-48A6-AC02-79CCCB61CBAF}" type="slidenum">
              <a:rPr b="0" lang="en-US" sz="1200" spc="-1" strike="noStrike">
                <a:solidFill>
                  <a:srgbClr val="808080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2051"/>
          <p:cNvSpPr/>
          <p:nvPr/>
        </p:nvSpPr>
        <p:spPr>
          <a:xfrm>
            <a:off x="1744200" y="1131840"/>
            <a:ext cx="54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西师大版 三年级语文 下册 第一单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058" descr="MCj04270330000[1]"/>
          <p:cNvPicPr/>
          <p:nvPr/>
        </p:nvPicPr>
        <p:blipFill>
          <a:blip r:embed="rId1"/>
          <a:stretch/>
        </p:blipFill>
        <p:spPr>
          <a:xfrm>
            <a:off x="7245000" y="4400640"/>
            <a:ext cx="1428480" cy="1740960"/>
          </a:xfrm>
          <a:prstGeom prst="rect">
            <a:avLst/>
          </a:prstGeom>
          <a:ln w="0">
            <a:noFill/>
          </a:ln>
        </p:spPr>
      </p:pic>
      <p:sp>
        <p:nvSpPr>
          <p:cNvPr id="86" name="矩形 2059"/>
          <p:cNvSpPr txBox="1"/>
          <p:nvPr/>
        </p:nvSpPr>
        <p:spPr>
          <a:xfrm>
            <a:off x="1744200" y="2556000"/>
            <a:ext cx="4084560" cy="1152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514960" y="531072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总结回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720" y="162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同学们，刚才我们一起聆听了春的欢歌，欣赏了春的身影。现在让我们把这些美好的情景永留我们心中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同学们选择自己最喜欢的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小节背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3315"/>
          <p:cNvSpPr/>
          <p:nvPr/>
        </p:nvSpPr>
        <p:spPr>
          <a:xfrm>
            <a:off x="3132360" y="1484280"/>
            <a:ext cx="187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3316"/>
          <p:cNvSpPr/>
          <p:nvPr/>
        </p:nvSpPr>
        <p:spPr>
          <a:xfrm>
            <a:off x="1258560" y="2205000"/>
            <a:ext cx="6626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写一写你捕捉到的春的消息或画出你心中的春天美景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3317" descr="MCj04197960000[1]"/>
          <p:cNvPicPr/>
          <p:nvPr/>
        </p:nvPicPr>
        <p:blipFill>
          <a:blip r:embed="rId1"/>
          <a:stretch/>
        </p:blipFill>
        <p:spPr>
          <a:xfrm>
            <a:off x="7524720" y="4149720"/>
            <a:ext cx="1008000" cy="15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2291"/>
          <p:cNvSpPr/>
          <p:nvPr/>
        </p:nvSpPr>
        <p:spPr>
          <a:xfrm>
            <a:off x="900000" y="1844640"/>
            <a:ext cx="7416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会本课的生字词，正确、流利、有感情地朗读课文，背诵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感受春天的美好，体会作者对春天的喜爱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习作者抓住景物特点的描写方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感知春天刚来到时景物的变化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2292"/>
          <p:cNvSpPr/>
          <p:nvPr/>
        </p:nvSpPr>
        <p:spPr>
          <a:xfrm>
            <a:off x="2370600" y="792000"/>
            <a:ext cx="30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1267"/>
          <p:cNvSpPr/>
          <p:nvPr/>
        </p:nvSpPr>
        <p:spPr>
          <a:xfrm>
            <a:off x="1115640" y="1484280"/>
            <a:ext cx="324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初步感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1268"/>
          <p:cNvSpPr/>
          <p:nvPr/>
        </p:nvSpPr>
        <p:spPr>
          <a:xfrm>
            <a:off x="909720" y="2451240"/>
            <a:ext cx="74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由轻读课文，思考文章写的是什么事？每节是什么内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0243"/>
          <p:cNvSpPr/>
          <p:nvPr/>
        </p:nvSpPr>
        <p:spPr>
          <a:xfrm>
            <a:off x="1186920" y="1268280"/>
            <a:ext cx="295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习生字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0244"/>
          <p:cNvSpPr/>
          <p:nvPr/>
        </p:nvSpPr>
        <p:spPr>
          <a:xfrm>
            <a:off x="1186920" y="2205000"/>
            <a:ext cx="7129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聆  雏   搔  聆  苞   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聆听   雏菊   禁不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绿苞   唤醒   搔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9219"/>
          <p:cNvSpPr/>
          <p:nvPr/>
        </p:nvSpPr>
        <p:spPr>
          <a:xfrm>
            <a:off x="1186920" y="1916280"/>
            <a:ext cx="712908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习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同学们齐读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节，看看这一节中有哪些春的消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你们一边读，一边看到了什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220"/>
          <p:cNvSpPr/>
          <p:nvPr/>
        </p:nvSpPr>
        <p:spPr>
          <a:xfrm>
            <a:off x="1258560" y="1197000"/>
            <a:ext cx="266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中感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720" y="1197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“风，摇绿了树的枝条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风轻轻拂过大地，大地怎么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变绿了，换上绿衣裳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那在风中摇摆的枝条在干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读出春风的轻、柔，读出你的欣喜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6000" y="1341360"/>
            <a:ext cx="7702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“水，漂白了鸭的羽毛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怎么理解“漂白”的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寒冷而漫长的冬天已经过去，春天来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让我们一起来欢呼这个好消息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齐读，读出盼望后的惊喜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和风送暖，春江水绿，这些都是春姑娘的足迹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同学们，让我们继续像刚才一样，去读去找去想：还有哪些春的消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8195"/>
          <p:cNvSpPr/>
          <p:nvPr/>
        </p:nvSpPr>
        <p:spPr>
          <a:xfrm>
            <a:off x="756000" y="1052640"/>
            <a:ext cx="266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交流讨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197"/>
          <p:cNvSpPr/>
          <p:nvPr/>
        </p:nvSpPr>
        <p:spPr>
          <a:xfrm>
            <a:off x="756000" y="1844640"/>
            <a:ext cx="78483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读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节，看看还有哪些春的消息？你最喜欢哪些句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可以一边读一边想象一边勾画，在旁边写上自己的感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交流汇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你知道了哪些春的消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最喜欢哪些句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 ">
  <a:themeElements>
    <a:clrScheme name="自定义 214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 ">
  <a:themeElements>
    <a:clrScheme name="自定义 214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31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02:03:00Z</dcterms:created>
  <dc:creator/>
  <dc:description/>
  <cp:keywords>第一PPT模板网-WWW.1PPT.COM</cp:keywords>
  <dc:language>en-US</dc:language>
  <cp:lastModifiedBy/>
  <dcterms:modified xsi:type="dcterms:W3CDTF">2019-06-26T06:20:56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66</vt:lpwstr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12</vt:r8>
  </property>
</Properties>
</file>