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9.gif" ContentType="image/gif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9B339F-8503-40CC-B77B-1D9D312D2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C2AC0A-3161-4C4E-A1EB-35801B01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9DB040-91A4-493E-8283-9C50F97F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86B5BC-589E-4A5F-8776-E4B502D0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230407-2BF3-4E14-966B-991FE4CD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1DE6AF-3735-497D-B311-500F53467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8B4-DBF1-4859-974A-3BCBE4DE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EDB-B7A8-42E1-AA48-E144385D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845-DDA3-4F34-996D-5DD5F803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641-5F1D-40D6-9B09-99E5C8FD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8735-E7C9-4270-B6B0-C6841957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335-8314-4A03-A551-95F158AE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BECC-FAC7-44CE-AAFE-B07C533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A8B1-BFCF-4EE3-B43E-170D2F76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FB77-7959-4B8E-BBAE-C7C3613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653D-BA51-40E9-A598-154571B8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056D-36B1-43DA-92D1-3E2ECF0E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8AF-08B0-4CBA-BCAA-40F2A17A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7C23-ED5B-495F-BC8C-ACFD576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F088-D173-4A5C-8700-AA7614A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955D-B128-4A12-8F15-B63A274F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5F8F-F8E9-4EF5-9806-53C79062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B53D-A7BC-4752-BC57-4247D1FA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DC406-229E-433E-88F6-1FC8885B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67FF-69AB-4ACA-8AAF-0D3251D2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5624-EF8B-4525-8609-4F86780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70B7-8654-4F8C-AC5A-D3A76FB2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5452-5723-49DB-A68F-A1D9A914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DF4-C35D-4FD0-A782-E3005DD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B741-0040-4D0A-9B4A-8A5C14B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6E2E-3904-4662-ABAA-B66A03A5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1411-A444-4194-BA8A-76C2722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A431-3BDF-4576-8F17-DC4E0573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6F690-C32C-40EF-ADA3-8FC9D9CD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07DD-658E-428D-A5D2-6FA3EA67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EE42-2485-4050-8590-BA82BBF8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55C-8163-4044-8BA3-A9CBA72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F4D-FB26-4214-ACFB-C3D8627F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703-4F31-4629-9EA5-2CF9AB54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EA5-9932-44EA-9BFE-C6F8F147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9EB-B61A-49A3-B4CC-BBE0FF6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903-D5BE-4537-9B20-51975A0A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26FE04-E956-4C3C-B71D-C0E8FE0C7E4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BEE40F-3AB8-4CCE-8E3F-B3DCBD181FC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 hidden="1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97" name="Rectangle 3" hidden="1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98" name="Rectangle 4" hidden="1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99" name="Rectangle 5" hidden="1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00" name="Rectangle 6" hidden="1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01" name="Rectangle 7" hidden="1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102" name="Rectangle 8" hidden="1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grpSp>
        <p:nvGrpSpPr>
          <p:cNvPr id="103" name="Group 2"/>
          <p:cNvGrpSpPr/>
          <p:nvPr/>
        </p:nvGrpSpPr>
        <p:grpSpPr>
          <a:xfrm>
            <a:off x="0" y="2438280"/>
            <a:ext cx="9009000" cy="1052280"/>
            <a:chOff x="0" y="2438280"/>
            <a:chExt cx="9009000" cy="1052280"/>
          </a:xfrm>
        </p:grpSpPr>
        <p:grpSp>
          <p:nvGrpSpPr>
            <p:cNvPr id="104" name="Group 3"/>
            <p:cNvGrpSpPr/>
            <p:nvPr/>
          </p:nvGrpSpPr>
          <p:grpSpPr>
            <a:xfrm>
              <a:off x="293760" y="2546280"/>
              <a:ext cx="712440" cy="474480"/>
              <a:chOff x="293760" y="2546280"/>
              <a:chExt cx="712440" cy="474480"/>
            </a:xfrm>
          </p:grpSpPr>
          <p:sp>
            <p:nvSpPr>
              <p:cNvPr id="105" name="Rectangle 4"/>
              <p:cNvSpPr/>
              <p:nvPr/>
            </p:nvSpPr>
            <p:spPr>
              <a:xfrm>
                <a:off x="293760" y="2546280"/>
                <a:ext cx="438120" cy="47448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  <a:ea typeface="宋体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677520" y="254628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  <a:ea typeface="宋体"/>
                </a:endParaRPr>
              </a:p>
            </p:txBody>
          </p:sp>
        </p:grpSp>
        <p:grpSp>
          <p:nvGrpSpPr>
            <p:cNvPr id="107" name="Group 6"/>
            <p:cNvGrpSpPr/>
            <p:nvPr/>
          </p:nvGrpSpPr>
          <p:grpSpPr>
            <a:xfrm>
              <a:off x="417600" y="2968560"/>
              <a:ext cx="739080" cy="474480"/>
              <a:chOff x="417600" y="2968560"/>
              <a:chExt cx="739080" cy="474480"/>
            </a:xfrm>
          </p:grpSpPr>
          <p:sp>
            <p:nvSpPr>
              <p:cNvPr id="108" name="Rectangle 7"/>
              <p:cNvSpPr/>
              <p:nvPr/>
            </p:nvSpPr>
            <p:spPr>
              <a:xfrm>
                <a:off x="417600" y="2968560"/>
                <a:ext cx="422280" cy="474480"/>
              </a:xfrm>
              <a:prstGeom prst="rect">
                <a:avLst/>
              </a:pr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  <a:ea typeface="宋体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787320" y="2968560"/>
                <a:ext cx="36936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  <a:ea typeface="宋体"/>
                </a:endParaRPr>
              </a:p>
            </p:txBody>
          </p:sp>
        </p:grpSp>
        <p:sp>
          <p:nvSpPr>
            <p:cNvPr id="110" name="Rectangle 9"/>
            <p:cNvSpPr/>
            <p:nvPr/>
          </p:nvSpPr>
          <p:spPr>
            <a:xfrm>
              <a:off x="0" y="2895480"/>
              <a:ext cx="56016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ahoma"/>
                <a:ea typeface="宋体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635040" y="2438280"/>
              <a:ext cx="31320" cy="10522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ahoma"/>
                <a:ea typeface="宋体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 flipV="1">
              <a:off x="316080" y="325980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ahoma"/>
                <a:ea typeface="宋体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04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99072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8"/>
          </p:nvPr>
        </p:nvSpPr>
        <p:spPr>
          <a:xfrm>
            <a:off x="342900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1DCEB8-FCF5-4613-9986-40DB1EFDCF16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8.xml"/><Relationship Id="rId7" Type="http://schemas.openxmlformats.org/officeDocument/2006/relationships/image" Target="../media/image5.jpeg"/><Relationship Id="rId8" Type="http://schemas.openxmlformats.org/officeDocument/2006/relationships/slide" Target="slide7.xml"/><Relationship Id="rId9" Type="http://schemas.openxmlformats.org/officeDocument/2006/relationships/image" Target="../media/image5.jpeg"/><Relationship Id="rId10" Type="http://schemas.openxmlformats.org/officeDocument/2006/relationships/slide" Target="slide6.xml"/><Relationship Id="rId11" Type="http://schemas.openxmlformats.org/officeDocument/2006/relationships/image" Target="../media/image5.jpeg"/><Relationship Id="rId12" Type="http://schemas.openxmlformats.org/officeDocument/2006/relationships/slide" Target="slide11.xml"/><Relationship Id="rId13" Type="http://schemas.openxmlformats.org/officeDocument/2006/relationships/image" Target="../media/image5.jpeg"/><Relationship Id="rId14" Type="http://schemas.openxmlformats.org/officeDocument/2006/relationships/slide" Target="slide1.xml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7391160" cy="6857640"/>
          </a:xfrm>
          <a:prstGeom prst="rect">
            <a:avLst/>
          </a:prstGeom>
          <a:ln w="9525">
            <a:noFill/>
          </a:ln>
        </p:spPr>
      </p:pic>
      <p:sp>
        <p:nvSpPr>
          <p:cNvPr id="161" name="WordArt 6"/>
          <p:cNvSpPr txBox="1"/>
          <p:nvPr/>
        </p:nvSpPr>
        <p:spPr>
          <a:xfrm rot="5400000">
            <a:off x="5867640" y="2514600"/>
            <a:ext cx="4571640" cy="1066320"/>
          </a:xfrm>
          <a:prstGeom prst="rect">
            <a:avLst/>
          </a:prstGeom>
        </p:spPr>
        <p:txBody>
          <a:bodyPr wrap="none" lIns="90000" rIns="90000" tIns="45000" bIns="45000" anchor="t" anchorCtr="1" vert="vert" rot="5400000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春的消息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3206160" y="6181560"/>
            <a:ext cx="35690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22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2438280" y="3581280"/>
            <a:ext cx="69339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来到去年叶落的枝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等待它吐出新的绿苞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再去唤醒沉睡的溪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听它唱歌，和它一起奔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rId2" action="ppaction://hlinksldjump"/>
          </p:cNvPr>
          <p:cNvSpPr/>
          <p:nvPr/>
        </p:nvSpPr>
        <p:spPr>
          <a:xfrm>
            <a:off x="8153280" y="152280"/>
            <a:ext cx="837720" cy="5331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6333840" y="42670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新的绿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83" dur="1" fill="hold"/>
                                        <p:tgtEl>
                                          <p:spTgt spid="22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230" name="Picture 4" descr="2005122314442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0" y="3657600"/>
            <a:ext cx="8838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走累了，我就躺在田野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头顶有明丽的太阳照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是谁搔痒了我的面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啊，身边又钻出嫩绿的小草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>
            <a:hlinkClick r:id="rId2" action="ppaction://hlinksldjump"/>
          </p:cNvPr>
          <p:cNvSpPr/>
          <p:nvPr/>
        </p:nvSpPr>
        <p:spPr>
          <a:xfrm>
            <a:off x="8305920" y="6324480"/>
            <a:ext cx="837720" cy="5331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828800" y="4343400"/>
            <a:ext cx="3657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明丽的太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191120" y="5791320"/>
            <a:ext cx="3733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嫩绿的小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90" dur="1" fill="hold"/>
                                        <p:tgtEl>
                                          <p:spTgt spid="233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95" dur="1" fill="hold"/>
                                        <p:tgtEl>
                                          <p:spTgt spid="23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2005930103356244"/>
          <p:cNvPicPr/>
          <p:nvPr/>
        </p:nvPicPr>
        <p:blipFill>
          <a:blip r:embed="rId1"/>
          <a:stretch/>
        </p:blipFill>
        <p:spPr>
          <a:xfrm>
            <a:off x="0" y="3505320"/>
            <a:ext cx="9143640" cy="3352320"/>
          </a:xfrm>
          <a:prstGeom prst="rect">
            <a:avLst/>
          </a:prstGeom>
          <a:ln w="9525">
            <a:noFill/>
          </a:ln>
        </p:spPr>
      </p:pic>
      <p:sp>
        <p:nvSpPr>
          <p:cNvPr id="236" name="Text Box 3"/>
          <p:cNvSpPr/>
          <p:nvPr/>
        </p:nvSpPr>
        <p:spPr>
          <a:xfrm>
            <a:off x="943560" y="0"/>
            <a:ext cx="1141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描写心情的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838080"/>
            <a:ext cx="83055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盼望了整整一个冬天，你看，春天已经来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飞过树林，飞上山冈，到处有春天的欢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我高兴地捉住它，又爱怜地把它放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看到第一朵雏菊开放，我会禁不住欣喜地雀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04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240" name="Picture 4" descr="2010041257179641"/>
          <p:cNvPicPr/>
          <p:nvPr/>
        </p:nvPicPr>
        <p:blipFill>
          <a:blip r:embed="rId1"/>
          <a:stretch/>
        </p:blipFill>
        <p:spPr>
          <a:xfrm>
            <a:off x="-304920" y="-228600"/>
            <a:ext cx="9753120" cy="7314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8800" cy="748800"/>
          </a:xfrm>
          <a:prstGeom prst="rect">
            <a:avLst/>
          </a:prstGeom>
          <a:ln w="9525">
            <a:noFill/>
          </a:ln>
        </p:spPr>
      </p:pic>
      <p:sp>
        <p:nvSpPr>
          <p:cNvPr id="242" name="Text Box 3"/>
          <p:cNvSpPr/>
          <p:nvPr/>
        </p:nvSpPr>
        <p:spPr>
          <a:xfrm>
            <a:off x="304920" y="228600"/>
            <a:ext cx="813564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拓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308400" y="306000"/>
            <a:ext cx="305352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﹡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　看看图，用几句话描述你见过的雨景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rSu9axz8I_d22VTdgsoOd9"/>
          <p:cNvPicPr/>
          <p:nvPr/>
        </p:nvPicPr>
        <p:blipFill>
          <a:blip r:embed="rId3"/>
          <a:stretch/>
        </p:blipFill>
        <p:spPr>
          <a:xfrm>
            <a:off x="380880" y="704880"/>
            <a:ext cx="3809520" cy="2858760"/>
          </a:xfrm>
          <a:prstGeom prst="rect">
            <a:avLst/>
          </a:prstGeom>
          <a:ln w="9525">
            <a:noFill/>
          </a:ln>
        </p:spPr>
      </p:pic>
      <p:pic>
        <p:nvPicPr>
          <p:cNvPr id="245" name="Picture 6" descr="6_gcxzOJGfhF5Q"/>
          <p:cNvPicPr/>
          <p:nvPr/>
        </p:nvPicPr>
        <p:blipFill>
          <a:blip r:embed="rId4"/>
          <a:stretch/>
        </p:blipFill>
        <p:spPr>
          <a:xfrm>
            <a:off x="4419720" y="743040"/>
            <a:ext cx="4343040" cy="2904840"/>
          </a:xfrm>
          <a:prstGeom prst="rect">
            <a:avLst/>
          </a:prstGeom>
          <a:ln w="9525">
            <a:noFill/>
          </a:ln>
        </p:spPr>
      </p:pic>
      <p:pic>
        <p:nvPicPr>
          <p:cNvPr id="246" name="Picture 7" descr="20060427172209757"/>
          <p:cNvPicPr/>
          <p:nvPr/>
        </p:nvPicPr>
        <p:blipFill>
          <a:blip r:embed="rId5"/>
          <a:stretch/>
        </p:blipFill>
        <p:spPr>
          <a:xfrm>
            <a:off x="1981080" y="3613320"/>
            <a:ext cx="4800240" cy="3246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6"/>
          <p:cNvSpPr/>
          <p:nvPr/>
        </p:nvSpPr>
        <p:spPr>
          <a:xfrm>
            <a:off x="1187280" y="2133720"/>
            <a:ext cx="71290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28600" y="1676520"/>
            <a:ext cx="8686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送走了寒冬，我们迎来了美丽的春 天。       、       、        、        、         、           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           都迫不及待地向我们报告着春的消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2"/>
          <p:cNvPicPr/>
          <p:nvPr/>
        </p:nvPicPr>
        <p:blipFill>
          <a:blip r:embed="rId1"/>
          <a:stretch/>
        </p:blipFill>
        <p:spPr>
          <a:xfrm>
            <a:off x="0" y="5257800"/>
            <a:ext cx="5028840" cy="1599840"/>
          </a:xfrm>
          <a:prstGeom prst="rect">
            <a:avLst/>
          </a:prstGeom>
          <a:ln w="9525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1066680" y="457200"/>
            <a:ext cx="7695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找找诗中描写了哪些春天的景色，完成填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青蛙"/>
          <p:cNvPicPr/>
          <p:nvPr/>
        </p:nvPicPr>
        <p:blipFill>
          <a:blip r:embed="rId2"/>
          <a:stretch/>
        </p:blipFill>
        <p:spPr>
          <a:xfrm>
            <a:off x="0" y="228600"/>
            <a:ext cx="1080720" cy="1023480"/>
          </a:xfrm>
          <a:prstGeom prst="rect">
            <a:avLst/>
          </a:prstGeom>
          <a:ln w="9525">
            <a:noFill/>
          </a:ln>
        </p:spPr>
      </p:pic>
      <p:sp>
        <p:nvSpPr>
          <p:cNvPr id="252" name="Rectangle 12"/>
          <p:cNvSpPr/>
          <p:nvPr/>
        </p:nvSpPr>
        <p:spPr>
          <a:xfrm>
            <a:off x="1523880" y="2286000"/>
            <a:ext cx="1752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4038480" y="2286000"/>
            <a:ext cx="1904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400800" y="2286000"/>
            <a:ext cx="144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609480" y="2895480"/>
            <a:ext cx="1371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蝴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3352680" y="2895480"/>
            <a:ext cx="1447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雏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5562720" y="2895480"/>
            <a:ext cx="2895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枝头的绿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152280" y="3505320"/>
            <a:ext cx="297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明丽的阳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3352680" y="3505320"/>
            <a:ext cx="297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嫩绿的小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187280" y="2133720"/>
            <a:ext cx="712908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261" name="Picture 4" descr="2"/>
          <p:cNvPicPr/>
          <p:nvPr/>
        </p:nvPicPr>
        <p:blipFill>
          <a:blip r:embed="rId1"/>
          <a:stretch/>
        </p:blipFill>
        <p:spPr>
          <a:xfrm>
            <a:off x="0" y="5257800"/>
            <a:ext cx="5028840" cy="1599840"/>
          </a:xfrm>
          <a:prstGeom prst="rect">
            <a:avLst/>
          </a:prstGeom>
          <a:ln w="9525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066680" y="457200"/>
            <a:ext cx="7695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找找诗中怎样描写春天景色的特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青蛙"/>
          <p:cNvPicPr/>
          <p:nvPr/>
        </p:nvPicPr>
        <p:blipFill>
          <a:blip r:embed="rId2"/>
          <a:stretch/>
        </p:blipFill>
        <p:spPr>
          <a:xfrm>
            <a:off x="0" y="228600"/>
            <a:ext cx="1080720" cy="1023480"/>
          </a:xfrm>
          <a:prstGeom prst="rect">
            <a:avLst/>
          </a:prstGeom>
          <a:ln w="9525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609480" y="129528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4267080" y="129528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685800" y="2438280"/>
            <a:ext cx="1676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4267080" y="243828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蝴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5800" y="358128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雏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4267080" y="3581280"/>
            <a:ext cx="1676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枝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685800" y="4648320"/>
            <a:ext cx="1599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阳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4267080" y="4572000"/>
            <a:ext cx="1523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小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1676520" y="1295280"/>
            <a:ext cx="25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摇绿枝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5334120" y="1295280"/>
            <a:ext cx="25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漂白鸭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676520" y="2438280"/>
            <a:ext cx="2666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换上新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5334120" y="2438280"/>
            <a:ext cx="2895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牵引着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1676520" y="3581280"/>
            <a:ext cx="2514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开始开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5257800" y="3581280"/>
            <a:ext cx="2742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吐出绿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3"/>
          <p:cNvSpPr/>
          <p:nvPr/>
        </p:nvSpPr>
        <p:spPr>
          <a:xfrm>
            <a:off x="1676520" y="4648320"/>
            <a:ext cx="2590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明丽照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5334120" y="4572000"/>
            <a:ext cx="2514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钻出地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2005930103356244"/>
          <p:cNvPicPr/>
          <p:nvPr/>
        </p:nvPicPr>
        <p:blipFill>
          <a:blip r:embed="rId1"/>
          <a:stretch/>
        </p:blipFill>
        <p:spPr>
          <a:xfrm>
            <a:off x="0" y="3505320"/>
            <a:ext cx="9143640" cy="3352320"/>
          </a:xfrm>
          <a:prstGeom prst="rect">
            <a:avLst/>
          </a:prstGeom>
          <a:ln w="9525">
            <a:noFill/>
          </a:ln>
        </p:spPr>
      </p:pic>
      <p:sp>
        <p:nvSpPr>
          <p:cNvPr id="281" name="Text Box 5"/>
          <p:cNvSpPr/>
          <p:nvPr/>
        </p:nvSpPr>
        <p:spPr>
          <a:xfrm>
            <a:off x="2183760" y="0"/>
            <a:ext cx="286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１、积累描写春天的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04920" y="838080"/>
            <a:ext cx="83055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风拂面    春光明媚    春回大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花烂漫    春雷滚滚    春雨绵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暖花开    春意盎然    春色满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桃红柳绿    万紫千红    生机勃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2005930103356244"/>
          <p:cNvPicPr/>
          <p:nvPr/>
        </p:nvPicPr>
        <p:blipFill>
          <a:blip r:embed="rId1"/>
          <a:stretch/>
        </p:blipFill>
        <p:spPr>
          <a:xfrm>
            <a:off x="0" y="3505320"/>
            <a:ext cx="9143640" cy="3352320"/>
          </a:xfrm>
          <a:prstGeom prst="rect">
            <a:avLst/>
          </a:prstGeom>
          <a:ln w="9525">
            <a:noFill/>
          </a:ln>
        </p:spPr>
      </p:pic>
      <p:sp>
        <p:nvSpPr>
          <p:cNvPr id="284" name="Text Box 3"/>
          <p:cNvSpPr/>
          <p:nvPr/>
        </p:nvSpPr>
        <p:spPr>
          <a:xfrm>
            <a:off x="539640" y="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练习说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838080"/>
            <a:ext cx="83055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天的第一只蝴蝶飞来了，我高兴地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天的第一朵雏菊开放了，我欣喜地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5790748_094937008434_2"/>
          <p:cNvPicPr/>
          <p:nvPr/>
        </p:nvPicPr>
        <p:blipFill>
          <a:blip r:embed="rId2"/>
          <a:stretch/>
        </p:blipFill>
        <p:spPr>
          <a:xfrm>
            <a:off x="-304920" y="-52560"/>
            <a:ext cx="9753120" cy="6962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2005930103356244"/>
          <p:cNvPicPr/>
          <p:nvPr/>
        </p:nvPicPr>
        <p:blipFill>
          <a:blip r:embed="rId1"/>
          <a:stretch/>
        </p:blipFill>
        <p:spPr>
          <a:xfrm>
            <a:off x="0" y="3733920"/>
            <a:ext cx="9143640" cy="3123720"/>
          </a:xfrm>
          <a:prstGeom prst="rect">
            <a:avLst/>
          </a:prstGeom>
          <a:ln w="9525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92560" cy="6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、积累描写春天的古诗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228600" y="762120"/>
            <a:ext cx="3352320" cy="363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孟浩然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04920" y="1752480"/>
            <a:ext cx="2666520" cy="363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清明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杜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962520" y="1447920"/>
            <a:ext cx="4800240" cy="363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江畔独步寻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杜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3962520" y="609480"/>
            <a:ext cx="4723920" cy="363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大林寺桃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白居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962520" y="2209680"/>
            <a:ext cx="4800240" cy="363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惠崇春江晚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苏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228600" y="2895480"/>
            <a:ext cx="3200040" cy="363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日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朱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3962520" y="3048120"/>
            <a:ext cx="4800240" cy="363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游园不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叶绍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16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6" name="WordArt 6"/>
          <p:cNvSpPr txBox="1"/>
          <p:nvPr/>
        </p:nvSpPr>
        <p:spPr>
          <a:xfrm>
            <a:off x="25909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漂白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3"/>
          <p:cNvSpPr txBox="1"/>
          <p:nvPr/>
        </p:nvSpPr>
        <p:spPr>
          <a:xfrm>
            <a:off x="2971800" y="22096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雏菊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4"/>
          <p:cNvSpPr txBox="1"/>
          <p:nvPr/>
        </p:nvSpPr>
        <p:spPr>
          <a:xfrm>
            <a:off x="3048120" y="22096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照耀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15"/>
          <p:cNvSpPr txBox="1"/>
          <p:nvPr/>
        </p:nvSpPr>
        <p:spPr>
          <a:xfrm>
            <a:off x="28195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搔痒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6"/>
          <p:cNvSpPr txBox="1"/>
          <p:nvPr/>
        </p:nvSpPr>
        <p:spPr>
          <a:xfrm>
            <a:off x="266688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面颊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297" name="Rectangle 4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惠崇春江晚景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宋  苏轼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竹外桃花三两枝，春江水暖鸭先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蒌蒿满地芦芽短，正是河豚欲上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hua"/>
          <p:cNvPicPr/>
          <p:nvPr/>
        </p:nvPicPr>
        <p:blipFill>
          <a:blip r:embed="rId1"/>
          <a:stretch/>
        </p:blipFill>
        <p:spPr>
          <a:xfrm>
            <a:off x="0" y="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1828800" y="533520"/>
            <a:ext cx="4190760" cy="133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 晓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唐  孟浩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眠不觉晓，处处闻啼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夜来风雨声，花落知多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大林寺桃花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唐  白居易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人间四月芳菲尽，山寺桃花始盛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长恨春归无觅处，不知转入此中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03" name="Rectangle 3"/>
          <p:cNvSpPr/>
          <p:nvPr/>
        </p:nvSpPr>
        <p:spPr>
          <a:xfrm>
            <a:off x="1828800" y="533520"/>
            <a:ext cx="518112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江畔独步寻花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唐  杜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黄四娘家花满蹊，千朵万朵压枝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留连戏蝶时时舞，自在娇莺恰恰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 日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南宋  朱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胜日寻芳泗水滨，无边光景一时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等闲识得东风面，万紫千红总是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游园不值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南宋  叶绍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应怜屐齿印苍苔，小扣柴扉久不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春色满园关不住，一支红杏出墙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绝句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唐   杜甫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两个黄鹂鸣翠柳，一行白鹭上青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窗含西岭千秋雪，门泊东吴万里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8800" cy="748800"/>
          </a:xfrm>
          <a:prstGeom prst="rect">
            <a:avLst/>
          </a:prstGeom>
          <a:ln w="9525">
            <a:noFill/>
          </a:ln>
        </p:spPr>
      </p:pic>
      <p:pic>
        <p:nvPicPr>
          <p:cNvPr id="31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200" cy="736200"/>
          </a:xfrm>
          <a:prstGeom prst="rect">
            <a:avLst/>
          </a:prstGeom>
          <a:ln w="9525">
            <a:noFill/>
          </a:ln>
        </p:spPr>
      </p:pic>
      <p:pic>
        <p:nvPicPr>
          <p:cNvPr id="31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200"/>
          </a:xfrm>
          <a:prstGeom prst="rect">
            <a:avLst/>
          </a:prstGeom>
          <a:ln w="9525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2038320" y="981000"/>
            <a:ext cx="884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　比一比，组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905120" y="1619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篷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蓬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5145480" y="1619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絮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紫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1479600" y="3141720"/>
            <a:ext cx="6216840" cy="1970280"/>
            <a:chOff x="1479600" y="3141720"/>
            <a:chExt cx="6216840" cy="1970280"/>
          </a:xfrm>
        </p:grpSpPr>
        <p:sp>
          <p:nvSpPr>
            <p:cNvPr id="317" name="Rectangle 9"/>
            <p:cNvSpPr/>
            <p:nvPr/>
          </p:nvSpPr>
          <p:spPr>
            <a:xfrm>
              <a:off x="3459960" y="3862080"/>
              <a:ext cx="179820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雨丝细细的，柔柔的，像花絮一般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1479600" y="3141720"/>
              <a:ext cx="27183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照样子，写比喻句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4900680" y="3716280"/>
              <a:ext cx="774000" cy="1004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﹒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2"/>
            <p:cNvSpPr/>
            <p:nvPr/>
          </p:nvSpPr>
          <p:spPr>
            <a:xfrm>
              <a:off x="1510560" y="4595760"/>
              <a:ext cx="61858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______________________ 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0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22" name="Text Box 5"/>
          <p:cNvSpPr/>
          <p:nvPr/>
        </p:nvSpPr>
        <p:spPr>
          <a:xfrm>
            <a:off x="539640" y="1125360"/>
            <a:ext cx="8135640" cy="31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选择合适的词语填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盼望      希望      愿望      失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实现两岸和平统一是海内外中国人的共同（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老师和家长都（      ）我们能健康成长，我们可不能让他们（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、我们（     ）着能够快点长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71640" y="3284640"/>
            <a:ext cx="100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愿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708360" y="4062240"/>
            <a:ext cx="934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564000" y="4508640"/>
            <a:ext cx="936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失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181240" y="5430960"/>
            <a:ext cx="100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盼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28" name="Text Box 4"/>
          <p:cNvSpPr/>
          <p:nvPr/>
        </p:nvSpPr>
        <p:spPr>
          <a:xfrm>
            <a:off x="4114800" y="609480"/>
            <a:ext cx="47239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金波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1935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年生，大学教授，著名诗人，儿童文学作家，评论家。作品有《林中的鸟声》 《能歌善舞的文字》等诗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多部、诗词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多首以及散文、童话、文学评论等数百篇。作品获国家图书奖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五个一工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奖、中国作协全国优秀儿童文学奖、宋庆龄儿童文学奖、冰心儿童图书奖等几十次全国性大奖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1992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年获得国际安徒生奖提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金波"/>
          <p:cNvPicPr/>
          <p:nvPr/>
        </p:nvPicPr>
        <p:blipFill>
          <a:blip r:embed="rId2"/>
          <a:stretch/>
        </p:blipFill>
        <p:spPr>
          <a:xfrm>
            <a:off x="152280" y="152280"/>
            <a:ext cx="2437920" cy="1828440"/>
          </a:xfrm>
          <a:prstGeom prst="rect">
            <a:avLst/>
          </a:prstGeom>
          <a:ln w="9525">
            <a:noFill/>
          </a:ln>
        </p:spPr>
      </p:pic>
      <p:pic>
        <p:nvPicPr>
          <p:cNvPr id="330" name="Picture 6" descr="金波诗集"/>
          <p:cNvPicPr/>
          <p:nvPr/>
        </p:nvPicPr>
        <p:blipFill>
          <a:blip r:embed="rId3"/>
          <a:stretch/>
        </p:blipFill>
        <p:spPr>
          <a:xfrm>
            <a:off x="228600" y="2286000"/>
            <a:ext cx="1860120" cy="2723760"/>
          </a:xfrm>
          <a:prstGeom prst="rect">
            <a:avLst/>
          </a:prstGeom>
          <a:ln w="9525">
            <a:noFill/>
          </a:ln>
        </p:spPr>
      </p:pic>
      <p:pic>
        <p:nvPicPr>
          <p:cNvPr id="331" name="Picture 9" descr="jinboshiji"/>
          <p:cNvPicPr/>
          <p:nvPr/>
        </p:nvPicPr>
        <p:blipFill>
          <a:blip r:embed="rId4"/>
          <a:stretch/>
        </p:blipFill>
        <p:spPr>
          <a:xfrm>
            <a:off x="838080" y="3505320"/>
            <a:ext cx="2511000" cy="304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17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2590920" y="23623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雀跃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2590920" y="27432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欣喜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327672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捕捉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2895480" y="27432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牵引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9"/>
          <p:cNvSpPr txBox="1"/>
          <p:nvPr/>
        </p:nvSpPr>
        <p:spPr>
          <a:xfrm>
            <a:off x="2666880" y="26668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换取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0"/>
          <p:cNvSpPr txBox="1"/>
          <p:nvPr/>
        </p:nvSpPr>
        <p:spPr>
          <a:xfrm>
            <a:off x="274320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吐露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2895480" y="266688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唤醒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12"/>
          <p:cNvSpPr txBox="1"/>
          <p:nvPr/>
        </p:nvSpPr>
        <p:spPr>
          <a:xfrm>
            <a:off x="2971800" y="25909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奔走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3"/>
          <p:cNvSpPr txBox="1"/>
          <p:nvPr/>
        </p:nvSpPr>
        <p:spPr>
          <a:xfrm>
            <a:off x="2438280" y="251460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劳累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2514600" y="2590920"/>
            <a:ext cx="38858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钻出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185" name="Text Box 3"/>
          <p:cNvSpPr/>
          <p:nvPr/>
        </p:nvSpPr>
        <p:spPr>
          <a:xfrm>
            <a:off x="395280" y="1413000"/>
            <a:ext cx="8353080" cy="1791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多音字组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piǎo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（        ）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jīn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（        ）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tǔ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（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漂                          禁                            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piào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（       ）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jìn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（        ）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tù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（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188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9" name="Text Box 6">
            <a:hlinkClick r:id="rId2" action="ppaction://hlinksldjump"/>
          </p:cNvPr>
          <p:cNvSpPr/>
          <p:nvPr/>
        </p:nvSpPr>
        <p:spPr>
          <a:xfrm>
            <a:off x="3426120" y="6024600"/>
            <a:ext cx="318240" cy="363960"/>
          </a:xfrm>
          <a:prstGeom prst="rect">
            <a:avLst/>
          </a:prstGeom>
          <a:blipFill rotWithShape="0">
            <a:blip r:embed="rId3"/>
            <a:srcRect/>
            <a:tile tx="0" ty="0" sx="100000" sy="100000" algn="tl"/>
          </a:blipFill>
          <a:ln w="2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>
            <a:hlinkClick r:id="rId4" action="ppaction://hlinksldjump"/>
          </p:cNvPr>
          <p:cNvSpPr/>
          <p:nvPr/>
        </p:nvSpPr>
        <p:spPr>
          <a:xfrm>
            <a:off x="2664000" y="6019920"/>
            <a:ext cx="318240" cy="363960"/>
          </a:xfrm>
          <a:prstGeom prst="rect">
            <a:avLst/>
          </a:prstGeom>
          <a:blipFill rotWithShape="0">
            <a:blip r:embed="rId5"/>
            <a:srcRect/>
            <a:tile tx="0" ty="0" sx="100000" sy="100000" algn="tl"/>
          </a:blipFill>
          <a:ln w="2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>
            <a:hlinkClick r:id="rId6" action="ppaction://hlinksldjump"/>
          </p:cNvPr>
          <p:cNvSpPr/>
          <p:nvPr/>
        </p:nvSpPr>
        <p:spPr>
          <a:xfrm>
            <a:off x="1901880" y="6019920"/>
            <a:ext cx="318240" cy="363960"/>
          </a:xfrm>
          <a:prstGeom prst="rect">
            <a:avLst/>
          </a:prstGeom>
          <a:blipFill rotWithShape="0">
            <a:blip r:embed="rId7"/>
            <a:srcRect/>
            <a:tile tx="0" ty="0" sx="100000" sy="100000" algn="tl"/>
          </a:blipFill>
          <a:ln w="2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>
            <a:hlinkClick r:id="rId8" action="ppaction://hlinksldjump"/>
          </p:cNvPr>
          <p:cNvSpPr/>
          <p:nvPr/>
        </p:nvSpPr>
        <p:spPr>
          <a:xfrm>
            <a:off x="1140120" y="6019920"/>
            <a:ext cx="318240" cy="363960"/>
          </a:xfrm>
          <a:prstGeom prst="rect">
            <a:avLst/>
          </a:prstGeom>
          <a:blipFill rotWithShape="0">
            <a:blip r:embed="rId9"/>
            <a:srcRect/>
            <a:tile tx="0" ty="0" sx="100000" sy="100000" algn="tl"/>
          </a:blipFill>
          <a:ln w="2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>
            <a:hlinkClick r:id="rId10" action="ppaction://hlinksldjump"/>
          </p:cNvPr>
          <p:cNvSpPr/>
          <p:nvPr/>
        </p:nvSpPr>
        <p:spPr>
          <a:xfrm>
            <a:off x="378000" y="6019920"/>
            <a:ext cx="318240" cy="363960"/>
          </a:xfrm>
          <a:prstGeom prst="rect">
            <a:avLst/>
          </a:prstGeom>
          <a:blipFill rotWithShape="0">
            <a:blip r:embed="rId11"/>
            <a:srcRect/>
            <a:tile tx="0" ty="0" sx="100000" sy="100000" algn="tl"/>
          </a:blipFill>
          <a:ln w="2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>
            <a:hlinkClick r:id="rId12" action="ppaction://hlinksldjump"/>
          </p:cNvPr>
          <p:cNvSpPr/>
          <p:nvPr/>
        </p:nvSpPr>
        <p:spPr>
          <a:xfrm>
            <a:off x="4187880" y="6019920"/>
            <a:ext cx="318240" cy="363960"/>
          </a:xfrm>
          <a:prstGeom prst="rect">
            <a:avLst/>
          </a:prstGeom>
          <a:blipFill rotWithShape="0">
            <a:blip r:embed="rId13"/>
            <a:srcRect/>
            <a:tile tx="0" ty="0" sx="100000" sy="100000" algn="tl"/>
          </a:blipFill>
          <a:ln w="2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>
            <a:hlinkClick r:id="rId14" action="ppaction://hlinksldjump"/>
          </p:cNvPr>
          <p:cNvSpPr/>
          <p:nvPr/>
        </p:nvSpPr>
        <p:spPr>
          <a:xfrm>
            <a:off x="7583040" y="6024600"/>
            <a:ext cx="592560" cy="363960"/>
          </a:xfrm>
          <a:prstGeom prst="rect">
            <a:avLst/>
          </a:prstGeom>
          <a:blipFill rotWithShape="0">
            <a:blip r:embed="rId15"/>
            <a:srcRect/>
            <a:tile tx="0" ty="0" sx="100000" sy="100000" algn="tl"/>
          </a:blipFill>
          <a:ln w="2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回主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2819520" y="304920"/>
            <a:ext cx="6629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品读诗文，领会诗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199" name="Picture 5" descr="200551722253962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0" name="Text Box 6"/>
          <p:cNvSpPr/>
          <p:nvPr/>
        </p:nvSpPr>
        <p:spPr>
          <a:xfrm>
            <a:off x="2819520" y="0"/>
            <a:ext cx="617184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风，摇绿了树的枝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水，漂白了鸭的羽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盼望了整整一个冬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你看，春天已经来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>
            <a:hlinkClick r:id="rId2" action="ppaction://hlinksldjump"/>
          </p:cNvPr>
          <p:cNvSpPr/>
          <p:nvPr/>
        </p:nvSpPr>
        <p:spPr>
          <a:xfrm>
            <a:off x="7772400" y="6019920"/>
            <a:ext cx="837720" cy="5331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202" name="WordArt 10"/>
          <p:cNvSpPr txBox="1"/>
          <p:nvPr/>
        </p:nvSpPr>
        <p:spPr>
          <a:xfrm>
            <a:off x="609480" y="609480"/>
            <a:ext cx="1676160" cy="2742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7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风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1"/>
          <p:cNvSpPr txBox="1"/>
          <p:nvPr/>
        </p:nvSpPr>
        <p:spPr>
          <a:xfrm>
            <a:off x="762120" y="3505320"/>
            <a:ext cx="1676160" cy="2742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7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水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206" name="Picture 4" descr="2206_1126591641"/>
          <p:cNvPicPr/>
          <p:nvPr/>
        </p:nvPicPr>
        <p:blipFill>
          <a:blip r:embed="rId1"/>
          <a:stretch/>
        </p:blipFill>
        <p:spPr>
          <a:xfrm>
            <a:off x="0" y="0"/>
            <a:ext cx="9143640" cy="6887880"/>
          </a:xfrm>
          <a:prstGeom prst="rect">
            <a:avLst/>
          </a:prstGeom>
          <a:ln w="9525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228600" y="3124080"/>
            <a:ext cx="58622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让我们换上春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像小鸟换上新的羽毛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飞过树林，飞上山冈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到处有春天的欢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>
            <a:hlinkClick r:id="rId2" action="ppaction://hlinksldjump"/>
          </p:cNvPr>
          <p:cNvSpPr/>
          <p:nvPr/>
        </p:nvSpPr>
        <p:spPr>
          <a:xfrm>
            <a:off x="7772400" y="6019920"/>
            <a:ext cx="837720" cy="5331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1447920" y="380880"/>
            <a:ext cx="2971440" cy="2742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7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小鸟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212" name="Picture 4" descr="hx_hudie_017"/>
          <p:cNvPicPr/>
          <p:nvPr/>
        </p:nvPicPr>
        <p:blipFill>
          <a:blip r:embed="rId1"/>
          <a:stretch/>
        </p:blipFill>
        <p:spPr>
          <a:xfrm>
            <a:off x="0" y="0"/>
            <a:ext cx="9143640" cy="6859080"/>
          </a:xfrm>
          <a:prstGeom prst="rect">
            <a:avLst/>
          </a:prstGeom>
          <a:ln w="9525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4195800" y="0"/>
            <a:ext cx="63194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看到第一只蝴蝶飞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它牵引着我的双脚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我高兴地捕捉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又爱怜地把它放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rId2" action="ppaction://hlinksldjump"/>
          </p:cNvPr>
          <p:cNvSpPr/>
          <p:nvPr/>
        </p:nvSpPr>
        <p:spPr>
          <a:xfrm>
            <a:off x="7772400" y="6019920"/>
            <a:ext cx="837720" cy="5331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215" name="WordArt 7"/>
          <p:cNvSpPr txBox="1"/>
          <p:nvPr/>
        </p:nvSpPr>
        <p:spPr>
          <a:xfrm>
            <a:off x="5181480" y="3581280"/>
            <a:ext cx="3352320" cy="2742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44444"/>
              </a:avLst>
            </a:prstTxWarp>
            <a:noAutofit/>
            <a:scene3d>
              <a:camera prst="legacyPerspectiveFront">
                <a:rot lat="20519997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蝴蝶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333399"/>
              </a:solidFill>
              <a:latin typeface="Tahoma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pic>
        <p:nvPicPr>
          <p:cNvPr id="218" name="Picture 5" descr="news_20047910521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152280" y="3657600"/>
            <a:ext cx="67003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看到第一朵雏菊开放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我会禁不住欣喜地雀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小花朵，你还认得我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你看我又长高了多少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>
            <a:hlinkClick r:id="rId2" action="ppaction://hlinksldjump"/>
          </p:cNvPr>
          <p:cNvSpPr/>
          <p:nvPr/>
        </p:nvSpPr>
        <p:spPr>
          <a:xfrm>
            <a:off x="7772400" y="6019920"/>
            <a:ext cx="837720" cy="5331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221" name="WordArt 9"/>
          <p:cNvSpPr txBox="1"/>
          <p:nvPr/>
        </p:nvSpPr>
        <p:spPr>
          <a:xfrm>
            <a:off x="1219320" y="1066680"/>
            <a:ext cx="3885840" cy="1904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Tahoma"/>
                <a:ea typeface="宋体"/>
              </a:rPr>
              <a:t>雏菊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6" dur="1" fill="hold"/>
                                        <p:tgtEl>
                                          <p:spTgt spid="22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lends">
  <a:themeElements>
    <a:clrScheme name="Blends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ends">
  <a:themeElements>
    <a:clrScheme name="Blends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ends">
  <a:themeElements>
    <a:clrScheme name="Blends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ends</Template>
  <TotalTime>458</TotalTime>
  <Application>LibreOffice/7.4.7.2$Linux_X86_64 LibreOffice_project/40$Build-2</Application>
  <AppVersion>15.0000</AppVersion>
  <Words>895</Words>
  <Paragraphs>1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601-01-01T00:00:00Z</cp:lastPrinted>
  <dcterms:modified xsi:type="dcterms:W3CDTF">2021-07-29T12:23:27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全屏显示(4:3)</vt:lpwstr>
  </property>
  <property fmtid="{D5CDD505-2E9C-101B-9397-08002B2CF9AE}" pid="4" name="Slides">
    <vt:r8>30</vt:r8>
  </property>
  <property fmtid="{D5CDD505-2E9C-101B-9397-08002B2CF9AE}" pid="5" name="Version">
    <vt:r8>1</vt:r8>
  </property>
</Properties>
</file>