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13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15.jpeg" ContentType="image/jpeg"/>
  <Override PartName="/ppt/media/image23.gif" ContentType="image/gif"/>
  <Override PartName="/ppt/media/image16.png" ContentType="image/png"/>
  <Override PartName="/ppt/media/image17.png" ContentType="image/png"/>
  <Override PartName="/ppt/media/image18.png" ContentType="image/png"/>
  <Override PartName="/ppt/media/image27.gif" ContentType="image/gif"/>
  <Override PartName="/ppt/media/image28.jpeg" ContentType="image/jpeg"/>
  <Override PartName="/ppt/media/image20.jpeg" ContentType="image/jpeg"/>
  <Override PartName="/ppt/media/image21.jpeg" ContentType="image/jpeg"/>
  <Override PartName="/ppt/media/image19.jpeg" ContentType="image/jpe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80F3BF-B0F7-4C08-A372-651E8142A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.xml"/><Relationship Id="rId24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971DBC0A-6E3A-4702-85F3-DF3AF8B165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73E613-24CA-4A87-9503-9ED2E1DA62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937642-2874-478D-9FD1-A86C45480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79B-DAA3-4977-862E-445BC6CF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391D-F7EE-4D7C-A1FC-70023DCD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4ECB-D9BC-4855-B534-C092AB7B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820-FFF3-43B5-8813-82E60006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DE64-6845-4EE8-A7A5-C6AF56B7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3FF0-0F01-4549-B2E7-FEC8670D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7520-F3F8-40D0-8D4F-0D777EE2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BCE0-58CD-4074-98E5-DAB440AB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F92B-AF7F-4C03-AE84-8635F79B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17F6-EDFF-4FA0-8165-21BC109A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7FC8-722A-4D5F-BB97-BC21616F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154-C652-4042-85EB-6B7704C4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A85C-51C4-4F8F-92C9-39EDEFD4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57AB-F730-4347-B90A-D38097D9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B3C2-0C29-489F-8126-FE619F98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2909-50BA-451A-B608-5B0F1217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4A87-5730-4BE7-84F6-9108B622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96419-F2F4-4863-8437-9D02CAAF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0BFF8-0C9C-49AF-BE7D-05F95BE6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218A2-BE69-4839-B699-412792FD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6B9E8-6C32-41D3-9EA0-119EC2FE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11652-F4B7-4E86-956C-4803BA5F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2E18-1126-4642-92C5-04545799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81695-89F3-4214-8CC1-930075AA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85C90-7F76-473D-8508-D696BD94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873A7-02A9-4218-9942-21F132EC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1F99B-D447-457A-8B7E-D2F04A48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55B40-635E-41D6-86AD-1535127F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26E80-6AD3-4030-8256-CE0E3B5B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95B52-2842-46BF-824B-4BB2287C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C9B93-4B96-4693-A6CF-CA773FD7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FF99C-1DA3-40B1-BA43-52B0DEB2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1D906-E317-4AD6-ADA8-21D3979A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DA9-FEE1-4DF3-9643-91809511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A4CA4-F474-4D2A-A370-E0277723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A462E-534B-4CF8-A1EC-C3977A2B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25513-E4AD-448E-BCAE-3989E136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2FBD6-BED2-4D61-B310-FE327350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A28A8-F86C-4A79-8CF9-1CB760EC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531DF-20AF-43DB-9F25-D42EC66E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353E0-775B-43C6-85A3-44D906BF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84B9B-9FA5-4327-9750-4E03CEF3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7824D-48EA-4AAE-A714-ACF1ED6C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3E93A-4672-4CED-8DEC-08ED2FD3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B00-C1D2-417E-B697-D1FCAD07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470C7-B492-4177-AA4B-1F0E0370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E0CB9-D9A3-48C7-8982-561B9BFE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6120F-75F8-4109-9B75-76F3030B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F0E72-BAE0-4CC8-A5A2-553730C6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9359E-8829-4E87-A53B-757CF28D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C692B-5A2A-4F88-88B0-EAA7D4FD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5AB55-2C11-43ED-9DFF-54213B7C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77FE5-AA39-48C4-9D59-9A6409CF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EF58C-E029-4B7E-B1EA-DEFA984B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A26C6-5BF9-4419-9B82-39A47300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0E0C-02FD-4048-99B9-588C29B7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10C63-376E-4B27-B984-E80A5EB3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B8E-AB96-4EA9-B3F6-83285D54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8D1-3046-41DA-A5CF-6D2AAE69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D01-C87B-4F3F-96DA-F79D3077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200724152251807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CD9391-900C-4360-B483-C97D57BB02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200724152251807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E2FA39-2984-4EED-8D35-111DC3D595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644752-198A-48EB-809E-977A71BD6C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200910171835159288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B75011-8F60-4C89-A225-90068933B3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200910171835159288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237C9C-5888-4878-ADB7-CE2EA1883D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" Target="slide14.xml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image" Target="../media/image5.png"/><Relationship Id="rId7" Type="http://schemas.openxmlformats.org/officeDocument/2006/relationships/slide" Target="slide4.xml"/><Relationship Id="rId8" Type="http://schemas.openxmlformats.org/officeDocument/2006/relationships/image" Target="../media/image6.png"/><Relationship Id="rId9" Type="http://schemas.openxmlformats.org/officeDocument/2006/relationships/slide" Target="slide5.xml"/><Relationship Id="rId10" Type="http://schemas.openxmlformats.org/officeDocument/2006/relationships/image" Target="../media/image7.png"/><Relationship Id="rId11" Type="http://schemas.openxmlformats.org/officeDocument/2006/relationships/slide" Target="slide9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9.jpeg"/><Relationship Id="rId3" Type="http://schemas.openxmlformats.org/officeDocument/2006/relationships/slide" Target="slide16.xml"/><Relationship Id="rId4" Type="http://schemas.openxmlformats.org/officeDocument/2006/relationships/image" Target="../media/image20.jpeg"/><Relationship Id="rId5" Type="http://schemas.openxmlformats.org/officeDocument/2006/relationships/slide" Target="slide17.xml"/><Relationship Id="rId6" Type="http://schemas.openxmlformats.org/officeDocument/2006/relationships/image" Target="../media/image21.jpeg"/><Relationship Id="rId7" Type="http://schemas.openxmlformats.org/officeDocument/2006/relationships/slide" Target="slide18.xml"/><Relationship Id="rId8" Type="http://schemas.openxmlformats.org/officeDocument/2006/relationships/image" Target="../media/image22.jpeg"/><Relationship Id="rId9" Type="http://schemas.openxmlformats.org/officeDocument/2006/relationships/slide" Target="slide22.xml"/><Relationship Id="rId10" Type="http://schemas.openxmlformats.org/officeDocument/2006/relationships/image" Target="../media/image23.gif"/><Relationship Id="rId11" Type="http://schemas.openxmlformats.org/officeDocument/2006/relationships/slide" Target="slide14.xml"/><Relationship Id="rId12" Type="http://schemas.openxmlformats.org/officeDocument/2006/relationships/image" Target="../media/image24.jpeg"/><Relationship Id="rId13" Type="http://schemas.openxmlformats.org/officeDocument/2006/relationships/slide" Target="slide20.xml"/><Relationship Id="rId14" Type="http://schemas.openxmlformats.org/officeDocument/2006/relationships/image" Target="../media/image25.png"/><Relationship Id="rId1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slide" Target="slide13.xml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" Target="slide13.xm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b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74640" y="6267600"/>
            <a:ext cx="1561680" cy="634680"/>
          </a:xfrm>
          <a:prstGeom prst="rect">
            <a:avLst/>
          </a:prstGeom>
          <a:ln w="9525">
            <a:noFill/>
          </a:ln>
        </p:spPr>
      </p:pic>
      <p:pic>
        <p:nvPicPr>
          <p:cNvPr id="216" name="Picture 3" descr="b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40560" y="6257880"/>
            <a:ext cx="1561680" cy="634680"/>
          </a:xfrm>
          <a:prstGeom prst="rect">
            <a:avLst/>
          </a:prstGeom>
          <a:ln w="9525">
            <a:noFill/>
          </a:ln>
        </p:spPr>
      </p:pic>
      <p:pic>
        <p:nvPicPr>
          <p:cNvPr id="217" name="Picture 4" descr="b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1920" y="6267600"/>
            <a:ext cx="1561680" cy="634680"/>
          </a:xfrm>
          <a:prstGeom prst="rect">
            <a:avLst/>
          </a:prstGeom>
          <a:ln w="9525">
            <a:noFill/>
          </a:ln>
        </p:spPr>
      </p:pic>
      <p:pic>
        <p:nvPicPr>
          <p:cNvPr id="218" name="Picture 5" descr="b3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0200" y="6257880"/>
            <a:ext cx="1561680" cy="634680"/>
          </a:xfrm>
          <a:prstGeom prst="rect">
            <a:avLst/>
          </a:prstGeom>
          <a:ln w="9525">
            <a:noFill/>
          </a:ln>
        </p:spPr>
      </p:pic>
      <p:pic>
        <p:nvPicPr>
          <p:cNvPr id="219" name="Picture 6" descr="b4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552920" y="6257880"/>
            <a:ext cx="1561680" cy="634680"/>
          </a:xfrm>
          <a:prstGeom prst="rect">
            <a:avLst/>
          </a:prstGeom>
          <a:ln w="9525">
            <a:noFill/>
          </a:ln>
        </p:spPr>
      </p:pic>
      <p:pic>
        <p:nvPicPr>
          <p:cNvPr id="220" name="Picture 7" descr="b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043680" y="6257880"/>
            <a:ext cx="1561680" cy="634680"/>
          </a:xfrm>
          <a:prstGeom prst="rect">
            <a:avLst/>
          </a:prstGeom>
          <a:ln w="9525">
            <a:noFill/>
          </a:ln>
        </p:spPr>
      </p:pic>
      <p:sp>
        <p:nvSpPr>
          <p:cNvPr id="221" name="WordArt 8"/>
          <p:cNvSpPr txBox="1"/>
          <p:nvPr/>
        </p:nvSpPr>
        <p:spPr>
          <a:xfrm>
            <a:off x="1751040" y="1076400"/>
            <a:ext cx="5505120" cy="1482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8"/>
          <p:cNvSpPr/>
          <p:nvPr/>
        </p:nvSpPr>
        <p:spPr>
          <a:xfrm>
            <a:off x="2779560" y="337860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8"/>
          <p:cNvSpPr/>
          <p:nvPr/>
        </p:nvSpPr>
        <p:spPr>
          <a:xfrm>
            <a:off x="838080" y="304920"/>
            <a:ext cx="7467120" cy="3870360"/>
          </a:xfrm>
          <a:prstGeom prst="rect">
            <a:avLst/>
          </a:prstGeom>
          <a:solidFill>
            <a:schemeClr val="bg1">
              <a:alpha val="69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838080" y="457200"/>
            <a:ext cx="784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漂白    盼望    牵引    爱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914400" y="1219320"/>
            <a:ext cx="7391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雏菊   欣喜   禁不住   绿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838080" y="1981080"/>
            <a:ext cx="7772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唤醒    奔跑    照耀     搔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838080" y="2895480"/>
            <a:ext cx="7467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雀跃    劳累    面颊     山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圆角矩形 7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4952880" y="569268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8800" cy="748800"/>
          </a:xfrm>
          <a:prstGeom prst="rect">
            <a:avLst/>
          </a:prstGeom>
          <a:ln w="9525">
            <a:noFill/>
          </a:ln>
        </p:spPr>
      </p:pic>
      <p:pic>
        <p:nvPicPr>
          <p:cNvPr id="260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200" cy="736200"/>
          </a:xfrm>
          <a:prstGeom prst="rect">
            <a:avLst/>
          </a:prstGeom>
          <a:ln w="9525">
            <a:noFill/>
          </a:ln>
        </p:spPr>
      </p:pic>
      <p:pic>
        <p:nvPicPr>
          <p:cNvPr id="261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200"/>
          </a:xfrm>
          <a:prstGeom prst="rect">
            <a:avLst/>
          </a:prstGeom>
          <a:ln w="9525">
            <a:noFill/>
          </a:ln>
        </p:spPr>
      </p:pic>
      <p:sp>
        <p:nvSpPr>
          <p:cNvPr id="262" name="Text Box 5"/>
          <p:cNvSpPr/>
          <p:nvPr/>
        </p:nvSpPr>
        <p:spPr>
          <a:xfrm>
            <a:off x="1042920" y="2349360"/>
            <a:ext cx="68418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āng          hú  dié             yào                ji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山 冈      蝴 蝶    照 耀     面 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755640" y="1125360"/>
            <a:ext cx="367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一读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1365120" y="2344680"/>
            <a:ext cx="1152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ā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6956280" y="2344680"/>
            <a:ext cx="863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i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1066680" y="3505320"/>
            <a:ext cx="7200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山冈：指的是较低而平的山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圆角矩形 7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8800" cy="748800"/>
          </a:xfrm>
          <a:prstGeom prst="rect">
            <a:avLst/>
          </a:prstGeom>
          <a:ln w="9525">
            <a:noFill/>
          </a:ln>
        </p:spPr>
      </p:pic>
      <p:pic>
        <p:nvPicPr>
          <p:cNvPr id="269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200" cy="736200"/>
          </a:xfrm>
          <a:prstGeom prst="rect">
            <a:avLst/>
          </a:prstGeom>
          <a:ln w="9525">
            <a:noFill/>
          </a:ln>
        </p:spPr>
      </p:pic>
      <p:pic>
        <p:nvPicPr>
          <p:cNvPr id="270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200"/>
          </a:xfrm>
          <a:prstGeom prst="rect">
            <a:avLst/>
          </a:prstGeom>
          <a:ln w="9525">
            <a:noFill/>
          </a:ln>
        </p:spPr>
      </p:pic>
      <p:sp>
        <p:nvSpPr>
          <p:cNvPr id="271" name="Text Box 5"/>
          <p:cNvSpPr/>
          <p:nvPr/>
        </p:nvSpPr>
        <p:spPr>
          <a:xfrm>
            <a:off x="5029200" y="3505320"/>
            <a:ext cx="12189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3886200" y="3124080"/>
            <a:ext cx="17521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1258920" y="1628640"/>
            <a:ext cx="60494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468360" y="2133720"/>
            <a:ext cx="8208720" cy="1242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送走了一个寒冬，我们又迎来了美丽的春天。  春风 、 春水  、小鸟 、 蝴蝶  、雏菊  、枝头的绿苞  、明丽的阳光和 田野里的小草  都迫不及待地向我们报告着春的消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圆角矩形 7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54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58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6"/>
          <p:cNvSpPr/>
          <p:nvPr/>
        </p:nvSpPr>
        <p:spPr>
          <a:xfrm>
            <a:off x="1066680" y="76320"/>
            <a:ext cx="83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3733920" y="152280"/>
            <a:ext cx="83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6858000" y="228600"/>
            <a:ext cx="106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1066680" y="2971800"/>
            <a:ext cx="106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3886200" y="2971800"/>
            <a:ext cx="106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6934320" y="2895480"/>
            <a:ext cx="106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4" descr="5267147_220255002279_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8120" y="1066680"/>
            <a:ext cx="2590560" cy="1752120"/>
          </a:xfrm>
          <a:prstGeom prst="rect">
            <a:avLst/>
          </a:prstGeom>
          <a:ln w="9525">
            <a:noFill/>
          </a:ln>
        </p:spPr>
      </p:pic>
      <p:pic>
        <p:nvPicPr>
          <p:cNvPr id="283" name="Picture 15" descr="067co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19920" y="1066680"/>
            <a:ext cx="2666520" cy="1828440"/>
          </a:xfrm>
          <a:prstGeom prst="rect">
            <a:avLst/>
          </a:prstGeom>
          <a:ln w="9525">
            <a:noFill/>
          </a:ln>
        </p:spPr>
      </p:pic>
      <p:pic>
        <p:nvPicPr>
          <p:cNvPr id="284" name="Picture 16" descr="200861305516998_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3962520"/>
            <a:ext cx="2361960" cy="1599840"/>
          </a:xfrm>
          <a:prstGeom prst="rect">
            <a:avLst/>
          </a:prstGeom>
          <a:ln w="9525">
            <a:noFill/>
          </a:ln>
        </p:spPr>
      </p:pic>
      <p:pic>
        <p:nvPicPr>
          <p:cNvPr id="285" name="Picture 17" descr="15179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8120" y="3962520"/>
            <a:ext cx="2590560" cy="1676160"/>
          </a:xfrm>
          <a:prstGeom prst="rect">
            <a:avLst/>
          </a:prstGeom>
          <a:ln w="9525">
            <a:noFill/>
          </a:ln>
        </p:spPr>
      </p:pic>
      <p:sp>
        <p:nvSpPr>
          <p:cNvPr id="286" name="圆角矩形 13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7" name="Rectangle 8">
            <a:hlinkClick r:id="rId9" action="ppaction://hlinksldjump"/>
          </p:cNvPr>
          <p:cNvSpPr/>
          <p:nvPr/>
        </p:nvSpPr>
        <p:spPr>
          <a:xfrm>
            <a:off x="4952880" y="569268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20090420100109"/>
          <p:cNvPicPr/>
          <p:nvPr/>
        </p:nvPicPr>
        <p:blipFill>
          <a:blip r:embed="rId10"/>
          <a:stretch/>
        </p:blipFill>
        <p:spPr>
          <a:xfrm>
            <a:off x="4572000" y="3971880"/>
            <a:ext cx="990360" cy="1496520"/>
          </a:xfrm>
          <a:prstGeom prst="rect">
            <a:avLst/>
          </a:prstGeom>
          <a:ln w="9525">
            <a:noFill/>
          </a:ln>
        </p:spPr>
      </p:pic>
      <p:pic>
        <p:nvPicPr>
          <p:cNvPr id="289" name="Picture 5" descr="b3508d132b4b7ccd6538dba0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28600" y="1066680"/>
            <a:ext cx="2361960" cy="1771200"/>
          </a:xfrm>
          <a:prstGeom prst="rect">
            <a:avLst/>
          </a:prstGeom>
          <a:ln w="9525">
            <a:noFill/>
          </a:ln>
        </p:spPr>
      </p:pic>
      <p:pic>
        <p:nvPicPr>
          <p:cNvPr id="290" name="图片 1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095880" y="3886200"/>
            <a:ext cx="2509560" cy="1622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b3508d132b4b7ccd6538dba0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92" name="Rectangle 5"/>
          <p:cNvSpPr/>
          <p:nvPr/>
        </p:nvSpPr>
        <p:spPr>
          <a:xfrm>
            <a:off x="3505320" y="3260880"/>
            <a:ext cx="5562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，摇绿了树的枝条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水，漂白了鸭的羽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盼望了整整一个冬天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看，春天已经来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3962520" y="533520"/>
            <a:ext cx="152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4" name="圆角矩形 11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4952880" y="569268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2895480" y="304920"/>
            <a:ext cx="624816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让我们换上春装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像小鸟换上新的羽毛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飞过树林，飞上山冈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到处有春天的欢笑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2362320" y="4177080"/>
            <a:ext cx="5866920" cy="3636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飞过（    ），飞过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圆角矩形 8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9" name="Rectangle 8">
            <a:hlinkClick r:id="rId1" action="ppaction://hlinksldjump"/>
          </p:cNvPr>
          <p:cNvSpPr/>
          <p:nvPr/>
        </p:nvSpPr>
        <p:spPr>
          <a:xfrm>
            <a:off x="4952880" y="569268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3505320" y="304920"/>
            <a:ext cx="525744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看到第一只蝴蝶飞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它牵引着我的双脚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高兴地捉住它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爱怜地把它放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7" descr="20080303_9d4f97f53cf9af2a9b2agft45VrnKhs2打发"/>
          <p:cNvPicPr/>
          <p:nvPr/>
        </p:nvPicPr>
        <p:blipFill>
          <a:blip r:embed="rId1"/>
          <a:stretch/>
        </p:blipFill>
        <p:spPr>
          <a:xfrm>
            <a:off x="7715160" y="3962520"/>
            <a:ext cx="1428480" cy="1428480"/>
          </a:xfrm>
          <a:prstGeom prst="rect">
            <a:avLst/>
          </a:prstGeom>
          <a:ln w="9525">
            <a:noFill/>
          </a:ln>
        </p:spPr>
      </p:pic>
      <p:pic>
        <p:nvPicPr>
          <p:cNvPr id="302" name="Picture 12" descr="20080303_9d4f97f53cf9af2a9b2agft45VrnKhs2打发"/>
          <p:cNvPicPr/>
          <p:nvPr/>
        </p:nvPicPr>
        <p:blipFill>
          <a:blip r:embed="rId2"/>
          <a:stretch/>
        </p:blipFill>
        <p:spPr>
          <a:xfrm>
            <a:off x="8429760" y="4191120"/>
            <a:ext cx="1428480" cy="1428480"/>
          </a:xfrm>
          <a:prstGeom prst="rect">
            <a:avLst/>
          </a:prstGeom>
          <a:ln w="9525">
            <a:noFill/>
          </a:ln>
        </p:spPr>
      </p:pic>
      <p:sp>
        <p:nvSpPr>
          <p:cNvPr id="303" name="圆角矩形 8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04" name="Rectangle 8">
            <a:hlinkClick r:id="rId3" action="ppaction://hlinksldjump"/>
          </p:cNvPr>
          <p:cNvSpPr/>
          <p:nvPr/>
        </p:nvSpPr>
        <p:spPr>
          <a:xfrm>
            <a:off x="4952880" y="569268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14028 C -0.0342 0.1382 -0.0684 0.1375 -0.10191 0.13149 C -0.10487 0.12987 -0.10851 0.12871 -0.11094 0.12593 C -0.11546 0.12084 -0.11685 0.1132 -0.12275 0.10926 C -0.12587 0.10741 -0.12865 0.10533 -0.13143 0.10417 C -0.1356 0.10162 -0.13994 0.1007 -0.14375 0.09838 C -0.14792 0.09584 -0.15105 0.09213 -0.15573 0.09005 C -0.17119 0.08287 -0.16355 0.09144 -0.17674 0.0845 C -0.2073 0.06875 -0.18334 0.07686 -0.20365 0.07084 C -0.23403 0.07269 -0.26164 0.07315 -0.29011 0.08172 C -0.29532 0.08102 -0.3007 0.08172 -0.30487 0.07894 C -0.30886 0.07686 -0.30886 0.0713 -0.31112 0.06806 C -0.32032 0.05394 -0.32882 0.03866 -0.3441 0.02917 C -0.37327 -0.0118 -0.45382 0.00834 -0.49028 0.00718 C -0.50087 0.0007 -0.50556 -0.00717 -0.51407 -0.01481 C -0.51667 -0.01713 -0.52066 -0.01805 -0.5231 -0.02037 C -0.53386 -0.03009 -0.53785 -0.03773 -0.55296 -0.04236 C -0.56685 -0.06157 -0.56268 -0.05277 -0.56771 -0.06736 C -0.56875 -0.08865 -0.55174 -0.16597 -0.58889 -0.18888 C -0.60296 -0.20856 -0.58455 -0.18495 -0.60695 -0.20555 C -0.60903 -0.20787 -0.60973 -0.2118 -0.6125 -0.21388 C -0.61823 -0.21828 -0.63056 -0.22476 -0.63056 -0.22453 C -0.63733 -0.23402 -0.64566 -0.23912 -0.65452 -0.24699 C -0.65903 -0.25972 -0.67223 -0.2662 -0.67535 -0.28009 C -0.67813 -0.29166 -0.67431 -0.30601 -0.68143 -0.31597 C -0.6875 -0.32476 -0.70782 -0.32939 -0.71719 -0.33541 C -0.73299 -0.3574 -0.71216 -0.33078 -0.73212 -0.34907 C -0.73473 -0.35138 -0.73542 -0.35532 -0.73837 -0.3574 C -0.74046 -0.35925 -0.74428 -0.35879 -0.74723 -0.36018 C -0.76476 -0.36851 -0.7698 -0.37083 -0.78855 -0.37083 E">
                                      <p:cBhvr>
                                        <p:cTn id="123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14028 C -0.0342 0.1382 -0.0684 0.1375 -0.10191 0.13149 C -0.10487 0.12987 -0.10851 0.12871 -0.11094 0.12593 C -0.11546 0.12084 -0.11685 0.1132 -0.12275 0.10926 C -0.12587 0.10741 -0.12865 0.10533 -0.13143 0.10417 C -0.1356 0.10162 -0.13994 0.1007 -0.14375 0.09838 C -0.14792 0.09584 -0.15105 0.09213 -0.15573 0.09005 C -0.17119 0.08287 -0.16355 0.09144 -0.17674 0.0845 C -0.2073 0.06875 -0.18334 0.07686 -0.20365 0.07084 C -0.23403 0.07269 -0.26164 0.07315 -0.29011 0.08172 C -0.29532 0.08102 -0.3007 0.08172 -0.30487 0.07894 C -0.30886 0.07686 -0.30886 0.0713 -0.31112 0.06806 C -0.32032 0.05394 -0.32882 0.03866 -0.3441 0.02917 C -0.37327 -0.0118 -0.45382 0.00834 -0.49028 0.00718 C -0.50087 0.0007 -0.50556 -0.00717 -0.51407 -0.01481 C -0.51667 -0.01713 -0.52066 -0.01805 -0.5231 -0.02037 C -0.53386 -0.03009 -0.53785 -0.03773 -0.55296 -0.04236 C -0.56685 -0.06157 -0.56268 -0.05277 -0.56771 -0.06736 C -0.56875 -0.08865 -0.55174 -0.16597 -0.58889 -0.18888 C -0.60296 -0.20856 -0.58455 -0.18495 -0.60695 -0.20555 C -0.60903 -0.20787 -0.60973 -0.2118 -0.6125 -0.21388 C -0.61823 -0.21828 -0.63056 -0.22476 -0.63056 -0.22453 C -0.63733 -0.23402 -0.64566 -0.23912 -0.65452 -0.24699 C -0.65903 -0.25972 -0.67223 -0.2662 -0.67535 -0.28009 C -0.67813 -0.29166 -0.67431 -0.30601 -0.68143 -0.31597 C -0.6875 -0.32476 -0.70782 -0.32939 -0.71719 -0.33541 C -0.73299 -0.3574 -0.71216 -0.33078 -0.73212 -0.34907 C -0.73473 -0.35138 -0.73542 -0.35532 -0.73837 -0.3574 C -0.74046 -0.35925 -0.74428 -0.35879 -0.74723 -0.36018 C -0.76476 -0.36851 -0.7698 -0.37083 -0.78855 -0.37083 E">
                                      <p:cBhvr>
                                        <p:cTn id="125" dur="5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图片2333"/>
          <p:cNvPicPr/>
          <p:nvPr/>
        </p:nvPicPr>
        <p:blipFill>
          <a:blip r:embed="rId1"/>
          <a:stretch/>
        </p:blipFill>
        <p:spPr>
          <a:xfrm>
            <a:off x="-299880" y="-228600"/>
            <a:ext cx="9743760" cy="7314840"/>
          </a:xfrm>
          <a:prstGeom prst="rect">
            <a:avLst/>
          </a:prstGeom>
          <a:ln w="9525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240" cy="3123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0" y="228600"/>
            <a:ext cx="472392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看到第一朵雏菊开放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会禁不住欣喜地雀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花朵，你还认得我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你看我又长高了多少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圆角矩形 8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09" name="Rectangle 8">
            <a:hlinkClick r:id="rId2" action="ppaction://hlinksldjump"/>
          </p:cNvPr>
          <p:cNvSpPr/>
          <p:nvPr/>
        </p:nvSpPr>
        <p:spPr>
          <a:xfrm>
            <a:off x="4952880" y="569268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4"/>
          <p:cNvSpPr/>
          <p:nvPr/>
        </p:nvSpPr>
        <p:spPr>
          <a:xfrm>
            <a:off x="2971800" y="380880"/>
            <a:ext cx="693396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来到去年叶落的枝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待它吐出新的绿苞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再去唤醒沉睡的溪流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听它唱歌，和它一起奔跑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圆角矩形 7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4952880" y="569268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4" descr="20090420100109"/>
          <p:cNvPicPr/>
          <p:nvPr/>
        </p:nvPicPr>
        <p:blipFill>
          <a:blip r:embed="rId1"/>
          <a:stretch/>
        </p:blipFill>
        <p:spPr>
          <a:xfrm>
            <a:off x="4267080" y="0"/>
            <a:ext cx="4876560" cy="6857640"/>
          </a:xfrm>
          <a:prstGeom prst="rect">
            <a:avLst/>
          </a:prstGeom>
          <a:ln w="9525">
            <a:noFill/>
          </a:ln>
        </p:spPr>
      </p:pic>
      <p:sp>
        <p:nvSpPr>
          <p:cNvPr id="314" name="圆角矩形 7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5" name="Rectangle 8">
            <a:hlinkClick r:id="rId2" action="ppaction://hlinksldjump"/>
          </p:cNvPr>
          <p:cNvSpPr/>
          <p:nvPr/>
        </p:nvSpPr>
        <p:spPr>
          <a:xfrm>
            <a:off x="5105520" y="569268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2006111418751870"/>
          <p:cNvPicPr/>
          <p:nvPr/>
        </p:nvPicPr>
        <p:blipFill>
          <a:blip r:embed="rId3"/>
          <a:stretch/>
        </p:blipFill>
        <p:spPr>
          <a:xfrm>
            <a:off x="0" y="0"/>
            <a:ext cx="419076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381520" cy="1447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同学们，你们知道“消息” 是什么意思吗？能说说你对“消息”的理解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1"/>
          <p:cNvSpPr/>
          <p:nvPr/>
        </p:nvSpPr>
        <p:spPr>
          <a:xfrm>
            <a:off x="6248520" y="609588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4952880" y="561672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4"/>
          <p:cNvSpPr/>
          <p:nvPr/>
        </p:nvSpPr>
        <p:spPr>
          <a:xfrm>
            <a:off x="1028880" y="304920"/>
            <a:ext cx="784836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走累了，我就躺在田野上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顶有明丽的太阳照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谁搔痒了我的面颊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啊，身边又钻出嫩绿的小草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圆角矩形 6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9" name="Rectangle 8">
            <a:hlinkClick r:id="rId1" action="ppaction://hlinksldjump"/>
          </p:cNvPr>
          <p:cNvSpPr/>
          <p:nvPr/>
        </p:nvSpPr>
        <p:spPr>
          <a:xfrm>
            <a:off x="4952880" y="569268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8800" cy="748800"/>
          </a:xfrm>
          <a:prstGeom prst="rect">
            <a:avLst/>
          </a:prstGeom>
          <a:ln w="9525">
            <a:noFill/>
          </a:ln>
        </p:spPr>
      </p:pic>
      <p:pic>
        <p:nvPicPr>
          <p:cNvPr id="321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200" cy="736200"/>
          </a:xfrm>
          <a:prstGeom prst="rect">
            <a:avLst/>
          </a:prstGeom>
          <a:ln w="9525">
            <a:noFill/>
          </a:ln>
        </p:spPr>
      </p:pic>
      <p:pic>
        <p:nvPicPr>
          <p:cNvPr id="322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200"/>
          </a:xfrm>
          <a:prstGeom prst="rect">
            <a:avLst/>
          </a:prstGeom>
          <a:ln w="9525">
            <a:noFill/>
          </a:ln>
        </p:spPr>
      </p:pic>
      <p:sp>
        <p:nvSpPr>
          <p:cNvPr id="323" name="Text Box 5"/>
          <p:cNvSpPr/>
          <p:nvPr/>
        </p:nvSpPr>
        <p:spPr>
          <a:xfrm>
            <a:off x="1042920" y="1700280"/>
            <a:ext cx="6913080" cy="1765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鸟    换上新羽   蝴蝶      牵引着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雏菊    开始开放   绿苞      吐出嫩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阳光    放射光芒   小草      钻出地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7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2005930103356244"/>
          <p:cNvPicPr/>
          <p:nvPr/>
        </p:nvPicPr>
        <p:blipFill>
          <a:blip r:embed="rId1"/>
          <a:stretch/>
        </p:blipFill>
        <p:spPr>
          <a:xfrm>
            <a:off x="0" y="3505320"/>
            <a:ext cx="9143640" cy="3352320"/>
          </a:xfrm>
          <a:prstGeom prst="rect">
            <a:avLst/>
          </a:prstGeom>
          <a:ln w="9525">
            <a:noFill/>
          </a:ln>
        </p:spPr>
      </p:pic>
      <p:sp>
        <p:nvSpPr>
          <p:cNvPr id="326" name="Text Box 5"/>
          <p:cNvSpPr/>
          <p:nvPr/>
        </p:nvSpPr>
        <p:spPr>
          <a:xfrm>
            <a:off x="2166480" y="0"/>
            <a:ext cx="321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１、积累描写春天的词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304920" y="838080"/>
            <a:ext cx="8305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风拂面    春光明媚    春回大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花烂漫    春雷滚滚    春雨绵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暖花开    春意盎然    春色满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3640" cy="6370200"/>
          </a:xfrm>
          <a:prstGeom prst="rect">
            <a:avLst/>
          </a:prstGeom>
          <a:ln w="9525">
            <a:noFill/>
          </a:ln>
        </p:spPr>
      </p:pic>
      <p:sp>
        <p:nvSpPr>
          <p:cNvPr id="329" name="Text Box 3"/>
          <p:cNvSpPr/>
          <p:nvPr/>
        </p:nvSpPr>
        <p:spPr>
          <a:xfrm>
            <a:off x="395280" y="1413000"/>
            <a:ext cx="8353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音字组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iǎ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）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ī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）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漂                          禁                            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ià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）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ì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）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0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3640" cy="6370200"/>
          </a:xfrm>
          <a:prstGeom prst="rect">
            <a:avLst/>
          </a:prstGeom>
          <a:ln w="9525">
            <a:noFill/>
          </a:ln>
        </p:spPr>
      </p:pic>
      <p:sp>
        <p:nvSpPr>
          <p:cNvPr id="331" name="Text Box 5"/>
          <p:cNvSpPr/>
          <p:nvPr/>
        </p:nvSpPr>
        <p:spPr>
          <a:xfrm>
            <a:off x="539640" y="1125360"/>
            <a:ext cx="813564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合适的词语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盼望      希望      愿望      失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实现两岸和平统一是海内外中国人的共同（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老师和家长都（      ）我们能健康成长，我们可不能让他们（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我们（     ）着能够快点长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971640" y="3284640"/>
            <a:ext cx="100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愿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3708360" y="4062240"/>
            <a:ext cx="93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希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3564000" y="4508640"/>
            <a:ext cx="93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失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2181240" y="5430960"/>
            <a:ext cx="1007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盼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5"/>
          <p:cNvSpPr/>
          <p:nvPr/>
        </p:nvSpPr>
        <p:spPr>
          <a:xfrm>
            <a:off x="0" y="0"/>
            <a:ext cx="9143640" cy="3563640"/>
          </a:xfrm>
          <a:prstGeom prst="rect">
            <a:avLst/>
          </a:prstGeom>
          <a:solidFill>
            <a:schemeClr val="bg1">
              <a:alpha val="73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春夜喜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杜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好雨知时节， 当春乃发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随风潜入夜， 润物细无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野径云俱黑， 江船火独明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晓看红湿处， 花重锦官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228600" y="380880"/>
            <a:ext cx="3809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【读读背背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3640" cy="6370200"/>
          </a:xfrm>
          <a:prstGeom prst="rect">
            <a:avLst/>
          </a:prstGeom>
          <a:ln w="9525">
            <a:noFill/>
          </a:ln>
        </p:spPr>
      </p:pic>
      <p:sp>
        <p:nvSpPr>
          <p:cNvPr id="339" name="Rectangle 4"/>
          <p:cNvSpPr/>
          <p:nvPr/>
        </p:nvSpPr>
        <p:spPr>
          <a:xfrm>
            <a:off x="1981080" y="685800"/>
            <a:ext cx="518112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惠崇春江晚景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宋  苏轼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竹外桃花三两枝，春江水暖鸭先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蒌蒿满地芦芽短，正是河豚欲上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6" descr="hua"/>
          <p:cNvPicPr/>
          <p:nvPr/>
        </p:nvPicPr>
        <p:blipFill>
          <a:blip r:embed="rId1"/>
          <a:stretch/>
        </p:blipFill>
        <p:spPr>
          <a:xfrm>
            <a:off x="0" y="0"/>
            <a:ext cx="9143640" cy="6370200"/>
          </a:xfrm>
          <a:prstGeom prst="rect">
            <a:avLst/>
          </a:prstGeom>
          <a:ln w="9525">
            <a:noFill/>
          </a:ln>
        </p:spPr>
      </p:pic>
      <p:sp>
        <p:nvSpPr>
          <p:cNvPr id="341" name="Rectangle 4"/>
          <p:cNvSpPr/>
          <p:nvPr/>
        </p:nvSpPr>
        <p:spPr>
          <a:xfrm>
            <a:off x="1828800" y="533520"/>
            <a:ext cx="419076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 晓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唐  孟浩然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眠不觉晓，处处闻啼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夜来风雨声，花落知多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3640" cy="6370200"/>
          </a:xfrm>
          <a:prstGeom prst="rect">
            <a:avLst/>
          </a:prstGeom>
          <a:ln w="9525">
            <a:noFill/>
          </a:ln>
        </p:spPr>
      </p:pic>
      <p:sp>
        <p:nvSpPr>
          <p:cNvPr id="343" name="Rectangle 3"/>
          <p:cNvSpPr/>
          <p:nvPr/>
        </p:nvSpPr>
        <p:spPr>
          <a:xfrm>
            <a:off x="1828800" y="533520"/>
            <a:ext cx="518112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林寺桃花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唐  白居易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间四月芳菲尽，山寺桃花始盛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恨春归无觅处，不知转入此中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3640" cy="6370200"/>
          </a:xfrm>
          <a:prstGeom prst="rect">
            <a:avLst/>
          </a:prstGeom>
          <a:ln w="9525">
            <a:noFill/>
          </a:ln>
        </p:spPr>
      </p:pic>
      <p:sp>
        <p:nvSpPr>
          <p:cNvPr id="345" name="Rectangle 3"/>
          <p:cNvSpPr/>
          <p:nvPr/>
        </p:nvSpPr>
        <p:spPr>
          <a:xfrm>
            <a:off x="1828800" y="533520"/>
            <a:ext cx="518112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江畔独步寻花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唐  杜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黄四娘家花满蹊，千朵万朵压枝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留连戏蝶时时舞，自在娇莺恰恰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春姑娘想给小朋友们发一个“春天到来”的好消息，你帮她想一想：她可以怎么告诉我们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圆角矩形 3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4952880" y="569268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3640" cy="6370200"/>
          </a:xfrm>
          <a:prstGeom prst="rect">
            <a:avLst/>
          </a:prstGeom>
          <a:ln w="9525">
            <a:noFill/>
          </a:ln>
        </p:spPr>
      </p:pic>
      <p:sp>
        <p:nvSpPr>
          <p:cNvPr id="347" name="Rectangle 3"/>
          <p:cNvSpPr/>
          <p:nvPr/>
        </p:nvSpPr>
        <p:spPr>
          <a:xfrm>
            <a:off x="1828800" y="533520"/>
            <a:ext cx="518112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 日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南宋  朱熹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胜日寻芳泗水滨，无边光景一时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等闲识得东风面，万紫千红总是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3640" cy="6370200"/>
          </a:xfrm>
          <a:prstGeom prst="rect">
            <a:avLst/>
          </a:prstGeom>
          <a:ln w="9525">
            <a:noFill/>
          </a:ln>
        </p:spPr>
      </p:pic>
      <p:sp>
        <p:nvSpPr>
          <p:cNvPr id="349" name="Rectangle 3"/>
          <p:cNvSpPr/>
          <p:nvPr/>
        </p:nvSpPr>
        <p:spPr>
          <a:xfrm>
            <a:off x="1828800" y="533520"/>
            <a:ext cx="518112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游园不值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南宋  叶绍翁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应怜屐齿印苍苔，小扣柴扉久不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色满园关不住，一支红杏出墙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3640" cy="6370200"/>
          </a:xfrm>
          <a:prstGeom prst="rect">
            <a:avLst/>
          </a:prstGeom>
          <a:ln w="9525">
            <a:noFill/>
          </a:ln>
        </p:spPr>
      </p:pic>
      <p:sp>
        <p:nvSpPr>
          <p:cNvPr id="351" name="Rectangle 3"/>
          <p:cNvSpPr/>
          <p:nvPr/>
        </p:nvSpPr>
        <p:spPr>
          <a:xfrm>
            <a:off x="1828800" y="533520"/>
            <a:ext cx="518112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绝句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唐   杜甫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个黄鹂鸣翠柳，一行白鹭上青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窗含西岭千秋雪，门泊东吴万里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8800" cy="748800"/>
          </a:xfrm>
          <a:prstGeom prst="rect">
            <a:avLst/>
          </a:prstGeom>
          <a:ln w="9525">
            <a:noFill/>
          </a:ln>
        </p:spPr>
      </p:pic>
      <p:pic>
        <p:nvPicPr>
          <p:cNvPr id="35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200" cy="736200"/>
          </a:xfrm>
          <a:prstGeom prst="rect">
            <a:avLst/>
          </a:prstGeom>
          <a:ln w="9525">
            <a:noFill/>
          </a:ln>
        </p:spPr>
      </p:pic>
      <p:pic>
        <p:nvPicPr>
          <p:cNvPr id="35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200"/>
          </a:xfrm>
          <a:prstGeom prst="rect">
            <a:avLst/>
          </a:prstGeom>
          <a:ln w="9525">
            <a:noFill/>
          </a:ln>
        </p:spPr>
      </p:pic>
      <p:sp>
        <p:nvSpPr>
          <p:cNvPr id="355" name="Rectangle 5"/>
          <p:cNvSpPr/>
          <p:nvPr/>
        </p:nvSpPr>
        <p:spPr>
          <a:xfrm>
            <a:off x="2039040" y="981000"/>
            <a:ext cx="88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比一比，组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1905120" y="1619280"/>
            <a:ext cx="1278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篷（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蓬（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5145480" y="1619280"/>
            <a:ext cx="1278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絮（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紫（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8"/>
          <p:cNvGrpSpPr/>
          <p:nvPr/>
        </p:nvGrpSpPr>
        <p:grpSpPr>
          <a:xfrm>
            <a:off x="1479600" y="3141720"/>
            <a:ext cx="6326280" cy="1970280"/>
            <a:chOff x="1479600" y="3141720"/>
            <a:chExt cx="6326280" cy="1970280"/>
          </a:xfrm>
        </p:grpSpPr>
        <p:sp>
          <p:nvSpPr>
            <p:cNvPr id="359" name="Rectangle 9"/>
            <p:cNvSpPr/>
            <p:nvPr/>
          </p:nvSpPr>
          <p:spPr>
            <a:xfrm>
              <a:off x="3459960" y="3862080"/>
              <a:ext cx="179820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雨丝细细的，柔柔的，像花絮一般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0"/>
            <p:cNvSpPr/>
            <p:nvPr/>
          </p:nvSpPr>
          <p:spPr>
            <a:xfrm>
              <a:off x="1479600" y="3141720"/>
              <a:ext cx="27183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.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照样子，写比喻句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1"/>
            <p:cNvSpPr/>
            <p:nvPr/>
          </p:nvSpPr>
          <p:spPr>
            <a:xfrm>
              <a:off x="4900680" y="3716280"/>
              <a:ext cx="77400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﹒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2"/>
            <p:cNvSpPr/>
            <p:nvPr/>
          </p:nvSpPr>
          <p:spPr>
            <a:xfrm>
              <a:off x="1540800" y="4595760"/>
              <a:ext cx="62650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_______________________ ,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像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___________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圆角矩形 12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4952880" y="5692680"/>
            <a:ext cx="472392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31" name="Picture 4" descr="200709240642212414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234" name="Picture 4" descr="蝶2"/>
          <p:cNvPicPr/>
          <p:nvPr/>
        </p:nvPicPr>
        <p:blipFill>
          <a:blip r:embed="rId1"/>
          <a:stretch/>
        </p:blipFill>
        <p:spPr>
          <a:xfrm>
            <a:off x="0" y="0"/>
            <a:ext cx="9143640" cy="7543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3"/>
          <p:cNvSpPr/>
          <p:nvPr/>
        </p:nvSpPr>
        <p:spPr>
          <a:xfrm>
            <a:off x="5181480" y="217188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             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背景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             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表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             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论坛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n                                     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语文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uwen/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学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英语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ingyu/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美术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科学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kexue/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物理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化学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huaxue/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物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地理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dili/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历史课件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u=3969059133,3857815048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8" descr="hua"/>
          <p:cNvPicPr/>
          <p:nvPr/>
        </p:nvPicPr>
        <p:blipFill>
          <a:blip r:embed="rId1"/>
          <a:stretch/>
        </p:blipFill>
        <p:spPr>
          <a:xfrm>
            <a:off x="0" y="487440"/>
            <a:ext cx="9143640" cy="6370200"/>
          </a:xfrm>
          <a:prstGeom prst="rect">
            <a:avLst/>
          </a:prstGeom>
          <a:ln w="9525">
            <a:noFill/>
          </a:ln>
        </p:spPr>
      </p:pic>
      <p:sp>
        <p:nvSpPr>
          <p:cNvPr id="238" name="Text Box 4"/>
          <p:cNvSpPr/>
          <p:nvPr/>
        </p:nvSpPr>
        <p:spPr>
          <a:xfrm>
            <a:off x="4114800" y="1568520"/>
            <a:ext cx="472392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金波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3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生，大学教授，著名诗人，儿童文学作家，评论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品有《林中的鸟声》、 《能歌善舞的文字》等诗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部，诗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首以及散文、童话、文学评论等数百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品获几十次全国性大奖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99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获得国际安徒生奖提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金波"/>
          <p:cNvPicPr/>
          <p:nvPr/>
        </p:nvPicPr>
        <p:blipFill>
          <a:blip r:embed="rId2"/>
          <a:stretch/>
        </p:blipFill>
        <p:spPr>
          <a:xfrm>
            <a:off x="152280" y="152280"/>
            <a:ext cx="2437920" cy="182844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6" descr="金波诗集"/>
          <p:cNvPicPr/>
          <p:nvPr/>
        </p:nvPicPr>
        <p:blipFill>
          <a:blip r:embed="rId3"/>
          <a:stretch/>
        </p:blipFill>
        <p:spPr>
          <a:xfrm>
            <a:off x="228600" y="2286000"/>
            <a:ext cx="1860120" cy="272376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9" descr="jinboshiji"/>
          <p:cNvPicPr/>
          <p:nvPr/>
        </p:nvPicPr>
        <p:blipFill>
          <a:blip r:embed="rId4"/>
          <a:stretch/>
        </p:blipFill>
        <p:spPr>
          <a:xfrm>
            <a:off x="838080" y="3505320"/>
            <a:ext cx="2511000" cy="3047760"/>
          </a:xfrm>
          <a:prstGeom prst="rect">
            <a:avLst/>
          </a:prstGeom>
          <a:ln w="9525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2666880" y="685800"/>
            <a:ext cx="6171840" cy="990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春姑娘把小朋友们的好主意让一位诗人写成了一首诗来传达“春的消息”。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240" cy="5059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自学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自由读诗，遇到不认识的字借助拼音读正确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用各种形式理解文中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 “漂白”、“牵引”、“爱怜”、“雀跃”、“搔痒”等词语可以结合诗中的具体语境、生活经验和动作来理解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有疑问的地方做上记号。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914400" y="388620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一读课文，看看谁带来了春的消息。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圆角矩形 5"/>
          <p:cNvSpPr/>
          <p:nvPr/>
        </p:nvSpPr>
        <p:spPr>
          <a:xfrm>
            <a:off x="4191120" y="5257800"/>
            <a:ext cx="4647960" cy="13712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3809880" y="5257800"/>
            <a:ext cx="5257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春的消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8800" cy="748800"/>
          </a:xfrm>
          <a:prstGeom prst="rect">
            <a:avLst/>
          </a:prstGeom>
          <a:ln w="9525">
            <a:noFill/>
          </a:ln>
        </p:spPr>
      </p:pic>
      <p:pic>
        <p:nvPicPr>
          <p:cNvPr id="248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200" cy="736200"/>
          </a:xfrm>
          <a:prstGeom prst="rect">
            <a:avLst/>
          </a:prstGeom>
          <a:ln w="9525">
            <a:noFill/>
          </a:ln>
        </p:spPr>
      </p:pic>
      <p:pic>
        <p:nvPicPr>
          <p:cNvPr id="249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200"/>
          </a:xfrm>
          <a:prstGeom prst="rect">
            <a:avLst/>
          </a:prstGeom>
          <a:ln w="9525">
            <a:noFill/>
          </a:ln>
        </p:spPr>
      </p:pic>
      <p:sp>
        <p:nvSpPr>
          <p:cNvPr id="250" name="Text Box 5"/>
          <p:cNvSpPr/>
          <p:nvPr/>
        </p:nvSpPr>
        <p:spPr>
          <a:xfrm>
            <a:off x="304920" y="260280"/>
            <a:ext cx="8135640" cy="2370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学目标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阅读过程中认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生字“冈、蝴、蝶、耀、颊”。积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词语 “春装、山冈、蝴蝶、雀跃、沉睡、照耀、面颊”。用合适的方式理解词语“盼望”、“爱怜”、“雀跃”的意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有感情地朗读课文。背诵课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要求预习课文。能说出自己知道的春天的消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体会春天来到时人们欢快的心情以及对春天的喜爱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圆角矩形 7"/>
          <p:cNvSpPr/>
          <p:nvPr/>
        </p:nvSpPr>
        <p:spPr>
          <a:xfrm>
            <a:off x="6248520" y="6172200"/>
            <a:ext cx="2590560" cy="45684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模板网-WWW.1PPT.COM ">
  <a:themeElements>
    <a:clrScheme name="1_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 ">
  <a:themeElements>
    <a:clrScheme name="1_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     ">
  <a:themeElements>
    <a:clrScheme name="3_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   ">
  <a:themeElements>
    <a:clrScheme name="2_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第一PPT模板网-WWW.1PPT.COM   ">
  <a:themeElements>
    <a:clrScheme name="2_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Manager>7C教育资源网www.7cxk.net</Manager>
  <TotalTime>1214</TotalTime>
  <Application>LibreOffice/7.4.7.2$Linux_X86_64 LibreOffice_project/40$Build-2</Application>
  <AppVersion>15.0000</AppVersion>
  <Words>1213</Words>
  <Paragraphs>189</Paragraphs>
  <Company>7C教育资源网www.7cxk.n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terms:created xsi:type="dcterms:W3CDTF">1601-01-01T00:00:00Z</dcterms:created>
  <dc:creator>第一PPT模板网-WWW.1PPT.COM</dc:creator>
  <dc:description>第一PPT模板网-WWW.1PPT.COM_x005F_x000d_
</dc:description>
  <cp:keywords>第一PPT模板网-WWW.1PPT.COM</cp:keywords>
  <dc:language>en-US</dc:language>
  <cp:lastModifiedBy>Windows 用户</cp:lastModifiedBy>
  <cp:lastPrinted>1601-01-01T00:00:00Z</cp:lastPrinted>
  <dcterms:modified xsi:type="dcterms:W3CDTF">2021-07-29T12:23:29Z</dcterms:modified>
  <cp:revision>5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全屏显示(4:3)</vt:lpwstr>
  </property>
  <property fmtid="{D5CDD505-2E9C-101B-9397-08002B2CF9AE}" pid="4" name="Slides">
    <vt:r8>34</vt:r8>
  </property>
  <property fmtid="{D5CDD505-2E9C-101B-9397-08002B2CF9AE}" pid="5" name="Version">
    <vt:r8>1</vt:r8>
  </property>
</Properties>
</file>