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0714E-2D2E-459B-BB22-5226ED09A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BF0C36-162A-4738-864A-5C4E4CB4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77C758-1CA7-4E68-A614-B7FCFB8C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5149E-C8CF-4D5C-A013-06357A08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459E35-FC3C-470F-8D8C-9D31B7BC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CB160F-6AF5-4F98-B52C-76B46A16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7F7AF-64BF-4665-A620-2DEBDA3A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4BCE4-38B5-44CF-A10B-64D6860E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识完生字宝宝之后，我们在来读诗歌的时候肯定会更加流利了。春天像个害羞的小姑娘，遮遮掩掩，躲躲藏藏的，得我们仔细地找啊找啊！我们班的火眼金睛们，请擦亮眼睛，去这优美的诗歌中找一找春的消息吧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729-861A-49A9-8453-D6F41883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D12-0820-4289-A7EF-BA4E05E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A0A-68DA-4710-8C9B-17AD0BA2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402-D104-4290-82D7-3368C76B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5C99-AFBD-48E8-841D-9F743D27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D14B-02A7-4EF9-98DE-DAAE8C6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C186-A507-4C63-B4B7-43FA20CD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A09-D5C8-4BE0-A543-61449FA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DB09-DE6C-4494-AD28-F6C62350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05D2-919E-4239-91B7-08B05327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F4C2-E974-4E0A-B23C-AADDE33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DC7-7063-4283-89A2-FCCF5CC0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D19-B1BE-4A85-976C-C904DB8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32C5-1F49-48DC-BED6-C7B88FA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3B97-0C21-4D00-BFD0-7BB3554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9EE-4580-4BAB-BB10-5F21FBD0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F0A7-2ECD-4126-B6F5-805F8A69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65A-FE7A-4A85-BB92-C9B4CAA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CB5-E6E5-4B83-89A9-FC42AAC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D0F-D693-4613-A7A4-4B50CC9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47B-A7A0-4AE9-870D-A986316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366-C79A-4AD1-B195-F20AEA9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271-4DCF-4989-A1C1-4977451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F40-C901-44CB-9650-D36B9AA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137E6-F9BF-48B2-B3CA-2C0FE43987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D7B6C8-B41D-4471-91A3-FD88DD031F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image" Target="../media/image6.jpeg"/><Relationship Id="rId4" Type="http://schemas.openxmlformats.org/officeDocument/2006/relationships/slide" Target="slide14.xml"/><Relationship Id="rId5" Type="http://schemas.openxmlformats.org/officeDocument/2006/relationships/image" Target="../media/image7.jpeg"/><Relationship Id="rId6" Type="http://schemas.openxmlformats.org/officeDocument/2006/relationships/slide" Target="slide15.xml"/><Relationship Id="rId7" Type="http://schemas.openxmlformats.org/officeDocument/2006/relationships/image" Target="../media/image8.jpeg"/><Relationship Id="rId8" Type="http://schemas.openxmlformats.org/officeDocument/2006/relationships/slide" Target="slide16.xml"/><Relationship Id="rId9" Type="http://schemas.openxmlformats.org/officeDocument/2006/relationships/image" Target="../media/image9.jpeg"/><Relationship Id="rId10" Type="http://schemas.openxmlformats.org/officeDocument/2006/relationships/slide" Target="slide18.xml"/><Relationship Id="rId11" Type="http://schemas.openxmlformats.org/officeDocument/2006/relationships/image" Target="../media/image10.jpeg"/><Relationship Id="rId12" Type="http://schemas.openxmlformats.org/officeDocument/2006/relationships/slide" Target="slide20.xml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" Target="slide10.xm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D:/Backup/&#26700;&#38754;/&#23454;&#20064;/&#26149;&#30340;&#28040;&#24687;/&#32431;&#38899;&#20048;%20-%20&#23433;&#22958;&#30340;&#20185;&#22659;.mp3" TargetMode="External"/><Relationship Id="rId3" Type="http://schemas.microsoft.com/office/2007/relationships/media" Target="file:///D:/Backup/&#26700;&#38754;/&#23454;&#20064;/&#26149;&#30340;&#28040;&#24687;/&#32431;&#38899;&#20048;%20-%20&#23433;&#22958;&#30340;&#20185;&#22659;.mp3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8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4680"/>
            <a:ext cx="9143640" cy="6852960"/>
          </a:xfrm>
          <a:prstGeom prst="rect">
            <a:avLst/>
          </a:prstGeom>
          <a:ln w="9525">
            <a:noFill/>
          </a:ln>
        </p:spPr>
      </p:pic>
      <p:sp>
        <p:nvSpPr>
          <p:cNvPr id="89" name="Text Box 2"/>
          <p:cNvSpPr/>
          <p:nvPr/>
        </p:nvSpPr>
        <p:spPr>
          <a:xfrm>
            <a:off x="1506600" y="838080"/>
            <a:ext cx="61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749680" y="5949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4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Text Box 2"/>
          <p:cNvSpPr/>
          <p:nvPr/>
        </p:nvSpPr>
        <p:spPr>
          <a:xfrm>
            <a:off x="1066680" y="76320"/>
            <a:ext cx="837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733920" y="152280"/>
            <a:ext cx="837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58000" y="228600"/>
            <a:ext cx="106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66680" y="2971800"/>
            <a:ext cx="106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6200" y="2971800"/>
            <a:ext cx="106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34320" y="2895480"/>
            <a:ext cx="106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47541_014126217_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1047600"/>
            <a:ext cx="2361960" cy="177120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9" descr="5267147_220255002279_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1066680"/>
            <a:ext cx="2590560" cy="17521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10" descr="067co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9920" y="1066680"/>
            <a:ext cx="2666520" cy="182844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11" descr="200861305516998_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3962520"/>
            <a:ext cx="2361960" cy="159984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12" descr="15179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8120" y="3962520"/>
            <a:ext cx="2590560" cy="167616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13" descr="668573_164829041693_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095880" y="3962520"/>
            <a:ext cx="2742840" cy="159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2971800" y="609480"/>
            <a:ext cx="556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，摇绿了树的枝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，漂白了鸭的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了整整一个冬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53352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1371600"/>
            <a:ext cx="144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62520" y="533520"/>
            <a:ext cx="15235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7920" y="53352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371600" y="137160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2" action="ppaction://hlinksldjump"/>
          </p:cNvPr>
          <p:cNvSpPr/>
          <p:nvPr/>
        </p:nvSpPr>
        <p:spPr>
          <a:xfrm>
            <a:off x="7543800" y="617220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AutoShape 9">
            <a:hlinkClick r:id="" action="ppaction://hlinkshowjump?jump=nextslide"/>
          </p:cNvPr>
          <p:cNvSpPr/>
          <p:nvPr/>
        </p:nvSpPr>
        <p:spPr>
          <a:xfrm>
            <a:off x="8229600" y="6172200"/>
            <a:ext cx="533160" cy="456840"/>
          </a:xfrm>
          <a:prstGeom prst="actionButtonForwardNex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1034215847220"/>
          <p:cNvPicPr/>
          <p:nvPr/>
        </p:nvPicPr>
        <p:blipFill>
          <a:blip r:embed="rId1"/>
          <a:stretch/>
        </p:blipFill>
        <p:spPr>
          <a:xfrm>
            <a:off x="0" y="-228600"/>
            <a:ext cx="4495320" cy="34840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3" descr="发生的发的是"/>
          <p:cNvPicPr/>
          <p:nvPr/>
        </p:nvPicPr>
        <p:blipFill>
          <a:blip r:embed="rId2"/>
          <a:stretch/>
        </p:blipFill>
        <p:spPr>
          <a:xfrm>
            <a:off x="4419720" y="3276720"/>
            <a:ext cx="4723920" cy="35809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4" descr="11639_113545216163_2"/>
          <p:cNvPicPr/>
          <p:nvPr/>
        </p:nvPicPr>
        <p:blipFill>
          <a:blip r:embed="rId3"/>
          <a:stretch/>
        </p:blipFill>
        <p:spPr>
          <a:xfrm>
            <a:off x="0" y="3276720"/>
            <a:ext cx="4495320" cy="358092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5" descr="436884_162235480153_2"/>
          <p:cNvPicPr/>
          <p:nvPr/>
        </p:nvPicPr>
        <p:blipFill>
          <a:blip r:embed="rId4"/>
          <a:stretch/>
        </p:blipFill>
        <p:spPr>
          <a:xfrm>
            <a:off x="4495680" y="0"/>
            <a:ext cx="4647960" cy="32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4" name="Text Box 2"/>
          <p:cNvSpPr/>
          <p:nvPr/>
        </p:nvSpPr>
        <p:spPr>
          <a:xfrm>
            <a:off x="228600" y="1371600"/>
            <a:ext cx="891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，摇绿了树的枝条，风，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8600" y="2286000"/>
            <a:ext cx="891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，漂白了鸭的羽毛，水，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429000" y="304920"/>
            <a:ext cx="2514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小诗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371600" y="3429000"/>
            <a:ext cx="540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染绿　染红　唤醒　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>
            <a:hlinkClick r:id="rId2" action="ppaction://hlinksldjump"/>
          </p:cNvPr>
          <p:cNvSpPr/>
          <p:nvPr/>
        </p:nvSpPr>
        <p:spPr>
          <a:xfrm>
            <a:off x="8153280" y="6400800"/>
            <a:ext cx="7617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0" name="Text Box 2"/>
          <p:cNvSpPr/>
          <p:nvPr/>
        </p:nvSpPr>
        <p:spPr>
          <a:xfrm>
            <a:off x="2895480" y="304920"/>
            <a:ext cx="624816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让我们换上春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像小鸟换上新的羽毛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过树林，飞上山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处有春天的欢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685800"/>
            <a:ext cx="144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85800" y="144792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362320" y="4177080"/>
            <a:ext cx="5866920" cy="363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过（    ），飞过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rId2" action="ppaction://hlinksldjump"/>
          </p:cNvPr>
          <p:cNvSpPr/>
          <p:nvPr/>
        </p:nvSpPr>
        <p:spPr>
          <a:xfrm>
            <a:off x="8077320" y="632448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6" name="Text Box 2"/>
          <p:cNvSpPr/>
          <p:nvPr/>
        </p:nvSpPr>
        <p:spPr>
          <a:xfrm>
            <a:off x="2700360" y="311040"/>
            <a:ext cx="525744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到第一只蝴蝶飞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它牵引着我的双脚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高兴地捉住它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爱怜地把它放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45720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蝴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0080303_9d4f97f53cf9af2a9b2agft45VrnKhs2打发"/>
          <p:cNvPicPr/>
          <p:nvPr/>
        </p:nvPicPr>
        <p:blipFill>
          <a:blip r:embed="rId2"/>
          <a:stretch/>
        </p:blipFill>
        <p:spPr>
          <a:xfrm>
            <a:off x="6529320" y="3990960"/>
            <a:ext cx="1428480" cy="1428480"/>
          </a:xfrm>
          <a:prstGeom prst="rect">
            <a:avLst/>
          </a:prstGeom>
          <a:ln w="9525">
            <a:noFill/>
          </a:ln>
        </p:spPr>
      </p:pic>
      <p:sp>
        <p:nvSpPr>
          <p:cNvPr id="159" name="AutoShape 5">
            <a:hlinkClick r:id="rId3" action="ppaction://hlinksldjump"/>
          </p:cNvPr>
          <p:cNvSpPr/>
          <p:nvPr/>
        </p:nvSpPr>
        <p:spPr>
          <a:xfrm>
            <a:off x="8077320" y="632448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Picture 6" descr="20080303_9d4f97f53cf9af2a9b2agft45VrnKhs2打发"/>
          <p:cNvPicPr/>
          <p:nvPr/>
        </p:nvPicPr>
        <p:blipFill>
          <a:blip r:embed="rId4"/>
          <a:stretch/>
        </p:blipFill>
        <p:spPr>
          <a:xfrm>
            <a:off x="7629480" y="4191120"/>
            <a:ext cx="142848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9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9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2" name="Text Box 2"/>
          <p:cNvSpPr/>
          <p:nvPr/>
        </p:nvSpPr>
        <p:spPr>
          <a:xfrm>
            <a:off x="2666880" y="457200"/>
            <a:ext cx="579096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到第一朵雏菊开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禁不住欣喜地雀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花朵，你还认得我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看我又长高了多少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09480" y="533520"/>
            <a:ext cx="144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雏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76720" y="5105520"/>
            <a:ext cx="548604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禁不住——忍不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1523880"/>
            <a:ext cx="251424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雏：刚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0" y="2438280"/>
            <a:ext cx="251424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雏鸟，雏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>
            <a:hlinkClick r:id="rId2" action="ppaction://hlinksldjump"/>
          </p:cNvPr>
          <p:cNvSpPr/>
          <p:nvPr/>
        </p:nvSpPr>
        <p:spPr>
          <a:xfrm>
            <a:off x="8077320" y="632448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92-11012614102495"/>
          <p:cNvPicPr/>
          <p:nvPr/>
        </p:nvPicPr>
        <p:blipFill>
          <a:blip r:embed="rId1"/>
          <a:stretch/>
        </p:blipFill>
        <p:spPr>
          <a:xfrm>
            <a:off x="0" y="0"/>
            <a:ext cx="4495320" cy="323820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3" descr="4365930_111257078355_2"/>
          <p:cNvPicPr/>
          <p:nvPr/>
        </p:nvPicPr>
        <p:blipFill>
          <a:blip r:embed="rId2"/>
          <a:stretch/>
        </p:blipFill>
        <p:spPr>
          <a:xfrm>
            <a:off x="4648320" y="0"/>
            <a:ext cx="4495320" cy="324288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4" descr="13129629423515"/>
          <p:cNvPicPr/>
          <p:nvPr/>
        </p:nvPicPr>
        <p:blipFill>
          <a:blip r:embed="rId3"/>
          <a:stretch/>
        </p:blipFill>
        <p:spPr>
          <a:xfrm>
            <a:off x="4648320" y="3314880"/>
            <a:ext cx="4495320" cy="3466800"/>
          </a:xfrm>
          <a:prstGeom prst="rect">
            <a:avLst/>
          </a:prstGeom>
          <a:ln w="9525">
            <a:noFill/>
          </a:ln>
        </p:spPr>
      </p:pic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8458200" y="6324480"/>
            <a:ext cx="68544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2" name="Picture 6" descr="200861305516998_2"/>
          <p:cNvPicPr/>
          <p:nvPr/>
        </p:nvPicPr>
        <p:blipFill>
          <a:blip r:embed="rId4"/>
          <a:stretch/>
        </p:blipFill>
        <p:spPr>
          <a:xfrm>
            <a:off x="0" y="3352680"/>
            <a:ext cx="4495320" cy="337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4" name="Text Box 2"/>
          <p:cNvSpPr/>
          <p:nvPr/>
        </p:nvSpPr>
        <p:spPr>
          <a:xfrm>
            <a:off x="2971800" y="380880"/>
            <a:ext cx="693396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来到去年叶落的枝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待它吐出新的绿苞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去唤醒沉睡的溪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它唱歌，和它一起奔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0880" y="53352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129528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冻的溪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077320" y="617220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090420100109"/>
          <p:cNvPicPr/>
          <p:nvPr/>
        </p:nvPicPr>
        <p:blipFill>
          <a:blip r:embed="rId1"/>
          <a:stretch/>
        </p:blipFill>
        <p:spPr>
          <a:xfrm>
            <a:off x="4267080" y="0"/>
            <a:ext cx="487656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2006111418751870"/>
          <p:cNvPicPr/>
          <p:nvPr/>
        </p:nvPicPr>
        <p:blipFill>
          <a:blip r:embed="rId2"/>
          <a:stretch/>
        </p:blipFill>
        <p:spPr>
          <a:xfrm>
            <a:off x="0" y="0"/>
            <a:ext cx="4190760" cy="6857640"/>
          </a:xfrm>
          <a:prstGeom prst="rect">
            <a:avLst/>
          </a:prstGeom>
          <a:ln w="9525">
            <a:noFill/>
          </a:ln>
        </p:spPr>
      </p:pic>
      <p:sp>
        <p:nvSpPr>
          <p:cNvPr id="180" name="AutoShape 4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6091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9640" y="649440"/>
            <a:ext cx="8135640" cy="3381480"/>
          </a:xfrm>
          <a:prstGeom prst="rect">
            <a:avLst/>
          </a:prstGeom>
          <a:solidFill>
            <a:srgbClr val="00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惠崇春江晚景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—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苏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竹外桃花三两枝， 春江水暖鸭先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萎蒿满地芦芽短， 正是河豚欲上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咏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碧玉妆成一树高，万条垂下绿丝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知细叶谁裁出？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2" name="Text Box 2"/>
          <p:cNvSpPr/>
          <p:nvPr/>
        </p:nvSpPr>
        <p:spPr>
          <a:xfrm>
            <a:off x="1828800" y="380880"/>
            <a:ext cx="784836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累了，我就躺在田野上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头顶有明丽的太阳照耀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谁搔痒了我的面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啊，身边又钻出嫩绿的小草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418800" y="419112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嫩绿的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>
            <a:hlinkClick r:id="rId2" action="ppaction://hlinksldjump"/>
          </p:cNvPr>
          <p:cNvSpPr/>
          <p:nvPr/>
        </p:nvSpPr>
        <p:spPr>
          <a:xfrm>
            <a:off x="8153280" y="624852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6" name="Text Box 2"/>
          <p:cNvSpPr/>
          <p:nvPr/>
        </p:nvSpPr>
        <p:spPr>
          <a:xfrm>
            <a:off x="533520" y="1447920"/>
            <a:ext cx="8229240" cy="14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送走了一个寒冬，我们又迎来了美丽的春天。  春风 、 春水  、小鸟 、 蝴蝶  、雏菊  、枝头的绿苞  、明丽的阳光和 田野里的小草  都迫不及待地向我们报告着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6019920"/>
            <a:ext cx="380520" cy="3805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3124080" y="380880"/>
            <a:ext cx="3123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7172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春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0" name="Text Box 3"/>
          <p:cNvSpPr/>
          <p:nvPr/>
        </p:nvSpPr>
        <p:spPr>
          <a:xfrm>
            <a:off x="684360" y="1204920"/>
            <a:ext cx="835164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们是不是也能学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的样子，说一说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会有哪些消息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8360" y="189000"/>
            <a:ext cx="8135640" cy="31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合适的词语填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      希望      愿望      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实现两岸和平统一是海内外中国人的共同（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老师和家长都（      ）我们能健康成长，我们可不能让他们（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我们（     ）着能够快点长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2421000"/>
            <a:ext cx="100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708360" y="3068640"/>
            <a:ext cx="934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492360" y="3716280"/>
            <a:ext cx="936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124000" y="4437000"/>
            <a:ext cx="100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漂白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97180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雏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04812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照耀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28195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搔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266688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面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8" name="WordArt 5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雀跃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259092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欣喜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327672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捕捉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289548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牵引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9"/>
          <p:cNvSpPr txBox="1"/>
          <p:nvPr/>
        </p:nvSpPr>
        <p:spPr>
          <a:xfrm>
            <a:off x="26668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换取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10"/>
          <p:cNvSpPr txBox="1"/>
          <p:nvPr/>
        </p:nvSpPr>
        <p:spPr>
          <a:xfrm>
            <a:off x="274320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吐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11"/>
          <p:cNvSpPr txBox="1"/>
          <p:nvPr/>
        </p:nvSpPr>
        <p:spPr>
          <a:xfrm>
            <a:off x="28954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唤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12"/>
          <p:cNvSpPr txBox="1"/>
          <p:nvPr/>
        </p:nvSpPr>
        <p:spPr>
          <a:xfrm>
            <a:off x="29718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奔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13"/>
          <p:cNvSpPr txBox="1"/>
          <p:nvPr/>
        </p:nvSpPr>
        <p:spPr>
          <a:xfrm>
            <a:off x="243828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劳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4"/>
          <p:cNvSpPr txBox="1"/>
          <p:nvPr/>
        </p:nvSpPr>
        <p:spPr>
          <a:xfrm>
            <a:off x="25146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钻出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761d97fd9eb58acafc037fa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533520"/>
            <a:ext cx="7095600" cy="498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21" name="Picture 5" descr="ad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476280"/>
            <a:ext cx="837720" cy="711000"/>
          </a:xfrm>
          <a:prstGeom prst="rect">
            <a:avLst/>
          </a:prstGeom>
          <a:ln w="9525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84360" y="1557360"/>
            <a:ext cx="7848360" cy="237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除了诗人笔下的春天美景外，在你眼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有哪些春天的景色呢？它们是怎样的呢？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把春天的美景画下来，学着诗歌的样子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段描写春天美景的小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先小组交流，再全班交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042920" y="692280"/>
            <a:ext cx="158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拓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春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3" name="Text Box 4"/>
          <p:cNvSpPr/>
          <p:nvPr/>
        </p:nvSpPr>
        <p:spPr>
          <a:xfrm>
            <a:off x="828720" y="630360"/>
            <a:ext cx="7919640" cy="176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春的消息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金波：中国现代儿童作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作品：《金波儿童诗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金波童话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春的消息》选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作者发表在《巨人》上的组诗中的一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5280" y="1197000"/>
            <a:ext cx="8748360" cy="19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感情地朗读诗歌，学习其中的生字新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找找诗中描写了哪些春天的景色，并完成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面的填空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送走了一个寒冬，我们又迎来了美丽的春     天。      、        、         、      、           、            、         和     都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及待地向我们报告着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333360"/>
            <a:ext cx="504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学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春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86080"/>
          </a:xfrm>
          <a:prstGeom prst="rect">
            <a:avLst/>
          </a:prstGeom>
          <a:ln w="9525">
            <a:noFill/>
          </a:ln>
        </p:spPr>
      </p:pic>
      <p:sp>
        <p:nvSpPr>
          <p:cNvPr id="98" name="Rectangle 5"/>
          <p:cNvSpPr/>
          <p:nvPr/>
        </p:nvSpPr>
        <p:spPr>
          <a:xfrm>
            <a:off x="754200" y="3089160"/>
            <a:ext cx="8065800" cy="1460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   山冈   牵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怜   雀跃   唤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沉睡   搔痒   面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500720" y="76500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780000" y="4869000"/>
            <a:ext cx="187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928640" y="4797360"/>
            <a:ext cx="47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5580000" y="476280"/>
            <a:ext cx="1944360" cy="504360"/>
          </a:xfrm>
          <a:prstGeom prst="wedgeEllipseCallout">
            <a:avLst>
              <a:gd name="adj1" fmla="val -58981"/>
              <a:gd name="adj2" fmla="val 5251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高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274920" y="2708280"/>
            <a:ext cx="4536720" cy="576000"/>
          </a:xfrm>
          <a:prstGeom prst="wedgeEllipseCallout">
            <a:avLst>
              <a:gd name="adj1" fmla="val -19454"/>
              <a:gd name="adj2" fmla="val 9159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兴得像雀儿一样跳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1187280" y="2708280"/>
            <a:ext cx="1080720" cy="576000"/>
          </a:xfrm>
          <a:prstGeom prst="wedgeEllipseCallout">
            <a:avLst>
              <a:gd name="adj1" fmla="val -14171"/>
              <a:gd name="adj2" fmla="val 9214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疼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5280" y="1413000"/>
            <a:ext cx="8353080" cy="179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音字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ǎ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漂                          禁                            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à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）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68360" y="1341360"/>
            <a:ext cx="8675280" cy="179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音字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ǎ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漂白）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禁不住）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吐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漂                          禁                            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à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漂亮）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禁止）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呕吐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029200" y="3505320"/>
            <a:ext cx="1218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886200" y="3124080"/>
            <a:ext cx="17521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258920" y="1628640"/>
            <a:ext cx="6049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68360" y="2060640"/>
            <a:ext cx="8208720" cy="124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送走了一个寒冬，我们又迎来了美丽的春   天。      、        、         、      、           、            、         和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迫不及待地向我们报告着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042920" y="2421000"/>
            <a:ext cx="7745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风     春水     小鸟       蝴蝶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雏菊  枝头的绿苞    明丽的阳光  田野里的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}MF($D2EOXZL~CT5J1XX2R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Text Box 2"/>
          <p:cNvSpPr/>
          <p:nvPr/>
        </p:nvSpPr>
        <p:spPr>
          <a:xfrm>
            <a:off x="0" y="1371600"/>
            <a:ext cx="9143640" cy="363960"/>
          </a:xfrm>
          <a:prstGeom prst="rect">
            <a:avLst/>
          </a:prstGeom>
          <a:solidFill>
            <a:schemeClr val="bg1">
              <a:alpha val="6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一个你喜欢的小节，再读一读。并且说一说在这一小节里有哪些春的消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7C教育资源网www.7cxk.net</Manager>
  <TotalTime>358</TotalTime>
  <Application>LibreOffice/7.4.7.2$Linux_X86_64 LibreOffice_project/40$Build-2</Application>
  <AppVersion>15.0000</AppVersion>
  <Words>1124</Words>
  <Paragraphs>173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5-02-21T00:34:02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2:23:31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7</vt:r8>
  </property>
  <property fmtid="{D5CDD505-2E9C-101B-9397-08002B2CF9AE}" pid="4" name="PresentationFormat">
    <vt:lpwstr>全屏显示(4:3)</vt:lpwstr>
  </property>
  <property fmtid="{D5CDD505-2E9C-101B-9397-08002B2CF9AE}" pid="5" name="Slides">
    <vt:r8>28</vt:r8>
  </property>
</Properties>
</file>