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3.png" ContentType="image/png"/>
  <Override PartName="/ppt/media/image18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3102FF-BD36-465A-994E-34BD3A820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D22D5C-44C0-4F1B-992D-C5584A3679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5049BC-49A4-4FC8-B77A-0EDC362047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BC8166-DF62-422D-9684-C7610F280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076-89E6-4175-8412-848188D3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ADD-D14F-4FFA-ADE9-9FCAA9D7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553-D82E-4201-A49F-9F306868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219-EAB8-4CBF-9746-58E7CCBD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2E88-7024-4377-9E91-C7980765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AE75-3C31-4055-A383-D57F3CA4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1C43-5C58-4F1E-8172-9B330CAA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9068-BA89-4ADD-9724-A9D56CCC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22F5-D13E-42B2-AE40-824014B0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B431-EE53-4519-AD59-D07D662C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8434-B6F6-4774-B9E7-36C88BAF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FCE-0410-4469-906A-E846CB84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EABA-E127-49B1-95BA-97A5A8C5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7357-FC14-4802-9F7A-59286DD1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CAD1-80BB-4D56-8F20-0F21B34E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9E4D-ED32-4171-813A-53CDD756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AFFA-C229-449F-AA7E-40276B08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8404-74EB-4606-907E-1F81EA9A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6DDAF-D438-4F2D-8A7E-88F80670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06063-22E1-42AA-9B7B-B715334D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6381A-E560-454E-A140-7A5D994C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9AC2B-6409-477C-810F-C1AFE5C2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71F-DC24-4ED9-8B7B-61685986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FCB8-7361-4B78-9EB9-FBEB9DC3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1F28B-E7FB-4025-8EA4-89A8662D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85EFB-9858-4055-9DE3-32194570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99AB-A5EB-403E-B0E8-5FE23DD6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D8B7-D4EE-47ED-AC9D-98DA76D3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92120-E3C2-497B-92DA-4B6C3AA4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2B45-6DF1-4D4D-A05F-60FFB70D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99CC4-1A21-409D-9465-918221B7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3F0DE-1941-461D-B52A-4904AC21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46874-2692-4D06-B611-93B77937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67C-FD36-412B-BF8B-94B72154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84592-3D07-4F6B-87DB-CE62DC56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CFDB4-4EE3-4E89-818C-4D56405C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5027E-1050-4943-9203-B28027F7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221DA-4470-4814-9C4A-040CDC75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490C2-4848-4A56-86D5-A8B46A04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FED9C-61A2-471C-B480-9C87C1C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64032-E1E6-4BD3-BF6C-E61C3684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CE546-A303-40AA-9624-89C0D36C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D24C-89CC-4A71-BDCF-B6B430CA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0F41D-441B-4039-B337-B266F9C4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23F-B480-4C36-8DBA-B134416D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811BD-2A9E-42EF-965C-11CF0439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A690C-8672-490C-A67D-4D241CEC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0763F-95E5-4905-BB73-6BE882D6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DFD06-54C6-4D65-89E4-E5530BF1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9DF77-C309-4D84-A0E6-31072C6F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E01AF-8906-4FF6-B3A0-43859081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81D2C-E047-4449-9890-54773CC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4FE60-EB0A-4CFA-8171-F145EA27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F1A83-7956-42E5-9320-7487C61F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3139B-0DE4-431F-84E8-F7660960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596-D4A4-4F8D-A749-572F21FA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123D5-67FD-4310-BDE2-47909B61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85E-64D1-4D44-8EBA-7AFBEE8C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F61-2475-4A07-920A-EB02846C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B17-F72A-4710-A730-DA82435D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C0AE81-2B99-4157-B683-FEBD2EBED7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200724152251807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EA8A0B-C145-4535-86C1-7822B68591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200724152251807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7B2F32-D914-4FD1-8955-06BFC1B948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628C58-E7A4-484E-9815-CD6F64FD97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154761-B9D6-4A85-938A-DAEFE8CC20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9.jpeg"/><Relationship Id="rId3" Type="http://schemas.openxmlformats.org/officeDocument/2006/relationships/slide" Target="slide15.xml"/><Relationship Id="rId4" Type="http://schemas.openxmlformats.org/officeDocument/2006/relationships/image" Target="../media/image10.jpeg"/><Relationship Id="rId5" Type="http://schemas.openxmlformats.org/officeDocument/2006/relationships/slide" Target="slide16.xml"/><Relationship Id="rId6" Type="http://schemas.openxmlformats.org/officeDocument/2006/relationships/image" Target="../media/image11.jpeg"/><Relationship Id="rId7" Type="http://schemas.openxmlformats.org/officeDocument/2006/relationships/slide" Target="slide17.xml"/><Relationship Id="rId8" Type="http://schemas.openxmlformats.org/officeDocument/2006/relationships/image" Target="../media/image12.jpeg"/><Relationship Id="rId9" Type="http://schemas.openxmlformats.org/officeDocument/2006/relationships/slide" Target="slide20.xml"/><Relationship Id="rId10" Type="http://schemas.openxmlformats.org/officeDocument/2006/relationships/image" Target="../media/image13.gif"/><Relationship Id="rId11" Type="http://schemas.openxmlformats.org/officeDocument/2006/relationships/slide" Target="slide12.xml"/><Relationship Id="rId12" Type="http://schemas.openxmlformats.org/officeDocument/2006/relationships/image" Target="../media/image14.jpeg"/><Relationship Id="rId13" Type="http://schemas.openxmlformats.org/officeDocument/2006/relationships/slide" Target="slide19.xml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" Target="slide11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1463760" y="1308240"/>
            <a:ext cx="6095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5"/>
          <p:cNvSpPr/>
          <p:nvPr/>
        </p:nvSpPr>
        <p:spPr>
          <a:xfrm>
            <a:off x="2688840" y="541008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395280" y="1219320"/>
            <a:ext cx="835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音字组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iǎ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）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ī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）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漂                          禁                            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ià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ì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）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6"/>
          <p:cNvSpPr/>
          <p:nvPr/>
        </p:nvSpPr>
        <p:spPr>
          <a:xfrm>
            <a:off x="1066680" y="76320"/>
            <a:ext cx="83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3733920" y="152280"/>
            <a:ext cx="83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6858000" y="22860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066680" y="297180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3886200" y="297180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6934320" y="289548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4" descr="5267147_220255002279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8120" y="1066680"/>
            <a:ext cx="2590560" cy="1752120"/>
          </a:xfrm>
          <a:prstGeom prst="rect">
            <a:avLst/>
          </a:prstGeom>
          <a:ln w="9525">
            <a:noFill/>
          </a:ln>
        </p:spPr>
      </p:pic>
      <p:pic>
        <p:nvPicPr>
          <p:cNvPr id="254" name="Picture 15" descr="067co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19920" y="1066680"/>
            <a:ext cx="2666520" cy="1828440"/>
          </a:xfrm>
          <a:prstGeom prst="rect">
            <a:avLst/>
          </a:prstGeom>
          <a:ln w="9525">
            <a:noFill/>
          </a:ln>
        </p:spPr>
      </p:pic>
      <p:pic>
        <p:nvPicPr>
          <p:cNvPr id="255" name="Picture 16" descr="200861305516998_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962520"/>
            <a:ext cx="2361960" cy="1599840"/>
          </a:xfrm>
          <a:prstGeom prst="rect">
            <a:avLst/>
          </a:prstGeom>
          <a:ln w="9525">
            <a:noFill/>
          </a:ln>
        </p:spPr>
      </p:pic>
      <p:pic>
        <p:nvPicPr>
          <p:cNvPr id="256" name="Picture 17" descr="15179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8120" y="3962520"/>
            <a:ext cx="2590560" cy="1676160"/>
          </a:xfrm>
          <a:prstGeom prst="rect">
            <a:avLst/>
          </a:prstGeom>
          <a:ln w="9525">
            <a:noFill/>
          </a:ln>
        </p:spPr>
      </p:pic>
      <p:sp>
        <p:nvSpPr>
          <p:cNvPr id="257" name="圆角矩形 13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8" name="Rectangle 8">
            <a:hlinkClick r:id="rId9" action="ppaction://hlinksldjump"/>
          </p:cNvPr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20090420100109"/>
          <p:cNvPicPr/>
          <p:nvPr/>
        </p:nvPicPr>
        <p:blipFill>
          <a:blip r:embed="rId10"/>
          <a:stretch/>
        </p:blipFill>
        <p:spPr>
          <a:xfrm>
            <a:off x="4572000" y="3971880"/>
            <a:ext cx="990360" cy="1496520"/>
          </a:xfrm>
          <a:prstGeom prst="rect">
            <a:avLst/>
          </a:prstGeom>
          <a:ln w="9525">
            <a:noFill/>
          </a:ln>
        </p:spPr>
      </p:pic>
      <p:pic>
        <p:nvPicPr>
          <p:cNvPr id="260" name="Picture 5" descr="b3508d132b4b7ccd6538dba0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28600" y="1066680"/>
            <a:ext cx="2361960" cy="1771200"/>
          </a:xfrm>
          <a:prstGeom prst="rect">
            <a:avLst/>
          </a:prstGeom>
          <a:ln w="9525">
            <a:noFill/>
          </a:ln>
        </p:spPr>
      </p:pic>
      <p:pic>
        <p:nvPicPr>
          <p:cNvPr id="261" name="图片 1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095880" y="3886200"/>
            <a:ext cx="2509560" cy="1622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b3508d132b4b7ccd6538dba0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63" name="Rectangle 5"/>
          <p:cNvSpPr/>
          <p:nvPr/>
        </p:nvSpPr>
        <p:spPr>
          <a:xfrm>
            <a:off x="3505320" y="3260880"/>
            <a:ext cx="5562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，摇绿了树的枝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，漂白了鸭的羽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盼望了整整一个冬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看，春天已经来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962520" y="533520"/>
            <a:ext cx="152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5" name="圆角矩形 11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7"/>
          <p:cNvSpPr/>
          <p:nvPr/>
        </p:nvSpPr>
        <p:spPr>
          <a:xfrm>
            <a:off x="250920" y="204156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             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             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             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坛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uwen/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学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语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ingyu/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术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学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kexue/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化学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huaxue/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物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理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dili/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历史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1012130940939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71800" y="1219320"/>
            <a:ext cx="47239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谁是小诗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90920" y="1828800"/>
            <a:ext cx="5409720" cy="2742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枝条绿了，羽毛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作家：风，摇绿了树的枝条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水，漂白了鸭的羽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小诗人：风，————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水，————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染绿／荡漾／映出／…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圆角矩形 8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2" name="Rectangle 8">
            <a:hlinkClick r:id="rId2" action="ppaction://hlinksldjump"/>
          </p:cNvPr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2895480" y="304920"/>
            <a:ext cx="624816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让我们换上春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像小鸟换上新的羽毛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飞过树林，飞上山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到处有春天的欢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2362320" y="4177080"/>
            <a:ext cx="5866920" cy="363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飞过（    ），飞过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8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6" name="Rectangle 8">
            <a:hlinkClick r:id="rId1" action="ppaction://hlinksldjump"/>
          </p:cNvPr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3505320" y="304920"/>
            <a:ext cx="52574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看到第一只蝴蝶飞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牵引着我的双脚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高兴地捉住它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爱怜地把它放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" descr="20080303_9d4f97f53cf9af2a9b2agft45VrnKhs2打发"/>
          <p:cNvPicPr/>
          <p:nvPr/>
        </p:nvPicPr>
        <p:blipFill>
          <a:blip r:embed="rId1"/>
          <a:stretch/>
        </p:blipFill>
        <p:spPr>
          <a:xfrm>
            <a:off x="7715160" y="3962520"/>
            <a:ext cx="1428480" cy="1428480"/>
          </a:xfrm>
          <a:prstGeom prst="rect">
            <a:avLst/>
          </a:prstGeom>
          <a:ln w="9525">
            <a:noFill/>
          </a:ln>
        </p:spPr>
      </p:pic>
      <p:pic>
        <p:nvPicPr>
          <p:cNvPr id="279" name="Picture 12" descr="20080303_9d4f97f53cf9af2a9b2agft45VrnKhs2打发"/>
          <p:cNvPicPr/>
          <p:nvPr/>
        </p:nvPicPr>
        <p:blipFill>
          <a:blip r:embed="rId2"/>
          <a:stretch/>
        </p:blipFill>
        <p:spPr>
          <a:xfrm>
            <a:off x="8429760" y="4191120"/>
            <a:ext cx="1428480" cy="1428480"/>
          </a:xfrm>
          <a:prstGeom prst="rect">
            <a:avLst/>
          </a:prstGeom>
          <a:ln w="9525">
            <a:noFill/>
          </a:ln>
        </p:spPr>
      </p:pic>
      <p:sp>
        <p:nvSpPr>
          <p:cNvPr id="280" name="圆角矩形 8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1" name="Rectangle 8">
            <a:hlinkClick r:id="rId3" action="ppaction://hlinksldjump"/>
          </p:cNvPr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4028 C -0.0342 0.1382 -0.0684 0.1375 -0.10191 0.13149 C -0.10487 0.12987 -0.10851 0.12871 -0.11094 0.12593 C -0.11546 0.12084 -0.11685 0.1132 -0.12275 0.10926 C -0.12587 0.10741 -0.12865 0.10533 -0.13143 0.10417 C -0.1356 0.10162 -0.13994 0.1007 -0.14375 0.09838 C -0.14792 0.09584 -0.15105 0.09213 -0.15573 0.09005 C -0.17119 0.08287 -0.16355 0.09144 -0.17674 0.0845 C -0.2073 0.06875 -0.18334 0.07686 -0.20365 0.07084 C -0.23403 0.07269 -0.26164 0.07315 -0.29011 0.08172 C -0.29532 0.08102 -0.3007 0.08172 -0.30487 0.07894 C -0.30886 0.07686 -0.30886 0.0713 -0.31112 0.06806 C -0.32032 0.05394 -0.32882 0.03866 -0.3441 0.02917 C -0.37327 -0.0118 -0.45382 0.00834 -0.49028 0.00718 C -0.50087 0.0007 -0.50556 -0.00717 -0.51407 -0.01481 C -0.51667 -0.01713 -0.52066 -0.01805 -0.5231 -0.02037 C -0.53386 -0.03009 -0.53785 -0.03773 -0.55296 -0.04236 C -0.56685 -0.06157 -0.56268 -0.05277 -0.56771 -0.06736 C -0.56875 -0.08865 -0.55174 -0.16597 -0.58889 -0.18888 C -0.60296 -0.20856 -0.58455 -0.18495 -0.60695 -0.20555 C -0.60903 -0.20787 -0.60973 -0.2118 -0.6125 -0.21388 C -0.61823 -0.21828 -0.63056 -0.22476 -0.63056 -0.22453 C -0.63733 -0.23402 -0.64566 -0.23912 -0.65452 -0.24699 C -0.65903 -0.25972 -0.67223 -0.2662 -0.67535 -0.28009 C -0.67813 -0.29166 -0.67431 -0.30601 -0.68143 -0.31597 C -0.6875 -0.32476 -0.70782 -0.32939 -0.71719 -0.33541 C -0.73299 -0.3574 -0.71216 -0.33078 -0.73212 -0.34907 C -0.73473 -0.35138 -0.73542 -0.35532 -0.73837 -0.3574 C -0.74046 -0.35925 -0.74428 -0.35879 -0.74723 -0.36018 C -0.76476 -0.36851 -0.7698 -0.37083 -0.78855 -0.37083 E">
                                      <p:cBhvr>
                                        <p:cTn id="98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4028 C -0.0342 0.1382 -0.0684 0.1375 -0.10191 0.13149 C -0.10487 0.12987 -0.10851 0.12871 -0.11094 0.12593 C -0.11546 0.12084 -0.11685 0.1132 -0.12275 0.10926 C -0.12587 0.10741 -0.12865 0.10533 -0.13143 0.10417 C -0.1356 0.10162 -0.13994 0.1007 -0.14375 0.09838 C -0.14792 0.09584 -0.15105 0.09213 -0.15573 0.09005 C -0.17119 0.08287 -0.16355 0.09144 -0.17674 0.0845 C -0.2073 0.06875 -0.18334 0.07686 -0.20365 0.07084 C -0.23403 0.07269 -0.26164 0.07315 -0.29011 0.08172 C -0.29532 0.08102 -0.3007 0.08172 -0.30487 0.07894 C -0.30886 0.07686 -0.30886 0.0713 -0.31112 0.06806 C -0.32032 0.05394 -0.32882 0.03866 -0.3441 0.02917 C -0.37327 -0.0118 -0.45382 0.00834 -0.49028 0.00718 C -0.50087 0.0007 -0.50556 -0.00717 -0.51407 -0.01481 C -0.51667 -0.01713 -0.52066 -0.01805 -0.5231 -0.02037 C -0.53386 -0.03009 -0.53785 -0.03773 -0.55296 -0.04236 C -0.56685 -0.06157 -0.56268 -0.05277 -0.56771 -0.06736 C -0.56875 -0.08865 -0.55174 -0.16597 -0.58889 -0.18888 C -0.60296 -0.20856 -0.58455 -0.18495 -0.60695 -0.20555 C -0.60903 -0.20787 -0.60973 -0.2118 -0.6125 -0.21388 C -0.61823 -0.21828 -0.63056 -0.22476 -0.63056 -0.22453 C -0.63733 -0.23402 -0.64566 -0.23912 -0.65452 -0.24699 C -0.65903 -0.25972 -0.67223 -0.2662 -0.67535 -0.28009 C -0.67813 -0.29166 -0.67431 -0.30601 -0.68143 -0.31597 C -0.6875 -0.32476 -0.70782 -0.32939 -0.71719 -0.33541 C -0.73299 -0.3574 -0.71216 -0.33078 -0.73212 -0.34907 C -0.73473 -0.35138 -0.73542 -0.35532 -0.73837 -0.3574 C -0.74046 -0.35925 -0.74428 -0.35879 -0.74723 -0.36018 C -0.76476 -0.36851 -0.7698 -0.37083 -0.78855 -0.37083 E">
                                      <p:cBhvr>
                                        <p:cTn id="100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图片2333"/>
          <p:cNvPicPr/>
          <p:nvPr/>
        </p:nvPicPr>
        <p:blipFill>
          <a:blip r:embed="rId1"/>
          <a:stretch/>
        </p:blipFill>
        <p:spPr>
          <a:xfrm>
            <a:off x="-299880" y="-228600"/>
            <a:ext cx="9743760" cy="7314840"/>
          </a:xfrm>
          <a:prstGeom prst="rect">
            <a:avLst/>
          </a:prstGeom>
          <a:ln w="9525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240" cy="3123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0" y="228600"/>
            <a:ext cx="472392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看到第一朵雏菊开放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会禁不住欣喜地雀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花朵，你还认得我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看我又长高了多少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8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6" name="Rectangle 8">
            <a:hlinkClick r:id="rId2" action="ppaction://hlinksldjump"/>
          </p:cNvPr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2971800" y="380880"/>
            <a:ext cx="693396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来到去年叶落的枝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待它吐出新的绿苞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再去唤醒沉睡的溪流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听它唱歌，和它一起奔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7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20090420100109"/>
          <p:cNvPicPr/>
          <p:nvPr/>
        </p:nvPicPr>
        <p:blipFill>
          <a:blip r:embed="rId1"/>
          <a:stretch/>
        </p:blipFill>
        <p:spPr>
          <a:xfrm>
            <a:off x="4267080" y="0"/>
            <a:ext cx="4876560" cy="6857640"/>
          </a:xfrm>
          <a:prstGeom prst="rect">
            <a:avLst/>
          </a:prstGeom>
          <a:ln w="9525">
            <a:noFill/>
          </a:ln>
        </p:spPr>
      </p:pic>
      <p:sp>
        <p:nvSpPr>
          <p:cNvPr id="291" name="圆角矩形 7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2" name="Rectangle 8">
            <a:hlinkClick r:id="rId2" action="ppaction://hlinksldjump"/>
          </p:cNvPr>
          <p:cNvSpPr/>
          <p:nvPr/>
        </p:nvSpPr>
        <p:spPr>
          <a:xfrm>
            <a:off x="510552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2006111418751870"/>
          <p:cNvPicPr/>
          <p:nvPr/>
        </p:nvPicPr>
        <p:blipFill>
          <a:blip r:embed="rId3"/>
          <a:stretch/>
        </p:blipFill>
        <p:spPr>
          <a:xfrm>
            <a:off x="0" y="0"/>
            <a:ext cx="419076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1828800" y="380880"/>
            <a:ext cx="784836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走累了，我就躺在田野上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顶有明丽的太阳照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谁搔痒了我的面颊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啊，身边又钻出嫩绿的小草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6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6" name="Rectangle 8">
            <a:hlinkClick r:id="rId1" action="ppaction://hlinksldjump"/>
          </p:cNvPr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38152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学们，你们知道“消息” 是什么意思吗？能说说你对“消息”的理解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1"/>
          <p:cNvSpPr/>
          <p:nvPr/>
        </p:nvSpPr>
        <p:spPr>
          <a:xfrm>
            <a:off x="6248520" y="609588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952880" y="561672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2005930103356244"/>
          <p:cNvPicPr/>
          <p:nvPr/>
        </p:nvPicPr>
        <p:blipFill>
          <a:blip r:embed="rId1"/>
          <a:stretch/>
        </p:blipFill>
        <p:spPr>
          <a:xfrm>
            <a:off x="0" y="3505320"/>
            <a:ext cx="9143640" cy="3352320"/>
          </a:xfrm>
          <a:prstGeom prst="rect">
            <a:avLst/>
          </a:prstGeom>
          <a:ln w="9525">
            <a:noFill/>
          </a:ln>
        </p:spPr>
      </p:pic>
      <p:sp>
        <p:nvSpPr>
          <p:cNvPr id="298" name="Text Box 5"/>
          <p:cNvSpPr/>
          <p:nvPr/>
        </p:nvSpPr>
        <p:spPr>
          <a:xfrm>
            <a:off x="2166480" y="0"/>
            <a:ext cx="321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１、积累描写春天的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304920" y="838080"/>
            <a:ext cx="83055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风拂面    春光明媚    春回大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花烂漫    春雷滚滚    春雨绵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暖花开    春意盎然    春色满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桃红柳绿    万紫千红    生机勃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2005930103356244"/>
          <p:cNvPicPr/>
          <p:nvPr/>
        </p:nvPicPr>
        <p:blipFill>
          <a:blip r:embed="rId1"/>
          <a:stretch/>
        </p:blipFill>
        <p:spPr>
          <a:xfrm>
            <a:off x="0" y="3733920"/>
            <a:ext cx="9143640" cy="3123720"/>
          </a:xfrm>
          <a:prstGeom prst="rect">
            <a:avLst/>
          </a:prstGeom>
          <a:ln w="9525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92560" cy="623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、积累描写春天的古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228600" y="762120"/>
            <a:ext cx="3352320" cy="36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孟浩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304920" y="1752480"/>
            <a:ext cx="2666520" cy="36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清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杜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3962520" y="1447920"/>
            <a:ext cx="4800240" cy="36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江畔独步寻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杜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3962520" y="609480"/>
            <a:ext cx="4723920" cy="36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林寺桃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白居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3962520" y="2209680"/>
            <a:ext cx="4800240" cy="36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惠崇春江晚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苏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228600" y="2895480"/>
            <a:ext cx="3200040" cy="36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朱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3962520" y="3048120"/>
            <a:ext cx="4800240" cy="36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游园不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叶绍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4"/>
          <p:cNvSpPr/>
          <p:nvPr/>
        </p:nvSpPr>
        <p:spPr>
          <a:xfrm>
            <a:off x="0" y="0"/>
            <a:ext cx="9143640" cy="28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出江花红似火，春来江水绿如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忆江南 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乱花渐欲迷人眼，浅草才能没马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钱塘湖春行 白居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间四月芳菲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山寺桃花始盛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林寺桃花 白居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街小雨润如酥，草色遥看近却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初春小雨 韩 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圆角矩形 6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5486400" y="5562720"/>
            <a:ext cx="41144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5"/>
          <p:cNvSpPr/>
          <p:nvPr/>
        </p:nvSpPr>
        <p:spPr>
          <a:xfrm>
            <a:off x="576360" y="457200"/>
            <a:ext cx="81356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合适的词语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盼望      希望      愿望      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实现两岸和平统一是海内外中国人的共同（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老师和家长都（      ）我们能健康成长，我们可不能让他们（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我们（     ）着能够快点长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008000" y="261612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愿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745080" y="3394080"/>
            <a:ext cx="93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希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3600360" y="3840120"/>
            <a:ext cx="93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失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2217600" y="4762440"/>
            <a:ext cx="100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盼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5"/>
          <p:cNvSpPr/>
          <p:nvPr/>
        </p:nvSpPr>
        <p:spPr>
          <a:xfrm>
            <a:off x="0" y="0"/>
            <a:ext cx="9143640" cy="3563640"/>
          </a:xfrm>
          <a:prstGeom prst="rect">
            <a:avLst/>
          </a:prstGeom>
          <a:solidFill>
            <a:schemeClr val="bg1">
              <a:alpha val="7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春夜喜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杜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好雨知时节， 当春乃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随风潜入夜， 润物细无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野径云俱黑， 江船火独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晓看红湿处， 花重锦官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28600" y="380880"/>
            <a:ext cx="3809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【读读背背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惠崇春江晚景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宋  苏轼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竹外桃花三两枝，春江水暖鸭先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蒌蒿满地芦芽短，正是河豚欲上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>
            <a:off x="1828800" y="533520"/>
            <a:ext cx="419076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 晓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唐  孟浩然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眠不觉晓，处处闻啼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夜来风雨声，花落知多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林寺桃花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唐  白居易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间四月芳菲尽，山寺桃花始盛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恨春归无觅处，不知转入此中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1828800" y="533520"/>
            <a:ext cx="51811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江畔独步寻花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唐  杜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黄四娘家花满蹊，千朵万朵压枝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留连戏蝶时时舞，自在娇莺恰恰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3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 日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南宋  朱熹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胜日寻芳泗水滨，无边光景一时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闲识得东风面，万紫千红总是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春姑娘想给小朋友们发一个“春天到来”的好消息，你帮她想一想：她可以怎么告诉我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3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游园不值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南宋  叶绍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怜屐齿印苍苔，小扣柴扉久不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色满园关不住，一支红杏出墙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绝句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唐   杜甫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黄鹂鸣翠柳，一行白鹭上青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窗含西岭千秋雪，门泊东吴万里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2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29" name="WordArt 6"/>
          <p:cNvSpPr txBox="1"/>
          <p:nvPr/>
        </p:nvSpPr>
        <p:spPr>
          <a:xfrm>
            <a:off x="2590920" y="23623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漂白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13"/>
          <p:cNvSpPr txBox="1"/>
          <p:nvPr/>
        </p:nvSpPr>
        <p:spPr>
          <a:xfrm>
            <a:off x="2971800" y="220968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雏菊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3048120" y="220968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照耀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WordArt 15"/>
          <p:cNvSpPr txBox="1"/>
          <p:nvPr/>
        </p:nvSpPr>
        <p:spPr>
          <a:xfrm>
            <a:off x="2819520" y="23623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搔痒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6"/>
          <p:cNvSpPr txBox="1"/>
          <p:nvPr/>
        </p:nvSpPr>
        <p:spPr>
          <a:xfrm>
            <a:off x="2666880" y="23623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面颊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3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37" name="WordArt 5"/>
          <p:cNvSpPr txBox="1"/>
          <p:nvPr/>
        </p:nvSpPr>
        <p:spPr>
          <a:xfrm>
            <a:off x="2590920" y="23623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雀跃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6"/>
          <p:cNvSpPr txBox="1"/>
          <p:nvPr/>
        </p:nvSpPr>
        <p:spPr>
          <a:xfrm>
            <a:off x="2590920" y="27432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欣喜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7"/>
          <p:cNvSpPr txBox="1"/>
          <p:nvPr/>
        </p:nvSpPr>
        <p:spPr>
          <a:xfrm>
            <a:off x="3276720" y="25146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捕捉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8"/>
          <p:cNvSpPr txBox="1"/>
          <p:nvPr/>
        </p:nvSpPr>
        <p:spPr>
          <a:xfrm>
            <a:off x="2895480" y="27432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牵引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9"/>
          <p:cNvSpPr txBox="1"/>
          <p:nvPr/>
        </p:nvSpPr>
        <p:spPr>
          <a:xfrm>
            <a:off x="2666880" y="266688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换取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WordArt 10"/>
          <p:cNvSpPr txBox="1"/>
          <p:nvPr/>
        </p:nvSpPr>
        <p:spPr>
          <a:xfrm>
            <a:off x="2743200" y="25146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吐露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1"/>
          <p:cNvSpPr txBox="1"/>
          <p:nvPr/>
        </p:nvSpPr>
        <p:spPr>
          <a:xfrm>
            <a:off x="2895480" y="266688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唤醒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12"/>
          <p:cNvSpPr txBox="1"/>
          <p:nvPr/>
        </p:nvSpPr>
        <p:spPr>
          <a:xfrm>
            <a:off x="2971800" y="25909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奔走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3"/>
          <p:cNvSpPr txBox="1"/>
          <p:nvPr/>
        </p:nvSpPr>
        <p:spPr>
          <a:xfrm>
            <a:off x="2438280" y="25146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劳累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14"/>
          <p:cNvSpPr txBox="1"/>
          <p:nvPr/>
        </p:nvSpPr>
        <p:spPr>
          <a:xfrm>
            <a:off x="2514600" y="25909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钻出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8800" cy="748800"/>
          </a:xfrm>
          <a:prstGeom prst="rect">
            <a:avLst/>
          </a:prstGeom>
          <a:ln w="9525">
            <a:noFill/>
          </a:ln>
        </p:spPr>
      </p:pic>
      <p:pic>
        <p:nvPicPr>
          <p:cNvPr id="34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200" cy="736200"/>
          </a:xfrm>
          <a:prstGeom prst="rect">
            <a:avLst/>
          </a:prstGeom>
          <a:ln w="9525">
            <a:noFill/>
          </a:ln>
        </p:spPr>
      </p:pic>
      <p:pic>
        <p:nvPicPr>
          <p:cNvPr id="34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200"/>
          </a:xfrm>
          <a:prstGeom prst="rect">
            <a:avLst/>
          </a:prstGeom>
          <a:ln w="9525">
            <a:noFill/>
          </a:ln>
        </p:spPr>
      </p:pic>
      <p:sp>
        <p:nvSpPr>
          <p:cNvPr id="350" name="Rectangle 5"/>
          <p:cNvSpPr/>
          <p:nvPr/>
        </p:nvSpPr>
        <p:spPr>
          <a:xfrm>
            <a:off x="2039040" y="981000"/>
            <a:ext cx="88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比一比，组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1905120" y="1619280"/>
            <a:ext cx="127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篷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蓬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5145480" y="1619280"/>
            <a:ext cx="127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絮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紫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8"/>
          <p:cNvGrpSpPr/>
          <p:nvPr/>
        </p:nvGrpSpPr>
        <p:grpSpPr>
          <a:xfrm>
            <a:off x="1479600" y="3141720"/>
            <a:ext cx="6326280" cy="1970280"/>
            <a:chOff x="1479600" y="3141720"/>
            <a:chExt cx="6326280" cy="1970280"/>
          </a:xfrm>
        </p:grpSpPr>
        <p:sp>
          <p:nvSpPr>
            <p:cNvPr id="354" name="Rectangle 9"/>
            <p:cNvSpPr/>
            <p:nvPr/>
          </p:nvSpPr>
          <p:spPr>
            <a:xfrm>
              <a:off x="3459960" y="3862080"/>
              <a:ext cx="17982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雨丝细细的，柔柔的，像花絮一般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1479600" y="3141720"/>
              <a:ext cx="27183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照样子，写比喻句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1"/>
            <p:cNvSpPr/>
            <p:nvPr/>
          </p:nvSpPr>
          <p:spPr>
            <a:xfrm>
              <a:off x="4900680" y="3716280"/>
              <a:ext cx="77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﹒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2"/>
            <p:cNvSpPr/>
            <p:nvPr/>
          </p:nvSpPr>
          <p:spPr>
            <a:xfrm>
              <a:off x="1540800" y="4595760"/>
              <a:ext cx="6265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_______________________ 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___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圆角矩形 12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25" name="Picture 4" descr="200709240642212414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28" name="Picture 4" descr="蝶2"/>
          <p:cNvPicPr/>
          <p:nvPr/>
        </p:nvPicPr>
        <p:blipFill>
          <a:blip r:embed="rId1"/>
          <a:stretch/>
        </p:blipFill>
        <p:spPr>
          <a:xfrm>
            <a:off x="0" y="0"/>
            <a:ext cx="9143640" cy="7543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u=3969059133,3857815048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510000" y="1077840"/>
            <a:ext cx="533376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金波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生，大学教授，著名诗人，儿童文学作家，评论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品有《林中的鸟声》、 《能歌善舞的文字》等诗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部，诗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首以及散文、童话、文学评论等数百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品获几十次全国性大奖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获得国际安徒生奖提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金波"/>
          <p:cNvPicPr/>
          <p:nvPr/>
        </p:nvPicPr>
        <p:blipFill>
          <a:blip r:embed="rId1"/>
          <a:stretch/>
        </p:blipFill>
        <p:spPr>
          <a:xfrm>
            <a:off x="152280" y="152280"/>
            <a:ext cx="2437920" cy="1828440"/>
          </a:xfrm>
          <a:prstGeom prst="rect">
            <a:avLst/>
          </a:prstGeom>
          <a:ln w="9525">
            <a:noFill/>
          </a:ln>
        </p:spPr>
      </p:pic>
      <p:pic>
        <p:nvPicPr>
          <p:cNvPr id="232" name="Picture 6" descr="金波诗集"/>
          <p:cNvPicPr/>
          <p:nvPr/>
        </p:nvPicPr>
        <p:blipFill>
          <a:blip r:embed="rId2"/>
          <a:stretch/>
        </p:blipFill>
        <p:spPr>
          <a:xfrm>
            <a:off x="228600" y="2286000"/>
            <a:ext cx="1860120" cy="2723760"/>
          </a:xfrm>
          <a:prstGeom prst="rect">
            <a:avLst/>
          </a:prstGeom>
          <a:ln w="9525">
            <a:noFill/>
          </a:ln>
        </p:spPr>
      </p:pic>
      <p:pic>
        <p:nvPicPr>
          <p:cNvPr id="233" name="Picture 9" descr="jinboshiji"/>
          <p:cNvPicPr/>
          <p:nvPr/>
        </p:nvPicPr>
        <p:blipFill>
          <a:blip r:embed="rId3"/>
          <a:stretch/>
        </p:blipFill>
        <p:spPr>
          <a:xfrm>
            <a:off x="838080" y="3505320"/>
            <a:ext cx="2511000" cy="3047760"/>
          </a:xfrm>
          <a:prstGeom prst="rect">
            <a:avLst/>
          </a:prstGeom>
          <a:ln w="9525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2666880" y="219240"/>
            <a:ext cx="6171840" cy="99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姑娘把小朋友们的好主意让一位诗人写成了一首诗来传达“春的消息”。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240" cy="5059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自学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自由读诗，遇到不认识的字借助拼音读正确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用各种形式理解文中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 “漂白”、“牵引”、“爱怜”、“雀跃”、“搔痒”等词语可以结合诗中的具体语境、生活经验和动作来理解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有疑问的地方做上记号。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914400" y="388620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一读课文，看看谁带来了春的消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 5"/>
          <p:cNvSpPr/>
          <p:nvPr/>
        </p:nvSpPr>
        <p:spPr>
          <a:xfrm>
            <a:off x="4191120" y="5257800"/>
            <a:ext cx="4647960" cy="13712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09880" y="5257800"/>
            <a:ext cx="5257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8"/>
          <p:cNvSpPr/>
          <p:nvPr/>
        </p:nvSpPr>
        <p:spPr>
          <a:xfrm>
            <a:off x="838080" y="304920"/>
            <a:ext cx="7619760" cy="3870360"/>
          </a:xfrm>
          <a:prstGeom prst="rect">
            <a:avLst/>
          </a:prstGeom>
          <a:solidFill>
            <a:schemeClr val="bg1">
              <a:alpha val="69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371600" y="457200"/>
            <a:ext cx="7086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漂白    盼望    牵引   爱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371600" y="1600200"/>
            <a:ext cx="7086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雏菊   欣喜   禁不住   绿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371600" y="2514600"/>
            <a:ext cx="7086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唤醒    奔跑    照耀   搔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371600" y="3565440"/>
            <a:ext cx="7009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雀跃    劳累    面颊     山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7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   ">
  <a:themeElements>
    <a:clrScheme name="2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 ">
  <a:themeElements>
    <a:clrScheme name="1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 ">
  <a:themeElements>
    <a:clrScheme name="1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    ">
  <a:themeElements>
    <a:clrScheme name="3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   ">
  <a:themeElements>
    <a:clrScheme name="2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>7C教育资源网www.7cxk.net</Manager>
  <TotalTime>1172</TotalTime>
  <Application>LibreOffice/7.4.7.2$Linux_X86_64 LibreOffice_project/40$Build-2</Application>
  <AppVersion>15.0000</AppVersion>
  <Words>1224</Words>
  <Paragraphs>212</Paragraphs>
  <Company>7C教育资源网www.7cxk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1601-01-01T00:00:00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cp:lastPrinted>1601-01-01T00:00:00Z</cp:lastPrinted>
  <dcterms:modified xsi:type="dcterms:W3CDTF">2021-07-29T12:23:36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35</vt:r8>
  </property>
  <property fmtid="{D5CDD505-2E9C-101B-9397-08002B2CF9AE}" pid="5" name="Version">
    <vt:r8>1</vt:r8>
  </property>
</Properties>
</file>