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DC1-C3A9-4D6F-B05C-98EB7FD0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0BA-90F7-482A-B865-EA235ACD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124-49C9-4A74-947A-1C4FF0C4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2E3-7B6F-4C63-9184-3E817430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9C4-67B0-4462-9CBC-80254658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5B1-C1A6-4D92-A660-2A30B0CE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63E-45CA-4DB0-B2F4-DB40C187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FB6-6990-403B-921A-AFB71579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9DC-2E64-4A86-82F9-7294CC1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382-343C-43B5-AB1D-A67C5384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3F9-B9EB-404F-8140-C4B98D4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D57-A5EB-442F-B1FF-184AAF8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546CA598-140E-467E-9369-49476295A6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402120" y="2381400"/>
            <a:ext cx="8339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曹刿论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56944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"/>
          <p:cNvSpPr/>
          <p:nvPr/>
        </p:nvSpPr>
        <p:spPr>
          <a:xfrm>
            <a:off x="243360" y="466560"/>
            <a:ext cx="7079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整体感知】——写作特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416520" y="1065600"/>
            <a:ext cx="836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详略得当，重点突出。本文主要写曹刿关于战争问题的论述，着眼于他的“远谋”。全文的详略安排即由此决定。凡是与表现主题无关的枝节就尽量省略。如第①段写曹刿觐见鲁庄公，觐见的细节一概省略了，一开始就问“何以战”；第②段战场的复杂情况及“未可”“可矣”的理由均略而不写，留待后面补叙，就更能突出“论战”的见解；第③段只用“公问其故”就代替了鲁庄公的一系列问话。但文章对战前战后反映曹刿战略见解的谈话，则详加叙述，因为战前是分析有无克敌制胜的条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1"/>
          <p:cNvSpPr/>
          <p:nvPr/>
        </p:nvSpPr>
        <p:spPr>
          <a:xfrm>
            <a:off x="386640" y="1897560"/>
            <a:ext cx="8369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战后是总结以弱胜强的原因，这些都是围绕主题写的。全文自始至终突出了“论”字，表现了曹刿的“远谋”，详略得当，重点突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1"/>
          <p:cNvSpPr/>
          <p:nvPr/>
        </p:nvSpPr>
        <p:spPr>
          <a:xfrm>
            <a:off x="387360" y="714960"/>
            <a:ext cx="836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对比映衬，形象鲜明。本文运用对比映衬法，通过人物对话和动作，描写了两个对比鲜明的人物形象——曹刿与鲁庄公。在战前准备阶段，鲁庄公“将战”而不知“何以战”，曹刿调查研究之后得出结论：“小大之狱”“必以情”，“忠之属也。可以一战”。在作战过程中，鲁庄公盲目地“将鼓之”和“将驰之”，而曹刿则两次拒之说“未可”，到时机成熟时才说“可矣”。在战后总结阶段，鲁庄公不知为何取胜而“问其故”，曹刿一一分析回答。这样，既写出了鲁庄公这个“肉食者”政治见识的鄙陋和军事上的鲁莽草率；也反衬出曹刿的深谋远虑、从容镇定，有政治远见，有高超的军事才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1"/>
          <p:cNvSpPr/>
          <p:nvPr/>
        </p:nvSpPr>
        <p:spPr>
          <a:xfrm>
            <a:off x="415800" y="738000"/>
            <a:ext cx="8369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61240" indent="-56124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是怎样刻画曹刿这一人物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"/>
          <p:cNvSpPr/>
          <p:nvPr/>
        </p:nvSpPr>
        <p:spPr>
          <a:xfrm>
            <a:off x="243360" y="218520"/>
            <a:ext cx="7079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解疑释难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387360" y="1321560"/>
            <a:ext cx="83689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曹刿具有卓越的军事智谋和指挥才能，能在瞬息万变的战场上沉着、冷静、果断地号令军队。作者对他的赞扬含蓄于精心的描写之中。文中多记叙曹刿简短、果敢的言行：“请见”“问战”“请从”、于战斗中两置可否……这一系列活动表现出一名出身下层而深谋远虑的谋士的精明干练。此外，作者巧妙地运用了比照映衬的手法。如，以曹刿与“乡人”的对比突出曹刿抗敌御侮的责任感和护卫宗国的政治热忱。从曹刿与鲁庄公的对比中，以鲁庄公的驽钝、浮躁反衬曹刿的机敏、持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"/>
          <p:cNvSpPr/>
          <p:nvPr/>
        </p:nvSpPr>
        <p:spPr>
          <a:xfrm>
            <a:off x="417240" y="977400"/>
            <a:ext cx="8367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53680" indent="-55368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怎样评价鲁庄公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387360" y="1775520"/>
            <a:ext cx="836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鲁庄公是个平庸的国君，但不是一个昏君。他把战争的希望寄托在施行“小惠”和祈求神灵的保佑上，反映了他政治见识的鄙陋；他急切求战，暴露了他军事上的轻率。但在曹刿的启发下终有所悟，在作战中听从曹刿的正确指挥，战后又询问曹刿取胜原因，表现了他礼贤下士、知人善用、虚怀若谷的品质，说明他跟一般的昏君还是有区别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"/>
          <p:cNvSpPr/>
          <p:nvPr/>
        </p:nvSpPr>
        <p:spPr>
          <a:xfrm>
            <a:off x="417240" y="615240"/>
            <a:ext cx="8367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53680" indent="-55368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文着重表现了曹刿的“远谋”，结合全文说说他的“远谋”表现在哪些方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387360" y="1727280"/>
            <a:ext cx="836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首先，曹刿具有卓越的军事远见，他充分认识到取信于民才是战争取胜的重要保证，因而非常重视战前的政治准备。其次，他指挥作战谋虑周密，能运用正确的战略战术。他深知军队士气在战争中的作用（“夫战，勇气也”），因而善于选择有利的时机发动反攻（“齐人三鼓”“彼竭我盈”），最终战胜齐军。又注重调查实际情况，知己知彼，“下视其辙，登轼而望之”，“视其辙乱，望其旗靡”后，才下令追击，终获全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1"/>
          <p:cNvSpPr/>
          <p:nvPr/>
        </p:nvSpPr>
        <p:spPr>
          <a:xfrm>
            <a:off x="415800" y="1814760"/>
            <a:ext cx="844704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解释下面加点的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齐师伐我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又何间焉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肉食者鄙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何以战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弗敢专也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小惠未遍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民弗从也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牺牲玉帛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: 折角 1"/>
          <p:cNvSpPr/>
          <p:nvPr/>
        </p:nvSpPr>
        <p:spPr>
          <a:xfrm>
            <a:off x="2468880" y="322200"/>
            <a:ext cx="4205880" cy="795240"/>
          </a:xfrm>
          <a:prstGeom prst="ellipse">
            <a:avLst/>
          </a:prstGeom>
          <a:solidFill>
            <a:srgbClr val="ef65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达标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3218760" y="2306880"/>
            <a:ext cx="11984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军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2"/>
          <p:cNvSpPr/>
          <p:nvPr/>
        </p:nvSpPr>
        <p:spPr>
          <a:xfrm>
            <a:off x="243720" y="1199520"/>
            <a:ext cx="4739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基础过关】——重点词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3218760" y="2818800"/>
            <a:ext cx="11484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参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3218760" y="3339000"/>
            <a:ext cx="4207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浅陋。这里指目光短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3218760" y="3842280"/>
            <a:ext cx="1752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凭，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3219480" y="4343400"/>
            <a:ext cx="1751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独自享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3218760" y="4878000"/>
            <a:ext cx="21585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遍及，普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3218760" y="5374080"/>
            <a:ext cx="21585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服从，听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3219480" y="5889600"/>
            <a:ext cx="4207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指祭祀用的纯色全体牲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"/>
          <p:cNvSpPr/>
          <p:nvPr/>
        </p:nvSpPr>
        <p:spPr>
          <a:xfrm>
            <a:off x="348480" y="597600"/>
            <a:ext cx="844704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弗敢加也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必以信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小信未孚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神弗福也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小大之狱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虽不能察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必以情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忠之属也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战则请从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公将鼓之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齐师败绩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3202920" y="567000"/>
            <a:ext cx="1977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虚夸，夸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3202920" y="1071360"/>
            <a:ext cx="1977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实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3202920" y="1595880"/>
            <a:ext cx="1977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使信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3202920" y="2109960"/>
            <a:ext cx="1977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赐福，保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3202920" y="2619360"/>
            <a:ext cx="1977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指诉讼事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3202920" y="3125520"/>
            <a:ext cx="1977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即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3202920" y="3653280"/>
            <a:ext cx="42465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诚，诚实。这里指诚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3202920" y="4135680"/>
            <a:ext cx="1977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3202920" y="4688280"/>
            <a:ext cx="1977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跟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3202920" y="5172120"/>
            <a:ext cx="3024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起补足音节作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3202920" y="5705640"/>
            <a:ext cx="1977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"/>
          <p:cNvSpPr/>
          <p:nvPr/>
        </p:nvSpPr>
        <p:spPr>
          <a:xfrm>
            <a:off x="348480" y="862920"/>
            <a:ext cx="844704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公将驰之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登轼而望之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遂逐齐师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既克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一鼓作气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再而衰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彼竭我盈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难测也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望其旗靡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3341880" y="827280"/>
            <a:ext cx="18018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驱车追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"/>
          <p:cNvSpPr/>
          <p:nvPr/>
        </p:nvSpPr>
        <p:spPr>
          <a:xfrm>
            <a:off x="3341880" y="1364040"/>
            <a:ext cx="40464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古代车子前边的横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3341880" y="1867680"/>
            <a:ext cx="2283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于是，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"/>
          <p:cNvSpPr/>
          <p:nvPr/>
        </p:nvSpPr>
        <p:spPr>
          <a:xfrm>
            <a:off x="3341880" y="2383200"/>
            <a:ext cx="15433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已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9"/>
          <p:cNvSpPr/>
          <p:nvPr/>
        </p:nvSpPr>
        <p:spPr>
          <a:xfrm>
            <a:off x="3341880" y="2883600"/>
            <a:ext cx="15433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鼓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"/>
          <p:cNvSpPr/>
          <p:nvPr/>
        </p:nvSpPr>
        <p:spPr>
          <a:xfrm>
            <a:off x="3341880" y="3399840"/>
            <a:ext cx="15433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二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1"/>
          <p:cNvSpPr/>
          <p:nvPr/>
        </p:nvSpPr>
        <p:spPr>
          <a:xfrm>
            <a:off x="3341880" y="3917160"/>
            <a:ext cx="4540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充满。这里指士气正旺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2"/>
          <p:cNvSpPr/>
          <p:nvPr/>
        </p:nvSpPr>
        <p:spPr>
          <a:xfrm>
            <a:off x="3341880" y="4438800"/>
            <a:ext cx="2283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推测，估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"/>
          <p:cNvSpPr/>
          <p:nvPr/>
        </p:nvSpPr>
        <p:spPr>
          <a:xfrm>
            <a:off x="3341880" y="4932720"/>
            <a:ext cx="11984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倒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"/>
          <p:cNvSpPr/>
          <p:nvPr/>
        </p:nvSpPr>
        <p:spPr>
          <a:xfrm>
            <a:off x="386640" y="896040"/>
            <a:ext cx="8370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81760" indent="-58176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列加点词语意义和用法相同的一项是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9840" indent="-56196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何以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必以分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9840" indent="-56196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公将鼓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公将驰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9840" indent="-56196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战于长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钟于我何加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9840" indent="-56196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登轼而望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舍鱼而取熊掌者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7661160" y="896040"/>
            <a:ext cx="6073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5"/>
          <p:cNvSpPr/>
          <p:nvPr/>
        </p:nvSpPr>
        <p:spPr>
          <a:xfrm>
            <a:off x="298440" y="3962880"/>
            <a:ext cx="8546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33200" indent="-13320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解析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介词，凭、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动词，把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助词，起补足音节作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代词，代指齐军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介词，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介词，对于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连词，表承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: 折角 1"/>
          <p:cNvSpPr/>
          <p:nvPr/>
        </p:nvSpPr>
        <p:spPr>
          <a:xfrm>
            <a:off x="2468880" y="564480"/>
            <a:ext cx="4205880" cy="795240"/>
          </a:xfrm>
          <a:prstGeom prst="ellipse">
            <a:avLst/>
          </a:prstGeom>
          <a:solidFill>
            <a:srgbClr val="ef65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习导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表格 1"/>
          <p:cNvGraphicFramePr/>
          <p:nvPr/>
        </p:nvGraphicFramePr>
        <p:xfrm>
          <a:off x="100800" y="1865520"/>
          <a:ext cx="8943120" cy="3281040"/>
        </p:xfrm>
        <a:graphic>
          <a:graphicData uri="http://schemas.openxmlformats.org/drawingml/2006/table">
            <a:tbl>
              <a:tblPr/>
              <a:tblGrid>
                <a:gridCol w="958680"/>
                <a:gridCol w="7984440"/>
              </a:tblGrid>
              <a:tr h="3281040">
                <a:tc>
                  <a:txBody>
                    <a:bodyPr lIns="14400" rIns="1440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学习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0" bIns="0" anchor="ctr">
                      <a:noAutofit/>
                    </a:bodyPr>
                    <a:p>
                      <a:pPr marL="95400" indent="-64080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了解有关《左传》的文学常识，掌握文中重点实词、虚词的含义及用法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64080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学习本文以“论战”为中心组织材料、详略得当的特点，分析曹刿和鲁庄公的人物形象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64080">
                        <a:lnSpc>
                          <a:spcPct val="12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　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了解曹刿的战略、战术思想，学习他勇于担当、忠君爱国的精神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"/>
          <p:cNvSpPr/>
          <p:nvPr/>
        </p:nvSpPr>
        <p:spPr>
          <a:xfrm>
            <a:off x="415800" y="892080"/>
            <a:ext cx="8370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25200" indent="-9252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列加点词语古今意义相同的一项是（      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0" indent="-9252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大之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0" indent="-9252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战则请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0" indent="-9252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肉食者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0" indent="-9252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再而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7463880" y="892080"/>
            <a:ext cx="6073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5"/>
          <p:cNvSpPr/>
          <p:nvPr/>
        </p:nvSpPr>
        <p:spPr>
          <a:xfrm>
            <a:off x="415800" y="3691800"/>
            <a:ext cx="85467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33200" indent="-13320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解析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古义：指诉讼事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今义：监狱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古今义相同，都是“作战，打仗”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古义：浅陋，这里指目光短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今义：轻视，看不起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古义：第二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今义：又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"/>
          <p:cNvSpPr/>
          <p:nvPr/>
        </p:nvSpPr>
        <p:spPr>
          <a:xfrm>
            <a:off x="415800" y="831960"/>
            <a:ext cx="85467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25200" indent="-9252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列各句中没有词类活用现象的一项是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0" indent="-9252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神弗福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0" indent="-9252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公将鼓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0" indent="-9252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视其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0" indent="-9252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虽不能察，必以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7668720" y="807840"/>
            <a:ext cx="6073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"/>
          <p:cNvSpPr/>
          <p:nvPr/>
        </p:nvSpPr>
        <p:spPr>
          <a:xfrm>
            <a:off x="415800" y="3631680"/>
            <a:ext cx="8546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33200" indent="-13320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解析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福：名词作动词，赐福，保佑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鼓：名词作动词，击鼓进军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下：方位名词做状语，向下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虽不能察，必以情：即使不能一一明察，但我一定根据实情（合理裁决）。虽：即使，古今异义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1"/>
          <p:cNvSpPr/>
          <p:nvPr/>
        </p:nvSpPr>
        <p:spPr>
          <a:xfrm>
            <a:off x="415800" y="1513080"/>
            <a:ext cx="84470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肉食者鄙，未能远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牺牲玉帛，弗敢加也，必以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"/>
          <p:cNvSpPr/>
          <p:nvPr/>
        </p:nvSpPr>
        <p:spPr>
          <a:xfrm>
            <a:off x="415800" y="2061360"/>
            <a:ext cx="8447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当权者目光短浅，不能深谋远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2"/>
          <p:cNvSpPr/>
          <p:nvPr/>
        </p:nvSpPr>
        <p:spPr>
          <a:xfrm>
            <a:off x="268560" y="649440"/>
            <a:ext cx="7012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基础过关】——句子翻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348480" y="4113000"/>
            <a:ext cx="8447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祭祀用的牛、羊、猪、玉和丝织品之类，（我）从来不敢虚报数目，一定按照实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"/>
          <p:cNvSpPr/>
          <p:nvPr/>
        </p:nvSpPr>
        <p:spPr>
          <a:xfrm>
            <a:off x="415800" y="921960"/>
            <a:ext cx="84470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信未孚，神弗福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忠之属也。可以一战。战则请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415800" y="1558440"/>
            <a:ext cx="8447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这只是）小信用，未能让神灵信服，神是不会保佑您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"/>
          <p:cNvSpPr/>
          <p:nvPr/>
        </p:nvSpPr>
        <p:spPr>
          <a:xfrm>
            <a:off x="348480" y="4052520"/>
            <a:ext cx="8447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这）是尽职分之类的事情。可凭借（这个条件）打一仗。（如果）作战，就请（允许）我跟随您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1"/>
          <p:cNvSpPr/>
          <p:nvPr/>
        </p:nvSpPr>
        <p:spPr>
          <a:xfrm>
            <a:off x="415800" y="921960"/>
            <a:ext cx="8447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视其辙，登轼而望之，曰：“可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鼓作气，再而衰，三而竭。彼竭我盈，故克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415800" y="1445760"/>
            <a:ext cx="8447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向下察看（齐军的）车轮碾出的痕迹，（又）登上车前的横木眺望齐国军队，（这才）说：“可以（追击）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348480" y="3597120"/>
            <a:ext cx="8447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一次击鼓能够鼓起士气，第二次击鼓士气减弱，到第三次击鼓士气已经穷尽了。敌方的士气已经穷尽而我方士气正旺盛，所以打败了他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"/>
          <p:cNvSpPr/>
          <p:nvPr/>
        </p:nvSpPr>
        <p:spPr>
          <a:xfrm>
            <a:off x="194400" y="777240"/>
            <a:ext cx="87170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43600" indent="-543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理解型默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0680" indent="-112068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曹刿冲破阻挠，坚持觐见鲁庄公的原因是：          ，          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0680" indent="-112068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曹刿认为“忠之属也。可以一战”的理由是：          ，          ，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0680" indent="-112068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曹刿阐述勇气在战争中的作用的语句是：       ，         。           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0680" indent="-112068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0680" indent="-112068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曹刿认为，交战过程中利于反攻的时机是“       ”之时，利于追击的时机是“           ，          ”之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2"/>
          <p:cNvSpPr/>
          <p:nvPr/>
        </p:nvSpPr>
        <p:spPr>
          <a:xfrm>
            <a:off x="280080" y="222120"/>
            <a:ext cx="7012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能力提升】——文意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2221920" y="1776240"/>
            <a:ext cx="3960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肉食者鄙    未能远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"/>
          <p:cNvSpPr/>
          <p:nvPr/>
        </p:nvSpPr>
        <p:spPr>
          <a:xfrm>
            <a:off x="2184480" y="2799000"/>
            <a:ext cx="5859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大之狱    虽不能察    必以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7"/>
          <p:cNvSpPr/>
          <p:nvPr/>
        </p:nvSpPr>
        <p:spPr>
          <a:xfrm>
            <a:off x="1673280" y="3822120"/>
            <a:ext cx="6444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夫战     勇气也     一鼓作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再而衰        三而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9"/>
          <p:cNvSpPr/>
          <p:nvPr/>
        </p:nvSpPr>
        <p:spPr>
          <a:xfrm>
            <a:off x="1947600" y="5371560"/>
            <a:ext cx="17395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彼竭我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0"/>
          <p:cNvSpPr/>
          <p:nvPr/>
        </p:nvSpPr>
        <p:spPr>
          <a:xfrm>
            <a:off x="1947600" y="5882760"/>
            <a:ext cx="4047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视其辙乱    望其旗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"/>
          <p:cNvSpPr/>
          <p:nvPr/>
        </p:nvSpPr>
        <p:spPr>
          <a:xfrm>
            <a:off x="416520" y="448920"/>
            <a:ext cx="83682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97440" indent="-129744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列对文章内容的理解有误的一项是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9440" indent="-919440" algn="just"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文语言简练生动。“公将战”“公将鼓”“公将驰”中的“将”字传神地刻画了鲁庄公急躁冒进、驽钝鄙陋的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9440" indent="-919440" algn="just"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文记录了曹刿对战争的论述。他强调政治上取信于民，军事上把握战机详察敌情，是以弱胜强的关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9440" indent="-919440" algn="just"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文剪裁详略得当。文章详尽地叙述了交战双方的对峙与交锋，而对曹刿在战前、战中、战后的表现则写得比较简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9440" indent="-919440" algn="just"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善于用衬托手法刻画人物。如写“乡人”的劝阻，就衬托出曹刿抗敌御侮的责任感和爱国热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7272000" y="448920"/>
            <a:ext cx="4986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1"/>
          <p:cNvSpPr/>
          <p:nvPr/>
        </p:nvSpPr>
        <p:spPr>
          <a:xfrm>
            <a:off x="387360" y="2111400"/>
            <a:ext cx="83689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解析】交战双方的对峙与交锋写得比较简略，而对曹刿在战前、战中、战后的表现则写得较详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"/>
          <p:cNvSpPr/>
          <p:nvPr/>
        </p:nvSpPr>
        <p:spPr>
          <a:xfrm>
            <a:off x="387360" y="834480"/>
            <a:ext cx="8369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简答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0080" indent="-91008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本文选自《左传》，记叙的是长勺之战，在选作课文时编者却将标题定为《曹刿论战》，请简要谈谈你对此的理解。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"/>
          <p:cNvSpPr/>
          <p:nvPr/>
        </p:nvSpPr>
        <p:spPr>
          <a:xfrm>
            <a:off x="386640" y="3172320"/>
            <a:ext cx="8369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文略写战争过程，重点突出了曹刿关于战争的论述，标题切中要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"/>
          <p:cNvSpPr/>
          <p:nvPr/>
        </p:nvSpPr>
        <p:spPr>
          <a:xfrm>
            <a:off x="203760" y="1326600"/>
            <a:ext cx="86914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05040" indent="-90504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“肉食者鄙，未能远谋”一句在文中有什么作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310680" y="2266200"/>
            <a:ext cx="8478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交代了曹刿请见的原因；②为下文写鲁庄公的目光短浅作铺垫；③衬托曹刿的远见卓识（显示了曹刿的自信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1"/>
          <p:cNvSpPr/>
          <p:nvPr/>
        </p:nvSpPr>
        <p:spPr>
          <a:xfrm>
            <a:off x="387360" y="1574640"/>
            <a:ext cx="83689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辨析一词多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同一个词，在这个句子中是一个义项，在另一个句子里是另一个义项，即一词多义。一般说来，一词多义的各个义项之间均有一定的联系。在文言文中，一词多义的现象是普遍存在的。“辨析一词多义”，不仅是阅读文言文的必要前提，也是中考的常考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18160" y="515520"/>
            <a:ext cx="7079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高频考点】——考点透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1"/>
          <p:cNvSpPr/>
          <p:nvPr/>
        </p:nvSpPr>
        <p:spPr>
          <a:xfrm>
            <a:off x="203760" y="1254240"/>
            <a:ext cx="86914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05040" indent="-90504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19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湖南衡阳）长勺之战最终鲁国大胜，请结合本文简要分析鲁国取胜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310680" y="2760840"/>
            <a:ext cx="8478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鲁国取胜的原因有：①鲁国进行的是反侵略的正义战；②鲁庄公能取信于民，得到人民的支持；③有曹刿战场上审时度势的正确指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"/>
          <p:cNvSpPr/>
          <p:nvPr/>
        </p:nvSpPr>
        <p:spPr>
          <a:xfrm>
            <a:off x="243720" y="460440"/>
            <a:ext cx="7012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能力提升】——类文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417240" y="1190520"/>
            <a:ext cx="8368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蹇叔哭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杞子自郑使告于秦曰：“郑人使我掌其北门之管①，若潜师以来，国可得也。”穆公访诸蹇叔。蹇叔曰：“劳师以袭远，非所闻也。师劳力竭，远主备之，无乃不可乎！师之所为，郑必知之。勤而无所，必有悖心。且行千里，其谁不知！”公辞焉。召孟明、西乞、白乙，使出师于东门之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蹇叔哭之曰：“孟子②！吾见师之出而不见其入也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1"/>
          <p:cNvSpPr/>
          <p:nvPr/>
        </p:nvSpPr>
        <p:spPr>
          <a:xfrm>
            <a:off x="657720" y="1176480"/>
            <a:ext cx="80337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公使谓之曰：“尔何知！中寿，尔墓之木拱矣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蹇叔之子与师，哭而送之，曰：“晋人御师必于肴。肴有二陵焉：其南陵，夏后皋之墓也；其北陵文王之所辟风雨也必死是间余收尔骨焉！”秦师遂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注释】①管：钥匙。②孟子：对孟明的敬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"/>
          <p:cNvSpPr/>
          <p:nvPr/>
        </p:nvSpPr>
        <p:spPr>
          <a:xfrm>
            <a:off x="273600" y="916200"/>
            <a:ext cx="86184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44600" indent="-444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列各组句子中，加点的词语意思相同的一项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r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若潜师以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必若余之手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劳师以袭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无案牍之劳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公使谓之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之谓大丈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晋人御师必于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虽乘奔御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"/>
          <p:cNvSpPr/>
          <p:nvPr/>
        </p:nvSpPr>
        <p:spPr>
          <a:xfrm>
            <a:off x="7818120" y="1400040"/>
            <a:ext cx="6519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5"/>
          <p:cNvSpPr/>
          <p:nvPr/>
        </p:nvSpPr>
        <p:spPr>
          <a:xfrm>
            <a:off x="415800" y="4425480"/>
            <a:ext cx="8370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解析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如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像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使……劳累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对……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是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项，抵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驾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"/>
          <p:cNvSpPr/>
          <p:nvPr/>
        </p:nvSpPr>
        <p:spPr>
          <a:xfrm>
            <a:off x="267840" y="1729080"/>
            <a:ext cx="8607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05040" indent="-90504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用三条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给文中画线的句子断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2360" indent="-34236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其 北 陵 文 王 之 所 辟 风 雨 也 必 死 是 间 余 收 尔 骨 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94120" y="2763000"/>
            <a:ext cx="567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5"/>
          <p:cNvSpPr/>
          <p:nvPr/>
        </p:nvSpPr>
        <p:spPr>
          <a:xfrm>
            <a:off x="8660880" y="2763000"/>
            <a:ext cx="567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5923800" y="2763000"/>
            <a:ext cx="567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"/>
          <p:cNvSpPr/>
          <p:nvPr/>
        </p:nvSpPr>
        <p:spPr>
          <a:xfrm>
            <a:off x="270360" y="1217160"/>
            <a:ext cx="8600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83400" indent="-383400"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秦师和蹇叔儿子最终的命运如何？蹇叔为什么这样判断？请结合文章内容分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270000" y="2473200"/>
            <a:ext cx="86007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秦师和蹇叔儿子的命运：秦师在崤山遭到晋国军队伏击，大败；蹇叔的儿子被俘。蹇叔的理由是：偷袭远方的国家，让军队精疲力竭，远方国家的君主又有防备，军队的一举一动，郑国必定会知道。而且晋国一定会在崤山这个地方伏击秦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1"/>
          <p:cNvSpPr/>
          <p:nvPr/>
        </p:nvSpPr>
        <p:spPr>
          <a:xfrm>
            <a:off x="243720" y="821160"/>
            <a:ext cx="86554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33200" indent="-133200"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参考译文】秦国大夫杞子从郑国派人向秦国报告说：“郑国人让我掌管他们国都北门的钥匙，如果悄悄派兵前来，就可以占领他们的国都。”秦穆公向秦国老臣蹇叔征求意见。蹇叔说：“让军队辛勤劳苦地偷袭远方的国家，我从没听说有过。军队辛劳精疲力竭，远方国家的君主又有防备，这样做恐怕不行吧？军队的一举一动，郑国必定会知道。军队辛勤劳苦而一无所得，一定会产生叛逆念头。再说行军千里，有谁不知道呢？”秦穆公没有听从蹇叔的意见。他召见了孟明、西乞和白乙三位将领，让他们从东门外面出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"/>
          <p:cNvSpPr/>
          <p:nvPr/>
        </p:nvSpPr>
        <p:spPr>
          <a:xfrm>
            <a:off x="243720" y="760680"/>
            <a:ext cx="865548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蹇叔哭着对他们说：“孟明啊，我看着大军出发，却看不见他们回来了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秦穆公派人对蹇叔说：“你知道什么？你的年寿满了，（等到军队回来），你坟上种的树该长到两手合抱粗了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蹇叔的儿子也参加了出征的队伍，（他）哭着送儿子说：“晋国人必定在崤山抗击我军。崤有两座山头：南面的山头是夏王皋的坟墓，北面的山头是周文王避过风雨的地方。你们一定会战死在这两座山之间，我到那里收拾你的尸骨吧！”秦国军队于是接着向东进发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"/>
          <p:cNvSpPr/>
          <p:nvPr/>
        </p:nvSpPr>
        <p:spPr>
          <a:xfrm>
            <a:off x="1893960" y="1848960"/>
            <a:ext cx="6056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谢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New picture"/>
          <p:cNvSpPr/>
          <p:nvPr/>
        </p:nvSpPr>
        <p:spPr>
          <a:xfrm>
            <a:off x="11150640" y="12039480"/>
            <a:ext cx="342720" cy="2538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387360" y="1440720"/>
            <a:ext cx="8368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常见的考查题型主要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解释下列加点词语在句子中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下列各组句子中，加点词语意思相同（或不同）的一项是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417240" y="1276200"/>
            <a:ext cx="8368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词多义主要是由引申、比喻、假借等产生的，因而一个词语的多种含义主要包括词的本义、引申义、比喻义和假借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辨析一词多义时可运用以下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字音辨析法。读音不同，意思不同。例如，《桃花源记》中，“便舍船”的“舍”读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hě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意为“舍弃，离开”，“屋舍俨然”的“舍”读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hè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意为“房屋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243000" y="525240"/>
            <a:ext cx="7079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高频考点】——答题秘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387360" y="799560"/>
            <a:ext cx="8368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字形推断法。汉字属于表意体系，大部分字可根据字形来推断词义。例如，“下车引之”（《陈太丘与友期行》）中，“引”与“弓”有关，“丨”表示箭，可以推断“引”是“拉”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语境分析法。一个词可能有多种解释，但是在具体语境中含义是固定的，我们可以通过语境来判断词语的意思。例如，本文中“必以信”和“小信未孚”，从上下文语境可知，第一个“信”承接“弗敢加也”，是“实情”的意思，第二个“信”下接“未孚”，是“信用”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1"/>
          <p:cNvSpPr/>
          <p:nvPr/>
        </p:nvSpPr>
        <p:spPr>
          <a:xfrm>
            <a:off x="387360" y="978480"/>
            <a:ext cx="83689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联想推断法。根据句子的结构，回忆学过的类似的句子，再结合语境，举一反三，得出答案。例如，“何陋之有”（《陋室铭》）中，“之”是宾语前置的标志，“其此之谓乎”（《虽有嘉肴》）与“何陋之有”句式相同，我们就可以推断出“之”的用法应该也相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代入检验法。对于选择类的词语解释题，最简单的莫过于将所给义项代入各自的语境中检验，代入后句意准确而无滞碍者即正确义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: 折角 1"/>
          <p:cNvSpPr/>
          <p:nvPr/>
        </p:nvSpPr>
        <p:spPr>
          <a:xfrm>
            <a:off x="2468880" y="447840"/>
            <a:ext cx="4205880" cy="795240"/>
          </a:xfrm>
          <a:prstGeom prst="ellipse">
            <a:avLst/>
          </a:prstGeom>
          <a:solidFill>
            <a:srgbClr val="ef65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梳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243720" y="1480320"/>
            <a:ext cx="7012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整体感知】——结构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2" descr="GQ(5(MF927[YYB5R2]4CNX7"/>
          <p:cNvPicPr/>
          <p:nvPr/>
        </p:nvPicPr>
        <p:blipFill>
          <a:blip r:embed="rId1"/>
          <a:stretch/>
        </p:blipFill>
        <p:spPr>
          <a:xfrm>
            <a:off x="195480" y="2534760"/>
            <a:ext cx="8752320" cy="25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417240" y="2193120"/>
            <a:ext cx="83689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文通过记叙长勺之战的经过和曹刿对战争的议论，表现了曹刿忠君爱国的精神和卓越的军事才能。同时，说明了只有取信于民并运用正确的战略战术，才能取得战争胜利的道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243000" y="995760"/>
            <a:ext cx="7079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整体感知】——文章主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7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3863</Words>
  <Paragraphs>208</Paragraphs>
  <Company>学科网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0T22:12:52Z</dcterms:created>
  <dc:creator>第一PPT模板网-WWW.1PPT.COM</dc:creator>
  <dc:description/>
  <dc:language>en-US</dc:language>
  <cp:lastModifiedBy>123</cp:lastModifiedBy>
  <cp:lastPrinted>2021-02-10T22:12:52Z</cp:lastPrinted>
  <dcterms:modified xsi:type="dcterms:W3CDTF">2021-04-22T03:12:26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39</vt:r8>
  </property>
  <property fmtid="{D5CDD505-2E9C-101B-9397-08002B2CF9AE}" pid="5" name="album">
    <vt:lpwstr>rbm.xkw.com</vt:lpwstr>
  </property>
  <property fmtid="{D5CDD505-2E9C-101B-9397-08002B2CF9AE}" pid="6" name="author">
    <vt:lpwstr>rbm.xkw.com</vt:lpwstr>
  </property>
  <property fmtid="{D5CDD505-2E9C-101B-9397-08002B2CF9AE}" pid="7" name="company">
    <vt:lpwstr>学科网</vt:lpwstr>
  </property>
  <property fmtid="{D5CDD505-2E9C-101B-9397-08002B2CF9AE}" pid="8" name="copyright">
    <vt:lpwstr>学科网版权所有</vt:lpwstr>
  </property>
</Properties>
</file>