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5236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EE67C-01E8-4051-B63C-64FB211EE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76000" y="367272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481F-F776-4C03-9EB1-D00F28C56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89032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217D-9CDB-4798-B8CA-9C1C12058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824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888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760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824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75888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7BB8-1C86-49B0-B1C4-DA2CC7AFB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76000" y="272880"/>
            <a:ext cx="1037088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71D8-0374-4E5F-86C1-8D2875ECC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9032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76000" y="367272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89032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0824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588800" y="160056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760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0824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7588800" y="3672720"/>
            <a:ext cx="3339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0827-4C60-49A8-88D8-4BB3EEBDB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EE00-0B29-4739-9A83-FB8FD89C2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D2CB-D53D-422C-8AE7-B9936CC58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76000" y="272880"/>
            <a:ext cx="1037088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1A4C-54D1-465C-A679-74E5CFEF5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CFAA-4FE8-40CB-A592-8BCAED53A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90320" y="367272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3D79-51AA-4F6C-8DE1-0EAC642B6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6000" y="272880"/>
            <a:ext cx="10370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600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90320" y="1600560"/>
            <a:ext cx="506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76000" y="3672720"/>
            <a:ext cx="10370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2458-B7C2-47C0-8429-C0904295F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522160" cy="192888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-640800" y="-5952960"/>
            <a:ext cx="15095880" cy="13034520"/>
            <a:chOff x="-640800" y="-5952960"/>
            <a:chExt cx="15095880" cy="13034520"/>
          </a:xfrm>
        </p:grpSpPr>
        <p:sp>
          <p:nvSpPr>
            <p:cNvPr id="2" name=""/>
            <p:cNvSpPr/>
            <p:nvPr/>
          </p:nvSpPr>
          <p:spPr>
            <a:xfrm rot="19782000">
              <a:off x="350280" y="-1629720"/>
              <a:ext cx="10010160" cy="6639480"/>
            </a:xfrm>
            <a:custGeom>
              <a:avLst/>
              <a:gdLst/>
              <a:ahLst/>
              <a:rect l="l" t="t" r="r" b="b"/>
              <a:pathLst>
                <a:path w="4772" h="3097">
                  <a:moveTo>
                    <a:pt x="4772" y="2929"/>
                  </a:moveTo>
                  <a:lnTo>
                    <a:pt x="4772" y="2929"/>
                  </a:lnTo>
                  <a:lnTo>
                    <a:pt x="4758" y="2937"/>
                  </a:lnTo>
                  <a:lnTo>
                    <a:pt x="4719" y="2956"/>
                  </a:lnTo>
                  <a:lnTo>
                    <a:pt x="4691" y="2971"/>
                  </a:lnTo>
                  <a:lnTo>
                    <a:pt x="4658" y="2985"/>
                  </a:lnTo>
                  <a:lnTo>
                    <a:pt x="4619" y="3001"/>
                  </a:lnTo>
                  <a:lnTo>
                    <a:pt x="4574" y="3017"/>
                  </a:lnTo>
                  <a:lnTo>
                    <a:pt x="4526" y="3034"/>
                  </a:lnTo>
                  <a:lnTo>
                    <a:pt x="4472" y="3048"/>
                  </a:lnTo>
                  <a:lnTo>
                    <a:pt x="4413" y="3063"/>
                  </a:lnTo>
                  <a:lnTo>
                    <a:pt x="4351" y="3076"/>
                  </a:lnTo>
                  <a:lnTo>
                    <a:pt x="4286" y="3085"/>
                  </a:lnTo>
                  <a:lnTo>
                    <a:pt x="4215" y="3093"/>
                  </a:lnTo>
                  <a:lnTo>
                    <a:pt x="4179" y="3095"/>
                  </a:lnTo>
                  <a:lnTo>
                    <a:pt x="4141" y="3097"/>
                  </a:lnTo>
                  <a:lnTo>
                    <a:pt x="4104" y="3097"/>
                  </a:lnTo>
                  <a:lnTo>
                    <a:pt x="4065" y="3097"/>
                  </a:lnTo>
                  <a:lnTo>
                    <a:pt x="4025" y="3095"/>
                  </a:lnTo>
                  <a:lnTo>
                    <a:pt x="3984" y="3092"/>
                  </a:lnTo>
                  <a:lnTo>
                    <a:pt x="3944" y="3087"/>
                  </a:lnTo>
                  <a:lnTo>
                    <a:pt x="3902" y="3082"/>
                  </a:lnTo>
                  <a:lnTo>
                    <a:pt x="3859" y="3076"/>
                  </a:lnTo>
                  <a:lnTo>
                    <a:pt x="3818" y="3066"/>
                  </a:lnTo>
                  <a:lnTo>
                    <a:pt x="3773" y="3056"/>
                  </a:lnTo>
                  <a:lnTo>
                    <a:pt x="3730" y="3045"/>
                  </a:lnTo>
                  <a:lnTo>
                    <a:pt x="3684" y="3032"/>
                  </a:lnTo>
                  <a:lnTo>
                    <a:pt x="3640" y="3016"/>
                  </a:lnTo>
                  <a:lnTo>
                    <a:pt x="3594" y="3000"/>
                  </a:lnTo>
                  <a:lnTo>
                    <a:pt x="3548" y="2980"/>
                  </a:lnTo>
                  <a:lnTo>
                    <a:pt x="3503" y="2959"/>
                  </a:lnTo>
                  <a:lnTo>
                    <a:pt x="3455" y="2937"/>
                  </a:lnTo>
                  <a:lnTo>
                    <a:pt x="3408" y="2912"/>
                  </a:lnTo>
                  <a:lnTo>
                    <a:pt x="3361" y="2885"/>
                  </a:lnTo>
                  <a:lnTo>
                    <a:pt x="3314" y="2856"/>
                  </a:lnTo>
                  <a:lnTo>
                    <a:pt x="3265" y="2824"/>
                  </a:lnTo>
                  <a:lnTo>
                    <a:pt x="3218" y="2790"/>
                  </a:lnTo>
                  <a:lnTo>
                    <a:pt x="3169" y="2754"/>
                  </a:lnTo>
                  <a:lnTo>
                    <a:pt x="3121" y="2715"/>
                  </a:lnTo>
                  <a:lnTo>
                    <a:pt x="3072" y="2673"/>
                  </a:lnTo>
                  <a:lnTo>
                    <a:pt x="3024" y="2630"/>
                  </a:lnTo>
                  <a:lnTo>
                    <a:pt x="2974" y="2583"/>
                  </a:lnTo>
                  <a:lnTo>
                    <a:pt x="2925" y="2533"/>
                  </a:lnTo>
                  <a:lnTo>
                    <a:pt x="2876" y="2481"/>
                  </a:lnTo>
                  <a:lnTo>
                    <a:pt x="2828" y="2425"/>
                  </a:lnTo>
                  <a:lnTo>
                    <a:pt x="2778" y="2367"/>
                  </a:lnTo>
                  <a:lnTo>
                    <a:pt x="2729" y="2305"/>
                  </a:lnTo>
                  <a:lnTo>
                    <a:pt x="2681" y="2241"/>
                  </a:lnTo>
                  <a:lnTo>
                    <a:pt x="2632" y="2173"/>
                  </a:lnTo>
                  <a:lnTo>
                    <a:pt x="2583" y="2102"/>
                  </a:lnTo>
                  <a:lnTo>
                    <a:pt x="2583" y="2102"/>
                  </a:lnTo>
                  <a:lnTo>
                    <a:pt x="2488" y="1960"/>
                  </a:lnTo>
                  <a:lnTo>
                    <a:pt x="2395" y="1824"/>
                  </a:lnTo>
                  <a:lnTo>
                    <a:pt x="2303" y="1695"/>
                  </a:lnTo>
                  <a:lnTo>
                    <a:pt x="2213" y="1572"/>
                  </a:lnTo>
                  <a:lnTo>
                    <a:pt x="2125" y="1456"/>
                  </a:lnTo>
                  <a:lnTo>
                    <a:pt x="2038" y="1345"/>
                  </a:lnTo>
                  <a:lnTo>
                    <a:pt x="1953" y="1240"/>
                  </a:lnTo>
                  <a:lnTo>
                    <a:pt x="1870" y="1140"/>
                  </a:lnTo>
                  <a:lnTo>
                    <a:pt x="1788" y="1046"/>
                  </a:lnTo>
                  <a:lnTo>
                    <a:pt x="1707" y="957"/>
                  </a:lnTo>
                  <a:lnTo>
                    <a:pt x="1628" y="873"/>
                  </a:lnTo>
                  <a:lnTo>
                    <a:pt x="1549" y="794"/>
                  </a:lnTo>
                  <a:lnTo>
                    <a:pt x="1471" y="720"/>
                  </a:lnTo>
                  <a:lnTo>
                    <a:pt x="1394" y="649"/>
                  </a:lnTo>
                  <a:lnTo>
                    <a:pt x="1317" y="584"/>
                  </a:lnTo>
                  <a:lnTo>
                    <a:pt x="1241" y="523"/>
                  </a:lnTo>
                  <a:lnTo>
                    <a:pt x="1166" y="466"/>
                  </a:lnTo>
                  <a:lnTo>
                    <a:pt x="1089" y="413"/>
                  </a:lnTo>
                  <a:lnTo>
                    <a:pt x="1014" y="365"/>
                  </a:lnTo>
                  <a:lnTo>
                    <a:pt x="940" y="319"/>
                  </a:lnTo>
                  <a:lnTo>
                    <a:pt x="865" y="277"/>
                  </a:lnTo>
                  <a:lnTo>
                    <a:pt x="790" y="239"/>
                  </a:lnTo>
                  <a:lnTo>
                    <a:pt x="713" y="203"/>
                  </a:lnTo>
                  <a:lnTo>
                    <a:pt x="637" y="171"/>
                  </a:lnTo>
                  <a:lnTo>
                    <a:pt x="560" y="140"/>
                  </a:lnTo>
                  <a:lnTo>
                    <a:pt x="484" y="114"/>
                  </a:lnTo>
                  <a:lnTo>
                    <a:pt x="405" y="90"/>
                  </a:lnTo>
                  <a:lnTo>
                    <a:pt x="327" y="67"/>
                  </a:lnTo>
                  <a:lnTo>
                    <a:pt x="247" y="48"/>
                  </a:lnTo>
                  <a:lnTo>
                    <a:pt x="166" y="30"/>
                  </a:lnTo>
                  <a:lnTo>
                    <a:pt x="84" y="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" name=""/>
            <p:cNvSpPr/>
            <p:nvPr/>
          </p:nvSpPr>
          <p:spPr>
            <a:xfrm rot="19782000">
              <a:off x="369360" y="-1574640"/>
              <a:ext cx="10098360" cy="6494760"/>
            </a:xfrm>
            <a:custGeom>
              <a:avLst/>
              <a:gdLst/>
              <a:ahLst/>
              <a:rect l="l" t="t" r="r" b="b"/>
              <a:pathLst>
                <a:path w="4814" h="3029">
                  <a:moveTo>
                    <a:pt x="4814" y="2845"/>
                  </a:moveTo>
                  <a:lnTo>
                    <a:pt x="4814" y="2845"/>
                  </a:lnTo>
                  <a:lnTo>
                    <a:pt x="4801" y="2853"/>
                  </a:lnTo>
                  <a:lnTo>
                    <a:pt x="4763" y="2874"/>
                  </a:lnTo>
                  <a:lnTo>
                    <a:pt x="4735" y="2888"/>
                  </a:lnTo>
                  <a:lnTo>
                    <a:pt x="4701" y="2904"/>
                  </a:lnTo>
                  <a:lnTo>
                    <a:pt x="4663" y="2921"/>
                  </a:lnTo>
                  <a:lnTo>
                    <a:pt x="4618" y="2938"/>
                  </a:lnTo>
                  <a:lnTo>
                    <a:pt x="4570" y="2954"/>
                  </a:lnTo>
                  <a:lnTo>
                    <a:pt x="4517" y="2972"/>
                  </a:lnTo>
                  <a:lnTo>
                    <a:pt x="4459" y="2987"/>
                  </a:lnTo>
                  <a:lnTo>
                    <a:pt x="4396" y="3001"/>
                  </a:lnTo>
                  <a:lnTo>
                    <a:pt x="4331" y="3013"/>
                  </a:lnTo>
                  <a:lnTo>
                    <a:pt x="4260" y="3021"/>
                  </a:lnTo>
                  <a:lnTo>
                    <a:pt x="4224" y="3024"/>
                  </a:lnTo>
                  <a:lnTo>
                    <a:pt x="4186" y="3027"/>
                  </a:lnTo>
                  <a:lnTo>
                    <a:pt x="4149" y="3027"/>
                  </a:lnTo>
                  <a:lnTo>
                    <a:pt x="4110" y="3029"/>
                  </a:lnTo>
                  <a:lnTo>
                    <a:pt x="4071" y="3027"/>
                  </a:lnTo>
                  <a:lnTo>
                    <a:pt x="4031" y="3025"/>
                  </a:lnTo>
                  <a:lnTo>
                    <a:pt x="3989" y="3021"/>
                  </a:lnTo>
                  <a:lnTo>
                    <a:pt x="3948" y="3016"/>
                  </a:lnTo>
                  <a:lnTo>
                    <a:pt x="3906" y="3011"/>
                  </a:lnTo>
                  <a:lnTo>
                    <a:pt x="3863" y="3003"/>
                  </a:lnTo>
                  <a:lnTo>
                    <a:pt x="3818" y="2993"/>
                  </a:lnTo>
                  <a:lnTo>
                    <a:pt x="3774" y="2983"/>
                  </a:lnTo>
                  <a:lnTo>
                    <a:pt x="3730" y="2971"/>
                  </a:lnTo>
                  <a:lnTo>
                    <a:pt x="3684" y="2956"/>
                  </a:lnTo>
                  <a:lnTo>
                    <a:pt x="3639" y="2940"/>
                  </a:lnTo>
                  <a:lnTo>
                    <a:pt x="3592" y="2922"/>
                  </a:lnTo>
                  <a:lnTo>
                    <a:pt x="3546" y="2903"/>
                  </a:lnTo>
                  <a:lnTo>
                    <a:pt x="3499" y="2880"/>
                  </a:lnTo>
                  <a:lnTo>
                    <a:pt x="3452" y="2856"/>
                  </a:lnTo>
                  <a:lnTo>
                    <a:pt x="3403" y="2830"/>
                  </a:lnTo>
                  <a:lnTo>
                    <a:pt x="3356" y="2801"/>
                  </a:lnTo>
                  <a:lnTo>
                    <a:pt x="3308" y="2770"/>
                  </a:lnTo>
                  <a:lnTo>
                    <a:pt x="3259" y="2738"/>
                  </a:lnTo>
                  <a:lnTo>
                    <a:pt x="3209" y="2703"/>
                  </a:lnTo>
                  <a:lnTo>
                    <a:pt x="3160" y="2664"/>
                  </a:lnTo>
                  <a:lnTo>
                    <a:pt x="3110" y="2623"/>
                  </a:lnTo>
                  <a:lnTo>
                    <a:pt x="3062" y="2580"/>
                  </a:lnTo>
                  <a:lnTo>
                    <a:pt x="3012" y="2535"/>
                  </a:lnTo>
                  <a:lnTo>
                    <a:pt x="2962" y="2485"/>
                  </a:lnTo>
                  <a:lnTo>
                    <a:pt x="2913" y="2433"/>
                  </a:lnTo>
                  <a:lnTo>
                    <a:pt x="2863" y="2378"/>
                  </a:lnTo>
                  <a:lnTo>
                    <a:pt x="2813" y="2321"/>
                  </a:lnTo>
                  <a:lnTo>
                    <a:pt x="2763" y="2260"/>
                  </a:lnTo>
                  <a:lnTo>
                    <a:pt x="2713" y="2197"/>
                  </a:lnTo>
                  <a:lnTo>
                    <a:pt x="2663" y="2129"/>
                  </a:lnTo>
                  <a:lnTo>
                    <a:pt x="2615" y="2058"/>
                  </a:lnTo>
                  <a:lnTo>
                    <a:pt x="2615" y="2058"/>
                  </a:lnTo>
                  <a:lnTo>
                    <a:pt x="2516" y="1918"/>
                  </a:lnTo>
                  <a:lnTo>
                    <a:pt x="2420" y="1784"/>
                  </a:lnTo>
                  <a:lnTo>
                    <a:pt x="2327" y="1656"/>
                  </a:lnTo>
                  <a:lnTo>
                    <a:pt x="2236" y="1535"/>
                  </a:lnTo>
                  <a:lnTo>
                    <a:pt x="2145" y="1419"/>
                  </a:lnTo>
                  <a:lnTo>
                    <a:pt x="2058" y="1309"/>
                  </a:lnTo>
                  <a:lnTo>
                    <a:pt x="1972" y="1206"/>
                  </a:lnTo>
                  <a:lnTo>
                    <a:pt x="1887" y="1107"/>
                  </a:lnTo>
                  <a:lnTo>
                    <a:pt x="1802" y="1014"/>
                  </a:lnTo>
                  <a:lnTo>
                    <a:pt x="1721" y="925"/>
                  </a:lnTo>
                  <a:lnTo>
                    <a:pt x="1640" y="842"/>
                  </a:lnTo>
                  <a:lnTo>
                    <a:pt x="1559" y="765"/>
                  </a:lnTo>
                  <a:lnTo>
                    <a:pt x="1480" y="692"/>
                  </a:lnTo>
                  <a:lnTo>
                    <a:pt x="1403" y="623"/>
                  </a:lnTo>
                  <a:lnTo>
                    <a:pt x="1325" y="560"/>
                  </a:lnTo>
                  <a:lnTo>
                    <a:pt x="1248" y="499"/>
                  </a:lnTo>
                  <a:lnTo>
                    <a:pt x="1172" y="444"/>
                  </a:lnTo>
                  <a:lnTo>
                    <a:pt x="1096" y="392"/>
                  </a:lnTo>
                  <a:lnTo>
                    <a:pt x="1019" y="343"/>
                  </a:lnTo>
                  <a:lnTo>
                    <a:pt x="944" y="300"/>
                  </a:lnTo>
                  <a:lnTo>
                    <a:pt x="868" y="260"/>
                  </a:lnTo>
                  <a:lnTo>
                    <a:pt x="792" y="222"/>
                  </a:lnTo>
                  <a:lnTo>
                    <a:pt x="715" y="188"/>
                  </a:lnTo>
                  <a:lnTo>
                    <a:pt x="639" y="158"/>
                  </a:lnTo>
                  <a:lnTo>
                    <a:pt x="563" y="129"/>
                  </a:lnTo>
                  <a:lnTo>
                    <a:pt x="485" y="103"/>
                  </a:lnTo>
                  <a:lnTo>
                    <a:pt x="406" y="80"/>
                  </a:lnTo>
                  <a:lnTo>
                    <a:pt x="327" y="61"/>
                  </a:lnTo>
                  <a:lnTo>
                    <a:pt x="247" y="42"/>
                  </a:lnTo>
                  <a:lnTo>
                    <a:pt x="165" y="25"/>
                  </a:lnTo>
                  <a:lnTo>
                    <a:pt x="84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" name=""/>
            <p:cNvSpPr/>
            <p:nvPr/>
          </p:nvSpPr>
          <p:spPr>
            <a:xfrm rot="19782000">
              <a:off x="385560" y="-1522080"/>
              <a:ext cx="10186560" cy="6348960"/>
            </a:xfrm>
            <a:custGeom>
              <a:avLst/>
              <a:gdLst/>
              <a:ahLst/>
              <a:rect l="l" t="t" r="r" b="b"/>
              <a:pathLst>
                <a:path w="4856" h="2961">
                  <a:moveTo>
                    <a:pt x="4856" y="2763"/>
                  </a:moveTo>
                  <a:lnTo>
                    <a:pt x="4856" y="2763"/>
                  </a:lnTo>
                  <a:lnTo>
                    <a:pt x="4844" y="2771"/>
                  </a:lnTo>
                  <a:lnTo>
                    <a:pt x="4805" y="2793"/>
                  </a:lnTo>
                  <a:lnTo>
                    <a:pt x="4777" y="2808"/>
                  </a:lnTo>
                  <a:lnTo>
                    <a:pt x="4745" y="2824"/>
                  </a:lnTo>
                  <a:lnTo>
                    <a:pt x="4706" y="2842"/>
                  </a:lnTo>
                  <a:lnTo>
                    <a:pt x="4662" y="2860"/>
                  </a:lnTo>
                  <a:lnTo>
                    <a:pt x="4613" y="2879"/>
                  </a:lnTo>
                  <a:lnTo>
                    <a:pt x="4561" y="2897"/>
                  </a:lnTo>
                  <a:lnTo>
                    <a:pt x="4504" y="2913"/>
                  </a:lnTo>
                  <a:lnTo>
                    <a:pt x="4441" y="2927"/>
                  </a:lnTo>
                  <a:lnTo>
                    <a:pt x="4375" y="2940"/>
                  </a:lnTo>
                  <a:lnTo>
                    <a:pt x="4305" y="2952"/>
                  </a:lnTo>
                  <a:lnTo>
                    <a:pt x="4269" y="2955"/>
                  </a:lnTo>
                  <a:lnTo>
                    <a:pt x="4232" y="2958"/>
                  </a:lnTo>
                  <a:lnTo>
                    <a:pt x="4194" y="2960"/>
                  </a:lnTo>
                  <a:lnTo>
                    <a:pt x="4155" y="2961"/>
                  </a:lnTo>
                  <a:lnTo>
                    <a:pt x="4116" y="2961"/>
                  </a:lnTo>
                  <a:lnTo>
                    <a:pt x="4076" y="2960"/>
                  </a:lnTo>
                  <a:lnTo>
                    <a:pt x="4034" y="2956"/>
                  </a:lnTo>
                  <a:lnTo>
                    <a:pt x="3993" y="2953"/>
                  </a:lnTo>
                  <a:lnTo>
                    <a:pt x="3950" y="2947"/>
                  </a:lnTo>
                  <a:lnTo>
                    <a:pt x="3907" y="2940"/>
                  </a:lnTo>
                  <a:lnTo>
                    <a:pt x="3864" y="2932"/>
                  </a:lnTo>
                  <a:lnTo>
                    <a:pt x="3819" y="2923"/>
                  </a:lnTo>
                  <a:lnTo>
                    <a:pt x="3773" y="2911"/>
                  </a:lnTo>
                  <a:lnTo>
                    <a:pt x="3729" y="2897"/>
                  </a:lnTo>
                  <a:lnTo>
                    <a:pt x="3683" y="2882"/>
                  </a:lnTo>
                  <a:lnTo>
                    <a:pt x="3636" y="2864"/>
                  </a:lnTo>
                  <a:lnTo>
                    <a:pt x="3589" y="2845"/>
                  </a:lnTo>
                  <a:lnTo>
                    <a:pt x="3541" y="2824"/>
                  </a:lnTo>
                  <a:lnTo>
                    <a:pt x="3494" y="2801"/>
                  </a:lnTo>
                  <a:lnTo>
                    <a:pt x="3446" y="2776"/>
                  </a:lnTo>
                  <a:lnTo>
                    <a:pt x="3397" y="2748"/>
                  </a:lnTo>
                  <a:lnTo>
                    <a:pt x="3348" y="2719"/>
                  </a:lnTo>
                  <a:lnTo>
                    <a:pt x="3299" y="2687"/>
                  </a:lnTo>
                  <a:lnTo>
                    <a:pt x="3250" y="2651"/>
                  </a:lnTo>
                  <a:lnTo>
                    <a:pt x="3200" y="2614"/>
                  </a:lnTo>
                  <a:lnTo>
                    <a:pt x="3150" y="2574"/>
                  </a:lnTo>
                  <a:lnTo>
                    <a:pt x="3100" y="2532"/>
                  </a:lnTo>
                  <a:lnTo>
                    <a:pt x="3050" y="2487"/>
                  </a:lnTo>
                  <a:lnTo>
                    <a:pt x="3000" y="2438"/>
                  </a:lnTo>
                  <a:lnTo>
                    <a:pt x="2949" y="2388"/>
                  </a:lnTo>
                  <a:lnTo>
                    <a:pt x="2899" y="2333"/>
                  </a:lnTo>
                  <a:lnTo>
                    <a:pt x="2847" y="2277"/>
                  </a:lnTo>
                  <a:lnTo>
                    <a:pt x="2797" y="2217"/>
                  </a:lnTo>
                  <a:lnTo>
                    <a:pt x="2746" y="2154"/>
                  </a:lnTo>
                  <a:lnTo>
                    <a:pt x="2696" y="2088"/>
                  </a:lnTo>
                  <a:lnTo>
                    <a:pt x="2645" y="2018"/>
                  </a:lnTo>
                  <a:lnTo>
                    <a:pt x="2645" y="2018"/>
                  </a:lnTo>
                  <a:lnTo>
                    <a:pt x="2545" y="1878"/>
                  </a:lnTo>
                  <a:lnTo>
                    <a:pt x="2447" y="1745"/>
                  </a:lnTo>
                  <a:lnTo>
                    <a:pt x="2352" y="1618"/>
                  </a:lnTo>
                  <a:lnTo>
                    <a:pt x="2259" y="1498"/>
                  </a:lnTo>
                  <a:lnTo>
                    <a:pt x="2167" y="1384"/>
                  </a:lnTo>
                  <a:lnTo>
                    <a:pt x="2077" y="1276"/>
                  </a:lnTo>
                  <a:lnTo>
                    <a:pt x="1989" y="1172"/>
                  </a:lnTo>
                  <a:lnTo>
                    <a:pt x="1903" y="1075"/>
                  </a:lnTo>
                  <a:lnTo>
                    <a:pt x="1818" y="983"/>
                  </a:lnTo>
                  <a:lnTo>
                    <a:pt x="1735" y="896"/>
                  </a:lnTo>
                  <a:lnTo>
                    <a:pt x="1652" y="815"/>
                  </a:lnTo>
                  <a:lnTo>
                    <a:pt x="1571" y="738"/>
                  </a:lnTo>
                  <a:lnTo>
                    <a:pt x="1491" y="667"/>
                  </a:lnTo>
                  <a:lnTo>
                    <a:pt x="1412" y="599"/>
                  </a:lnTo>
                  <a:lnTo>
                    <a:pt x="1334" y="536"/>
                  </a:lnTo>
                  <a:lnTo>
                    <a:pt x="1256" y="478"/>
                  </a:lnTo>
                  <a:lnTo>
                    <a:pt x="1178" y="423"/>
                  </a:lnTo>
                  <a:lnTo>
                    <a:pt x="1102" y="373"/>
                  </a:lnTo>
                  <a:lnTo>
                    <a:pt x="1024" y="326"/>
                  </a:lnTo>
                  <a:lnTo>
                    <a:pt x="948" y="284"/>
                  </a:lnTo>
                  <a:lnTo>
                    <a:pt x="872" y="245"/>
                  </a:lnTo>
                  <a:lnTo>
                    <a:pt x="795" y="208"/>
                  </a:lnTo>
                  <a:lnTo>
                    <a:pt x="719" y="176"/>
                  </a:lnTo>
                  <a:lnTo>
                    <a:pt x="641" y="147"/>
                  </a:lnTo>
                  <a:lnTo>
                    <a:pt x="565" y="119"/>
                  </a:lnTo>
                  <a:lnTo>
                    <a:pt x="486" y="95"/>
                  </a:lnTo>
                  <a:lnTo>
                    <a:pt x="408" y="74"/>
                  </a:lnTo>
                  <a:lnTo>
                    <a:pt x="327" y="55"/>
                  </a:lnTo>
                  <a:lnTo>
                    <a:pt x="248" y="39"/>
                  </a:lnTo>
                  <a:lnTo>
                    <a:pt x="166" y="24"/>
                  </a:lnTo>
                  <a:lnTo>
                    <a:pt x="83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" name=""/>
            <p:cNvSpPr/>
            <p:nvPr/>
          </p:nvSpPr>
          <p:spPr>
            <a:xfrm rot="19782000">
              <a:off x="404640" y="-1461600"/>
              <a:ext cx="10272240" cy="6194520"/>
            </a:xfrm>
            <a:custGeom>
              <a:avLst/>
              <a:gdLst/>
              <a:ahLst/>
              <a:rect l="l" t="t" r="r" b="b"/>
              <a:pathLst>
                <a:path w="4897" h="2890">
                  <a:moveTo>
                    <a:pt x="4897" y="2675"/>
                  </a:moveTo>
                  <a:lnTo>
                    <a:pt x="4897" y="2675"/>
                  </a:lnTo>
                  <a:lnTo>
                    <a:pt x="4885" y="2683"/>
                  </a:lnTo>
                  <a:lnTo>
                    <a:pt x="4847" y="2707"/>
                  </a:lnTo>
                  <a:lnTo>
                    <a:pt x="4820" y="2722"/>
                  </a:lnTo>
                  <a:lnTo>
                    <a:pt x="4788" y="2740"/>
                  </a:lnTo>
                  <a:lnTo>
                    <a:pt x="4749" y="2757"/>
                  </a:lnTo>
                  <a:lnTo>
                    <a:pt x="4706" y="2777"/>
                  </a:lnTo>
                  <a:lnTo>
                    <a:pt x="4657" y="2796"/>
                  </a:lnTo>
                  <a:lnTo>
                    <a:pt x="4604" y="2816"/>
                  </a:lnTo>
                  <a:lnTo>
                    <a:pt x="4547" y="2833"/>
                  </a:lnTo>
                  <a:lnTo>
                    <a:pt x="4485" y="2849"/>
                  </a:lnTo>
                  <a:lnTo>
                    <a:pt x="4420" y="2864"/>
                  </a:lnTo>
                  <a:lnTo>
                    <a:pt x="4350" y="2875"/>
                  </a:lnTo>
                  <a:lnTo>
                    <a:pt x="4314" y="2880"/>
                  </a:lnTo>
                  <a:lnTo>
                    <a:pt x="4277" y="2885"/>
                  </a:lnTo>
                  <a:lnTo>
                    <a:pt x="4239" y="2887"/>
                  </a:lnTo>
                  <a:lnTo>
                    <a:pt x="4200" y="2888"/>
                  </a:lnTo>
                  <a:lnTo>
                    <a:pt x="4160" y="2890"/>
                  </a:lnTo>
                  <a:lnTo>
                    <a:pt x="4120" y="2888"/>
                  </a:lnTo>
                  <a:lnTo>
                    <a:pt x="4078" y="2887"/>
                  </a:lnTo>
                  <a:lnTo>
                    <a:pt x="4036" y="2883"/>
                  </a:lnTo>
                  <a:lnTo>
                    <a:pt x="3995" y="2880"/>
                  </a:lnTo>
                  <a:lnTo>
                    <a:pt x="3952" y="2874"/>
                  </a:lnTo>
                  <a:lnTo>
                    <a:pt x="3907" y="2866"/>
                  </a:lnTo>
                  <a:lnTo>
                    <a:pt x="3863" y="2858"/>
                  </a:lnTo>
                  <a:lnTo>
                    <a:pt x="3818" y="2846"/>
                  </a:lnTo>
                  <a:lnTo>
                    <a:pt x="3773" y="2833"/>
                  </a:lnTo>
                  <a:lnTo>
                    <a:pt x="3725" y="2819"/>
                  </a:lnTo>
                  <a:lnTo>
                    <a:pt x="3680" y="2803"/>
                  </a:lnTo>
                  <a:lnTo>
                    <a:pt x="3632" y="2785"/>
                  </a:lnTo>
                  <a:lnTo>
                    <a:pt x="3584" y="2764"/>
                  </a:lnTo>
                  <a:lnTo>
                    <a:pt x="3537" y="2743"/>
                  </a:lnTo>
                  <a:lnTo>
                    <a:pt x="3488" y="2717"/>
                  </a:lnTo>
                  <a:lnTo>
                    <a:pt x="3438" y="2691"/>
                  </a:lnTo>
                  <a:lnTo>
                    <a:pt x="3389" y="2662"/>
                  </a:lnTo>
                  <a:lnTo>
                    <a:pt x="3339" y="2630"/>
                  </a:lnTo>
                  <a:lnTo>
                    <a:pt x="3290" y="2596"/>
                  </a:lnTo>
                  <a:lnTo>
                    <a:pt x="3240" y="2560"/>
                  </a:lnTo>
                  <a:lnTo>
                    <a:pt x="3190" y="2522"/>
                  </a:lnTo>
                  <a:lnTo>
                    <a:pt x="3138" y="2480"/>
                  </a:lnTo>
                  <a:lnTo>
                    <a:pt x="3087" y="2434"/>
                  </a:lnTo>
                  <a:lnTo>
                    <a:pt x="3037" y="2388"/>
                  </a:lnTo>
                  <a:lnTo>
                    <a:pt x="2985" y="2338"/>
                  </a:lnTo>
                  <a:lnTo>
                    <a:pt x="2934" y="2284"/>
                  </a:lnTo>
                  <a:lnTo>
                    <a:pt x="2881" y="2228"/>
                  </a:lnTo>
                  <a:lnTo>
                    <a:pt x="2830" y="2168"/>
                  </a:lnTo>
                  <a:lnTo>
                    <a:pt x="2779" y="2107"/>
                  </a:lnTo>
                  <a:lnTo>
                    <a:pt x="2727" y="2040"/>
                  </a:lnTo>
                  <a:lnTo>
                    <a:pt x="2676" y="1971"/>
                  </a:lnTo>
                  <a:lnTo>
                    <a:pt x="2676" y="1971"/>
                  </a:lnTo>
                  <a:lnTo>
                    <a:pt x="2573" y="1834"/>
                  </a:lnTo>
                  <a:lnTo>
                    <a:pt x="2473" y="1701"/>
                  </a:lnTo>
                  <a:lnTo>
                    <a:pt x="2376" y="1577"/>
                  </a:lnTo>
                  <a:lnTo>
                    <a:pt x="2282" y="1458"/>
                  </a:lnTo>
                  <a:lnTo>
                    <a:pt x="2188" y="1345"/>
                  </a:lnTo>
                  <a:lnTo>
                    <a:pt x="2097" y="1238"/>
                  </a:lnTo>
                  <a:lnTo>
                    <a:pt x="2007" y="1136"/>
                  </a:lnTo>
                  <a:lnTo>
                    <a:pt x="1919" y="1039"/>
                  </a:lnTo>
                  <a:lnTo>
                    <a:pt x="1833" y="949"/>
                  </a:lnTo>
                  <a:lnTo>
                    <a:pt x="1748" y="863"/>
                  </a:lnTo>
                  <a:lnTo>
                    <a:pt x="1665" y="783"/>
                  </a:lnTo>
                  <a:lnTo>
                    <a:pt x="1583" y="708"/>
                  </a:lnTo>
                  <a:lnTo>
                    <a:pt x="1501" y="637"/>
                  </a:lnTo>
                  <a:lnTo>
                    <a:pt x="1421" y="571"/>
                  </a:lnTo>
                  <a:lnTo>
                    <a:pt x="1342" y="510"/>
                  </a:lnTo>
                  <a:lnTo>
                    <a:pt x="1264" y="453"/>
                  </a:lnTo>
                  <a:lnTo>
                    <a:pt x="1185" y="400"/>
                  </a:lnTo>
                  <a:lnTo>
                    <a:pt x="1107" y="352"/>
                  </a:lnTo>
                  <a:lnTo>
                    <a:pt x="1031" y="306"/>
                  </a:lnTo>
                  <a:lnTo>
                    <a:pt x="953" y="264"/>
                  </a:lnTo>
                  <a:lnTo>
                    <a:pt x="876" y="226"/>
                  </a:lnTo>
                  <a:lnTo>
                    <a:pt x="799" y="192"/>
                  </a:lnTo>
                  <a:lnTo>
                    <a:pt x="722" y="161"/>
                  </a:lnTo>
                  <a:lnTo>
                    <a:pt x="645" y="132"/>
                  </a:lnTo>
                  <a:lnTo>
                    <a:pt x="567" y="106"/>
                  </a:lnTo>
                  <a:lnTo>
                    <a:pt x="488" y="85"/>
                  </a:lnTo>
                  <a:lnTo>
                    <a:pt x="409" y="64"/>
                  </a:lnTo>
                  <a:lnTo>
                    <a:pt x="329" y="46"/>
                  </a:lnTo>
                  <a:lnTo>
                    <a:pt x="249" y="32"/>
                  </a:lnTo>
                  <a:lnTo>
                    <a:pt x="167" y="19"/>
                  </a:lnTo>
                  <a:lnTo>
                    <a:pt x="84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" name=""/>
            <p:cNvSpPr/>
            <p:nvPr/>
          </p:nvSpPr>
          <p:spPr>
            <a:xfrm rot="19782000">
              <a:off x="425880" y="-1405080"/>
              <a:ext cx="10356480" cy="6048720"/>
            </a:xfrm>
            <a:custGeom>
              <a:avLst/>
              <a:gdLst/>
              <a:ahLst/>
              <a:rect l="l" t="t" r="r" b="b"/>
              <a:pathLst>
                <a:path w="4937" h="2820">
                  <a:moveTo>
                    <a:pt x="4937" y="2589"/>
                  </a:moveTo>
                  <a:lnTo>
                    <a:pt x="4937" y="2589"/>
                  </a:lnTo>
                  <a:lnTo>
                    <a:pt x="4925" y="2599"/>
                  </a:lnTo>
                  <a:lnTo>
                    <a:pt x="4887" y="2622"/>
                  </a:lnTo>
                  <a:lnTo>
                    <a:pt x="4861" y="2638"/>
                  </a:lnTo>
                  <a:lnTo>
                    <a:pt x="4828" y="2656"/>
                  </a:lnTo>
                  <a:lnTo>
                    <a:pt x="4790" y="2675"/>
                  </a:lnTo>
                  <a:lnTo>
                    <a:pt x="4747" y="2696"/>
                  </a:lnTo>
                  <a:lnTo>
                    <a:pt x="4698" y="2717"/>
                  </a:lnTo>
                  <a:lnTo>
                    <a:pt x="4646" y="2736"/>
                  </a:lnTo>
                  <a:lnTo>
                    <a:pt x="4589" y="2756"/>
                  </a:lnTo>
                  <a:lnTo>
                    <a:pt x="4528" y="2774"/>
                  </a:lnTo>
                  <a:lnTo>
                    <a:pt x="4462" y="2790"/>
                  </a:lnTo>
                  <a:lnTo>
                    <a:pt x="4393" y="2803"/>
                  </a:lnTo>
                  <a:lnTo>
                    <a:pt x="4357" y="2807"/>
                  </a:lnTo>
                  <a:lnTo>
                    <a:pt x="4319" y="2812"/>
                  </a:lnTo>
                  <a:lnTo>
                    <a:pt x="4282" y="2816"/>
                  </a:lnTo>
                  <a:lnTo>
                    <a:pt x="4243" y="2819"/>
                  </a:lnTo>
                  <a:lnTo>
                    <a:pt x="4203" y="2820"/>
                  </a:lnTo>
                  <a:lnTo>
                    <a:pt x="4163" y="2820"/>
                  </a:lnTo>
                  <a:lnTo>
                    <a:pt x="4122" y="2819"/>
                  </a:lnTo>
                  <a:lnTo>
                    <a:pt x="4081" y="2817"/>
                  </a:lnTo>
                  <a:lnTo>
                    <a:pt x="4038" y="2812"/>
                  </a:lnTo>
                  <a:lnTo>
                    <a:pt x="3995" y="2807"/>
                  </a:lnTo>
                  <a:lnTo>
                    <a:pt x="3950" y="2801"/>
                  </a:lnTo>
                  <a:lnTo>
                    <a:pt x="3906" y="2793"/>
                  </a:lnTo>
                  <a:lnTo>
                    <a:pt x="3860" y="2783"/>
                  </a:lnTo>
                  <a:lnTo>
                    <a:pt x="3814" y="2772"/>
                  </a:lnTo>
                  <a:lnTo>
                    <a:pt x="3768" y="2757"/>
                  </a:lnTo>
                  <a:lnTo>
                    <a:pt x="3721" y="2743"/>
                  </a:lnTo>
                  <a:lnTo>
                    <a:pt x="3674" y="2725"/>
                  </a:lnTo>
                  <a:lnTo>
                    <a:pt x="3625" y="2706"/>
                  </a:lnTo>
                  <a:lnTo>
                    <a:pt x="3577" y="2685"/>
                  </a:lnTo>
                  <a:lnTo>
                    <a:pt x="3528" y="2661"/>
                  </a:lnTo>
                  <a:lnTo>
                    <a:pt x="3479" y="2635"/>
                  </a:lnTo>
                  <a:lnTo>
                    <a:pt x="3429" y="2607"/>
                  </a:lnTo>
                  <a:lnTo>
                    <a:pt x="3379" y="2577"/>
                  </a:lnTo>
                  <a:lnTo>
                    <a:pt x="3328" y="2543"/>
                  </a:lnTo>
                  <a:lnTo>
                    <a:pt x="3278" y="2507"/>
                  </a:lnTo>
                  <a:lnTo>
                    <a:pt x="3227" y="2470"/>
                  </a:lnTo>
                  <a:lnTo>
                    <a:pt x="3175" y="2428"/>
                  </a:lnTo>
                  <a:lnTo>
                    <a:pt x="3124" y="2384"/>
                  </a:lnTo>
                  <a:lnTo>
                    <a:pt x="3071" y="2338"/>
                  </a:lnTo>
                  <a:lnTo>
                    <a:pt x="3020" y="2289"/>
                  </a:lnTo>
                  <a:lnTo>
                    <a:pt x="2967" y="2236"/>
                  </a:lnTo>
                  <a:lnTo>
                    <a:pt x="2916" y="2181"/>
                  </a:lnTo>
                  <a:lnTo>
                    <a:pt x="2863" y="2123"/>
                  </a:lnTo>
                  <a:lnTo>
                    <a:pt x="2810" y="2061"/>
                  </a:lnTo>
                  <a:lnTo>
                    <a:pt x="2757" y="1995"/>
                  </a:lnTo>
                  <a:lnTo>
                    <a:pt x="2705" y="1927"/>
                  </a:lnTo>
                  <a:lnTo>
                    <a:pt x="2705" y="1927"/>
                  </a:lnTo>
                  <a:lnTo>
                    <a:pt x="2601" y="1792"/>
                  </a:lnTo>
                  <a:lnTo>
                    <a:pt x="2499" y="1661"/>
                  </a:lnTo>
                  <a:lnTo>
                    <a:pt x="2399" y="1537"/>
                  </a:lnTo>
                  <a:lnTo>
                    <a:pt x="2302" y="1419"/>
                  </a:lnTo>
                  <a:lnTo>
                    <a:pt x="2208" y="1307"/>
                  </a:lnTo>
                  <a:lnTo>
                    <a:pt x="2115" y="1201"/>
                  </a:lnTo>
                  <a:lnTo>
                    <a:pt x="2024" y="1101"/>
                  </a:lnTo>
                  <a:lnTo>
                    <a:pt x="1936" y="1007"/>
                  </a:lnTo>
                  <a:lnTo>
                    <a:pt x="1847" y="917"/>
                  </a:lnTo>
                  <a:lnTo>
                    <a:pt x="1761" y="833"/>
                  </a:lnTo>
                  <a:lnTo>
                    <a:pt x="1677" y="754"/>
                  </a:lnTo>
                  <a:lnTo>
                    <a:pt x="1593" y="681"/>
                  </a:lnTo>
                  <a:lnTo>
                    <a:pt x="1511" y="611"/>
                  </a:lnTo>
                  <a:lnTo>
                    <a:pt x="1430" y="547"/>
                  </a:lnTo>
                  <a:lnTo>
                    <a:pt x="1350" y="486"/>
                  </a:lnTo>
                  <a:lnTo>
                    <a:pt x="1270" y="431"/>
                  </a:lnTo>
                  <a:lnTo>
                    <a:pt x="1191" y="379"/>
                  </a:lnTo>
                  <a:lnTo>
                    <a:pt x="1112" y="331"/>
                  </a:lnTo>
                  <a:lnTo>
                    <a:pt x="1034" y="287"/>
                  </a:lnTo>
                  <a:lnTo>
                    <a:pt x="957" y="247"/>
                  </a:lnTo>
                  <a:lnTo>
                    <a:pt x="879" y="211"/>
                  </a:lnTo>
                  <a:lnTo>
                    <a:pt x="801" y="177"/>
                  </a:lnTo>
                  <a:lnTo>
                    <a:pt x="723" y="148"/>
                  </a:lnTo>
                  <a:lnTo>
                    <a:pt x="646" y="121"/>
                  </a:lnTo>
                  <a:lnTo>
                    <a:pt x="568" y="96"/>
                  </a:lnTo>
                  <a:lnTo>
                    <a:pt x="489" y="75"/>
                  </a:lnTo>
                  <a:lnTo>
                    <a:pt x="410" y="58"/>
                  </a:lnTo>
                  <a:lnTo>
                    <a:pt x="330" y="41"/>
                  </a:lnTo>
                  <a:lnTo>
                    <a:pt x="249" y="27"/>
                  </a:lnTo>
                  <a:lnTo>
                    <a:pt x="167" y="16"/>
                  </a:lnTo>
                  <a:lnTo>
                    <a:pt x="85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" name=""/>
            <p:cNvSpPr/>
            <p:nvPr/>
          </p:nvSpPr>
          <p:spPr>
            <a:xfrm rot="19782000">
              <a:off x="449280" y="-1345320"/>
              <a:ext cx="10436040" cy="5893920"/>
            </a:xfrm>
            <a:custGeom>
              <a:avLst/>
              <a:gdLst/>
              <a:ahLst/>
              <a:rect l="l" t="t" r="r" b="b"/>
              <a:pathLst>
                <a:path w="4975" h="2750">
                  <a:moveTo>
                    <a:pt x="4975" y="2501"/>
                  </a:moveTo>
                  <a:lnTo>
                    <a:pt x="4975" y="2501"/>
                  </a:lnTo>
                  <a:lnTo>
                    <a:pt x="4962" y="2511"/>
                  </a:lnTo>
                  <a:lnTo>
                    <a:pt x="4926" y="2537"/>
                  </a:lnTo>
                  <a:lnTo>
                    <a:pt x="4899" y="2553"/>
                  </a:lnTo>
                  <a:lnTo>
                    <a:pt x="4867" y="2571"/>
                  </a:lnTo>
                  <a:lnTo>
                    <a:pt x="4829" y="2592"/>
                  </a:lnTo>
                  <a:lnTo>
                    <a:pt x="4786" y="2613"/>
                  </a:lnTo>
                  <a:lnTo>
                    <a:pt x="4739" y="2635"/>
                  </a:lnTo>
                  <a:lnTo>
                    <a:pt x="4686" y="2656"/>
                  </a:lnTo>
                  <a:lnTo>
                    <a:pt x="4629" y="2676"/>
                  </a:lnTo>
                  <a:lnTo>
                    <a:pt x="4568" y="2695"/>
                  </a:lnTo>
                  <a:lnTo>
                    <a:pt x="4503" y="2713"/>
                  </a:lnTo>
                  <a:lnTo>
                    <a:pt x="4433" y="2727"/>
                  </a:lnTo>
                  <a:lnTo>
                    <a:pt x="4397" y="2734"/>
                  </a:lnTo>
                  <a:lnTo>
                    <a:pt x="4361" y="2739"/>
                  </a:lnTo>
                  <a:lnTo>
                    <a:pt x="4322" y="2743"/>
                  </a:lnTo>
                  <a:lnTo>
                    <a:pt x="4285" y="2747"/>
                  </a:lnTo>
                  <a:lnTo>
                    <a:pt x="4245" y="2748"/>
                  </a:lnTo>
                  <a:lnTo>
                    <a:pt x="4204" y="2750"/>
                  </a:lnTo>
                  <a:lnTo>
                    <a:pt x="4163" y="2750"/>
                  </a:lnTo>
                  <a:lnTo>
                    <a:pt x="4121" y="2748"/>
                  </a:lnTo>
                  <a:lnTo>
                    <a:pt x="4079" y="2745"/>
                  </a:lnTo>
                  <a:lnTo>
                    <a:pt x="4035" y="2740"/>
                  </a:lnTo>
                  <a:lnTo>
                    <a:pt x="3992" y="2735"/>
                  </a:lnTo>
                  <a:lnTo>
                    <a:pt x="3946" y="2727"/>
                  </a:lnTo>
                  <a:lnTo>
                    <a:pt x="3902" y="2719"/>
                  </a:lnTo>
                  <a:lnTo>
                    <a:pt x="3856" y="2708"/>
                  </a:lnTo>
                  <a:lnTo>
                    <a:pt x="3809" y="2695"/>
                  </a:lnTo>
                  <a:lnTo>
                    <a:pt x="3761" y="2680"/>
                  </a:lnTo>
                  <a:lnTo>
                    <a:pt x="3714" y="2664"/>
                  </a:lnTo>
                  <a:lnTo>
                    <a:pt x="3666" y="2645"/>
                  </a:lnTo>
                  <a:lnTo>
                    <a:pt x="3617" y="2626"/>
                  </a:lnTo>
                  <a:lnTo>
                    <a:pt x="3567" y="2603"/>
                  </a:lnTo>
                  <a:lnTo>
                    <a:pt x="3517" y="2577"/>
                  </a:lnTo>
                  <a:lnTo>
                    <a:pt x="3467" y="2550"/>
                  </a:lnTo>
                  <a:lnTo>
                    <a:pt x="3417" y="2521"/>
                  </a:lnTo>
                  <a:lnTo>
                    <a:pt x="3366" y="2488"/>
                  </a:lnTo>
                  <a:lnTo>
                    <a:pt x="3314" y="2453"/>
                  </a:lnTo>
                  <a:lnTo>
                    <a:pt x="3263" y="2416"/>
                  </a:lnTo>
                  <a:lnTo>
                    <a:pt x="3212" y="2375"/>
                  </a:lnTo>
                  <a:lnTo>
                    <a:pt x="3159" y="2333"/>
                  </a:lnTo>
                  <a:lnTo>
                    <a:pt x="3106" y="2288"/>
                  </a:lnTo>
                  <a:lnTo>
                    <a:pt x="3053" y="2240"/>
                  </a:lnTo>
                  <a:lnTo>
                    <a:pt x="3001" y="2188"/>
                  </a:lnTo>
                  <a:lnTo>
                    <a:pt x="2948" y="2133"/>
                  </a:lnTo>
                  <a:lnTo>
                    <a:pt x="2894" y="2075"/>
                  </a:lnTo>
                  <a:lnTo>
                    <a:pt x="2841" y="2014"/>
                  </a:lnTo>
                  <a:lnTo>
                    <a:pt x="2787" y="1951"/>
                  </a:lnTo>
                  <a:lnTo>
                    <a:pt x="2733" y="1883"/>
                  </a:lnTo>
                  <a:lnTo>
                    <a:pt x="2733" y="1883"/>
                  </a:lnTo>
                  <a:lnTo>
                    <a:pt x="2627" y="1747"/>
                  </a:lnTo>
                  <a:lnTo>
                    <a:pt x="2523" y="1618"/>
                  </a:lnTo>
                  <a:lnTo>
                    <a:pt x="2422" y="1495"/>
                  </a:lnTo>
                  <a:lnTo>
                    <a:pt x="2323" y="1379"/>
                  </a:lnTo>
                  <a:lnTo>
                    <a:pt x="2227" y="1269"/>
                  </a:lnTo>
                  <a:lnTo>
                    <a:pt x="2133" y="1164"/>
                  </a:lnTo>
                  <a:lnTo>
                    <a:pt x="2040" y="1066"/>
                  </a:lnTo>
                  <a:lnTo>
                    <a:pt x="1949" y="972"/>
                  </a:lnTo>
                  <a:lnTo>
                    <a:pt x="1861" y="885"/>
                  </a:lnTo>
                  <a:lnTo>
                    <a:pt x="1773" y="801"/>
                  </a:lnTo>
                  <a:lnTo>
                    <a:pt x="1687" y="723"/>
                  </a:lnTo>
                  <a:lnTo>
                    <a:pt x="1602" y="651"/>
                  </a:lnTo>
                  <a:lnTo>
                    <a:pt x="1519" y="583"/>
                  </a:lnTo>
                  <a:lnTo>
                    <a:pt x="1437" y="520"/>
                  </a:lnTo>
                  <a:lnTo>
                    <a:pt x="1357" y="462"/>
                  </a:lnTo>
                  <a:lnTo>
                    <a:pt x="1276" y="407"/>
                  </a:lnTo>
                  <a:lnTo>
                    <a:pt x="1196" y="357"/>
                  </a:lnTo>
                  <a:lnTo>
                    <a:pt x="1116" y="310"/>
                  </a:lnTo>
                  <a:lnTo>
                    <a:pt x="1039" y="268"/>
                  </a:lnTo>
                  <a:lnTo>
                    <a:pt x="960" y="229"/>
                  </a:lnTo>
                  <a:lnTo>
                    <a:pt x="882" y="194"/>
                  </a:lnTo>
                  <a:lnTo>
                    <a:pt x="804" y="162"/>
                  </a:lnTo>
                  <a:lnTo>
                    <a:pt x="726" y="134"/>
                  </a:lnTo>
                  <a:lnTo>
                    <a:pt x="647" y="108"/>
                  </a:lnTo>
                  <a:lnTo>
                    <a:pt x="569" y="86"/>
                  </a:lnTo>
                  <a:lnTo>
                    <a:pt x="490" y="66"/>
                  </a:lnTo>
                  <a:lnTo>
                    <a:pt x="410" y="50"/>
                  </a:lnTo>
                  <a:lnTo>
                    <a:pt x="331" y="36"/>
                  </a:lnTo>
                  <a:lnTo>
                    <a:pt x="249" y="23"/>
                  </a:lnTo>
                  <a:lnTo>
                    <a:pt x="167" y="13"/>
                  </a:lnTo>
                  <a:lnTo>
                    <a:pt x="83" y="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" name=""/>
            <p:cNvSpPr/>
            <p:nvPr/>
          </p:nvSpPr>
          <p:spPr>
            <a:xfrm rot="19782000">
              <a:off x="471960" y="-1284120"/>
              <a:ext cx="10513800" cy="5740200"/>
            </a:xfrm>
            <a:custGeom>
              <a:avLst/>
              <a:gdLst/>
              <a:ahLst/>
              <a:rect l="l" t="t" r="r" b="b"/>
              <a:pathLst>
                <a:path w="5012" h="2678">
                  <a:moveTo>
                    <a:pt x="5012" y="2414"/>
                  </a:moveTo>
                  <a:lnTo>
                    <a:pt x="5012" y="2414"/>
                  </a:lnTo>
                  <a:lnTo>
                    <a:pt x="5000" y="2423"/>
                  </a:lnTo>
                  <a:lnTo>
                    <a:pt x="4964" y="2448"/>
                  </a:lnTo>
                  <a:lnTo>
                    <a:pt x="4937" y="2465"/>
                  </a:lnTo>
                  <a:lnTo>
                    <a:pt x="4904" y="2485"/>
                  </a:lnTo>
                  <a:lnTo>
                    <a:pt x="4868" y="2506"/>
                  </a:lnTo>
                  <a:lnTo>
                    <a:pt x="4825" y="2528"/>
                  </a:lnTo>
                  <a:lnTo>
                    <a:pt x="4778" y="2551"/>
                  </a:lnTo>
                  <a:lnTo>
                    <a:pt x="4725" y="2574"/>
                  </a:lnTo>
                  <a:lnTo>
                    <a:pt x="4670" y="2594"/>
                  </a:lnTo>
                  <a:lnTo>
                    <a:pt x="4608" y="2615"/>
                  </a:lnTo>
                  <a:lnTo>
                    <a:pt x="4543" y="2635"/>
                  </a:lnTo>
                  <a:lnTo>
                    <a:pt x="4474" y="2649"/>
                  </a:lnTo>
                  <a:lnTo>
                    <a:pt x="4439" y="2657"/>
                  </a:lnTo>
                  <a:lnTo>
                    <a:pt x="4402" y="2662"/>
                  </a:lnTo>
                  <a:lnTo>
                    <a:pt x="4364" y="2669"/>
                  </a:lnTo>
                  <a:lnTo>
                    <a:pt x="4325" y="2672"/>
                  </a:lnTo>
                  <a:lnTo>
                    <a:pt x="4286" y="2675"/>
                  </a:lnTo>
                  <a:lnTo>
                    <a:pt x="4246" y="2677"/>
                  </a:lnTo>
                  <a:lnTo>
                    <a:pt x="4204" y="2678"/>
                  </a:lnTo>
                  <a:lnTo>
                    <a:pt x="4163" y="2677"/>
                  </a:lnTo>
                  <a:lnTo>
                    <a:pt x="4120" y="2675"/>
                  </a:lnTo>
                  <a:lnTo>
                    <a:pt x="4077" y="2672"/>
                  </a:lnTo>
                  <a:lnTo>
                    <a:pt x="4032" y="2667"/>
                  </a:lnTo>
                  <a:lnTo>
                    <a:pt x="3988" y="2661"/>
                  </a:lnTo>
                  <a:lnTo>
                    <a:pt x="3942" y="2653"/>
                  </a:lnTo>
                  <a:lnTo>
                    <a:pt x="3896" y="2643"/>
                  </a:lnTo>
                  <a:lnTo>
                    <a:pt x="3849" y="2630"/>
                  </a:lnTo>
                  <a:lnTo>
                    <a:pt x="3802" y="2617"/>
                  </a:lnTo>
                  <a:lnTo>
                    <a:pt x="3753" y="2601"/>
                  </a:lnTo>
                  <a:lnTo>
                    <a:pt x="3705" y="2583"/>
                  </a:lnTo>
                  <a:lnTo>
                    <a:pt x="3656" y="2564"/>
                  </a:lnTo>
                  <a:lnTo>
                    <a:pt x="3606" y="2543"/>
                  </a:lnTo>
                  <a:lnTo>
                    <a:pt x="3556" y="2519"/>
                  </a:lnTo>
                  <a:lnTo>
                    <a:pt x="3506" y="2491"/>
                  </a:lnTo>
                  <a:lnTo>
                    <a:pt x="3455" y="2464"/>
                  </a:lnTo>
                  <a:lnTo>
                    <a:pt x="3403" y="2431"/>
                  </a:lnTo>
                  <a:lnTo>
                    <a:pt x="3352" y="2398"/>
                  </a:lnTo>
                  <a:lnTo>
                    <a:pt x="3299" y="2362"/>
                  </a:lnTo>
                  <a:lnTo>
                    <a:pt x="3246" y="2322"/>
                  </a:lnTo>
                  <a:lnTo>
                    <a:pt x="3194" y="2280"/>
                  </a:lnTo>
                  <a:lnTo>
                    <a:pt x="3141" y="2236"/>
                  </a:lnTo>
                  <a:lnTo>
                    <a:pt x="3087" y="2188"/>
                  </a:lnTo>
                  <a:lnTo>
                    <a:pt x="3033" y="2138"/>
                  </a:lnTo>
                  <a:lnTo>
                    <a:pt x="2980" y="2083"/>
                  </a:lnTo>
                  <a:lnTo>
                    <a:pt x="2924" y="2026"/>
                  </a:lnTo>
                  <a:lnTo>
                    <a:pt x="2870" y="1966"/>
                  </a:lnTo>
                  <a:lnTo>
                    <a:pt x="2816" y="1903"/>
                  </a:lnTo>
                  <a:lnTo>
                    <a:pt x="2762" y="1836"/>
                  </a:lnTo>
                  <a:lnTo>
                    <a:pt x="2762" y="1836"/>
                  </a:lnTo>
                  <a:lnTo>
                    <a:pt x="2654" y="1702"/>
                  </a:lnTo>
                  <a:lnTo>
                    <a:pt x="2548" y="1576"/>
                  </a:lnTo>
                  <a:lnTo>
                    <a:pt x="2444" y="1455"/>
                  </a:lnTo>
                  <a:lnTo>
                    <a:pt x="2344" y="1338"/>
                  </a:lnTo>
                  <a:lnTo>
                    <a:pt x="2245" y="1230"/>
                  </a:lnTo>
                  <a:lnTo>
                    <a:pt x="2150" y="1127"/>
                  </a:lnTo>
                  <a:lnTo>
                    <a:pt x="2057" y="1030"/>
                  </a:lnTo>
                  <a:lnTo>
                    <a:pt x="1963" y="938"/>
                  </a:lnTo>
                  <a:lnTo>
                    <a:pt x="1873" y="851"/>
                  </a:lnTo>
                  <a:lnTo>
                    <a:pt x="1786" y="770"/>
                  </a:lnTo>
                  <a:lnTo>
                    <a:pt x="1698" y="692"/>
                  </a:lnTo>
                  <a:lnTo>
                    <a:pt x="1612" y="621"/>
                  </a:lnTo>
                  <a:lnTo>
                    <a:pt x="1529" y="555"/>
                  </a:lnTo>
                  <a:lnTo>
                    <a:pt x="1446" y="494"/>
                  </a:lnTo>
                  <a:lnTo>
                    <a:pt x="1364" y="436"/>
                  </a:lnTo>
                  <a:lnTo>
                    <a:pt x="1282" y="382"/>
                  </a:lnTo>
                  <a:lnTo>
                    <a:pt x="1201" y="334"/>
                  </a:lnTo>
                  <a:lnTo>
                    <a:pt x="1122" y="289"/>
                  </a:lnTo>
                  <a:lnTo>
                    <a:pt x="1043" y="248"/>
                  </a:lnTo>
                  <a:lnTo>
                    <a:pt x="964" y="210"/>
                  </a:lnTo>
                  <a:lnTo>
                    <a:pt x="885" y="177"/>
                  </a:lnTo>
                  <a:lnTo>
                    <a:pt x="807" y="147"/>
                  </a:lnTo>
                  <a:lnTo>
                    <a:pt x="728" y="119"/>
                  </a:lnTo>
                  <a:lnTo>
                    <a:pt x="649" y="95"/>
                  </a:lnTo>
                  <a:lnTo>
                    <a:pt x="571" y="74"/>
                  </a:lnTo>
                  <a:lnTo>
                    <a:pt x="490" y="56"/>
                  </a:lnTo>
                  <a:lnTo>
                    <a:pt x="411" y="42"/>
                  </a:lnTo>
                  <a:lnTo>
                    <a:pt x="331" y="29"/>
                  </a:lnTo>
                  <a:lnTo>
                    <a:pt x="250" y="17"/>
                  </a:lnTo>
                  <a:lnTo>
                    <a:pt x="167" y="9"/>
                  </a:lnTo>
                  <a:lnTo>
                    <a:pt x="85" y="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782000">
              <a:off x="496800" y="-1224000"/>
              <a:ext cx="10591200" cy="5589720"/>
            </a:xfrm>
            <a:custGeom>
              <a:avLst/>
              <a:gdLst/>
              <a:ahLst/>
              <a:rect l="l" t="t" r="r" b="b"/>
              <a:pathLst>
                <a:path w="5049" h="2608">
                  <a:moveTo>
                    <a:pt x="5049" y="2324"/>
                  </a:moveTo>
                  <a:lnTo>
                    <a:pt x="5049" y="2324"/>
                  </a:lnTo>
                  <a:lnTo>
                    <a:pt x="5036" y="2334"/>
                  </a:lnTo>
                  <a:lnTo>
                    <a:pt x="5000" y="2361"/>
                  </a:lnTo>
                  <a:lnTo>
                    <a:pt x="4974" y="2379"/>
                  </a:lnTo>
                  <a:lnTo>
                    <a:pt x="4942" y="2398"/>
                  </a:lnTo>
                  <a:lnTo>
                    <a:pt x="4906" y="2421"/>
                  </a:lnTo>
                  <a:lnTo>
                    <a:pt x="4863" y="2443"/>
                  </a:lnTo>
                  <a:lnTo>
                    <a:pt x="4815" y="2468"/>
                  </a:lnTo>
                  <a:lnTo>
                    <a:pt x="4764" y="2492"/>
                  </a:lnTo>
                  <a:lnTo>
                    <a:pt x="4709" y="2514"/>
                  </a:lnTo>
                  <a:lnTo>
                    <a:pt x="4647" y="2537"/>
                  </a:lnTo>
                  <a:lnTo>
                    <a:pt x="4584" y="2556"/>
                  </a:lnTo>
                  <a:lnTo>
                    <a:pt x="4514" y="2574"/>
                  </a:lnTo>
                  <a:lnTo>
                    <a:pt x="4478" y="2581"/>
                  </a:lnTo>
                  <a:lnTo>
                    <a:pt x="4442" y="2589"/>
                  </a:lnTo>
                  <a:lnTo>
                    <a:pt x="4404" y="2593"/>
                  </a:lnTo>
                  <a:lnTo>
                    <a:pt x="4366" y="2598"/>
                  </a:lnTo>
                  <a:lnTo>
                    <a:pt x="4327" y="2603"/>
                  </a:lnTo>
                  <a:lnTo>
                    <a:pt x="4286" y="2605"/>
                  </a:lnTo>
                  <a:lnTo>
                    <a:pt x="4245" y="2606"/>
                  </a:lnTo>
                  <a:lnTo>
                    <a:pt x="4203" y="2608"/>
                  </a:lnTo>
                  <a:lnTo>
                    <a:pt x="4160" y="2606"/>
                  </a:lnTo>
                  <a:lnTo>
                    <a:pt x="4117" y="2603"/>
                  </a:lnTo>
                  <a:lnTo>
                    <a:pt x="4073" y="2600"/>
                  </a:lnTo>
                  <a:lnTo>
                    <a:pt x="4027" y="2593"/>
                  </a:lnTo>
                  <a:lnTo>
                    <a:pt x="3982" y="2587"/>
                  </a:lnTo>
                  <a:lnTo>
                    <a:pt x="3935" y="2577"/>
                  </a:lnTo>
                  <a:lnTo>
                    <a:pt x="3888" y="2566"/>
                  </a:lnTo>
                  <a:lnTo>
                    <a:pt x="3841" y="2555"/>
                  </a:lnTo>
                  <a:lnTo>
                    <a:pt x="3792" y="2540"/>
                  </a:lnTo>
                  <a:lnTo>
                    <a:pt x="3744" y="2522"/>
                  </a:lnTo>
                  <a:lnTo>
                    <a:pt x="3695" y="2505"/>
                  </a:lnTo>
                  <a:lnTo>
                    <a:pt x="3645" y="2484"/>
                  </a:lnTo>
                  <a:lnTo>
                    <a:pt x="3594" y="2459"/>
                  </a:lnTo>
                  <a:lnTo>
                    <a:pt x="3544" y="2434"/>
                  </a:lnTo>
                  <a:lnTo>
                    <a:pt x="3492" y="2406"/>
                  </a:lnTo>
                  <a:lnTo>
                    <a:pt x="3439" y="2375"/>
                  </a:lnTo>
                  <a:lnTo>
                    <a:pt x="3388" y="2343"/>
                  </a:lnTo>
                  <a:lnTo>
                    <a:pt x="3335" y="2308"/>
                  </a:lnTo>
                  <a:lnTo>
                    <a:pt x="3281" y="2269"/>
                  </a:lnTo>
                  <a:lnTo>
                    <a:pt x="3228" y="2229"/>
                  </a:lnTo>
                  <a:lnTo>
                    <a:pt x="3174" y="2183"/>
                  </a:lnTo>
                  <a:lnTo>
                    <a:pt x="3120" y="2137"/>
                  </a:lnTo>
                  <a:lnTo>
                    <a:pt x="3066" y="2086"/>
                  </a:lnTo>
                  <a:lnTo>
                    <a:pt x="3010" y="2035"/>
                  </a:lnTo>
                  <a:lnTo>
                    <a:pt x="2956" y="1978"/>
                  </a:lnTo>
                  <a:lnTo>
                    <a:pt x="2901" y="1919"/>
                  </a:lnTo>
                  <a:lnTo>
                    <a:pt x="2845" y="1856"/>
                  </a:lnTo>
                  <a:lnTo>
                    <a:pt x="2790" y="1789"/>
                  </a:lnTo>
                  <a:lnTo>
                    <a:pt x="2790" y="1789"/>
                  </a:lnTo>
                  <a:lnTo>
                    <a:pt x="2679" y="1659"/>
                  </a:lnTo>
                  <a:lnTo>
                    <a:pt x="2572" y="1533"/>
                  </a:lnTo>
                  <a:lnTo>
                    <a:pt x="2466" y="1413"/>
                  </a:lnTo>
                  <a:lnTo>
                    <a:pt x="2365" y="1299"/>
                  </a:lnTo>
                  <a:lnTo>
                    <a:pt x="2265" y="1192"/>
                  </a:lnTo>
                  <a:lnTo>
                    <a:pt x="2168" y="1090"/>
                  </a:lnTo>
                  <a:lnTo>
                    <a:pt x="2072" y="993"/>
                  </a:lnTo>
                  <a:lnTo>
                    <a:pt x="1979" y="903"/>
                  </a:lnTo>
                  <a:lnTo>
                    <a:pt x="1887" y="819"/>
                  </a:lnTo>
                  <a:lnTo>
                    <a:pt x="1797" y="738"/>
                  </a:lnTo>
                  <a:lnTo>
                    <a:pt x="1710" y="664"/>
                  </a:lnTo>
                  <a:lnTo>
                    <a:pt x="1622" y="593"/>
                  </a:lnTo>
                  <a:lnTo>
                    <a:pt x="1537" y="528"/>
                  </a:lnTo>
                  <a:lnTo>
                    <a:pt x="1453" y="467"/>
                  </a:lnTo>
                  <a:lnTo>
                    <a:pt x="1371" y="412"/>
                  </a:lnTo>
                  <a:lnTo>
                    <a:pt x="1287" y="360"/>
                  </a:lnTo>
                  <a:lnTo>
                    <a:pt x="1207" y="312"/>
                  </a:lnTo>
                  <a:lnTo>
                    <a:pt x="1126" y="268"/>
                  </a:lnTo>
                  <a:lnTo>
                    <a:pt x="1047" y="230"/>
                  </a:lnTo>
                  <a:lnTo>
                    <a:pt x="967" y="192"/>
                  </a:lnTo>
                  <a:lnTo>
                    <a:pt x="888" y="160"/>
                  </a:lnTo>
                  <a:lnTo>
                    <a:pt x="808" y="133"/>
                  </a:lnTo>
                  <a:lnTo>
                    <a:pt x="731" y="107"/>
                  </a:lnTo>
                  <a:lnTo>
                    <a:pt x="652" y="84"/>
                  </a:lnTo>
                  <a:lnTo>
                    <a:pt x="572" y="65"/>
                  </a:lnTo>
                  <a:lnTo>
                    <a:pt x="492" y="49"/>
                  </a:lnTo>
                  <a:lnTo>
                    <a:pt x="413" y="34"/>
                  </a:lnTo>
                  <a:lnTo>
                    <a:pt x="332" y="23"/>
                  </a:lnTo>
                  <a:lnTo>
                    <a:pt x="250" y="15"/>
                  </a:lnTo>
                  <a:lnTo>
                    <a:pt x="168" y="8"/>
                  </a:lnTo>
                  <a:lnTo>
                    <a:pt x="85" y="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9782000">
              <a:off x="523080" y="-1162440"/>
              <a:ext cx="10658520" cy="5431320"/>
            </a:xfrm>
            <a:custGeom>
              <a:avLst/>
              <a:gdLst/>
              <a:ahLst/>
              <a:rect l="l" t="t" r="r" b="b"/>
              <a:pathLst>
                <a:path w="5081" h="2533">
                  <a:moveTo>
                    <a:pt x="5081" y="2233"/>
                  </a:moveTo>
                  <a:lnTo>
                    <a:pt x="5081" y="2233"/>
                  </a:lnTo>
                  <a:lnTo>
                    <a:pt x="5070" y="2242"/>
                  </a:lnTo>
                  <a:lnTo>
                    <a:pt x="5034" y="2270"/>
                  </a:lnTo>
                  <a:lnTo>
                    <a:pt x="5008" y="2288"/>
                  </a:lnTo>
                  <a:lnTo>
                    <a:pt x="4977" y="2309"/>
                  </a:lnTo>
                  <a:lnTo>
                    <a:pt x="4940" y="2333"/>
                  </a:lnTo>
                  <a:lnTo>
                    <a:pt x="4898" y="2355"/>
                  </a:lnTo>
                  <a:lnTo>
                    <a:pt x="4852" y="2381"/>
                  </a:lnTo>
                  <a:lnTo>
                    <a:pt x="4801" y="2405"/>
                  </a:lnTo>
                  <a:lnTo>
                    <a:pt x="4744" y="2430"/>
                  </a:lnTo>
                  <a:lnTo>
                    <a:pt x="4684" y="2454"/>
                  </a:lnTo>
                  <a:lnTo>
                    <a:pt x="4621" y="2475"/>
                  </a:lnTo>
                  <a:lnTo>
                    <a:pt x="4551" y="2494"/>
                  </a:lnTo>
                  <a:lnTo>
                    <a:pt x="4516" y="2502"/>
                  </a:lnTo>
                  <a:lnTo>
                    <a:pt x="4479" y="2509"/>
                  </a:lnTo>
                  <a:lnTo>
                    <a:pt x="4441" y="2517"/>
                  </a:lnTo>
                  <a:lnTo>
                    <a:pt x="4404" y="2522"/>
                  </a:lnTo>
                  <a:lnTo>
                    <a:pt x="4364" y="2526"/>
                  </a:lnTo>
                  <a:lnTo>
                    <a:pt x="4323" y="2530"/>
                  </a:lnTo>
                  <a:lnTo>
                    <a:pt x="4283" y="2533"/>
                  </a:lnTo>
                  <a:lnTo>
                    <a:pt x="4240" y="2533"/>
                  </a:lnTo>
                  <a:lnTo>
                    <a:pt x="4198" y="2533"/>
                  </a:lnTo>
                  <a:lnTo>
                    <a:pt x="4154" y="2531"/>
                  </a:lnTo>
                  <a:lnTo>
                    <a:pt x="4110" y="2528"/>
                  </a:lnTo>
                  <a:lnTo>
                    <a:pt x="4065" y="2523"/>
                  </a:lnTo>
                  <a:lnTo>
                    <a:pt x="4019" y="2517"/>
                  </a:lnTo>
                  <a:lnTo>
                    <a:pt x="3974" y="2509"/>
                  </a:lnTo>
                  <a:lnTo>
                    <a:pt x="3926" y="2499"/>
                  </a:lnTo>
                  <a:lnTo>
                    <a:pt x="3878" y="2488"/>
                  </a:lnTo>
                  <a:lnTo>
                    <a:pt x="3829" y="2473"/>
                  </a:lnTo>
                  <a:lnTo>
                    <a:pt x="3781" y="2459"/>
                  </a:lnTo>
                  <a:lnTo>
                    <a:pt x="3731" y="2439"/>
                  </a:lnTo>
                  <a:lnTo>
                    <a:pt x="3681" y="2420"/>
                  </a:lnTo>
                  <a:lnTo>
                    <a:pt x="3631" y="2397"/>
                  </a:lnTo>
                  <a:lnTo>
                    <a:pt x="3579" y="2373"/>
                  </a:lnTo>
                  <a:lnTo>
                    <a:pt x="3526" y="2346"/>
                  </a:lnTo>
                  <a:lnTo>
                    <a:pt x="3475" y="2317"/>
                  </a:lnTo>
                  <a:lnTo>
                    <a:pt x="3421" y="2284"/>
                  </a:lnTo>
                  <a:lnTo>
                    <a:pt x="3368" y="2250"/>
                  </a:lnTo>
                  <a:lnTo>
                    <a:pt x="3314" y="2212"/>
                  </a:lnTo>
                  <a:lnTo>
                    <a:pt x="3260" y="2171"/>
                  </a:lnTo>
                  <a:lnTo>
                    <a:pt x="3206" y="2129"/>
                  </a:lnTo>
                  <a:lnTo>
                    <a:pt x="3152" y="2082"/>
                  </a:lnTo>
                  <a:lnTo>
                    <a:pt x="3096" y="2034"/>
                  </a:lnTo>
                  <a:lnTo>
                    <a:pt x="3041" y="1982"/>
                  </a:lnTo>
                  <a:lnTo>
                    <a:pt x="2984" y="1926"/>
                  </a:lnTo>
                  <a:lnTo>
                    <a:pt x="2928" y="1868"/>
                  </a:lnTo>
                  <a:lnTo>
                    <a:pt x="2871" y="1806"/>
                  </a:lnTo>
                  <a:lnTo>
                    <a:pt x="2814" y="1742"/>
                  </a:lnTo>
                  <a:lnTo>
                    <a:pt x="2814" y="1742"/>
                  </a:lnTo>
                  <a:lnTo>
                    <a:pt x="2703" y="1611"/>
                  </a:lnTo>
                  <a:lnTo>
                    <a:pt x="2593" y="1487"/>
                  </a:lnTo>
                  <a:lnTo>
                    <a:pt x="2487" y="1369"/>
                  </a:lnTo>
                  <a:lnTo>
                    <a:pt x="2382" y="1256"/>
                  </a:lnTo>
                  <a:lnTo>
                    <a:pt x="2281" y="1151"/>
                  </a:lnTo>
                  <a:lnTo>
                    <a:pt x="2182" y="1051"/>
                  </a:lnTo>
                  <a:lnTo>
                    <a:pt x="2085" y="955"/>
                  </a:lnTo>
                  <a:lnTo>
                    <a:pt x="1991" y="867"/>
                  </a:lnTo>
                  <a:lnTo>
                    <a:pt x="1898" y="783"/>
                  </a:lnTo>
                  <a:lnTo>
                    <a:pt x="1808" y="705"/>
                  </a:lnTo>
                  <a:lnTo>
                    <a:pt x="1717" y="631"/>
                  </a:lnTo>
                  <a:lnTo>
                    <a:pt x="1630" y="563"/>
                  </a:lnTo>
                  <a:lnTo>
                    <a:pt x="1544" y="498"/>
                  </a:lnTo>
                  <a:lnTo>
                    <a:pt x="1459" y="439"/>
                  </a:lnTo>
                  <a:lnTo>
                    <a:pt x="1376" y="385"/>
                  </a:lnTo>
                  <a:lnTo>
                    <a:pt x="1292" y="334"/>
                  </a:lnTo>
                  <a:lnTo>
                    <a:pt x="1211" y="289"/>
                  </a:lnTo>
                  <a:lnTo>
                    <a:pt x="1130" y="247"/>
                  </a:lnTo>
                  <a:lnTo>
                    <a:pt x="1050" y="208"/>
                  </a:lnTo>
                  <a:lnTo>
                    <a:pt x="969" y="174"/>
                  </a:lnTo>
                  <a:lnTo>
                    <a:pt x="890" y="143"/>
                  </a:lnTo>
                  <a:lnTo>
                    <a:pt x="811" y="116"/>
                  </a:lnTo>
                  <a:lnTo>
                    <a:pt x="732" y="92"/>
                  </a:lnTo>
                  <a:lnTo>
                    <a:pt x="651" y="71"/>
                  </a:lnTo>
                  <a:lnTo>
                    <a:pt x="572" y="53"/>
                  </a:lnTo>
                  <a:lnTo>
                    <a:pt x="493" y="37"/>
                  </a:lnTo>
                  <a:lnTo>
                    <a:pt x="412" y="25"/>
                  </a:lnTo>
                  <a:lnTo>
                    <a:pt x="332" y="16"/>
                  </a:lnTo>
                  <a:lnTo>
                    <a:pt x="250" y="8"/>
                  </a:lnTo>
                  <a:lnTo>
                    <a:pt x="168" y="3"/>
                  </a:lnTo>
                  <a:lnTo>
                    <a:pt x="85" y="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9782000">
              <a:off x="549720" y="-1097280"/>
              <a:ext cx="10729800" cy="5272920"/>
            </a:xfrm>
            <a:custGeom>
              <a:avLst/>
              <a:gdLst/>
              <a:ahLst/>
              <a:rect l="l" t="t" r="r" b="b"/>
              <a:pathLst>
                <a:path w="5115" h="2460">
                  <a:moveTo>
                    <a:pt x="5115" y="2141"/>
                  </a:moveTo>
                  <a:lnTo>
                    <a:pt x="5115" y="2141"/>
                  </a:lnTo>
                  <a:lnTo>
                    <a:pt x="5104" y="2150"/>
                  </a:lnTo>
                  <a:lnTo>
                    <a:pt x="5068" y="2180"/>
                  </a:lnTo>
                  <a:lnTo>
                    <a:pt x="5043" y="2197"/>
                  </a:lnTo>
                  <a:lnTo>
                    <a:pt x="5011" y="2220"/>
                  </a:lnTo>
                  <a:lnTo>
                    <a:pt x="4975" y="2244"/>
                  </a:lnTo>
                  <a:lnTo>
                    <a:pt x="4933" y="2268"/>
                  </a:lnTo>
                  <a:lnTo>
                    <a:pt x="4888" y="2294"/>
                  </a:lnTo>
                  <a:lnTo>
                    <a:pt x="4836" y="2320"/>
                  </a:lnTo>
                  <a:lnTo>
                    <a:pt x="4781" y="2346"/>
                  </a:lnTo>
                  <a:lnTo>
                    <a:pt x="4721" y="2370"/>
                  </a:lnTo>
                  <a:lnTo>
                    <a:pt x="4657" y="2393"/>
                  </a:lnTo>
                  <a:lnTo>
                    <a:pt x="4589" y="2414"/>
                  </a:lnTo>
                  <a:lnTo>
                    <a:pt x="4554" y="2423"/>
                  </a:lnTo>
                  <a:lnTo>
                    <a:pt x="4517" y="2431"/>
                  </a:lnTo>
                  <a:lnTo>
                    <a:pt x="4479" y="2438"/>
                  </a:lnTo>
                  <a:lnTo>
                    <a:pt x="4442" y="2444"/>
                  </a:lnTo>
                  <a:lnTo>
                    <a:pt x="4402" y="2451"/>
                  </a:lnTo>
                  <a:lnTo>
                    <a:pt x="4361" y="2456"/>
                  </a:lnTo>
                  <a:lnTo>
                    <a:pt x="4321" y="2459"/>
                  </a:lnTo>
                  <a:lnTo>
                    <a:pt x="4279" y="2460"/>
                  </a:lnTo>
                  <a:lnTo>
                    <a:pt x="4236" y="2460"/>
                  </a:lnTo>
                  <a:lnTo>
                    <a:pt x="4193" y="2460"/>
                  </a:lnTo>
                  <a:lnTo>
                    <a:pt x="4149" y="2457"/>
                  </a:lnTo>
                  <a:lnTo>
                    <a:pt x="4103" y="2454"/>
                  </a:lnTo>
                  <a:lnTo>
                    <a:pt x="4057" y="2448"/>
                  </a:lnTo>
                  <a:lnTo>
                    <a:pt x="4012" y="2441"/>
                  </a:lnTo>
                  <a:lnTo>
                    <a:pt x="3964" y="2431"/>
                  </a:lnTo>
                  <a:lnTo>
                    <a:pt x="3916" y="2422"/>
                  </a:lnTo>
                  <a:lnTo>
                    <a:pt x="3867" y="2409"/>
                  </a:lnTo>
                  <a:lnTo>
                    <a:pt x="3819" y="2394"/>
                  </a:lnTo>
                  <a:lnTo>
                    <a:pt x="3769" y="2377"/>
                  </a:lnTo>
                  <a:lnTo>
                    <a:pt x="3717" y="2357"/>
                  </a:lnTo>
                  <a:lnTo>
                    <a:pt x="3666" y="2336"/>
                  </a:lnTo>
                  <a:lnTo>
                    <a:pt x="3614" y="2312"/>
                  </a:lnTo>
                  <a:lnTo>
                    <a:pt x="3563" y="2286"/>
                  </a:lnTo>
                  <a:lnTo>
                    <a:pt x="3510" y="2257"/>
                  </a:lnTo>
                  <a:lnTo>
                    <a:pt x="3456" y="2226"/>
                  </a:lnTo>
                  <a:lnTo>
                    <a:pt x="3402" y="2192"/>
                  </a:lnTo>
                  <a:lnTo>
                    <a:pt x="3348" y="2155"/>
                  </a:lnTo>
                  <a:lnTo>
                    <a:pt x="3294" y="2117"/>
                  </a:lnTo>
                  <a:lnTo>
                    <a:pt x="3238" y="2075"/>
                  </a:lnTo>
                  <a:lnTo>
                    <a:pt x="3183" y="2029"/>
                  </a:lnTo>
                  <a:lnTo>
                    <a:pt x="3127" y="1981"/>
                  </a:lnTo>
                  <a:lnTo>
                    <a:pt x="3070" y="1931"/>
                  </a:lnTo>
                  <a:lnTo>
                    <a:pt x="3013" y="1876"/>
                  </a:lnTo>
                  <a:lnTo>
                    <a:pt x="2956" y="1818"/>
                  </a:lnTo>
                  <a:lnTo>
                    <a:pt x="2899" y="1756"/>
                  </a:lnTo>
                  <a:lnTo>
                    <a:pt x="2841" y="1694"/>
                  </a:lnTo>
                  <a:lnTo>
                    <a:pt x="2841" y="1694"/>
                  </a:lnTo>
                  <a:lnTo>
                    <a:pt x="2727" y="1564"/>
                  </a:lnTo>
                  <a:lnTo>
                    <a:pt x="2616" y="1442"/>
                  </a:lnTo>
                  <a:lnTo>
                    <a:pt x="2508" y="1325"/>
                  </a:lnTo>
                  <a:lnTo>
                    <a:pt x="2402" y="1214"/>
                  </a:lnTo>
                  <a:lnTo>
                    <a:pt x="2300" y="1111"/>
                  </a:lnTo>
                  <a:lnTo>
                    <a:pt x="2198" y="1012"/>
                  </a:lnTo>
                  <a:lnTo>
                    <a:pt x="2101" y="918"/>
                  </a:lnTo>
                  <a:lnTo>
                    <a:pt x="2004" y="831"/>
                  </a:lnTo>
                  <a:lnTo>
                    <a:pt x="1911" y="749"/>
                  </a:lnTo>
                  <a:lnTo>
                    <a:pt x="1818" y="671"/>
                  </a:lnTo>
                  <a:lnTo>
                    <a:pt x="1728" y="600"/>
                  </a:lnTo>
                  <a:lnTo>
                    <a:pt x="1639" y="533"/>
                  </a:lnTo>
                  <a:lnTo>
                    <a:pt x="1553" y="470"/>
                  </a:lnTo>
                  <a:lnTo>
                    <a:pt x="1467" y="413"/>
                  </a:lnTo>
                  <a:lnTo>
                    <a:pt x="1382" y="360"/>
                  </a:lnTo>
                  <a:lnTo>
                    <a:pt x="1299" y="310"/>
                  </a:lnTo>
                  <a:lnTo>
                    <a:pt x="1215" y="266"/>
                  </a:lnTo>
                  <a:lnTo>
                    <a:pt x="1133" y="224"/>
                  </a:lnTo>
                  <a:lnTo>
                    <a:pt x="1053" y="189"/>
                  </a:lnTo>
                  <a:lnTo>
                    <a:pt x="972" y="155"/>
                  </a:lnTo>
                  <a:lnTo>
                    <a:pt x="892" y="126"/>
                  </a:lnTo>
                  <a:lnTo>
                    <a:pt x="813" y="100"/>
                  </a:lnTo>
                  <a:lnTo>
                    <a:pt x="733" y="77"/>
                  </a:lnTo>
                  <a:lnTo>
                    <a:pt x="653" y="58"/>
                  </a:lnTo>
                  <a:lnTo>
                    <a:pt x="574" y="42"/>
                  </a:lnTo>
                  <a:lnTo>
                    <a:pt x="493" y="29"/>
                  </a:lnTo>
                  <a:lnTo>
                    <a:pt x="413" y="17"/>
                  </a:lnTo>
                  <a:lnTo>
                    <a:pt x="332" y="9"/>
                  </a:lnTo>
                  <a:lnTo>
                    <a:pt x="250" y="3"/>
                  </a:lnTo>
                  <a:lnTo>
                    <a:pt x="168" y="0"/>
                  </a:lnTo>
                  <a:lnTo>
                    <a:pt x="85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9782000">
              <a:off x="580320" y="-1037160"/>
              <a:ext cx="10796400" cy="5123160"/>
            </a:xfrm>
            <a:custGeom>
              <a:avLst/>
              <a:gdLst/>
              <a:ahLst/>
              <a:rect l="l" t="t" r="r" b="b"/>
              <a:pathLst>
                <a:path w="5147" h="2390">
                  <a:moveTo>
                    <a:pt x="5147" y="2049"/>
                  </a:moveTo>
                  <a:lnTo>
                    <a:pt x="5147" y="2049"/>
                  </a:lnTo>
                  <a:lnTo>
                    <a:pt x="5135" y="2061"/>
                  </a:lnTo>
                  <a:lnTo>
                    <a:pt x="5100" y="2090"/>
                  </a:lnTo>
                  <a:lnTo>
                    <a:pt x="5075" y="2109"/>
                  </a:lnTo>
                  <a:lnTo>
                    <a:pt x="5043" y="2132"/>
                  </a:lnTo>
                  <a:lnTo>
                    <a:pt x="5008" y="2156"/>
                  </a:lnTo>
                  <a:lnTo>
                    <a:pt x="4967" y="2182"/>
                  </a:lnTo>
                  <a:lnTo>
                    <a:pt x="4921" y="2209"/>
                  </a:lnTo>
                  <a:lnTo>
                    <a:pt x="4871" y="2237"/>
                  </a:lnTo>
                  <a:lnTo>
                    <a:pt x="4815" y="2262"/>
                  </a:lnTo>
                  <a:lnTo>
                    <a:pt x="4756" y="2288"/>
                  </a:lnTo>
                  <a:lnTo>
                    <a:pt x="4692" y="2313"/>
                  </a:lnTo>
                  <a:lnTo>
                    <a:pt x="4624" y="2335"/>
                  </a:lnTo>
                  <a:lnTo>
                    <a:pt x="4589" y="2345"/>
                  </a:lnTo>
                  <a:lnTo>
                    <a:pt x="4553" y="2355"/>
                  </a:lnTo>
                  <a:lnTo>
                    <a:pt x="4515" y="2363"/>
                  </a:lnTo>
                  <a:lnTo>
                    <a:pt x="4477" y="2369"/>
                  </a:lnTo>
                  <a:lnTo>
                    <a:pt x="4438" y="2376"/>
                  </a:lnTo>
                  <a:lnTo>
                    <a:pt x="4397" y="2382"/>
                  </a:lnTo>
                  <a:lnTo>
                    <a:pt x="4357" y="2385"/>
                  </a:lnTo>
                  <a:lnTo>
                    <a:pt x="4314" y="2388"/>
                  </a:lnTo>
                  <a:lnTo>
                    <a:pt x="4272" y="2390"/>
                  </a:lnTo>
                  <a:lnTo>
                    <a:pt x="4228" y="2390"/>
                  </a:lnTo>
                  <a:lnTo>
                    <a:pt x="4184" y="2388"/>
                  </a:lnTo>
                  <a:lnTo>
                    <a:pt x="4139" y="2385"/>
                  </a:lnTo>
                  <a:lnTo>
                    <a:pt x="4093" y="2380"/>
                  </a:lnTo>
                  <a:lnTo>
                    <a:pt x="4046" y="2374"/>
                  </a:lnTo>
                  <a:lnTo>
                    <a:pt x="3999" y="2366"/>
                  </a:lnTo>
                  <a:lnTo>
                    <a:pt x="3952" y="2356"/>
                  </a:lnTo>
                  <a:lnTo>
                    <a:pt x="3902" y="2345"/>
                  </a:lnTo>
                  <a:lnTo>
                    <a:pt x="3853" y="2330"/>
                  </a:lnTo>
                  <a:lnTo>
                    <a:pt x="3803" y="2314"/>
                  </a:lnTo>
                  <a:lnTo>
                    <a:pt x="3752" y="2296"/>
                  </a:lnTo>
                  <a:lnTo>
                    <a:pt x="3700" y="2275"/>
                  </a:lnTo>
                  <a:lnTo>
                    <a:pt x="3648" y="2253"/>
                  </a:lnTo>
                  <a:lnTo>
                    <a:pt x="3596" y="2229"/>
                  </a:lnTo>
                  <a:lnTo>
                    <a:pt x="3542" y="2200"/>
                  </a:lnTo>
                  <a:lnTo>
                    <a:pt x="3489" y="2170"/>
                  </a:lnTo>
                  <a:lnTo>
                    <a:pt x="3434" y="2137"/>
                  </a:lnTo>
                  <a:lnTo>
                    <a:pt x="3380" y="2101"/>
                  </a:lnTo>
                  <a:lnTo>
                    <a:pt x="3324" y="2064"/>
                  </a:lnTo>
                  <a:lnTo>
                    <a:pt x="3269" y="2022"/>
                  </a:lnTo>
                  <a:lnTo>
                    <a:pt x="3212" y="1978"/>
                  </a:lnTo>
                  <a:lnTo>
                    <a:pt x="3156" y="1930"/>
                  </a:lnTo>
                  <a:lnTo>
                    <a:pt x="3098" y="1880"/>
                  </a:lnTo>
                  <a:lnTo>
                    <a:pt x="3041" y="1827"/>
                  </a:lnTo>
                  <a:lnTo>
                    <a:pt x="2983" y="1770"/>
                  </a:lnTo>
                  <a:lnTo>
                    <a:pt x="2924" y="1710"/>
                  </a:lnTo>
                  <a:lnTo>
                    <a:pt x="2866" y="1646"/>
                  </a:lnTo>
                  <a:lnTo>
                    <a:pt x="2866" y="1646"/>
                  </a:lnTo>
                  <a:lnTo>
                    <a:pt x="2749" y="1520"/>
                  </a:lnTo>
                  <a:lnTo>
                    <a:pt x="2637" y="1399"/>
                  </a:lnTo>
                  <a:lnTo>
                    <a:pt x="2527" y="1284"/>
                  </a:lnTo>
                  <a:lnTo>
                    <a:pt x="2419" y="1174"/>
                  </a:lnTo>
                  <a:lnTo>
                    <a:pt x="2315" y="1072"/>
                  </a:lnTo>
                  <a:lnTo>
                    <a:pt x="2213" y="976"/>
                  </a:lnTo>
                  <a:lnTo>
                    <a:pt x="2113" y="884"/>
                  </a:lnTo>
                  <a:lnTo>
                    <a:pt x="2016" y="798"/>
                  </a:lnTo>
                  <a:lnTo>
                    <a:pt x="1920" y="717"/>
                  </a:lnTo>
                  <a:lnTo>
                    <a:pt x="1827" y="641"/>
                  </a:lnTo>
                  <a:lnTo>
                    <a:pt x="1736" y="570"/>
                  </a:lnTo>
                  <a:lnTo>
                    <a:pt x="1647" y="504"/>
                  </a:lnTo>
                  <a:lnTo>
                    <a:pt x="1558" y="444"/>
                  </a:lnTo>
                  <a:lnTo>
                    <a:pt x="1472" y="388"/>
                  </a:lnTo>
                  <a:lnTo>
                    <a:pt x="1386" y="336"/>
                  </a:lnTo>
                  <a:lnTo>
                    <a:pt x="1303" y="288"/>
                  </a:lnTo>
                  <a:lnTo>
                    <a:pt x="1219" y="246"/>
                  </a:lnTo>
                  <a:lnTo>
                    <a:pt x="1136" y="205"/>
                  </a:lnTo>
                  <a:lnTo>
                    <a:pt x="1055" y="170"/>
                  </a:lnTo>
                  <a:lnTo>
                    <a:pt x="974" y="139"/>
                  </a:lnTo>
                  <a:lnTo>
                    <a:pt x="893" y="112"/>
                  </a:lnTo>
                  <a:lnTo>
                    <a:pt x="814" y="88"/>
                  </a:lnTo>
                  <a:lnTo>
                    <a:pt x="733" y="65"/>
                  </a:lnTo>
                  <a:lnTo>
                    <a:pt x="653" y="47"/>
                  </a:lnTo>
                  <a:lnTo>
                    <a:pt x="574" y="33"/>
                  </a:lnTo>
                  <a:lnTo>
                    <a:pt x="493" y="21"/>
                  </a:lnTo>
                  <a:lnTo>
                    <a:pt x="413" y="12"/>
                  </a:lnTo>
                  <a:lnTo>
                    <a:pt x="332" y="5"/>
                  </a:lnTo>
                  <a:lnTo>
                    <a:pt x="250" y="2"/>
                  </a:lnTo>
                  <a:lnTo>
                    <a:pt x="168" y="0"/>
                  </a:lnTo>
                  <a:lnTo>
                    <a:pt x="85" y="0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" name=""/>
            <p:cNvSpPr/>
            <p:nvPr/>
          </p:nvSpPr>
          <p:spPr>
            <a:xfrm rot="19782000">
              <a:off x="608760" y="-979200"/>
              <a:ext cx="10857960" cy="4972320"/>
            </a:xfrm>
            <a:custGeom>
              <a:avLst/>
              <a:gdLst/>
              <a:ahLst/>
              <a:rect l="l" t="t" r="r" b="b"/>
              <a:pathLst>
                <a:path w="5176" h="2321">
                  <a:moveTo>
                    <a:pt x="5176" y="1959"/>
                  </a:moveTo>
                  <a:lnTo>
                    <a:pt x="5176" y="1959"/>
                  </a:lnTo>
                  <a:lnTo>
                    <a:pt x="5165" y="1970"/>
                  </a:lnTo>
                  <a:lnTo>
                    <a:pt x="5130" y="2001"/>
                  </a:lnTo>
                  <a:lnTo>
                    <a:pt x="5105" y="2020"/>
                  </a:lnTo>
                  <a:lnTo>
                    <a:pt x="5075" y="2044"/>
                  </a:lnTo>
                  <a:lnTo>
                    <a:pt x="5039" y="2070"/>
                  </a:lnTo>
                  <a:lnTo>
                    <a:pt x="4998" y="2096"/>
                  </a:lnTo>
                  <a:lnTo>
                    <a:pt x="4953" y="2125"/>
                  </a:lnTo>
                  <a:lnTo>
                    <a:pt x="4903" y="2153"/>
                  </a:lnTo>
                  <a:lnTo>
                    <a:pt x="4849" y="2180"/>
                  </a:lnTo>
                  <a:lnTo>
                    <a:pt x="4790" y="2208"/>
                  </a:lnTo>
                  <a:lnTo>
                    <a:pt x="4726" y="2233"/>
                  </a:lnTo>
                  <a:lnTo>
                    <a:pt x="4658" y="2258"/>
                  </a:lnTo>
                  <a:lnTo>
                    <a:pt x="4624" y="2267"/>
                  </a:lnTo>
                  <a:lnTo>
                    <a:pt x="4587" y="2277"/>
                  </a:lnTo>
                  <a:lnTo>
                    <a:pt x="4550" y="2287"/>
                  </a:lnTo>
                  <a:lnTo>
                    <a:pt x="4513" y="2295"/>
                  </a:lnTo>
                  <a:lnTo>
                    <a:pt x="4472" y="2303"/>
                  </a:lnTo>
                  <a:lnTo>
                    <a:pt x="4433" y="2308"/>
                  </a:lnTo>
                  <a:lnTo>
                    <a:pt x="4392" y="2313"/>
                  </a:lnTo>
                  <a:lnTo>
                    <a:pt x="4350" y="2317"/>
                  </a:lnTo>
                  <a:lnTo>
                    <a:pt x="4307" y="2319"/>
                  </a:lnTo>
                  <a:lnTo>
                    <a:pt x="4264" y="2321"/>
                  </a:lnTo>
                  <a:lnTo>
                    <a:pt x="4220" y="2319"/>
                  </a:lnTo>
                  <a:lnTo>
                    <a:pt x="4174" y="2317"/>
                  </a:lnTo>
                  <a:lnTo>
                    <a:pt x="4128" y="2314"/>
                  </a:lnTo>
                  <a:lnTo>
                    <a:pt x="4082" y="2308"/>
                  </a:lnTo>
                  <a:lnTo>
                    <a:pt x="4034" y="2301"/>
                  </a:lnTo>
                  <a:lnTo>
                    <a:pt x="3986" y="2292"/>
                  </a:lnTo>
                  <a:lnTo>
                    <a:pt x="3936" y="2282"/>
                  </a:lnTo>
                  <a:lnTo>
                    <a:pt x="3888" y="2269"/>
                  </a:lnTo>
                  <a:lnTo>
                    <a:pt x="3836" y="2253"/>
                  </a:lnTo>
                  <a:lnTo>
                    <a:pt x="3786" y="2235"/>
                  </a:lnTo>
                  <a:lnTo>
                    <a:pt x="3734" y="2216"/>
                  </a:lnTo>
                  <a:lnTo>
                    <a:pt x="3682" y="2195"/>
                  </a:lnTo>
                  <a:lnTo>
                    <a:pt x="3628" y="2170"/>
                  </a:lnTo>
                  <a:lnTo>
                    <a:pt x="3575" y="2143"/>
                  </a:lnTo>
                  <a:lnTo>
                    <a:pt x="3521" y="2114"/>
                  </a:lnTo>
                  <a:lnTo>
                    <a:pt x="3466" y="2082"/>
                  </a:lnTo>
                  <a:lnTo>
                    <a:pt x="3410" y="2048"/>
                  </a:lnTo>
                  <a:lnTo>
                    <a:pt x="3355" y="2011"/>
                  </a:lnTo>
                  <a:lnTo>
                    <a:pt x="3298" y="1970"/>
                  </a:lnTo>
                  <a:lnTo>
                    <a:pt x="3241" y="1927"/>
                  </a:lnTo>
                  <a:lnTo>
                    <a:pt x="3184" y="1880"/>
                  </a:lnTo>
                  <a:lnTo>
                    <a:pt x="3125" y="1831"/>
                  </a:lnTo>
                  <a:lnTo>
                    <a:pt x="3067" y="1778"/>
                  </a:lnTo>
                  <a:lnTo>
                    <a:pt x="3009" y="1723"/>
                  </a:lnTo>
                  <a:lnTo>
                    <a:pt x="2949" y="1663"/>
                  </a:lnTo>
                  <a:lnTo>
                    <a:pt x="2891" y="1600"/>
                  </a:lnTo>
                  <a:lnTo>
                    <a:pt x="2891" y="1600"/>
                  </a:lnTo>
                  <a:lnTo>
                    <a:pt x="2773" y="1475"/>
                  </a:lnTo>
                  <a:lnTo>
                    <a:pt x="2658" y="1357"/>
                  </a:lnTo>
                  <a:lnTo>
                    <a:pt x="2545" y="1244"/>
                  </a:lnTo>
                  <a:lnTo>
                    <a:pt x="2437" y="1135"/>
                  </a:lnTo>
                  <a:lnTo>
                    <a:pt x="2331" y="1035"/>
                  </a:lnTo>
                  <a:lnTo>
                    <a:pt x="2227" y="938"/>
                  </a:lnTo>
                  <a:lnTo>
                    <a:pt x="2126" y="850"/>
                  </a:lnTo>
                  <a:lnTo>
                    <a:pt x="2027" y="764"/>
                  </a:lnTo>
                  <a:lnTo>
                    <a:pt x="1931" y="685"/>
                  </a:lnTo>
                  <a:lnTo>
                    <a:pt x="1837" y="611"/>
                  </a:lnTo>
                  <a:lnTo>
                    <a:pt x="1744" y="543"/>
                  </a:lnTo>
                  <a:lnTo>
                    <a:pt x="1654" y="478"/>
                  </a:lnTo>
                  <a:lnTo>
                    <a:pt x="1565" y="419"/>
                  </a:lnTo>
                  <a:lnTo>
                    <a:pt x="1477" y="364"/>
                  </a:lnTo>
                  <a:lnTo>
                    <a:pt x="1391" y="314"/>
                  </a:lnTo>
                  <a:lnTo>
                    <a:pt x="1305" y="268"/>
                  </a:lnTo>
                  <a:lnTo>
                    <a:pt x="1222" y="226"/>
                  </a:lnTo>
                  <a:lnTo>
                    <a:pt x="1139" y="188"/>
                  </a:lnTo>
                  <a:lnTo>
                    <a:pt x="1057" y="154"/>
                  </a:lnTo>
                  <a:lnTo>
                    <a:pt x="976" y="125"/>
                  </a:lnTo>
                  <a:lnTo>
                    <a:pt x="894" y="99"/>
                  </a:lnTo>
                  <a:lnTo>
                    <a:pt x="814" y="75"/>
                  </a:lnTo>
                  <a:lnTo>
                    <a:pt x="735" y="55"/>
                  </a:lnTo>
                  <a:lnTo>
                    <a:pt x="654" y="39"/>
                  </a:lnTo>
                  <a:lnTo>
                    <a:pt x="574" y="26"/>
                  </a:lnTo>
                  <a:lnTo>
                    <a:pt x="493" y="16"/>
                  </a:lnTo>
                  <a:lnTo>
                    <a:pt x="412" y="8"/>
                  </a:lnTo>
                  <a:lnTo>
                    <a:pt x="332" y="4"/>
                  </a:lnTo>
                  <a:lnTo>
                    <a:pt x="250" y="0"/>
                  </a:lnTo>
                  <a:lnTo>
                    <a:pt x="168" y="0"/>
                  </a:lnTo>
                  <a:lnTo>
                    <a:pt x="85" y="4"/>
                  </a:lnTo>
                  <a:lnTo>
                    <a:pt x="0" y="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" name=""/>
            <p:cNvSpPr/>
            <p:nvPr/>
          </p:nvSpPr>
          <p:spPr>
            <a:xfrm rot="19782000">
              <a:off x="636840" y="-920880"/>
              <a:ext cx="10918800" cy="4817880"/>
            </a:xfrm>
            <a:custGeom>
              <a:avLst/>
              <a:gdLst/>
              <a:ahLst/>
              <a:rect l="l" t="t" r="r" b="b"/>
              <a:pathLst>
                <a:path w="5205" h="2250">
                  <a:moveTo>
                    <a:pt x="5205" y="1868"/>
                  </a:moveTo>
                  <a:lnTo>
                    <a:pt x="5205" y="1868"/>
                  </a:lnTo>
                  <a:lnTo>
                    <a:pt x="5194" y="1880"/>
                  </a:lnTo>
                  <a:lnTo>
                    <a:pt x="5161" y="1910"/>
                  </a:lnTo>
                  <a:lnTo>
                    <a:pt x="5136" y="1931"/>
                  </a:lnTo>
                  <a:lnTo>
                    <a:pt x="5105" y="1956"/>
                  </a:lnTo>
                  <a:lnTo>
                    <a:pt x="5071" y="1981"/>
                  </a:lnTo>
                  <a:lnTo>
                    <a:pt x="5030" y="2011"/>
                  </a:lnTo>
                  <a:lnTo>
                    <a:pt x="4984" y="2040"/>
                  </a:lnTo>
                  <a:lnTo>
                    <a:pt x="4936" y="2069"/>
                  </a:lnTo>
                  <a:lnTo>
                    <a:pt x="4882" y="2098"/>
                  </a:lnTo>
                  <a:lnTo>
                    <a:pt x="4822" y="2127"/>
                  </a:lnTo>
                  <a:lnTo>
                    <a:pt x="4760" y="2153"/>
                  </a:lnTo>
                  <a:lnTo>
                    <a:pt x="4693" y="2178"/>
                  </a:lnTo>
                  <a:lnTo>
                    <a:pt x="4657" y="2190"/>
                  </a:lnTo>
                  <a:lnTo>
                    <a:pt x="4621" y="2201"/>
                  </a:lnTo>
                  <a:lnTo>
                    <a:pt x="4585" y="2211"/>
                  </a:lnTo>
                  <a:lnTo>
                    <a:pt x="4546" y="2219"/>
                  </a:lnTo>
                  <a:lnTo>
                    <a:pt x="4507" y="2227"/>
                  </a:lnTo>
                  <a:lnTo>
                    <a:pt x="4467" y="2235"/>
                  </a:lnTo>
                  <a:lnTo>
                    <a:pt x="4426" y="2240"/>
                  </a:lnTo>
                  <a:lnTo>
                    <a:pt x="4385" y="2245"/>
                  </a:lnTo>
                  <a:lnTo>
                    <a:pt x="4342" y="2248"/>
                  </a:lnTo>
                  <a:lnTo>
                    <a:pt x="4299" y="2250"/>
                  </a:lnTo>
                  <a:lnTo>
                    <a:pt x="4254" y="2250"/>
                  </a:lnTo>
                  <a:lnTo>
                    <a:pt x="4208" y="2250"/>
                  </a:lnTo>
                  <a:lnTo>
                    <a:pt x="4163" y="2246"/>
                  </a:lnTo>
                  <a:lnTo>
                    <a:pt x="4117" y="2241"/>
                  </a:lnTo>
                  <a:lnTo>
                    <a:pt x="4068" y="2235"/>
                  </a:lnTo>
                  <a:lnTo>
                    <a:pt x="4020" y="2227"/>
                  </a:lnTo>
                  <a:lnTo>
                    <a:pt x="3971" y="2217"/>
                  </a:lnTo>
                  <a:lnTo>
                    <a:pt x="3921" y="2206"/>
                  </a:lnTo>
                  <a:lnTo>
                    <a:pt x="3871" y="2191"/>
                  </a:lnTo>
                  <a:lnTo>
                    <a:pt x="3820" y="2175"/>
                  </a:lnTo>
                  <a:lnTo>
                    <a:pt x="3767" y="2156"/>
                  </a:lnTo>
                  <a:lnTo>
                    <a:pt x="3714" y="2135"/>
                  </a:lnTo>
                  <a:lnTo>
                    <a:pt x="3661" y="2112"/>
                  </a:lnTo>
                  <a:lnTo>
                    <a:pt x="3607" y="2086"/>
                  </a:lnTo>
                  <a:lnTo>
                    <a:pt x="3553" y="2057"/>
                  </a:lnTo>
                  <a:lnTo>
                    <a:pt x="3497" y="2027"/>
                  </a:lnTo>
                  <a:lnTo>
                    <a:pt x="3442" y="1993"/>
                  </a:lnTo>
                  <a:lnTo>
                    <a:pt x="3385" y="1957"/>
                  </a:lnTo>
                  <a:lnTo>
                    <a:pt x="3328" y="1917"/>
                  </a:lnTo>
                  <a:lnTo>
                    <a:pt x="3270" y="1875"/>
                  </a:lnTo>
                  <a:lnTo>
                    <a:pt x="3213" y="1830"/>
                  </a:lnTo>
                  <a:lnTo>
                    <a:pt x="3153" y="1781"/>
                  </a:lnTo>
                  <a:lnTo>
                    <a:pt x="3095" y="1730"/>
                  </a:lnTo>
                  <a:lnTo>
                    <a:pt x="3035" y="1675"/>
                  </a:lnTo>
                  <a:lnTo>
                    <a:pt x="2975" y="1617"/>
                  </a:lnTo>
                  <a:lnTo>
                    <a:pt x="2914" y="1555"/>
                  </a:lnTo>
                  <a:lnTo>
                    <a:pt x="2914" y="1555"/>
                  </a:lnTo>
                  <a:lnTo>
                    <a:pt x="2795" y="1431"/>
                  </a:lnTo>
                  <a:lnTo>
                    <a:pt x="2678" y="1313"/>
                  </a:lnTo>
                  <a:lnTo>
                    <a:pt x="2564" y="1202"/>
                  </a:lnTo>
                  <a:lnTo>
                    <a:pt x="2453" y="1097"/>
                  </a:lnTo>
                  <a:lnTo>
                    <a:pt x="2346" y="997"/>
                  </a:lnTo>
                  <a:lnTo>
                    <a:pt x="2241" y="903"/>
                  </a:lnTo>
                  <a:lnTo>
                    <a:pt x="2140" y="816"/>
                  </a:lnTo>
                  <a:lnTo>
                    <a:pt x="2040" y="732"/>
                  </a:lnTo>
                  <a:lnTo>
                    <a:pt x="1941" y="654"/>
                  </a:lnTo>
                  <a:lnTo>
                    <a:pt x="1847" y="582"/>
                  </a:lnTo>
                  <a:lnTo>
                    <a:pt x="1752" y="514"/>
                  </a:lnTo>
                  <a:lnTo>
                    <a:pt x="1661" y="452"/>
                  </a:lnTo>
                  <a:lnTo>
                    <a:pt x="1570" y="394"/>
                  </a:lnTo>
                  <a:lnTo>
                    <a:pt x="1483" y="341"/>
                  </a:lnTo>
                  <a:lnTo>
                    <a:pt x="1395" y="293"/>
                  </a:lnTo>
                  <a:lnTo>
                    <a:pt x="1311" y="247"/>
                  </a:lnTo>
                  <a:lnTo>
                    <a:pt x="1226" y="207"/>
                  </a:lnTo>
                  <a:lnTo>
                    <a:pt x="1143" y="171"/>
                  </a:lnTo>
                  <a:lnTo>
                    <a:pt x="1059" y="139"/>
                  </a:lnTo>
                  <a:lnTo>
                    <a:pt x="977" y="110"/>
                  </a:lnTo>
                  <a:lnTo>
                    <a:pt x="897" y="86"/>
                  </a:lnTo>
                  <a:lnTo>
                    <a:pt x="815" y="63"/>
                  </a:lnTo>
                  <a:lnTo>
                    <a:pt x="734" y="45"/>
                  </a:lnTo>
                  <a:lnTo>
                    <a:pt x="655" y="31"/>
                  </a:lnTo>
                  <a:lnTo>
                    <a:pt x="575" y="20"/>
                  </a:lnTo>
                  <a:lnTo>
                    <a:pt x="494" y="10"/>
                  </a:lnTo>
                  <a:lnTo>
                    <a:pt x="414" y="5"/>
                  </a:lnTo>
                  <a:lnTo>
                    <a:pt x="332" y="2"/>
                  </a:lnTo>
                  <a:lnTo>
                    <a:pt x="250" y="0"/>
                  </a:lnTo>
                  <a:lnTo>
                    <a:pt x="168" y="2"/>
                  </a:lnTo>
                  <a:lnTo>
                    <a:pt x="85" y="7"/>
                  </a:lnTo>
                  <a:lnTo>
                    <a:pt x="0" y="1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" name=""/>
            <p:cNvSpPr/>
            <p:nvPr/>
          </p:nvSpPr>
          <p:spPr>
            <a:xfrm rot="19782000">
              <a:off x="668160" y="-864360"/>
              <a:ext cx="10977480" cy="4672800"/>
            </a:xfrm>
            <a:custGeom>
              <a:avLst/>
              <a:gdLst/>
              <a:ahLst/>
              <a:rect l="l" t="t" r="r" b="b"/>
              <a:pathLst>
                <a:path w="5233" h="2180">
                  <a:moveTo>
                    <a:pt x="5233" y="1778"/>
                  </a:moveTo>
                  <a:lnTo>
                    <a:pt x="5233" y="1778"/>
                  </a:lnTo>
                  <a:lnTo>
                    <a:pt x="5222" y="1789"/>
                  </a:lnTo>
                  <a:lnTo>
                    <a:pt x="5189" y="1822"/>
                  </a:lnTo>
                  <a:lnTo>
                    <a:pt x="5164" y="1843"/>
                  </a:lnTo>
                  <a:lnTo>
                    <a:pt x="5133" y="1867"/>
                  </a:lnTo>
                  <a:lnTo>
                    <a:pt x="5099" y="1894"/>
                  </a:lnTo>
                  <a:lnTo>
                    <a:pt x="5060" y="1923"/>
                  </a:lnTo>
                  <a:lnTo>
                    <a:pt x="5015" y="1954"/>
                  </a:lnTo>
                  <a:lnTo>
                    <a:pt x="4965" y="1985"/>
                  </a:lnTo>
                  <a:lnTo>
                    <a:pt x="4913" y="2014"/>
                  </a:lnTo>
                  <a:lnTo>
                    <a:pt x="4854" y="2044"/>
                  </a:lnTo>
                  <a:lnTo>
                    <a:pt x="4792" y="2072"/>
                  </a:lnTo>
                  <a:lnTo>
                    <a:pt x="4725" y="2099"/>
                  </a:lnTo>
                  <a:lnTo>
                    <a:pt x="4689" y="2111"/>
                  </a:lnTo>
                  <a:lnTo>
                    <a:pt x="4654" y="2122"/>
                  </a:lnTo>
                  <a:lnTo>
                    <a:pt x="4617" y="2133"/>
                  </a:lnTo>
                  <a:lnTo>
                    <a:pt x="4579" y="2143"/>
                  </a:lnTo>
                  <a:lnTo>
                    <a:pt x="4540" y="2153"/>
                  </a:lnTo>
                  <a:lnTo>
                    <a:pt x="4500" y="2159"/>
                  </a:lnTo>
                  <a:lnTo>
                    <a:pt x="4460" y="2167"/>
                  </a:lnTo>
                  <a:lnTo>
                    <a:pt x="4418" y="2172"/>
                  </a:lnTo>
                  <a:lnTo>
                    <a:pt x="4375" y="2175"/>
                  </a:lnTo>
                  <a:lnTo>
                    <a:pt x="4332" y="2178"/>
                  </a:lnTo>
                  <a:lnTo>
                    <a:pt x="4288" y="2180"/>
                  </a:lnTo>
                  <a:lnTo>
                    <a:pt x="4242" y="2180"/>
                  </a:lnTo>
                  <a:lnTo>
                    <a:pt x="4196" y="2178"/>
                  </a:lnTo>
                  <a:lnTo>
                    <a:pt x="4149" y="2174"/>
                  </a:lnTo>
                  <a:lnTo>
                    <a:pt x="4102" y="2169"/>
                  </a:lnTo>
                  <a:lnTo>
                    <a:pt x="4053" y="2162"/>
                  </a:lnTo>
                  <a:lnTo>
                    <a:pt x="4003" y="2153"/>
                  </a:lnTo>
                  <a:lnTo>
                    <a:pt x="3953" y="2141"/>
                  </a:lnTo>
                  <a:lnTo>
                    <a:pt x="3903" y="2128"/>
                  </a:lnTo>
                  <a:lnTo>
                    <a:pt x="3852" y="2114"/>
                  </a:lnTo>
                  <a:lnTo>
                    <a:pt x="3799" y="2096"/>
                  </a:lnTo>
                  <a:lnTo>
                    <a:pt x="3746" y="2075"/>
                  </a:lnTo>
                  <a:lnTo>
                    <a:pt x="3692" y="2054"/>
                  </a:lnTo>
                  <a:lnTo>
                    <a:pt x="3638" y="2028"/>
                  </a:lnTo>
                  <a:lnTo>
                    <a:pt x="3582" y="2001"/>
                  </a:lnTo>
                  <a:lnTo>
                    <a:pt x="3527" y="1972"/>
                  </a:lnTo>
                  <a:lnTo>
                    <a:pt x="3471" y="1938"/>
                  </a:lnTo>
                  <a:lnTo>
                    <a:pt x="3414" y="1902"/>
                  </a:lnTo>
                  <a:lnTo>
                    <a:pt x="3356" y="1865"/>
                  </a:lnTo>
                  <a:lnTo>
                    <a:pt x="3298" y="1823"/>
                  </a:lnTo>
                  <a:lnTo>
                    <a:pt x="3239" y="1778"/>
                  </a:lnTo>
                  <a:lnTo>
                    <a:pt x="3180" y="1731"/>
                  </a:lnTo>
                  <a:lnTo>
                    <a:pt x="3120" y="1681"/>
                  </a:lnTo>
                  <a:lnTo>
                    <a:pt x="3059" y="1626"/>
                  </a:lnTo>
                  <a:lnTo>
                    <a:pt x="2999" y="1570"/>
                  </a:lnTo>
                  <a:lnTo>
                    <a:pt x="2937" y="1508"/>
                  </a:lnTo>
                  <a:lnTo>
                    <a:pt x="2937" y="1508"/>
                  </a:lnTo>
                  <a:lnTo>
                    <a:pt x="2816" y="1387"/>
                  </a:lnTo>
                  <a:lnTo>
                    <a:pt x="2697" y="1271"/>
                  </a:lnTo>
                  <a:lnTo>
                    <a:pt x="2581" y="1161"/>
                  </a:lnTo>
                  <a:lnTo>
                    <a:pt x="2470" y="1058"/>
                  </a:lnTo>
                  <a:lnTo>
                    <a:pt x="2361" y="959"/>
                  </a:lnTo>
                  <a:lnTo>
                    <a:pt x="2255" y="867"/>
                  </a:lnTo>
                  <a:lnTo>
                    <a:pt x="2151" y="780"/>
                  </a:lnTo>
                  <a:lnTo>
                    <a:pt x="2050" y="699"/>
                  </a:lnTo>
                  <a:lnTo>
                    <a:pt x="1951" y="624"/>
                  </a:lnTo>
                  <a:lnTo>
                    <a:pt x="1854" y="552"/>
                  </a:lnTo>
                  <a:lnTo>
                    <a:pt x="1759" y="486"/>
                  </a:lnTo>
                  <a:lnTo>
                    <a:pt x="1668" y="427"/>
                  </a:lnTo>
                  <a:lnTo>
                    <a:pt x="1576" y="370"/>
                  </a:lnTo>
                  <a:lnTo>
                    <a:pt x="1487" y="318"/>
                  </a:lnTo>
                  <a:lnTo>
                    <a:pt x="1400" y="270"/>
                  </a:lnTo>
                  <a:lnTo>
                    <a:pt x="1314" y="228"/>
                  </a:lnTo>
                  <a:lnTo>
                    <a:pt x="1229" y="189"/>
                  </a:lnTo>
                  <a:lnTo>
                    <a:pt x="1144" y="154"/>
                  </a:lnTo>
                  <a:lnTo>
                    <a:pt x="1061" y="123"/>
                  </a:lnTo>
                  <a:lnTo>
                    <a:pt x="979" y="96"/>
                  </a:lnTo>
                  <a:lnTo>
                    <a:pt x="897" y="73"/>
                  </a:lnTo>
                  <a:lnTo>
                    <a:pt x="817" y="54"/>
                  </a:lnTo>
                  <a:lnTo>
                    <a:pt x="736" y="36"/>
                  </a:lnTo>
                  <a:lnTo>
                    <a:pt x="656" y="23"/>
                  </a:lnTo>
                  <a:lnTo>
                    <a:pt x="575" y="13"/>
                  </a:lnTo>
                  <a:lnTo>
                    <a:pt x="495" y="7"/>
                  </a:lnTo>
                  <a:lnTo>
                    <a:pt x="413" y="2"/>
                  </a:lnTo>
                  <a:lnTo>
                    <a:pt x="332" y="0"/>
                  </a:lnTo>
                  <a:lnTo>
                    <a:pt x="250" y="2"/>
                  </a:lnTo>
                  <a:lnTo>
                    <a:pt x="168" y="5"/>
                  </a:lnTo>
                  <a:lnTo>
                    <a:pt x="85" y="10"/>
                  </a:lnTo>
                  <a:lnTo>
                    <a:pt x="0" y="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9782000">
              <a:off x="700200" y="-811440"/>
              <a:ext cx="11032200" cy="4527000"/>
            </a:xfrm>
            <a:custGeom>
              <a:avLst/>
              <a:gdLst/>
              <a:ahLst/>
              <a:rect l="l" t="t" r="r" b="b"/>
              <a:pathLst>
                <a:path w="5259" h="2112">
                  <a:moveTo>
                    <a:pt x="5259" y="1687"/>
                  </a:moveTo>
                  <a:lnTo>
                    <a:pt x="5259" y="1687"/>
                  </a:lnTo>
                  <a:lnTo>
                    <a:pt x="5248" y="1698"/>
                  </a:lnTo>
                  <a:lnTo>
                    <a:pt x="5214" y="1731"/>
                  </a:lnTo>
                  <a:lnTo>
                    <a:pt x="5189" y="1753"/>
                  </a:lnTo>
                  <a:lnTo>
                    <a:pt x="5160" y="1779"/>
                  </a:lnTo>
                  <a:lnTo>
                    <a:pt x="5127" y="1806"/>
                  </a:lnTo>
                  <a:lnTo>
                    <a:pt x="5087" y="1837"/>
                  </a:lnTo>
                  <a:lnTo>
                    <a:pt x="5044" y="1868"/>
                  </a:lnTo>
                  <a:lnTo>
                    <a:pt x="4994" y="1900"/>
                  </a:lnTo>
                  <a:lnTo>
                    <a:pt x="4941" y="1931"/>
                  </a:lnTo>
                  <a:lnTo>
                    <a:pt x="4883" y="1963"/>
                  </a:lnTo>
                  <a:lnTo>
                    <a:pt x="4822" y="1992"/>
                  </a:lnTo>
                  <a:lnTo>
                    <a:pt x="4755" y="2020"/>
                  </a:lnTo>
                  <a:lnTo>
                    <a:pt x="4720" y="2033"/>
                  </a:lnTo>
                  <a:lnTo>
                    <a:pt x="4684" y="2045"/>
                  </a:lnTo>
                  <a:lnTo>
                    <a:pt x="4648" y="2057"/>
                  </a:lnTo>
                  <a:lnTo>
                    <a:pt x="4611" y="2068"/>
                  </a:lnTo>
                  <a:lnTo>
                    <a:pt x="4572" y="2078"/>
                  </a:lnTo>
                  <a:lnTo>
                    <a:pt x="4531" y="2086"/>
                  </a:lnTo>
                  <a:lnTo>
                    <a:pt x="4491" y="2094"/>
                  </a:lnTo>
                  <a:lnTo>
                    <a:pt x="4449" y="2100"/>
                  </a:lnTo>
                  <a:lnTo>
                    <a:pt x="4406" y="2105"/>
                  </a:lnTo>
                  <a:lnTo>
                    <a:pt x="4363" y="2108"/>
                  </a:lnTo>
                  <a:lnTo>
                    <a:pt x="4319" y="2110"/>
                  </a:lnTo>
                  <a:lnTo>
                    <a:pt x="4275" y="2112"/>
                  </a:lnTo>
                  <a:lnTo>
                    <a:pt x="4227" y="2110"/>
                  </a:lnTo>
                  <a:lnTo>
                    <a:pt x="4181" y="2107"/>
                  </a:lnTo>
                  <a:lnTo>
                    <a:pt x="4133" y="2104"/>
                  </a:lnTo>
                  <a:lnTo>
                    <a:pt x="4084" y="2097"/>
                  </a:lnTo>
                  <a:lnTo>
                    <a:pt x="4036" y="2089"/>
                  </a:lnTo>
                  <a:lnTo>
                    <a:pt x="3984" y="2079"/>
                  </a:lnTo>
                  <a:lnTo>
                    <a:pt x="3934" y="2066"/>
                  </a:lnTo>
                  <a:lnTo>
                    <a:pt x="3882" y="2052"/>
                  </a:lnTo>
                  <a:lnTo>
                    <a:pt x="3829" y="2036"/>
                  </a:lnTo>
                  <a:lnTo>
                    <a:pt x="3776" y="2016"/>
                  </a:lnTo>
                  <a:lnTo>
                    <a:pt x="3722" y="1995"/>
                  </a:lnTo>
                  <a:lnTo>
                    <a:pt x="3668" y="1971"/>
                  </a:lnTo>
                  <a:lnTo>
                    <a:pt x="3612" y="1945"/>
                  </a:lnTo>
                  <a:lnTo>
                    <a:pt x="3555" y="1916"/>
                  </a:lnTo>
                  <a:lnTo>
                    <a:pt x="3498" y="1884"/>
                  </a:lnTo>
                  <a:lnTo>
                    <a:pt x="3441" y="1850"/>
                  </a:lnTo>
                  <a:lnTo>
                    <a:pt x="3383" y="1813"/>
                  </a:lnTo>
                  <a:lnTo>
                    <a:pt x="3325" y="1773"/>
                  </a:lnTo>
                  <a:lnTo>
                    <a:pt x="3265" y="1729"/>
                  </a:lnTo>
                  <a:lnTo>
                    <a:pt x="3205" y="1682"/>
                  </a:lnTo>
                  <a:lnTo>
                    <a:pt x="3144" y="1632"/>
                  </a:lnTo>
                  <a:lnTo>
                    <a:pt x="3083" y="1579"/>
                  </a:lnTo>
                  <a:lnTo>
                    <a:pt x="3021" y="1522"/>
                  </a:lnTo>
                  <a:lnTo>
                    <a:pt x="2958" y="1463"/>
                  </a:lnTo>
                  <a:lnTo>
                    <a:pt x="2958" y="1463"/>
                  </a:lnTo>
                  <a:lnTo>
                    <a:pt x="2835" y="1343"/>
                  </a:lnTo>
                  <a:lnTo>
                    <a:pt x="2715" y="1228"/>
                  </a:lnTo>
                  <a:lnTo>
                    <a:pt x="2599" y="1122"/>
                  </a:lnTo>
                  <a:lnTo>
                    <a:pt x="2485" y="1020"/>
                  </a:lnTo>
                  <a:lnTo>
                    <a:pt x="2374" y="923"/>
                  </a:lnTo>
                  <a:lnTo>
                    <a:pt x="2267" y="833"/>
                  </a:lnTo>
                  <a:lnTo>
                    <a:pt x="2161" y="747"/>
                  </a:lnTo>
                  <a:lnTo>
                    <a:pt x="2060" y="668"/>
                  </a:lnTo>
                  <a:lnTo>
                    <a:pt x="1960" y="594"/>
                  </a:lnTo>
                  <a:lnTo>
                    <a:pt x="1861" y="524"/>
                  </a:lnTo>
                  <a:lnTo>
                    <a:pt x="1767" y="460"/>
                  </a:lnTo>
                  <a:lnTo>
                    <a:pt x="1673" y="400"/>
                  </a:lnTo>
                  <a:lnTo>
                    <a:pt x="1581" y="347"/>
                  </a:lnTo>
                  <a:lnTo>
                    <a:pt x="1492" y="297"/>
                  </a:lnTo>
                  <a:lnTo>
                    <a:pt x="1403" y="250"/>
                  </a:lnTo>
                  <a:lnTo>
                    <a:pt x="1316" y="210"/>
                  </a:lnTo>
                  <a:lnTo>
                    <a:pt x="1231" y="171"/>
                  </a:lnTo>
                  <a:lnTo>
                    <a:pt x="1146" y="138"/>
                  </a:lnTo>
                  <a:lnTo>
                    <a:pt x="1063" y="109"/>
                  </a:lnTo>
                  <a:lnTo>
                    <a:pt x="980" y="84"/>
                  </a:lnTo>
                  <a:lnTo>
                    <a:pt x="898" y="63"/>
                  </a:lnTo>
                  <a:lnTo>
                    <a:pt x="816" y="43"/>
                  </a:lnTo>
                  <a:lnTo>
                    <a:pt x="735" y="29"/>
                  </a:lnTo>
                  <a:lnTo>
                    <a:pt x="655" y="17"/>
                  </a:lnTo>
                  <a:lnTo>
                    <a:pt x="574" y="8"/>
                  </a:lnTo>
                  <a:lnTo>
                    <a:pt x="494" y="3"/>
                  </a:lnTo>
                  <a:lnTo>
                    <a:pt x="412" y="0"/>
                  </a:lnTo>
                  <a:lnTo>
                    <a:pt x="331" y="0"/>
                  </a:lnTo>
                  <a:lnTo>
                    <a:pt x="249" y="3"/>
                  </a:lnTo>
                  <a:lnTo>
                    <a:pt x="168" y="8"/>
                  </a:lnTo>
                  <a:lnTo>
                    <a:pt x="84" y="16"/>
                  </a:lnTo>
                  <a:lnTo>
                    <a:pt x="0" y="25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9782000">
              <a:off x="731160" y="-756000"/>
              <a:ext cx="11082600" cy="4376520"/>
            </a:xfrm>
            <a:custGeom>
              <a:avLst/>
              <a:gdLst/>
              <a:ahLst/>
              <a:rect l="l" t="t" r="r" b="b"/>
              <a:pathLst>
                <a:path w="5283" h="2043">
                  <a:moveTo>
                    <a:pt x="5283" y="1597"/>
                  </a:moveTo>
                  <a:lnTo>
                    <a:pt x="5283" y="1597"/>
                  </a:lnTo>
                  <a:lnTo>
                    <a:pt x="5272" y="1608"/>
                  </a:lnTo>
                  <a:lnTo>
                    <a:pt x="5240" y="1642"/>
                  </a:lnTo>
                  <a:lnTo>
                    <a:pt x="5215" y="1665"/>
                  </a:lnTo>
                  <a:lnTo>
                    <a:pt x="5187" y="1691"/>
                  </a:lnTo>
                  <a:lnTo>
                    <a:pt x="5153" y="1720"/>
                  </a:lnTo>
                  <a:lnTo>
                    <a:pt x="5114" y="1750"/>
                  </a:lnTo>
                  <a:lnTo>
                    <a:pt x="5071" y="1783"/>
                  </a:lnTo>
                  <a:lnTo>
                    <a:pt x="5022" y="1817"/>
                  </a:lnTo>
                  <a:lnTo>
                    <a:pt x="4969" y="1849"/>
                  </a:lnTo>
                  <a:lnTo>
                    <a:pt x="4912" y="1881"/>
                  </a:lnTo>
                  <a:lnTo>
                    <a:pt x="4850" y="1912"/>
                  </a:lnTo>
                  <a:lnTo>
                    <a:pt x="4818" y="1928"/>
                  </a:lnTo>
                  <a:lnTo>
                    <a:pt x="4785" y="1942"/>
                  </a:lnTo>
                  <a:lnTo>
                    <a:pt x="4750" y="1955"/>
                  </a:lnTo>
                  <a:lnTo>
                    <a:pt x="4714" y="1968"/>
                  </a:lnTo>
                  <a:lnTo>
                    <a:pt x="4678" y="1981"/>
                  </a:lnTo>
                  <a:lnTo>
                    <a:pt x="4640" y="1993"/>
                  </a:lnTo>
                  <a:lnTo>
                    <a:pt x="4601" y="2002"/>
                  </a:lnTo>
                  <a:lnTo>
                    <a:pt x="4563" y="2012"/>
                  </a:lnTo>
                  <a:lnTo>
                    <a:pt x="4522" y="2020"/>
                  </a:lnTo>
                  <a:lnTo>
                    <a:pt x="4481" y="2028"/>
                  </a:lnTo>
                  <a:lnTo>
                    <a:pt x="4438" y="2033"/>
                  </a:lnTo>
                  <a:lnTo>
                    <a:pt x="4395" y="2038"/>
                  </a:lnTo>
                  <a:lnTo>
                    <a:pt x="4350" y="2041"/>
                  </a:lnTo>
                  <a:lnTo>
                    <a:pt x="4304" y="2043"/>
                  </a:lnTo>
                  <a:lnTo>
                    <a:pt x="4259" y="2043"/>
                  </a:lnTo>
                  <a:lnTo>
                    <a:pt x="4211" y="2041"/>
                  </a:lnTo>
                  <a:lnTo>
                    <a:pt x="4164" y="2038"/>
                  </a:lnTo>
                  <a:lnTo>
                    <a:pt x="4116" y="2033"/>
                  </a:lnTo>
                  <a:lnTo>
                    <a:pt x="4066" y="2025"/>
                  </a:lnTo>
                  <a:lnTo>
                    <a:pt x="4016" y="2017"/>
                  </a:lnTo>
                  <a:lnTo>
                    <a:pt x="3964" y="2005"/>
                  </a:lnTo>
                  <a:lnTo>
                    <a:pt x="3913" y="1991"/>
                  </a:lnTo>
                  <a:lnTo>
                    <a:pt x="3860" y="1976"/>
                  </a:lnTo>
                  <a:lnTo>
                    <a:pt x="3806" y="1959"/>
                  </a:lnTo>
                  <a:lnTo>
                    <a:pt x="3752" y="1938"/>
                  </a:lnTo>
                  <a:lnTo>
                    <a:pt x="3696" y="1915"/>
                  </a:lnTo>
                  <a:lnTo>
                    <a:pt x="3641" y="1889"/>
                  </a:lnTo>
                  <a:lnTo>
                    <a:pt x="3584" y="1862"/>
                  </a:lnTo>
                  <a:lnTo>
                    <a:pt x="3527" y="1831"/>
                  </a:lnTo>
                  <a:lnTo>
                    <a:pt x="3469" y="1797"/>
                  </a:lnTo>
                  <a:lnTo>
                    <a:pt x="3410" y="1760"/>
                  </a:lnTo>
                  <a:lnTo>
                    <a:pt x="3350" y="1721"/>
                  </a:lnTo>
                  <a:lnTo>
                    <a:pt x="3291" y="1679"/>
                  </a:lnTo>
                  <a:lnTo>
                    <a:pt x="3230" y="1634"/>
                  </a:lnTo>
                  <a:lnTo>
                    <a:pt x="3169" y="1584"/>
                  </a:lnTo>
                  <a:lnTo>
                    <a:pt x="3106" y="1532"/>
                  </a:lnTo>
                  <a:lnTo>
                    <a:pt x="3044" y="1477"/>
                  </a:lnTo>
                  <a:lnTo>
                    <a:pt x="2980" y="1418"/>
                  </a:lnTo>
                  <a:lnTo>
                    <a:pt x="2980" y="1418"/>
                  </a:lnTo>
                  <a:lnTo>
                    <a:pt x="2855" y="1300"/>
                  </a:lnTo>
                  <a:lnTo>
                    <a:pt x="2734" y="1188"/>
                  </a:lnTo>
                  <a:lnTo>
                    <a:pt x="2615" y="1082"/>
                  </a:lnTo>
                  <a:lnTo>
                    <a:pt x="2499" y="982"/>
                  </a:lnTo>
                  <a:lnTo>
                    <a:pt x="2388" y="888"/>
                  </a:lnTo>
                  <a:lnTo>
                    <a:pt x="2279" y="799"/>
                  </a:lnTo>
                  <a:lnTo>
                    <a:pt x="2173" y="715"/>
                  </a:lnTo>
                  <a:lnTo>
                    <a:pt x="2069" y="638"/>
                  </a:lnTo>
                  <a:lnTo>
                    <a:pt x="1968" y="565"/>
                  </a:lnTo>
                  <a:lnTo>
                    <a:pt x="1869" y="497"/>
                  </a:lnTo>
                  <a:lnTo>
                    <a:pt x="1773" y="434"/>
                  </a:lnTo>
                  <a:lnTo>
                    <a:pt x="1679" y="378"/>
                  </a:lnTo>
                  <a:lnTo>
                    <a:pt x="1586" y="325"/>
                  </a:lnTo>
                  <a:lnTo>
                    <a:pt x="1496" y="276"/>
                  </a:lnTo>
                  <a:lnTo>
                    <a:pt x="1407" y="231"/>
                  </a:lnTo>
                  <a:lnTo>
                    <a:pt x="1319" y="192"/>
                  </a:lnTo>
                  <a:lnTo>
                    <a:pt x="1233" y="155"/>
                  </a:lnTo>
                  <a:lnTo>
                    <a:pt x="1148" y="124"/>
                  </a:lnTo>
                  <a:lnTo>
                    <a:pt x="1064" y="97"/>
                  </a:lnTo>
                  <a:lnTo>
                    <a:pt x="980" y="73"/>
                  </a:lnTo>
                  <a:lnTo>
                    <a:pt x="899" y="52"/>
                  </a:lnTo>
                  <a:lnTo>
                    <a:pt x="817" y="36"/>
                  </a:lnTo>
                  <a:lnTo>
                    <a:pt x="736" y="23"/>
                  </a:lnTo>
                  <a:lnTo>
                    <a:pt x="654" y="11"/>
                  </a:lnTo>
                  <a:lnTo>
                    <a:pt x="574" y="5"/>
                  </a:lnTo>
                  <a:lnTo>
                    <a:pt x="493" y="2"/>
                  </a:lnTo>
                  <a:lnTo>
                    <a:pt x="413" y="0"/>
                  </a:lnTo>
                  <a:lnTo>
                    <a:pt x="331" y="2"/>
                  </a:lnTo>
                  <a:lnTo>
                    <a:pt x="250" y="6"/>
                  </a:lnTo>
                  <a:lnTo>
                    <a:pt x="167" y="13"/>
                  </a:lnTo>
                  <a:lnTo>
                    <a:pt x="85" y="23"/>
                  </a:lnTo>
                  <a:lnTo>
                    <a:pt x="0" y="3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9782000">
              <a:off x="766080" y="-702720"/>
              <a:ext cx="11130480" cy="4235400"/>
            </a:xfrm>
            <a:custGeom>
              <a:avLst/>
              <a:gdLst/>
              <a:ahLst/>
              <a:rect l="l" t="t" r="r" b="b"/>
              <a:pathLst>
                <a:path w="5306" h="1975">
                  <a:moveTo>
                    <a:pt x="5306" y="1505"/>
                  </a:moveTo>
                  <a:lnTo>
                    <a:pt x="5306" y="1505"/>
                  </a:lnTo>
                  <a:lnTo>
                    <a:pt x="5295" y="1518"/>
                  </a:lnTo>
                  <a:lnTo>
                    <a:pt x="5263" y="1552"/>
                  </a:lnTo>
                  <a:lnTo>
                    <a:pt x="5240" y="1576"/>
                  </a:lnTo>
                  <a:lnTo>
                    <a:pt x="5211" y="1602"/>
                  </a:lnTo>
                  <a:lnTo>
                    <a:pt x="5177" y="1633"/>
                  </a:lnTo>
                  <a:lnTo>
                    <a:pt x="5138" y="1663"/>
                  </a:lnTo>
                  <a:lnTo>
                    <a:pt x="5095" y="1697"/>
                  </a:lnTo>
                  <a:lnTo>
                    <a:pt x="5048" y="1731"/>
                  </a:lnTo>
                  <a:lnTo>
                    <a:pt x="4995" y="1765"/>
                  </a:lnTo>
                  <a:lnTo>
                    <a:pt x="4939" y="1799"/>
                  </a:lnTo>
                  <a:lnTo>
                    <a:pt x="4877" y="1831"/>
                  </a:lnTo>
                  <a:lnTo>
                    <a:pt x="4845" y="1848"/>
                  </a:lnTo>
                  <a:lnTo>
                    <a:pt x="4812" y="1862"/>
                  </a:lnTo>
                  <a:lnTo>
                    <a:pt x="4779" y="1877"/>
                  </a:lnTo>
                  <a:lnTo>
                    <a:pt x="4743" y="1891"/>
                  </a:lnTo>
                  <a:lnTo>
                    <a:pt x="4707" y="1904"/>
                  </a:lnTo>
                  <a:lnTo>
                    <a:pt x="4669" y="1917"/>
                  </a:lnTo>
                  <a:lnTo>
                    <a:pt x="4630" y="1928"/>
                  </a:lnTo>
                  <a:lnTo>
                    <a:pt x="4591" y="1938"/>
                  </a:lnTo>
                  <a:lnTo>
                    <a:pt x="4551" y="1948"/>
                  </a:lnTo>
                  <a:lnTo>
                    <a:pt x="4509" y="1956"/>
                  </a:lnTo>
                  <a:lnTo>
                    <a:pt x="4468" y="1962"/>
                  </a:lnTo>
                  <a:lnTo>
                    <a:pt x="4423" y="1967"/>
                  </a:lnTo>
                  <a:lnTo>
                    <a:pt x="4380" y="1972"/>
                  </a:lnTo>
                  <a:lnTo>
                    <a:pt x="4335" y="1974"/>
                  </a:lnTo>
                  <a:lnTo>
                    <a:pt x="4289" y="1975"/>
                  </a:lnTo>
                  <a:lnTo>
                    <a:pt x="4242" y="1974"/>
                  </a:lnTo>
                  <a:lnTo>
                    <a:pt x="4194" y="1972"/>
                  </a:lnTo>
                  <a:lnTo>
                    <a:pt x="4144" y="1967"/>
                  </a:lnTo>
                  <a:lnTo>
                    <a:pt x="4096" y="1961"/>
                  </a:lnTo>
                  <a:lnTo>
                    <a:pt x="4044" y="1953"/>
                  </a:lnTo>
                  <a:lnTo>
                    <a:pt x="3993" y="1943"/>
                  </a:lnTo>
                  <a:lnTo>
                    <a:pt x="3942" y="1930"/>
                  </a:lnTo>
                  <a:lnTo>
                    <a:pt x="3889" y="1915"/>
                  </a:lnTo>
                  <a:lnTo>
                    <a:pt x="3835" y="1899"/>
                  </a:lnTo>
                  <a:lnTo>
                    <a:pt x="3779" y="1880"/>
                  </a:lnTo>
                  <a:lnTo>
                    <a:pt x="3725" y="1857"/>
                  </a:lnTo>
                  <a:lnTo>
                    <a:pt x="3668" y="1833"/>
                  </a:lnTo>
                  <a:lnTo>
                    <a:pt x="3611" y="1806"/>
                  </a:lnTo>
                  <a:lnTo>
                    <a:pt x="3553" y="1777"/>
                  </a:lnTo>
                  <a:lnTo>
                    <a:pt x="3495" y="1744"/>
                  </a:lnTo>
                  <a:lnTo>
                    <a:pt x="3436" y="1709"/>
                  </a:lnTo>
                  <a:lnTo>
                    <a:pt x="3375" y="1670"/>
                  </a:lnTo>
                  <a:lnTo>
                    <a:pt x="3315" y="1630"/>
                  </a:lnTo>
                  <a:lnTo>
                    <a:pt x="3253" y="1584"/>
                  </a:lnTo>
                  <a:lnTo>
                    <a:pt x="3192" y="1536"/>
                  </a:lnTo>
                  <a:lnTo>
                    <a:pt x="3128" y="1486"/>
                  </a:lnTo>
                  <a:lnTo>
                    <a:pt x="3066" y="1431"/>
                  </a:lnTo>
                  <a:lnTo>
                    <a:pt x="3000" y="1373"/>
                  </a:lnTo>
                  <a:lnTo>
                    <a:pt x="3000" y="1373"/>
                  </a:lnTo>
                  <a:lnTo>
                    <a:pt x="2874" y="1257"/>
                  </a:lnTo>
                  <a:lnTo>
                    <a:pt x="2750" y="1147"/>
                  </a:lnTo>
                  <a:lnTo>
                    <a:pt x="2631" y="1043"/>
                  </a:lnTo>
                  <a:lnTo>
                    <a:pt x="2514" y="945"/>
                  </a:lnTo>
                  <a:lnTo>
                    <a:pt x="2400" y="853"/>
                  </a:lnTo>
                  <a:lnTo>
                    <a:pt x="2291" y="766"/>
                  </a:lnTo>
                  <a:lnTo>
                    <a:pt x="2182" y="683"/>
                  </a:lnTo>
                  <a:lnTo>
                    <a:pt x="2078" y="607"/>
                  </a:lnTo>
                  <a:lnTo>
                    <a:pt x="1976" y="536"/>
                  </a:lnTo>
                  <a:lnTo>
                    <a:pt x="1876" y="470"/>
                  </a:lnTo>
                  <a:lnTo>
                    <a:pt x="1778" y="410"/>
                  </a:lnTo>
                  <a:lnTo>
                    <a:pt x="1684" y="354"/>
                  </a:lnTo>
                  <a:lnTo>
                    <a:pt x="1591" y="302"/>
                  </a:lnTo>
                  <a:lnTo>
                    <a:pt x="1499" y="255"/>
                  </a:lnTo>
                  <a:lnTo>
                    <a:pt x="1409" y="212"/>
                  </a:lnTo>
                  <a:lnTo>
                    <a:pt x="1322" y="175"/>
                  </a:lnTo>
                  <a:lnTo>
                    <a:pt x="1234" y="141"/>
                  </a:lnTo>
                  <a:lnTo>
                    <a:pt x="1149" y="110"/>
                  </a:lnTo>
                  <a:lnTo>
                    <a:pt x="1065" y="84"/>
                  </a:lnTo>
                  <a:lnTo>
                    <a:pt x="981" y="62"/>
                  </a:lnTo>
                  <a:lnTo>
                    <a:pt x="898" y="42"/>
                  </a:lnTo>
                  <a:lnTo>
                    <a:pt x="816" y="28"/>
                  </a:lnTo>
                  <a:lnTo>
                    <a:pt x="736" y="17"/>
                  </a:lnTo>
                  <a:lnTo>
                    <a:pt x="654" y="7"/>
                  </a:lnTo>
                  <a:lnTo>
                    <a:pt x="573" y="2"/>
                  </a:lnTo>
                  <a:lnTo>
                    <a:pt x="493" y="0"/>
                  </a:lnTo>
                  <a:lnTo>
                    <a:pt x="412" y="0"/>
                  </a:lnTo>
                  <a:lnTo>
                    <a:pt x="330" y="4"/>
                  </a:lnTo>
                  <a:lnTo>
                    <a:pt x="248" y="10"/>
                  </a:lnTo>
                  <a:lnTo>
                    <a:pt x="166" y="18"/>
                  </a:lnTo>
                  <a:lnTo>
                    <a:pt x="85" y="29"/>
                  </a:ln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9782000">
              <a:off x="801360" y="-648720"/>
              <a:ext cx="11174400" cy="4085640"/>
            </a:xfrm>
            <a:custGeom>
              <a:avLst/>
              <a:gdLst/>
              <a:ahLst/>
              <a:rect l="l" t="t" r="r" b="b"/>
              <a:pathLst>
                <a:path w="5327" h="1907">
                  <a:moveTo>
                    <a:pt x="5327" y="1416"/>
                  </a:moveTo>
                  <a:lnTo>
                    <a:pt x="5327" y="1416"/>
                  </a:lnTo>
                  <a:lnTo>
                    <a:pt x="5316" y="1429"/>
                  </a:lnTo>
                  <a:lnTo>
                    <a:pt x="5284" y="1463"/>
                  </a:lnTo>
                  <a:lnTo>
                    <a:pt x="5262" y="1487"/>
                  </a:lnTo>
                  <a:lnTo>
                    <a:pt x="5233" y="1515"/>
                  </a:lnTo>
                  <a:lnTo>
                    <a:pt x="5201" y="1545"/>
                  </a:lnTo>
                  <a:lnTo>
                    <a:pt x="5162" y="1578"/>
                  </a:lnTo>
                  <a:lnTo>
                    <a:pt x="5120" y="1612"/>
                  </a:lnTo>
                  <a:lnTo>
                    <a:pt x="5073" y="1647"/>
                  </a:lnTo>
                  <a:lnTo>
                    <a:pt x="5020" y="1683"/>
                  </a:lnTo>
                  <a:lnTo>
                    <a:pt x="4965" y="1718"/>
                  </a:lnTo>
                  <a:lnTo>
                    <a:pt x="4904" y="1752"/>
                  </a:lnTo>
                  <a:lnTo>
                    <a:pt x="4872" y="1768"/>
                  </a:lnTo>
                  <a:lnTo>
                    <a:pt x="4839" y="1784"/>
                  </a:lnTo>
                  <a:lnTo>
                    <a:pt x="4805" y="1799"/>
                  </a:lnTo>
                  <a:lnTo>
                    <a:pt x="4769" y="1813"/>
                  </a:lnTo>
                  <a:lnTo>
                    <a:pt x="4733" y="1828"/>
                  </a:lnTo>
                  <a:lnTo>
                    <a:pt x="4697" y="1841"/>
                  </a:lnTo>
                  <a:lnTo>
                    <a:pt x="4658" y="1854"/>
                  </a:lnTo>
                  <a:lnTo>
                    <a:pt x="4619" y="1865"/>
                  </a:lnTo>
                  <a:lnTo>
                    <a:pt x="4579" y="1875"/>
                  </a:lnTo>
                  <a:lnTo>
                    <a:pt x="4537" y="1883"/>
                  </a:lnTo>
                  <a:lnTo>
                    <a:pt x="4496" y="1891"/>
                  </a:lnTo>
                  <a:lnTo>
                    <a:pt x="4453" y="1897"/>
                  </a:lnTo>
                  <a:lnTo>
                    <a:pt x="4408" y="1902"/>
                  </a:lnTo>
                  <a:lnTo>
                    <a:pt x="4362" y="1905"/>
                  </a:lnTo>
                  <a:lnTo>
                    <a:pt x="4317" y="1907"/>
                  </a:lnTo>
                  <a:lnTo>
                    <a:pt x="4269" y="1907"/>
                  </a:lnTo>
                  <a:lnTo>
                    <a:pt x="4222" y="1907"/>
                  </a:lnTo>
                  <a:lnTo>
                    <a:pt x="4174" y="1902"/>
                  </a:lnTo>
                  <a:lnTo>
                    <a:pt x="4124" y="1897"/>
                  </a:lnTo>
                  <a:lnTo>
                    <a:pt x="4072" y="1891"/>
                  </a:lnTo>
                  <a:lnTo>
                    <a:pt x="4021" y="1881"/>
                  </a:lnTo>
                  <a:lnTo>
                    <a:pt x="3969" y="1870"/>
                  </a:lnTo>
                  <a:lnTo>
                    <a:pt x="3915" y="1857"/>
                  </a:lnTo>
                  <a:lnTo>
                    <a:pt x="3861" y="1841"/>
                  </a:lnTo>
                  <a:lnTo>
                    <a:pt x="3807" y="1821"/>
                  </a:lnTo>
                  <a:lnTo>
                    <a:pt x="3751" y="1800"/>
                  </a:lnTo>
                  <a:lnTo>
                    <a:pt x="3695" y="1778"/>
                  </a:lnTo>
                  <a:lnTo>
                    <a:pt x="3636" y="1752"/>
                  </a:lnTo>
                  <a:lnTo>
                    <a:pt x="3579" y="1723"/>
                  </a:lnTo>
                  <a:lnTo>
                    <a:pt x="3520" y="1692"/>
                  </a:lnTo>
                  <a:lnTo>
                    <a:pt x="3460" y="1657"/>
                  </a:lnTo>
                  <a:lnTo>
                    <a:pt x="3399" y="1620"/>
                  </a:lnTo>
                  <a:lnTo>
                    <a:pt x="3338" y="1579"/>
                  </a:lnTo>
                  <a:lnTo>
                    <a:pt x="3275" y="1536"/>
                  </a:lnTo>
                  <a:lnTo>
                    <a:pt x="3213" y="1489"/>
                  </a:lnTo>
                  <a:lnTo>
                    <a:pt x="3149" y="1439"/>
                  </a:lnTo>
                  <a:lnTo>
                    <a:pt x="3085" y="1386"/>
                  </a:lnTo>
                  <a:lnTo>
                    <a:pt x="3020" y="1329"/>
                  </a:lnTo>
                  <a:lnTo>
                    <a:pt x="3020" y="1329"/>
                  </a:lnTo>
                  <a:lnTo>
                    <a:pt x="2892" y="1214"/>
                  </a:lnTo>
                  <a:lnTo>
                    <a:pt x="2766" y="1108"/>
                  </a:lnTo>
                  <a:lnTo>
                    <a:pt x="2645" y="1004"/>
                  </a:lnTo>
                  <a:lnTo>
                    <a:pt x="2527" y="909"/>
                  </a:lnTo>
                  <a:lnTo>
                    <a:pt x="2412" y="817"/>
                  </a:lnTo>
                  <a:lnTo>
                    <a:pt x="2301" y="733"/>
                  </a:lnTo>
                  <a:lnTo>
                    <a:pt x="2192" y="652"/>
                  </a:lnTo>
                  <a:lnTo>
                    <a:pt x="2085" y="578"/>
                  </a:lnTo>
                  <a:lnTo>
                    <a:pt x="1983" y="509"/>
                  </a:lnTo>
                  <a:lnTo>
                    <a:pt x="1883" y="446"/>
                  </a:lnTo>
                  <a:lnTo>
                    <a:pt x="1784" y="386"/>
                  </a:lnTo>
                  <a:lnTo>
                    <a:pt x="1688" y="331"/>
                  </a:lnTo>
                  <a:lnTo>
                    <a:pt x="1594" y="281"/>
                  </a:lnTo>
                  <a:lnTo>
                    <a:pt x="1502" y="236"/>
                  </a:lnTo>
                  <a:lnTo>
                    <a:pt x="1412" y="195"/>
                  </a:lnTo>
                  <a:lnTo>
                    <a:pt x="1323" y="158"/>
                  </a:lnTo>
                  <a:lnTo>
                    <a:pt x="1236" y="126"/>
                  </a:lnTo>
                  <a:lnTo>
                    <a:pt x="1150" y="97"/>
                  </a:lnTo>
                  <a:lnTo>
                    <a:pt x="1065" y="73"/>
                  </a:lnTo>
                  <a:lnTo>
                    <a:pt x="982" y="52"/>
                  </a:lnTo>
                  <a:lnTo>
                    <a:pt x="898" y="36"/>
                  </a:lnTo>
                  <a:lnTo>
                    <a:pt x="816" y="21"/>
                  </a:lnTo>
                  <a:lnTo>
                    <a:pt x="734" y="11"/>
                  </a:lnTo>
                  <a:lnTo>
                    <a:pt x="654" y="5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1" y="2"/>
                  </a:lnTo>
                  <a:lnTo>
                    <a:pt x="329" y="7"/>
                  </a:lnTo>
                  <a:lnTo>
                    <a:pt x="248" y="15"/>
                  </a:lnTo>
                  <a:lnTo>
                    <a:pt x="167" y="24"/>
                  </a:lnTo>
                  <a:lnTo>
                    <a:pt x="83" y="37"/>
                  </a:lnTo>
                  <a:lnTo>
                    <a:pt x="0" y="5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782000">
              <a:off x="836280" y="-598320"/>
              <a:ext cx="11216520" cy="3943800"/>
            </a:xfrm>
            <a:custGeom>
              <a:avLst/>
              <a:gdLst/>
              <a:ahLst/>
              <a:rect l="l" t="t" r="r" b="b"/>
              <a:pathLst>
                <a:path w="5347" h="1841">
                  <a:moveTo>
                    <a:pt x="5347" y="1326"/>
                  </a:moveTo>
                  <a:lnTo>
                    <a:pt x="5347" y="1326"/>
                  </a:lnTo>
                  <a:lnTo>
                    <a:pt x="5336" y="1338"/>
                  </a:lnTo>
                  <a:lnTo>
                    <a:pt x="5305" y="1374"/>
                  </a:lnTo>
                  <a:lnTo>
                    <a:pt x="5283" y="1398"/>
                  </a:lnTo>
                  <a:lnTo>
                    <a:pt x="5255" y="1426"/>
                  </a:lnTo>
                  <a:lnTo>
                    <a:pt x="5222" y="1458"/>
                  </a:lnTo>
                  <a:lnTo>
                    <a:pt x="5184" y="1492"/>
                  </a:lnTo>
                  <a:lnTo>
                    <a:pt x="5143" y="1526"/>
                  </a:lnTo>
                  <a:lnTo>
                    <a:pt x="5095" y="1563"/>
                  </a:lnTo>
                  <a:lnTo>
                    <a:pt x="5046" y="1600"/>
                  </a:lnTo>
                  <a:lnTo>
                    <a:pt x="4989" y="1636"/>
                  </a:lnTo>
                  <a:lnTo>
                    <a:pt x="4929" y="1671"/>
                  </a:lnTo>
                  <a:lnTo>
                    <a:pt x="4897" y="1689"/>
                  </a:lnTo>
                  <a:lnTo>
                    <a:pt x="4865" y="1705"/>
                  </a:lnTo>
                  <a:lnTo>
                    <a:pt x="4830" y="1721"/>
                  </a:lnTo>
                  <a:lnTo>
                    <a:pt x="4796" y="1737"/>
                  </a:lnTo>
                  <a:lnTo>
                    <a:pt x="4759" y="1752"/>
                  </a:lnTo>
                  <a:lnTo>
                    <a:pt x="4723" y="1765"/>
                  </a:lnTo>
                  <a:lnTo>
                    <a:pt x="4685" y="1778"/>
                  </a:lnTo>
                  <a:lnTo>
                    <a:pt x="4646" y="1791"/>
                  </a:lnTo>
                  <a:lnTo>
                    <a:pt x="4605" y="1800"/>
                  </a:lnTo>
                  <a:lnTo>
                    <a:pt x="4565" y="1812"/>
                  </a:lnTo>
                  <a:lnTo>
                    <a:pt x="4522" y="1820"/>
                  </a:lnTo>
                  <a:lnTo>
                    <a:pt x="4479" y="1826"/>
                  </a:lnTo>
                  <a:lnTo>
                    <a:pt x="4436" y="1833"/>
                  </a:lnTo>
                  <a:lnTo>
                    <a:pt x="4390" y="1837"/>
                  </a:lnTo>
                  <a:lnTo>
                    <a:pt x="4344" y="1839"/>
                  </a:lnTo>
                  <a:lnTo>
                    <a:pt x="4297" y="1841"/>
                  </a:lnTo>
                  <a:lnTo>
                    <a:pt x="4250" y="1841"/>
                  </a:lnTo>
                  <a:lnTo>
                    <a:pt x="4200" y="1837"/>
                  </a:lnTo>
                  <a:lnTo>
                    <a:pt x="4151" y="1834"/>
                  </a:lnTo>
                  <a:lnTo>
                    <a:pt x="4100" y="1828"/>
                  </a:lnTo>
                  <a:lnTo>
                    <a:pt x="4049" y="1820"/>
                  </a:lnTo>
                  <a:lnTo>
                    <a:pt x="3996" y="1808"/>
                  </a:lnTo>
                  <a:lnTo>
                    <a:pt x="3943" y="1797"/>
                  </a:lnTo>
                  <a:lnTo>
                    <a:pt x="3888" y="1781"/>
                  </a:lnTo>
                  <a:lnTo>
                    <a:pt x="3833" y="1765"/>
                  </a:lnTo>
                  <a:lnTo>
                    <a:pt x="3776" y="1744"/>
                  </a:lnTo>
                  <a:lnTo>
                    <a:pt x="3720" y="1723"/>
                  </a:lnTo>
                  <a:lnTo>
                    <a:pt x="3663" y="1697"/>
                  </a:lnTo>
                  <a:lnTo>
                    <a:pt x="3603" y="1669"/>
                  </a:lnTo>
                  <a:lnTo>
                    <a:pt x="3545" y="1639"/>
                  </a:lnTo>
                  <a:lnTo>
                    <a:pt x="3484" y="1605"/>
                  </a:lnTo>
                  <a:lnTo>
                    <a:pt x="3422" y="1569"/>
                  </a:lnTo>
                  <a:lnTo>
                    <a:pt x="3361" y="1531"/>
                  </a:lnTo>
                  <a:lnTo>
                    <a:pt x="3297" y="1487"/>
                  </a:lnTo>
                  <a:lnTo>
                    <a:pt x="3235" y="1442"/>
                  </a:lnTo>
                  <a:lnTo>
                    <a:pt x="3170" y="1393"/>
                  </a:lnTo>
                  <a:lnTo>
                    <a:pt x="3104" y="1340"/>
                  </a:lnTo>
                  <a:lnTo>
                    <a:pt x="3039" y="1285"/>
                  </a:lnTo>
                  <a:lnTo>
                    <a:pt x="3039" y="1285"/>
                  </a:lnTo>
                  <a:lnTo>
                    <a:pt x="2909" y="1172"/>
                  </a:lnTo>
                  <a:lnTo>
                    <a:pt x="2782" y="1067"/>
                  </a:lnTo>
                  <a:lnTo>
                    <a:pt x="2659" y="967"/>
                  </a:lnTo>
                  <a:lnTo>
                    <a:pt x="2539" y="872"/>
                  </a:lnTo>
                  <a:lnTo>
                    <a:pt x="2423" y="783"/>
                  </a:lnTo>
                  <a:lnTo>
                    <a:pt x="2310" y="701"/>
                  </a:lnTo>
                  <a:lnTo>
                    <a:pt x="2201" y="622"/>
                  </a:lnTo>
                  <a:lnTo>
                    <a:pt x="2094" y="549"/>
                  </a:lnTo>
                  <a:lnTo>
                    <a:pt x="1990" y="483"/>
                  </a:lnTo>
                  <a:lnTo>
                    <a:pt x="1888" y="420"/>
                  </a:lnTo>
                  <a:lnTo>
                    <a:pt x="1788" y="362"/>
                  </a:lnTo>
                  <a:lnTo>
                    <a:pt x="1692" y="308"/>
                  </a:lnTo>
                  <a:lnTo>
                    <a:pt x="1597" y="261"/>
                  </a:lnTo>
                  <a:lnTo>
                    <a:pt x="1505" y="218"/>
                  </a:lnTo>
                  <a:lnTo>
                    <a:pt x="1413" y="177"/>
                  </a:lnTo>
                  <a:lnTo>
                    <a:pt x="1325" y="142"/>
                  </a:lnTo>
                  <a:lnTo>
                    <a:pt x="1237" y="111"/>
                  </a:lnTo>
                  <a:lnTo>
                    <a:pt x="1151" y="85"/>
                  </a:lnTo>
                  <a:lnTo>
                    <a:pt x="1065" y="61"/>
                  </a:lnTo>
                  <a:lnTo>
                    <a:pt x="982" y="43"/>
                  </a:lnTo>
                  <a:lnTo>
                    <a:pt x="898" y="27"/>
                  </a:lnTo>
                  <a:lnTo>
                    <a:pt x="816" y="16"/>
                  </a:lnTo>
                  <a:lnTo>
                    <a:pt x="734" y="6"/>
                  </a:lnTo>
                  <a:lnTo>
                    <a:pt x="653" y="1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0" y="5"/>
                  </a:lnTo>
                  <a:lnTo>
                    <a:pt x="329" y="11"/>
                  </a:lnTo>
                  <a:lnTo>
                    <a:pt x="249" y="21"/>
                  </a:lnTo>
                  <a:lnTo>
                    <a:pt x="167" y="32"/>
                  </a:lnTo>
                  <a:lnTo>
                    <a:pt x="83" y="47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9782000">
              <a:off x="874440" y="-547920"/>
              <a:ext cx="11254320" cy="3805920"/>
            </a:xfrm>
            <a:custGeom>
              <a:avLst/>
              <a:gdLst/>
              <a:ahLst/>
              <a:rect l="l" t="t" r="r" b="b"/>
              <a:pathLst>
                <a:path w="5365" h="1776">
                  <a:moveTo>
                    <a:pt x="5365" y="1235"/>
                  </a:moveTo>
                  <a:lnTo>
                    <a:pt x="5365" y="1235"/>
                  </a:lnTo>
                  <a:lnTo>
                    <a:pt x="5354" y="1248"/>
                  </a:lnTo>
                  <a:lnTo>
                    <a:pt x="5325" y="1285"/>
                  </a:lnTo>
                  <a:lnTo>
                    <a:pt x="5301" y="1311"/>
                  </a:lnTo>
                  <a:lnTo>
                    <a:pt x="5275" y="1340"/>
                  </a:lnTo>
                  <a:lnTo>
                    <a:pt x="5243" y="1371"/>
                  </a:lnTo>
                  <a:lnTo>
                    <a:pt x="5206" y="1406"/>
                  </a:lnTo>
                  <a:lnTo>
                    <a:pt x="5164" y="1442"/>
                  </a:lnTo>
                  <a:lnTo>
                    <a:pt x="5118" y="1479"/>
                  </a:lnTo>
                  <a:lnTo>
                    <a:pt x="5067" y="1518"/>
                  </a:lnTo>
                  <a:lnTo>
                    <a:pt x="5013" y="1555"/>
                  </a:lnTo>
                  <a:lnTo>
                    <a:pt x="4953" y="1592"/>
                  </a:lnTo>
                  <a:lnTo>
                    <a:pt x="4921" y="1610"/>
                  </a:lnTo>
                  <a:lnTo>
                    <a:pt x="4889" y="1628"/>
                  </a:lnTo>
                  <a:lnTo>
                    <a:pt x="4854" y="1644"/>
                  </a:lnTo>
                  <a:lnTo>
                    <a:pt x="4820" y="1660"/>
                  </a:lnTo>
                  <a:lnTo>
                    <a:pt x="4785" y="1676"/>
                  </a:lnTo>
                  <a:lnTo>
                    <a:pt x="4747" y="1691"/>
                  </a:lnTo>
                  <a:lnTo>
                    <a:pt x="4710" y="1705"/>
                  </a:lnTo>
                  <a:lnTo>
                    <a:pt x="4671" y="1718"/>
                  </a:lnTo>
                  <a:lnTo>
                    <a:pt x="4631" y="1729"/>
                  </a:lnTo>
                  <a:lnTo>
                    <a:pt x="4591" y="1739"/>
                  </a:lnTo>
                  <a:lnTo>
                    <a:pt x="4549" y="1749"/>
                  </a:lnTo>
                  <a:lnTo>
                    <a:pt x="4506" y="1757"/>
                  </a:lnTo>
                  <a:lnTo>
                    <a:pt x="4461" y="1765"/>
                  </a:lnTo>
                  <a:lnTo>
                    <a:pt x="4417" y="1770"/>
                  </a:lnTo>
                  <a:lnTo>
                    <a:pt x="4370" y="1773"/>
                  </a:lnTo>
                  <a:lnTo>
                    <a:pt x="4324" y="1775"/>
                  </a:lnTo>
                  <a:lnTo>
                    <a:pt x="4275" y="1776"/>
                  </a:lnTo>
                  <a:lnTo>
                    <a:pt x="4227" y="1775"/>
                  </a:lnTo>
                  <a:lnTo>
                    <a:pt x="4177" y="1771"/>
                  </a:lnTo>
                  <a:lnTo>
                    <a:pt x="4125" y="1766"/>
                  </a:lnTo>
                  <a:lnTo>
                    <a:pt x="4074" y="1758"/>
                  </a:lnTo>
                  <a:lnTo>
                    <a:pt x="4021" y="1749"/>
                  </a:lnTo>
                  <a:lnTo>
                    <a:pt x="3969" y="1737"/>
                  </a:lnTo>
                  <a:lnTo>
                    <a:pt x="3913" y="1724"/>
                  </a:lnTo>
                  <a:lnTo>
                    <a:pt x="3857" y="1708"/>
                  </a:lnTo>
                  <a:lnTo>
                    <a:pt x="3802" y="1689"/>
                  </a:lnTo>
                  <a:lnTo>
                    <a:pt x="3745" y="1668"/>
                  </a:lnTo>
                  <a:lnTo>
                    <a:pt x="3687" y="1644"/>
                  </a:lnTo>
                  <a:lnTo>
                    <a:pt x="3627" y="1618"/>
                  </a:lnTo>
                  <a:lnTo>
                    <a:pt x="3567" y="1587"/>
                  </a:lnTo>
                  <a:lnTo>
                    <a:pt x="3506" y="1555"/>
                  </a:lnTo>
                  <a:lnTo>
                    <a:pt x="3445" y="1521"/>
                  </a:lnTo>
                  <a:lnTo>
                    <a:pt x="3383" y="1482"/>
                  </a:lnTo>
                  <a:lnTo>
                    <a:pt x="3319" y="1440"/>
                  </a:lnTo>
                  <a:lnTo>
                    <a:pt x="3255" y="1397"/>
                  </a:lnTo>
                  <a:lnTo>
                    <a:pt x="3190" y="1348"/>
                  </a:lnTo>
                  <a:lnTo>
                    <a:pt x="3124" y="1297"/>
                  </a:lnTo>
                  <a:lnTo>
                    <a:pt x="3058" y="1242"/>
                  </a:lnTo>
                  <a:lnTo>
                    <a:pt x="3058" y="1242"/>
                  </a:lnTo>
                  <a:lnTo>
                    <a:pt x="2924" y="1132"/>
                  </a:lnTo>
                  <a:lnTo>
                    <a:pt x="2797" y="1029"/>
                  </a:lnTo>
                  <a:lnTo>
                    <a:pt x="2672" y="930"/>
                  </a:lnTo>
                  <a:lnTo>
                    <a:pt x="2551" y="838"/>
                  </a:lnTo>
                  <a:lnTo>
                    <a:pt x="2434" y="751"/>
                  </a:lnTo>
                  <a:lnTo>
                    <a:pt x="2319" y="670"/>
                  </a:lnTo>
                  <a:lnTo>
                    <a:pt x="2209" y="593"/>
                  </a:lnTo>
                  <a:lnTo>
                    <a:pt x="2101" y="523"/>
                  </a:lnTo>
                  <a:lnTo>
                    <a:pt x="1996" y="457"/>
                  </a:lnTo>
                  <a:lnTo>
                    <a:pt x="1893" y="396"/>
                  </a:lnTo>
                  <a:lnTo>
                    <a:pt x="1793" y="341"/>
                  </a:lnTo>
                  <a:lnTo>
                    <a:pt x="1696" y="289"/>
                  </a:lnTo>
                  <a:lnTo>
                    <a:pt x="1600" y="242"/>
                  </a:lnTo>
                  <a:lnTo>
                    <a:pt x="1507" y="200"/>
                  </a:lnTo>
                  <a:lnTo>
                    <a:pt x="1415" y="163"/>
                  </a:lnTo>
                  <a:lnTo>
                    <a:pt x="1325" y="129"/>
                  </a:lnTo>
                  <a:lnTo>
                    <a:pt x="1238" y="100"/>
                  </a:lnTo>
                  <a:lnTo>
                    <a:pt x="1150" y="74"/>
                  </a:lnTo>
                  <a:lnTo>
                    <a:pt x="1065" y="53"/>
                  </a:lnTo>
                  <a:lnTo>
                    <a:pt x="981" y="36"/>
                  </a:lnTo>
                  <a:lnTo>
                    <a:pt x="897" y="23"/>
                  </a:lnTo>
                  <a:lnTo>
                    <a:pt x="815" y="11"/>
                  </a:lnTo>
                  <a:lnTo>
                    <a:pt x="734" y="5"/>
                  </a:lnTo>
                  <a:lnTo>
                    <a:pt x="652" y="2"/>
                  </a:lnTo>
                  <a:lnTo>
                    <a:pt x="571" y="0"/>
                  </a:lnTo>
                  <a:lnTo>
                    <a:pt x="491" y="3"/>
                  </a:lnTo>
                  <a:lnTo>
                    <a:pt x="409" y="8"/>
                  </a:lnTo>
                  <a:lnTo>
                    <a:pt x="328" y="18"/>
                  </a:lnTo>
                  <a:lnTo>
                    <a:pt x="248" y="29"/>
                  </a:lnTo>
                  <a:lnTo>
                    <a:pt x="166" y="42"/>
                  </a:lnTo>
                  <a:lnTo>
                    <a:pt x="84" y="58"/>
                  </a:lnTo>
                  <a:lnTo>
                    <a:pt x="0" y="7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9782000">
              <a:off x="912600" y="-498240"/>
              <a:ext cx="11287800" cy="3660840"/>
            </a:xfrm>
            <a:custGeom>
              <a:avLst/>
              <a:gdLst/>
              <a:ahLst/>
              <a:rect l="l" t="t" r="r" b="b"/>
              <a:pathLst>
                <a:path w="5381" h="1708">
                  <a:moveTo>
                    <a:pt x="5381" y="1145"/>
                  </a:moveTo>
                  <a:lnTo>
                    <a:pt x="5381" y="1145"/>
                  </a:lnTo>
                  <a:lnTo>
                    <a:pt x="5372" y="1157"/>
                  </a:lnTo>
                  <a:lnTo>
                    <a:pt x="5341" y="1195"/>
                  </a:lnTo>
                  <a:lnTo>
                    <a:pt x="5319" y="1220"/>
                  </a:lnTo>
                  <a:lnTo>
                    <a:pt x="5293" y="1250"/>
                  </a:lnTo>
                  <a:lnTo>
                    <a:pt x="5261" y="1283"/>
                  </a:lnTo>
                  <a:lnTo>
                    <a:pt x="5224" y="1319"/>
                  </a:lnTo>
                  <a:lnTo>
                    <a:pt x="5184" y="1356"/>
                  </a:lnTo>
                  <a:lnTo>
                    <a:pt x="5138" y="1395"/>
                  </a:lnTo>
                  <a:lnTo>
                    <a:pt x="5088" y="1434"/>
                  </a:lnTo>
                  <a:lnTo>
                    <a:pt x="5033" y="1472"/>
                  </a:lnTo>
                  <a:lnTo>
                    <a:pt x="4975" y="1511"/>
                  </a:lnTo>
                  <a:lnTo>
                    <a:pt x="4943" y="1529"/>
                  </a:lnTo>
                  <a:lnTo>
                    <a:pt x="4911" y="1547"/>
                  </a:lnTo>
                  <a:lnTo>
                    <a:pt x="4877" y="1564"/>
                  </a:lnTo>
                  <a:lnTo>
                    <a:pt x="4843" y="1582"/>
                  </a:lnTo>
                  <a:lnTo>
                    <a:pt x="4808" y="1598"/>
                  </a:lnTo>
                  <a:lnTo>
                    <a:pt x="4770" y="1613"/>
                  </a:lnTo>
                  <a:lnTo>
                    <a:pt x="4733" y="1629"/>
                  </a:lnTo>
                  <a:lnTo>
                    <a:pt x="4694" y="1642"/>
                  </a:lnTo>
                  <a:lnTo>
                    <a:pt x="4655" y="1655"/>
                  </a:lnTo>
                  <a:lnTo>
                    <a:pt x="4614" y="1666"/>
                  </a:lnTo>
                  <a:lnTo>
                    <a:pt x="4572" y="1676"/>
                  </a:lnTo>
                  <a:lnTo>
                    <a:pt x="4530" y="1685"/>
                  </a:lnTo>
                  <a:lnTo>
                    <a:pt x="4486" y="1694"/>
                  </a:lnTo>
                  <a:lnTo>
                    <a:pt x="4441" y="1700"/>
                  </a:lnTo>
                  <a:lnTo>
                    <a:pt x="4396" y="1705"/>
                  </a:lnTo>
                  <a:lnTo>
                    <a:pt x="4348" y="1708"/>
                  </a:lnTo>
                  <a:lnTo>
                    <a:pt x="4300" y="1708"/>
                  </a:lnTo>
                  <a:lnTo>
                    <a:pt x="4251" y="1708"/>
                  </a:lnTo>
                  <a:lnTo>
                    <a:pt x="4201" y="1706"/>
                  </a:lnTo>
                  <a:lnTo>
                    <a:pt x="4150" y="1702"/>
                  </a:lnTo>
                  <a:lnTo>
                    <a:pt x="4098" y="1695"/>
                  </a:lnTo>
                  <a:lnTo>
                    <a:pt x="4046" y="1687"/>
                  </a:lnTo>
                  <a:lnTo>
                    <a:pt x="3992" y="1677"/>
                  </a:lnTo>
                  <a:lnTo>
                    <a:pt x="3937" y="1664"/>
                  </a:lnTo>
                  <a:lnTo>
                    <a:pt x="3882" y="1648"/>
                  </a:lnTo>
                  <a:lnTo>
                    <a:pt x="3825" y="1631"/>
                  </a:lnTo>
                  <a:lnTo>
                    <a:pt x="3768" y="1611"/>
                  </a:lnTo>
                  <a:lnTo>
                    <a:pt x="3708" y="1589"/>
                  </a:lnTo>
                  <a:lnTo>
                    <a:pt x="3650" y="1563"/>
                  </a:lnTo>
                  <a:lnTo>
                    <a:pt x="3589" y="1534"/>
                  </a:lnTo>
                  <a:lnTo>
                    <a:pt x="3528" y="1503"/>
                  </a:lnTo>
                  <a:lnTo>
                    <a:pt x="3465" y="1469"/>
                  </a:lnTo>
                  <a:lnTo>
                    <a:pt x="3403" y="1432"/>
                  </a:lnTo>
                  <a:lnTo>
                    <a:pt x="3339" y="1392"/>
                  </a:lnTo>
                  <a:lnTo>
                    <a:pt x="3274" y="1348"/>
                  </a:lnTo>
                  <a:lnTo>
                    <a:pt x="3209" y="1301"/>
                  </a:lnTo>
                  <a:lnTo>
                    <a:pt x="3142" y="1251"/>
                  </a:lnTo>
                  <a:lnTo>
                    <a:pt x="3074" y="1198"/>
                  </a:lnTo>
                  <a:lnTo>
                    <a:pt x="3074" y="1198"/>
                  </a:lnTo>
                  <a:lnTo>
                    <a:pt x="2941" y="1090"/>
                  </a:lnTo>
                  <a:lnTo>
                    <a:pt x="2810" y="988"/>
                  </a:lnTo>
                  <a:lnTo>
                    <a:pt x="2684" y="891"/>
                  </a:lnTo>
                  <a:lnTo>
                    <a:pt x="2561" y="801"/>
                  </a:lnTo>
                  <a:lnTo>
                    <a:pt x="2443" y="717"/>
                  </a:lnTo>
                  <a:lnTo>
                    <a:pt x="2328" y="638"/>
                  </a:lnTo>
                  <a:lnTo>
                    <a:pt x="2216" y="563"/>
                  </a:lnTo>
                  <a:lnTo>
                    <a:pt x="2106" y="494"/>
                  </a:lnTo>
                  <a:lnTo>
                    <a:pt x="2001" y="429"/>
                  </a:lnTo>
                  <a:lnTo>
                    <a:pt x="1898" y="371"/>
                  </a:lnTo>
                  <a:lnTo>
                    <a:pt x="1796" y="316"/>
                  </a:lnTo>
                  <a:lnTo>
                    <a:pt x="1698" y="268"/>
                  </a:lnTo>
                  <a:lnTo>
                    <a:pt x="1602" y="223"/>
                  </a:lnTo>
                  <a:lnTo>
                    <a:pt x="1508" y="182"/>
                  </a:lnTo>
                  <a:lnTo>
                    <a:pt x="1416" y="147"/>
                  </a:lnTo>
                  <a:lnTo>
                    <a:pt x="1326" y="114"/>
                  </a:lnTo>
                  <a:lnTo>
                    <a:pt x="1237" y="87"/>
                  </a:lnTo>
                  <a:lnTo>
                    <a:pt x="1149" y="63"/>
                  </a:lnTo>
                  <a:lnTo>
                    <a:pt x="1065" y="43"/>
                  </a:lnTo>
                  <a:lnTo>
                    <a:pt x="980" y="27"/>
                  </a:lnTo>
                  <a:lnTo>
                    <a:pt x="897" y="16"/>
                  </a:lnTo>
                  <a:lnTo>
                    <a:pt x="813" y="6"/>
                  </a:lnTo>
                  <a:lnTo>
                    <a:pt x="732" y="1"/>
                  </a:lnTo>
                  <a:lnTo>
                    <a:pt x="650" y="0"/>
                  </a:lnTo>
                  <a:lnTo>
                    <a:pt x="569" y="0"/>
                  </a:lnTo>
                  <a:lnTo>
                    <a:pt x="489" y="5"/>
                  </a:lnTo>
                  <a:lnTo>
                    <a:pt x="408" y="11"/>
                  </a:lnTo>
                  <a:lnTo>
                    <a:pt x="328" y="22"/>
                  </a:lnTo>
                  <a:lnTo>
                    <a:pt x="246" y="35"/>
                  </a:lnTo>
                  <a:lnTo>
                    <a:pt x="165" y="50"/>
                  </a:lnTo>
                  <a:lnTo>
                    <a:pt x="83" y="68"/>
                  </a:lnTo>
                  <a:lnTo>
                    <a:pt x="0" y="8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9782000">
              <a:off x="953640" y="-451080"/>
              <a:ext cx="11316960" cy="3524040"/>
            </a:xfrm>
            <a:custGeom>
              <a:avLst/>
              <a:gdLst/>
              <a:ahLst/>
              <a:rect l="l" t="t" r="r" b="b"/>
              <a:pathLst>
                <a:path w="5395" h="1644">
                  <a:moveTo>
                    <a:pt x="5395" y="1054"/>
                  </a:moveTo>
                  <a:lnTo>
                    <a:pt x="5395" y="1054"/>
                  </a:lnTo>
                  <a:lnTo>
                    <a:pt x="5385" y="1067"/>
                  </a:lnTo>
                  <a:lnTo>
                    <a:pt x="5356" y="1106"/>
                  </a:lnTo>
                  <a:lnTo>
                    <a:pt x="5335" y="1132"/>
                  </a:lnTo>
                  <a:lnTo>
                    <a:pt x="5309" y="1162"/>
                  </a:lnTo>
                  <a:lnTo>
                    <a:pt x="5277" y="1196"/>
                  </a:lnTo>
                  <a:lnTo>
                    <a:pt x="5241" y="1232"/>
                  </a:lnTo>
                  <a:lnTo>
                    <a:pt x="5201" y="1271"/>
                  </a:lnTo>
                  <a:lnTo>
                    <a:pt x="5156" y="1309"/>
                  </a:lnTo>
                  <a:lnTo>
                    <a:pt x="5106" y="1350"/>
                  </a:lnTo>
                  <a:lnTo>
                    <a:pt x="5052" y="1390"/>
                  </a:lnTo>
                  <a:lnTo>
                    <a:pt x="4994" y="1431"/>
                  </a:lnTo>
                  <a:lnTo>
                    <a:pt x="4963" y="1450"/>
                  </a:lnTo>
                  <a:lnTo>
                    <a:pt x="4931" y="1469"/>
                  </a:lnTo>
                  <a:lnTo>
                    <a:pt x="4898" y="1487"/>
                  </a:lnTo>
                  <a:lnTo>
                    <a:pt x="4865" y="1505"/>
                  </a:lnTo>
                  <a:lnTo>
                    <a:pt x="4829" y="1521"/>
                  </a:lnTo>
                  <a:lnTo>
                    <a:pt x="4793" y="1539"/>
                  </a:lnTo>
                  <a:lnTo>
                    <a:pt x="4755" y="1553"/>
                  </a:lnTo>
                  <a:lnTo>
                    <a:pt x="4716" y="1568"/>
                  </a:lnTo>
                  <a:lnTo>
                    <a:pt x="4677" y="1582"/>
                  </a:lnTo>
                  <a:lnTo>
                    <a:pt x="4637" y="1594"/>
                  </a:lnTo>
                  <a:lnTo>
                    <a:pt x="4595" y="1605"/>
                  </a:lnTo>
                  <a:lnTo>
                    <a:pt x="4552" y="1615"/>
                  </a:lnTo>
                  <a:lnTo>
                    <a:pt x="4509" y="1624"/>
                  </a:lnTo>
                  <a:lnTo>
                    <a:pt x="4463" y="1631"/>
                  </a:lnTo>
                  <a:lnTo>
                    <a:pt x="4418" y="1637"/>
                  </a:lnTo>
                  <a:lnTo>
                    <a:pt x="4372" y="1640"/>
                  </a:lnTo>
                  <a:lnTo>
                    <a:pt x="4323" y="1644"/>
                  </a:lnTo>
                  <a:lnTo>
                    <a:pt x="4275" y="1644"/>
                  </a:lnTo>
                  <a:lnTo>
                    <a:pt x="4225" y="1642"/>
                  </a:lnTo>
                  <a:lnTo>
                    <a:pt x="4173" y="1639"/>
                  </a:lnTo>
                  <a:lnTo>
                    <a:pt x="4122" y="1634"/>
                  </a:lnTo>
                  <a:lnTo>
                    <a:pt x="4069" y="1627"/>
                  </a:lnTo>
                  <a:lnTo>
                    <a:pt x="4015" y="1618"/>
                  </a:lnTo>
                  <a:lnTo>
                    <a:pt x="3959" y="1605"/>
                  </a:lnTo>
                  <a:lnTo>
                    <a:pt x="3904" y="1592"/>
                  </a:lnTo>
                  <a:lnTo>
                    <a:pt x="3847" y="1574"/>
                  </a:lnTo>
                  <a:lnTo>
                    <a:pt x="3789" y="1556"/>
                  </a:lnTo>
                  <a:lnTo>
                    <a:pt x="3730" y="1534"/>
                  </a:lnTo>
                  <a:lnTo>
                    <a:pt x="3671" y="1510"/>
                  </a:lnTo>
                  <a:lnTo>
                    <a:pt x="3610" y="1482"/>
                  </a:lnTo>
                  <a:lnTo>
                    <a:pt x="3548" y="1451"/>
                  </a:lnTo>
                  <a:lnTo>
                    <a:pt x="3486" y="1419"/>
                  </a:lnTo>
                  <a:lnTo>
                    <a:pt x="3422" y="1384"/>
                  </a:lnTo>
                  <a:lnTo>
                    <a:pt x="3357" y="1343"/>
                  </a:lnTo>
                  <a:lnTo>
                    <a:pt x="3292" y="1301"/>
                  </a:lnTo>
                  <a:lnTo>
                    <a:pt x="3225" y="1256"/>
                  </a:lnTo>
                  <a:lnTo>
                    <a:pt x="3158" y="1206"/>
                  </a:lnTo>
                  <a:lnTo>
                    <a:pt x="3089" y="1154"/>
                  </a:lnTo>
                  <a:lnTo>
                    <a:pt x="3089" y="1154"/>
                  </a:lnTo>
                  <a:lnTo>
                    <a:pt x="2954" y="1049"/>
                  </a:lnTo>
                  <a:lnTo>
                    <a:pt x="2822" y="949"/>
                  </a:lnTo>
                  <a:lnTo>
                    <a:pt x="2696" y="856"/>
                  </a:lnTo>
                  <a:lnTo>
                    <a:pt x="2572" y="767"/>
                  </a:lnTo>
                  <a:lnTo>
                    <a:pt x="2452" y="683"/>
                  </a:lnTo>
                  <a:lnTo>
                    <a:pt x="2335" y="605"/>
                  </a:lnTo>
                  <a:lnTo>
                    <a:pt x="2223" y="534"/>
                  </a:lnTo>
                  <a:lnTo>
                    <a:pt x="2111" y="467"/>
                  </a:lnTo>
                  <a:lnTo>
                    <a:pt x="2005" y="405"/>
                  </a:lnTo>
                  <a:lnTo>
                    <a:pt x="1900" y="347"/>
                  </a:lnTo>
                  <a:lnTo>
                    <a:pt x="1799" y="295"/>
                  </a:lnTo>
                  <a:lnTo>
                    <a:pt x="1699" y="247"/>
                  </a:lnTo>
                  <a:lnTo>
                    <a:pt x="1603" y="205"/>
                  </a:lnTo>
                  <a:lnTo>
                    <a:pt x="1509" y="166"/>
                  </a:lnTo>
                  <a:lnTo>
                    <a:pt x="1416" y="131"/>
                  </a:lnTo>
                  <a:lnTo>
                    <a:pt x="1326" y="102"/>
                  </a:lnTo>
                  <a:lnTo>
                    <a:pt x="1237" y="76"/>
                  </a:lnTo>
                  <a:lnTo>
                    <a:pt x="1149" y="53"/>
                  </a:lnTo>
                  <a:lnTo>
                    <a:pt x="1063" y="35"/>
                  </a:lnTo>
                  <a:lnTo>
                    <a:pt x="979" y="21"/>
                  </a:lnTo>
                  <a:lnTo>
                    <a:pt x="894" y="11"/>
                  </a:lnTo>
                  <a:lnTo>
                    <a:pt x="812" y="3"/>
                  </a:lnTo>
                  <a:lnTo>
                    <a:pt x="730" y="0"/>
                  </a:lnTo>
                  <a:lnTo>
                    <a:pt x="648" y="0"/>
                  </a:lnTo>
                  <a:lnTo>
                    <a:pt x="568" y="2"/>
                  </a:lnTo>
                  <a:lnTo>
                    <a:pt x="487" y="8"/>
                  </a:lnTo>
                  <a:lnTo>
                    <a:pt x="406" y="18"/>
                  </a:lnTo>
                  <a:lnTo>
                    <a:pt x="326" y="29"/>
                  </a:lnTo>
                  <a:lnTo>
                    <a:pt x="244" y="43"/>
                  </a:lnTo>
                  <a:lnTo>
                    <a:pt x="164" y="60"/>
                  </a:lnTo>
                  <a:lnTo>
                    <a:pt x="82" y="81"/>
                  </a:lnTo>
                  <a:lnTo>
                    <a:pt x="0" y="10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9782000">
              <a:off x="994680" y="-405000"/>
              <a:ext cx="11346480" cy="3390840"/>
            </a:xfrm>
            <a:custGeom>
              <a:avLst/>
              <a:gdLst/>
              <a:ahLst/>
              <a:rect l="l" t="t" r="r" b="b"/>
              <a:pathLst>
                <a:path w="5409" h="1581">
                  <a:moveTo>
                    <a:pt x="5409" y="964"/>
                  </a:moveTo>
                  <a:lnTo>
                    <a:pt x="5409" y="964"/>
                  </a:lnTo>
                  <a:lnTo>
                    <a:pt x="5399" y="979"/>
                  </a:lnTo>
                  <a:lnTo>
                    <a:pt x="5371" y="1018"/>
                  </a:lnTo>
                  <a:lnTo>
                    <a:pt x="5350" y="1045"/>
                  </a:lnTo>
                  <a:lnTo>
                    <a:pt x="5324" y="1076"/>
                  </a:lnTo>
                  <a:lnTo>
                    <a:pt x="5294" y="1110"/>
                  </a:lnTo>
                  <a:lnTo>
                    <a:pt x="5257" y="1147"/>
                  </a:lnTo>
                  <a:lnTo>
                    <a:pt x="5219" y="1187"/>
                  </a:lnTo>
                  <a:lnTo>
                    <a:pt x="5174" y="1228"/>
                  </a:lnTo>
                  <a:lnTo>
                    <a:pt x="5126" y="1270"/>
                  </a:lnTo>
                  <a:lnTo>
                    <a:pt x="5071" y="1310"/>
                  </a:lnTo>
                  <a:lnTo>
                    <a:pt x="5013" y="1352"/>
                  </a:lnTo>
                  <a:lnTo>
                    <a:pt x="4983" y="1371"/>
                  </a:lnTo>
                  <a:lnTo>
                    <a:pt x="4952" y="1391"/>
                  </a:lnTo>
                  <a:lnTo>
                    <a:pt x="4919" y="1410"/>
                  </a:lnTo>
                  <a:lnTo>
                    <a:pt x="4885" y="1429"/>
                  </a:lnTo>
                  <a:lnTo>
                    <a:pt x="4849" y="1447"/>
                  </a:lnTo>
                  <a:lnTo>
                    <a:pt x="4813" y="1463"/>
                  </a:lnTo>
                  <a:lnTo>
                    <a:pt x="4777" y="1481"/>
                  </a:lnTo>
                  <a:lnTo>
                    <a:pt x="4738" y="1496"/>
                  </a:lnTo>
                  <a:lnTo>
                    <a:pt x="4699" y="1510"/>
                  </a:lnTo>
                  <a:lnTo>
                    <a:pt x="4659" y="1523"/>
                  </a:lnTo>
                  <a:lnTo>
                    <a:pt x="4617" y="1536"/>
                  </a:lnTo>
                  <a:lnTo>
                    <a:pt x="4574" y="1547"/>
                  </a:lnTo>
                  <a:lnTo>
                    <a:pt x="4531" y="1555"/>
                  </a:lnTo>
                  <a:lnTo>
                    <a:pt x="4487" y="1563"/>
                  </a:lnTo>
                  <a:lnTo>
                    <a:pt x="4441" y="1572"/>
                  </a:lnTo>
                  <a:lnTo>
                    <a:pt x="4394" y="1576"/>
                  </a:lnTo>
                  <a:lnTo>
                    <a:pt x="4345" y="1580"/>
                  </a:lnTo>
                  <a:lnTo>
                    <a:pt x="4297" y="1581"/>
                  </a:lnTo>
                  <a:lnTo>
                    <a:pt x="4247" y="1581"/>
                  </a:lnTo>
                  <a:lnTo>
                    <a:pt x="4197" y="1578"/>
                  </a:lnTo>
                  <a:lnTo>
                    <a:pt x="4144" y="1575"/>
                  </a:lnTo>
                  <a:lnTo>
                    <a:pt x="4091" y="1568"/>
                  </a:lnTo>
                  <a:lnTo>
                    <a:pt x="4037" y="1560"/>
                  </a:lnTo>
                  <a:lnTo>
                    <a:pt x="3982" y="1549"/>
                  </a:lnTo>
                  <a:lnTo>
                    <a:pt x="3926" y="1536"/>
                  </a:lnTo>
                  <a:lnTo>
                    <a:pt x="3869" y="1520"/>
                  </a:lnTo>
                  <a:lnTo>
                    <a:pt x="3811" y="1502"/>
                  </a:lnTo>
                  <a:lnTo>
                    <a:pt x="3751" y="1481"/>
                  </a:lnTo>
                  <a:lnTo>
                    <a:pt x="3691" y="1458"/>
                  </a:lnTo>
                  <a:lnTo>
                    <a:pt x="3630" y="1433"/>
                  </a:lnTo>
                  <a:lnTo>
                    <a:pt x="3568" y="1404"/>
                  </a:lnTo>
                  <a:lnTo>
                    <a:pt x="3505" y="1371"/>
                  </a:lnTo>
                  <a:lnTo>
                    <a:pt x="3440" y="1336"/>
                  </a:lnTo>
                  <a:lnTo>
                    <a:pt x="3375" y="1299"/>
                  </a:lnTo>
                  <a:lnTo>
                    <a:pt x="3310" y="1257"/>
                  </a:lnTo>
                  <a:lnTo>
                    <a:pt x="3241" y="1211"/>
                  </a:lnTo>
                  <a:lnTo>
                    <a:pt x="3173" y="1165"/>
                  </a:lnTo>
                  <a:lnTo>
                    <a:pt x="3105" y="1113"/>
                  </a:lnTo>
                  <a:lnTo>
                    <a:pt x="3105" y="1113"/>
                  </a:lnTo>
                  <a:lnTo>
                    <a:pt x="2968" y="1010"/>
                  </a:lnTo>
                  <a:lnTo>
                    <a:pt x="2835" y="913"/>
                  </a:lnTo>
                  <a:lnTo>
                    <a:pt x="2707" y="821"/>
                  </a:lnTo>
                  <a:lnTo>
                    <a:pt x="2582" y="733"/>
                  </a:lnTo>
                  <a:lnTo>
                    <a:pt x="2460" y="653"/>
                  </a:lnTo>
                  <a:lnTo>
                    <a:pt x="2343" y="577"/>
                  </a:lnTo>
                  <a:lnTo>
                    <a:pt x="2228" y="507"/>
                  </a:lnTo>
                  <a:lnTo>
                    <a:pt x="2117" y="441"/>
                  </a:lnTo>
                  <a:lnTo>
                    <a:pt x="2009" y="381"/>
                  </a:lnTo>
                  <a:lnTo>
                    <a:pt x="1904" y="327"/>
                  </a:lnTo>
                  <a:lnTo>
                    <a:pt x="1802" y="277"/>
                  </a:lnTo>
                  <a:lnTo>
                    <a:pt x="1702" y="230"/>
                  </a:lnTo>
                  <a:lnTo>
                    <a:pt x="1605" y="189"/>
                  </a:lnTo>
                  <a:lnTo>
                    <a:pt x="1509" y="152"/>
                  </a:lnTo>
                  <a:lnTo>
                    <a:pt x="1416" y="118"/>
                  </a:lnTo>
                  <a:lnTo>
                    <a:pt x="1325" y="91"/>
                  </a:lnTo>
                  <a:lnTo>
                    <a:pt x="1235" y="67"/>
                  </a:lnTo>
                  <a:lnTo>
                    <a:pt x="1148" y="46"/>
                  </a:lnTo>
                  <a:lnTo>
                    <a:pt x="1062" y="29"/>
                  </a:lnTo>
                  <a:lnTo>
                    <a:pt x="977" y="17"/>
                  </a:lnTo>
                  <a:lnTo>
                    <a:pt x="892" y="8"/>
                  </a:lnTo>
                  <a:lnTo>
                    <a:pt x="810" y="2"/>
                  </a:lnTo>
                  <a:lnTo>
                    <a:pt x="728" y="0"/>
                  </a:lnTo>
                  <a:lnTo>
                    <a:pt x="647" y="2"/>
                  </a:lnTo>
                  <a:lnTo>
                    <a:pt x="566" y="7"/>
                  </a:lnTo>
                  <a:lnTo>
                    <a:pt x="485" y="13"/>
                  </a:lnTo>
                  <a:lnTo>
                    <a:pt x="405" y="25"/>
                  </a:lnTo>
                  <a:lnTo>
                    <a:pt x="324" y="38"/>
                  </a:lnTo>
                  <a:lnTo>
                    <a:pt x="244" y="54"/>
                  </a:lnTo>
                  <a:lnTo>
                    <a:pt x="163" y="73"/>
                  </a:lnTo>
                  <a:lnTo>
                    <a:pt x="81" y="94"/>
                  </a:lnTo>
                  <a:lnTo>
                    <a:pt x="0" y="1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9782000">
              <a:off x="1037880" y="-355320"/>
              <a:ext cx="11374200" cy="3249720"/>
            </a:xfrm>
            <a:custGeom>
              <a:avLst/>
              <a:gdLst/>
              <a:ahLst/>
              <a:rect l="l" t="t" r="r" b="b"/>
              <a:pathLst>
                <a:path w="5422" h="1516">
                  <a:moveTo>
                    <a:pt x="5422" y="873"/>
                  </a:moveTo>
                  <a:lnTo>
                    <a:pt x="5422" y="873"/>
                  </a:lnTo>
                  <a:lnTo>
                    <a:pt x="5412" y="888"/>
                  </a:lnTo>
                  <a:lnTo>
                    <a:pt x="5384" y="926"/>
                  </a:lnTo>
                  <a:lnTo>
                    <a:pt x="5363" y="954"/>
                  </a:lnTo>
                  <a:lnTo>
                    <a:pt x="5337" y="986"/>
                  </a:lnTo>
                  <a:lnTo>
                    <a:pt x="5308" y="1022"/>
                  </a:lnTo>
                  <a:lnTo>
                    <a:pt x="5273" y="1059"/>
                  </a:lnTo>
                  <a:lnTo>
                    <a:pt x="5233" y="1099"/>
                  </a:lnTo>
                  <a:lnTo>
                    <a:pt x="5190" y="1141"/>
                  </a:lnTo>
                  <a:lnTo>
                    <a:pt x="5141" y="1185"/>
                  </a:lnTo>
                  <a:lnTo>
                    <a:pt x="5088" y="1227"/>
                  </a:lnTo>
                  <a:lnTo>
                    <a:pt x="5031" y="1269"/>
                  </a:lnTo>
                  <a:lnTo>
                    <a:pt x="5001" y="1290"/>
                  </a:lnTo>
                  <a:lnTo>
                    <a:pt x="4970" y="1311"/>
                  </a:lnTo>
                  <a:lnTo>
                    <a:pt x="4937" y="1330"/>
                  </a:lnTo>
                  <a:lnTo>
                    <a:pt x="4904" y="1349"/>
                  </a:lnTo>
                  <a:lnTo>
                    <a:pt x="4869" y="1369"/>
                  </a:lnTo>
                  <a:lnTo>
                    <a:pt x="4833" y="1387"/>
                  </a:lnTo>
                  <a:lnTo>
                    <a:pt x="4797" y="1404"/>
                  </a:lnTo>
                  <a:lnTo>
                    <a:pt x="4758" y="1420"/>
                  </a:lnTo>
                  <a:lnTo>
                    <a:pt x="4719" y="1435"/>
                  </a:lnTo>
                  <a:lnTo>
                    <a:pt x="4679" y="1450"/>
                  </a:lnTo>
                  <a:lnTo>
                    <a:pt x="4637" y="1462"/>
                  </a:lnTo>
                  <a:lnTo>
                    <a:pt x="4595" y="1474"/>
                  </a:lnTo>
                  <a:lnTo>
                    <a:pt x="4552" y="1485"/>
                  </a:lnTo>
                  <a:lnTo>
                    <a:pt x="4507" y="1493"/>
                  </a:lnTo>
                  <a:lnTo>
                    <a:pt x="4462" y="1501"/>
                  </a:lnTo>
                  <a:lnTo>
                    <a:pt x="4415" y="1508"/>
                  </a:lnTo>
                  <a:lnTo>
                    <a:pt x="4368" y="1513"/>
                  </a:lnTo>
                  <a:lnTo>
                    <a:pt x="4318" y="1514"/>
                  </a:lnTo>
                  <a:lnTo>
                    <a:pt x="4268" y="1516"/>
                  </a:lnTo>
                  <a:lnTo>
                    <a:pt x="4218" y="1514"/>
                  </a:lnTo>
                  <a:lnTo>
                    <a:pt x="4165" y="1511"/>
                  </a:lnTo>
                  <a:lnTo>
                    <a:pt x="4112" y="1506"/>
                  </a:lnTo>
                  <a:lnTo>
                    <a:pt x="4058" y="1498"/>
                  </a:lnTo>
                  <a:lnTo>
                    <a:pt x="4003" y="1488"/>
                  </a:lnTo>
                  <a:lnTo>
                    <a:pt x="3947" y="1477"/>
                  </a:lnTo>
                  <a:lnTo>
                    <a:pt x="3889" y="1462"/>
                  </a:lnTo>
                  <a:lnTo>
                    <a:pt x="3830" y="1445"/>
                  </a:lnTo>
                  <a:lnTo>
                    <a:pt x="3771" y="1425"/>
                  </a:lnTo>
                  <a:lnTo>
                    <a:pt x="3711" y="1403"/>
                  </a:lnTo>
                  <a:lnTo>
                    <a:pt x="3649" y="1378"/>
                  </a:lnTo>
                  <a:lnTo>
                    <a:pt x="3586" y="1351"/>
                  </a:lnTo>
                  <a:lnTo>
                    <a:pt x="3522" y="1320"/>
                  </a:lnTo>
                  <a:lnTo>
                    <a:pt x="3458" y="1286"/>
                  </a:lnTo>
                  <a:lnTo>
                    <a:pt x="3393" y="1249"/>
                  </a:lnTo>
                  <a:lnTo>
                    <a:pt x="3325" y="1209"/>
                  </a:lnTo>
                  <a:lnTo>
                    <a:pt x="3258" y="1165"/>
                  </a:lnTo>
                  <a:lnTo>
                    <a:pt x="3189" y="1119"/>
                  </a:lnTo>
                  <a:lnTo>
                    <a:pt x="3120" y="1068"/>
                  </a:lnTo>
                  <a:lnTo>
                    <a:pt x="3120" y="1068"/>
                  </a:lnTo>
                  <a:lnTo>
                    <a:pt x="2981" y="967"/>
                  </a:lnTo>
                  <a:lnTo>
                    <a:pt x="2846" y="871"/>
                  </a:lnTo>
                  <a:lnTo>
                    <a:pt x="2717" y="783"/>
                  </a:lnTo>
                  <a:lnTo>
                    <a:pt x="2591" y="699"/>
                  </a:lnTo>
                  <a:lnTo>
                    <a:pt x="2468" y="620"/>
                  </a:lnTo>
                  <a:lnTo>
                    <a:pt x="2349" y="545"/>
                  </a:lnTo>
                  <a:lnTo>
                    <a:pt x="2234" y="478"/>
                  </a:lnTo>
                  <a:lnTo>
                    <a:pt x="2121" y="415"/>
                  </a:lnTo>
                  <a:lnTo>
                    <a:pt x="2013" y="356"/>
                  </a:lnTo>
                  <a:lnTo>
                    <a:pt x="1906" y="303"/>
                  </a:lnTo>
                  <a:lnTo>
                    <a:pt x="1803" y="253"/>
                  </a:lnTo>
                  <a:lnTo>
                    <a:pt x="1703" y="209"/>
                  </a:lnTo>
                  <a:lnTo>
                    <a:pt x="1605" y="171"/>
                  </a:lnTo>
                  <a:lnTo>
                    <a:pt x="1509" y="135"/>
                  </a:lnTo>
                  <a:lnTo>
                    <a:pt x="1416" y="105"/>
                  </a:lnTo>
                  <a:lnTo>
                    <a:pt x="1324" y="77"/>
                  </a:lnTo>
                  <a:lnTo>
                    <a:pt x="1234" y="54"/>
                  </a:lnTo>
                  <a:lnTo>
                    <a:pt x="1147" y="37"/>
                  </a:lnTo>
                  <a:lnTo>
                    <a:pt x="1060" y="22"/>
                  </a:lnTo>
                  <a:lnTo>
                    <a:pt x="974" y="11"/>
                  </a:lnTo>
                  <a:lnTo>
                    <a:pt x="891" y="3"/>
                  </a:lnTo>
                  <a:lnTo>
                    <a:pt x="808" y="0"/>
                  </a:lnTo>
                  <a:lnTo>
                    <a:pt x="726" y="0"/>
                  </a:lnTo>
                  <a:lnTo>
                    <a:pt x="644" y="1"/>
                  </a:lnTo>
                  <a:lnTo>
                    <a:pt x="563" y="8"/>
                  </a:lnTo>
                  <a:lnTo>
                    <a:pt x="483" y="17"/>
                  </a:lnTo>
                  <a:lnTo>
                    <a:pt x="402" y="30"/>
                  </a:lnTo>
                  <a:lnTo>
                    <a:pt x="323" y="45"/>
                  </a:lnTo>
                  <a:lnTo>
                    <a:pt x="243" y="63"/>
                  </a:lnTo>
                  <a:lnTo>
                    <a:pt x="162" y="84"/>
                  </a:lnTo>
                  <a:lnTo>
                    <a:pt x="80" y="106"/>
                  </a:lnTo>
                  <a:lnTo>
                    <a:pt x="0" y="13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9782000">
              <a:off x="1079640" y="-307440"/>
              <a:ext cx="11392920" cy="3107880"/>
            </a:xfrm>
            <a:custGeom>
              <a:avLst/>
              <a:gdLst/>
              <a:ahLst/>
              <a:rect l="l" t="t" r="r" b="b"/>
              <a:pathLst>
                <a:path w="5431" h="1452">
                  <a:moveTo>
                    <a:pt x="5431" y="783"/>
                  </a:moveTo>
                  <a:lnTo>
                    <a:pt x="5431" y="783"/>
                  </a:lnTo>
                  <a:lnTo>
                    <a:pt x="5423" y="798"/>
                  </a:lnTo>
                  <a:lnTo>
                    <a:pt x="5395" y="838"/>
                  </a:lnTo>
                  <a:lnTo>
                    <a:pt x="5375" y="867"/>
                  </a:lnTo>
                  <a:lnTo>
                    <a:pt x="5350" y="899"/>
                  </a:lnTo>
                  <a:lnTo>
                    <a:pt x="5320" y="935"/>
                  </a:lnTo>
                  <a:lnTo>
                    <a:pt x="5286" y="974"/>
                  </a:lnTo>
                  <a:lnTo>
                    <a:pt x="5247" y="1016"/>
                  </a:lnTo>
                  <a:lnTo>
                    <a:pt x="5204" y="1058"/>
                  </a:lnTo>
                  <a:lnTo>
                    <a:pt x="5157" y="1101"/>
                  </a:lnTo>
                  <a:lnTo>
                    <a:pt x="5105" y="1147"/>
                  </a:lnTo>
                  <a:lnTo>
                    <a:pt x="5048" y="1190"/>
                  </a:lnTo>
                  <a:lnTo>
                    <a:pt x="5018" y="1211"/>
                  </a:lnTo>
                  <a:lnTo>
                    <a:pt x="4987" y="1232"/>
                  </a:lnTo>
                  <a:lnTo>
                    <a:pt x="4955" y="1253"/>
                  </a:lnTo>
                  <a:lnTo>
                    <a:pt x="4922" y="1272"/>
                  </a:lnTo>
                  <a:lnTo>
                    <a:pt x="4887" y="1293"/>
                  </a:lnTo>
                  <a:lnTo>
                    <a:pt x="4851" y="1311"/>
                  </a:lnTo>
                  <a:lnTo>
                    <a:pt x="4815" y="1329"/>
                  </a:lnTo>
                  <a:lnTo>
                    <a:pt x="4778" y="1347"/>
                  </a:lnTo>
                  <a:lnTo>
                    <a:pt x="4739" y="1363"/>
                  </a:lnTo>
                  <a:lnTo>
                    <a:pt x="4698" y="1377"/>
                  </a:lnTo>
                  <a:lnTo>
                    <a:pt x="4657" y="1392"/>
                  </a:lnTo>
                  <a:lnTo>
                    <a:pt x="4615" y="1405"/>
                  </a:lnTo>
                  <a:lnTo>
                    <a:pt x="4572" y="1416"/>
                  </a:lnTo>
                  <a:lnTo>
                    <a:pt x="4528" y="1426"/>
                  </a:lnTo>
                  <a:lnTo>
                    <a:pt x="4482" y="1434"/>
                  </a:lnTo>
                  <a:lnTo>
                    <a:pt x="4436" y="1442"/>
                  </a:lnTo>
                  <a:lnTo>
                    <a:pt x="4387" y="1447"/>
                  </a:lnTo>
                  <a:lnTo>
                    <a:pt x="4339" y="1450"/>
                  </a:lnTo>
                  <a:lnTo>
                    <a:pt x="4289" y="1452"/>
                  </a:lnTo>
                  <a:lnTo>
                    <a:pt x="4237" y="1452"/>
                  </a:lnTo>
                  <a:lnTo>
                    <a:pt x="4186" y="1450"/>
                  </a:lnTo>
                  <a:lnTo>
                    <a:pt x="4133" y="1445"/>
                  </a:lnTo>
                  <a:lnTo>
                    <a:pt x="4078" y="1439"/>
                  </a:lnTo>
                  <a:lnTo>
                    <a:pt x="4024" y="1431"/>
                  </a:lnTo>
                  <a:lnTo>
                    <a:pt x="3967" y="1419"/>
                  </a:lnTo>
                  <a:lnTo>
                    <a:pt x="3908" y="1406"/>
                  </a:lnTo>
                  <a:lnTo>
                    <a:pt x="3850" y="1390"/>
                  </a:lnTo>
                  <a:lnTo>
                    <a:pt x="3790" y="1373"/>
                  </a:lnTo>
                  <a:lnTo>
                    <a:pt x="3729" y="1352"/>
                  </a:lnTo>
                  <a:lnTo>
                    <a:pt x="3668" y="1327"/>
                  </a:lnTo>
                  <a:lnTo>
                    <a:pt x="3604" y="1300"/>
                  </a:lnTo>
                  <a:lnTo>
                    <a:pt x="3540" y="1271"/>
                  </a:lnTo>
                  <a:lnTo>
                    <a:pt x="3475" y="1239"/>
                  </a:lnTo>
                  <a:lnTo>
                    <a:pt x="3410" y="1203"/>
                  </a:lnTo>
                  <a:lnTo>
                    <a:pt x="3342" y="1163"/>
                  </a:lnTo>
                  <a:lnTo>
                    <a:pt x="3274" y="1121"/>
                  </a:lnTo>
                  <a:lnTo>
                    <a:pt x="3204" y="1075"/>
                  </a:lnTo>
                  <a:lnTo>
                    <a:pt x="3134" y="1027"/>
                  </a:lnTo>
                  <a:lnTo>
                    <a:pt x="3134" y="1027"/>
                  </a:lnTo>
                  <a:lnTo>
                    <a:pt x="2993" y="929"/>
                  </a:lnTo>
                  <a:lnTo>
                    <a:pt x="2857" y="835"/>
                  </a:lnTo>
                  <a:lnTo>
                    <a:pt x="2727" y="748"/>
                  </a:lnTo>
                  <a:lnTo>
                    <a:pt x="2599" y="665"/>
                  </a:lnTo>
                  <a:lnTo>
                    <a:pt x="2475" y="588"/>
                  </a:lnTo>
                  <a:lnTo>
                    <a:pt x="2355" y="517"/>
                  </a:lnTo>
                  <a:lnTo>
                    <a:pt x="2239" y="451"/>
                  </a:lnTo>
                  <a:lnTo>
                    <a:pt x="2126" y="389"/>
                  </a:lnTo>
                  <a:lnTo>
                    <a:pt x="2016" y="333"/>
                  </a:lnTo>
                  <a:lnTo>
                    <a:pt x="1909" y="281"/>
                  </a:lnTo>
                  <a:lnTo>
                    <a:pt x="1805" y="234"/>
                  </a:lnTo>
                  <a:lnTo>
                    <a:pt x="1705" y="192"/>
                  </a:lnTo>
                  <a:lnTo>
                    <a:pt x="1606" y="155"/>
                  </a:lnTo>
                  <a:lnTo>
                    <a:pt x="1509" y="121"/>
                  </a:lnTo>
                  <a:lnTo>
                    <a:pt x="1416" y="92"/>
                  </a:lnTo>
                  <a:lnTo>
                    <a:pt x="1323" y="68"/>
                  </a:lnTo>
                  <a:lnTo>
                    <a:pt x="1234" y="47"/>
                  </a:lnTo>
                  <a:lnTo>
                    <a:pt x="1145" y="29"/>
                  </a:lnTo>
                  <a:lnTo>
                    <a:pt x="1058" y="16"/>
                  </a:lnTo>
                  <a:lnTo>
                    <a:pt x="973" y="7"/>
                  </a:lnTo>
                  <a:lnTo>
                    <a:pt x="890" y="2"/>
                  </a:lnTo>
                  <a:lnTo>
                    <a:pt x="807" y="0"/>
                  </a:lnTo>
                  <a:lnTo>
                    <a:pt x="725" y="0"/>
                  </a:lnTo>
                  <a:lnTo>
                    <a:pt x="643" y="5"/>
                  </a:lnTo>
                  <a:lnTo>
                    <a:pt x="562" y="13"/>
                  </a:lnTo>
                  <a:lnTo>
                    <a:pt x="482" y="24"/>
                  </a:lnTo>
                  <a:lnTo>
                    <a:pt x="401" y="37"/>
                  </a:lnTo>
                  <a:lnTo>
                    <a:pt x="322" y="55"/>
                  </a:lnTo>
                  <a:lnTo>
                    <a:pt x="242" y="74"/>
                  </a:lnTo>
                  <a:lnTo>
                    <a:pt x="161" y="97"/>
                  </a:lnTo>
                  <a:lnTo>
                    <a:pt x="80" y="121"/>
                  </a:lnTo>
                  <a:lnTo>
                    <a:pt x="0" y="14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9782000">
              <a:off x="1125720" y="-268920"/>
              <a:ext cx="11409840" cy="2983320"/>
            </a:xfrm>
            <a:custGeom>
              <a:avLst/>
              <a:gdLst/>
              <a:ahLst/>
              <a:rect l="l" t="t" r="r" b="b"/>
              <a:pathLst>
                <a:path w="5439" h="1390">
                  <a:moveTo>
                    <a:pt x="5439" y="694"/>
                  </a:moveTo>
                  <a:lnTo>
                    <a:pt x="5439" y="694"/>
                  </a:lnTo>
                  <a:lnTo>
                    <a:pt x="5431" y="709"/>
                  </a:lnTo>
                  <a:lnTo>
                    <a:pt x="5405" y="751"/>
                  </a:lnTo>
                  <a:lnTo>
                    <a:pt x="5384" y="780"/>
                  </a:lnTo>
                  <a:lnTo>
                    <a:pt x="5359" y="812"/>
                  </a:lnTo>
                  <a:lnTo>
                    <a:pt x="5331" y="849"/>
                  </a:lnTo>
                  <a:lnTo>
                    <a:pt x="5296" y="890"/>
                  </a:lnTo>
                  <a:lnTo>
                    <a:pt x="5259" y="932"/>
                  </a:lnTo>
                  <a:lnTo>
                    <a:pt x="5216" y="975"/>
                  </a:lnTo>
                  <a:lnTo>
                    <a:pt x="5170" y="1020"/>
                  </a:lnTo>
                  <a:lnTo>
                    <a:pt x="5119" y="1066"/>
                  </a:lnTo>
                  <a:lnTo>
                    <a:pt x="5062" y="1111"/>
                  </a:lnTo>
                  <a:lnTo>
                    <a:pt x="5033" y="1133"/>
                  </a:lnTo>
                  <a:lnTo>
                    <a:pt x="5002" y="1154"/>
                  </a:lnTo>
                  <a:lnTo>
                    <a:pt x="4970" y="1175"/>
                  </a:lnTo>
                  <a:lnTo>
                    <a:pt x="4937" y="1196"/>
                  </a:lnTo>
                  <a:lnTo>
                    <a:pt x="4903" y="1217"/>
                  </a:lnTo>
                  <a:lnTo>
                    <a:pt x="4867" y="1237"/>
                  </a:lnTo>
                  <a:lnTo>
                    <a:pt x="4831" y="1256"/>
                  </a:lnTo>
                  <a:lnTo>
                    <a:pt x="4794" y="1274"/>
                  </a:lnTo>
                  <a:lnTo>
                    <a:pt x="4755" y="1290"/>
                  </a:lnTo>
                  <a:lnTo>
                    <a:pt x="4716" y="1306"/>
                  </a:lnTo>
                  <a:lnTo>
                    <a:pt x="4674" y="1321"/>
                  </a:lnTo>
                  <a:lnTo>
                    <a:pt x="4633" y="1335"/>
                  </a:lnTo>
                  <a:lnTo>
                    <a:pt x="4590" y="1348"/>
                  </a:lnTo>
                  <a:lnTo>
                    <a:pt x="4545" y="1358"/>
                  </a:lnTo>
                  <a:lnTo>
                    <a:pt x="4499" y="1368"/>
                  </a:lnTo>
                  <a:lnTo>
                    <a:pt x="4454" y="1376"/>
                  </a:lnTo>
                  <a:lnTo>
                    <a:pt x="4406" y="1382"/>
                  </a:lnTo>
                  <a:lnTo>
                    <a:pt x="4356" y="1387"/>
                  </a:lnTo>
                  <a:lnTo>
                    <a:pt x="4308" y="1390"/>
                  </a:lnTo>
                  <a:lnTo>
                    <a:pt x="4256" y="1390"/>
                  </a:lnTo>
                  <a:lnTo>
                    <a:pt x="4204" y="1390"/>
                  </a:lnTo>
                  <a:lnTo>
                    <a:pt x="4151" y="1387"/>
                  </a:lnTo>
                  <a:lnTo>
                    <a:pt x="4097" y="1381"/>
                  </a:lnTo>
                  <a:lnTo>
                    <a:pt x="4041" y="1374"/>
                  </a:lnTo>
                  <a:lnTo>
                    <a:pt x="3984" y="1364"/>
                  </a:lnTo>
                  <a:lnTo>
                    <a:pt x="3926" y="1351"/>
                  </a:lnTo>
                  <a:lnTo>
                    <a:pt x="3868" y="1337"/>
                  </a:lnTo>
                  <a:lnTo>
                    <a:pt x="3808" y="1319"/>
                  </a:lnTo>
                  <a:lnTo>
                    <a:pt x="3747" y="1300"/>
                  </a:lnTo>
                  <a:lnTo>
                    <a:pt x="3684" y="1277"/>
                  </a:lnTo>
                  <a:lnTo>
                    <a:pt x="3621" y="1251"/>
                  </a:lnTo>
                  <a:lnTo>
                    <a:pt x="3557" y="1222"/>
                  </a:lnTo>
                  <a:lnTo>
                    <a:pt x="3490" y="1192"/>
                  </a:lnTo>
                  <a:lnTo>
                    <a:pt x="3423" y="1156"/>
                  </a:lnTo>
                  <a:lnTo>
                    <a:pt x="3355" y="1119"/>
                  </a:lnTo>
                  <a:lnTo>
                    <a:pt x="3287" y="1079"/>
                  </a:lnTo>
                  <a:lnTo>
                    <a:pt x="3217" y="1033"/>
                  </a:lnTo>
                  <a:lnTo>
                    <a:pt x="3146" y="985"/>
                  </a:lnTo>
                  <a:lnTo>
                    <a:pt x="3146" y="985"/>
                  </a:lnTo>
                  <a:lnTo>
                    <a:pt x="3004" y="890"/>
                  </a:lnTo>
                  <a:lnTo>
                    <a:pt x="2867" y="798"/>
                  </a:lnTo>
                  <a:lnTo>
                    <a:pt x="2733" y="714"/>
                  </a:lnTo>
                  <a:lnTo>
                    <a:pt x="2606" y="633"/>
                  </a:lnTo>
                  <a:lnTo>
                    <a:pt x="2481" y="559"/>
                  </a:lnTo>
                  <a:lnTo>
                    <a:pt x="2360" y="489"/>
                  </a:lnTo>
                  <a:lnTo>
                    <a:pt x="2242" y="425"/>
                  </a:lnTo>
                  <a:lnTo>
                    <a:pt x="2128" y="367"/>
                  </a:lnTo>
                  <a:lnTo>
                    <a:pt x="2018" y="312"/>
                  </a:lnTo>
                  <a:lnTo>
                    <a:pt x="1910" y="262"/>
                  </a:lnTo>
                  <a:lnTo>
                    <a:pt x="1806" y="216"/>
                  </a:lnTo>
                  <a:lnTo>
                    <a:pt x="1705" y="176"/>
                  </a:lnTo>
                  <a:lnTo>
                    <a:pt x="1605" y="140"/>
                  </a:lnTo>
                  <a:lnTo>
                    <a:pt x="1509" y="108"/>
                  </a:lnTo>
                  <a:lnTo>
                    <a:pt x="1414" y="81"/>
                  </a:lnTo>
                  <a:lnTo>
                    <a:pt x="1321" y="58"/>
                  </a:lnTo>
                  <a:lnTo>
                    <a:pt x="1231" y="39"/>
                  </a:lnTo>
                  <a:lnTo>
                    <a:pt x="1142" y="24"/>
                  </a:lnTo>
                  <a:lnTo>
                    <a:pt x="1056" y="13"/>
                  </a:lnTo>
                  <a:lnTo>
                    <a:pt x="970" y="5"/>
                  </a:lnTo>
                  <a:lnTo>
                    <a:pt x="887" y="2"/>
                  </a:lnTo>
                  <a:lnTo>
                    <a:pt x="803" y="0"/>
                  </a:lnTo>
                  <a:lnTo>
                    <a:pt x="722" y="3"/>
                  </a:lnTo>
                  <a:lnTo>
                    <a:pt x="640" y="10"/>
                  </a:lnTo>
                  <a:lnTo>
                    <a:pt x="559" y="19"/>
                  </a:lnTo>
                  <a:lnTo>
                    <a:pt x="479" y="32"/>
                  </a:lnTo>
                  <a:lnTo>
                    <a:pt x="399" y="47"/>
                  </a:lnTo>
                  <a:lnTo>
                    <a:pt x="319" y="66"/>
                  </a:lnTo>
                  <a:lnTo>
                    <a:pt x="240" y="87"/>
                  </a:lnTo>
                  <a:lnTo>
                    <a:pt x="161" y="111"/>
                  </a:lnTo>
                  <a:lnTo>
                    <a:pt x="80" y="139"/>
                  </a:lnTo>
                  <a:lnTo>
                    <a:pt x="0" y="16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" name=""/>
            <p:cNvSpPr/>
            <p:nvPr/>
          </p:nvSpPr>
          <p:spPr>
            <a:xfrm rot="19782000">
              <a:off x="1170360" y="-222480"/>
              <a:ext cx="11428200" cy="2846160"/>
            </a:xfrm>
            <a:custGeom>
              <a:avLst/>
              <a:gdLst/>
              <a:ahLst/>
              <a:rect l="l" t="t" r="r" b="b"/>
              <a:pathLst>
                <a:path w="5448" h="1327">
                  <a:moveTo>
                    <a:pt x="5448" y="603"/>
                  </a:moveTo>
                  <a:lnTo>
                    <a:pt x="5448" y="603"/>
                  </a:lnTo>
                  <a:lnTo>
                    <a:pt x="5439" y="618"/>
                  </a:lnTo>
                  <a:lnTo>
                    <a:pt x="5414" y="660"/>
                  </a:lnTo>
                  <a:lnTo>
                    <a:pt x="5393" y="689"/>
                  </a:lnTo>
                  <a:lnTo>
                    <a:pt x="5369" y="723"/>
                  </a:lnTo>
                  <a:lnTo>
                    <a:pt x="5341" y="762"/>
                  </a:lnTo>
                  <a:lnTo>
                    <a:pt x="5308" y="802"/>
                  </a:lnTo>
                  <a:lnTo>
                    <a:pt x="5271" y="846"/>
                  </a:lnTo>
                  <a:lnTo>
                    <a:pt x="5229" y="891"/>
                  </a:lnTo>
                  <a:lnTo>
                    <a:pt x="5183" y="936"/>
                  </a:lnTo>
                  <a:lnTo>
                    <a:pt x="5132" y="983"/>
                  </a:lnTo>
                  <a:lnTo>
                    <a:pt x="5076" y="1030"/>
                  </a:lnTo>
                  <a:lnTo>
                    <a:pt x="5047" y="1052"/>
                  </a:lnTo>
                  <a:lnTo>
                    <a:pt x="5017" y="1075"/>
                  </a:lnTo>
                  <a:lnTo>
                    <a:pt x="4986" y="1097"/>
                  </a:lnTo>
                  <a:lnTo>
                    <a:pt x="4953" y="1118"/>
                  </a:lnTo>
                  <a:lnTo>
                    <a:pt x="4919" y="1139"/>
                  </a:lnTo>
                  <a:lnTo>
                    <a:pt x="4885" y="1160"/>
                  </a:lnTo>
                  <a:lnTo>
                    <a:pt x="4849" y="1180"/>
                  </a:lnTo>
                  <a:lnTo>
                    <a:pt x="4811" y="1199"/>
                  </a:lnTo>
                  <a:lnTo>
                    <a:pt x="4772" y="1217"/>
                  </a:lnTo>
                  <a:lnTo>
                    <a:pt x="4733" y="1233"/>
                  </a:lnTo>
                  <a:lnTo>
                    <a:pt x="4692" y="1249"/>
                  </a:lnTo>
                  <a:lnTo>
                    <a:pt x="4650" y="1264"/>
                  </a:lnTo>
                  <a:lnTo>
                    <a:pt x="4607" y="1277"/>
                  </a:lnTo>
                  <a:lnTo>
                    <a:pt x="4564" y="1288"/>
                  </a:lnTo>
                  <a:lnTo>
                    <a:pt x="4518" y="1299"/>
                  </a:lnTo>
                  <a:lnTo>
                    <a:pt x="4472" y="1307"/>
                  </a:lnTo>
                  <a:lnTo>
                    <a:pt x="4425" y="1315"/>
                  </a:lnTo>
                  <a:lnTo>
                    <a:pt x="4375" y="1320"/>
                  </a:lnTo>
                  <a:lnTo>
                    <a:pt x="4326" y="1325"/>
                  </a:lnTo>
                  <a:lnTo>
                    <a:pt x="4275" y="1327"/>
                  </a:lnTo>
                  <a:lnTo>
                    <a:pt x="4222" y="1327"/>
                  </a:lnTo>
                  <a:lnTo>
                    <a:pt x="4170" y="1325"/>
                  </a:lnTo>
                  <a:lnTo>
                    <a:pt x="4115" y="1320"/>
                  </a:lnTo>
                  <a:lnTo>
                    <a:pt x="4060" y="1314"/>
                  </a:lnTo>
                  <a:lnTo>
                    <a:pt x="4003" y="1306"/>
                  </a:lnTo>
                  <a:lnTo>
                    <a:pt x="3945" y="1294"/>
                  </a:lnTo>
                  <a:lnTo>
                    <a:pt x="3885" y="1280"/>
                  </a:lnTo>
                  <a:lnTo>
                    <a:pt x="3825" y="1264"/>
                  </a:lnTo>
                  <a:lnTo>
                    <a:pt x="3764" y="1246"/>
                  </a:lnTo>
                  <a:lnTo>
                    <a:pt x="3702" y="1223"/>
                  </a:lnTo>
                  <a:lnTo>
                    <a:pt x="3638" y="1199"/>
                  </a:lnTo>
                  <a:lnTo>
                    <a:pt x="3573" y="1172"/>
                  </a:lnTo>
                  <a:lnTo>
                    <a:pt x="3506" y="1143"/>
                  </a:lnTo>
                  <a:lnTo>
                    <a:pt x="3439" y="1109"/>
                  </a:lnTo>
                  <a:lnTo>
                    <a:pt x="3371" y="1072"/>
                  </a:lnTo>
                  <a:lnTo>
                    <a:pt x="3300" y="1033"/>
                  </a:lnTo>
                  <a:lnTo>
                    <a:pt x="3230" y="989"/>
                  </a:lnTo>
                  <a:lnTo>
                    <a:pt x="3157" y="942"/>
                  </a:lnTo>
                  <a:lnTo>
                    <a:pt x="3157" y="942"/>
                  </a:lnTo>
                  <a:lnTo>
                    <a:pt x="3016" y="849"/>
                  </a:lnTo>
                  <a:lnTo>
                    <a:pt x="2877" y="760"/>
                  </a:lnTo>
                  <a:lnTo>
                    <a:pt x="2742" y="678"/>
                  </a:lnTo>
                  <a:lnTo>
                    <a:pt x="2613" y="599"/>
                  </a:lnTo>
                  <a:lnTo>
                    <a:pt x="2487" y="528"/>
                  </a:lnTo>
                  <a:lnTo>
                    <a:pt x="2365" y="460"/>
                  </a:lnTo>
                  <a:lnTo>
                    <a:pt x="2247" y="397"/>
                  </a:lnTo>
                  <a:lnTo>
                    <a:pt x="2131" y="340"/>
                  </a:lnTo>
                  <a:lnTo>
                    <a:pt x="2020" y="289"/>
                  </a:lnTo>
                  <a:lnTo>
                    <a:pt x="1912" y="240"/>
                  </a:lnTo>
                  <a:lnTo>
                    <a:pt x="1806" y="197"/>
                  </a:lnTo>
                  <a:lnTo>
                    <a:pt x="1705" y="158"/>
                  </a:lnTo>
                  <a:lnTo>
                    <a:pt x="1605" y="124"/>
                  </a:lnTo>
                  <a:lnTo>
                    <a:pt x="1508" y="95"/>
                  </a:lnTo>
                  <a:lnTo>
                    <a:pt x="1414" y="69"/>
                  </a:lnTo>
                  <a:lnTo>
                    <a:pt x="1321" y="48"/>
                  </a:lnTo>
                  <a:lnTo>
                    <a:pt x="1230" y="30"/>
                  </a:lnTo>
                  <a:lnTo>
                    <a:pt x="1141" y="17"/>
                  </a:lnTo>
                  <a:lnTo>
                    <a:pt x="1054" y="8"/>
                  </a:lnTo>
                  <a:lnTo>
                    <a:pt x="968" y="1"/>
                  </a:lnTo>
                  <a:lnTo>
                    <a:pt x="885" y="0"/>
                  </a:lnTo>
                  <a:lnTo>
                    <a:pt x="801" y="0"/>
                  </a:lnTo>
                  <a:lnTo>
                    <a:pt x="719" y="4"/>
                  </a:lnTo>
                  <a:lnTo>
                    <a:pt x="639" y="12"/>
                  </a:lnTo>
                  <a:lnTo>
                    <a:pt x="558" y="24"/>
                  </a:lnTo>
                  <a:lnTo>
                    <a:pt x="478" y="38"/>
                  </a:lnTo>
                  <a:lnTo>
                    <a:pt x="399" y="56"/>
                  </a:lnTo>
                  <a:lnTo>
                    <a:pt x="319" y="75"/>
                  </a:lnTo>
                  <a:lnTo>
                    <a:pt x="239" y="100"/>
                  </a:lnTo>
                  <a:lnTo>
                    <a:pt x="160" y="124"/>
                  </a:lnTo>
                  <a:lnTo>
                    <a:pt x="81" y="153"/>
                  </a:lnTo>
                  <a:lnTo>
                    <a:pt x="0" y="18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" name=""/>
            <p:cNvSpPr/>
            <p:nvPr/>
          </p:nvSpPr>
          <p:spPr>
            <a:xfrm rot="19782000">
              <a:off x="1218240" y="-179280"/>
              <a:ext cx="11436840" cy="2714040"/>
            </a:xfrm>
            <a:custGeom>
              <a:avLst/>
              <a:gdLst/>
              <a:ahLst/>
              <a:rect l="l" t="t" r="r" b="b"/>
              <a:pathLst>
                <a:path w="5452" h="1266">
                  <a:moveTo>
                    <a:pt x="5452" y="516"/>
                  </a:moveTo>
                  <a:lnTo>
                    <a:pt x="5452" y="516"/>
                  </a:lnTo>
                  <a:lnTo>
                    <a:pt x="5444" y="530"/>
                  </a:lnTo>
                  <a:lnTo>
                    <a:pt x="5419" y="574"/>
                  </a:lnTo>
                  <a:lnTo>
                    <a:pt x="5400" y="603"/>
                  </a:lnTo>
                  <a:lnTo>
                    <a:pt x="5376" y="637"/>
                  </a:lnTo>
                  <a:lnTo>
                    <a:pt x="5348" y="675"/>
                  </a:lnTo>
                  <a:lnTo>
                    <a:pt x="5316" y="717"/>
                  </a:lnTo>
                  <a:lnTo>
                    <a:pt x="5279" y="761"/>
                  </a:lnTo>
                  <a:lnTo>
                    <a:pt x="5239" y="808"/>
                  </a:lnTo>
                  <a:lnTo>
                    <a:pt x="5193" y="855"/>
                  </a:lnTo>
                  <a:lnTo>
                    <a:pt x="5143" y="903"/>
                  </a:lnTo>
                  <a:lnTo>
                    <a:pt x="5089" y="950"/>
                  </a:lnTo>
                  <a:lnTo>
                    <a:pt x="5060" y="974"/>
                  </a:lnTo>
                  <a:lnTo>
                    <a:pt x="5029" y="997"/>
                  </a:lnTo>
                  <a:lnTo>
                    <a:pt x="4998" y="1021"/>
                  </a:lnTo>
                  <a:lnTo>
                    <a:pt x="4965" y="1042"/>
                  </a:lnTo>
                  <a:lnTo>
                    <a:pt x="4932" y="1064"/>
                  </a:lnTo>
                  <a:lnTo>
                    <a:pt x="4897" y="1085"/>
                  </a:lnTo>
                  <a:lnTo>
                    <a:pt x="4862" y="1106"/>
                  </a:lnTo>
                  <a:lnTo>
                    <a:pt x="4825" y="1126"/>
                  </a:lnTo>
                  <a:lnTo>
                    <a:pt x="4787" y="1145"/>
                  </a:lnTo>
                  <a:lnTo>
                    <a:pt x="4747" y="1161"/>
                  </a:lnTo>
                  <a:lnTo>
                    <a:pt x="4707" y="1179"/>
                  </a:lnTo>
                  <a:lnTo>
                    <a:pt x="4665" y="1194"/>
                  </a:lnTo>
                  <a:lnTo>
                    <a:pt x="4624" y="1208"/>
                  </a:lnTo>
                  <a:lnTo>
                    <a:pt x="4579" y="1221"/>
                  </a:lnTo>
                  <a:lnTo>
                    <a:pt x="4533" y="1232"/>
                  </a:lnTo>
                  <a:lnTo>
                    <a:pt x="4488" y="1242"/>
                  </a:lnTo>
                  <a:lnTo>
                    <a:pt x="4440" y="1252"/>
                  </a:lnTo>
                  <a:lnTo>
                    <a:pt x="4392" y="1258"/>
                  </a:lnTo>
                  <a:lnTo>
                    <a:pt x="4342" y="1263"/>
                  </a:lnTo>
                  <a:lnTo>
                    <a:pt x="4292" y="1266"/>
                  </a:lnTo>
                  <a:lnTo>
                    <a:pt x="4239" y="1266"/>
                  </a:lnTo>
                  <a:lnTo>
                    <a:pt x="4186" y="1266"/>
                  </a:lnTo>
                  <a:lnTo>
                    <a:pt x="4131" y="1263"/>
                  </a:lnTo>
                  <a:lnTo>
                    <a:pt x="4075" y="1257"/>
                  </a:lnTo>
                  <a:lnTo>
                    <a:pt x="4018" y="1250"/>
                  </a:lnTo>
                  <a:lnTo>
                    <a:pt x="3960" y="1239"/>
                  </a:lnTo>
                  <a:lnTo>
                    <a:pt x="3902" y="1228"/>
                  </a:lnTo>
                  <a:lnTo>
                    <a:pt x="3841" y="1211"/>
                  </a:lnTo>
                  <a:lnTo>
                    <a:pt x="3779" y="1194"/>
                  </a:lnTo>
                  <a:lnTo>
                    <a:pt x="3716" y="1174"/>
                  </a:lnTo>
                  <a:lnTo>
                    <a:pt x="3652" y="1150"/>
                  </a:lnTo>
                  <a:lnTo>
                    <a:pt x="3586" y="1124"/>
                  </a:lnTo>
                  <a:lnTo>
                    <a:pt x="3520" y="1095"/>
                  </a:lnTo>
                  <a:lnTo>
                    <a:pt x="3452" y="1063"/>
                  </a:lnTo>
                  <a:lnTo>
                    <a:pt x="3384" y="1027"/>
                  </a:lnTo>
                  <a:lnTo>
                    <a:pt x="3313" y="989"/>
                  </a:lnTo>
                  <a:lnTo>
                    <a:pt x="3242" y="947"/>
                  </a:lnTo>
                  <a:lnTo>
                    <a:pt x="3169" y="901"/>
                  </a:lnTo>
                  <a:lnTo>
                    <a:pt x="3169" y="901"/>
                  </a:lnTo>
                  <a:lnTo>
                    <a:pt x="3024" y="811"/>
                  </a:lnTo>
                  <a:lnTo>
                    <a:pt x="2885" y="724"/>
                  </a:lnTo>
                  <a:lnTo>
                    <a:pt x="2749" y="643"/>
                  </a:lnTo>
                  <a:lnTo>
                    <a:pt x="2619" y="569"/>
                  </a:lnTo>
                  <a:lnTo>
                    <a:pt x="2491" y="498"/>
                  </a:lnTo>
                  <a:lnTo>
                    <a:pt x="2369" y="433"/>
                  </a:lnTo>
                  <a:lnTo>
                    <a:pt x="2249" y="373"/>
                  </a:lnTo>
                  <a:lnTo>
                    <a:pt x="2134" y="317"/>
                  </a:lnTo>
                  <a:lnTo>
                    <a:pt x="2022" y="267"/>
                  </a:lnTo>
                  <a:lnTo>
                    <a:pt x="1912" y="222"/>
                  </a:lnTo>
                  <a:lnTo>
                    <a:pt x="1806" y="180"/>
                  </a:lnTo>
                  <a:lnTo>
                    <a:pt x="1704" y="144"/>
                  </a:lnTo>
                  <a:lnTo>
                    <a:pt x="1604" y="112"/>
                  </a:lnTo>
                  <a:lnTo>
                    <a:pt x="1507" y="83"/>
                  </a:lnTo>
                  <a:lnTo>
                    <a:pt x="1411" y="60"/>
                  </a:lnTo>
                  <a:lnTo>
                    <a:pt x="1318" y="41"/>
                  </a:lnTo>
                  <a:lnTo>
                    <a:pt x="1227" y="25"/>
                  </a:lnTo>
                  <a:lnTo>
                    <a:pt x="1139" y="13"/>
                  </a:lnTo>
                  <a:lnTo>
                    <a:pt x="1051" y="5"/>
                  </a:lnTo>
                  <a:lnTo>
                    <a:pt x="965" y="0"/>
                  </a:lnTo>
                  <a:lnTo>
                    <a:pt x="882" y="0"/>
                  </a:lnTo>
                  <a:lnTo>
                    <a:pt x="798" y="4"/>
                  </a:lnTo>
                  <a:lnTo>
                    <a:pt x="717" y="8"/>
                  </a:lnTo>
                  <a:lnTo>
                    <a:pt x="635" y="18"/>
                  </a:lnTo>
                  <a:lnTo>
                    <a:pt x="556" y="31"/>
                  </a:lnTo>
                  <a:lnTo>
                    <a:pt x="475" y="47"/>
                  </a:lnTo>
                  <a:lnTo>
                    <a:pt x="396" y="67"/>
                  </a:lnTo>
                  <a:lnTo>
                    <a:pt x="317" y="89"/>
                  </a:lnTo>
                  <a:lnTo>
                    <a:pt x="238" y="113"/>
                  </a:lnTo>
                  <a:lnTo>
                    <a:pt x="158" y="141"/>
                  </a:lnTo>
                  <a:lnTo>
                    <a:pt x="79" y="172"/>
                  </a:lnTo>
                  <a:lnTo>
                    <a:pt x="0" y="20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" name=""/>
            <p:cNvSpPr/>
            <p:nvPr/>
          </p:nvSpPr>
          <p:spPr>
            <a:xfrm rot="19782000">
              <a:off x="1265040" y="-139320"/>
              <a:ext cx="11447280" cy="2584800"/>
            </a:xfrm>
            <a:custGeom>
              <a:avLst/>
              <a:gdLst/>
              <a:ahLst/>
              <a:rect l="l" t="t" r="r" b="b"/>
              <a:pathLst>
                <a:path w="5457" h="1206">
                  <a:moveTo>
                    <a:pt x="5457" y="426"/>
                  </a:moveTo>
                  <a:lnTo>
                    <a:pt x="5457" y="426"/>
                  </a:lnTo>
                  <a:lnTo>
                    <a:pt x="5450" y="442"/>
                  </a:lnTo>
                  <a:lnTo>
                    <a:pt x="5425" y="484"/>
                  </a:lnTo>
                  <a:lnTo>
                    <a:pt x="5405" y="515"/>
                  </a:lnTo>
                  <a:lnTo>
                    <a:pt x="5383" y="550"/>
                  </a:lnTo>
                  <a:lnTo>
                    <a:pt x="5355" y="589"/>
                  </a:lnTo>
                  <a:lnTo>
                    <a:pt x="5323" y="631"/>
                  </a:lnTo>
                  <a:lnTo>
                    <a:pt x="5287" y="676"/>
                  </a:lnTo>
                  <a:lnTo>
                    <a:pt x="5247" y="725"/>
                  </a:lnTo>
                  <a:lnTo>
                    <a:pt x="5203" y="773"/>
                  </a:lnTo>
                  <a:lnTo>
                    <a:pt x="5153" y="822"/>
                  </a:lnTo>
                  <a:lnTo>
                    <a:pt x="5100" y="872"/>
                  </a:lnTo>
                  <a:lnTo>
                    <a:pt x="5071" y="896"/>
                  </a:lnTo>
                  <a:lnTo>
                    <a:pt x="5041" y="918"/>
                  </a:lnTo>
                  <a:lnTo>
                    <a:pt x="5010" y="943"/>
                  </a:lnTo>
                  <a:lnTo>
                    <a:pt x="4978" y="965"/>
                  </a:lnTo>
                  <a:lnTo>
                    <a:pt x="4944" y="988"/>
                  </a:lnTo>
                  <a:lnTo>
                    <a:pt x="4911" y="1011"/>
                  </a:lnTo>
                  <a:lnTo>
                    <a:pt x="4875" y="1031"/>
                  </a:lnTo>
                  <a:lnTo>
                    <a:pt x="4839" y="1052"/>
                  </a:lnTo>
                  <a:lnTo>
                    <a:pt x="4801" y="1072"/>
                  </a:lnTo>
                  <a:lnTo>
                    <a:pt x="4762" y="1091"/>
                  </a:lnTo>
                  <a:lnTo>
                    <a:pt x="4722" y="1109"/>
                  </a:lnTo>
                  <a:lnTo>
                    <a:pt x="4681" y="1125"/>
                  </a:lnTo>
                  <a:lnTo>
                    <a:pt x="4637" y="1140"/>
                  </a:lnTo>
                  <a:lnTo>
                    <a:pt x="4594" y="1154"/>
                  </a:lnTo>
                  <a:lnTo>
                    <a:pt x="4549" y="1166"/>
                  </a:lnTo>
                  <a:lnTo>
                    <a:pt x="4503" y="1177"/>
                  </a:lnTo>
                  <a:lnTo>
                    <a:pt x="4456" y="1187"/>
                  </a:lnTo>
                  <a:lnTo>
                    <a:pt x="4407" y="1195"/>
                  </a:lnTo>
                  <a:lnTo>
                    <a:pt x="4358" y="1199"/>
                  </a:lnTo>
                  <a:lnTo>
                    <a:pt x="4307" y="1204"/>
                  </a:lnTo>
                  <a:lnTo>
                    <a:pt x="4254" y="1206"/>
                  </a:lnTo>
                  <a:lnTo>
                    <a:pt x="4202" y="1206"/>
                  </a:lnTo>
                  <a:lnTo>
                    <a:pt x="4147" y="1204"/>
                  </a:lnTo>
                  <a:lnTo>
                    <a:pt x="4092" y="1199"/>
                  </a:lnTo>
                  <a:lnTo>
                    <a:pt x="4035" y="1193"/>
                  </a:lnTo>
                  <a:lnTo>
                    <a:pt x="3977" y="1185"/>
                  </a:lnTo>
                  <a:lnTo>
                    <a:pt x="3917" y="1174"/>
                  </a:lnTo>
                  <a:lnTo>
                    <a:pt x="3856" y="1159"/>
                  </a:lnTo>
                  <a:lnTo>
                    <a:pt x="3793" y="1143"/>
                  </a:lnTo>
                  <a:lnTo>
                    <a:pt x="3731" y="1124"/>
                  </a:lnTo>
                  <a:lnTo>
                    <a:pt x="3666" y="1101"/>
                  </a:lnTo>
                  <a:lnTo>
                    <a:pt x="3600" y="1077"/>
                  </a:lnTo>
                  <a:lnTo>
                    <a:pt x="3534" y="1049"/>
                  </a:lnTo>
                  <a:lnTo>
                    <a:pt x="3466" y="1017"/>
                  </a:lnTo>
                  <a:lnTo>
                    <a:pt x="3396" y="983"/>
                  </a:lnTo>
                  <a:lnTo>
                    <a:pt x="3325" y="946"/>
                  </a:lnTo>
                  <a:lnTo>
                    <a:pt x="3253" y="906"/>
                  </a:lnTo>
                  <a:lnTo>
                    <a:pt x="3180" y="862"/>
                  </a:lnTo>
                  <a:lnTo>
                    <a:pt x="3180" y="862"/>
                  </a:lnTo>
                  <a:lnTo>
                    <a:pt x="3034" y="772"/>
                  </a:lnTo>
                  <a:lnTo>
                    <a:pt x="2892" y="689"/>
                  </a:lnTo>
                  <a:lnTo>
                    <a:pt x="2756" y="610"/>
                  </a:lnTo>
                  <a:lnTo>
                    <a:pt x="2624" y="537"/>
                  </a:lnTo>
                  <a:lnTo>
                    <a:pt x="2497" y="470"/>
                  </a:lnTo>
                  <a:lnTo>
                    <a:pt x="2372" y="407"/>
                  </a:lnTo>
                  <a:lnTo>
                    <a:pt x="2252" y="348"/>
                  </a:lnTo>
                  <a:lnTo>
                    <a:pt x="2136" y="295"/>
                  </a:lnTo>
                  <a:lnTo>
                    <a:pt x="2023" y="247"/>
                  </a:lnTo>
                  <a:lnTo>
                    <a:pt x="1913" y="203"/>
                  </a:lnTo>
                  <a:lnTo>
                    <a:pt x="1806" y="164"/>
                  </a:lnTo>
                  <a:lnTo>
                    <a:pt x="1702" y="129"/>
                  </a:lnTo>
                  <a:lnTo>
                    <a:pt x="1602" y="98"/>
                  </a:lnTo>
                  <a:lnTo>
                    <a:pt x="1504" y="72"/>
                  </a:lnTo>
                  <a:lnTo>
                    <a:pt x="1409" y="51"/>
                  </a:lnTo>
                  <a:lnTo>
                    <a:pt x="1315" y="32"/>
                  </a:lnTo>
                  <a:lnTo>
                    <a:pt x="1225" y="19"/>
                  </a:lnTo>
                  <a:lnTo>
                    <a:pt x="1136" y="9"/>
                  </a:lnTo>
                  <a:lnTo>
                    <a:pt x="1048" y="3"/>
                  </a:lnTo>
                  <a:lnTo>
                    <a:pt x="962" y="0"/>
                  </a:lnTo>
                  <a:lnTo>
                    <a:pt x="879" y="1"/>
                  </a:lnTo>
                  <a:lnTo>
                    <a:pt x="796" y="6"/>
                  </a:lnTo>
                  <a:lnTo>
                    <a:pt x="714" y="14"/>
                  </a:lnTo>
                  <a:lnTo>
                    <a:pt x="633" y="26"/>
                  </a:lnTo>
                  <a:lnTo>
                    <a:pt x="553" y="40"/>
                  </a:lnTo>
                  <a:lnTo>
                    <a:pt x="474" y="58"/>
                  </a:lnTo>
                  <a:lnTo>
                    <a:pt x="394" y="79"/>
                  </a:lnTo>
                  <a:lnTo>
                    <a:pt x="315" y="101"/>
                  </a:lnTo>
                  <a:lnTo>
                    <a:pt x="238" y="129"/>
                  </a:lnTo>
                  <a:lnTo>
                    <a:pt x="158" y="158"/>
                  </a:lnTo>
                  <a:lnTo>
                    <a:pt x="79" y="190"/>
                  </a:ln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" name=""/>
            <p:cNvSpPr/>
            <p:nvPr/>
          </p:nvSpPr>
          <p:spPr>
            <a:xfrm rot="19782000">
              <a:off x="1317600" y="-97200"/>
              <a:ext cx="11451600" cy="2455560"/>
            </a:xfrm>
            <a:custGeom>
              <a:avLst/>
              <a:gdLst/>
              <a:ahLst/>
              <a:rect l="l" t="t" r="r" b="b"/>
              <a:pathLst>
                <a:path w="5459" h="1144">
                  <a:moveTo>
                    <a:pt x="5459" y="335"/>
                  </a:moveTo>
                  <a:lnTo>
                    <a:pt x="5459" y="335"/>
                  </a:lnTo>
                  <a:lnTo>
                    <a:pt x="5450" y="352"/>
                  </a:lnTo>
                  <a:lnTo>
                    <a:pt x="5427" y="395"/>
                  </a:lnTo>
                  <a:lnTo>
                    <a:pt x="5409" y="426"/>
                  </a:lnTo>
                  <a:lnTo>
                    <a:pt x="5385" y="461"/>
                  </a:lnTo>
                  <a:lnTo>
                    <a:pt x="5359" y="502"/>
                  </a:lnTo>
                  <a:lnTo>
                    <a:pt x="5328" y="545"/>
                  </a:lnTo>
                  <a:lnTo>
                    <a:pt x="5292" y="591"/>
                  </a:lnTo>
                  <a:lnTo>
                    <a:pt x="5253" y="639"/>
                  </a:lnTo>
                  <a:lnTo>
                    <a:pt x="5209" y="689"/>
                  </a:lnTo>
                  <a:lnTo>
                    <a:pt x="5160" y="739"/>
                  </a:lnTo>
                  <a:lnTo>
                    <a:pt x="5108" y="791"/>
                  </a:lnTo>
                  <a:lnTo>
                    <a:pt x="5080" y="815"/>
                  </a:lnTo>
                  <a:lnTo>
                    <a:pt x="5049" y="839"/>
                  </a:lnTo>
                  <a:lnTo>
                    <a:pt x="5019" y="863"/>
                  </a:lnTo>
                  <a:lnTo>
                    <a:pt x="4988" y="888"/>
                  </a:lnTo>
                  <a:lnTo>
                    <a:pt x="4955" y="912"/>
                  </a:lnTo>
                  <a:lnTo>
                    <a:pt x="4921" y="935"/>
                  </a:lnTo>
                  <a:lnTo>
                    <a:pt x="4885" y="957"/>
                  </a:lnTo>
                  <a:lnTo>
                    <a:pt x="4849" y="978"/>
                  </a:lnTo>
                  <a:lnTo>
                    <a:pt x="4812" y="999"/>
                  </a:lnTo>
                  <a:lnTo>
                    <a:pt x="4773" y="1018"/>
                  </a:lnTo>
                  <a:lnTo>
                    <a:pt x="4734" y="1036"/>
                  </a:lnTo>
                  <a:lnTo>
                    <a:pt x="4692" y="1054"/>
                  </a:lnTo>
                  <a:lnTo>
                    <a:pt x="4651" y="1070"/>
                  </a:lnTo>
                  <a:lnTo>
                    <a:pt x="4606" y="1085"/>
                  </a:lnTo>
                  <a:lnTo>
                    <a:pt x="4562" y="1098"/>
                  </a:lnTo>
                  <a:lnTo>
                    <a:pt x="4516" y="1111"/>
                  </a:lnTo>
                  <a:lnTo>
                    <a:pt x="4469" y="1120"/>
                  </a:lnTo>
                  <a:lnTo>
                    <a:pt x="4420" y="1128"/>
                  </a:lnTo>
                  <a:lnTo>
                    <a:pt x="4372" y="1136"/>
                  </a:lnTo>
                  <a:lnTo>
                    <a:pt x="4320" y="1141"/>
                  </a:lnTo>
                  <a:lnTo>
                    <a:pt x="4268" y="1144"/>
                  </a:lnTo>
                  <a:lnTo>
                    <a:pt x="4215" y="1144"/>
                  </a:lnTo>
                  <a:lnTo>
                    <a:pt x="4161" y="1144"/>
                  </a:lnTo>
                  <a:lnTo>
                    <a:pt x="4105" y="1141"/>
                  </a:lnTo>
                  <a:lnTo>
                    <a:pt x="4047" y="1136"/>
                  </a:lnTo>
                  <a:lnTo>
                    <a:pt x="3988" y="1128"/>
                  </a:lnTo>
                  <a:lnTo>
                    <a:pt x="3929" y="1119"/>
                  </a:lnTo>
                  <a:lnTo>
                    <a:pt x="3869" y="1106"/>
                  </a:lnTo>
                  <a:lnTo>
                    <a:pt x="3807" y="1090"/>
                  </a:lnTo>
                  <a:lnTo>
                    <a:pt x="3743" y="1072"/>
                  </a:lnTo>
                  <a:lnTo>
                    <a:pt x="3677" y="1051"/>
                  </a:lnTo>
                  <a:lnTo>
                    <a:pt x="3612" y="1027"/>
                  </a:lnTo>
                  <a:lnTo>
                    <a:pt x="3544" y="1001"/>
                  </a:lnTo>
                  <a:lnTo>
                    <a:pt x="3476" y="970"/>
                  </a:lnTo>
                  <a:lnTo>
                    <a:pt x="3405" y="938"/>
                  </a:lnTo>
                  <a:lnTo>
                    <a:pt x="3335" y="902"/>
                  </a:lnTo>
                  <a:lnTo>
                    <a:pt x="3261" y="862"/>
                  </a:lnTo>
                  <a:lnTo>
                    <a:pt x="3187" y="820"/>
                  </a:lnTo>
                  <a:lnTo>
                    <a:pt x="3187" y="820"/>
                  </a:lnTo>
                  <a:lnTo>
                    <a:pt x="3040" y="733"/>
                  </a:lnTo>
                  <a:lnTo>
                    <a:pt x="2899" y="652"/>
                  </a:lnTo>
                  <a:lnTo>
                    <a:pt x="2761" y="576"/>
                  </a:lnTo>
                  <a:lnTo>
                    <a:pt x="2628" y="505"/>
                  </a:lnTo>
                  <a:lnTo>
                    <a:pt x="2499" y="439"/>
                  </a:lnTo>
                  <a:lnTo>
                    <a:pt x="2374" y="379"/>
                  </a:lnTo>
                  <a:lnTo>
                    <a:pt x="2253" y="323"/>
                  </a:lnTo>
                  <a:lnTo>
                    <a:pt x="2135" y="273"/>
                  </a:lnTo>
                  <a:lnTo>
                    <a:pt x="2022" y="226"/>
                  </a:lnTo>
                  <a:lnTo>
                    <a:pt x="1911" y="184"/>
                  </a:lnTo>
                  <a:lnTo>
                    <a:pt x="1804" y="147"/>
                  </a:lnTo>
                  <a:lnTo>
                    <a:pt x="1700" y="114"/>
                  </a:lnTo>
                  <a:lnTo>
                    <a:pt x="1599" y="85"/>
                  </a:lnTo>
                  <a:lnTo>
                    <a:pt x="1500" y="61"/>
                  </a:lnTo>
                  <a:lnTo>
                    <a:pt x="1405" y="40"/>
                  </a:lnTo>
                  <a:lnTo>
                    <a:pt x="1312" y="25"/>
                  </a:lnTo>
                  <a:lnTo>
                    <a:pt x="1220" y="13"/>
                  </a:lnTo>
                  <a:lnTo>
                    <a:pt x="1131" y="4"/>
                  </a:lnTo>
                  <a:lnTo>
                    <a:pt x="1044" y="0"/>
                  </a:lnTo>
                  <a:lnTo>
                    <a:pt x="958" y="0"/>
                  </a:lnTo>
                  <a:lnTo>
                    <a:pt x="874" y="1"/>
                  </a:lnTo>
                  <a:lnTo>
                    <a:pt x="791" y="8"/>
                  </a:lnTo>
                  <a:lnTo>
                    <a:pt x="709" y="17"/>
                  </a:lnTo>
                  <a:lnTo>
                    <a:pt x="628" y="32"/>
                  </a:lnTo>
                  <a:lnTo>
                    <a:pt x="549" y="48"/>
                  </a:lnTo>
                  <a:lnTo>
                    <a:pt x="470" y="67"/>
                  </a:lnTo>
                  <a:lnTo>
                    <a:pt x="391" y="88"/>
                  </a:lnTo>
                  <a:lnTo>
                    <a:pt x="313" y="114"/>
                  </a:lnTo>
                  <a:lnTo>
                    <a:pt x="234" y="143"/>
                  </a:lnTo>
                  <a:lnTo>
                    <a:pt x="156" y="174"/>
                  </a:lnTo>
                  <a:lnTo>
                    <a:pt x="77" y="208"/>
                  </a:lnTo>
                  <a:lnTo>
                    <a:pt x="0" y="24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9782000">
              <a:off x="1367640" y="-59040"/>
              <a:ext cx="11455560" cy="2332080"/>
            </a:xfrm>
            <a:custGeom>
              <a:avLst/>
              <a:gdLst/>
              <a:ahLst/>
              <a:rect l="l" t="t" r="r" b="b"/>
              <a:pathLst>
                <a:path w="5461" h="1087">
                  <a:moveTo>
                    <a:pt x="5461" y="247"/>
                  </a:moveTo>
                  <a:lnTo>
                    <a:pt x="5461" y="247"/>
                  </a:lnTo>
                  <a:lnTo>
                    <a:pt x="5452" y="263"/>
                  </a:lnTo>
                  <a:lnTo>
                    <a:pt x="5429" y="308"/>
                  </a:lnTo>
                  <a:lnTo>
                    <a:pt x="5411" y="339"/>
                  </a:lnTo>
                  <a:lnTo>
                    <a:pt x="5390" y="376"/>
                  </a:lnTo>
                  <a:lnTo>
                    <a:pt x="5363" y="417"/>
                  </a:lnTo>
                  <a:lnTo>
                    <a:pt x="5333" y="460"/>
                  </a:lnTo>
                  <a:lnTo>
                    <a:pt x="5298" y="507"/>
                  </a:lnTo>
                  <a:lnTo>
                    <a:pt x="5259" y="557"/>
                  </a:lnTo>
                  <a:lnTo>
                    <a:pt x="5216" y="607"/>
                  </a:lnTo>
                  <a:lnTo>
                    <a:pt x="5168" y="659"/>
                  </a:lnTo>
                  <a:lnTo>
                    <a:pt x="5116" y="710"/>
                  </a:lnTo>
                  <a:lnTo>
                    <a:pt x="5088" y="736"/>
                  </a:lnTo>
                  <a:lnTo>
                    <a:pt x="5059" y="762"/>
                  </a:lnTo>
                  <a:lnTo>
                    <a:pt x="5029" y="788"/>
                  </a:lnTo>
                  <a:lnTo>
                    <a:pt x="4998" y="812"/>
                  </a:lnTo>
                  <a:lnTo>
                    <a:pt x="4965" y="836"/>
                  </a:lnTo>
                  <a:lnTo>
                    <a:pt x="4932" y="859"/>
                  </a:lnTo>
                  <a:lnTo>
                    <a:pt x="4897" y="883"/>
                  </a:lnTo>
                  <a:lnTo>
                    <a:pt x="4861" y="904"/>
                  </a:lnTo>
                  <a:lnTo>
                    <a:pt x="4823" y="927"/>
                  </a:lnTo>
                  <a:lnTo>
                    <a:pt x="4786" y="946"/>
                  </a:lnTo>
                  <a:lnTo>
                    <a:pt x="4746" y="965"/>
                  </a:lnTo>
                  <a:lnTo>
                    <a:pt x="4705" y="985"/>
                  </a:lnTo>
                  <a:lnTo>
                    <a:pt x="4662" y="1001"/>
                  </a:lnTo>
                  <a:lnTo>
                    <a:pt x="4619" y="1017"/>
                  </a:lnTo>
                  <a:lnTo>
                    <a:pt x="4575" y="1032"/>
                  </a:lnTo>
                  <a:lnTo>
                    <a:pt x="4529" y="1045"/>
                  </a:lnTo>
                  <a:lnTo>
                    <a:pt x="4483" y="1056"/>
                  </a:lnTo>
                  <a:lnTo>
                    <a:pt x="4435" y="1066"/>
                  </a:lnTo>
                  <a:lnTo>
                    <a:pt x="4385" y="1074"/>
                  </a:lnTo>
                  <a:lnTo>
                    <a:pt x="4335" y="1080"/>
                  </a:lnTo>
                  <a:lnTo>
                    <a:pt x="4282" y="1083"/>
                  </a:lnTo>
                  <a:lnTo>
                    <a:pt x="4229" y="1087"/>
                  </a:lnTo>
                  <a:lnTo>
                    <a:pt x="4175" y="1087"/>
                  </a:lnTo>
                  <a:lnTo>
                    <a:pt x="4118" y="1083"/>
                  </a:lnTo>
                  <a:lnTo>
                    <a:pt x="4061" y="1080"/>
                  </a:lnTo>
                  <a:lnTo>
                    <a:pt x="4003" y="1074"/>
                  </a:lnTo>
                  <a:lnTo>
                    <a:pt x="3943" y="1064"/>
                  </a:lnTo>
                  <a:lnTo>
                    <a:pt x="3882" y="1053"/>
                  </a:lnTo>
                  <a:lnTo>
                    <a:pt x="3819" y="1038"/>
                  </a:lnTo>
                  <a:lnTo>
                    <a:pt x="3756" y="1022"/>
                  </a:lnTo>
                  <a:lnTo>
                    <a:pt x="3690" y="1003"/>
                  </a:lnTo>
                  <a:lnTo>
                    <a:pt x="3624" y="980"/>
                  </a:lnTo>
                  <a:lnTo>
                    <a:pt x="3556" y="954"/>
                  </a:lnTo>
                  <a:lnTo>
                    <a:pt x="3488" y="925"/>
                  </a:lnTo>
                  <a:lnTo>
                    <a:pt x="3417" y="894"/>
                  </a:lnTo>
                  <a:lnTo>
                    <a:pt x="3345" y="859"/>
                  </a:lnTo>
                  <a:lnTo>
                    <a:pt x="3271" y="820"/>
                  </a:lnTo>
                  <a:lnTo>
                    <a:pt x="3196" y="780"/>
                  </a:lnTo>
                  <a:lnTo>
                    <a:pt x="3196" y="780"/>
                  </a:lnTo>
                  <a:lnTo>
                    <a:pt x="3049" y="696"/>
                  </a:lnTo>
                  <a:lnTo>
                    <a:pt x="2904" y="617"/>
                  </a:lnTo>
                  <a:lnTo>
                    <a:pt x="2766" y="542"/>
                  </a:lnTo>
                  <a:lnTo>
                    <a:pt x="2632" y="475"/>
                  </a:lnTo>
                  <a:lnTo>
                    <a:pt x="2502" y="412"/>
                  </a:lnTo>
                  <a:lnTo>
                    <a:pt x="2377" y="354"/>
                  </a:lnTo>
                  <a:lnTo>
                    <a:pt x="2255" y="299"/>
                  </a:lnTo>
                  <a:lnTo>
                    <a:pt x="2137" y="250"/>
                  </a:lnTo>
                  <a:lnTo>
                    <a:pt x="2021" y="207"/>
                  </a:lnTo>
                  <a:lnTo>
                    <a:pt x="1912" y="166"/>
                  </a:lnTo>
                  <a:lnTo>
                    <a:pt x="1803" y="131"/>
                  </a:lnTo>
                  <a:lnTo>
                    <a:pt x="1699" y="100"/>
                  </a:lnTo>
                  <a:lnTo>
                    <a:pt x="1598" y="74"/>
                  </a:lnTo>
                  <a:lnTo>
                    <a:pt x="1499" y="52"/>
                  </a:lnTo>
                  <a:lnTo>
                    <a:pt x="1402" y="34"/>
                  </a:lnTo>
                  <a:lnTo>
                    <a:pt x="1309" y="19"/>
                  </a:lnTo>
                  <a:lnTo>
                    <a:pt x="1218" y="8"/>
                  </a:lnTo>
                  <a:lnTo>
                    <a:pt x="1129" y="2"/>
                  </a:lnTo>
                  <a:lnTo>
                    <a:pt x="1041" y="0"/>
                  </a:lnTo>
                  <a:lnTo>
                    <a:pt x="955" y="0"/>
                  </a:lnTo>
                  <a:lnTo>
                    <a:pt x="872" y="5"/>
                  </a:lnTo>
                  <a:lnTo>
                    <a:pt x="789" y="13"/>
                  </a:lnTo>
                  <a:lnTo>
                    <a:pt x="707" y="24"/>
                  </a:lnTo>
                  <a:lnTo>
                    <a:pt x="626" y="39"/>
                  </a:lnTo>
                  <a:lnTo>
                    <a:pt x="547" y="56"/>
                  </a:lnTo>
                  <a:lnTo>
                    <a:pt x="468" y="77"/>
                  </a:lnTo>
                  <a:lnTo>
                    <a:pt x="390" y="102"/>
                  </a:lnTo>
                  <a:lnTo>
                    <a:pt x="312" y="129"/>
                  </a:lnTo>
                  <a:lnTo>
                    <a:pt x="235" y="160"/>
                  </a:lnTo>
                  <a:lnTo>
                    <a:pt x="157" y="192"/>
                  </a:lnTo>
                  <a:lnTo>
                    <a:pt x="78" y="228"/>
                  </a:lnTo>
                  <a:lnTo>
                    <a:pt x="0" y="26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9782000">
              <a:off x="1420560" y="-19440"/>
              <a:ext cx="11451600" cy="2202840"/>
            </a:xfrm>
            <a:custGeom>
              <a:avLst/>
              <a:gdLst/>
              <a:ahLst/>
              <a:rect l="l" t="t" r="r" b="b"/>
              <a:pathLst>
                <a:path w="5459" h="1028">
                  <a:moveTo>
                    <a:pt x="5459" y="159"/>
                  </a:moveTo>
                  <a:lnTo>
                    <a:pt x="5459" y="159"/>
                  </a:lnTo>
                  <a:lnTo>
                    <a:pt x="5451" y="176"/>
                  </a:lnTo>
                  <a:lnTo>
                    <a:pt x="5428" y="221"/>
                  </a:lnTo>
                  <a:lnTo>
                    <a:pt x="5410" y="253"/>
                  </a:lnTo>
                  <a:lnTo>
                    <a:pt x="5390" y="290"/>
                  </a:lnTo>
                  <a:lnTo>
                    <a:pt x="5365" y="331"/>
                  </a:lnTo>
                  <a:lnTo>
                    <a:pt x="5334" y="376"/>
                  </a:lnTo>
                  <a:lnTo>
                    <a:pt x="5301" y="424"/>
                  </a:lnTo>
                  <a:lnTo>
                    <a:pt x="5262" y="474"/>
                  </a:lnTo>
                  <a:lnTo>
                    <a:pt x="5220" y="526"/>
                  </a:lnTo>
                  <a:lnTo>
                    <a:pt x="5173" y="579"/>
                  </a:lnTo>
                  <a:lnTo>
                    <a:pt x="5122" y="633"/>
                  </a:lnTo>
                  <a:lnTo>
                    <a:pt x="5094" y="658"/>
                  </a:lnTo>
                  <a:lnTo>
                    <a:pt x="5066" y="684"/>
                  </a:lnTo>
                  <a:lnTo>
                    <a:pt x="5035" y="710"/>
                  </a:lnTo>
                  <a:lnTo>
                    <a:pt x="5005" y="736"/>
                  </a:lnTo>
                  <a:lnTo>
                    <a:pt x="4973" y="762"/>
                  </a:lnTo>
                  <a:lnTo>
                    <a:pt x="4940" y="786"/>
                  </a:lnTo>
                  <a:lnTo>
                    <a:pt x="4905" y="809"/>
                  </a:lnTo>
                  <a:lnTo>
                    <a:pt x="4869" y="833"/>
                  </a:lnTo>
                  <a:lnTo>
                    <a:pt x="4833" y="854"/>
                  </a:lnTo>
                  <a:lnTo>
                    <a:pt x="4794" y="876"/>
                  </a:lnTo>
                  <a:lnTo>
                    <a:pt x="4755" y="896"/>
                  </a:lnTo>
                  <a:lnTo>
                    <a:pt x="4715" y="915"/>
                  </a:lnTo>
                  <a:lnTo>
                    <a:pt x="4673" y="933"/>
                  </a:lnTo>
                  <a:lnTo>
                    <a:pt x="4630" y="951"/>
                  </a:lnTo>
                  <a:lnTo>
                    <a:pt x="4586" y="965"/>
                  </a:lnTo>
                  <a:lnTo>
                    <a:pt x="4540" y="980"/>
                  </a:lnTo>
                  <a:lnTo>
                    <a:pt x="4494" y="991"/>
                  </a:lnTo>
                  <a:lnTo>
                    <a:pt x="4445" y="1002"/>
                  </a:lnTo>
                  <a:lnTo>
                    <a:pt x="4395" y="1010"/>
                  </a:lnTo>
                  <a:lnTo>
                    <a:pt x="4345" y="1018"/>
                  </a:lnTo>
                  <a:lnTo>
                    <a:pt x="4294" y="1023"/>
                  </a:lnTo>
                  <a:lnTo>
                    <a:pt x="4240" y="1027"/>
                  </a:lnTo>
                  <a:lnTo>
                    <a:pt x="4186" y="1028"/>
                  </a:lnTo>
                  <a:lnTo>
                    <a:pt x="4130" y="1028"/>
                  </a:lnTo>
                  <a:lnTo>
                    <a:pt x="4072" y="1025"/>
                  </a:lnTo>
                  <a:lnTo>
                    <a:pt x="4014" y="1018"/>
                  </a:lnTo>
                  <a:lnTo>
                    <a:pt x="3954" y="1010"/>
                  </a:lnTo>
                  <a:lnTo>
                    <a:pt x="3893" y="1001"/>
                  </a:lnTo>
                  <a:lnTo>
                    <a:pt x="3830" y="988"/>
                  </a:lnTo>
                  <a:lnTo>
                    <a:pt x="3766" y="972"/>
                  </a:lnTo>
                  <a:lnTo>
                    <a:pt x="3701" y="954"/>
                  </a:lnTo>
                  <a:lnTo>
                    <a:pt x="3635" y="933"/>
                  </a:lnTo>
                  <a:lnTo>
                    <a:pt x="3567" y="909"/>
                  </a:lnTo>
                  <a:lnTo>
                    <a:pt x="3496" y="881"/>
                  </a:lnTo>
                  <a:lnTo>
                    <a:pt x="3425" y="851"/>
                  </a:lnTo>
                  <a:lnTo>
                    <a:pt x="3353" y="817"/>
                  </a:lnTo>
                  <a:lnTo>
                    <a:pt x="3279" y="779"/>
                  </a:lnTo>
                  <a:lnTo>
                    <a:pt x="3204" y="739"/>
                  </a:lnTo>
                  <a:lnTo>
                    <a:pt x="3204" y="739"/>
                  </a:lnTo>
                  <a:lnTo>
                    <a:pt x="3054" y="658"/>
                  </a:lnTo>
                  <a:lnTo>
                    <a:pt x="2910" y="582"/>
                  </a:lnTo>
                  <a:lnTo>
                    <a:pt x="2770" y="511"/>
                  </a:lnTo>
                  <a:lnTo>
                    <a:pt x="2635" y="445"/>
                  </a:lnTo>
                  <a:lnTo>
                    <a:pt x="2503" y="384"/>
                  </a:lnTo>
                  <a:lnTo>
                    <a:pt x="2377" y="327"/>
                  </a:lnTo>
                  <a:lnTo>
                    <a:pt x="2254" y="277"/>
                  </a:lnTo>
                  <a:lnTo>
                    <a:pt x="2135" y="230"/>
                  </a:lnTo>
                  <a:lnTo>
                    <a:pt x="2021" y="189"/>
                  </a:lnTo>
                  <a:lnTo>
                    <a:pt x="1909" y="150"/>
                  </a:lnTo>
                  <a:lnTo>
                    <a:pt x="1800" y="117"/>
                  </a:lnTo>
                  <a:lnTo>
                    <a:pt x="1696" y="88"/>
                  </a:lnTo>
                  <a:lnTo>
                    <a:pt x="1595" y="64"/>
                  </a:lnTo>
                  <a:lnTo>
                    <a:pt x="1495" y="43"/>
                  </a:lnTo>
                  <a:lnTo>
                    <a:pt x="1399" y="27"/>
                  </a:lnTo>
                  <a:lnTo>
                    <a:pt x="1305" y="14"/>
                  </a:lnTo>
                  <a:lnTo>
                    <a:pt x="1213" y="6"/>
                  </a:lnTo>
                  <a:lnTo>
                    <a:pt x="1124" y="1"/>
                  </a:lnTo>
                  <a:lnTo>
                    <a:pt x="1037" y="0"/>
                  </a:lnTo>
                  <a:lnTo>
                    <a:pt x="951" y="3"/>
                  </a:lnTo>
                  <a:lnTo>
                    <a:pt x="867" y="9"/>
                  </a:lnTo>
                  <a:lnTo>
                    <a:pt x="784" y="19"/>
                  </a:lnTo>
                  <a:lnTo>
                    <a:pt x="704" y="32"/>
                  </a:lnTo>
                  <a:lnTo>
                    <a:pt x="623" y="48"/>
                  </a:lnTo>
                  <a:lnTo>
                    <a:pt x="544" y="67"/>
                  </a:lnTo>
                  <a:lnTo>
                    <a:pt x="465" y="92"/>
                  </a:lnTo>
                  <a:lnTo>
                    <a:pt x="387" y="117"/>
                  </a:lnTo>
                  <a:lnTo>
                    <a:pt x="309" y="145"/>
                  </a:lnTo>
                  <a:lnTo>
                    <a:pt x="232" y="177"/>
                  </a:lnTo>
                  <a:lnTo>
                    <a:pt x="155" y="211"/>
                  </a:lnTo>
                  <a:lnTo>
                    <a:pt x="77" y="248"/>
                  </a:lnTo>
                  <a:lnTo>
                    <a:pt x="0" y="28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9782000">
              <a:off x="1477080" y="19080"/>
              <a:ext cx="11442960" cy="2079360"/>
            </a:xfrm>
            <a:custGeom>
              <a:avLst/>
              <a:gdLst/>
              <a:ahLst/>
              <a:rect l="l" t="t" r="r" b="b"/>
              <a:pathLst>
                <a:path w="5455" h="970">
                  <a:moveTo>
                    <a:pt x="5455" y="71"/>
                  </a:moveTo>
                  <a:lnTo>
                    <a:pt x="5455" y="71"/>
                  </a:lnTo>
                  <a:lnTo>
                    <a:pt x="5448" y="87"/>
                  </a:lnTo>
                  <a:lnTo>
                    <a:pt x="5426" y="132"/>
                  </a:lnTo>
                  <a:lnTo>
                    <a:pt x="5409" y="165"/>
                  </a:lnTo>
                  <a:lnTo>
                    <a:pt x="5388" y="203"/>
                  </a:lnTo>
                  <a:lnTo>
                    <a:pt x="5363" y="245"/>
                  </a:lnTo>
                  <a:lnTo>
                    <a:pt x="5334" y="291"/>
                  </a:lnTo>
                  <a:lnTo>
                    <a:pt x="5301" y="339"/>
                  </a:lnTo>
                  <a:lnTo>
                    <a:pt x="5263" y="391"/>
                  </a:lnTo>
                  <a:lnTo>
                    <a:pt x="5222" y="444"/>
                  </a:lnTo>
                  <a:lnTo>
                    <a:pt x="5176" y="499"/>
                  </a:lnTo>
                  <a:lnTo>
                    <a:pt x="5126" y="552"/>
                  </a:lnTo>
                  <a:lnTo>
                    <a:pt x="5098" y="580"/>
                  </a:lnTo>
                  <a:lnTo>
                    <a:pt x="5070" y="607"/>
                  </a:lnTo>
                  <a:lnTo>
                    <a:pt x="5041" y="633"/>
                  </a:lnTo>
                  <a:lnTo>
                    <a:pt x="5011" y="659"/>
                  </a:lnTo>
                  <a:lnTo>
                    <a:pt x="4979" y="685"/>
                  </a:lnTo>
                  <a:lnTo>
                    <a:pt x="4945" y="710"/>
                  </a:lnTo>
                  <a:lnTo>
                    <a:pt x="4912" y="735"/>
                  </a:lnTo>
                  <a:lnTo>
                    <a:pt x="4876" y="759"/>
                  </a:lnTo>
                  <a:lnTo>
                    <a:pt x="4840" y="781"/>
                  </a:lnTo>
                  <a:lnTo>
                    <a:pt x="4802" y="804"/>
                  </a:lnTo>
                  <a:lnTo>
                    <a:pt x="4763" y="825"/>
                  </a:lnTo>
                  <a:lnTo>
                    <a:pt x="4723" y="844"/>
                  </a:lnTo>
                  <a:lnTo>
                    <a:pt x="4682" y="864"/>
                  </a:lnTo>
                  <a:lnTo>
                    <a:pt x="4639" y="882"/>
                  </a:lnTo>
                  <a:lnTo>
                    <a:pt x="4594" y="898"/>
                  </a:lnTo>
                  <a:lnTo>
                    <a:pt x="4550" y="912"/>
                  </a:lnTo>
                  <a:lnTo>
                    <a:pt x="4502" y="927"/>
                  </a:lnTo>
                  <a:lnTo>
                    <a:pt x="4455" y="938"/>
                  </a:lnTo>
                  <a:lnTo>
                    <a:pt x="4405" y="948"/>
                  </a:lnTo>
                  <a:lnTo>
                    <a:pt x="4355" y="956"/>
                  </a:lnTo>
                  <a:lnTo>
                    <a:pt x="4304" y="962"/>
                  </a:lnTo>
                  <a:lnTo>
                    <a:pt x="4250" y="967"/>
                  </a:lnTo>
                  <a:lnTo>
                    <a:pt x="4196" y="969"/>
                  </a:lnTo>
                  <a:lnTo>
                    <a:pt x="4140" y="970"/>
                  </a:lnTo>
                  <a:lnTo>
                    <a:pt x="4083" y="967"/>
                  </a:lnTo>
                  <a:lnTo>
                    <a:pt x="4023" y="964"/>
                  </a:lnTo>
                  <a:lnTo>
                    <a:pt x="3964" y="957"/>
                  </a:lnTo>
                  <a:lnTo>
                    <a:pt x="3903" y="948"/>
                  </a:lnTo>
                  <a:lnTo>
                    <a:pt x="3840" y="936"/>
                  </a:lnTo>
                  <a:lnTo>
                    <a:pt x="3775" y="922"/>
                  </a:lnTo>
                  <a:lnTo>
                    <a:pt x="3710" y="904"/>
                  </a:lnTo>
                  <a:lnTo>
                    <a:pt x="3643" y="885"/>
                  </a:lnTo>
                  <a:lnTo>
                    <a:pt x="3574" y="861"/>
                  </a:lnTo>
                  <a:lnTo>
                    <a:pt x="3504" y="835"/>
                  </a:lnTo>
                  <a:lnTo>
                    <a:pt x="3432" y="806"/>
                  </a:lnTo>
                  <a:lnTo>
                    <a:pt x="3360" y="773"/>
                  </a:lnTo>
                  <a:lnTo>
                    <a:pt x="3285" y="738"/>
                  </a:lnTo>
                  <a:lnTo>
                    <a:pt x="3210" y="699"/>
                  </a:lnTo>
                  <a:lnTo>
                    <a:pt x="3210" y="699"/>
                  </a:lnTo>
                  <a:lnTo>
                    <a:pt x="3059" y="620"/>
                  </a:lnTo>
                  <a:lnTo>
                    <a:pt x="2913" y="547"/>
                  </a:lnTo>
                  <a:lnTo>
                    <a:pt x="2772" y="478"/>
                  </a:lnTo>
                  <a:lnTo>
                    <a:pt x="2636" y="415"/>
                  </a:lnTo>
                  <a:lnTo>
                    <a:pt x="2505" y="357"/>
                  </a:lnTo>
                  <a:lnTo>
                    <a:pt x="2377" y="302"/>
                  </a:lnTo>
                  <a:lnTo>
                    <a:pt x="2253" y="253"/>
                  </a:lnTo>
                  <a:lnTo>
                    <a:pt x="2134" y="208"/>
                  </a:lnTo>
                  <a:lnTo>
                    <a:pt x="2019" y="169"/>
                  </a:lnTo>
                  <a:lnTo>
                    <a:pt x="1906" y="132"/>
                  </a:lnTo>
                  <a:lnTo>
                    <a:pt x="1798" y="102"/>
                  </a:lnTo>
                  <a:lnTo>
                    <a:pt x="1692" y="76"/>
                  </a:lnTo>
                  <a:lnTo>
                    <a:pt x="1590" y="52"/>
                  </a:lnTo>
                  <a:lnTo>
                    <a:pt x="1491" y="34"/>
                  </a:lnTo>
                  <a:lnTo>
                    <a:pt x="1394" y="19"/>
                  </a:lnTo>
                  <a:lnTo>
                    <a:pt x="1301" y="8"/>
                  </a:lnTo>
                  <a:lnTo>
                    <a:pt x="1209" y="2"/>
                  </a:lnTo>
                  <a:lnTo>
                    <a:pt x="1119" y="0"/>
                  </a:lnTo>
                  <a:lnTo>
                    <a:pt x="1031" y="0"/>
                  </a:lnTo>
                  <a:lnTo>
                    <a:pt x="945" y="5"/>
                  </a:lnTo>
                  <a:lnTo>
                    <a:pt x="862" y="13"/>
                  </a:lnTo>
                  <a:lnTo>
                    <a:pt x="780" y="24"/>
                  </a:lnTo>
                  <a:lnTo>
                    <a:pt x="698" y="39"/>
                  </a:lnTo>
                  <a:lnTo>
                    <a:pt x="619" y="56"/>
                  </a:lnTo>
                  <a:lnTo>
                    <a:pt x="540" y="79"/>
                  </a:lnTo>
                  <a:lnTo>
                    <a:pt x="461" y="103"/>
                  </a:lnTo>
                  <a:lnTo>
                    <a:pt x="384" y="131"/>
                  </a:lnTo>
                  <a:lnTo>
                    <a:pt x="307" y="161"/>
                  </a:lnTo>
                  <a:lnTo>
                    <a:pt x="230" y="194"/>
                  </a:lnTo>
                  <a:lnTo>
                    <a:pt x="153" y="231"/>
                  </a:lnTo>
                  <a:lnTo>
                    <a:pt x="76" y="270"/>
                  </a:lnTo>
                  <a:lnTo>
                    <a:pt x="0" y="31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9782000">
              <a:off x="1521360" y="19080"/>
              <a:ext cx="11434320" cy="1992600"/>
            </a:xfrm>
            <a:custGeom>
              <a:avLst/>
              <a:gdLst/>
              <a:ahLst/>
              <a:rect l="l" t="t" r="r" b="b"/>
              <a:pathLst>
                <a:path w="5451" h="930">
                  <a:moveTo>
                    <a:pt x="5451" y="0"/>
                  </a:moveTo>
                  <a:lnTo>
                    <a:pt x="5451" y="0"/>
                  </a:lnTo>
                  <a:lnTo>
                    <a:pt x="5444" y="18"/>
                  </a:lnTo>
                  <a:lnTo>
                    <a:pt x="5423" y="63"/>
                  </a:lnTo>
                  <a:lnTo>
                    <a:pt x="5406" y="97"/>
                  </a:lnTo>
                  <a:lnTo>
                    <a:pt x="5386" y="134"/>
                  </a:lnTo>
                  <a:lnTo>
                    <a:pt x="5362" y="177"/>
                  </a:lnTo>
                  <a:lnTo>
                    <a:pt x="5334" y="224"/>
                  </a:lnTo>
                  <a:lnTo>
                    <a:pt x="5301" y="274"/>
                  </a:lnTo>
                  <a:lnTo>
                    <a:pt x="5265" y="326"/>
                  </a:lnTo>
                  <a:lnTo>
                    <a:pt x="5223" y="381"/>
                  </a:lnTo>
                  <a:lnTo>
                    <a:pt x="5179" y="436"/>
                  </a:lnTo>
                  <a:lnTo>
                    <a:pt x="5129" y="491"/>
                  </a:lnTo>
                  <a:lnTo>
                    <a:pt x="5102" y="518"/>
                  </a:lnTo>
                  <a:lnTo>
                    <a:pt x="5075" y="546"/>
                  </a:lnTo>
                  <a:lnTo>
                    <a:pt x="5046" y="573"/>
                  </a:lnTo>
                  <a:lnTo>
                    <a:pt x="5015" y="600"/>
                  </a:lnTo>
                  <a:lnTo>
                    <a:pt x="4983" y="628"/>
                  </a:lnTo>
                  <a:lnTo>
                    <a:pt x="4951" y="654"/>
                  </a:lnTo>
                  <a:lnTo>
                    <a:pt x="4918" y="678"/>
                  </a:lnTo>
                  <a:lnTo>
                    <a:pt x="4883" y="704"/>
                  </a:lnTo>
                  <a:lnTo>
                    <a:pt x="4847" y="726"/>
                  </a:lnTo>
                  <a:lnTo>
                    <a:pt x="4809" y="751"/>
                  </a:lnTo>
                  <a:lnTo>
                    <a:pt x="4771" y="772"/>
                  </a:lnTo>
                  <a:lnTo>
                    <a:pt x="4730" y="793"/>
                  </a:lnTo>
                  <a:lnTo>
                    <a:pt x="4689" y="814"/>
                  </a:lnTo>
                  <a:lnTo>
                    <a:pt x="4647" y="831"/>
                  </a:lnTo>
                  <a:lnTo>
                    <a:pt x="4603" y="849"/>
                  </a:lnTo>
                  <a:lnTo>
                    <a:pt x="4558" y="865"/>
                  </a:lnTo>
                  <a:lnTo>
                    <a:pt x="4512" y="880"/>
                  </a:lnTo>
                  <a:lnTo>
                    <a:pt x="4464" y="891"/>
                  </a:lnTo>
                  <a:lnTo>
                    <a:pt x="4415" y="902"/>
                  </a:lnTo>
                  <a:lnTo>
                    <a:pt x="4365" y="912"/>
                  </a:lnTo>
                  <a:lnTo>
                    <a:pt x="4312" y="920"/>
                  </a:lnTo>
                  <a:lnTo>
                    <a:pt x="4260" y="925"/>
                  </a:lnTo>
                  <a:lnTo>
                    <a:pt x="4206" y="928"/>
                  </a:lnTo>
                  <a:lnTo>
                    <a:pt x="4150" y="930"/>
                  </a:lnTo>
                  <a:lnTo>
                    <a:pt x="4092" y="930"/>
                  </a:lnTo>
                  <a:lnTo>
                    <a:pt x="4033" y="927"/>
                  </a:lnTo>
                  <a:lnTo>
                    <a:pt x="3974" y="920"/>
                  </a:lnTo>
                  <a:lnTo>
                    <a:pt x="3911" y="912"/>
                  </a:lnTo>
                  <a:lnTo>
                    <a:pt x="3849" y="902"/>
                  </a:lnTo>
                  <a:lnTo>
                    <a:pt x="3785" y="889"/>
                  </a:lnTo>
                  <a:lnTo>
                    <a:pt x="3718" y="873"/>
                  </a:lnTo>
                  <a:lnTo>
                    <a:pt x="3652" y="854"/>
                  </a:lnTo>
                  <a:lnTo>
                    <a:pt x="3582" y="833"/>
                  </a:lnTo>
                  <a:lnTo>
                    <a:pt x="3511" y="809"/>
                  </a:lnTo>
                  <a:lnTo>
                    <a:pt x="3440" y="780"/>
                  </a:lnTo>
                  <a:lnTo>
                    <a:pt x="3367" y="749"/>
                  </a:lnTo>
                  <a:lnTo>
                    <a:pt x="3292" y="715"/>
                  </a:lnTo>
                  <a:lnTo>
                    <a:pt x="3216" y="678"/>
                  </a:lnTo>
                  <a:lnTo>
                    <a:pt x="3216" y="678"/>
                  </a:lnTo>
                  <a:lnTo>
                    <a:pt x="3063" y="602"/>
                  </a:lnTo>
                  <a:lnTo>
                    <a:pt x="2917" y="531"/>
                  </a:lnTo>
                  <a:lnTo>
                    <a:pt x="2774" y="465"/>
                  </a:lnTo>
                  <a:lnTo>
                    <a:pt x="2638" y="403"/>
                  </a:lnTo>
                  <a:lnTo>
                    <a:pt x="2505" y="347"/>
                  </a:lnTo>
                  <a:lnTo>
                    <a:pt x="2377" y="295"/>
                  </a:lnTo>
                  <a:lnTo>
                    <a:pt x="2252" y="248"/>
                  </a:lnTo>
                  <a:lnTo>
                    <a:pt x="2133" y="206"/>
                  </a:lnTo>
                  <a:lnTo>
                    <a:pt x="2016" y="168"/>
                  </a:lnTo>
                  <a:lnTo>
                    <a:pt x="1903" y="135"/>
                  </a:lnTo>
                  <a:lnTo>
                    <a:pt x="1795" y="106"/>
                  </a:lnTo>
                  <a:lnTo>
                    <a:pt x="1688" y="81"/>
                  </a:lnTo>
                  <a:lnTo>
                    <a:pt x="1587" y="60"/>
                  </a:lnTo>
                  <a:lnTo>
                    <a:pt x="1487" y="43"/>
                  </a:lnTo>
                  <a:lnTo>
                    <a:pt x="1390" y="30"/>
                  </a:lnTo>
                  <a:lnTo>
                    <a:pt x="1295" y="22"/>
                  </a:lnTo>
                  <a:lnTo>
                    <a:pt x="1204" y="18"/>
                  </a:lnTo>
                  <a:lnTo>
                    <a:pt x="1115" y="16"/>
                  </a:lnTo>
                  <a:lnTo>
                    <a:pt x="1027" y="19"/>
                  </a:lnTo>
                  <a:lnTo>
                    <a:pt x="941" y="26"/>
                  </a:lnTo>
                  <a:lnTo>
                    <a:pt x="858" y="35"/>
                  </a:lnTo>
                  <a:lnTo>
                    <a:pt x="775" y="48"/>
                  </a:lnTo>
                  <a:lnTo>
                    <a:pt x="694" y="64"/>
                  </a:lnTo>
                  <a:lnTo>
                    <a:pt x="615" y="85"/>
                  </a:lnTo>
                  <a:lnTo>
                    <a:pt x="536" y="108"/>
                  </a:lnTo>
                  <a:lnTo>
                    <a:pt x="458" y="134"/>
                  </a:lnTo>
                  <a:lnTo>
                    <a:pt x="382" y="163"/>
                  </a:lnTo>
                  <a:lnTo>
                    <a:pt x="304" y="195"/>
                  </a:lnTo>
                  <a:lnTo>
                    <a:pt x="228" y="231"/>
                  </a:lnTo>
                  <a:lnTo>
                    <a:pt x="153" y="268"/>
                  </a:lnTo>
                  <a:lnTo>
                    <a:pt x="76" y="310"/>
                  </a:lnTo>
                  <a:lnTo>
                    <a:pt x="0" y="35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9782000">
              <a:off x="1530360" y="-121320"/>
              <a:ext cx="11426400" cy="2065680"/>
            </a:xfrm>
            <a:custGeom>
              <a:avLst/>
              <a:gdLst/>
              <a:ahLst/>
              <a:rect l="l" t="t" r="r" b="b"/>
              <a:pathLst>
                <a:path w="5447" h="962">
                  <a:moveTo>
                    <a:pt x="5447" y="0"/>
                  </a:moveTo>
                  <a:lnTo>
                    <a:pt x="5447" y="0"/>
                  </a:lnTo>
                  <a:lnTo>
                    <a:pt x="5440" y="17"/>
                  </a:lnTo>
                  <a:lnTo>
                    <a:pt x="5419" y="64"/>
                  </a:lnTo>
                  <a:lnTo>
                    <a:pt x="5402" y="98"/>
                  </a:lnTo>
                  <a:lnTo>
                    <a:pt x="5383" y="137"/>
                  </a:lnTo>
                  <a:lnTo>
                    <a:pt x="5359" y="181"/>
                  </a:lnTo>
                  <a:lnTo>
                    <a:pt x="5332" y="227"/>
                  </a:lnTo>
                  <a:lnTo>
                    <a:pt x="5300" y="279"/>
                  </a:lnTo>
                  <a:lnTo>
                    <a:pt x="5265" y="332"/>
                  </a:lnTo>
                  <a:lnTo>
                    <a:pt x="5225" y="387"/>
                  </a:lnTo>
                  <a:lnTo>
                    <a:pt x="5180" y="444"/>
                  </a:lnTo>
                  <a:lnTo>
                    <a:pt x="5130" y="500"/>
                  </a:lnTo>
                  <a:lnTo>
                    <a:pt x="5105" y="529"/>
                  </a:lnTo>
                  <a:lnTo>
                    <a:pt x="5078" y="557"/>
                  </a:lnTo>
                  <a:lnTo>
                    <a:pt x="5048" y="586"/>
                  </a:lnTo>
                  <a:lnTo>
                    <a:pt x="5019" y="613"/>
                  </a:lnTo>
                  <a:lnTo>
                    <a:pt x="4989" y="641"/>
                  </a:lnTo>
                  <a:lnTo>
                    <a:pt x="4957" y="667"/>
                  </a:lnTo>
                  <a:lnTo>
                    <a:pt x="4923" y="692"/>
                  </a:lnTo>
                  <a:lnTo>
                    <a:pt x="4889" y="718"/>
                  </a:lnTo>
                  <a:lnTo>
                    <a:pt x="4853" y="744"/>
                  </a:lnTo>
                  <a:lnTo>
                    <a:pt x="4815" y="767"/>
                  </a:lnTo>
                  <a:lnTo>
                    <a:pt x="4778" y="791"/>
                  </a:lnTo>
                  <a:lnTo>
                    <a:pt x="4737" y="812"/>
                  </a:lnTo>
                  <a:lnTo>
                    <a:pt x="4697" y="833"/>
                  </a:lnTo>
                  <a:lnTo>
                    <a:pt x="4654" y="852"/>
                  </a:lnTo>
                  <a:lnTo>
                    <a:pt x="4611" y="870"/>
                  </a:lnTo>
                  <a:lnTo>
                    <a:pt x="4567" y="888"/>
                  </a:lnTo>
                  <a:lnTo>
                    <a:pt x="4521" y="902"/>
                  </a:lnTo>
                  <a:lnTo>
                    <a:pt x="4472" y="917"/>
                  </a:lnTo>
                  <a:lnTo>
                    <a:pt x="4424" y="928"/>
                  </a:lnTo>
                  <a:lnTo>
                    <a:pt x="4374" y="939"/>
                  </a:lnTo>
                  <a:lnTo>
                    <a:pt x="4322" y="947"/>
                  </a:lnTo>
                  <a:lnTo>
                    <a:pt x="4270" y="954"/>
                  </a:lnTo>
                  <a:lnTo>
                    <a:pt x="4214" y="959"/>
                  </a:lnTo>
                  <a:lnTo>
                    <a:pt x="4158" y="962"/>
                  </a:lnTo>
                  <a:lnTo>
                    <a:pt x="4102" y="962"/>
                  </a:lnTo>
                  <a:lnTo>
                    <a:pt x="4043" y="960"/>
                  </a:lnTo>
                  <a:lnTo>
                    <a:pt x="3982" y="956"/>
                  </a:lnTo>
                  <a:lnTo>
                    <a:pt x="3921" y="949"/>
                  </a:lnTo>
                  <a:lnTo>
                    <a:pt x="3857" y="939"/>
                  </a:lnTo>
                  <a:lnTo>
                    <a:pt x="3793" y="928"/>
                  </a:lnTo>
                  <a:lnTo>
                    <a:pt x="3727" y="914"/>
                  </a:lnTo>
                  <a:lnTo>
                    <a:pt x="3659" y="896"/>
                  </a:lnTo>
                  <a:lnTo>
                    <a:pt x="3591" y="875"/>
                  </a:lnTo>
                  <a:lnTo>
                    <a:pt x="3520" y="852"/>
                  </a:lnTo>
                  <a:lnTo>
                    <a:pt x="3448" y="825"/>
                  </a:lnTo>
                  <a:lnTo>
                    <a:pt x="3373" y="796"/>
                  </a:lnTo>
                  <a:lnTo>
                    <a:pt x="3298" y="763"/>
                  </a:lnTo>
                  <a:lnTo>
                    <a:pt x="3221" y="726"/>
                  </a:lnTo>
                  <a:lnTo>
                    <a:pt x="3221" y="726"/>
                  </a:lnTo>
                  <a:lnTo>
                    <a:pt x="3067" y="654"/>
                  </a:lnTo>
                  <a:lnTo>
                    <a:pt x="2920" y="586"/>
                  </a:lnTo>
                  <a:lnTo>
                    <a:pt x="2777" y="521"/>
                  </a:lnTo>
                  <a:lnTo>
                    <a:pt x="2640" y="463"/>
                  </a:lnTo>
                  <a:lnTo>
                    <a:pt x="2505" y="410"/>
                  </a:lnTo>
                  <a:lnTo>
                    <a:pt x="2376" y="360"/>
                  </a:lnTo>
                  <a:lnTo>
                    <a:pt x="2252" y="315"/>
                  </a:lnTo>
                  <a:lnTo>
                    <a:pt x="2131" y="276"/>
                  </a:lnTo>
                  <a:lnTo>
                    <a:pt x="2015" y="240"/>
                  </a:lnTo>
                  <a:lnTo>
                    <a:pt x="1901" y="208"/>
                  </a:lnTo>
                  <a:lnTo>
                    <a:pt x="1791" y="181"/>
                  </a:lnTo>
                  <a:lnTo>
                    <a:pt x="1686" y="158"/>
                  </a:lnTo>
                  <a:lnTo>
                    <a:pt x="1583" y="140"/>
                  </a:lnTo>
                  <a:lnTo>
                    <a:pt x="1483" y="124"/>
                  </a:lnTo>
                  <a:lnTo>
                    <a:pt x="1386" y="114"/>
                  </a:lnTo>
                  <a:lnTo>
                    <a:pt x="1291" y="108"/>
                  </a:lnTo>
                  <a:lnTo>
                    <a:pt x="1200" y="105"/>
                  </a:lnTo>
                  <a:lnTo>
                    <a:pt x="1111" y="105"/>
                  </a:lnTo>
                  <a:lnTo>
                    <a:pt x="1023" y="109"/>
                  </a:lnTo>
                  <a:lnTo>
                    <a:pt x="937" y="118"/>
                  </a:lnTo>
                  <a:lnTo>
                    <a:pt x="854" y="129"/>
                  </a:lnTo>
                  <a:lnTo>
                    <a:pt x="772" y="143"/>
                  </a:lnTo>
                  <a:lnTo>
                    <a:pt x="692" y="163"/>
                  </a:lnTo>
                  <a:lnTo>
                    <a:pt x="612" y="184"/>
                  </a:lnTo>
                  <a:lnTo>
                    <a:pt x="533" y="208"/>
                  </a:lnTo>
                  <a:lnTo>
                    <a:pt x="457" y="237"/>
                  </a:lnTo>
                  <a:lnTo>
                    <a:pt x="379" y="268"/>
                  </a:lnTo>
                  <a:lnTo>
                    <a:pt x="303" y="302"/>
                  </a:lnTo>
                  <a:lnTo>
                    <a:pt x="228" y="339"/>
                  </a:lnTo>
                  <a:lnTo>
                    <a:pt x="151" y="378"/>
                  </a:lnTo>
                  <a:lnTo>
                    <a:pt x="76" y="419"/>
                  </a:lnTo>
                  <a:lnTo>
                    <a:pt x="0" y="465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9782000">
              <a:off x="1545480" y="-259560"/>
              <a:ext cx="11409120" cy="2130840"/>
            </a:xfrm>
            <a:custGeom>
              <a:avLst/>
              <a:gdLst/>
              <a:ahLst/>
              <a:rect l="l" t="t" r="r" b="b"/>
              <a:pathLst>
                <a:path w="5439" h="993">
                  <a:moveTo>
                    <a:pt x="5439" y="0"/>
                  </a:moveTo>
                  <a:lnTo>
                    <a:pt x="5439" y="0"/>
                  </a:lnTo>
                  <a:lnTo>
                    <a:pt x="5432" y="18"/>
                  </a:lnTo>
                  <a:lnTo>
                    <a:pt x="5412" y="65"/>
                  </a:lnTo>
                  <a:lnTo>
                    <a:pt x="5397" y="99"/>
                  </a:lnTo>
                  <a:lnTo>
                    <a:pt x="5377" y="137"/>
                  </a:lnTo>
                  <a:lnTo>
                    <a:pt x="5354" y="183"/>
                  </a:lnTo>
                  <a:lnTo>
                    <a:pt x="5327" y="231"/>
                  </a:lnTo>
                  <a:lnTo>
                    <a:pt x="5297" y="283"/>
                  </a:lnTo>
                  <a:lnTo>
                    <a:pt x="5261" y="336"/>
                  </a:lnTo>
                  <a:lnTo>
                    <a:pt x="5222" y="393"/>
                  </a:lnTo>
                  <a:lnTo>
                    <a:pt x="5179" y="451"/>
                  </a:lnTo>
                  <a:lnTo>
                    <a:pt x="5130" y="509"/>
                  </a:lnTo>
                  <a:lnTo>
                    <a:pt x="5104" y="538"/>
                  </a:lnTo>
                  <a:lnTo>
                    <a:pt x="5078" y="567"/>
                  </a:lnTo>
                  <a:lnTo>
                    <a:pt x="5050" y="596"/>
                  </a:lnTo>
                  <a:lnTo>
                    <a:pt x="5021" y="623"/>
                  </a:lnTo>
                  <a:lnTo>
                    <a:pt x="4990" y="652"/>
                  </a:lnTo>
                  <a:lnTo>
                    <a:pt x="4958" y="680"/>
                  </a:lnTo>
                  <a:lnTo>
                    <a:pt x="4925" y="706"/>
                  </a:lnTo>
                  <a:lnTo>
                    <a:pt x="4891" y="733"/>
                  </a:lnTo>
                  <a:lnTo>
                    <a:pt x="4855" y="759"/>
                  </a:lnTo>
                  <a:lnTo>
                    <a:pt x="4819" y="783"/>
                  </a:lnTo>
                  <a:lnTo>
                    <a:pt x="4780" y="808"/>
                  </a:lnTo>
                  <a:lnTo>
                    <a:pt x="4742" y="830"/>
                  </a:lnTo>
                  <a:lnTo>
                    <a:pt x="4701" y="851"/>
                  </a:lnTo>
                  <a:lnTo>
                    <a:pt x="4660" y="872"/>
                  </a:lnTo>
                  <a:lnTo>
                    <a:pt x="4617" y="891"/>
                  </a:lnTo>
                  <a:lnTo>
                    <a:pt x="4572" y="909"/>
                  </a:lnTo>
                  <a:lnTo>
                    <a:pt x="4526" y="925"/>
                  </a:lnTo>
                  <a:lnTo>
                    <a:pt x="4479" y="940"/>
                  </a:lnTo>
                  <a:lnTo>
                    <a:pt x="4429" y="953"/>
                  </a:lnTo>
                  <a:lnTo>
                    <a:pt x="4379" y="966"/>
                  </a:lnTo>
                  <a:lnTo>
                    <a:pt x="4328" y="975"/>
                  </a:lnTo>
                  <a:lnTo>
                    <a:pt x="4275" y="982"/>
                  </a:lnTo>
                  <a:lnTo>
                    <a:pt x="4221" y="988"/>
                  </a:lnTo>
                  <a:lnTo>
                    <a:pt x="4165" y="992"/>
                  </a:lnTo>
                  <a:lnTo>
                    <a:pt x="4108" y="993"/>
                  </a:lnTo>
                  <a:lnTo>
                    <a:pt x="4049" y="993"/>
                  </a:lnTo>
                  <a:lnTo>
                    <a:pt x="3989" y="990"/>
                  </a:lnTo>
                  <a:lnTo>
                    <a:pt x="3927" y="984"/>
                  </a:lnTo>
                  <a:lnTo>
                    <a:pt x="3864" y="975"/>
                  </a:lnTo>
                  <a:lnTo>
                    <a:pt x="3799" y="966"/>
                  </a:lnTo>
                  <a:lnTo>
                    <a:pt x="3732" y="951"/>
                  </a:lnTo>
                  <a:lnTo>
                    <a:pt x="3666" y="935"/>
                  </a:lnTo>
                  <a:lnTo>
                    <a:pt x="3595" y="917"/>
                  </a:lnTo>
                  <a:lnTo>
                    <a:pt x="3524" y="895"/>
                  </a:lnTo>
                  <a:lnTo>
                    <a:pt x="3452" y="869"/>
                  </a:lnTo>
                  <a:lnTo>
                    <a:pt x="3377" y="841"/>
                  </a:lnTo>
                  <a:lnTo>
                    <a:pt x="3302" y="809"/>
                  </a:lnTo>
                  <a:lnTo>
                    <a:pt x="3224" y="775"/>
                  </a:lnTo>
                  <a:lnTo>
                    <a:pt x="3224" y="775"/>
                  </a:lnTo>
                  <a:lnTo>
                    <a:pt x="3070" y="704"/>
                  </a:lnTo>
                  <a:lnTo>
                    <a:pt x="2921" y="638"/>
                  </a:lnTo>
                  <a:lnTo>
                    <a:pt x="2777" y="578"/>
                  </a:lnTo>
                  <a:lnTo>
                    <a:pt x="2638" y="522"/>
                  </a:lnTo>
                  <a:lnTo>
                    <a:pt x="2503" y="470"/>
                  </a:lnTo>
                  <a:lnTo>
                    <a:pt x="2374" y="423"/>
                  </a:lnTo>
                  <a:lnTo>
                    <a:pt x="2249" y="381"/>
                  </a:lnTo>
                  <a:lnTo>
                    <a:pt x="2127" y="342"/>
                  </a:lnTo>
                  <a:lnTo>
                    <a:pt x="2010" y="310"/>
                  </a:lnTo>
                  <a:lnTo>
                    <a:pt x="1897" y="281"/>
                  </a:lnTo>
                  <a:lnTo>
                    <a:pt x="1787" y="255"/>
                  </a:lnTo>
                  <a:lnTo>
                    <a:pt x="1680" y="234"/>
                  </a:lnTo>
                  <a:lnTo>
                    <a:pt x="1577" y="218"/>
                  </a:lnTo>
                  <a:lnTo>
                    <a:pt x="1477" y="205"/>
                  </a:lnTo>
                  <a:lnTo>
                    <a:pt x="1380" y="197"/>
                  </a:lnTo>
                  <a:lnTo>
                    <a:pt x="1286" y="191"/>
                  </a:lnTo>
                  <a:lnTo>
                    <a:pt x="1194" y="191"/>
                  </a:lnTo>
                  <a:lnTo>
                    <a:pt x="1104" y="192"/>
                  </a:lnTo>
                  <a:lnTo>
                    <a:pt x="1018" y="199"/>
                  </a:lnTo>
                  <a:lnTo>
                    <a:pt x="932" y="208"/>
                  </a:lnTo>
                  <a:lnTo>
                    <a:pt x="848" y="221"/>
                  </a:lnTo>
                  <a:lnTo>
                    <a:pt x="766" y="239"/>
                  </a:lnTo>
                  <a:lnTo>
                    <a:pt x="686" y="259"/>
                  </a:lnTo>
                  <a:lnTo>
                    <a:pt x="607" y="283"/>
                  </a:lnTo>
                  <a:lnTo>
                    <a:pt x="529" y="309"/>
                  </a:lnTo>
                  <a:lnTo>
                    <a:pt x="453" y="338"/>
                  </a:lnTo>
                  <a:lnTo>
                    <a:pt x="376" y="372"/>
                  </a:lnTo>
                  <a:lnTo>
                    <a:pt x="300" y="407"/>
                  </a:lnTo>
                  <a:lnTo>
                    <a:pt x="225" y="446"/>
                  </a:lnTo>
                  <a:lnTo>
                    <a:pt x="150" y="486"/>
                  </a:lnTo>
                  <a:lnTo>
                    <a:pt x="75" y="531"/>
                  </a:lnTo>
                  <a:lnTo>
                    <a:pt x="0" y="57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9782000">
              <a:off x="1561320" y="-400320"/>
              <a:ext cx="11388240" cy="2198880"/>
            </a:xfrm>
            <a:custGeom>
              <a:avLst/>
              <a:gdLst/>
              <a:ahLst/>
              <a:rect l="l" t="t" r="r" b="b"/>
              <a:pathLst>
                <a:path w="5429" h="1025">
                  <a:moveTo>
                    <a:pt x="5429" y="0"/>
                  </a:moveTo>
                  <a:lnTo>
                    <a:pt x="5429" y="0"/>
                  </a:lnTo>
                  <a:lnTo>
                    <a:pt x="5422" y="18"/>
                  </a:lnTo>
                  <a:lnTo>
                    <a:pt x="5403" y="66"/>
                  </a:lnTo>
                  <a:lnTo>
                    <a:pt x="5389" y="100"/>
                  </a:lnTo>
                  <a:lnTo>
                    <a:pt x="5369" y="141"/>
                  </a:lnTo>
                  <a:lnTo>
                    <a:pt x="5347" y="186"/>
                  </a:lnTo>
                  <a:lnTo>
                    <a:pt x="5321" y="234"/>
                  </a:lnTo>
                  <a:lnTo>
                    <a:pt x="5292" y="287"/>
                  </a:lnTo>
                  <a:lnTo>
                    <a:pt x="5257" y="342"/>
                  </a:lnTo>
                  <a:lnTo>
                    <a:pt x="5218" y="399"/>
                  </a:lnTo>
                  <a:lnTo>
                    <a:pt x="5176" y="459"/>
                  </a:lnTo>
                  <a:lnTo>
                    <a:pt x="5129" y="518"/>
                  </a:lnTo>
                  <a:lnTo>
                    <a:pt x="5103" y="547"/>
                  </a:lnTo>
                  <a:lnTo>
                    <a:pt x="5076" y="576"/>
                  </a:lnTo>
                  <a:lnTo>
                    <a:pt x="5049" y="607"/>
                  </a:lnTo>
                  <a:lnTo>
                    <a:pt x="5021" y="636"/>
                  </a:lnTo>
                  <a:lnTo>
                    <a:pt x="4990" y="665"/>
                  </a:lnTo>
                  <a:lnTo>
                    <a:pt x="4958" y="693"/>
                  </a:lnTo>
                  <a:lnTo>
                    <a:pt x="4927" y="720"/>
                  </a:lnTo>
                  <a:lnTo>
                    <a:pt x="4893" y="748"/>
                  </a:lnTo>
                  <a:lnTo>
                    <a:pt x="4857" y="775"/>
                  </a:lnTo>
                  <a:lnTo>
                    <a:pt x="4821" y="799"/>
                  </a:lnTo>
                  <a:lnTo>
                    <a:pt x="4784" y="825"/>
                  </a:lnTo>
                  <a:lnTo>
                    <a:pt x="4745" y="848"/>
                  </a:lnTo>
                  <a:lnTo>
                    <a:pt x="4704" y="870"/>
                  </a:lnTo>
                  <a:lnTo>
                    <a:pt x="4663" y="893"/>
                  </a:lnTo>
                  <a:lnTo>
                    <a:pt x="4620" y="912"/>
                  </a:lnTo>
                  <a:lnTo>
                    <a:pt x="4577" y="932"/>
                  </a:lnTo>
                  <a:lnTo>
                    <a:pt x="4531" y="949"/>
                  </a:lnTo>
                  <a:lnTo>
                    <a:pt x="4484" y="964"/>
                  </a:lnTo>
                  <a:lnTo>
                    <a:pt x="4435" y="979"/>
                  </a:lnTo>
                  <a:lnTo>
                    <a:pt x="4385" y="991"/>
                  </a:lnTo>
                  <a:lnTo>
                    <a:pt x="4334" y="1003"/>
                  </a:lnTo>
                  <a:lnTo>
                    <a:pt x="4281" y="1011"/>
                  </a:lnTo>
                  <a:lnTo>
                    <a:pt x="4227" y="1017"/>
                  </a:lnTo>
                  <a:lnTo>
                    <a:pt x="4171" y="1022"/>
                  </a:lnTo>
                  <a:lnTo>
                    <a:pt x="4114" y="1025"/>
                  </a:lnTo>
                  <a:lnTo>
                    <a:pt x="4055" y="1025"/>
                  </a:lnTo>
                  <a:lnTo>
                    <a:pt x="3995" y="1024"/>
                  </a:lnTo>
                  <a:lnTo>
                    <a:pt x="3932" y="1021"/>
                  </a:lnTo>
                  <a:lnTo>
                    <a:pt x="3870" y="1012"/>
                  </a:lnTo>
                  <a:lnTo>
                    <a:pt x="3805" y="1004"/>
                  </a:lnTo>
                  <a:lnTo>
                    <a:pt x="3738" y="991"/>
                  </a:lnTo>
                  <a:lnTo>
                    <a:pt x="3670" y="977"/>
                  </a:lnTo>
                  <a:lnTo>
                    <a:pt x="3601" y="959"/>
                  </a:lnTo>
                  <a:lnTo>
                    <a:pt x="3528" y="938"/>
                  </a:lnTo>
                  <a:lnTo>
                    <a:pt x="3456" y="914"/>
                  </a:lnTo>
                  <a:lnTo>
                    <a:pt x="3381" y="888"/>
                  </a:lnTo>
                  <a:lnTo>
                    <a:pt x="3305" y="857"/>
                  </a:lnTo>
                  <a:lnTo>
                    <a:pt x="3227" y="824"/>
                  </a:lnTo>
                  <a:lnTo>
                    <a:pt x="3227" y="824"/>
                  </a:lnTo>
                  <a:lnTo>
                    <a:pt x="3072" y="756"/>
                  </a:lnTo>
                  <a:lnTo>
                    <a:pt x="2922" y="693"/>
                  </a:lnTo>
                  <a:lnTo>
                    <a:pt x="2777" y="635"/>
                  </a:lnTo>
                  <a:lnTo>
                    <a:pt x="2637" y="581"/>
                  </a:lnTo>
                  <a:lnTo>
                    <a:pt x="2502" y="533"/>
                  </a:lnTo>
                  <a:lnTo>
                    <a:pt x="2372" y="488"/>
                  </a:lnTo>
                  <a:lnTo>
                    <a:pt x="2245" y="447"/>
                  </a:lnTo>
                  <a:lnTo>
                    <a:pt x="2123" y="412"/>
                  </a:lnTo>
                  <a:lnTo>
                    <a:pt x="2005" y="381"/>
                  </a:lnTo>
                  <a:lnTo>
                    <a:pt x="1891" y="354"/>
                  </a:lnTo>
                  <a:lnTo>
                    <a:pt x="1782" y="331"/>
                  </a:lnTo>
                  <a:lnTo>
                    <a:pt x="1675" y="313"/>
                  </a:lnTo>
                  <a:lnTo>
                    <a:pt x="1572" y="297"/>
                  </a:lnTo>
                  <a:lnTo>
                    <a:pt x="1472" y="287"/>
                  </a:lnTo>
                  <a:lnTo>
                    <a:pt x="1375" y="279"/>
                  </a:lnTo>
                  <a:lnTo>
                    <a:pt x="1281" y="278"/>
                  </a:lnTo>
                  <a:lnTo>
                    <a:pt x="1187" y="278"/>
                  </a:lnTo>
                  <a:lnTo>
                    <a:pt x="1099" y="283"/>
                  </a:lnTo>
                  <a:lnTo>
                    <a:pt x="1011" y="291"/>
                  </a:lnTo>
                  <a:lnTo>
                    <a:pt x="926" y="302"/>
                  </a:lnTo>
                  <a:lnTo>
                    <a:pt x="843" y="317"/>
                  </a:lnTo>
                  <a:lnTo>
                    <a:pt x="761" y="336"/>
                  </a:lnTo>
                  <a:lnTo>
                    <a:pt x="682" y="357"/>
                  </a:lnTo>
                  <a:lnTo>
                    <a:pt x="603" y="383"/>
                  </a:lnTo>
                  <a:lnTo>
                    <a:pt x="525" y="410"/>
                  </a:lnTo>
                  <a:lnTo>
                    <a:pt x="449" y="441"/>
                  </a:lnTo>
                  <a:lnTo>
                    <a:pt x="372" y="476"/>
                  </a:lnTo>
                  <a:lnTo>
                    <a:pt x="298" y="514"/>
                  </a:lnTo>
                  <a:lnTo>
                    <a:pt x="224" y="554"/>
                  </a:lnTo>
                  <a:lnTo>
                    <a:pt x="149" y="596"/>
                  </a:lnTo>
                  <a:lnTo>
                    <a:pt x="75" y="643"/>
                  </a:lnTo>
                  <a:lnTo>
                    <a:pt x="0" y="691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9782000">
              <a:off x="1581840" y="-544320"/>
              <a:ext cx="11365560" cy="2271600"/>
            </a:xfrm>
            <a:custGeom>
              <a:avLst/>
              <a:gdLst/>
              <a:ahLst/>
              <a:rect l="l" t="t" r="r" b="b"/>
              <a:pathLst>
                <a:path w="5418" h="1059">
                  <a:moveTo>
                    <a:pt x="5418" y="0"/>
                  </a:moveTo>
                  <a:lnTo>
                    <a:pt x="5418" y="0"/>
                  </a:lnTo>
                  <a:lnTo>
                    <a:pt x="5411" y="18"/>
                  </a:lnTo>
                  <a:lnTo>
                    <a:pt x="5393" y="68"/>
                  </a:lnTo>
                  <a:lnTo>
                    <a:pt x="5377" y="102"/>
                  </a:lnTo>
                  <a:lnTo>
                    <a:pt x="5361" y="142"/>
                  </a:lnTo>
                  <a:lnTo>
                    <a:pt x="5339" y="189"/>
                  </a:lnTo>
                  <a:lnTo>
                    <a:pt x="5314" y="237"/>
                  </a:lnTo>
                  <a:lnTo>
                    <a:pt x="5284" y="292"/>
                  </a:lnTo>
                  <a:lnTo>
                    <a:pt x="5251" y="347"/>
                  </a:lnTo>
                  <a:lnTo>
                    <a:pt x="5214" y="407"/>
                  </a:lnTo>
                  <a:lnTo>
                    <a:pt x="5171" y="467"/>
                  </a:lnTo>
                  <a:lnTo>
                    <a:pt x="5125" y="526"/>
                  </a:lnTo>
                  <a:lnTo>
                    <a:pt x="5100" y="557"/>
                  </a:lnTo>
                  <a:lnTo>
                    <a:pt x="5073" y="588"/>
                  </a:lnTo>
                  <a:lnTo>
                    <a:pt x="5047" y="618"/>
                  </a:lnTo>
                  <a:lnTo>
                    <a:pt x="5018" y="647"/>
                  </a:lnTo>
                  <a:lnTo>
                    <a:pt x="4989" y="676"/>
                  </a:lnTo>
                  <a:lnTo>
                    <a:pt x="4958" y="706"/>
                  </a:lnTo>
                  <a:lnTo>
                    <a:pt x="4926" y="735"/>
                  </a:lnTo>
                  <a:lnTo>
                    <a:pt x="4893" y="762"/>
                  </a:lnTo>
                  <a:lnTo>
                    <a:pt x="4858" y="789"/>
                  </a:lnTo>
                  <a:lnTo>
                    <a:pt x="4822" y="817"/>
                  </a:lnTo>
                  <a:lnTo>
                    <a:pt x="4785" y="843"/>
                  </a:lnTo>
                  <a:lnTo>
                    <a:pt x="4746" y="867"/>
                  </a:lnTo>
                  <a:lnTo>
                    <a:pt x="4707" y="890"/>
                  </a:lnTo>
                  <a:lnTo>
                    <a:pt x="4665" y="912"/>
                  </a:lnTo>
                  <a:lnTo>
                    <a:pt x="4622" y="933"/>
                  </a:lnTo>
                  <a:lnTo>
                    <a:pt x="4579" y="954"/>
                  </a:lnTo>
                  <a:lnTo>
                    <a:pt x="4533" y="972"/>
                  </a:lnTo>
                  <a:lnTo>
                    <a:pt x="4486" y="990"/>
                  </a:lnTo>
                  <a:lnTo>
                    <a:pt x="4437" y="1004"/>
                  </a:lnTo>
                  <a:lnTo>
                    <a:pt x="4389" y="1019"/>
                  </a:lnTo>
                  <a:lnTo>
                    <a:pt x="4338" y="1030"/>
                  </a:lnTo>
                  <a:lnTo>
                    <a:pt x="4285" y="1040"/>
                  </a:lnTo>
                  <a:lnTo>
                    <a:pt x="4231" y="1048"/>
                  </a:lnTo>
                  <a:lnTo>
                    <a:pt x="4175" y="1054"/>
                  </a:lnTo>
                  <a:lnTo>
                    <a:pt x="4118" y="1058"/>
                  </a:lnTo>
                  <a:lnTo>
                    <a:pt x="4058" y="1059"/>
                  </a:lnTo>
                  <a:lnTo>
                    <a:pt x="3999" y="1059"/>
                  </a:lnTo>
                  <a:lnTo>
                    <a:pt x="3936" y="1056"/>
                  </a:lnTo>
                  <a:lnTo>
                    <a:pt x="3874" y="1049"/>
                  </a:lnTo>
                  <a:lnTo>
                    <a:pt x="3809" y="1041"/>
                  </a:lnTo>
                  <a:lnTo>
                    <a:pt x="3742" y="1032"/>
                  </a:lnTo>
                  <a:lnTo>
                    <a:pt x="3672" y="1017"/>
                  </a:lnTo>
                  <a:lnTo>
                    <a:pt x="3603" y="1001"/>
                  </a:lnTo>
                  <a:lnTo>
                    <a:pt x="3531" y="982"/>
                  </a:lnTo>
                  <a:lnTo>
                    <a:pt x="3459" y="959"/>
                  </a:lnTo>
                  <a:lnTo>
                    <a:pt x="3382" y="933"/>
                  </a:lnTo>
                  <a:lnTo>
                    <a:pt x="3306" y="906"/>
                  </a:lnTo>
                  <a:lnTo>
                    <a:pt x="3228" y="873"/>
                  </a:lnTo>
                  <a:lnTo>
                    <a:pt x="3228" y="873"/>
                  </a:lnTo>
                  <a:lnTo>
                    <a:pt x="3071" y="809"/>
                  </a:lnTo>
                  <a:lnTo>
                    <a:pt x="2920" y="748"/>
                  </a:lnTo>
                  <a:lnTo>
                    <a:pt x="2776" y="693"/>
                  </a:lnTo>
                  <a:lnTo>
                    <a:pt x="2634" y="641"/>
                  </a:lnTo>
                  <a:lnTo>
                    <a:pt x="2499" y="596"/>
                  </a:lnTo>
                  <a:lnTo>
                    <a:pt x="2367" y="552"/>
                  </a:lnTo>
                  <a:lnTo>
                    <a:pt x="2241" y="515"/>
                  </a:lnTo>
                  <a:lnTo>
                    <a:pt x="2119" y="483"/>
                  </a:lnTo>
                  <a:lnTo>
                    <a:pt x="2001" y="454"/>
                  </a:lnTo>
                  <a:lnTo>
                    <a:pt x="1886" y="428"/>
                  </a:lnTo>
                  <a:lnTo>
                    <a:pt x="1776" y="407"/>
                  </a:lnTo>
                  <a:lnTo>
                    <a:pt x="1669" y="391"/>
                  </a:lnTo>
                  <a:lnTo>
                    <a:pt x="1565" y="378"/>
                  </a:lnTo>
                  <a:lnTo>
                    <a:pt x="1465" y="370"/>
                  </a:lnTo>
                  <a:lnTo>
                    <a:pt x="1368" y="365"/>
                  </a:lnTo>
                  <a:lnTo>
                    <a:pt x="1273" y="363"/>
                  </a:lnTo>
                  <a:lnTo>
                    <a:pt x="1182" y="366"/>
                  </a:lnTo>
                  <a:lnTo>
                    <a:pt x="1091" y="371"/>
                  </a:lnTo>
                  <a:lnTo>
                    <a:pt x="1005" y="381"/>
                  </a:lnTo>
                  <a:lnTo>
                    <a:pt x="919" y="396"/>
                  </a:lnTo>
                  <a:lnTo>
                    <a:pt x="837" y="412"/>
                  </a:lnTo>
                  <a:lnTo>
                    <a:pt x="755" y="433"/>
                  </a:lnTo>
                  <a:lnTo>
                    <a:pt x="676" y="455"/>
                  </a:lnTo>
                  <a:lnTo>
                    <a:pt x="597" y="483"/>
                  </a:lnTo>
                  <a:lnTo>
                    <a:pt x="521" y="512"/>
                  </a:lnTo>
                  <a:lnTo>
                    <a:pt x="444" y="546"/>
                  </a:lnTo>
                  <a:lnTo>
                    <a:pt x="369" y="581"/>
                  </a:lnTo>
                  <a:lnTo>
                    <a:pt x="294" y="620"/>
                  </a:lnTo>
                  <a:lnTo>
                    <a:pt x="221" y="662"/>
                  </a:lnTo>
                  <a:lnTo>
                    <a:pt x="147" y="707"/>
                  </a:lnTo>
                  <a:lnTo>
                    <a:pt x="74" y="754"/>
                  </a:lnTo>
                  <a:lnTo>
                    <a:pt x="0" y="80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9782000">
              <a:off x="1604520" y="-683280"/>
              <a:ext cx="11336040" cy="2336760"/>
            </a:xfrm>
            <a:custGeom>
              <a:avLst/>
              <a:gdLst/>
              <a:ahLst/>
              <a:rect l="l" t="t" r="r" b="b"/>
              <a:pathLst>
                <a:path w="5404" h="1092">
                  <a:moveTo>
                    <a:pt x="5404" y="0"/>
                  </a:moveTo>
                  <a:lnTo>
                    <a:pt x="5404" y="0"/>
                  </a:lnTo>
                  <a:lnTo>
                    <a:pt x="5398" y="18"/>
                  </a:lnTo>
                  <a:lnTo>
                    <a:pt x="5380" y="68"/>
                  </a:lnTo>
                  <a:lnTo>
                    <a:pt x="5366" y="104"/>
                  </a:lnTo>
                  <a:lnTo>
                    <a:pt x="5350" y="144"/>
                  </a:lnTo>
                  <a:lnTo>
                    <a:pt x="5329" y="191"/>
                  </a:lnTo>
                  <a:lnTo>
                    <a:pt x="5304" y="241"/>
                  </a:lnTo>
                  <a:lnTo>
                    <a:pt x="5275" y="294"/>
                  </a:lnTo>
                  <a:lnTo>
                    <a:pt x="5243" y="352"/>
                  </a:lnTo>
                  <a:lnTo>
                    <a:pt x="5207" y="412"/>
                  </a:lnTo>
                  <a:lnTo>
                    <a:pt x="5165" y="473"/>
                  </a:lnTo>
                  <a:lnTo>
                    <a:pt x="5119" y="535"/>
                  </a:lnTo>
                  <a:lnTo>
                    <a:pt x="5096" y="566"/>
                  </a:lnTo>
                  <a:lnTo>
                    <a:pt x="5069" y="596"/>
                  </a:lnTo>
                  <a:lnTo>
                    <a:pt x="5043" y="627"/>
                  </a:lnTo>
                  <a:lnTo>
                    <a:pt x="5015" y="658"/>
                  </a:lnTo>
                  <a:lnTo>
                    <a:pt x="4986" y="688"/>
                  </a:lnTo>
                  <a:lnTo>
                    <a:pt x="4955" y="719"/>
                  </a:lnTo>
                  <a:lnTo>
                    <a:pt x="4924" y="748"/>
                  </a:lnTo>
                  <a:lnTo>
                    <a:pt x="4892" y="777"/>
                  </a:lnTo>
                  <a:lnTo>
                    <a:pt x="4857" y="805"/>
                  </a:lnTo>
                  <a:lnTo>
                    <a:pt x="4821" y="832"/>
                  </a:lnTo>
                  <a:lnTo>
                    <a:pt x="4785" y="858"/>
                  </a:lnTo>
                  <a:lnTo>
                    <a:pt x="4746" y="884"/>
                  </a:lnTo>
                  <a:lnTo>
                    <a:pt x="4707" y="908"/>
                  </a:lnTo>
                  <a:lnTo>
                    <a:pt x="4667" y="932"/>
                  </a:lnTo>
                  <a:lnTo>
                    <a:pt x="4624" y="955"/>
                  </a:lnTo>
                  <a:lnTo>
                    <a:pt x="4581" y="974"/>
                  </a:lnTo>
                  <a:lnTo>
                    <a:pt x="4535" y="995"/>
                  </a:lnTo>
                  <a:lnTo>
                    <a:pt x="4489" y="1013"/>
                  </a:lnTo>
                  <a:lnTo>
                    <a:pt x="4440" y="1029"/>
                  </a:lnTo>
                  <a:lnTo>
                    <a:pt x="4390" y="1043"/>
                  </a:lnTo>
                  <a:lnTo>
                    <a:pt x="4340" y="1056"/>
                  </a:lnTo>
                  <a:lnTo>
                    <a:pt x="4288" y="1068"/>
                  </a:lnTo>
                  <a:lnTo>
                    <a:pt x="4233" y="1076"/>
                  </a:lnTo>
                  <a:lnTo>
                    <a:pt x="4178" y="1084"/>
                  </a:lnTo>
                  <a:lnTo>
                    <a:pt x="4121" y="1089"/>
                  </a:lnTo>
                  <a:lnTo>
                    <a:pt x="4063" y="1092"/>
                  </a:lnTo>
                  <a:lnTo>
                    <a:pt x="4002" y="1092"/>
                  </a:lnTo>
                  <a:lnTo>
                    <a:pt x="3941" y="1090"/>
                  </a:lnTo>
                  <a:lnTo>
                    <a:pt x="3877" y="1085"/>
                  </a:lnTo>
                  <a:lnTo>
                    <a:pt x="3811" y="1079"/>
                  </a:lnTo>
                  <a:lnTo>
                    <a:pt x="3745" y="1069"/>
                  </a:lnTo>
                  <a:lnTo>
                    <a:pt x="3675" y="1058"/>
                  </a:lnTo>
                  <a:lnTo>
                    <a:pt x="3606" y="1042"/>
                  </a:lnTo>
                  <a:lnTo>
                    <a:pt x="3534" y="1024"/>
                  </a:lnTo>
                  <a:lnTo>
                    <a:pt x="3460" y="1003"/>
                  </a:lnTo>
                  <a:lnTo>
                    <a:pt x="3384" y="979"/>
                  </a:lnTo>
                  <a:lnTo>
                    <a:pt x="3307" y="951"/>
                  </a:lnTo>
                  <a:lnTo>
                    <a:pt x="3228" y="921"/>
                  </a:lnTo>
                  <a:lnTo>
                    <a:pt x="3228" y="921"/>
                  </a:lnTo>
                  <a:lnTo>
                    <a:pt x="3071" y="859"/>
                  </a:lnTo>
                  <a:lnTo>
                    <a:pt x="2919" y="801"/>
                  </a:lnTo>
                  <a:lnTo>
                    <a:pt x="2773" y="750"/>
                  </a:lnTo>
                  <a:lnTo>
                    <a:pt x="2631" y="701"/>
                  </a:lnTo>
                  <a:lnTo>
                    <a:pt x="2495" y="656"/>
                  </a:lnTo>
                  <a:lnTo>
                    <a:pt x="2363" y="617"/>
                  </a:lnTo>
                  <a:lnTo>
                    <a:pt x="2237" y="582"/>
                  </a:lnTo>
                  <a:lnTo>
                    <a:pt x="2113" y="551"/>
                  </a:lnTo>
                  <a:lnTo>
                    <a:pt x="1995" y="524"/>
                  </a:lnTo>
                  <a:lnTo>
                    <a:pt x="1880" y="501"/>
                  </a:lnTo>
                  <a:lnTo>
                    <a:pt x="1769" y="483"/>
                  </a:lnTo>
                  <a:lnTo>
                    <a:pt x="1662" y="469"/>
                  </a:lnTo>
                  <a:lnTo>
                    <a:pt x="1558" y="457"/>
                  </a:lnTo>
                  <a:lnTo>
                    <a:pt x="1458" y="451"/>
                  </a:lnTo>
                  <a:lnTo>
                    <a:pt x="1361" y="448"/>
                  </a:lnTo>
                  <a:lnTo>
                    <a:pt x="1266" y="448"/>
                  </a:lnTo>
                  <a:lnTo>
                    <a:pt x="1175" y="453"/>
                  </a:lnTo>
                  <a:lnTo>
                    <a:pt x="1085" y="461"/>
                  </a:lnTo>
                  <a:lnTo>
                    <a:pt x="998" y="472"/>
                  </a:lnTo>
                  <a:lnTo>
                    <a:pt x="914" y="488"/>
                  </a:lnTo>
                  <a:lnTo>
                    <a:pt x="830" y="506"/>
                  </a:lnTo>
                  <a:lnTo>
                    <a:pt x="750" y="528"/>
                  </a:lnTo>
                  <a:lnTo>
                    <a:pt x="671" y="553"/>
                  </a:lnTo>
                  <a:lnTo>
                    <a:pt x="593" y="582"/>
                  </a:lnTo>
                  <a:lnTo>
                    <a:pt x="517" y="614"/>
                  </a:lnTo>
                  <a:lnTo>
                    <a:pt x="440" y="648"/>
                  </a:lnTo>
                  <a:lnTo>
                    <a:pt x="365" y="687"/>
                  </a:lnTo>
                  <a:lnTo>
                    <a:pt x="292" y="727"/>
                  </a:lnTo>
                  <a:lnTo>
                    <a:pt x="218" y="771"/>
                  </a:lnTo>
                  <a:lnTo>
                    <a:pt x="146" y="817"/>
                  </a:lnTo>
                  <a:lnTo>
                    <a:pt x="72" y="866"/>
                  </a:lnTo>
                  <a:lnTo>
                    <a:pt x="0" y="9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9782000">
              <a:off x="1631160" y="-828360"/>
              <a:ext cx="11306880" cy="2409840"/>
            </a:xfrm>
            <a:custGeom>
              <a:avLst/>
              <a:gdLst/>
              <a:ahLst/>
              <a:rect l="l" t="t" r="r" b="b"/>
              <a:pathLst>
                <a:path w="5390" h="1126">
                  <a:moveTo>
                    <a:pt x="5390" y="0"/>
                  </a:moveTo>
                  <a:lnTo>
                    <a:pt x="5390" y="0"/>
                  </a:lnTo>
                  <a:lnTo>
                    <a:pt x="5384" y="18"/>
                  </a:lnTo>
                  <a:lnTo>
                    <a:pt x="5366" y="70"/>
                  </a:lnTo>
                  <a:lnTo>
                    <a:pt x="5353" y="105"/>
                  </a:lnTo>
                  <a:lnTo>
                    <a:pt x="5337" y="147"/>
                  </a:lnTo>
                  <a:lnTo>
                    <a:pt x="5316" y="192"/>
                  </a:lnTo>
                  <a:lnTo>
                    <a:pt x="5292" y="244"/>
                  </a:lnTo>
                  <a:lnTo>
                    <a:pt x="5265" y="299"/>
                  </a:lnTo>
                  <a:lnTo>
                    <a:pt x="5233" y="357"/>
                  </a:lnTo>
                  <a:lnTo>
                    <a:pt x="5198" y="418"/>
                  </a:lnTo>
                  <a:lnTo>
                    <a:pt x="5158" y="480"/>
                  </a:lnTo>
                  <a:lnTo>
                    <a:pt x="5113" y="544"/>
                  </a:lnTo>
                  <a:lnTo>
                    <a:pt x="5088" y="575"/>
                  </a:lnTo>
                  <a:lnTo>
                    <a:pt x="5063" y="607"/>
                  </a:lnTo>
                  <a:lnTo>
                    <a:pt x="5037" y="638"/>
                  </a:lnTo>
                  <a:lnTo>
                    <a:pt x="5011" y="670"/>
                  </a:lnTo>
                  <a:lnTo>
                    <a:pt x="4981" y="701"/>
                  </a:lnTo>
                  <a:lnTo>
                    <a:pt x="4951" y="732"/>
                  </a:lnTo>
                  <a:lnTo>
                    <a:pt x="4920" y="762"/>
                  </a:lnTo>
                  <a:lnTo>
                    <a:pt x="4888" y="791"/>
                  </a:lnTo>
                  <a:lnTo>
                    <a:pt x="4854" y="821"/>
                  </a:lnTo>
                  <a:lnTo>
                    <a:pt x="4819" y="848"/>
                  </a:lnTo>
                  <a:lnTo>
                    <a:pt x="4783" y="875"/>
                  </a:lnTo>
                  <a:lnTo>
                    <a:pt x="4745" y="903"/>
                  </a:lnTo>
                  <a:lnTo>
                    <a:pt x="4705" y="927"/>
                  </a:lnTo>
                  <a:lnTo>
                    <a:pt x="4665" y="951"/>
                  </a:lnTo>
                  <a:lnTo>
                    <a:pt x="4623" y="976"/>
                  </a:lnTo>
                  <a:lnTo>
                    <a:pt x="4580" y="997"/>
                  </a:lnTo>
                  <a:lnTo>
                    <a:pt x="4534" y="1018"/>
                  </a:lnTo>
                  <a:lnTo>
                    <a:pt x="4488" y="1037"/>
                  </a:lnTo>
                  <a:lnTo>
                    <a:pt x="4441" y="1053"/>
                  </a:lnTo>
                  <a:lnTo>
                    <a:pt x="4391" y="1069"/>
                  </a:lnTo>
                  <a:lnTo>
                    <a:pt x="4341" y="1084"/>
                  </a:lnTo>
                  <a:lnTo>
                    <a:pt x="4289" y="1095"/>
                  </a:lnTo>
                  <a:lnTo>
                    <a:pt x="4234" y="1106"/>
                  </a:lnTo>
                  <a:lnTo>
                    <a:pt x="4179" y="1114"/>
                  </a:lnTo>
                  <a:lnTo>
                    <a:pt x="4122" y="1121"/>
                  </a:lnTo>
                  <a:lnTo>
                    <a:pt x="4064" y="1124"/>
                  </a:lnTo>
                  <a:lnTo>
                    <a:pt x="4004" y="1126"/>
                  </a:lnTo>
                  <a:lnTo>
                    <a:pt x="3941" y="1126"/>
                  </a:lnTo>
                  <a:lnTo>
                    <a:pt x="3878" y="1122"/>
                  </a:lnTo>
                  <a:lnTo>
                    <a:pt x="3812" y="1118"/>
                  </a:lnTo>
                  <a:lnTo>
                    <a:pt x="3746" y="1110"/>
                  </a:lnTo>
                  <a:lnTo>
                    <a:pt x="3676" y="1098"/>
                  </a:lnTo>
                  <a:lnTo>
                    <a:pt x="3607" y="1084"/>
                  </a:lnTo>
                  <a:lnTo>
                    <a:pt x="3535" y="1068"/>
                  </a:lnTo>
                  <a:lnTo>
                    <a:pt x="3460" y="1048"/>
                  </a:lnTo>
                  <a:lnTo>
                    <a:pt x="3385" y="1026"/>
                  </a:lnTo>
                  <a:lnTo>
                    <a:pt x="3307" y="1000"/>
                  </a:lnTo>
                  <a:lnTo>
                    <a:pt x="3228" y="971"/>
                  </a:lnTo>
                  <a:lnTo>
                    <a:pt x="3228" y="971"/>
                  </a:lnTo>
                  <a:lnTo>
                    <a:pt x="3069" y="911"/>
                  </a:lnTo>
                  <a:lnTo>
                    <a:pt x="2917" y="856"/>
                  </a:lnTo>
                  <a:lnTo>
                    <a:pt x="2770" y="806"/>
                  </a:lnTo>
                  <a:lnTo>
                    <a:pt x="2628" y="761"/>
                  </a:lnTo>
                  <a:lnTo>
                    <a:pt x="2491" y="719"/>
                  </a:lnTo>
                  <a:lnTo>
                    <a:pt x="2359" y="682"/>
                  </a:lnTo>
                  <a:lnTo>
                    <a:pt x="2231" y="649"/>
                  </a:lnTo>
                  <a:lnTo>
                    <a:pt x="2107" y="620"/>
                  </a:lnTo>
                  <a:lnTo>
                    <a:pt x="1988" y="596"/>
                  </a:lnTo>
                  <a:lnTo>
                    <a:pt x="1873" y="575"/>
                  </a:lnTo>
                  <a:lnTo>
                    <a:pt x="1762" y="559"/>
                  </a:lnTo>
                  <a:lnTo>
                    <a:pt x="1655" y="548"/>
                  </a:lnTo>
                  <a:lnTo>
                    <a:pt x="1551" y="538"/>
                  </a:lnTo>
                  <a:lnTo>
                    <a:pt x="1451" y="533"/>
                  </a:lnTo>
                  <a:lnTo>
                    <a:pt x="1353" y="533"/>
                  </a:lnTo>
                  <a:lnTo>
                    <a:pt x="1259" y="535"/>
                  </a:lnTo>
                  <a:lnTo>
                    <a:pt x="1166" y="541"/>
                  </a:lnTo>
                  <a:lnTo>
                    <a:pt x="1077" y="551"/>
                  </a:lnTo>
                  <a:lnTo>
                    <a:pt x="991" y="565"/>
                  </a:lnTo>
                  <a:lnTo>
                    <a:pt x="906" y="582"/>
                  </a:lnTo>
                  <a:lnTo>
                    <a:pt x="824" y="603"/>
                  </a:lnTo>
                  <a:lnTo>
                    <a:pt x="744" y="625"/>
                  </a:lnTo>
                  <a:lnTo>
                    <a:pt x="665" y="653"/>
                  </a:lnTo>
                  <a:lnTo>
                    <a:pt x="587" y="683"/>
                  </a:lnTo>
                  <a:lnTo>
                    <a:pt x="511" y="716"/>
                  </a:lnTo>
                  <a:lnTo>
                    <a:pt x="436" y="753"/>
                  </a:lnTo>
                  <a:lnTo>
                    <a:pt x="362" y="791"/>
                  </a:lnTo>
                  <a:lnTo>
                    <a:pt x="288" y="835"/>
                  </a:lnTo>
                  <a:lnTo>
                    <a:pt x="216" y="880"/>
                  </a:lnTo>
                  <a:lnTo>
                    <a:pt x="144" y="929"/>
                  </a:lnTo>
                  <a:lnTo>
                    <a:pt x="72" y="979"/>
                  </a:lnTo>
                  <a:lnTo>
                    <a:pt x="0" y="103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9782000">
              <a:off x="1660320" y="-973440"/>
              <a:ext cx="11271240" cy="2486520"/>
            </a:xfrm>
            <a:custGeom>
              <a:avLst/>
              <a:gdLst/>
              <a:ahLst/>
              <a:rect l="l" t="t" r="r" b="b"/>
              <a:pathLst>
                <a:path w="5373" h="1159">
                  <a:moveTo>
                    <a:pt x="5373" y="0"/>
                  </a:moveTo>
                  <a:lnTo>
                    <a:pt x="5373" y="0"/>
                  </a:lnTo>
                  <a:lnTo>
                    <a:pt x="5367" y="18"/>
                  </a:lnTo>
                  <a:lnTo>
                    <a:pt x="5351" y="69"/>
                  </a:lnTo>
                  <a:lnTo>
                    <a:pt x="5338" y="105"/>
                  </a:lnTo>
                  <a:lnTo>
                    <a:pt x="5323" y="147"/>
                  </a:lnTo>
                  <a:lnTo>
                    <a:pt x="5303" y="194"/>
                  </a:lnTo>
                  <a:lnTo>
                    <a:pt x="5280" y="247"/>
                  </a:lnTo>
                  <a:lnTo>
                    <a:pt x="5253" y="302"/>
                  </a:lnTo>
                  <a:lnTo>
                    <a:pt x="5221" y="361"/>
                  </a:lnTo>
                  <a:lnTo>
                    <a:pt x="5187" y="423"/>
                  </a:lnTo>
                  <a:lnTo>
                    <a:pt x="5148" y="486"/>
                  </a:lnTo>
                  <a:lnTo>
                    <a:pt x="5105" y="550"/>
                  </a:lnTo>
                  <a:lnTo>
                    <a:pt x="5081" y="583"/>
                  </a:lnTo>
                  <a:lnTo>
                    <a:pt x="5056" y="615"/>
                  </a:lnTo>
                  <a:lnTo>
                    <a:pt x="5031" y="647"/>
                  </a:lnTo>
                  <a:lnTo>
                    <a:pt x="5003" y="680"/>
                  </a:lnTo>
                  <a:lnTo>
                    <a:pt x="4976" y="712"/>
                  </a:lnTo>
                  <a:lnTo>
                    <a:pt x="4947" y="743"/>
                  </a:lnTo>
                  <a:lnTo>
                    <a:pt x="4916" y="773"/>
                  </a:lnTo>
                  <a:lnTo>
                    <a:pt x="4883" y="804"/>
                  </a:lnTo>
                  <a:lnTo>
                    <a:pt x="4849" y="833"/>
                  </a:lnTo>
                  <a:lnTo>
                    <a:pt x="4815" y="862"/>
                  </a:lnTo>
                  <a:lnTo>
                    <a:pt x="4780" y="891"/>
                  </a:lnTo>
                  <a:lnTo>
                    <a:pt x="4742" y="919"/>
                  </a:lnTo>
                  <a:lnTo>
                    <a:pt x="4704" y="944"/>
                  </a:lnTo>
                  <a:lnTo>
                    <a:pt x="4663" y="970"/>
                  </a:lnTo>
                  <a:lnTo>
                    <a:pt x="4622" y="994"/>
                  </a:lnTo>
                  <a:lnTo>
                    <a:pt x="4579" y="1017"/>
                  </a:lnTo>
                  <a:lnTo>
                    <a:pt x="4534" y="1038"/>
                  </a:lnTo>
                  <a:lnTo>
                    <a:pt x="4488" y="1057"/>
                  </a:lnTo>
                  <a:lnTo>
                    <a:pt x="4441" y="1077"/>
                  </a:lnTo>
                  <a:lnTo>
                    <a:pt x="4391" y="1093"/>
                  </a:lnTo>
                  <a:lnTo>
                    <a:pt x="4341" y="1109"/>
                  </a:lnTo>
                  <a:lnTo>
                    <a:pt x="4288" y="1122"/>
                  </a:lnTo>
                  <a:lnTo>
                    <a:pt x="4236" y="1133"/>
                  </a:lnTo>
                  <a:lnTo>
                    <a:pt x="4180" y="1143"/>
                  </a:lnTo>
                  <a:lnTo>
                    <a:pt x="4123" y="1149"/>
                  </a:lnTo>
                  <a:lnTo>
                    <a:pt x="4065" y="1156"/>
                  </a:lnTo>
                  <a:lnTo>
                    <a:pt x="4004" y="1159"/>
                  </a:lnTo>
                  <a:lnTo>
                    <a:pt x="3943" y="1159"/>
                  </a:lnTo>
                  <a:lnTo>
                    <a:pt x="3879" y="1157"/>
                  </a:lnTo>
                  <a:lnTo>
                    <a:pt x="3814" y="1153"/>
                  </a:lnTo>
                  <a:lnTo>
                    <a:pt x="3746" y="1146"/>
                  </a:lnTo>
                  <a:lnTo>
                    <a:pt x="3677" y="1136"/>
                  </a:lnTo>
                  <a:lnTo>
                    <a:pt x="3607" y="1124"/>
                  </a:lnTo>
                  <a:lnTo>
                    <a:pt x="3534" y="1109"/>
                  </a:lnTo>
                  <a:lnTo>
                    <a:pt x="3460" y="1091"/>
                  </a:lnTo>
                  <a:lnTo>
                    <a:pt x="3383" y="1070"/>
                  </a:lnTo>
                  <a:lnTo>
                    <a:pt x="3305" y="1044"/>
                  </a:lnTo>
                  <a:lnTo>
                    <a:pt x="3226" y="1017"/>
                  </a:lnTo>
                  <a:lnTo>
                    <a:pt x="3226" y="1017"/>
                  </a:lnTo>
                  <a:lnTo>
                    <a:pt x="3067" y="960"/>
                  </a:lnTo>
                  <a:lnTo>
                    <a:pt x="2914" y="909"/>
                  </a:lnTo>
                  <a:lnTo>
                    <a:pt x="2765" y="862"/>
                  </a:lnTo>
                  <a:lnTo>
                    <a:pt x="2622" y="818"/>
                  </a:lnTo>
                  <a:lnTo>
                    <a:pt x="2485" y="780"/>
                  </a:lnTo>
                  <a:lnTo>
                    <a:pt x="2353" y="746"/>
                  </a:lnTo>
                  <a:lnTo>
                    <a:pt x="2224" y="715"/>
                  </a:lnTo>
                  <a:lnTo>
                    <a:pt x="2100" y="689"/>
                  </a:lnTo>
                  <a:lnTo>
                    <a:pt x="1981" y="667"/>
                  </a:lnTo>
                  <a:lnTo>
                    <a:pt x="1866" y="649"/>
                  </a:lnTo>
                  <a:lnTo>
                    <a:pt x="1755" y="634"/>
                  </a:lnTo>
                  <a:lnTo>
                    <a:pt x="1648" y="625"/>
                  </a:lnTo>
                  <a:lnTo>
                    <a:pt x="1543" y="617"/>
                  </a:lnTo>
                  <a:lnTo>
                    <a:pt x="1442" y="615"/>
                  </a:lnTo>
                  <a:lnTo>
                    <a:pt x="1345" y="615"/>
                  </a:lnTo>
                  <a:lnTo>
                    <a:pt x="1251" y="620"/>
                  </a:lnTo>
                  <a:lnTo>
                    <a:pt x="1159" y="628"/>
                  </a:lnTo>
                  <a:lnTo>
                    <a:pt x="1070" y="641"/>
                  </a:lnTo>
                  <a:lnTo>
                    <a:pt x="984" y="655"/>
                  </a:lnTo>
                  <a:lnTo>
                    <a:pt x="899" y="675"/>
                  </a:lnTo>
                  <a:lnTo>
                    <a:pt x="817" y="696"/>
                  </a:lnTo>
                  <a:lnTo>
                    <a:pt x="737" y="722"/>
                  </a:lnTo>
                  <a:lnTo>
                    <a:pt x="659" y="751"/>
                  </a:lnTo>
                  <a:lnTo>
                    <a:pt x="581" y="783"/>
                  </a:lnTo>
                  <a:lnTo>
                    <a:pt x="506" y="817"/>
                  </a:lnTo>
                  <a:lnTo>
                    <a:pt x="431" y="856"/>
                  </a:lnTo>
                  <a:lnTo>
                    <a:pt x="358" y="896"/>
                  </a:lnTo>
                  <a:lnTo>
                    <a:pt x="286" y="941"/>
                  </a:lnTo>
                  <a:lnTo>
                    <a:pt x="213" y="988"/>
                  </a:lnTo>
                  <a:lnTo>
                    <a:pt x="143" y="1038"/>
                  </a:lnTo>
                  <a:lnTo>
                    <a:pt x="70" y="1090"/>
                  </a:lnTo>
                  <a:lnTo>
                    <a:pt x="0" y="114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" name=""/>
            <p:cNvSpPr/>
            <p:nvPr/>
          </p:nvSpPr>
          <p:spPr>
            <a:xfrm rot="19782000">
              <a:off x="1728360" y="-1127880"/>
              <a:ext cx="11233080" cy="2704320"/>
            </a:xfrm>
            <a:custGeom>
              <a:avLst/>
              <a:gdLst/>
              <a:ahLst/>
              <a:rect l="l" t="t" r="r" b="b"/>
              <a:pathLst>
                <a:path w="5355" h="1261">
                  <a:moveTo>
                    <a:pt x="5355" y="0"/>
                  </a:moveTo>
                  <a:lnTo>
                    <a:pt x="5355" y="0"/>
                  </a:lnTo>
                  <a:lnTo>
                    <a:pt x="5349" y="19"/>
                  </a:lnTo>
                  <a:lnTo>
                    <a:pt x="5334" y="71"/>
                  </a:lnTo>
                  <a:lnTo>
                    <a:pt x="5322" y="106"/>
                  </a:lnTo>
                  <a:lnTo>
                    <a:pt x="5306" y="150"/>
                  </a:lnTo>
                  <a:lnTo>
                    <a:pt x="5288" y="197"/>
                  </a:lnTo>
                  <a:lnTo>
                    <a:pt x="5266" y="250"/>
                  </a:lnTo>
                  <a:lnTo>
                    <a:pt x="5240" y="306"/>
                  </a:lnTo>
                  <a:lnTo>
                    <a:pt x="5209" y="366"/>
                  </a:lnTo>
                  <a:lnTo>
                    <a:pt x="5176" y="429"/>
                  </a:lnTo>
                  <a:lnTo>
                    <a:pt x="5138" y="494"/>
                  </a:lnTo>
                  <a:lnTo>
                    <a:pt x="5095" y="560"/>
                  </a:lnTo>
                  <a:lnTo>
                    <a:pt x="5072" y="592"/>
                  </a:lnTo>
                  <a:lnTo>
                    <a:pt x="5048" y="625"/>
                  </a:lnTo>
                  <a:lnTo>
                    <a:pt x="5023" y="658"/>
                  </a:lnTo>
                  <a:lnTo>
                    <a:pt x="4997" y="691"/>
                  </a:lnTo>
                  <a:lnTo>
                    <a:pt x="4969" y="723"/>
                  </a:lnTo>
                  <a:lnTo>
                    <a:pt x="4940" y="755"/>
                  </a:lnTo>
                  <a:lnTo>
                    <a:pt x="4909" y="788"/>
                  </a:lnTo>
                  <a:lnTo>
                    <a:pt x="4877" y="818"/>
                  </a:lnTo>
                  <a:lnTo>
                    <a:pt x="4845" y="849"/>
                  </a:lnTo>
                  <a:lnTo>
                    <a:pt x="4811" y="880"/>
                  </a:lnTo>
                  <a:lnTo>
                    <a:pt x="4775" y="909"/>
                  </a:lnTo>
                  <a:lnTo>
                    <a:pt x="4739" y="936"/>
                  </a:lnTo>
                  <a:lnTo>
                    <a:pt x="4700" y="964"/>
                  </a:lnTo>
                  <a:lnTo>
                    <a:pt x="4661" y="989"/>
                  </a:lnTo>
                  <a:lnTo>
                    <a:pt x="4619" y="1015"/>
                  </a:lnTo>
                  <a:lnTo>
                    <a:pt x="4576" y="1038"/>
                  </a:lnTo>
                  <a:lnTo>
                    <a:pt x="4532" y="1060"/>
                  </a:lnTo>
                  <a:lnTo>
                    <a:pt x="4486" y="1081"/>
                  </a:lnTo>
                  <a:lnTo>
                    <a:pt x="4439" y="1101"/>
                  </a:lnTo>
                  <a:lnTo>
                    <a:pt x="4390" y="1119"/>
                  </a:lnTo>
                  <a:lnTo>
                    <a:pt x="4340" y="1135"/>
                  </a:lnTo>
                  <a:lnTo>
                    <a:pt x="4289" y="1149"/>
                  </a:lnTo>
                  <a:lnTo>
                    <a:pt x="4235" y="1162"/>
                  </a:lnTo>
                  <a:lnTo>
                    <a:pt x="4179" y="1173"/>
                  </a:lnTo>
                  <a:lnTo>
                    <a:pt x="4123" y="1182"/>
                  </a:lnTo>
                  <a:lnTo>
                    <a:pt x="4064" y="1188"/>
                  </a:lnTo>
                  <a:lnTo>
                    <a:pt x="4004" y="1193"/>
                  </a:lnTo>
                  <a:lnTo>
                    <a:pt x="3942" y="1194"/>
                  </a:lnTo>
                  <a:lnTo>
                    <a:pt x="3879" y="1194"/>
                  </a:lnTo>
                  <a:lnTo>
                    <a:pt x="3814" y="1191"/>
                  </a:lnTo>
                  <a:lnTo>
                    <a:pt x="3746" y="1185"/>
                  </a:lnTo>
                  <a:lnTo>
                    <a:pt x="3676" y="1177"/>
                  </a:lnTo>
                  <a:lnTo>
                    <a:pt x="3606" y="1165"/>
                  </a:lnTo>
                  <a:lnTo>
                    <a:pt x="3533" y="1153"/>
                  </a:lnTo>
                  <a:lnTo>
                    <a:pt x="3458" y="1136"/>
                  </a:lnTo>
                  <a:lnTo>
                    <a:pt x="3382" y="1115"/>
                  </a:lnTo>
                  <a:lnTo>
                    <a:pt x="3304" y="1093"/>
                  </a:lnTo>
                  <a:lnTo>
                    <a:pt x="3224" y="1067"/>
                  </a:lnTo>
                  <a:lnTo>
                    <a:pt x="3224" y="1067"/>
                  </a:lnTo>
                  <a:lnTo>
                    <a:pt x="3064" y="1014"/>
                  </a:lnTo>
                  <a:lnTo>
                    <a:pt x="2910" y="965"/>
                  </a:lnTo>
                  <a:lnTo>
                    <a:pt x="2761" y="920"/>
                  </a:lnTo>
                  <a:lnTo>
                    <a:pt x="2618" y="880"/>
                  </a:lnTo>
                  <a:lnTo>
                    <a:pt x="2480" y="842"/>
                  </a:lnTo>
                  <a:lnTo>
                    <a:pt x="2346" y="812"/>
                  </a:lnTo>
                  <a:lnTo>
                    <a:pt x="2219" y="783"/>
                  </a:lnTo>
                  <a:lnTo>
                    <a:pt x="2094" y="760"/>
                  </a:lnTo>
                  <a:lnTo>
                    <a:pt x="1974" y="739"/>
                  </a:lnTo>
                  <a:lnTo>
                    <a:pt x="1859" y="723"/>
                  </a:lnTo>
                  <a:lnTo>
                    <a:pt x="1746" y="712"/>
                  </a:lnTo>
                  <a:lnTo>
                    <a:pt x="1640" y="704"/>
                  </a:lnTo>
                  <a:lnTo>
                    <a:pt x="1535" y="699"/>
                  </a:lnTo>
                  <a:lnTo>
                    <a:pt x="1434" y="699"/>
                  </a:lnTo>
                  <a:lnTo>
                    <a:pt x="1337" y="700"/>
                  </a:lnTo>
                  <a:lnTo>
                    <a:pt x="1242" y="707"/>
                  </a:lnTo>
                  <a:lnTo>
                    <a:pt x="1151" y="718"/>
                  </a:lnTo>
                  <a:lnTo>
                    <a:pt x="1063" y="731"/>
                  </a:lnTo>
                  <a:lnTo>
                    <a:pt x="976" y="749"/>
                  </a:lnTo>
                  <a:lnTo>
                    <a:pt x="893" y="768"/>
                  </a:lnTo>
                  <a:lnTo>
                    <a:pt x="811" y="792"/>
                  </a:lnTo>
                  <a:lnTo>
                    <a:pt x="732" y="820"/>
                  </a:lnTo>
                  <a:lnTo>
                    <a:pt x="652" y="851"/>
                  </a:lnTo>
                  <a:lnTo>
                    <a:pt x="576" y="884"/>
                  </a:lnTo>
                  <a:lnTo>
                    <a:pt x="501" y="920"/>
                  </a:lnTo>
                  <a:lnTo>
                    <a:pt x="427" y="960"/>
                  </a:lnTo>
                  <a:lnTo>
                    <a:pt x="355" y="1004"/>
                  </a:lnTo>
                  <a:lnTo>
                    <a:pt x="283" y="1049"/>
                  </a:lnTo>
                  <a:lnTo>
                    <a:pt x="212" y="1098"/>
                  </a:lnTo>
                  <a:lnTo>
                    <a:pt x="141" y="1149"/>
                  </a:lnTo>
                  <a:lnTo>
                    <a:pt x="71" y="1204"/>
                  </a:lnTo>
                  <a:lnTo>
                    <a:pt x="0" y="1261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9782000">
              <a:off x="1806480" y="-1281240"/>
              <a:ext cx="11191320" cy="2949480"/>
            </a:xfrm>
            <a:custGeom>
              <a:avLst/>
              <a:gdLst/>
              <a:ahLst/>
              <a:rect l="l" t="t" r="r" b="b"/>
              <a:pathLst>
                <a:path w="5335" h="1376">
                  <a:moveTo>
                    <a:pt x="5335" y="0"/>
                  </a:moveTo>
                  <a:lnTo>
                    <a:pt x="5335" y="0"/>
                  </a:lnTo>
                  <a:lnTo>
                    <a:pt x="5331" y="18"/>
                  </a:lnTo>
                  <a:lnTo>
                    <a:pt x="5315" y="71"/>
                  </a:lnTo>
                  <a:lnTo>
                    <a:pt x="5304" y="107"/>
                  </a:lnTo>
                  <a:lnTo>
                    <a:pt x="5289" y="150"/>
                  </a:lnTo>
                  <a:lnTo>
                    <a:pt x="5271" y="199"/>
                  </a:lnTo>
                  <a:lnTo>
                    <a:pt x="5250" y="252"/>
                  </a:lnTo>
                  <a:lnTo>
                    <a:pt x="5225" y="310"/>
                  </a:lnTo>
                  <a:lnTo>
                    <a:pt x="5196" y="371"/>
                  </a:lnTo>
                  <a:lnTo>
                    <a:pt x="5163" y="434"/>
                  </a:lnTo>
                  <a:lnTo>
                    <a:pt x="5127" y="501"/>
                  </a:lnTo>
                  <a:lnTo>
                    <a:pt x="5085" y="567"/>
                  </a:lnTo>
                  <a:lnTo>
                    <a:pt x="5061" y="601"/>
                  </a:lnTo>
                  <a:lnTo>
                    <a:pt x="5038" y="635"/>
                  </a:lnTo>
                  <a:lnTo>
                    <a:pt x="5014" y="667"/>
                  </a:lnTo>
                  <a:lnTo>
                    <a:pt x="4988" y="701"/>
                  </a:lnTo>
                  <a:lnTo>
                    <a:pt x="4960" y="735"/>
                  </a:lnTo>
                  <a:lnTo>
                    <a:pt x="4932" y="767"/>
                  </a:lnTo>
                  <a:lnTo>
                    <a:pt x="4902" y="799"/>
                  </a:lnTo>
                  <a:lnTo>
                    <a:pt x="4871" y="832"/>
                  </a:lnTo>
                  <a:lnTo>
                    <a:pt x="4838" y="862"/>
                  </a:lnTo>
                  <a:lnTo>
                    <a:pt x="4804" y="893"/>
                  </a:lnTo>
                  <a:lnTo>
                    <a:pt x="4770" y="924"/>
                  </a:lnTo>
                  <a:lnTo>
                    <a:pt x="4734" y="953"/>
                  </a:lnTo>
                  <a:lnTo>
                    <a:pt x="4695" y="980"/>
                  </a:lnTo>
                  <a:lnTo>
                    <a:pt x="4656" y="1008"/>
                  </a:lnTo>
                  <a:lnTo>
                    <a:pt x="4614" y="1034"/>
                  </a:lnTo>
                  <a:lnTo>
                    <a:pt x="4573" y="1059"/>
                  </a:lnTo>
                  <a:lnTo>
                    <a:pt x="4528" y="1082"/>
                  </a:lnTo>
                  <a:lnTo>
                    <a:pt x="4484" y="1105"/>
                  </a:lnTo>
                  <a:lnTo>
                    <a:pt x="4436" y="1126"/>
                  </a:lnTo>
                  <a:lnTo>
                    <a:pt x="4388" y="1143"/>
                  </a:lnTo>
                  <a:lnTo>
                    <a:pt x="4338" y="1161"/>
                  </a:lnTo>
                  <a:lnTo>
                    <a:pt x="4287" y="1177"/>
                  </a:lnTo>
                  <a:lnTo>
                    <a:pt x="4232" y="1190"/>
                  </a:lnTo>
                  <a:lnTo>
                    <a:pt x="4178" y="1203"/>
                  </a:lnTo>
                  <a:lnTo>
                    <a:pt x="4121" y="1213"/>
                  </a:lnTo>
                  <a:lnTo>
                    <a:pt x="4063" y="1219"/>
                  </a:lnTo>
                  <a:lnTo>
                    <a:pt x="4003" y="1226"/>
                  </a:lnTo>
                  <a:lnTo>
                    <a:pt x="3941" y="1229"/>
                  </a:lnTo>
                  <a:lnTo>
                    <a:pt x="3877" y="1229"/>
                  </a:lnTo>
                  <a:lnTo>
                    <a:pt x="3812" y="1227"/>
                  </a:lnTo>
                  <a:lnTo>
                    <a:pt x="3745" y="1224"/>
                  </a:lnTo>
                  <a:lnTo>
                    <a:pt x="3676" y="1216"/>
                  </a:lnTo>
                  <a:lnTo>
                    <a:pt x="3605" y="1206"/>
                  </a:lnTo>
                  <a:lnTo>
                    <a:pt x="3531" y="1195"/>
                  </a:lnTo>
                  <a:lnTo>
                    <a:pt x="3456" y="1179"/>
                  </a:lnTo>
                  <a:lnTo>
                    <a:pt x="3380" y="1161"/>
                  </a:lnTo>
                  <a:lnTo>
                    <a:pt x="3301" y="1140"/>
                  </a:lnTo>
                  <a:lnTo>
                    <a:pt x="3220" y="1114"/>
                  </a:lnTo>
                  <a:lnTo>
                    <a:pt x="3220" y="1114"/>
                  </a:lnTo>
                  <a:lnTo>
                    <a:pt x="3061" y="1064"/>
                  </a:lnTo>
                  <a:lnTo>
                    <a:pt x="2905" y="1019"/>
                  </a:lnTo>
                  <a:lnTo>
                    <a:pt x="2756" y="977"/>
                  </a:lnTo>
                  <a:lnTo>
                    <a:pt x="2612" y="938"/>
                  </a:lnTo>
                  <a:lnTo>
                    <a:pt x="2473" y="906"/>
                  </a:lnTo>
                  <a:lnTo>
                    <a:pt x="2340" y="875"/>
                  </a:lnTo>
                  <a:lnTo>
                    <a:pt x="2211" y="851"/>
                  </a:lnTo>
                  <a:lnTo>
                    <a:pt x="2086" y="828"/>
                  </a:lnTo>
                  <a:lnTo>
                    <a:pt x="1966" y="811"/>
                  </a:lnTo>
                  <a:lnTo>
                    <a:pt x="1851" y="798"/>
                  </a:lnTo>
                  <a:lnTo>
                    <a:pt x="1739" y="788"/>
                  </a:lnTo>
                  <a:lnTo>
                    <a:pt x="1630" y="782"/>
                  </a:lnTo>
                  <a:lnTo>
                    <a:pt x="1526" y="780"/>
                  </a:lnTo>
                  <a:lnTo>
                    <a:pt x="1426" y="780"/>
                  </a:lnTo>
                  <a:lnTo>
                    <a:pt x="1329" y="785"/>
                  </a:lnTo>
                  <a:lnTo>
                    <a:pt x="1235" y="795"/>
                  </a:lnTo>
                  <a:lnTo>
                    <a:pt x="1143" y="806"/>
                  </a:lnTo>
                  <a:lnTo>
                    <a:pt x="1099" y="814"/>
                  </a:lnTo>
                  <a:lnTo>
                    <a:pt x="1054" y="822"/>
                  </a:lnTo>
                  <a:lnTo>
                    <a:pt x="1011" y="830"/>
                  </a:lnTo>
                  <a:lnTo>
                    <a:pt x="970" y="840"/>
                  </a:lnTo>
                  <a:lnTo>
                    <a:pt x="927" y="851"/>
                  </a:lnTo>
                  <a:lnTo>
                    <a:pt x="885" y="862"/>
                  </a:lnTo>
                  <a:lnTo>
                    <a:pt x="804" y="888"/>
                  </a:lnTo>
                  <a:lnTo>
                    <a:pt x="725" y="917"/>
                  </a:lnTo>
                  <a:lnTo>
                    <a:pt x="647" y="950"/>
                  </a:lnTo>
                  <a:lnTo>
                    <a:pt x="571" y="985"/>
                  </a:lnTo>
                  <a:lnTo>
                    <a:pt x="496" y="1024"/>
                  </a:lnTo>
                  <a:lnTo>
                    <a:pt x="424" y="1064"/>
                  </a:lnTo>
                  <a:lnTo>
                    <a:pt x="352" y="1109"/>
                  </a:lnTo>
                  <a:lnTo>
                    <a:pt x="280" y="1156"/>
                  </a:lnTo>
                  <a:lnTo>
                    <a:pt x="210" y="1208"/>
                  </a:lnTo>
                  <a:lnTo>
                    <a:pt x="139" y="1261"/>
                  </a:lnTo>
                  <a:lnTo>
                    <a:pt x="70" y="1316"/>
                  </a:lnTo>
                  <a:lnTo>
                    <a:pt x="0" y="137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9782000">
              <a:off x="1884960" y="-1438920"/>
              <a:ext cx="11147040" cy="3194280"/>
            </a:xfrm>
            <a:custGeom>
              <a:avLst/>
              <a:gdLst/>
              <a:ahLst/>
              <a:rect l="l" t="t" r="r" b="b"/>
              <a:pathLst>
                <a:path w="5314" h="1490">
                  <a:moveTo>
                    <a:pt x="5314" y="0"/>
                  </a:moveTo>
                  <a:lnTo>
                    <a:pt x="5314" y="0"/>
                  </a:lnTo>
                  <a:lnTo>
                    <a:pt x="5309" y="19"/>
                  </a:lnTo>
                  <a:lnTo>
                    <a:pt x="5296" y="71"/>
                  </a:lnTo>
                  <a:lnTo>
                    <a:pt x="5284" y="110"/>
                  </a:lnTo>
                  <a:lnTo>
                    <a:pt x="5271" y="153"/>
                  </a:lnTo>
                  <a:lnTo>
                    <a:pt x="5254" y="202"/>
                  </a:lnTo>
                  <a:lnTo>
                    <a:pt x="5233" y="257"/>
                  </a:lnTo>
                  <a:lnTo>
                    <a:pt x="5208" y="315"/>
                  </a:lnTo>
                  <a:lnTo>
                    <a:pt x="5180" y="376"/>
                  </a:lnTo>
                  <a:lnTo>
                    <a:pt x="5148" y="441"/>
                  </a:lnTo>
                  <a:lnTo>
                    <a:pt x="5112" y="507"/>
                  </a:lnTo>
                  <a:lnTo>
                    <a:pt x="5072" y="575"/>
                  </a:lnTo>
                  <a:lnTo>
                    <a:pt x="5050" y="609"/>
                  </a:lnTo>
                  <a:lnTo>
                    <a:pt x="5026" y="644"/>
                  </a:lnTo>
                  <a:lnTo>
                    <a:pt x="5003" y="678"/>
                  </a:lnTo>
                  <a:lnTo>
                    <a:pt x="4976" y="712"/>
                  </a:lnTo>
                  <a:lnTo>
                    <a:pt x="4950" y="746"/>
                  </a:lnTo>
                  <a:lnTo>
                    <a:pt x="4922" y="780"/>
                  </a:lnTo>
                  <a:lnTo>
                    <a:pt x="4893" y="812"/>
                  </a:lnTo>
                  <a:lnTo>
                    <a:pt x="4862" y="846"/>
                  </a:lnTo>
                  <a:lnTo>
                    <a:pt x="4830" y="878"/>
                  </a:lnTo>
                  <a:lnTo>
                    <a:pt x="4797" y="909"/>
                  </a:lnTo>
                  <a:lnTo>
                    <a:pt x="4762" y="940"/>
                  </a:lnTo>
                  <a:lnTo>
                    <a:pt x="4726" y="970"/>
                  </a:lnTo>
                  <a:lnTo>
                    <a:pt x="4689" y="999"/>
                  </a:lnTo>
                  <a:lnTo>
                    <a:pt x="4650" y="1027"/>
                  </a:lnTo>
                  <a:lnTo>
                    <a:pt x="4610" y="1054"/>
                  </a:lnTo>
                  <a:lnTo>
                    <a:pt x="4568" y="1080"/>
                  </a:lnTo>
                  <a:lnTo>
                    <a:pt x="4524" y="1104"/>
                  </a:lnTo>
                  <a:lnTo>
                    <a:pt x="4479" y="1127"/>
                  </a:lnTo>
                  <a:lnTo>
                    <a:pt x="4432" y="1150"/>
                  </a:lnTo>
                  <a:lnTo>
                    <a:pt x="4385" y="1169"/>
                  </a:lnTo>
                  <a:lnTo>
                    <a:pt x="4335" y="1188"/>
                  </a:lnTo>
                  <a:lnTo>
                    <a:pt x="4283" y="1205"/>
                  </a:lnTo>
                  <a:lnTo>
                    <a:pt x="4229" y="1219"/>
                  </a:lnTo>
                  <a:lnTo>
                    <a:pt x="4175" y="1232"/>
                  </a:lnTo>
                  <a:lnTo>
                    <a:pt x="4118" y="1243"/>
                  </a:lnTo>
                  <a:lnTo>
                    <a:pt x="4060" y="1251"/>
                  </a:lnTo>
                  <a:lnTo>
                    <a:pt x="4000" y="1259"/>
                  </a:lnTo>
                  <a:lnTo>
                    <a:pt x="3939" y="1263"/>
                  </a:lnTo>
                  <a:lnTo>
                    <a:pt x="3875" y="1266"/>
                  </a:lnTo>
                  <a:lnTo>
                    <a:pt x="3810" y="1264"/>
                  </a:lnTo>
                  <a:lnTo>
                    <a:pt x="3742" y="1263"/>
                  </a:lnTo>
                  <a:lnTo>
                    <a:pt x="3673" y="1256"/>
                  </a:lnTo>
                  <a:lnTo>
                    <a:pt x="3602" y="1248"/>
                  </a:lnTo>
                  <a:lnTo>
                    <a:pt x="3528" y="1237"/>
                  </a:lnTo>
                  <a:lnTo>
                    <a:pt x="3453" y="1224"/>
                  </a:lnTo>
                  <a:lnTo>
                    <a:pt x="3377" y="1206"/>
                  </a:lnTo>
                  <a:lnTo>
                    <a:pt x="3298" y="1187"/>
                  </a:lnTo>
                  <a:lnTo>
                    <a:pt x="3217" y="1164"/>
                  </a:lnTo>
                  <a:lnTo>
                    <a:pt x="3217" y="1164"/>
                  </a:lnTo>
                  <a:lnTo>
                    <a:pt x="3055" y="1116"/>
                  </a:lnTo>
                  <a:lnTo>
                    <a:pt x="2899" y="1074"/>
                  </a:lnTo>
                  <a:lnTo>
                    <a:pt x="2751" y="1033"/>
                  </a:lnTo>
                  <a:lnTo>
                    <a:pt x="2605" y="999"/>
                  </a:lnTo>
                  <a:lnTo>
                    <a:pt x="2466" y="969"/>
                  </a:lnTo>
                  <a:lnTo>
                    <a:pt x="2333" y="941"/>
                  </a:lnTo>
                  <a:lnTo>
                    <a:pt x="2202" y="919"/>
                  </a:lnTo>
                  <a:lnTo>
                    <a:pt x="2079" y="899"/>
                  </a:lnTo>
                  <a:lnTo>
                    <a:pt x="1958" y="885"/>
                  </a:lnTo>
                  <a:lnTo>
                    <a:pt x="1843" y="872"/>
                  </a:lnTo>
                  <a:lnTo>
                    <a:pt x="1730" y="865"/>
                  </a:lnTo>
                  <a:lnTo>
                    <a:pt x="1622" y="861"/>
                  </a:lnTo>
                  <a:lnTo>
                    <a:pt x="1518" y="861"/>
                  </a:lnTo>
                  <a:lnTo>
                    <a:pt x="1418" y="864"/>
                  </a:lnTo>
                  <a:lnTo>
                    <a:pt x="1321" y="872"/>
                  </a:lnTo>
                  <a:lnTo>
                    <a:pt x="1226" y="882"/>
                  </a:lnTo>
                  <a:lnTo>
                    <a:pt x="1180" y="888"/>
                  </a:lnTo>
                  <a:lnTo>
                    <a:pt x="1134" y="896"/>
                  </a:lnTo>
                  <a:lnTo>
                    <a:pt x="1090" y="904"/>
                  </a:lnTo>
                  <a:lnTo>
                    <a:pt x="1047" y="912"/>
                  </a:lnTo>
                  <a:lnTo>
                    <a:pt x="1004" y="924"/>
                  </a:lnTo>
                  <a:lnTo>
                    <a:pt x="961" y="933"/>
                  </a:lnTo>
                  <a:lnTo>
                    <a:pt x="919" y="945"/>
                  </a:lnTo>
                  <a:lnTo>
                    <a:pt x="878" y="957"/>
                  </a:lnTo>
                  <a:lnTo>
                    <a:pt x="797" y="985"/>
                  </a:lnTo>
                  <a:lnTo>
                    <a:pt x="718" y="1016"/>
                  </a:lnTo>
                  <a:lnTo>
                    <a:pt x="640" y="1050"/>
                  </a:lnTo>
                  <a:lnTo>
                    <a:pt x="565" y="1087"/>
                  </a:lnTo>
                  <a:lnTo>
                    <a:pt x="492" y="1127"/>
                  </a:lnTo>
                  <a:lnTo>
                    <a:pt x="419" y="1171"/>
                  </a:lnTo>
                  <a:lnTo>
                    <a:pt x="347" y="1216"/>
                  </a:lnTo>
                  <a:lnTo>
                    <a:pt x="276" y="1266"/>
                  </a:lnTo>
                  <a:lnTo>
                    <a:pt x="207" y="1318"/>
                  </a:lnTo>
                  <a:lnTo>
                    <a:pt x="138" y="1372"/>
                  </a:lnTo>
                  <a:lnTo>
                    <a:pt x="70" y="1431"/>
                  </a:lnTo>
                  <a:lnTo>
                    <a:pt x="0" y="149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9782000">
              <a:off x="1965600" y="-1596600"/>
              <a:ext cx="11099160" cy="3442320"/>
            </a:xfrm>
            <a:custGeom>
              <a:avLst/>
              <a:gdLst/>
              <a:ahLst/>
              <a:rect l="l" t="t" r="r" b="b"/>
              <a:pathLst>
                <a:path w="5291" h="1606">
                  <a:moveTo>
                    <a:pt x="5291" y="0"/>
                  </a:moveTo>
                  <a:lnTo>
                    <a:pt x="5291" y="0"/>
                  </a:lnTo>
                  <a:lnTo>
                    <a:pt x="5287" y="19"/>
                  </a:lnTo>
                  <a:lnTo>
                    <a:pt x="5273" y="73"/>
                  </a:lnTo>
                  <a:lnTo>
                    <a:pt x="5264" y="111"/>
                  </a:lnTo>
                  <a:lnTo>
                    <a:pt x="5250" y="155"/>
                  </a:lnTo>
                  <a:lnTo>
                    <a:pt x="5233" y="205"/>
                  </a:lnTo>
                  <a:lnTo>
                    <a:pt x="5214" y="260"/>
                  </a:lnTo>
                  <a:lnTo>
                    <a:pt x="5190" y="318"/>
                  </a:lnTo>
                  <a:lnTo>
                    <a:pt x="5162" y="381"/>
                  </a:lnTo>
                  <a:lnTo>
                    <a:pt x="5132" y="447"/>
                  </a:lnTo>
                  <a:lnTo>
                    <a:pt x="5097" y="515"/>
                  </a:lnTo>
                  <a:lnTo>
                    <a:pt x="5057" y="583"/>
                  </a:lnTo>
                  <a:lnTo>
                    <a:pt x="5036" y="618"/>
                  </a:lnTo>
                  <a:lnTo>
                    <a:pt x="5014" y="654"/>
                  </a:lnTo>
                  <a:lnTo>
                    <a:pt x="4989" y="688"/>
                  </a:lnTo>
                  <a:lnTo>
                    <a:pt x="4964" y="723"/>
                  </a:lnTo>
                  <a:lnTo>
                    <a:pt x="4937" y="757"/>
                  </a:lnTo>
                  <a:lnTo>
                    <a:pt x="4911" y="791"/>
                  </a:lnTo>
                  <a:lnTo>
                    <a:pt x="4882" y="827"/>
                  </a:lnTo>
                  <a:lnTo>
                    <a:pt x="4851" y="859"/>
                  </a:lnTo>
                  <a:lnTo>
                    <a:pt x="4821" y="893"/>
                  </a:lnTo>
                  <a:lnTo>
                    <a:pt x="4787" y="925"/>
                  </a:lnTo>
                  <a:lnTo>
                    <a:pt x="4753" y="956"/>
                  </a:lnTo>
                  <a:lnTo>
                    <a:pt x="4718" y="988"/>
                  </a:lnTo>
                  <a:lnTo>
                    <a:pt x="4681" y="1017"/>
                  </a:lnTo>
                  <a:lnTo>
                    <a:pt x="4642" y="1046"/>
                  </a:lnTo>
                  <a:lnTo>
                    <a:pt x="4603" y="1074"/>
                  </a:lnTo>
                  <a:lnTo>
                    <a:pt x="4561" y="1101"/>
                  </a:lnTo>
                  <a:lnTo>
                    <a:pt x="4518" y="1127"/>
                  </a:lnTo>
                  <a:lnTo>
                    <a:pt x="4472" y="1151"/>
                  </a:lnTo>
                  <a:lnTo>
                    <a:pt x="4426" y="1174"/>
                  </a:lnTo>
                  <a:lnTo>
                    <a:pt x="4379" y="1195"/>
                  </a:lnTo>
                  <a:lnTo>
                    <a:pt x="4329" y="1214"/>
                  </a:lnTo>
                  <a:lnTo>
                    <a:pt x="4278" y="1232"/>
                  </a:lnTo>
                  <a:lnTo>
                    <a:pt x="4225" y="1248"/>
                  </a:lnTo>
                  <a:lnTo>
                    <a:pt x="4171" y="1263"/>
                  </a:lnTo>
                  <a:lnTo>
                    <a:pt x="4114" y="1274"/>
                  </a:lnTo>
                  <a:lnTo>
                    <a:pt x="4056" y="1284"/>
                  </a:lnTo>
                  <a:lnTo>
                    <a:pt x="3996" y="1292"/>
                  </a:lnTo>
                  <a:lnTo>
                    <a:pt x="3935" y="1298"/>
                  </a:lnTo>
                  <a:lnTo>
                    <a:pt x="3871" y="1301"/>
                  </a:lnTo>
                  <a:lnTo>
                    <a:pt x="3806" y="1303"/>
                  </a:lnTo>
                  <a:lnTo>
                    <a:pt x="3738" y="1301"/>
                  </a:lnTo>
                  <a:lnTo>
                    <a:pt x="3668" y="1296"/>
                  </a:lnTo>
                  <a:lnTo>
                    <a:pt x="3598" y="1290"/>
                  </a:lnTo>
                  <a:lnTo>
                    <a:pt x="3524" y="1280"/>
                  </a:lnTo>
                  <a:lnTo>
                    <a:pt x="3449" y="1267"/>
                  </a:lnTo>
                  <a:lnTo>
                    <a:pt x="3371" y="1253"/>
                  </a:lnTo>
                  <a:lnTo>
                    <a:pt x="3292" y="1233"/>
                  </a:lnTo>
                  <a:lnTo>
                    <a:pt x="3212" y="1212"/>
                  </a:lnTo>
                  <a:lnTo>
                    <a:pt x="3212" y="1212"/>
                  </a:lnTo>
                  <a:lnTo>
                    <a:pt x="3049" y="1167"/>
                  </a:lnTo>
                  <a:lnTo>
                    <a:pt x="2894" y="1129"/>
                  </a:lnTo>
                  <a:lnTo>
                    <a:pt x="2742" y="1091"/>
                  </a:lnTo>
                  <a:lnTo>
                    <a:pt x="2598" y="1059"/>
                  </a:lnTo>
                  <a:lnTo>
                    <a:pt x="2458" y="1032"/>
                  </a:lnTo>
                  <a:lnTo>
                    <a:pt x="2323" y="1007"/>
                  </a:lnTo>
                  <a:lnTo>
                    <a:pt x="2194" y="986"/>
                  </a:lnTo>
                  <a:lnTo>
                    <a:pt x="2069" y="970"/>
                  </a:lnTo>
                  <a:lnTo>
                    <a:pt x="1948" y="957"/>
                  </a:lnTo>
                  <a:lnTo>
                    <a:pt x="1833" y="948"/>
                  </a:lnTo>
                  <a:lnTo>
                    <a:pt x="1720" y="943"/>
                  </a:lnTo>
                  <a:lnTo>
                    <a:pt x="1612" y="941"/>
                  </a:lnTo>
                  <a:lnTo>
                    <a:pt x="1508" y="943"/>
                  </a:lnTo>
                  <a:lnTo>
                    <a:pt x="1408" y="948"/>
                  </a:lnTo>
                  <a:lnTo>
                    <a:pt x="1311" y="957"/>
                  </a:lnTo>
                  <a:lnTo>
                    <a:pt x="1216" y="969"/>
                  </a:lnTo>
                  <a:lnTo>
                    <a:pt x="1171" y="977"/>
                  </a:lnTo>
                  <a:lnTo>
                    <a:pt x="1126" y="985"/>
                  </a:lnTo>
                  <a:lnTo>
                    <a:pt x="1082" y="994"/>
                  </a:lnTo>
                  <a:lnTo>
                    <a:pt x="1037" y="1004"/>
                  </a:lnTo>
                  <a:lnTo>
                    <a:pt x="994" y="1015"/>
                  </a:lnTo>
                  <a:lnTo>
                    <a:pt x="953" y="1027"/>
                  </a:lnTo>
                  <a:lnTo>
                    <a:pt x="911" y="1040"/>
                  </a:lnTo>
                  <a:lnTo>
                    <a:pt x="869" y="1053"/>
                  </a:lnTo>
                  <a:lnTo>
                    <a:pt x="829" y="1067"/>
                  </a:lnTo>
                  <a:lnTo>
                    <a:pt x="789" y="1082"/>
                  </a:lnTo>
                  <a:lnTo>
                    <a:pt x="711" y="1114"/>
                  </a:lnTo>
                  <a:lnTo>
                    <a:pt x="635" y="1150"/>
                  </a:lnTo>
                  <a:lnTo>
                    <a:pt x="560" y="1188"/>
                  </a:lnTo>
                  <a:lnTo>
                    <a:pt x="486" y="1230"/>
                  </a:lnTo>
                  <a:lnTo>
                    <a:pt x="414" y="1275"/>
                  </a:lnTo>
                  <a:lnTo>
                    <a:pt x="343" y="1324"/>
                  </a:lnTo>
                  <a:lnTo>
                    <a:pt x="274" y="1374"/>
                  </a:lnTo>
                  <a:lnTo>
                    <a:pt x="204" y="1429"/>
                  </a:lnTo>
                  <a:lnTo>
                    <a:pt x="136" y="1485"/>
                  </a:lnTo>
                  <a:lnTo>
                    <a:pt x="68" y="1545"/>
                  </a:lnTo>
                  <a:lnTo>
                    <a:pt x="0" y="160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9782000">
              <a:off x="2052000" y="-1750320"/>
              <a:ext cx="11044440" cy="3686400"/>
            </a:xfrm>
            <a:custGeom>
              <a:avLst/>
              <a:gdLst/>
              <a:ahLst/>
              <a:rect l="l" t="t" r="r" b="b"/>
              <a:pathLst>
                <a:path w="5265" h="1722">
                  <a:moveTo>
                    <a:pt x="5265" y="0"/>
                  </a:moveTo>
                  <a:lnTo>
                    <a:pt x="5265" y="0"/>
                  </a:lnTo>
                  <a:lnTo>
                    <a:pt x="5262" y="20"/>
                  </a:lnTo>
                  <a:lnTo>
                    <a:pt x="5249" y="73"/>
                  </a:lnTo>
                  <a:lnTo>
                    <a:pt x="5238" y="112"/>
                  </a:lnTo>
                  <a:lnTo>
                    <a:pt x="5226" y="155"/>
                  </a:lnTo>
                  <a:lnTo>
                    <a:pt x="5210" y="205"/>
                  </a:lnTo>
                  <a:lnTo>
                    <a:pt x="5191" y="262"/>
                  </a:lnTo>
                  <a:lnTo>
                    <a:pt x="5169" y="322"/>
                  </a:lnTo>
                  <a:lnTo>
                    <a:pt x="5142" y="385"/>
                  </a:lnTo>
                  <a:lnTo>
                    <a:pt x="5113" y="451"/>
                  </a:lnTo>
                  <a:lnTo>
                    <a:pt x="5078" y="520"/>
                  </a:lnTo>
                  <a:lnTo>
                    <a:pt x="5040" y="590"/>
                  </a:lnTo>
                  <a:lnTo>
                    <a:pt x="5019" y="625"/>
                  </a:lnTo>
                  <a:lnTo>
                    <a:pt x="4997" y="661"/>
                  </a:lnTo>
                  <a:lnTo>
                    <a:pt x="4974" y="696"/>
                  </a:lnTo>
                  <a:lnTo>
                    <a:pt x="4949" y="732"/>
                  </a:lnTo>
                  <a:lnTo>
                    <a:pt x="4923" y="767"/>
                  </a:lnTo>
                  <a:lnTo>
                    <a:pt x="4897" y="803"/>
                  </a:lnTo>
                  <a:lnTo>
                    <a:pt x="4869" y="838"/>
                  </a:lnTo>
                  <a:lnTo>
                    <a:pt x="4838" y="872"/>
                  </a:lnTo>
                  <a:lnTo>
                    <a:pt x="4808" y="906"/>
                  </a:lnTo>
                  <a:lnTo>
                    <a:pt x="4776" y="938"/>
                  </a:lnTo>
                  <a:lnTo>
                    <a:pt x="4741" y="971"/>
                  </a:lnTo>
                  <a:lnTo>
                    <a:pt x="4706" y="1003"/>
                  </a:lnTo>
                  <a:lnTo>
                    <a:pt x="4670" y="1034"/>
                  </a:lnTo>
                  <a:lnTo>
                    <a:pt x="4631" y="1064"/>
                  </a:lnTo>
                  <a:lnTo>
                    <a:pt x="4593" y="1093"/>
                  </a:lnTo>
                  <a:lnTo>
                    <a:pt x="4551" y="1121"/>
                  </a:lnTo>
                  <a:lnTo>
                    <a:pt x="4509" y="1147"/>
                  </a:lnTo>
                  <a:lnTo>
                    <a:pt x="4465" y="1173"/>
                  </a:lnTo>
                  <a:lnTo>
                    <a:pt x="4419" y="1195"/>
                  </a:lnTo>
                  <a:lnTo>
                    <a:pt x="4370" y="1218"/>
                  </a:lnTo>
                  <a:lnTo>
                    <a:pt x="4322" y="1239"/>
                  </a:lnTo>
                  <a:lnTo>
                    <a:pt x="4270" y="1258"/>
                  </a:lnTo>
                  <a:lnTo>
                    <a:pt x="4218" y="1274"/>
                  </a:lnTo>
                  <a:lnTo>
                    <a:pt x="4163" y="1290"/>
                  </a:lnTo>
                  <a:lnTo>
                    <a:pt x="4108" y="1303"/>
                  </a:lnTo>
                  <a:lnTo>
                    <a:pt x="4050" y="1315"/>
                  </a:lnTo>
                  <a:lnTo>
                    <a:pt x="3990" y="1324"/>
                  </a:lnTo>
                  <a:lnTo>
                    <a:pt x="3929" y="1331"/>
                  </a:lnTo>
                  <a:lnTo>
                    <a:pt x="3865" y="1336"/>
                  </a:lnTo>
                  <a:lnTo>
                    <a:pt x="3800" y="1337"/>
                  </a:lnTo>
                  <a:lnTo>
                    <a:pt x="3732" y="1337"/>
                  </a:lnTo>
                  <a:lnTo>
                    <a:pt x="3662" y="1336"/>
                  </a:lnTo>
                  <a:lnTo>
                    <a:pt x="3591" y="1329"/>
                  </a:lnTo>
                  <a:lnTo>
                    <a:pt x="3518" y="1321"/>
                  </a:lnTo>
                  <a:lnTo>
                    <a:pt x="3443" y="1311"/>
                  </a:lnTo>
                  <a:lnTo>
                    <a:pt x="3365" y="1297"/>
                  </a:lnTo>
                  <a:lnTo>
                    <a:pt x="3286" y="1279"/>
                  </a:lnTo>
                  <a:lnTo>
                    <a:pt x="3204" y="1260"/>
                  </a:lnTo>
                  <a:lnTo>
                    <a:pt x="3204" y="1260"/>
                  </a:lnTo>
                  <a:lnTo>
                    <a:pt x="3042" y="1219"/>
                  </a:lnTo>
                  <a:lnTo>
                    <a:pt x="2885" y="1181"/>
                  </a:lnTo>
                  <a:lnTo>
                    <a:pt x="2733" y="1148"/>
                  </a:lnTo>
                  <a:lnTo>
                    <a:pt x="2588" y="1119"/>
                  </a:lnTo>
                  <a:lnTo>
                    <a:pt x="2447" y="1093"/>
                  </a:lnTo>
                  <a:lnTo>
                    <a:pt x="2313" y="1071"/>
                  </a:lnTo>
                  <a:lnTo>
                    <a:pt x="2184" y="1053"/>
                  </a:lnTo>
                  <a:lnTo>
                    <a:pt x="2059" y="1039"/>
                  </a:lnTo>
                  <a:lnTo>
                    <a:pt x="1938" y="1029"/>
                  </a:lnTo>
                  <a:lnTo>
                    <a:pt x="1821" y="1022"/>
                  </a:lnTo>
                  <a:lnTo>
                    <a:pt x="1709" y="1019"/>
                  </a:lnTo>
                  <a:lnTo>
                    <a:pt x="1602" y="1019"/>
                  </a:lnTo>
                  <a:lnTo>
                    <a:pt x="1498" y="1024"/>
                  </a:lnTo>
                  <a:lnTo>
                    <a:pt x="1396" y="1031"/>
                  </a:lnTo>
                  <a:lnTo>
                    <a:pt x="1299" y="1042"/>
                  </a:lnTo>
                  <a:lnTo>
                    <a:pt x="1252" y="1048"/>
                  </a:lnTo>
                  <a:lnTo>
                    <a:pt x="1206" y="1056"/>
                  </a:lnTo>
                  <a:lnTo>
                    <a:pt x="1160" y="1064"/>
                  </a:lnTo>
                  <a:lnTo>
                    <a:pt x="1116" y="1074"/>
                  </a:lnTo>
                  <a:lnTo>
                    <a:pt x="1071" y="1084"/>
                  </a:lnTo>
                  <a:lnTo>
                    <a:pt x="1027" y="1095"/>
                  </a:lnTo>
                  <a:lnTo>
                    <a:pt x="985" y="1106"/>
                  </a:lnTo>
                  <a:lnTo>
                    <a:pt x="942" y="1119"/>
                  </a:lnTo>
                  <a:lnTo>
                    <a:pt x="901" y="1132"/>
                  </a:lnTo>
                  <a:lnTo>
                    <a:pt x="860" y="1147"/>
                  </a:lnTo>
                  <a:lnTo>
                    <a:pt x="820" y="1163"/>
                  </a:lnTo>
                  <a:lnTo>
                    <a:pt x="780" y="1177"/>
                  </a:lnTo>
                  <a:lnTo>
                    <a:pt x="702" y="1213"/>
                  </a:lnTo>
                  <a:lnTo>
                    <a:pt x="626" y="1250"/>
                  </a:lnTo>
                  <a:lnTo>
                    <a:pt x="552" y="1290"/>
                  </a:lnTo>
                  <a:lnTo>
                    <a:pt x="479" y="1334"/>
                  </a:lnTo>
                  <a:lnTo>
                    <a:pt x="408" y="1381"/>
                  </a:lnTo>
                  <a:lnTo>
                    <a:pt x="338" y="1429"/>
                  </a:lnTo>
                  <a:lnTo>
                    <a:pt x="269" y="1483"/>
                  </a:lnTo>
                  <a:lnTo>
                    <a:pt x="201" y="1538"/>
                  </a:lnTo>
                  <a:lnTo>
                    <a:pt x="133" y="1596"/>
                  </a:lnTo>
                  <a:lnTo>
                    <a:pt x="66" y="1657"/>
                  </a:lnTo>
                  <a:lnTo>
                    <a:pt x="0" y="172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9782000">
              <a:off x="2135880" y="-1907640"/>
              <a:ext cx="10989720" cy="3935160"/>
            </a:xfrm>
            <a:custGeom>
              <a:avLst/>
              <a:gdLst/>
              <a:ahLst/>
              <a:rect l="l" t="t" r="r" b="b"/>
              <a:pathLst>
                <a:path w="5239" h="1836">
                  <a:moveTo>
                    <a:pt x="5239" y="0"/>
                  </a:moveTo>
                  <a:lnTo>
                    <a:pt x="5239" y="0"/>
                  </a:lnTo>
                  <a:lnTo>
                    <a:pt x="5236" y="20"/>
                  </a:lnTo>
                  <a:lnTo>
                    <a:pt x="5223" y="74"/>
                  </a:lnTo>
                  <a:lnTo>
                    <a:pt x="5215" y="113"/>
                  </a:lnTo>
                  <a:lnTo>
                    <a:pt x="5202" y="158"/>
                  </a:lnTo>
                  <a:lnTo>
                    <a:pt x="5187" y="209"/>
                  </a:lnTo>
                  <a:lnTo>
                    <a:pt x="5169" y="265"/>
                  </a:lnTo>
                  <a:lnTo>
                    <a:pt x="5148" y="325"/>
                  </a:lnTo>
                  <a:lnTo>
                    <a:pt x="5122" y="389"/>
                  </a:lnTo>
                  <a:lnTo>
                    <a:pt x="5093" y="457"/>
                  </a:lnTo>
                  <a:lnTo>
                    <a:pt x="5061" y="527"/>
                  </a:lnTo>
                  <a:lnTo>
                    <a:pt x="5023" y="598"/>
                  </a:lnTo>
                  <a:lnTo>
                    <a:pt x="5003" y="635"/>
                  </a:lnTo>
                  <a:lnTo>
                    <a:pt x="4982" y="670"/>
                  </a:lnTo>
                  <a:lnTo>
                    <a:pt x="4958" y="706"/>
                  </a:lnTo>
                  <a:lnTo>
                    <a:pt x="4934" y="743"/>
                  </a:lnTo>
                  <a:lnTo>
                    <a:pt x="4909" y="778"/>
                  </a:lnTo>
                  <a:lnTo>
                    <a:pt x="4883" y="814"/>
                  </a:lnTo>
                  <a:lnTo>
                    <a:pt x="4855" y="850"/>
                  </a:lnTo>
                  <a:lnTo>
                    <a:pt x="4826" y="885"/>
                  </a:lnTo>
                  <a:lnTo>
                    <a:pt x="4796" y="921"/>
                  </a:lnTo>
                  <a:lnTo>
                    <a:pt x="4764" y="954"/>
                  </a:lnTo>
                  <a:lnTo>
                    <a:pt x="4730" y="987"/>
                  </a:lnTo>
                  <a:lnTo>
                    <a:pt x="4696" y="1019"/>
                  </a:lnTo>
                  <a:lnTo>
                    <a:pt x="4660" y="1051"/>
                  </a:lnTo>
                  <a:lnTo>
                    <a:pt x="4622" y="1082"/>
                  </a:lnTo>
                  <a:lnTo>
                    <a:pt x="4583" y="1113"/>
                  </a:lnTo>
                  <a:lnTo>
                    <a:pt x="4543" y="1140"/>
                  </a:lnTo>
                  <a:lnTo>
                    <a:pt x="4500" y="1168"/>
                  </a:lnTo>
                  <a:lnTo>
                    <a:pt x="4457" y="1195"/>
                  </a:lnTo>
                  <a:lnTo>
                    <a:pt x="4411" y="1219"/>
                  </a:lnTo>
                  <a:lnTo>
                    <a:pt x="4364" y="1242"/>
                  </a:lnTo>
                  <a:lnTo>
                    <a:pt x="4315" y="1265"/>
                  </a:lnTo>
                  <a:lnTo>
                    <a:pt x="4264" y="1284"/>
                  </a:lnTo>
                  <a:lnTo>
                    <a:pt x="4211" y="1303"/>
                  </a:lnTo>
                  <a:lnTo>
                    <a:pt x="4157" y="1319"/>
                  </a:lnTo>
                  <a:lnTo>
                    <a:pt x="4101" y="1334"/>
                  </a:lnTo>
                  <a:lnTo>
                    <a:pt x="4043" y="1347"/>
                  </a:lnTo>
                  <a:lnTo>
                    <a:pt x="3985" y="1357"/>
                  </a:lnTo>
                  <a:lnTo>
                    <a:pt x="3922" y="1365"/>
                  </a:lnTo>
                  <a:lnTo>
                    <a:pt x="3860" y="1371"/>
                  </a:lnTo>
                  <a:lnTo>
                    <a:pt x="3793" y="1374"/>
                  </a:lnTo>
                  <a:lnTo>
                    <a:pt x="3727" y="1376"/>
                  </a:lnTo>
                  <a:lnTo>
                    <a:pt x="3657" y="1374"/>
                  </a:lnTo>
                  <a:lnTo>
                    <a:pt x="3585" y="1371"/>
                  </a:lnTo>
                  <a:lnTo>
                    <a:pt x="3513" y="1365"/>
                  </a:lnTo>
                  <a:lnTo>
                    <a:pt x="3436" y="1355"/>
                  </a:lnTo>
                  <a:lnTo>
                    <a:pt x="3359" y="1342"/>
                  </a:lnTo>
                  <a:lnTo>
                    <a:pt x="3279" y="1326"/>
                  </a:lnTo>
                  <a:lnTo>
                    <a:pt x="3198" y="1308"/>
                  </a:lnTo>
                  <a:lnTo>
                    <a:pt x="3198" y="1308"/>
                  </a:lnTo>
                  <a:lnTo>
                    <a:pt x="3034" y="1269"/>
                  </a:lnTo>
                  <a:lnTo>
                    <a:pt x="2877" y="1235"/>
                  </a:lnTo>
                  <a:lnTo>
                    <a:pt x="2726" y="1205"/>
                  </a:lnTo>
                  <a:lnTo>
                    <a:pt x="2580" y="1179"/>
                  </a:lnTo>
                  <a:lnTo>
                    <a:pt x="2439" y="1156"/>
                  </a:lnTo>
                  <a:lnTo>
                    <a:pt x="2303" y="1137"/>
                  </a:lnTo>
                  <a:lnTo>
                    <a:pt x="2174" y="1121"/>
                  </a:lnTo>
                  <a:lnTo>
                    <a:pt x="2048" y="1109"/>
                  </a:lnTo>
                  <a:lnTo>
                    <a:pt x="1927" y="1101"/>
                  </a:lnTo>
                  <a:lnTo>
                    <a:pt x="1811" y="1097"/>
                  </a:lnTo>
                  <a:lnTo>
                    <a:pt x="1699" y="1097"/>
                  </a:lnTo>
                  <a:lnTo>
                    <a:pt x="1591" y="1100"/>
                  </a:lnTo>
                  <a:lnTo>
                    <a:pt x="1487" y="1105"/>
                  </a:lnTo>
                  <a:lnTo>
                    <a:pt x="1387" y="1114"/>
                  </a:lnTo>
                  <a:lnTo>
                    <a:pt x="1290" y="1127"/>
                  </a:lnTo>
                  <a:lnTo>
                    <a:pt x="1243" y="1135"/>
                  </a:lnTo>
                  <a:lnTo>
                    <a:pt x="1197" y="1143"/>
                  </a:lnTo>
                  <a:lnTo>
                    <a:pt x="1151" y="1153"/>
                  </a:lnTo>
                  <a:lnTo>
                    <a:pt x="1107" y="1164"/>
                  </a:lnTo>
                  <a:lnTo>
                    <a:pt x="1062" y="1174"/>
                  </a:lnTo>
                  <a:lnTo>
                    <a:pt x="1019" y="1187"/>
                  </a:lnTo>
                  <a:lnTo>
                    <a:pt x="976" y="1200"/>
                  </a:lnTo>
                  <a:lnTo>
                    <a:pt x="934" y="1213"/>
                  </a:lnTo>
                  <a:lnTo>
                    <a:pt x="893" y="1227"/>
                  </a:lnTo>
                  <a:lnTo>
                    <a:pt x="853" y="1242"/>
                  </a:lnTo>
                  <a:lnTo>
                    <a:pt x="812" y="1258"/>
                  </a:lnTo>
                  <a:lnTo>
                    <a:pt x="772" y="1276"/>
                  </a:lnTo>
                  <a:lnTo>
                    <a:pt x="696" y="1311"/>
                  </a:lnTo>
                  <a:lnTo>
                    <a:pt x="619" y="1350"/>
                  </a:lnTo>
                  <a:lnTo>
                    <a:pt x="546" y="1392"/>
                  </a:lnTo>
                  <a:lnTo>
                    <a:pt x="473" y="1437"/>
                  </a:lnTo>
                  <a:lnTo>
                    <a:pt x="404" y="1486"/>
                  </a:lnTo>
                  <a:lnTo>
                    <a:pt x="335" y="1537"/>
                  </a:lnTo>
                  <a:lnTo>
                    <a:pt x="267" y="1591"/>
                  </a:lnTo>
                  <a:lnTo>
                    <a:pt x="199" y="1649"/>
                  </a:lnTo>
                  <a:lnTo>
                    <a:pt x="132" y="1709"/>
                  </a:lnTo>
                  <a:lnTo>
                    <a:pt x="67" y="1772"/>
                  </a:lnTo>
                  <a:lnTo>
                    <a:pt x="0" y="183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9782000">
              <a:off x="2222640" y="-2066040"/>
              <a:ext cx="10931760" cy="4183920"/>
            </a:xfrm>
            <a:custGeom>
              <a:avLst/>
              <a:gdLst/>
              <a:ahLst/>
              <a:rect l="l" t="t" r="r" b="b"/>
              <a:pathLst>
                <a:path w="5211" h="1952">
                  <a:moveTo>
                    <a:pt x="5211" y="0"/>
                  </a:moveTo>
                  <a:lnTo>
                    <a:pt x="5211" y="0"/>
                  </a:lnTo>
                  <a:lnTo>
                    <a:pt x="5206" y="21"/>
                  </a:lnTo>
                  <a:lnTo>
                    <a:pt x="5197" y="76"/>
                  </a:lnTo>
                  <a:lnTo>
                    <a:pt x="5187" y="115"/>
                  </a:lnTo>
                  <a:lnTo>
                    <a:pt x="5176" y="160"/>
                  </a:lnTo>
                  <a:lnTo>
                    <a:pt x="5162" y="212"/>
                  </a:lnTo>
                  <a:lnTo>
                    <a:pt x="5144" y="268"/>
                  </a:lnTo>
                  <a:lnTo>
                    <a:pt x="5123" y="329"/>
                  </a:lnTo>
                  <a:lnTo>
                    <a:pt x="5100" y="394"/>
                  </a:lnTo>
                  <a:lnTo>
                    <a:pt x="5072" y="463"/>
                  </a:lnTo>
                  <a:lnTo>
                    <a:pt x="5040" y="533"/>
                  </a:lnTo>
                  <a:lnTo>
                    <a:pt x="5004" y="606"/>
                  </a:lnTo>
                  <a:lnTo>
                    <a:pt x="4983" y="643"/>
                  </a:lnTo>
                  <a:lnTo>
                    <a:pt x="4962" y="680"/>
                  </a:lnTo>
                  <a:lnTo>
                    <a:pt x="4940" y="715"/>
                  </a:lnTo>
                  <a:lnTo>
                    <a:pt x="4916" y="753"/>
                  </a:lnTo>
                  <a:lnTo>
                    <a:pt x="4893" y="790"/>
                  </a:lnTo>
                  <a:lnTo>
                    <a:pt x="4866" y="827"/>
                  </a:lnTo>
                  <a:lnTo>
                    <a:pt x="4839" y="862"/>
                  </a:lnTo>
                  <a:lnTo>
                    <a:pt x="4811" y="898"/>
                  </a:lnTo>
                  <a:lnTo>
                    <a:pt x="4780" y="933"/>
                  </a:lnTo>
                  <a:lnTo>
                    <a:pt x="4750" y="969"/>
                  </a:lnTo>
                  <a:lnTo>
                    <a:pt x="4716" y="1003"/>
                  </a:lnTo>
                  <a:lnTo>
                    <a:pt x="4683" y="1037"/>
                  </a:lnTo>
                  <a:lnTo>
                    <a:pt x="4647" y="1069"/>
                  </a:lnTo>
                  <a:lnTo>
                    <a:pt x="4609" y="1100"/>
                  </a:lnTo>
                  <a:lnTo>
                    <a:pt x="4571" y="1130"/>
                  </a:lnTo>
                  <a:lnTo>
                    <a:pt x="4530" y="1161"/>
                  </a:lnTo>
                  <a:lnTo>
                    <a:pt x="4489" y="1188"/>
                  </a:lnTo>
                  <a:lnTo>
                    <a:pt x="4446" y="1216"/>
                  </a:lnTo>
                  <a:lnTo>
                    <a:pt x="4400" y="1242"/>
                  </a:lnTo>
                  <a:lnTo>
                    <a:pt x="4354" y="1266"/>
                  </a:lnTo>
                  <a:lnTo>
                    <a:pt x="4305" y="1289"/>
                  </a:lnTo>
                  <a:lnTo>
                    <a:pt x="4255" y="1311"/>
                  </a:lnTo>
                  <a:lnTo>
                    <a:pt x="4203" y="1331"/>
                  </a:lnTo>
                  <a:lnTo>
                    <a:pt x="4148" y="1348"/>
                  </a:lnTo>
                  <a:lnTo>
                    <a:pt x="4093" y="1363"/>
                  </a:lnTo>
                  <a:lnTo>
                    <a:pt x="4036" y="1377"/>
                  </a:lnTo>
                  <a:lnTo>
                    <a:pt x="3976" y="1389"/>
                  </a:lnTo>
                  <a:lnTo>
                    <a:pt x="3915" y="1398"/>
                  </a:lnTo>
                  <a:lnTo>
                    <a:pt x="3851" y="1406"/>
                  </a:lnTo>
                  <a:lnTo>
                    <a:pt x="3786" y="1411"/>
                  </a:lnTo>
                  <a:lnTo>
                    <a:pt x="3718" y="1413"/>
                  </a:lnTo>
                  <a:lnTo>
                    <a:pt x="3649" y="1415"/>
                  </a:lnTo>
                  <a:lnTo>
                    <a:pt x="3578" y="1411"/>
                  </a:lnTo>
                  <a:lnTo>
                    <a:pt x="3504" y="1406"/>
                  </a:lnTo>
                  <a:lnTo>
                    <a:pt x="3428" y="1398"/>
                  </a:lnTo>
                  <a:lnTo>
                    <a:pt x="3350" y="1387"/>
                  </a:lnTo>
                  <a:lnTo>
                    <a:pt x="3271" y="1373"/>
                  </a:lnTo>
                  <a:lnTo>
                    <a:pt x="3188" y="1356"/>
                  </a:lnTo>
                  <a:lnTo>
                    <a:pt x="3188" y="1356"/>
                  </a:lnTo>
                  <a:lnTo>
                    <a:pt x="3025" y="1321"/>
                  </a:lnTo>
                  <a:lnTo>
                    <a:pt x="2867" y="1290"/>
                  </a:lnTo>
                  <a:lnTo>
                    <a:pt x="2716" y="1263"/>
                  </a:lnTo>
                  <a:lnTo>
                    <a:pt x="2568" y="1239"/>
                  </a:lnTo>
                  <a:lnTo>
                    <a:pt x="2428" y="1219"/>
                  </a:lnTo>
                  <a:lnTo>
                    <a:pt x="2292" y="1203"/>
                  </a:lnTo>
                  <a:lnTo>
                    <a:pt x="2162" y="1190"/>
                  </a:lnTo>
                  <a:lnTo>
                    <a:pt x="2037" y="1180"/>
                  </a:lnTo>
                  <a:lnTo>
                    <a:pt x="1916" y="1174"/>
                  </a:lnTo>
                  <a:lnTo>
                    <a:pt x="1799" y="1172"/>
                  </a:lnTo>
                  <a:lnTo>
                    <a:pt x="1688" y="1174"/>
                  </a:lnTo>
                  <a:lnTo>
                    <a:pt x="1580" y="1179"/>
                  </a:lnTo>
                  <a:lnTo>
                    <a:pt x="1476" y="1187"/>
                  </a:lnTo>
                  <a:lnTo>
                    <a:pt x="1376" y="1198"/>
                  </a:lnTo>
                  <a:lnTo>
                    <a:pt x="1279" y="1214"/>
                  </a:lnTo>
                  <a:lnTo>
                    <a:pt x="1231" y="1222"/>
                  </a:lnTo>
                  <a:lnTo>
                    <a:pt x="1186" y="1232"/>
                  </a:lnTo>
                  <a:lnTo>
                    <a:pt x="1140" y="1242"/>
                  </a:lnTo>
                  <a:lnTo>
                    <a:pt x="1095" y="1253"/>
                  </a:lnTo>
                  <a:lnTo>
                    <a:pt x="1052" y="1266"/>
                  </a:lnTo>
                  <a:lnTo>
                    <a:pt x="1009" y="1279"/>
                  </a:lnTo>
                  <a:lnTo>
                    <a:pt x="966" y="1292"/>
                  </a:lnTo>
                  <a:lnTo>
                    <a:pt x="925" y="1306"/>
                  </a:lnTo>
                  <a:lnTo>
                    <a:pt x="883" y="1323"/>
                  </a:lnTo>
                  <a:lnTo>
                    <a:pt x="843" y="1339"/>
                  </a:lnTo>
                  <a:lnTo>
                    <a:pt x="802" y="1355"/>
                  </a:lnTo>
                  <a:lnTo>
                    <a:pt x="763" y="1373"/>
                  </a:lnTo>
                  <a:lnTo>
                    <a:pt x="687" y="1410"/>
                  </a:lnTo>
                  <a:lnTo>
                    <a:pt x="612" y="1452"/>
                  </a:lnTo>
                  <a:lnTo>
                    <a:pt x="539" y="1495"/>
                  </a:lnTo>
                  <a:lnTo>
                    <a:pt x="468" y="1542"/>
                  </a:lnTo>
                  <a:lnTo>
                    <a:pt x="398" y="1592"/>
                  </a:lnTo>
                  <a:lnTo>
                    <a:pt x="329" y="1644"/>
                  </a:lnTo>
                  <a:lnTo>
                    <a:pt x="262" y="1700"/>
                  </a:lnTo>
                  <a:lnTo>
                    <a:pt x="196" y="1758"/>
                  </a:lnTo>
                  <a:lnTo>
                    <a:pt x="130" y="1821"/>
                  </a:lnTo>
                  <a:lnTo>
                    <a:pt x="65" y="1884"/>
                  </a:lnTo>
                  <a:lnTo>
                    <a:pt x="0" y="195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9782000">
              <a:off x="2312280" y="-2223000"/>
              <a:ext cx="10864080" cy="4432680"/>
            </a:xfrm>
            <a:custGeom>
              <a:avLst/>
              <a:gdLst/>
              <a:ahLst/>
              <a:rect l="l" t="t" r="r" b="b"/>
              <a:pathLst>
                <a:path w="5179" h="2066">
                  <a:moveTo>
                    <a:pt x="5179" y="0"/>
                  </a:moveTo>
                  <a:lnTo>
                    <a:pt x="5179" y="0"/>
                  </a:lnTo>
                  <a:lnTo>
                    <a:pt x="5176" y="19"/>
                  </a:lnTo>
                  <a:lnTo>
                    <a:pt x="5166" y="74"/>
                  </a:lnTo>
                  <a:lnTo>
                    <a:pt x="5158" y="114"/>
                  </a:lnTo>
                  <a:lnTo>
                    <a:pt x="5148" y="159"/>
                  </a:lnTo>
                  <a:lnTo>
                    <a:pt x="5134" y="211"/>
                  </a:lnTo>
                  <a:lnTo>
                    <a:pt x="5118" y="269"/>
                  </a:lnTo>
                  <a:lnTo>
                    <a:pt x="5098" y="331"/>
                  </a:lnTo>
                  <a:lnTo>
                    <a:pt x="5075" y="397"/>
                  </a:lnTo>
                  <a:lnTo>
                    <a:pt x="5048" y="466"/>
                  </a:lnTo>
                  <a:lnTo>
                    <a:pt x="5016" y="537"/>
                  </a:lnTo>
                  <a:lnTo>
                    <a:pt x="4982" y="612"/>
                  </a:lnTo>
                  <a:lnTo>
                    <a:pt x="4962" y="649"/>
                  </a:lnTo>
                  <a:lnTo>
                    <a:pt x="4941" y="686"/>
                  </a:lnTo>
                  <a:lnTo>
                    <a:pt x="4921" y="723"/>
                  </a:lnTo>
                  <a:lnTo>
                    <a:pt x="4897" y="762"/>
                  </a:lnTo>
                  <a:lnTo>
                    <a:pt x="4873" y="799"/>
                  </a:lnTo>
                  <a:lnTo>
                    <a:pt x="4848" y="836"/>
                  </a:lnTo>
                  <a:lnTo>
                    <a:pt x="4822" y="873"/>
                  </a:lnTo>
                  <a:lnTo>
                    <a:pt x="4794" y="909"/>
                  </a:lnTo>
                  <a:lnTo>
                    <a:pt x="4764" y="946"/>
                  </a:lnTo>
                  <a:lnTo>
                    <a:pt x="4733" y="981"/>
                  </a:lnTo>
                  <a:lnTo>
                    <a:pt x="4701" y="1015"/>
                  </a:lnTo>
                  <a:lnTo>
                    <a:pt x="4668" y="1051"/>
                  </a:lnTo>
                  <a:lnTo>
                    <a:pt x="4632" y="1083"/>
                  </a:lnTo>
                  <a:lnTo>
                    <a:pt x="4596" y="1117"/>
                  </a:lnTo>
                  <a:lnTo>
                    <a:pt x="4558" y="1148"/>
                  </a:lnTo>
                  <a:lnTo>
                    <a:pt x="4518" y="1178"/>
                  </a:lnTo>
                  <a:lnTo>
                    <a:pt x="4476" y="1207"/>
                  </a:lnTo>
                  <a:lnTo>
                    <a:pt x="4433" y="1236"/>
                  </a:lnTo>
                  <a:lnTo>
                    <a:pt x="4389" y="1262"/>
                  </a:lnTo>
                  <a:lnTo>
                    <a:pt x="4342" y="1288"/>
                  </a:lnTo>
                  <a:lnTo>
                    <a:pt x="4294" y="1312"/>
                  </a:lnTo>
                  <a:lnTo>
                    <a:pt x="4244" y="1335"/>
                  </a:lnTo>
                  <a:lnTo>
                    <a:pt x="4192" y="1356"/>
                  </a:lnTo>
                  <a:lnTo>
                    <a:pt x="4139" y="1374"/>
                  </a:lnTo>
                  <a:lnTo>
                    <a:pt x="4083" y="1391"/>
                  </a:lnTo>
                  <a:lnTo>
                    <a:pt x="4026" y="1406"/>
                  </a:lnTo>
                  <a:lnTo>
                    <a:pt x="3967" y="1419"/>
                  </a:lnTo>
                  <a:lnTo>
                    <a:pt x="3906" y="1430"/>
                  </a:lnTo>
                  <a:lnTo>
                    <a:pt x="3842" y="1438"/>
                  </a:lnTo>
                  <a:lnTo>
                    <a:pt x="3777" y="1445"/>
                  </a:lnTo>
                  <a:lnTo>
                    <a:pt x="3710" y="1450"/>
                  </a:lnTo>
                  <a:lnTo>
                    <a:pt x="3641" y="1451"/>
                  </a:lnTo>
                  <a:lnTo>
                    <a:pt x="3568" y="1450"/>
                  </a:lnTo>
                  <a:lnTo>
                    <a:pt x="3495" y="1446"/>
                  </a:lnTo>
                  <a:lnTo>
                    <a:pt x="3420" y="1440"/>
                  </a:lnTo>
                  <a:lnTo>
                    <a:pt x="3341" y="1430"/>
                  </a:lnTo>
                  <a:lnTo>
                    <a:pt x="3261" y="1417"/>
                  </a:lnTo>
                  <a:lnTo>
                    <a:pt x="3178" y="1403"/>
                  </a:lnTo>
                  <a:lnTo>
                    <a:pt x="3178" y="1403"/>
                  </a:lnTo>
                  <a:lnTo>
                    <a:pt x="3014" y="1370"/>
                  </a:lnTo>
                  <a:lnTo>
                    <a:pt x="2856" y="1343"/>
                  </a:lnTo>
                  <a:lnTo>
                    <a:pt x="2703" y="1317"/>
                  </a:lnTo>
                  <a:lnTo>
                    <a:pt x="2558" y="1296"/>
                  </a:lnTo>
                  <a:lnTo>
                    <a:pt x="2416" y="1280"/>
                  </a:lnTo>
                  <a:lnTo>
                    <a:pt x="2281" y="1265"/>
                  </a:lnTo>
                  <a:lnTo>
                    <a:pt x="2149" y="1256"/>
                  </a:lnTo>
                  <a:lnTo>
                    <a:pt x="2024" y="1249"/>
                  </a:lnTo>
                  <a:lnTo>
                    <a:pt x="1904" y="1246"/>
                  </a:lnTo>
                  <a:lnTo>
                    <a:pt x="1787" y="1246"/>
                  </a:lnTo>
                  <a:lnTo>
                    <a:pt x="1674" y="1249"/>
                  </a:lnTo>
                  <a:lnTo>
                    <a:pt x="1568" y="1256"/>
                  </a:lnTo>
                  <a:lnTo>
                    <a:pt x="1463" y="1267"/>
                  </a:lnTo>
                  <a:lnTo>
                    <a:pt x="1363" y="1280"/>
                  </a:lnTo>
                  <a:lnTo>
                    <a:pt x="1315" y="1288"/>
                  </a:lnTo>
                  <a:lnTo>
                    <a:pt x="1268" y="1298"/>
                  </a:lnTo>
                  <a:lnTo>
                    <a:pt x="1220" y="1307"/>
                  </a:lnTo>
                  <a:lnTo>
                    <a:pt x="1175" y="1319"/>
                  </a:lnTo>
                  <a:lnTo>
                    <a:pt x="1129" y="1330"/>
                  </a:lnTo>
                  <a:lnTo>
                    <a:pt x="1084" y="1341"/>
                  </a:lnTo>
                  <a:lnTo>
                    <a:pt x="1041" y="1354"/>
                  </a:lnTo>
                  <a:lnTo>
                    <a:pt x="998" y="1369"/>
                  </a:lnTo>
                  <a:lnTo>
                    <a:pt x="955" y="1383"/>
                  </a:lnTo>
                  <a:lnTo>
                    <a:pt x="914" y="1398"/>
                  </a:lnTo>
                  <a:lnTo>
                    <a:pt x="873" y="1414"/>
                  </a:lnTo>
                  <a:lnTo>
                    <a:pt x="833" y="1432"/>
                  </a:lnTo>
                  <a:lnTo>
                    <a:pt x="793" y="1450"/>
                  </a:lnTo>
                  <a:lnTo>
                    <a:pt x="754" y="1467"/>
                  </a:lnTo>
                  <a:lnTo>
                    <a:pt x="716" y="1487"/>
                  </a:lnTo>
                  <a:lnTo>
                    <a:pt x="678" y="1508"/>
                  </a:lnTo>
                  <a:lnTo>
                    <a:pt x="604" y="1550"/>
                  </a:lnTo>
                  <a:lnTo>
                    <a:pt x="532" y="1595"/>
                  </a:lnTo>
                  <a:lnTo>
                    <a:pt x="461" y="1643"/>
                  </a:lnTo>
                  <a:lnTo>
                    <a:pt x="392" y="1695"/>
                  </a:lnTo>
                  <a:lnTo>
                    <a:pt x="325" y="1750"/>
                  </a:lnTo>
                  <a:lnTo>
                    <a:pt x="258" y="1808"/>
                  </a:lnTo>
                  <a:lnTo>
                    <a:pt x="193" y="1868"/>
                  </a:lnTo>
                  <a:lnTo>
                    <a:pt x="128" y="1931"/>
                  </a:lnTo>
                  <a:lnTo>
                    <a:pt x="64" y="1997"/>
                  </a:lnTo>
                  <a:lnTo>
                    <a:pt x="0" y="206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9782000">
              <a:off x="2400480" y="-2381400"/>
              <a:ext cx="10801440" cy="4676760"/>
            </a:xfrm>
            <a:custGeom>
              <a:avLst/>
              <a:gdLst/>
              <a:ahLst/>
              <a:rect l="l" t="t" r="r" b="b"/>
              <a:pathLst>
                <a:path w="5149" h="2182">
                  <a:moveTo>
                    <a:pt x="5149" y="0"/>
                  </a:moveTo>
                  <a:lnTo>
                    <a:pt x="5149" y="0"/>
                  </a:lnTo>
                  <a:lnTo>
                    <a:pt x="5146" y="20"/>
                  </a:lnTo>
                  <a:lnTo>
                    <a:pt x="5136" y="76"/>
                  </a:lnTo>
                  <a:lnTo>
                    <a:pt x="5129" y="115"/>
                  </a:lnTo>
                  <a:lnTo>
                    <a:pt x="5119" y="162"/>
                  </a:lnTo>
                  <a:lnTo>
                    <a:pt x="5105" y="215"/>
                  </a:lnTo>
                  <a:lnTo>
                    <a:pt x="5090" y="273"/>
                  </a:lnTo>
                  <a:lnTo>
                    <a:pt x="5072" y="336"/>
                  </a:lnTo>
                  <a:lnTo>
                    <a:pt x="5050" y="402"/>
                  </a:lnTo>
                  <a:lnTo>
                    <a:pt x="5024" y="472"/>
                  </a:lnTo>
                  <a:lnTo>
                    <a:pt x="4993" y="545"/>
                  </a:lnTo>
                  <a:lnTo>
                    <a:pt x="4960" y="620"/>
                  </a:lnTo>
                  <a:lnTo>
                    <a:pt x="4940" y="658"/>
                  </a:lnTo>
                  <a:lnTo>
                    <a:pt x="4921" y="696"/>
                  </a:lnTo>
                  <a:lnTo>
                    <a:pt x="4900" y="734"/>
                  </a:lnTo>
                  <a:lnTo>
                    <a:pt x="4878" y="772"/>
                  </a:lnTo>
                  <a:lnTo>
                    <a:pt x="4854" y="809"/>
                  </a:lnTo>
                  <a:lnTo>
                    <a:pt x="4829" y="848"/>
                  </a:lnTo>
                  <a:lnTo>
                    <a:pt x="4803" y="885"/>
                  </a:lnTo>
                  <a:lnTo>
                    <a:pt x="4776" y="922"/>
                  </a:lnTo>
                  <a:lnTo>
                    <a:pt x="4747" y="960"/>
                  </a:lnTo>
                  <a:lnTo>
                    <a:pt x="4717" y="997"/>
                  </a:lnTo>
                  <a:lnTo>
                    <a:pt x="4685" y="1032"/>
                  </a:lnTo>
                  <a:lnTo>
                    <a:pt x="4651" y="1068"/>
                  </a:lnTo>
                  <a:lnTo>
                    <a:pt x="4617" y="1102"/>
                  </a:lnTo>
                  <a:lnTo>
                    <a:pt x="4581" y="1136"/>
                  </a:lnTo>
                  <a:lnTo>
                    <a:pt x="4543" y="1168"/>
                  </a:lnTo>
                  <a:lnTo>
                    <a:pt x="4504" y="1199"/>
                  </a:lnTo>
                  <a:lnTo>
                    <a:pt x="4463" y="1229"/>
                  </a:lnTo>
                  <a:lnTo>
                    <a:pt x="4421" y="1258"/>
                  </a:lnTo>
                  <a:lnTo>
                    <a:pt x="4377" y="1287"/>
                  </a:lnTo>
                  <a:lnTo>
                    <a:pt x="4331" y="1313"/>
                  </a:lnTo>
                  <a:lnTo>
                    <a:pt x="4282" y="1337"/>
                  </a:lnTo>
                  <a:lnTo>
                    <a:pt x="4232" y="1362"/>
                  </a:lnTo>
                  <a:lnTo>
                    <a:pt x="4181" y="1384"/>
                  </a:lnTo>
                  <a:lnTo>
                    <a:pt x="4128" y="1404"/>
                  </a:lnTo>
                  <a:lnTo>
                    <a:pt x="4073" y="1421"/>
                  </a:lnTo>
                  <a:lnTo>
                    <a:pt x="4016" y="1438"/>
                  </a:lnTo>
                  <a:lnTo>
                    <a:pt x="3957" y="1452"/>
                  </a:lnTo>
                  <a:lnTo>
                    <a:pt x="3896" y="1465"/>
                  </a:lnTo>
                  <a:lnTo>
                    <a:pt x="3832" y="1475"/>
                  </a:lnTo>
                  <a:lnTo>
                    <a:pt x="3767" y="1483"/>
                  </a:lnTo>
                  <a:lnTo>
                    <a:pt x="3700" y="1488"/>
                  </a:lnTo>
                  <a:lnTo>
                    <a:pt x="3631" y="1491"/>
                  </a:lnTo>
                  <a:lnTo>
                    <a:pt x="3559" y="1491"/>
                  </a:lnTo>
                  <a:lnTo>
                    <a:pt x="3485" y="1489"/>
                  </a:lnTo>
                  <a:lnTo>
                    <a:pt x="3410" y="1483"/>
                  </a:lnTo>
                  <a:lnTo>
                    <a:pt x="3331" y="1476"/>
                  </a:lnTo>
                  <a:lnTo>
                    <a:pt x="3251" y="1465"/>
                  </a:lnTo>
                  <a:lnTo>
                    <a:pt x="3169" y="1450"/>
                  </a:lnTo>
                  <a:lnTo>
                    <a:pt x="3169" y="1450"/>
                  </a:lnTo>
                  <a:lnTo>
                    <a:pt x="3003" y="1423"/>
                  </a:lnTo>
                  <a:lnTo>
                    <a:pt x="2845" y="1397"/>
                  </a:lnTo>
                  <a:lnTo>
                    <a:pt x="2692" y="1376"/>
                  </a:lnTo>
                  <a:lnTo>
                    <a:pt x="2545" y="1358"/>
                  </a:lnTo>
                  <a:lnTo>
                    <a:pt x="2405" y="1344"/>
                  </a:lnTo>
                  <a:lnTo>
                    <a:pt x="2269" y="1333"/>
                  </a:lnTo>
                  <a:lnTo>
                    <a:pt x="2138" y="1324"/>
                  </a:lnTo>
                  <a:lnTo>
                    <a:pt x="2012" y="1321"/>
                  </a:lnTo>
                  <a:lnTo>
                    <a:pt x="1891" y="1320"/>
                  </a:lnTo>
                  <a:lnTo>
                    <a:pt x="1775" y="1323"/>
                  </a:lnTo>
                  <a:lnTo>
                    <a:pt x="1664" y="1328"/>
                  </a:lnTo>
                  <a:lnTo>
                    <a:pt x="1555" y="1337"/>
                  </a:lnTo>
                  <a:lnTo>
                    <a:pt x="1451" y="1350"/>
                  </a:lnTo>
                  <a:lnTo>
                    <a:pt x="1353" y="1366"/>
                  </a:lnTo>
                  <a:lnTo>
                    <a:pt x="1304" y="1375"/>
                  </a:lnTo>
                  <a:lnTo>
                    <a:pt x="1255" y="1384"/>
                  </a:lnTo>
                  <a:lnTo>
                    <a:pt x="1210" y="1396"/>
                  </a:lnTo>
                  <a:lnTo>
                    <a:pt x="1164" y="1407"/>
                  </a:lnTo>
                  <a:lnTo>
                    <a:pt x="1118" y="1420"/>
                  </a:lnTo>
                  <a:lnTo>
                    <a:pt x="1074" y="1433"/>
                  </a:lnTo>
                  <a:lnTo>
                    <a:pt x="1030" y="1447"/>
                  </a:lnTo>
                  <a:lnTo>
                    <a:pt x="987" y="1462"/>
                  </a:lnTo>
                  <a:lnTo>
                    <a:pt x="946" y="1476"/>
                  </a:lnTo>
                  <a:lnTo>
                    <a:pt x="904" y="1492"/>
                  </a:lnTo>
                  <a:lnTo>
                    <a:pt x="864" y="1510"/>
                  </a:lnTo>
                  <a:lnTo>
                    <a:pt x="824" y="1528"/>
                  </a:lnTo>
                  <a:lnTo>
                    <a:pt x="785" y="1547"/>
                  </a:lnTo>
                  <a:lnTo>
                    <a:pt x="746" y="1567"/>
                  </a:lnTo>
                  <a:lnTo>
                    <a:pt x="707" y="1586"/>
                  </a:lnTo>
                  <a:lnTo>
                    <a:pt x="669" y="1607"/>
                  </a:lnTo>
                  <a:lnTo>
                    <a:pt x="596" y="1652"/>
                  </a:lnTo>
                  <a:lnTo>
                    <a:pt x="525" y="1699"/>
                  </a:lnTo>
                  <a:lnTo>
                    <a:pt x="456" y="1749"/>
                  </a:lnTo>
                  <a:lnTo>
                    <a:pt x="386" y="1802"/>
                  </a:lnTo>
                  <a:lnTo>
                    <a:pt x="320" y="1859"/>
                  </a:lnTo>
                  <a:lnTo>
                    <a:pt x="254" y="1917"/>
                  </a:lnTo>
                  <a:lnTo>
                    <a:pt x="190" y="1980"/>
                  </a:lnTo>
                  <a:lnTo>
                    <a:pt x="127" y="2045"/>
                  </a:lnTo>
                  <a:lnTo>
                    <a:pt x="63" y="2112"/>
                  </a:lnTo>
                  <a:lnTo>
                    <a:pt x="0" y="218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9782000">
              <a:off x="2494440" y="-2538360"/>
              <a:ext cx="10725840" cy="4925880"/>
            </a:xfrm>
            <a:custGeom>
              <a:avLst/>
              <a:gdLst/>
              <a:ahLst/>
              <a:rect l="l" t="t" r="r" b="b"/>
              <a:pathLst>
                <a:path w="5113" h="2298">
                  <a:moveTo>
                    <a:pt x="5113" y="0"/>
                  </a:moveTo>
                  <a:lnTo>
                    <a:pt x="5113" y="0"/>
                  </a:lnTo>
                  <a:lnTo>
                    <a:pt x="5112" y="21"/>
                  </a:lnTo>
                  <a:lnTo>
                    <a:pt x="5104" y="78"/>
                  </a:lnTo>
                  <a:lnTo>
                    <a:pt x="5097" y="117"/>
                  </a:lnTo>
                  <a:lnTo>
                    <a:pt x="5087" y="163"/>
                  </a:lnTo>
                  <a:lnTo>
                    <a:pt x="5075" y="217"/>
                  </a:lnTo>
                  <a:lnTo>
                    <a:pt x="5061" y="276"/>
                  </a:lnTo>
                  <a:lnTo>
                    <a:pt x="5043" y="339"/>
                  </a:lnTo>
                  <a:lnTo>
                    <a:pt x="5020" y="407"/>
                  </a:lnTo>
                  <a:lnTo>
                    <a:pt x="4997" y="478"/>
                  </a:lnTo>
                  <a:lnTo>
                    <a:pt x="4968" y="551"/>
                  </a:lnTo>
                  <a:lnTo>
                    <a:pt x="4934" y="627"/>
                  </a:lnTo>
                  <a:lnTo>
                    <a:pt x="4916" y="666"/>
                  </a:lnTo>
                  <a:lnTo>
                    <a:pt x="4897" y="704"/>
                  </a:lnTo>
                  <a:lnTo>
                    <a:pt x="4876" y="743"/>
                  </a:lnTo>
                  <a:lnTo>
                    <a:pt x="4855" y="782"/>
                  </a:lnTo>
                  <a:lnTo>
                    <a:pt x="4832" y="821"/>
                  </a:lnTo>
                  <a:lnTo>
                    <a:pt x="4808" y="859"/>
                  </a:lnTo>
                  <a:lnTo>
                    <a:pt x="4783" y="896"/>
                  </a:lnTo>
                  <a:lnTo>
                    <a:pt x="4755" y="935"/>
                  </a:lnTo>
                  <a:lnTo>
                    <a:pt x="4727" y="972"/>
                  </a:lnTo>
                  <a:lnTo>
                    <a:pt x="4697" y="1009"/>
                  </a:lnTo>
                  <a:lnTo>
                    <a:pt x="4666" y="1047"/>
                  </a:lnTo>
                  <a:lnTo>
                    <a:pt x="4634" y="1082"/>
                  </a:lnTo>
                  <a:lnTo>
                    <a:pt x="4600" y="1118"/>
                  </a:lnTo>
                  <a:lnTo>
                    <a:pt x="4564" y="1153"/>
                  </a:lnTo>
                  <a:lnTo>
                    <a:pt x="4528" y="1185"/>
                  </a:lnTo>
                  <a:lnTo>
                    <a:pt x="4489" y="1218"/>
                  </a:lnTo>
                  <a:lnTo>
                    <a:pt x="4447" y="1250"/>
                  </a:lnTo>
                  <a:lnTo>
                    <a:pt x="4405" y="1281"/>
                  </a:lnTo>
                  <a:lnTo>
                    <a:pt x="4361" y="1310"/>
                  </a:lnTo>
                  <a:lnTo>
                    <a:pt x="4315" y="1337"/>
                  </a:lnTo>
                  <a:lnTo>
                    <a:pt x="4268" y="1363"/>
                  </a:lnTo>
                  <a:lnTo>
                    <a:pt x="4219" y="1387"/>
                  </a:lnTo>
                  <a:lnTo>
                    <a:pt x="4168" y="1410"/>
                  </a:lnTo>
                  <a:lnTo>
                    <a:pt x="4115" y="1431"/>
                  </a:lnTo>
                  <a:lnTo>
                    <a:pt x="4060" y="1450"/>
                  </a:lnTo>
                  <a:lnTo>
                    <a:pt x="4003" y="1468"/>
                  </a:lnTo>
                  <a:lnTo>
                    <a:pt x="3944" y="1484"/>
                  </a:lnTo>
                  <a:lnTo>
                    <a:pt x="3883" y="1497"/>
                  </a:lnTo>
                  <a:lnTo>
                    <a:pt x="3821" y="1508"/>
                  </a:lnTo>
                  <a:lnTo>
                    <a:pt x="3756" y="1518"/>
                  </a:lnTo>
                  <a:lnTo>
                    <a:pt x="3689" y="1525"/>
                  </a:lnTo>
                  <a:lnTo>
                    <a:pt x="3619" y="1529"/>
                  </a:lnTo>
                  <a:lnTo>
                    <a:pt x="3547" y="1531"/>
                  </a:lnTo>
                  <a:lnTo>
                    <a:pt x="3474" y="1529"/>
                  </a:lnTo>
                  <a:lnTo>
                    <a:pt x="3397" y="1526"/>
                  </a:lnTo>
                  <a:lnTo>
                    <a:pt x="3320" y="1520"/>
                  </a:lnTo>
                  <a:lnTo>
                    <a:pt x="3239" y="1512"/>
                  </a:lnTo>
                  <a:lnTo>
                    <a:pt x="3156" y="1499"/>
                  </a:lnTo>
                  <a:lnTo>
                    <a:pt x="3156" y="1499"/>
                  </a:lnTo>
                  <a:lnTo>
                    <a:pt x="2991" y="1473"/>
                  </a:lnTo>
                  <a:lnTo>
                    <a:pt x="2832" y="1452"/>
                  </a:lnTo>
                  <a:lnTo>
                    <a:pt x="2680" y="1433"/>
                  </a:lnTo>
                  <a:lnTo>
                    <a:pt x="2532" y="1418"/>
                  </a:lnTo>
                  <a:lnTo>
                    <a:pt x="2391" y="1407"/>
                  </a:lnTo>
                  <a:lnTo>
                    <a:pt x="2255" y="1397"/>
                  </a:lnTo>
                  <a:lnTo>
                    <a:pt x="2124" y="1392"/>
                  </a:lnTo>
                  <a:lnTo>
                    <a:pt x="1998" y="1391"/>
                  </a:lnTo>
                  <a:lnTo>
                    <a:pt x="1877" y="1392"/>
                  </a:lnTo>
                  <a:lnTo>
                    <a:pt x="1760" y="1397"/>
                  </a:lnTo>
                  <a:lnTo>
                    <a:pt x="1649" y="1405"/>
                  </a:lnTo>
                  <a:lnTo>
                    <a:pt x="1541" y="1418"/>
                  </a:lnTo>
                  <a:lnTo>
                    <a:pt x="1438" y="1433"/>
                  </a:lnTo>
                  <a:lnTo>
                    <a:pt x="1338" y="1450"/>
                  </a:lnTo>
                  <a:lnTo>
                    <a:pt x="1290" y="1460"/>
                  </a:lnTo>
                  <a:lnTo>
                    <a:pt x="1242" y="1471"/>
                  </a:lnTo>
                  <a:lnTo>
                    <a:pt x="1197" y="1483"/>
                  </a:lnTo>
                  <a:lnTo>
                    <a:pt x="1151" y="1496"/>
                  </a:lnTo>
                  <a:lnTo>
                    <a:pt x="1106" y="1508"/>
                  </a:lnTo>
                  <a:lnTo>
                    <a:pt x="1062" y="1523"/>
                  </a:lnTo>
                  <a:lnTo>
                    <a:pt x="1019" y="1537"/>
                  </a:lnTo>
                  <a:lnTo>
                    <a:pt x="976" y="1554"/>
                  </a:lnTo>
                  <a:lnTo>
                    <a:pt x="934" y="1570"/>
                  </a:lnTo>
                  <a:lnTo>
                    <a:pt x="893" y="1588"/>
                  </a:lnTo>
                  <a:lnTo>
                    <a:pt x="852" y="1605"/>
                  </a:lnTo>
                  <a:lnTo>
                    <a:pt x="813" y="1623"/>
                  </a:lnTo>
                  <a:lnTo>
                    <a:pt x="775" y="1644"/>
                  </a:lnTo>
                  <a:lnTo>
                    <a:pt x="736" y="1663"/>
                  </a:lnTo>
                  <a:lnTo>
                    <a:pt x="698" y="1684"/>
                  </a:lnTo>
                  <a:lnTo>
                    <a:pt x="661" y="1707"/>
                  </a:lnTo>
                  <a:lnTo>
                    <a:pt x="587" y="1752"/>
                  </a:lnTo>
                  <a:lnTo>
                    <a:pt x="516" y="1801"/>
                  </a:lnTo>
                  <a:lnTo>
                    <a:pt x="448" y="1854"/>
                  </a:lnTo>
                  <a:lnTo>
                    <a:pt x="380" y="1907"/>
                  </a:lnTo>
                  <a:lnTo>
                    <a:pt x="315" y="1965"/>
                  </a:lnTo>
                  <a:lnTo>
                    <a:pt x="250" y="2027"/>
                  </a:lnTo>
                  <a:lnTo>
                    <a:pt x="186" y="2090"/>
                  </a:lnTo>
                  <a:lnTo>
                    <a:pt x="123" y="2156"/>
                  </a:lnTo>
                  <a:lnTo>
                    <a:pt x="61" y="2225"/>
                  </a:lnTo>
                  <a:lnTo>
                    <a:pt x="0" y="229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9782000">
              <a:off x="2588040" y="-2691360"/>
              <a:ext cx="10654200" cy="5169600"/>
            </a:xfrm>
            <a:custGeom>
              <a:avLst/>
              <a:gdLst/>
              <a:ahLst/>
              <a:rect l="l" t="t" r="r" b="b"/>
              <a:pathLst>
                <a:path w="5079" h="2412">
                  <a:moveTo>
                    <a:pt x="5079" y="0"/>
                  </a:moveTo>
                  <a:lnTo>
                    <a:pt x="5079" y="0"/>
                  </a:lnTo>
                  <a:lnTo>
                    <a:pt x="5078" y="19"/>
                  </a:lnTo>
                  <a:lnTo>
                    <a:pt x="5070" y="76"/>
                  </a:lnTo>
                  <a:lnTo>
                    <a:pt x="5064" y="116"/>
                  </a:lnTo>
                  <a:lnTo>
                    <a:pt x="5054" y="164"/>
                  </a:lnTo>
                  <a:lnTo>
                    <a:pt x="5045" y="218"/>
                  </a:lnTo>
                  <a:lnTo>
                    <a:pt x="5031" y="278"/>
                  </a:lnTo>
                  <a:lnTo>
                    <a:pt x="5013" y="340"/>
                  </a:lnTo>
                  <a:lnTo>
                    <a:pt x="4993" y="410"/>
                  </a:lnTo>
                  <a:lnTo>
                    <a:pt x="4970" y="481"/>
                  </a:lnTo>
                  <a:lnTo>
                    <a:pt x="4942" y="555"/>
                  </a:lnTo>
                  <a:lnTo>
                    <a:pt x="4910" y="633"/>
                  </a:lnTo>
                  <a:lnTo>
                    <a:pt x="4892" y="672"/>
                  </a:lnTo>
                  <a:lnTo>
                    <a:pt x="4874" y="710"/>
                  </a:lnTo>
                  <a:lnTo>
                    <a:pt x="4853" y="749"/>
                  </a:lnTo>
                  <a:lnTo>
                    <a:pt x="4832" y="789"/>
                  </a:lnTo>
                  <a:lnTo>
                    <a:pt x="4810" y="828"/>
                  </a:lnTo>
                  <a:lnTo>
                    <a:pt x="4786" y="868"/>
                  </a:lnTo>
                  <a:lnTo>
                    <a:pt x="4761" y="907"/>
                  </a:lnTo>
                  <a:lnTo>
                    <a:pt x="4735" y="946"/>
                  </a:lnTo>
                  <a:lnTo>
                    <a:pt x="4707" y="985"/>
                  </a:lnTo>
                  <a:lnTo>
                    <a:pt x="4678" y="1022"/>
                  </a:lnTo>
                  <a:lnTo>
                    <a:pt x="4648" y="1059"/>
                  </a:lnTo>
                  <a:lnTo>
                    <a:pt x="4616" y="1096"/>
                  </a:lnTo>
                  <a:lnTo>
                    <a:pt x="4582" y="1132"/>
                  </a:lnTo>
                  <a:lnTo>
                    <a:pt x="4548" y="1167"/>
                  </a:lnTo>
                  <a:lnTo>
                    <a:pt x="4510" y="1203"/>
                  </a:lnTo>
                  <a:lnTo>
                    <a:pt x="4473" y="1235"/>
                  </a:lnTo>
                  <a:lnTo>
                    <a:pt x="4432" y="1267"/>
                  </a:lnTo>
                  <a:lnTo>
                    <a:pt x="4391" y="1300"/>
                  </a:lnTo>
                  <a:lnTo>
                    <a:pt x="4348" y="1329"/>
                  </a:lnTo>
                  <a:lnTo>
                    <a:pt x="4302" y="1358"/>
                  </a:lnTo>
                  <a:lnTo>
                    <a:pt x="4255" y="1385"/>
                  </a:lnTo>
                  <a:lnTo>
                    <a:pt x="4206" y="1411"/>
                  </a:lnTo>
                  <a:lnTo>
                    <a:pt x="4155" y="1435"/>
                  </a:lnTo>
                  <a:lnTo>
                    <a:pt x="4102" y="1458"/>
                  </a:lnTo>
                  <a:lnTo>
                    <a:pt x="4048" y="1477"/>
                  </a:lnTo>
                  <a:lnTo>
                    <a:pt x="3991" y="1497"/>
                  </a:lnTo>
                  <a:lnTo>
                    <a:pt x="3932" y="1513"/>
                  </a:lnTo>
                  <a:lnTo>
                    <a:pt x="3871" y="1529"/>
                  </a:lnTo>
                  <a:lnTo>
                    <a:pt x="3809" y="1540"/>
                  </a:lnTo>
                  <a:lnTo>
                    <a:pt x="3745" y="1552"/>
                  </a:lnTo>
                  <a:lnTo>
                    <a:pt x="3677" y="1560"/>
                  </a:lnTo>
                  <a:lnTo>
                    <a:pt x="3608" y="1564"/>
                  </a:lnTo>
                  <a:lnTo>
                    <a:pt x="3537" y="1568"/>
                  </a:lnTo>
                  <a:lnTo>
                    <a:pt x="3463" y="1569"/>
                  </a:lnTo>
                  <a:lnTo>
                    <a:pt x="3387" y="1568"/>
                  </a:lnTo>
                  <a:lnTo>
                    <a:pt x="3309" y="1563"/>
                  </a:lnTo>
                  <a:lnTo>
                    <a:pt x="3229" y="1555"/>
                  </a:lnTo>
                  <a:lnTo>
                    <a:pt x="3145" y="1545"/>
                  </a:lnTo>
                  <a:lnTo>
                    <a:pt x="3145" y="1545"/>
                  </a:lnTo>
                  <a:lnTo>
                    <a:pt x="2980" y="1522"/>
                  </a:lnTo>
                  <a:lnTo>
                    <a:pt x="2820" y="1503"/>
                  </a:lnTo>
                  <a:lnTo>
                    <a:pt x="2668" y="1489"/>
                  </a:lnTo>
                  <a:lnTo>
                    <a:pt x="2520" y="1476"/>
                  </a:lnTo>
                  <a:lnTo>
                    <a:pt x="2379" y="1466"/>
                  </a:lnTo>
                  <a:lnTo>
                    <a:pt x="2241" y="1461"/>
                  </a:lnTo>
                  <a:lnTo>
                    <a:pt x="2111" y="1458"/>
                  </a:lnTo>
                  <a:lnTo>
                    <a:pt x="1986" y="1459"/>
                  </a:lnTo>
                  <a:lnTo>
                    <a:pt x="1865" y="1464"/>
                  </a:lnTo>
                  <a:lnTo>
                    <a:pt x="1748" y="1471"/>
                  </a:lnTo>
                  <a:lnTo>
                    <a:pt x="1636" y="1482"/>
                  </a:lnTo>
                  <a:lnTo>
                    <a:pt x="1529" y="1495"/>
                  </a:lnTo>
                  <a:lnTo>
                    <a:pt x="1426" y="1513"/>
                  </a:lnTo>
                  <a:lnTo>
                    <a:pt x="1326" y="1532"/>
                  </a:lnTo>
                  <a:lnTo>
                    <a:pt x="1279" y="1543"/>
                  </a:lnTo>
                  <a:lnTo>
                    <a:pt x="1232" y="1555"/>
                  </a:lnTo>
                  <a:lnTo>
                    <a:pt x="1185" y="1568"/>
                  </a:lnTo>
                  <a:lnTo>
                    <a:pt x="1139" y="1582"/>
                  </a:lnTo>
                  <a:lnTo>
                    <a:pt x="1095" y="1595"/>
                  </a:lnTo>
                  <a:lnTo>
                    <a:pt x="1051" y="1611"/>
                  </a:lnTo>
                  <a:lnTo>
                    <a:pt x="1008" y="1627"/>
                  </a:lnTo>
                  <a:lnTo>
                    <a:pt x="965" y="1644"/>
                  </a:lnTo>
                  <a:lnTo>
                    <a:pt x="924" y="1661"/>
                  </a:lnTo>
                  <a:lnTo>
                    <a:pt x="883" y="1679"/>
                  </a:lnTo>
                  <a:lnTo>
                    <a:pt x="843" y="1698"/>
                  </a:lnTo>
                  <a:lnTo>
                    <a:pt x="804" y="1718"/>
                  </a:lnTo>
                  <a:lnTo>
                    <a:pt x="765" y="1737"/>
                  </a:lnTo>
                  <a:lnTo>
                    <a:pt x="727" y="1760"/>
                  </a:lnTo>
                  <a:lnTo>
                    <a:pt x="689" y="1781"/>
                  </a:lnTo>
                  <a:lnTo>
                    <a:pt x="653" y="1803"/>
                  </a:lnTo>
                  <a:lnTo>
                    <a:pt x="581" y="1852"/>
                  </a:lnTo>
                  <a:lnTo>
                    <a:pt x="510" y="1902"/>
                  </a:lnTo>
                  <a:lnTo>
                    <a:pt x="442" y="1955"/>
                  </a:lnTo>
                  <a:lnTo>
                    <a:pt x="375" y="2012"/>
                  </a:lnTo>
                  <a:lnTo>
                    <a:pt x="310" y="2071"/>
                  </a:lnTo>
                  <a:lnTo>
                    <a:pt x="246" y="2133"/>
                  </a:lnTo>
                  <a:lnTo>
                    <a:pt x="184" y="2199"/>
                  </a:lnTo>
                  <a:lnTo>
                    <a:pt x="123" y="2267"/>
                  </a:lnTo>
                  <a:lnTo>
                    <a:pt x="62" y="2338"/>
                  </a:lnTo>
                  <a:lnTo>
                    <a:pt x="0" y="241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9782000">
              <a:off x="2682360" y="-2848320"/>
              <a:ext cx="10576800" cy="5414760"/>
            </a:xfrm>
            <a:custGeom>
              <a:avLst/>
              <a:gdLst/>
              <a:ahLst/>
              <a:rect l="l" t="t" r="r" b="b"/>
              <a:pathLst>
                <a:path w="5042" h="2527">
                  <a:moveTo>
                    <a:pt x="5042" y="0"/>
                  </a:moveTo>
                  <a:lnTo>
                    <a:pt x="5042" y="0"/>
                  </a:lnTo>
                  <a:lnTo>
                    <a:pt x="5040" y="21"/>
                  </a:lnTo>
                  <a:lnTo>
                    <a:pt x="5033" y="77"/>
                  </a:lnTo>
                  <a:lnTo>
                    <a:pt x="5028" y="118"/>
                  </a:lnTo>
                  <a:lnTo>
                    <a:pt x="5021" y="166"/>
                  </a:lnTo>
                  <a:lnTo>
                    <a:pt x="5010" y="221"/>
                  </a:lnTo>
                  <a:lnTo>
                    <a:pt x="4997" y="281"/>
                  </a:lnTo>
                  <a:lnTo>
                    <a:pt x="4981" y="345"/>
                  </a:lnTo>
                  <a:lnTo>
                    <a:pt x="4963" y="413"/>
                  </a:lnTo>
                  <a:lnTo>
                    <a:pt x="4939" y="486"/>
                  </a:lnTo>
                  <a:lnTo>
                    <a:pt x="4913" y="562"/>
                  </a:lnTo>
                  <a:lnTo>
                    <a:pt x="4882" y="639"/>
                  </a:lnTo>
                  <a:lnTo>
                    <a:pt x="4865" y="679"/>
                  </a:lnTo>
                  <a:lnTo>
                    <a:pt x="4847" y="718"/>
                  </a:lnTo>
                  <a:lnTo>
                    <a:pt x="4828" y="759"/>
                  </a:lnTo>
                  <a:lnTo>
                    <a:pt x="4807" y="799"/>
                  </a:lnTo>
                  <a:lnTo>
                    <a:pt x="4785" y="839"/>
                  </a:lnTo>
                  <a:lnTo>
                    <a:pt x="4763" y="878"/>
                  </a:lnTo>
                  <a:lnTo>
                    <a:pt x="4738" y="918"/>
                  </a:lnTo>
                  <a:lnTo>
                    <a:pt x="4713" y="957"/>
                  </a:lnTo>
                  <a:lnTo>
                    <a:pt x="4685" y="998"/>
                  </a:lnTo>
                  <a:lnTo>
                    <a:pt x="4657" y="1036"/>
                  </a:lnTo>
                  <a:lnTo>
                    <a:pt x="4627" y="1073"/>
                  </a:lnTo>
                  <a:lnTo>
                    <a:pt x="4596" y="1112"/>
                  </a:lnTo>
                  <a:lnTo>
                    <a:pt x="4563" y="1149"/>
                  </a:lnTo>
                  <a:lnTo>
                    <a:pt x="4528" y="1185"/>
                  </a:lnTo>
                  <a:lnTo>
                    <a:pt x="4492" y="1220"/>
                  </a:lnTo>
                  <a:lnTo>
                    <a:pt x="4454" y="1254"/>
                  </a:lnTo>
                  <a:lnTo>
                    <a:pt x="4414" y="1288"/>
                  </a:lnTo>
                  <a:lnTo>
                    <a:pt x="4373" y="1320"/>
                  </a:lnTo>
                  <a:lnTo>
                    <a:pt x="4330" y="1351"/>
                  </a:lnTo>
                  <a:lnTo>
                    <a:pt x="4285" y="1380"/>
                  </a:lnTo>
                  <a:lnTo>
                    <a:pt x="4239" y="1409"/>
                  </a:lnTo>
                  <a:lnTo>
                    <a:pt x="4191" y="1435"/>
                  </a:lnTo>
                  <a:lnTo>
                    <a:pt x="4139" y="1461"/>
                  </a:lnTo>
                  <a:lnTo>
                    <a:pt x="4088" y="1485"/>
                  </a:lnTo>
                  <a:lnTo>
                    <a:pt x="4034" y="1506"/>
                  </a:lnTo>
                  <a:lnTo>
                    <a:pt x="3977" y="1527"/>
                  </a:lnTo>
                  <a:lnTo>
                    <a:pt x="3919" y="1545"/>
                  </a:lnTo>
                  <a:lnTo>
                    <a:pt x="3857" y="1561"/>
                  </a:lnTo>
                  <a:lnTo>
                    <a:pt x="3795" y="1574"/>
                  </a:lnTo>
                  <a:lnTo>
                    <a:pt x="3731" y="1587"/>
                  </a:lnTo>
                  <a:lnTo>
                    <a:pt x="3664" y="1597"/>
                  </a:lnTo>
                  <a:lnTo>
                    <a:pt x="3595" y="1603"/>
                  </a:lnTo>
                  <a:lnTo>
                    <a:pt x="3523" y="1608"/>
                  </a:lnTo>
                  <a:lnTo>
                    <a:pt x="3449" y="1610"/>
                  </a:lnTo>
                  <a:lnTo>
                    <a:pt x="3374" y="1610"/>
                  </a:lnTo>
                  <a:lnTo>
                    <a:pt x="3295" y="1606"/>
                  </a:lnTo>
                  <a:lnTo>
                    <a:pt x="3215" y="1601"/>
                  </a:lnTo>
                  <a:lnTo>
                    <a:pt x="3131" y="1592"/>
                  </a:lnTo>
                  <a:lnTo>
                    <a:pt x="3131" y="1592"/>
                  </a:lnTo>
                  <a:lnTo>
                    <a:pt x="2966" y="1572"/>
                  </a:lnTo>
                  <a:lnTo>
                    <a:pt x="2806" y="1558"/>
                  </a:lnTo>
                  <a:lnTo>
                    <a:pt x="2652" y="1545"/>
                  </a:lnTo>
                  <a:lnTo>
                    <a:pt x="2505" y="1535"/>
                  </a:lnTo>
                  <a:lnTo>
                    <a:pt x="2364" y="1529"/>
                  </a:lnTo>
                  <a:lnTo>
                    <a:pt x="2227" y="1526"/>
                  </a:lnTo>
                  <a:lnTo>
                    <a:pt x="2097" y="1527"/>
                  </a:lnTo>
                  <a:lnTo>
                    <a:pt x="1971" y="1530"/>
                  </a:lnTo>
                  <a:lnTo>
                    <a:pt x="1850" y="1537"/>
                  </a:lnTo>
                  <a:lnTo>
                    <a:pt x="1733" y="1547"/>
                  </a:lnTo>
                  <a:lnTo>
                    <a:pt x="1622" y="1559"/>
                  </a:lnTo>
                  <a:lnTo>
                    <a:pt x="1515" y="1576"/>
                  </a:lnTo>
                  <a:lnTo>
                    <a:pt x="1412" y="1595"/>
                  </a:lnTo>
                  <a:lnTo>
                    <a:pt x="1362" y="1605"/>
                  </a:lnTo>
                  <a:lnTo>
                    <a:pt x="1314" y="1616"/>
                  </a:lnTo>
                  <a:lnTo>
                    <a:pt x="1265" y="1629"/>
                  </a:lnTo>
                  <a:lnTo>
                    <a:pt x="1218" y="1642"/>
                  </a:lnTo>
                  <a:lnTo>
                    <a:pt x="1172" y="1655"/>
                  </a:lnTo>
                  <a:lnTo>
                    <a:pt x="1126" y="1669"/>
                  </a:lnTo>
                  <a:lnTo>
                    <a:pt x="1082" y="1685"/>
                  </a:lnTo>
                  <a:lnTo>
                    <a:pt x="1039" y="1702"/>
                  </a:lnTo>
                  <a:lnTo>
                    <a:pt x="996" y="1718"/>
                  </a:lnTo>
                  <a:lnTo>
                    <a:pt x="954" y="1735"/>
                  </a:lnTo>
                  <a:lnTo>
                    <a:pt x="913" y="1753"/>
                  </a:lnTo>
                  <a:lnTo>
                    <a:pt x="872" y="1773"/>
                  </a:lnTo>
                  <a:lnTo>
                    <a:pt x="832" y="1792"/>
                  </a:lnTo>
                  <a:lnTo>
                    <a:pt x="793" y="1813"/>
                  </a:lnTo>
                  <a:lnTo>
                    <a:pt x="756" y="1834"/>
                  </a:lnTo>
                  <a:lnTo>
                    <a:pt x="717" y="1857"/>
                  </a:lnTo>
                  <a:lnTo>
                    <a:pt x="681" y="1879"/>
                  </a:lnTo>
                  <a:lnTo>
                    <a:pt x="643" y="1903"/>
                  </a:lnTo>
                  <a:lnTo>
                    <a:pt x="572" y="1952"/>
                  </a:lnTo>
                  <a:lnTo>
                    <a:pt x="503" y="2005"/>
                  </a:lnTo>
                  <a:lnTo>
                    <a:pt x="435" y="2060"/>
                  </a:lnTo>
                  <a:lnTo>
                    <a:pt x="370" y="2118"/>
                  </a:lnTo>
                  <a:lnTo>
                    <a:pt x="306" y="2179"/>
                  </a:lnTo>
                  <a:lnTo>
                    <a:pt x="242" y="2242"/>
                  </a:lnTo>
                  <a:lnTo>
                    <a:pt x="181" y="2309"/>
                  </a:lnTo>
                  <a:lnTo>
                    <a:pt x="120" y="2380"/>
                  </a:lnTo>
                  <a:lnTo>
                    <a:pt x="60" y="2452"/>
                  </a:lnTo>
                  <a:lnTo>
                    <a:pt x="0" y="2527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9782000">
              <a:off x="2783880" y="-3002400"/>
              <a:ext cx="10492560" cy="5658840"/>
            </a:xfrm>
            <a:custGeom>
              <a:avLst/>
              <a:gdLst/>
              <a:ahLst/>
              <a:rect l="l" t="t" r="r" b="b"/>
              <a:pathLst>
                <a:path w="5002" h="2642">
                  <a:moveTo>
                    <a:pt x="5002" y="0"/>
                  </a:moveTo>
                  <a:lnTo>
                    <a:pt x="5002" y="0"/>
                  </a:lnTo>
                  <a:lnTo>
                    <a:pt x="5001" y="21"/>
                  </a:lnTo>
                  <a:lnTo>
                    <a:pt x="4995" y="78"/>
                  </a:lnTo>
                  <a:lnTo>
                    <a:pt x="4990" y="120"/>
                  </a:lnTo>
                  <a:lnTo>
                    <a:pt x="4983" y="166"/>
                  </a:lnTo>
                  <a:lnTo>
                    <a:pt x="4973" y="221"/>
                  </a:lnTo>
                  <a:lnTo>
                    <a:pt x="4962" y="281"/>
                  </a:lnTo>
                  <a:lnTo>
                    <a:pt x="4947" y="347"/>
                  </a:lnTo>
                  <a:lnTo>
                    <a:pt x="4929" y="417"/>
                  </a:lnTo>
                  <a:lnTo>
                    <a:pt x="4906" y="491"/>
                  </a:lnTo>
                  <a:lnTo>
                    <a:pt x="4882" y="567"/>
                  </a:lnTo>
                  <a:lnTo>
                    <a:pt x="4852" y="646"/>
                  </a:lnTo>
                  <a:lnTo>
                    <a:pt x="4836" y="685"/>
                  </a:lnTo>
                  <a:lnTo>
                    <a:pt x="4818" y="725"/>
                  </a:lnTo>
                  <a:lnTo>
                    <a:pt x="4800" y="766"/>
                  </a:lnTo>
                  <a:lnTo>
                    <a:pt x="4780" y="807"/>
                  </a:lnTo>
                  <a:lnTo>
                    <a:pt x="4758" y="848"/>
                  </a:lnTo>
                  <a:lnTo>
                    <a:pt x="4736" y="888"/>
                  </a:lnTo>
                  <a:lnTo>
                    <a:pt x="4712" y="929"/>
                  </a:lnTo>
                  <a:lnTo>
                    <a:pt x="4687" y="969"/>
                  </a:lnTo>
                  <a:lnTo>
                    <a:pt x="4661" y="1009"/>
                  </a:lnTo>
                  <a:lnTo>
                    <a:pt x="4633" y="1048"/>
                  </a:lnTo>
                  <a:lnTo>
                    <a:pt x="4604" y="1087"/>
                  </a:lnTo>
                  <a:lnTo>
                    <a:pt x="4572" y="1126"/>
                  </a:lnTo>
                  <a:lnTo>
                    <a:pt x="4540" y="1164"/>
                  </a:lnTo>
                  <a:lnTo>
                    <a:pt x="4505" y="1201"/>
                  </a:lnTo>
                  <a:lnTo>
                    <a:pt x="4471" y="1237"/>
                  </a:lnTo>
                  <a:lnTo>
                    <a:pt x="4433" y="1273"/>
                  </a:lnTo>
                  <a:lnTo>
                    <a:pt x="4394" y="1306"/>
                  </a:lnTo>
                  <a:lnTo>
                    <a:pt x="4353" y="1340"/>
                  </a:lnTo>
                  <a:lnTo>
                    <a:pt x="4311" y="1371"/>
                  </a:lnTo>
                  <a:lnTo>
                    <a:pt x="4266" y="1403"/>
                  </a:lnTo>
                  <a:lnTo>
                    <a:pt x="4221" y="1432"/>
                  </a:lnTo>
                  <a:lnTo>
                    <a:pt x="4172" y="1460"/>
                  </a:lnTo>
                  <a:lnTo>
                    <a:pt x="4122" y="1486"/>
                  </a:lnTo>
                  <a:lnTo>
                    <a:pt x="4071" y="1511"/>
                  </a:lnTo>
                  <a:lnTo>
                    <a:pt x="4017" y="1534"/>
                  </a:lnTo>
                  <a:lnTo>
                    <a:pt x="3960" y="1555"/>
                  </a:lnTo>
                  <a:lnTo>
                    <a:pt x="3903" y="1574"/>
                  </a:lnTo>
                  <a:lnTo>
                    <a:pt x="3842" y="1592"/>
                  </a:lnTo>
                  <a:lnTo>
                    <a:pt x="3779" y="1607"/>
                  </a:lnTo>
                  <a:lnTo>
                    <a:pt x="3715" y="1621"/>
                  </a:lnTo>
                  <a:lnTo>
                    <a:pt x="3649" y="1631"/>
                  </a:lnTo>
                  <a:lnTo>
                    <a:pt x="3579" y="1641"/>
                  </a:lnTo>
                  <a:lnTo>
                    <a:pt x="3508" y="1646"/>
                  </a:lnTo>
                  <a:lnTo>
                    <a:pt x="3435" y="1650"/>
                  </a:lnTo>
                  <a:lnTo>
                    <a:pt x="3358" y="1650"/>
                  </a:lnTo>
                  <a:lnTo>
                    <a:pt x="3279" y="1649"/>
                  </a:lnTo>
                  <a:lnTo>
                    <a:pt x="3199" y="1646"/>
                  </a:lnTo>
                  <a:lnTo>
                    <a:pt x="3115" y="1637"/>
                  </a:lnTo>
                  <a:lnTo>
                    <a:pt x="3115" y="1637"/>
                  </a:lnTo>
                  <a:lnTo>
                    <a:pt x="2950" y="1623"/>
                  </a:lnTo>
                  <a:lnTo>
                    <a:pt x="2791" y="1610"/>
                  </a:lnTo>
                  <a:lnTo>
                    <a:pt x="2636" y="1600"/>
                  </a:lnTo>
                  <a:lnTo>
                    <a:pt x="2489" y="1594"/>
                  </a:lnTo>
                  <a:lnTo>
                    <a:pt x="2348" y="1591"/>
                  </a:lnTo>
                  <a:lnTo>
                    <a:pt x="2210" y="1591"/>
                  </a:lnTo>
                  <a:lnTo>
                    <a:pt x="2080" y="1594"/>
                  </a:lnTo>
                  <a:lnTo>
                    <a:pt x="1955" y="1599"/>
                  </a:lnTo>
                  <a:lnTo>
                    <a:pt x="1834" y="1608"/>
                  </a:lnTo>
                  <a:lnTo>
                    <a:pt x="1717" y="1621"/>
                  </a:lnTo>
                  <a:lnTo>
                    <a:pt x="1606" y="1636"/>
                  </a:lnTo>
                  <a:lnTo>
                    <a:pt x="1499" y="1654"/>
                  </a:lnTo>
                  <a:lnTo>
                    <a:pt x="1397" y="1675"/>
                  </a:lnTo>
                  <a:lnTo>
                    <a:pt x="1347" y="1687"/>
                  </a:lnTo>
                  <a:lnTo>
                    <a:pt x="1298" y="1699"/>
                  </a:lnTo>
                  <a:lnTo>
                    <a:pt x="1251" y="1713"/>
                  </a:lnTo>
                  <a:lnTo>
                    <a:pt x="1204" y="1726"/>
                  </a:lnTo>
                  <a:lnTo>
                    <a:pt x="1158" y="1741"/>
                  </a:lnTo>
                  <a:lnTo>
                    <a:pt x="1113" y="1757"/>
                  </a:lnTo>
                  <a:lnTo>
                    <a:pt x="1069" y="1773"/>
                  </a:lnTo>
                  <a:lnTo>
                    <a:pt x="1026" y="1791"/>
                  </a:lnTo>
                  <a:lnTo>
                    <a:pt x="983" y="1809"/>
                  </a:lnTo>
                  <a:lnTo>
                    <a:pt x="941" y="1826"/>
                  </a:lnTo>
                  <a:lnTo>
                    <a:pt x="899" y="1846"/>
                  </a:lnTo>
                  <a:lnTo>
                    <a:pt x="859" y="1865"/>
                  </a:lnTo>
                  <a:lnTo>
                    <a:pt x="820" y="1886"/>
                  </a:lnTo>
                  <a:lnTo>
                    <a:pt x="781" y="1909"/>
                  </a:lnTo>
                  <a:lnTo>
                    <a:pt x="744" y="1930"/>
                  </a:lnTo>
                  <a:lnTo>
                    <a:pt x="707" y="1952"/>
                  </a:lnTo>
                  <a:lnTo>
                    <a:pt x="669" y="1977"/>
                  </a:lnTo>
                  <a:lnTo>
                    <a:pt x="633" y="2001"/>
                  </a:lnTo>
                  <a:lnTo>
                    <a:pt x="597" y="2027"/>
                  </a:lnTo>
                  <a:lnTo>
                    <a:pt x="562" y="2052"/>
                  </a:lnTo>
                  <a:lnTo>
                    <a:pt x="494" y="2106"/>
                  </a:lnTo>
                  <a:lnTo>
                    <a:pt x="427" y="2162"/>
                  </a:lnTo>
                  <a:lnTo>
                    <a:pt x="362" y="2222"/>
                  </a:lnTo>
                  <a:lnTo>
                    <a:pt x="300" y="2285"/>
                  </a:lnTo>
                  <a:lnTo>
                    <a:pt x="237" y="2351"/>
                  </a:lnTo>
                  <a:lnTo>
                    <a:pt x="176" y="2419"/>
                  </a:lnTo>
                  <a:lnTo>
                    <a:pt x="116" y="2490"/>
                  </a:lnTo>
                  <a:lnTo>
                    <a:pt x="58" y="2564"/>
                  </a:lnTo>
                  <a:lnTo>
                    <a:pt x="0" y="264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9782000">
              <a:off x="2881440" y="-3159360"/>
              <a:ext cx="10408680" cy="5906520"/>
            </a:xfrm>
            <a:custGeom>
              <a:avLst/>
              <a:gdLst/>
              <a:ahLst/>
              <a:rect l="l" t="t" r="r" b="b"/>
              <a:pathLst>
                <a:path w="4962" h="2756">
                  <a:moveTo>
                    <a:pt x="4962" y="0"/>
                  </a:moveTo>
                  <a:lnTo>
                    <a:pt x="4962" y="0"/>
                  </a:lnTo>
                  <a:lnTo>
                    <a:pt x="4961" y="21"/>
                  </a:lnTo>
                  <a:lnTo>
                    <a:pt x="4957" y="79"/>
                  </a:lnTo>
                  <a:lnTo>
                    <a:pt x="4953" y="121"/>
                  </a:lnTo>
                  <a:lnTo>
                    <a:pt x="4946" y="170"/>
                  </a:lnTo>
                  <a:lnTo>
                    <a:pt x="4937" y="224"/>
                  </a:lnTo>
                  <a:lnTo>
                    <a:pt x="4926" y="284"/>
                  </a:lnTo>
                  <a:lnTo>
                    <a:pt x="4912" y="350"/>
                  </a:lnTo>
                  <a:lnTo>
                    <a:pt x="4894" y="421"/>
                  </a:lnTo>
                  <a:lnTo>
                    <a:pt x="4875" y="496"/>
                  </a:lnTo>
                  <a:lnTo>
                    <a:pt x="4850" y="573"/>
                  </a:lnTo>
                  <a:lnTo>
                    <a:pt x="4822" y="652"/>
                  </a:lnTo>
                  <a:lnTo>
                    <a:pt x="4806" y="693"/>
                  </a:lnTo>
                  <a:lnTo>
                    <a:pt x="4789" y="733"/>
                  </a:lnTo>
                  <a:lnTo>
                    <a:pt x="4771" y="775"/>
                  </a:lnTo>
                  <a:lnTo>
                    <a:pt x="4751" y="815"/>
                  </a:lnTo>
                  <a:lnTo>
                    <a:pt x="4732" y="857"/>
                  </a:lnTo>
                  <a:lnTo>
                    <a:pt x="4710" y="899"/>
                  </a:lnTo>
                  <a:lnTo>
                    <a:pt x="4686" y="940"/>
                  </a:lnTo>
                  <a:lnTo>
                    <a:pt x="4663" y="980"/>
                  </a:lnTo>
                  <a:lnTo>
                    <a:pt x="4636" y="1022"/>
                  </a:lnTo>
                  <a:lnTo>
                    <a:pt x="4608" y="1062"/>
                  </a:lnTo>
                  <a:lnTo>
                    <a:pt x="4581" y="1101"/>
                  </a:lnTo>
                  <a:lnTo>
                    <a:pt x="4550" y="1142"/>
                  </a:lnTo>
                  <a:lnTo>
                    <a:pt x="4518" y="1180"/>
                  </a:lnTo>
                  <a:lnTo>
                    <a:pt x="4485" y="1217"/>
                  </a:lnTo>
                  <a:lnTo>
                    <a:pt x="4449" y="1255"/>
                  </a:lnTo>
                  <a:lnTo>
                    <a:pt x="4413" y="1290"/>
                  </a:lnTo>
                  <a:lnTo>
                    <a:pt x="4374" y="1326"/>
                  </a:lnTo>
                  <a:lnTo>
                    <a:pt x="4333" y="1360"/>
                  </a:lnTo>
                  <a:lnTo>
                    <a:pt x="4292" y="1393"/>
                  </a:lnTo>
                  <a:lnTo>
                    <a:pt x="4247" y="1426"/>
                  </a:lnTo>
                  <a:lnTo>
                    <a:pt x="4202" y="1455"/>
                  </a:lnTo>
                  <a:lnTo>
                    <a:pt x="4154" y="1484"/>
                  </a:lnTo>
                  <a:lnTo>
                    <a:pt x="4104" y="1511"/>
                  </a:lnTo>
                  <a:lnTo>
                    <a:pt x="4053" y="1539"/>
                  </a:lnTo>
                  <a:lnTo>
                    <a:pt x="4000" y="1563"/>
                  </a:lnTo>
                  <a:lnTo>
                    <a:pt x="3943" y="1586"/>
                  </a:lnTo>
                  <a:lnTo>
                    <a:pt x="3886" y="1605"/>
                  </a:lnTo>
                  <a:lnTo>
                    <a:pt x="3827" y="1624"/>
                  </a:lnTo>
                  <a:lnTo>
                    <a:pt x="3764" y="1641"/>
                  </a:lnTo>
                  <a:lnTo>
                    <a:pt x="3700" y="1655"/>
                  </a:lnTo>
                  <a:lnTo>
                    <a:pt x="3634" y="1668"/>
                  </a:lnTo>
                  <a:lnTo>
                    <a:pt x="3564" y="1678"/>
                  </a:lnTo>
                  <a:lnTo>
                    <a:pt x="3493" y="1686"/>
                  </a:lnTo>
                  <a:lnTo>
                    <a:pt x="3420" y="1691"/>
                  </a:lnTo>
                  <a:lnTo>
                    <a:pt x="3344" y="1694"/>
                  </a:lnTo>
                  <a:lnTo>
                    <a:pt x="3266" y="1694"/>
                  </a:lnTo>
                  <a:lnTo>
                    <a:pt x="3184" y="1691"/>
                  </a:lnTo>
                  <a:lnTo>
                    <a:pt x="3101" y="1686"/>
                  </a:lnTo>
                  <a:lnTo>
                    <a:pt x="3101" y="1686"/>
                  </a:lnTo>
                  <a:lnTo>
                    <a:pt x="2935" y="1673"/>
                  </a:lnTo>
                  <a:lnTo>
                    <a:pt x="2774" y="1663"/>
                  </a:lnTo>
                  <a:lnTo>
                    <a:pt x="2622" y="1657"/>
                  </a:lnTo>
                  <a:lnTo>
                    <a:pt x="2473" y="1653"/>
                  </a:lnTo>
                  <a:lnTo>
                    <a:pt x="2331" y="1653"/>
                  </a:lnTo>
                  <a:lnTo>
                    <a:pt x="2195" y="1655"/>
                  </a:lnTo>
                  <a:lnTo>
                    <a:pt x="2065" y="1662"/>
                  </a:lnTo>
                  <a:lnTo>
                    <a:pt x="1938" y="1670"/>
                  </a:lnTo>
                  <a:lnTo>
                    <a:pt x="1819" y="1681"/>
                  </a:lnTo>
                  <a:lnTo>
                    <a:pt x="1702" y="1695"/>
                  </a:lnTo>
                  <a:lnTo>
                    <a:pt x="1591" y="1713"/>
                  </a:lnTo>
                  <a:lnTo>
                    <a:pt x="1486" y="1734"/>
                  </a:lnTo>
                  <a:lnTo>
                    <a:pt x="1383" y="1757"/>
                  </a:lnTo>
                  <a:lnTo>
                    <a:pt x="1333" y="1770"/>
                  </a:lnTo>
                  <a:lnTo>
                    <a:pt x="1284" y="1784"/>
                  </a:lnTo>
                  <a:lnTo>
                    <a:pt x="1237" y="1799"/>
                  </a:lnTo>
                  <a:lnTo>
                    <a:pt x="1190" y="1813"/>
                  </a:lnTo>
                  <a:lnTo>
                    <a:pt x="1144" y="1829"/>
                  </a:lnTo>
                  <a:lnTo>
                    <a:pt x="1100" y="1846"/>
                  </a:lnTo>
                  <a:lnTo>
                    <a:pt x="1055" y="1863"/>
                  </a:lnTo>
                  <a:lnTo>
                    <a:pt x="1012" y="1881"/>
                  </a:lnTo>
                  <a:lnTo>
                    <a:pt x="971" y="1899"/>
                  </a:lnTo>
                  <a:lnTo>
                    <a:pt x="929" y="1918"/>
                  </a:lnTo>
                  <a:lnTo>
                    <a:pt x="889" y="1939"/>
                  </a:lnTo>
                  <a:lnTo>
                    <a:pt x="848" y="1960"/>
                  </a:lnTo>
                  <a:lnTo>
                    <a:pt x="810" y="1981"/>
                  </a:lnTo>
                  <a:lnTo>
                    <a:pt x="771" y="2004"/>
                  </a:lnTo>
                  <a:lnTo>
                    <a:pt x="733" y="2026"/>
                  </a:lnTo>
                  <a:lnTo>
                    <a:pt x="696" y="2051"/>
                  </a:lnTo>
                  <a:lnTo>
                    <a:pt x="660" y="2075"/>
                  </a:lnTo>
                  <a:lnTo>
                    <a:pt x="624" y="2101"/>
                  </a:lnTo>
                  <a:lnTo>
                    <a:pt x="589" y="2127"/>
                  </a:lnTo>
                  <a:lnTo>
                    <a:pt x="554" y="2152"/>
                  </a:lnTo>
                  <a:lnTo>
                    <a:pt x="486" y="2209"/>
                  </a:lnTo>
                  <a:lnTo>
                    <a:pt x="421" y="2267"/>
                  </a:lnTo>
                  <a:lnTo>
                    <a:pt x="357" y="2328"/>
                  </a:lnTo>
                  <a:lnTo>
                    <a:pt x="295" y="2393"/>
                  </a:lnTo>
                  <a:lnTo>
                    <a:pt x="233" y="2459"/>
                  </a:lnTo>
                  <a:lnTo>
                    <a:pt x="174" y="2530"/>
                  </a:lnTo>
                  <a:lnTo>
                    <a:pt x="115" y="2603"/>
                  </a:lnTo>
                  <a:lnTo>
                    <a:pt x="57" y="2679"/>
                  </a:lnTo>
                  <a:lnTo>
                    <a:pt x="0" y="275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9782000">
              <a:off x="2982240" y="-3318120"/>
              <a:ext cx="10322640" cy="6151680"/>
            </a:xfrm>
            <a:custGeom>
              <a:avLst/>
              <a:gdLst/>
              <a:ahLst/>
              <a:rect l="l" t="t" r="r" b="b"/>
              <a:pathLst>
                <a:path w="4921" h="2869">
                  <a:moveTo>
                    <a:pt x="4921" y="0"/>
                  </a:moveTo>
                  <a:lnTo>
                    <a:pt x="4921" y="0"/>
                  </a:lnTo>
                  <a:lnTo>
                    <a:pt x="4919" y="21"/>
                  </a:lnTo>
                  <a:lnTo>
                    <a:pt x="4915" y="79"/>
                  </a:lnTo>
                  <a:lnTo>
                    <a:pt x="4911" y="121"/>
                  </a:lnTo>
                  <a:lnTo>
                    <a:pt x="4905" y="169"/>
                  </a:lnTo>
                  <a:lnTo>
                    <a:pt x="4898" y="224"/>
                  </a:lnTo>
                  <a:lnTo>
                    <a:pt x="4887" y="285"/>
                  </a:lnTo>
                  <a:lnTo>
                    <a:pt x="4875" y="353"/>
                  </a:lnTo>
                  <a:lnTo>
                    <a:pt x="4858" y="424"/>
                  </a:lnTo>
                  <a:lnTo>
                    <a:pt x="4839" y="498"/>
                  </a:lnTo>
                  <a:lnTo>
                    <a:pt x="4816" y="578"/>
                  </a:lnTo>
                  <a:lnTo>
                    <a:pt x="4789" y="658"/>
                  </a:lnTo>
                  <a:lnTo>
                    <a:pt x="4773" y="699"/>
                  </a:lnTo>
                  <a:lnTo>
                    <a:pt x="4758" y="741"/>
                  </a:lnTo>
                  <a:lnTo>
                    <a:pt x="4740" y="781"/>
                  </a:lnTo>
                  <a:lnTo>
                    <a:pt x="4722" y="823"/>
                  </a:lnTo>
                  <a:lnTo>
                    <a:pt x="4701" y="865"/>
                  </a:lnTo>
                  <a:lnTo>
                    <a:pt x="4680" y="907"/>
                  </a:lnTo>
                  <a:lnTo>
                    <a:pt x="4658" y="949"/>
                  </a:lnTo>
                  <a:lnTo>
                    <a:pt x="4634" y="991"/>
                  </a:lnTo>
                  <a:lnTo>
                    <a:pt x="4608" y="1031"/>
                  </a:lnTo>
                  <a:lnTo>
                    <a:pt x="4582" y="1073"/>
                  </a:lnTo>
                  <a:lnTo>
                    <a:pt x="4554" y="1114"/>
                  </a:lnTo>
                  <a:lnTo>
                    <a:pt x="4525" y="1154"/>
                  </a:lnTo>
                  <a:lnTo>
                    <a:pt x="4493" y="1193"/>
                  </a:lnTo>
                  <a:lnTo>
                    <a:pt x="4460" y="1232"/>
                  </a:lnTo>
                  <a:lnTo>
                    <a:pt x="4425" y="1270"/>
                  </a:lnTo>
                  <a:lnTo>
                    <a:pt x="4389" y="1307"/>
                  </a:lnTo>
                  <a:lnTo>
                    <a:pt x="4351" y="1343"/>
                  </a:lnTo>
                  <a:lnTo>
                    <a:pt x="4311" y="1378"/>
                  </a:lnTo>
                  <a:lnTo>
                    <a:pt x="4269" y="1412"/>
                  </a:lnTo>
                  <a:lnTo>
                    <a:pt x="4226" y="1446"/>
                  </a:lnTo>
                  <a:lnTo>
                    <a:pt x="4182" y="1477"/>
                  </a:lnTo>
                  <a:lnTo>
                    <a:pt x="4135" y="1508"/>
                  </a:lnTo>
                  <a:lnTo>
                    <a:pt x="4085" y="1535"/>
                  </a:lnTo>
                  <a:lnTo>
                    <a:pt x="4033" y="1563"/>
                  </a:lnTo>
                  <a:lnTo>
                    <a:pt x="3981" y="1588"/>
                  </a:lnTo>
                  <a:lnTo>
                    <a:pt x="3925" y="1613"/>
                  </a:lnTo>
                  <a:lnTo>
                    <a:pt x="3868" y="1634"/>
                  </a:lnTo>
                  <a:lnTo>
                    <a:pt x="3808" y="1655"/>
                  </a:lnTo>
                  <a:lnTo>
                    <a:pt x="3746" y="1672"/>
                  </a:lnTo>
                  <a:lnTo>
                    <a:pt x="3682" y="1688"/>
                  </a:lnTo>
                  <a:lnTo>
                    <a:pt x="3615" y="1701"/>
                  </a:lnTo>
                  <a:lnTo>
                    <a:pt x="3547" y="1713"/>
                  </a:lnTo>
                  <a:lnTo>
                    <a:pt x="3477" y="1722"/>
                  </a:lnTo>
                  <a:lnTo>
                    <a:pt x="3403" y="1729"/>
                  </a:lnTo>
                  <a:lnTo>
                    <a:pt x="3327" y="1734"/>
                  </a:lnTo>
                  <a:lnTo>
                    <a:pt x="3249" y="1735"/>
                  </a:lnTo>
                  <a:lnTo>
                    <a:pt x="3167" y="1734"/>
                  </a:lnTo>
                  <a:lnTo>
                    <a:pt x="3084" y="1730"/>
                  </a:lnTo>
                  <a:lnTo>
                    <a:pt x="3084" y="1730"/>
                  </a:lnTo>
                  <a:lnTo>
                    <a:pt x="2917" y="1721"/>
                  </a:lnTo>
                  <a:lnTo>
                    <a:pt x="2757" y="1714"/>
                  </a:lnTo>
                  <a:lnTo>
                    <a:pt x="2603" y="1711"/>
                  </a:lnTo>
                  <a:lnTo>
                    <a:pt x="2456" y="1711"/>
                  </a:lnTo>
                  <a:lnTo>
                    <a:pt x="2314" y="1714"/>
                  </a:lnTo>
                  <a:lnTo>
                    <a:pt x="2178" y="1719"/>
                  </a:lnTo>
                  <a:lnTo>
                    <a:pt x="2048" y="1727"/>
                  </a:lnTo>
                  <a:lnTo>
                    <a:pt x="1922" y="1739"/>
                  </a:lnTo>
                  <a:lnTo>
                    <a:pt x="1802" y="1753"/>
                  </a:lnTo>
                  <a:lnTo>
                    <a:pt x="1687" y="1769"/>
                  </a:lnTo>
                  <a:lnTo>
                    <a:pt x="1576" y="1789"/>
                  </a:lnTo>
                  <a:lnTo>
                    <a:pt x="1469" y="1811"/>
                  </a:lnTo>
                  <a:lnTo>
                    <a:pt x="1368" y="1837"/>
                  </a:lnTo>
                  <a:lnTo>
                    <a:pt x="1318" y="1852"/>
                  </a:lnTo>
                  <a:lnTo>
                    <a:pt x="1269" y="1866"/>
                  </a:lnTo>
                  <a:lnTo>
                    <a:pt x="1222" y="1881"/>
                  </a:lnTo>
                  <a:lnTo>
                    <a:pt x="1176" y="1897"/>
                  </a:lnTo>
                  <a:lnTo>
                    <a:pt x="1130" y="1915"/>
                  </a:lnTo>
                  <a:lnTo>
                    <a:pt x="1086" y="1932"/>
                  </a:lnTo>
                  <a:lnTo>
                    <a:pt x="1043" y="1950"/>
                  </a:lnTo>
                  <a:lnTo>
                    <a:pt x="1000" y="1969"/>
                  </a:lnTo>
                  <a:lnTo>
                    <a:pt x="958" y="1989"/>
                  </a:lnTo>
                  <a:lnTo>
                    <a:pt x="916" y="2008"/>
                  </a:lnTo>
                  <a:lnTo>
                    <a:pt x="876" y="2029"/>
                  </a:lnTo>
                  <a:lnTo>
                    <a:pt x="836" y="2052"/>
                  </a:lnTo>
                  <a:lnTo>
                    <a:pt x="797" y="2074"/>
                  </a:lnTo>
                  <a:lnTo>
                    <a:pt x="759" y="2097"/>
                  </a:lnTo>
                  <a:lnTo>
                    <a:pt x="722" y="2121"/>
                  </a:lnTo>
                  <a:lnTo>
                    <a:pt x="684" y="2145"/>
                  </a:lnTo>
                  <a:lnTo>
                    <a:pt x="650" y="2171"/>
                  </a:lnTo>
                  <a:lnTo>
                    <a:pt x="614" y="2197"/>
                  </a:lnTo>
                  <a:lnTo>
                    <a:pt x="579" y="2225"/>
                  </a:lnTo>
                  <a:lnTo>
                    <a:pt x="544" y="2252"/>
                  </a:lnTo>
                  <a:lnTo>
                    <a:pt x="478" y="2309"/>
                  </a:lnTo>
                  <a:lnTo>
                    <a:pt x="412" y="2370"/>
                  </a:lnTo>
                  <a:lnTo>
                    <a:pt x="350" y="2433"/>
                  </a:lnTo>
                  <a:lnTo>
                    <a:pt x="289" y="2497"/>
                  </a:lnTo>
                  <a:lnTo>
                    <a:pt x="229" y="2567"/>
                  </a:lnTo>
                  <a:lnTo>
                    <a:pt x="171" y="2638"/>
                  </a:lnTo>
                  <a:lnTo>
                    <a:pt x="112" y="2712"/>
                  </a:lnTo>
                  <a:lnTo>
                    <a:pt x="55" y="2790"/>
                  </a:lnTo>
                  <a:lnTo>
                    <a:pt x="0" y="286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9782000">
              <a:off x="3087360" y="-3471840"/>
              <a:ext cx="10226520" cy="6396480"/>
            </a:xfrm>
            <a:custGeom>
              <a:avLst/>
              <a:gdLst/>
              <a:ahLst/>
              <a:rect l="l" t="t" r="r" b="b"/>
              <a:pathLst>
                <a:path w="4875" h="2984">
                  <a:moveTo>
                    <a:pt x="4875" y="0"/>
                  </a:moveTo>
                  <a:lnTo>
                    <a:pt x="4875" y="0"/>
                  </a:lnTo>
                  <a:lnTo>
                    <a:pt x="4875" y="21"/>
                  </a:lnTo>
                  <a:lnTo>
                    <a:pt x="4872" y="79"/>
                  </a:lnTo>
                  <a:lnTo>
                    <a:pt x="4868" y="121"/>
                  </a:lnTo>
                  <a:lnTo>
                    <a:pt x="4864" y="170"/>
                  </a:lnTo>
                  <a:lnTo>
                    <a:pt x="4857" y="226"/>
                  </a:lnTo>
                  <a:lnTo>
                    <a:pt x="4847" y="287"/>
                  </a:lnTo>
                  <a:lnTo>
                    <a:pt x="4835" y="355"/>
                  </a:lnTo>
                  <a:lnTo>
                    <a:pt x="4821" y="428"/>
                  </a:lnTo>
                  <a:lnTo>
                    <a:pt x="4803" y="502"/>
                  </a:lnTo>
                  <a:lnTo>
                    <a:pt x="4780" y="581"/>
                  </a:lnTo>
                  <a:lnTo>
                    <a:pt x="4754" y="664"/>
                  </a:lnTo>
                  <a:lnTo>
                    <a:pt x="4740" y="706"/>
                  </a:lnTo>
                  <a:lnTo>
                    <a:pt x="4724" y="748"/>
                  </a:lnTo>
                  <a:lnTo>
                    <a:pt x="4707" y="790"/>
                  </a:lnTo>
                  <a:lnTo>
                    <a:pt x="4689" y="832"/>
                  </a:lnTo>
                  <a:lnTo>
                    <a:pt x="4671" y="874"/>
                  </a:lnTo>
                  <a:lnTo>
                    <a:pt x="4650" y="917"/>
                  </a:lnTo>
                  <a:lnTo>
                    <a:pt x="4628" y="959"/>
                  </a:lnTo>
                  <a:lnTo>
                    <a:pt x="4604" y="1001"/>
                  </a:lnTo>
                  <a:lnTo>
                    <a:pt x="4580" y="1043"/>
                  </a:lnTo>
                  <a:lnTo>
                    <a:pt x="4554" y="1085"/>
                  </a:lnTo>
                  <a:lnTo>
                    <a:pt x="4526" y="1127"/>
                  </a:lnTo>
                  <a:lnTo>
                    <a:pt x="4497" y="1167"/>
                  </a:lnTo>
                  <a:lnTo>
                    <a:pt x="4467" y="1208"/>
                  </a:lnTo>
                  <a:lnTo>
                    <a:pt x="4435" y="1248"/>
                  </a:lnTo>
                  <a:lnTo>
                    <a:pt x="4400" y="1287"/>
                  </a:lnTo>
                  <a:lnTo>
                    <a:pt x="4364" y="1324"/>
                  </a:lnTo>
                  <a:lnTo>
                    <a:pt x="4326" y="1361"/>
                  </a:lnTo>
                  <a:lnTo>
                    <a:pt x="4288" y="1398"/>
                  </a:lnTo>
                  <a:lnTo>
                    <a:pt x="4247" y="1432"/>
                  </a:lnTo>
                  <a:lnTo>
                    <a:pt x="4204" y="1466"/>
                  </a:lnTo>
                  <a:lnTo>
                    <a:pt x="4160" y="1500"/>
                  </a:lnTo>
                  <a:lnTo>
                    <a:pt x="4113" y="1531"/>
                  </a:lnTo>
                  <a:lnTo>
                    <a:pt x="4064" y="1560"/>
                  </a:lnTo>
                  <a:lnTo>
                    <a:pt x="4013" y="1589"/>
                  </a:lnTo>
                  <a:lnTo>
                    <a:pt x="3960" y="1615"/>
                  </a:lnTo>
                  <a:lnTo>
                    <a:pt x="3906" y="1641"/>
                  </a:lnTo>
                  <a:lnTo>
                    <a:pt x="3847" y="1663"/>
                  </a:lnTo>
                  <a:lnTo>
                    <a:pt x="3789" y="1684"/>
                  </a:lnTo>
                  <a:lnTo>
                    <a:pt x="3727" y="1703"/>
                  </a:lnTo>
                  <a:lnTo>
                    <a:pt x="3663" y="1721"/>
                  </a:lnTo>
                  <a:lnTo>
                    <a:pt x="3597" y="1737"/>
                  </a:lnTo>
                  <a:lnTo>
                    <a:pt x="3528" y="1750"/>
                  </a:lnTo>
                  <a:lnTo>
                    <a:pt x="3457" y="1760"/>
                  </a:lnTo>
                  <a:lnTo>
                    <a:pt x="3385" y="1768"/>
                  </a:lnTo>
                  <a:lnTo>
                    <a:pt x="3309" y="1775"/>
                  </a:lnTo>
                  <a:lnTo>
                    <a:pt x="3230" y="1778"/>
                  </a:lnTo>
                  <a:lnTo>
                    <a:pt x="3149" y="1778"/>
                  </a:lnTo>
                  <a:lnTo>
                    <a:pt x="3066" y="1776"/>
                  </a:lnTo>
                  <a:lnTo>
                    <a:pt x="3066" y="1776"/>
                  </a:lnTo>
                  <a:lnTo>
                    <a:pt x="2899" y="1770"/>
                  </a:lnTo>
                  <a:lnTo>
                    <a:pt x="2739" y="1766"/>
                  </a:lnTo>
                  <a:lnTo>
                    <a:pt x="2585" y="1766"/>
                  </a:lnTo>
                  <a:lnTo>
                    <a:pt x="2438" y="1770"/>
                  </a:lnTo>
                  <a:lnTo>
                    <a:pt x="2297" y="1775"/>
                  </a:lnTo>
                  <a:lnTo>
                    <a:pt x="2160" y="1783"/>
                  </a:lnTo>
                  <a:lnTo>
                    <a:pt x="2030" y="1794"/>
                  </a:lnTo>
                  <a:lnTo>
                    <a:pt x="1904" y="1808"/>
                  </a:lnTo>
                  <a:lnTo>
                    <a:pt x="1784" y="1825"/>
                  </a:lnTo>
                  <a:lnTo>
                    <a:pt x="1669" y="1844"/>
                  </a:lnTo>
                  <a:lnTo>
                    <a:pt x="1558" y="1867"/>
                  </a:lnTo>
                  <a:lnTo>
                    <a:pt x="1452" y="1891"/>
                  </a:lnTo>
                  <a:lnTo>
                    <a:pt x="1401" y="1904"/>
                  </a:lnTo>
                  <a:lnTo>
                    <a:pt x="1351" y="1918"/>
                  </a:lnTo>
                  <a:lnTo>
                    <a:pt x="1302" y="1934"/>
                  </a:lnTo>
                  <a:lnTo>
                    <a:pt x="1254" y="1949"/>
                  </a:lnTo>
                  <a:lnTo>
                    <a:pt x="1207" y="1965"/>
                  </a:lnTo>
                  <a:lnTo>
                    <a:pt x="1161" y="1983"/>
                  </a:lnTo>
                  <a:lnTo>
                    <a:pt x="1115" y="2001"/>
                  </a:lnTo>
                  <a:lnTo>
                    <a:pt x="1071" y="2018"/>
                  </a:lnTo>
                  <a:lnTo>
                    <a:pt x="1028" y="2038"/>
                  </a:lnTo>
                  <a:lnTo>
                    <a:pt x="984" y="2059"/>
                  </a:lnTo>
                  <a:lnTo>
                    <a:pt x="943" y="2078"/>
                  </a:lnTo>
                  <a:lnTo>
                    <a:pt x="903" y="2101"/>
                  </a:lnTo>
                  <a:lnTo>
                    <a:pt x="862" y="2122"/>
                  </a:lnTo>
                  <a:lnTo>
                    <a:pt x="823" y="2144"/>
                  </a:lnTo>
                  <a:lnTo>
                    <a:pt x="785" y="2169"/>
                  </a:lnTo>
                  <a:lnTo>
                    <a:pt x="747" y="2193"/>
                  </a:lnTo>
                  <a:lnTo>
                    <a:pt x="710" y="2217"/>
                  </a:lnTo>
                  <a:lnTo>
                    <a:pt x="673" y="2243"/>
                  </a:lnTo>
                  <a:lnTo>
                    <a:pt x="637" y="2269"/>
                  </a:lnTo>
                  <a:lnTo>
                    <a:pt x="603" y="2296"/>
                  </a:lnTo>
                  <a:lnTo>
                    <a:pt x="568" y="2324"/>
                  </a:lnTo>
                  <a:lnTo>
                    <a:pt x="535" y="2351"/>
                  </a:lnTo>
                  <a:lnTo>
                    <a:pt x="468" y="2411"/>
                  </a:lnTo>
                  <a:lnTo>
                    <a:pt x="404" y="2472"/>
                  </a:lnTo>
                  <a:lnTo>
                    <a:pt x="343" y="2537"/>
                  </a:lnTo>
                  <a:lnTo>
                    <a:pt x="282" y="2604"/>
                  </a:lnTo>
                  <a:lnTo>
                    <a:pt x="224" y="2674"/>
                  </a:lnTo>
                  <a:lnTo>
                    <a:pt x="167" y="2747"/>
                  </a:lnTo>
                  <a:lnTo>
                    <a:pt x="110" y="2822"/>
                  </a:lnTo>
                  <a:lnTo>
                    <a:pt x="54" y="2902"/>
                  </a:lnTo>
                  <a:lnTo>
                    <a:pt x="0" y="298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9782000">
              <a:off x="3191760" y="-3625200"/>
              <a:ext cx="10134360" cy="6635880"/>
            </a:xfrm>
            <a:custGeom>
              <a:avLst/>
              <a:gdLst/>
              <a:ahLst/>
              <a:rect l="l" t="t" r="r" b="b"/>
              <a:pathLst>
                <a:path w="4831" h="3097">
                  <a:moveTo>
                    <a:pt x="4831" y="0"/>
                  </a:moveTo>
                  <a:lnTo>
                    <a:pt x="4831" y="0"/>
                  </a:lnTo>
                  <a:lnTo>
                    <a:pt x="4829" y="21"/>
                  </a:lnTo>
                  <a:lnTo>
                    <a:pt x="4828" y="80"/>
                  </a:lnTo>
                  <a:lnTo>
                    <a:pt x="4825" y="122"/>
                  </a:lnTo>
                  <a:lnTo>
                    <a:pt x="4821" y="172"/>
                  </a:lnTo>
                  <a:lnTo>
                    <a:pt x="4814" y="228"/>
                  </a:lnTo>
                  <a:lnTo>
                    <a:pt x="4806" y="291"/>
                  </a:lnTo>
                  <a:lnTo>
                    <a:pt x="4796" y="359"/>
                  </a:lnTo>
                  <a:lnTo>
                    <a:pt x="4782" y="430"/>
                  </a:lnTo>
                  <a:lnTo>
                    <a:pt x="4764" y="507"/>
                  </a:lnTo>
                  <a:lnTo>
                    <a:pt x="4743" y="587"/>
                  </a:lnTo>
                  <a:lnTo>
                    <a:pt x="4719" y="669"/>
                  </a:lnTo>
                  <a:lnTo>
                    <a:pt x="4706" y="711"/>
                  </a:lnTo>
                  <a:lnTo>
                    <a:pt x="4690" y="755"/>
                  </a:lnTo>
                  <a:lnTo>
                    <a:pt x="4674" y="797"/>
                  </a:lnTo>
                  <a:lnTo>
                    <a:pt x="4657" y="840"/>
                  </a:lnTo>
                  <a:lnTo>
                    <a:pt x="4638" y="882"/>
                  </a:lnTo>
                  <a:lnTo>
                    <a:pt x="4618" y="926"/>
                  </a:lnTo>
                  <a:lnTo>
                    <a:pt x="4597" y="969"/>
                  </a:lnTo>
                  <a:lnTo>
                    <a:pt x="4574" y="1011"/>
                  </a:lnTo>
                  <a:lnTo>
                    <a:pt x="4550" y="1055"/>
                  </a:lnTo>
                  <a:lnTo>
                    <a:pt x="4525" y="1097"/>
                  </a:lnTo>
                  <a:lnTo>
                    <a:pt x="4497" y="1139"/>
                  </a:lnTo>
                  <a:lnTo>
                    <a:pt x="4470" y="1181"/>
                  </a:lnTo>
                  <a:lnTo>
                    <a:pt x="4439" y="1223"/>
                  </a:lnTo>
                  <a:lnTo>
                    <a:pt x="4407" y="1263"/>
                  </a:lnTo>
                  <a:lnTo>
                    <a:pt x="4374" y="1302"/>
                  </a:lnTo>
                  <a:lnTo>
                    <a:pt x="4339" y="1342"/>
                  </a:lnTo>
                  <a:lnTo>
                    <a:pt x="4303" y="1379"/>
                  </a:lnTo>
                  <a:lnTo>
                    <a:pt x="4264" y="1417"/>
                  </a:lnTo>
                  <a:lnTo>
                    <a:pt x="4224" y="1452"/>
                  </a:lnTo>
                  <a:lnTo>
                    <a:pt x="4181" y="1488"/>
                  </a:lnTo>
                  <a:lnTo>
                    <a:pt x="4136" y="1522"/>
                  </a:lnTo>
                  <a:lnTo>
                    <a:pt x="4091" y="1554"/>
                  </a:lnTo>
                  <a:lnTo>
                    <a:pt x="4042" y="1584"/>
                  </a:lnTo>
                  <a:lnTo>
                    <a:pt x="3992" y="1614"/>
                  </a:lnTo>
                  <a:lnTo>
                    <a:pt x="3939" y="1643"/>
                  </a:lnTo>
                  <a:lnTo>
                    <a:pt x="3885" y="1668"/>
                  </a:lnTo>
                  <a:lnTo>
                    <a:pt x="3828" y="1693"/>
                  </a:lnTo>
                  <a:lnTo>
                    <a:pt x="3768" y="1715"/>
                  </a:lnTo>
                  <a:lnTo>
                    <a:pt x="3707" y="1736"/>
                  </a:lnTo>
                  <a:lnTo>
                    <a:pt x="3643" y="1754"/>
                  </a:lnTo>
                  <a:lnTo>
                    <a:pt x="3578" y="1772"/>
                  </a:lnTo>
                  <a:lnTo>
                    <a:pt x="3510" y="1786"/>
                  </a:lnTo>
                  <a:lnTo>
                    <a:pt x="3439" y="1798"/>
                  </a:lnTo>
                  <a:lnTo>
                    <a:pt x="3366" y="1807"/>
                  </a:lnTo>
                  <a:lnTo>
                    <a:pt x="3291" y="1815"/>
                  </a:lnTo>
                  <a:lnTo>
                    <a:pt x="3212" y="1820"/>
                  </a:lnTo>
                  <a:lnTo>
                    <a:pt x="3131" y="1822"/>
                  </a:lnTo>
                  <a:lnTo>
                    <a:pt x="3048" y="1822"/>
                  </a:lnTo>
                  <a:lnTo>
                    <a:pt x="3048" y="1822"/>
                  </a:lnTo>
                  <a:lnTo>
                    <a:pt x="2881" y="1819"/>
                  </a:lnTo>
                  <a:lnTo>
                    <a:pt x="2720" y="1819"/>
                  </a:lnTo>
                  <a:lnTo>
                    <a:pt x="2567" y="1822"/>
                  </a:lnTo>
                  <a:lnTo>
                    <a:pt x="2419" y="1828"/>
                  </a:lnTo>
                  <a:lnTo>
                    <a:pt x="2277" y="1836"/>
                  </a:lnTo>
                  <a:lnTo>
                    <a:pt x="2141" y="1848"/>
                  </a:lnTo>
                  <a:lnTo>
                    <a:pt x="2012" y="1861"/>
                  </a:lnTo>
                  <a:lnTo>
                    <a:pt x="1887" y="1877"/>
                  </a:lnTo>
                  <a:lnTo>
                    <a:pt x="1766" y="1896"/>
                  </a:lnTo>
                  <a:lnTo>
                    <a:pt x="1651" y="1919"/>
                  </a:lnTo>
                  <a:lnTo>
                    <a:pt x="1541" y="1943"/>
                  </a:lnTo>
                  <a:lnTo>
                    <a:pt x="1436" y="1970"/>
                  </a:lnTo>
                  <a:lnTo>
                    <a:pt x="1384" y="1985"/>
                  </a:lnTo>
                  <a:lnTo>
                    <a:pt x="1335" y="1999"/>
                  </a:lnTo>
                  <a:lnTo>
                    <a:pt x="1286" y="2016"/>
                  </a:lnTo>
                  <a:lnTo>
                    <a:pt x="1239" y="2032"/>
                  </a:lnTo>
                  <a:lnTo>
                    <a:pt x="1191" y="2050"/>
                  </a:lnTo>
                  <a:lnTo>
                    <a:pt x="1146" y="2067"/>
                  </a:lnTo>
                  <a:lnTo>
                    <a:pt x="1100" y="2087"/>
                  </a:lnTo>
                  <a:lnTo>
                    <a:pt x="1057" y="2106"/>
                  </a:lnTo>
                  <a:lnTo>
                    <a:pt x="1014" y="2127"/>
                  </a:lnTo>
                  <a:lnTo>
                    <a:pt x="971" y="2148"/>
                  </a:lnTo>
                  <a:lnTo>
                    <a:pt x="930" y="2169"/>
                  </a:lnTo>
                  <a:lnTo>
                    <a:pt x="889" y="2192"/>
                  </a:lnTo>
                  <a:lnTo>
                    <a:pt x="850" y="2214"/>
                  </a:lnTo>
                  <a:lnTo>
                    <a:pt x="811" y="2237"/>
                  </a:lnTo>
                  <a:lnTo>
                    <a:pt x="772" y="2263"/>
                  </a:lnTo>
                  <a:lnTo>
                    <a:pt x="735" y="2287"/>
                  </a:lnTo>
                  <a:lnTo>
                    <a:pt x="699" y="2313"/>
                  </a:lnTo>
                  <a:lnTo>
                    <a:pt x="663" y="2339"/>
                  </a:lnTo>
                  <a:lnTo>
                    <a:pt x="628" y="2366"/>
                  </a:lnTo>
                  <a:lnTo>
                    <a:pt x="593" y="2393"/>
                  </a:lnTo>
                  <a:lnTo>
                    <a:pt x="558" y="2423"/>
                  </a:lnTo>
                  <a:lnTo>
                    <a:pt x="525" y="2452"/>
                  </a:lnTo>
                  <a:lnTo>
                    <a:pt x="460" y="2511"/>
                  </a:lnTo>
                  <a:lnTo>
                    <a:pt x="397" y="2576"/>
                  </a:lnTo>
                  <a:lnTo>
                    <a:pt x="336" y="2640"/>
                  </a:lnTo>
                  <a:lnTo>
                    <a:pt x="277" y="2710"/>
                  </a:lnTo>
                  <a:lnTo>
                    <a:pt x="220" y="2783"/>
                  </a:lnTo>
                  <a:lnTo>
                    <a:pt x="163" y="2857"/>
                  </a:lnTo>
                  <a:lnTo>
                    <a:pt x="107" y="2934"/>
                  </a:lnTo>
                  <a:lnTo>
                    <a:pt x="53" y="3013"/>
                  </a:lnTo>
                  <a:lnTo>
                    <a:pt x="0" y="3097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9782000">
              <a:off x="3299400" y="-3782880"/>
              <a:ext cx="10031760" cy="6880680"/>
            </a:xfrm>
            <a:custGeom>
              <a:avLst/>
              <a:gdLst/>
              <a:ahLst/>
              <a:rect l="l" t="t" r="r" b="b"/>
              <a:pathLst>
                <a:path w="4782" h="3210">
                  <a:moveTo>
                    <a:pt x="4782" y="0"/>
                  </a:moveTo>
                  <a:lnTo>
                    <a:pt x="4782" y="0"/>
                  </a:lnTo>
                  <a:lnTo>
                    <a:pt x="4782" y="21"/>
                  </a:lnTo>
                  <a:lnTo>
                    <a:pt x="4780" y="81"/>
                  </a:lnTo>
                  <a:lnTo>
                    <a:pt x="4779" y="123"/>
                  </a:lnTo>
                  <a:lnTo>
                    <a:pt x="4775" y="173"/>
                  </a:lnTo>
                  <a:lnTo>
                    <a:pt x="4770" y="229"/>
                  </a:lnTo>
                  <a:lnTo>
                    <a:pt x="4762" y="292"/>
                  </a:lnTo>
                  <a:lnTo>
                    <a:pt x="4752" y="360"/>
                  </a:lnTo>
                  <a:lnTo>
                    <a:pt x="4740" y="433"/>
                  </a:lnTo>
                  <a:lnTo>
                    <a:pt x="4723" y="510"/>
                  </a:lnTo>
                  <a:lnTo>
                    <a:pt x="4704" y="591"/>
                  </a:lnTo>
                  <a:lnTo>
                    <a:pt x="4682" y="675"/>
                  </a:lnTo>
                  <a:lnTo>
                    <a:pt x="4668" y="717"/>
                  </a:lnTo>
                  <a:lnTo>
                    <a:pt x="4654" y="760"/>
                  </a:lnTo>
                  <a:lnTo>
                    <a:pt x="4637" y="802"/>
                  </a:lnTo>
                  <a:lnTo>
                    <a:pt x="4620" y="846"/>
                  </a:lnTo>
                  <a:lnTo>
                    <a:pt x="4602" y="890"/>
                  </a:lnTo>
                  <a:lnTo>
                    <a:pt x="4584" y="935"/>
                  </a:lnTo>
                  <a:lnTo>
                    <a:pt x="4564" y="978"/>
                  </a:lnTo>
                  <a:lnTo>
                    <a:pt x="4541" y="1022"/>
                  </a:lnTo>
                  <a:lnTo>
                    <a:pt x="4518" y="1066"/>
                  </a:lnTo>
                  <a:lnTo>
                    <a:pt x="4493" y="1108"/>
                  </a:lnTo>
                  <a:lnTo>
                    <a:pt x="4466" y="1151"/>
                  </a:lnTo>
                  <a:lnTo>
                    <a:pt x="4439" y="1193"/>
                  </a:lnTo>
                  <a:lnTo>
                    <a:pt x="4409" y="1235"/>
                  </a:lnTo>
                  <a:lnTo>
                    <a:pt x="4379" y="1277"/>
                  </a:lnTo>
                  <a:lnTo>
                    <a:pt x="4346" y="1318"/>
                  </a:lnTo>
                  <a:lnTo>
                    <a:pt x="4311" y="1358"/>
                  </a:lnTo>
                  <a:lnTo>
                    <a:pt x="4275" y="1397"/>
                  </a:lnTo>
                  <a:lnTo>
                    <a:pt x="4237" y="1435"/>
                  </a:lnTo>
                  <a:lnTo>
                    <a:pt x="4197" y="1471"/>
                  </a:lnTo>
                  <a:lnTo>
                    <a:pt x="4155" y="1508"/>
                  </a:lnTo>
                  <a:lnTo>
                    <a:pt x="4111" y="1542"/>
                  </a:lnTo>
                  <a:lnTo>
                    <a:pt x="4065" y="1576"/>
                  </a:lnTo>
                  <a:lnTo>
                    <a:pt x="4018" y="1608"/>
                  </a:lnTo>
                  <a:lnTo>
                    <a:pt x="3968" y="1639"/>
                  </a:lnTo>
                  <a:lnTo>
                    <a:pt x="3917" y="1668"/>
                  </a:lnTo>
                  <a:lnTo>
                    <a:pt x="3862" y="1695"/>
                  </a:lnTo>
                  <a:lnTo>
                    <a:pt x="3805" y="1721"/>
                  </a:lnTo>
                  <a:lnTo>
                    <a:pt x="3747" y="1744"/>
                  </a:lnTo>
                  <a:lnTo>
                    <a:pt x="3686" y="1766"/>
                  </a:lnTo>
                  <a:lnTo>
                    <a:pt x="3622" y="1787"/>
                  </a:lnTo>
                  <a:lnTo>
                    <a:pt x="3557" y="1805"/>
                  </a:lnTo>
                  <a:lnTo>
                    <a:pt x="3489" y="1821"/>
                  </a:lnTo>
                  <a:lnTo>
                    <a:pt x="3418" y="1834"/>
                  </a:lnTo>
                  <a:lnTo>
                    <a:pt x="3344" y="1846"/>
                  </a:lnTo>
                  <a:lnTo>
                    <a:pt x="3270" y="1855"/>
                  </a:lnTo>
                  <a:lnTo>
                    <a:pt x="3192" y="1860"/>
                  </a:lnTo>
                  <a:lnTo>
                    <a:pt x="3110" y="1865"/>
                  </a:lnTo>
                  <a:lnTo>
                    <a:pt x="3027" y="1867"/>
                  </a:lnTo>
                  <a:lnTo>
                    <a:pt x="3027" y="1867"/>
                  </a:lnTo>
                  <a:lnTo>
                    <a:pt x="2860" y="1867"/>
                  </a:lnTo>
                  <a:lnTo>
                    <a:pt x="2700" y="1870"/>
                  </a:lnTo>
                  <a:lnTo>
                    <a:pt x="2546" y="1876"/>
                  </a:lnTo>
                  <a:lnTo>
                    <a:pt x="2399" y="1884"/>
                  </a:lnTo>
                  <a:lnTo>
                    <a:pt x="2257" y="1896"/>
                  </a:lnTo>
                  <a:lnTo>
                    <a:pt x="2121" y="1910"/>
                  </a:lnTo>
                  <a:lnTo>
                    <a:pt x="1992" y="1926"/>
                  </a:lnTo>
                  <a:lnTo>
                    <a:pt x="1867" y="1946"/>
                  </a:lnTo>
                  <a:lnTo>
                    <a:pt x="1748" y="1967"/>
                  </a:lnTo>
                  <a:lnTo>
                    <a:pt x="1633" y="1991"/>
                  </a:lnTo>
                  <a:lnTo>
                    <a:pt x="1523" y="2018"/>
                  </a:lnTo>
                  <a:lnTo>
                    <a:pt x="1419" y="2047"/>
                  </a:lnTo>
                  <a:lnTo>
                    <a:pt x="1367" y="2064"/>
                  </a:lnTo>
                  <a:lnTo>
                    <a:pt x="1317" y="2080"/>
                  </a:lnTo>
                  <a:lnTo>
                    <a:pt x="1269" y="2097"/>
                  </a:lnTo>
                  <a:lnTo>
                    <a:pt x="1222" y="2115"/>
                  </a:lnTo>
                  <a:lnTo>
                    <a:pt x="1174" y="2133"/>
                  </a:lnTo>
                  <a:lnTo>
                    <a:pt x="1129" y="2152"/>
                  </a:lnTo>
                  <a:lnTo>
                    <a:pt x="1084" y="2172"/>
                  </a:lnTo>
                  <a:lnTo>
                    <a:pt x="1041" y="2193"/>
                  </a:lnTo>
                  <a:lnTo>
                    <a:pt x="998" y="2214"/>
                  </a:lnTo>
                  <a:lnTo>
                    <a:pt x="956" y="2235"/>
                  </a:lnTo>
                  <a:lnTo>
                    <a:pt x="915" y="2257"/>
                  </a:lnTo>
                  <a:lnTo>
                    <a:pt x="874" y="2282"/>
                  </a:lnTo>
                  <a:lnTo>
                    <a:pt x="836" y="2306"/>
                  </a:lnTo>
                  <a:lnTo>
                    <a:pt x="797" y="2330"/>
                  </a:lnTo>
                  <a:lnTo>
                    <a:pt x="759" y="2354"/>
                  </a:lnTo>
                  <a:lnTo>
                    <a:pt x="722" y="2380"/>
                  </a:lnTo>
                  <a:lnTo>
                    <a:pt x="686" y="2407"/>
                  </a:lnTo>
                  <a:lnTo>
                    <a:pt x="651" y="2435"/>
                  </a:lnTo>
                  <a:lnTo>
                    <a:pt x="615" y="2462"/>
                  </a:lnTo>
                  <a:lnTo>
                    <a:pt x="582" y="2491"/>
                  </a:lnTo>
                  <a:lnTo>
                    <a:pt x="548" y="2520"/>
                  </a:lnTo>
                  <a:lnTo>
                    <a:pt x="515" y="2550"/>
                  </a:lnTo>
                  <a:lnTo>
                    <a:pt x="451" y="2613"/>
                  </a:lnTo>
                  <a:lnTo>
                    <a:pt x="389" y="2677"/>
                  </a:lnTo>
                  <a:lnTo>
                    <a:pt x="329" y="2745"/>
                  </a:lnTo>
                  <a:lnTo>
                    <a:pt x="271" y="2816"/>
                  </a:lnTo>
                  <a:lnTo>
                    <a:pt x="214" y="2889"/>
                  </a:lnTo>
                  <a:lnTo>
                    <a:pt x="158" y="2965"/>
                  </a:lnTo>
                  <a:lnTo>
                    <a:pt x="104" y="3044"/>
                  </a:lnTo>
                  <a:lnTo>
                    <a:pt x="51" y="3124"/>
                  </a:lnTo>
                  <a:lnTo>
                    <a:pt x="0" y="321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9782000">
              <a:off x="3407040" y="-3934800"/>
              <a:ext cx="9928440" cy="7124760"/>
            </a:xfrm>
            <a:custGeom>
              <a:avLst/>
              <a:gdLst/>
              <a:ahLst/>
              <a:rect l="l" t="t" r="r" b="b"/>
              <a:pathLst>
                <a:path w="4733" h="3323">
                  <a:moveTo>
                    <a:pt x="4733" y="0"/>
                  </a:moveTo>
                  <a:lnTo>
                    <a:pt x="4733" y="0"/>
                  </a:lnTo>
                  <a:lnTo>
                    <a:pt x="4733" y="21"/>
                  </a:lnTo>
                  <a:lnTo>
                    <a:pt x="4733" y="81"/>
                  </a:lnTo>
                  <a:lnTo>
                    <a:pt x="4732" y="123"/>
                  </a:lnTo>
                  <a:lnTo>
                    <a:pt x="4729" y="173"/>
                  </a:lnTo>
                  <a:lnTo>
                    <a:pt x="4725" y="231"/>
                  </a:lnTo>
                  <a:lnTo>
                    <a:pt x="4718" y="294"/>
                  </a:lnTo>
                  <a:lnTo>
                    <a:pt x="4710" y="364"/>
                  </a:lnTo>
                  <a:lnTo>
                    <a:pt x="4699" y="436"/>
                  </a:lnTo>
                  <a:lnTo>
                    <a:pt x="4683" y="516"/>
                  </a:lnTo>
                  <a:lnTo>
                    <a:pt x="4665" y="596"/>
                  </a:lnTo>
                  <a:lnTo>
                    <a:pt x="4643" y="680"/>
                  </a:lnTo>
                  <a:lnTo>
                    <a:pt x="4631" y="724"/>
                  </a:lnTo>
                  <a:lnTo>
                    <a:pt x="4617" y="767"/>
                  </a:lnTo>
                  <a:lnTo>
                    <a:pt x="4602" y="811"/>
                  </a:lnTo>
                  <a:lnTo>
                    <a:pt x="4586" y="855"/>
                  </a:lnTo>
                  <a:lnTo>
                    <a:pt x="4568" y="898"/>
                  </a:lnTo>
                  <a:lnTo>
                    <a:pt x="4550" y="943"/>
                  </a:lnTo>
                  <a:lnTo>
                    <a:pt x="4529" y="987"/>
                  </a:lnTo>
                  <a:lnTo>
                    <a:pt x="4509" y="1032"/>
                  </a:lnTo>
                  <a:lnTo>
                    <a:pt x="4486" y="1076"/>
                  </a:lnTo>
                  <a:lnTo>
                    <a:pt x="4461" y="1119"/>
                  </a:lnTo>
                  <a:lnTo>
                    <a:pt x="4436" y="1165"/>
                  </a:lnTo>
                  <a:lnTo>
                    <a:pt x="4409" y="1207"/>
                  </a:lnTo>
                  <a:lnTo>
                    <a:pt x="4381" y="1250"/>
                  </a:lnTo>
                  <a:lnTo>
                    <a:pt x="4350" y="1292"/>
                  </a:lnTo>
                  <a:lnTo>
                    <a:pt x="4317" y="1334"/>
                  </a:lnTo>
                  <a:lnTo>
                    <a:pt x="4284" y="1375"/>
                  </a:lnTo>
                  <a:lnTo>
                    <a:pt x="4247" y="1415"/>
                  </a:lnTo>
                  <a:lnTo>
                    <a:pt x="4210" y="1454"/>
                  </a:lnTo>
                  <a:lnTo>
                    <a:pt x="4171" y="1491"/>
                  </a:lnTo>
                  <a:lnTo>
                    <a:pt x="4129" y="1528"/>
                  </a:lnTo>
                  <a:lnTo>
                    <a:pt x="4086" y="1563"/>
                  </a:lnTo>
                  <a:lnTo>
                    <a:pt x="4041" y="1599"/>
                  </a:lnTo>
                  <a:lnTo>
                    <a:pt x="3993" y="1631"/>
                  </a:lnTo>
                  <a:lnTo>
                    <a:pt x="3945" y="1664"/>
                  </a:lnTo>
                  <a:lnTo>
                    <a:pt x="3893" y="1694"/>
                  </a:lnTo>
                  <a:lnTo>
                    <a:pt x="3839" y="1723"/>
                  </a:lnTo>
                  <a:lnTo>
                    <a:pt x="3784" y="1749"/>
                  </a:lnTo>
                  <a:lnTo>
                    <a:pt x="3725" y="1775"/>
                  </a:lnTo>
                  <a:lnTo>
                    <a:pt x="3664" y="1798"/>
                  </a:lnTo>
                  <a:lnTo>
                    <a:pt x="3602" y="1820"/>
                  </a:lnTo>
                  <a:lnTo>
                    <a:pt x="3537" y="1840"/>
                  </a:lnTo>
                  <a:lnTo>
                    <a:pt x="3469" y="1856"/>
                  </a:lnTo>
                  <a:lnTo>
                    <a:pt x="3398" y="1872"/>
                  </a:lnTo>
                  <a:lnTo>
                    <a:pt x="3326" y="1885"/>
                  </a:lnTo>
                  <a:lnTo>
                    <a:pt x="3249" y="1894"/>
                  </a:lnTo>
                  <a:lnTo>
                    <a:pt x="3171" y="1903"/>
                  </a:lnTo>
                  <a:lnTo>
                    <a:pt x="3091" y="1909"/>
                  </a:lnTo>
                  <a:lnTo>
                    <a:pt x="3008" y="1911"/>
                  </a:lnTo>
                  <a:lnTo>
                    <a:pt x="3008" y="1911"/>
                  </a:lnTo>
                  <a:lnTo>
                    <a:pt x="2841" y="1915"/>
                  </a:lnTo>
                  <a:lnTo>
                    <a:pt x="2681" y="1922"/>
                  </a:lnTo>
                  <a:lnTo>
                    <a:pt x="2527" y="1932"/>
                  </a:lnTo>
                  <a:lnTo>
                    <a:pt x="2380" y="1943"/>
                  </a:lnTo>
                  <a:lnTo>
                    <a:pt x="2238" y="1957"/>
                  </a:lnTo>
                  <a:lnTo>
                    <a:pt x="2102" y="1974"/>
                  </a:lnTo>
                  <a:lnTo>
                    <a:pt x="1973" y="1993"/>
                  </a:lnTo>
                  <a:lnTo>
                    <a:pt x="1848" y="2014"/>
                  </a:lnTo>
                  <a:lnTo>
                    <a:pt x="1729" y="2038"/>
                  </a:lnTo>
                  <a:lnTo>
                    <a:pt x="1615" y="2066"/>
                  </a:lnTo>
                  <a:lnTo>
                    <a:pt x="1507" y="2095"/>
                  </a:lnTo>
                  <a:lnTo>
                    <a:pt x="1401" y="2127"/>
                  </a:lnTo>
                  <a:lnTo>
                    <a:pt x="1351" y="2143"/>
                  </a:lnTo>
                  <a:lnTo>
                    <a:pt x="1301" y="2161"/>
                  </a:lnTo>
                  <a:lnTo>
                    <a:pt x="1253" y="2179"/>
                  </a:lnTo>
                  <a:lnTo>
                    <a:pt x="1205" y="2198"/>
                  </a:lnTo>
                  <a:lnTo>
                    <a:pt x="1160" y="2217"/>
                  </a:lnTo>
                  <a:lnTo>
                    <a:pt x="1114" y="2237"/>
                  </a:lnTo>
                  <a:lnTo>
                    <a:pt x="1069" y="2258"/>
                  </a:lnTo>
                  <a:lnTo>
                    <a:pt x="1026" y="2280"/>
                  </a:lnTo>
                  <a:lnTo>
                    <a:pt x="983" y="2301"/>
                  </a:lnTo>
                  <a:lnTo>
                    <a:pt x="942" y="2324"/>
                  </a:lnTo>
                  <a:lnTo>
                    <a:pt x="901" y="2348"/>
                  </a:lnTo>
                  <a:lnTo>
                    <a:pt x="861" y="2372"/>
                  </a:lnTo>
                  <a:lnTo>
                    <a:pt x="822" y="2397"/>
                  </a:lnTo>
                  <a:lnTo>
                    <a:pt x="785" y="2422"/>
                  </a:lnTo>
                  <a:lnTo>
                    <a:pt x="747" y="2448"/>
                  </a:lnTo>
                  <a:lnTo>
                    <a:pt x="711" y="2476"/>
                  </a:lnTo>
                  <a:lnTo>
                    <a:pt x="675" y="2503"/>
                  </a:lnTo>
                  <a:lnTo>
                    <a:pt x="639" y="2531"/>
                  </a:lnTo>
                  <a:lnTo>
                    <a:pt x="606" y="2560"/>
                  </a:lnTo>
                  <a:lnTo>
                    <a:pt x="571" y="2589"/>
                  </a:lnTo>
                  <a:lnTo>
                    <a:pt x="538" y="2619"/>
                  </a:lnTo>
                  <a:lnTo>
                    <a:pt x="506" y="2650"/>
                  </a:lnTo>
                  <a:lnTo>
                    <a:pt x="442" y="2713"/>
                  </a:lnTo>
                  <a:lnTo>
                    <a:pt x="382" y="2779"/>
                  </a:lnTo>
                  <a:lnTo>
                    <a:pt x="322" y="2849"/>
                  </a:lnTo>
                  <a:lnTo>
                    <a:pt x="265" y="2921"/>
                  </a:lnTo>
                  <a:lnTo>
                    <a:pt x="210" y="2996"/>
                  </a:lnTo>
                  <a:lnTo>
                    <a:pt x="156" y="3073"/>
                  </a:lnTo>
                  <a:lnTo>
                    <a:pt x="103" y="3154"/>
                  </a:lnTo>
                  <a:lnTo>
                    <a:pt x="52" y="3236"/>
                  </a:lnTo>
                  <a:lnTo>
                    <a:pt x="0" y="332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282600"/>
            <a:ext cx="11522160" cy="650880"/>
          </a:xfrm>
          <a:prstGeom prst="rect">
            <a:avLst/>
          </a:prstGeom>
          <a:blipFill rotWithShape="0">
            <a:blip r:embed="rId3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-14400" y="-54720"/>
            <a:ext cx="11576880" cy="6895080"/>
            <a:chOff x="-14400" y="-54720"/>
            <a:chExt cx="11576880" cy="6895080"/>
          </a:xfrm>
        </p:grpSpPr>
        <p:sp>
          <p:nvSpPr>
            <p:cNvPr id="64" name=""/>
            <p:cNvSpPr/>
            <p:nvPr/>
          </p:nvSpPr>
          <p:spPr>
            <a:xfrm>
              <a:off x="0" y="976320"/>
              <a:ext cx="11522160" cy="58640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13680" y="487440"/>
              <a:ext cx="2508480" cy="623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30200">
              <a:off x="8380080" y="362880"/>
              <a:ext cx="535320" cy="795600"/>
            </a:xfrm>
            <a:prstGeom prst="rtTriangl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030200">
              <a:off x="10856520" y="-129960"/>
              <a:ext cx="534960" cy="795600"/>
            </a:xfrm>
            <a:prstGeom prst="rtTriangl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-14400" y="-54720"/>
              <a:ext cx="11576880" cy="1048320"/>
              <a:chOff x="-14400" y="-54720"/>
              <a:chExt cx="11576880" cy="1048320"/>
            </a:xfrm>
          </p:grpSpPr>
          <p:sp>
            <p:nvSpPr>
              <p:cNvPr id="69" name=""/>
              <p:cNvSpPr/>
              <p:nvPr/>
            </p:nvSpPr>
            <p:spPr>
              <a:xfrm>
                <a:off x="-14400" y="922320"/>
                <a:ext cx="8447040" cy="7128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9388400">
                <a:off x="10745640" y="204480"/>
                <a:ext cx="885960" cy="6516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029520" y="457200"/>
                <a:ext cx="1828800" cy="7308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388400">
                <a:off x="8321400" y="696960"/>
                <a:ext cx="795600" cy="601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0" y="6551640"/>
            <a:ext cx="11522160" cy="2887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Num" idx="1"/>
          </p:nvPr>
        </p:nvSpPr>
        <p:spPr>
          <a:xfrm>
            <a:off x="11133000" y="6556320"/>
            <a:ext cx="493920" cy="368280"/>
          </a:xfrm>
          <a:prstGeom prst="rect">
            <a:avLst/>
          </a:prstGeom>
          <a:solidFill>
            <a:srgbClr val="680000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B613-470E-4E9E-B337-DC315550BFFC}" type="slidenum">
              <a:rPr b="1" lang="ko-K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-520560"/>
            <a:ext cx="1152216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-91080" y="-6398640"/>
            <a:ext cx="14430600" cy="13480560"/>
            <a:chOff x="-91080" y="-6398640"/>
            <a:chExt cx="14430600" cy="13480560"/>
          </a:xfrm>
        </p:grpSpPr>
        <p:sp>
          <p:nvSpPr>
            <p:cNvPr id="113" name=""/>
            <p:cNvSpPr/>
            <p:nvPr/>
          </p:nvSpPr>
          <p:spPr>
            <a:xfrm rot="19433400">
              <a:off x="968400" y="-1794240"/>
              <a:ext cx="9545760" cy="6707520"/>
            </a:xfrm>
            <a:custGeom>
              <a:avLst/>
              <a:gdLst/>
              <a:ahLst/>
              <a:rect l="l" t="t" r="r" b="b"/>
              <a:pathLst>
                <a:path w="4772" h="3097">
                  <a:moveTo>
                    <a:pt x="4772" y="2929"/>
                  </a:moveTo>
                  <a:lnTo>
                    <a:pt x="4772" y="2929"/>
                  </a:lnTo>
                  <a:lnTo>
                    <a:pt x="4758" y="2937"/>
                  </a:lnTo>
                  <a:lnTo>
                    <a:pt x="4719" y="2956"/>
                  </a:lnTo>
                  <a:lnTo>
                    <a:pt x="4691" y="2971"/>
                  </a:lnTo>
                  <a:lnTo>
                    <a:pt x="4658" y="2985"/>
                  </a:lnTo>
                  <a:lnTo>
                    <a:pt x="4619" y="3001"/>
                  </a:lnTo>
                  <a:lnTo>
                    <a:pt x="4574" y="3017"/>
                  </a:lnTo>
                  <a:lnTo>
                    <a:pt x="4526" y="3034"/>
                  </a:lnTo>
                  <a:lnTo>
                    <a:pt x="4472" y="3048"/>
                  </a:lnTo>
                  <a:lnTo>
                    <a:pt x="4413" y="3063"/>
                  </a:lnTo>
                  <a:lnTo>
                    <a:pt x="4351" y="3076"/>
                  </a:lnTo>
                  <a:lnTo>
                    <a:pt x="4286" y="3085"/>
                  </a:lnTo>
                  <a:lnTo>
                    <a:pt x="4215" y="3093"/>
                  </a:lnTo>
                  <a:lnTo>
                    <a:pt x="4179" y="3095"/>
                  </a:lnTo>
                  <a:lnTo>
                    <a:pt x="4141" y="3097"/>
                  </a:lnTo>
                  <a:lnTo>
                    <a:pt x="4104" y="3097"/>
                  </a:lnTo>
                  <a:lnTo>
                    <a:pt x="4065" y="3097"/>
                  </a:lnTo>
                  <a:lnTo>
                    <a:pt x="4025" y="3095"/>
                  </a:lnTo>
                  <a:lnTo>
                    <a:pt x="3984" y="3092"/>
                  </a:lnTo>
                  <a:lnTo>
                    <a:pt x="3944" y="3087"/>
                  </a:lnTo>
                  <a:lnTo>
                    <a:pt x="3902" y="3082"/>
                  </a:lnTo>
                  <a:lnTo>
                    <a:pt x="3859" y="3076"/>
                  </a:lnTo>
                  <a:lnTo>
                    <a:pt x="3818" y="3066"/>
                  </a:lnTo>
                  <a:lnTo>
                    <a:pt x="3773" y="3056"/>
                  </a:lnTo>
                  <a:lnTo>
                    <a:pt x="3730" y="3045"/>
                  </a:lnTo>
                  <a:lnTo>
                    <a:pt x="3684" y="3032"/>
                  </a:lnTo>
                  <a:lnTo>
                    <a:pt x="3640" y="3016"/>
                  </a:lnTo>
                  <a:lnTo>
                    <a:pt x="3594" y="3000"/>
                  </a:lnTo>
                  <a:lnTo>
                    <a:pt x="3548" y="2980"/>
                  </a:lnTo>
                  <a:lnTo>
                    <a:pt x="3503" y="2959"/>
                  </a:lnTo>
                  <a:lnTo>
                    <a:pt x="3455" y="2937"/>
                  </a:lnTo>
                  <a:lnTo>
                    <a:pt x="3408" y="2912"/>
                  </a:lnTo>
                  <a:lnTo>
                    <a:pt x="3361" y="2885"/>
                  </a:lnTo>
                  <a:lnTo>
                    <a:pt x="3314" y="2856"/>
                  </a:lnTo>
                  <a:lnTo>
                    <a:pt x="3265" y="2824"/>
                  </a:lnTo>
                  <a:lnTo>
                    <a:pt x="3218" y="2790"/>
                  </a:lnTo>
                  <a:lnTo>
                    <a:pt x="3169" y="2754"/>
                  </a:lnTo>
                  <a:lnTo>
                    <a:pt x="3121" y="2715"/>
                  </a:lnTo>
                  <a:lnTo>
                    <a:pt x="3072" y="2673"/>
                  </a:lnTo>
                  <a:lnTo>
                    <a:pt x="3024" y="2630"/>
                  </a:lnTo>
                  <a:lnTo>
                    <a:pt x="2974" y="2583"/>
                  </a:lnTo>
                  <a:lnTo>
                    <a:pt x="2925" y="2533"/>
                  </a:lnTo>
                  <a:lnTo>
                    <a:pt x="2876" y="2481"/>
                  </a:lnTo>
                  <a:lnTo>
                    <a:pt x="2828" y="2425"/>
                  </a:lnTo>
                  <a:lnTo>
                    <a:pt x="2778" y="2367"/>
                  </a:lnTo>
                  <a:lnTo>
                    <a:pt x="2729" y="2305"/>
                  </a:lnTo>
                  <a:lnTo>
                    <a:pt x="2681" y="2241"/>
                  </a:lnTo>
                  <a:lnTo>
                    <a:pt x="2632" y="2173"/>
                  </a:lnTo>
                  <a:lnTo>
                    <a:pt x="2583" y="2102"/>
                  </a:lnTo>
                  <a:lnTo>
                    <a:pt x="2583" y="2102"/>
                  </a:lnTo>
                  <a:lnTo>
                    <a:pt x="2488" y="1960"/>
                  </a:lnTo>
                  <a:lnTo>
                    <a:pt x="2395" y="1824"/>
                  </a:lnTo>
                  <a:lnTo>
                    <a:pt x="2303" y="1695"/>
                  </a:lnTo>
                  <a:lnTo>
                    <a:pt x="2213" y="1572"/>
                  </a:lnTo>
                  <a:lnTo>
                    <a:pt x="2125" y="1456"/>
                  </a:lnTo>
                  <a:lnTo>
                    <a:pt x="2038" y="1345"/>
                  </a:lnTo>
                  <a:lnTo>
                    <a:pt x="1953" y="1240"/>
                  </a:lnTo>
                  <a:lnTo>
                    <a:pt x="1870" y="1140"/>
                  </a:lnTo>
                  <a:lnTo>
                    <a:pt x="1788" y="1046"/>
                  </a:lnTo>
                  <a:lnTo>
                    <a:pt x="1707" y="957"/>
                  </a:lnTo>
                  <a:lnTo>
                    <a:pt x="1628" y="873"/>
                  </a:lnTo>
                  <a:lnTo>
                    <a:pt x="1549" y="794"/>
                  </a:lnTo>
                  <a:lnTo>
                    <a:pt x="1471" y="720"/>
                  </a:lnTo>
                  <a:lnTo>
                    <a:pt x="1394" y="649"/>
                  </a:lnTo>
                  <a:lnTo>
                    <a:pt x="1317" y="584"/>
                  </a:lnTo>
                  <a:lnTo>
                    <a:pt x="1241" y="523"/>
                  </a:lnTo>
                  <a:lnTo>
                    <a:pt x="1166" y="466"/>
                  </a:lnTo>
                  <a:lnTo>
                    <a:pt x="1089" y="413"/>
                  </a:lnTo>
                  <a:lnTo>
                    <a:pt x="1014" y="365"/>
                  </a:lnTo>
                  <a:lnTo>
                    <a:pt x="940" y="319"/>
                  </a:lnTo>
                  <a:lnTo>
                    <a:pt x="865" y="277"/>
                  </a:lnTo>
                  <a:lnTo>
                    <a:pt x="790" y="239"/>
                  </a:lnTo>
                  <a:lnTo>
                    <a:pt x="713" y="203"/>
                  </a:lnTo>
                  <a:lnTo>
                    <a:pt x="637" y="171"/>
                  </a:lnTo>
                  <a:lnTo>
                    <a:pt x="560" y="140"/>
                  </a:lnTo>
                  <a:lnTo>
                    <a:pt x="484" y="114"/>
                  </a:lnTo>
                  <a:lnTo>
                    <a:pt x="405" y="90"/>
                  </a:lnTo>
                  <a:lnTo>
                    <a:pt x="327" y="67"/>
                  </a:lnTo>
                  <a:lnTo>
                    <a:pt x="247" y="48"/>
                  </a:lnTo>
                  <a:lnTo>
                    <a:pt x="166" y="30"/>
                  </a:lnTo>
                  <a:lnTo>
                    <a:pt x="84" y="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9433400">
              <a:off x="984960" y="-1742400"/>
              <a:ext cx="9629640" cy="6561360"/>
            </a:xfrm>
            <a:custGeom>
              <a:avLst/>
              <a:gdLst/>
              <a:ahLst/>
              <a:rect l="l" t="t" r="r" b="b"/>
              <a:pathLst>
                <a:path w="4814" h="3029">
                  <a:moveTo>
                    <a:pt x="4814" y="2845"/>
                  </a:moveTo>
                  <a:lnTo>
                    <a:pt x="4814" y="2845"/>
                  </a:lnTo>
                  <a:lnTo>
                    <a:pt x="4801" y="2853"/>
                  </a:lnTo>
                  <a:lnTo>
                    <a:pt x="4763" y="2874"/>
                  </a:lnTo>
                  <a:lnTo>
                    <a:pt x="4735" y="2888"/>
                  </a:lnTo>
                  <a:lnTo>
                    <a:pt x="4701" y="2904"/>
                  </a:lnTo>
                  <a:lnTo>
                    <a:pt x="4663" y="2921"/>
                  </a:lnTo>
                  <a:lnTo>
                    <a:pt x="4618" y="2938"/>
                  </a:lnTo>
                  <a:lnTo>
                    <a:pt x="4570" y="2954"/>
                  </a:lnTo>
                  <a:lnTo>
                    <a:pt x="4517" y="2972"/>
                  </a:lnTo>
                  <a:lnTo>
                    <a:pt x="4459" y="2987"/>
                  </a:lnTo>
                  <a:lnTo>
                    <a:pt x="4396" y="3001"/>
                  </a:lnTo>
                  <a:lnTo>
                    <a:pt x="4331" y="3013"/>
                  </a:lnTo>
                  <a:lnTo>
                    <a:pt x="4260" y="3021"/>
                  </a:lnTo>
                  <a:lnTo>
                    <a:pt x="4224" y="3024"/>
                  </a:lnTo>
                  <a:lnTo>
                    <a:pt x="4186" y="3027"/>
                  </a:lnTo>
                  <a:lnTo>
                    <a:pt x="4149" y="3027"/>
                  </a:lnTo>
                  <a:lnTo>
                    <a:pt x="4110" y="3029"/>
                  </a:lnTo>
                  <a:lnTo>
                    <a:pt x="4071" y="3027"/>
                  </a:lnTo>
                  <a:lnTo>
                    <a:pt x="4031" y="3025"/>
                  </a:lnTo>
                  <a:lnTo>
                    <a:pt x="3989" y="3021"/>
                  </a:lnTo>
                  <a:lnTo>
                    <a:pt x="3948" y="3016"/>
                  </a:lnTo>
                  <a:lnTo>
                    <a:pt x="3906" y="3011"/>
                  </a:lnTo>
                  <a:lnTo>
                    <a:pt x="3863" y="3003"/>
                  </a:lnTo>
                  <a:lnTo>
                    <a:pt x="3818" y="2993"/>
                  </a:lnTo>
                  <a:lnTo>
                    <a:pt x="3774" y="2983"/>
                  </a:lnTo>
                  <a:lnTo>
                    <a:pt x="3730" y="2971"/>
                  </a:lnTo>
                  <a:lnTo>
                    <a:pt x="3684" y="2956"/>
                  </a:lnTo>
                  <a:lnTo>
                    <a:pt x="3639" y="2940"/>
                  </a:lnTo>
                  <a:lnTo>
                    <a:pt x="3592" y="2922"/>
                  </a:lnTo>
                  <a:lnTo>
                    <a:pt x="3546" y="2903"/>
                  </a:lnTo>
                  <a:lnTo>
                    <a:pt x="3499" y="2880"/>
                  </a:lnTo>
                  <a:lnTo>
                    <a:pt x="3452" y="2856"/>
                  </a:lnTo>
                  <a:lnTo>
                    <a:pt x="3403" y="2830"/>
                  </a:lnTo>
                  <a:lnTo>
                    <a:pt x="3356" y="2801"/>
                  </a:lnTo>
                  <a:lnTo>
                    <a:pt x="3308" y="2770"/>
                  </a:lnTo>
                  <a:lnTo>
                    <a:pt x="3259" y="2738"/>
                  </a:lnTo>
                  <a:lnTo>
                    <a:pt x="3209" y="2703"/>
                  </a:lnTo>
                  <a:lnTo>
                    <a:pt x="3160" y="2664"/>
                  </a:lnTo>
                  <a:lnTo>
                    <a:pt x="3110" y="2623"/>
                  </a:lnTo>
                  <a:lnTo>
                    <a:pt x="3062" y="2580"/>
                  </a:lnTo>
                  <a:lnTo>
                    <a:pt x="3012" y="2535"/>
                  </a:lnTo>
                  <a:lnTo>
                    <a:pt x="2962" y="2485"/>
                  </a:lnTo>
                  <a:lnTo>
                    <a:pt x="2913" y="2433"/>
                  </a:lnTo>
                  <a:lnTo>
                    <a:pt x="2863" y="2378"/>
                  </a:lnTo>
                  <a:lnTo>
                    <a:pt x="2813" y="2321"/>
                  </a:lnTo>
                  <a:lnTo>
                    <a:pt x="2763" y="2260"/>
                  </a:lnTo>
                  <a:lnTo>
                    <a:pt x="2713" y="2197"/>
                  </a:lnTo>
                  <a:lnTo>
                    <a:pt x="2663" y="2129"/>
                  </a:lnTo>
                  <a:lnTo>
                    <a:pt x="2615" y="2058"/>
                  </a:lnTo>
                  <a:lnTo>
                    <a:pt x="2615" y="2058"/>
                  </a:lnTo>
                  <a:lnTo>
                    <a:pt x="2516" y="1918"/>
                  </a:lnTo>
                  <a:lnTo>
                    <a:pt x="2420" y="1784"/>
                  </a:lnTo>
                  <a:lnTo>
                    <a:pt x="2327" y="1656"/>
                  </a:lnTo>
                  <a:lnTo>
                    <a:pt x="2236" y="1535"/>
                  </a:lnTo>
                  <a:lnTo>
                    <a:pt x="2145" y="1419"/>
                  </a:lnTo>
                  <a:lnTo>
                    <a:pt x="2058" y="1309"/>
                  </a:lnTo>
                  <a:lnTo>
                    <a:pt x="1972" y="1206"/>
                  </a:lnTo>
                  <a:lnTo>
                    <a:pt x="1887" y="1107"/>
                  </a:lnTo>
                  <a:lnTo>
                    <a:pt x="1802" y="1014"/>
                  </a:lnTo>
                  <a:lnTo>
                    <a:pt x="1721" y="925"/>
                  </a:lnTo>
                  <a:lnTo>
                    <a:pt x="1640" y="842"/>
                  </a:lnTo>
                  <a:lnTo>
                    <a:pt x="1559" y="765"/>
                  </a:lnTo>
                  <a:lnTo>
                    <a:pt x="1480" y="692"/>
                  </a:lnTo>
                  <a:lnTo>
                    <a:pt x="1403" y="623"/>
                  </a:lnTo>
                  <a:lnTo>
                    <a:pt x="1325" y="560"/>
                  </a:lnTo>
                  <a:lnTo>
                    <a:pt x="1248" y="499"/>
                  </a:lnTo>
                  <a:lnTo>
                    <a:pt x="1172" y="444"/>
                  </a:lnTo>
                  <a:lnTo>
                    <a:pt x="1096" y="392"/>
                  </a:lnTo>
                  <a:lnTo>
                    <a:pt x="1019" y="343"/>
                  </a:lnTo>
                  <a:lnTo>
                    <a:pt x="944" y="300"/>
                  </a:lnTo>
                  <a:lnTo>
                    <a:pt x="868" y="260"/>
                  </a:lnTo>
                  <a:lnTo>
                    <a:pt x="792" y="222"/>
                  </a:lnTo>
                  <a:lnTo>
                    <a:pt x="715" y="188"/>
                  </a:lnTo>
                  <a:lnTo>
                    <a:pt x="639" y="158"/>
                  </a:lnTo>
                  <a:lnTo>
                    <a:pt x="563" y="129"/>
                  </a:lnTo>
                  <a:lnTo>
                    <a:pt x="485" y="103"/>
                  </a:lnTo>
                  <a:lnTo>
                    <a:pt x="406" y="80"/>
                  </a:lnTo>
                  <a:lnTo>
                    <a:pt x="327" y="61"/>
                  </a:lnTo>
                  <a:lnTo>
                    <a:pt x="247" y="42"/>
                  </a:lnTo>
                  <a:lnTo>
                    <a:pt x="165" y="25"/>
                  </a:lnTo>
                  <a:lnTo>
                    <a:pt x="84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9433400">
              <a:off x="998280" y="-1693800"/>
              <a:ext cx="9713880" cy="6413760"/>
            </a:xfrm>
            <a:custGeom>
              <a:avLst/>
              <a:gdLst/>
              <a:ahLst/>
              <a:rect l="l" t="t" r="r" b="b"/>
              <a:pathLst>
                <a:path w="4856" h="2961">
                  <a:moveTo>
                    <a:pt x="4856" y="2763"/>
                  </a:moveTo>
                  <a:lnTo>
                    <a:pt x="4856" y="2763"/>
                  </a:lnTo>
                  <a:lnTo>
                    <a:pt x="4844" y="2771"/>
                  </a:lnTo>
                  <a:lnTo>
                    <a:pt x="4805" y="2793"/>
                  </a:lnTo>
                  <a:lnTo>
                    <a:pt x="4777" y="2808"/>
                  </a:lnTo>
                  <a:lnTo>
                    <a:pt x="4745" y="2824"/>
                  </a:lnTo>
                  <a:lnTo>
                    <a:pt x="4706" y="2842"/>
                  </a:lnTo>
                  <a:lnTo>
                    <a:pt x="4662" y="2860"/>
                  </a:lnTo>
                  <a:lnTo>
                    <a:pt x="4613" y="2879"/>
                  </a:lnTo>
                  <a:lnTo>
                    <a:pt x="4561" y="2897"/>
                  </a:lnTo>
                  <a:lnTo>
                    <a:pt x="4504" y="2913"/>
                  </a:lnTo>
                  <a:lnTo>
                    <a:pt x="4441" y="2927"/>
                  </a:lnTo>
                  <a:lnTo>
                    <a:pt x="4375" y="2940"/>
                  </a:lnTo>
                  <a:lnTo>
                    <a:pt x="4305" y="2952"/>
                  </a:lnTo>
                  <a:lnTo>
                    <a:pt x="4269" y="2955"/>
                  </a:lnTo>
                  <a:lnTo>
                    <a:pt x="4232" y="2958"/>
                  </a:lnTo>
                  <a:lnTo>
                    <a:pt x="4194" y="2960"/>
                  </a:lnTo>
                  <a:lnTo>
                    <a:pt x="4155" y="2961"/>
                  </a:lnTo>
                  <a:lnTo>
                    <a:pt x="4116" y="2961"/>
                  </a:lnTo>
                  <a:lnTo>
                    <a:pt x="4076" y="2960"/>
                  </a:lnTo>
                  <a:lnTo>
                    <a:pt x="4034" y="2956"/>
                  </a:lnTo>
                  <a:lnTo>
                    <a:pt x="3993" y="2953"/>
                  </a:lnTo>
                  <a:lnTo>
                    <a:pt x="3950" y="2947"/>
                  </a:lnTo>
                  <a:lnTo>
                    <a:pt x="3907" y="2940"/>
                  </a:lnTo>
                  <a:lnTo>
                    <a:pt x="3864" y="2932"/>
                  </a:lnTo>
                  <a:lnTo>
                    <a:pt x="3819" y="2923"/>
                  </a:lnTo>
                  <a:lnTo>
                    <a:pt x="3773" y="2911"/>
                  </a:lnTo>
                  <a:lnTo>
                    <a:pt x="3729" y="2897"/>
                  </a:lnTo>
                  <a:lnTo>
                    <a:pt x="3683" y="2882"/>
                  </a:lnTo>
                  <a:lnTo>
                    <a:pt x="3636" y="2864"/>
                  </a:lnTo>
                  <a:lnTo>
                    <a:pt x="3589" y="2845"/>
                  </a:lnTo>
                  <a:lnTo>
                    <a:pt x="3541" y="2824"/>
                  </a:lnTo>
                  <a:lnTo>
                    <a:pt x="3494" y="2801"/>
                  </a:lnTo>
                  <a:lnTo>
                    <a:pt x="3446" y="2776"/>
                  </a:lnTo>
                  <a:lnTo>
                    <a:pt x="3397" y="2748"/>
                  </a:lnTo>
                  <a:lnTo>
                    <a:pt x="3348" y="2719"/>
                  </a:lnTo>
                  <a:lnTo>
                    <a:pt x="3299" y="2687"/>
                  </a:lnTo>
                  <a:lnTo>
                    <a:pt x="3250" y="2651"/>
                  </a:lnTo>
                  <a:lnTo>
                    <a:pt x="3200" y="2614"/>
                  </a:lnTo>
                  <a:lnTo>
                    <a:pt x="3150" y="2574"/>
                  </a:lnTo>
                  <a:lnTo>
                    <a:pt x="3100" y="2532"/>
                  </a:lnTo>
                  <a:lnTo>
                    <a:pt x="3050" y="2487"/>
                  </a:lnTo>
                  <a:lnTo>
                    <a:pt x="3000" y="2438"/>
                  </a:lnTo>
                  <a:lnTo>
                    <a:pt x="2949" y="2388"/>
                  </a:lnTo>
                  <a:lnTo>
                    <a:pt x="2899" y="2333"/>
                  </a:lnTo>
                  <a:lnTo>
                    <a:pt x="2847" y="2277"/>
                  </a:lnTo>
                  <a:lnTo>
                    <a:pt x="2797" y="2217"/>
                  </a:lnTo>
                  <a:lnTo>
                    <a:pt x="2746" y="2154"/>
                  </a:lnTo>
                  <a:lnTo>
                    <a:pt x="2696" y="2088"/>
                  </a:lnTo>
                  <a:lnTo>
                    <a:pt x="2645" y="2018"/>
                  </a:lnTo>
                  <a:lnTo>
                    <a:pt x="2645" y="2018"/>
                  </a:lnTo>
                  <a:lnTo>
                    <a:pt x="2545" y="1878"/>
                  </a:lnTo>
                  <a:lnTo>
                    <a:pt x="2447" y="1745"/>
                  </a:lnTo>
                  <a:lnTo>
                    <a:pt x="2352" y="1618"/>
                  </a:lnTo>
                  <a:lnTo>
                    <a:pt x="2259" y="1498"/>
                  </a:lnTo>
                  <a:lnTo>
                    <a:pt x="2167" y="1384"/>
                  </a:lnTo>
                  <a:lnTo>
                    <a:pt x="2077" y="1276"/>
                  </a:lnTo>
                  <a:lnTo>
                    <a:pt x="1989" y="1172"/>
                  </a:lnTo>
                  <a:lnTo>
                    <a:pt x="1903" y="1075"/>
                  </a:lnTo>
                  <a:lnTo>
                    <a:pt x="1818" y="983"/>
                  </a:lnTo>
                  <a:lnTo>
                    <a:pt x="1735" y="896"/>
                  </a:lnTo>
                  <a:lnTo>
                    <a:pt x="1652" y="815"/>
                  </a:lnTo>
                  <a:lnTo>
                    <a:pt x="1571" y="738"/>
                  </a:lnTo>
                  <a:lnTo>
                    <a:pt x="1491" y="667"/>
                  </a:lnTo>
                  <a:lnTo>
                    <a:pt x="1412" y="599"/>
                  </a:lnTo>
                  <a:lnTo>
                    <a:pt x="1334" y="536"/>
                  </a:lnTo>
                  <a:lnTo>
                    <a:pt x="1256" y="478"/>
                  </a:lnTo>
                  <a:lnTo>
                    <a:pt x="1178" y="423"/>
                  </a:lnTo>
                  <a:lnTo>
                    <a:pt x="1102" y="373"/>
                  </a:lnTo>
                  <a:lnTo>
                    <a:pt x="1024" y="326"/>
                  </a:lnTo>
                  <a:lnTo>
                    <a:pt x="948" y="284"/>
                  </a:lnTo>
                  <a:lnTo>
                    <a:pt x="872" y="245"/>
                  </a:lnTo>
                  <a:lnTo>
                    <a:pt x="795" y="208"/>
                  </a:lnTo>
                  <a:lnTo>
                    <a:pt x="719" y="176"/>
                  </a:lnTo>
                  <a:lnTo>
                    <a:pt x="641" y="147"/>
                  </a:lnTo>
                  <a:lnTo>
                    <a:pt x="565" y="119"/>
                  </a:lnTo>
                  <a:lnTo>
                    <a:pt x="486" y="95"/>
                  </a:lnTo>
                  <a:lnTo>
                    <a:pt x="408" y="74"/>
                  </a:lnTo>
                  <a:lnTo>
                    <a:pt x="327" y="55"/>
                  </a:lnTo>
                  <a:lnTo>
                    <a:pt x="248" y="39"/>
                  </a:lnTo>
                  <a:lnTo>
                    <a:pt x="166" y="24"/>
                  </a:lnTo>
                  <a:lnTo>
                    <a:pt x="83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9433400">
              <a:off x="1015560" y="-1636560"/>
              <a:ext cx="9795600" cy="6257880"/>
            </a:xfrm>
            <a:custGeom>
              <a:avLst/>
              <a:gdLst/>
              <a:ahLst/>
              <a:rect l="l" t="t" r="r" b="b"/>
              <a:pathLst>
                <a:path w="4897" h="2890">
                  <a:moveTo>
                    <a:pt x="4897" y="2675"/>
                  </a:moveTo>
                  <a:lnTo>
                    <a:pt x="4897" y="2675"/>
                  </a:lnTo>
                  <a:lnTo>
                    <a:pt x="4885" y="2683"/>
                  </a:lnTo>
                  <a:lnTo>
                    <a:pt x="4847" y="2707"/>
                  </a:lnTo>
                  <a:lnTo>
                    <a:pt x="4820" y="2722"/>
                  </a:lnTo>
                  <a:lnTo>
                    <a:pt x="4788" y="2740"/>
                  </a:lnTo>
                  <a:lnTo>
                    <a:pt x="4749" y="2757"/>
                  </a:lnTo>
                  <a:lnTo>
                    <a:pt x="4706" y="2777"/>
                  </a:lnTo>
                  <a:lnTo>
                    <a:pt x="4657" y="2796"/>
                  </a:lnTo>
                  <a:lnTo>
                    <a:pt x="4604" y="2816"/>
                  </a:lnTo>
                  <a:lnTo>
                    <a:pt x="4547" y="2833"/>
                  </a:lnTo>
                  <a:lnTo>
                    <a:pt x="4485" y="2849"/>
                  </a:lnTo>
                  <a:lnTo>
                    <a:pt x="4420" y="2864"/>
                  </a:lnTo>
                  <a:lnTo>
                    <a:pt x="4350" y="2875"/>
                  </a:lnTo>
                  <a:lnTo>
                    <a:pt x="4314" y="2880"/>
                  </a:lnTo>
                  <a:lnTo>
                    <a:pt x="4277" y="2885"/>
                  </a:lnTo>
                  <a:lnTo>
                    <a:pt x="4239" y="2887"/>
                  </a:lnTo>
                  <a:lnTo>
                    <a:pt x="4200" y="2888"/>
                  </a:lnTo>
                  <a:lnTo>
                    <a:pt x="4160" y="2890"/>
                  </a:lnTo>
                  <a:lnTo>
                    <a:pt x="4120" y="2888"/>
                  </a:lnTo>
                  <a:lnTo>
                    <a:pt x="4078" y="2887"/>
                  </a:lnTo>
                  <a:lnTo>
                    <a:pt x="4036" y="2883"/>
                  </a:lnTo>
                  <a:lnTo>
                    <a:pt x="3995" y="2880"/>
                  </a:lnTo>
                  <a:lnTo>
                    <a:pt x="3952" y="2874"/>
                  </a:lnTo>
                  <a:lnTo>
                    <a:pt x="3907" y="2866"/>
                  </a:lnTo>
                  <a:lnTo>
                    <a:pt x="3863" y="2858"/>
                  </a:lnTo>
                  <a:lnTo>
                    <a:pt x="3818" y="2846"/>
                  </a:lnTo>
                  <a:lnTo>
                    <a:pt x="3773" y="2833"/>
                  </a:lnTo>
                  <a:lnTo>
                    <a:pt x="3725" y="2819"/>
                  </a:lnTo>
                  <a:lnTo>
                    <a:pt x="3680" y="2803"/>
                  </a:lnTo>
                  <a:lnTo>
                    <a:pt x="3632" y="2785"/>
                  </a:lnTo>
                  <a:lnTo>
                    <a:pt x="3584" y="2764"/>
                  </a:lnTo>
                  <a:lnTo>
                    <a:pt x="3537" y="2743"/>
                  </a:lnTo>
                  <a:lnTo>
                    <a:pt x="3488" y="2717"/>
                  </a:lnTo>
                  <a:lnTo>
                    <a:pt x="3438" y="2691"/>
                  </a:lnTo>
                  <a:lnTo>
                    <a:pt x="3389" y="2662"/>
                  </a:lnTo>
                  <a:lnTo>
                    <a:pt x="3339" y="2630"/>
                  </a:lnTo>
                  <a:lnTo>
                    <a:pt x="3290" y="2596"/>
                  </a:lnTo>
                  <a:lnTo>
                    <a:pt x="3240" y="2560"/>
                  </a:lnTo>
                  <a:lnTo>
                    <a:pt x="3190" y="2522"/>
                  </a:lnTo>
                  <a:lnTo>
                    <a:pt x="3138" y="2480"/>
                  </a:lnTo>
                  <a:lnTo>
                    <a:pt x="3087" y="2434"/>
                  </a:lnTo>
                  <a:lnTo>
                    <a:pt x="3037" y="2388"/>
                  </a:lnTo>
                  <a:lnTo>
                    <a:pt x="2985" y="2338"/>
                  </a:lnTo>
                  <a:lnTo>
                    <a:pt x="2934" y="2284"/>
                  </a:lnTo>
                  <a:lnTo>
                    <a:pt x="2881" y="2228"/>
                  </a:lnTo>
                  <a:lnTo>
                    <a:pt x="2830" y="2168"/>
                  </a:lnTo>
                  <a:lnTo>
                    <a:pt x="2779" y="2107"/>
                  </a:lnTo>
                  <a:lnTo>
                    <a:pt x="2727" y="2040"/>
                  </a:lnTo>
                  <a:lnTo>
                    <a:pt x="2676" y="1971"/>
                  </a:lnTo>
                  <a:lnTo>
                    <a:pt x="2676" y="1971"/>
                  </a:lnTo>
                  <a:lnTo>
                    <a:pt x="2573" y="1834"/>
                  </a:lnTo>
                  <a:lnTo>
                    <a:pt x="2473" y="1701"/>
                  </a:lnTo>
                  <a:lnTo>
                    <a:pt x="2376" y="1577"/>
                  </a:lnTo>
                  <a:lnTo>
                    <a:pt x="2282" y="1458"/>
                  </a:lnTo>
                  <a:lnTo>
                    <a:pt x="2188" y="1345"/>
                  </a:lnTo>
                  <a:lnTo>
                    <a:pt x="2097" y="1238"/>
                  </a:lnTo>
                  <a:lnTo>
                    <a:pt x="2007" y="1136"/>
                  </a:lnTo>
                  <a:lnTo>
                    <a:pt x="1919" y="1039"/>
                  </a:lnTo>
                  <a:lnTo>
                    <a:pt x="1833" y="949"/>
                  </a:lnTo>
                  <a:lnTo>
                    <a:pt x="1748" y="863"/>
                  </a:lnTo>
                  <a:lnTo>
                    <a:pt x="1665" y="783"/>
                  </a:lnTo>
                  <a:lnTo>
                    <a:pt x="1583" y="708"/>
                  </a:lnTo>
                  <a:lnTo>
                    <a:pt x="1501" y="637"/>
                  </a:lnTo>
                  <a:lnTo>
                    <a:pt x="1421" y="571"/>
                  </a:lnTo>
                  <a:lnTo>
                    <a:pt x="1342" y="510"/>
                  </a:lnTo>
                  <a:lnTo>
                    <a:pt x="1264" y="453"/>
                  </a:lnTo>
                  <a:lnTo>
                    <a:pt x="1185" y="400"/>
                  </a:lnTo>
                  <a:lnTo>
                    <a:pt x="1107" y="352"/>
                  </a:lnTo>
                  <a:lnTo>
                    <a:pt x="1031" y="306"/>
                  </a:lnTo>
                  <a:lnTo>
                    <a:pt x="953" y="264"/>
                  </a:lnTo>
                  <a:lnTo>
                    <a:pt x="876" y="226"/>
                  </a:lnTo>
                  <a:lnTo>
                    <a:pt x="799" y="192"/>
                  </a:lnTo>
                  <a:lnTo>
                    <a:pt x="722" y="161"/>
                  </a:lnTo>
                  <a:lnTo>
                    <a:pt x="645" y="132"/>
                  </a:lnTo>
                  <a:lnTo>
                    <a:pt x="567" y="106"/>
                  </a:lnTo>
                  <a:lnTo>
                    <a:pt x="488" y="85"/>
                  </a:lnTo>
                  <a:lnTo>
                    <a:pt x="409" y="64"/>
                  </a:lnTo>
                  <a:lnTo>
                    <a:pt x="329" y="46"/>
                  </a:lnTo>
                  <a:lnTo>
                    <a:pt x="249" y="32"/>
                  </a:lnTo>
                  <a:lnTo>
                    <a:pt x="167" y="19"/>
                  </a:lnTo>
                  <a:lnTo>
                    <a:pt x="84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9433400">
              <a:off x="1034640" y="-1584000"/>
              <a:ext cx="9875880" cy="6110280"/>
            </a:xfrm>
            <a:custGeom>
              <a:avLst/>
              <a:gdLst/>
              <a:ahLst/>
              <a:rect l="l" t="t" r="r" b="b"/>
              <a:pathLst>
                <a:path w="4937" h="2820">
                  <a:moveTo>
                    <a:pt x="4937" y="2589"/>
                  </a:moveTo>
                  <a:lnTo>
                    <a:pt x="4937" y="2589"/>
                  </a:lnTo>
                  <a:lnTo>
                    <a:pt x="4925" y="2599"/>
                  </a:lnTo>
                  <a:lnTo>
                    <a:pt x="4887" y="2622"/>
                  </a:lnTo>
                  <a:lnTo>
                    <a:pt x="4861" y="2638"/>
                  </a:lnTo>
                  <a:lnTo>
                    <a:pt x="4828" y="2656"/>
                  </a:lnTo>
                  <a:lnTo>
                    <a:pt x="4790" y="2675"/>
                  </a:lnTo>
                  <a:lnTo>
                    <a:pt x="4747" y="2696"/>
                  </a:lnTo>
                  <a:lnTo>
                    <a:pt x="4698" y="2717"/>
                  </a:lnTo>
                  <a:lnTo>
                    <a:pt x="4646" y="2736"/>
                  </a:lnTo>
                  <a:lnTo>
                    <a:pt x="4589" y="2756"/>
                  </a:lnTo>
                  <a:lnTo>
                    <a:pt x="4528" y="2774"/>
                  </a:lnTo>
                  <a:lnTo>
                    <a:pt x="4462" y="2790"/>
                  </a:lnTo>
                  <a:lnTo>
                    <a:pt x="4393" y="2803"/>
                  </a:lnTo>
                  <a:lnTo>
                    <a:pt x="4357" y="2807"/>
                  </a:lnTo>
                  <a:lnTo>
                    <a:pt x="4319" y="2812"/>
                  </a:lnTo>
                  <a:lnTo>
                    <a:pt x="4282" y="2816"/>
                  </a:lnTo>
                  <a:lnTo>
                    <a:pt x="4243" y="2819"/>
                  </a:lnTo>
                  <a:lnTo>
                    <a:pt x="4203" y="2820"/>
                  </a:lnTo>
                  <a:lnTo>
                    <a:pt x="4163" y="2820"/>
                  </a:lnTo>
                  <a:lnTo>
                    <a:pt x="4122" y="2819"/>
                  </a:lnTo>
                  <a:lnTo>
                    <a:pt x="4081" y="2817"/>
                  </a:lnTo>
                  <a:lnTo>
                    <a:pt x="4038" y="2812"/>
                  </a:lnTo>
                  <a:lnTo>
                    <a:pt x="3995" y="2807"/>
                  </a:lnTo>
                  <a:lnTo>
                    <a:pt x="3950" y="2801"/>
                  </a:lnTo>
                  <a:lnTo>
                    <a:pt x="3906" y="2793"/>
                  </a:lnTo>
                  <a:lnTo>
                    <a:pt x="3860" y="2783"/>
                  </a:lnTo>
                  <a:lnTo>
                    <a:pt x="3814" y="2772"/>
                  </a:lnTo>
                  <a:lnTo>
                    <a:pt x="3768" y="2757"/>
                  </a:lnTo>
                  <a:lnTo>
                    <a:pt x="3721" y="2743"/>
                  </a:lnTo>
                  <a:lnTo>
                    <a:pt x="3674" y="2725"/>
                  </a:lnTo>
                  <a:lnTo>
                    <a:pt x="3625" y="2706"/>
                  </a:lnTo>
                  <a:lnTo>
                    <a:pt x="3577" y="2685"/>
                  </a:lnTo>
                  <a:lnTo>
                    <a:pt x="3528" y="2661"/>
                  </a:lnTo>
                  <a:lnTo>
                    <a:pt x="3479" y="2635"/>
                  </a:lnTo>
                  <a:lnTo>
                    <a:pt x="3429" y="2607"/>
                  </a:lnTo>
                  <a:lnTo>
                    <a:pt x="3379" y="2577"/>
                  </a:lnTo>
                  <a:lnTo>
                    <a:pt x="3328" y="2543"/>
                  </a:lnTo>
                  <a:lnTo>
                    <a:pt x="3278" y="2507"/>
                  </a:lnTo>
                  <a:lnTo>
                    <a:pt x="3227" y="2470"/>
                  </a:lnTo>
                  <a:lnTo>
                    <a:pt x="3175" y="2428"/>
                  </a:lnTo>
                  <a:lnTo>
                    <a:pt x="3124" y="2384"/>
                  </a:lnTo>
                  <a:lnTo>
                    <a:pt x="3071" y="2338"/>
                  </a:lnTo>
                  <a:lnTo>
                    <a:pt x="3020" y="2289"/>
                  </a:lnTo>
                  <a:lnTo>
                    <a:pt x="2967" y="2236"/>
                  </a:lnTo>
                  <a:lnTo>
                    <a:pt x="2916" y="2181"/>
                  </a:lnTo>
                  <a:lnTo>
                    <a:pt x="2863" y="2123"/>
                  </a:lnTo>
                  <a:lnTo>
                    <a:pt x="2810" y="2061"/>
                  </a:lnTo>
                  <a:lnTo>
                    <a:pt x="2757" y="1995"/>
                  </a:lnTo>
                  <a:lnTo>
                    <a:pt x="2705" y="1927"/>
                  </a:lnTo>
                  <a:lnTo>
                    <a:pt x="2705" y="1927"/>
                  </a:lnTo>
                  <a:lnTo>
                    <a:pt x="2601" y="1792"/>
                  </a:lnTo>
                  <a:lnTo>
                    <a:pt x="2499" y="1661"/>
                  </a:lnTo>
                  <a:lnTo>
                    <a:pt x="2399" y="1537"/>
                  </a:lnTo>
                  <a:lnTo>
                    <a:pt x="2302" y="1419"/>
                  </a:lnTo>
                  <a:lnTo>
                    <a:pt x="2208" y="1307"/>
                  </a:lnTo>
                  <a:lnTo>
                    <a:pt x="2115" y="1201"/>
                  </a:lnTo>
                  <a:lnTo>
                    <a:pt x="2024" y="1101"/>
                  </a:lnTo>
                  <a:lnTo>
                    <a:pt x="1936" y="1007"/>
                  </a:lnTo>
                  <a:lnTo>
                    <a:pt x="1847" y="917"/>
                  </a:lnTo>
                  <a:lnTo>
                    <a:pt x="1761" y="833"/>
                  </a:lnTo>
                  <a:lnTo>
                    <a:pt x="1677" y="754"/>
                  </a:lnTo>
                  <a:lnTo>
                    <a:pt x="1593" y="681"/>
                  </a:lnTo>
                  <a:lnTo>
                    <a:pt x="1511" y="611"/>
                  </a:lnTo>
                  <a:lnTo>
                    <a:pt x="1430" y="547"/>
                  </a:lnTo>
                  <a:lnTo>
                    <a:pt x="1350" y="486"/>
                  </a:lnTo>
                  <a:lnTo>
                    <a:pt x="1270" y="431"/>
                  </a:lnTo>
                  <a:lnTo>
                    <a:pt x="1191" y="379"/>
                  </a:lnTo>
                  <a:lnTo>
                    <a:pt x="1112" y="331"/>
                  </a:lnTo>
                  <a:lnTo>
                    <a:pt x="1034" y="287"/>
                  </a:lnTo>
                  <a:lnTo>
                    <a:pt x="957" y="247"/>
                  </a:lnTo>
                  <a:lnTo>
                    <a:pt x="879" y="211"/>
                  </a:lnTo>
                  <a:lnTo>
                    <a:pt x="801" y="177"/>
                  </a:lnTo>
                  <a:lnTo>
                    <a:pt x="723" y="148"/>
                  </a:lnTo>
                  <a:lnTo>
                    <a:pt x="646" y="121"/>
                  </a:lnTo>
                  <a:lnTo>
                    <a:pt x="568" y="96"/>
                  </a:lnTo>
                  <a:lnTo>
                    <a:pt x="489" y="75"/>
                  </a:lnTo>
                  <a:lnTo>
                    <a:pt x="410" y="58"/>
                  </a:lnTo>
                  <a:lnTo>
                    <a:pt x="330" y="41"/>
                  </a:lnTo>
                  <a:lnTo>
                    <a:pt x="249" y="27"/>
                  </a:lnTo>
                  <a:lnTo>
                    <a:pt x="167" y="16"/>
                  </a:lnTo>
                  <a:lnTo>
                    <a:pt x="85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9433400">
              <a:off x="1055160" y="-1527840"/>
              <a:ext cx="9951840" cy="5954400"/>
            </a:xfrm>
            <a:custGeom>
              <a:avLst/>
              <a:gdLst/>
              <a:ahLst/>
              <a:rect l="l" t="t" r="r" b="b"/>
              <a:pathLst>
                <a:path w="4975" h="2750">
                  <a:moveTo>
                    <a:pt x="4975" y="2501"/>
                  </a:moveTo>
                  <a:lnTo>
                    <a:pt x="4975" y="2501"/>
                  </a:lnTo>
                  <a:lnTo>
                    <a:pt x="4962" y="2511"/>
                  </a:lnTo>
                  <a:lnTo>
                    <a:pt x="4926" y="2537"/>
                  </a:lnTo>
                  <a:lnTo>
                    <a:pt x="4899" y="2553"/>
                  </a:lnTo>
                  <a:lnTo>
                    <a:pt x="4867" y="2571"/>
                  </a:lnTo>
                  <a:lnTo>
                    <a:pt x="4829" y="2592"/>
                  </a:lnTo>
                  <a:lnTo>
                    <a:pt x="4786" y="2613"/>
                  </a:lnTo>
                  <a:lnTo>
                    <a:pt x="4739" y="2635"/>
                  </a:lnTo>
                  <a:lnTo>
                    <a:pt x="4686" y="2656"/>
                  </a:lnTo>
                  <a:lnTo>
                    <a:pt x="4629" y="2676"/>
                  </a:lnTo>
                  <a:lnTo>
                    <a:pt x="4568" y="2695"/>
                  </a:lnTo>
                  <a:lnTo>
                    <a:pt x="4503" y="2713"/>
                  </a:lnTo>
                  <a:lnTo>
                    <a:pt x="4433" y="2727"/>
                  </a:lnTo>
                  <a:lnTo>
                    <a:pt x="4397" y="2734"/>
                  </a:lnTo>
                  <a:lnTo>
                    <a:pt x="4361" y="2739"/>
                  </a:lnTo>
                  <a:lnTo>
                    <a:pt x="4322" y="2743"/>
                  </a:lnTo>
                  <a:lnTo>
                    <a:pt x="4285" y="2747"/>
                  </a:lnTo>
                  <a:lnTo>
                    <a:pt x="4245" y="2748"/>
                  </a:lnTo>
                  <a:lnTo>
                    <a:pt x="4204" y="2750"/>
                  </a:lnTo>
                  <a:lnTo>
                    <a:pt x="4163" y="2750"/>
                  </a:lnTo>
                  <a:lnTo>
                    <a:pt x="4121" y="2748"/>
                  </a:lnTo>
                  <a:lnTo>
                    <a:pt x="4079" y="2745"/>
                  </a:lnTo>
                  <a:lnTo>
                    <a:pt x="4035" y="2740"/>
                  </a:lnTo>
                  <a:lnTo>
                    <a:pt x="3992" y="2735"/>
                  </a:lnTo>
                  <a:lnTo>
                    <a:pt x="3946" y="2727"/>
                  </a:lnTo>
                  <a:lnTo>
                    <a:pt x="3902" y="2719"/>
                  </a:lnTo>
                  <a:lnTo>
                    <a:pt x="3856" y="2708"/>
                  </a:lnTo>
                  <a:lnTo>
                    <a:pt x="3809" y="2695"/>
                  </a:lnTo>
                  <a:lnTo>
                    <a:pt x="3761" y="2680"/>
                  </a:lnTo>
                  <a:lnTo>
                    <a:pt x="3714" y="2664"/>
                  </a:lnTo>
                  <a:lnTo>
                    <a:pt x="3666" y="2645"/>
                  </a:lnTo>
                  <a:lnTo>
                    <a:pt x="3617" y="2626"/>
                  </a:lnTo>
                  <a:lnTo>
                    <a:pt x="3567" y="2603"/>
                  </a:lnTo>
                  <a:lnTo>
                    <a:pt x="3517" y="2577"/>
                  </a:lnTo>
                  <a:lnTo>
                    <a:pt x="3467" y="2550"/>
                  </a:lnTo>
                  <a:lnTo>
                    <a:pt x="3417" y="2521"/>
                  </a:lnTo>
                  <a:lnTo>
                    <a:pt x="3366" y="2488"/>
                  </a:lnTo>
                  <a:lnTo>
                    <a:pt x="3314" y="2453"/>
                  </a:lnTo>
                  <a:lnTo>
                    <a:pt x="3263" y="2416"/>
                  </a:lnTo>
                  <a:lnTo>
                    <a:pt x="3212" y="2375"/>
                  </a:lnTo>
                  <a:lnTo>
                    <a:pt x="3159" y="2333"/>
                  </a:lnTo>
                  <a:lnTo>
                    <a:pt x="3106" y="2288"/>
                  </a:lnTo>
                  <a:lnTo>
                    <a:pt x="3053" y="2240"/>
                  </a:lnTo>
                  <a:lnTo>
                    <a:pt x="3001" y="2188"/>
                  </a:lnTo>
                  <a:lnTo>
                    <a:pt x="2948" y="2133"/>
                  </a:lnTo>
                  <a:lnTo>
                    <a:pt x="2894" y="2075"/>
                  </a:lnTo>
                  <a:lnTo>
                    <a:pt x="2841" y="2014"/>
                  </a:lnTo>
                  <a:lnTo>
                    <a:pt x="2787" y="1951"/>
                  </a:lnTo>
                  <a:lnTo>
                    <a:pt x="2733" y="1883"/>
                  </a:lnTo>
                  <a:lnTo>
                    <a:pt x="2733" y="1883"/>
                  </a:lnTo>
                  <a:lnTo>
                    <a:pt x="2627" y="1747"/>
                  </a:lnTo>
                  <a:lnTo>
                    <a:pt x="2523" y="1618"/>
                  </a:lnTo>
                  <a:lnTo>
                    <a:pt x="2422" y="1495"/>
                  </a:lnTo>
                  <a:lnTo>
                    <a:pt x="2323" y="1379"/>
                  </a:lnTo>
                  <a:lnTo>
                    <a:pt x="2227" y="1269"/>
                  </a:lnTo>
                  <a:lnTo>
                    <a:pt x="2133" y="1164"/>
                  </a:lnTo>
                  <a:lnTo>
                    <a:pt x="2040" y="1066"/>
                  </a:lnTo>
                  <a:lnTo>
                    <a:pt x="1949" y="972"/>
                  </a:lnTo>
                  <a:lnTo>
                    <a:pt x="1861" y="885"/>
                  </a:lnTo>
                  <a:lnTo>
                    <a:pt x="1773" y="801"/>
                  </a:lnTo>
                  <a:lnTo>
                    <a:pt x="1687" y="723"/>
                  </a:lnTo>
                  <a:lnTo>
                    <a:pt x="1602" y="651"/>
                  </a:lnTo>
                  <a:lnTo>
                    <a:pt x="1519" y="583"/>
                  </a:lnTo>
                  <a:lnTo>
                    <a:pt x="1437" y="520"/>
                  </a:lnTo>
                  <a:lnTo>
                    <a:pt x="1357" y="462"/>
                  </a:lnTo>
                  <a:lnTo>
                    <a:pt x="1276" y="407"/>
                  </a:lnTo>
                  <a:lnTo>
                    <a:pt x="1196" y="357"/>
                  </a:lnTo>
                  <a:lnTo>
                    <a:pt x="1116" y="310"/>
                  </a:lnTo>
                  <a:lnTo>
                    <a:pt x="1039" y="268"/>
                  </a:lnTo>
                  <a:lnTo>
                    <a:pt x="960" y="229"/>
                  </a:lnTo>
                  <a:lnTo>
                    <a:pt x="882" y="194"/>
                  </a:lnTo>
                  <a:lnTo>
                    <a:pt x="804" y="162"/>
                  </a:lnTo>
                  <a:lnTo>
                    <a:pt x="726" y="134"/>
                  </a:lnTo>
                  <a:lnTo>
                    <a:pt x="647" y="108"/>
                  </a:lnTo>
                  <a:lnTo>
                    <a:pt x="569" y="86"/>
                  </a:lnTo>
                  <a:lnTo>
                    <a:pt x="490" y="66"/>
                  </a:lnTo>
                  <a:lnTo>
                    <a:pt x="410" y="50"/>
                  </a:lnTo>
                  <a:lnTo>
                    <a:pt x="331" y="36"/>
                  </a:lnTo>
                  <a:lnTo>
                    <a:pt x="249" y="23"/>
                  </a:lnTo>
                  <a:lnTo>
                    <a:pt x="167" y="13"/>
                  </a:lnTo>
                  <a:lnTo>
                    <a:pt x="83" y="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9433400">
              <a:off x="1076040" y="-1470240"/>
              <a:ext cx="10026000" cy="5799240"/>
            </a:xfrm>
            <a:custGeom>
              <a:avLst/>
              <a:gdLst/>
              <a:ahLst/>
              <a:rect l="l" t="t" r="r" b="b"/>
              <a:pathLst>
                <a:path w="5012" h="2678">
                  <a:moveTo>
                    <a:pt x="5012" y="2414"/>
                  </a:moveTo>
                  <a:lnTo>
                    <a:pt x="5012" y="2414"/>
                  </a:lnTo>
                  <a:lnTo>
                    <a:pt x="5000" y="2423"/>
                  </a:lnTo>
                  <a:lnTo>
                    <a:pt x="4964" y="2448"/>
                  </a:lnTo>
                  <a:lnTo>
                    <a:pt x="4937" y="2465"/>
                  </a:lnTo>
                  <a:lnTo>
                    <a:pt x="4904" y="2485"/>
                  </a:lnTo>
                  <a:lnTo>
                    <a:pt x="4868" y="2506"/>
                  </a:lnTo>
                  <a:lnTo>
                    <a:pt x="4825" y="2528"/>
                  </a:lnTo>
                  <a:lnTo>
                    <a:pt x="4778" y="2551"/>
                  </a:lnTo>
                  <a:lnTo>
                    <a:pt x="4725" y="2574"/>
                  </a:lnTo>
                  <a:lnTo>
                    <a:pt x="4670" y="2594"/>
                  </a:lnTo>
                  <a:lnTo>
                    <a:pt x="4608" y="2615"/>
                  </a:lnTo>
                  <a:lnTo>
                    <a:pt x="4543" y="2635"/>
                  </a:lnTo>
                  <a:lnTo>
                    <a:pt x="4474" y="2649"/>
                  </a:lnTo>
                  <a:lnTo>
                    <a:pt x="4439" y="2657"/>
                  </a:lnTo>
                  <a:lnTo>
                    <a:pt x="4402" y="2662"/>
                  </a:lnTo>
                  <a:lnTo>
                    <a:pt x="4364" y="2669"/>
                  </a:lnTo>
                  <a:lnTo>
                    <a:pt x="4325" y="2672"/>
                  </a:lnTo>
                  <a:lnTo>
                    <a:pt x="4286" y="2675"/>
                  </a:lnTo>
                  <a:lnTo>
                    <a:pt x="4246" y="2677"/>
                  </a:lnTo>
                  <a:lnTo>
                    <a:pt x="4204" y="2678"/>
                  </a:lnTo>
                  <a:lnTo>
                    <a:pt x="4163" y="2677"/>
                  </a:lnTo>
                  <a:lnTo>
                    <a:pt x="4120" y="2675"/>
                  </a:lnTo>
                  <a:lnTo>
                    <a:pt x="4077" y="2672"/>
                  </a:lnTo>
                  <a:lnTo>
                    <a:pt x="4032" y="2667"/>
                  </a:lnTo>
                  <a:lnTo>
                    <a:pt x="3988" y="2661"/>
                  </a:lnTo>
                  <a:lnTo>
                    <a:pt x="3942" y="2653"/>
                  </a:lnTo>
                  <a:lnTo>
                    <a:pt x="3896" y="2643"/>
                  </a:lnTo>
                  <a:lnTo>
                    <a:pt x="3849" y="2630"/>
                  </a:lnTo>
                  <a:lnTo>
                    <a:pt x="3802" y="2617"/>
                  </a:lnTo>
                  <a:lnTo>
                    <a:pt x="3753" y="2601"/>
                  </a:lnTo>
                  <a:lnTo>
                    <a:pt x="3705" y="2583"/>
                  </a:lnTo>
                  <a:lnTo>
                    <a:pt x="3656" y="2564"/>
                  </a:lnTo>
                  <a:lnTo>
                    <a:pt x="3606" y="2543"/>
                  </a:lnTo>
                  <a:lnTo>
                    <a:pt x="3556" y="2519"/>
                  </a:lnTo>
                  <a:lnTo>
                    <a:pt x="3506" y="2491"/>
                  </a:lnTo>
                  <a:lnTo>
                    <a:pt x="3455" y="2464"/>
                  </a:lnTo>
                  <a:lnTo>
                    <a:pt x="3403" y="2431"/>
                  </a:lnTo>
                  <a:lnTo>
                    <a:pt x="3352" y="2398"/>
                  </a:lnTo>
                  <a:lnTo>
                    <a:pt x="3299" y="2362"/>
                  </a:lnTo>
                  <a:lnTo>
                    <a:pt x="3246" y="2322"/>
                  </a:lnTo>
                  <a:lnTo>
                    <a:pt x="3194" y="2280"/>
                  </a:lnTo>
                  <a:lnTo>
                    <a:pt x="3141" y="2236"/>
                  </a:lnTo>
                  <a:lnTo>
                    <a:pt x="3087" y="2188"/>
                  </a:lnTo>
                  <a:lnTo>
                    <a:pt x="3033" y="2138"/>
                  </a:lnTo>
                  <a:lnTo>
                    <a:pt x="2980" y="2083"/>
                  </a:lnTo>
                  <a:lnTo>
                    <a:pt x="2924" y="2026"/>
                  </a:lnTo>
                  <a:lnTo>
                    <a:pt x="2870" y="1966"/>
                  </a:lnTo>
                  <a:lnTo>
                    <a:pt x="2816" y="1903"/>
                  </a:lnTo>
                  <a:lnTo>
                    <a:pt x="2762" y="1836"/>
                  </a:lnTo>
                  <a:lnTo>
                    <a:pt x="2762" y="1836"/>
                  </a:lnTo>
                  <a:lnTo>
                    <a:pt x="2654" y="1702"/>
                  </a:lnTo>
                  <a:lnTo>
                    <a:pt x="2548" y="1576"/>
                  </a:lnTo>
                  <a:lnTo>
                    <a:pt x="2444" y="1455"/>
                  </a:lnTo>
                  <a:lnTo>
                    <a:pt x="2344" y="1338"/>
                  </a:lnTo>
                  <a:lnTo>
                    <a:pt x="2245" y="1230"/>
                  </a:lnTo>
                  <a:lnTo>
                    <a:pt x="2150" y="1127"/>
                  </a:lnTo>
                  <a:lnTo>
                    <a:pt x="2057" y="1030"/>
                  </a:lnTo>
                  <a:lnTo>
                    <a:pt x="1963" y="938"/>
                  </a:lnTo>
                  <a:lnTo>
                    <a:pt x="1873" y="851"/>
                  </a:lnTo>
                  <a:lnTo>
                    <a:pt x="1786" y="770"/>
                  </a:lnTo>
                  <a:lnTo>
                    <a:pt x="1698" y="692"/>
                  </a:lnTo>
                  <a:lnTo>
                    <a:pt x="1612" y="621"/>
                  </a:lnTo>
                  <a:lnTo>
                    <a:pt x="1529" y="555"/>
                  </a:lnTo>
                  <a:lnTo>
                    <a:pt x="1446" y="494"/>
                  </a:lnTo>
                  <a:lnTo>
                    <a:pt x="1364" y="436"/>
                  </a:lnTo>
                  <a:lnTo>
                    <a:pt x="1282" y="382"/>
                  </a:lnTo>
                  <a:lnTo>
                    <a:pt x="1201" y="334"/>
                  </a:lnTo>
                  <a:lnTo>
                    <a:pt x="1122" y="289"/>
                  </a:lnTo>
                  <a:lnTo>
                    <a:pt x="1043" y="248"/>
                  </a:lnTo>
                  <a:lnTo>
                    <a:pt x="964" y="210"/>
                  </a:lnTo>
                  <a:lnTo>
                    <a:pt x="885" y="177"/>
                  </a:lnTo>
                  <a:lnTo>
                    <a:pt x="807" y="147"/>
                  </a:lnTo>
                  <a:lnTo>
                    <a:pt x="728" y="119"/>
                  </a:lnTo>
                  <a:lnTo>
                    <a:pt x="649" y="95"/>
                  </a:lnTo>
                  <a:lnTo>
                    <a:pt x="571" y="74"/>
                  </a:lnTo>
                  <a:lnTo>
                    <a:pt x="490" y="56"/>
                  </a:lnTo>
                  <a:lnTo>
                    <a:pt x="411" y="42"/>
                  </a:lnTo>
                  <a:lnTo>
                    <a:pt x="331" y="29"/>
                  </a:lnTo>
                  <a:lnTo>
                    <a:pt x="250" y="17"/>
                  </a:lnTo>
                  <a:lnTo>
                    <a:pt x="167" y="9"/>
                  </a:lnTo>
                  <a:lnTo>
                    <a:pt x="85" y="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9433400">
              <a:off x="1098360" y="-1413720"/>
              <a:ext cx="10099440" cy="5646960"/>
            </a:xfrm>
            <a:custGeom>
              <a:avLst/>
              <a:gdLst/>
              <a:ahLst/>
              <a:rect l="l" t="t" r="r" b="b"/>
              <a:pathLst>
                <a:path w="5049" h="2608">
                  <a:moveTo>
                    <a:pt x="5049" y="2324"/>
                  </a:moveTo>
                  <a:lnTo>
                    <a:pt x="5049" y="2324"/>
                  </a:lnTo>
                  <a:lnTo>
                    <a:pt x="5036" y="2334"/>
                  </a:lnTo>
                  <a:lnTo>
                    <a:pt x="5000" y="2361"/>
                  </a:lnTo>
                  <a:lnTo>
                    <a:pt x="4974" y="2379"/>
                  </a:lnTo>
                  <a:lnTo>
                    <a:pt x="4942" y="2398"/>
                  </a:lnTo>
                  <a:lnTo>
                    <a:pt x="4906" y="2421"/>
                  </a:lnTo>
                  <a:lnTo>
                    <a:pt x="4863" y="2443"/>
                  </a:lnTo>
                  <a:lnTo>
                    <a:pt x="4815" y="2468"/>
                  </a:lnTo>
                  <a:lnTo>
                    <a:pt x="4764" y="2492"/>
                  </a:lnTo>
                  <a:lnTo>
                    <a:pt x="4709" y="2514"/>
                  </a:lnTo>
                  <a:lnTo>
                    <a:pt x="4647" y="2537"/>
                  </a:lnTo>
                  <a:lnTo>
                    <a:pt x="4584" y="2556"/>
                  </a:lnTo>
                  <a:lnTo>
                    <a:pt x="4514" y="2574"/>
                  </a:lnTo>
                  <a:lnTo>
                    <a:pt x="4478" y="2581"/>
                  </a:lnTo>
                  <a:lnTo>
                    <a:pt x="4442" y="2589"/>
                  </a:lnTo>
                  <a:lnTo>
                    <a:pt x="4404" y="2593"/>
                  </a:lnTo>
                  <a:lnTo>
                    <a:pt x="4366" y="2598"/>
                  </a:lnTo>
                  <a:lnTo>
                    <a:pt x="4327" y="2603"/>
                  </a:lnTo>
                  <a:lnTo>
                    <a:pt x="4286" y="2605"/>
                  </a:lnTo>
                  <a:lnTo>
                    <a:pt x="4245" y="2606"/>
                  </a:lnTo>
                  <a:lnTo>
                    <a:pt x="4203" y="2608"/>
                  </a:lnTo>
                  <a:lnTo>
                    <a:pt x="4160" y="2606"/>
                  </a:lnTo>
                  <a:lnTo>
                    <a:pt x="4117" y="2603"/>
                  </a:lnTo>
                  <a:lnTo>
                    <a:pt x="4073" y="2600"/>
                  </a:lnTo>
                  <a:lnTo>
                    <a:pt x="4027" y="2593"/>
                  </a:lnTo>
                  <a:lnTo>
                    <a:pt x="3982" y="2587"/>
                  </a:lnTo>
                  <a:lnTo>
                    <a:pt x="3935" y="2577"/>
                  </a:lnTo>
                  <a:lnTo>
                    <a:pt x="3888" y="2566"/>
                  </a:lnTo>
                  <a:lnTo>
                    <a:pt x="3841" y="2555"/>
                  </a:lnTo>
                  <a:lnTo>
                    <a:pt x="3792" y="2540"/>
                  </a:lnTo>
                  <a:lnTo>
                    <a:pt x="3744" y="2522"/>
                  </a:lnTo>
                  <a:lnTo>
                    <a:pt x="3695" y="2505"/>
                  </a:lnTo>
                  <a:lnTo>
                    <a:pt x="3645" y="2484"/>
                  </a:lnTo>
                  <a:lnTo>
                    <a:pt x="3594" y="2459"/>
                  </a:lnTo>
                  <a:lnTo>
                    <a:pt x="3544" y="2434"/>
                  </a:lnTo>
                  <a:lnTo>
                    <a:pt x="3492" y="2406"/>
                  </a:lnTo>
                  <a:lnTo>
                    <a:pt x="3439" y="2375"/>
                  </a:lnTo>
                  <a:lnTo>
                    <a:pt x="3388" y="2343"/>
                  </a:lnTo>
                  <a:lnTo>
                    <a:pt x="3335" y="2308"/>
                  </a:lnTo>
                  <a:lnTo>
                    <a:pt x="3281" y="2269"/>
                  </a:lnTo>
                  <a:lnTo>
                    <a:pt x="3228" y="2229"/>
                  </a:lnTo>
                  <a:lnTo>
                    <a:pt x="3174" y="2183"/>
                  </a:lnTo>
                  <a:lnTo>
                    <a:pt x="3120" y="2137"/>
                  </a:lnTo>
                  <a:lnTo>
                    <a:pt x="3066" y="2086"/>
                  </a:lnTo>
                  <a:lnTo>
                    <a:pt x="3010" y="2035"/>
                  </a:lnTo>
                  <a:lnTo>
                    <a:pt x="2956" y="1978"/>
                  </a:lnTo>
                  <a:lnTo>
                    <a:pt x="2901" y="1919"/>
                  </a:lnTo>
                  <a:lnTo>
                    <a:pt x="2845" y="1856"/>
                  </a:lnTo>
                  <a:lnTo>
                    <a:pt x="2790" y="1789"/>
                  </a:lnTo>
                  <a:lnTo>
                    <a:pt x="2790" y="1789"/>
                  </a:lnTo>
                  <a:lnTo>
                    <a:pt x="2679" y="1659"/>
                  </a:lnTo>
                  <a:lnTo>
                    <a:pt x="2572" y="1533"/>
                  </a:lnTo>
                  <a:lnTo>
                    <a:pt x="2466" y="1413"/>
                  </a:lnTo>
                  <a:lnTo>
                    <a:pt x="2365" y="1299"/>
                  </a:lnTo>
                  <a:lnTo>
                    <a:pt x="2265" y="1192"/>
                  </a:lnTo>
                  <a:lnTo>
                    <a:pt x="2168" y="1090"/>
                  </a:lnTo>
                  <a:lnTo>
                    <a:pt x="2072" y="993"/>
                  </a:lnTo>
                  <a:lnTo>
                    <a:pt x="1979" y="903"/>
                  </a:lnTo>
                  <a:lnTo>
                    <a:pt x="1887" y="819"/>
                  </a:lnTo>
                  <a:lnTo>
                    <a:pt x="1797" y="738"/>
                  </a:lnTo>
                  <a:lnTo>
                    <a:pt x="1710" y="664"/>
                  </a:lnTo>
                  <a:lnTo>
                    <a:pt x="1622" y="593"/>
                  </a:lnTo>
                  <a:lnTo>
                    <a:pt x="1537" y="528"/>
                  </a:lnTo>
                  <a:lnTo>
                    <a:pt x="1453" y="467"/>
                  </a:lnTo>
                  <a:lnTo>
                    <a:pt x="1371" y="412"/>
                  </a:lnTo>
                  <a:lnTo>
                    <a:pt x="1287" y="360"/>
                  </a:lnTo>
                  <a:lnTo>
                    <a:pt x="1207" y="312"/>
                  </a:lnTo>
                  <a:lnTo>
                    <a:pt x="1126" y="268"/>
                  </a:lnTo>
                  <a:lnTo>
                    <a:pt x="1047" y="230"/>
                  </a:lnTo>
                  <a:lnTo>
                    <a:pt x="967" y="192"/>
                  </a:lnTo>
                  <a:lnTo>
                    <a:pt x="888" y="160"/>
                  </a:lnTo>
                  <a:lnTo>
                    <a:pt x="808" y="133"/>
                  </a:lnTo>
                  <a:lnTo>
                    <a:pt x="731" y="107"/>
                  </a:lnTo>
                  <a:lnTo>
                    <a:pt x="652" y="84"/>
                  </a:lnTo>
                  <a:lnTo>
                    <a:pt x="572" y="65"/>
                  </a:lnTo>
                  <a:lnTo>
                    <a:pt x="492" y="49"/>
                  </a:lnTo>
                  <a:lnTo>
                    <a:pt x="413" y="34"/>
                  </a:lnTo>
                  <a:lnTo>
                    <a:pt x="332" y="23"/>
                  </a:lnTo>
                  <a:lnTo>
                    <a:pt x="250" y="15"/>
                  </a:lnTo>
                  <a:lnTo>
                    <a:pt x="168" y="8"/>
                  </a:lnTo>
                  <a:lnTo>
                    <a:pt x="85" y="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9433400">
              <a:off x="1121760" y="-1355760"/>
              <a:ext cx="10163880" cy="5486760"/>
            </a:xfrm>
            <a:custGeom>
              <a:avLst/>
              <a:gdLst/>
              <a:ahLst/>
              <a:rect l="l" t="t" r="r" b="b"/>
              <a:pathLst>
                <a:path w="5081" h="2533">
                  <a:moveTo>
                    <a:pt x="5081" y="2233"/>
                  </a:moveTo>
                  <a:lnTo>
                    <a:pt x="5081" y="2233"/>
                  </a:lnTo>
                  <a:lnTo>
                    <a:pt x="5070" y="2242"/>
                  </a:lnTo>
                  <a:lnTo>
                    <a:pt x="5034" y="2270"/>
                  </a:lnTo>
                  <a:lnTo>
                    <a:pt x="5008" y="2288"/>
                  </a:lnTo>
                  <a:lnTo>
                    <a:pt x="4977" y="2309"/>
                  </a:lnTo>
                  <a:lnTo>
                    <a:pt x="4940" y="2333"/>
                  </a:lnTo>
                  <a:lnTo>
                    <a:pt x="4898" y="2355"/>
                  </a:lnTo>
                  <a:lnTo>
                    <a:pt x="4852" y="2381"/>
                  </a:lnTo>
                  <a:lnTo>
                    <a:pt x="4801" y="2405"/>
                  </a:lnTo>
                  <a:lnTo>
                    <a:pt x="4744" y="2430"/>
                  </a:lnTo>
                  <a:lnTo>
                    <a:pt x="4684" y="2454"/>
                  </a:lnTo>
                  <a:lnTo>
                    <a:pt x="4621" y="2475"/>
                  </a:lnTo>
                  <a:lnTo>
                    <a:pt x="4551" y="2494"/>
                  </a:lnTo>
                  <a:lnTo>
                    <a:pt x="4516" y="2502"/>
                  </a:lnTo>
                  <a:lnTo>
                    <a:pt x="4479" y="2509"/>
                  </a:lnTo>
                  <a:lnTo>
                    <a:pt x="4441" y="2517"/>
                  </a:lnTo>
                  <a:lnTo>
                    <a:pt x="4404" y="2522"/>
                  </a:lnTo>
                  <a:lnTo>
                    <a:pt x="4364" y="2526"/>
                  </a:lnTo>
                  <a:lnTo>
                    <a:pt x="4323" y="2530"/>
                  </a:lnTo>
                  <a:lnTo>
                    <a:pt x="4283" y="2533"/>
                  </a:lnTo>
                  <a:lnTo>
                    <a:pt x="4240" y="2533"/>
                  </a:lnTo>
                  <a:lnTo>
                    <a:pt x="4198" y="2533"/>
                  </a:lnTo>
                  <a:lnTo>
                    <a:pt x="4154" y="2531"/>
                  </a:lnTo>
                  <a:lnTo>
                    <a:pt x="4110" y="2528"/>
                  </a:lnTo>
                  <a:lnTo>
                    <a:pt x="4065" y="2523"/>
                  </a:lnTo>
                  <a:lnTo>
                    <a:pt x="4019" y="2517"/>
                  </a:lnTo>
                  <a:lnTo>
                    <a:pt x="3974" y="2509"/>
                  </a:lnTo>
                  <a:lnTo>
                    <a:pt x="3926" y="2499"/>
                  </a:lnTo>
                  <a:lnTo>
                    <a:pt x="3878" y="2488"/>
                  </a:lnTo>
                  <a:lnTo>
                    <a:pt x="3829" y="2473"/>
                  </a:lnTo>
                  <a:lnTo>
                    <a:pt x="3781" y="2459"/>
                  </a:lnTo>
                  <a:lnTo>
                    <a:pt x="3731" y="2439"/>
                  </a:lnTo>
                  <a:lnTo>
                    <a:pt x="3681" y="2420"/>
                  </a:lnTo>
                  <a:lnTo>
                    <a:pt x="3631" y="2397"/>
                  </a:lnTo>
                  <a:lnTo>
                    <a:pt x="3579" y="2373"/>
                  </a:lnTo>
                  <a:lnTo>
                    <a:pt x="3526" y="2346"/>
                  </a:lnTo>
                  <a:lnTo>
                    <a:pt x="3475" y="2317"/>
                  </a:lnTo>
                  <a:lnTo>
                    <a:pt x="3421" y="2284"/>
                  </a:lnTo>
                  <a:lnTo>
                    <a:pt x="3368" y="2250"/>
                  </a:lnTo>
                  <a:lnTo>
                    <a:pt x="3314" y="2212"/>
                  </a:lnTo>
                  <a:lnTo>
                    <a:pt x="3260" y="2171"/>
                  </a:lnTo>
                  <a:lnTo>
                    <a:pt x="3206" y="2129"/>
                  </a:lnTo>
                  <a:lnTo>
                    <a:pt x="3152" y="2082"/>
                  </a:lnTo>
                  <a:lnTo>
                    <a:pt x="3096" y="2034"/>
                  </a:lnTo>
                  <a:lnTo>
                    <a:pt x="3041" y="1982"/>
                  </a:lnTo>
                  <a:lnTo>
                    <a:pt x="2984" y="1926"/>
                  </a:lnTo>
                  <a:lnTo>
                    <a:pt x="2928" y="1868"/>
                  </a:lnTo>
                  <a:lnTo>
                    <a:pt x="2871" y="1806"/>
                  </a:lnTo>
                  <a:lnTo>
                    <a:pt x="2814" y="1742"/>
                  </a:lnTo>
                  <a:lnTo>
                    <a:pt x="2814" y="1742"/>
                  </a:lnTo>
                  <a:lnTo>
                    <a:pt x="2703" y="1611"/>
                  </a:lnTo>
                  <a:lnTo>
                    <a:pt x="2593" y="1487"/>
                  </a:lnTo>
                  <a:lnTo>
                    <a:pt x="2487" y="1369"/>
                  </a:lnTo>
                  <a:lnTo>
                    <a:pt x="2382" y="1256"/>
                  </a:lnTo>
                  <a:lnTo>
                    <a:pt x="2281" y="1151"/>
                  </a:lnTo>
                  <a:lnTo>
                    <a:pt x="2182" y="1051"/>
                  </a:lnTo>
                  <a:lnTo>
                    <a:pt x="2085" y="955"/>
                  </a:lnTo>
                  <a:lnTo>
                    <a:pt x="1991" y="867"/>
                  </a:lnTo>
                  <a:lnTo>
                    <a:pt x="1898" y="783"/>
                  </a:lnTo>
                  <a:lnTo>
                    <a:pt x="1808" y="705"/>
                  </a:lnTo>
                  <a:lnTo>
                    <a:pt x="1717" y="631"/>
                  </a:lnTo>
                  <a:lnTo>
                    <a:pt x="1630" y="563"/>
                  </a:lnTo>
                  <a:lnTo>
                    <a:pt x="1544" y="498"/>
                  </a:lnTo>
                  <a:lnTo>
                    <a:pt x="1459" y="439"/>
                  </a:lnTo>
                  <a:lnTo>
                    <a:pt x="1376" y="385"/>
                  </a:lnTo>
                  <a:lnTo>
                    <a:pt x="1292" y="334"/>
                  </a:lnTo>
                  <a:lnTo>
                    <a:pt x="1211" y="289"/>
                  </a:lnTo>
                  <a:lnTo>
                    <a:pt x="1130" y="247"/>
                  </a:lnTo>
                  <a:lnTo>
                    <a:pt x="1050" y="208"/>
                  </a:lnTo>
                  <a:lnTo>
                    <a:pt x="969" y="174"/>
                  </a:lnTo>
                  <a:lnTo>
                    <a:pt x="890" y="143"/>
                  </a:lnTo>
                  <a:lnTo>
                    <a:pt x="811" y="116"/>
                  </a:lnTo>
                  <a:lnTo>
                    <a:pt x="732" y="92"/>
                  </a:lnTo>
                  <a:lnTo>
                    <a:pt x="651" y="71"/>
                  </a:lnTo>
                  <a:lnTo>
                    <a:pt x="572" y="53"/>
                  </a:lnTo>
                  <a:lnTo>
                    <a:pt x="493" y="37"/>
                  </a:lnTo>
                  <a:lnTo>
                    <a:pt x="412" y="25"/>
                  </a:lnTo>
                  <a:lnTo>
                    <a:pt x="332" y="16"/>
                  </a:lnTo>
                  <a:lnTo>
                    <a:pt x="250" y="8"/>
                  </a:lnTo>
                  <a:lnTo>
                    <a:pt x="168" y="3"/>
                  </a:lnTo>
                  <a:lnTo>
                    <a:pt x="85" y="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9433400">
              <a:off x="1145880" y="-1294200"/>
              <a:ext cx="10231920" cy="5326560"/>
            </a:xfrm>
            <a:custGeom>
              <a:avLst/>
              <a:gdLst/>
              <a:ahLst/>
              <a:rect l="l" t="t" r="r" b="b"/>
              <a:pathLst>
                <a:path w="5115" h="2460">
                  <a:moveTo>
                    <a:pt x="5115" y="2141"/>
                  </a:moveTo>
                  <a:lnTo>
                    <a:pt x="5115" y="2141"/>
                  </a:lnTo>
                  <a:lnTo>
                    <a:pt x="5104" y="2150"/>
                  </a:lnTo>
                  <a:lnTo>
                    <a:pt x="5068" y="2180"/>
                  </a:lnTo>
                  <a:lnTo>
                    <a:pt x="5043" y="2197"/>
                  </a:lnTo>
                  <a:lnTo>
                    <a:pt x="5011" y="2220"/>
                  </a:lnTo>
                  <a:lnTo>
                    <a:pt x="4975" y="2244"/>
                  </a:lnTo>
                  <a:lnTo>
                    <a:pt x="4933" y="2268"/>
                  </a:lnTo>
                  <a:lnTo>
                    <a:pt x="4888" y="2294"/>
                  </a:lnTo>
                  <a:lnTo>
                    <a:pt x="4836" y="2320"/>
                  </a:lnTo>
                  <a:lnTo>
                    <a:pt x="4781" y="2346"/>
                  </a:lnTo>
                  <a:lnTo>
                    <a:pt x="4721" y="2370"/>
                  </a:lnTo>
                  <a:lnTo>
                    <a:pt x="4657" y="2393"/>
                  </a:lnTo>
                  <a:lnTo>
                    <a:pt x="4589" y="2414"/>
                  </a:lnTo>
                  <a:lnTo>
                    <a:pt x="4554" y="2423"/>
                  </a:lnTo>
                  <a:lnTo>
                    <a:pt x="4517" y="2431"/>
                  </a:lnTo>
                  <a:lnTo>
                    <a:pt x="4479" y="2438"/>
                  </a:lnTo>
                  <a:lnTo>
                    <a:pt x="4442" y="2444"/>
                  </a:lnTo>
                  <a:lnTo>
                    <a:pt x="4402" y="2451"/>
                  </a:lnTo>
                  <a:lnTo>
                    <a:pt x="4361" y="2456"/>
                  </a:lnTo>
                  <a:lnTo>
                    <a:pt x="4321" y="2459"/>
                  </a:lnTo>
                  <a:lnTo>
                    <a:pt x="4279" y="2460"/>
                  </a:lnTo>
                  <a:lnTo>
                    <a:pt x="4236" y="2460"/>
                  </a:lnTo>
                  <a:lnTo>
                    <a:pt x="4193" y="2460"/>
                  </a:lnTo>
                  <a:lnTo>
                    <a:pt x="4149" y="2457"/>
                  </a:lnTo>
                  <a:lnTo>
                    <a:pt x="4103" y="2454"/>
                  </a:lnTo>
                  <a:lnTo>
                    <a:pt x="4057" y="2448"/>
                  </a:lnTo>
                  <a:lnTo>
                    <a:pt x="4012" y="2441"/>
                  </a:lnTo>
                  <a:lnTo>
                    <a:pt x="3964" y="2431"/>
                  </a:lnTo>
                  <a:lnTo>
                    <a:pt x="3916" y="2422"/>
                  </a:lnTo>
                  <a:lnTo>
                    <a:pt x="3867" y="2409"/>
                  </a:lnTo>
                  <a:lnTo>
                    <a:pt x="3819" y="2394"/>
                  </a:lnTo>
                  <a:lnTo>
                    <a:pt x="3769" y="2377"/>
                  </a:lnTo>
                  <a:lnTo>
                    <a:pt x="3717" y="2357"/>
                  </a:lnTo>
                  <a:lnTo>
                    <a:pt x="3666" y="2336"/>
                  </a:lnTo>
                  <a:lnTo>
                    <a:pt x="3614" y="2312"/>
                  </a:lnTo>
                  <a:lnTo>
                    <a:pt x="3563" y="2286"/>
                  </a:lnTo>
                  <a:lnTo>
                    <a:pt x="3510" y="2257"/>
                  </a:lnTo>
                  <a:lnTo>
                    <a:pt x="3456" y="2226"/>
                  </a:lnTo>
                  <a:lnTo>
                    <a:pt x="3402" y="2192"/>
                  </a:lnTo>
                  <a:lnTo>
                    <a:pt x="3348" y="2155"/>
                  </a:lnTo>
                  <a:lnTo>
                    <a:pt x="3294" y="2117"/>
                  </a:lnTo>
                  <a:lnTo>
                    <a:pt x="3238" y="2075"/>
                  </a:lnTo>
                  <a:lnTo>
                    <a:pt x="3183" y="2029"/>
                  </a:lnTo>
                  <a:lnTo>
                    <a:pt x="3127" y="1981"/>
                  </a:lnTo>
                  <a:lnTo>
                    <a:pt x="3070" y="1931"/>
                  </a:lnTo>
                  <a:lnTo>
                    <a:pt x="3013" y="1876"/>
                  </a:lnTo>
                  <a:lnTo>
                    <a:pt x="2956" y="1818"/>
                  </a:lnTo>
                  <a:lnTo>
                    <a:pt x="2899" y="1756"/>
                  </a:lnTo>
                  <a:lnTo>
                    <a:pt x="2841" y="1694"/>
                  </a:lnTo>
                  <a:lnTo>
                    <a:pt x="2841" y="1694"/>
                  </a:lnTo>
                  <a:lnTo>
                    <a:pt x="2727" y="1564"/>
                  </a:lnTo>
                  <a:lnTo>
                    <a:pt x="2616" y="1442"/>
                  </a:lnTo>
                  <a:lnTo>
                    <a:pt x="2508" y="1325"/>
                  </a:lnTo>
                  <a:lnTo>
                    <a:pt x="2402" y="1214"/>
                  </a:lnTo>
                  <a:lnTo>
                    <a:pt x="2300" y="1111"/>
                  </a:lnTo>
                  <a:lnTo>
                    <a:pt x="2198" y="1012"/>
                  </a:lnTo>
                  <a:lnTo>
                    <a:pt x="2101" y="918"/>
                  </a:lnTo>
                  <a:lnTo>
                    <a:pt x="2004" y="831"/>
                  </a:lnTo>
                  <a:lnTo>
                    <a:pt x="1911" y="749"/>
                  </a:lnTo>
                  <a:lnTo>
                    <a:pt x="1818" y="671"/>
                  </a:lnTo>
                  <a:lnTo>
                    <a:pt x="1728" y="600"/>
                  </a:lnTo>
                  <a:lnTo>
                    <a:pt x="1639" y="533"/>
                  </a:lnTo>
                  <a:lnTo>
                    <a:pt x="1553" y="470"/>
                  </a:lnTo>
                  <a:lnTo>
                    <a:pt x="1467" y="413"/>
                  </a:lnTo>
                  <a:lnTo>
                    <a:pt x="1382" y="360"/>
                  </a:lnTo>
                  <a:lnTo>
                    <a:pt x="1299" y="310"/>
                  </a:lnTo>
                  <a:lnTo>
                    <a:pt x="1215" y="266"/>
                  </a:lnTo>
                  <a:lnTo>
                    <a:pt x="1133" y="224"/>
                  </a:lnTo>
                  <a:lnTo>
                    <a:pt x="1053" y="189"/>
                  </a:lnTo>
                  <a:lnTo>
                    <a:pt x="972" y="155"/>
                  </a:lnTo>
                  <a:lnTo>
                    <a:pt x="892" y="126"/>
                  </a:lnTo>
                  <a:lnTo>
                    <a:pt x="813" y="100"/>
                  </a:lnTo>
                  <a:lnTo>
                    <a:pt x="733" y="77"/>
                  </a:lnTo>
                  <a:lnTo>
                    <a:pt x="653" y="58"/>
                  </a:lnTo>
                  <a:lnTo>
                    <a:pt x="574" y="42"/>
                  </a:lnTo>
                  <a:lnTo>
                    <a:pt x="493" y="29"/>
                  </a:lnTo>
                  <a:lnTo>
                    <a:pt x="413" y="17"/>
                  </a:lnTo>
                  <a:lnTo>
                    <a:pt x="332" y="9"/>
                  </a:lnTo>
                  <a:lnTo>
                    <a:pt x="250" y="3"/>
                  </a:lnTo>
                  <a:lnTo>
                    <a:pt x="168" y="0"/>
                  </a:lnTo>
                  <a:lnTo>
                    <a:pt x="85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9433400">
              <a:off x="1174320" y="-1238040"/>
              <a:ext cx="10295640" cy="5175360"/>
            </a:xfrm>
            <a:custGeom>
              <a:avLst/>
              <a:gdLst/>
              <a:ahLst/>
              <a:rect l="l" t="t" r="r" b="b"/>
              <a:pathLst>
                <a:path w="5147" h="2390">
                  <a:moveTo>
                    <a:pt x="5147" y="2049"/>
                  </a:moveTo>
                  <a:lnTo>
                    <a:pt x="5147" y="2049"/>
                  </a:lnTo>
                  <a:lnTo>
                    <a:pt x="5135" y="2061"/>
                  </a:lnTo>
                  <a:lnTo>
                    <a:pt x="5100" y="2090"/>
                  </a:lnTo>
                  <a:lnTo>
                    <a:pt x="5075" y="2109"/>
                  </a:lnTo>
                  <a:lnTo>
                    <a:pt x="5043" y="2132"/>
                  </a:lnTo>
                  <a:lnTo>
                    <a:pt x="5008" y="2156"/>
                  </a:lnTo>
                  <a:lnTo>
                    <a:pt x="4967" y="2182"/>
                  </a:lnTo>
                  <a:lnTo>
                    <a:pt x="4921" y="2209"/>
                  </a:lnTo>
                  <a:lnTo>
                    <a:pt x="4871" y="2237"/>
                  </a:lnTo>
                  <a:lnTo>
                    <a:pt x="4815" y="2262"/>
                  </a:lnTo>
                  <a:lnTo>
                    <a:pt x="4756" y="2288"/>
                  </a:lnTo>
                  <a:lnTo>
                    <a:pt x="4692" y="2313"/>
                  </a:lnTo>
                  <a:lnTo>
                    <a:pt x="4624" y="2335"/>
                  </a:lnTo>
                  <a:lnTo>
                    <a:pt x="4589" y="2345"/>
                  </a:lnTo>
                  <a:lnTo>
                    <a:pt x="4553" y="2355"/>
                  </a:lnTo>
                  <a:lnTo>
                    <a:pt x="4515" y="2363"/>
                  </a:lnTo>
                  <a:lnTo>
                    <a:pt x="4477" y="2369"/>
                  </a:lnTo>
                  <a:lnTo>
                    <a:pt x="4438" y="2376"/>
                  </a:lnTo>
                  <a:lnTo>
                    <a:pt x="4397" y="2382"/>
                  </a:lnTo>
                  <a:lnTo>
                    <a:pt x="4357" y="2385"/>
                  </a:lnTo>
                  <a:lnTo>
                    <a:pt x="4314" y="2388"/>
                  </a:lnTo>
                  <a:lnTo>
                    <a:pt x="4272" y="2390"/>
                  </a:lnTo>
                  <a:lnTo>
                    <a:pt x="4228" y="2390"/>
                  </a:lnTo>
                  <a:lnTo>
                    <a:pt x="4184" y="2388"/>
                  </a:lnTo>
                  <a:lnTo>
                    <a:pt x="4139" y="2385"/>
                  </a:lnTo>
                  <a:lnTo>
                    <a:pt x="4093" y="2380"/>
                  </a:lnTo>
                  <a:lnTo>
                    <a:pt x="4046" y="2374"/>
                  </a:lnTo>
                  <a:lnTo>
                    <a:pt x="3999" y="2366"/>
                  </a:lnTo>
                  <a:lnTo>
                    <a:pt x="3952" y="2356"/>
                  </a:lnTo>
                  <a:lnTo>
                    <a:pt x="3902" y="2345"/>
                  </a:lnTo>
                  <a:lnTo>
                    <a:pt x="3853" y="2330"/>
                  </a:lnTo>
                  <a:lnTo>
                    <a:pt x="3803" y="2314"/>
                  </a:lnTo>
                  <a:lnTo>
                    <a:pt x="3752" y="2296"/>
                  </a:lnTo>
                  <a:lnTo>
                    <a:pt x="3700" y="2275"/>
                  </a:lnTo>
                  <a:lnTo>
                    <a:pt x="3648" y="2253"/>
                  </a:lnTo>
                  <a:lnTo>
                    <a:pt x="3596" y="2229"/>
                  </a:lnTo>
                  <a:lnTo>
                    <a:pt x="3542" y="2200"/>
                  </a:lnTo>
                  <a:lnTo>
                    <a:pt x="3489" y="2170"/>
                  </a:lnTo>
                  <a:lnTo>
                    <a:pt x="3434" y="2137"/>
                  </a:lnTo>
                  <a:lnTo>
                    <a:pt x="3380" y="2101"/>
                  </a:lnTo>
                  <a:lnTo>
                    <a:pt x="3324" y="2064"/>
                  </a:lnTo>
                  <a:lnTo>
                    <a:pt x="3269" y="2022"/>
                  </a:lnTo>
                  <a:lnTo>
                    <a:pt x="3212" y="1978"/>
                  </a:lnTo>
                  <a:lnTo>
                    <a:pt x="3156" y="1930"/>
                  </a:lnTo>
                  <a:lnTo>
                    <a:pt x="3098" y="1880"/>
                  </a:lnTo>
                  <a:lnTo>
                    <a:pt x="3041" y="1827"/>
                  </a:lnTo>
                  <a:lnTo>
                    <a:pt x="2983" y="1770"/>
                  </a:lnTo>
                  <a:lnTo>
                    <a:pt x="2924" y="1710"/>
                  </a:lnTo>
                  <a:lnTo>
                    <a:pt x="2866" y="1646"/>
                  </a:lnTo>
                  <a:lnTo>
                    <a:pt x="2866" y="1646"/>
                  </a:lnTo>
                  <a:lnTo>
                    <a:pt x="2749" y="1520"/>
                  </a:lnTo>
                  <a:lnTo>
                    <a:pt x="2637" y="1399"/>
                  </a:lnTo>
                  <a:lnTo>
                    <a:pt x="2527" y="1284"/>
                  </a:lnTo>
                  <a:lnTo>
                    <a:pt x="2419" y="1174"/>
                  </a:lnTo>
                  <a:lnTo>
                    <a:pt x="2315" y="1072"/>
                  </a:lnTo>
                  <a:lnTo>
                    <a:pt x="2213" y="976"/>
                  </a:lnTo>
                  <a:lnTo>
                    <a:pt x="2113" y="884"/>
                  </a:lnTo>
                  <a:lnTo>
                    <a:pt x="2016" y="798"/>
                  </a:lnTo>
                  <a:lnTo>
                    <a:pt x="1920" y="717"/>
                  </a:lnTo>
                  <a:lnTo>
                    <a:pt x="1827" y="641"/>
                  </a:lnTo>
                  <a:lnTo>
                    <a:pt x="1736" y="570"/>
                  </a:lnTo>
                  <a:lnTo>
                    <a:pt x="1647" y="504"/>
                  </a:lnTo>
                  <a:lnTo>
                    <a:pt x="1558" y="444"/>
                  </a:lnTo>
                  <a:lnTo>
                    <a:pt x="1472" y="388"/>
                  </a:lnTo>
                  <a:lnTo>
                    <a:pt x="1386" y="336"/>
                  </a:lnTo>
                  <a:lnTo>
                    <a:pt x="1303" y="288"/>
                  </a:lnTo>
                  <a:lnTo>
                    <a:pt x="1219" y="246"/>
                  </a:lnTo>
                  <a:lnTo>
                    <a:pt x="1136" y="205"/>
                  </a:lnTo>
                  <a:lnTo>
                    <a:pt x="1055" y="170"/>
                  </a:lnTo>
                  <a:lnTo>
                    <a:pt x="974" y="139"/>
                  </a:lnTo>
                  <a:lnTo>
                    <a:pt x="893" y="112"/>
                  </a:lnTo>
                  <a:lnTo>
                    <a:pt x="814" y="88"/>
                  </a:lnTo>
                  <a:lnTo>
                    <a:pt x="733" y="65"/>
                  </a:lnTo>
                  <a:lnTo>
                    <a:pt x="653" y="47"/>
                  </a:lnTo>
                  <a:lnTo>
                    <a:pt x="574" y="33"/>
                  </a:lnTo>
                  <a:lnTo>
                    <a:pt x="493" y="21"/>
                  </a:lnTo>
                  <a:lnTo>
                    <a:pt x="413" y="12"/>
                  </a:lnTo>
                  <a:lnTo>
                    <a:pt x="332" y="5"/>
                  </a:lnTo>
                  <a:lnTo>
                    <a:pt x="250" y="2"/>
                  </a:lnTo>
                  <a:lnTo>
                    <a:pt x="168" y="0"/>
                  </a:lnTo>
                  <a:lnTo>
                    <a:pt x="85" y="0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9433400">
              <a:off x="1199880" y="-1182960"/>
              <a:ext cx="10353960" cy="5023080"/>
            </a:xfrm>
            <a:custGeom>
              <a:avLst/>
              <a:gdLst/>
              <a:ahLst/>
              <a:rect l="l" t="t" r="r" b="b"/>
              <a:pathLst>
                <a:path w="5176" h="2321">
                  <a:moveTo>
                    <a:pt x="5176" y="1959"/>
                  </a:moveTo>
                  <a:lnTo>
                    <a:pt x="5176" y="1959"/>
                  </a:lnTo>
                  <a:lnTo>
                    <a:pt x="5165" y="1970"/>
                  </a:lnTo>
                  <a:lnTo>
                    <a:pt x="5130" y="2001"/>
                  </a:lnTo>
                  <a:lnTo>
                    <a:pt x="5105" y="2020"/>
                  </a:lnTo>
                  <a:lnTo>
                    <a:pt x="5075" y="2044"/>
                  </a:lnTo>
                  <a:lnTo>
                    <a:pt x="5039" y="2070"/>
                  </a:lnTo>
                  <a:lnTo>
                    <a:pt x="4998" y="2096"/>
                  </a:lnTo>
                  <a:lnTo>
                    <a:pt x="4953" y="2125"/>
                  </a:lnTo>
                  <a:lnTo>
                    <a:pt x="4903" y="2153"/>
                  </a:lnTo>
                  <a:lnTo>
                    <a:pt x="4849" y="2180"/>
                  </a:lnTo>
                  <a:lnTo>
                    <a:pt x="4790" y="2208"/>
                  </a:lnTo>
                  <a:lnTo>
                    <a:pt x="4726" y="2233"/>
                  </a:lnTo>
                  <a:lnTo>
                    <a:pt x="4658" y="2258"/>
                  </a:lnTo>
                  <a:lnTo>
                    <a:pt x="4624" y="2267"/>
                  </a:lnTo>
                  <a:lnTo>
                    <a:pt x="4587" y="2277"/>
                  </a:lnTo>
                  <a:lnTo>
                    <a:pt x="4550" y="2287"/>
                  </a:lnTo>
                  <a:lnTo>
                    <a:pt x="4513" y="2295"/>
                  </a:lnTo>
                  <a:lnTo>
                    <a:pt x="4472" y="2303"/>
                  </a:lnTo>
                  <a:lnTo>
                    <a:pt x="4433" y="2308"/>
                  </a:lnTo>
                  <a:lnTo>
                    <a:pt x="4392" y="2313"/>
                  </a:lnTo>
                  <a:lnTo>
                    <a:pt x="4350" y="2317"/>
                  </a:lnTo>
                  <a:lnTo>
                    <a:pt x="4307" y="2319"/>
                  </a:lnTo>
                  <a:lnTo>
                    <a:pt x="4264" y="2321"/>
                  </a:lnTo>
                  <a:lnTo>
                    <a:pt x="4220" y="2319"/>
                  </a:lnTo>
                  <a:lnTo>
                    <a:pt x="4174" y="2317"/>
                  </a:lnTo>
                  <a:lnTo>
                    <a:pt x="4128" y="2314"/>
                  </a:lnTo>
                  <a:lnTo>
                    <a:pt x="4082" y="2308"/>
                  </a:lnTo>
                  <a:lnTo>
                    <a:pt x="4034" y="2301"/>
                  </a:lnTo>
                  <a:lnTo>
                    <a:pt x="3986" y="2292"/>
                  </a:lnTo>
                  <a:lnTo>
                    <a:pt x="3936" y="2282"/>
                  </a:lnTo>
                  <a:lnTo>
                    <a:pt x="3888" y="2269"/>
                  </a:lnTo>
                  <a:lnTo>
                    <a:pt x="3836" y="2253"/>
                  </a:lnTo>
                  <a:lnTo>
                    <a:pt x="3786" y="2235"/>
                  </a:lnTo>
                  <a:lnTo>
                    <a:pt x="3734" y="2216"/>
                  </a:lnTo>
                  <a:lnTo>
                    <a:pt x="3682" y="2195"/>
                  </a:lnTo>
                  <a:lnTo>
                    <a:pt x="3628" y="2170"/>
                  </a:lnTo>
                  <a:lnTo>
                    <a:pt x="3575" y="2143"/>
                  </a:lnTo>
                  <a:lnTo>
                    <a:pt x="3521" y="2114"/>
                  </a:lnTo>
                  <a:lnTo>
                    <a:pt x="3466" y="2082"/>
                  </a:lnTo>
                  <a:lnTo>
                    <a:pt x="3410" y="2048"/>
                  </a:lnTo>
                  <a:lnTo>
                    <a:pt x="3355" y="2011"/>
                  </a:lnTo>
                  <a:lnTo>
                    <a:pt x="3298" y="1970"/>
                  </a:lnTo>
                  <a:lnTo>
                    <a:pt x="3241" y="1927"/>
                  </a:lnTo>
                  <a:lnTo>
                    <a:pt x="3184" y="1880"/>
                  </a:lnTo>
                  <a:lnTo>
                    <a:pt x="3125" y="1831"/>
                  </a:lnTo>
                  <a:lnTo>
                    <a:pt x="3067" y="1778"/>
                  </a:lnTo>
                  <a:lnTo>
                    <a:pt x="3009" y="1723"/>
                  </a:lnTo>
                  <a:lnTo>
                    <a:pt x="2949" y="1663"/>
                  </a:lnTo>
                  <a:lnTo>
                    <a:pt x="2891" y="1600"/>
                  </a:lnTo>
                  <a:lnTo>
                    <a:pt x="2891" y="1600"/>
                  </a:lnTo>
                  <a:lnTo>
                    <a:pt x="2773" y="1475"/>
                  </a:lnTo>
                  <a:lnTo>
                    <a:pt x="2658" y="1357"/>
                  </a:lnTo>
                  <a:lnTo>
                    <a:pt x="2545" y="1244"/>
                  </a:lnTo>
                  <a:lnTo>
                    <a:pt x="2437" y="1135"/>
                  </a:lnTo>
                  <a:lnTo>
                    <a:pt x="2331" y="1035"/>
                  </a:lnTo>
                  <a:lnTo>
                    <a:pt x="2227" y="938"/>
                  </a:lnTo>
                  <a:lnTo>
                    <a:pt x="2126" y="850"/>
                  </a:lnTo>
                  <a:lnTo>
                    <a:pt x="2027" y="764"/>
                  </a:lnTo>
                  <a:lnTo>
                    <a:pt x="1931" y="685"/>
                  </a:lnTo>
                  <a:lnTo>
                    <a:pt x="1837" y="611"/>
                  </a:lnTo>
                  <a:lnTo>
                    <a:pt x="1744" y="543"/>
                  </a:lnTo>
                  <a:lnTo>
                    <a:pt x="1654" y="478"/>
                  </a:lnTo>
                  <a:lnTo>
                    <a:pt x="1565" y="419"/>
                  </a:lnTo>
                  <a:lnTo>
                    <a:pt x="1477" y="364"/>
                  </a:lnTo>
                  <a:lnTo>
                    <a:pt x="1391" y="314"/>
                  </a:lnTo>
                  <a:lnTo>
                    <a:pt x="1305" y="268"/>
                  </a:lnTo>
                  <a:lnTo>
                    <a:pt x="1222" y="226"/>
                  </a:lnTo>
                  <a:lnTo>
                    <a:pt x="1139" y="188"/>
                  </a:lnTo>
                  <a:lnTo>
                    <a:pt x="1057" y="154"/>
                  </a:lnTo>
                  <a:lnTo>
                    <a:pt x="976" y="125"/>
                  </a:lnTo>
                  <a:lnTo>
                    <a:pt x="894" y="99"/>
                  </a:lnTo>
                  <a:lnTo>
                    <a:pt x="814" y="75"/>
                  </a:lnTo>
                  <a:lnTo>
                    <a:pt x="735" y="55"/>
                  </a:lnTo>
                  <a:lnTo>
                    <a:pt x="654" y="39"/>
                  </a:lnTo>
                  <a:lnTo>
                    <a:pt x="574" y="26"/>
                  </a:lnTo>
                  <a:lnTo>
                    <a:pt x="493" y="16"/>
                  </a:lnTo>
                  <a:lnTo>
                    <a:pt x="412" y="8"/>
                  </a:lnTo>
                  <a:lnTo>
                    <a:pt x="332" y="4"/>
                  </a:lnTo>
                  <a:lnTo>
                    <a:pt x="250" y="0"/>
                  </a:lnTo>
                  <a:lnTo>
                    <a:pt x="168" y="0"/>
                  </a:lnTo>
                  <a:lnTo>
                    <a:pt x="85" y="4"/>
                  </a:lnTo>
                  <a:lnTo>
                    <a:pt x="0" y="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9433400">
              <a:off x="1225080" y="-1128240"/>
              <a:ext cx="10412280" cy="4867200"/>
            </a:xfrm>
            <a:custGeom>
              <a:avLst/>
              <a:gdLst/>
              <a:ahLst/>
              <a:rect l="l" t="t" r="r" b="b"/>
              <a:pathLst>
                <a:path w="5205" h="2250">
                  <a:moveTo>
                    <a:pt x="5205" y="1868"/>
                  </a:moveTo>
                  <a:lnTo>
                    <a:pt x="5205" y="1868"/>
                  </a:lnTo>
                  <a:lnTo>
                    <a:pt x="5194" y="1880"/>
                  </a:lnTo>
                  <a:lnTo>
                    <a:pt x="5161" y="1910"/>
                  </a:lnTo>
                  <a:lnTo>
                    <a:pt x="5136" y="1931"/>
                  </a:lnTo>
                  <a:lnTo>
                    <a:pt x="5105" y="1956"/>
                  </a:lnTo>
                  <a:lnTo>
                    <a:pt x="5071" y="1981"/>
                  </a:lnTo>
                  <a:lnTo>
                    <a:pt x="5030" y="2011"/>
                  </a:lnTo>
                  <a:lnTo>
                    <a:pt x="4984" y="2040"/>
                  </a:lnTo>
                  <a:lnTo>
                    <a:pt x="4936" y="2069"/>
                  </a:lnTo>
                  <a:lnTo>
                    <a:pt x="4882" y="2098"/>
                  </a:lnTo>
                  <a:lnTo>
                    <a:pt x="4822" y="2127"/>
                  </a:lnTo>
                  <a:lnTo>
                    <a:pt x="4760" y="2153"/>
                  </a:lnTo>
                  <a:lnTo>
                    <a:pt x="4693" y="2178"/>
                  </a:lnTo>
                  <a:lnTo>
                    <a:pt x="4657" y="2190"/>
                  </a:lnTo>
                  <a:lnTo>
                    <a:pt x="4621" y="2201"/>
                  </a:lnTo>
                  <a:lnTo>
                    <a:pt x="4585" y="2211"/>
                  </a:lnTo>
                  <a:lnTo>
                    <a:pt x="4546" y="2219"/>
                  </a:lnTo>
                  <a:lnTo>
                    <a:pt x="4507" y="2227"/>
                  </a:lnTo>
                  <a:lnTo>
                    <a:pt x="4467" y="2235"/>
                  </a:lnTo>
                  <a:lnTo>
                    <a:pt x="4426" y="2240"/>
                  </a:lnTo>
                  <a:lnTo>
                    <a:pt x="4385" y="2245"/>
                  </a:lnTo>
                  <a:lnTo>
                    <a:pt x="4342" y="2248"/>
                  </a:lnTo>
                  <a:lnTo>
                    <a:pt x="4299" y="2250"/>
                  </a:lnTo>
                  <a:lnTo>
                    <a:pt x="4254" y="2250"/>
                  </a:lnTo>
                  <a:lnTo>
                    <a:pt x="4208" y="2250"/>
                  </a:lnTo>
                  <a:lnTo>
                    <a:pt x="4163" y="2246"/>
                  </a:lnTo>
                  <a:lnTo>
                    <a:pt x="4117" y="2241"/>
                  </a:lnTo>
                  <a:lnTo>
                    <a:pt x="4068" y="2235"/>
                  </a:lnTo>
                  <a:lnTo>
                    <a:pt x="4020" y="2227"/>
                  </a:lnTo>
                  <a:lnTo>
                    <a:pt x="3971" y="2217"/>
                  </a:lnTo>
                  <a:lnTo>
                    <a:pt x="3921" y="2206"/>
                  </a:lnTo>
                  <a:lnTo>
                    <a:pt x="3871" y="2191"/>
                  </a:lnTo>
                  <a:lnTo>
                    <a:pt x="3820" y="2175"/>
                  </a:lnTo>
                  <a:lnTo>
                    <a:pt x="3767" y="2156"/>
                  </a:lnTo>
                  <a:lnTo>
                    <a:pt x="3714" y="2135"/>
                  </a:lnTo>
                  <a:lnTo>
                    <a:pt x="3661" y="2112"/>
                  </a:lnTo>
                  <a:lnTo>
                    <a:pt x="3607" y="2086"/>
                  </a:lnTo>
                  <a:lnTo>
                    <a:pt x="3553" y="2057"/>
                  </a:lnTo>
                  <a:lnTo>
                    <a:pt x="3497" y="2027"/>
                  </a:lnTo>
                  <a:lnTo>
                    <a:pt x="3442" y="1993"/>
                  </a:lnTo>
                  <a:lnTo>
                    <a:pt x="3385" y="1957"/>
                  </a:lnTo>
                  <a:lnTo>
                    <a:pt x="3328" y="1917"/>
                  </a:lnTo>
                  <a:lnTo>
                    <a:pt x="3270" y="1875"/>
                  </a:lnTo>
                  <a:lnTo>
                    <a:pt x="3213" y="1830"/>
                  </a:lnTo>
                  <a:lnTo>
                    <a:pt x="3153" y="1781"/>
                  </a:lnTo>
                  <a:lnTo>
                    <a:pt x="3095" y="1730"/>
                  </a:lnTo>
                  <a:lnTo>
                    <a:pt x="3035" y="1675"/>
                  </a:lnTo>
                  <a:lnTo>
                    <a:pt x="2975" y="1617"/>
                  </a:lnTo>
                  <a:lnTo>
                    <a:pt x="2914" y="1555"/>
                  </a:lnTo>
                  <a:lnTo>
                    <a:pt x="2914" y="1555"/>
                  </a:lnTo>
                  <a:lnTo>
                    <a:pt x="2795" y="1431"/>
                  </a:lnTo>
                  <a:lnTo>
                    <a:pt x="2678" y="1313"/>
                  </a:lnTo>
                  <a:lnTo>
                    <a:pt x="2564" y="1202"/>
                  </a:lnTo>
                  <a:lnTo>
                    <a:pt x="2453" y="1097"/>
                  </a:lnTo>
                  <a:lnTo>
                    <a:pt x="2346" y="997"/>
                  </a:lnTo>
                  <a:lnTo>
                    <a:pt x="2241" y="903"/>
                  </a:lnTo>
                  <a:lnTo>
                    <a:pt x="2140" y="816"/>
                  </a:lnTo>
                  <a:lnTo>
                    <a:pt x="2040" y="732"/>
                  </a:lnTo>
                  <a:lnTo>
                    <a:pt x="1941" y="654"/>
                  </a:lnTo>
                  <a:lnTo>
                    <a:pt x="1847" y="582"/>
                  </a:lnTo>
                  <a:lnTo>
                    <a:pt x="1752" y="514"/>
                  </a:lnTo>
                  <a:lnTo>
                    <a:pt x="1661" y="452"/>
                  </a:lnTo>
                  <a:lnTo>
                    <a:pt x="1570" y="394"/>
                  </a:lnTo>
                  <a:lnTo>
                    <a:pt x="1483" y="341"/>
                  </a:lnTo>
                  <a:lnTo>
                    <a:pt x="1395" y="293"/>
                  </a:lnTo>
                  <a:lnTo>
                    <a:pt x="1311" y="247"/>
                  </a:lnTo>
                  <a:lnTo>
                    <a:pt x="1226" y="207"/>
                  </a:lnTo>
                  <a:lnTo>
                    <a:pt x="1143" y="171"/>
                  </a:lnTo>
                  <a:lnTo>
                    <a:pt x="1059" y="139"/>
                  </a:lnTo>
                  <a:lnTo>
                    <a:pt x="977" y="110"/>
                  </a:lnTo>
                  <a:lnTo>
                    <a:pt x="897" y="86"/>
                  </a:lnTo>
                  <a:lnTo>
                    <a:pt x="815" y="63"/>
                  </a:lnTo>
                  <a:lnTo>
                    <a:pt x="734" y="45"/>
                  </a:lnTo>
                  <a:lnTo>
                    <a:pt x="655" y="31"/>
                  </a:lnTo>
                  <a:lnTo>
                    <a:pt x="575" y="20"/>
                  </a:lnTo>
                  <a:lnTo>
                    <a:pt x="494" y="10"/>
                  </a:lnTo>
                  <a:lnTo>
                    <a:pt x="414" y="5"/>
                  </a:lnTo>
                  <a:lnTo>
                    <a:pt x="332" y="2"/>
                  </a:lnTo>
                  <a:lnTo>
                    <a:pt x="250" y="0"/>
                  </a:lnTo>
                  <a:lnTo>
                    <a:pt x="168" y="2"/>
                  </a:lnTo>
                  <a:lnTo>
                    <a:pt x="85" y="7"/>
                  </a:lnTo>
                  <a:lnTo>
                    <a:pt x="0" y="1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9433400">
              <a:off x="1253880" y="-1074960"/>
              <a:ext cx="10468080" cy="4720680"/>
            </a:xfrm>
            <a:custGeom>
              <a:avLst/>
              <a:gdLst/>
              <a:ahLst/>
              <a:rect l="l" t="t" r="r" b="b"/>
              <a:pathLst>
                <a:path w="5233" h="2180">
                  <a:moveTo>
                    <a:pt x="5233" y="1778"/>
                  </a:moveTo>
                  <a:lnTo>
                    <a:pt x="5233" y="1778"/>
                  </a:lnTo>
                  <a:lnTo>
                    <a:pt x="5222" y="1789"/>
                  </a:lnTo>
                  <a:lnTo>
                    <a:pt x="5189" y="1822"/>
                  </a:lnTo>
                  <a:lnTo>
                    <a:pt x="5164" y="1843"/>
                  </a:lnTo>
                  <a:lnTo>
                    <a:pt x="5133" y="1867"/>
                  </a:lnTo>
                  <a:lnTo>
                    <a:pt x="5099" y="1894"/>
                  </a:lnTo>
                  <a:lnTo>
                    <a:pt x="5060" y="1923"/>
                  </a:lnTo>
                  <a:lnTo>
                    <a:pt x="5015" y="1954"/>
                  </a:lnTo>
                  <a:lnTo>
                    <a:pt x="4965" y="1985"/>
                  </a:lnTo>
                  <a:lnTo>
                    <a:pt x="4913" y="2014"/>
                  </a:lnTo>
                  <a:lnTo>
                    <a:pt x="4854" y="2044"/>
                  </a:lnTo>
                  <a:lnTo>
                    <a:pt x="4792" y="2072"/>
                  </a:lnTo>
                  <a:lnTo>
                    <a:pt x="4725" y="2099"/>
                  </a:lnTo>
                  <a:lnTo>
                    <a:pt x="4689" y="2111"/>
                  </a:lnTo>
                  <a:lnTo>
                    <a:pt x="4654" y="2122"/>
                  </a:lnTo>
                  <a:lnTo>
                    <a:pt x="4617" y="2133"/>
                  </a:lnTo>
                  <a:lnTo>
                    <a:pt x="4579" y="2143"/>
                  </a:lnTo>
                  <a:lnTo>
                    <a:pt x="4540" y="2153"/>
                  </a:lnTo>
                  <a:lnTo>
                    <a:pt x="4500" y="2159"/>
                  </a:lnTo>
                  <a:lnTo>
                    <a:pt x="4460" y="2167"/>
                  </a:lnTo>
                  <a:lnTo>
                    <a:pt x="4418" y="2172"/>
                  </a:lnTo>
                  <a:lnTo>
                    <a:pt x="4375" y="2175"/>
                  </a:lnTo>
                  <a:lnTo>
                    <a:pt x="4332" y="2178"/>
                  </a:lnTo>
                  <a:lnTo>
                    <a:pt x="4288" y="2180"/>
                  </a:lnTo>
                  <a:lnTo>
                    <a:pt x="4242" y="2180"/>
                  </a:lnTo>
                  <a:lnTo>
                    <a:pt x="4196" y="2178"/>
                  </a:lnTo>
                  <a:lnTo>
                    <a:pt x="4149" y="2174"/>
                  </a:lnTo>
                  <a:lnTo>
                    <a:pt x="4102" y="2169"/>
                  </a:lnTo>
                  <a:lnTo>
                    <a:pt x="4053" y="2162"/>
                  </a:lnTo>
                  <a:lnTo>
                    <a:pt x="4003" y="2153"/>
                  </a:lnTo>
                  <a:lnTo>
                    <a:pt x="3953" y="2141"/>
                  </a:lnTo>
                  <a:lnTo>
                    <a:pt x="3903" y="2128"/>
                  </a:lnTo>
                  <a:lnTo>
                    <a:pt x="3852" y="2114"/>
                  </a:lnTo>
                  <a:lnTo>
                    <a:pt x="3799" y="2096"/>
                  </a:lnTo>
                  <a:lnTo>
                    <a:pt x="3746" y="2075"/>
                  </a:lnTo>
                  <a:lnTo>
                    <a:pt x="3692" y="2054"/>
                  </a:lnTo>
                  <a:lnTo>
                    <a:pt x="3638" y="2028"/>
                  </a:lnTo>
                  <a:lnTo>
                    <a:pt x="3582" y="2001"/>
                  </a:lnTo>
                  <a:lnTo>
                    <a:pt x="3527" y="1972"/>
                  </a:lnTo>
                  <a:lnTo>
                    <a:pt x="3471" y="1938"/>
                  </a:lnTo>
                  <a:lnTo>
                    <a:pt x="3414" y="1902"/>
                  </a:lnTo>
                  <a:lnTo>
                    <a:pt x="3356" y="1865"/>
                  </a:lnTo>
                  <a:lnTo>
                    <a:pt x="3298" y="1823"/>
                  </a:lnTo>
                  <a:lnTo>
                    <a:pt x="3239" y="1778"/>
                  </a:lnTo>
                  <a:lnTo>
                    <a:pt x="3180" y="1731"/>
                  </a:lnTo>
                  <a:lnTo>
                    <a:pt x="3120" y="1681"/>
                  </a:lnTo>
                  <a:lnTo>
                    <a:pt x="3059" y="1626"/>
                  </a:lnTo>
                  <a:lnTo>
                    <a:pt x="2999" y="1570"/>
                  </a:lnTo>
                  <a:lnTo>
                    <a:pt x="2937" y="1508"/>
                  </a:lnTo>
                  <a:lnTo>
                    <a:pt x="2937" y="1508"/>
                  </a:lnTo>
                  <a:lnTo>
                    <a:pt x="2816" y="1387"/>
                  </a:lnTo>
                  <a:lnTo>
                    <a:pt x="2697" y="1271"/>
                  </a:lnTo>
                  <a:lnTo>
                    <a:pt x="2581" y="1161"/>
                  </a:lnTo>
                  <a:lnTo>
                    <a:pt x="2470" y="1058"/>
                  </a:lnTo>
                  <a:lnTo>
                    <a:pt x="2361" y="959"/>
                  </a:lnTo>
                  <a:lnTo>
                    <a:pt x="2255" y="867"/>
                  </a:lnTo>
                  <a:lnTo>
                    <a:pt x="2151" y="780"/>
                  </a:lnTo>
                  <a:lnTo>
                    <a:pt x="2050" y="699"/>
                  </a:lnTo>
                  <a:lnTo>
                    <a:pt x="1951" y="624"/>
                  </a:lnTo>
                  <a:lnTo>
                    <a:pt x="1854" y="552"/>
                  </a:lnTo>
                  <a:lnTo>
                    <a:pt x="1759" y="486"/>
                  </a:lnTo>
                  <a:lnTo>
                    <a:pt x="1668" y="427"/>
                  </a:lnTo>
                  <a:lnTo>
                    <a:pt x="1576" y="370"/>
                  </a:lnTo>
                  <a:lnTo>
                    <a:pt x="1487" y="318"/>
                  </a:lnTo>
                  <a:lnTo>
                    <a:pt x="1400" y="270"/>
                  </a:lnTo>
                  <a:lnTo>
                    <a:pt x="1314" y="228"/>
                  </a:lnTo>
                  <a:lnTo>
                    <a:pt x="1229" y="189"/>
                  </a:lnTo>
                  <a:lnTo>
                    <a:pt x="1144" y="154"/>
                  </a:lnTo>
                  <a:lnTo>
                    <a:pt x="1061" y="123"/>
                  </a:lnTo>
                  <a:lnTo>
                    <a:pt x="979" y="96"/>
                  </a:lnTo>
                  <a:lnTo>
                    <a:pt x="897" y="73"/>
                  </a:lnTo>
                  <a:lnTo>
                    <a:pt x="817" y="54"/>
                  </a:lnTo>
                  <a:lnTo>
                    <a:pt x="736" y="36"/>
                  </a:lnTo>
                  <a:lnTo>
                    <a:pt x="656" y="23"/>
                  </a:lnTo>
                  <a:lnTo>
                    <a:pt x="575" y="13"/>
                  </a:lnTo>
                  <a:lnTo>
                    <a:pt x="495" y="7"/>
                  </a:lnTo>
                  <a:lnTo>
                    <a:pt x="413" y="2"/>
                  </a:lnTo>
                  <a:lnTo>
                    <a:pt x="332" y="0"/>
                  </a:lnTo>
                  <a:lnTo>
                    <a:pt x="250" y="2"/>
                  </a:lnTo>
                  <a:lnTo>
                    <a:pt x="168" y="5"/>
                  </a:lnTo>
                  <a:lnTo>
                    <a:pt x="85" y="10"/>
                  </a:lnTo>
                  <a:lnTo>
                    <a:pt x="0" y="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9433400">
              <a:off x="1282320" y="-1025280"/>
              <a:ext cx="10519920" cy="4573440"/>
            </a:xfrm>
            <a:custGeom>
              <a:avLst/>
              <a:gdLst/>
              <a:ahLst/>
              <a:rect l="l" t="t" r="r" b="b"/>
              <a:pathLst>
                <a:path w="5259" h="2112">
                  <a:moveTo>
                    <a:pt x="5259" y="1687"/>
                  </a:moveTo>
                  <a:lnTo>
                    <a:pt x="5259" y="1687"/>
                  </a:lnTo>
                  <a:lnTo>
                    <a:pt x="5248" y="1698"/>
                  </a:lnTo>
                  <a:lnTo>
                    <a:pt x="5214" y="1731"/>
                  </a:lnTo>
                  <a:lnTo>
                    <a:pt x="5189" y="1753"/>
                  </a:lnTo>
                  <a:lnTo>
                    <a:pt x="5160" y="1779"/>
                  </a:lnTo>
                  <a:lnTo>
                    <a:pt x="5127" y="1806"/>
                  </a:lnTo>
                  <a:lnTo>
                    <a:pt x="5087" y="1837"/>
                  </a:lnTo>
                  <a:lnTo>
                    <a:pt x="5044" y="1868"/>
                  </a:lnTo>
                  <a:lnTo>
                    <a:pt x="4994" y="1900"/>
                  </a:lnTo>
                  <a:lnTo>
                    <a:pt x="4941" y="1931"/>
                  </a:lnTo>
                  <a:lnTo>
                    <a:pt x="4883" y="1963"/>
                  </a:lnTo>
                  <a:lnTo>
                    <a:pt x="4822" y="1992"/>
                  </a:lnTo>
                  <a:lnTo>
                    <a:pt x="4755" y="2020"/>
                  </a:lnTo>
                  <a:lnTo>
                    <a:pt x="4720" y="2033"/>
                  </a:lnTo>
                  <a:lnTo>
                    <a:pt x="4684" y="2045"/>
                  </a:lnTo>
                  <a:lnTo>
                    <a:pt x="4648" y="2057"/>
                  </a:lnTo>
                  <a:lnTo>
                    <a:pt x="4611" y="2068"/>
                  </a:lnTo>
                  <a:lnTo>
                    <a:pt x="4572" y="2078"/>
                  </a:lnTo>
                  <a:lnTo>
                    <a:pt x="4531" y="2086"/>
                  </a:lnTo>
                  <a:lnTo>
                    <a:pt x="4491" y="2094"/>
                  </a:lnTo>
                  <a:lnTo>
                    <a:pt x="4449" y="2100"/>
                  </a:lnTo>
                  <a:lnTo>
                    <a:pt x="4406" y="2105"/>
                  </a:lnTo>
                  <a:lnTo>
                    <a:pt x="4363" y="2108"/>
                  </a:lnTo>
                  <a:lnTo>
                    <a:pt x="4319" y="2110"/>
                  </a:lnTo>
                  <a:lnTo>
                    <a:pt x="4275" y="2112"/>
                  </a:lnTo>
                  <a:lnTo>
                    <a:pt x="4227" y="2110"/>
                  </a:lnTo>
                  <a:lnTo>
                    <a:pt x="4181" y="2107"/>
                  </a:lnTo>
                  <a:lnTo>
                    <a:pt x="4133" y="2104"/>
                  </a:lnTo>
                  <a:lnTo>
                    <a:pt x="4084" y="2097"/>
                  </a:lnTo>
                  <a:lnTo>
                    <a:pt x="4036" y="2089"/>
                  </a:lnTo>
                  <a:lnTo>
                    <a:pt x="3984" y="2079"/>
                  </a:lnTo>
                  <a:lnTo>
                    <a:pt x="3934" y="2066"/>
                  </a:lnTo>
                  <a:lnTo>
                    <a:pt x="3882" y="2052"/>
                  </a:lnTo>
                  <a:lnTo>
                    <a:pt x="3829" y="2036"/>
                  </a:lnTo>
                  <a:lnTo>
                    <a:pt x="3776" y="2016"/>
                  </a:lnTo>
                  <a:lnTo>
                    <a:pt x="3722" y="1995"/>
                  </a:lnTo>
                  <a:lnTo>
                    <a:pt x="3668" y="1971"/>
                  </a:lnTo>
                  <a:lnTo>
                    <a:pt x="3612" y="1945"/>
                  </a:lnTo>
                  <a:lnTo>
                    <a:pt x="3555" y="1916"/>
                  </a:lnTo>
                  <a:lnTo>
                    <a:pt x="3498" y="1884"/>
                  </a:lnTo>
                  <a:lnTo>
                    <a:pt x="3441" y="1850"/>
                  </a:lnTo>
                  <a:lnTo>
                    <a:pt x="3383" y="1813"/>
                  </a:lnTo>
                  <a:lnTo>
                    <a:pt x="3325" y="1773"/>
                  </a:lnTo>
                  <a:lnTo>
                    <a:pt x="3265" y="1729"/>
                  </a:lnTo>
                  <a:lnTo>
                    <a:pt x="3205" y="1682"/>
                  </a:lnTo>
                  <a:lnTo>
                    <a:pt x="3144" y="1632"/>
                  </a:lnTo>
                  <a:lnTo>
                    <a:pt x="3083" y="1579"/>
                  </a:lnTo>
                  <a:lnTo>
                    <a:pt x="3021" y="1522"/>
                  </a:lnTo>
                  <a:lnTo>
                    <a:pt x="2958" y="1463"/>
                  </a:lnTo>
                  <a:lnTo>
                    <a:pt x="2958" y="1463"/>
                  </a:lnTo>
                  <a:lnTo>
                    <a:pt x="2835" y="1343"/>
                  </a:lnTo>
                  <a:lnTo>
                    <a:pt x="2715" y="1228"/>
                  </a:lnTo>
                  <a:lnTo>
                    <a:pt x="2599" y="1122"/>
                  </a:lnTo>
                  <a:lnTo>
                    <a:pt x="2485" y="1020"/>
                  </a:lnTo>
                  <a:lnTo>
                    <a:pt x="2374" y="923"/>
                  </a:lnTo>
                  <a:lnTo>
                    <a:pt x="2267" y="833"/>
                  </a:lnTo>
                  <a:lnTo>
                    <a:pt x="2161" y="747"/>
                  </a:lnTo>
                  <a:lnTo>
                    <a:pt x="2060" y="668"/>
                  </a:lnTo>
                  <a:lnTo>
                    <a:pt x="1960" y="594"/>
                  </a:lnTo>
                  <a:lnTo>
                    <a:pt x="1861" y="524"/>
                  </a:lnTo>
                  <a:lnTo>
                    <a:pt x="1767" y="460"/>
                  </a:lnTo>
                  <a:lnTo>
                    <a:pt x="1673" y="400"/>
                  </a:lnTo>
                  <a:lnTo>
                    <a:pt x="1581" y="347"/>
                  </a:lnTo>
                  <a:lnTo>
                    <a:pt x="1492" y="297"/>
                  </a:lnTo>
                  <a:lnTo>
                    <a:pt x="1403" y="250"/>
                  </a:lnTo>
                  <a:lnTo>
                    <a:pt x="1316" y="210"/>
                  </a:lnTo>
                  <a:lnTo>
                    <a:pt x="1231" y="171"/>
                  </a:lnTo>
                  <a:lnTo>
                    <a:pt x="1146" y="138"/>
                  </a:lnTo>
                  <a:lnTo>
                    <a:pt x="1063" y="109"/>
                  </a:lnTo>
                  <a:lnTo>
                    <a:pt x="980" y="84"/>
                  </a:lnTo>
                  <a:lnTo>
                    <a:pt x="898" y="63"/>
                  </a:lnTo>
                  <a:lnTo>
                    <a:pt x="816" y="43"/>
                  </a:lnTo>
                  <a:lnTo>
                    <a:pt x="735" y="29"/>
                  </a:lnTo>
                  <a:lnTo>
                    <a:pt x="655" y="17"/>
                  </a:lnTo>
                  <a:lnTo>
                    <a:pt x="574" y="8"/>
                  </a:lnTo>
                  <a:lnTo>
                    <a:pt x="494" y="3"/>
                  </a:lnTo>
                  <a:lnTo>
                    <a:pt x="412" y="0"/>
                  </a:lnTo>
                  <a:lnTo>
                    <a:pt x="331" y="0"/>
                  </a:lnTo>
                  <a:lnTo>
                    <a:pt x="249" y="3"/>
                  </a:lnTo>
                  <a:lnTo>
                    <a:pt x="168" y="8"/>
                  </a:lnTo>
                  <a:lnTo>
                    <a:pt x="84" y="16"/>
                  </a:lnTo>
                  <a:lnTo>
                    <a:pt x="0" y="25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9433400">
              <a:off x="1309680" y="-973080"/>
              <a:ext cx="10568160" cy="4421160"/>
            </a:xfrm>
            <a:custGeom>
              <a:avLst/>
              <a:gdLst/>
              <a:ahLst/>
              <a:rect l="l" t="t" r="r" b="b"/>
              <a:pathLst>
                <a:path w="5283" h="2043">
                  <a:moveTo>
                    <a:pt x="5283" y="1597"/>
                  </a:moveTo>
                  <a:lnTo>
                    <a:pt x="5283" y="1597"/>
                  </a:lnTo>
                  <a:lnTo>
                    <a:pt x="5272" y="1608"/>
                  </a:lnTo>
                  <a:lnTo>
                    <a:pt x="5240" y="1642"/>
                  </a:lnTo>
                  <a:lnTo>
                    <a:pt x="5215" y="1665"/>
                  </a:lnTo>
                  <a:lnTo>
                    <a:pt x="5187" y="1691"/>
                  </a:lnTo>
                  <a:lnTo>
                    <a:pt x="5153" y="1720"/>
                  </a:lnTo>
                  <a:lnTo>
                    <a:pt x="5114" y="1750"/>
                  </a:lnTo>
                  <a:lnTo>
                    <a:pt x="5071" y="1783"/>
                  </a:lnTo>
                  <a:lnTo>
                    <a:pt x="5022" y="1817"/>
                  </a:lnTo>
                  <a:lnTo>
                    <a:pt x="4969" y="1849"/>
                  </a:lnTo>
                  <a:lnTo>
                    <a:pt x="4912" y="1881"/>
                  </a:lnTo>
                  <a:lnTo>
                    <a:pt x="4850" y="1912"/>
                  </a:lnTo>
                  <a:lnTo>
                    <a:pt x="4818" y="1928"/>
                  </a:lnTo>
                  <a:lnTo>
                    <a:pt x="4785" y="1942"/>
                  </a:lnTo>
                  <a:lnTo>
                    <a:pt x="4750" y="1955"/>
                  </a:lnTo>
                  <a:lnTo>
                    <a:pt x="4714" y="1968"/>
                  </a:lnTo>
                  <a:lnTo>
                    <a:pt x="4678" y="1981"/>
                  </a:lnTo>
                  <a:lnTo>
                    <a:pt x="4640" y="1993"/>
                  </a:lnTo>
                  <a:lnTo>
                    <a:pt x="4601" y="2002"/>
                  </a:lnTo>
                  <a:lnTo>
                    <a:pt x="4563" y="2012"/>
                  </a:lnTo>
                  <a:lnTo>
                    <a:pt x="4522" y="2020"/>
                  </a:lnTo>
                  <a:lnTo>
                    <a:pt x="4481" y="2028"/>
                  </a:lnTo>
                  <a:lnTo>
                    <a:pt x="4438" y="2033"/>
                  </a:lnTo>
                  <a:lnTo>
                    <a:pt x="4395" y="2038"/>
                  </a:lnTo>
                  <a:lnTo>
                    <a:pt x="4350" y="2041"/>
                  </a:lnTo>
                  <a:lnTo>
                    <a:pt x="4304" y="2043"/>
                  </a:lnTo>
                  <a:lnTo>
                    <a:pt x="4259" y="2043"/>
                  </a:lnTo>
                  <a:lnTo>
                    <a:pt x="4211" y="2041"/>
                  </a:lnTo>
                  <a:lnTo>
                    <a:pt x="4164" y="2038"/>
                  </a:lnTo>
                  <a:lnTo>
                    <a:pt x="4116" y="2033"/>
                  </a:lnTo>
                  <a:lnTo>
                    <a:pt x="4066" y="2025"/>
                  </a:lnTo>
                  <a:lnTo>
                    <a:pt x="4016" y="2017"/>
                  </a:lnTo>
                  <a:lnTo>
                    <a:pt x="3964" y="2005"/>
                  </a:lnTo>
                  <a:lnTo>
                    <a:pt x="3913" y="1991"/>
                  </a:lnTo>
                  <a:lnTo>
                    <a:pt x="3860" y="1976"/>
                  </a:lnTo>
                  <a:lnTo>
                    <a:pt x="3806" y="1959"/>
                  </a:lnTo>
                  <a:lnTo>
                    <a:pt x="3752" y="1938"/>
                  </a:lnTo>
                  <a:lnTo>
                    <a:pt x="3696" y="1915"/>
                  </a:lnTo>
                  <a:lnTo>
                    <a:pt x="3641" y="1889"/>
                  </a:lnTo>
                  <a:lnTo>
                    <a:pt x="3584" y="1862"/>
                  </a:lnTo>
                  <a:lnTo>
                    <a:pt x="3527" y="1831"/>
                  </a:lnTo>
                  <a:lnTo>
                    <a:pt x="3469" y="1797"/>
                  </a:lnTo>
                  <a:lnTo>
                    <a:pt x="3410" y="1760"/>
                  </a:lnTo>
                  <a:lnTo>
                    <a:pt x="3350" y="1721"/>
                  </a:lnTo>
                  <a:lnTo>
                    <a:pt x="3291" y="1679"/>
                  </a:lnTo>
                  <a:lnTo>
                    <a:pt x="3230" y="1634"/>
                  </a:lnTo>
                  <a:lnTo>
                    <a:pt x="3169" y="1584"/>
                  </a:lnTo>
                  <a:lnTo>
                    <a:pt x="3106" y="1532"/>
                  </a:lnTo>
                  <a:lnTo>
                    <a:pt x="3044" y="1477"/>
                  </a:lnTo>
                  <a:lnTo>
                    <a:pt x="2980" y="1418"/>
                  </a:lnTo>
                  <a:lnTo>
                    <a:pt x="2980" y="1418"/>
                  </a:lnTo>
                  <a:lnTo>
                    <a:pt x="2855" y="1300"/>
                  </a:lnTo>
                  <a:lnTo>
                    <a:pt x="2734" y="1188"/>
                  </a:lnTo>
                  <a:lnTo>
                    <a:pt x="2615" y="1082"/>
                  </a:lnTo>
                  <a:lnTo>
                    <a:pt x="2499" y="982"/>
                  </a:lnTo>
                  <a:lnTo>
                    <a:pt x="2388" y="888"/>
                  </a:lnTo>
                  <a:lnTo>
                    <a:pt x="2279" y="799"/>
                  </a:lnTo>
                  <a:lnTo>
                    <a:pt x="2173" y="715"/>
                  </a:lnTo>
                  <a:lnTo>
                    <a:pt x="2069" y="638"/>
                  </a:lnTo>
                  <a:lnTo>
                    <a:pt x="1968" y="565"/>
                  </a:lnTo>
                  <a:lnTo>
                    <a:pt x="1869" y="497"/>
                  </a:lnTo>
                  <a:lnTo>
                    <a:pt x="1773" y="434"/>
                  </a:lnTo>
                  <a:lnTo>
                    <a:pt x="1679" y="378"/>
                  </a:lnTo>
                  <a:lnTo>
                    <a:pt x="1586" y="325"/>
                  </a:lnTo>
                  <a:lnTo>
                    <a:pt x="1496" y="276"/>
                  </a:lnTo>
                  <a:lnTo>
                    <a:pt x="1407" y="231"/>
                  </a:lnTo>
                  <a:lnTo>
                    <a:pt x="1319" y="192"/>
                  </a:lnTo>
                  <a:lnTo>
                    <a:pt x="1233" y="155"/>
                  </a:lnTo>
                  <a:lnTo>
                    <a:pt x="1148" y="124"/>
                  </a:lnTo>
                  <a:lnTo>
                    <a:pt x="1064" y="97"/>
                  </a:lnTo>
                  <a:lnTo>
                    <a:pt x="980" y="73"/>
                  </a:lnTo>
                  <a:lnTo>
                    <a:pt x="899" y="52"/>
                  </a:lnTo>
                  <a:lnTo>
                    <a:pt x="817" y="36"/>
                  </a:lnTo>
                  <a:lnTo>
                    <a:pt x="736" y="23"/>
                  </a:lnTo>
                  <a:lnTo>
                    <a:pt x="654" y="11"/>
                  </a:lnTo>
                  <a:lnTo>
                    <a:pt x="574" y="5"/>
                  </a:lnTo>
                  <a:lnTo>
                    <a:pt x="493" y="2"/>
                  </a:lnTo>
                  <a:lnTo>
                    <a:pt x="413" y="0"/>
                  </a:lnTo>
                  <a:lnTo>
                    <a:pt x="331" y="2"/>
                  </a:lnTo>
                  <a:lnTo>
                    <a:pt x="250" y="6"/>
                  </a:lnTo>
                  <a:lnTo>
                    <a:pt x="167" y="13"/>
                  </a:lnTo>
                  <a:lnTo>
                    <a:pt x="85" y="23"/>
                  </a:lnTo>
                  <a:lnTo>
                    <a:pt x="0" y="3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9433400">
              <a:off x="1342080" y="-923400"/>
              <a:ext cx="10613880" cy="4278960"/>
            </a:xfrm>
            <a:custGeom>
              <a:avLst/>
              <a:gdLst/>
              <a:ahLst/>
              <a:rect l="l" t="t" r="r" b="b"/>
              <a:pathLst>
                <a:path w="5306" h="1975">
                  <a:moveTo>
                    <a:pt x="5306" y="1505"/>
                  </a:moveTo>
                  <a:lnTo>
                    <a:pt x="5306" y="1505"/>
                  </a:lnTo>
                  <a:lnTo>
                    <a:pt x="5295" y="1518"/>
                  </a:lnTo>
                  <a:lnTo>
                    <a:pt x="5263" y="1552"/>
                  </a:lnTo>
                  <a:lnTo>
                    <a:pt x="5240" y="1576"/>
                  </a:lnTo>
                  <a:lnTo>
                    <a:pt x="5211" y="1602"/>
                  </a:lnTo>
                  <a:lnTo>
                    <a:pt x="5177" y="1633"/>
                  </a:lnTo>
                  <a:lnTo>
                    <a:pt x="5138" y="1663"/>
                  </a:lnTo>
                  <a:lnTo>
                    <a:pt x="5095" y="1697"/>
                  </a:lnTo>
                  <a:lnTo>
                    <a:pt x="5048" y="1731"/>
                  </a:lnTo>
                  <a:lnTo>
                    <a:pt x="4995" y="1765"/>
                  </a:lnTo>
                  <a:lnTo>
                    <a:pt x="4939" y="1799"/>
                  </a:lnTo>
                  <a:lnTo>
                    <a:pt x="4877" y="1831"/>
                  </a:lnTo>
                  <a:lnTo>
                    <a:pt x="4845" y="1848"/>
                  </a:lnTo>
                  <a:lnTo>
                    <a:pt x="4812" y="1862"/>
                  </a:lnTo>
                  <a:lnTo>
                    <a:pt x="4779" y="1877"/>
                  </a:lnTo>
                  <a:lnTo>
                    <a:pt x="4743" y="1891"/>
                  </a:lnTo>
                  <a:lnTo>
                    <a:pt x="4707" y="1904"/>
                  </a:lnTo>
                  <a:lnTo>
                    <a:pt x="4669" y="1917"/>
                  </a:lnTo>
                  <a:lnTo>
                    <a:pt x="4630" y="1928"/>
                  </a:lnTo>
                  <a:lnTo>
                    <a:pt x="4591" y="1938"/>
                  </a:lnTo>
                  <a:lnTo>
                    <a:pt x="4551" y="1948"/>
                  </a:lnTo>
                  <a:lnTo>
                    <a:pt x="4509" y="1956"/>
                  </a:lnTo>
                  <a:lnTo>
                    <a:pt x="4468" y="1962"/>
                  </a:lnTo>
                  <a:lnTo>
                    <a:pt x="4423" y="1967"/>
                  </a:lnTo>
                  <a:lnTo>
                    <a:pt x="4380" y="1972"/>
                  </a:lnTo>
                  <a:lnTo>
                    <a:pt x="4335" y="1974"/>
                  </a:lnTo>
                  <a:lnTo>
                    <a:pt x="4289" y="1975"/>
                  </a:lnTo>
                  <a:lnTo>
                    <a:pt x="4242" y="1974"/>
                  </a:lnTo>
                  <a:lnTo>
                    <a:pt x="4194" y="1972"/>
                  </a:lnTo>
                  <a:lnTo>
                    <a:pt x="4144" y="1967"/>
                  </a:lnTo>
                  <a:lnTo>
                    <a:pt x="4096" y="1961"/>
                  </a:lnTo>
                  <a:lnTo>
                    <a:pt x="4044" y="1953"/>
                  </a:lnTo>
                  <a:lnTo>
                    <a:pt x="3993" y="1943"/>
                  </a:lnTo>
                  <a:lnTo>
                    <a:pt x="3942" y="1930"/>
                  </a:lnTo>
                  <a:lnTo>
                    <a:pt x="3889" y="1915"/>
                  </a:lnTo>
                  <a:lnTo>
                    <a:pt x="3835" y="1899"/>
                  </a:lnTo>
                  <a:lnTo>
                    <a:pt x="3779" y="1880"/>
                  </a:lnTo>
                  <a:lnTo>
                    <a:pt x="3725" y="1857"/>
                  </a:lnTo>
                  <a:lnTo>
                    <a:pt x="3668" y="1833"/>
                  </a:lnTo>
                  <a:lnTo>
                    <a:pt x="3611" y="1806"/>
                  </a:lnTo>
                  <a:lnTo>
                    <a:pt x="3553" y="1777"/>
                  </a:lnTo>
                  <a:lnTo>
                    <a:pt x="3495" y="1744"/>
                  </a:lnTo>
                  <a:lnTo>
                    <a:pt x="3436" y="1709"/>
                  </a:lnTo>
                  <a:lnTo>
                    <a:pt x="3375" y="1670"/>
                  </a:lnTo>
                  <a:lnTo>
                    <a:pt x="3315" y="1630"/>
                  </a:lnTo>
                  <a:lnTo>
                    <a:pt x="3253" y="1584"/>
                  </a:lnTo>
                  <a:lnTo>
                    <a:pt x="3192" y="1536"/>
                  </a:lnTo>
                  <a:lnTo>
                    <a:pt x="3128" y="1486"/>
                  </a:lnTo>
                  <a:lnTo>
                    <a:pt x="3066" y="1431"/>
                  </a:lnTo>
                  <a:lnTo>
                    <a:pt x="3000" y="1373"/>
                  </a:lnTo>
                  <a:lnTo>
                    <a:pt x="3000" y="1373"/>
                  </a:lnTo>
                  <a:lnTo>
                    <a:pt x="2874" y="1257"/>
                  </a:lnTo>
                  <a:lnTo>
                    <a:pt x="2750" y="1147"/>
                  </a:lnTo>
                  <a:lnTo>
                    <a:pt x="2631" y="1043"/>
                  </a:lnTo>
                  <a:lnTo>
                    <a:pt x="2514" y="945"/>
                  </a:lnTo>
                  <a:lnTo>
                    <a:pt x="2400" y="853"/>
                  </a:lnTo>
                  <a:lnTo>
                    <a:pt x="2291" y="766"/>
                  </a:lnTo>
                  <a:lnTo>
                    <a:pt x="2182" y="683"/>
                  </a:lnTo>
                  <a:lnTo>
                    <a:pt x="2078" y="607"/>
                  </a:lnTo>
                  <a:lnTo>
                    <a:pt x="1976" y="536"/>
                  </a:lnTo>
                  <a:lnTo>
                    <a:pt x="1876" y="470"/>
                  </a:lnTo>
                  <a:lnTo>
                    <a:pt x="1778" y="410"/>
                  </a:lnTo>
                  <a:lnTo>
                    <a:pt x="1684" y="354"/>
                  </a:lnTo>
                  <a:lnTo>
                    <a:pt x="1591" y="302"/>
                  </a:lnTo>
                  <a:lnTo>
                    <a:pt x="1499" y="255"/>
                  </a:lnTo>
                  <a:lnTo>
                    <a:pt x="1409" y="212"/>
                  </a:lnTo>
                  <a:lnTo>
                    <a:pt x="1322" y="175"/>
                  </a:lnTo>
                  <a:lnTo>
                    <a:pt x="1234" y="141"/>
                  </a:lnTo>
                  <a:lnTo>
                    <a:pt x="1149" y="110"/>
                  </a:lnTo>
                  <a:lnTo>
                    <a:pt x="1065" y="84"/>
                  </a:lnTo>
                  <a:lnTo>
                    <a:pt x="981" y="62"/>
                  </a:lnTo>
                  <a:lnTo>
                    <a:pt x="898" y="42"/>
                  </a:lnTo>
                  <a:lnTo>
                    <a:pt x="816" y="28"/>
                  </a:lnTo>
                  <a:lnTo>
                    <a:pt x="736" y="17"/>
                  </a:lnTo>
                  <a:lnTo>
                    <a:pt x="654" y="7"/>
                  </a:lnTo>
                  <a:lnTo>
                    <a:pt x="573" y="2"/>
                  </a:lnTo>
                  <a:lnTo>
                    <a:pt x="493" y="0"/>
                  </a:lnTo>
                  <a:lnTo>
                    <a:pt x="412" y="0"/>
                  </a:lnTo>
                  <a:lnTo>
                    <a:pt x="330" y="4"/>
                  </a:lnTo>
                  <a:lnTo>
                    <a:pt x="248" y="10"/>
                  </a:lnTo>
                  <a:lnTo>
                    <a:pt x="166" y="18"/>
                  </a:lnTo>
                  <a:lnTo>
                    <a:pt x="85" y="29"/>
                  </a:ln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9433400">
              <a:off x="1373760" y="-872280"/>
              <a:ext cx="10655640" cy="4127760"/>
            </a:xfrm>
            <a:custGeom>
              <a:avLst/>
              <a:gdLst/>
              <a:ahLst/>
              <a:rect l="l" t="t" r="r" b="b"/>
              <a:pathLst>
                <a:path w="5327" h="1907">
                  <a:moveTo>
                    <a:pt x="5327" y="1416"/>
                  </a:moveTo>
                  <a:lnTo>
                    <a:pt x="5327" y="1416"/>
                  </a:lnTo>
                  <a:lnTo>
                    <a:pt x="5316" y="1429"/>
                  </a:lnTo>
                  <a:lnTo>
                    <a:pt x="5284" y="1463"/>
                  </a:lnTo>
                  <a:lnTo>
                    <a:pt x="5262" y="1487"/>
                  </a:lnTo>
                  <a:lnTo>
                    <a:pt x="5233" y="1515"/>
                  </a:lnTo>
                  <a:lnTo>
                    <a:pt x="5201" y="1545"/>
                  </a:lnTo>
                  <a:lnTo>
                    <a:pt x="5162" y="1578"/>
                  </a:lnTo>
                  <a:lnTo>
                    <a:pt x="5120" y="1612"/>
                  </a:lnTo>
                  <a:lnTo>
                    <a:pt x="5073" y="1647"/>
                  </a:lnTo>
                  <a:lnTo>
                    <a:pt x="5020" y="1683"/>
                  </a:lnTo>
                  <a:lnTo>
                    <a:pt x="4965" y="1718"/>
                  </a:lnTo>
                  <a:lnTo>
                    <a:pt x="4904" y="1752"/>
                  </a:lnTo>
                  <a:lnTo>
                    <a:pt x="4872" y="1768"/>
                  </a:lnTo>
                  <a:lnTo>
                    <a:pt x="4839" y="1784"/>
                  </a:lnTo>
                  <a:lnTo>
                    <a:pt x="4805" y="1799"/>
                  </a:lnTo>
                  <a:lnTo>
                    <a:pt x="4769" y="1813"/>
                  </a:lnTo>
                  <a:lnTo>
                    <a:pt x="4733" y="1828"/>
                  </a:lnTo>
                  <a:lnTo>
                    <a:pt x="4697" y="1841"/>
                  </a:lnTo>
                  <a:lnTo>
                    <a:pt x="4658" y="1854"/>
                  </a:lnTo>
                  <a:lnTo>
                    <a:pt x="4619" y="1865"/>
                  </a:lnTo>
                  <a:lnTo>
                    <a:pt x="4579" y="1875"/>
                  </a:lnTo>
                  <a:lnTo>
                    <a:pt x="4537" y="1883"/>
                  </a:lnTo>
                  <a:lnTo>
                    <a:pt x="4496" y="1891"/>
                  </a:lnTo>
                  <a:lnTo>
                    <a:pt x="4453" y="1897"/>
                  </a:lnTo>
                  <a:lnTo>
                    <a:pt x="4408" y="1902"/>
                  </a:lnTo>
                  <a:lnTo>
                    <a:pt x="4362" y="1905"/>
                  </a:lnTo>
                  <a:lnTo>
                    <a:pt x="4317" y="1907"/>
                  </a:lnTo>
                  <a:lnTo>
                    <a:pt x="4269" y="1907"/>
                  </a:lnTo>
                  <a:lnTo>
                    <a:pt x="4222" y="1907"/>
                  </a:lnTo>
                  <a:lnTo>
                    <a:pt x="4174" y="1902"/>
                  </a:lnTo>
                  <a:lnTo>
                    <a:pt x="4124" y="1897"/>
                  </a:lnTo>
                  <a:lnTo>
                    <a:pt x="4072" y="1891"/>
                  </a:lnTo>
                  <a:lnTo>
                    <a:pt x="4021" y="1881"/>
                  </a:lnTo>
                  <a:lnTo>
                    <a:pt x="3969" y="1870"/>
                  </a:lnTo>
                  <a:lnTo>
                    <a:pt x="3915" y="1857"/>
                  </a:lnTo>
                  <a:lnTo>
                    <a:pt x="3861" y="1841"/>
                  </a:lnTo>
                  <a:lnTo>
                    <a:pt x="3807" y="1821"/>
                  </a:lnTo>
                  <a:lnTo>
                    <a:pt x="3751" y="1800"/>
                  </a:lnTo>
                  <a:lnTo>
                    <a:pt x="3695" y="1778"/>
                  </a:lnTo>
                  <a:lnTo>
                    <a:pt x="3636" y="1752"/>
                  </a:lnTo>
                  <a:lnTo>
                    <a:pt x="3579" y="1723"/>
                  </a:lnTo>
                  <a:lnTo>
                    <a:pt x="3520" y="1692"/>
                  </a:lnTo>
                  <a:lnTo>
                    <a:pt x="3460" y="1657"/>
                  </a:lnTo>
                  <a:lnTo>
                    <a:pt x="3399" y="1620"/>
                  </a:lnTo>
                  <a:lnTo>
                    <a:pt x="3338" y="1579"/>
                  </a:lnTo>
                  <a:lnTo>
                    <a:pt x="3275" y="1536"/>
                  </a:lnTo>
                  <a:lnTo>
                    <a:pt x="3213" y="1489"/>
                  </a:lnTo>
                  <a:lnTo>
                    <a:pt x="3149" y="1439"/>
                  </a:lnTo>
                  <a:lnTo>
                    <a:pt x="3085" y="1386"/>
                  </a:lnTo>
                  <a:lnTo>
                    <a:pt x="3020" y="1329"/>
                  </a:lnTo>
                  <a:lnTo>
                    <a:pt x="3020" y="1329"/>
                  </a:lnTo>
                  <a:lnTo>
                    <a:pt x="2892" y="1214"/>
                  </a:lnTo>
                  <a:lnTo>
                    <a:pt x="2766" y="1108"/>
                  </a:lnTo>
                  <a:lnTo>
                    <a:pt x="2645" y="1004"/>
                  </a:lnTo>
                  <a:lnTo>
                    <a:pt x="2527" y="909"/>
                  </a:lnTo>
                  <a:lnTo>
                    <a:pt x="2412" y="817"/>
                  </a:lnTo>
                  <a:lnTo>
                    <a:pt x="2301" y="733"/>
                  </a:lnTo>
                  <a:lnTo>
                    <a:pt x="2192" y="652"/>
                  </a:lnTo>
                  <a:lnTo>
                    <a:pt x="2085" y="578"/>
                  </a:lnTo>
                  <a:lnTo>
                    <a:pt x="1983" y="509"/>
                  </a:lnTo>
                  <a:lnTo>
                    <a:pt x="1883" y="446"/>
                  </a:lnTo>
                  <a:lnTo>
                    <a:pt x="1784" y="386"/>
                  </a:lnTo>
                  <a:lnTo>
                    <a:pt x="1688" y="331"/>
                  </a:lnTo>
                  <a:lnTo>
                    <a:pt x="1594" y="281"/>
                  </a:lnTo>
                  <a:lnTo>
                    <a:pt x="1502" y="236"/>
                  </a:lnTo>
                  <a:lnTo>
                    <a:pt x="1412" y="195"/>
                  </a:lnTo>
                  <a:lnTo>
                    <a:pt x="1323" y="158"/>
                  </a:lnTo>
                  <a:lnTo>
                    <a:pt x="1236" y="126"/>
                  </a:lnTo>
                  <a:lnTo>
                    <a:pt x="1150" y="97"/>
                  </a:lnTo>
                  <a:lnTo>
                    <a:pt x="1065" y="73"/>
                  </a:lnTo>
                  <a:lnTo>
                    <a:pt x="982" y="52"/>
                  </a:lnTo>
                  <a:lnTo>
                    <a:pt x="898" y="36"/>
                  </a:lnTo>
                  <a:lnTo>
                    <a:pt x="816" y="21"/>
                  </a:lnTo>
                  <a:lnTo>
                    <a:pt x="734" y="11"/>
                  </a:lnTo>
                  <a:lnTo>
                    <a:pt x="654" y="5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1" y="2"/>
                  </a:lnTo>
                  <a:lnTo>
                    <a:pt x="329" y="7"/>
                  </a:lnTo>
                  <a:lnTo>
                    <a:pt x="248" y="15"/>
                  </a:lnTo>
                  <a:lnTo>
                    <a:pt x="167" y="24"/>
                  </a:lnTo>
                  <a:lnTo>
                    <a:pt x="83" y="37"/>
                  </a:lnTo>
                  <a:lnTo>
                    <a:pt x="0" y="5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9433400">
              <a:off x="1405080" y="-825120"/>
              <a:ext cx="10695960" cy="3984120"/>
            </a:xfrm>
            <a:custGeom>
              <a:avLst/>
              <a:gdLst/>
              <a:ahLst/>
              <a:rect l="l" t="t" r="r" b="b"/>
              <a:pathLst>
                <a:path w="5347" h="1841">
                  <a:moveTo>
                    <a:pt x="5347" y="1326"/>
                  </a:moveTo>
                  <a:lnTo>
                    <a:pt x="5347" y="1326"/>
                  </a:lnTo>
                  <a:lnTo>
                    <a:pt x="5336" y="1338"/>
                  </a:lnTo>
                  <a:lnTo>
                    <a:pt x="5305" y="1374"/>
                  </a:lnTo>
                  <a:lnTo>
                    <a:pt x="5283" y="1398"/>
                  </a:lnTo>
                  <a:lnTo>
                    <a:pt x="5255" y="1426"/>
                  </a:lnTo>
                  <a:lnTo>
                    <a:pt x="5222" y="1458"/>
                  </a:lnTo>
                  <a:lnTo>
                    <a:pt x="5184" y="1492"/>
                  </a:lnTo>
                  <a:lnTo>
                    <a:pt x="5143" y="1526"/>
                  </a:lnTo>
                  <a:lnTo>
                    <a:pt x="5095" y="1563"/>
                  </a:lnTo>
                  <a:lnTo>
                    <a:pt x="5046" y="1600"/>
                  </a:lnTo>
                  <a:lnTo>
                    <a:pt x="4989" y="1636"/>
                  </a:lnTo>
                  <a:lnTo>
                    <a:pt x="4929" y="1671"/>
                  </a:lnTo>
                  <a:lnTo>
                    <a:pt x="4897" y="1689"/>
                  </a:lnTo>
                  <a:lnTo>
                    <a:pt x="4865" y="1705"/>
                  </a:lnTo>
                  <a:lnTo>
                    <a:pt x="4830" y="1721"/>
                  </a:lnTo>
                  <a:lnTo>
                    <a:pt x="4796" y="1737"/>
                  </a:lnTo>
                  <a:lnTo>
                    <a:pt x="4759" y="1752"/>
                  </a:lnTo>
                  <a:lnTo>
                    <a:pt x="4723" y="1765"/>
                  </a:lnTo>
                  <a:lnTo>
                    <a:pt x="4685" y="1778"/>
                  </a:lnTo>
                  <a:lnTo>
                    <a:pt x="4646" y="1791"/>
                  </a:lnTo>
                  <a:lnTo>
                    <a:pt x="4605" y="1800"/>
                  </a:lnTo>
                  <a:lnTo>
                    <a:pt x="4565" y="1812"/>
                  </a:lnTo>
                  <a:lnTo>
                    <a:pt x="4522" y="1820"/>
                  </a:lnTo>
                  <a:lnTo>
                    <a:pt x="4479" y="1826"/>
                  </a:lnTo>
                  <a:lnTo>
                    <a:pt x="4436" y="1833"/>
                  </a:lnTo>
                  <a:lnTo>
                    <a:pt x="4390" y="1837"/>
                  </a:lnTo>
                  <a:lnTo>
                    <a:pt x="4344" y="1839"/>
                  </a:lnTo>
                  <a:lnTo>
                    <a:pt x="4297" y="1841"/>
                  </a:lnTo>
                  <a:lnTo>
                    <a:pt x="4250" y="1841"/>
                  </a:lnTo>
                  <a:lnTo>
                    <a:pt x="4200" y="1837"/>
                  </a:lnTo>
                  <a:lnTo>
                    <a:pt x="4151" y="1834"/>
                  </a:lnTo>
                  <a:lnTo>
                    <a:pt x="4100" y="1828"/>
                  </a:lnTo>
                  <a:lnTo>
                    <a:pt x="4049" y="1820"/>
                  </a:lnTo>
                  <a:lnTo>
                    <a:pt x="3996" y="1808"/>
                  </a:lnTo>
                  <a:lnTo>
                    <a:pt x="3943" y="1797"/>
                  </a:lnTo>
                  <a:lnTo>
                    <a:pt x="3888" y="1781"/>
                  </a:lnTo>
                  <a:lnTo>
                    <a:pt x="3833" y="1765"/>
                  </a:lnTo>
                  <a:lnTo>
                    <a:pt x="3776" y="1744"/>
                  </a:lnTo>
                  <a:lnTo>
                    <a:pt x="3720" y="1723"/>
                  </a:lnTo>
                  <a:lnTo>
                    <a:pt x="3663" y="1697"/>
                  </a:lnTo>
                  <a:lnTo>
                    <a:pt x="3603" y="1669"/>
                  </a:lnTo>
                  <a:lnTo>
                    <a:pt x="3545" y="1639"/>
                  </a:lnTo>
                  <a:lnTo>
                    <a:pt x="3484" y="1605"/>
                  </a:lnTo>
                  <a:lnTo>
                    <a:pt x="3422" y="1569"/>
                  </a:lnTo>
                  <a:lnTo>
                    <a:pt x="3361" y="1531"/>
                  </a:lnTo>
                  <a:lnTo>
                    <a:pt x="3297" y="1487"/>
                  </a:lnTo>
                  <a:lnTo>
                    <a:pt x="3235" y="1442"/>
                  </a:lnTo>
                  <a:lnTo>
                    <a:pt x="3170" y="1393"/>
                  </a:lnTo>
                  <a:lnTo>
                    <a:pt x="3104" y="1340"/>
                  </a:lnTo>
                  <a:lnTo>
                    <a:pt x="3039" y="1285"/>
                  </a:lnTo>
                  <a:lnTo>
                    <a:pt x="3039" y="1285"/>
                  </a:lnTo>
                  <a:lnTo>
                    <a:pt x="2909" y="1172"/>
                  </a:lnTo>
                  <a:lnTo>
                    <a:pt x="2782" y="1067"/>
                  </a:lnTo>
                  <a:lnTo>
                    <a:pt x="2659" y="967"/>
                  </a:lnTo>
                  <a:lnTo>
                    <a:pt x="2539" y="872"/>
                  </a:lnTo>
                  <a:lnTo>
                    <a:pt x="2423" y="783"/>
                  </a:lnTo>
                  <a:lnTo>
                    <a:pt x="2310" y="701"/>
                  </a:lnTo>
                  <a:lnTo>
                    <a:pt x="2201" y="622"/>
                  </a:lnTo>
                  <a:lnTo>
                    <a:pt x="2094" y="549"/>
                  </a:lnTo>
                  <a:lnTo>
                    <a:pt x="1990" y="483"/>
                  </a:lnTo>
                  <a:lnTo>
                    <a:pt x="1888" y="420"/>
                  </a:lnTo>
                  <a:lnTo>
                    <a:pt x="1788" y="362"/>
                  </a:lnTo>
                  <a:lnTo>
                    <a:pt x="1692" y="308"/>
                  </a:lnTo>
                  <a:lnTo>
                    <a:pt x="1597" y="261"/>
                  </a:lnTo>
                  <a:lnTo>
                    <a:pt x="1505" y="218"/>
                  </a:lnTo>
                  <a:lnTo>
                    <a:pt x="1413" y="177"/>
                  </a:lnTo>
                  <a:lnTo>
                    <a:pt x="1325" y="142"/>
                  </a:lnTo>
                  <a:lnTo>
                    <a:pt x="1237" y="111"/>
                  </a:lnTo>
                  <a:lnTo>
                    <a:pt x="1151" y="85"/>
                  </a:lnTo>
                  <a:lnTo>
                    <a:pt x="1065" y="61"/>
                  </a:lnTo>
                  <a:lnTo>
                    <a:pt x="982" y="43"/>
                  </a:lnTo>
                  <a:lnTo>
                    <a:pt x="898" y="27"/>
                  </a:lnTo>
                  <a:lnTo>
                    <a:pt x="816" y="16"/>
                  </a:lnTo>
                  <a:lnTo>
                    <a:pt x="734" y="6"/>
                  </a:lnTo>
                  <a:lnTo>
                    <a:pt x="653" y="1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0" y="5"/>
                  </a:lnTo>
                  <a:lnTo>
                    <a:pt x="329" y="11"/>
                  </a:lnTo>
                  <a:lnTo>
                    <a:pt x="249" y="21"/>
                  </a:lnTo>
                  <a:lnTo>
                    <a:pt x="167" y="32"/>
                  </a:lnTo>
                  <a:lnTo>
                    <a:pt x="83" y="47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9433400">
              <a:off x="1440000" y="-777960"/>
              <a:ext cx="10731960" cy="3844800"/>
            </a:xfrm>
            <a:custGeom>
              <a:avLst/>
              <a:gdLst/>
              <a:ahLst/>
              <a:rect l="l" t="t" r="r" b="b"/>
              <a:pathLst>
                <a:path w="5365" h="1776">
                  <a:moveTo>
                    <a:pt x="5365" y="1235"/>
                  </a:moveTo>
                  <a:lnTo>
                    <a:pt x="5365" y="1235"/>
                  </a:lnTo>
                  <a:lnTo>
                    <a:pt x="5354" y="1248"/>
                  </a:lnTo>
                  <a:lnTo>
                    <a:pt x="5325" y="1285"/>
                  </a:lnTo>
                  <a:lnTo>
                    <a:pt x="5301" y="1311"/>
                  </a:lnTo>
                  <a:lnTo>
                    <a:pt x="5275" y="1340"/>
                  </a:lnTo>
                  <a:lnTo>
                    <a:pt x="5243" y="1371"/>
                  </a:lnTo>
                  <a:lnTo>
                    <a:pt x="5206" y="1406"/>
                  </a:lnTo>
                  <a:lnTo>
                    <a:pt x="5164" y="1442"/>
                  </a:lnTo>
                  <a:lnTo>
                    <a:pt x="5118" y="1479"/>
                  </a:lnTo>
                  <a:lnTo>
                    <a:pt x="5067" y="1518"/>
                  </a:lnTo>
                  <a:lnTo>
                    <a:pt x="5013" y="1555"/>
                  </a:lnTo>
                  <a:lnTo>
                    <a:pt x="4953" y="1592"/>
                  </a:lnTo>
                  <a:lnTo>
                    <a:pt x="4921" y="1610"/>
                  </a:lnTo>
                  <a:lnTo>
                    <a:pt x="4889" y="1628"/>
                  </a:lnTo>
                  <a:lnTo>
                    <a:pt x="4854" y="1644"/>
                  </a:lnTo>
                  <a:lnTo>
                    <a:pt x="4820" y="1660"/>
                  </a:lnTo>
                  <a:lnTo>
                    <a:pt x="4785" y="1676"/>
                  </a:lnTo>
                  <a:lnTo>
                    <a:pt x="4747" y="1691"/>
                  </a:lnTo>
                  <a:lnTo>
                    <a:pt x="4710" y="1705"/>
                  </a:lnTo>
                  <a:lnTo>
                    <a:pt x="4671" y="1718"/>
                  </a:lnTo>
                  <a:lnTo>
                    <a:pt x="4631" y="1729"/>
                  </a:lnTo>
                  <a:lnTo>
                    <a:pt x="4591" y="1739"/>
                  </a:lnTo>
                  <a:lnTo>
                    <a:pt x="4549" y="1749"/>
                  </a:lnTo>
                  <a:lnTo>
                    <a:pt x="4506" y="1757"/>
                  </a:lnTo>
                  <a:lnTo>
                    <a:pt x="4461" y="1765"/>
                  </a:lnTo>
                  <a:lnTo>
                    <a:pt x="4417" y="1770"/>
                  </a:lnTo>
                  <a:lnTo>
                    <a:pt x="4370" y="1773"/>
                  </a:lnTo>
                  <a:lnTo>
                    <a:pt x="4324" y="1775"/>
                  </a:lnTo>
                  <a:lnTo>
                    <a:pt x="4275" y="1776"/>
                  </a:lnTo>
                  <a:lnTo>
                    <a:pt x="4227" y="1775"/>
                  </a:lnTo>
                  <a:lnTo>
                    <a:pt x="4177" y="1771"/>
                  </a:lnTo>
                  <a:lnTo>
                    <a:pt x="4125" y="1766"/>
                  </a:lnTo>
                  <a:lnTo>
                    <a:pt x="4074" y="1758"/>
                  </a:lnTo>
                  <a:lnTo>
                    <a:pt x="4021" y="1749"/>
                  </a:lnTo>
                  <a:lnTo>
                    <a:pt x="3969" y="1737"/>
                  </a:lnTo>
                  <a:lnTo>
                    <a:pt x="3913" y="1724"/>
                  </a:lnTo>
                  <a:lnTo>
                    <a:pt x="3857" y="1708"/>
                  </a:lnTo>
                  <a:lnTo>
                    <a:pt x="3802" y="1689"/>
                  </a:lnTo>
                  <a:lnTo>
                    <a:pt x="3745" y="1668"/>
                  </a:lnTo>
                  <a:lnTo>
                    <a:pt x="3687" y="1644"/>
                  </a:lnTo>
                  <a:lnTo>
                    <a:pt x="3627" y="1618"/>
                  </a:lnTo>
                  <a:lnTo>
                    <a:pt x="3567" y="1587"/>
                  </a:lnTo>
                  <a:lnTo>
                    <a:pt x="3506" y="1555"/>
                  </a:lnTo>
                  <a:lnTo>
                    <a:pt x="3445" y="1521"/>
                  </a:lnTo>
                  <a:lnTo>
                    <a:pt x="3383" y="1482"/>
                  </a:lnTo>
                  <a:lnTo>
                    <a:pt x="3319" y="1440"/>
                  </a:lnTo>
                  <a:lnTo>
                    <a:pt x="3255" y="1397"/>
                  </a:lnTo>
                  <a:lnTo>
                    <a:pt x="3190" y="1348"/>
                  </a:lnTo>
                  <a:lnTo>
                    <a:pt x="3124" y="1297"/>
                  </a:lnTo>
                  <a:lnTo>
                    <a:pt x="3058" y="1242"/>
                  </a:lnTo>
                  <a:lnTo>
                    <a:pt x="3058" y="1242"/>
                  </a:lnTo>
                  <a:lnTo>
                    <a:pt x="2924" y="1132"/>
                  </a:lnTo>
                  <a:lnTo>
                    <a:pt x="2797" y="1029"/>
                  </a:lnTo>
                  <a:lnTo>
                    <a:pt x="2672" y="930"/>
                  </a:lnTo>
                  <a:lnTo>
                    <a:pt x="2551" y="838"/>
                  </a:lnTo>
                  <a:lnTo>
                    <a:pt x="2434" y="751"/>
                  </a:lnTo>
                  <a:lnTo>
                    <a:pt x="2319" y="670"/>
                  </a:lnTo>
                  <a:lnTo>
                    <a:pt x="2209" y="593"/>
                  </a:lnTo>
                  <a:lnTo>
                    <a:pt x="2101" y="523"/>
                  </a:lnTo>
                  <a:lnTo>
                    <a:pt x="1996" y="457"/>
                  </a:lnTo>
                  <a:lnTo>
                    <a:pt x="1893" y="396"/>
                  </a:lnTo>
                  <a:lnTo>
                    <a:pt x="1793" y="341"/>
                  </a:lnTo>
                  <a:lnTo>
                    <a:pt x="1696" y="289"/>
                  </a:lnTo>
                  <a:lnTo>
                    <a:pt x="1600" y="242"/>
                  </a:lnTo>
                  <a:lnTo>
                    <a:pt x="1507" y="200"/>
                  </a:lnTo>
                  <a:lnTo>
                    <a:pt x="1415" y="163"/>
                  </a:lnTo>
                  <a:lnTo>
                    <a:pt x="1325" y="129"/>
                  </a:lnTo>
                  <a:lnTo>
                    <a:pt x="1238" y="100"/>
                  </a:lnTo>
                  <a:lnTo>
                    <a:pt x="1150" y="74"/>
                  </a:lnTo>
                  <a:lnTo>
                    <a:pt x="1065" y="53"/>
                  </a:lnTo>
                  <a:lnTo>
                    <a:pt x="981" y="36"/>
                  </a:lnTo>
                  <a:lnTo>
                    <a:pt x="897" y="23"/>
                  </a:lnTo>
                  <a:lnTo>
                    <a:pt x="815" y="11"/>
                  </a:lnTo>
                  <a:lnTo>
                    <a:pt x="734" y="5"/>
                  </a:lnTo>
                  <a:lnTo>
                    <a:pt x="652" y="2"/>
                  </a:lnTo>
                  <a:lnTo>
                    <a:pt x="571" y="0"/>
                  </a:lnTo>
                  <a:lnTo>
                    <a:pt x="491" y="3"/>
                  </a:lnTo>
                  <a:lnTo>
                    <a:pt x="409" y="8"/>
                  </a:lnTo>
                  <a:lnTo>
                    <a:pt x="328" y="18"/>
                  </a:lnTo>
                  <a:lnTo>
                    <a:pt x="248" y="29"/>
                  </a:lnTo>
                  <a:lnTo>
                    <a:pt x="166" y="42"/>
                  </a:lnTo>
                  <a:lnTo>
                    <a:pt x="84" y="58"/>
                  </a:lnTo>
                  <a:lnTo>
                    <a:pt x="0" y="7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9433400">
              <a:off x="1474200" y="-731520"/>
              <a:ext cx="10764000" cy="3698280"/>
            </a:xfrm>
            <a:custGeom>
              <a:avLst/>
              <a:gdLst/>
              <a:ahLst/>
              <a:rect l="l" t="t" r="r" b="b"/>
              <a:pathLst>
                <a:path w="5381" h="1708">
                  <a:moveTo>
                    <a:pt x="5381" y="1145"/>
                  </a:moveTo>
                  <a:lnTo>
                    <a:pt x="5381" y="1145"/>
                  </a:lnTo>
                  <a:lnTo>
                    <a:pt x="5372" y="1157"/>
                  </a:lnTo>
                  <a:lnTo>
                    <a:pt x="5341" y="1195"/>
                  </a:lnTo>
                  <a:lnTo>
                    <a:pt x="5319" y="1220"/>
                  </a:lnTo>
                  <a:lnTo>
                    <a:pt x="5293" y="1250"/>
                  </a:lnTo>
                  <a:lnTo>
                    <a:pt x="5261" y="1283"/>
                  </a:lnTo>
                  <a:lnTo>
                    <a:pt x="5224" y="1319"/>
                  </a:lnTo>
                  <a:lnTo>
                    <a:pt x="5184" y="1356"/>
                  </a:lnTo>
                  <a:lnTo>
                    <a:pt x="5138" y="1395"/>
                  </a:lnTo>
                  <a:lnTo>
                    <a:pt x="5088" y="1434"/>
                  </a:lnTo>
                  <a:lnTo>
                    <a:pt x="5033" y="1472"/>
                  </a:lnTo>
                  <a:lnTo>
                    <a:pt x="4975" y="1511"/>
                  </a:lnTo>
                  <a:lnTo>
                    <a:pt x="4943" y="1529"/>
                  </a:lnTo>
                  <a:lnTo>
                    <a:pt x="4911" y="1547"/>
                  </a:lnTo>
                  <a:lnTo>
                    <a:pt x="4877" y="1564"/>
                  </a:lnTo>
                  <a:lnTo>
                    <a:pt x="4843" y="1582"/>
                  </a:lnTo>
                  <a:lnTo>
                    <a:pt x="4808" y="1598"/>
                  </a:lnTo>
                  <a:lnTo>
                    <a:pt x="4770" y="1613"/>
                  </a:lnTo>
                  <a:lnTo>
                    <a:pt x="4733" y="1629"/>
                  </a:lnTo>
                  <a:lnTo>
                    <a:pt x="4694" y="1642"/>
                  </a:lnTo>
                  <a:lnTo>
                    <a:pt x="4655" y="1655"/>
                  </a:lnTo>
                  <a:lnTo>
                    <a:pt x="4614" y="1666"/>
                  </a:lnTo>
                  <a:lnTo>
                    <a:pt x="4572" y="1676"/>
                  </a:lnTo>
                  <a:lnTo>
                    <a:pt x="4530" y="1685"/>
                  </a:lnTo>
                  <a:lnTo>
                    <a:pt x="4486" y="1694"/>
                  </a:lnTo>
                  <a:lnTo>
                    <a:pt x="4441" y="1700"/>
                  </a:lnTo>
                  <a:lnTo>
                    <a:pt x="4396" y="1705"/>
                  </a:lnTo>
                  <a:lnTo>
                    <a:pt x="4348" y="1708"/>
                  </a:lnTo>
                  <a:lnTo>
                    <a:pt x="4300" y="1708"/>
                  </a:lnTo>
                  <a:lnTo>
                    <a:pt x="4251" y="1708"/>
                  </a:lnTo>
                  <a:lnTo>
                    <a:pt x="4201" y="1706"/>
                  </a:lnTo>
                  <a:lnTo>
                    <a:pt x="4150" y="1702"/>
                  </a:lnTo>
                  <a:lnTo>
                    <a:pt x="4098" y="1695"/>
                  </a:lnTo>
                  <a:lnTo>
                    <a:pt x="4046" y="1687"/>
                  </a:lnTo>
                  <a:lnTo>
                    <a:pt x="3992" y="1677"/>
                  </a:lnTo>
                  <a:lnTo>
                    <a:pt x="3937" y="1664"/>
                  </a:lnTo>
                  <a:lnTo>
                    <a:pt x="3882" y="1648"/>
                  </a:lnTo>
                  <a:lnTo>
                    <a:pt x="3825" y="1631"/>
                  </a:lnTo>
                  <a:lnTo>
                    <a:pt x="3768" y="1611"/>
                  </a:lnTo>
                  <a:lnTo>
                    <a:pt x="3708" y="1589"/>
                  </a:lnTo>
                  <a:lnTo>
                    <a:pt x="3650" y="1563"/>
                  </a:lnTo>
                  <a:lnTo>
                    <a:pt x="3589" y="1534"/>
                  </a:lnTo>
                  <a:lnTo>
                    <a:pt x="3528" y="1503"/>
                  </a:lnTo>
                  <a:lnTo>
                    <a:pt x="3465" y="1469"/>
                  </a:lnTo>
                  <a:lnTo>
                    <a:pt x="3403" y="1432"/>
                  </a:lnTo>
                  <a:lnTo>
                    <a:pt x="3339" y="1392"/>
                  </a:lnTo>
                  <a:lnTo>
                    <a:pt x="3274" y="1348"/>
                  </a:lnTo>
                  <a:lnTo>
                    <a:pt x="3209" y="1301"/>
                  </a:lnTo>
                  <a:lnTo>
                    <a:pt x="3142" y="1251"/>
                  </a:lnTo>
                  <a:lnTo>
                    <a:pt x="3074" y="1198"/>
                  </a:lnTo>
                  <a:lnTo>
                    <a:pt x="3074" y="1198"/>
                  </a:lnTo>
                  <a:lnTo>
                    <a:pt x="2941" y="1090"/>
                  </a:lnTo>
                  <a:lnTo>
                    <a:pt x="2810" y="988"/>
                  </a:lnTo>
                  <a:lnTo>
                    <a:pt x="2684" y="891"/>
                  </a:lnTo>
                  <a:lnTo>
                    <a:pt x="2561" y="801"/>
                  </a:lnTo>
                  <a:lnTo>
                    <a:pt x="2443" y="717"/>
                  </a:lnTo>
                  <a:lnTo>
                    <a:pt x="2328" y="638"/>
                  </a:lnTo>
                  <a:lnTo>
                    <a:pt x="2216" y="563"/>
                  </a:lnTo>
                  <a:lnTo>
                    <a:pt x="2106" y="494"/>
                  </a:lnTo>
                  <a:lnTo>
                    <a:pt x="2001" y="429"/>
                  </a:lnTo>
                  <a:lnTo>
                    <a:pt x="1898" y="371"/>
                  </a:lnTo>
                  <a:lnTo>
                    <a:pt x="1796" y="316"/>
                  </a:lnTo>
                  <a:lnTo>
                    <a:pt x="1698" y="268"/>
                  </a:lnTo>
                  <a:lnTo>
                    <a:pt x="1602" y="223"/>
                  </a:lnTo>
                  <a:lnTo>
                    <a:pt x="1508" y="182"/>
                  </a:lnTo>
                  <a:lnTo>
                    <a:pt x="1416" y="147"/>
                  </a:lnTo>
                  <a:lnTo>
                    <a:pt x="1326" y="114"/>
                  </a:lnTo>
                  <a:lnTo>
                    <a:pt x="1237" y="87"/>
                  </a:lnTo>
                  <a:lnTo>
                    <a:pt x="1149" y="63"/>
                  </a:lnTo>
                  <a:lnTo>
                    <a:pt x="1065" y="43"/>
                  </a:lnTo>
                  <a:lnTo>
                    <a:pt x="980" y="27"/>
                  </a:lnTo>
                  <a:lnTo>
                    <a:pt x="897" y="16"/>
                  </a:lnTo>
                  <a:lnTo>
                    <a:pt x="813" y="6"/>
                  </a:lnTo>
                  <a:lnTo>
                    <a:pt x="732" y="1"/>
                  </a:lnTo>
                  <a:lnTo>
                    <a:pt x="650" y="0"/>
                  </a:lnTo>
                  <a:lnTo>
                    <a:pt x="569" y="0"/>
                  </a:lnTo>
                  <a:lnTo>
                    <a:pt x="489" y="5"/>
                  </a:lnTo>
                  <a:lnTo>
                    <a:pt x="408" y="11"/>
                  </a:lnTo>
                  <a:lnTo>
                    <a:pt x="328" y="22"/>
                  </a:lnTo>
                  <a:lnTo>
                    <a:pt x="246" y="35"/>
                  </a:lnTo>
                  <a:lnTo>
                    <a:pt x="165" y="50"/>
                  </a:lnTo>
                  <a:lnTo>
                    <a:pt x="83" y="68"/>
                  </a:lnTo>
                  <a:lnTo>
                    <a:pt x="0" y="8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9433400">
              <a:off x="1510920" y="-687240"/>
              <a:ext cx="10791720" cy="3560040"/>
            </a:xfrm>
            <a:custGeom>
              <a:avLst/>
              <a:gdLst/>
              <a:ahLst/>
              <a:rect l="l" t="t" r="r" b="b"/>
              <a:pathLst>
                <a:path w="5395" h="1644">
                  <a:moveTo>
                    <a:pt x="5395" y="1054"/>
                  </a:moveTo>
                  <a:lnTo>
                    <a:pt x="5395" y="1054"/>
                  </a:lnTo>
                  <a:lnTo>
                    <a:pt x="5385" y="1067"/>
                  </a:lnTo>
                  <a:lnTo>
                    <a:pt x="5356" y="1106"/>
                  </a:lnTo>
                  <a:lnTo>
                    <a:pt x="5335" y="1132"/>
                  </a:lnTo>
                  <a:lnTo>
                    <a:pt x="5309" y="1162"/>
                  </a:lnTo>
                  <a:lnTo>
                    <a:pt x="5277" y="1196"/>
                  </a:lnTo>
                  <a:lnTo>
                    <a:pt x="5241" y="1232"/>
                  </a:lnTo>
                  <a:lnTo>
                    <a:pt x="5201" y="1271"/>
                  </a:lnTo>
                  <a:lnTo>
                    <a:pt x="5156" y="1309"/>
                  </a:lnTo>
                  <a:lnTo>
                    <a:pt x="5106" y="1350"/>
                  </a:lnTo>
                  <a:lnTo>
                    <a:pt x="5052" y="1390"/>
                  </a:lnTo>
                  <a:lnTo>
                    <a:pt x="4994" y="1431"/>
                  </a:lnTo>
                  <a:lnTo>
                    <a:pt x="4963" y="1450"/>
                  </a:lnTo>
                  <a:lnTo>
                    <a:pt x="4931" y="1469"/>
                  </a:lnTo>
                  <a:lnTo>
                    <a:pt x="4898" y="1487"/>
                  </a:lnTo>
                  <a:lnTo>
                    <a:pt x="4865" y="1505"/>
                  </a:lnTo>
                  <a:lnTo>
                    <a:pt x="4829" y="1521"/>
                  </a:lnTo>
                  <a:lnTo>
                    <a:pt x="4793" y="1539"/>
                  </a:lnTo>
                  <a:lnTo>
                    <a:pt x="4755" y="1553"/>
                  </a:lnTo>
                  <a:lnTo>
                    <a:pt x="4716" y="1568"/>
                  </a:lnTo>
                  <a:lnTo>
                    <a:pt x="4677" y="1582"/>
                  </a:lnTo>
                  <a:lnTo>
                    <a:pt x="4637" y="1594"/>
                  </a:lnTo>
                  <a:lnTo>
                    <a:pt x="4595" y="1605"/>
                  </a:lnTo>
                  <a:lnTo>
                    <a:pt x="4552" y="1615"/>
                  </a:lnTo>
                  <a:lnTo>
                    <a:pt x="4509" y="1624"/>
                  </a:lnTo>
                  <a:lnTo>
                    <a:pt x="4463" y="1631"/>
                  </a:lnTo>
                  <a:lnTo>
                    <a:pt x="4418" y="1637"/>
                  </a:lnTo>
                  <a:lnTo>
                    <a:pt x="4372" y="1640"/>
                  </a:lnTo>
                  <a:lnTo>
                    <a:pt x="4323" y="1644"/>
                  </a:lnTo>
                  <a:lnTo>
                    <a:pt x="4275" y="1644"/>
                  </a:lnTo>
                  <a:lnTo>
                    <a:pt x="4225" y="1642"/>
                  </a:lnTo>
                  <a:lnTo>
                    <a:pt x="4173" y="1639"/>
                  </a:lnTo>
                  <a:lnTo>
                    <a:pt x="4122" y="1634"/>
                  </a:lnTo>
                  <a:lnTo>
                    <a:pt x="4069" y="1627"/>
                  </a:lnTo>
                  <a:lnTo>
                    <a:pt x="4015" y="1618"/>
                  </a:lnTo>
                  <a:lnTo>
                    <a:pt x="3959" y="1605"/>
                  </a:lnTo>
                  <a:lnTo>
                    <a:pt x="3904" y="1592"/>
                  </a:lnTo>
                  <a:lnTo>
                    <a:pt x="3847" y="1574"/>
                  </a:lnTo>
                  <a:lnTo>
                    <a:pt x="3789" y="1556"/>
                  </a:lnTo>
                  <a:lnTo>
                    <a:pt x="3730" y="1534"/>
                  </a:lnTo>
                  <a:lnTo>
                    <a:pt x="3671" y="1510"/>
                  </a:lnTo>
                  <a:lnTo>
                    <a:pt x="3610" y="1482"/>
                  </a:lnTo>
                  <a:lnTo>
                    <a:pt x="3548" y="1451"/>
                  </a:lnTo>
                  <a:lnTo>
                    <a:pt x="3486" y="1419"/>
                  </a:lnTo>
                  <a:lnTo>
                    <a:pt x="3422" y="1384"/>
                  </a:lnTo>
                  <a:lnTo>
                    <a:pt x="3357" y="1343"/>
                  </a:lnTo>
                  <a:lnTo>
                    <a:pt x="3292" y="1301"/>
                  </a:lnTo>
                  <a:lnTo>
                    <a:pt x="3225" y="1256"/>
                  </a:lnTo>
                  <a:lnTo>
                    <a:pt x="3158" y="1206"/>
                  </a:lnTo>
                  <a:lnTo>
                    <a:pt x="3089" y="1154"/>
                  </a:lnTo>
                  <a:lnTo>
                    <a:pt x="3089" y="1154"/>
                  </a:lnTo>
                  <a:lnTo>
                    <a:pt x="2954" y="1049"/>
                  </a:lnTo>
                  <a:lnTo>
                    <a:pt x="2822" y="949"/>
                  </a:lnTo>
                  <a:lnTo>
                    <a:pt x="2696" y="856"/>
                  </a:lnTo>
                  <a:lnTo>
                    <a:pt x="2572" y="767"/>
                  </a:lnTo>
                  <a:lnTo>
                    <a:pt x="2452" y="683"/>
                  </a:lnTo>
                  <a:lnTo>
                    <a:pt x="2335" y="605"/>
                  </a:lnTo>
                  <a:lnTo>
                    <a:pt x="2223" y="534"/>
                  </a:lnTo>
                  <a:lnTo>
                    <a:pt x="2111" y="467"/>
                  </a:lnTo>
                  <a:lnTo>
                    <a:pt x="2005" y="405"/>
                  </a:lnTo>
                  <a:lnTo>
                    <a:pt x="1900" y="347"/>
                  </a:lnTo>
                  <a:lnTo>
                    <a:pt x="1799" y="295"/>
                  </a:lnTo>
                  <a:lnTo>
                    <a:pt x="1699" y="247"/>
                  </a:lnTo>
                  <a:lnTo>
                    <a:pt x="1603" y="205"/>
                  </a:lnTo>
                  <a:lnTo>
                    <a:pt x="1509" y="166"/>
                  </a:lnTo>
                  <a:lnTo>
                    <a:pt x="1416" y="131"/>
                  </a:lnTo>
                  <a:lnTo>
                    <a:pt x="1326" y="102"/>
                  </a:lnTo>
                  <a:lnTo>
                    <a:pt x="1237" y="76"/>
                  </a:lnTo>
                  <a:lnTo>
                    <a:pt x="1149" y="53"/>
                  </a:lnTo>
                  <a:lnTo>
                    <a:pt x="1063" y="35"/>
                  </a:lnTo>
                  <a:lnTo>
                    <a:pt x="979" y="21"/>
                  </a:lnTo>
                  <a:lnTo>
                    <a:pt x="894" y="11"/>
                  </a:lnTo>
                  <a:lnTo>
                    <a:pt x="812" y="3"/>
                  </a:lnTo>
                  <a:lnTo>
                    <a:pt x="730" y="0"/>
                  </a:lnTo>
                  <a:lnTo>
                    <a:pt x="648" y="0"/>
                  </a:lnTo>
                  <a:lnTo>
                    <a:pt x="568" y="2"/>
                  </a:lnTo>
                  <a:lnTo>
                    <a:pt x="487" y="8"/>
                  </a:lnTo>
                  <a:lnTo>
                    <a:pt x="406" y="18"/>
                  </a:lnTo>
                  <a:lnTo>
                    <a:pt x="326" y="29"/>
                  </a:lnTo>
                  <a:lnTo>
                    <a:pt x="244" y="43"/>
                  </a:lnTo>
                  <a:lnTo>
                    <a:pt x="164" y="60"/>
                  </a:lnTo>
                  <a:lnTo>
                    <a:pt x="82" y="81"/>
                  </a:lnTo>
                  <a:lnTo>
                    <a:pt x="0" y="10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9433400">
              <a:off x="1548000" y="-644760"/>
              <a:ext cx="10819800" cy="3425400"/>
            </a:xfrm>
            <a:custGeom>
              <a:avLst/>
              <a:gdLst/>
              <a:ahLst/>
              <a:rect l="l" t="t" r="r" b="b"/>
              <a:pathLst>
                <a:path w="5409" h="1581">
                  <a:moveTo>
                    <a:pt x="5409" y="964"/>
                  </a:moveTo>
                  <a:lnTo>
                    <a:pt x="5409" y="964"/>
                  </a:lnTo>
                  <a:lnTo>
                    <a:pt x="5399" y="979"/>
                  </a:lnTo>
                  <a:lnTo>
                    <a:pt x="5371" y="1018"/>
                  </a:lnTo>
                  <a:lnTo>
                    <a:pt x="5350" y="1045"/>
                  </a:lnTo>
                  <a:lnTo>
                    <a:pt x="5324" y="1076"/>
                  </a:lnTo>
                  <a:lnTo>
                    <a:pt x="5294" y="1110"/>
                  </a:lnTo>
                  <a:lnTo>
                    <a:pt x="5257" y="1147"/>
                  </a:lnTo>
                  <a:lnTo>
                    <a:pt x="5219" y="1187"/>
                  </a:lnTo>
                  <a:lnTo>
                    <a:pt x="5174" y="1228"/>
                  </a:lnTo>
                  <a:lnTo>
                    <a:pt x="5126" y="1270"/>
                  </a:lnTo>
                  <a:lnTo>
                    <a:pt x="5071" y="1310"/>
                  </a:lnTo>
                  <a:lnTo>
                    <a:pt x="5013" y="1352"/>
                  </a:lnTo>
                  <a:lnTo>
                    <a:pt x="4983" y="1371"/>
                  </a:lnTo>
                  <a:lnTo>
                    <a:pt x="4952" y="1391"/>
                  </a:lnTo>
                  <a:lnTo>
                    <a:pt x="4919" y="1410"/>
                  </a:lnTo>
                  <a:lnTo>
                    <a:pt x="4885" y="1429"/>
                  </a:lnTo>
                  <a:lnTo>
                    <a:pt x="4849" y="1447"/>
                  </a:lnTo>
                  <a:lnTo>
                    <a:pt x="4813" y="1463"/>
                  </a:lnTo>
                  <a:lnTo>
                    <a:pt x="4777" y="1481"/>
                  </a:lnTo>
                  <a:lnTo>
                    <a:pt x="4738" y="1496"/>
                  </a:lnTo>
                  <a:lnTo>
                    <a:pt x="4699" y="1510"/>
                  </a:lnTo>
                  <a:lnTo>
                    <a:pt x="4659" y="1523"/>
                  </a:lnTo>
                  <a:lnTo>
                    <a:pt x="4617" y="1536"/>
                  </a:lnTo>
                  <a:lnTo>
                    <a:pt x="4574" y="1547"/>
                  </a:lnTo>
                  <a:lnTo>
                    <a:pt x="4531" y="1555"/>
                  </a:lnTo>
                  <a:lnTo>
                    <a:pt x="4487" y="1563"/>
                  </a:lnTo>
                  <a:lnTo>
                    <a:pt x="4441" y="1572"/>
                  </a:lnTo>
                  <a:lnTo>
                    <a:pt x="4394" y="1576"/>
                  </a:lnTo>
                  <a:lnTo>
                    <a:pt x="4345" y="1580"/>
                  </a:lnTo>
                  <a:lnTo>
                    <a:pt x="4297" y="1581"/>
                  </a:lnTo>
                  <a:lnTo>
                    <a:pt x="4247" y="1581"/>
                  </a:lnTo>
                  <a:lnTo>
                    <a:pt x="4197" y="1578"/>
                  </a:lnTo>
                  <a:lnTo>
                    <a:pt x="4144" y="1575"/>
                  </a:lnTo>
                  <a:lnTo>
                    <a:pt x="4091" y="1568"/>
                  </a:lnTo>
                  <a:lnTo>
                    <a:pt x="4037" y="1560"/>
                  </a:lnTo>
                  <a:lnTo>
                    <a:pt x="3982" y="1549"/>
                  </a:lnTo>
                  <a:lnTo>
                    <a:pt x="3926" y="1536"/>
                  </a:lnTo>
                  <a:lnTo>
                    <a:pt x="3869" y="1520"/>
                  </a:lnTo>
                  <a:lnTo>
                    <a:pt x="3811" y="1502"/>
                  </a:lnTo>
                  <a:lnTo>
                    <a:pt x="3751" y="1481"/>
                  </a:lnTo>
                  <a:lnTo>
                    <a:pt x="3691" y="1458"/>
                  </a:lnTo>
                  <a:lnTo>
                    <a:pt x="3630" y="1433"/>
                  </a:lnTo>
                  <a:lnTo>
                    <a:pt x="3568" y="1404"/>
                  </a:lnTo>
                  <a:lnTo>
                    <a:pt x="3505" y="1371"/>
                  </a:lnTo>
                  <a:lnTo>
                    <a:pt x="3440" y="1336"/>
                  </a:lnTo>
                  <a:lnTo>
                    <a:pt x="3375" y="1299"/>
                  </a:lnTo>
                  <a:lnTo>
                    <a:pt x="3310" y="1257"/>
                  </a:lnTo>
                  <a:lnTo>
                    <a:pt x="3241" y="1211"/>
                  </a:lnTo>
                  <a:lnTo>
                    <a:pt x="3173" y="1165"/>
                  </a:lnTo>
                  <a:lnTo>
                    <a:pt x="3105" y="1113"/>
                  </a:lnTo>
                  <a:lnTo>
                    <a:pt x="3105" y="1113"/>
                  </a:lnTo>
                  <a:lnTo>
                    <a:pt x="2968" y="1010"/>
                  </a:lnTo>
                  <a:lnTo>
                    <a:pt x="2835" y="913"/>
                  </a:lnTo>
                  <a:lnTo>
                    <a:pt x="2707" y="821"/>
                  </a:lnTo>
                  <a:lnTo>
                    <a:pt x="2582" y="733"/>
                  </a:lnTo>
                  <a:lnTo>
                    <a:pt x="2460" y="653"/>
                  </a:lnTo>
                  <a:lnTo>
                    <a:pt x="2343" y="577"/>
                  </a:lnTo>
                  <a:lnTo>
                    <a:pt x="2228" y="507"/>
                  </a:lnTo>
                  <a:lnTo>
                    <a:pt x="2117" y="441"/>
                  </a:lnTo>
                  <a:lnTo>
                    <a:pt x="2009" y="381"/>
                  </a:lnTo>
                  <a:lnTo>
                    <a:pt x="1904" y="327"/>
                  </a:lnTo>
                  <a:lnTo>
                    <a:pt x="1802" y="277"/>
                  </a:lnTo>
                  <a:lnTo>
                    <a:pt x="1702" y="230"/>
                  </a:lnTo>
                  <a:lnTo>
                    <a:pt x="1605" y="189"/>
                  </a:lnTo>
                  <a:lnTo>
                    <a:pt x="1509" y="152"/>
                  </a:lnTo>
                  <a:lnTo>
                    <a:pt x="1416" y="118"/>
                  </a:lnTo>
                  <a:lnTo>
                    <a:pt x="1325" y="91"/>
                  </a:lnTo>
                  <a:lnTo>
                    <a:pt x="1235" y="67"/>
                  </a:lnTo>
                  <a:lnTo>
                    <a:pt x="1148" y="46"/>
                  </a:lnTo>
                  <a:lnTo>
                    <a:pt x="1062" y="29"/>
                  </a:lnTo>
                  <a:lnTo>
                    <a:pt x="977" y="17"/>
                  </a:lnTo>
                  <a:lnTo>
                    <a:pt x="892" y="8"/>
                  </a:lnTo>
                  <a:lnTo>
                    <a:pt x="810" y="2"/>
                  </a:lnTo>
                  <a:lnTo>
                    <a:pt x="728" y="0"/>
                  </a:lnTo>
                  <a:lnTo>
                    <a:pt x="647" y="2"/>
                  </a:lnTo>
                  <a:lnTo>
                    <a:pt x="566" y="7"/>
                  </a:lnTo>
                  <a:lnTo>
                    <a:pt x="485" y="13"/>
                  </a:lnTo>
                  <a:lnTo>
                    <a:pt x="405" y="25"/>
                  </a:lnTo>
                  <a:lnTo>
                    <a:pt x="324" y="38"/>
                  </a:lnTo>
                  <a:lnTo>
                    <a:pt x="244" y="54"/>
                  </a:lnTo>
                  <a:lnTo>
                    <a:pt x="163" y="73"/>
                  </a:lnTo>
                  <a:lnTo>
                    <a:pt x="81" y="94"/>
                  </a:lnTo>
                  <a:lnTo>
                    <a:pt x="0" y="1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9433400">
              <a:off x="1587600" y="-598320"/>
              <a:ext cx="10846080" cy="3282840"/>
            </a:xfrm>
            <a:custGeom>
              <a:avLst/>
              <a:gdLst/>
              <a:ahLst/>
              <a:rect l="l" t="t" r="r" b="b"/>
              <a:pathLst>
                <a:path w="5422" h="1516">
                  <a:moveTo>
                    <a:pt x="5422" y="873"/>
                  </a:moveTo>
                  <a:lnTo>
                    <a:pt x="5422" y="873"/>
                  </a:lnTo>
                  <a:lnTo>
                    <a:pt x="5412" y="888"/>
                  </a:lnTo>
                  <a:lnTo>
                    <a:pt x="5384" y="926"/>
                  </a:lnTo>
                  <a:lnTo>
                    <a:pt x="5363" y="954"/>
                  </a:lnTo>
                  <a:lnTo>
                    <a:pt x="5337" y="986"/>
                  </a:lnTo>
                  <a:lnTo>
                    <a:pt x="5308" y="1022"/>
                  </a:lnTo>
                  <a:lnTo>
                    <a:pt x="5273" y="1059"/>
                  </a:lnTo>
                  <a:lnTo>
                    <a:pt x="5233" y="1099"/>
                  </a:lnTo>
                  <a:lnTo>
                    <a:pt x="5190" y="1141"/>
                  </a:lnTo>
                  <a:lnTo>
                    <a:pt x="5141" y="1185"/>
                  </a:lnTo>
                  <a:lnTo>
                    <a:pt x="5088" y="1227"/>
                  </a:lnTo>
                  <a:lnTo>
                    <a:pt x="5031" y="1269"/>
                  </a:lnTo>
                  <a:lnTo>
                    <a:pt x="5001" y="1290"/>
                  </a:lnTo>
                  <a:lnTo>
                    <a:pt x="4970" y="1311"/>
                  </a:lnTo>
                  <a:lnTo>
                    <a:pt x="4937" y="1330"/>
                  </a:lnTo>
                  <a:lnTo>
                    <a:pt x="4904" y="1349"/>
                  </a:lnTo>
                  <a:lnTo>
                    <a:pt x="4869" y="1369"/>
                  </a:lnTo>
                  <a:lnTo>
                    <a:pt x="4833" y="1387"/>
                  </a:lnTo>
                  <a:lnTo>
                    <a:pt x="4797" y="1404"/>
                  </a:lnTo>
                  <a:lnTo>
                    <a:pt x="4758" y="1420"/>
                  </a:lnTo>
                  <a:lnTo>
                    <a:pt x="4719" y="1435"/>
                  </a:lnTo>
                  <a:lnTo>
                    <a:pt x="4679" y="1450"/>
                  </a:lnTo>
                  <a:lnTo>
                    <a:pt x="4637" y="1462"/>
                  </a:lnTo>
                  <a:lnTo>
                    <a:pt x="4595" y="1474"/>
                  </a:lnTo>
                  <a:lnTo>
                    <a:pt x="4552" y="1485"/>
                  </a:lnTo>
                  <a:lnTo>
                    <a:pt x="4507" y="1493"/>
                  </a:lnTo>
                  <a:lnTo>
                    <a:pt x="4462" y="1501"/>
                  </a:lnTo>
                  <a:lnTo>
                    <a:pt x="4415" y="1508"/>
                  </a:lnTo>
                  <a:lnTo>
                    <a:pt x="4368" y="1513"/>
                  </a:lnTo>
                  <a:lnTo>
                    <a:pt x="4318" y="1514"/>
                  </a:lnTo>
                  <a:lnTo>
                    <a:pt x="4268" y="1516"/>
                  </a:lnTo>
                  <a:lnTo>
                    <a:pt x="4218" y="1514"/>
                  </a:lnTo>
                  <a:lnTo>
                    <a:pt x="4165" y="1511"/>
                  </a:lnTo>
                  <a:lnTo>
                    <a:pt x="4112" y="1506"/>
                  </a:lnTo>
                  <a:lnTo>
                    <a:pt x="4058" y="1498"/>
                  </a:lnTo>
                  <a:lnTo>
                    <a:pt x="4003" y="1488"/>
                  </a:lnTo>
                  <a:lnTo>
                    <a:pt x="3947" y="1477"/>
                  </a:lnTo>
                  <a:lnTo>
                    <a:pt x="3889" y="1462"/>
                  </a:lnTo>
                  <a:lnTo>
                    <a:pt x="3830" y="1445"/>
                  </a:lnTo>
                  <a:lnTo>
                    <a:pt x="3771" y="1425"/>
                  </a:lnTo>
                  <a:lnTo>
                    <a:pt x="3711" y="1403"/>
                  </a:lnTo>
                  <a:lnTo>
                    <a:pt x="3649" y="1378"/>
                  </a:lnTo>
                  <a:lnTo>
                    <a:pt x="3586" y="1351"/>
                  </a:lnTo>
                  <a:lnTo>
                    <a:pt x="3522" y="1320"/>
                  </a:lnTo>
                  <a:lnTo>
                    <a:pt x="3458" y="1286"/>
                  </a:lnTo>
                  <a:lnTo>
                    <a:pt x="3393" y="1249"/>
                  </a:lnTo>
                  <a:lnTo>
                    <a:pt x="3325" y="1209"/>
                  </a:lnTo>
                  <a:lnTo>
                    <a:pt x="3258" y="1165"/>
                  </a:lnTo>
                  <a:lnTo>
                    <a:pt x="3189" y="1119"/>
                  </a:lnTo>
                  <a:lnTo>
                    <a:pt x="3120" y="1068"/>
                  </a:lnTo>
                  <a:lnTo>
                    <a:pt x="3120" y="1068"/>
                  </a:lnTo>
                  <a:lnTo>
                    <a:pt x="2981" y="967"/>
                  </a:lnTo>
                  <a:lnTo>
                    <a:pt x="2846" y="871"/>
                  </a:lnTo>
                  <a:lnTo>
                    <a:pt x="2717" y="783"/>
                  </a:lnTo>
                  <a:lnTo>
                    <a:pt x="2591" y="699"/>
                  </a:lnTo>
                  <a:lnTo>
                    <a:pt x="2468" y="620"/>
                  </a:lnTo>
                  <a:lnTo>
                    <a:pt x="2349" y="545"/>
                  </a:lnTo>
                  <a:lnTo>
                    <a:pt x="2234" y="478"/>
                  </a:lnTo>
                  <a:lnTo>
                    <a:pt x="2121" y="415"/>
                  </a:lnTo>
                  <a:lnTo>
                    <a:pt x="2013" y="356"/>
                  </a:lnTo>
                  <a:lnTo>
                    <a:pt x="1906" y="303"/>
                  </a:lnTo>
                  <a:lnTo>
                    <a:pt x="1803" y="253"/>
                  </a:lnTo>
                  <a:lnTo>
                    <a:pt x="1703" y="209"/>
                  </a:lnTo>
                  <a:lnTo>
                    <a:pt x="1605" y="171"/>
                  </a:lnTo>
                  <a:lnTo>
                    <a:pt x="1509" y="135"/>
                  </a:lnTo>
                  <a:lnTo>
                    <a:pt x="1416" y="105"/>
                  </a:lnTo>
                  <a:lnTo>
                    <a:pt x="1324" y="77"/>
                  </a:lnTo>
                  <a:lnTo>
                    <a:pt x="1234" y="54"/>
                  </a:lnTo>
                  <a:lnTo>
                    <a:pt x="1147" y="37"/>
                  </a:lnTo>
                  <a:lnTo>
                    <a:pt x="1060" y="22"/>
                  </a:lnTo>
                  <a:lnTo>
                    <a:pt x="974" y="11"/>
                  </a:lnTo>
                  <a:lnTo>
                    <a:pt x="891" y="3"/>
                  </a:lnTo>
                  <a:lnTo>
                    <a:pt x="808" y="0"/>
                  </a:lnTo>
                  <a:lnTo>
                    <a:pt x="726" y="0"/>
                  </a:lnTo>
                  <a:lnTo>
                    <a:pt x="644" y="1"/>
                  </a:lnTo>
                  <a:lnTo>
                    <a:pt x="563" y="8"/>
                  </a:lnTo>
                  <a:lnTo>
                    <a:pt x="483" y="17"/>
                  </a:lnTo>
                  <a:lnTo>
                    <a:pt x="402" y="30"/>
                  </a:lnTo>
                  <a:lnTo>
                    <a:pt x="323" y="45"/>
                  </a:lnTo>
                  <a:lnTo>
                    <a:pt x="243" y="63"/>
                  </a:lnTo>
                  <a:lnTo>
                    <a:pt x="162" y="84"/>
                  </a:lnTo>
                  <a:lnTo>
                    <a:pt x="80" y="106"/>
                  </a:lnTo>
                  <a:lnTo>
                    <a:pt x="0" y="13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9433400">
              <a:off x="1625040" y="-553320"/>
              <a:ext cx="10864440" cy="3139560"/>
            </a:xfrm>
            <a:custGeom>
              <a:avLst/>
              <a:gdLst/>
              <a:ahLst/>
              <a:rect l="l" t="t" r="r" b="b"/>
              <a:pathLst>
                <a:path w="5431" h="1452">
                  <a:moveTo>
                    <a:pt x="5431" y="783"/>
                  </a:moveTo>
                  <a:lnTo>
                    <a:pt x="5431" y="783"/>
                  </a:lnTo>
                  <a:lnTo>
                    <a:pt x="5423" y="798"/>
                  </a:lnTo>
                  <a:lnTo>
                    <a:pt x="5395" y="838"/>
                  </a:lnTo>
                  <a:lnTo>
                    <a:pt x="5375" y="867"/>
                  </a:lnTo>
                  <a:lnTo>
                    <a:pt x="5350" y="899"/>
                  </a:lnTo>
                  <a:lnTo>
                    <a:pt x="5320" y="935"/>
                  </a:lnTo>
                  <a:lnTo>
                    <a:pt x="5286" y="974"/>
                  </a:lnTo>
                  <a:lnTo>
                    <a:pt x="5247" y="1016"/>
                  </a:lnTo>
                  <a:lnTo>
                    <a:pt x="5204" y="1058"/>
                  </a:lnTo>
                  <a:lnTo>
                    <a:pt x="5157" y="1101"/>
                  </a:lnTo>
                  <a:lnTo>
                    <a:pt x="5105" y="1147"/>
                  </a:lnTo>
                  <a:lnTo>
                    <a:pt x="5048" y="1190"/>
                  </a:lnTo>
                  <a:lnTo>
                    <a:pt x="5018" y="1211"/>
                  </a:lnTo>
                  <a:lnTo>
                    <a:pt x="4987" y="1232"/>
                  </a:lnTo>
                  <a:lnTo>
                    <a:pt x="4955" y="1253"/>
                  </a:lnTo>
                  <a:lnTo>
                    <a:pt x="4922" y="1272"/>
                  </a:lnTo>
                  <a:lnTo>
                    <a:pt x="4887" y="1293"/>
                  </a:lnTo>
                  <a:lnTo>
                    <a:pt x="4851" y="1311"/>
                  </a:lnTo>
                  <a:lnTo>
                    <a:pt x="4815" y="1329"/>
                  </a:lnTo>
                  <a:lnTo>
                    <a:pt x="4778" y="1347"/>
                  </a:lnTo>
                  <a:lnTo>
                    <a:pt x="4739" y="1363"/>
                  </a:lnTo>
                  <a:lnTo>
                    <a:pt x="4698" y="1377"/>
                  </a:lnTo>
                  <a:lnTo>
                    <a:pt x="4657" y="1392"/>
                  </a:lnTo>
                  <a:lnTo>
                    <a:pt x="4615" y="1405"/>
                  </a:lnTo>
                  <a:lnTo>
                    <a:pt x="4572" y="1416"/>
                  </a:lnTo>
                  <a:lnTo>
                    <a:pt x="4528" y="1426"/>
                  </a:lnTo>
                  <a:lnTo>
                    <a:pt x="4482" y="1434"/>
                  </a:lnTo>
                  <a:lnTo>
                    <a:pt x="4436" y="1442"/>
                  </a:lnTo>
                  <a:lnTo>
                    <a:pt x="4387" y="1447"/>
                  </a:lnTo>
                  <a:lnTo>
                    <a:pt x="4339" y="1450"/>
                  </a:lnTo>
                  <a:lnTo>
                    <a:pt x="4289" y="1452"/>
                  </a:lnTo>
                  <a:lnTo>
                    <a:pt x="4237" y="1452"/>
                  </a:lnTo>
                  <a:lnTo>
                    <a:pt x="4186" y="1450"/>
                  </a:lnTo>
                  <a:lnTo>
                    <a:pt x="4133" y="1445"/>
                  </a:lnTo>
                  <a:lnTo>
                    <a:pt x="4078" y="1439"/>
                  </a:lnTo>
                  <a:lnTo>
                    <a:pt x="4024" y="1431"/>
                  </a:lnTo>
                  <a:lnTo>
                    <a:pt x="3967" y="1419"/>
                  </a:lnTo>
                  <a:lnTo>
                    <a:pt x="3908" y="1406"/>
                  </a:lnTo>
                  <a:lnTo>
                    <a:pt x="3850" y="1390"/>
                  </a:lnTo>
                  <a:lnTo>
                    <a:pt x="3790" y="1373"/>
                  </a:lnTo>
                  <a:lnTo>
                    <a:pt x="3729" y="1352"/>
                  </a:lnTo>
                  <a:lnTo>
                    <a:pt x="3668" y="1327"/>
                  </a:lnTo>
                  <a:lnTo>
                    <a:pt x="3604" y="1300"/>
                  </a:lnTo>
                  <a:lnTo>
                    <a:pt x="3540" y="1271"/>
                  </a:lnTo>
                  <a:lnTo>
                    <a:pt x="3475" y="1239"/>
                  </a:lnTo>
                  <a:lnTo>
                    <a:pt x="3410" y="1203"/>
                  </a:lnTo>
                  <a:lnTo>
                    <a:pt x="3342" y="1163"/>
                  </a:lnTo>
                  <a:lnTo>
                    <a:pt x="3274" y="1121"/>
                  </a:lnTo>
                  <a:lnTo>
                    <a:pt x="3204" y="1075"/>
                  </a:lnTo>
                  <a:lnTo>
                    <a:pt x="3134" y="1027"/>
                  </a:lnTo>
                  <a:lnTo>
                    <a:pt x="3134" y="1027"/>
                  </a:lnTo>
                  <a:lnTo>
                    <a:pt x="2993" y="929"/>
                  </a:lnTo>
                  <a:lnTo>
                    <a:pt x="2857" y="835"/>
                  </a:lnTo>
                  <a:lnTo>
                    <a:pt x="2727" y="748"/>
                  </a:lnTo>
                  <a:lnTo>
                    <a:pt x="2599" y="665"/>
                  </a:lnTo>
                  <a:lnTo>
                    <a:pt x="2475" y="588"/>
                  </a:lnTo>
                  <a:lnTo>
                    <a:pt x="2355" y="517"/>
                  </a:lnTo>
                  <a:lnTo>
                    <a:pt x="2239" y="451"/>
                  </a:lnTo>
                  <a:lnTo>
                    <a:pt x="2126" y="389"/>
                  </a:lnTo>
                  <a:lnTo>
                    <a:pt x="2016" y="333"/>
                  </a:lnTo>
                  <a:lnTo>
                    <a:pt x="1909" y="281"/>
                  </a:lnTo>
                  <a:lnTo>
                    <a:pt x="1805" y="234"/>
                  </a:lnTo>
                  <a:lnTo>
                    <a:pt x="1705" y="192"/>
                  </a:lnTo>
                  <a:lnTo>
                    <a:pt x="1606" y="155"/>
                  </a:lnTo>
                  <a:lnTo>
                    <a:pt x="1509" y="121"/>
                  </a:lnTo>
                  <a:lnTo>
                    <a:pt x="1416" y="92"/>
                  </a:lnTo>
                  <a:lnTo>
                    <a:pt x="1323" y="68"/>
                  </a:lnTo>
                  <a:lnTo>
                    <a:pt x="1234" y="47"/>
                  </a:lnTo>
                  <a:lnTo>
                    <a:pt x="1145" y="29"/>
                  </a:lnTo>
                  <a:lnTo>
                    <a:pt x="1058" y="16"/>
                  </a:lnTo>
                  <a:lnTo>
                    <a:pt x="973" y="7"/>
                  </a:lnTo>
                  <a:lnTo>
                    <a:pt x="890" y="2"/>
                  </a:lnTo>
                  <a:lnTo>
                    <a:pt x="807" y="0"/>
                  </a:lnTo>
                  <a:lnTo>
                    <a:pt x="725" y="0"/>
                  </a:lnTo>
                  <a:lnTo>
                    <a:pt x="643" y="5"/>
                  </a:lnTo>
                  <a:lnTo>
                    <a:pt x="562" y="13"/>
                  </a:lnTo>
                  <a:lnTo>
                    <a:pt x="482" y="24"/>
                  </a:lnTo>
                  <a:lnTo>
                    <a:pt x="401" y="37"/>
                  </a:lnTo>
                  <a:lnTo>
                    <a:pt x="322" y="55"/>
                  </a:lnTo>
                  <a:lnTo>
                    <a:pt x="242" y="74"/>
                  </a:lnTo>
                  <a:lnTo>
                    <a:pt x="161" y="97"/>
                  </a:lnTo>
                  <a:lnTo>
                    <a:pt x="80" y="121"/>
                  </a:lnTo>
                  <a:lnTo>
                    <a:pt x="0" y="14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9433400">
              <a:off x="1666080" y="-517680"/>
              <a:ext cx="10880280" cy="3013920"/>
            </a:xfrm>
            <a:custGeom>
              <a:avLst/>
              <a:gdLst/>
              <a:ahLst/>
              <a:rect l="l" t="t" r="r" b="b"/>
              <a:pathLst>
                <a:path w="5439" h="1390">
                  <a:moveTo>
                    <a:pt x="5439" y="694"/>
                  </a:moveTo>
                  <a:lnTo>
                    <a:pt x="5439" y="694"/>
                  </a:lnTo>
                  <a:lnTo>
                    <a:pt x="5431" y="709"/>
                  </a:lnTo>
                  <a:lnTo>
                    <a:pt x="5405" y="751"/>
                  </a:lnTo>
                  <a:lnTo>
                    <a:pt x="5384" y="780"/>
                  </a:lnTo>
                  <a:lnTo>
                    <a:pt x="5359" y="812"/>
                  </a:lnTo>
                  <a:lnTo>
                    <a:pt x="5331" y="849"/>
                  </a:lnTo>
                  <a:lnTo>
                    <a:pt x="5296" y="890"/>
                  </a:lnTo>
                  <a:lnTo>
                    <a:pt x="5259" y="932"/>
                  </a:lnTo>
                  <a:lnTo>
                    <a:pt x="5216" y="975"/>
                  </a:lnTo>
                  <a:lnTo>
                    <a:pt x="5170" y="1020"/>
                  </a:lnTo>
                  <a:lnTo>
                    <a:pt x="5119" y="1066"/>
                  </a:lnTo>
                  <a:lnTo>
                    <a:pt x="5062" y="1111"/>
                  </a:lnTo>
                  <a:lnTo>
                    <a:pt x="5033" y="1133"/>
                  </a:lnTo>
                  <a:lnTo>
                    <a:pt x="5002" y="1154"/>
                  </a:lnTo>
                  <a:lnTo>
                    <a:pt x="4970" y="1175"/>
                  </a:lnTo>
                  <a:lnTo>
                    <a:pt x="4937" y="1196"/>
                  </a:lnTo>
                  <a:lnTo>
                    <a:pt x="4903" y="1217"/>
                  </a:lnTo>
                  <a:lnTo>
                    <a:pt x="4867" y="1237"/>
                  </a:lnTo>
                  <a:lnTo>
                    <a:pt x="4831" y="1256"/>
                  </a:lnTo>
                  <a:lnTo>
                    <a:pt x="4794" y="1274"/>
                  </a:lnTo>
                  <a:lnTo>
                    <a:pt x="4755" y="1290"/>
                  </a:lnTo>
                  <a:lnTo>
                    <a:pt x="4716" y="1306"/>
                  </a:lnTo>
                  <a:lnTo>
                    <a:pt x="4674" y="1321"/>
                  </a:lnTo>
                  <a:lnTo>
                    <a:pt x="4633" y="1335"/>
                  </a:lnTo>
                  <a:lnTo>
                    <a:pt x="4590" y="1348"/>
                  </a:lnTo>
                  <a:lnTo>
                    <a:pt x="4545" y="1358"/>
                  </a:lnTo>
                  <a:lnTo>
                    <a:pt x="4499" y="1368"/>
                  </a:lnTo>
                  <a:lnTo>
                    <a:pt x="4454" y="1376"/>
                  </a:lnTo>
                  <a:lnTo>
                    <a:pt x="4406" y="1382"/>
                  </a:lnTo>
                  <a:lnTo>
                    <a:pt x="4356" y="1387"/>
                  </a:lnTo>
                  <a:lnTo>
                    <a:pt x="4308" y="1390"/>
                  </a:lnTo>
                  <a:lnTo>
                    <a:pt x="4256" y="1390"/>
                  </a:lnTo>
                  <a:lnTo>
                    <a:pt x="4204" y="1390"/>
                  </a:lnTo>
                  <a:lnTo>
                    <a:pt x="4151" y="1387"/>
                  </a:lnTo>
                  <a:lnTo>
                    <a:pt x="4097" y="1381"/>
                  </a:lnTo>
                  <a:lnTo>
                    <a:pt x="4041" y="1374"/>
                  </a:lnTo>
                  <a:lnTo>
                    <a:pt x="3984" y="1364"/>
                  </a:lnTo>
                  <a:lnTo>
                    <a:pt x="3926" y="1351"/>
                  </a:lnTo>
                  <a:lnTo>
                    <a:pt x="3868" y="1337"/>
                  </a:lnTo>
                  <a:lnTo>
                    <a:pt x="3808" y="1319"/>
                  </a:lnTo>
                  <a:lnTo>
                    <a:pt x="3747" y="1300"/>
                  </a:lnTo>
                  <a:lnTo>
                    <a:pt x="3684" y="1277"/>
                  </a:lnTo>
                  <a:lnTo>
                    <a:pt x="3621" y="1251"/>
                  </a:lnTo>
                  <a:lnTo>
                    <a:pt x="3557" y="1222"/>
                  </a:lnTo>
                  <a:lnTo>
                    <a:pt x="3490" y="1192"/>
                  </a:lnTo>
                  <a:lnTo>
                    <a:pt x="3423" y="1156"/>
                  </a:lnTo>
                  <a:lnTo>
                    <a:pt x="3355" y="1119"/>
                  </a:lnTo>
                  <a:lnTo>
                    <a:pt x="3287" y="1079"/>
                  </a:lnTo>
                  <a:lnTo>
                    <a:pt x="3217" y="1033"/>
                  </a:lnTo>
                  <a:lnTo>
                    <a:pt x="3146" y="985"/>
                  </a:lnTo>
                  <a:lnTo>
                    <a:pt x="3146" y="985"/>
                  </a:lnTo>
                  <a:lnTo>
                    <a:pt x="3004" y="890"/>
                  </a:lnTo>
                  <a:lnTo>
                    <a:pt x="2867" y="798"/>
                  </a:lnTo>
                  <a:lnTo>
                    <a:pt x="2733" y="714"/>
                  </a:lnTo>
                  <a:lnTo>
                    <a:pt x="2606" y="633"/>
                  </a:lnTo>
                  <a:lnTo>
                    <a:pt x="2481" y="559"/>
                  </a:lnTo>
                  <a:lnTo>
                    <a:pt x="2360" y="489"/>
                  </a:lnTo>
                  <a:lnTo>
                    <a:pt x="2242" y="425"/>
                  </a:lnTo>
                  <a:lnTo>
                    <a:pt x="2128" y="367"/>
                  </a:lnTo>
                  <a:lnTo>
                    <a:pt x="2018" y="312"/>
                  </a:lnTo>
                  <a:lnTo>
                    <a:pt x="1910" y="262"/>
                  </a:lnTo>
                  <a:lnTo>
                    <a:pt x="1806" y="216"/>
                  </a:lnTo>
                  <a:lnTo>
                    <a:pt x="1705" y="176"/>
                  </a:lnTo>
                  <a:lnTo>
                    <a:pt x="1605" y="140"/>
                  </a:lnTo>
                  <a:lnTo>
                    <a:pt x="1509" y="108"/>
                  </a:lnTo>
                  <a:lnTo>
                    <a:pt x="1414" y="81"/>
                  </a:lnTo>
                  <a:lnTo>
                    <a:pt x="1321" y="58"/>
                  </a:lnTo>
                  <a:lnTo>
                    <a:pt x="1231" y="39"/>
                  </a:lnTo>
                  <a:lnTo>
                    <a:pt x="1142" y="24"/>
                  </a:lnTo>
                  <a:lnTo>
                    <a:pt x="1056" y="13"/>
                  </a:lnTo>
                  <a:lnTo>
                    <a:pt x="970" y="5"/>
                  </a:lnTo>
                  <a:lnTo>
                    <a:pt x="887" y="2"/>
                  </a:lnTo>
                  <a:lnTo>
                    <a:pt x="803" y="0"/>
                  </a:lnTo>
                  <a:lnTo>
                    <a:pt x="722" y="3"/>
                  </a:lnTo>
                  <a:lnTo>
                    <a:pt x="640" y="10"/>
                  </a:lnTo>
                  <a:lnTo>
                    <a:pt x="559" y="19"/>
                  </a:lnTo>
                  <a:lnTo>
                    <a:pt x="479" y="32"/>
                  </a:lnTo>
                  <a:lnTo>
                    <a:pt x="399" y="47"/>
                  </a:lnTo>
                  <a:lnTo>
                    <a:pt x="319" y="66"/>
                  </a:lnTo>
                  <a:lnTo>
                    <a:pt x="240" y="87"/>
                  </a:lnTo>
                  <a:lnTo>
                    <a:pt x="161" y="111"/>
                  </a:lnTo>
                  <a:lnTo>
                    <a:pt x="80" y="139"/>
                  </a:lnTo>
                  <a:lnTo>
                    <a:pt x="0" y="16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9433400">
              <a:off x="1707120" y="-474120"/>
              <a:ext cx="10897920" cy="2875320"/>
            </a:xfrm>
            <a:custGeom>
              <a:avLst/>
              <a:gdLst/>
              <a:ahLst/>
              <a:rect l="l" t="t" r="r" b="b"/>
              <a:pathLst>
                <a:path w="5448" h="1327">
                  <a:moveTo>
                    <a:pt x="5448" y="603"/>
                  </a:moveTo>
                  <a:lnTo>
                    <a:pt x="5448" y="603"/>
                  </a:lnTo>
                  <a:lnTo>
                    <a:pt x="5439" y="618"/>
                  </a:lnTo>
                  <a:lnTo>
                    <a:pt x="5414" y="660"/>
                  </a:lnTo>
                  <a:lnTo>
                    <a:pt x="5393" y="689"/>
                  </a:lnTo>
                  <a:lnTo>
                    <a:pt x="5369" y="723"/>
                  </a:lnTo>
                  <a:lnTo>
                    <a:pt x="5341" y="762"/>
                  </a:lnTo>
                  <a:lnTo>
                    <a:pt x="5308" y="802"/>
                  </a:lnTo>
                  <a:lnTo>
                    <a:pt x="5271" y="846"/>
                  </a:lnTo>
                  <a:lnTo>
                    <a:pt x="5229" y="891"/>
                  </a:lnTo>
                  <a:lnTo>
                    <a:pt x="5183" y="936"/>
                  </a:lnTo>
                  <a:lnTo>
                    <a:pt x="5132" y="983"/>
                  </a:lnTo>
                  <a:lnTo>
                    <a:pt x="5076" y="1030"/>
                  </a:lnTo>
                  <a:lnTo>
                    <a:pt x="5047" y="1052"/>
                  </a:lnTo>
                  <a:lnTo>
                    <a:pt x="5017" y="1075"/>
                  </a:lnTo>
                  <a:lnTo>
                    <a:pt x="4986" y="1097"/>
                  </a:lnTo>
                  <a:lnTo>
                    <a:pt x="4953" y="1118"/>
                  </a:lnTo>
                  <a:lnTo>
                    <a:pt x="4919" y="1139"/>
                  </a:lnTo>
                  <a:lnTo>
                    <a:pt x="4885" y="1160"/>
                  </a:lnTo>
                  <a:lnTo>
                    <a:pt x="4849" y="1180"/>
                  </a:lnTo>
                  <a:lnTo>
                    <a:pt x="4811" y="1199"/>
                  </a:lnTo>
                  <a:lnTo>
                    <a:pt x="4772" y="1217"/>
                  </a:lnTo>
                  <a:lnTo>
                    <a:pt x="4733" y="1233"/>
                  </a:lnTo>
                  <a:lnTo>
                    <a:pt x="4692" y="1249"/>
                  </a:lnTo>
                  <a:lnTo>
                    <a:pt x="4650" y="1264"/>
                  </a:lnTo>
                  <a:lnTo>
                    <a:pt x="4607" y="1277"/>
                  </a:lnTo>
                  <a:lnTo>
                    <a:pt x="4564" y="1288"/>
                  </a:lnTo>
                  <a:lnTo>
                    <a:pt x="4518" y="1299"/>
                  </a:lnTo>
                  <a:lnTo>
                    <a:pt x="4472" y="1307"/>
                  </a:lnTo>
                  <a:lnTo>
                    <a:pt x="4425" y="1315"/>
                  </a:lnTo>
                  <a:lnTo>
                    <a:pt x="4375" y="1320"/>
                  </a:lnTo>
                  <a:lnTo>
                    <a:pt x="4326" y="1325"/>
                  </a:lnTo>
                  <a:lnTo>
                    <a:pt x="4275" y="1327"/>
                  </a:lnTo>
                  <a:lnTo>
                    <a:pt x="4222" y="1327"/>
                  </a:lnTo>
                  <a:lnTo>
                    <a:pt x="4170" y="1325"/>
                  </a:lnTo>
                  <a:lnTo>
                    <a:pt x="4115" y="1320"/>
                  </a:lnTo>
                  <a:lnTo>
                    <a:pt x="4060" y="1314"/>
                  </a:lnTo>
                  <a:lnTo>
                    <a:pt x="4003" y="1306"/>
                  </a:lnTo>
                  <a:lnTo>
                    <a:pt x="3945" y="1294"/>
                  </a:lnTo>
                  <a:lnTo>
                    <a:pt x="3885" y="1280"/>
                  </a:lnTo>
                  <a:lnTo>
                    <a:pt x="3825" y="1264"/>
                  </a:lnTo>
                  <a:lnTo>
                    <a:pt x="3764" y="1246"/>
                  </a:lnTo>
                  <a:lnTo>
                    <a:pt x="3702" y="1223"/>
                  </a:lnTo>
                  <a:lnTo>
                    <a:pt x="3638" y="1199"/>
                  </a:lnTo>
                  <a:lnTo>
                    <a:pt x="3573" y="1172"/>
                  </a:lnTo>
                  <a:lnTo>
                    <a:pt x="3506" y="1143"/>
                  </a:lnTo>
                  <a:lnTo>
                    <a:pt x="3439" y="1109"/>
                  </a:lnTo>
                  <a:lnTo>
                    <a:pt x="3371" y="1072"/>
                  </a:lnTo>
                  <a:lnTo>
                    <a:pt x="3300" y="1033"/>
                  </a:lnTo>
                  <a:lnTo>
                    <a:pt x="3230" y="989"/>
                  </a:lnTo>
                  <a:lnTo>
                    <a:pt x="3157" y="942"/>
                  </a:lnTo>
                  <a:lnTo>
                    <a:pt x="3157" y="942"/>
                  </a:lnTo>
                  <a:lnTo>
                    <a:pt x="3016" y="849"/>
                  </a:lnTo>
                  <a:lnTo>
                    <a:pt x="2877" y="760"/>
                  </a:lnTo>
                  <a:lnTo>
                    <a:pt x="2742" y="678"/>
                  </a:lnTo>
                  <a:lnTo>
                    <a:pt x="2613" y="599"/>
                  </a:lnTo>
                  <a:lnTo>
                    <a:pt x="2487" y="528"/>
                  </a:lnTo>
                  <a:lnTo>
                    <a:pt x="2365" y="460"/>
                  </a:lnTo>
                  <a:lnTo>
                    <a:pt x="2247" y="397"/>
                  </a:lnTo>
                  <a:lnTo>
                    <a:pt x="2131" y="340"/>
                  </a:lnTo>
                  <a:lnTo>
                    <a:pt x="2020" y="289"/>
                  </a:lnTo>
                  <a:lnTo>
                    <a:pt x="1912" y="240"/>
                  </a:lnTo>
                  <a:lnTo>
                    <a:pt x="1806" y="197"/>
                  </a:lnTo>
                  <a:lnTo>
                    <a:pt x="1705" y="158"/>
                  </a:lnTo>
                  <a:lnTo>
                    <a:pt x="1605" y="124"/>
                  </a:lnTo>
                  <a:lnTo>
                    <a:pt x="1508" y="95"/>
                  </a:lnTo>
                  <a:lnTo>
                    <a:pt x="1414" y="69"/>
                  </a:lnTo>
                  <a:lnTo>
                    <a:pt x="1321" y="48"/>
                  </a:lnTo>
                  <a:lnTo>
                    <a:pt x="1230" y="30"/>
                  </a:lnTo>
                  <a:lnTo>
                    <a:pt x="1141" y="17"/>
                  </a:lnTo>
                  <a:lnTo>
                    <a:pt x="1054" y="8"/>
                  </a:lnTo>
                  <a:lnTo>
                    <a:pt x="968" y="1"/>
                  </a:lnTo>
                  <a:lnTo>
                    <a:pt x="885" y="0"/>
                  </a:lnTo>
                  <a:lnTo>
                    <a:pt x="801" y="0"/>
                  </a:lnTo>
                  <a:lnTo>
                    <a:pt x="719" y="4"/>
                  </a:lnTo>
                  <a:lnTo>
                    <a:pt x="639" y="12"/>
                  </a:lnTo>
                  <a:lnTo>
                    <a:pt x="558" y="24"/>
                  </a:lnTo>
                  <a:lnTo>
                    <a:pt x="478" y="38"/>
                  </a:lnTo>
                  <a:lnTo>
                    <a:pt x="399" y="56"/>
                  </a:lnTo>
                  <a:lnTo>
                    <a:pt x="319" y="75"/>
                  </a:lnTo>
                  <a:lnTo>
                    <a:pt x="239" y="100"/>
                  </a:lnTo>
                  <a:lnTo>
                    <a:pt x="160" y="124"/>
                  </a:lnTo>
                  <a:lnTo>
                    <a:pt x="81" y="153"/>
                  </a:lnTo>
                  <a:lnTo>
                    <a:pt x="0" y="18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9433400">
              <a:off x="1750680" y="-433800"/>
              <a:ext cx="10906200" cy="2741760"/>
            </a:xfrm>
            <a:custGeom>
              <a:avLst/>
              <a:gdLst/>
              <a:ahLst/>
              <a:rect l="l" t="t" r="r" b="b"/>
              <a:pathLst>
                <a:path w="5452" h="1266">
                  <a:moveTo>
                    <a:pt x="5452" y="516"/>
                  </a:moveTo>
                  <a:lnTo>
                    <a:pt x="5452" y="516"/>
                  </a:lnTo>
                  <a:lnTo>
                    <a:pt x="5444" y="530"/>
                  </a:lnTo>
                  <a:lnTo>
                    <a:pt x="5419" y="574"/>
                  </a:lnTo>
                  <a:lnTo>
                    <a:pt x="5400" y="603"/>
                  </a:lnTo>
                  <a:lnTo>
                    <a:pt x="5376" y="637"/>
                  </a:lnTo>
                  <a:lnTo>
                    <a:pt x="5348" y="675"/>
                  </a:lnTo>
                  <a:lnTo>
                    <a:pt x="5316" y="717"/>
                  </a:lnTo>
                  <a:lnTo>
                    <a:pt x="5279" y="761"/>
                  </a:lnTo>
                  <a:lnTo>
                    <a:pt x="5239" y="808"/>
                  </a:lnTo>
                  <a:lnTo>
                    <a:pt x="5193" y="855"/>
                  </a:lnTo>
                  <a:lnTo>
                    <a:pt x="5143" y="903"/>
                  </a:lnTo>
                  <a:lnTo>
                    <a:pt x="5089" y="950"/>
                  </a:lnTo>
                  <a:lnTo>
                    <a:pt x="5060" y="974"/>
                  </a:lnTo>
                  <a:lnTo>
                    <a:pt x="5029" y="997"/>
                  </a:lnTo>
                  <a:lnTo>
                    <a:pt x="4998" y="1021"/>
                  </a:lnTo>
                  <a:lnTo>
                    <a:pt x="4965" y="1042"/>
                  </a:lnTo>
                  <a:lnTo>
                    <a:pt x="4932" y="1064"/>
                  </a:lnTo>
                  <a:lnTo>
                    <a:pt x="4897" y="1085"/>
                  </a:lnTo>
                  <a:lnTo>
                    <a:pt x="4862" y="1106"/>
                  </a:lnTo>
                  <a:lnTo>
                    <a:pt x="4825" y="1126"/>
                  </a:lnTo>
                  <a:lnTo>
                    <a:pt x="4787" y="1145"/>
                  </a:lnTo>
                  <a:lnTo>
                    <a:pt x="4747" y="1161"/>
                  </a:lnTo>
                  <a:lnTo>
                    <a:pt x="4707" y="1179"/>
                  </a:lnTo>
                  <a:lnTo>
                    <a:pt x="4665" y="1194"/>
                  </a:lnTo>
                  <a:lnTo>
                    <a:pt x="4624" y="1208"/>
                  </a:lnTo>
                  <a:lnTo>
                    <a:pt x="4579" y="1221"/>
                  </a:lnTo>
                  <a:lnTo>
                    <a:pt x="4533" y="1232"/>
                  </a:lnTo>
                  <a:lnTo>
                    <a:pt x="4488" y="1242"/>
                  </a:lnTo>
                  <a:lnTo>
                    <a:pt x="4440" y="1252"/>
                  </a:lnTo>
                  <a:lnTo>
                    <a:pt x="4392" y="1258"/>
                  </a:lnTo>
                  <a:lnTo>
                    <a:pt x="4342" y="1263"/>
                  </a:lnTo>
                  <a:lnTo>
                    <a:pt x="4292" y="1266"/>
                  </a:lnTo>
                  <a:lnTo>
                    <a:pt x="4239" y="1266"/>
                  </a:lnTo>
                  <a:lnTo>
                    <a:pt x="4186" y="1266"/>
                  </a:lnTo>
                  <a:lnTo>
                    <a:pt x="4131" y="1263"/>
                  </a:lnTo>
                  <a:lnTo>
                    <a:pt x="4075" y="1257"/>
                  </a:lnTo>
                  <a:lnTo>
                    <a:pt x="4018" y="1250"/>
                  </a:lnTo>
                  <a:lnTo>
                    <a:pt x="3960" y="1239"/>
                  </a:lnTo>
                  <a:lnTo>
                    <a:pt x="3902" y="1228"/>
                  </a:lnTo>
                  <a:lnTo>
                    <a:pt x="3841" y="1211"/>
                  </a:lnTo>
                  <a:lnTo>
                    <a:pt x="3779" y="1194"/>
                  </a:lnTo>
                  <a:lnTo>
                    <a:pt x="3716" y="1174"/>
                  </a:lnTo>
                  <a:lnTo>
                    <a:pt x="3652" y="1150"/>
                  </a:lnTo>
                  <a:lnTo>
                    <a:pt x="3586" y="1124"/>
                  </a:lnTo>
                  <a:lnTo>
                    <a:pt x="3520" y="1095"/>
                  </a:lnTo>
                  <a:lnTo>
                    <a:pt x="3452" y="1063"/>
                  </a:lnTo>
                  <a:lnTo>
                    <a:pt x="3384" y="1027"/>
                  </a:lnTo>
                  <a:lnTo>
                    <a:pt x="3313" y="989"/>
                  </a:lnTo>
                  <a:lnTo>
                    <a:pt x="3242" y="947"/>
                  </a:lnTo>
                  <a:lnTo>
                    <a:pt x="3169" y="901"/>
                  </a:lnTo>
                  <a:lnTo>
                    <a:pt x="3169" y="901"/>
                  </a:lnTo>
                  <a:lnTo>
                    <a:pt x="3024" y="811"/>
                  </a:lnTo>
                  <a:lnTo>
                    <a:pt x="2885" y="724"/>
                  </a:lnTo>
                  <a:lnTo>
                    <a:pt x="2749" y="643"/>
                  </a:lnTo>
                  <a:lnTo>
                    <a:pt x="2619" y="569"/>
                  </a:lnTo>
                  <a:lnTo>
                    <a:pt x="2491" y="498"/>
                  </a:lnTo>
                  <a:lnTo>
                    <a:pt x="2369" y="433"/>
                  </a:lnTo>
                  <a:lnTo>
                    <a:pt x="2249" y="373"/>
                  </a:lnTo>
                  <a:lnTo>
                    <a:pt x="2134" y="317"/>
                  </a:lnTo>
                  <a:lnTo>
                    <a:pt x="2022" y="267"/>
                  </a:lnTo>
                  <a:lnTo>
                    <a:pt x="1912" y="222"/>
                  </a:lnTo>
                  <a:lnTo>
                    <a:pt x="1806" y="180"/>
                  </a:lnTo>
                  <a:lnTo>
                    <a:pt x="1704" y="144"/>
                  </a:lnTo>
                  <a:lnTo>
                    <a:pt x="1604" y="112"/>
                  </a:lnTo>
                  <a:lnTo>
                    <a:pt x="1507" y="83"/>
                  </a:lnTo>
                  <a:lnTo>
                    <a:pt x="1411" y="60"/>
                  </a:lnTo>
                  <a:lnTo>
                    <a:pt x="1318" y="41"/>
                  </a:lnTo>
                  <a:lnTo>
                    <a:pt x="1227" y="25"/>
                  </a:lnTo>
                  <a:lnTo>
                    <a:pt x="1139" y="13"/>
                  </a:lnTo>
                  <a:lnTo>
                    <a:pt x="1051" y="5"/>
                  </a:lnTo>
                  <a:lnTo>
                    <a:pt x="965" y="0"/>
                  </a:lnTo>
                  <a:lnTo>
                    <a:pt x="882" y="0"/>
                  </a:lnTo>
                  <a:lnTo>
                    <a:pt x="798" y="4"/>
                  </a:lnTo>
                  <a:lnTo>
                    <a:pt x="717" y="8"/>
                  </a:lnTo>
                  <a:lnTo>
                    <a:pt x="635" y="18"/>
                  </a:lnTo>
                  <a:lnTo>
                    <a:pt x="556" y="31"/>
                  </a:lnTo>
                  <a:lnTo>
                    <a:pt x="475" y="47"/>
                  </a:lnTo>
                  <a:lnTo>
                    <a:pt x="396" y="67"/>
                  </a:lnTo>
                  <a:lnTo>
                    <a:pt x="317" y="89"/>
                  </a:lnTo>
                  <a:lnTo>
                    <a:pt x="238" y="113"/>
                  </a:lnTo>
                  <a:lnTo>
                    <a:pt x="158" y="141"/>
                  </a:lnTo>
                  <a:lnTo>
                    <a:pt x="79" y="172"/>
                  </a:lnTo>
                  <a:lnTo>
                    <a:pt x="0" y="20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9433400">
              <a:off x="1792440" y="-397440"/>
              <a:ext cx="10915920" cy="2611080"/>
            </a:xfrm>
            <a:custGeom>
              <a:avLst/>
              <a:gdLst/>
              <a:ahLst/>
              <a:rect l="l" t="t" r="r" b="b"/>
              <a:pathLst>
                <a:path w="5457" h="1206">
                  <a:moveTo>
                    <a:pt x="5457" y="426"/>
                  </a:moveTo>
                  <a:lnTo>
                    <a:pt x="5457" y="426"/>
                  </a:lnTo>
                  <a:lnTo>
                    <a:pt x="5450" y="442"/>
                  </a:lnTo>
                  <a:lnTo>
                    <a:pt x="5425" y="484"/>
                  </a:lnTo>
                  <a:lnTo>
                    <a:pt x="5405" y="515"/>
                  </a:lnTo>
                  <a:lnTo>
                    <a:pt x="5383" y="550"/>
                  </a:lnTo>
                  <a:lnTo>
                    <a:pt x="5355" y="589"/>
                  </a:lnTo>
                  <a:lnTo>
                    <a:pt x="5323" y="631"/>
                  </a:lnTo>
                  <a:lnTo>
                    <a:pt x="5287" y="676"/>
                  </a:lnTo>
                  <a:lnTo>
                    <a:pt x="5247" y="725"/>
                  </a:lnTo>
                  <a:lnTo>
                    <a:pt x="5203" y="773"/>
                  </a:lnTo>
                  <a:lnTo>
                    <a:pt x="5153" y="822"/>
                  </a:lnTo>
                  <a:lnTo>
                    <a:pt x="5100" y="872"/>
                  </a:lnTo>
                  <a:lnTo>
                    <a:pt x="5071" y="896"/>
                  </a:lnTo>
                  <a:lnTo>
                    <a:pt x="5041" y="918"/>
                  </a:lnTo>
                  <a:lnTo>
                    <a:pt x="5010" y="943"/>
                  </a:lnTo>
                  <a:lnTo>
                    <a:pt x="4978" y="965"/>
                  </a:lnTo>
                  <a:lnTo>
                    <a:pt x="4944" y="988"/>
                  </a:lnTo>
                  <a:lnTo>
                    <a:pt x="4911" y="1011"/>
                  </a:lnTo>
                  <a:lnTo>
                    <a:pt x="4875" y="1031"/>
                  </a:lnTo>
                  <a:lnTo>
                    <a:pt x="4839" y="1052"/>
                  </a:lnTo>
                  <a:lnTo>
                    <a:pt x="4801" y="1072"/>
                  </a:lnTo>
                  <a:lnTo>
                    <a:pt x="4762" y="1091"/>
                  </a:lnTo>
                  <a:lnTo>
                    <a:pt x="4722" y="1109"/>
                  </a:lnTo>
                  <a:lnTo>
                    <a:pt x="4681" y="1125"/>
                  </a:lnTo>
                  <a:lnTo>
                    <a:pt x="4637" y="1140"/>
                  </a:lnTo>
                  <a:lnTo>
                    <a:pt x="4594" y="1154"/>
                  </a:lnTo>
                  <a:lnTo>
                    <a:pt x="4549" y="1166"/>
                  </a:lnTo>
                  <a:lnTo>
                    <a:pt x="4503" y="1177"/>
                  </a:lnTo>
                  <a:lnTo>
                    <a:pt x="4456" y="1187"/>
                  </a:lnTo>
                  <a:lnTo>
                    <a:pt x="4407" y="1195"/>
                  </a:lnTo>
                  <a:lnTo>
                    <a:pt x="4358" y="1199"/>
                  </a:lnTo>
                  <a:lnTo>
                    <a:pt x="4307" y="1204"/>
                  </a:lnTo>
                  <a:lnTo>
                    <a:pt x="4254" y="1206"/>
                  </a:lnTo>
                  <a:lnTo>
                    <a:pt x="4202" y="1206"/>
                  </a:lnTo>
                  <a:lnTo>
                    <a:pt x="4147" y="1204"/>
                  </a:lnTo>
                  <a:lnTo>
                    <a:pt x="4092" y="1199"/>
                  </a:lnTo>
                  <a:lnTo>
                    <a:pt x="4035" y="1193"/>
                  </a:lnTo>
                  <a:lnTo>
                    <a:pt x="3977" y="1185"/>
                  </a:lnTo>
                  <a:lnTo>
                    <a:pt x="3917" y="1174"/>
                  </a:lnTo>
                  <a:lnTo>
                    <a:pt x="3856" y="1159"/>
                  </a:lnTo>
                  <a:lnTo>
                    <a:pt x="3793" y="1143"/>
                  </a:lnTo>
                  <a:lnTo>
                    <a:pt x="3731" y="1124"/>
                  </a:lnTo>
                  <a:lnTo>
                    <a:pt x="3666" y="1101"/>
                  </a:lnTo>
                  <a:lnTo>
                    <a:pt x="3600" y="1077"/>
                  </a:lnTo>
                  <a:lnTo>
                    <a:pt x="3534" y="1049"/>
                  </a:lnTo>
                  <a:lnTo>
                    <a:pt x="3466" y="1017"/>
                  </a:lnTo>
                  <a:lnTo>
                    <a:pt x="3396" y="983"/>
                  </a:lnTo>
                  <a:lnTo>
                    <a:pt x="3325" y="946"/>
                  </a:lnTo>
                  <a:lnTo>
                    <a:pt x="3253" y="906"/>
                  </a:lnTo>
                  <a:lnTo>
                    <a:pt x="3180" y="862"/>
                  </a:lnTo>
                  <a:lnTo>
                    <a:pt x="3180" y="862"/>
                  </a:lnTo>
                  <a:lnTo>
                    <a:pt x="3034" y="772"/>
                  </a:lnTo>
                  <a:lnTo>
                    <a:pt x="2892" y="689"/>
                  </a:lnTo>
                  <a:lnTo>
                    <a:pt x="2756" y="610"/>
                  </a:lnTo>
                  <a:lnTo>
                    <a:pt x="2624" y="537"/>
                  </a:lnTo>
                  <a:lnTo>
                    <a:pt x="2497" y="470"/>
                  </a:lnTo>
                  <a:lnTo>
                    <a:pt x="2372" y="407"/>
                  </a:lnTo>
                  <a:lnTo>
                    <a:pt x="2252" y="348"/>
                  </a:lnTo>
                  <a:lnTo>
                    <a:pt x="2136" y="295"/>
                  </a:lnTo>
                  <a:lnTo>
                    <a:pt x="2023" y="247"/>
                  </a:lnTo>
                  <a:lnTo>
                    <a:pt x="1913" y="203"/>
                  </a:lnTo>
                  <a:lnTo>
                    <a:pt x="1806" y="164"/>
                  </a:lnTo>
                  <a:lnTo>
                    <a:pt x="1702" y="129"/>
                  </a:lnTo>
                  <a:lnTo>
                    <a:pt x="1602" y="98"/>
                  </a:lnTo>
                  <a:lnTo>
                    <a:pt x="1504" y="72"/>
                  </a:lnTo>
                  <a:lnTo>
                    <a:pt x="1409" y="51"/>
                  </a:lnTo>
                  <a:lnTo>
                    <a:pt x="1315" y="32"/>
                  </a:lnTo>
                  <a:lnTo>
                    <a:pt x="1225" y="19"/>
                  </a:lnTo>
                  <a:lnTo>
                    <a:pt x="1136" y="9"/>
                  </a:lnTo>
                  <a:lnTo>
                    <a:pt x="1048" y="3"/>
                  </a:lnTo>
                  <a:lnTo>
                    <a:pt x="962" y="0"/>
                  </a:lnTo>
                  <a:lnTo>
                    <a:pt x="879" y="1"/>
                  </a:lnTo>
                  <a:lnTo>
                    <a:pt x="796" y="6"/>
                  </a:lnTo>
                  <a:lnTo>
                    <a:pt x="714" y="14"/>
                  </a:lnTo>
                  <a:lnTo>
                    <a:pt x="633" y="26"/>
                  </a:lnTo>
                  <a:lnTo>
                    <a:pt x="553" y="40"/>
                  </a:lnTo>
                  <a:lnTo>
                    <a:pt x="474" y="58"/>
                  </a:lnTo>
                  <a:lnTo>
                    <a:pt x="394" y="79"/>
                  </a:lnTo>
                  <a:lnTo>
                    <a:pt x="315" y="101"/>
                  </a:lnTo>
                  <a:lnTo>
                    <a:pt x="238" y="129"/>
                  </a:lnTo>
                  <a:lnTo>
                    <a:pt x="158" y="158"/>
                  </a:lnTo>
                  <a:lnTo>
                    <a:pt x="79" y="190"/>
                  </a:ln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9433400">
              <a:off x="1840680" y="-357840"/>
              <a:ext cx="10920240" cy="2480760"/>
            </a:xfrm>
            <a:custGeom>
              <a:avLst/>
              <a:gdLst/>
              <a:ahLst/>
              <a:rect l="l" t="t" r="r" b="b"/>
              <a:pathLst>
                <a:path w="5459" h="1144">
                  <a:moveTo>
                    <a:pt x="5459" y="335"/>
                  </a:moveTo>
                  <a:lnTo>
                    <a:pt x="5459" y="335"/>
                  </a:lnTo>
                  <a:lnTo>
                    <a:pt x="5450" y="352"/>
                  </a:lnTo>
                  <a:lnTo>
                    <a:pt x="5427" y="395"/>
                  </a:lnTo>
                  <a:lnTo>
                    <a:pt x="5409" y="426"/>
                  </a:lnTo>
                  <a:lnTo>
                    <a:pt x="5385" y="461"/>
                  </a:lnTo>
                  <a:lnTo>
                    <a:pt x="5359" y="502"/>
                  </a:lnTo>
                  <a:lnTo>
                    <a:pt x="5328" y="545"/>
                  </a:lnTo>
                  <a:lnTo>
                    <a:pt x="5292" y="591"/>
                  </a:lnTo>
                  <a:lnTo>
                    <a:pt x="5253" y="639"/>
                  </a:lnTo>
                  <a:lnTo>
                    <a:pt x="5209" y="689"/>
                  </a:lnTo>
                  <a:lnTo>
                    <a:pt x="5160" y="739"/>
                  </a:lnTo>
                  <a:lnTo>
                    <a:pt x="5108" y="791"/>
                  </a:lnTo>
                  <a:lnTo>
                    <a:pt x="5080" y="815"/>
                  </a:lnTo>
                  <a:lnTo>
                    <a:pt x="5049" y="839"/>
                  </a:lnTo>
                  <a:lnTo>
                    <a:pt x="5019" y="863"/>
                  </a:lnTo>
                  <a:lnTo>
                    <a:pt x="4988" y="888"/>
                  </a:lnTo>
                  <a:lnTo>
                    <a:pt x="4955" y="912"/>
                  </a:lnTo>
                  <a:lnTo>
                    <a:pt x="4921" y="935"/>
                  </a:lnTo>
                  <a:lnTo>
                    <a:pt x="4885" y="957"/>
                  </a:lnTo>
                  <a:lnTo>
                    <a:pt x="4849" y="978"/>
                  </a:lnTo>
                  <a:lnTo>
                    <a:pt x="4812" y="999"/>
                  </a:lnTo>
                  <a:lnTo>
                    <a:pt x="4773" y="1018"/>
                  </a:lnTo>
                  <a:lnTo>
                    <a:pt x="4734" y="1036"/>
                  </a:lnTo>
                  <a:lnTo>
                    <a:pt x="4692" y="1054"/>
                  </a:lnTo>
                  <a:lnTo>
                    <a:pt x="4651" y="1070"/>
                  </a:lnTo>
                  <a:lnTo>
                    <a:pt x="4606" y="1085"/>
                  </a:lnTo>
                  <a:lnTo>
                    <a:pt x="4562" y="1098"/>
                  </a:lnTo>
                  <a:lnTo>
                    <a:pt x="4516" y="1111"/>
                  </a:lnTo>
                  <a:lnTo>
                    <a:pt x="4469" y="1120"/>
                  </a:lnTo>
                  <a:lnTo>
                    <a:pt x="4420" y="1128"/>
                  </a:lnTo>
                  <a:lnTo>
                    <a:pt x="4372" y="1136"/>
                  </a:lnTo>
                  <a:lnTo>
                    <a:pt x="4320" y="1141"/>
                  </a:lnTo>
                  <a:lnTo>
                    <a:pt x="4268" y="1144"/>
                  </a:lnTo>
                  <a:lnTo>
                    <a:pt x="4215" y="1144"/>
                  </a:lnTo>
                  <a:lnTo>
                    <a:pt x="4161" y="1144"/>
                  </a:lnTo>
                  <a:lnTo>
                    <a:pt x="4105" y="1141"/>
                  </a:lnTo>
                  <a:lnTo>
                    <a:pt x="4047" y="1136"/>
                  </a:lnTo>
                  <a:lnTo>
                    <a:pt x="3988" y="1128"/>
                  </a:lnTo>
                  <a:lnTo>
                    <a:pt x="3929" y="1119"/>
                  </a:lnTo>
                  <a:lnTo>
                    <a:pt x="3869" y="1106"/>
                  </a:lnTo>
                  <a:lnTo>
                    <a:pt x="3807" y="1090"/>
                  </a:lnTo>
                  <a:lnTo>
                    <a:pt x="3743" y="1072"/>
                  </a:lnTo>
                  <a:lnTo>
                    <a:pt x="3677" y="1051"/>
                  </a:lnTo>
                  <a:lnTo>
                    <a:pt x="3612" y="1027"/>
                  </a:lnTo>
                  <a:lnTo>
                    <a:pt x="3544" y="1001"/>
                  </a:lnTo>
                  <a:lnTo>
                    <a:pt x="3476" y="970"/>
                  </a:lnTo>
                  <a:lnTo>
                    <a:pt x="3405" y="938"/>
                  </a:lnTo>
                  <a:lnTo>
                    <a:pt x="3335" y="902"/>
                  </a:lnTo>
                  <a:lnTo>
                    <a:pt x="3261" y="862"/>
                  </a:lnTo>
                  <a:lnTo>
                    <a:pt x="3187" y="820"/>
                  </a:lnTo>
                  <a:lnTo>
                    <a:pt x="3187" y="820"/>
                  </a:lnTo>
                  <a:lnTo>
                    <a:pt x="3040" y="733"/>
                  </a:lnTo>
                  <a:lnTo>
                    <a:pt x="2899" y="652"/>
                  </a:lnTo>
                  <a:lnTo>
                    <a:pt x="2761" y="576"/>
                  </a:lnTo>
                  <a:lnTo>
                    <a:pt x="2628" y="505"/>
                  </a:lnTo>
                  <a:lnTo>
                    <a:pt x="2499" y="439"/>
                  </a:lnTo>
                  <a:lnTo>
                    <a:pt x="2374" y="379"/>
                  </a:lnTo>
                  <a:lnTo>
                    <a:pt x="2253" y="323"/>
                  </a:lnTo>
                  <a:lnTo>
                    <a:pt x="2135" y="273"/>
                  </a:lnTo>
                  <a:lnTo>
                    <a:pt x="2022" y="226"/>
                  </a:lnTo>
                  <a:lnTo>
                    <a:pt x="1911" y="184"/>
                  </a:lnTo>
                  <a:lnTo>
                    <a:pt x="1804" y="147"/>
                  </a:lnTo>
                  <a:lnTo>
                    <a:pt x="1700" y="114"/>
                  </a:lnTo>
                  <a:lnTo>
                    <a:pt x="1599" y="85"/>
                  </a:lnTo>
                  <a:lnTo>
                    <a:pt x="1500" y="61"/>
                  </a:lnTo>
                  <a:lnTo>
                    <a:pt x="1405" y="40"/>
                  </a:lnTo>
                  <a:lnTo>
                    <a:pt x="1312" y="25"/>
                  </a:lnTo>
                  <a:lnTo>
                    <a:pt x="1220" y="13"/>
                  </a:lnTo>
                  <a:lnTo>
                    <a:pt x="1131" y="4"/>
                  </a:lnTo>
                  <a:lnTo>
                    <a:pt x="1044" y="0"/>
                  </a:lnTo>
                  <a:lnTo>
                    <a:pt x="958" y="0"/>
                  </a:lnTo>
                  <a:lnTo>
                    <a:pt x="874" y="1"/>
                  </a:lnTo>
                  <a:lnTo>
                    <a:pt x="791" y="8"/>
                  </a:lnTo>
                  <a:lnTo>
                    <a:pt x="709" y="17"/>
                  </a:lnTo>
                  <a:lnTo>
                    <a:pt x="628" y="32"/>
                  </a:lnTo>
                  <a:lnTo>
                    <a:pt x="549" y="48"/>
                  </a:lnTo>
                  <a:lnTo>
                    <a:pt x="470" y="67"/>
                  </a:lnTo>
                  <a:lnTo>
                    <a:pt x="391" y="88"/>
                  </a:lnTo>
                  <a:lnTo>
                    <a:pt x="313" y="114"/>
                  </a:lnTo>
                  <a:lnTo>
                    <a:pt x="234" y="143"/>
                  </a:lnTo>
                  <a:lnTo>
                    <a:pt x="156" y="174"/>
                  </a:lnTo>
                  <a:lnTo>
                    <a:pt x="77" y="208"/>
                  </a:lnTo>
                  <a:lnTo>
                    <a:pt x="0" y="24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9433400">
              <a:off x="1886400" y="-322560"/>
              <a:ext cx="10923840" cy="2355840"/>
            </a:xfrm>
            <a:custGeom>
              <a:avLst/>
              <a:gdLst/>
              <a:ahLst/>
              <a:rect l="l" t="t" r="r" b="b"/>
              <a:pathLst>
                <a:path w="5461" h="1087">
                  <a:moveTo>
                    <a:pt x="5461" y="247"/>
                  </a:moveTo>
                  <a:lnTo>
                    <a:pt x="5461" y="247"/>
                  </a:lnTo>
                  <a:lnTo>
                    <a:pt x="5452" y="263"/>
                  </a:lnTo>
                  <a:lnTo>
                    <a:pt x="5429" y="308"/>
                  </a:lnTo>
                  <a:lnTo>
                    <a:pt x="5411" y="339"/>
                  </a:lnTo>
                  <a:lnTo>
                    <a:pt x="5390" y="376"/>
                  </a:lnTo>
                  <a:lnTo>
                    <a:pt x="5363" y="417"/>
                  </a:lnTo>
                  <a:lnTo>
                    <a:pt x="5333" y="460"/>
                  </a:lnTo>
                  <a:lnTo>
                    <a:pt x="5298" y="507"/>
                  </a:lnTo>
                  <a:lnTo>
                    <a:pt x="5259" y="557"/>
                  </a:lnTo>
                  <a:lnTo>
                    <a:pt x="5216" y="607"/>
                  </a:lnTo>
                  <a:lnTo>
                    <a:pt x="5168" y="659"/>
                  </a:lnTo>
                  <a:lnTo>
                    <a:pt x="5116" y="710"/>
                  </a:lnTo>
                  <a:lnTo>
                    <a:pt x="5088" y="736"/>
                  </a:lnTo>
                  <a:lnTo>
                    <a:pt x="5059" y="762"/>
                  </a:lnTo>
                  <a:lnTo>
                    <a:pt x="5029" y="788"/>
                  </a:lnTo>
                  <a:lnTo>
                    <a:pt x="4998" y="812"/>
                  </a:lnTo>
                  <a:lnTo>
                    <a:pt x="4965" y="836"/>
                  </a:lnTo>
                  <a:lnTo>
                    <a:pt x="4932" y="859"/>
                  </a:lnTo>
                  <a:lnTo>
                    <a:pt x="4897" y="883"/>
                  </a:lnTo>
                  <a:lnTo>
                    <a:pt x="4861" y="904"/>
                  </a:lnTo>
                  <a:lnTo>
                    <a:pt x="4823" y="927"/>
                  </a:lnTo>
                  <a:lnTo>
                    <a:pt x="4786" y="946"/>
                  </a:lnTo>
                  <a:lnTo>
                    <a:pt x="4746" y="965"/>
                  </a:lnTo>
                  <a:lnTo>
                    <a:pt x="4705" y="985"/>
                  </a:lnTo>
                  <a:lnTo>
                    <a:pt x="4662" y="1001"/>
                  </a:lnTo>
                  <a:lnTo>
                    <a:pt x="4619" y="1017"/>
                  </a:lnTo>
                  <a:lnTo>
                    <a:pt x="4575" y="1032"/>
                  </a:lnTo>
                  <a:lnTo>
                    <a:pt x="4529" y="1045"/>
                  </a:lnTo>
                  <a:lnTo>
                    <a:pt x="4483" y="1056"/>
                  </a:lnTo>
                  <a:lnTo>
                    <a:pt x="4435" y="1066"/>
                  </a:lnTo>
                  <a:lnTo>
                    <a:pt x="4385" y="1074"/>
                  </a:lnTo>
                  <a:lnTo>
                    <a:pt x="4335" y="1080"/>
                  </a:lnTo>
                  <a:lnTo>
                    <a:pt x="4282" y="1083"/>
                  </a:lnTo>
                  <a:lnTo>
                    <a:pt x="4229" y="1087"/>
                  </a:lnTo>
                  <a:lnTo>
                    <a:pt x="4175" y="1087"/>
                  </a:lnTo>
                  <a:lnTo>
                    <a:pt x="4118" y="1083"/>
                  </a:lnTo>
                  <a:lnTo>
                    <a:pt x="4061" y="1080"/>
                  </a:lnTo>
                  <a:lnTo>
                    <a:pt x="4003" y="1074"/>
                  </a:lnTo>
                  <a:lnTo>
                    <a:pt x="3943" y="1064"/>
                  </a:lnTo>
                  <a:lnTo>
                    <a:pt x="3882" y="1053"/>
                  </a:lnTo>
                  <a:lnTo>
                    <a:pt x="3819" y="1038"/>
                  </a:lnTo>
                  <a:lnTo>
                    <a:pt x="3756" y="1022"/>
                  </a:lnTo>
                  <a:lnTo>
                    <a:pt x="3690" y="1003"/>
                  </a:lnTo>
                  <a:lnTo>
                    <a:pt x="3624" y="980"/>
                  </a:lnTo>
                  <a:lnTo>
                    <a:pt x="3556" y="954"/>
                  </a:lnTo>
                  <a:lnTo>
                    <a:pt x="3488" y="925"/>
                  </a:lnTo>
                  <a:lnTo>
                    <a:pt x="3417" y="894"/>
                  </a:lnTo>
                  <a:lnTo>
                    <a:pt x="3345" y="859"/>
                  </a:lnTo>
                  <a:lnTo>
                    <a:pt x="3271" y="820"/>
                  </a:lnTo>
                  <a:lnTo>
                    <a:pt x="3196" y="780"/>
                  </a:lnTo>
                  <a:lnTo>
                    <a:pt x="3196" y="780"/>
                  </a:lnTo>
                  <a:lnTo>
                    <a:pt x="3049" y="696"/>
                  </a:lnTo>
                  <a:lnTo>
                    <a:pt x="2904" y="617"/>
                  </a:lnTo>
                  <a:lnTo>
                    <a:pt x="2766" y="542"/>
                  </a:lnTo>
                  <a:lnTo>
                    <a:pt x="2632" y="475"/>
                  </a:lnTo>
                  <a:lnTo>
                    <a:pt x="2502" y="412"/>
                  </a:lnTo>
                  <a:lnTo>
                    <a:pt x="2377" y="354"/>
                  </a:lnTo>
                  <a:lnTo>
                    <a:pt x="2255" y="299"/>
                  </a:lnTo>
                  <a:lnTo>
                    <a:pt x="2137" y="250"/>
                  </a:lnTo>
                  <a:lnTo>
                    <a:pt x="2021" y="207"/>
                  </a:lnTo>
                  <a:lnTo>
                    <a:pt x="1912" y="166"/>
                  </a:lnTo>
                  <a:lnTo>
                    <a:pt x="1803" y="131"/>
                  </a:lnTo>
                  <a:lnTo>
                    <a:pt x="1699" y="100"/>
                  </a:lnTo>
                  <a:lnTo>
                    <a:pt x="1598" y="74"/>
                  </a:lnTo>
                  <a:lnTo>
                    <a:pt x="1499" y="52"/>
                  </a:lnTo>
                  <a:lnTo>
                    <a:pt x="1402" y="34"/>
                  </a:lnTo>
                  <a:lnTo>
                    <a:pt x="1309" y="19"/>
                  </a:lnTo>
                  <a:lnTo>
                    <a:pt x="1218" y="8"/>
                  </a:lnTo>
                  <a:lnTo>
                    <a:pt x="1129" y="2"/>
                  </a:lnTo>
                  <a:lnTo>
                    <a:pt x="1041" y="0"/>
                  </a:lnTo>
                  <a:lnTo>
                    <a:pt x="955" y="0"/>
                  </a:lnTo>
                  <a:lnTo>
                    <a:pt x="872" y="5"/>
                  </a:lnTo>
                  <a:lnTo>
                    <a:pt x="789" y="13"/>
                  </a:lnTo>
                  <a:lnTo>
                    <a:pt x="707" y="24"/>
                  </a:lnTo>
                  <a:lnTo>
                    <a:pt x="626" y="39"/>
                  </a:lnTo>
                  <a:lnTo>
                    <a:pt x="547" y="56"/>
                  </a:lnTo>
                  <a:lnTo>
                    <a:pt x="468" y="77"/>
                  </a:lnTo>
                  <a:lnTo>
                    <a:pt x="390" y="102"/>
                  </a:lnTo>
                  <a:lnTo>
                    <a:pt x="312" y="129"/>
                  </a:lnTo>
                  <a:lnTo>
                    <a:pt x="235" y="160"/>
                  </a:lnTo>
                  <a:lnTo>
                    <a:pt x="157" y="192"/>
                  </a:lnTo>
                  <a:lnTo>
                    <a:pt x="78" y="228"/>
                  </a:lnTo>
                  <a:lnTo>
                    <a:pt x="0" y="26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9433400">
              <a:off x="1934280" y="-285120"/>
              <a:ext cx="10920240" cy="2225160"/>
            </a:xfrm>
            <a:custGeom>
              <a:avLst/>
              <a:gdLst/>
              <a:ahLst/>
              <a:rect l="l" t="t" r="r" b="b"/>
              <a:pathLst>
                <a:path w="5459" h="1028">
                  <a:moveTo>
                    <a:pt x="5459" y="159"/>
                  </a:moveTo>
                  <a:lnTo>
                    <a:pt x="5459" y="159"/>
                  </a:lnTo>
                  <a:lnTo>
                    <a:pt x="5451" y="176"/>
                  </a:lnTo>
                  <a:lnTo>
                    <a:pt x="5428" y="221"/>
                  </a:lnTo>
                  <a:lnTo>
                    <a:pt x="5410" y="253"/>
                  </a:lnTo>
                  <a:lnTo>
                    <a:pt x="5390" y="290"/>
                  </a:lnTo>
                  <a:lnTo>
                    <a:pt x="5365" y="331"/>
                  </a:lnTo>
                  <a:lnTo>
                    <a:pt x="5334" y="376"/>
                  </a:lnTo>
                  <a:lnTo>
                    <a:pt x="5301" y="424"/>
                  </a:lnTo>
                  <a:lnTo>
                    <a:pt x="5262" y="474"/>
                  </a:lnTo>
                  <a:lnTo>
                    <a:pt x="5220" y="526"/>
                  </a:lnTo>
                  <a:lnTo>
                    <a:pt x="5173" y="579"/>
                  </a:lnTo>
                  <a:lnTo>
                    <a:pt x="5122" y="633"/>
                  </a:lnTo>
                  <a:lnTo>
                    <a:pt x="5094" y="658"/>
                  </a:lnTo>
                  <a:lnTo>
                    <a:pt x="5066" y="684"/>
                  </a:lnTo>
                  <a:lnTo>
                    <a:pt x="5035" y="710"/>
                  </a:lnTo>
                  <a:lnTo>
                    <a:pt x="5005" y="736"/>
                  </a:lnTo>
                  <a:lnTo>
                    <a:pt x="4973" y="762"/>
                  </a:lnTo>
                  <a:lnTo>
                    <a:pt x="4940" y="786"/>
                  </a:lnTo>
                  <a:lnTo>
                    <a:pt x="4905" y="809"/>
                  </a:lnTo>
                  <a:lnTo>
                    <a:pt x="4869" y="833"/>
                  </a:lnTo>
                  <a:lnTo>
                    <a:pt x="4833" y="854"/>
                  </a:lnTo>
                  <a:lnTo>
                    <a:pt x="4794" y="876"/>
                  </a:lnTo>
                  <a:lnTo>
                    <a:pt x="4755" y="896"/>
                  </a:lnTo>
                  <a:lnTo>
                    <a:pt x="4715" y="915"/>
                  </a:lnTo>
                  <a:lnTo>
                    <a:pt x="4673" y="933"/>
                  </a:lnTo>
                  <a:lnTo>
                    <a:pt x="4630" y="951"/>
                  </a:lnTo>
                  <a:lnTo>
                    <a:pt x="4586" y="965"/>
                  </a:lnTo>
                  <a:lnTo>
                    <a:pt x="4540" y="980"/>
                  </a:lnTo>
                  <a:lnTo>
                    <a:pt x="4494" y="991"/>
                  </a:lnTo>
                  <a:lnTo>
                    <a:pt x="4445" y="1002"/>
                  </a:lnTo>
                  <a:lnTo>
                    <a:pt x="4395" y="1010"/>
                  </a:lnTo>
                  <a:lnTo>
                    <a:pt x="4345" y="1018"/>
                  </a:lnTo>
                  <a:lnTo>
                    <a:pt x="4294" y="1023"/>
                  </a:lnTo>
                  <a:lnTo>
                    <a:pt x="4240" y="1027"/>
                  </a:lnTo>
                  <a:lnTo>
                    <a:pt x="4186" y="1028"/>
                  </a:lnTo>
                  <a:lnTo>
                    <a:pt x="4130" y="1028"/>
                  </a:lnTo>
                  <a:lnTo>
                    <a:pt x="4072" y="1025"/>
                  </a:lnTo>
                  <a:lnTo>
                    <a:pt x="4014" y="1018"/>
                  </a:lnTo>
                  <a:lnTo>
                    <a:pt x="3954" y="1010"/>
                  </a:lnTo>
                  <a:lnTo>
                    <a:pt x="3893" y="1001"/>
                  </a:lnTo>
                  <a:lnTo>
                    <a:pt x="3830" y="988"/>
                  </a:lnTo>
                  <a:lnTo>
                    <a:pt x="3766" y="972"/>
                  </a:lnTo>
                  <a:lnTo>
                    <a:pt x="3701" y="954"/>
                  </a:lnTo>
                  <a:lnTo>
                    <a:pt x="3635" y="933"/>
                  </a:lnTo>
                  <a:lnTo>
                    <a:pt x="3567" y="909"/>
                  </a:lnTo>
                  <a:lnTo>
                    <a:pt x="3496" y="881"/>
                  </a:lnTo>
                  <a:lnTo>
                    <a:pt x="3425" y="851"/>
                  </a:lnTo>
                  <a:lnTo>
                    <a:pt x="3353" y="817"/>
                  </a:lnTo>
                  <a:lnTo>
                    <a:pt x="3279" y="779"/>
                  </a:lnTo>
                  <a:lnTo>
                    <a:pt x="3204" y="739"/>
                  </a:lnTo>
                  <a:lnTo>
                    <a:pt x="3204" y="739"/>
                  </a:lnTo>
                  <a:lnTo>
                    <a:pt x="3054" y="658"/>
                  </a:lnTo>
                  <a:lnTo>
                    <a:pt x="2910" y="582"/>
                  </a:lnTo>
                  <a:lnTo>
                    <a:pt x="2770" y="511"/>
                  </a:lnTo>
                  <a:lnTo>
                    <a:pt x="2635" y="445"/>
                  </a:lnTo>
                  <a:lnTo>
                    <a:pt x="2503" y="384"/>
                  </a:lnTo>
                  <a:lnTo>
                    <a:pt x="2377" y="327"/>
                  </a:lnTo>
                  <a:lnTo>
                    <a:pt x="2254" y="277"/>
                  </a:lnTo>
                  <a:lnTo>
                    <a:pt x="2135" y="230"/>
                  </a:lnTo>
                  <a:lnTo>
                    <a:pt x="2021" y="189"/>
                  </a:lnTo>
                  <a:lnTo>
                    <a:pt x="1909" y="150"/>
                  </a:lnTo>
                  <a:lnTo>
                    <a:pt x="1800" y="117"/>
                  </a:lnTo>
                  <a:lnTo>
                    <a:pt x="1696" y="88"/>
                  </a:lnTo>
                  <a:lnTo>
                    <a:pt x="1595" y="64"/>
                  </a:lnTo>
                  <a:lnTo>
                    <a:pt x="1495" y="43"/>
                  </a:lnTo>
                  <a:lnTo>
                    <a:pt x="1399" y="27"/>
                  </a:lnTo>
                  <a:lnTo>
                    <a:pt x="1305" y="14"/>
                  </a:lnTo>
                  <a:lnTo>
                    <a:pt x="1213" y="6"/>
                  </a:lnTo>
                  <a:lnTo>
                    <a:pt x="1124" y="1"/>
                  </a:lnTo>
                  <a:lnTo>
                    <a:pt x="1037" y="0"/>
                  </a:lnTo>
                  <a:lnTo>
                    <a:pt x="951" y="3"/>
                  </a:lnTo>
                  <a:lnTo>
                    <a:pt x="867" y="9"/>
                  </a:lnTo>
                  <a:lnTo>
                    <a:pt x="784" y="19"/>
                  </a:lnTo>
                  <a:lnTo>
                    <a:pt x="704" y="32"/>
                  </a:lnTo>
                  <a:lnTo>
                    <a:pt x="623" y="48"/>
                  </a:lnTo>
                  <a:lnTo>
                    <a:pt x="544" y="67"/>
                  </a:lnTo>
                  <a:lnTo>
                    <a:pt x="465" y="92"/>
                  </a:lnTo>
                  <a:lnTo>
                    <a:pt x="387" y="117"/>
                  </a:lnTo>
                  <a:lnTo>
                    <a:pt x="309" y="145"/>
                  </a:lnTo>
                  <a:lnTo>
                    <a:pt x="232" y="177"/>
                  </a:lnTo>
                  <a:lnTo>
                    <a:pt x="155" y="211"/>
                  </a:lnTo>
                  <a:lnTo>
                    <a:pt x="77" y="248"/>
                  </a:lnTo>
                  <a:lnTo>
                    <a:pt x="0" y="28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9433400">
              <a:off x="1985400" y="-249840"/>
              <a:ext cx="10911960" cy="2100600"/>
            </a:xfrm>
            <a:custGeom>
              <a:avLst/>
              <a:gdLst/>
              <a:ahLst/>
              <a:rect l="l" t="t" r="r" b="b"/>
              <a:pathLst>
                <a:path w="5455" h="970">
                  <a:moveTo>
                    <a:pt x="5455" y="71"/>
                  </a:moveTo>
                  <a:lnTo>
                    <a:pt x="5455" y="71"/>
                  </a:lnTo>
                  <a:lnTo>
                    <a:pt x="5448" y="87"/>
                  </a:lnTo>
                  <a:lnTo>
                    <a:pt x="5426" y="132"/>
                  </a:lnTo>
                  <a:lnTo>
                    <a:pt x="5409" y="165"/>
                  </a:lnTo>
                  <a:lnTo>
                    <a:pt x="5388" y="203"/>
                  </a:lnTo>
                  <a:lnTo>
                    <a:pt x="5363" y="245"/>
                  </a:lnTo>
                  <a:lnTo>
                    <a:pt x="5334" y="291"/>
                  </a:lnTo>
                  <a:lnTo>
                    <a:pt x="5301" y="339"/>
                  </a:lnTo>
                  <a:lnTo>
                    <a:pt x="5263" y="391"/>
                  </a:lnTo>
                  <a:lnTo>
                    <a:pt x="5222" y="444"/>
                  </a:lnTo>
                  <a:lnTo>
                    <a:pt x="5176" y="499"/>
                  </a:lnTo>
                  <a:lnTo>
                    <a:pt x="5126" y="552"/>
                  </a:lnTo>
                  <a:lnTo>
                    <a:pt x="5098" y="580"/>
                  </a:lnTo>
                  <a:lnTo>
                    <a:pt x="5070" y="607"/>
                  </a:lnTo>
                  <a:lnTo>
                    <a:pt x="5041" y="633"/>
                  </a:lnTo>
                  <a:lnTo>
                    <a:pt x="5011" y="659"/>
                  </a:lnTo>
                  <a:lnTo>
                    <a:pt x="4979" y="685"/>
                  </a:lnTo>
                  <a:lnTo>
                    <a:pt x="4945" y="710"/>
                  </a:lnTo>
                  <a:lnTo>
                    <a:pt x="4912" y="735"/>
                  </a:lnTo>
                  <a:lnTo>
                    <a:pt x="4876" y="759"/>
                  </a:lnTo>
                  <a:lnTo>
                    <a:pt x="4840" y="781"/>
                  </a:lnTo>
                  <a:lnTo>
                    <a:pt x="4802" y="804"/>
                  </a:lnTo>
                  <a:lnTo>
                    <a:pt x="4763" y="825"/>
                  </a:lnTo>
                  <a:lnTo>
                    <a:pt x="4723" y="844"/>
                  </a:lnTo>
                  <a:lnTo>
                    <a:pt x="4682" y="864"/>
                  </a:lnTo>
                  <a:lnTo>
                    <a:pt x="4639" y="882"/>
                  </a:lnTo>
                  <a:lnTo>
                    <a:pt x="4594" y="898"/>
                  </a:lnTo>
                  <a:lnTo>
                    <a:pt x="4550" y="912"/>
                  </a:lnTo>
                  <a:lnTo>
                    <a:pt x="4502" y="927"/>
                  </a:lnTo>
                  <a:lnTo>
                    <a:pt x="4455" y="938"/>
                  </a:lnTo>
                  <a:lnTo>
                    <a:pt x="4405" y="948"/>
                  </a:lnTo>
                  <a:lnTo>
                    <a:pt x="4355" y="956"/>
                  </a:lnTo>
                  <a:lnTo>
                    <a:pt x="4304" y="962"/>
                  </a:lnTo>
                  <a:lnTo>
                    <a:pt x="4250" y="967"/>
                  </a:lnTo>
                  <a:lnTo>
                    <a:pt x="4196" y="969"/>
                  </a:lnTo>
                  <a:lnTo>
                    <a:pt x="4140" y="970"/>
                  </a:lnTo>
                  <a:lnTo>
                    <a:pt x="4083" y="967"/>
                  </a:lnTo>
                  <a:lnTo>
                    <a:pt x="4023" y="964"/>
                  </a:lnTo>
                  <a:lnTo>
                    <a:pt x="3964" y="957"/>
                  </a:lnTo>
                  <a:lnTo>
                    <a:pt x="3903" y="948"/>
                  </a:lnTo>
                  <a:lnTo>
                    <a:pt x="3840" y="936"/>
                  </a:lnTo>
                  <a:lnTo>
                    <a:pt x="3775" y="922"/>
                  </a:lnTo>
                  <a:lnTo>
                    <a:pt x="3710" y="904"/>
                  </a:lnTo>
                  <a:lnTo>
                    <a:pt x="3643" y="885"/>
                  </a:lnTo>
                  <a:lnTo>
                    <a:pt x="3574" y="861"/>
                  </a:lnTo>
                  <a:lnTo>
                    <a:pt x="3504" y="835"/>
                  </a:lnTo>
                  <a:lnTo>
                    <a:pt x="3432" y="806"/>
                  </a:lnTo>
                  <a:lnTo>
                    <a:pt x="3360" y="773"/>
                  </a:lnTo>
                  <a:lnTo>
                    <a:pt x="3285" y="738"/>
                  </a:lnTo>
                  <a:lnTo>
                    <a:pt x="3210" y="699"/>
                  </a:lnTo>
                  <a:lnTo>
                    <a:pt x="3210" y="699"/>
                  </a:lnTo>
                  <a:lnTo>
                    <a:pt x="3059" y="620"/>
                  </a:lnTo>
                  <a:lnTo>
                    <a:pt x="2913" y="547"/>
                  </a:lnTo>
                  <a:lnTo>
                    <a:pt x="2772" y="478"/>
                  </a:lnTo>
                  <a:lnTo>
                    <a:pt x="2636" y="415"/>
                  </a:lnTo>
                  <a:lnTo>
                    <a:pt x="2505" y="357"/>
                  </a:lnTo>
                  <a:lnTo>
                    <a:pt x="2377" y="302"/>
                  </a:lnTo>
                  <a:lnTo>
                    <a:pt x="2253" y="253"/>
                  </a:lnTo>
                  <a:lnTo>
                    <a:pt x="2134" y="208"/>
                  </a:lnTo>
                  <a:lnTo>
                    <a:pt x="2019" y="169"/>
                  </a:lnTo>
                  <a:lnTo>
                    <a:pt x="1906" y="132"/>
                  </a:lnTo>
                  <a:lnTo>
                    <a:pt x="1798" y="102"/>
                  </a:lnTo>
                  <a:lnTo>
                    <a:pt x="1692" y="76"/>
                  </a:lnTo>
                  <a:lnTo>
                    <a:pt x="1590" y="52"/>
                  </a:lnTo>
                  <a:lnTo>
                    <a:pt x="1491" y="34"/>
                  </a:lnTo>
                  <a:lnTo>
                    <a:pt x="1394" y="19"/>
                  </a:lnTo>
                  <a:lnTo>
                    <a:pt x="1301" y="8"/>
                  </a:lnTo>
                  <a:lnTo>
                    <a:pt x="1209" y="2"/>
                  </a:lnTo>
                  <a:lnTo>
                    <a:pt x="1119" y="0"/>
                  </a:lnTo>
                  <a:lnTo>
                    <a:pt x="1031" y="0"/>
                  </a:lnTo>
                  <a:lnTo>
                    <a:pt x="945" y="5"/>
                  </a:lnTo>
                  <a:lnTo>
                    <a:pt x="862" y="13"/>
                  </a:lnTo>
                  <a:lnTo>
                    <a:pt x="780" y="24"/>
                  </a:lnTo>
                  <a:lnTo>
                    <a:pt x="698" y="39"/>
                  </a:lnTo>
                  <a:lnTo>
                    <a:pt x="619" y="56"/>
                  </a:lnTo>
                  <a:lnTo>
                    <a:pt x="540" y="79"/>
                  </a:lnTo>
                  <a:lnTo>
                    <a:pt x="461" y="103"/>
                  </a:lnTo>
                  <a:lnTo>
                    <a:pt x="384" y="131"/>
                  </a:lnTo>
                  <a:lnTo>
                    <a:pt x="307" y="161"/>
                  </a:lnTo>
                  <a:lnTo>
                    <a:pt x="230" y="194"/>
                  </a:lnTo>
                  <a:lnTo>
                    <a:pt x="153" y="231"/>
                  </a:lnTo>
                  <a:lnTo>
                    <a:pt x="76" y="270"/>
                  </a:lnTo>
                  <a:lnTo>
                    <a:pt x="0" y="31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9433400">
              <a:off x="2023200" y="-251640"/>
              <a:ext cx="10903680" cy="2013120"/>
            </a:xfrm>
            <a:custGeom>
              <a:avLst/>
              <a:gdLst/>
              <a:ahLst/>
              <a:rect l="l" t="t" r="r" b="b"/>
              <a:pathLst>
                <a:path w="5451" h="930">
                  <a:moveTo>
                    <a:pt x="5451" y="0"/>
                  </a:moveTo>
                  <a:lnTo>
                    <a:pt x="5451" y="0"/>
                  </a:lnTo>
                  <a:lnTo>
                    <a:pt x="5444" y="18"/>
                  </a:lnTo>
                  <a:lnTo>
                    <a:pt x="5423" y="63"/>
                  </a:lnTo>
                  <a:lnTo>
                    <a:pt x="5406" y="97"/>
                  </a:lnTo>
                  <a:lnTo>
                    <a:pt x="5386" y="134"/>
                  </a:lnTo>
                  <a:lnTo>
                    <a:pt x="5362" y="177"/>
                  </a:lnTo>
                  <a:lnTo>
                    <a:pt x="5334" y="224"/>
                  </a:lnTo>
                  <a:lnTo>
                    <a:pt x="5301" y="274"/>
                  </a:lnTo>
                  <a:lnTo>
                    <a:pt x="5265" y="326"/>
                  </a:lnTo>
                  <a:lnTo>
                    <a:pt x="5223" y="381"/>
                  </a:lnTo>
                  <a:lnTo>
                    <a:pt x="5179" y="436"/>
                  </a:lnTo>
                  <a:lnTo>
                    <a:pt x="5129" y="491"/>
                  </a:lnTo>
                  <a:lnTo>
                    <a:pt x="5102" y="518"/>
                  </a:lnTo>
                  <a:lnTo>
                    <a:pt x="5075" y="546"/>
                  </a:lnTo>
                  <a:lnTo>
                    <a:pt x="5046" y="573"/>
                  </a:lnTo>
                  <a:lnTo>
                    <a:pt x="5015" y="600"/>
                  </a:lnTo>
                  <a:lnTo>
                    <a:pt x="4983" y="628"/>
                  </a:lnTo>
                  <a:lnTo>
                    <a:pt x="4951" y="654"/>
                  </a:lnTo>
                  <a:lnTo>
                    <a:pt x="4918" y="678"/>
                  </a:lnTo>
                  <a:lnTo>
                    <a:pt x="4883" y="704"/>
                  </a:lnTo>
                  <a:lnTo>
                    <a:pt x="4847" y="726"/>
                  </a:lnTo>
                  <a:lnTo>
                    <a:pt x="4809" y="751"/>
                  </a:lnTo>
                  <a:lnTo>
                    <a:pt x="4771" y="772"/>
                  </a:lnTo>
                  <a:lnTo>
                    <a:pt x="4730" y="793"/>
                  </a:lnTo>
                  <a:lnTo>
                    <a:pt x="4689" y="814"/>
                  </a:lnTo>
                  <a:lnTo>
                    <a:pt x="4647" y="831"/>
                  </a:lnTo>
                  <a:lnTo>
                    <a:pt x="4603" y="849"/>
                  </a:lnTo>
                  <a:lnTo>
                    <a:pt x="4558" y="865"/>
                  </a:lnTo>
                  <a:lnTo>
                    <a:pt x="4512" y="880"/>
                  </a:lnTo>
                  <a:lnTo>
                    <a:pt x="4464" y="891"/>
                  </a:lnTo>
                  <a:lnTo>
                    <a:pt x="4415" y="902"/>
                  </a:lnTo>
                  <a:lnTo>
                    <a:pt x="4365" y="912"/>
                  </a:lnTo>
                  <a:lnTo>
                    <a:pt x="4312" y="920"/>
                  </a:lnTo>
                  <a:lnTo>
                    <a:pt x="4260" y="925"/>
                  </a:lnTo>
                  <a:lnTo>
                    <a:pt x="4206" y="928"/>
                  </a:lnTo>
                  <a:lnTo>
                    <a:pt x="4150" y="930"/>
                  </a:lnTo>
                  <a:lnTo>
                    <a:pt x="4092" y="930"/>
                  </a:lnTo>
                  <a:lnTo>
                    <a:pt x="4033" y="927"/>
                  </a:lnTo>
                  <a:lnTo>
                    <a:pt x="3974" y="920"/>
                  </a:lnTo>
                  <a:lnTo>
                    <a:pt x="3911" y="912"/>
                  </a:lnTo>
                  <a:lnTo>
                    <a:pt x="3849" y="902"/>
                  </a:lnTo>
                  <a:lnTo>
                    <a:pt x="3785" y="889"/>
                  </a:lnTo>
                  <a:lnTo>
                    <a:pt x="3718" y="873"/>
                  </a:lnTo>
                  <a:lnTo>
                    <a:pt x="3652" y="854"/>
                  </a:lnTo>
                  <a:lnTo>
                    <a:pt x="3582" y="833"/>
                  </a:lnTo>
                  <a:lnTo>
                    <a:pt x="3511" y="809"/>
                  </a:lnTo>
                  <a:lnTo>
                    <a:pt x="3440" y="780"/>
                  </a:lnTo>
                  <a:lnTo>
                    <a:pt x="3367" y="749"/>
                  </a:lnTo>
                  <a:lnTo>
                    <a:pt x="3292" y="715"/>
                  </a:lnTo>
                  <a:lnTo>
                    <a:pt x="3216" y="678"/>
                  </a:lnTo>
                  <a:lnTo>
                    <a:pt x="3216" y="678"/>
                  </a:lnTo>
                  <a:lnTo>
                    <a:pt x="3063" y="602"/>
                  </a:lnTo>
                  <a:lnTo>
                    <a:pt x="2917" y="531"/>
                  </a:lnTo>
                  <a:lnTo>
                    <a:pt x="2774" y="465"/>
                  </a:lnTo>
                  <a:lnTo>
                    <a:pt x="2638" y="403"/>
                  </a:lnTo>
                  <a:lnTo>
                    <a:pt x="2505" y="347"/>
                  </a:lnTo>
                  <a:lnTo>
                    <a:pt x="2377" y="295"/>
                  </a:lnTo>
                  <a:lnTo>
                    <a:pt x="2252" y="248"/>
                  </a:lnTo>
                  <a:lnTo>
                    <a:pt x="2133" y="206"/>
                  </a:lnTo>
                  <a:lnTo>
                    <a:pt x="2016" y="168"/>
                  </a:lnTo>
                  <a:lnTo>
                    <a:pt x="1903" y="135"/>
                  </a:lnTo>
                  <a:lnTo>
                    <a:pt x="1795" y="106"/>
                  </a:lnTo>
                  <a:lnTo>
                    <a:pt x="1688" y="81"/>
                  </a:lnTo>
                  <a:lnTo>
                    <a:pt x="1587" y="60"/>
                  </a:lnTo>
                  <a:lnTo>
                    <a:pt x="1487" y="43"/>
                  </a:lnTo>
                  <a:lnTo>
                    <a:pt x="1390" y="30"/>
                  </a:lnTo>
                  <a:lnTo>
                    <a:pt x="1295" y="22"/>
                  </a:lnTo>
                  <a:lnTo>
                    <a:pt x="1204" y="18"/>
                  </a:lnTo>
                  <a:lnTo>
                    <a:pt x="1115" y="16"/>
                  </a:lnTo>
                  <a:lnTo>
                    <a:pt x="1027" y="19"/>
                  </a:lnTo>
                  <a:lnTo>
                    <a:pt x="941" y="26"/>
                  </a:lnTo>
                  <a:lnTo>
                    <a:pt x="858" y="35"/>
                  </a:lnTo>
                  <a:lnTo>
                    <a:pt x="775" y="48"/>
                  </a:lnTo>
                  <a:lnTo>
                    <a:pt x="694" y="64"/>
                  </a:lnTo>
                  <a:lnTo>
                    <a:pt x="615" y="85"/>
                  </a:lnTo>
                  <a:lnTo>
                    <a:pt x="536" y="108"/>
                  </a:lnTo>
                  <a:lnTo>
                    <a:pt x="458" y="134"/>
                  </a:lnTo>
                  <a:lnTo>
                    <a:pt x="382" y="163"/>
                  </a:lnTo>
                  <a:lnTo>
                    <a:pt x="304" y="195"/>
                  </a:lnTo>
                  <a:lnTo>
                    <a:pt x="228" y="231"/>
                  </a:lnTo>
                  <a:lnTo>
                    <a:pt x="153" y="268"/>
                  </a:lnTo>
                  <a:lnTo>
                    <a:pt x="76" y="310"/>
                  </a:lnTo>
                  <a:lnTo>
                    <a:pt x="0" y="35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9433400">
              <a:off x="2018520" y="-392400"/>
              <a:ext cx="10896120" cy="2086920"/>
            </a:xfrm>
            <a:custGeom>
              <a:avLst/>
              <a:gdLst/>
              <a:ahLst/>
              <a:rect l="l" t="t" r="r" b="b"/>
              <a:pathLst>
                <a:path w="5447" h="962">
                  <a:moveTo>
                    <a:pt x="5447" y="0"/>
                  </a:moveTo>
                  <a:lnTo>
                    <a:pt x="5447" y="0"/>
                  </a:lnTo>
                  <a:lnTo>
                    <a:pt x="5440" y="17"/>
                  </a:lnTo>
                  <a:lnTo>
                    <a:pt x="5419" y="64"/>
                  </a:lnTo>
                  <a:lnTo>
                    <a:pt x="5402" y="98"/>
                  </a:lnTo>
                  <a:lnTo>
                    <a:pt x="5383" y="137"/>
                  </a:lnTo>
                  <a:lnTo>
                    <a:pt x="5359" y="181"/>
                  </a:lnTo>
                  <a:lnTo>
                    <a:pt x="5332" y="227"/>
                  </a:lnTo>
                  <a:lnTo>
                    <a:pt x="5300" y="279"/>
                  </a:lnTo>
                  <a:lnTo>
                    <a:pt x="5265" y="332"/>
                  </a:lnTo>
                  <a:lnTo>
                    <a:pt x="5225" y="387"/>
                  </a:lnTo>
                  <a:lnTo>
                    <a:pt x="5180" y="444"/>
                  </a:lnTo>
                  <a:lnTo>
                    <a:pt x="5130" y="500"/>
                  </a:lnTo>
                  <a:lnTo>
                    <a:pt x="5105" y="529"/>
                  </a:lnTo>
                  <a:lnTo>
                    <a:pt x="5078" y="557"/>
                  </a:lnTo>
                  <a:lnTo>
                    <a:pt x="5048" y="586"/>
                  </a:lnTo>
                  <a:lnTo>
                    <a:pt x="5019" y="613"/>
                  </a:lnTo>
                  <a:lnTo>
                    <a:pt x="4989" y="641"/>
                  </a:lnTo>
                  <a:lnTo>
                    <a:pt x="4957" y="667"/>
                  </a:lnTo>
                  <a:lnTo>
                    <a:pt x="4923" y="692"/>
                  </a:lnTo>
                  <a:lnTo>
                    <a:pt x="4889" y="718"/>
                  </a:lnTo>
                  <a:lnTo>
                    <a:pt x="4853" y="744"/>
                  </a:lnTo>
                  <a:lnTo>
                    <a:pt x="4815" y="767"/>
                  </a:lnTo>
                  <a:lnTo>
                    <a:pt x="4778" y="791"/>
                  </a:lnTo>
                  <a:lnTo>
                    <a:pt x="4737" y="812"/>
                  </a:lnTo>
                  <a:lnTo>
                    <a:pt x="4697" y="833"/>
                  </a:lnTo>
                  <a:lnTo>
                    <a:pt x="4654" y="852"/>
                  </a:lnTo>
                  <a:lnTo>
                    <a:pt x="4611" y="870"/>
                  </a:lnTo>
                  <a:lnTo>
                    <a:pt x="4567" y="888"/>
                  </a:lnTo>
                  <a:lnTo>
                    <a:pt x="4521" y="902"/>
                  </a:lnTo>
                  <a:lnTo>
                    <a:pt x="4472" y="917"/>
                  </a:lnTo>
                  <a:lnTo>
                    <a:pt x="4424" y="928"/>
                  </a:lnTo>
                  <a:lnTo>
                    <a:pt x="4374" y="939"/>
                  </a:lnTo>
                  <a:lnTo>
                    <a:pt x="4322" y="947"/>
                  </a:lnTo>
                  <a:lnTo>
                    <a:pt x="4270" y="954"/>
                  </a:lnTo>
                  <a:lnTo>
                    <a:pt x="4214" y="959"/>
                  </a:lnTo>
                  <a:lnTo>
                    <a:pt x="4158" y="962"/>
                  </a:lnTo>
                  <a:lnTo>
                    <a:pt x="4102" y="962"/>
                  </a:lnTo>
                  <a:lnTo>
                    <a:pt x="4043" y="960"/>
                  </a:lnTo>
                  <a:lnTo>
                    <a:pt x="3982" y="956"/>
                  </a:lnTo>
                  <a:lnTo>
                    <a:pt x="3921" y="949"/>
                  </a:lnTo>
                  <a:lnTo>
                    <a:pt x="3857" y="939"/>
                  </a:lnTo>
                  <a:lnTo>
                    <a:pt x="3793" y="928"/>
                  </a:lnTo>
                  <a:lnTo>
                    <a:pt x="3727" y="914"/>
                  </a:lnTo>
                  <a:lnTo>
                    <a:pt x="3659" y="896"/>
                  </a:lnTo>
                  <a:lnTo>
                    <a:pt x="3591" y="875"/>
                  </a:lnTo>
                  <a:lnTo>
                    <a:pt x="3520" y="852"/>
                  </a:lnTo>
                  <a:lnTo>
                    <a:pt x="3448" y="825"/>
                  </a:lnTo>
                  <a:lnTo>
                    <a:pt x="3373" y="796"/>
                  </a:lnTo>
                  <a:lnTo>
                    <a:pt x="3298" y="763"/>
                  </a:lnTo>
                  <a:lnTo>
                    <a:pt x="3221" y="726"/>
                  </a:lnTo>
                  <a:lnTo>
                    <a:pt x="3221" y="726"/>
                  </a:lnTo>
                  <a:lnTo>
                    <a:pt x="3067" y="654"/>
                  </a:lnTo>
                  <a:lnTo>
                    <a:pt x="2920" y="586"/>
                  </a:lnTo>
                  <a:lnTo>
                    <a:pt x="2777" y="521"/>
                  </a:lnTo>
                  <a:lnTo>
                    <a:pt x="2640" y="463"/>
                  </a:lnTo>
                  <a:lnTo>
                    <a:pt x="2505" y="410"/>
                  </a:lnTo>
                  <a:lnTo>
                    <a:pt x="2376" y="360"/>
                  </a:lnTo>
                  <a:lnTo>
                    <a:pt x="2252" y="315"/>
                  </a:lnTo>
                  <a:lnTo>
                    <a:pt x="2131" y="276"/>
                  </a:lnTo>
                  <a:lnTo>
                    <a:pt x="2015" y="240"/>
                  </a:lnTo>
                  <a:lnTo>
                    <a:pt x="1901" y="208"/>
                  </a:lnTo>
                  <a:lnTo>
                    <a:pt x="1791" y="181"/>
                  </a:lnTo>
                  <a:lnTo>
                    <a:pt x="1686" y="158"/>
                  </a:lnTo>
                  <a:lnTo>
                    <a:pt x="1583" y="140"/>
                  </a:lnTo>
                  <a:lnTo>
                    <a:pt x="1483" y="124"/>
                  </a:lnTo>
                  <a:lnTo>
                    <a:pt x="1386" y="114"/>
                  </a:lnTo>
                  <a:lnTo>
                    <a:pt x="1291" y="108"/>
                  </a:lnTo>
                  <a:lnTo>
                    <a:pt x="1200" y="105"/>
                  </a:lnTo>
                  <a:lnTo>
                    <a:pt x="1111" y="105"/>
                  </a:lnTo>
                  <a:lnTo>
                    <a:pt x="1023" y="109"/>
                  </a:lnTo>
                  <a:lnTo>
                    <a:pt x="937" y="118"/>
                  </a:lnTo>
                  <a:lnTo>
                    <a:pt x="854" y="129"/>
                  </a:lnTo>
                  <a:lnTo>
                    <a:pt x="772" y="143"/>
                  </a:lnTo>
                  <a:lnTo>
                    <a:pt x="692" y="163"/>
                  </a:lnTo>
                  <a:lnTo>
                    <a:pt x="612" y="184"/>
                  </a:lnTo>
                  <a:lnTo>
                    <a:pt x="533" y="208"/>
                  </a:lnTo>
                  <a:lnTo>
                    <a:pt x="457" y="237"/>
                  </a:lnTo>
                  <a:lnTo>
                    <a:pt x="379" y="268"/>
                  </a:lnTo>
                  <a:lnTo>
                    <a:pt x="303" y="302"/>
                  </a:lnTo>
                  <a:lnTo>
                    <a:pt x="228" y="339"/>
                  </a:lnTo>
                  <a:lnTo>
                    <a:pt x="151" y="378"/>
                  </a:lnTo>
                  <a:lnTo>
                    <a:pt x="76" y="419"/>
                  </a:lnTo>
                  <a:lnTo>
                    <a:pt x="0" y="465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9433400">
              <a:off x="2019240" y="-529920"/>
              <a:ext cx="10879920" cy="2152440"/>
            </a:xfrm>
            <a:custGeom>
              <a:avLst/>
              <a:gdLst/>
              <a:ahLst/>
              <a:rect l="l" t="t" r="r" b="b"/>
              <a:pathLst>
                <a:path w="5439" h="993">
                  <a:moveTo>
                    <a:pt x="5439" y="0"/>
                  </a:moveTo>
                  <a:lnTo>
                    <a:pt x="5439" y="0"/>
                  </a:lnTo>
                  <a:lnTo>
                    <a:pt x="5432" y="18"/>
                  </a:lnTo>
                  <a:lnTo>
                    <a:pt x="5412" y="65"/>
                  </a:lnTo>
                  <a:lnTo>
                    <a:pt x="5397" y="99"/>
                  </a:lnTo>
                  <a:lnTo>
                    <a:pt x="5377" y="137"/>
                  </a:lnTo>
                  <a:lnTo>
                    <a:pt x="5354" y="183"/>
                  </a:lnTo>
                  <a:lnTo>
                    <a:pt x="5327" y="231"/>
                  </a:lnTo>
                  <a:lnTo>
                    <a:pt x="5297" y="283"/>
                  </a:lnTo>
                  <a:lnTo>
                    <a:pt x="5261" y="336"/>
                  </a:lnTo>
                  <a:lnTo>
                    <a:pt x="5222" y="393"/>
                  </a:lnTo>
                  <a:lnTo>
                    <a:pt x="5179" y="451"/>
                  </a:lnTo>
                  <a:lnTo>
                    <a:pt x="5130" y="509"/>
                  </a:lnTo>
                  <a:lnTo>
                    <a:pt x="5104" y="538"/>
                  </a:lnTo>
                  <a:lnTo>
                    <a:pt x="5078" y="567"/>
                  </a:lnTo>
                  <a:lnTo>
                    <a:pt x="5050" y="596"/>
                  </a:lnTo>
                  <a:lnTo>
                    <a:pt x="5021" y="623"/>
                  </a:lnTo>
                  <a:lnTo>
                    <a:pt x="4990" y="652"/>
                  </a:lnTo>
                  <a:lnTo>
                    <a:pt x="4958" y="680"/>
                  </a:lnTo>
                  <a:lnTo>
                    <a:pt x="4925" y="706"/>
                  </a:lnTo>
                  <a:lnTo>
                    <a:pt x="4891" y="733"/>
                  </a:lnTo>
                  <a:lnTo>
                    <a:pt x="4855" y="759"/>
                  </a:lnTo>
                  <a:lnTo>
                    <a:pt x="4819" y="783"/>
                  </a:lnTo>
                  <a:lnTo>
                    <a:pt x="4780" y="808"/>
                  </a:lnTo>
                  <a:lnTo>
                    <a:pt x="4742" y="830"/>
                  </a:lnTo>
                  <a:lnTo>
                    <a:pt x="4701" y="851"/>
                  </a:lnTo>
                  <a:lnTo>
                    <a:pt x="4660" y="872"/>
                  </a:lnTo>
                  <a:lnTo>
                    <a:pt x="4617" y="891"/>
                  </a:lnTo>
                  <a:lnTo>
                    <a:pt x="4572" y="909"/>
                  </a:lnTo>
                  <a:lnTo>
                    <a:pt x="4526" y="925"/>
                  </a:lnTo>
                  <a:lnTo>
                    <a:pt x="4479" y="940"/>
                  </a:lnTo>
                  <a:lnTo>
                    <a:pt x="4429" y="953"/>
                  </a:lnTo>
                  <a:lnTo>
                    <a:pt x="4379" y="966"/>
                  </a:lnTo>
                  <a:lnTo>
                    <a:pt x="4328" y="975"/>
                  </a:lnTo>
                  <a:lnTo>
                    <a:pt x="4275" y="982"/>
                  </a:lnTo>
                  <a:lnTo>
                    <a:pt x="4221" y="988"/>
                  </a:lnTo>
                  <a:lnTo>
                    <a:pt x="4165" y="992"/>
                  </a:lnTo>
                  <a:lnTo>
                    <a:pt x="4108" y="993"/>
                  </a:lnTo>
                  <a:lnTo>
                    <a:pt x="4049" y="993"/>
                  </a:lnTo>
                  <a:lnTo>
                    <a:pt x="3989" y="990"/>
                  </a:lnTo>
                  <a:lnTo>
                    <a:pt x="3927" y="984"/>
                  </a:lnTo>
                  <a:lnTo>
                    <a:pt x="3864" y="975"/>
                  </a:lnTo>
                  <a:lnTo>
                    <a:pt x="3799" y="966"/>
                  </a:lnTo>
                  <a:lnTo>
                    <a:pt x="3732" y="951"/>
                  </a:lnTo>
                  <a:lnTo>
                    <a:pt x="3666" y="935"/>
                  </a:lnTo>
                  <a:lnTo>
                    <a:pt x="3595" y="917"/>
                  </a:lnTo>
                  <a:lnTo>
                    <a:pt x="3524" y="895"/>
                  </a:lnTo>
                  <a:lnTo>
                    <a:pt x="3452" y="869"/>
                  </a:lnTo>
                  <a:lnTo>
                    <a:pt x="3377" y="841"/>
                  </a:lnTo>
                  <a:lnTo>
                    <a:pt x="3302" y="809"/>
                  </a:lnTo>
                  <a:lnTo>
                    <a:pt x="3224" y="775"/>
                  </a:lnTo>
                  <a:lnTo>
                    <a:pt x="3224" y="775"/>
                  </a:lnTo>
                  <a:lnTo>
                    <a:pt x="3070" y="704"/>
                  </a:lnTo>
                  <a:lnTo>
                    <a:pt x="2921" y="638"/>
                  </a:lnTo>
                  <a:lnTo>
                    <a:pt x="2777" y="578"/>
                  </a:lnTo>
                  <a:lnTo>
                    <a:pt x="2638" y="522"/>
                  </a:lnTo>
                  <a:lnTo>
                    <a:pt x="2503" y="470"/>
                  </a:lnTo>
                  <a:lnTo>
                    <a:pt x="2374" y="423"/>
                  </a:lnTo>
                  <a:lnTo>
                    <a:pt x="2249" y="381"/>
                  </a:lnTo>
                  <a:lnTo>
                    <a:pt x="2127" y="342"/>
                  </a:lnTo>
                  <a:lnTo>
                    <a:pt x="2010" y="310"/>
                  </a:lnTo>
                  <a:lnTo>
                    <a:pt x="1897" y="281"/>
                  </a:lnTo>
                  <a:lnTo>
                    <a:pt x="1787" y="255"/>
                  </a:lnTo>
                  <a:lnTo>
                    <a:pt x="1680" y="234"/>
                  </a:lnTo>
                  <a:lnTo>
                    <a:pt x="1577" y="218"/>
                  </a:lnTo>
                  <a:lnTo>
                    <a:pt x="1477" y="205"/>
                  </a:lnTo>
                  <a:lnTo>
                    <a:pt x="1380" y="197"/>
                  </a:lnTo>
                  <a:lnTo>
                    <a:pt x="1286" y="191"/>
                  </a:lnTo>
                  <a:lnTo>
                    <a:pt x="1194" y="191"/>
                  </a:lnTo>
                  <a:lnTo>
                    <a:pt x="1104" y="192"/>
                  </a:lnTo>
                  <a:lnTo>
                    <a:pt x="1018" y="199"/>
                  </a:lnTo>
                  <a:lnTo>
                    <a:pt x="932" y="208"/>
                  </a:lnTo>
                  <a:lnTo>
                    <a:pt x="848" y="221"/>
                  </a:lnTo>
                  <a:lnTo>
                    <a:pt x="766" y="239"/>
                  </a:lnTo>
                  <a:lnTo>
                    <a:pt x="686" y="259"/>
                  </a:lnTo>
                  <a:lnTo>
                    <a:pt x="607" y="283"/>
                  </a:lnTo>
                  <a:lnTo>
                    <a:pt x="529" y="309"/>
                  </a:lnTo>
                  <a:lnTo>
                    <a:pt x="453" y="338"/>
                  </a:lnTo>
                  <a:lnTo>
                    <a:pt x="376" y="372"/>
                  </a:lnTo>
                  <a:lnTo>
                    <a:pt x="300" y="407"/>
                  </a:lnTo>
                  <a:lnTo>
                    <a:pt x="225" y="446"/>
                  </a:lnTo>
                  <a:lnTo>
                    <a:pt x="150" y="486"/>
                  </a:lnTo>
                  <a:lnTo>
                    <a:pt x="75" y="531"/>
                  </a:lnTo>
                  <a:lnTo>
                    <a:pt x="0" y="57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9433400">
              <a:off x="2021400" y="-670320"/>
              <a:ext cx="10859760" cy="2221200"/>
            </a:xfrm>
            <a:custGeom>
              <a:avLst/>
              <a:gdLst/>
              <a:ahLst/>
              <a:rect l="l" t="t" r="r" b="b"/>
              <a:pathLst>
                <a:path w="5429" h="1025">
                  <a:moveTo>
                    <a:pt x="5429" y="0"/>
                  </a:moveTo>
                  <a:lnTo>
                    <a:pt x="5429" y="0"/>
                  </a:lnTo>
                  <a:lnTo>
                    <a:pt x="5422" y="18"/>
                  </a:lnTo>
                  <a:lnTo>
                    <a:pt x="5403" y="66"/>
                  </a:lnTo>
                  <a:lnTo>
                    <a:pt x="5389" y="100"/>
                  </a:lnTo>
                  <a:lnTo>
                    <a:pt x="5369" y="141"/>
                  </a:lnTo>
                  <a:lnTo>
                    <a:pt x="5347" y="186"/>
                  </a:lnTo>
                  <a:lnTo>
                    <a:pt x="5321" y="234"/>
                  </a:lnTo>
                  <a:lnTo>
                    <a:pt x="5292" y="287"/>
                  </a:lnTo>
                  <a:lnTo>
                    <a:pt x="5257" y="342"/>
                  </a:lnTo>
                  <a:lnTo>
                    <a:pt x="5218" y="399"/>
                  </a:lnTo>
                  <a:lnTo>
                    <a:pt x="5176" y="459"/>
                  </a:lnTo>
                  <a:lnTo>
                    <a:pt x="5129" y="518"/>
                  </a:lnTo>
                  <a:lnTo>
                    <a:pt x="5103" y="547"/>
                  </a:lnTo>
                  <a:lnTo>
                    <a:pt x="5076" y="576"/>
                  </a:lnTo>
                  <a:lnTo>
                    <a:pt x="5049" y="607"/>
                  </a:lnTo>
                  <a:lnTo>
                    <a:pt x="5021" y="636"/>
                  </a:lnTo>
                  <a:lnTo>
                    <a:pt x="4990" y="665"/>
                  </a:lnTo>
                  <a:lnTo>
                    <a:pt x="4958" y="693"/>
                  </a:lnTo>
                  <a:lnTo>
                    <a:pt x="4927" y="720"/>
                  </a:lnTo>
                  <a:lnTo>
                    <a:pt x="4893" y="748"/>
                  </a:lnTo>
                  <a:lnTo>
                    <a:pt x="4857" y="775"/>
                  </a:lnTo>
                  <a:lnTo>
                    <a:pt x="4821" y="799"/>
                  </a:lnTo>
                  <a:lnTo>
                    <a:pt x="4784" y="825"/>
                  </a:lnTo>
                  <a:lnTo>
                    <a:pt x="4745" y="848"/>
                  </a:lnTo>
                  <a:lnTo>
                    <a:pt x="4704" y="870"/>
                  </a:lnTo>
                  <a:lnTo>
                    <a:pt x="4663" y="893"/>
                  </a:lnTo>
                  <a:lnTo>
                    <a:pt x="4620" y="912"/>
                  </a:lnTo>
                  <a:lnTo>
                    <a:pt x="4577" y="932"/>
                  </a:lnTo>
                  <a:lnTo>
                    <a:pt x="4531" y="949"/>
                  </a:lnTo>
                  <a:lnTo>
                    <a:pt x="4484" y="964"/>
                  </a:lnTo>
                  <a:lnTo>
                    <a:pt x="4435" y="979"/>
                  </a:lnTo>
                  <a:lnTo>
                    <a:pt x="4385" y="991"/>
                  </a:lnTo>
                  <a:lnTo>
                    <a:pt x="4334" y="1003"/>
                  </a:lnTo>
                  <a:lnTo>
                    <a:pt x="4281" y="1011"/>
                  </a:lnTo>
                  <a:lnTo>
                    <a:pt x="4227" y="1017"/>
                  </a:lnTo>
                  <a:lnTo>
                    <a:pt x="4171" y="1022"/>
                  </a:lnTo>
                  <a:lnTo>
                    <a:pt x="4114" y="1025"/>
                  </a:lnTo>
                  <a:lnTo>
                    <a:pt x="4055" y="1025"/>
                  </a:lnTo>
                  <a:lnTo>
                    <a:pt x="3995" y="1024"/>
                  </a:lnTo>
                  <a:lnTo>
                    <a:pt x="3932" y="1021"/>
                  </a:lnTo>
                  <a:lnTo>
                    <a:pt x="3870" y="1012"/>
                  </a:lnTo>
                  <a:lnTo>
                    <a:pt x="3805" y="1004"/>
                  </a:lnTo>
                  <a:lnTo>
                    <a:pt x="3738" y="991"/>
                  </a:lnTo>
                  <a:lnTo>
                    <a:pt x="3670" y="977"/>
                  </a:lnTo>
                  <a:lnTo>
                    <a:pt x="3601" y="959"/>
                  </a:lnTo>
                  <a:lnTo>
                    <a:pt x="3528" y="938"/>
                  </a:lnTo>
                  <a:lnTo>
                    <a:pt x="3456" y="914"/>
                  </a:lnTo>
                  <a:lnTo>
                    <a:pt x="3381" y="888"/>
                  </a:lnTo>
                  <a:lnTo>
                    <a:pt x="3305" y="857"/>
                  </a:lnTo>
                  <a:lnTo>
                    <a:pt x="3227" y="824"/>
                  </a:lnTo>
                  <a:lnTo>
                    <a:pt x="3227" y="824"/>
                  </a:lnTo>
                  <a:lnTo>
                    <a:pt x="3072" y="756"/>
                  </a:lnTo>
                  <a:lnTo>
                    <a:pt x="2922" y="693"/>
                  </a:lnTo>
                  <a:lnTo>
                    <a:pt x="2777" y="635"/>
                  </a:lnTo>
                  <a:lnTo>
                    <a:pt x="2637" y="581"/>
                  </a:lnTo>
                  <a:lnTo>
                    <a:pt x="2502" y="533"/>
                  </a:lnTo>
                  <a:lnTo>
                    <a:pt x="2372" y="488"/>
                  </a:lnTo>
                  <a:lnTo>
                    <a:pt x="2245" y="447"/>
                  </a:lnTo>
                  <a:lnTo>
                    <a:pt x="2123" y="412"/>
                  </a:lnTo>
                  <a:lnTo>
                    <a:pt x="2005" y="381"/>
                  </a:lnTo>
                  <a:lnTo>
                    <a:pt x="1891" y="354"/>
                  </a:lnTo>
                  <a:lnTo>
                    <a:pt x="1782" y="331"/>
                  </a:lnTo>
                  <a:lnTo>
                    <a:pt x="1675" y="313"/>
                  </a:lnTo>
                  <a:lnTo>
                    <a:pt x="1572" y="297"/>
                  </a:lnTo>
                  <a:lnTo>
                    <a:pt x="1472" y="287"/>
                  </a:lnTo>
                  <a:lnTo>
                    <a:pt x="1375" y="279"/>
                  </a:lnTo>
                  <a:lnTo>
                    <a:pt x="1281" y="278"/>
                  </a:lnTo>
                  <a:lnTo>
                    <a:pt x="1187" y="278"/>
                  </a:lnTo>
                  <a:lnTo>
                    <a:pt x="1099" y="283"/>
                  </a:lnTo>
                  <a:lnTo>
                    <a:pt x="1011" y="291"/>
                  </a:lnTo>
                  <a:lnTo>
                    <a:pt x="926" y="302"/>
                  </a:lnTo>
                  <a:lnTo>
                    <a:pt x="843" y="317"/>
                  </a:lnTo>
                  <a:lnTo>
                    <a:pt x="761" y="336"/>
                  </a:lnTo>
                  <a:lnTo>
                    <a:pt x="682" y="357"/>
                  </a:lnTo>
                  <a:lnTo>
                    <a:pt x="603" y="383"/>
                  </a:lnTo>
                  <a:lnTo>
                    <a:pt x="525" y="410"/>
                  </a:lnTo>
                  <a:lnTo>
                    <a:pt x="449" y="441"/>
                  </a:lnTo>
                  <a:lnTo>
                    <a:pt x="372" y="476"/>
                  </a:lnTo>
                  <a:lnTo>
                    <a:pt x="298" y="514"/>
                  </a:lnTo>
                  <a:lnTo>
                    <a:pt x="224" y="554"/>
                  </a:lnTo>
                  <a:lnTo>
                    <a:pt x="149" y="596"/>
                  </a:lnTo>
                  <a:lnTo>
                    <a:pt x="75" y="643"/>
                  </a:lnTo>
                  <a:lnTo>
                    <a:pt x="0" y="691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9433400">
              <a:off x="2027520" y="-813960"/>
              <a:ext cx="10838160" cy="2295000"/>
            </a:xfrm>
            <a:custGeom>
              <a:avLst/>
              <a:gdLst/>
              <a:ahLst/>
              <a:rect l="l" t="t" r="r" b="b"/>
              <a:pathLst>
                <a:path w="5418" h="1059">
                  <a:moveTo>
                    <a:pt x="5418" y="0"/>
                  </a:moveTo>
                  <a:lnTo>
                    <a:pt x="5418" y="0"/>
                  </a:lnTo>
                  <a:lnTo>
                    <a:pt x="5411" y="18"/>
                  </a:lnTo>
                  <a:lnTo>
                    <a:pt x="5393" y="68"/>
                  </a:lnTo>
                  <a:lnTo>
                    <a:pt x="5377" y="102"/>
                  </a:lnTo>
                  <a:lnTo>
                    <a:pt x="5361" y="142"/>
                  </a:lnTo>
                  <a:lnTo>
                    <a:pt x="5339" y="189"/>
                  </a:lnTo>
                  <a:lnTo>
                    <a:pt x="5314" y="237"/>
                  </a:lnTo>
                  <a:lnTo>
                    <a:pt x="5284" y="292"/>
                  </a:lnTo>
                  <a:lnTo>
                    <a:pt x="5251" y="347"/>
                  </a:lnTo>
                  <a:lnTo>
                    <a:pt x="5214" y="407"/>
                  </a:lnTo>
                  <a:lnTo>
                    <a:pt x="5171" y="467"/>
                  </a:lnTo>
                  <a:lnTo>
                    <a:pt x="5125" y="526"/>
                  </a:lnTo>
                  <a:lnTo>
                    <a:pt x="5100" y="557"/>
                  </a:lnTo>
                  <a:lnTo>
                    <a:pt x="5073" y="588"/>
                  </a:lnTo>
                  <a:lnTo>
                    <a:pt x="5047" y="618"/>
                  </a:lnTo>
                  <a:lnTo>
                    <a:pt x="5018" y="647"/>
                  </a:lnTo>
                  <a:lnTo>
                    <a:pt x="4989" y="676"/>
                  </a:lnTo>
                  <a:lnTo>
                    <a:pt x="4958" y="706"/>
                  </a:lnTo>
                  <a:lnTo>
                    <a:pt x="4926" y="735"/>
                  </a:lnTo>
                  <a:lnTo>
                    <a:pt x="4893" y="762"/>
                  </a:lnTo>
                  <a:lnTo>
                    <a:pt x="4858" y="789"/>
                  </a:lnTo>
                  <a:lnTo>
                    <a:pt x="4822" y="817"/>
                  </a:lnTo>
                  <a:lnTo>
                    <a:pt x="4785" y="843"/>
                  </a:lnTo>
                  <a:lnTo>
                    <a:pt x="4746" y="867"/>
                  </a:lnTo>
                  <a:lnTo>
                    <a:pt x="4707" y="890"/>
                  </a:lnTo>
                  <a:lnTo>
                    <a:pt x="4665" y="912"/>
                  </a:lnTo>
                  <a:lnTo>
                    <a:pt x="4622" y="933"/>
                  </a:lnTo>
                  <a:lnTo>
                    <a:pt x="4579" y="954"/>
                  </a:lnTo>
                  <a:lnTo>
                    <a:pt x="4533" y="972"/>
                  </a:lnTo>
                  <a:lnTo>
                    <a:pt x="4486" y="990"/>
                  </a:lnTo>
                  <a:lnTo>
                    <a:pt x="4437" y="1004"/>
                  </a:lnTo>
                  <a:lnTo>
                    <a:pt x="4389" y="1019"/>
                  </a:lnTo>
                  <a:lnTo>
                    <a:pt x="4338" y="1030"/>
                  </a:lnTo>
                  <a:lnTo>
                    <a:pt x="4285" y="1040"/>
                  </a:lnTo>
                  <a:lnTo>
                    <a:pt x="4231" y="1048"/>
                  </a:lnTo>
                  <a:lnTo>
                    <a:pt x="4175" y="1054"/>
                  </a:lnTo>
                  <a:lnTo>
                    <a:pt x="4118" y="1058"/>
                  </a:lnTo>
                  <a:lnTo>
                    <a:pt x="4058" y="1059"/>
                  </a:lnTo>
                  <a:lnTo>
                    <a:pt x="3999" y="1059"/>
                  </a:lnTo>
                  <a:lnTo>
                    <a:pt x="3936" y="1056"/>
                  </a:lnTo>
                  <a:lnTo>
                    <a:pt x="3874" y="1049"/>
                  </a:lnTo>
                  <a:lnTo>
                    <a:pt x="3809" y="1041"/>
                  </a:lnTo>
                  <a:lnTo>
                    <a:pt x="3742" y="1032"/>
                  </a:lnTo>
                  <a:lnTo>
                    <a:pt x="3672" y="1017"/>
                  </a:lnTo>
                  <a:lnTo>
                    <a:pt x="3603" y="1001"/>
                  </a:lnTo>
                  <a:lnTo>
                    <a:pt x="3531" y="982"/>
                  </a:lnTo>
                  <a:lnTo>
                    <a:pt x="3459" y="959"/>
                  </a:lnTo>
                  <a:lnTo>
                    <a:pt x="3382" y="933"/>
                  </a:lnTo>
                  <a:lnTo>
                    <a:pt x="3306" y="906"/>
                  </a:lnTo>
                  <a:lnTo>
                    <a:pt x="3228" y="873"/>
                  </a:lnTo>
                  <a:lnTo>
                    <a:pt x="3228" y="873"/>
                  </a:lnTo>
                  <a:lnTo>
                    <a:pt x="3071" y="809"/>
                  </a:lnTo>
                  <a:lnTo>
                    <a:pt x="2920" y="748"/>
                  </a:lnTo>
                  <a:lnTo>
                    <a:pt x="2776" y="693"/>
                  </a:lnTo>
                  <a:lnTo>
                    <a:pt x="2634" y="641"/>
                  </a:lnTo>
                  <a:lnTo>
                    <a:pt x="2499" y="596"/>
                  </a:lnTo>
                  <a:lnTo>
                    <a:pt x="2367" y="552"/>
                  </a:lnTo>
                  <a:lnTo>
                    <a:pt x="2241" y="515"/>
                  </a:lnTo>
                  <a:lnTo>
                    <a:pt x="2119" y="483"/>
                  </a:lnTo>
                  <a:lnTo>
                    <a:pt x="2001" y="454"/>
                  </a:lnTo>
                  <a:lnTo>
                    <a:pt x="1886" y="428"/>
                  </a:lnTo>
                  <a:lnTo>
                    <a:pt x="1776" y="407"/>
                  </a:lnTo>
                  <a:lnTo>
                    <a:pt x="1669" y="391"/>
                  </a:lnTo>
                  <a:lnTo>
                    <a:pt x="1565" y="378"/>
                  </a:lnTo>
                  <a:lnTo>
                    <a:pt x="1465" y="370"/>
                  </a:lnTo>
                  <a:lnTo>
                    <a:pt x="1368" y="365"/>
                  </a:lnTo>
                  <a:lnTo>
                    <a:pt x="1273" y="363"/>
                  </a:lnTo>
                  <a:lnTo>
                    <a:pt x="1182" y="366"/>
                  </a:lnTo>
                  <a:lnTo>
                    <a:pt x="1091" y="371"/>
                  </a:lnTo>
                  <a:lnTo>
                    <a:pt x="1005" y="381"/>
                  </a:lnTo>
                  <a:lnTo>
                    <a:pt x="919" y="396"/>
                  </a:lnTo>
                  <a:lnTo>
                    <a:pt x="837" y="412"/>
                  </a:lnTo>
                  <a:lnTo>
                    <a:pt x="755" y="433"/>
                  </a:lnTo>
                  <a:lnTo>
                    <a:pt x="676" y="455"/>
                  </a:lnTo>
                  <a:lnTo>
                    <a:pt x="597" y="483"/>
                  </a:lnTo>
                  <a:lnTo>
                    <a:pt x="521" y="512"/>
                  </a:lnTo>
                  <a:lnTo>
                    <a:pt x="444" y="546"/>
                  </a:lnTo>
                  <a:lnTo>
                    <a:pt x="369" y="581"/>
                  </a:lnTo>
                  <a:lnTo>
                    <a:pt x="294" y="620"/>
                  </a:lnTo>
                  <a:lnTo>
                    <a:pt x="221" y="662"/>
                  </a:lnTo>
                  <a:lnTo>
                    <a:pt x="147" y="707"/>
                  </a:lnTo>
                  <a:lnTo>
                    <a:pt x="74" y="754"/>
                  </a:lnTo>
                  <a:lnTo>
                    <a:pt x="0" y="80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433400">
              <a:off x="2036160" y="-952560"/>
              <a:ext cx="10810080" cy="2360880"/>
            </a:xfrm>
            <a:custGeom>
              <a:avLst/>
              <a:gdLst/>
              <a:ahLst/>
              <a:rect l="l" t="t" r="r" b="b"/>
              <a:pathLst>
                <a:path w="5404" h="1092">
                  <a:moveTo>
                    <a:pt x="5404" y="0"/>
                  </a:moveTo>
                  <a:lnTo>
                    <a:pt x="5404" y="0"/>
                  </a:lnTo>
                  <a:lnTo>
                    <a:pt x="5398" y="18"/>
                  </a:lnTo>
                  <a:lnTo>
                    <a:pt x="5380" y="68"/>
                  </a:lnTo>
                  <a:lnTo>
                    <a:pt x="5366" y="104"/>
                  </a:lnTo>
                  <a:lnTo>
                    <a:pt x="5350" y="144"/>
                  </a:lnTo>
                  <a:lnTo>
                    <a:pt x="5329" y="191"/>
                  </a:lnTo>
                  <a:lnTo>
                    <a:pt x="5304" y="241"/>
                  </a:lnTo>
                  <a:lnTo>
                    <a:pt x="5275" y="294"/>
                  </a:lnTo>
                  <a:lnTo>
                    <a:pt x="5243" y="352"/>
                  </a:lnTo>
                  <a:lnTo>
                    <a:pt x="5207" y="412"/>
                  </a:lnTo>
                  <a:lnTo>
                    <a:pt x="5165" y="473"/>
                  </a:lnTo>
                  <a:lnTo>
                    <a:pt x="5119" y="535"/>
                  </a:lnTo>
                  <a:lnTo>
                    <a:pt x="5096" y="566"/>
                  </a:lnTo>
                  <a:lnTo>
                    <a:pt x="5069" y="596"/>
                  </a:lnTo>
                  <a:lnTo>
                    <a:pt x="5043" y="627"/>
                  </a:lnTo>
                  <a:lnTo>
                    <a:pt x="5015" y="658"/>
                  </a:lnTo>
                  <a:lnTo>
                    <a:pt x="4986" y="688"/>
                  </a:lnTo>
                  <a:lnTo>
                    <a:pt x="4955" y="719"/>
                  </a:lnTo>
                  <a:lnTo>
                    <a:pt x="4924" y="748"/>
                  </a:lnTo>
                  <a:lnTo>
                    <a:pt x="4892" y="777"/>
                  </a:lnTo>
                  <a:lnTo>
                    <a:pt x="4857" y="805"/>
                  </a:lnTo>
                  <a:lnTo>
                    <a:pt x="4821" y="832"/>
                  </a:lnTo>
                  <a:lnTo>
                    <a:pt x="4785" y="858"/>
                  </a:lnTo>
                  <a:lnTo>
                    <a:pt x="4746" y="884"/>
                  </a:lnTo>
                  <a:lnTo>
                    <a:pt x="4707" y="908"/>
                  </a:lnTo>
                  <a:lnTo>
                    <a:pt x="4667" y="932"/>
                  </a:lnTo>
                  <a:lnTo>
                    <a:pt x="4624" y="955"/>
                  </a:lnTo>
                  <a:lnTo>
                    <a:pt x="4581" y="974"/>
                  </a:lnTo>
                  <a:lnTo>
                    <a:pt x="4535" y="995"/>
                  </a:lnTo>
                  <a:lnTo>
                    <a:pt x="4489" y="1013"/>
                  </a:lnTo>
                  <a:lnTo>
                    <a:pt x="4440" y="1029"/>
                  </a:lnTo>
                  <a:lnTo>
                    <a:pt x="4390" y="1043"/>
                  </a:lnTo>
                  <a:lnTo>
                    <a:pt x="4340" y="1056"/>
                  </a:lnTo>
                  <a:lnTo>
                    <a:pt x="4288" y="1068"/>
                  </a:lnTo>
                  <a:lnTo>
                    <a:pt x="4233" y="1076"/>
                  </a:lnTo>
                  <a:lnTo>
                    <a:pt x="4178" y="1084"/>
                  </a:lnTo>
                  <a:lnTo>
                    <a:pt x="4121" y="1089"/>
                  </a:lnTo>
                  <a:lnTo>
                    <a:pt x="4063" y="1092"/>
                  </a:lnTo>
                  <a:lnTo>
                    <a:pt x="4002" y="1092"/>
                  </a:lnTo>
                  <a:lnTo>
                    <a:pt x="3941" y="1090"/>
                  </a:lnTo>
                  <a:lnTo>
                    <a:pt x="3877" y="1085"/>
                  </a:lnTo>
                  <a:lnTo>
                    <a:pt x="3811" y="1079"/>
                  </a:lnTo>
                  <a:lnTo>
                    <a:pt x="3745" y="1069"/>
                  </a:lnTo>
                  <a:lnTo>
                    <a:pt x="3675" y="1058"/>
                  </a:lnTo>
                  <a:lnTo>
                    <a:pt x="3606" y="1042"/>
                  </a:lnTo>
                  <a:lnTo>
                    <a:pt x="3534" y="1024"/>
                  </a:lnTo>
                  <a:lnTo>
                    <a:pt x="3460" y="1003"/>
                  </a:lnTo>
                  <a:lnTo>
                    <a:pt x="3384" y="979"/>
                  </a:lnTo>
                  <a:lnTo>
                    <a:pt x="3307" y="951"/>
                  </a:lnTo>
                  <a:lnTo>
                    <a:pt x="3228" y="921"/>
                  </a:lnTo>
                  <a:lnTo>
                    <a:pt x="3228" y="921"/>
                  </a:lnTo>
                  <a:lnTo>
                    <a:pt x="3071" y="859"/>
                  </a:lnTo>
                  <a:lnTo>
                    <a:pt x="2919" y="801"/>
                  </a:lnTo>
                  <a:lnTo>
                    <a:pt x="2773" y="750"/>
                  </a:lnTo>
                  <a:lnTo>
                    <a:pt x="2631" y="701"/>
                  </a:lnTo>
                  <a:lnTo>
                    <a:pt x="2495" y="656"/>
                  </a:lnTo>
                  <a:lnTo>
                    <a:pt x="2363" y="617"/>
                  </a:lnTo>
                  <a:lnTo>
                    <a:pt x="2237" y="582"/>
                  </a:lnTo>
                  <a:lnTo>
                    <a:pt x="2113" y="551"/>
                  </a:lnTo>
                  <a:lnTo>
                    <a:pt x="1995" y="524"/>
                  </a:lnTo>
                  <a:lnTo>
                    <a:pt x="1880" y="501"/>
                  </a:lnTo>
                  <a:lnTo>
                    <a:pt x="1769" y="483"/>
                  </a:lnTo>
                  <a:lnTo>
                    <a:pt x="1662" y="469"/>
                  </a:lnTo>
                  <a:lnTo>
                    <a:pt x="1558" y="457"/>
                  </a:lnTo>
                  <a:lnTo>
                    <a:pt x="1458" y="451"/>
                  </a:lnTo>
                  <a:lnTo>
                    <a:pt x="1361" y="448"/>
                  </a:lnTo>
                  <a:lnTo>
                    <a:pt x="1266" y="448"/>
                  </a:lnTo>
                  <a:lnTo>
                    <a:pt x="1175" y="453"/>
                  </a:lnTo>
                  <a:lnTo>
                    <a:pt x="1085" y="461"/>
                  </a:lnTo>
                  <a:lnTo>
                    <a:pt x="998" y="472"/>
                  </a:lnTo>
                  <a:lnTo>
                    <a:pt x="914" y="488"/>
                  </a:lnTo>
                  <a:lnTo>
                    <a:pt x="830" y="506"/>
                  </a:lnTo>
                  <a:lnTo>
                    <a:pt x="750" y="528"/>
                  </a:lnTo>
                  <a:lnTo>
                    <a:pt x="671" y="553"/>
                  </a:lnTo>
                  <a:lnTo>
                    <a:pt x="593" y="582"/>
                  </a:lnTo>
                  <a:lnTo>
                    <a:pt x="517" y="614"/>
                  </a:lnTo>
                  <a:lnTo>
                    <a:pt x="440" y="648"/>
                  </a:lnTo>
                  <a:lnTo>
                    <a:pt x="365" y="687"/>
                  </a:lnTo>
                  <a:lnTo>
                    <a:pt x="292" y="727"/>
                  </a:lnTo>
                  <a:lnTo>
                    <a:pt x="218" y="771"/>
                  </a:lnTo>
                  <a:lnTo>
                    <a:pt x="146" y="817"/>
                  </a:lnTo>
                  <a:lnTo>
                    <a:pt x="72" y="866"/>
                  </a:lnTo>
                  <a:lnTo>
                    <a:pt x="0" y="91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9433400">
              <a:off x="2047680" y="-1097640"/>
              <a:ext cx="10782360" cy="2434320"/>
            </a:xfrm>
            <a:custGeom>
              <a:avLst/>
              <a:gdLst/>
              <a:ahLst/>
              <a:rect l="l" t="t" r="r" b="b"/>
              <a:pathLst>
                <a:path w="5390" h="1126">
                  <a:moveTo>
                    <a:pt x="5390" y="0"/>
                  </a:moveTo>
                  <a:lnTo>
                    <a:pt x="5390" y="0"/>
                  </a:lnTo>
                  <a:lnTo>
                    <a:pt x="5384" y="18"/>
                  </a:lnTo>
                  <a:lnTo>
                    <a:pt x="5366" y="70"/>
                  </a:lnTo>
                  <a:lnTo>
                    <a:pt x="5353" y="105"/>
                  </a:lnTo>
                  <a:lnTo>
                    <a:pt x="5337" y="147"/>
                  </a:lnTo>
                  <a:lnTo>
                    <a:pt x="5316" y="192"/>
                  </a:lnTo>
                  <a:lnTo>
                    <a:pt x="5292" y="244"/>
                  </a:lnTo>
                  <a:lnTo>
                    <a:pt x="5265" y="299"/>
                  </a:lnTo>
                  <a:lnTo>
                    <a:pt x="5233" y="357"/>
                  </a:lnTo>
                  <a:lnTo>
                    <a:pt x="5198" y="418"/>
                  </a:lnTo>
                  <a:lnTo>
                    <a:pt x="5158" y="480"/>
                  </a:lnTo>
                  <a:lnTo>
                    <a:pt x="5113" y="544"/>
                  </a:lnTo>
                  <a:lnTo>
                    <a:pt x="5088" y="575"/>
                  </a:lnTo>
                  <a:lnTo>
                    <a:pt x="5063" y="607"/>
                  </a:lnTo>
                  <a:lnTo>
                    <a:pt x="5037" y="638"/>
                  </a:lnTo>
                  <a:lnTo>
                    <a:pt x="5011" y="670"/>
                  </a:lnTo>
                  <a:lnTo>
                    <a:pt x="4981" y="701"/>
                  </a:lnTo>
                  <a:lnTo>
                    <a:pt x="4951" y="732"/>
                  </a:lnTo>
                  <a:lnTo>
                    <a:pt x="4920" y="762"/>
                  </a:lnTo>
                  <a:lnTo>
                    <a:pt x="4888" y="791"/>
                  </a:lnTo>
                  <a:lnTo>
                    <a:pt x="4854" y="821"/>
                  </a:lnTo>
                  <a:lnTo>
                    <a:pt x="4819" y="848"/>
                  </a:lnTo>
                  <a:lnTo>
                    <a:pt x="4783" y="875"/>
                  </a:lnTo>
                  <a:lnTo>
                    <a:pt x="4745" y="903"/>
                  </a:lnTo>
                  <a:lnTo>
                    <a:pt x="4705" y="927"/>
                  </a:lnTo>
                  <a:lnTo>
                    <a:pt x="4665" y="951"/>
                  </a:lnTo>
                  <a:lnTo>
                    <a:pt x="4623" y="976"/>
                  </a:lnTo>
                  <a:lnTo>
                    <a:pt x="4580" y="997"/>
                  </a:lnTo>
                  <a:lnTo>
                    <a:pt x="4534" y="1018"/>
                  </a:lnTo>
                  <a:lnTo>
                    <a:pt x="4488" y="1037"/>
                  </a:lnTo>
                  <a:lnTo>
                    <a:pt x="4441" y="1053"/>
                  </a:lnTo>
                  <a:lnTo>
                    <a:pt x="4391" y="1069"/>
                  </a:lnTo>
                  <a:lnTo>
                    <a:pt x="4341" y="1084"/>
                  </a:lnTo>
                  <a:lnTo>
                    <a:pt x="4289" y="1095"/>
                  </a:lnTo>
                  <a:lnTo>
                    <a:pt x="4234" y="1106"/>
                  </a:lnTo>
                  <a:lnTo>
                    <a:pt x="4179" y="1114"/>
                  </a:lnTo>
                  <a:lnTo>
                    <a:pt x="4122" y="1121"/>
                  </a:lnTo>
                  <a:lnTo>
                    <a:pt x="4064" y="1124"/>
                  </a:lnTo>
                  <a:lnTo>
                    <a:pt x="4004" y="1126"/>
                  </a:lnTo>
                  <a:lnTo>
                    <a:pt x="3941" y="1126"/>
                  </a:lnTo>
                  <a:lnTo>
                    <a:pt x="3878" y="1122"/>
                  </a:lnTo>
                  <a:lnTo>
                    <a:pt x="3812" y="1118"/>
                  </a:lnTo>
                  <a:lnTo>
                    <a:pt x="3746" y="1110"/>
                  </a:lnTo>
                  <a:lnTo>
                    <a:pt x="3676" y="1098"/>
                  </a:lnTo>
                  <a:lnTo>
                    <a:pt x="3607" y="1084"/>
                  </a:lnTo>
                  <a:lnTo>
                    <a:pt x="3535" y="1068"/>
                  </a:lnTo>
                  <a:lnTo>
                    <a:pt x="3460" y="1048"/>
                  </a:lnTo>
                  <a:lnTo>
                    <a:pt x="3385" y="1026"/>
                  </a:lnTo>
                  <a:lnTo>
                    <a:pt x="3307" y="1000"/>
                  </a:lnTo>
                  <a:lnTo>
                    <a:pt x="3228" y="971"/>
                  </a:lnTo>
                  <a:lnTo>
                    <a:pt x="3228" y="971"/>
                  </a:lnTo>
                  <a:lnTo>
                    <a:pt x="3069" y="911"/>
                  </a:lnTo>
                  <a:lnTo>
                    <a:pt x="2917" y="856"/>
                  </a:lnTo>
                  <a:lnTo>
                    <a:pt x="2770" y="806"/>
                  </a:lnTo>
                  <a:lnTo>
                    <a:pt x="2628" y="761"/>
                  </a:lnTo>
                  <a:lnTo>
                    <a:pt x="2491" y="719"/>
                  </a:lnTo>
                  <a:lnTo>
                    <a:pt x="2359" y="682"/>
                  </a:lnTo>
                  <a:lnTo>
                    <a:pt x="2231" y="649"/>
                  </a:lnTo>
                  <a:lnTo>
                    <a:pt x="2107" y="620"/>
                  </a:lnTo>
                  <a:lnTo>
                    <a:pt x="1988" y="596"/>
                  </a:lnTo>
                  <a:lnTo>
                    <a:pt x="1873" y="575"/>
                  </a:lnTo>
                  <a:lnTo>
                    <a:pt x="1762" y="559"/>
                  </a:lnTo>
                  <a:lnTo>
                    <a:pt x="1655" y="548"/>
                  </a:lnTo>
                  <a:lnTo>
                    <a:pt x="1551" y="538"/>
                  </a:lnTo>
                  <a:lnTo>
                    <a:pt x="1451" y="533"/>
                  </a:lnTo>
                  <a:lnTo>
                    <a:pt x="1353" y="533"/>
                  </a:lnTo>
                  <a:lnTo>
                    <a:pt x="1259" y="535"/>
                  </a:lnTo>
                  <a:lnTo>
                    <a:pt x="1166" y="541"/>
                  </a:lnTo>
                  <a:lnTo>
                    <a:pt x="1077" y="551"/>
                  </a:lnTo>
                  <a:lnTo>
                    <a:pt x="991" y="565"/>
                  </a:lnTo>
                  <a:lnTo>
                    <a:pt x="906" y="582"/>
                  </a:lnTo>
                  <a:lnTo>
                    <a:pt x="824" y="603"/>
                  </a:lnTo>
                  <a:lnTo>
                    <a:pt x="744" y="625"/>
                  </a:lnTo>
                  <a:lnTo>
                    <a:pt x="665" y="653"/>
                  </a:lnTo>
                  <a:lnTo>
                    <a:pt x="587" y="683"/>
                  </a:lnTo>
                  <a:lnTo>
                    <a:pt x="511" y="716"/>
                  </a:lnTo>
                  <a:lnTo>
                    <a:pt x="436" y="753"/>
                  </a:lnTo>
                  <a:lnTo>
                    <a:pt x="362" y="791"/>
                  </a:lnTo>
                  <a:lnTo>
                    <a:pt x="288" y="835"/>
                  </a:lnTo>
                  <a:lnTo>
                    <a:pt x="216" y="880"/>
                  </a:lnTo>
                  <a:lnTo>
                    <a:pt x="144" y="929"/>
                  </a:lnTo>
                  <a:lnTo>
                    <a:pt x="72" y="979"/>
                  </a:lnTo>
                  <a:lnTo>
                    <a:pt x="0" y="103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9433400">
              <a:off x="2062800" y="-1242720"/>
              <a:ext cx="10748160" cy="2512080"/>
            </a:xfrm>
            <a:custGeom>
              <a:avLst/>
              <a:gdLst/>
              <a:ahLst/>
              <a:rect l="l" t="t" r="r" b="b"/>
              <a:pathLst>
                <a:path w="5373" h="1159">
                  <a:moveTo>
                    <a:pt x="5373" y="0"/>
                  </a:moveTo>
                  <a:lnTo>
                    <a:pt x="5373" y="0"/>
                  </a:lnTo>
                  <a:lnTo>
                    <a:pt x="5367" y="18"/>
                  </a:lnTo>
                  <a:lnTo>
                    <a:pt x="5351" y="69"/>
                  </a:lnTo>
                  <a:lnTo>
                    <a:pt x="5338" y="105"/>
                  </a:lnTo>
                  <a:lnTo>
                    <a:pt x="5323" y="147"/>
                  </a:lnTo>
                  <a:lnTo>
                    <a:pt x="5303" y="194"/>
                  </a:lnTo>
                  <a:lnTo>
                    <a:pt x="5280" y="247"/>
                  </a:lnTo>
                  <a:lnTo>
                    <a:pt x="5253" y="302"/>
                  </a:lnTo>
                  <a:lnTo>
                    <a:pt x="5221" y="361"/>
                  </a:lnTo>
                  <a:lnTo>
                    <a:pt x="5187" y="423"/>
                  </a:lnTo>
                  <a:lnTo>
                    <a:pt x="5148" y="486"/>
                  </a:lnTo>
                  <a:lnTo>
                    <a:pt x="5105" y="550"/>
                  </a:lnTo>
                  <a:lnTo>
                    <a:pt x="5081" y="583"/>
                  </a:lnTo>
                  <a:lnTo>
                    <a:pt x="5056" y="615"/>
                  </a:lnTo>
                  <a:lnTo>
                    <a:pt x="5031" y="647"/>
                  </a:lnTo>
                  <a:lnTo>
                    <a:pt x="5003" y="680"/>
                  </a:lnTo>
                  <a:lnTo>
                    <a:pt x="4976" y="712"/>
                  </a:lnTo>
                  <a:lnTo>
                    <a:pt x="4947" y="743"/>
                  </a:lnTo>
                  <a:lnTo>
                    <a:pt x="4916" y="773"/>
                  </a:lnTo>
                  <a:lnTo>
                    <a:pt x="4883" y="804"/>
                  </a:lnTo>
                  <a:lnTo>
                    <a:pt x="4849" y="833"/>
                  </a:lnTo>
                  <a:lnTo>
                    <a:pt x="4815" y="862"/>
                  </a:lnTo>
                  <a:lnTo>
                    <a:pt x="4780" y="891"/>
                  </a:lnTo>
                  <a:lnTo>
                    <a:pt x="4742" y="919"/>
                  </a:lnTo>
                  <a:lnTo>
                    <a:pt x="4704" y="944"/>
                  </a:lnTo>
                  <a:lnTo>
                    <a:pt x="4663" y="970"/>
                  </a:lnTo>
                  <a:lnTo>
                    <a:pt x="4622" y="994"/>
                  </a:lnTo>
                  <a:lnTo>
                    <a:pt x="4579" y="1017"/>
                  </a:lnTo>
                  <a:lnTo>
                    <a:pt x="4534" y="1038"/>
                  </a:lnTo>
                  <a:lnTo>
                    <a:pt x="4488" y="1057"/>
                  </a:lnTo>
                  <a:lnTo>
                    <a:pt x="4441" y="1077"/>
                  </a:lnTo>
                  <a:lnTo>
                    <a:pt x="4391" y="1093"/>
                  </a:lnTo>
                  <a:lnTo>
                    <a:pt x="4341" y="1109"/>
                  </a:lnTo>
                  <a:lnTo>
                    <a:pt x="4288" y="1122"/>
                  </a:lnTo>
                  <a:lnTo>
                    <a:pt x="4236" y="1133"/>
                  </a:lnTo>
                  <a:lnTo>
                    <a:pt x="4180" y="1143"/>
                  </a:lnTo>
                  <a:lnTo>
                    <a:pt x="4123" y="1149"/>
                  </a:lnTo>
                  <a:lnTo>
                    <a:pt x="4065" y="1156"/>
                  </a:lnTo>
                  <a:lnTo>
                    <a:pt x="4004" y="1159"/>
                  </a:lnTo>
                  <a:lnTo>
                    <a:pt x="3943" y="1159"/>
                  </a:lnTo>
                  <a:lnTo>
                    <a:pt x="3879" y="1157"/>
                  </a:lnTo>
                  <a:lnTo>
                    <a:pt x="3814" y="1153"/>
                  </a:lnTo>
                  <a:lnTo>
                    <a:pt x="3746" y="1146"/>
                  </a:lnTo>
                  <a:lnTo>
                    <a:pt x="3677" y="1136"/>
                  </a:lnTo>
                  <a:lnTo>
                    <a:pt x="3607" y="1124"/>
                  </a:lnTo>
                  <a:lnTo>
                    <a:pt x="3534" y="1109"/>
                  </a:lnTo>
                  <a:lnTo>
                    <a:pt x="3460" y="1091"/>
                  </a:lnTo>
                  <a:lnTo>
                    <a:pt x="3383" y="1070"/>
                  </a:lnTo>
                  <a:lnTo>
                    <a:pt x="3305" y="1044"/>
                  </a:lnTo>
                  <a:lnTo>
                    <a:pt x="3226" y="1017"/>
                  </a:lnTo>
                  <a:lnTo>
                    <a:pt x="3226" y="1017"/>
                  </a:lnTo>
                  <a:lnTo>
                    <a:pt x="3067" y="960"/>
                  </a:lnTo>
                  <a:lnTo>
                    <a:pt x="2914" y="909"/>
                  </a:lnTo>
                  <a:lnTo>
                    <a:pt x="2765" y="862"/>
                  </a:lnTo>
                  <a:lnTo>
                    <a:pt x="2622" y="818"/>
                  </a:lnTo>
                  <a:lnTo>
                    <a:pt x="2485" y="780"/>
                  </a:lnTo>
                  <a:lnTo>
                    <a:pt x="2353" y="746"/>
                  </a:lnTo>
                  <a:lnTo>
                    <a:pt x="2224" y="715"/>
                  </a:lnTo>
                  <a:lnTo>
                    <a:pt x="2100" y="689"/>
                  </a:lnTo>
                  <a:lnTo>
                    <a:pt x="1981" y="667"/>
                  </a:lnTo>
                  <a:lnTo>
                    <a:pt x="1866" y="649"/>
                  </a:lnTo>
                  <a:lnTo>
                    <a:pt x="1755" y="634"/>
                  </a:lnTo>
                  <a:lnTo>
                    <a:pt x="1648" y="625"/>
                  </a:lnTo>
                  <a:lnTo>
                    <a:pt x="1543" y="617"/>
                  </a:lnTo>
                  <a:lnTo>
                    <a:pt x="1442" y="615"/>
                  </a:lnTo>
                  <a:lnTo>
                    <a:pt x="1345" y="615"/>
                  </a:lnTo>
                  <a:lnTo>
                    <a:pt x="1251" y="620"/>
                  </a:lnTo>
                  <a:lnTo>
                    <a:pt x="1159" y="628"/>
                  </a:lnTo>
                  <a:lnTo>
                    <a:pt x="1070" y="641"/>
                  </a:lnTo>
                  <a:lnTo>
                    <a:pt x="984" y="655"/>
                  </a:lnTo>
                  <a:lnTo>
                    <a:pt x="899" y="675"/>
                  </a:lnTo>
                  <a:lnTo>
                    <a:pt x="817" y="696"/>
                  </a:lnTo>
                  <a:lnTo>
                    <a:pt x="737" y="722"/>
                  </a:lnTo>
                  <a:lnTo>
                    <a:pt x="659" y="751"/>
                  </a:lnTo>
                  <a:lnTo>
                    <a:pt x="581" y="783"/>
                  </a:lnTo>
                  <a:lnTo>
                    <a:pt x="506" y="817"/>
                  </a:lnTo>
                  <a:lnTo>
                    <a:pt x="431" y="856"/>
                  </a:lnTo>
                  <a:lnTo>
                    <a:pt x="358" y="896"/>
                  </a:lnTo>
                  <a:lnTo>
                    <a:pt x="286" y="941"/>
                  </a:lnTo>
                  <a:lnTo>
                    <a:pt x="213" y="988"/>
                  </a:lnTo>
                  <a:lnTo>
                    <a:pt x="143" y="1038"/>
                  </a:lnTo>
                  <a:lnTo>
                    <a:pt x="70" y="1090"/>
                  </a:lnTo>
                  <a:lnTo>
                    <a:pt x="0" y="114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9433400">
              <a:off x="2122560" y="-1401120"/>
              <a:ext cx="10711800" cy="2732040"/>
            </a:xfrm>
            <a:custGeom>
              <a:avLst/>
              <a:gdLst/>
              <a:ahLst/>
              <a:rect l="l" t="t" r="r" b="b"/>
              <a:pathLst>
                <a:path w="5355" h="1261">
                  <a:moveTo>
                    <a:pt x="5355" y="0"/>
                  </a:moveTo>
                  <a:lnTo>
                    <a:pt x="5355" y="0"/>
                  </a:lnTo>
                  <a:lnTo>
                    <a:pt x="5349" y="19"/>
                  </a:lnTo>
                  <a:lnTo>
                    <a:pt x="5334" y="71"/>
                  </a:lnTo>
                  <a:lnTo>
                    <a:pt x="5322" y="106"/>
                  </a:lnTo>
                  <a:lnTo>
                    <a:pt x="5306" y="150"/>
                  </a:lnTo>
                  <a:lnTo>
                    <a:pt x="5288" y="197"/>
                  </a:lnTo>
                  <a:lnTo>
                    <a:pt x="5266" y="250"/>
                  </a:lnTo>
                  <a:lnTo>
                    <a:pt x="5240" y="306"/>
                  </a:lnTo>
                  <a:lnTo>
                    <a:pt x="5209" y="366"/>
                  </a:lnTo>
                  <a:lnTo>
                    <a:pt x="5176" y="429"/>
                  </a:lnTo>
                  <a:lnTo>
                    <a:pt x="5138" y="494"/>
                  </a:lnTo>
                  <a:lnTo>
                    <a:pt x="5095" y="560"/>
                  </a:lnTo>
                  <a:lnTo>
                    <a:pt x="5072" y="592"/>
                  </a:lnTo>
                  <a:lnTo>
                    <a:pt x="5048" y="625"/>
                  </a:lnTo>
                  <a:lnTo>
                    <a:pt x="5023" y="658"/>
                  </a:lnTo>
                  <a:lnTo>
                    <a:pt x="4997" y="691"/>
                  </a:lnTo>
                  <a:lnTo>
                    <a:pt x="4969" y="723"/>
                  </a:lnTo>
                  <a:lnTo>
                    <a:pt x="4940" y="755"/>
                  </a:lnTo>
                  <a:lnTo>
                    <a:pt x="4909" y="788"/>
                  </a:lnTo>
                  <a:lnTo>
                    <a:pt x="4877" y="818"/>
                  </a:lnTo>
                  <a:lnTo>
                    <a:pt x="4845" y="849"/>
                  </a:lnTo>
                  <a:lnTo>
                    <a:pt x="4811" y="880"/>
                  </a:lnTo>
                  <a:lnTo>
                    <a:pt x="4775" y="909"/>
                  </a:lnTo>
                  <a:lnTo>
                    <a:pt x="4739" y="936"/>
                  </a:lnTo>
                  <a:lnTo>
                    <a:pt x="4700" y="964"/>
                  </a:lnTo>
                  <a:lnTo>
                    <a:pt x="4661" y="989"/>
                  </a:lnTo>
                  <a:lnTo>
                    <a:pt x="4619" y="1015"/>
                  </a:lnTo>
                  <a:lnTo>
                    <a:pt x="4576" y="1038"/>
                  </a:lnTo>
                  <a:lnTo>
                    <a:pt x="4532" y="1060"/>
                  </a:lnTo>
                  <a:lnTo>
                    <a:pt x="4486" y="1081"/>
                  </a:lnTo>
                  <a:lnTo>
                    <a:pt x="4439" y="1101"/>
                  </a:lnTo>
                  <a:lnTo>
                    <a:pt x="4390" y="1119"/>
                  </a:lnTo>
                  <a:lnTo>
                    <a:pt x="4340" y="1135"/>
                  </a:lnTo>
                  <a:lnTo>
                    <a:pt x="4289" y="1149"/>
                  </a:lnTo>
                  <a:lnTo>
                    <a:pt x="4235" y="1162"/>
                  </a:lnTo>
                  <a:lnTo>
                    <a:pt x="4179" y="1173"/>
                  </a:lnTo>
                  <a:lnTo>
                    <a:pt x="4123" y="1182"/>
                  </a:lnTo>
                  <a:lnTo>
                    <a:pt x="4064" y="1188"/>
                  </a:lnTo>
                  <a:lnTo>
                    <a:pt x="4004" y="1193"/>
                  </a:lnTo>
                  <a:lnTo>
                    <a:pt x="3942" y="1194"/>
                  </a:lnTo>
                  <a:lnTo>
                    <a:pt x="3879" y="1194"/>
                  </a:lnTo>
                  <a:lnTo>
                    <a:pt x="3814" y="1191"/>
                  </a:lnTo>
                  <a:lnTo>
                    <a:pt x="3746" y="1185"/>
                  </a:lnTo>
                  <a:lnTo>
                    <a:pt x="3676" y="1177"/>
                  </a:lnTo>
                  <a:lnTo>
                    <a:pt x="3606" y="1165"/>
                  </a:lnTo>
                  <a:lnTo>
                    <a:pt x="3533" y="1153"/>
                  </a:lnTo>
                  <a:lnTo>
                    <a:pt x="3458" y="1136"/>
                  </a:lnTo>
                  <a:lnTo>
                    <a:pt x="3382" y="1115"/>
                  </a:lnTo>
                  <a:lnTo>
                    <a:pt x="3304" y="1093"/>
                  </a:lnTo>
                  <a:lnTo>
                    <a:pt x="3224" y="1067"/>
                  </a:lnTo>
                  <a:lnTo>
                    <a:pt x="3224" y="1067"/>
                  </a:lnTo>
                  <a:lnTo>
                    <a:pt x="3064" y="1014"/>
                  </a:lnTo>
                  <a:lnTo>
                    <a:pt x="2910" y="965"/>
                  </a:lnTo>
                  <a:lnTo>
                    <a:pt x="2761" y="920"/>
                  </a:lnTo>
                  <a:lnTo>
                    <a:pt x="2618" y="880"/>
                  </a:lnTo>
                  <a:lnTo>
                    <a:pt x="2480" y="842"/>
                  </a:lnTo>
                  <a:lnTo>
                    <a:pt x="2346" y="812"/>
                  </a:lnTo>
                  <a:lnTo>
                    <a:pt x="2219" y="783"/>
                  </a:lnTo>
                  <a:lnTo>
                    <a:pt x="2094" y="760"/>
                  </a:lnTo>
                  <a:lnTo>
                    <a:pt x="1974" y="739"/>
                  </a:lnTo>
                  <a:lnTo>
                    <a:pt x="1859" y="723"/>
                  </a:lnTo>
                  <a:lnTo>
                    <a:pt x="1746" y="712"/>
                  </a:lnTo>
                  <a:lnTo>
                    <a:pt x="1640" y="704"/>
                  </a:lnTo>
                  <a:lnTo>
                    <a:pt x="1535" y="699"/>
                  </a:lnTo>
                  <a:lnTo>
                    <a:pt x="1434" y="699"/>
                  </a:lnTo>
                  <a:lnTo>
                    <a:pt x="1337" y="700"/>
                  </a:lnTo>
                  <a:lnTo>
                    <a:pt x="1242" y="707"/>
                  </a:lnTo>
                  <a:lnTo>
                    <a:pt x="1151" y="718"/>
                  </a:lnTo>
                  <a:lnTo>
                    <a:pt x="1063" y="731"/>
                  </a:lnTo>
                  <a:lnTo>
                    <a:pt x="976" y="749"/>
                  </a:lnTo>
                  <a:lnTo>
                    <a:pt x="893" y="768"/>
                  </a:lnTo>
                  <a:lnTo>
                    <a:pt x="811" y="792"/>
                  </a:lnTo>
                  <a:lnTo>
                    <a:pt x="732" y="820"/>
                  </a:lnTo>
                  <a:lnTo>
                    <a:pt x="652" y="851"/>
                  </a:lnTo>
                  <a:lnTo>
                    <a:pt x="576" y="884"/>
                  </a:lnTo>
                  <a:lnTo>
                    <a:pt x="501" y="920"/>
                  </a:lnTo>
                  <a:lnTo>
                    <a:pt x="427" y="960"/>
                  </a:lnTo>
                  <a:lnTo>
                    <a:pt x="355" y="1004"/>
                  </a:lnTo>
                  <a:lnTo>
                    <a:pt x="283" y="1049"/>
                  </a:lnTo>
                  <a:lnTo>
                    <a:pt x="212" y="1098"/>
                  </a:lnTo>
                  <a:lnTo>
                    <a:pt x="141" y="1149"/>
                  </a:lnTo>
                  <a:lnTo>
                    <a:pt x="71" y="1204"/>
                  </a:lnTo>
                  <a:lnTo>
                    <a:pt x="0" y="1261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9433400">
              <a:off x="2193480" y="-1559520"/>
              <a:ext cx="10672200" cy="2979360"/>
            </a:xfrm>
            <a:custGeom>
              <a:avLst/>
              <a:gdLst/>
              <a:ahLst/>
              <a:rect l="l" t="t" r="r" b="b"/>
              <a:pathLst>
                <a:path w="5335" h="1376">
                  <a:moveTo>
                    <a:pt x="5335" y="0"/>
                  </a:moveTo>
                  <a:lnTo>
                    <a:pt x="5335" y="0"/>
                  </a:lnTo>
                  <a:lnTo>
                    <a:pt x="5331" y="18"/>
                  </a:lnTo>
                  <a:lnTo>
                    <a:pt x="5315" y="71"/>
                  </a:lnTo>
                  <a:lnTo>
                    <a:pt x="5304" y="107"/>
                  </a:lnTo>
                  <a:lnTo>
                    <a:pt x="5289" y="150"/>
                  </a:lnTo>
                  <a:lnTo>
                    <a:pt x="5271" y="199"/>
                  </a:lnTo>
                  <a:lnTo>
                    <a:pt x="5250" y="252"/>
                  </a:lnTo>
                  <a:lnTo>
                    <a:pt x="5225" y="310"/>
                  </a:lnTo>
                  <a:lnTo>
                    <a:pt x="5196" y="371"/>
                  </a:lnTo>
                  <a:lnTo>
                    <a:pt x="5163" y="434"/>
                  </a:lnTo>
                  <a:lnTo>
                    <a:pt x="5127" y="501"/>
                  </a:lnTo>
                  <a:lnTo>
                    <a:pt x="5085" y="567"/>
                  </a:lnTo>
                  <a:lnTo>
                    <a:pt x="5061" y="601"/>
                  </a:lnTo>
                  <a:lnTo>
                    <a:pt x="5038" y="635"/>
                  </a:lnTo>
                  <a:lnTo>
                    <a:pt x="5014" y="667"/>
                  </a:lnTo>
                  <a:lnTo>
                    <a:pt x="4988" y="701"/>
                  </a:lnTo>
                  <a:lnTo>
                    <a:pt x="4960" y="735"/>
                  </a:lnTo>
                  <a:lnTo>
                    <a:pt x="4932" y="767"/>
                  </a:lnTo>
                  <a:lnTo>
                    <a:pt x="4902" y="799"/>
                  </a:lnTo>
                  <a:lnTo>
                    <a:pt x="4871" y="832"/>
                  </a:lnTo>
                  <a:lnTo>
                    <a:pt x="4838" y="862"/>
                  </a:lnTo>
                  <a:lnTo>
                    <a:pt x="4804" y="893"/>
                  </a:lnTo>
                  <a:lnTo>
                    <a:pt x="4770" y="924"/>
                  </a:lnTo>
                  <a:lnTo>
                    <a:pt x="4734" y="953"/>
                  </a:lnTo>
                  <a:lnTo>
                    <a:pt x="4695" y="980"/>
                  </a:lnTo>
                  <a:lnTo>
                    <a:pt x="4656" y="1008"/>
                  </a:lnTo>
                  <a:lnTo>
                    <a:pt x="4614" y="1034"/>
                  </a:lnTo>
                  <a:lnTo>
                    <a:pt x="4573" y="1059"/>
                  </a:lnTo>
                  <a:lnTo>
                    <a:pt x="4528" y="1082"/>
                  </a:lnTo>
                  <a:lnTo>
                    <a:pt x="4484" y="1105"/>
                  </a:lnTo>
                  <a:lnTo>
                    <a:pt x="4436" y="1126"/>
                  </a:lnTo>
                  <a:lnTo>
                    <a:pt x="4388" y="1143"/>
                  </a:lnTo>
                  <a:lnTo>
                    <a:pt x="4338" y="1161"/>
                  </a:lnTo>
                  <a:lnTo>
                    <a:pt x="4287" y="1177"/>
                  </a:lnTo>
                  <a:lnTo>
                    <a:pt x="4232" y="1190"/>
                  </a:lnTo>
                  <a:lnTo>
                    <a:pt x="4178" y="1203"/>
                  </a:lnTo>
                  <a:lnTo>
                    <a:pt x="4121" y="1213"/>
                  </a:lnTo>
                  <a:lnTo>
                    <a:pt x="4063" y="1219"/>
                  </a:lnTo>
                  <a:lnTo>
                    <a:pt x="4003" y="1226"/>
                  </a:lnTo>
                  <a:lnTo>
                    <a:pt x="3941" y="1229"/>
                  </a:lnTo>
                  <a:lnTo>
                    <a:pt x="3877" y="1229"/>
                  </a:lnTo>
                  <a:lnTo>
                    <a:pt x="3812" y="1227"/>
                  </a:lnTo>
                  <a:lnTo>
                    <a:pt x="3745" y="1224"/>
                  </a:lnTo>
                  <a:lnTo>
                    <a:pt x="3676" y="1216"/>
                  </a:lnTo>
                  <a:lnTo>
                    <a:pt x="3605" y="1206"/>
                  </a:lnTo>
                  <a:lnTo>
                    <a:pt x="3531" y="1195"/>
                  </a:lnTo>
                  <a:lnTo>
                    <a:pt x="3456" y="1179"/>
                  </a:lnTo>
                  <a:lnTo>
                    <a:pt x="3380" y="1161"/>
                  </a:lnTo>
                  <a:lnTo>
                    <a:pt x="3301" y="1140"/>
                  </a:lnTo>
                  <a:lnTo>
                    <a:pt x="3220" y="1114"/>
                  </a:lnTo>
                  <a:lnTo>
                    <a:pt x="3220" y="1114"/>
                  </a:lnTo>
                  <a:lnTo>
                    <a:pt x="3061" y="1064"/>
                  </a:lnTo>
                  <a:lnTo>
                    <a:pt x="2905" y="1019"/>
                  </a:lnTo>
                  <a:lnTo>
                    <a:pt x="2756" y="977"/>
                  </a:lnTo>
                  <a:lnTo>
                    <a:pt x="2612" y="938"/>
                  </a:lnTo>
                  <a:lnTo>
                    <a:pt x="2473" y="906"/>
                  </a:lnTo>
                  <a:lnTo>
                    <a:pt x="2340" y="875"/>
                  </a:lnTo>
                  <a:lnTo>
                    <a:pt x="2211" y="851"/>
                  </a:lnTo>
                  <a:lnTo>
                    <a:pt x="2086" y="828"/>
                  </a:lnTo>
                  <a:lnTo>
                    <a:pt x="1966" y="811"/>
                  </a:lnTo>
                  <a:lnTo>
                    <a:pt x="1851" y="798"/>
                  </a:lnTo>
                  <a:lnTo>
                    <a:pt x="1739" y="788"/>
                  </a:lnTo>
                  <a:lnTo>
                    <a:pt x="1630" y="782"/>
                  </a:lnTo>
                  <a:lnTo>
                    <a:pt x="1526" y="780"/>
                  </a:lnTo>
                  <a:lnTo>
                    <a:pt x="1426" y="780"/>
                  </a:lnTo>
                  <a:lnTo>
                    <a:pt x="1329" y="785"/>
                  </a:lnTo>
                  <a:lnTo>
                    <a:pt x="1235" y="795"/>
                  </a:lnTo>
                  <a:lnTo>
                    <a:pt x="1143" y="806"/>
                  </a:lnTo>
                  <a:lnTo>
                    <a:pt x="1099" y="814"/>
                  </a:lnTo>
                  <a:lnTo>
                    <a:pt x="1054" y="822"/>
                  </a:lnTo>
                  <a:lnTo>
                    <a:pt x="1011" y="830"/>
                  </a:lnTo>
                  <a:lnTo>
                    <a:pt x="970" y="840"/>
                  </a:lnTo>
                  <a:lnTo>
                    <a:pt x="927" y="851"/>
                  </a:lnTo>
                  <a:lnTo>
                    <a:pt x="885" y="862"/>
                  </a:lnTo>
                  <a:lnTo>
                    <a:pt x="804" y="888"/>
                  </a:lnTo>
                  <a:lnTo>
                    <a:pt x="725" y="917"/>
                  </a:lnTo>
                  <a:lnTo>
                    <a:pt x="647" y="950"/>
                  </a:lnTo>
                  <a:lnTo>
                    <a:pt x="571" y="985"/>
                  </a:lnTo>
                  <a:lnTo>
                    <a:pt x="496" y="1024"/>
                  </a:lnTo>
                  <a:lnTo>
                    <a:pt x="424" y="1064"/>
                  </a:lnTo>
                  <a:lnTo>
                    <a:pt x="352" y="1109"/>
                  </a:lnTo>
                  <a:lnTo>
                    <a:pt x="280" y="1156"/>
                  </a:lnTo>
                  <a:lnTo>
                    <a:pt x="210" y="1208"/>
                  </a:lnTo>
                  <a:lnTo>
                    <a:pt x="139" y="1261"/>
                  </a:lnTo>
                  <a:lnTo>
                    <a:pt x="70" y="1316"/>
                  </a:lnTo>
                  <a:lnTo>
                    <a:pt x="0" y="137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9433400">
              <a:off x="2264400" y="-1722600"/>
              <a:ext cx="10629720" cy="3227040"/>
            </a:xfrm>
            <a:custGeom>
              <a:avLst/>
              <a:gdLst/>
              <a:ahLst/>
              <a:rect l="l" t="t" r="r" b="b"/>
              <a:pathLst>
                <a:path w="5314" h="1490">
                  <a:moveTo>
                    <a:pt x="5314" y="0"/>
                  </a:moveTo>
                  <a:lnTo>
                    <a:pt x="5314" y="0"/>
                  </a:lnTo>
                  <a:lnTo>
                    <a:pt x="5309" y="19"/>
                  </a:lnTo>
                  <a:lnTo>
                    <a:pt x="5296" y="71"/>
                  </a:lnTo>
                  <a:lnTo>
                    <a:pt x="5284" y="110"/>
                  </a:lnTo>
                  <a:lnTo>
                    <a:pt x="5271" y="153"/>
                  </a:lnTo>
                  <a:lnTo>
                    <a:pt x="5254" y="202"/>
                  </a:lnTo>
                  <a:lnTo>
                    <a:pt x="5233" y="257"/>
                  </a:lnTo>
                  <a:lnTo>
                    <a:pt x="5208" y="315"/>
                  </a:lnTo>
                  <a:lnTo>
                    <a:pt x="5180" y="376"/>
                  </a:lnTo>
                  <a:lnTo>
                    <a:pt x="5148" y="441"/>
                  </a:lnTo>
                  <a:lnTo>
                    <a:pt x="5112" y="507"/>
                  </a:lnTo>
                  <a:lnTo>
                    <a:pt x="5072" y="575"/>
                  </a:lnTo>
                  <a:lnTo>
                    <a:pt x="5050" y="609"/>
                  </a:lnTo>
                  <a:lnTo>
                    <a:pt x="5026" y="644"/>
                  </a:lnTo>
                  <a:lnTo>
                    <a:pt x="5003" y="678"/>
                  </a:lnTo>
                  <a:lnTo>
                    <a:pt x="4976" y="712"/>
                  </a:lnTo>
                  <a:lnTo>
                    <a:pt x="4950" y="746"/>
                  </a:lnTo>
                  <a:lnTo>
                    <a:pt x="4922" y="780"/>
                  </a:lnTo>
                  <a:lnTo>
                    <a:pt x="4893" y="812"/>
                  </a:lnTo>
                  <a:lnTo>
                    <a:pt x="4862" y="846"/>
                  </a:lnTo>
                  <a:lnTo>
                    <a:pt x="4830" y="878"/>
                  </a:lnTo>
                  <a:lnTo>
                    <a:pt x="4797" y="909"/>
                  </a:lnTo>
                  <a:lnTo>
                    <a:pt x="4762" y="940"/>
                  </a:lnTo>
                  <a:lnTo>
                    <a:pt x="4726" y="970"/>
                  </a:lnTo>
                  <a:lnTo>
                    <a:pt x="4689" y="999"/>
                  </a:lnTo>
                  <a:lnTo>
                    <a:pt x="4650" y="1027"/>
                  </a:lnTo>
                  <a:lnTo>
                    <a:pt x="4610" y="1054"/>
                  </a:lnTo>
                  <a:lnTo>
                    <a:pt x="4568" y="1080"/>
                  </a:lnTo>
                  <a:lnTo>
                    <a:pt x="4524" y="1104"/>
                  </a:lnTo>
                  <a:lnTo>
                    <a:pt x="4479" y="1127"/>
                  </a:lnTo>
                  <a:lnTo>
                    <a:pt x="4432" y="1150"/>
                  </a:lnTo>
                  <a:lnTo>
                    <a:pt x="4385" y="1169"/>
                  </a:lnTo>
                  <a:lnTo>
                    <a:pt x="4335" y="1188"/>
                  </a:lnTo>
                  <a:lnTo>
                    <a:pt x="4283" y="1205"/>
                  </a:lnTo>
                  <a:lnTo>
                    <a:pt x="4229" y="1219"/>
                  </a:lnTo>
                  <a:lnTo>
                    <a:pt x="4175" y="1232"/>
                  </a:lnTo>
                  <a:lnTo>
                    <a:pt x="4118" y="1243"/>
                  </a:lnTo>
                  <a:lnTo>
                    <a:pt x="4060" y="1251"/>
                  </a:lnTo>
                  <a:lnTo>
                    <a:pt x="4000" y="1259"/>
                  </a:lnTo>
                  <a:lnTo>
                    <a:pt x="3939" y="1263"/>
                  </a:lnTo>
                  <a:lnTo>
                    <a:pt x="3875" y="1266"/>
                  </a:lnTo>
                  <a:lnTo>
                    <a:pt x="3810" y="1264"/>
                  </a:lnTo>
                  <a:lnTo>
                    <a:pt x="3742" y="1263"/>
                  </a:lnTo>
                  <a:lnTo>
                    <a:pt x="3673" y="1256"/>
                  </a:lnTo>
                  <a:lnTo>
                    <a:pt x="3602" y="1248"/>
                  </a:lnTo>
                  <a:lnTo>
                    <a:pt x="3528" y="1237"/>
                  </a:lnTo>
                  <a:lnTo>
                    <a:pt x="3453" y="1224"/>
                  </a:lnTo>
                  <a:lnTo>
                    <a:pt x="3377" y="1206"/>
                  </a:lnTo>
                  <a:lnTo>
                    <a:pt x="3298" y="1187"/>
                  </a:lnTo>
                  <a:lnTo>
                    <a:pt x="3217" y="1164"/>
                  </a:lnTo>
                  <a:lnTo>
                    <a:pt x="3217" y="1164"/>
                  </a:lnTo>
                  <a:lnTo>
                    <a:pt x="3055" y="1116"/>
                  </a:lnTo>
                  <a:lnTo>
                    <a:pt x="2899" y="1074"/>
                  </a:lnTo>
                  <a:lnTo>
                    <a:pt x="2751" y="1033"/>
                  </a:lnTo>
                  <a:lnTo>
                    <a:pt x="2605" y="999"/>
                  </a:lnTo>
                  <a:lnTo>
                    <a:pt x="2466" y="969"/>
                  </a:lnTo>
                  <a:lnTo>
                    <a:pt x="2333" y="941"/>
                  </a:lnTo>
                  <a:lnTo>
                    <a:pt x="2202" y="919"/>
                  </a:lnTo>
                  <a:lnTo>
                    <a:pt x="2079" y="899"/>
                  </a:lnTo>
                  <a:lnTo>
                    <a:pt x="1958" y="885"/>
                  </a:lnTo>
                  <a:lnTo>
                    <a:pt x="1843" y="872"/>
                  </a:lnTo>
                  <a:lnTo>
                    <a:pt x="1730" y="865"/>
                  </a:lnTo>
                  <a:lnTo>
                    <a:pt x="1622" y="861"/>
                  </a:lnTo>
                  <a:lnTo>
                    <a:pt x="1518" y="861"/>
                  </a:lnTo>
                  <a:lnTo>
                    <a:pt x="1418" y="864"/>
                  </a:lnTo>
                  <a:lnTo>
                    <a:pt x="1321" y="872"/>
                  </a:lnTo>
                  <a:lnTo>
                    <a:pt x="1226" y="882"/>
                  </a:lnTo>
                  <a:lnTo>
                    <a:pt x="1180" y="888"/>
                  </a:lnTo>
                  <a:lnTo>
                    <a:pt x="1134" y="896"/>
                  </a:lnTo>
                  <a:lnTo>
                    <a:pt x="1090" y="904"/>
                  </a:lnTo>
                  <a:lnTo>
                    <a:pt x="1047" y="912"/>
                  </a:lnTo>
                  <a:lnTo>
                    <a:pt x="1004" y="924"/>
                  </a:lnTo>
                  <a:lnTo>
                    <a:pt x="961" y="933"/>
                  </a:lnTo>
                  <a:lnTo>
                    <a:pt x="919" y="945"/>
                  </a:lnTo>
                  <a:lnTo>
                    <a:pt x="878" y="957"/>
                  </a:lnTo>
                  <a:lnTo>
                    <a:pt x="797" y="985"/>
                  </a:lnTo>
                  <a:lnTo>
                    <a:pt x="718" y="1016"/>
                  </a:lnTo>
                  <a:lnTo>
                    <a:pt x="640" y="1050"/>
                  </a:lnTo>
                  <a:lnTo>
                    <a:pt x="565" y="1087"/>
                  </a:lnTo>
                  <a:lnTo>
                    <a:pt x="492" y="1127"/>
                  </a:lnTo>
                  <a:lnTo>
                    <a:pt x="419" y="1171"/>
                  </a:lnTo>
                  <a:lnTo>
                    <a:pt x="347" y="1216"/>
                  </a:lnTo>
                  <a:lnTo>
                    <a:pt x="276" y="1266"/>
                  </a:lnTo>
                  <a:lnTo>
                    <a:pt x="207" y="1318"/>
                  </a:lnTo>
                  <a:lnTo>
                    <a:pt x="138" y="1372"/>
                  </a:lnTo>
                  <a:lnTo>
                    <a:pt x="70" y="1431"/>
                  </a:lnTo>
                  <a:lnTo>
                    <a:pt x="0" y="149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9433400">
              <a:off x="2337840" y="-1884960"/>
              <a:ext cx="10584000" cy="3477600"/>
            </a:xfrm>
            <a:custGeom>
              <a:avLst/>
              <a:gdLst/>
              <a:ahLst/>
              <a:rect l="l" t="t" r="r" b="b"/>
              <a:pathLst>
                <a:path w="5291" h="1606">
                  <a:moveTo>
                    <a:pt x="5291" y="0"/>
                  </a:moveTo>
                  <a:lnTo>
                    <a:pt x="5291" y="0"/>
                  </a:lnTo>
                  <a:lnTo>
                    <a:pt x="5287" y="19"/>
                  </a:lnTo>
                  <a:lnTo>
                    <a:pt x="5273" y="73"/>
                  </a:lnTo>
                  <a:lnTo>
                    <a:pt x="5264" y="111"/>
                  </a:lnTo>
                  <a:lnTo>
                    <a:pt x="5250" y="155"/>
                  </a:lnTo>
                  <a:lnTo>
                    <a:pt x="5233" y="205"/>
                  </a:lnTo>
                  <a:lnTo>
                    <a:pt x="5214" y="260"/>
                  </a:lnTo>
                  <a:lnTo>
                    <a:pt x="5190" y="318"/>
                  </a:lnTo>
                  <a:lnTo>
                    <a:pt x="5162" y="381"/>
                  </a:lnTo>
                  <a:lnTo>
                    <a:pt x="5132" y="447"/>
                  </a:lnTo>
                  <a:lnTo>
                    <a:pt x="5097" y="515"/>
                  </a:lnTo>
                  <a:lnTo>
                    <a:pt x="5057" y="583"/>
                  </a:lnTo>
                  <a:lnTo>
                    <a:pt x="5036" y="618"/>
                  </a:lnTo>
                  <a:lnTo>
                    <a:pt x="5014" y="654"/>
                  </a:lnTo>
                  <a:lnTo>
                    <a:pt x="4989" y="688"/>
                  </a:lnTo>
                  <a:lnTo>
                    <a:pt x="4964" y="723"/>
                  </a:lnTo>
                  <a:lnTo>
                    <a:pt x="4937" y="757"/>
                  </a:lnTo>
                  <a:lnTo>
                    <a:pt x="4911" y="791"/>
                  </a:lnTo>
                  <a:lnTo>
                    <a:pt x="4882" y="827"/>
                  </a:lnTo>
                  <a:lnTo>
                    <a:pt x="4851" y="859"/>
                  </a:lnTo>
                  <a:lnTo>
                    <a:pt x="4821" y="893"/>
                  </a:lnTo>
                  <a:lnTo>
                    <a:pt x="4787" y="925"/>
                  </a:lnTo>
                  <a:lnTo>
                    <a:pt x="4753" y="956"/>
                  </a:lnTo>
                  <a:lnTo>
                    <a:pt x="4718" y="988"/>
                  </a:lnTo>
                  <a:lnTo>
                    <a:pt x="4681" y="1017"/>
                  </a:lnTo>
                  <a:lnTo>
                    <a:pt x="4642" y="1046"/>
                  </a:lnTo>
                  <a:lnTo>
                    <a:pt x="4603" y="1074"/>
                  </a:lnTo>
                  <a:lnTo>
                    <a:pt x="4561" y="1101"/>
                  </a:lnTo>
                  <a:lnTo>
                    <a:pt x="4518" y="1127"/>
                  </a:lnTo>
                  <a:lnTo>
                    <a:pt x="4472" y="1151"/>
                  </a:lnTo>
                  <a:lnTo>
                    <a:pt x="4426" y="1174"/>
                  </a:lnTo>
                  <a:lnTo>
                    <a:pt x="4379" y="1195"/>
                  </a:lnTo>
                  <a:lnTo>
                    <a:pt x="4329" y="1214"/>
                  </a:lnTo>
                  <a:lnTo>
                    <a:pt x="4278" y="1232"/>
                  </a:lnTo>
                  <a:lnTo>
                    <a:pt x="4225" y="1248"/>
                  </a:lnTo>
                  <a:lnTo>
                    <a:pt x="4171" y="1263"/>
                  </a:lnTo>
                  <a:lnTo>
                    <a:pt x="4114" y="1274"/>
                  </a:lnTo>
                  <a:lnTo>
                    <a:pt x="4056" y="1284"/>
                  </a:lnTo>
                  <a:lnTo>
                    <a:pt x="3996" y="1292"/>
                  </a:lnTo>
                  <a:lnTo>
                    <a:pt x="3935" y="1298"/>
                  </a:lnTo>
                  <a:lnTo>
                    <a:pt x="3871" y="1301"/>
                  </a:lnTo>
                  <a:lnTo>
                    <a:pt x="3806" y="1303"/>
                  </a:lnTo>
                  <a:lnTo>
                    <a:pt x="3738" y="1301"/>
                  </a:lnTo>
                  <a:lnTo>
                    <a:pt x="3668" y="1296"/>
                  </a:lnTo>
                  <a:lnTo>
                    <a:pt x="3598" y="1290"/>
                  </a:lnTo>
                  <a:lnTo>
                    <a:pt x="3524" y="1280"/>
                  </a:lnTo>
                  <a:lnTo>
                    <a:pt x="3449" y="1267"/>
                  </a:lnTo>
                  <a:lnTo>
                    <a:pt x="3371" y="1253"/>
                  </a:lnTo>
                  <a:lnTo>
                    <a:pt x="3292" y="1233"/>
                  </a:lnTo>
                  <a:lnTo>
                    <a:pt x="3212" y="1212"/>
                  </a:lnTo>
                  <a:lnTo>
                    <a:pt x="3212" y="1212"/>
                  </a:lnTo>
                  <a:lnTo>
                    <a:pt x="3049" y="1167"/>
                  </a:lnTo>
                  <a:lnTo>
                    <a:pt x="2894" y="1129"/>
                  </a:lnTo>
                  <a:lnTo>
                    <a:pt x="2742" y="1091"/>
                  </a:lnTo>
                  <a:lnTo>
                    <a:pt x="2598" y="1059"/>
                  </a:lnTo>
                  <a:lnTo>
                    <a:pt x="2458" y="1032"/>
                  </a:lnTo>
                  <a:lnTo>
                    <a:pt x="2323" y="1007"/>
                  </a:lnTo>
                  <a:lnTo>
                    <a:pt x="2194" y="986"/>
                  </a:lnTo>
                  <a:lnTo>
                    <a:pt x="2069" y="970"/>
                  </a:lnTo>
                  <a:lnTo>
                    <a:pt x="1948" y="957"/>
                  </a:lnTo>
                  <a:lnTo>
                    <a:pt x="1833" y="948"/>
                  </a:lnTo>
                  <a:lnTo>
                    <a:pt x="1720" y="943"/>
                  </a:lnTo>
                  <a:lnTo>
                    <a:pt x="1612" y="941"/>
                  </a:lnTo>
                  <a:lnTo>
                    <a:pt x="1508" y="943"/>
                  </a:lnTo>
                  <a:lnTo>
                    <a:pt x="1408" y="948"/>
                  </a:lnTo>
                  <a:lnTo>
                    <a:pt x="1311" y="957"/>
                  </a:lnTo>
                  <a:lnTo>
                    <a:pt x="1216" y="969"/>
                  </a:lnTo>
                  <a:lnTo>
                    <a:pt x="1171" y="977"/>
                  </a:lnTo>
                  <a:lnTo>
                    <a:pt x="1126" y="985"/>
                  </a:lnTo>
                  <a:lnTo>
                    <a:pt x="1082" y="994"/>
                  </a:lnTo>
                  <a:lnTo>
                    <a:pt x="1037" y="1004"/>
                  </a:lnTo>
                  <a:lnTo>
                    <a:pt x="994" y="1015"/>
                  </a:lnTo>
                  <a:lnTo>
                    <a:pt x="953" y="1027"/>
                  </a:lnTo>
                  <a:lnTo>
                    <a:pt x="911" y="1040"/>
                  </a:lnTo>
                  <a:lnTo>
                    <a:pt x="869" y="1053"/>
                  </a:lnTo>
                  <a:lnTo>
                    <a:pt x="829" y="1067"/>
                  </a:lnTo>
                  <a:lnTo>
                    <a:pt x="789" y="1082"/>
                  </a:lnTo>
                  <a:lnTo>
                    <a:pt x="711" y="1114"/>
                  </a:lnTo>
                  <a:lnTo>
                    <a:pt x="635" y="1150"/>
                  </a:lnTo>
                  <a:lnTo>
                    <a:pt x="560" y="1188"/>
                  </a:lnTo>
                  <a:lnTo>
                    <a:pt x="486" y="1230"/>
                  </a:lnTo>
                  <a:lnTo>
                    <a:pt x="414" y="1275"/>
                  </a:lnTo>
                  <a:lnTo>
                    <a:pt x="343" y="1324"/>
                  </a:lnTo>
                  <a:lnTo>
                    <a:pt x="274" y="1374"/>
                  </a:lnTo>
                  <a:lnTo>
                    <a:pt x="204" y="1429"/>
                  </a:lnTo>
                  <a:lnTo>
                    <a:pt x="136" y="1485"/>
                  </a:lnTo>
                  <a:lnTo>
                    <a:pt x="68" y="1545"/>
                  </a:lnTo>
                  <a:lnTo>
                    <a:pt x="0" y="160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9433400">
              <a:off x="2417400" y="-2044080"/>
              <a:ext cx="10531800" cy="3723840"/>
            </a:xfrm>
            <a:custGeom>
              <a:avLst/>
              <a:gdLst/>
              <a:ahLst/>
              <a:rect l="l" t="t" r="r" b="b"/>
              <a:pathLst>
                <a:path w="5265" h="1722">
                  <a:moveTo>
                    <a:pt x="5265" y="0"/>
                  </a:moveTo>
                  <a:lnTo>
                    <a:pt x="5265" y="0"/>
                  </a:lnTo>
                  <a:lnTo>
                    <a:pt x="5262" y="20"/>
                  </a:lnTo>
                  <a:lnTo>
                    <a:pt x="5249" y="73"/>
                  </a:lnTo>
                  <a:lnTo>
                    <a:pt x="5238" y="112"/>
                  </a:lnTo>
                  <a:lnTo>
                    <a:pt x="5226" y="155"/>
                  </a:lnTo>
                  <a:lnTo>
                    <a:pt x="5210" y="205"/>
                  </a:lnTo>
                  <a:lnTo>
                    <a:pt x="5191" y="262"/>
                  </a:lnTo>
                  <a:lnTo>
                    <a:pt x="5169" y="322"/>
                  </a:lnTo>
                  <a:lnTo>
                    <a:pt x="5142" y="385"/>
                  </a:lnTo>
                  <a:lnTo>
                    <a:pt x="5113" y="451"/>
                  </a:lnTo>
                  <a:lnTo>
                    <a:pt x="5078" y="520"/>
                  </a:lnTo>
                  <a:lnTo>
                    <a:pt x="5040" y="590"/>
                  </a:lnTo>
                  <a:lnTo>
                    <a:pt x="5019" y="625"/>
                  </a:lnTo>
                  <a:lnTo>
                    <a:pt x="4997" y="661"/>
                  </a:lnTo>
                  <a:lnTo>
                    <a:pt x="4974" y="696"/>
                  </a:lnTo>
                  <a:lnTo>
                    <a:pt x="4949" y="732"/>
                  </a:lnTo>
                  <a:lnTo>
                    <a:pt x="4923" y="767"/>
                  </a:lnTo>
                  <a:lnTo>
                    <a:pt x="4897" y="803"/>
                  </a:lnTo>
                  <a:lnTo>
                    <a:pt x="4869" y="838"/>
                  </a:lnTo>
                  <a:lnTo>
                    <a:pt x="4838" y="872"/>
                  </a:lnTo>
                  <a:lnTo>
                    <a:pt x="4808" y="906"/>
                  </a:lnTo>
                  <a:lnTo>
                    <a:pt x="4776" y="938"/>
                  </a:lnTo>
                  <a:lnTo>
                    <a:pt x="4741" y="971"/>
                  </a:lnTo>
                  <a:lnTo>
                    <a:pt x="4706" y="1003"/>
                  </a:lnTo>
                  <a:lnTo>
                    <a:pt x="4670" y="1034"/>
                  </a:lnTo>
                  <a:lnTo>
                    <a:pt x="4631" y="1064"/>
                  </a:lnTo>
                  <a:lnTo>
                    <a:pt x="4593" y="1093"/>
                  </a:lnTo>
                  <a:lnTo>
                    <a:pt x="4551" y="1121"/>
                  </a:lnTo>
                  <a:lnTo>
                    <a:pt x="4509" y="1147"/>
                  </a:lnTo>
                  <a:lnTo>
                    <a:pt x="4465" y="1173"/>
                  </a:lnTo>
                  <a:lnTo>
                    <a:pt x="4419" y="1195"/>
                  </a:lnTo>
                  <a:lnTo>
                    <a:pt x="4370" y="1218"/>
                  </a:lnTo>
                  <a:lnTo>
                    <a:pt x="4322" y="1239"/>
                  </a:lnTo>
                  <a:lnTo>
                    <a:pt x="4270" y="1258"/>
                  </a:lnTo>
                  <a:lnTo>
                    <a:pt x="4218" y="1274"/>
                  </a:lnTo>
                  <a:lnTo>
                    <a:pt x="4163" y="1290"/>
                  </a:lnTo>
                  <a:lnTo>
                    <a:pt x="4108" y="1303"/>
                  </a:lnTo>
                  <a:lnTo>
                    <a:pt x="4050" y="1315"/>
                  </a:lnTo>
                  <a:lnTo>
                    <a:pt x="3990" y="1324"/>
                  </a:lnTo>
                  <a:lnTo>
                    <a:pt x="3929" y="1331"/>
                  </a:lnTo>
                  <a:lnTo>
                    <a:pt x="3865" y="1336"/>
                  </a:lnTo>
                  <a:lnTo>
                    <a:pt x="3800" y="1337"/>
                  </a:lnTo>
                  <a:lnTo>
                    <a:pt x="3732" y="1337"/>
                  </a:lnTo>
                  <a:lnTo>
                    <a:pt x="3662" y="1336"/>
                  </a:lnTo>
                  <a:lnTo>
                    <a:pt x="3591" y="1329"/>
                  </a:lnTo>
                  <a:lnTo>
                    <a:pt x="3518" y="1321"/>
                  </a:lnTo>
                  <a:lnTo>
                    <a:pt x="3443" y="1311"/>
                  </a:lnTo>
                  <a:lnTo>
                    <a:pt x="3365" y="1297"/>
                  </a:lnTo>
                  <a:lnTo>
                    <a:pt x="3286" y="1279"/>
                  </a:lnTo>
                  <a:lnTo>
                    <a:pt x="3204" y="1260"/>
                  </a:lnTo>
                  <a:lnTo>
                    <a:pt x="3204" y="1260"/>
                  </a:lnTo>
                  <a:lnTo>
                    <a:pt x="3042" y="1219"/>
                  </a:lnTo>
                  <a:lnTo>
                    <a:pt x="2885" y="1181"/>
                  </a:lnTo>
                  <a:lnTo>
                    <a:pt x="2733" y="1148"/>
                  </a:lnTo>
                  <a:lnTo>
                    <a:pt x="2588" y="1119"/>
                  </a:lnTo>
                  <a:lnTo>
                    <a:pt x="2447" y="1093"/>
                  </a:lnTo>
                  <a:lnTo>
                    <a:pt x="2313" y="1071"/>
                  </a:lnTo>
                  <a:lnTo>
                    <a:pt x="2184" y="1053"/>
                  </a:lnTo>
                  <a:lnTo>
                    <a:pt x="2059" y="1039"/>
                  </a:lnTo>
                  <a:lnTo>
                    <a:pt x="1938" y="1029"/>
                  </a:lnTo>
                  <a:lnTo>
                    <a:pt x="1821" y="1022"/>
                  </a:lnTo>
                  <a:lnTo>
                    <a:pt x="1709" y="1019"/>
                  </a:lnTo>
                  <a:lnTo>
                    <a:pt x="1602" y="1019"/>
                  </a:lnTo>
                  <a:lnTo>
                    <a:pt x="1498" y="1024"/>
                  </a:lnTo>
                  <a:lnTo>
                    <a:pt x="1396" y="1031"/>
                  </a:lnTo>
                  <a:lnTo>
                    <a:pt x="1299" y="1042"/>
                  </a:lnTo>
                  <a:lnTo>
                    <a:pt x="1252" y="1048"/>
                  </a:lnTo>
                  <a:lnTo>
                    <a:pt x="1206" y="1056"/>
                  </a:lnTo>
                  <a:lnTo>
                    <a:pt x="1160" y="1064"/>
                  </a:lnTo>
                  <a:lnTo>
                    <a:pt x="1116" y="1074"/>
                  </a:lnTo>
                  <a:lnTo>
                    <a:pt x="1071" y="1084"/>
                  </a:lnTo>
                  <a:lnTo>
                    <a:pt x="1027" y="1095"/>
                  </a:lnTo>
                  <a:lnTo>
                    <a:pt x="985" y="1106"/>
                  </a:lnTo>
                  <a:lnTo>
                    <a:pt x="942" y="1119"/>
                  </a:lnTo>
                  <a:lnTo>
                    <a:pt x="901" y="1132"/>
                  </a:lnTo>
                  <a:lnTo>
                    <a:pt x="860" y="1147"/>
                  </a:lnTo>
                  <a:lnTo>
                    <a:pt x="820" y="1163"/>
                  </a:lnTo>
                  <a:lnTo>
                    <a:pt x="780" y="1177"/>
                  </a:lnTo>
                  <a:lnTo>
                    <a:pt x="702" y="1213"/>
                  </a:lnTo>
                  <a:lnTo>
                    <a:pt x="626" y="1250"/>
                  </a:lnTo>
                  <a:lnTo>
                    <a:pt x="552" y="1290"/>
                  </a:lnTo>
                  <a:lnTo>
                    <a:pt x="479" y="1334"/>
                  </a:lnTo>
                  <a:lnTo>
                    <a:pt x="408" y="1381"/>
                  </a:lnTo>
                  <a:lnTo>
                    <a:pt x="338" y="1429"/>
                  </a:lnTo>
                  <a:lnTo>
                    <a:pt x="269" y="1483"/>
                  </a:lnTo>
                  <a:lnTo>
                    <a:pt x="201" y="1538"/>
                  </a:lnTo>
                  <a:lnTo>
                    <a:pt x="133" y="1596"/>
                  </a:lnTo>
                  <a:lnTo>
                    <a:pt x="66" y="1657"/>
                  </a:lnTo>
                  <a:lnTo>
                    <a:pt x="0" y="172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9433400">
              <a:off x="2493720" y="-2206440"/>
              <a:ext cx="10479600" cy="3975480"/>
            </a:xfrm>
            <a:custGeom>
              <a:avLst/>
              <a:gdLst/>
              <a:ahLst/>
              <a:rect l="l" t="t" r="r" b="b"/>
              <a:pathLst>
                <a:path w="5239" h="1836">
                  <a:moveTo>
                    <a:pt x="5239" y="0"/>
                  </a:moveTo>
                  <a:lnTo>
                    <a:pt x="5239" y="0"/>
                  </a:lnTo>
                  <a:lnTo>
                    <a:pt x="5236" y="20"/>
                  </a:lnTo>
                  <a:lnTo>
                    <a:pt x="5223" y="74"/>
                  </a:lnTo>
                  <a:lnTo>
                    <a:pt x="5215" y="113"/>
                  </a:lnTo>
                  <a:lnTo>
                    <a:pt x="5202" y="158"/>
                  </a:lnTo>
                  <a:lnTo>
                    <a:pt x="5187" y="209"/>
                  </a:lnTo>
                  <a:lnTo>
                    <a:pt x="5169" y="265"/>
                  </a:lnTo>
                  <a:lnTo>
                    <a:pt x="5148" y="325"/>
                  </a:lnTo>
                  <a:lnTo>
                    <a:pt x="5122" y="389"/>
                  </a:lnTo>
                  <a:lnTo>
                    <a:pt x="5093" y="457"/>
                  </a:lnTo>
                  <a:lnTo>
                    <a:pt x="5061" y="527"/>
                  </a:lnTo>
                  <a:lnTo>
                    <a:pt x="5023" y="598"/>
                  </a:lnTo>
                  <a:lnTo>
                    <a:pt x="5003" y="635"/>
                  </a:lnTo>
                  <a:lnTo>
                    <a:pt x="4982" y="670"/>
                  </a:lnTo>
                  <a:lnTo>
                    <a:pt x="4958" y="706"/>
                  </a:lnTo>
                  <a:lnTo>
                    <a:pt x="4934" y="743"/>
                  </a:lnTo>
                  <a:lnTo>
                    <a:pt x="4909" y="778"/>
                  </a:lnTo>
                  <a:lnTo>
                    <a:pt x="4883" y="814"/>
                  </a:lnTo>
                  <a:lnTo>
                    <a:pt x="4855" y="850"/>
                  </a:lnTo>
                  <a:lnTo>
                    <a:pt x="4826" y="885"/>
                  </a:lnTo>
                  <a:lnTo>
                    <a:pt x="4796" y="921"/>
                  </a:lnTo>
                  <a:lnTo>
                    <a:pt x="4764" y="954"/>
                  </a:lnTo>
                  <a:lnTo>
                    <a:pt x="4730" y="987"/>
                  </a:lnTo>
                  <a:lnTo>
                    <a:pt x="4696" y="1019"/>
                  </a:lnTo>
                  <a:lnTo>
                    <a:pt x="4660" y="1051"/>
                  </a:lnTo>
                  <a:lnTo>
                    <a:pt x="4622" y="1082"/>
                  </a:lnTo>
                  <a:lnTo>
                    <a:pt x="4583" y="1113"/>
                  </a:lnTo>
                  <a:lnTo>
                    <a:pt x="4543" y="1140"/>
                  </a:lnTo>
                  <a:lnTo>
                    <a:pt x="4500" y="1168"/>
                  </a:lnTo>
                  <a:lnTo>
                    <a:pt x="4457" y="1195"/>
                  </a:lnTo>
                  <a:lnTo>
                    <a:pt x="4411" y="1219"/>
                  </a:lnTo>
                  <a:lnTo>
                    <a:pt x="4364" y="1242"/>
                  </a:lnTo>
                  <a:lnTo>
                    <a:pt x="4315" y="1265"/>
                  </a:lnTo>
                  <a:lnTo>
                    <a:pt x="4264" y="1284"/>
                  </a:lnTo>
                  <a:lnTo>
                    <a:pt x="4211" y="1303"/>
                  </a:lnTo>
                  <a:lnTo>
                    <a:pt x="4157" y="1319"/>
                  </a:lnTo>
                  <a:lnTo>
                    <a:pt x="4101" y="1334"/>
                  </a:lnTo>
                  <a:lnTo>
                    <a:pt x="4043" y="1347"/>
                  </a:lnTo>
                  <a:lnTo>
                    <a:pt x="3985" y="1357"/>
                  </a:lnTo>
                  <a:lnTo>
                    <a:pt x="3922" y="1365"/>
                  </a:lnTo>
                  <a:lnTo>
                    <a:pt x="3860" y="1371"/>
                  </a:lnTo>
                  <a:lnTo>
                    <a:pt x="3793" y="1374"/>
                  </a:lnTo>
                  <a:lnTo>
                    <a:pt x="3727" y="1376"/>
                  </a:lnTo>
                  <a:lnTo>
                    <a:pt x="3657" y="1374"/>
                  </a:lnTo>
                  <a:lnTo>
                    <a:pt x="3585" y="1371"/>
                  </a:lnTo>
                  <a:lnTo>
                    <a:pt x="3513" y="1365"/>
                  </a:lnTo>
                  <a:lnTo>
                    <a:pt x="3436" y="1355"/>
                  </a:lnTo>
                  <a:lnTo>
                    <a:pt x="3359" y="1342"/>
                  </a:lnTo>
                  <a:lnTo>
                    <a:pt x="3279" y="1326"/>
                  </a:lnTo>
                  <a:lnTo>
                    <a:pt x="3198" y="1308"/>
                  </a:lnTo>
                  <a:lnTo>
                    <a:pt x="3198" y="1308"/>
                  </a:lnTo>
                  <a:lnTo>
                    <a:pt x="3034" y="1269"/>
                  </a:lnTo>
                  <a:lnTo>
                    <a:pt x="2877" y="1235"/>
                  </a:lnTo>
                  <a:lnTo>
                    <a:pt x="2726" y="1205"/>
                  </a:lnTo>
                  <a:lnTo>
                    <a:pt x="2580" y="1179"/>
                  </a:lnTo>
                  <a:lnTo>
                    <a:pt x="2439" y="1156"/>
                  </a:lnTo>
                  <a:lnTo>
                    <a:pt x="2303" y="1137"/>
                  </a:lnTo>
                  <a:lnTo>
                    <a:pt x="2174" y="1121"/>
                  </a:lnTo>
                  <a:lnTo>
                    <a:pt x="2048" y="1109"/>
                  </a:lnTo>
                  <a:lnTo>
                    <a:pt x="1927" y="1101"/>
                  </a:lnTo>
                  <a:lnTo>
                    <a:pt x="1811" y="1097"/>
                  </a:lnTo>
                  <a:lnTo>
                    <a:pt x="1699" y="1097"/>
                  </a:lnTo>
                  <a:lnTo>
                    <a:pt x="1591" y="1100"/>
                  </a:lnTo>
                  <a:lnTo>
                    <a:pt x="1487" y="1105"/>
                  </a:lnTo>
                  <a:lnTo>
                    <a:pt x="1387" y="1114"/>
                  </a:lnTo>
                  <a:lnTo>
                    <a:pt x="1290" y="1127"/>
                  </a:lnTo>
                  <a:lnTo>
                    <a:pt x="1243" y="1135"/>
                  </a:lnTo>
                  <a:lnTo>
                    <a:pt x="1197" y="1143"/>
                  </a:lnTo>
                  <a:lnTo>
                    <a:pt x="1151" y="1153"/>
                  </a:lnTo>
                  <a:lnTo>
                    <a:pt x="1107" y="1164"/>
                  </a:lnTo>
                  <a:lnTo>
                    <a:pt x="1062" y="1174"/>
                  </a:lnTo>
                  <a:lnTo>
                    <a:pt x="1019" y="1187"/>
                  </a:lnTo>
                  <a:lnTo>
                    <a:pt x="976" y="1200"/>
                  </a:lnTo>
                  <a:lnTo>
                    <a:pt x="934" y="1213"/>
                  </a:lnTo>
                  <a:lnTo>
                    <a:pt x="893" y="1227"/>
                  </a:lnTo>
                  <a:lnTo>
                    <a:pt x="853" y="1242"/>
                  </a:lnTo>
                  <a:lnTo>
                    <a:pt x="812" y="1258"/>
                  </a:lnTo>
                  <a:lnTo>
                    <a:pt x="772" y="1276"/>
                  </a:lnTo>
                  <a:lnTo>
                    <a:pt x="696" y="1311"/>
                  </a:lnTo>
                  <a:lnTo>
                    <a:pt x="619" y="1350"/>
                  </a:lnTo>
                  <a:lnTo>
                    <a:pt x="546" y="1392"/>
                  </a:lnTo>
                  <a:lnTo>
                    <a:pt x="473" y="1437"/>
                  </a:lnTo>
                  <a:lnTo>
                    <a:pt x="404" y="1486"/>
                  </a:lnTo>
                  <a:lnTo>
                    <a:pt x="335" y="1537"/>
                  </a:lnTo>
                  <a:lnTo>
                    <a:pt x="267" y="1591"/>
                  </a:lnTo>
                  <a:lnTo>
                    <a:pt x="199" y="1649"/>
                  </a:lnTo>
                  <a:lnTo>
                    <a:pt x="132" y="1709"/>
                  </a:lnTo>
                  <a:lnTo>
                    <a:pt x="67" y="1772"/>
                  </a:lnTo>
                  <a:lnTo>
                    <a:pt x="0" y="183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9433400">
              <a:off x="2572560" y="-2370240"/>
              <a:ext cx="10424520" cy="4226760"/>
            </a:xfrm>
            <a:custGeom>
              <a:avLst/>
              <a:gdLst/>
              <a:ahLst/>
              <a:rect l="l" t="t" r="r" b="b"/>
              <a:pathLst>
                <a:path w="5211" h="1952">
                  <a:moveTo>
                    <a:pt x="5211" y="0"/>
                  </a:moveTo>
                  <a:lnTo>
                    <a:pt x="5211" y="0"/>
                  </a:lnTo>
                  <a:lnTo>
                    <a:pt x="5206" y="21"/>
                  </a:lnTo>
                  <a:lnTo>
                    <a:pt x="5197" y="76"/>
                  </a:lnTo>
                  <a:lnTo>
                    <a:pt x="5187" y="115"/>
                  </a:lnTo>
                  <a:lnTo>
                    <a:pt x="5176" y="160"/>
                  </a:lnTo>
                  <a:lnTo>
                    <a:pt x="5162" y="212"/>
                  </a:lnTo>
                  <a:lnTo>
                    <a:pt x="5144" y="268"/>
                  </a:lnTo>
                  <a:lnTo>
                    <a:pt x="5123" y="329"/>
                  </a:lnTo>
                  <a:lnTo>
                    <a:pt x="5100" y="394"/>
                  </a:lnTo>
                  <a:lnTo>
                    <a:pt x="5072" y="463"/>
                  </a:lnTo>
                  <a:lnTo>
                    <a:pt x="5040" y="533"/>
                  </a:lnTo>
                  <a:lnTo>
                    <a:pt x="5004" y="606"/>
                  </a:lnTo>
                  <a:lnTo>
                    <a:pt x="4983" y="643"/>
                  </a:lnTo>
                  <a:lnTo>
                    <a:pt x="4962" y="680"/>
                  </a:lnTo>
                  <a:lnTo>
                    <a:pt x="4940" y="715"/>
                  </a:lnTo>
                  <a:lnTo>
                    <a:pt x="4916" y="753"/>
                  </a:lnTo>
                  <a:lnTo>
                    <a:pt x="4893" y="790"/>
                  </a:lnTo>
                  <a:lnTo>
                    <a:pt x="4866" y="827"/>
                  </a:lnTo>
                  <a:lnTo>
                    <a:pt x="4839" y="862"/>
                  </a:lnTo>
                  <a:lnTo>
                    <a:pt x="4811" y="898"/>
                  </a:lnTo>
                  <a:lnTo>
                    <a:pt x="4780" y="933"/>
                  </a:lnTo>
                  <a:lnTo>
                    <a:pt x="4750" y="969"/>
                  </a:lnTo>
                  <a:lnTo>
                    <a:pt x="4716" y="1003"/>
                  </a:lnTo>
                  <a:lnTo>
                    <a:pt x="4683" y="1037"/>
                  </a:lnTo>
                  <a:lnTo>
                    <a:pt x="4647" y="1069"/>
                  </a:lnTo>
                  <a:lnTo>
                    <a:pt x="4609" y="1100"/>
                  </a:lnTo>
                  <a:lnTo>
                    <a:pt x="4571" y="1130"/>
                  </a:lnTo>
                  <a:lnTo>
                    <a:pt x="4530" y="1161"/>
                  </a:lnTo>
                  <a:lnTo>
                    <a:pt x="4489" y="1188"/>
                  </a:lnTo>
                  <a:lnTo>
                    <a:pt x="4446" y="1216"/>
                  </a:lnTo>
                  <a:lnTo>
                    <a:pt x="4400" y="1242"/>
                  </a:lnTo>
                  <a:lnTo>
                    <a:pt x="4354" y="1266"/>
                  </a:lnTo>
                  <a:lnTo>
                    <a:pt x="4305" y="1289"/>
                  </a:lnTo>
                  <a:lnTo>
                    <a:pt x="4255" y="1311"/>
                  </a:lnTo>
                  <a:lnTo>
                    <a:pt x="4203" y="1331"/>
                  </a:lnTo>
                  <a:lnTo>
                    <a:pt x="4148" y="1348"/>
                  </a:lnTo>
                  <a:lnTo>
                    <a:pt x="4093" y="1363"/>
                  </a:lnTo>
                  <a:lnTo>
                    <a:pt x="4036" y="1377"/>
                  </a:lnTo>
                  <a:lnTo>
                    <a:pt x="3976" y="1389"/>
                  </a:lnTo>
                  <a:lnTo>
                    <a:pt x="3915" y="1398"/>
                  </a:lnTo>
                  <a:lnTo>
                    <a:pt x="3851" y="1406"/>
                  </a:lnTo>
                  <a:lnTo>
                    <a:pt x="3786" y="1411"/>
                  </a:lnTo>
                  <a:lnTo>
                    <a:pt x="3718" y="1413"/>
                  </a:lnTo>
                  <a:lnTo>
                    <a:pt x="3649" y="1415"/>
                  </a:lnTo>
                  <a:lnTo>
                    <a:pt x="3578" y="1411"/>
                  </a:lnTo>
                  <a:lnTo>
                    <a:pt x="3504" y="1406"/>
                  </a:lnTo>
                  <a:lnTo>
                    <a:pt x="3428" y="1398"/>
                  </a:lnTo>
                  <a:lnTo>
                    <a:pt x="3350" y="1387"/>
                  </a:lnTo>
                  <a:lnTo>
                    <a:pt x="3271" y="1373"/>
                  </a:lnTo>
                  <a:lnTo>
                    <a:pt x="3188" y="1356"/>
                  </a:lnTo>
                  <a:lnTo>
                    <a:pt x="3188" y="1356"/>
                  </a:lnTo>
                  <a:lnTo>
                    <a:pt x="3025" y="1321"/>
                  </a:lnTo>
                  <a:lnTo>
                    <a:pt x="2867" y="1290"/>
                  </a:lnTo>
                  <a:lnTo>
                    <a:pt x="2716" y="1263"/>
                  </a:lnTo>
                  <a:lnTo>
                    <a:pt x="2568" y="1239"/>
                  </a:lnTo>
                  <a:lnTo>
                    <a:pt x="2428" y="1219"/>
                  </a:lnTo>
                  <a:lnTo>
                    <a:pt x="2292" y="1203"/>
                  </a:lnTo>
                  <a:lnTo>
                    <a:pt x="2162" y="1190"/>
                  </a:lnTo>
                  <a:lnTo>
                    <a:pt x="2037" y="1180"/>
                  </a:lnTo>
                  <a:lnTo>
                    <a:pt x="1916" y="1174"/>
                  </a:lnTo>
                  <a:lnTo>
                    <a:pt x="1799" y="1172"/>
                  </a:lnTo>
                  <a:lnTo>
                    <a:pt x="1688" y="1174"/>
                  </a:lnTo>
                  <a:lnTo>
                    <a:pt x="1580" y="1179"/>
                  </a:lnTo>
                  <a:lnTo>
                    <a:pt x="1476" y="1187"/>
                  </a:lnTo>
                  <a:lnTo>
                    <a:pt x="1376" y="1198"/>
                  </a:lnTo>
                  <a:lnTo>
                    <a:pt x="1279" y="1214"/>
                  </a:lnTo>
                  <a:lnTo>
                    <a:pt x="1231" y="1222"/>
                  </a:lnTo>
                  <a:lnTo>
                    <a:pt x="1186" y="1232"/>
                  </a:lnTo>
                  <a:lnTo>
                    <a:pt x="1140" y="1242"/>
                  </a:lnTo>
                  <a:lnTo>
                    <a:pt x="1095" y="1253"/>
                  </a:lnTo>
                  <a:lnTo>
                    <a:pt x="1052" y="1266"/>
                  </a:lnTo>
                  <a:lnTo>
                    <a:pt x="1009" y="1279"/>
                  </a:lnTo>
                  <a:lnTo>
                    <a:pt x="966" y="1292"/>
                  </a:lnTo>
                  <a:lnTo>
                    <a:pt x="925" y="1306"/>
                  </a:lnTo>
                  <a:lnTo>
                    <a:pt x="883" y="1323"/>
                  </a:lnTo>
                  <a:lnTo>
                    <a:pt x="843" y="1339"/>
                  </a:lnTo>
                  <a:lnTo>
                    <a:pt x="802" y="1355"/>
                  </a:lnTo>
                  <a:lnTo>
                    <a:pt x="763" y="1373"/>
                  </a:lnTo>
                  <a:lnTo>
                    <a:pt x="687" y="1410"/>
                  </a:lnTo>
                  <a:lnTo>
                    <a:pt x="612" y="1452"/>
                  </a:lnTo>
                  <a:lnTo>
                    <a:pt x="539" y="1495"/>
                  </a:lnTo>
                  <a:lnTo>
                    <a:pt x="468" y="1542"/>
                  </a:lnTo>
                  <a:lnTo>
                    <a:pt x="398" y="1592"/>
                  </a:lnTo>
                  <a:lnTo>
                    <a:pt x="329" y="1644"/>
                  </a:lnTo>
                  <a:lnTo>
                    <a:pt x="262" y="1700"/>
                  </a:lnTo>
                  <a:lnTo>
                    <a:pt x="196" y="1758"/>
                  </a:lnTo>
                  <a:lnTo>
                    <a:pt x="130" y="1821"/>
                  </a:lnTo>
                  <a:lnTo>
                    <a:pt x="65" y="1884"/>
                  </a:lnTo>
                  <a:lnTo>
                    <a:pt x="0" y="195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9433400">
              <a:off x="2655000" y="-2532240"/>
              <a:ext cx="10360080" cy="4478040"/>
            </a:xfrm>
            <a:custGeom>
              <a:avLst/>
              <a:gdLst/>
              <a:ahLst/>
              <a:rect l="l" t="t" r="r" b="b"/>
              <a:pathLst>
                <a:path w="5179" h="2066">
                  <a:moveTo>
                    <a:pt x="5179" y="0"/>
                  </a:moveTo>
                  <a:lnTo>
                    <a:pt x="5179" y="0"/>
                  </a:lnTo>
                  <a:lnTo>
                    <a:pt x="5176" y="19"/>
                  </a:lnTo>
                  <a:lnTo>
                    <a:pt x="5166" y="74"/>
                  </a:lnTo>
                  <a:lnTo>
                    <a:pt x="5158" y="114"/>
                  </a:lnTo>
                  <a:lnTo>
                    <a:pt x="5148" y="159"/>
                  </a:lnTo>
                  <a:lnTo>
                    <a:pt x="5134" y="211"/>
                  </a:lnTo>
                  <a:lnTo>
                    <a:pt x="5118" y="269"/>
                  </a:lnTo>
                  <a:lnTo>
                    <a:pt x="5098" y="331"/>
                  </a:lnTo>
                  <a:lnTo>
                    <a:pt x="5075" y="397"/>
                  </a:lnTo>
                  <a:lnTo>
                    <a:pt x="5048" y="466"/>
                  </a:lnTo>
                  <a:lnTo>
                    <a:pt x="5016" y="537"/>
                  </a:lnTo>
                  <a:lnTo>
                    <a:pt x="4982" y="612"/>
                  </a:lnTo>
                  <a:lnTo>
                    <a:pt x="4962" y="649"/>
                  </a:lnTo>
                  <a:lnTo>
                    <a:pt x="4941" y="686"/>
                  </a:lnTo>
                  <a:lnTo>
                    <a:pt x="4921" y="723"/>
                  </a:lnTo>
                  <a:lnTo>
                    <a:pt x="4897" y="762"/>
                  </a:lnTo>
                  <a:lnTo>
                    <a:pt x="4873" y="799"/>
                  </a:lnTo>
                  <a:lnTo>
                    <a:pt x="4848" y="836"/>
                  </a:lnTo>
                  <a:lnTo>
                    <a:pt x="4822" y="873"/>
                  </a:lnTo>
                  <a:lnTo>
                    <a:pt x="4794" y="909"/>
                  </a:lnTo>
                  <a:lnTo>
                    <a:pt x="4764" y="946"/>
                  </a:lnTo>
                  <a:lnTo>
                    <a:pt x="4733" y="981"/>
                  </a:lnTo>
                  <a:lnTo>
                    <a:pt x="4701" y="1015"/>
                  </a:lnTo>
                  <a:lnTo>
                    <a:pt x="4668" y="1051"/>
                  </a:lnTo>
                  <a:lnTo>
                    <a:pt x="4632" y="1083"/>
                  </a:lnTo>
                  <a:lnTo>
                    <a:pt x="4596" y="1117"/>
                  </a:lnTo>
                  <a:lnTo>
                    <a:pt x="4558" y="1148"/>
                  </a:lnTo>
                  <a:lnTo>
                    <a:pt x="4518" y="1178"/>
                  </a:lnTo>
                  <a:lnTo>
                    <a:pt x="4476" y="1207"/>
                  </a:lnTo>
                  <a:lnTo>
                    <a:pt x="4433" y="1236"/>
                  </a:lnTo>
                  <a:lnTo>
                    <a:pt x="4389" y="1262"/>
                  </a:lnTo>
                  <a:lnTo>
                    <a:pt x="4342" y="1288"/>
                  </a:lnTo>
                  <a:lnTo>
                    <a:pt x="4294" y="1312"/>
                  </a:lnTo>
                  <a:lnTo>
                    <a:pt x="4244" y="1335"/>
                  </a:lnTo>
                  <a:lnTo>
                    <a:pt x="4192" y="1356"/>
                  </a:lnTo>
                  <a:lnTo>
                    <a:pt x="4139" y="1374"/>
                  </a:lnTo>
                  <a:lnTo>
                    <a:pt x="4083" y="1391"/>
                  </a:lnTo>
                  <a:lnTo>
                    <a:pt x="4026" y="1406"/>
                  </a:lnTo>
                  <a:lnTo>
                    <a:pt x="3967" y="1419"/>
                  </a:lnTo>
                  <a:lnTo>
                    <a:pt x="3906" y="1430"/>
                  </a:lnTo>
                  <a:lnTo>
                    <a:pt x="3842" y="1438"/>
                  </a:lnTo>
                  <a:lnTo>
                    <a:pt x="3777" y="1445"/>
                  </a:lnTo>
                  <a:lnTo>
                    <a:pt x="3710" y="1450"/>
                  </a:lnTo>
                  <a:lnTo>
                    <a:pt x="3641" y="1451"/>
                  </a:lnTo>
                  <a:lnTo>
                    <a:pt x="3568" y="1450"/>
                  </a:lnTo>
                  <a:lnTo>
                    <a:pt x="3495" y="1446"/>
                  </a:lnTo>
                  <a:lnTo>
                    <a:pt x="3420" y="1440"/>
                  </a:lnTo>
                  <a:lnTo>
                    <a:pt x="3341" y="1430"/>
                  </a:lnTo>
                  <a:lnTo>
                    <a:pt x="3261" y="1417"/>
                  </a:lnTo>
                  <a:lnTo>
                    <a:pt x="3178" y="1403"/>
                  </a:lnTo>
                  <a:lnTo>
                    <a:pt x="3178" y="1403"/>
                  </a:lnTo>
                  <a:lnTo>
                    <a:pt x="3014" y="1370"/>
                  </a:lnTo>
                  <a:lnTo>
                    <a:pt x="2856" y="1343"/>
                  </a:lnTo>
                  <a:lnTo>
                    <a:pt x="2703" y="1317"/>
                  </a:lnTo>
                  <a:lnTo>
                    <a:pt x="2558" y="1296"/>
                  </a:lnTo>
                  <a:lnTo>
                    <a:pt x="2416" y="1280"/>
                  </a:lnTo>
                  <a:lnTo>
                    <a:pt x="2281" y="1265"/>
                  </a:lnTo>
                  <a:lnTo>
                    <a:pt x="2149" y="1256"/>
                  </a:lnTo>
                  <a:lnTo>
                    <a:pt x="2024" y="1249"/>
                  </a:lnTo>
                  <a:lnTo>
                    <a:pt x="1904" y="1246"/>
                  </a:lnTo>
                  <a:lnTo>
                    <a:pt x="1787" y="1246"/>
                  </a:lnTo>
                  <a:lnTo>
                    <a:pt x="1674" y="1249"/>
                  </a:lnTo>
                  <a:lnTo>
                    <a:pt x="1568" y="1256"/>
                  </a:lnTo>
                  <a:lnTo>
                    <a:pt x="1463" y="1267"/>
                  </a:lnTo>
                  <a:lnTo>
                    <a:pt x="1363" y="1280"/>
                  </a:lnTo>
                  <a:lnTo>
                    <a:pt x="1315" y="1288"/>
                  </a:lnTo>
                  <a:lnTo>
                    <a:pt x="1268" y="1298"/>
                  </a:lnTo>
                  <a:lnTo>
                    <a:pt x="1220" y="1307"/>
                  </a:lnTo>
                  <a:lnTo>
                    <a:pt x="1175" y="1319"/>
                  </a:lnTo>
                  <a:lnTo>
                    <a:pt x="1129" y="1330"/>
                  </a:lnTo>
                  <a:lnTo>
                    <a:pt x="1084" y="1341"/>
                  </a:lnTo>
                  <a:lnTo>
                    <a:pt x="1041" y="1354"/>
                  </a:lnTo>
                  <a:lnTo>
                    <a:pt x="998" y="1369"/>
                  </a:lnTo>
                  <a:lnTo>
                    <a:pt x="955" y="1383"/>
                  </a:lnTo>
                  <a:lnTo>
                    <a:pt x="914" y="1398"/>
                  </a:lnTo>
                  <a:lnTo>
                    <a:pt x="873" y="1414"/>
                  </a:lnTo>
                  <a:lnTo>
                    <a:pt x="833" y="1432"/>
                  </a:lnTo>
                  <a:lnTo>
                    <a:pt x="793" y="1450"/>
                  </a:lnTo>
                  <a:lnTo>
                    <a:pt x="754" y="1467"/>
                  </a:lnTo>
                  <a:lnTo>
                    <a:pt x="716" y="1487"/>
                  </a:lnTo>
                  <a:lnTo>
                    <a:pt x="678" y="1508"/>
                  </a:lnTo>
                  <a:lnTo>
                    <a:pt x="604" y="1550"/>
                  </a:lnTo>
                  <a:lnTo>
                    <a:pt x="532" y="1595"/>
                  </a:lnTo>
                  <a:lnTo>
                    <a:pt x="461" y="1643"/>
                  </a:lnTo>
                  <a:lnTo>
                    <a:pt x="392" y="1695"/>
                  </a:lnTo>
                  <a:lnTo>
                    <a:pt x="325" y="1750"/>
                  </a:lnTo>
                  <a:lnTo>
                    <a:pt x="258" y="1808"/>
                  </a:lnTo>
                  <a:lnTo>
                    <a:pt x="193" y="1868"/>
                  </a:lnTo>
                  <a:lnTo>
                    <a:pt x="128" y="1931"/>
                  </a:lnTo>
                  <a:lnTo>
                    <a:pt x="64" y="1997"/>
                  </a:lnTo>
                  <a:lnTo>
                    <a:pt x="0" y="206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9433400">
              <a:off x="2735280" y="-2695320"/>
              <a:ext cx="10299960" cy="4724640"/>
            </a:xfrm>
            <a:custGeom>
              <a:avLst/>
              <a:gdLst/>
              <a:ahLst/>
              <a:rect l="l" t="t" r="r" b="b"/>
              <a:pathLst>
                <a:path w="5149" h="2182">
                  <a:moveTo>
                    <a:pt x="5149" y="0"/>
                  </a:moveTo>
                  <a:lnTo>
                    <a:pt x="5149" y="0"/>
                  </a:lnTo>
                  <a:lnTo>
                    <a:pt x="5146" y="20"/>
                  </a:lnTo>
                  <a:lnTo>
                    <a:pt x="5136" y="76"/>
                  </a:lnTo>
                  <a:lnTo>
                    <a:pt x="5129" y="115"/>
                  </a:lnTo>
                  <a:lnTo>
                    <a:pt x="5119" y="162"/>
                  </a:lnTo>
                  <a:lnTo>
                    <a:pt x="5105" y="215"/>
                  </a:lnTo>
                  <a:lnTo>
                    <a:pt x="5090" y="273"/>
                  </a:lnTo>
                  <a:lnTo>
                    <a:pt x="5072" y="336"/>
                  </a:lnTo>
                  <a:lnTo>
                    <a:pt x="5050" y="402"/>
                  </a:lnTo>
                  <a:lnTo>
                    <a:pt x="5024" y="472"/>
                  </a:lnTo>
                  <a:lnTo>
                    <a:pt x="4993" y="545"/>
                  </a:lnTo>
                  <a:lnTo>
                    <a:pt x="4960" y="620"/>
                  </a:lnTo>
                  <a:lnTo>
                    <a:pt x="4940" y="658"/>
                  </a:lnTo>
                  <a:lnTo>
                    <a:pt x="4921" y="696"/>
                  </a:lnTo>
                  <a:lnTo>
                    <a:pt x="4900" y="734"/>
                  </a:lnTo>
                  <a:lnTo>
                    <a:pt x="4878" y="772"/>
                  </a:lnTo>
                  <a:lnTo>
                    <a:pt x="4854" y="809"/>
                  </a:lnTo>
                  <a:lnTo>
                    <a:pt x="4829" y="848"/>
                  </a:lnTo>
                  <a:lnTo>
                    <a:pt x="4803" y="885"/>
                  </a:lnTo>
                  <a:lnTo>
                    <a:pt x="4776" y="922"/>
                  </a:lnTo>
                  <a:lnTo>
                    <a:pt x="4747" y="960"/>
                  </a:lnTo>
                  <a:lnTo>
                    <a:pt x="4717" y="997"/>
                  </a:lnTo>
                  <a:lnTo>
                    <a:pt x="4685" y="1032"/>
                  </a:lnTo>
                  <a:lnTo>
                    <a:pt x="4651" y="1068"/>
                  </a:lnTo>
                  <a:lnTo>
                    <a:pt x="4617" y="1102"/>
                  </a:lnTo>
                  <a:lnTo>
                    <a:pt x="4581" y="1136"/>
                  </a:lnTo>
                  <a:lnTo>
                    <a:pt x="4543" y="1168"/>
                  </a:lnTo>
                  <a:lnTo>
                    <a:pt x="4504" y="1199"/>
                  </a:lnTo>
                  <a:lnTo>
                    <a:pt x="4463" y="1229"/>
                  </a:lnTo>
                  <a:lnTo>
                    <a:pt x="4421" y="1258"/>
                  </a:lnTo>
                  <a:lnTo>
                    <a:pt x="4377" y="1287"/>
                  </a:lnTo>
                  <a:lnTo>
                    <a:pt x="4331" y="1313"/>
                  </a:lnTo>
                  <a:lnTo>
                    <a:pt x="4282" y="1337"/>
                  </a:lnTo>
                  <a:lnTo>
                    <a:pt x="4232" y="1362"/>
                  </a:lnTo>
                  <a:lnTo>
                    <a:pt x="4181" y="1384"/>
                  </a:lnTo>
                  <a:lnTo>
                    <a:pt x="4128" y="1404"/>
                  </a:lnTo>
                  <a:lnTo>
                    <a:pt x="4073" y="1421"/>
                  </a:lnTo>
                  <a:lnTo>
                    <a:pt x="4016" y="1438"/>
                  </a:lnTo>
                  <a:lnTo>
                    <a:pt x="3957" y="1452"/>
                  </a:lnTo>
                  <a:lnTo>
                    <a:pt x="3896" y="1465"/>
                  </a:lnTo>
                  <a:lnTo>
                    <a:pt x="3832" y="1475"/>
                  </a:lnTo>
                  <a:lnTo>
                    <a:pt x="3767" y="1483"/>
                  </a:lnTo>
                  <a:lnTo>
                    <a:pt x="3700" y="1488"/>
                  </a:lnTo>
                  <a:lnTo>
                    <a:pt x="3631" y="1491"/>
                  </a:lnTo>
                  <a:lnTo>
                    <a:pt x="3559" y="1491"/>
                  </a:lnTo>
                  <a:lnTo>
                    <a:pt x="3485" y="1489"/>
                  </a:lnTo>
                  <a:lnTo>
                    <a:pt x="3410" y="1483"/>
                  </a:lnTo>
                  <a:lnTo>
                    <a:pt x="3331" y="1476"/>
                  </a:lnTo>
                  <a:lnTo>
                    <a:pt x="3251" y="1465"/>
                  </a:lnTo>
                  <a:lnTo>
                    <a:pt x="3169" y="1450"/>
                  </a:lnTo>
                  <a:lnTo>
                    <a:pt x="3169" y="1450"/>
                  </a:lnTo>
                  <a:lnTo>
                    <a:pt x="3003" y="1423"/>
                  </a:lnTo>
                  <a:lnTo>
                    <a:pt x="2845" y="1397"/>
                  </a:lnTo>
                  <a:lnTo>
                    <a:pt x="2692" y="1376"/>
                  </a:lnTo>
                  <a:lnTo>
                    <a:pt x="2545" y="1358"/>
                  </a:lnTo>
                  <a:lnTo>
                    <a:pt x="2405" y="1344"/>
                  </a:lnTo>
                  <a:lnTo>
                    <a:pt x="2269" y="1333"/>
                  </a:lnTo>
                  <a:lnTo>
                    <a:pt x="2138" y="1324"/>
                  </a:lnTo>
                  <a:lnTo>
                    <a:pt x="2012" y="1321"/>
                  </a:lnTo>
                  <a:lnTo>
                    <a:pt x="1891" y="1320"/>
                  </a:lnTo>
                  <a:lnTo>
                    <a:pt x="1775" y="1323"/>
                  </a:lnTo>
                  <a:lnTo>
                    <a:pt x="1664" y="1328"/>
                  </a:lnTo>
                  <a:lnTo>
                    <a:pt x="1555" y="1337"/>
                  </a:lnTo>
                  <a:lnTo>
                    <a:pt x="1451" y="1350"/>
                  </a:lnTo>
                  <a:lnTo>
                    <a:pt x="1353" y="1366"/>
                  </a:lnTo>
                  <a:lnTo>
                    <a:pt x="1304" y="1375"/>
                  </a:lnTo>
                  <a:lnTo>
                    <a:pt x="1255" y="1384"/>
                  </a:lnTo>
                  <a:lnTo>
                    <a:pt x="1210" y="1396"/>
                  </a:lnTo>
                  <a:lnTo>
                    <a:pt x="1164" y="1407"/>
                  </a:lnTo>
                  <a:lnTo>
                    <a:pt x="1118" y="1420"/>
                  </a:lnTo>
                  <a:lnTo>
                    <a:pt x="1074" y="1433"/>
                  </a:lnTo>
                  <a:lnTo>
                    <a:pt x="1030" y="1447"/>
                  </a:lnTo>
                  <a:lnTo>
                    <a:pt x="987" y="1462"/>
                  </a:lnTo>
                  <a:lnTo>
                    <a:pt x="946" y="1476"/>
                  </a:lnTo>
                  <a:lnTo>
                    <a:pt x="904" y="1492"/>
                  </a:lnTo>
                  <a:lnTo>
                    <a:pt x="864" y="1510"/>
                  </a:lnTo>
                  <a:lnTo>
                    <a:pt x="824" y="1528"/>
                  </a:lnTo>
                  <a:lnTo>
                    <a:pt x="785" y="1547"/>
                  </a:lnTo>
                  <a:lnTo>
                    <a:pt x="746" y="1567"/>
                  </a:lnTo>
                  <a:lnTo>
                    <a:pt x="707" y="1586"/>
                  </a:lnTo>
                  <a:lnTo>
                    <a:pt x="669" y="1607"/>
                  </a:lnTo>
                  <a:lnTo>
                    <a:pt x="596" y="1652"/>
                  </a:lnTo>
                  <a:lnTo>
                    <a:pt x="525" y="1699"/>
                  </a:lnTo>
                  <a:lnTo>
                    <a:pt x="456" y="1749"/>
                  </a:lnTo>
                  <a:lnTo>
                    <a:pt x="386" y="1802"/>
                  </a:lnTo>
                  <a:lnTo>
                    <a:pt x="320" y="1859"/>
                  </a:lnTo>
                  <a:lnTo>
                    <a:pt x="254" y="1917"/>
                  </a:lnTo>
                  <a:lnTo>
                    <a:pt x="190" y="1980"/>
                  </a:lnTo>
                  <a:lnTo>
                    <a:pt x="127" y="2045"/>
                  </a:lnTo>
                  <a:lnTo>
                    <a:pt x="63" y="2112"/>
                  </a:lnTo>
                  <a:lnTo>
                    <a:pt x="0" y="218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9433400">
              <a:off x="2821320" y="-2857320"/>
              <a:ext cx="10227960" cy="4976280"/>
            </a:xfrm>
            <a:custGeom>
              <a:avLst/>
              <a:gdLst/>
              <a:ahLst/>
              <a:rect l="l" t="t" r="r" b="b"/>
              <a:pathLst>
                <a:path w="5113" h="2298">
                  <a:moveTo>
                    <a:pt x="5113" y="0"/>
                  </a:moveTo>
                  <a:lnTo>
                    <a:pt x="5113" y="0"/>
                  </a:lnTo>
                  <a:lnTo>
                    <a:pt x="5112" y="21"/>
                  </a:lnTo>
                  <a:lnTo>
                    <a:pt x="5104" y="78"/>
                  </a:lnTo>
                  <a:lnTo>
                    <a:pt x="5097" y="117"/>
                  </a:lnTo>
                  <a:lnTo>
                    <a:pt x="5087" y="163"/>
                  </a:lnTo>
                  <a:lnTo>
                    <a:pt x="5075" y="217"/>
                  </a:lnTo>
                  <a:lnTo>
                    <a:pt x="5061" y="276"/>
                  </a:lnTo>
                  <a:lnTo>
                    <a:pt x="5043" y="339"/>
                  </a:lnTo>
                  <a:lnTo>
                    <a:pt x="5020" y="407"/>
                  </a:lnTo>
                  <a:lnTo>
                    <a:pt x="4997" y="478"/>
                  </a:lnTo>
                  <a:lnTo>
                    <a:pt x="4968" y="551"/>
                  </a:lnTo>
                  <a:lnTo>
                    <a:pt x="4934" y="627"/>
                  </a:lnTo>
                  <a:lnTo>
                    <a:pt x="4916" y="666"/>
                  </a:lnTo>
                  <a:lnTo>
                    <a:pt x="4897" y="704"/>
                  </a:lnTo>
                  <a:lnTo>
                    <a:pt x="4876" y="743"/>
                  </a:lnTo>
                  <a:lnTo>
                    <a:pt x="4855" y="782"/>
                  </a:lnTo>
                  <a:lnTo>
                    <a:pt x="4832" y="821"/>
                  </a:lnTo>
                  <a:lnTo>
                    <a:pt x="4808" y="859"/>
                  </a:lnTo>
                  <a:lnTo>
                    <a:pt x="4783" y="896"/>
                  </a:lnTo>
                  <a:lnTo>
                    <a:pt x="4755" y="935"/>
                  </a:lnTo>
                  <a:lnTo>
                    <a:pt x="4727" y="972"/>
                  </a:lnTo>
                  <a:lnTo>
                    <a:pt x="4697" y="1009"/>
                  </a:lnTo>
                  <a:lnTo>
                    <a:pt x="4666" y="1047"/>
                  </a:lnTo>
                  <a:lnTo>
                    <a:pt x="4634" y="1082"/>
                  </a:lnTo>
                  <a:lnTo>
                    <a:pt x="4600" y="1118"/>
                  </a:lnTo>
                  <a:lnTo>
                    <a:pt x="4564" y="1153"/>
                  </a:lnTo>
                  <a:lnTo>
                    <a:pt x="4528" y="1185"/>
                  </a:lnTo>
                  <a:lnTo>
                    <a:pt x="4489" y="1218"/>
                  </a:lnTo>
                  <a:lnTo>
                    <a:pt x="4447" y="1250"/>
                  </a:lnTo>
                  <a:lnTo>
                    <a:pt x="4405" y="1281"/>
                  </a:lnTo>
                  <a:lnTo>
                    <a:pt x="4361" y="1310"/>
                  </a:lnTo>
                  <a:lnTo>
                    <a:pt x="4315" y="1337"/>
                  </a:lnTo>
                  <a:lnTo>
                    <a:pt x="4268" y="1363"/>
                  </a:lnTo>
                  <a:lnTo>
                    <a:pt x="4219" y="1387"/>
                  </a:lnTo>
                  <a:lnTo>
                    <a:pt x="4168" y="1410"/>
                  </a:lnTo>
                  <a:lnTo>
                    <a:pt x="4115" y="1431"/>
                  </a:lnTo>
                  <a:lnTo>
                    <a:pt x="4060" y="1450"/>
                  </a:lnTo>
                  <a:lnTo>
                    <a:pt x="4003" y="1468"/>
                  </a:lnTo>
                  <a:lnTo>
                    <a:pt x="3944" y="1484"/>
                  </a:lnTo>
                  <a:lnTo>
                    <a:pt x="3883" y="1497"/>
                  </a:lnTo>
                  <a:lnTo>
                    <a:pt x="3821" y="1508"/>
                  </a:lnTo>
                  <a:lnTo>
                    <a:pt x="3756" y="1518"/>
                  </a:lnTo>
                  <a:lnTo>
                    <a:pt x="3689" y="1525"/>
                  </a:lnTo>
                  <a:lnTo>
                    <a:pt x="3619" y="1529"/>
                  </a:lnTo>
                  <a:lnTo>
                    <a:pt x="3547" y="1531"/>
                  </a:lnTo>
                  <a:lnTo>
                    <a:pt x="3474" y="1529"/>
                  </a:lnTo>
                  <a:lnTo>
                    <a:pt x="3397" y="1526"/>
                  </a:lnTo>
                  <a:lnTo>
                    <a:pt x="3320" y="1520"/>
                  </a:lnTo>
                  <a:lnTo>
                    <a:pt x="3239" y="1512"/>
                  </a:lnTo>
                  <a:lnTo>
                    <a:pt x="3156" y="1499"/>
                  </a:lnTo>
                  <a:lnTo>
                    <a:pt x="3156" y="1499"/>
                  </a:lnTo>
                  <a:lnTo>
                    <a:pt x="2991" y="1473"/>
                  </a:lnTo>
                  <a:lnTo>
                    <a:pt x="2832" y="1452"/>
                  </a:lnTo>
                  <a:lnTo>
                    <a:pt x="2680" y="1433"/>
                  </a:lnTo>
                  <a:lnTo>
                    <a:pt x="2532" y="1418"/>
                  </a:lnTo>
                  <a:lnTo>
                    <a:pt x="2391" y="1407"/>
                  </a:lnTo>
                  <a:lnTo>
                    <a:pt x="2255" y="1397"/>
                  </a:lnTo>
                  <a:lnTo>
                    <a:pt x="2124" y="1392"/>
                  </a:lnTo>
                  <a:lnTo>
                    <a:pt x="1998" y="1391"/>
                  </a:lnTo>
                  <a:lnTo>
                    <a:pt x="1877" y="1392"/>
                  </a:lnTo>
                  <a:lnTo>
                    <a:pt x="1760" y="1397"/>
                  </a:lnTo>
                  <a:lnTo>
                    <a:pt x="1649" y="1405"/>
                  </a:lnTo>
                  <a:lnTo>
                    <a:pt x="1541" y="1418"/>
                  </a:lnTo>
                  <a:lnTo>
                    <a:pt x="1438" y="1433"/>
                  </a:lnTo>
                  <a:lnTo>
                    <a:pt x="1338" y="1450"/>
                  </a:lnTo>
                  <a:lnTo>
                    <a:pt x="1290" y="1460"/>
                  </a:lnTo>
                  <a:lnTo>
                    <a:pt x="1242" y="1471"/>
                  </a:lnTo>
                  <a:lnTo>
                    <a:pt x="1197" y="1483"/>
                  </a:lnTo>
                  <a:lnTo>
                    <a:pt x="1151" y="1496"/>
                  </a:lnTo>
                  <a:lnTo>
                    <a:pt x="1106" y="1508"/>
                  </a:lnTo>
                  <a:lnTo>
                    <a:pt x="1062" y="1523"/>
                  </a:lnTo>
                  <a:lnTo>
                    <a:pt x="1019" y="1537"/>
                  </a:lnTo>
                  <a:lnTo>
                    <a:pt x="976" y="1554"/>
                  </a:lnTo>
                  <a:lnTo>
                    <a:pt x="934" y="1570"/>
                  </a:lnTo>
                  <a:lnTo>
                    <a:pt x="893" y="1588"/>
                  </a:lnTo>
                  <a:lnTo>
                    <a:pt x="852" y="1605"/>
                  </a:lnTo>
                  <a:lnTo>
                    <a:pt x="813" y="1623"/>
                  </a:lnTo>
                  <a:lnTo>
                    <a:pt x="775" y="1644"/>
                  </a:lnTo>
                  <a:lnTo>
                    <a:pt x="736" y="1663"/>
                  </a:lnTo>
                  <a:lnTo>
                    <a:pt x="698" y="1684"/>
                  </a:lnTo>
                  <a:lnTo>
                    <a:pt x="661" y="1707"/>
                  </a:lnTo>
                  <a:lnTo>
                    <a:pt x="587" y="1752"/>
                  </a:lnTo>
                  <a:lnTo>
                    <a:pt x="516" y="1801"/>
                  </a:lnTo>
                  <a:lnTo>
                    <a:pt x="448" y="1854"/>
                  </a:lnTo>
                  <a:lnTo>
                    <a:pt x="380" y="1907"/>
                  </a:lnTo>
                  <a:lnTo>
                    <a:pt x="315" y="1965"/>
                  </a:lnTo>
                  <a:lnTo>
                    <a:pt x="250" y="2027"/>
                  </a:lnTo>
                  <a:lnTo>
                    <a:pt x="186" y="2090"/>
                  </a:lnTo>
                  <a:lnTo>
                    <a:pt x="123" y="2156"/>
                  </a:lnTo>
                  <a:lnTo>
                    <a:pt x="61" y="2225"/>
                  </a:lnTo>
                  <a:lnTo>
                    <a:pt x="0" y="2298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9433400">
              <a:off x="2906640" y="-3015360"/>
              <a:ext cx="10159920" cy="5222520"/>
            </a:xfrm>
            <a:custGeom>
              <a:avLst/>
              <a:gdLst/>
              <a:ahLst/>
              <a:rect l="l" t="t" r="r" b="b"/>
              <a:pathLst>
                <a:path w="5079" h="2412">
                  <a:moveTo>
                    <a:pt x="5079" y="0"/>
                  </a:moveTo>
                  <a:lnTo>
                    <a:pt x="5079" y="0"/>
                  </a:lnTo>
                  <a:lnTo>
                    <a:pt x="5078" y="19"/>
                  </a:lnTo>
                  <a:lnTo>
                    <a:pt x="5070" y="76"/>
                  </a:lnTo>
                  <a:lnTo>
                    <a:pt x="5064" y="116"/>
                  </a:lnTo>
                  <a:lnTo>
                    <a:pt x="5054" y="164"/>
                  </a:lnTo>
                  <a:lnTo>
                    <a:pt x="5045" y="218"/>
                  </a:lnTo>
                  <a:lnTo>
                    <a:pt x="5031" y="278"/>
                  </a:lnTo>
                  <a:lnTo>
                    <a:pt x="5013" y="340"/>
                  </a:lnTo>
                  <a:lnTo>
                    <a:pt x="4993" y="410"/>
                  </a:lnTo>
                  <a:lnTo>
                    <a:pt x="4970" y="481"/>
                  </a:lnTo>
                  <a:lnTo>
                    <a:pt x="4942" y="555"/>
                  </a:lnTo>
                  <a:lnTo>
                    <a:pt x="4910" y="633"/>
                  </a:lnTo>
                  <a:lnTo>
                    <a:pt x="4892" y="672"/>
                  </a:lnTo>
                  <a:lnTo>
                    <a:pt x="4874" y="710"/>
                  </a:lnTo>
                  <a:lnTo>
                    <a:pt x="4853" y="749"/>
                  </a:lnTo>
                  <a:lnTo>
                    <a:pt x="4832" y="789"/>
                  </a:lnTo>
                  <a:lnTo>
                    <a:pt x="4810" y="828"/>
                  </a:lnTo>
                  <a:lnTo>
                    <a:pt x="4786" y="868"/>
                  </a:lnTo>
                  <a:lnTo>
                    <a:pt x="4761" y="907"/>
                  </a:lnTo>
                  <a:lnTo>
                    <a:pt x="4735" y="946"/>
                  </a:lnTo>
                  <a:lnTo>
                    <a:pt x="4707" y="985"/>
                  </a:lnTo>
                  <a:lnTo>
                    <a:pt x="4678" y="1022"/>
                  </a:lnTo>
                  <a:lnTo>
                    <a:pt x="4648" y="1059"/>
                  </a:lnTo>
                  <a:lnTo>
                    <a:pt x="4616" y="1096"/>
                  </a:lnTo>
                  <a:lnTo>
                    <a:pt x="4582" y="1132"/>
                  </a:lnTo>
                  <a:lnTo>
                    <a:pt x="4548" y="1167"/>
                  </a:lnTo>
                  <a:lnTo>
                    <a:pt x="4510" y="1203"/>
                  </a:lnTo>
                  <a:lnTo>
                    <a:pt x="4473" y="1235"/>
                  </a:lnTo>
                  <a:lnTo>
                    <a:pt x="4432" y="1267"/>
                  </a:lnTo>
                  <a:lnTo>
                    <a:pt x="4391" y="1300"/>
                  </a:lnTo>
                  <a:lnTo>
                    <a:pt x="4348" y="1329"/>
                  </a:lnTo>
                  <a:lnTo>
                    <a:pt x="4302" y="1358"/>
                  </a:lnTo>
                  <a:lnTo>
                    <a:pt x="4255" y="1385"/>
                  </a:lnTo>
                  <a:lnTo>
                    <a:pt x="4206" y="1411"/>
                  </a:lnTo>
                  <a:lnTo>
                    <a:pt x="4155" y="1435"/>
                  </a:lnTo>
                  <a:lnTo>
                    <a:pt x="4102" y="1458"/>
                  </a:lnTo>
                  <a:lnTo>
                    <a:pt x="4048" y="1477"/>
                  </a:lnTo>
                  <a:lnTo>
                    <a:pt x="3991" y="1497"/>
                  </a:lnTo>
                  <a:lnTo>
                    <a:pt x="3932" y="1513"/>
                  </a:lnTo>
                  <a:lnTo>
                    <a:pt x="3871" y="1529"/>
                  </a:lnTo>
                  <a:lnTo>
                    <a:pt x="3809" y="1540"/>
                  </a:lnTo>
                  <a:lnTo>
                    <a:pt x="3745" y="1552"/>
                  </a:lnTo>
                  <a:lnTo>
                    <a:pt x="3677" y="1560"/>
                  </a:lnTo>
                  <a:lnTo>
                    <a:pt x="3608" y="1564"/>
                  </a:lnTo>
                  <a:lnTo>
                    <a:pt x="3537" y="1568"/>
                  </a:lnTo>
                  <a:lnTo>
                    <a:pt x="3463" y="1569"/>
                  </a:lnTo>
                  <a:lnTo>
                    <a:pt x="3387" y="1568"/>
                  </a:lnTo>
                  <a:lnTo>
                    <a:pt x="3309" y="1563"/>
                  </a:lnTo>
                  <a:lnTo>
                    <a:pt x="3229" y="1555"/>
                  </a:lnTo>
                  <a:lnTo>
                    <a:pt x="3145" y="1545"/>
                  </a:lnTo>
                  <a:lnTo>
                    <a:pt x="3145" y="1545"/>
                  </a:lnTo>
                  <a:lnTo>
                    <a:pt x="2980" y="1522"/>
                  </a:lnTo>
                  <a:lnTo>
                    <a:pt x="2820" y="1503"/>
                  </a:lnTo>
                  <a:lnTo>
                    <a:pt x="2668" y="1489"/>
                  </a:lnTo>
                  <a:lnTo>
                    <a:pt x="2520" y="1476"/>
                  </a:lnTo>
                  <a:lnTo>
                    <a:pt x="2379" y="1466"/>
                  </a:lnTo>
                  <a:lnTo>
                    <a:pt x="2241" y="1461"/>
                  </a:lnTo>
                  <a:lnTo>
                    <a:pt x="2111" y="1458"/>
                  </a:lnTo>
                  <a:lnTo>
                    <a:pt x="1986" y="1459"/>
                  </a:lnTo>
                  <a:lnTo>
                    <a:pt x="1865" y="1464"/>
                  </a:lnTo>
                  <a:lnTo>
                    <a:pt x="1748" y="1471"/>
                  </a:lnTo>
                  <a:lnTo>
                    <a:pt x="1636" y="1482"/>
                  </a:lnTo>
                  <a:lnTo>
                    <a:pt x="1529" y="1495"/>
                  </a:lnTo>
                  <a:lnTo>
                    <a:pt x="1426" y="1513"/>
                  </a:lnTo>
                  <a:lnTo>
                    <a:pt x="1326" y="1532"/>
                  </a:lnTo>
                  <a:lnTo>
                    <a:pt x="1279" y="1543"/>
                  </a:lnTo>
                  <a:lnTo>
                    <a:pt x="1232" y="1555"/>
                  </a:lnTo>
                  <a:lnTo>
                    <a:pt x="1185" y="1568"/>
                  </a:lnTo>
                  <a:lnTo>
                    <a:pt x="1139" y="1582"/>
                  </a:lnTo>
                  <a:lnTo>
                    <a:pt x="1095" y="1595"/>
                  </a:lnTo>
                  <a:lnTo>
                    <a:pt x="1051" y="1611"/>
                  </a:lnTo>
                  <a:lnTo>
                    <a:pt x="1008" y="1627"/>
                  </a:lnTo>
                  <a:lnTo>
                    <a:pt x="965" y="1644"/>
                  </a:lnTo>
                  <a:lnTo>
                    <a:pt x="924" y="1661"/>
                  </a:lnTo>
                  <a:lnTo>
                    <a:pt x="883" y="1679"/>
                  </a:lnTo>
                  <a:lnTo>
                    <a:pt x="843" y="1698"/>
                  </a:lnTo>
                  <a:lnTo>
                    <a:pt x="804" y="1718"/>
                  </a:lnTo>
                  <a:lnTo>
                    <a:pt x="765" y="1737"/>
                  </a:lnTo>
                  <a:lnTo>
                    <a:pt x="727" y="1760"/>
                  </a:lnTo>
                  <a:lnTo>
                    <a:pt x="689" y="1781"/>
                  </a:lnTo>
                  <a:lnTo>
                    <a:pt x="653" y="1803"/>
                  </a:lnTo>
                  <a:lnTo>
                    <a:pt x="581" y="1852"/>
                  </a:lnTo>
                  <a:lnTo>
                    <a:pt x="510" y="1902"/>
                  </a:lnTo>
                  <a:lnTo>
                    <a:pt x="442" y="1955"/>
                  </a:lnTo>
                  <a:lnTo>
                    <a:pt x="375" y="2012"/>
                  </a:lnTo>
                  <a:lnTo>
                    <a:pt x="310" y="2071"/>
                  </a:lnTo>
                  <a:lnTo>
                    <a:pt x="246" y="2133"/>
                  </a:lnTo>
                  <a:lnTo>
                    <a:pt x="184" y="2199"/>
                  </a:lnTo>
                  <a:lnTo>
                    <a:pt x="123" y="2267"/>
                  </a:lnTo>
                  <a:lnTo>
                    <a:pt x="62" y="2338"/>
                  </a:lnTo>
                  <a:lnTo>
                    <a:pt x="0" y="241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9433400">
              <a:off x="2993400" y="-3177720"/>
              <a:ext cx="10086120" cy="5470200"/>
            </a:xfrm>
            <a:custGeom>
              <a:avLst/>
              <a:gdLst/>
              <a:ahLst/>
              <a:rect l="l" t="t" r="r" b="b"/>
              <a:pathLst>
                <a:path w="5042" h="2527">
                  <a:moveTo>
                    <a:pt x="5042" y="0"/>
                  </a:moveTo>
                  <a:lnTo>
                    <a:pt x="5042" y="0"/>
                  </a:lnTo>
                  <a:lnTo>
                    <a:pt x="5040" y="21"/>
                  </a:lnTo>
                  <a:lnTo>
                    <a:pt x="5033" y="77"/>
                  </a:lnTo>
                  <a:lnTo>
                    <a:pt x="5028" y="118"/>
                  </a:lnTo>
                  <a:lnTo>
                    <a:pt x="5021" y="166"/>
                  </a:lnTo>
                  <a:lnTo>
                    <a:pt x="5010" y="221"/>
                  </a:lnTo>
                  <a:lnTo>
                    <a:pt x="4997" y="281"/>
                  </a:lnTo>
                  <a:lnTo>
                    <a:pt x="4981" y="345"/>
                  </a:lnTo>
                  <a:lnTo>
                    <a:pt x="4963" y="413"/>
                  </a:lnTo>
                  <a:lnTo>
                    <a:pt x="4939" y="486"/>
                  </a:lnTo>
                  <a:lnTo>
                    <a:pt x="4913" y="562"/>
                  </a:lnTo>
                  <a:lnTo>
                    <a:pt x="4882" y="639"/>
                  </a:lnTo>
                  <a:lnTo>
                    <a:pt x="4865" y="679"/>
                  </a:lnTo>
                  <a:lnTo>
                    <a:pt x="4847" y="718"/>
                  </a:lnTo>
                  <a:lnTo>
                    <a:pt x="4828" y="759"/>
                  </a:lnTo>
                  <a:lnTo>
                    <a:pt x="4807" y="799"/>
                  </a:lnTo>
                  <a:lnTo>
                    <a:pt x="4785" y="839"/>
                  </a:lnTo>
                  <a:lnTo>
                    <a:pt x="4763" y="878"/>
                  </a:lnTo>
                  <a:lnTo>
                    <a:pt x="4738" y="918"/>
                  </a:lnTo>
                  <a:lnTo>
                    <a:pt x="4713" y="957"/>
                  </a:lnTo>
                  <a:lnTo>
                    <a:pt x="4685" y="998"/>
                  </a:lnTo>
                  <a:lnTo>
                    <a:pt x="4657" y="1036"/>
                  </a:lnTo>
                  <a:lnTo>
                    <a:pt x="4627" y="1073"/>
                  </a:lnTo>
                  <a:lnTo>
                    <a:pt x="4596" y="1112"/>
                  </a:lnTo>
                  <a:lnTo>
                    <a:pt x="4563" y="1149"/>
                  </a:lnTo>
                  <a:lnTo>
                    <a:pt x="4528" y="1185"/>
                  </a:lnTo>
                  <a:lnTo>
                    <a:pt x="4492" y="1220"/>
                  </a:lnTo>
                  <a:lnTo>
                    <a:pt x="4454" y="1254"/>
                  </a:lnTo>
                  <a:lnTo>
                    <a:pt x="4414" y="1288"/>
                  </a:lnTo>
                  <a:lnTo>
                    <a:pt x="4373" y="1320"/>
                  </a:lnTo>
                  <a:lnTo>
                    <a:pt x="4330" y="1351"/>
                  </a:lnTo>
                  <a:lnTo>
                    <a:pt x="4285" y="1380"/>
                  </a:lnTo>
                  <a:lnTo>
                    <a:pt x="4239" y="1409"/>
                  </a:lnTo>
                  <a:lnTo>
                    <a:pt x="4191" y="1435"/>
                  </a:lnTo>
                  <a:lnTo>
                    <a:pt x="4139" y="1461"/>
                  </a:lnTo>
                  <a:lnTo>
                    <a:pt x="4088" y="1485"/>
                  </a:lnTo>
                  <a:lnTo>
                    <a:pt x="4034" y="1506"/>
                  </a:lnTo>
                  <a:lnTo>
                    <a:pt x="3977" y="1527"/>
                  </a:lnTo>
                  <a:lnTo>
                    <a:pt x="3919" y="1545"/>
                  </a:lnTo>
                  <a:lnTo>
                    <a:pt x="3857" y="1561"/>
                  </a:lnTo>
                  <a:lnTo>
                    <a:pt x="3795" y="1574"/>
                  </a:lnTo>
                  <a:lnTo>
                    <a:pt x="3731" y="1587"/>
                  </a:lnTo>
                  <a:lnTo>
                    <a:pt x="3664" y="1597"/>
                  </a:lnTo>
                  <a:lnTo>
                    <a:pt x="3595" y="1603"/>
                  </a:lnTo>
                  <a:lnTo>
                    <a:pt x="3523" y="1608"/>
                  </a:lnTo>
                  <a:lnTo>
                    <a:pt x="3449" y="1610"/>
                  </a:lnTo>
                  <a:lnTo>
                    <a:pt x="3374" y="1610"/>
                  </a:lnTo>
                  <a:lnTo>
                    <a:pt x="3295" y="1606"/>
                  </a:lnTo>
                  <a:lnTo>
                    <a:pt x="3215" y="1601"/>
                  </a:lnTo>
                  <a:lnTo>
                    <a:pt x="3131" y="1592"/>
                  </a:lnTo>
                  <a:lnTo>
                    <a:pt x="3131" y="1592"/>
                  </a:lnTo>
                  <a:lnTo>
                    <a:pt x="2966" y="1572"/>
                  </a:lnTo>
                  <a:lnTo>
                    <a:pt x="2806" y="1558"/>
                  </a:lnTo>
                  <a:lnTo>
                    <a:pt x="2652" y="1545"/>
                  </a:lnTo>
                  <a:lnTo>
                    <a:pt x="2505" y="1535"/>
                  </a:lnTo>
                  <a:lnTo>
                    <a:pt x="2364" y="1529"/>
                  </a:lnTo>
                  <a:lnTo>
                    <a:pt x="2227" y="1526"/>
                  </a:lnTo>
                  <a:lnTo>
                    <a:pt x="2097" y="1527"/>
                  </a:lnTo>
                  <a:lnTo>
                    <a:pt x="1971" y="1530"/>
                  </a:lnTo>
                  <a:lnTo>
                    <a:pt x="1850" y="1537"/>
                  </a:lnTo>
                  <a:lnTo>
                    <a:pt x="1733" y="1547"/>
                  </a:lnTo>
                  <a:lnTo>
                    <a:pt x="1622" y="1559"/>
                  </a:lnTo>
                  <a:lnTo>
                    <a:pt x="1515" y="1576"/>
                  </a:lnTo>
                  <a:lnTo>
                    <a:pt x="1412" y="1595"/>
                  </a:lnTo>
                  <a:lnTo>
                    <a:pt x="1362" y="1605"/>
                  </a:lnTo>
                  <a:lnTo>
                    <a:pt x="1314" y="1616"/>
                  </a:lnTo>
                  <a:lnTo>
                    <a:pt x="1265" y="1629"/>
                  </a:lnTo>
                  <a:lnTo>
                    <a:pt x="1218" y="1642"/>
                  </a:lnTo>
                  <a:lnTo>
                    <a:pt x="1172" y="1655"/>
                  </a:lnTo>
                  <a:lnTo>
                    <a:pt x="1126" y="1669"/>
                  </a:lnTo>
                  <a:lnTo>
                    <a:pt x="1082" y="1685"/>
                  </a:lnTo>
                  <a:lnTo>
                    <a:pt x="1039" y="1702"/>
                  </a:lnTo>
                  <a:lnTo>
                    <a:pt x="996" y="1718"/>
                  </a:lnTo>
                  <a:lnTo>
                    <a:pt x="954" y="1735"/>
                  </a:lnTo>
                  <a:lnTo>
                    <a:pt x="913" y="1753"/>
                  </a:lnTo>
                  <a:lnTo>
                    <a:pt x="872" y="1773"/>
                  </a:lnTo>
                  <a:lnTo>
                    <a:pt x="832" y="1792"/>
                  </a:lnTo>
                  <a:lnTo>
                    <a:pt x="793" y="1813"/>
                  </a:lnTo>
                  <a:lnTo>
                    <a:pt x="756" y="1834"/>
                  </a:lnTo>
                  <a:lnTo>
                    <a:pt x="717" y="1857"/>
                  </a:lnTo>
                  <a:lnTo>
                    <a:pt x="681" y="1879"/>
                  </a:lnTo>
                  <a:lnTo>
                    <a:pt x="643" y="1903"/>
                  </a:lnTo>
                  <a:lnTo>
                    <a:pt x="572" y="1952"/>
                  </a:lnTo>
                  <a:lnTo>
                    <a:pt x="503" y="2005"/>
                  </a:lnTo>
                  <a:lnTo>
                    <a:pt x="435" y="2060"/>
                  </a:lnTo>
                  <a:lnTo>
                    <a:pt x="370" y="2118"/>
                  </a:lnTo>
                  <a:lnTo>
                    <a:pt x="306" y="2179"/>
                  </a:lnTo>
                  <a:lnTo>
                    <a:pt x="242" y="2242"/>
                  </a:lnTo>
                  <a:lnTo>
                    <a:pt x="181" y="2309"/>
                  </a:lnTo>
                  <a:lnTo>
                    <a:pt x="120" y="2380"/>
                  </a:lnTo>
                  <a:lnTo>
                    <a:pt x="60" y="2452"/>
                  </a:lnTo>
                  <a:lnTo>
                    <a:pt x="0" y="2527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9433400">
              <a:off x="3087000" y="-3336480"/>
              <a:ext cx="10005480" cy="5716440"/>
            </a:xfrm>
            <a:custGeom>
              <a:avLst/>
              <a:gdLst/>
              <a:ahLst/>
              <a:rect l="l" t="t" r="r" b="b"/>
              <a:pathLst>
                <a:path w="5002" h="2642">
                  <a:moveTo>
                    <a:pt x="5002" y="0"/>
                  </a:moveTo>
                  <a:lnTo>
                    <a:pt x="5002" y="0"/>
                  </a:lnTo>
                  <a:lnTo>
                    <a:pt x="5001" y="21"/>
                  </a:lnTo>
                  <a:lnTo>
                    <a:pt x="4995" y="78"/>
                  </a:lnTo>
                  <a:lnTo>
                    <a:pt x="4990" y="120"/>
                  </a:lnTo>
                  <a:lnTo>
                    <a:pt x="4983" y="166"/>
                  </a:lnTo>
                  <a:lnTo>
                    <a:pt x="4973" y="221"/>
                  </a:lnTo>
                  <a:lnTo>
                    <a:pt x="4962" y="281"/>
                  </a:lnTo>
                  <a:lnTo>
                    <a:pt x="4947" y="347"/>
                  </a:lnTo>
                  <a:lnTo>
                    <a:pt x="4929" y="417"/>
                  </a:lnTo>
                  <a:lnTo>
                    <a:pt x="4906" y="491"/>
                  </a:lnTo>
                  <a:lnTo>
                    <a:pt x="4882" y="567"/>
                  </a:lnTo>
                  <a:lnTo>
                    <a:pt x="4852" y="646"/>
                  </a:lnTo>
                  <a:lnTo>
                    <a:pt x="4836" y="685"/>
                  </a:lnTo>
                  <a:lnTo>
                    <a:pt x="4818" y="725"/>
                  </a:lnTo>
                  <a:lnTo>
                    <a:pt x="4800" y="766"/>
                  </a:lnTo>
                  <a:lnTo>
                    <a:pt x="4780" y="807"/>
                  </a:lnTo>
                  <a:lnTo>
                    <a:pt x="4758" y="848"/>
                  </a:lnTo>
                  <a:lnTo>
                    <a:pt x="4736" y="888"/>
                  </a:lnTo>
                  <a:lnTo>
                    <a:pt x="4712" y="929"/>
                  </a:lnTo>
                  <a:lnTo>
                    <a:pt x="4687" y="969"/>
                  </a:lnTo>
                  <a:lnTo>
                    <a:pt x="4661" y="1009"/>
                  </a:lnTo>
                  <a:lnTo>
                    <a:pt x="4633" y="1048"/>
                  </a:lnTo>
                  <a:lnTo>
                    <a:pt x="4604" y="1087"/>
                  </a:lnTo>
                  <a:lnTo>
                    <a:pt x="4572" y="1126"/>
                  </a:lnTo>
                  <a:lnTo>
                    <a:pt x="4540" y="1164"/>
                  </a:lnTo>
                  <a:lnTo>
                    <a:pt x="4505" y="1201"/>
                  </a:lnTo>
                  <a:lnTo>
                    <a:pt x="4471" y="1237"/>
                  </a:lnTo>
                  <a:lnTo>
                    <a:pt x="4433" y="1273"/>
                  </a:lnTo>
                  <a:lnTo>
                    <a:pt x="4394" y="1306"/>
                  </a:lnTo>
                  <a:lnTo>
                    <a:pt x="4353" y="1340"/>
                  </a:lnTo>
                  <a:lnTo>
                    <a:pt x="4311" y="1371"/>
                  </a:lnTo>
                  <a:lnTo>
                    <a:pt x="4266" y="1403"/>
                  </a:lnTo>
                  <a:lnTo>
                    <a:pt x="4221" y="1432"/>
                  </a:lnTo>
                  <a:lnTo>
                    <a:pt x="4172" y="1460"/>
                  </a:lnTo>
                  <a:lnTo>
                    <a:pt x="4122" y="1486"/>
                  </a:lnTo>
                  <a:lnTo>
                    <a:pt x="4071" y="1511"/>
                  </a:lnTo>
                  <a:lnTo>
                    <a:pt x="4017" y="1534"/>
                  </a:lnTo>
                  <a:lnTo>
                    <a:pt x="3960" y="1555"/>
                  </a:lnTo>
                  <a:lnTo>
                    <a:pt x="3903" y="1574"/>
                  </a:lnTo>
                  <a:lnTo>
                    <a:pt x="3842" y="1592"/>
                  </a:lnTo>
                  <a:lnTo>
                    <a:pt x="3779" y="1607"/>
                  </a:lnTo>
                  <a:lnTo>
                    <a:pt x="3715" y="1621"/>
                  </a:lnTo>
                  <a:lnTo>
                    <a:pt x="3649" y="1631"/>
                  </a:lnTo>
                  <a:lnTo>
                    <a:pt x="3579" y="1641"/>
                  </a:lnTo>
                  <a:lnTo>
                    <a:pt x="3508" y="1646"/>
                  </a:lnTo>
                  <a:lnTo>
                    <a:pt x="3435" y="1650"/>
                  </a:lnTo>
                  <a:lnTo>
                    <a:pt x="3358" y="1650"/>
                  </a:lnTo>
                  <a:lnTo>
                    <a:pt x="3279" y="1649"/>
                  </a:lnTo>
                  <a:lnTo>
                    <a:pt x="3199" y="1646"/>
                  </a:lnTo>
                  <a:lnTo>
                    <a:pt x="3115" y="1637"/>
                  </a:lnTo>
                  <a:lnTo>
                    <a:pt x="3115" y="1637"/>
                  </a:lnTo>
                  <a:lnTo>
                    <a:pt x="2950" y="1623"/>
                  </a:lnTo>
                  <a:lnTo>
                    <a:pt x="2791" y="1610"/>
                  </a:lnTo>
                  <a:lnTo>
                    <a:pt x="2636" y="1600"/>
                  </a:lnTo>
                  <a:lnTo>
                    <a:pt x="2489" y="1594"/>
                  </a:lnTo>
                  <a:lnTo>
                    <a:pt x="2348" y="1591"/>
                  </a:lnTo>
                  <a:lnTo>
                    <a:pt x="2210" y="1591"/>
                  </a:lnTo>
                  <a:lnTo>
                    <a:pt x="2080" y="1594"/>
                  </a:lnTo>
                  <a:lnTo>
                    <a:pt x="1955" y="1599"/>
                  </a:lnTo>
                  <a:lnTo>
                    <a:pt x="1834" y="1608"/>
                  </a:lnTo>
                  <a:lnTo>
                    <a:pt x="1717" y="1621"/>
                  </a:lnTo>
                  <a:lnTo>
                    <a:pt x="1606" y="1636"/>
                  </a:lnTo>
                  <a:lnTo>
                    <a:pt x="1499" y="1654"/>
                  </a:lnTo>
                  <a:lnTo>
                    <a:pt x="1397" y="1675"/>
                  </a:lnTo>
                  <a:lnTo>
                    <a:pt x="1347" y="1687"/>
                  </a:lnTo>
                  <a:lnTo>
                    <a:pt x="1298" y="1699"/>
                  </a:lnTo>
                  <a:lnTo>
                    <a:pt x="1251" y="1713"/>
                  </a:lnTo>
                  <a:lnTo>
                    <a:pt x="1204" y="1726"/>
                  </a:lnTo>
                  <a:lnTo>
                    <a:pt x="1158" y="1741"/>
                  </a:lnTo>
                  <a:lnTo>
                    <a:pt x="1113" y="1757"/>
                  </a:lnTo>
                  <a:lnTo>
                    <a:pt x="1069" y="1773"/>
                  </a:lnTo>
                  <a:lnTo>
                    <a:pt x="1026" y="1791"/>
                  </a:lnTo>
                  <a:lnTo>
                    <a:pt x="983" y="1809"/>
                  </a:lnTo>
                  <a:lnTo>
                    <a:pt x="941" y="1826"/>
                  </a:lnTo>
                  <a:lnTo>
                    <a:pt x="899" y="1846"/>
                  </a:lnTo>
                  <a:lnTo>
                    <a:pt x="859" y="1865"/>
                  </a:lnTo>
                  <a:lnTo>
                    <a:pt x="820" y="1886"/>
                  </a:lnTo>
                  <a:lnTo>
                    <a:pt x="781" y="1909"/>
                  </a:lnTo>
                  <a:lnTo>
                    <a:pt x="744" y="1930"/>
                  </a:lnTo>
                  <a:lnTo>
                    <a:pt x="707" y="1952"/>
                  </a:lnTo>
                  <a:lnTo>
                    <a:pt x="669" y="1977"/>
                  </a:lnTo>
                  <a:lnTo>
                    <a:pt x="633" y="2001"/>
                  </a:lnTo>
                  <a:lnTo>
                    <a:pt x="597" y="2027"/>
                  </a:lnTo>
                  <a:lnTo>
                    <a:pt x="562" y="2052"/>
                  </a:lnTo>
                  <a:lnTo>
                    <a:pt x="494" y="2106"/>
                  </a:lnTo>
                  <a:lnTo>
                    <a:pt x="427" y="2162"/>
                  </a:lnTo>
                  <a:lnTo>
                    <a:pt x="362" y="2222"/>
                  </a:lnTo>
                  <a:lnTo>
                    <a:pt x="300" y="2285"/>
                  </a:lnTo>
                  <a:lnTo>
                    <a:pt x="237" y="2351"/>
                  </a:lnTo>
                  <a:lnTo>
                    <a:pt x="176" y="2419"/>
                  </a:lnTo>
                  <a:lnTo>
                    <a:pt x="116" y="2490"/>
                  </a:lnTo>
                  <a:lnTo>
                    <a:pt x="58" y="2564"/>
                  </a:lnTo>
                  <a:lnTo>
                    <a:pt x="0" y="2642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9433400">
              <a:off x="3176640" y="-3498840"/>
              <a:ext cx="9925920" cy="5967000"/>
            </a:xfrm>
            <a:custGeom>
              <a:avLst/>
              <a:gdLst/>
              <a:ahLst/>
              <a:rect l="l" t="t" r="r" b="b"/>
              <a:pathLst>
                <a:path w="4962" h="2756">
                  <a:moveTo>
                    <a:pt x="4962" y="0"/>
                  </a:moveTo>
                  <a:lnTo>
                    <a:pt x="4962" y="0"/>
                  </a:lnTo>
                  <a:lnTo>
                    <a:pt x="4961" y="21"/>
                  </a:lnTo>
                  <a:lnTo>
                    <a:pt x="4957" y="79"/>
                  </a:lnTo>
                  <a:lnTo>
                    <a:pt x="4953" y="121"/>
                  </a:lnTo>
                  <a:lnTo>
                    <a:pt x="4946" y="170"/>
                  </a:lnTo>
                  <a:lnTo>
                    <a:pt x="4937" y="224"/>
                  </a:lnTo>
                  <a:lnTo>
                    <a:pt x="4926" y="284"/>
                  </a:lnTo>
                  <a:lnTo>
                    <a:pt x="4912" y="350"/>
                  </a:lnTo>
                  <a:lnTo>
                    <a:pt x="4894" y="421"/>
                  </a:lnTo>
                  <a:lnTo>
                    <a:pt x="4875" y="496"/>
                  </a:lnTo>
                  <a:lnTo>
                    <a:pt x="4850" y="573"/>
                  </a:lnTo>
                  <a:lnTo>
                    <a:pt x="4822" y="652"/>
                  </a:lnTo>
                  <a:lnTo>
                    <a:pt x="4806" y="693"/>
                  </a:lnTo>
                  <a:lnTo>
                    <a:pt x="4789" y="733"/>
                  </a:lnTo>
                  <a:lnTo>
                    <a:pt x="4771" y="775"/>
                  </a:lnTo>
                  <a:lnTo>
                    <a:pt x="4751" y="815"/>
                  </a:lnTo>
                  <a:lnTo>
                    <a:pt x="4732" y="857"/>
                  </a:lnTo>
                  <a:lnTo>
                    <a:pt x="4710" y="899"/>
                  </a:lnTo>
                  <a:lnTo>
                    <a:pt x="4686" y="940"/>
                  </a:lnTo>
                  <a:lnTo>
                    <a:pt x="4663" y="980"/>
                  </a:lnTo>
                  <a:lnTo>
                    <a:pt x="4636" y="1022"/>
                  </a:lnTo>
                  <a:lnTo>
                    <a:pt x="4608" y="1062"/>
                  </a:lnTo>
                  <a:lnTo>
                    <a:pt x="4581" y="1101"/>
                  </a:lnTo>
                  <a:lnTo>
                    <a:pt x="4550" y="1142"/>
                  </a:lnTo>
                  <a:lnTo>
                    <a:pt x="4518" y="1180"/>
                  </a:lnTo>
                  <a:lnTo>
                    <a:pt x="4485" y="1217"/>
                  </a:lnTo>
                  <a:lnTo>
                    <a:pt x="4449" y="1255"/>
                  </a:lnTo>
                  <a:lnTo>
                    <a:pt x="4413" y="1290"/>
                  </a:lnTo>
                  <a:lnTo>
                    <a:pt x="4374" y="1326"/>
                  </a:lnTo>
                  <a:lnTo>
                    <a:pt x="4333" y="1360"/>
                  </a:lnTo>
                  <a:lnTo>
                    <a:pt x="4292" y="1393"/>
                  </a:lnTo>
                  <a:lnTo>
                    <a:pt x="4247" y="1426"/>
                  </a:lnTo>
                  <a:lnTo>
                    <a:pt x="4202" y="1455"/>
                  </a:lnTo>
                  <a:lnTo>
                    <a:pt x="4154" y="1484"/>
                  </a:lnTo>
                  <a:lnTo>
                    <a:pt x="4104" y="1511"/>
                  </a:lnTo>
                  <a:lnTo>
                    <a:pt x="4053" y="1539"/>
                  </a:lnTo>
                  <a:lnTo>
                    <a:pt x="4000" y="1563"/>
                  </a:lnTo>
                  <a:lnTo>
                    <a:pt x="3943" y="1586"/>
                  </a:lnTo>
                  <a:lnTo>
                    <a:pt x="3886" y="1605"/>
                  </a:lnTo>
                  <a:lnTo>
                    <a:pt x="3827" y="1624"/>
                  </a:lnTo>
                  <a:lnTo>
                    <a:pt x="3764" y="1641"/>
                  </a:lnTo>
                  <a:lnTo>
                    <a:pt x="3700" y="1655"/>
                  </a:lnTo>
                  <a:lnTo>
                    <a:pt x="3634" y="1668"/>
                  </a:lnTo>
                  <a:lnTo>
                    <a:pt x="3564" y="1678"/>
                  </a:lnTo>
                  <a:lnTo>
                    <a:pt x="3493" y="1686"/>
                  </a:lnTo>
                  <a:lnTo>
                    <a:pt x="3420" y="1691"/>
                  </a:lnTo>
                  <a:lnTo>
                    <a:pt x="3344" y="1694"/>
                  </a:lnTo>
                  <a:lnTo>
                    <a:pt x="3266" y="1694"/>
                  </a:lnTo>
                  <a:lnTo>
                    <a:pt x="3184" y="1691"/>
                  </a:lnTo>
                  <a:lnTo>
                    <a:pt x="3101" y="1686"/>
                  </a:lnTo>
                  <a:lnTo>
                    <a:pt x="3101" y="1686"/>
                  </a:lnTo>
                  <a:lnTo>
                    <a:pt x="2935" y="1673"/>
                  </a:lnTo>
                  <a:lnTo>
                    <a:pt x="2774" y="1663"/>
                  </a:lnTo>
                  <a:lnTo>
                    <a:pt x="2622" y="1657"/>
                  </a:lnTo>
                  <a:lnTo>
                    <a:pt x="2473" y="1653"/>
                  </a:lnTo>
                  <a:lnTo>
                    <a:pt x="2331" y="1653"/>
                  </a:lnTo>
                  <a:lnTo>
                    <a:pt x="2195" y="1655"/>
                  </a:lnTo>
                  <a:lnTo>
                    <a:pt x="2065" y="1662"/>
                  </a:lnTo>
                  <a:lnTo>
                    <a:pt x="1938" y="1670"/>
                  </a:lnTo>
                  <a:lnTo>
                    <a:pt x="1819" y="1681"/>
                  </a:lnTo>
                  <a:lnTo>
                    <a:pt x="1702" y="1695"/>
                  </a:lnTo>
                  <a:lnTo>
                    <a:pt x="1591" y="1713"/>
                  </a:lnTo>
                  <a:lnTo>
                    <a:pt x="1486" y="1734"/>
                  </a:lnTo>
                  <a:lnTo>
                    <a:pt x="1383" y="1757"/>
                  </a:lnTo>
                  <a:lnTo>
                    <a:pt x="1333" y="1770"/>
                  </a:lnTo>
                  <a:lnTo>
                    <a:pt x="1284" y="1784"/>
                  </a:lnTo>
                  <a:lnTo>
                    <a:pt x="1237" y="1799"/>
                  </a:lnTo>
                  <a:lnTo>
                    <a:pt x="1190" y="1813"/>
                  </a:lnTo>
                  <a:lnTo>
                    <a:pt x="1144" y="1829"/>
                  </a:lnTo>
                  <a:lnTo>
                    <a:pt x="1100" y="1846"/>
                  </a:lnTo>
                  <a:lnTo>
                    <a:pt x="1055" y="1863"/>
                  </a:lnTo>
                  <a:lnTo>
                    <a:pt x="1012" y="1881"/>
                  </a:lnTo>
                  <a:lnTo>
                    <a:pt x="971" y="1899"/>
                  </a:lnTo>
                  <a:lnTo>
                    <a:pt x="929" y="1918"/>
                  </a:lnTo>
                  <a:lnTo>
                    <a:pt x="889" y="1939"/>
                  </a:lnTo>
                  <a:lnTo>
                    <a:pt x="848" y="1960"/>
                  </a:lnTo>
                  <a:lnTo>
                    <a:pt x="810" y="1981"/>
                  </a:lnTo>
                  <a:lnTo>
                    <a:pt x="771" y="2004"/>
                  </a:lnTo>
                  <a:lnTo>
                    <a:pt x="733" y="2026"/>
                  </a:lnTo>
                  <a:lnTo>
                    <a:pt x="696" y="2051"/>
                  </a:lnTo>
                  <a:lnTo>
                    <a:pt x="660" y="2075"/>
                  </a:lnTo>
                  <a:lnTo>
                    <a:pt x="624" y="2101"/>
                  </a:lnTo>
                  <a:lnTo>
                    <a:pt x="589" y="2127"/>
                  </a:lnTo>
                  <a:lnTo>
                    <a:pt x="554" y="2152"/>
                  </a:lnTo>
                  <a:lnTo>
                    <a:pt x="486" y="2209"/>
                  </a:lnTo>
                  <a:lnTo>
                    <a:pt x="421" y="2267"/>
                  </a:lnTo>
                  <a:lnTo>
                    <a:pt x="357" y="2328"/>
                  </a:lnTo>
                  <a:lnTo>
                    <a:pt x="295" y="2393"/>
                  </a:lnTo>
                  <a:lnTo>
                    <a:pt x="233" y="2459"/>
                  </a:lnTo>
                  <a:lnTo>
                    <a:pt x="174" y="2530"/>
                  </a:lnTo>
                  <a:lnTo>
                    <a:pt x="115" y="2603"/>
                  </a:lnTo>
                  <a:lnTo>
                    <a:pt x="57" y="2679"/>
                  </a:lnTo>
                  <a:lnTo>
                    <a:pt x="0" y="2756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9433400">
              <a:off x="3268800" y="-3662280"/>
              <a:ext cx="9843840" cy="6214680"/>
            </a:xfrm>
            <a:custGeom>
              <a:avLst/>
              <a:gdLst/>
              <a:ahLst/>
              <a:rect l="l" t="t" r="r" b="b"/>
              <a:pathLst>
                <a:path w="4921" h="2869">
                  <a:moveTo>
                    <a:pt x="4921" y="0"/>
                  </a:moveTo>
                  <a:lnTo>
                    <a:pt x="4921" y="0"/>
                  </a:lnTo>
                  <a:lnTo>
                    <a:pt x="4919" y="21"/>
                  </a:lnTo>
                  <a:lnTo>
                    <a:pt x="4915" y="79"/>
                  </a:lnTo>
                  <a:lnTo>
                    <a:pt x="4911" y="121"/>
                  </a:lnTo>
                  <a:lnTo>
                    <a:pt x="4905" y="169"/>
                  </a:lnTo>
                  <a:lnTo>
                    <a:pt x="4898" y="224"/>
                  </a:lnTo>
                  <a:lnTo>
                    <a:pt x="4887" y="285"/>
                  </a:lnTo>
                  <a:lnTo>
                    <a:pt x="4875" y="353"/>
                  </a:lnTo>
                  <a:lnTo>
                    <a:pt x="4858" y="424"/>
                  </a:lnTo>
                  <a:lnTo>
                    <a:pt x="4839" y="498"/>
                  </a:lnTo>
                  <a:lnTo>
                    <a:pt x="4816" y="578"/>
                  </a:lnTo>
                  <a:lnTo>
                    <a:pt x="4789" y="658"/>
                  </a:lnTo>
                  <a:lnTo>
                    <a:pt x="4773" y="699"/>
                  </a:lnTo>
                  <a:lnTo>
                    <a:pt x="4758" y="741"/>
                  </a:lnTo>
                  <a:lnTo>
                    <a:pt x="4740" y="781"/>
                  </a:lnTo>
                  <a:lnTo>
                    <a:pt x="4722" y="823"/>
                  </a:lnTo>
                  <a:lnTo>
                    <a:pt x="4701" y="865"/>
                  </a:lnTo>
                  <a:lnTo>
                    <a:pt x="4680" y="907"/>
                  </a:lnTo>
                  <a:lnTo>
                    <a:pt x="4658" y="949"/>
                  </a:lnTo>
                  <a:lnTo>
                    <a:pt x="4634" y="991"/>
                  </a:lnTo>
                  <a:lnTo>
                    <a:pt x="4608" y="1031"/>
                  </a:lnTo>
                  <a:lnTo>
                    <a:pt x="4582" y="1073"/>
                  </a:lnTo>
                  <a:lnTo>
                    <a:pt x="4554" y="1114"/>
                  </a:lnTo>
                  <a:lnTo>
                    <a:pt x="4525" y="1154"/>
                  </a:lnTo>
                  <a:lnTo>
                    <a:pt x="4493" y="1193"/>
                  </a:lnTo>
                  <a:lnTo>
                    <a:pt x="4460" y="1232"/>
                  </a:lnTo>
                  <a:lnTo>
                    <a:pt x="4425" y="1270"/>
                  </a:lnTo>
                  <a:lnTo>
                    <a:pt x="4389" y="1307"/>
                  </a:lnTo>
                  <a:lnTo>
                    <a:pt x="4351" y="1343"/>
                  </a:lnTo>
                  <a:lnTo>
                    <a:pt x="4311" y="1378"/>
                  </a:lnTo>
                  <a:lnTo>
                    <a:pt x="4269" y="1412"/>
                  </a:lnTo>
                  <a:lnTo>
                    <a:pt x="4226" y="1446"/>
                  </a:lnTo>
                  <a:lnTo>
                    <a:pt x="4182" y="1477"/>
                  </a:lnTo>
                  <a:lnTo>
                    <a:pt x="4135" y="1508"/>
                  </a:lnTo>
                  <a:lnTo>
                    <a:pt x="4085" y="1535"/>
                  </a:lnTo>
                  <a:lnTo>
                    <a:pt x="4033" y="1563"/>
                  </a:lnTo>
                  <a:lnTo>
                    <a:pt x="3981" y="1588"/>
                  </a:lnTo>
                  <a:lnTo>
                    <a:pt x="3925" y="1613"/>
                  </a:lnTo>
                  <a:lnTo>
                    <a:pt x="3868" y="1634"/>
                  </a:lnTo>
                  <a:lnTo>
                    <a:pt x="3808" y="1655"/>
                  </a:lnTo>
                  <a:lnTo>
                    <a:pt x="3746" y="1672"/>
                  </a:lnTo>
                  <a:lnTo>
                    <a:pt x="3682" y="1688"/>
                  </a:lnTo>
                  <a:lnTo>
                    <a:pt x="3615" y="1701"/>
                  </a:lnTo>
                  <a:lnTo>
                    <a:pt x="3547" y="1713"/>
                  </a:lnTo>
                  <a:lnTo>
                    <a:pt x="3477" y="1722"/>
                  </a:lnTo>
                  <a:lnTo>
                    <a:pt x="3403" y="1729"/>
                  </a:lnTo>
                  <a:lnTo>
                    <a:pt x="3327" y="1734"/>
                  </a:lnTo>
                  <a:lnTo>
                    <a:pt x="3249" y="1735"/>
                  </a:lnTo>
                  <a:lnTo>
                    <a:pt x="3167" y="1734"/>
                  </a:lnTo>
                  <a:lnTo>
                    <a:pt x="3084" y="1730"/>
                  </a:lnTo>
                  <a:lnTo>
                    <a:pt x="3084" y="1730"/>
                  </a:lnTo>
                  <a:lnTo>
                    <a:pt x="2917" y="1721"/>
                  </a:lnTo>
                  <a:lnTo>
                    <a:pt x="2757" y="1714"/>
                  </a:lnTo>
                  <a:lnTo>
                    <a:pt x="2603" y="1711"/>
                  </a:lnTo>
                  <a:lnTo>
                    <a:pt x="2456" y="1711"/>
                  </a:lnTo>
                  <a:lnTo>
                    <a:pt x="2314" y="1714"/>
                  </a:lnTo>
                  <a:lnTo>
                    <a:pt x="2178" y="1719"/>
                  </a:lnTo>
                  <a:lnTo>
                    <a:pt x="2048" y="1727"/>
                  </a:lnTo>
                  <a:lnTo>
                    <a:pt x="1922" y="1739"/>
                  </a:lnTo>
                  <a:lnTo>
                    <a:pt x="1802" y="1753"/>
                  </a:lnTo>
                  <a:lnTo>
                    <a:pt x="1687" y="1769"/>
                  </a:lnTo>
                  <a:lnTo>
                    <a:pt x="1576" y="1789"/>
                  </a:lnTo>
                  <a:lnTo>
                    <a:pt x="1469" y="1811"/>
                  </a:lnTo>
                  <a:lnTo>
                    <a:pt x="1368" y="1837"/>
                  </a:lnTo>
                  <a:lnTo>
                    <a:pt x="1318" y="1852"/>
                  </a:lnTo>
                  <a:lnTo>
                    <a:pt x="1269" y="1866"/>
                  </a:lnTo>
                  <a:lnTo>
                    <a:pt x="1222" y="1881"/>
                  </a:lnTo>
                  <a:lnTo>
                    <a:pt x="1176" y="1897"/>
                  </a:lnTo>
                  <a:lnTo>
                    <a:pt x="1130" y="1915"/>
                  </a:lnTo>
                  <a:lnTo>
                    <a:pt x="1086" y="1932"/>
                  </a:lnTo>
                  <a:lnTo>
                    <a:pt x="1043" y="1950"/>
                  </a:lnTo>
                  <a:lnTo>
                    <a:pt x="1000" y="1969"/>
                  </a:lnTo>
                  <a:lnTo>
                    <a:pt x="958" y="1989"/>
                  </a:lnTo>
                  <a:lnTo>
                    <a:pt x="916" y="2008"/>
                  </a:lnTo>
                  <a:lnTo>
                    <a:pt x="876" y="2029"/>
                  </a:lnTo>
                  <a:lnTo>
                    <a:pt x="836" y="2052"/>
                  </a:lnTo>
                  <a:lnTo>
                    <a:pt x="797" y="2074"/>
                  </a:lnTo>
                  <a:lnTo>
                    <a:pt x="759" y="2097"/>
                  </a:lnTo>
                  <a:lnTo>
                    <a:pt x="722" y="2121"/>
                  </a:lnTo>
                  <a:lnTo>
                    <a:pt x="684" y="2145"/>
                  </a:lnTo>
                  <a:lnTo>
                    <a:pt x="650" y="2171"/>
                  </a:lnTo>
                  <a:lnTo>
                    <a:pt x="614" y="2197"/>
                  </a:lnTo>
                  <a:lnTo>
                    <a:pt x="579" y="2225"/>
                  </a:lnTo>
                  <a:lnTo>
                    <a:pt x="544" y="2252"/>
                  </a:lnTo>
                  <a:lnTo>
                    <a:pt x="478" y="2309"/>
                  </a:lnTo>
                  <a:lnTo>
                    <a:pt x="412" y="2370"/>
                  </a:lnTo>
                  <a:lnTo>
                    <a:pt x="350" y="2433"/>
                  </a:lnTo>
                  <a:lnTo>
                    <a:pt x="289" y="2497"/>
                  </a:lnTo>
                  <a:lnTo>
                    <a:pt x="229" y="2567"/>
                  </a:lnTo>
                  <a:lnTo>
                    <a:pt x="171" y="2638"/>
                  </a:lnTo>
                  <a:lnTo>
                    <a:pt x="112" y="2712"/>
                  </a:lnTo>
                  <a:lnTo>
                    <a:pt x="55" y="2790"/>
                  </a:lnTo>
                  <a:lnTo>
                    <a:pt x="0" y="2869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9433400">
              <a:off x="3366000" y="-3821040"/>
              <a:ext cx="9752040" cy="6462000"/>
            </a:xfrm>
            <a:custGeom>
              <a:avLst/>
              <a:gdLst/>
              <a:ahLst/>
              <a:rect l="l" t="t" r="r" b="b"/>
              <a:pathLst>
                <a:path w="4875" h="2984">
                  <a:moveTo>
                    <a:pt x="4875" y="0"/>
                  </a:moveTo>
                  <a:lnTo>
                    <a:pt x="4875" y="0"/>
                  </a:lnTo>
                  <a:lnTo>
                    <a:pt x="4875" y="21"/>
                  </a:lnTo>
                  <a:lnTo>
                    <a:pt x="4872" y="79"/>
                  </a:lnTo>
                  <a:lnTo>
                    <a:pt x="4868" y="121"/>
                  </a:lnTo>
                  <a:lnTo>
                    <a:pt x="4864" y="170"/>
                  </a:lnTo>
                  <a:lnTo>
                    <a:pt x="4857" y="226"/>
                  </a:lnTo>
                  <a:lnTo>
                    <a:pt x="4847" y="287"/>
                  </a:lnTo>
                  <a:lnTo>
                    <a:pt x="4835" y="355"/>
                  </a:lnTo>
                  <a:lnTo>
                    <a:pt x="4821" y="428"/>
                  </a:lnTo>
                  <a:lnTo>
                    <a:pt x="4803" y="502"/>
                  </a:lnTo>
                  <a:lnTo>
                    <a:pt x="4780" y="581"/>
                  </a:lnTo>
                  <a:lnTo>
                    <a:pt x="4754" y="664"/>
                  </a:lnTo>
                  <a:lnTo>
                    <a:pt x="4740" y="706"/>
                  </a:lnTo>
                  <a:lnTo>
                    <a:pt x="4724" y="748"/>
                  </a:lnTo>
                  <a:lnTo>
                    <a:pt x="4707" y="790"/>
                  </a:lnTo>
                  <a:lnTo>
                    <a:pt x="4689" y="832"/>
                  </a:lnTo>
                  <a:lnTo>
                    <a:pt x="4671" y="874"/>
                  </a:lnTo>
                  <a:lnTo>
                    <a:pt x="4650" y="917"/>
                  </a:lnTo>
                  <a:lnTo>
                    <a:pt x="4628" y="959"/>
                  </a:lnTo>
                  <a:lnTo>
                    <a:pt x="4604" y="1001"/>
                  </a:lnTo>
                  <a:lnTo>
                    <a:pt x="4580" y="1043"/>
                  </a:lnTo>
                  <a:lnTo>
                    <a:pt x="4554" y="1085"/>
                  </a:lnTo>
                  <a:lnTo>
                    <a:pt x="4526" y="1127"/>
                  </a:lnTo>
                  <a:lnTo>
                    <a:pt x="4497" y="1167"/>
                  </a:lnTo>
                  <a:lnTo>
                    <a:pt x="4467" y="1208"/>
                  </a:lnTo>
                  <a:lnTo>
                    <a:pt x="4435" y="1248"/>
                  </a:lnTo>
                  <a:lnTo>
                    <a:pt x="4400" y="1287"/>
                  </a:lnTo>
                  <a:lnTo>
                    <a:pt x="4364" y="1324"/>
                  </a:lnTo>
                  <a:lnTo>
                    <a:pt x="4326" y="1361"/>
                  </a:lnTo>
                  <a:lnTo>
                    <a:pt x="4288" y="1398"/>
                  </a:lnTo>
                  <a:lnTo>
                    <a:pt x="4247" y="1432"/>
                  </a:lnTo>
                  <a:lnTo>
                    <a:pt x="4204" y="1466"/>
                  </a:lnTo>
                  <a:lnTo>
                    <a:pt x="4160" y="1500"/>
                  </a:lnTo>
                  <a:lnTo>
                    <a:pt x="4113" y="1531"/>
                  </a:lnTo>
                  <a:lnTo>
                    <a:pt x="4064" y="1560"/>
                  </a:lnTo>
                  <a:lnTo>
                    <a:pt x="4013" y="1589"/>
                  </a:lnTo>
                  <a:lnTo>
                    <a:pt x="3960" y="1615"/>
                  </a:lnTo>
                  <a:lnTo>
                    <a:pt x="3906" y="1641"/>
                  </a:lnTo>
                  <a:lnTo>
                    <a:pt x="3847" y="1663"/>
                  </a:lnTo>
                  <a:lnTo>
                    <a:pt x="3789" y="1684"/>
                  </a:lnTo>
                  <a:lnTo>
                    <a:pt x="3727" y="1703"/>
                  </a:lnTo>
                  <a:lnTo>
                    <a:pt x="3663" y="1721"/>
                  </a:lnTo>
                  <a:lnTo>
                    <a:pt x="3597" y="1737"/>
                  </a:lnTo>
                  <a:lnTo>
                    <a:pt x="3528" y="1750"/>
                  </a:lnTo>
                  <a:lnTo>
                    <a:pt x="3457" y="1760"/>
                  </a:lnTo>
                  <a:lnTo>
                    <a:pt x="3385" y="1768"/>
                  </a:lnTo>
                  <a:lnTo>
                    <a:pt x="3309" y="1775"/>
                  </a:lnTo>
                  <a:lnTo>
                    <a:pt x="3230" y="1778"/>
                  </a:lnTo>
                  <a:lnTo>
                    <a:pt x="3149" y="1778"/>
                  </a:lnTo>
                  <a:lnTo>
                    <a:pt x="3066" y="1776"/>
                  </a:lnTo>
                  <a:lnTo>
                    <a:pt x="3066" y="1776"/>
                  </a:lnTo>
                  <a:lnTo>
                    <a:pt x="2899" y="1770"/>
                  </a:lnTo>
                  <a:lnTo>
                    <a:pt x="2739" y="1766"/>
                  </a:lnTo>
                  <a:lnTo>
                    <a:pt x="2585" y="1766"/>
                  </a:lnTo>
                  <a:lnTo>
                    <a:pt x="2438" y="1770"/>
                  </a:lnTo>
                  <a:lnTo>
                    <a:pt x="2297" y="1775"/>
                  </a:lnTo>
                  <a:lnTo>
                    <a:pt x="2160" y="1783"/>
                  </a:lnTo>
                  <a:lnTo>
                    <a:pt x="2030" y="1794"/>
                  </a:lnTo>
                  <a:lnTo>
                    <a:pt x="1904" y="1808"/>
                  </a:lnTo>
                  <a:lnTo>
                    <a:pt x="1784" y="1825"/>
                  </a:lnTo>
                  <a:lnTo>
                    <a:pt x="1669" y="1844"/>
                  </a:lnTo>
                  <a:lnTo>
                    <a:pt x="1558" y="1867"/>
                  </a:lnTo>
                  <a:lnTo>
                    <a:pt x="1452" y="1891"/>
                  </a:lnTo>
                  <a:lnTo>
                    <a:pt x="1401" y="1904"/>
                  </a:lnTo>
                  <a:lnTo>
                    <a:pt x="1351" y="1918"/>
                  </a:lnTo>
                  <a:lnTo>
                    <a:pt x="1302" y="1934"/>
                  </a:lnTo>
                  <a:lnTo>
                    <a:pt x="1254" y="1949"/>
                  </a:lnTo>
                  <a:lnTo>
                    <a:pt x="1207" y="1965"/>
                  </a:lnTo>
                  <a:lnTo>
                    <a:pt x="1161" y="1983"/>
                  </a:lnTo>
                  <a:lnTo>
                    <a:pt x="1115" y="2001"/>
                  </a:lnTo>
                  <a:lnTo>
                    <a:pt x="1071" y="2018"/>
                  </a:lnTo>
                  <a:lnTo>
                    <a:pt x="1028" y="2038"/>
                  </a:lnTo>
                  <a:lnTo>
                    <a:pt x="984" y="2059"/>
                  </a:lnTo>
                  <a:lnTo>
                    <a:pt x="943" y="2078"/>
                  </a:lnTo>
                  <a:lnTo>
                    <a:pt x="903" y="2101"/>
                  </a:lnTo>
                  <a:lnTo>
                    <a:pt x="862" y="2122"/>
                  </a:lnTo>
                  <a:lnTo>
                    <a:pt x="823" y="2144"/>
                  </a:lnTo>
                  <a:lnTo>
                    <a:pt x="785" y="2169"/>
                  </a:lnTo>
                  <a:lnTo>
                    <a:pt x="747" y="2193"/>
                  </a:lnTo>
                  <a:lnTo>
                    <a:pt x="710" y="2217"/>
                  </a:lnTo>
                  <a:lnTo>
                    <a:pt x="673" y="2243"/>
                  </a:lnTo>
                  <a:lnTo>
                    <a:pt x="637" y="2269"/>
                  </a:lnTo>
                  <a:lnTo>
                    <a:pt x="603" y="2296"/>
                  </a:lnTo>
                  <a:lnTo>
                    <a:pt x="568" y="2324"/>
                  </a:lnTo>
                  <a:lnTo>
                    <a:pt x="535" y="2351"/>
                  </a:lnTo>
                  <a:lnTo>
                    <a:pt x="468" y="2411"/>
                  </a:lnTo>
                  <a:lnTo>
                    <a:pt x="404" y="2472"/>
                  </a:lnTo>
                  <a:lnTo>
                    <a:pt x="343" y="2537"/>
                  </a:lnTo>
                  <a:lnTo>
                    <a:pt x="282" y="2604"/>
                  </a:lnTo>
                  <a:lnTo>
                    <a:pt x="224" y="2674"/>
                  </a:lnTo>
                  <a:lnTo>
                    <a:pt x="167" y="2747"/>
                  </a:lnTo>
                  <a:lnTo>
                    <a:pt x="110" y="2822"/>
                  </a:lnTo>
                  <a:lnTo>
                    <a:pt x="54" y="2902"/>
                  </a:lnTo>
                  <a:lnTo>
                    <a:pt x="0" y="2984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9433400">
              <a:off x="3461760" y="-3979440"/>
              <a:ext cx="9664200" cy="6703560"/>
            </a:xfrm>
            <a:custGeom>
              <a:avLst/>
              <a:gdLst/>
              <a:ahLst/>
              <a:rect l="l" t="t" r="r" b="b"/>
              <a:pathLst>
                <a:path w="4831" h="3097">
                  <a:moveTo>
                    <a:pt x="4831" y="0"/>
                  </a:moveTo>
                  <a:lnTo>
                    <a:pt x="4831" y="0"/>
                  </a:lnTo>
                  <a:lnTo>
                    <a:pt x="4829" y="21"/>
                  </a:lnTo>
                  <a:lnTo>
                    <a:pt x="4828" y="80"/>
                  </a:lnTo>
                  <a:lnTo>
                    <a:pt x="4825" y="122"/>
                  </a:lnTo>
                  <a:lnTo>
                    <a:pt x="4821" y="172"/>
                  </a:lnTo>
                  <a:lnTo>
                    <a:pt x="4814" y="228"/>
                  </a:lnTo>
                  <a:lnTo>
                    <a:pt x="4806" y="291"/>
                  </a:lnTo>
                  <a:lnTo>
                    <a:pt x="4796" y="359"/>
                  </a:lnTo>
                  <a:lnTo>
                    <a:pt x="4782" y="430"/>
                  </a:lnTo>
                  <a:lnTo>
                    <a:pt x="4764" y="507"/>
                  </a:lnTo>
                  <a:lnTo>
                    <a:pt x="4743" y="587"/>
                  </a:lnTo>
                  <a:lnTo>
                    <a:pt x="4719" y="669"/>
                  </a:lnTo>
                  <a:lnTo>
                    <a:pt x="4706" y="711"/>
                  </a:lnTo>
                  <a:lnTo>
                    <a:pt x="4690" y="755"/>
                  </a:lnTo>
                  <a:lnTo>
                    <a:pt x="4674" y="797"/>
                  </a:lnTo>
                  <a:lnTo>
                    <a:pt x="4657" y="840"/>
                  </a:lnTo>
                  <a:lnTo>
                    <a:pt x="4638" y="882"/>
                  </a:lnTo>
                  <a:lnTo>
                    <a:pt x="4618" y="926"/>
                  </a:lnTo>
                  <a:lnTo>
                    <a:pt x="4597" y="969"/>
                  </a:lnTo>
                  <a:lnTo>
                    <a:pt x="4574" y="1011"/>
                  </a:lnTo>
                  <a:lnTo>
                    <a:pt x="4550" y="1055"/>
                  </a:lnTo>
                  <a:lnTo>
                    <a:pt x="4525" y="1097"/>
                  </a:lnTo>
                  <a:lnTo>
                    <a:pt x="4497" y="1139"/>
                  </a:lnTo>
                  <a:lnTo>
                    <a:pt x="4470" y="1181"/>
                  </a:lnTo>
                  <a:lnTo>
                    <a:pt x="4439" y="1223"/>
                  </a:lnTo>
                  <a:lnTo>
                    <a:pt x="4407" y="1263"/>
                  </a:lnTo>
                  <a:lnTo>
                    <a:pt x="4374" y="1302"/>
                  </a:lnTo>
                  <a:lnTo>
                    <a:pt x="4339" y="1342"/>
                  </a:lnTo>
                  <a:lnTo>
                    <a:pt x="4303" y="1379"/>
                  </a:lnTo>
                  <a:lnTo>
                    <a:pt x="4264" y="1417"/>
                  </a:lnTo>
                  <a:lnTo>
                    <a:pt x="4224" y="1452"/>
                  </a:lnTo>
                  <a:lnTo>
                    <a:pt x="4181" y="1488"/>
                  </a:lnTo>
                  <a:lnTo>
                    <a:pt x="4136" y="1522"/>
                  </a:lnTo>
                  <a:lnTo>
                    <a:pt x="4091" y="1554"/>
                  </a:lnTo>
                  <a:lnTo>
                    <a:pt x="4042" y="1584"/>
                  </a:lnTo>
                  <a:lnTo>
                    <a:pt x="3992" y="1614"/>
                  </a:lnTo>
                  <a:lnTo>
                    <a:pt x="3939" y="1643"/>
                  </a:lnTo>
                  <a:lnTo>
                    <a:pt x="3885" y="1668"/>
                  </a:lnTo>
                  <a:lnTo>
                    <a:pt x="3828" y="1693"/>
                  </a:lnTo>
                  <a:lnTo>
                    <a:pt x="3768" y="1715"/>
                  </a:lnTo>
                  <a:lnTo>
                    <a:pt x="3707" y="1736"/>
                  </a:lnTo>
                  <a:lnTo>
                    <a:pt x="3643" y="1754"/>
                  </a:lnTo>
                  <a:lnTo>
                    <a:pt x="3578" y="1772"/>
                  </a:lnTo>
                  <a:lnTo>
                    <a:pt x="3510" y="1786"/>
                  </a:lnTo>
                  <a:lnTo>
                    <a:pt x="3439" y="1798"/>
                  </a:lnTo>
                  <a:lnTo>
                    <a:pt x="3366" y="1807"/>
                  </a:lnTo>
                  <a:lnTo>
                    <a:pt x="3291" y="1815"/>
                  </a:lnTo>
                  <a:lnTo>
                    <a:pt x="3212" y="1820"/>
                  </a:lnTo>
                  <a:lnTo>
                    <a:pt x="3131" y="1822"/>
                  </a:lnTo>
                  <a:lnTo>
                    <a:pt x="3048" y="1822"/>
                  </a:lnTo>
                  <a:lnTo>
                    <a:pt x="3048" y="1822"/>
                  </a:lnTo>
                  <a:lnTo>
                    <a:pt x="2881" y="1819"/>
                  </a:lnTo>
                  <a:lnTo>
                    <a:pt x="2720" y="1819"/>
                  </a:lnTo>
                  <a:lnTo>
                    <a:pt x="2567" y="1822"/>
                  </a:lnTo>
                  <a:lnTo>
                    <a:pt x="2419" y="1828"/>
                  </a:lnTo>
                  <a:lnTo>
                    <a:pt x="2277" y="1836"/>
                  </a:lnTo>
                  <a:lnTo>
                    <a:pt x="2141" y="1848"/>
                  </a:lnTo>
                  <a:lnTo>
                    <a:pt x="2012" y="1861"/>
                  </a:lnTo>
                  <a:lnTo>
                    <a:pt x="1887" y="1877"/>
                  </a:lnTo>
                  <a:lnTo>
                    <a:pt x="1766" y="1896"/>
                  </a:lnTo>
                  <a:lnTo>
                    <a:pt x="1651" y="1919"/>
                  </a:lnTo>
                  <a:lnTo>
                    <a:pt x="1541" y="1943"/>
                  </a:lnTo>
                  <a:lnTo>
                    <a:pt x="1436" y="1970"/>
                  </a:lnTo>
                  <a:lnTo>
                    <a:pt x="1384" y="1985"/>
                  </a:lnTo>
                  <a:lnTo>
                    <a:pt x="1335" y="1999"/>
                  </a:lnTo>
                  <a:lnTo>
                    <a:pt x="1286" y="2016"/>
                  </a:lnTo>
                  <a:lnTo>
                    <a:pt x="1239" y="2032"/>
                  </a:lnTo>
                  <a:lnTo>
                    <a:pt x="1191" y="2050"/>
                  </a:lnTo>
                  <a:lnTo>
                    <a:pt x="1146" y="2067"/>
                  </a:lnTo>
                  <a:lnTo>
                    <a:pt x="1100" y="2087"/>
                  </a:lnTo>
                  <a:lnTo>
                    <a:pt x="1057" y="2106"/>
                  </a:lnTo>
                  <a:lnTo>
                    <a:pt x="1014" y="2127"/>
                  </a:lnTo>
                  <a:lnTo>
                    <a:pt x="971" y="2148"/>
                  </a:lnTo>
                  <a:lnTo>
                    <a:pt x="930" y="2169"/>
                  </a:lnTo>
                  <a:lnTo>
                    <a:pt x="889" y="2192"/>
                  </a:lnTo>
                  <a:lnTo>
                    <a:pt x="850" y="2214"/>
                  </a:lnTo>
                  <a:lnTo>
                    <a:pt x="811" y="2237"/>
                  </a:lnTo>
                  <a:lnTo>
                    <a:pt x="772" y="2263"/>
                  </a:lnTo>
                  <a:lnTo>
                    <a:pt x="735" y="2287"/>
                  </a:lnTo>
                  <a:lnTo>
                    <a:pt x="699" y="2313"/>
                  </a:lnTo>
                  <a:lnTo>
                    <a:pt x="663" y="2339"/>
                  </a:lnTo>
                  <a:lnTo>
                    <a:pt x="628" y="2366"/>
                  </a:lnTo>
                  <a:lnTo>
                    <a:pt x="593" y="2393"/>
                  </a:lnTo>
                  <a:lnTo>
                    <a:pt x="558" y="2423"/>
                  </a:lnTo>
                  <a:lnTo>
                    <a:pt x="525" y="2452"/>
                  </a:lnTo>
                  <a:lnTo>
                    <a:pt x="460" y="2511"/>
                  </a:lnTo>
                  <a:lnTo>
                    <a:pt x="397" y="2576"/>
                  </a:lnTo>
                  <a:lnTo>
                    <a:pt x="336" y="2640"/>
                  </a:lnTo>
                  <a:lnTo>
                    <a:pt x="277" y="2710"/>
                  </a:lnTo>
                  <a:lnTo>
                    <a:pt x="220" y="2783"/>
                  </a:lnTo>
                  <a:lnTo>
                    <a:pt x="163" y="2857"/>
                  </a:lnTo>
                  <a:lnTo>
                    <a:pt x="107" y="2934"/>
                  </a:lnTo>
                  <a:lnTo>
                    <a:pt x="53" y="3013"/>
                  </a:lnTo>
                  <a:lnTo>
                    <a:pt x="0" y="3097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9433400">
              <a:off x="3560760" y="-4142160"/>
              <a:ext cx="9565920" cy="6951240"/>
            </a:xfrm>
            <a:custGeom>
              <a:avLst/>
              <a:gdLst/>
              <a:ahLst/>
              <a:rect l="l" t="t" r="r" b="b"/>
              <a:pathLst>
                <a:path w="4782" h="3210">
                  <a:moveTo>
                    <a:pt x="4782" y="0"/>
                  </a:moveTo>
                  <a:lnTo>
                    <a:pt x="4782" y="0"/>
                  </a:lnTo>
                  <a:lnTo>
                    <a:pt x="4782" y="21"/>
                  </a:lnTo>
                  <a:lnTo>
                    <a:pt x="4780" y="81"/>
                  </a:lnTo>
                  <a:lnTo>
                    <a:pt x="4779" y="123"/>
                  </a:lnTo>
                  <a:lnTo>
                    <a:pt x="4775" y="173"/>
                  </a:lnTo>
                  <a:lnTo>
                    <a:pt x="4770" y="229"/>
                  </a:lnTo>
                  <a:lnTo>
                    <a:pt x="4762" y="292"/>
                  </a:lnTo>
                  <a:lnTo>
                    <a:pt x="4752" y="360"/>
                  </a:lnTo>
                  <a:lnTo>
                    <a:pt x="4740" y="433"/>
                  </a:lnTo>
                  <a:lnTo>
                    <a:pt x="4723" y="510"/>
                  </a:lnTo>
                  <a:lnTo>
                    <a:pt x="4704" y="591"/>
                  </a:lnTo>
                  <a:lnTo>
                    <a:pt x="4682" y="675"/>
                  </a:lnTo>
                  <a:lnTo>
                    <a:pt x="4668" y="717"/>
                  </a:lnTo>
                  <a:lnTo>
                    <a:pt x="4654" y="760"/>
                  </a:lnTo>
                  <a:lnTo>
                    <a:pt x="4637" y="802"/>
                  </a:lnTo>
                  <a:lnTo>
                    <a:pt x="4620" y="846"/>
                  </a:lnTo>
                  <a:lnTo>
                    <a:pt x="4602" y="890"/>
                  </a:lnTo>
                  <a:lnTo>
                    <a:pt x="4584" y="935"/>
                  </a:lnTo>
                  <a:lnTo>
                    <a:pt x="4564" y="978"/>
                  </a:lnTo>
                  <a:lnTo>
                    <a:pt x="4541" y="1022"/>
                  </a:lnTo>
                  <a:lnTo>
                    <a:pt x="4518" y="1066"/>
                  </a:lnTo>
                  <a:lnTo>
                    <a:pt x="4493" y="1108"/>
                  </a:lnTo>
                  <a:lnTo>
                    <a:pt x="4466" y="1151"/>
                  </a:lnTo>
                  <a:lnTo>
                    <a:pt x="4439" y="1193"/>
                  </a:lnTo>
                  <a:lnTo>
                    <a:pt x="4409" y="1235"/>
                  </a:lnTo>
                  <a:lnTo>
                    <a:pt x="4379" y="1277"/>
                  </a:lnTo>
                  <a:lnTo>
                    <a:pt x="4346" y="1318"/>
                  </a:lnTo>
                  <a:lnTo>
                    <a:pt x="4311" y="1358"/>
                  </a:lnTo>
                  <a:lnTo>
                    <a:pt x="4275" y="1397"/>
                  </a:lnTo>
                  <a:lnTo>
                    <a:pt x="4237" y="1435"/>
                  </a:lnTo>
                  <a:lnTo>
                    <a:pt x="4197" y="1471"/>
                  </a:lnTo>
                  <a:lnTo>
                    <a:pt x="4155" y="1508"/>
                  </a:lnTo>
                  <a:lnTo>
                    <a:pt x="4111" y="1542"/>
                  </a:lnTo>
                  <a:lnTo>
                    <a:pt x="4065" y="1576"/>
                  </a:lnTo>
                  <a:lnTo>
                    <a:pt x="4018" y="1608"/>
                  </a:lnTo>
                  <a:lnTo>
                    <a:pt x="3968" y="1639"/>
                  </a:lnTo>
                  <a:lnTo>
                    <a:pt x="3917" y="1668"/>
                  </a:lnTo>
                  <a:lnTo>
                    <a:pt x="3862" y="1695"/>
                  </a:lnTo>
                  <a:lnTo>
                    <a:pt x="3805" y="1721"/>
                  </a:lnTo>
                  <a:lnTo>
                    <a:pt x="3747" y="1744"/>
                  </a:lnTo>
                  <a:lnTo>
                    <a:pt x="3686" y="1766"/>
                  </a:lnTo>
                  <a:lnTo>
                    <a:pt x="3622" y="1787"/>
                  </a:lnTo>
                  <a:lnTo>
                    <a:pt x="3557" y="1805"/>
                  </a:lnTo>
                  <a:lnTo>
                    <a:pt x="3489" y="1821"/>
                  </a:lnTo>
                  <a:lnTo>
                    <a:pt x="3418" y="1834"/>
                  </a:lnTo>
                  <a:lnTo>
                    <a:pt x="3344" y="1846"/>
                  </a:lnTo>
                  <a:lnTo>
                    <a:pt x="3270" y="1855"/>
                  </a:lnTo>
                  <a:lnTo>
                    <a:pt x="3192" y="1860"/>
                  </a:lnTo>
                  <a:lnTo>
                    <a:pt x="3110" y="1865"/>
                  </a:lnTo>
                  <a:lnTo>
                    <a:pt x="3027" y="1867"/>
                  </a:lnTo>
                  <a:lnTo>
                    <a:pt x="3027" y="1867"/>
                  </a:lnTo>
                  <a:lnTo>
                    <a:pt x="2860" y="1867"/>
                  </a:lnTo>
                  <a:lnTo>
                    <a:pt x="2700" y="1870"/>
                  </a:lnTo>
                  <a:lnTo>
                    <a:pt x="2546" y="1876"/>
                  </a:lnTo>
                  <a:lnTo>
                    <a:pt x="2399" y="1884"/>
                  </a:lnTo>
                  <a:lnTo>
                    <a:pt x="2257" y="1896"/>
                  </a:lnTo>
                  <a:lnTo>
                    <a:pt x="2121" y="1910"/>
                  </a:lnTo>
                  <a:lnTo>
                    <a:pt x="1992" y="1926"/>
                  </a:lnTo>
                  <a:lnTo>
                    <a:pt x="1867" y="1946"/>
                  </a:lnTo>
                  <a:lnTo>
                    <a:pt x="1748" y="1967"/>
                  </a:lnTo>
                  <a:lnTo>
                    <a:pt x="1633" y="1991"/>
                  </a:lnTo>
                  <a:lnTo>
                    <a:pt x="1523" y="2018"/>
                  </a:lnTo>
                  <a:lnTo>
                    <a:pt x="1419" y="2047"/>
                  </a:lnTo>
                  <a:lnTo>
                    <a:pt x="1367" y="2064"/>
                  </a:lnTo>
                  <a:lnTo>
                    <a:pt x="1317" y="2080"/>
                  </a:lnTo>
                  <a:lnTo>
                    <a:pt x="1269" y="2097"/>
                  </a:lnTo>
                  <a:lnTo>
                    <a:pt x="1222" y="2115"/>
                  </a:lnTo>
                  <a:lnTo>
                    <a:pt x="1174" y="2133"/>
                  </a:lnTo>
                  <a:lnTo>
                    <a:pt x="1129" y="2152"/>
                  </a:lnTo>
                  <a:lnTo>
                    <a:pt x="1084" y="2172"/>
                  </a:lnTo>
                  <a:lnTo>
                    <a:pt x="1041" y="2193"/>
                  </a:lnTo>
                  <a:lnTo>
                    <a:pt x="998" y="2214"/>
                  </a:lnTo>
                  <a:lnTo>
                    <a:pt x="956" y="2235"/>
                  </a:lnTo>
                  <a:lnTo>
                    <a:pt x="915" y="2257"/>
                  </a:lnTo>
                  <a:lnTo>
                    <a:pt x="874" y="2282"/>
                  </a:lnTo>
                  <a:lnTo>
                    <a:pt x="836" y="2306"/>
                  </a:lnTo>
                  <a:lnTo>
                    <a:pt x="797" y="2330"/>
                  </a:lnTo>
                  <a:lnTo>
                    <a:pt x="759" y="2354"/>
                  </a:lnTo>
                  <a:lnTo>
                    <a:pt x="722" y="2380"/>
                  </a:lnTo>
                  <a:lnTo>
                    <a:pt x="686" y="2407"/>
                  </a:lnTo>
                  <a:lnTo>
                    <a:pt x="651" y="2435"/>
                  </a:lnTo>
                  <a:lnTo>
                    <a:pt x="615" y="2462"/>
                  </a:lnTo>
                  <a:lnTo>
                    <a:pt x="582" y="2491"/>
                  </a:lnTo>
                  <a:lnTo>
                    <a:pt x="548" y="2520"/>
                  </a:lnTo>
                  <a:lnTo>
                    <a:pt x="515" y="2550"/>
                  </a:lnTo>
                  <a:lnTo>
                    <a:pt x="451" y="2613"/>
                  </a:lnTo>
                  <a:lnTo>
                    <a:pt x="389" y="2677"/>
                  </a:lnTo>
                  <a:lnTo>
                    <a:pt x="329" y="2745"/>
                  </a:lnTo>
                  <a:lnTo>
                    <a:pt x="271" y="2816"/>
                  </a:lnTo>
                  <a:lnTo>
                    <a:pt x="214" y="2889"/>
                  </a:lnTo>
                  <a:lnTo>
                    <a:pt x="158" y="2965"/>
                  </a:lnTo>
                  <a:lnTo>
                    <a:pt x="104" y="3044"/>
                  </a:lnTo>
                  <a:lnTo>
                    <a:pt x="51" y="3124"/>
                  </a:lnTo>
                  <a:lnTo>
                    <a:pt x="0" y="3210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9433400">
              <a:off x="3660480" y="-4299480"/>
              <a:ext cx="9467640" cy="7197480"/>
            </a:xfrm>
            <a:custGeom>
              <a:avLst/>
              <a:gdLst/>
              <a:ahLst/>
              <a:rect l="l" t="t" r="r" b="b"/>
              <a:pathLst>
                <a:path w="4733" h="3323">
                  <a:moveTo>
                    <a:pt x="4733" y="0"/>
                  </a:moveTo>
                  <a:lnTo>
                    <a:pt x="4733" y="0"/>
                  </a:lnTo>
                  <a:lnTo>
                    <a:pt x="4733" y="21"/>
                  </a:lnTo>
                  <a:lnTo>
                    <a:pt x="4733" y="81"/>
                  </a:lnTo>
                  <a:lnTo>
                    <a:pt x="4732" y="123"/>
                  </a:lnTo>
                  <a:lnTo>
                    <a:pt x="4729" y="173"/>
                  </a:lnTo>
                  <a:lnTo>
                    <a:pt x="4725" y="231"/>
                  </a:lnTo>
                  <a:lnTo>
                    <a:pt x="4718" y="294"/>
                  </a:lnTo>
                  <a:lnTo>
                    <a:pt x="4710" y="364"/>
                  </a:lnTo>
                  <a:lnTo>
                    <a:pt x="4699" y="436"/>
                  </a:lnTo>
                  <a:lnTo>
                    <a:pt x="4683" y="516"/>
                  </a:lnTo>
                  <a:lnTo>
                    <a:pt x="4665" y="596"/>
                  </a:lnTo>
                  <a:lnTo>
                    <a:pt x="4643" y="680"/>
                  </a:lnTo>
                  <a:lnTo>
                    <a:pt x="4631" y="724"/>
                  </a:lnTo>
                  <a:lnTo>
                    <a:pt x="4617" y="767"/>
                  </a:lnTo>
                  <a:lnTo>
                    <a:pt x="4602" y="811"/>
                  </a:lnTo>
                  <a:lnTo>
                    <a:pt x="4586" y="855"/>
                  </a:lnTo>
                  <a:lnTo>
                    <a:pt x="4568" y="898"/>
                  </a:lnTo>
                  <a:lnTo>
                    <a:pt x="4550" y="943"/>
                  </a:lnTo>
                  <a:lnTo>
                    <a:pt x="4529" y="987"/>
                  </a:lnTo>
                  <a:lnTo>
                    <a:pt x="4509" y="1032"/>
                  </a:lnTo>
                  <a:lnTo>
                    <a:pt x="4486" y="1076"/>
                  </a:lnTo>
                  <a:lnTo>
                    <a:pt x="4461" y="1119"/>
                  </a:lnTo>
                  <a:lnTo>
                    <a:pt x="4436" y="1165"/>
                  </a:lnTo>
                  <a:lnTo>
                    <a:pt x="4409" y="1207"/>
                  </a:lnTo>
                  <a:lnTo>
                    <a:pt x="4381" y="1250"/>
                  </a:lnTo>
                  <a:lnTo>
                    <a:pt x="4350" y="1292"/>
                  </a:lnTo>
                  <a:lnTo>
                    <a:pt x="4317" y="1334"/>
                  </a:lnTo>
                  <a:lnTo>
                    <a:pt x="4284" y="1375"/>
                  </a:lnTo>
                  <a:lnTo>
                    <a:pt x="4247" y="1415"/>
                  </a:lnTo>
                  <a:lnTo>
                    <a:pt x="4210" y="1454"/>
                  </a:lnTo>
                  <a:lnTo>
                    <a:pt x="4171" y="1491"/>
                  </a:lnTo>
                  <a:lnTo>
                    <a:pt x="4129" y="1528"/>
                  </a:lnTo>
                  <a:lnTo>
                    <a:pt x="4086" y="1563"/>
                  </a:lnTo>
                  <a:lnTo>
                    <a:pt x="4041" y="1599"/>
                  </a:lnTo>
                  <a:lnTo>
                    <a:pt x="3993" y="1631"/>
                  </a:lnTo>
                  <a:lnTo>
                    <a:pt x="3945" y="1664"/>
                  </a:lnTo>
                  <a:lnTo>
                    <a:pt x="3893" y="1694"/>
                  </a:lnTo>
                  <a:lnTo>
                    <a:pt x="3839" y="1723"/>
                  </a:lnTo>
                  <a:lnTo>
                    <a:pt x="3784" y="1749"/>
                  </a:lnTo>
                  <a:lnTo>
                    <a:pt x="3725" y="1775"/>
                  </a:lnTo>
                  <a:lnTo>
                    <a:pt x="3664" y="1798"/>
                  </a:lnTo>
                  <a:lnTo>
                    <a:pt x="3602" y="1820"/>
                  </a:lnTo>
                  <a:lnTo>
                    <a:pt x="3537" y="1840"/>
                  </a:lnTo>
                  <a:lnTo>
                    <a:pt x="3469" y="1856"/>
                  </a:lnTo>
                  <a:lnTo>
                    <a:pt x="3398" y="1872"/>
                  </a:lnTo>
                  <a:lnTo>
                    <a:pt x="3326" y="1885"/>
                  </a:lnTo>
                  <a:lnTo>
                    <a:pt x="3249" y="1894"/>
                  </a:lnTo>
                  <a:lnTo>
                    <a:pt x="3171" y="1903"/>
                  </a:lnTo>
                  <a:lnTo>
                    <a:pt x="3091" y="1909"/>
                  </a:lnTo>
                  <a:lnTo>
                    <a:pt x="3008" y="1911"/>
                  </a:lnTo>
                  <a:lnTo>
                    <a:pt x="3008" y="1911"/>
                  </a:lnTo>
                  <a:lnTo>
                    <a:pt x="2841" y="1915"/>
                  </a:lnTo>
                  <a:lnTo>
                    <a:pt x="2681" y="1922"/>
                  </a:lnTo>
                  <a:lnTo>
                    <a:pt x="2527" y="1932"/>
                  </a:lnTo>
                  <a:lnTo>
                    <a:pt x="2380" y="1943"/>
                  </a:lnTo>
                  <a:lnTo>
                    <a:pt x="2238" y="1957"/>
                  </a:lnTo>
                  <a:lnTo>
                    <a:pt x="2102" y="1974"/>
                  </a:lnTo>
                  <a:lnTo>
                    <a:pt x="1973" y="1993"/>
                  </a:lnTo>
                  <a:lnTo>
                    <a:pt x="1848" y="2014"/>
                  </a:lnTo>
                  <a:lnTo>
                    <a:pt x="1729" y="2038"/>
                  </a:lnTo>
                  <a:lnTo>
                    <a:pt x="1615" y="2066"/>
                  </a:lnTo>
                  <a:lnTo>
                    <a:pt x="1507" y="2095"/>
                  </a:lnTo>
                  <a:lnTo>
                    <a:pt x="1401" y="2127"/>
                  </a:lnTo>
                  <a:lnTo>
                    <a:pt x="1351" y="2143"/>
                  </a:lnTo>
                  <a:lnTo>
                    <a:pt x="1301" y="2161"/>
                  </a:lnTo>
                  <a:lnTo>
                    <a:pt x="1253" y="2179"/>
                  </a:lnTo>
                  <a:lnTo>
                    <a:pt x="1205" y="2198"/>
                  </a:lnTo>
                  <a:lnTo>
                    <a:pt x="1160" y="2217"/>
                  </a:lnTo>
                  <a:lnTo>
                    <a:pt x="1114" y="2237"/>
                  </a:lnTo>
                  <a:lnTo>
                    <a:pt x="1069" y="2258"/>
                  </a:lnTo>
                  <a:lnTo>
                    <a:pt x="1026" y="2280"/>
                  </a:lnTo>
                  <a:lnTo>
                    <a:pt x="983" y="2301"/>
                  </a:lnTo>
                  <a:lnTo>
                    <a:pt x="942" y="2324"/>
                  </a:lnTo>
                  <a:lnTo>
                    <a:pt x="901" y="2348"/>
                  </a:lnTo>
                  <a:lnTo>
                    <a:pt x="861" y="2372"/>
                  </a:lnTo>
                  <a:lnTo>
                    <a:pt x="822" y="2397"/>
                  </a:lnTo>
                  <a:lnTo>
                    <a:pt x="785" y="2422"/>
                  </a:lnTo>
                  <a:lnTo>
                    <a:pt x="747" y="2448"/>
                  </a:lnTo>
                  <a:lnTo>
                    <a:pt x="711" y="2476"/>
                  </a:lnTo>
                  <a:lnTo>
                    <a:pt x="675" y="2503"/>
                  </a:lnTo>
                  <a:lnTo>
                    <a:pt x="639" y="2531"/>
                  </a:lnTo>
                  <a:lnTo>
                    <a:pt x="606" y="2560"/>
                  </a:lnTo>
                  <a:lnTo>
                    <a:pt x="571" y="2589"/>
                  </a:lnTo>
                  <a:lnTo>
                    <a:pt x="538" y="2619"/>
                  </a:lnTo>
                  <a:lnTo>
                    <a:pt x="506" y="2650"/>
                  </a:lnTo>
                  <a:lnTo>
                    <a:pt x="442" y="2713"/>
                  </a:lnTo>
                  <a:lnTo>
                    <a:pt x="382" y="2779"/>
                  </a:lnTo>
                  <a:lnTo>
                    <a:pt x="322" y="2849"/>
                  </a:lnTo>
                  <a:lnTo>
                    <a:pt x="265" y="2921"/>
                  </a:lnTo>
                  <a:lnTo>
                    <a:pt x="210" y="2996"/>
                  </a:lnTo>
                  <a:lnTo>
                    <a:pt x="156" y="3073"/>
                  </a:lnTo>
                  <a:lnTo>
                    <a:pt x="103" y="3154"/>
                  </a:lnTo>
                  <a:lnTo>
                    <a:pt x="52" y="3236"/>
                  </a:lnTo>
                  <a:lnTo>
                    <a:pt x="0" y="3323"/>
                  </a:ln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63600" y="-336600"/>
            <a:ext cx="3576600" cy="2048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1601640"/>
            <a:ext cx="11522160" cy="1764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-520560"/>
            <a:ext cx="11522160" cy="1087200"/>
          </a:xfrm>
          <a:prstGeom prst="rect">
            <a:avLst/>
          </a:prstGeom>
          <a:blipFill rotWithShape="0">
            <a:blip r:embed="rId4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19080" y="3416400"/>
            <a:ext cx="11555280" cy="142920"/>
            <a:chOff x="-19080" y="3416400"/>
            <a:chExt cx="11555280" cy="142920"/>
          </a:xfrm>
        </p:grpSpPr>
        <p:sp>
          <p:nvSpPr>
            <p:cNvPr id="177" name=""/>
            <p:cNvSpPr/>
            <p:nvPr/>
          </p:nvSpPr>
          <p:spPr>
            <a:xfrm>
              <a:off x="0" y="3416400"/>
              <a:ext cx="11522160" cy="14292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-19080" y="3418560"/>
              <a:ext cx="11555280" cy="134280"/>
            </a:xfrm>
            <a:prstGeom prst="rect">
              <a:avLst/>
            </a:prstGeom>
            <a:blipFill rotWithShape="0">
              <a:blip r:embed="rId5">
                <a:alphaModFix amt="3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0" y="6551640"/>
            <a:ext cx="11522160" cy="2887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 flipV="1">
            <a:off x="9631440" y="5938200"/>
            <a:ext cx="1603440" cy="6541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"/>
          <p:cNvSpPr/>
          <p:nvPr/>
        </p:nvSpPr>
        <p:spPr>
          <a:xfrm>
            <a:off x="1263960" y="3328920"/>
            <a:ext cx="26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多特软件站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www.duote.com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8" name=""/>
          <p:cNvSpPr/>
          <p:nvPr/>
        </p:nvSpPr>
        <p:spPr>
          <a:xfrm>
            <a:off x="4333680" y="1628640"/>
            <a:ext cx="318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95440" y="5175360"/>
            <a:ext cx="1218960" cy="1222200"/>
            <a:chOff x="595440" y="5175360"/>
            <a:chExt cx="1218960" cy="122220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595440" y="517536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2"/>
            <a:srcRect l="0" t="50659" r="54791" b="0"/>
            <a:stretch/>
          </p:blipFill>
          <p:spPr>
            <a:xfrm>
              <a:off x="596880" y="5791320"/>
              <a:ext cx="555480" cy="60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"/>
          <p:cNvGrpSpPr/>
          <p:nvPr/>
        </p:nvGrpSpPr>
        <p:grpSpPr>
          <a:xfrm>
            <a:off x="595440" y="5172120"/>
            <a:ext cx="1228680" cy="1228680"/>
            <a:chOff x="595440" y="5172120"/>
            <a:chExt cx="1228680" cy="1228680"/>
          </a:xfrm>
        </p:grpSpPr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>
              <a:off x="595440" y="5172120"/>
              <a:ext cx="122868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4"/>
            <a:srcRect l="0" t="50659" r="54791" b="0"/>
            <a:stretch/>
          </p:blipFill>
          <p:spPr>
            <a:xfrm>
              <a:off x="597240" y="5786280"/>
              <a:ext cx="555480" cy="60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 rot="1387200">
            <a:off x="739440" y="4576680"/>
            <a:ext cx="1228680" cy="1228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flipV="1">
            <a:off x="10139400" y="6189840"/>
            <a:ext cx="2084400" cy="4809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8874000" y="3948120"/>
            <a:ext cx="2648160" cy="2647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flipV="1">
            <a:off x="10310760" y="3481560"/>
            <a:ext cx="324000" cy="1872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A1F9-C42F-4506-9581-5158E0A57A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496 -0.00975 L 0.28265 -0.41365 E">
                                      <p:cBhvr>
                                        <p:cTn id="3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879 -0.40863 L 0.32924 -0.40585 L 0.30692 -0.40306 L 0.30774 -0.34045 L 0.33834 -0.41976 L 0.33917 -0.33627 L 0.34413 -0.37941 L 0.35157 -0.39054 L 0.35984 -0.38636 L 0.36149 -0.36271 L 0.36563 -0.33488 L 0.3739 -0.35436 L 0.39953 -0.37245 L 0.39705 -0.38497 L 0.37968 -0.37941 L 0.37968 -0.36549 L 0.37803 -0.34323 L 0.39043 -0.33906 L 0.40036 -0.35019 L 0.47395 -0.41559 L 0.44914 -0.4128 L 0.44253 -0.38358 L 0.44501 -0.37245 L 0.46734 -0.37662 L 0.44418 -0.36688 L 0.44336 -0.34323 L 0.47064 -0.33766 L 0.48139 -0.38636 L 0.48139 -0.33349 L 0.48635 -0.37802 L 0.50041 -0.38915 L 0.50537 -0.37523 L 0.5062 -0.33071 L 0.54093 -0.37662 L 0.53597 -0.3808 L 0.52026 -0.37802 L 0.51778 -0.35158 L 0.5277 -0.33766 L 0.53928 -0.34601 L 0.54424 -0.41419 C 0.54506 -0.38915 0.54672 -0.33906 0.54672 -0.33882 E">
                                      <p:cBhvr>
                                        <p:cTn id="39" dur="5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703 -0.2129 L 0.0379 -0.2129 L 0.02467 -0.20362 L 0.02467 -0.15909 L 0.05223 -0.21661 L 0.05333 -0.15724 L 0.05664 -0.18692 L 0.06215 -0.19991 L 0.07097 -0.19991 L 0.07428 -0.15724 L 0.09192 -0.15909 L 0.10846 -0.16837 L 0.10625 -0.19249 L 0.08641 -0.1795 L 0.08972 -0.1628 L 0.10956 -0.16095 L 0.11508 -0.15167 L 0.125 -0.20362 L 0.1239 -0.15724 L 0.12831 -0.19805 L 0.14154 -0.20362 L 0.14374 -0.15724 L 0.15794 -0.21475 L 0.15918 -0.15538 L 0.17558 -0.19991 L 0.1691 -0.17208 L 0.18123 -0.15538 L 0.2121 -0.19805 L 0.19446 -0.20362 L 0.18881 -0.18507 L 0.20769 -0.17579 L 0.20659 -0.15724 L 0.19666 -0.15538 L 0.19115 -0.1628 L 0.26723 -0.2129 L 0.24297 -0.2129 L 0.24517 -0.15724 L 0.24738 -0.19249 L 0.26502 -0.19249 L 0.28597 -0.20176 L 0.27715 -0.18692 L 0.27825 -0.16837 L 0.28928 -0.15909 L 0.2992 -0.16466 L 0.30016 -0.18321 L 0.28928 -0.19991 L 0.31353 -0.1962 L 0.31353 -0.16095 L 0.32015 -0.19805 L 0.32662 -0.20362 L 0.35433 -0.21661 L 0.36756 -0.18692 L 0.38478 -0.2129 L 0.36866 -0.18507 L 0.36866 -0.14982 L 0.40173 -0.19805 L 0.38961 -0.17579 L 0.40725 -0.15353 L 0.41607 -0.17393 L 0.41607 -0.19434 L 0.40504 -0.20176 L 0.4315 -0.19991 L 0.43178 -0.15538 L 0.44363 -0.15909 L 0.44942 -0.1962 L 0.45231 -0.1628 L 0.46678 -0.1962 L 0.46899 -0.15167 L 0.4734 -0.19434 L 0.48332 -0.19991 L 0.52191 -0.21661 L 0.50537 -0.15909 L 0.52632 -0.21475 L 0.53735 -0.15353 L 0.5175 -0.17579 L 0.53183 -0.1795 L 0.55058 -0.21104 L 0.55388 -0.15909 L 0.56381 -0.16095 L 0.57483 -0.21475 L 0.57483 -0.1628 L 0.58586 -0.15724 L 0.59647 -0.17764 L 0.61673 -0.18321 L 0.61411 -0.19805 L 0.60019 -0.20176 L 0.59344 -0.19063 L 0.59647 -0.16466 L 0.60901 -0.15909 L 0.61783 -0.16651 L 0.63327 -0.1962 L 0.63175 -0.16095 L 0.63988 -0.20362 L 0.65201 -0.20176 L 0.65201 -0.15353 L 0.67186 -0.21104 L 0.66965 -0.15909 L 0.68068 -0.15909 L 0.6928 -0.21846 L 0.6928 -0.15538 L 0.70824 -0.20362 L 0.70714 -0.18507 L 0.70603 -0.16651 L 0.71692 -0.16095 L 0.73029 -0.16651 L 0.72808 -0.19434 L 0.71485 -0.20362 L 0.74462 -0.20176 L 0.74352 -0.16095 L 0.75014 -0.19805 L 0.76116 -0.20362 L 0.76116 -0.15909 E">
                                      <p:cBhvr>
                                        <p:cTn id="45" dur="5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1000"/>
                                  </p:stCondLst>
                                  <p:iterate type="lt">
                                    <p:tmAbs val="1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380"/>
                            </p:stCondLst>
                            <p:childTnLst>
                              <p:par>
                                <p:cTn id="5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7200000">
                                      <p:cBhvr>
                                        <p:cTn id="5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76116 -0.15916 L 0.82397 -0.31529 E">
                                      <p:cBhvr>
                                        <p:cTn id="53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6:12:53Z</dcterms:created>
  <dc:creator>廉玮晟</dc:creator>
  <dc:description/>
  <dc:language>en-US</dc:language>
  <cp:lastModifiedBy>sqx</cp:lastModifiedBy>
  <dcterms:modified xsi:type="dcterms:W3CDTF">2011-04-26T05:54:28Z</dcterms:modified>
  <cp:revision>464</cp:revision>
  <dc:subject/>
  <dc:title>答辩幻灯</dc:title>
</cp:coreProperties>
</file>