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C4FFB2-1B37-4B20-AAD9-345A058C5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9CED51-32B2-4A54-97CC-5C55AC8CD31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B26D-C9A6-4BEC-BED8-0A4DADA2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7551-6F61-4ABE-8327-A6886118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3591-8B29-4151-B778-E5748522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8603-7675-43C1-A321-768908DB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AF67-34F8-41E2-B94E-9E432088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CAC-4D0E-49C0-AAE3-FEB5FD32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1F0B-8BAB-4B64-B97D-3128AB56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2E6B-4979-4A2D-8ED1-04111A01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6F96-3129-4E6F-8EE9-7ECE66E4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1453-1E66-4918-B675-9BD4C792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6A9A-35FE-40C4-9C21-8C856671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9B7D-CCEC-4291-B41C-84C16008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2416-FBA5-4B79-9A8B-8C1EF574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819C-DA10-40CB-8F8A-50BD309B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A48B-0636-4ECD-90F4-B37D8AA0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A02F-317C-47D1-B0AC-619F79CF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A2A7-566D-44E8-BECF-4ACFCFB3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44CF-8CEB-4BDE-A94F-6BF08D28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0ABA-A04B-467B-8A6D-1EB4EF55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4BB7-4EAC-4052-B369-2630F659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E759-57B5-4E5E-884D-44987002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AD81-A720-4F99-B8B7-6C3CD45B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8897-D797-4878-A6E1-EC9B77B4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CF13-87BA-408F-A186-7E1CE37A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" name="矩形 14"/>
          <p:cNvSpPr/>
          <p:nvPr/>
        </p:nvSpPr>
        <p:spPr>
          <a:xfrm>
            <a:off x="-11160" y="0"/>
            <a:ext cx="9143640" cy="5143320"/>
          </a:xfrm>
          <a:prstGeom prst="rect">
            <a:avLst/>
          </a:prstGeom>
          <a:blipFill rotWithShape="0">
            <a:blip r:embed="rId2">
              <a:alphaModFix amt="23000"/>
            </a:blip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pic>
        <p:nvPicPr>
          <p:cNvPr id="2" name="图片 2" descr=""/>
          <p:cNvPicPr/>
          <p:nvPr/>
        </p:nvPicPr>
        <p:blipFill>
          <a:blip r:embed="rId3"/>
          <a:stretch/>
        </p:blipFill>
        <p:spPr>
          <a:xfrm>
            <a:off x="7201080" y="4302000"/>
            <a:ext cx="1945800" cy="840960"/>
          </a:xfrm>
          <a:prstGeom prst="rect">
            <a:avLst/>
          </a:prstGeom>
          <a:ln w="0">
            <a:noFill/>
          </a:ln>
          <a:effectLst>
            <a:outerShdw rotWithShape="0">
              <a:srgbClr val="000000">
                <a:alpha val="50000"/>
              </a:srgbClr>
            </a:outerShdw>
          </a:effectLst>
        </p:spPr>
      </p:pic>
      <p:pic>
        <p:nvPicPr>
          <p:cNvPr id="3" name="图片 24" descr=""/>
          <p:cNvPicPr/>
          <p:nvPr/>
        </p:nvPicPr>
        <p:blipFill>
          <a:blip r:embed="rId4"/>
          <a:srcRect l="0" t="-6071" r="0" b="0"/>
          <a:stretch/>
        </p:blipFill>
        <p:spPr>
          <a:xfrm>
            <a:off x="-11160" y="4476600"/>
            <a:ext cx="9143640" cy="666360"/>
          </a:xfrm>
          <a:prstGeom prst="rect">
            <a:avLst/>
          </a:prstGeom>
          <a:ln w="0">
            <a:noFill/>
          </a:ln>
        </p:spPr>
      </p:pic>
      <p:pic>
        <p:nvPicPr>
          <p:cNvPr id="4" name="图片 35" descr=""/>
          <p:cNvPicPr/>
          <p:nvPr/>
        </p:nvPicPr>
        <p:blipFill>
          <a:blip r:embed="rId5"/>
          <a:srcRect l="0" t="0" r="0" b="-2857"/>
          <a:stretch/>
        </p:blipFill>
        <p:spPr>
          <a:xfrm rot="397200">
            <a:off x="208080" y="177480"/>
            <a:ext cx="398160" cy="437760"/>
          </a:xfrm>
          <a:prstGeom prst="rect">
            <a:avLst/>
          </a:prstGeom>
          <a:ln w="0">
            <a:noFill/>
          </a:ln>
        </p:spPr>
      </p:pic>
      <p:pic>
        <p:nvPicPr>
          <p:cNvPr id="5" name="图片 3" descr=""/>
          <p:cNvPicPr/>
          <p:nvPr/>
        </p:nvPicPr>
        <p:blipFill>
          <a:blip r:embed="rId6"/>
          <a:stretch/>
        </p:blipFill>
        <p:spPr>
          <a:xfrm>
            <a:off x="73080" y="4302000"/>
            <a:ext cx="356760" cy="685440"/>
          </a:xfrm>
          <a:prstGeom prst="rect">
            <a:avLst/>
          </a:prstGeom>
          <a:ln w="0">
            <a:noFill/>
          </a:ln>
        </p:spPr>
      </p:pic>
      <p:pic>
        <p:nvPicPr>
          <p:cNvPr id="6" name="图片 4" descr=""/>
          <p:cNvPicPr/>
          <p:nvPr/>
        </p:nvPicPr>
        <p:blipFill>
          <a:blip r:embed="rId7"/>
          <a:stretch/>
        </p:blipFill>
        <p:spPr>
          <a:xfrm>
            <a:off x="236520" y="4687920"/>
            <a:ext cx="312480" cy="377640"/>
          </a:xfrm>
          <a:prstGeom prst="rect">
            <a:avLst/>
          </a:prstGeom>
          <a:ln w="0">
            <a:noFill/>
          </a:ln>
        </p:spPr>
      </p:pic>
      <p:sp>
        <p:nvSpPr>
          <p:cNvPr id="7" name="矩形 21"/>
          <p:cNvSpPr/>
          <p:nvPr/>
        </p:nvSpPr>
        <p:spPr>
          <a:xfrm>
            <a:off x="1371600" y="55440"/>
            <a:ext cx="5775120" cy="4554000"/>
          </a:xfrm>
          <a:prstGeom prst="rect">
            <a:avLst/>
          </a:prstGeom>
          <a:blipFill rotWithShape="0">
            <a:blip r:embed="rId8">
              <a:alphaModFix amt="15000"/>
            </a:blip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D4E40F1-BEC1-45C7-B21C-1C05124367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0" name="矩形 14"/>
          <p:cNvSpPr/>
          <p:nvPr/>
        </p:nvSpPr>
        <p:spPr>
          <a:xfrm>
            <a:off x="-11160" y="0"/>
            <a:ext cx="9143640" cy="5143320"/>
          </a:xfrm>
          <a:prstGeom prst="rect">
            <a:avLst/>
          </a:prstGeom>
          <a:blipFill rotWithShape="0">
            <a:blip r:embed="rId2">
              <a:alphaModFix amt="23000"/>
            </a:blip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pic>
        <p:nvPicPr>
          <p:cNvPr id="51" name="图片 2" descr=""/>
          <p:cNvPicPr/>
          <p:nvPr/>
        </p:nvPicPr>
        <p:blipFill>
          <a:blip r:embed="rId3"/>
          <a:stretch/>
        </p:blipFill>
        <p:spPr>
          <a:xfrm>
            <a:off x="7201080" y="4302000"/>
            <a:ext cx="1945800" cy="840960"/>
          </a:xfrm>
          <a:prstGeom prst="rect">
            <a:avLst/>
          </a:prstGeom>
          <a:ln w="0">
            <a:noFill/>
          </a:ln>
          <a:effectLst>
            <a:outerShdw rotWithShape="0">
              <a:srgbClr val="000000">
                <a:alpha val="50000"/>
              </a:srgbClr>
            </a:outerShdw>
          </a:effectLst>
        </p:spPr>
      </p:pic>
      <p:pic>
        <p:nvPicPr>
          <p:cNvPr id="52" name="图片 24" descr=""/>
          <p:cNvPicPr/>
          <p:nvPr/>
        </p:nvPicPr>
        <p:blipFill>
          <a:blip r:embed="rId4"/>
          <a:srcRect l="0" t="-6071" r="0" b="0"/>
          <a:stretch/>
        </p:blipFill>
        <p:spPr>
          <a:xfrm>
            <a:off x="-11160" y="4476600"/>
            <a:ext cx="9143640" cy="6663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35" descr=""/>
          <p:cNvPicPr/>
          <p:nvPr/>
        </p:nvPicPr>
        <p:blipFill>
          <a:blip r:embed="rId5"/>
          <a:srcRect l="0" t="0" r="0" b="-2857"/>
          <a:stretch/>
        </p:blipFill>
        <p:spPr>
          <a:xfrm rot="397200">
            <a:off x="208080" y="177480"/>
            <a:ext cx="398160" cy="4377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3" descr=""/>
          <p:cNvPicPr/>
          <p:nvPr/>
        </p:nvPicPr>
        <p:blipFill>
          <a:blip r:embed="rId6"/>
          <a:stretch/>
        </p:blipFill>
        <p:spPr>
          <a:xfrm>
            <a:off x="73080" y="4302000"/>
            <a:ext cx="356760" cy="685440"/>
          </a:xfrm>
          <a:prstGeom prst="rect">
            <a:avLst/>
          </a:prstGeom>
          <a:ln w="0">
            <a:noFill/>
          </a:ln>
        </p:spPr>
      </p:pic>
      <p:pic>
        <p:nvPicPr>
          <p:cNvPr id="55" name="图片 4" descr=""/>
          <p:cNvPicPr/>
          <p:nvPr/>
        </p:nvPicPr>
        <p:blipFill>
          <a:blip r:embed="rId7"/>
          <a:stretch/>
        </p:blipFill>
        <p:spPr>
          <a:xfrm>
            <a:off x="236520" y="4687920"/>
            <a:ext cx="312480" cy="377640"/>
          </a:xfrm>
          <a:prstGeom prst="rect">
            <a:avLst/>
          </a:prstGeom>
          <a:ln w="0">
            <a:noFill/>
          </a:ln>
        </p:spPr>
      </p:pic>
      <p:sp>
        <p:nvSpPr>
          <p:cNvPr id="56" name="矩形 21"/>
          <p:cNvSpPr/>
          <p:nvPr/>
        </p:nvSpPr>
        <p:spPr>
          <a:xfrm>
            <a:off x="1371600" y="55440"/>
            <a:ext cx="5775120" cy="4554000"/>
          </a:xfrm>
          <a:prstGeom prst="rect">
            <a:avLst/>
          </a:prstGeom>
          <a:blipFill rotWithShape="0">
            <a:blip r:embed="rId8">
              <a:alphaModFix amt="15000"/>
            </a:blip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96" name="矩形 14"/>
          <p:cNvSpPr/>
          <p:nvPr/>
        </p:nvSpPr>
        <p:spPr>
          <a:xfrm>
            <a:off x="-11160" y="0"/>
            <a:ext cx="9143640" cy="5143320"/>
          </a:xfrm>
          <a:prstGeom prst="rect">
            <a:avLst/>
          </a:prstGeom>
          <a:blipFill rotWithShape="0">
            <a:blip r:embed="rId2">
              <a:alphaModFix amt="23000"/>
            </a:blip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pic>
        <p:nvPicPr>
          <p:cNvPr id="97" name="图片 2" descr=""/>
          <p:cNvPicPr/>
          <p:nvPr/>
        </p:nvPicPr>
        <p:blipFill>
          <a:blip r:embed="rId3"/>
          <a:stretch/>
        </p:blipFill>
        <p:spPr>
          <a:xfrm>
            <a:off x="7201080" y="4302000"/>
            <a:ext cx="1945800" cy="840960"/>
          </a:xfrm>
          <a:prstGeom prst="rect">
            <a:avLst/>
          </a:prstGeom>
          <a:ln w="0">
            <a:noFill/>
          </a:ln>
          <a:effectLst>
            <a:outerShdw rotWithShape="0">
              <a:srgbClr val="000000">
                <a:alpha val="50000"/>
              </a:srgbClr>
            </a:outerShdw>
          </a:effectLst>
        </p:spPr>
      </p:pic>
      <p:pic>
        <p:nvPicPr>
          <p:cNvPr id="98" name="图片 24" descr=""/>
          <p:cNvPicPr/>
          <p:nvPr/>
        </p:nvPicPr>
        <p:blipFill>
          <a:blip r:embed="rId4"/>
          <a:srcRect l="0" t="-6071" r="0" b="0"/>
          <a:stretch/>
        </p:blipFill>
        <p:spPr>
          <a:xfrm>
            <a:off x="-11160" y="4476600"/>
            <a:ext cx="9143640" cy="6663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35" descr=""/>
          <p:cNvPicPr/>
          <p:nvPr/>
        </p:nvPicPr>
        <p:blipFill>
          <a:blip r:embed="rId5"/>
          <a:srcRect l="0" t="0" r="0" b="-2857"/>
          <a:stretch/>
        </p:blipFill>
        <p:spPr>
          <a:xfrm rot="397200">
            <a:off x="208080" y="177480"/>
            <a:ext cx="398160" cy="43776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3" descr=""/>
          <p:cNvPicPr/>
          <p:nvPr/>
        </p:nvPicPr>
        <p:blipFill>
          <a:blip r:embed="rId6"/>
          <a:stretch/>
        </p:blipFill>
        <p:spPr>
          <a:xfrm>
            <a:off x="73080" y="4302000"/>
            <a:ext cx="356760" cy="6854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4" descr=""/>
          <p:cNvPicPr/>
          <p:nvPr/>
        </p:nvPicPr>
        <p:blipFill>
          <a:blip r:embed="rId7"/>
          <a:stretch/>
        </p:blipFill>
        <p:spPr>
          <a:xfrm>
            <a:off x="236520" y="4687920"/>
            <a:ext cx="312480" cy="377640"/>
          </a:xfrm>
          <a:prstGeom prst="rect">
            <a:avLst/>
          </a:prstGeom>
          <a:ln w="0">
            <a:noFill/>
          </a:ln>
        </p:spPr>
      </p:pic>
      <p:sp>
        <p:nvSpPr>
          <p:cNvPr id="102" name="矩形 21"/>
          <p:cNvSpPr/>
          <p:nvPr/>
        </p:nvSpPr>
        <p:spPr>
          <a:xfrm>
            <a:off x="1371600" y="55440"/>
            <a:ext cx="5775120" cy="4554000"/>
          </a:xfrm>
          <a:prstGeom prst="rect">
            <a:avLst/>
          </a:prstGeom>
          <a:blipFill rotWithShape="0">
            <a:blip r:embed="rId8">
              <a:alphaModFix amt="15000"/>
            </a:blip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03" name="矩形 1"/>
          <p:cNvSpPr/>
          <p:nvPr/>
        </p:nvSpPr>
        <p:spPr>
          <a:xfrm>
            <a:off x="350280" y="1917000"/>
            <a:ext cx="734760" cy="2408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微软雅黑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微软雅黑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微软雅黑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微软雅黑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微软雅黑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微软雅黑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微软雅黑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微软雅黑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微软雅黑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微软雅黑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微软雅黑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微软雅黑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微软雅黑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微软雅黑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微软雅黑"/>
              </a:rPr>
              <a:t>个人简历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微软雅黑"/>
              </a:rPr>
              <a:t>www.1ppt.com/jianli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微软雅黑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微软雅黑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微软雅黑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微软雅黑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微软雅黑"/>
              </a:rPr>
              <a:t>手抄报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微软雅黑"/>
              </a:rPr>
              <a:t>www.1ppt.com/shouchaobao/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微软雅黑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微软雅黑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微软雅黑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微软雅黑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微软雅黑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微软雅黑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微软雅黑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微软雅黑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微软雅黑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微软雅黑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微软雅黑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微软雅黑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微软雅黑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微软雅黑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微软雅黑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微软雅黑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微软雅黑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微软雅黑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微软雅黑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微软雅黑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微软雅黑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微软雅黑"/>
              </a:rPr>
              <a:t>www.1ppt.com/kejian/lish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43" name="矩形 14"/>
          <p:cNvSpPr/>
          <p:nvPr/>
        </p:nvSpPr>
        <p:spPr>
          <a:xfrm>
            <a:off x="-11160" y="0"/>
            <a:ext cx="9143640" cy="5143320"/>
          </a:xfrm>
          <a:prstGeom prst="rect">
            <a:avLst/>
          </a:prstGeom>
          <a:blipFill rotWithShape="0">
            <a:blip r:embed="rId2">
              <a:alphaModFix amt="23000"/>
            </a:blip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pic>
        <p:nvPicPr>
          <p:cNvPr id="144" name="图片 2" descr=""/>
          <p:cNvPicPr/>
          <p:nvPr/>
        </p:nvPicPr>
        <p:blipFill>
          <a:blip r:embed="rId3"/>
          <a:stretch/>
        </p:blipFill>
        <p:spPr>
          <a:xfrm>
            <a:off x="7201080" y="4302000"/>
            <a:ext cx="1945800" cy="840960"/>
          </a:xfrm>
          <a:prstGeom prst="rect">
            <a:avLst/>
          </a:prstGeom>
          <a:ln w="0">
            <a:noFill/>
          </a:ln>
          <a:effectLst>
            <a:outerShdw rotWithShape="0">
              <a:srgbClr val="000000">
                <a:alpha val="50000"/>
              </a:srgbClr>
            </a:outerShdw>
          </a:effectLst>
        </p:spPr>
      </p:pic>
      <p:pic>
        <p:nvPicPr>
          <p:cNvPr id="145" name="图片 24" descr=""/>
          <p:cNvPicPr/>
          <p:nvPr/>
        </p:nvPicPr>
        <p:blipFill>
          <a:blip r:embed="rId4"/>
          <a:srcRect l="0" t="-6071" r="0" b="0"/>
          <a:stretch/>
        </p:blipFill>
        <p:spPr>
          <a:xfrm>
            <a:off x="-11160" y="4476600"/>
            <a:ext cx="9143640" cy="66636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5" descr=""/>
          <p:cNvPicPr/>
          <p:nvPr/>
        </p:nvPicPr>
        <p:blipFill>
          <a:blip r:embed="rId5"/>
          <a:srcRect l="0" t="0" r="0" b="-2857"/>
          <a:stretch/>
        </p:blipFill>
        <p:spPr>
          <a:xfrm rot="397200">
            <a:off x="208080" y="177480"/>
            <a:ext cx="398160" cy="43776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3" descr=""/>
          <p:cNvPicPr/>
          <p:nvPr/>
        </p:nvPicPr>
        <p:blipFill>
          <a:blip r:embed="rId6"/>
          <a:stretch/>
        </p:blipFill>
        <p:spPr>
          <a:xfrm>
            <a:off x="73080" y="4302000"/>
            <a:ext cx="356760" cy="6854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4" descr=""/>
          <p:cNvPicPr/>
          <p:nvPr/>
        </p:nvPicPr>
        <p:blipFill>
          <a:blip r:embed="rId7"/>
          <a:stretch/>
        </p:blipFill>
        <p:spPr>
          <a:xfrm>
            <a:off x="236520" y="4687920"/>
            <a:ext cx="312480" cy="377640"/>
          </a:xfrm>
          <a:prstGeom prst="rect">
            <a:avLst/>
          </a:prstGeom>
          <a:ln w="0">
            <a:noFill/>
          </a:ln>
        </p:spPr>
      </p:pic>
      <p:sp>
        <p:nvSpPr>
          <p:cNvPr id="149" name="矩形 21"/>
          <p:cNvSpPr/>
          <p:nvPr/>
        </p:nvSpPr>
        <p:spPr>
          <a:xfrm>
            <a:off x="1371600" y="55440"/>
            <a:ext cx="5775120" cy="4554000"/>
          </a:xfrm>
          <a:prstGeom prst="rect">
            <a:avLst/>
          </a:prstGeom>
          <a:blipFill rotWithShape="0">
            <a:blip r:embed="rId8">
              <a:alphaModFix amt="15000"/>
            </a:blip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8C1826B-651A-4240-A623-EF519143BE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标题 1"/>
          <p:cNvSpPr/>
          <p:nvPr/>
        </p:nvSpPr>
        <p:spPr>
          <a:xfrm>
            <a:off x="960480" y="1523520"/>
            <a:ext cx="53812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口语交际：打电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388" descr=""/>
          <p:cNvPicPr/>
          <p:nvPr/>
        </p:nvPicPr>
        <p:blipFill>
          <a:blip r:embed="rId2"/>
          <a:stretch/>
        </p:blipFill>
        <p:spPr>
          <a:xfrm>
            <a:off x="6840360" y="55440"/>
            <a:ext cx="2323800" cy="456840"/>
          </a:xfrm>
          <a:prstGeom prst="rect">
            <a:avLst/>
          </a:prstGeom>
          <a:ln w="0">
            <a:noFill/>
          </a:ln>
        </p:spPr>
      </p:pic>
      <p:sp>
        <p:nvSpPr>
          <p:cNvPr id="199" name="矩形 3"/>
          <p:cNvSpPr/>
          <p:nvPr/>
        </p:nvSpPr>
        <p:spPr>
          <a:xfrm>
            <a:off x="0" y="437508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514476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2" descr=""/>
          <p:cNvPicPr/>
          <p:nvPr/>
        </p:nvPicPr>
        <p:blipFill>
          <a:blip r:embed="rId2"/>
          <a:stretch/>
        </p:blipFill>
        <p:spPr>
          <a:xfrm flipH="1" rot="18343200">
            <a:off x="2390040" y="1494360"/>
            <a:ext cx="677520" cy="114120"/>
          </a:xfrm>
          <a:prstGeom prst="rect">
            <a:avLst/>
          </a:prstGeom>
          <a:ln w="0">
            <a:noFill/>
          </a:ln>
        </p:spPr>
      </p:pic>
      <p:sp>
        <p:nvSpPr>
          <p:cNvPr id="291" name="文本框 3"/>
          <p:cNvSpPr/>
          <p:nvPr/>
        </p:nvSpPr>
        <p:spPr>
          <a:xfrm>
            <a:off x="2448000" y="1603440"/>
            <a:ext cx="440352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7200" spc="900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pic>
        <p:nvPicPr>
          <p:cNvPr id="292" name="图片 4" descr=""/>
          <p:cNvPicPr/>
          <p:nvPr/>
        </p:nvPicPr>
        <p:blipFill>
          <a:blip r:embed="rId3"/>
          <a:srcRect l="10687" t="22872" r="13230" b="30840"/>
          <a:stretch/>
        </p:blipFill>
        <p:spPr>
          <a:xfrm>
            <a:off x="2711520" y="1682640"/>
            <a:ext cx="3974760" cy="88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0062 C 0.00052 -0.00032 0.0033 0.00215 0.0033 0.00246 C 0.00225 0.00524 -0.00191 0.00586 -0.00295 0.00956 C -0.0033 0.01049 -0.0033 0.01203 -0.00365 0.01326 C -0.00608 0.02191 -0.004 0.0108 -0.00643 0.02191 C -0.00695 0.02407 -0.00729 0.02685 -0.00781 0.02931 C -0.00799 0.03055 -0.00834 0.03147 -0.00851 0.03302 C -0.00868 0.03487 -0.00886 0.03703 -0.0092 0.03919 C -0.00938 0.04043 -0.00955 0.04135 -0.0099 0.04289 C -0.01007 0.04444 -0.01025 0.04598 -0.01059 0.04783 C -0.01025 0.05154 -0.01181 0.05771 -0.0099 0.05894 C -0.00504 0.06172 0.00034 0.05771 0.00538 0.05771 C 0.01267 0.05771 0.01979 0.05833 0.02691 0.05894 C 0.02847 0.06635 0.0283 0.0645 0.02691 0.07746 C 0.02673 0.07901 0.02604 0.08055 0.02552 0.0824 C 0.02534 0.08333 0.02534 0.08487 0.02482 0.0861 C 0.0243 0.08734 0.02344 0.08857 0.02274 0.08981 C 0.02153 0.09691 0.02309 0.09012 0.01996 0.09722 C 0.01857 0.10092 0.01719 0.10462 0.0158 0.10833 C 0.01545 0.10956 0.01475 0.11049 0.01441 0.11203 C 0.01423 0.11326 0.01423 0.1145 0.01371 0.11573 C 0.00903 0.12839 0.01458 0.10771 0.00955 0.12561 C 0.00903 0.12746 0.00868 0.12962 0.00816 0.13178 C 0.00798 0.13302 0.00781 0.13425 0.00746 0.13549 C 0.00712 0.13672 0.00642 0.13765 0.00607 0.13919 C 0.00555 0.14135 0.00469 0.1466 0.00469 0.14691 C 0.00503 0.15061 0.00451 0.15493 0.00538 0.15894 C 0.0059 0.16049 0.00729 0.15987 0.00816 0.16018 C 0.01007 0.16049 0.01198 0.1608 0.01371 0.16141 C 0.0151 0.16172 0.01666 0.16203 0.01788 0.16265 C 0.02291 0.1645 0.01684 0.16326 0.02274 0.16512 C 0.02465 0.16543 0.02656 0.16573 0.0283 0.16635 C 0.02934 0.16666 0.03021 0.16728 0.03107 0.16759 C 0.0342 0.1682 0.03715 0.1682 0.0401 0.16882 C 0.046 0.1682 0.05173 0.1682 0.05746 0.16759 C 0.05868 0.16728 0.05989 0.16666 0.06094 0.16635 C 0.06284 0.16573 0.06475 0.16543 0.06649 0.16512 C 0.07135 0.16357 0.07257 0.16296 0.07621 0.16141 C 0.08038 0.15647 0.07639 0.1608 0.08038 0.15771 C 0.08646 0.15308 0.08038 0.15678 0.08524 0.15401 C 0.08628 0.15277 0.08698 0.15123 0.08802 0.1503 C 0.08889 0.14938 0.0901 0.14999 0.0908 0.14907 C 0.09722 0.14135 0.0875 0.14814 0.09427 0.14413 C 0.09548 0.14228 0.09826 0.13919 0.09913 0.13672 C 0.10034 0.13364 0.10104 0.12993 0.10191 0.12685 C 0.10295 0.12314 0.10364 0.1216 0.10399 0.1182 C 0.10503 0.11172 0.10521 0.10647 0.10538 0.09968 C 0.10573 0.09351 0.1059 0.08734 0.10607 0.08117 C 0.10677 0.08147 0.10746 0.08178 0.10816 0.0824 C 0.1092 0.08271 0.11007 0.08271 0.11094 0.08364 C 0.1118 0.08394 0.11232 0.08518 0.11302 0.0861 C 0.11371 0.08641 0.11441 0.08672 0.1151 0.08734 C 0.11562 0.08857 0.11614 0.08981 0.11649 0.09104 C 0.11719 0.09259 0.11823 0.09382 0.11857 0.09598 C 0.11909 0.09783 0.11909 0.09999 0.11927 0.10215 C 0.11962 0.1037 0.11979 0.10524 0.11996 0.10709 C 0.12048 0.10956 0.121 0.11203 0.12135 0.1145 C 0.1217 0.11573 0.12187 0.11697 0.12205 0.1182 C 0.12239 0.12222 0.12239 0.12623 0.12274 0.13055 C 0.12309 0.13394 0.12604 0.1432 0.12621 0.14413 C 0.12656 0.14536 0.12673 0.1466 0.12691 0.14783 C 0.12778 0.15061 0.12916 0.15308 0.13038 0.15524 C 0.13107 0.15617 0.13177 0.15678 0.13246 0.15771 C 0.13316 0.15833 0.13385 0.15833 0.13455 0.15894 C 0.13784 0.15833 0.14114 0.15894 0.14427 0.15771 C 0.146 0.15678 0.14844 0.15277 0.14844 0.15308 C 0.15 0.14505 0.14826 0.15277 0.15052 0.14536 C 0.15538 0.12993 0.15156 0.14012 0.15469 0.13178 C 0.15538 0.12685 0.15555 0.1253 0.15677 0.12067 C 0.15729 0.11913 0.15781 0.1182 0.15816 0.11697 C 0.1585 0.11573 0.15868 0.11419 0.15885 0.11326 C 0.15937 0.11172 0.15989 0.1108 0.16024 0.10956 C 0.16059 0.10833 0.16076 0.10678 0.16094 0.10586 C 0.16146 0.10431 0.16215 0.10339 0.16232 0.10215 C 0.16302 0.09968 0.16337 0.09722 0.16371 0.09475 C 0.16406 0.09351 0.16406 0.09197 0.16441 0.09104 C 0.1651 0.08919 0.16597 0.08765 0.16649 0.0861 C 0.16753 0.08333 0.16805 0.07962 0.16927 0.07746 C 0.16996 0.07623 0.17066 0.07561 0.17135 0.07499 C 0.17187 0.07376 0.17222 0.07222 0.17274 0.07129 C 0.17413 0.06913 0.17534 0.06728 0.17691 0.06635 C 0.1783 0.06543 0.17969 0.0645 0.18107 0.06388 C 0.18177 0.06326 0.18264 0.06296 0.18316 0.06265 C 0.1842 0.06172 0.18507 0.0608 0.18594 0.06018 C 0.18663 0.05956 0.18732 0.05925 0.18802 0.05894 C 0.196 0.05462 0.19028 0.05802 0.19496 0.05524 C 0.20104 0.05555 0.20712 0.05493 0.21302 0.05647 C 0.21389 0.05647 0.21406 0.05864 0.21441 0.06018 C 0.21475 0.0611 0.21493 0.06265 0.2151 0.06388 C 0.21562 0.06666 0.21597 0.06944 0.21649 0.07252 C 0.21753 0.07746 0.21909 0.08209 0.21996 0.08734 C 0.22031 0.08857 0.22066 0.0895 0.22066 0.09104 C 0.22135 0.09505 0.2217 0.09907 0.22205 0.10339 C 0.22239 0.10493 0.22257 0.10647 0.22274 0.10833 C 0.22291 0.11018 0.22378 0.12808 0.22413 0.13178 C 0.22448 0.13394 0.22517 0.1358 0.22552 0.13796 C 0.22587 0.13919 0.22587 0.14043 0.22621 0.14166 C 0.22673 0.14259 0.2276 0.1432 0.2283 0.14413 C 0.23003 0.14382 0.23646 0.14413 0.23941 0.14166 C 0.24062 0.14043 0.24184 0.13888 0.24288 0.13796 C 0.246 0.13487 0.2467 0.13549 0.24913 0.13055 C 0.25191 0.1253 0.25399 0.11944 0.25677 0.1145 C 0.25746 0.11326 0.25833 0.11203 0.25885 0.1108 C 0.26094 0.10678 0.26284 0.10277 0.26441 0.09845 C 0.26493 0.09722 0.26528 0.09567 0.2658 0.09475 C 0.26701 0.09228 0.26823 0.09043 0.26927 0.08857 C 0.26962 0.08734 0.26962 0.0858 0.26996 0.08487 C 0.27118 0.08271 0.27413 0.07993 0.27413 0.08024 C 0.27465 0.08147 0.27552 0.08302 0.27552 0.08487 C 0.27569 0.08796 0.27517 0.09135 0.27482 0.09475 C 0.27413 0.1037 0.2743 0.09814 0.27274 0.10833 C 0.27222 0.11172 0.27153 0.12222 0.27066 0.12438 C 0.27031 0.12561 0.26979 0.12685 0.26927 0.12808 C 0.2658 0.14999 0.26996 0.12252 0.26719 0.1466 C 0.26701 0.14938 0.26632 0.15215 0.2658 0.15524 C 0.26562 0.15925 0.26302 0.16604 0.2651 0.16759 C 0.27031 0.17098 0.27639 0.16728 0.28177 0.16635 C 0.28368 0.16604 0.28507 0.1645 0.2868 0.16388 C 0.28941 0.16234 0.28923 0.16296 0.29149 0.16141 C 0.29271 0.16049 0.29392 0.15956 0.29496 0.15894 C 0.29635 0.15833 0.29739 0.15802 0.29844 0.15771 C 0.29965 0.15647 0.30087 0.15524 0.30191 0.15401 C 0.30295 0.15277 0.30382 0.15123 0.30486 0.1503 C 0.30538 0.14938 0.30625 0.14845 0.30694 0.14783 C 0.30798 0.1466 0.30868 0.14536 0.30955 0.14413 C 0.31041 0.14289 0.31111 0.14135 0.31163 0.14043 C 0.31232 0.1395 0.31319 0.1395 0.31371 0.13919 C 0.31979 0.13364 0.31475 0.13641 0.31996 0.13425 C 0.321 0.1324 0.32187 0.13086 0.32274 0.12931 C 0.32344 0.12808 0.3243 0.12777 0.32482 0.12685 C 0.32552 0.12561 0.32587 0.12407 0.32621 0.12314 C 0.32708 0.1216 0.32795 0.12067 0.3283 0.11944 C 0.32951 0.11666 0.33038 0.11357 0.33125 0.1108 C 0.33142 0.10956 0.33159 0.10802 0.33177 0.10709 C 0.33246 0.10431 0.33333 0.10185 0.33385 0.09968 C 0.33663 0.09073 0.33541 0.09567 0.33871 0.08734 C 0.33975 0.08487 0.3408 0.08209 0.34166 0.07993 C 0.34219 0.07808 0.34305 0.07654 0.34375 0.07499 C 0.34409 0.07376 0.34444 0.07222 0.34496 0.07129 C 0.34583 0.07005 0.34653 0.06975 0.34705 0.06882 C 0.35052 0.06357 0.34757 0.06604 0.35139 0.06388 C 0.35243 0.06203 0.35347 0.06018 0.35469 0.05894 C 0.35659 0.05678 0.36146 0.05462 0.36302 0.05401 C 0.3875 0.05555 0.37899 0.04475 0.38403 0.06018 C 0.38437 0.06141 0.38507 0.06265 0.38524 0.06388 C 0.38524 0.07005 0.38541 0.07623 0.38455 0.0824 C 0.3842 0.08518 0.38281 0.08703 0.38194 0.08981 C 0.37986 0.09536 0.37882 0.09907 0.37621 0.10462 C 0.37569 0.10617 0.37465 0.10771 0.37361 0.10956 C 0.3717 0.11882 0.37413 0.1074 0.37135 0.11697 C 0.36875 0.12623 0.37378 0.11357 0.36857 0.12561 C 0.36719 0.1358 0.36909 0.12561 0.36649 0.13425 C 0.36632 0.13518 0.36614 0.13672 0.36597 0.13796 C 0.36406 0.14722 0.3651 0.14073 0.36389 0.1503 C 0.36406 0.15401 0.36389 0.15771 0.36441 0.16141 C 0.36493 0.16265 0.36597 0.16326 0.36649 0.16388 C 0.36927 0.16573 0.37378 0.16759 0.37621 0.16882 C 0.38246 0.1682 0.38889 0.16882 0.39496 0.16759 C 0.39618 0.16728 0.39687 0.16481 0.39791 0.16388 C 0.40295 0.15864 0.39705 0.16697 0.40208 0.16018 C 0.40347 0.15802 0.40503 0.15617 0.40625 0.15401 C 0.40712 0.15277 0.40746 0.15123 0.40833 0.1503 C 0.4092 0.14907 0.41024 0.14845 0.41094 0.14783 C 0.41198 0.14567 0.41284 0.14351 0.41371 0.14166 C 0.41441 0.14043 0.41475 0.13888 0.4151 0.13796 C 0.4158 0.13641 0.41684 0.13549 0.41719 0.13425 C 0.41788 0.13302 0.41823 0.13178 0.41875 0.13055 C 0.41927 0.1287 0.42014 0.12715 0.42083 0.12561 C 0.42135 0.12407 0.42187 0.12222 0.42222 0.12067 C 0.42291 0.11851 0.42344 0.11635 0.4243 0.1145 C 0.42448 0.11265 0.42465 0.1111 0.425 0.10956 C 0.42534 0.10709 0.42604 0.10462 0.42639 0.10215 C 0.42656 0.10092 0.42673 0.09968 0.42708 0.09845 C 0.42725 0.0966 0.42743 0.09505 0.4276 0.09351 C 0.42812 0.08981 0.4283 0.0858 0.42847 0.0824 C 0.42847 0.08086 0.42899 0.07993 0.42899 0.0787 C 0.42951 0.06944 0.42934 0.06049 0.42969 0.05154 C 0.42986 0.04999 0.43073 0.04907 0.43107 0.04783 C 0.43177 0.04598 0.43212 0.04444 0.43264 0.04289 C 0.43298 0.04135 0.43368 0.04043 0.43385 0.03919 C 0.4368 0.02931 0.4309 0.04351 0.43732 0.02808 C 0.43975 0.02252 0.43837 0.02314 0.4401 0.02314 L 0.4401 -0.00402 C 0.4408 -0.0034 0.44114 -0.00248 0.44184 -0.00155 E">
                                      <p:cBhvr>
                                        <p:cTn id="284" dur="35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10"/>
          <p:cNvGrpSpPr/>
          <p:nvPr/>
        </p:nvGrpSpPr>
        <p:grpSpPr>
          <a:xfrm>
            <a:off x="2700360" y="312840"/>
            <a:ext cx="3671640" cy="833040"/>
            <a:chOff x="2700360" y="312840"/>
            <a:chExt cx="3671640" cy="833040"/>
          </a:xfrm>
        </p:grpSpPr>
        <p:pic>
          <p:nvPicPr>
            <p:cNvPr id="201" name="图片 9" descr=""/>
            <p:cNvPicPr/>
            <p:nvPr/>
          </p:nvPicPr>
          <p:blipFill>
            <a:blip r:embed="rId1"/>
            <a:stretch/>
          </p:blipFill>
          <p:spPr>
            <a:xfrm>
              <a:off x="3178440" y="353160"/>
              <a:ext cx="2507400" cy="7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矩形 2"/>
            <p:cNvSpPr/>
            <p:nvPr/>
          </p:nvSpPr>
          <p:spPr>
            <a:xfrm>
              <a:off x="2700360" y="312840"/>
              <a:ext cx="367164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打电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7"/>
          <p:cNvGrpSpPr/>
          <p:nvPr/>
        </p:nvGrpSpPr>
        <p:grpSpPr>
          <a:xfrm>
            <a:off x="4349880" y="1955880"/>
            <a:ext cx="4250520" cy="1996560"/>
            <a:chOff x="4349880" y="1955880"/>
            <a:chExt cx="4250520" cy="1996560"/>
          </a:xfrm>
        </p:grpSpPr>
        <p:sp>
          <p:nvSpPr>
            <p:cNvPr id="204" name="对话气泡: 圆角矩形 6"/>
            <p:cNvSpPr/>
            <p:nvPr/>
          </p:nvSpPr>
          <p:spPr>
            <a:xfrm>
              <a:off x="4349880" y="1955880"/>
              <a:ext cx="4115880" cy="1996560"/>
            </a:xfrm>
            <a:prstGeom prst="wedgeRoundRectCallout">
              <a:avLst>
                <a:gd name="adj1" fmla="val -63229"/>
                <a:gd name="adj2" fmla="val -10263"/>
                <a:gd name="adj3" fmla="val 16667"/>
              </a:avLst>
            </a:prstGeom>
            <a:solidFill>
              <a:schemeClr val="bg1"/>
            </a:solidFill>
            <a:ln>
              <a:solidFill>
                <a:srgbClr val="00b0f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205" name="文本框 5"/>
            <p:cNvSpPr/>
            <p:nvPr/>
          </p:nvSpPr>
          <p:spPr>
            <a:xfrm>
              <a:off x="4484880" y="2046600"/>
              <a:ext cx="4115520" cy="12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   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你们都打过电话吗？你们是怎样打电话的呢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6" name="图片 12" descr=""/>
          <p:cNvPicPr/>
          <p:nvPr/>
        </p:nvPicPr>
        <p:blipFill>
          <a:blip r:embed="rId2"/>
          <a:stretch/>
        </p:blipFill>
        <p:spPr>
          <a:xfrm>
            <a:off x="890640" y="1527120"/>
            <a:ext cx="2865240" cy="28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组合 6"/>
          <p:cNvGrpSpPr/>
          <p:nvPr/>
        </p:nvGrpSpPr>
        <p:grpSpPr>
          <a:xfrm>
            <a:off x="925560" y="1011240"/>
            <a:ext cx="2912760" cy="1213920"/>
            <a:chOff x="925560" y="1011240"/>
            <a:chExt cx="2912760" cy="1213920"/>
          </a:xfrm>
        </p:grpSpPr>
        <p:sp>
          <p:nvSpPr>
            <p:cNvPr id="208" name="云形标注 1"/>
            <p:cNvSpPr/>
            <p:nvPr/>
          </p:nvSpPr>
          <p:spPr>
            <a:xfrm>
              <a:off x="925560" y="1011240"/>
              <a:ext cx="2893680" cy="1213920"/>
            </a:xfrm>
            <a:prstGeom prst="cloudCallout">
              <a:avLst>
                <a:gd name="adj1" fmla="val -39700"/>
                <a:gd name="adj2" fmla="val 66107"/>
              </a:avLst>
            </a:prstGeom>
            <a:solidFill>
              <a:schemeClr val="accent2">
                <a:lumMod val="20000"/>
                <a:lumOff val="80000"/>
              </a:schemeClr>
            </a:solidFill>
            <a:ln>
              <a:solidFill>
                <a:srgbClr val="ffc000"/>
              </a:solidFill>
            </a:ln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微软雅黑"/>
              </a:endParaRPr>
            </a:p>
          </p:txBody>
        </p:sp>
        <p:sp>
          <p:nvSpPr>
            <p:cNvPr id="209" name="TextBox 3"/>
            <p:cNvSpPr/>
            <p:nvPr/>
          </p:nvSpPr>
          <p:spPr>
            <a:xfrm>
              <a:off x="1006920" y="1011240"/>
              <a:ext cx="2831400" cy="59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10000"/>
                </a:lnSpc>
              </a:pPr>
              <a:r>
                <a:rPr b="1" lang="en-US" sz="30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    </a:t>
              </a:r>
              <a:r>
                <a:rPr b="1" lang="zh-CN" sz="30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喂，你好。请问你找谁？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7"/>
          <p:cNvGrpSpPr/>
          <p:nvPr/>
        </p:nvGrpSpPr>
        <p:grpSpPr>
          <a:xfrm>
            <a:off x="4433760" y="376200"/>
            <a:ext cx="3936960" cy="2195280"/>
            <a:chOff x="4433760" y="376200"/>
            <a:chExt cx="3936960" cy="2195280"/>
          </a:xfrm>
        </p:grpSpPr>
        <p:sp>
          <p:nvSpPr>
            <p:cNvPr id="211" name="云形标注 4"/>
            <p:cNvSpPr/>
            <p:nvPr/>
          </p:nvSpPr>
          <p:spPr>
            <a:xfrm>
              <a:off x="4433760" y="376200"/>
              <a:ext cx="3936600" cy="2195280"/>
            </a:xfrm>
            <a:prstGeom prst="cloudCallout">
              <a:avLst>
                <a:gd name="adj1" fmla="val 30817"/>
                <a:gd name="adj2" fmla="val 62175"/>
              </a:avLst>
            </a:prstGeom>
            <a:solidFill>
              <a:srgbClr val="e2f4f4"/>
            </a:solidFill>
            <a:ln>
              <a:solidFill>
                <a:srgbClr val="4bb5ab"/>
              </a:solidFill>
            </a:ln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微软雅黑"/>
              </a:endParaRPr>
            </a:p>
          </p:txBody>
        </p:sp>
        <p:sp>
          <p:nvSpPr>
            <p:cNvPr id="212" name="TextBox 5"/>
            <p:cNvSpPr/>
            <p:nvPr/>
          </p:nvSpPr>
          <p:spPr>
            <a:xfrm>
              <a:off x="4679640" y="673200"/>
              <a:ext cx="3691080" cy="59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10000"/>
                </a:lnSpc>
              </a:pPr>
              <a:r>
                <a:rPr b="1" lang="en-US" sz="3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阿姨，您好。我是张阳的同学李中。请问张阳在家吗？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9"/>
          <p:cNvGrpSpPr/>
          <p:nvPr/>
        </p:nvGrpSpPr>
        <p:grpSpPr>
          <a:xfrm>
            <a:off x="1973160" y="2424240"/>
            <a:ext cx="2857320" cy="1707840"/>
            <a:chOff x="1973160" y="2424240"/>
            <a:chExt cx="2857320" cy="1707840"/>
          </a:xfrm>
        </p:grpSpPr>
        <p:sp>
          <p:nvSpPr>
            <p:cNvPr id="214" name="云形标注 10"/>
            <p:cNvSpPr/>
            <p:nvPr/>
          </p:nvSpPr>
          <p:spPr>
            <a:xfrm>
              <a:off x="1973160" y="2424240"/>
              <a:ext cx="2779200" cy="1707840"/>
            </a:xfrm>
            <a:prstGeom prst="cloudCallout">
              <a:avLst>
                <a:gd name="adj1" fmla="val -62829"/>
                <a:gd name="adj2" fmla="val 33266"/>
              </a:avLst>
            </a:prstGeom>
            <a:solidFill>
              <a:schemeClr val="accent2">
                <a:lumMod val="20000"/>
                <a:lumOff val="80000"/>
              </a:schemeClr>
            </a:solidFill>
            <a:ln>
              <a:solidFill>
                <a:srgbClr val="ffc000"/>
              </a:solidFill>
            </a:ln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微软雅黑"/>
              </a:endParaRPr>
            </a:p>
          </p:txBody>
        </p:sp>
        <p:sp>
          <p:nvSpPr>
            <p:cNvPr id="215" name="TextBox 11"/>
            <p:cNvSpPr/>
            <p:nvPr/>
          </p:nvSpPr>
          <p:spPr>
            <a:xfrm>
              <a:off x="2250360" y="2443320"/>
              <a:ext cx="2580120" cy="59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10000"/>
                </a:lnSpc>
              </a:pPr>
              <a:r>
                <a:rPr b="1" lang="en-US" sz="30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    </a:t>
              </a:r>
              <a:r>
                <a:rPr b="1" lang="zh-CN" sz="30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他在家。你稍等一下，我叫他。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12"/>
          <p:cNvGrpSpPr/>
          <p:nvPr/>
        </p:nvGrpSpPr>
        <p:grpSpPr>
          <a:xfrm>
            <a:off x="5803920" y="3216240"/>
            <a:ext cx="1560240" cy="747360"/>
            <a:chOff x="5803920" y="3216240"/>
            <a:chExt cx="1560240" cy="747360"/>
          </a:xfrm>
        </p:grpSpPr>
        <p:sp>
          <p:nvSpPr>
            <p:cNvPr id="217" name="云形标注 13"/>
            <p:cNvSpPr/>
            <p:nvPr/>
          </p:nvSpPr>
          <p:spPr>
            <a:xfrm>
              <a:off x="5803920" y="3216240"/>
              <a:ext cx="1560240" cy="747360"/>
            </a:xfrm>
            <a:prstGeom prst="cloudCallout">
              <a:avLst>
                <a:gd name="adj1" fmla="val 66677"/>
                <a:gd name="adj2" fmla="val 29947"/>
              </a:avLst>
            </a:prstGeom>
            <a:solidFill>
              <a:srgbClr val="e2f4f4"/>
            </a:solidFill>
            <a:ln>
              <a:solidFill>
                <a:srgbClr val="4bb5ab"/>
              </a:solidFill>
            </a:ln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微软雅黑"/>
              </a:endParaRPr>
            </a:p>
          </p:txBody>
        </p:sp>
        <p:sp>
          <p:nvSpPr>
            <p:cNvPr id="218" name="TextBox 14"/>
            <p:cNvSpPr/>
            <p:nvPr/>
          </p:nvSpPr>
          <p:spPr>
            <a:xfrm>
              <a:off x="6025320" y="3234960"/>
              <a:ext cx="1220040" cy="67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谢谢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图片 2" descr=""/>
          <p:cNvPicPr/>
          <p:nvPr/>
        </p:nvPicPr>
        <p:blipFill>
          <a:blip r:embed="rId1"/>
          <a:stretch/>
        </p:blipFill>
        <p:spPr>
          <a:xfrm>
            <a:off x="152280" y="2475000"/>
            <a:ext cx="1545840" cy="190944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6" descr=""/>
          <p:cNvPicPr/>
          <p:nvPr/>
        </p:nvPicPr>
        <p:blipFill>
          <a:blip r:embed="rId2"/>
          <a:stretch/>
        </p:blipFill>
        <p:spPr>
          <a:xfrm>
            <a:off x="7729560" y="2443320"/>
            <a:ext cx="1147320" cy="19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文本框 1"/>
          <p:cNvSpPr/>
          <p:nvPr/>
        </p:nvSpPr>
        <p:spPr>
          <a:xfrm>
            <a:off x="969840" y="1085760"/>
            <a:ext cx="78512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打电话要先拨号，号码要拨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如果是忙音，可过几分钟再拨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拨通后，要先自我介绍，再讲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如果对方不是你要找的人，要告诉对方你找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无论接打电话，都要听清主要内容，把话说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楚，没听清时，可以请对方重复，使用礼貌用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6"/>
          <p:cNvSpPr/>
          <p:nvPr/>
        </p:nvSpPr>
        <p:spPr>
          <a:xfrm>
            <a:off x="4080600" y="409680"/>
            <a:ext cx="114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基本步骤及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左弧形箭头 3"/>
          <p:cNvSpPr/>
          <p:nvPr/>
        </p:nvSpPr>
        <p:spPr>
          <a:xfrm>
            <a:off x="638280" y="1430280"/>
            <a:ext cx="382320" cy="498240"/>
          </a:xfrm>
          <a:prstGeom prst="curvedRightArrow">
            <a:avLst>
              <a:gd name="adj1" fmla="val 25000"/>
              <a:gd name="adj2" fmla="val 50000"/>
              <a:gd name="adj3" fmla="val 58333"/>
            </a:avLst>
          </a:prstGeom>
          <a:solidFill>
            <a:srgbClr val="ffc000"/>
          </a:solidFill>
          <a:ln>
            <a:solidFill>
              <a:srgbClr val="bc8e00"/>
            </a:solidFill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24" name="左弧形箭头 4"/>
          <p:cNvSpPr/>
          <p:nvPr/>
        </p:nvSpPr>
        <p:spPr>
          <a:xfrm>
            <a:off x="638280" y="2089080"/>
            <a:ext cx="393480" cy="520200"/>
          </a:xfrm>
          <a:prstGeom prst="curvedRightArrow">
            <a:avLst>
              <a:gd name="adj1" fmla="val 25000"/>
              <a:gd name="adj2" fmla="val 50000"/>
              <a:gd name="adj3" fmla="val 58333"/>
            </a:avLst>
          </a:prstGeom>
          <a:solidFill>
            <a:srgbClr val="70ad47"/>
          </a:solidFill>
          <a:ln>
            <a:solidFill>
              <a:srgbClr val="527f34"/>
            </a:solidFill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25" name="左弧形箭头 5"/>
          <p:cNvSpPr/>
          <p:nvPr/>
        </p:nvSpPr>
        <p:spPr>
          <a:xfrm>
            <a:off x="615960" y="2670120"/>
            <a:ext cx="379080" cy="491760"/>
          </a:xfrm>
          <a:prstGeom prst="curvedRightArrow">
            <a:avLst>
              <a:gd name="adj1" fmla="val 25000"/>
              <a:gd name="adj2" fmla="val 50000"/>
              <a:gd name="adj3" fmla="val 58333"/>
            </a:avLst>
          </a:prstGeom>
          <a:gradFill rotWithShape="0">
            <a:gsLst>
              <a:gs pos="0">
                <a:srgbClr val="f08c56"/>
              </a:gs>
              <a:gs pos="100000">
                <a:srgbClr val="f57a27"/>
              </a:gs>
            </a:gsLst>
            <a:lin ang="5400000"/>
          </a:gradFill>
          <a:ln>
            <a:solidFill>
              <a:srgbClr val="ed7d31"/>
            </a:solidFill>
          </a:ln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26" name="左弧形箭头 6"/>
          <p:cNvSpPr/>
          <p:nvPr/>
        </p:nvSpPr>
        <p:spPr>
          <a:xfrm>
            <a:off x="574560" y="3216240"/>
            <a:ext cx="402840" cy="828360"/>
          </a:xfrm>
          <a:prstGeom prst="curvedRightArrow">
            <a:avLst>
              <a:gd name="adj1" fmla="val 25000"/>
              <a:gd name="adj2" fmla="val 50000"/>
              <a:gd name="adj3" fmla="val 58333"/>
            </a:avLst>
          </a:prstGeom>
          <a:gradFill rotWithShape="0">
            <a:gsLst>
              <a:gs pos="0">
                <a:srgbClr val="6082ca"/>
              </a:gs>
              <a:gs pos="100000">
                <a:srgbClr val="3d6fc9"/>
              </a:gs>
            </a:gsLst>
            <a:lin ang="5400000"/>
          </a:gra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文本框 1"/>
          <p:cNvSpPr/>
          <p:nvPr/>
        </p:nvSpPr>
        <p:spPr>
          <a:xfrm>
            <a:off x="785880" y="1927080"/>
            <a:ext cx="77292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以小组为单位，进行实践。先讨论怎样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电话，接着组内训练，然后分组展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2"/>
          <p:cNvSpPr/>
          <p:nvPr/>
        </p:nvSpPr>
        <p:spPr>
          <a:xfrm>
            <a:off x="785880" y="3208320"/>
            <a:ext cx="78544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全体交流与讨论，讨论之后，再请问题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较多的小组重新展示一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7"/>
          <p:cNvSpPr/>
          <p:nvPr/>
        </p:nvSpPr>
        <p:spPr>
          <a:xfrm>
            <a:off x="785880" y="1238400"/>
            <a:ext cx="70513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明确打电话的基本步骤和要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组合 7"/>
          <p:cNvGrpSpPr/>
          <p:nvPr/>
        </p:nvGrpSpPr>
        <p:grpSpPr>
          <a:xfrm>
            <a:off x="162000" y="36000"/>
            <a:ext cx="1863360" cy="1044720"/>
            <a:chOff x="162000" y="36000"/>
            <a:chExt cx="1863360" cy="1044720"/>
          </a:xfrm>
        </p:grpSpPr>
        <p:pic>
          <p:nvPicPr>
            <p:cNvPr id="231" name="图片 8" descr=""/>
            <p:cNvPicPr/>
            <p:nvPr/>
          </p:nvPicPr>
          <p:blipFill>
            <a:blip r:embed="rId1"/>
            <a:stretch/>
          </p:blipFill>
          <p:spPr>
            <a:xfrm flipH="1" rot="580800">
              <a:off x="207000" y="87120"/>
              <a:ext cx="659880" cy="590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2" name="组合 9"/>
            <p:cNvGrpSpPr/>
            <p:nvPr/>
          </p:nvGrpSpPr>
          <p:grpSpPr>
            <a:xfrm>
              <a:off x="239760" y="247680"/>
              <a:ext cx="1785600" cy="833040"/>
              <a:chOff x="239760" y="247680"/>
              <a:chExt cx="1785600" cy="833040"/>
            </a:xfrm>
          </p:grpSpPr>
          <p:pic>
            <p:nvPicPr>
              <p:cNvPr id="233" name="图片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239760" y="247680"/>
                <a:ext cx="1785600" cy="833040"/>
              </a:xfrm>
              <a:prstGeom prst="rect">
                <a:avLst/>
              </a:prstGeom>
              <a:ln w="0">
                <a:noFill/>
              </a:ln>
              <a:effectLst>
                <a:outerShdw algn="ctr" blurRad="25560" rotWithShape="0" sx="101000" sy="101000">
                  <a:srgbClr val="69bfe1">
                    <a:alpha val="80000"/>
                  </a:srgbClr>
                </a:outerShdw>
              </a:effectLst>
            </p:spPr>
          </p:pic>
          <p:sp>
            <p:nvSpPr>
              <p:cNvPr id="234" name="文本框 12"/>
              <p:cNvSpPr/>
              <p:nvPr/>
            </p:nvSpPr>
            <p:spPr>
              <a:xfrm flipH="1">
                <a:off x="615240" y="403920"/>
                <a:ext cx="103464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800" spc="-1" strike="noStrike">
                    <a:solidFill>
                      <a:srgbClr val="00b0f0"/>
                    </a:solidFill>
                    <a:latin typeface="黑体"/>
                    <a:ea typeface="黑体"/>
                  </a:rPr>
                  <a:t>交际指导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组合 7"/>
          <p:cNvGrpSpPr/>
          <p:nvPr/>
        </p:nvGrpSpPr>
        <p:grpSpPr>
          <a:xfrm>
            <a:off x="3349800" y="2181240"/>
            <a:ext cx="4035240" cy="605520"/>
            <a:chOff x="3349800" y="2181240"/>
            <a:chExt cx="4035240" cy="605520"/>
          </a:xfrm>
        </p:grpSpPr>
        <p:sp>
          <p:nvSpPr>
            <p:cNvPr id="236" name="云形标注 4"/>
            <p:cNvSpPr/>
            <p:nvPr/>
          </p:nvSpPr>
          <p:spPr>
            <a:xfrm>
              <a:off x="3402000" y="2181240"/>
              <a:ext cx="3871440" cy="583920"/>
            </a:xfrm>
            <a:prstGeom prst="wedgeRoundRectCallout">
              <a:avLst>
                <a:gd name="adj1" fmla="val 59134"/>
                <a:gd name="adj2" fmla="val -27905"/>
                <a:gd name="adj3" fmla="val 16667"/>
              </a:avLst>
            </a:prstGeom>
            <a:solidFill>
              <a:srgbClr val="fcf4fe"/>
            </a:solidFill>
            <a:ln>
              <a:solidFill>
                <a:srgbClr val="e80878"/>
              </a:solidFill>
            </a:ln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微软雅黑"/>
              </a:endParaRPr>
            </a:p>
          </p:txBody>
        </p:sp>
        <p:sp>
          <p:nvSpPr>
            <p:cNvPr id="237" name="TextBox 5"/>
            <p:cNvSpPr/>
            <p:nvPr/>
          </p:nvSpPr>
          <p:spPr>
            <a:xfrm>
              <a:off x="3349800" y="2228040"/>
              <a:ext cx="40352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1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英英你好，有什么事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6"/>
          <p:cNvGrpSpPr/>
          <p:nvPr/>
        </p:nvGrpSpPr>
        <p:grpSpPr>
          <a:xfrm>
            <a:off x="1846440" y="1384200"/>
            <a:ext cx="4035240" cy="588960"/>
            <a:chOff x="1846440" y="1384200"/>
            <a:chExt cx="4035240" cy="588960"/>
          </a:xfrm>
        </p:grpSpPr>
        <p:sp>
          <p:nvSpPr>
            <p:cNvPr id="239" name="云形标注 2"/>
            <p:cNvSpPr/>
            <p:nvPr/>
          </p:nvSpPr>
          <p:spPr>
            <a:xfrm>
              <a:off x="1846440" y="1384200"/>
              <a:ext cx="4035240" cy="564840"/>
            </a:xfrm>
            <a:prstGeom prst="wedgeRoundRectCallout">
              <a:avLst>
                <a:gd name="adj1" fmla="val -57877"/>
                <a:gd name="adj2" fmla="val 38484"/>
                <a:gd name="adj3" fmla="val 16667"/>
              </a:avLst>
            </a:prstGeom>
            <a:solidFill>
              <a:srgbClr val="d9ffdd"/>
            </a:solidFill>
            <a:ln>
              <a:solidFill>
                <a:srgbClr val="92d050"/>
              </a:solidFill>
            </a:ln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微软雅黑"/>
              </a:endParaRPr>
            </a:p>
          </p:txBody>
        </p:sp>
        <p:sp>
          <p:nvSpPr>
            <p:cNvPr id="240" name="TextBox 3"/>
            <p:cNvSpPr/>
            <p:nvPr/>
          </p:nvSpPr>
          <p:spPr>
            <a:xfrm>
              <a:off x="1846440" y="1414440"/>
              <a:ext cx="40352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1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才才，你好，我是英英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9"/>
          <p:cNvGrpSpPr/>
          <p:nvPr/>
        </p:nvGrpSpPr>
        <p:grpSpPr>
          <a:xfrm>
            <a:off x="1538280" y="3009960"/>
            <a:ext cx="3214440" cy="1701360"/>
            <a:chOff x="1538280" y="3009960"/>
            <a:chExt cx="3214440" cy="1701360"/>
          </a:xfrm>
        </p:grpSpPr>
        <p:sp>
          <p:nvSpPr>
            <p:cNvPr id="242" name="云形标注 10"/>
            <p:cNvSpPr/>
            <p:nvPr/>
          </p:nvSpPr>
          <p:spPr>
            <a:xfrm>
              <a:off x="1538280" y="3009960"/>
              <a:ext cx="3214440" cy="1701360"/>
            </a:xfrm>
            <a:prstGeom prst="wedgeRoundRectCallout">
              <a:avLst>
                <a:gd name="adj1" fmla="val -56347"/>
                <a:gd name="adj2" fmla="val -65941"/>
                <a:gd name="adj3" fmla="val 16667"/>
              </a:avLst>
            </a:prstGeom>
            <a:solidFill>
              <a:srgbClr val="d9ffdd"/>
            </a:solidFill>
            <a:ln>
              <a:solidFill>
                <a:srgbClr val="92d050"/>
              </a:solidFill>
            </a:ln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微软雅黑"/>
              </a:endParaRPr>
            </a:p>
          </p:txBody>
        </p:sp>
        <p:sp>
          <p:nvSpPr>
            <p:cNvPr id="243" name="TextBox 11"/>
            <p:cNvSpPr/>
            <p:nvPr/>
          </p:nvSpPr>
          <p:spPr>
            <a:xfrm>
              <a:off x="1604160" y="3109320"/>
              <a:ext cx="3097800" cy="10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1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我想约你这周六下午去学校操场踢球，你有时间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12"/>
          <p:cNvGrpSpPr/>
          <p:nvPr/>
        </p:nvGrpSpPr>
        <p:grpSpPr>
          <a:xfrm>
            <a:off x="5146560" y="3521160"/>
            <a:ext cx="2668320" cy="637200"/>
            <a:chOff x="5146560" y="3521160"/>
            <a:chExt cx="2668320" cy="637200"/>
          </a:xfrm>
        </p:grpSpPr>
        <p:sp>
          <p:nvSpPr>
            <p:cNvPr id="245" name="云形标注 13"/>
            <p:cNvSpPr/>
            <p:nvPr/>
          </p:nvSpPr>
          <p:spPr>
            <a:xfrm>
              <a:off x="5146560" y="3521160"/>
              <a:ext cx="2668320" cy="593280"/>
            </a:xfrm>
            <a:prstGeom prst="wedgeRoundRectCallout">
              <a:avLst>
                <a:gd name="adj1" fmla="val 54635"/>
                <a:gd name="adj2" fmla="val -102335"/>
                <a:gd name="adj3" fmla="val 16667"/>
              </a:avLst>
            </a:prstGeom>
            <a:solidFill>
              <a:srgbClr val="fcf4fe"/>
            </a:solidFill>
            <a:ln>
              <a:solidFill>
                <a:srgbClr val="e80878"/>
              </a:solidFill>
            </a:ln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微软雅黑"/>
              </a:endParaRPr>
            </a:p>
          </p:txBody>
        </p:sp>
        <p:sp>
          <p:nvSpPr>
            <p:cNvPr id="246" name="TextBox 14"/>
            <p:cNvSpPr/>
            <p:nvPr/>
          </p:nvSpPr>
          <p:spPr>
            <a:xfrm>
              <a:off x="5248440" y="3556800"/>
              <a:ext cx="251352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那周六下午见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Box 1"/>
          <p:cNvSpPr/>
          <p:nvPr/>
        </p:nvSpPr>
        <p:spPr>
          <a:xfrm>
            <a:off x="3443400" y="312840"/>
            <a:ext cx="2257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约同学踢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组合 7"/>
          <p:cNvGrpSpPr/>
          <p:nvPr/>
        </p:nvGrpSpPr>
        <p:grpSpPr>
          <a:xfrm>
            <a:off x="162000" y="36000"/>
            <a:ext cx="1863360" cy="1044720"/>
            <a:chOff x="162000" y="36000"/>
            <a:chExt cx="1863360" cy="1044720"/>
          </a:xfrm>
        </p:grpSpPr>
        <p:pic>
          <p:nvPicPr>
            <p:cNvPr id="249" name="图片 8" descr=""/>
            <p:cNvPicPr/>
            <p:nvPr/>
          </p:nvPicPr>
          <p:blipFill>
            <a:blip r:embed="rId1"/>
            <a:stretch/>
          </p:blipFill>
          <p:spPr>
            <a:xfrm flipH="1" rot="580800">
              <a:off x="207000" y="87120"/>
              <a:ext cx="659880" cy="590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0" name="组合 9"/>
            <p:cNvGrpSpPr/>
            <p:nvPr/>
          </p:nvGrpSpPr>
          <p:grpSpPr>
            <a:xfrm>
              <a:off x="239760" y="247680"/>
              <a:ext cx="1785600" cy="833040"/>
              <a:chOff x="239760" y="247680"/>
              <a:chExt cx="1785600" cy="833040"/>
            </a:xfrm>
          </p:grpSpPr>
          <p:pic>
            <p:nvPicPr>
              <p:cNvPr id="251" name="图片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239760" y="247680"/>
                <a:ext cx="1785600" cy="833040"/>
              </a:xfrm>
              <a:prstGeom prst="rect">
                <a:avLst/>
              </a:prstGeom>
              <a:ln w="0">
                <a:noFill/>
              </a:ln>
              <a:effectLst>
                <a:outerShdw algn="ctr" blurRad="25560" rotWithShape="0" sx="101000" sy="101000">
                  <a:srgbClr val="69bfe1">
                    <a:alpha val="80000"/>
                  </a:srgbClr>
                </a:outerShdw>
              </a:effectLst>
            </p:spPr>
          </p:pic>
          <p:sp>
            <p:nvSpPr>
              <p:cNvPr id="252" name="文本框 25"/>
              <p:cNvSpPr/>
              <p:nvPr/>
            </p:nvSpPr>
            <p:spPr>
              <a:xfrm flipH="1">
                <a:off x="615240" y="403920"/>
                <a:ext cx="103464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800" spc="-1" strike="noStrike">
                    <a:solidFill>
                      <a:srgbClr val="00b0f0"/>
                    </a:solidFill>
                    <a:latin typeface="黑体"/>
                    <a:ea typeface="黑体"/>
                  </a:rPr>
                  <a:t>交际示范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53" name="图片 3" descr=""/>
          <p:cNvPicPr/>
          <p:nvPr/>
        </p:nvPicPr>
        <p:blipFill>
          <a:blip r:embed="rId3"/>
          <a:stretch/>
        </p:blipFill>
        <p:spPr>
          <a:xfrm>
            <a:off x="66600" y="1425600"/>
            <a:ext cx="1564920" cy="233640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8" descr=""/>
          <p:cNvPicPr/>
          <p:nvPr/>
        </p:nvPicPr>
        <p:blipFill>
          <a:blip r:embed="rId4"/>
          <a:stretch/>
        </p:blipFill>
        <p:spPr>
          <a:xfrm>
            <a:off x="7597800" y="1728720"/>
            <a:ext cx="1564920" cy="23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组合 1"/>
          <p:cNvGrpSpPr/>
          <p:nvPr/>
        </p:nvGrpSpPr>
        <p:grpSpPr>
          <a:xfrm>
            <a:off x="4824000" y="1806120"/>
            <a:ext cx="3439800" cy="622800"/>
            <a:chOff x="4824000" y="1806120"/>
            <a:chExt cx="3439800" cy="622800"/>
          </a:xfrm>
        </p:grpSpPr>
        <p:sp>
          <p:nvSpPr>
            <p:cNvPr id="256" name="云形标注 4"/>
            <p:cNvSpPr/>
            <p:nvPr/>
          </p:nvSpPr>
          <p:spPr>
            <a:xfrm>
              <a:off x="4824000" y="1806120"/>
              <a:ext cx="3439800" cy="622800"/>
            </a:xfrm>
            <a:prstGeom prst="wedgeRectCallout">
              <a:avLst>
                <a:gd name="adj1" fmla="val 55503"/>
                <a:gd name="adj2" fmla="val 116383"/>
              </a:avLst>
            </a:prstGeom>
            <a:solidFill>
              <a:srgbClr val="ffffdd"/>
            </a:solidFill>
            <a:ln>
              <a:solidFill>
                <a:srgbClr val="ffc000"/>
              </a:solidFill>
            </a:ln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微软雅黑"/>
              </a:endParaRPr>
            </a:p>
          </p:txBody>
        </p:sp>
        <p:sp>
          <p:nvSpPr>
            <p:cNvPr id="257" name="TextBox 5"/>
            <p:cNvSpPr/>
            <p:nvPr/>
          </p:nvSpPr>
          <p:spPr>
            <a:xfrm>
              <a:off x="4902840" y="1850400"/>
              <a:ext cx="3237480" cy="558720"/>
            </a:xfrm>
            <a:prstGeom prst="rect">
              <a:avLst/>
            </a:pr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10000"/>
                </a:lnSpc>
              </a:pPr>
              <a:r>
                <a:rPr b="1" lang="zh-CN" sz="28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英英你好，有事吗</a:t>
              </a:r>
              <a:r>
                <a:rPr b="1" lang="zh-CN" sz="2800" spc="-1" strike="noStrike">
                  <a:solidFill>
                    <a:srgbClr val="ff00ff"/>
                  </a:solidFill>
                  <a:latin typeface="宋体"/>
                  <a:ea typeface="宋体"/>
                </a:rPr>
                <a:t>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组合 4"/>
          <p:cNvGrpSpPr/>
          <p:nvPr/>
        </p:nvGrpSpPr>
        <p:grpSpPr>
          <a:xfrm>
            <a:off x="366840" y="1593720"/>
            <a:ext cx="3642840" cy="583920"/>
            <a:chOff x="366840" y="1593720"/>
            <a:chExt cx="3642840" cy="583920"/>
          </a:xfrm>
        </p:grpSpPr>
        <p:sp>
          <p:nvSpPr>
            <p:cNvPr id="259" name="云形标注 2"/>
            <p:cNvSpPr/>
            <p:nvPr/>
          </p:nvSpPr>
          <p:spPr>
            <a:xfrm>
              <a:off x="379440" y="1593720"/>
              <a:ext cx="3495240" cy="583920"/>
            </a:xfrm>
            <a:prstGeom prst="wedgeRoundRectCallout">
              <a:avLst>
                <a:gd name="adj1" fmla="val -46057"/>
                <a:gd name="adj2" fmla="val 125944"/>
                <a:gd name="adj3" fmla="val 16667"/>
              </a:avLst>
            </a:prstGeom>
            <a:solidFill>
              <a:srgbClr val="d9ffdd"/>
            </a:solidFill>
            <a:ln>
              <a:solidFill>
                <a:srgbClr val="92d050"/>
              </a:solidFill>
            </a:ln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微软雅黑"/>
              </a:endParaRPr>
            </a:p>
          </p:txBody>
        </p:sp>
        <p:sp>
          <p:nvSpPr>
            <p:cNvPr id="260" name="TextBox 3"/>
            <p:cNvSpPr/>
            <p:nvPr/>
          </p:nvSpPr>
          <p:spPr>
            <a:xfrm>
              <a:off x="366840" y="1613880"/>
              <a:ext cx="3642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1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老师您好，我是英英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合 7"/>
          <p:cNvGrpSpPr/>
          <p:nvPr/>
        </p:nvGrpSpPr>
        <p:grpSpPr>
          <a:xfrm>
            <a:off x="1192320" y="2766960"/>
            <a:ext cx="2846160" cy="1577520"/>
            <a:chOff x="1192320" y="2766960"/>
            <a:chExt cx="2846160" cy="1577520"/>
          </a:xfrm>
        </p:grpSpPr>
        <p:sp>
          <p:nvSpPr>
            <p:cNvPr id="262" name="云形标注 10"/>
            <p:cNvSpPr/>
            <p:nvPr/>
          </p:nvSpPr>
          <p:spPr>
            <a:xfrm>
              <a:off x="1192320" y="2822400"/>
              <a:ext cx="2846160" cy="1522080"/>
            </a:xfrm>
            <a:prstGeom prst="wedgeRoundRectCallout">
              <a:avLst>
                <a:gd name="adj1" fmla="val -61489"/>
                <a:gd name="adj2" fmla="val 3600"/>
                <a:gd name="adj3" fmla="val 16667"/>
              </a:avLst>
            </a:prstGeom>
            <a:solidFill>
              <a:srgbClr val="d9ffdd"/>
            </a:solidFill>
            <a:ln>
              <a:solidFill>
                <a:srgbClr val="92d050"/>
              </a:solidFill>
            </a:ln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微软雅黑"/>
              </a:endParaRPr>
            </a:p>
          </p:txBody>
        </p:sp>
        <p:sp>
          <p:nvSpPr>
            <p:cNvPr id="263" name="TextBox 11"/>
            <p:cNvSpPr/>
            <p:nvPr/>
          </p:nvSpPr>
          <p:spPr>
            <a:xfrm>
              <a:off x="1192320" y="2766960"/>
              <a:ext cx="28461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1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我今天生病了，不能去上课，想向您请一天假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组合 10"/>
          <p:cNvGrpSpPr/>
          <p:nvPr/>
        </p:nvGrpSpPr>
        <p:grpSpPr>
          <a:xfrm>
            <a:off x="4145040" y="3025800"/>
            <a:ext cx="3885840" cy="1703160"/>
            <a:chOff x="4145040" y="3025800"/>
            <a:chExt cx="3885840" cy="1703160"/>
          </a:xfrm>
        </p:grpSpPr>
        <p:sp>
          <p:nvSpPr>
            <p:cNvPr id="265" name="云形标注 13"/>
            <p:cNvSpPr/>
            <p:nvPr/>
          </p:nvSpPr>
          <p:spPr>
            <a:xfrm>
              <a:off x="4176720" y="3025800"/>
              <a:ext cx="3690720" cy="1703160"/>
            </a:xfrm>
            <a:prstGeom prst="wedgeRectCallout">
              <a:avLst>
                <a:gd name="adj1" fmla="val 54107"/>
                <a:gd name="adj2" fmla="val -21272"/>
              </a:avLst>
            </a:prstGeom>
            <a:solidFill>
              <a:srgbClr val="ffffdd"/>
            </a:solidFill>
            <a:ln>
              <a:solidFill>
                <a:srgbClr val="ffc000"/>
              </a:solidFill>
            </a:ln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微软雅黑"/>
              </a:endParaRPr>
            </a:p>
          </p:txBody>
        </p:sp>
        <p:sp>
          <p:nvSpPr>
            <p:cNvPr id="266" name="TextBox 14"/>
            <p:cNvSpPr/>
            <p:nvPr/>
          </p:nvSpPr>
          <p:spPr>
            <a:xfrm>
              <a:off x="4145040" y="3089880"/>
              <a:ext cx="388584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1" lang="en-US" sz="28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    </a:t>
              </a:r>
              <a:r>
                <a:rPr b="1" lang="zh-CN" sz="28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好的。你在家好好休息，如果身体没有好转，要赶快去医院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Box 1"/>
          <p:cNvSpPr/>
          <p:nvPr/>
        </p:nvSpPr>
        <p:spPr>
          <a:xfrm>
            <a:off x="3454560" y="250920"/>
            <a:ext cx="2234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向老师请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图片 14" descr=""/>
          <p:cNvPicPr/>
          <p:nvPr/>
        </p:nvPicPr>
        <p:blipFill>
          <a:blip r:embed="rId1"/>
          <a:stretch/>
        </p:blipFill>
        <p:spPr>
          <a:xfrm>
            <a:off x="0" y="2571840"/>
            <a:ext cx="1141200" cy="170136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15" descr=""/>
          <p:cNvPicPr/>
          <p:nvPr/>
        </p:nvPicPr>
        <p:blipFill>
          <a:blip r:embed="rId2"/>
          <a:stretch/>
        </p:blipFill>
        <p:spPr>
          <a:xfrm>
            <a:off x="8116920" y="2568600"/>
            <a:ext cx="1026720" cy="20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组合 1"/>
          <p:cNvGrpSpPr/>
          <p:nvPr/>
        </p:nvGrpSpPr>
        <p:grpSpPr>
          <a:xfrm>
            <a:off x="528480" y="631800"/>
            <a:ext cx="2958840" cy="1466640"/>
            <a:chOff x="528480" y="631800"/>
            <a:chExt cx="2958840" cy="1466640"/>
          </a:xfrm>
        </p:grpSpPr>
        <p:sp>
          <p:nvSpPr>
            <p:cNvPr id="271" name="云形标注 4"/>
            <p:cNvSpPr/>
            <p:nvPr/>
          </p:nvSpPr>
          <p:spPr>
            <a:xfrm>
              <a:off x="528480" y="631800"/>
              <a:ext cx="2774520" cy="1466640"/>
            </a:xfrm>
            <a:prstGeom prst="cloudCallout">
              <a:avLst>
                <a:gd name="adj1" fmla="val -37512"/>
                <a:gd name="adj2" fmla="val 101483"/>
              </a:avLst>
            </a:prstGeom>
            <a:solidFill>
              <a:srgbClr val="d9ffdd"/>
            </a:solidFill>
            <a:ln>
              <a:solidFill>
                <a:srgbClr val="abda79"/>
              </a:solidFill>
            </a:ln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微软雅黑"/>
              </a:endParaRPr>
            </a:p>
          </p:txBody>
        </p:sp>
        <p:sp>
          <p:nvSpPr>
            <p:cNvPr id="272" name="TextBox 5"/>
            <p:cNvSpPr/>
            <p:nvPr/>
          </p:nvSpPr>
          <p:spPr>
            <a:xfrm>
              <a:off x="714600" y="806400"/>
              <a:ext cx="27727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1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您好，请问您找谁</a:t>
              </a:r>
              <a:r>
                <a:rPr b="1" lang="zh-CN" sz="2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？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4"/>
          <p:cNvGrpSpPr/>
          <p:nvPr/>
        </p:nvGrpSpPr>
        <p:grpSpPr>
          <a:xfrm>
            <a:off x="5070600" y="841320"/>
            <a:ext cx="3804840" cy="2045880"/>
            <a:chOff x="5070600" y="841320"/>
            <a:chExt cx="3804840" cy="2045880"/>
          </a:xfrm>
        </p:grpSpPr>
        <p:sp>
          <p:nvSpPr>
            <p:cNvPr id="274" name="云形标注 2"/>
            <p:cNvSpPr/>
            <p:nvPr/>
          </p:nvSpPr>
          <p:spPr>
            <a:xfrm>
              <a:off x="5070600" y="841320"/>
              <a:ext cx="3804840" cy="2045880"/>
            </a:xfrm>
            <a:prstGeom prst="cloudCallout">
              <a:avLst>
                <a:gd name="adj1" fmla="val 28140"/>
                <a:gd name="adj2" fmla="val 82378"/>
              </a:avLst>
            </a:prstGeom>
            <a:solidFill>
              <a:srgbClr val="e6fcfe"/>
            </a:solidFill>
            <a:ln>
              <a:solidFill>
                <a:srgbClr val="00b0f0"/>
              </a:solidFill>
            </a:ln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微软雅黑"/>
              </a:endParaRPr>
            </a:p>
          </p:txBody>
        </p:sp>
        <p:sp>
          <p:nvSpPr>
            <p:cNvPr id="275" name="TextBox 3"/>
            <p:cNvSpPr/>
            <p:nvPr/>
          </p:nvSpPr>
          <p:spPr>
            <a:xfrm>
              <a:off x="5234040" y="1063800"/>
              <a:ext cx="33814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10000"/>
                </a:lnSpc>
              </a:pPr>
              <a:r>
                <a:rPr b="1" lang="en-US" sz="3200" spc="-1" strike="noStrike">
                  <a:solidFill>
                    <a:srgbClr val="9933ff"/>
                  </a:solidFill>
                  <a:latin typeface="楷体"/>
                  <a:ea typeface="楷体"/>
                </a:rPr>
                <a:t>    </a:t>
              </a:r>
              <a:r>
                <a:rPr b="1" lang="zh-CN" sz="2600" spc="-1" strike="noStrike">
                  <a:solidFill>
                    <a:srgbClr val="9933ff"/>
                  </a:solidFill>
                  <a:latin typeface="楷体"/>
                  <a:ea typeface="楷体"/>
                </a:rPr>
                <a:t>你好，是英英吗</a:t>
              </a:r>
              <a:r>
                <a:rPr b="1" lang="zh-CN" sz="2600" spc="-1" strike="noStrike">
                  <a:solidFill>
                    <a:srgbClr val="9933ff"/>
                  </a:solidFill>
                  <a:latin typeface="宋体"/>
                  <a:ea typeface="宋体"/>
                </a:rPr>
                <a:t>？</a:t>
              </a:r>
              <a:r>
                <a:rPr b="1" lang="zh-CN" sz="2600" spc="-1" strike="noStrike">
                  <a:solidFill>
                    <a:srgbClr val="9933ff"/>
                  </a:solidFill>
                  <a:latin typeface="楷体"/>
                  <a:ea typeface="楷体"/>
                </a:rPr>
                <a:t>我是王叔叔，想找你爸爸说点事。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组合 7"/>
          <p:cNvGrpSpPr/>
          <p:nvPr/>
        </p:nvGrpSpPr>
        <p:grpSpPr>
          <a:xfrm>
            <a:off x="1419120" y="1844640"/>
            <a:ext cx="3809520" cy="2338200"/>
            <a:chOff x="1419120" y="1844640"/>
            <a:chExt cx="3809520" cy="2338200"/>
          </a:xfrm>
        </p:grpSpPr>
        <p:sp>
          <p:nvSpPr>
            <p:cNvPr id="277" name="云形标注 13"/>
            <p:cNvSpPr/>
            <p:nvPr/>
          </p:nvSpPr>
          <p:spPr>
            <a:xfrm>
              <a:off x="1419120" y="1844640"/>
              <a:ext cx="3809520" cy="2338200"/>
            </a:xfrm>
            <a:prstGeom prst="cloudCallout">
              <a:avLst>
                <a:gd name="adj1" fmla="val -59530"/>
                <a:gd name="adj2" fmla="val 51599"/>
              </a:avLst>
            </a:prstGeom>
            <a:solidFill>
              <a:srgbClr val="d9ffdd"/>
            </a:solidFill>
            <a:ln>
              <a:solidFill>
                <a:srgbClr val="abda79"/>
              </a:solidFill>
            </a:ln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微软雅黑"/>
              </a:endParaRPr>
            </a:p>
          </p:txBody>
        </p:sp>
        <p:sp>
          <p:nvSpPr>
            <p:cNvPr id="278" name="TextBox 14"/>
            <p:cNvSpPr/>
            <p:nvPr/>
          </p:nvSpPr>
          <p:spPr>
            <a:xfrm>
              <a:off x="1683360" y="1999440"/>
              <a:ext cx="337644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王叔叔好。我爸爸现在不在家，等他回来后我帮您转达，可以吗</a:t>
              </a:r>
              <a:r>
                <a:rPr b="1" lang="zh-CN" sz="2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？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Box 1"/>
          <p:cNvSpPr/>
          <p:nvPr/>
        </p:nvSpPr>
        <p:spPr>
          <a:xfrm>
            <a:off x="3254400" y="272880"/>
            <a:ext cx="2634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帮爸爸接电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11"/>
          <p:cNvGrpSpPr/>
          <p:nvPr/>
        </p:nvGrpSpPr>
        <p:grpSpPr>
          <a:xfrm>
            <a:off x="5070600" y="3121200"/>
            <a:ext cx="2771280" cy="1395000"/>
            <a:chOff x="5070600" y="3121200"/>
            <a:chExt cx="2771280" cy="1395000"/>
          </a:xfrm>
        </p:grpSpPr>
        <p:sp>
          <p:nvSpPr>
            <p:cNvPr id="281" name="云形标注 10"/>
            <p:cNvSpPr/>
            <p:nvPr/>
          </p:nvSpPr>
          <p:spPr>
            <a:xfrm>
              <a:off x="5502240" y="3121200"/>
              <a:ext cx="2044440" cy="1395000"/>
            </a:xfrm>
            <a:prstGeom prst="cloudCallout">
              <a:avLst>
                <a:gd name="adj1" fmla="val 74019"/>
                <a:gd name="adj2" fmla="val 16884"/>
              </a:avLst>
            </a:prstGeom>
            <a:solidFill>
              <a:srgbClr val="e6fcfe"/>
            </a:solidFill>
            <a:ln>
              <a:solidFill>
                <a:srgbClr val="00b0f0"/>
              </a:solidFill>
            </a:ln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400" spc="-1" strike="noStrike">
                <a:solidFill>
                  <a:schemeClr val="dk1"/>
                </a:solidFill>
                <a:latin typeface="楷体"/>
                <a:ea typeface="楷体"/>
              </a:endParaRPr>
            </a:p>
          </p:txBody>
        </p:sp>
        <p:sp>
          <p:nvSpPr>
            <p:cNvPr id="282" name="TextBox 5"/>
            <p:cNvSpPr/>
            <p:nvPr/>
          </p:nvSpPr>
          <p:spPr>
            <a:xfrm>
              <a:off x="5070600" y="3231360"/>
              <a:ext cx="277128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9933ff"/>
                  </a:solidFill>
                  <a:latin typeface="楷体"/>
                  <a:ea typeface="楷体"/>
                </a:rPr>
                <a:t>   </a:t>
              </a:r>
              <a:r>
                <a:rPr b="1" lang="zh-CN" sz="2800" spc="-1" strike="noStrike">
                  <a:solidFill>
                    <a:srgbClr val="9933ff"/>
                  </a:solidFill>
                  <a:latin typeface="楷体"/>
                  <a:ea typeface="楷体"/>
                </a:rPr>
                <a:t>好的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9933ff"/>
                  </a:solidFill>
                  <a:latin typeface="楷体"/>
                  <a:ea typeface="楷体"/>
                </a:rPr>
                <a:t>谢谢你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图片 14" descr=""/>
          <p:cNvPicPr/>
          <p:nvPr/>
        </p:nvPicPr>
        <p:blipFill>
          <a:blip r:embed="rId1"/>
          <a:stretch/>
        </p:blipFill>
        <p:spPr>
          <a:xfrm>
            <a:off x="0" y="2870280"/>
            <a:ext cx="1206000" cy="180000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15" descr=""/>
          <p:cNvPicPr/>
          <p:nvPr/>
        </p:nvPicPr>
        <p:blipFill>
          <a:blip r:embed="rId2"/>
          <a:stretch/>
        </p:blipFill>
        <p:spPr>
          <a:xfrm>
            <a:off x="8201160" y="2871720"/>
            <a:ext cx="942480" cy="188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文本框 2"/>
          <p:cNvSpPr/>
          <p:nvPr/>
        </p:nvSpPr>
        <p:spPr>
          <a:xfrm>
            <a:off x="939960" y="1371600"/>
            <a:ext cx="75592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打电话，先拨号，电话号码要拨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拿起电话说“您好”，告诉对方我是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明明白白说事情，要点一定要说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认真倾听对方话，主要内容记心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通话结束说“再见”，注意电话要归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组合 5"/>
          <p:cNvGrpSpPr/>
          <p:nvPr/>
        </p:nvGrpSpPr>
        <p:grpSpPr>
          <a:xfrm>
            <a:off x="2184480" y="409680"/>
            <a:ext cx="5365440" cy="739440"/>
            <a:chOff x="2184480" y="409680"/>
            <a:chExt cx="5365440" cy="739440"/>
          </a:xfrm>
        </p:grpSpPr>
        <p:sp>
          <p:nvSpPr>
            <p:cNvPr id="287" name="文本框 1"/>
            <p:cNvSpPr/>
            <p:nvPr/>
          </p:nvSpPr>
          <p:spPr>
            <a:xfrm>
              <a:off x="3627000" y="511560"/>
              <a:ext cx="39229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读一读下面的儿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8" name="图片 4" descr=""/>
            <p:cNvPicPr/>
            <p:nvPr/>
          </p:nvPicPr>
          <p:blipFill>
            <a:blip r:embed="rId1"/>
            <a:stretch/>
          </p:blipFill>
          <p:spPr>
            <a:xfrm>
              <a:off x="2184480" y="409680"/>
              <a:ext cx="1568520" cy="739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781</Words>
  <Paragraphs>5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1T02:03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20-01-18T05:13:42Z</dcterms:modified>
  <cp:revision>6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  <property fmtid="{D5CDD505-2E9C-101B-9397-08002B2CF9AE}" pid="3" name="Notes">
    <vt:r8>1</vt:r8>
  </property>
  <property fmtid="{D5CDD505-2E9C-101B-9397-08002B2CF9AE}" pid="4" name="PresentationFormat">
    <vt:lpwstr>全屏显示(16:9)</vt:lpwstr>
  </property>
  <property fmtid="{D5CDD505-2E9C-101B-9397-08002B2CF9AE}" pid="5" name="Slides">
    <vt:r8>11</vt:r8>
  </property>
</Properties>
</file>