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EB1-2C18-413A-9B07-F498DD82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57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7B3-50B0-4DE5-879A-61109472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76B-862B-4D77-93EF-409981F4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AE6-9D5A-4B81-A0DF-DBC99B29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E6F4-5872-4873-85D3-5B44BBA0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04A7-8DEF-49B4-95E2-4FD3B006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2BC4-16D1-42CD-AD26-AAF70E02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2B9C-6C9D-4F51-BDC9-263E70A2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CD26-45DD-4E63-80EF-E16C5B0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480"/>
            <a:ext cx="85402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E30A-C8B7-45D9-A039-B61A23BD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5159-41DD-49A3-AB3A-67CCD0ED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36B-83B7-4ED6-A7CD-38B63F03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6939-D5C3-4E86-9A9E-4DAC30A1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BD14-2167-4FE4-AE41-8DF989D5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57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A5BE-D3BA-4F4C-B476-69856615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B436-7D76-4A5D-BF6C-EFC91C1F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7CAE-6FF3-415F-AB5B-D96644A2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57BBA-73B3-4967-BC24-399DEA79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EF7B-9308-4928-B18A-92A3A262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D4B28-3F70-4BA1-AC6F-2398F3BE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14751-63A3-46DE-B085-C06B964B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BFCB5-BB23-480A-9526-C3B99103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ADE-5A2F-43AF-914D-50BD9273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480"/>
            <a:ext cx="85402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49FED-1681-4C46-995D-F6829756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A4C6-192C-4717-853D-81C326A1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083D-A427-4581-96CC-E7D8EF3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7D3D2-AAEA-44E9-835D-2C46995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57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AE11-DC67-4123-B133-C2AE7DB3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AF91-74A9-4D87-8357-B37DB4D6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1420-C366-4C7E-B040-5F18F791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B2284-DF58-4BCF-A5F7-C3EF3E9A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6B5B-0E82-49D3-9ED9-721AA6E1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BF8C4-41F8-4930-AFCC-701A8935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157-D72A-4F2E-87DF-6914A370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0304-E58C-45F5-BCB9-1E794B6D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0B0C7-AD34-47C8-B7DC-B3644C16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480"/>
            <a:ext cx="85402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BFCA-2B29-43B6-97AB-9EC58CE6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E3AF-5479-4B99-8CF9-E3BFDA1C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784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87A2-6393-4C5F-8827-944D68A9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71B6-3B15-4FEF-8B10-42392542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57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5B456-E9D4-4E97-AF26-6B84202C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784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B56CB-27C8-4CE0-B28A-37AB9BDC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5720"/>
            <a:ext cx="27496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59056-0896-4A90-B90C-BE06FFFE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1FD-F95E-4A71-9E10-A656B5D2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480"/>
            <a:ext cx="85402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46B-0786-4A05-879E-9FCD25E5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BAF-7824-4700-9275-308BE88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40957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5D9-6E89-4020-9860-58960B87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905120"/>
            <a:ext cx="416736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5720"/>
            <a:ext cx="854028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244-FA9D-49A9-88F4-EBEED4B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0EB3CB-CD19-4844-8F52-D3A7AB9817DF}" type="slidenum">
              <a:rPr b="0" lang="en-US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366ff"/>
              </a:buClr>
              <a:buSzPct val="85000"/>
              <a:buFont typeface="Wingdings" charset="2"/>
              <a:buChar char=""/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c5900"/>
              </a:buClr>
              <a:buSzPct val="85000"/>
              <a:buFont typeface="Wingdings" charset="2"/>
              <a:buChar char=""/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90000"/>
              <a:buFont typeface="Wingdings" charset="2"/>
              <a:buChar char=""/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dc5900"/>
              </a:buClr>
              <a:buSzPct val="85000"/>
              <a:buFont typeface="Wingdings" charset="2"/>
              <a:buChar char=""/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5A95A3-8882-42F2-943F-1E2D0392829F}" type="slidenum">
              <a:rPr b="0" lang="en-US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1BAF58-167B-47FB-A9D6-168F62271E93}" type="slidenum">
              <a:rPr b="0" lang="en-US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EA93F3-036F-4AC0-94F2-D04AECDA9E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mobile.tech.tom.com/1048/1076/2004/7/27-59394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3399"/>
              </a:solidFill>
              <a:latin typeface="Arial"/>
              <a:ea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  <a:ea typeface="宋体"/>
            </a:endParaRPr>
          </a:p>
        </p:txBody>
      </p:sp>
      <p:pic>
        <p:nvPicPr>
          <p:cNvPr id="166" name="Picture 4" descr="32653_100225163209_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984480" y="685800"/>
            <a:ext cx="5108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7a77"/>
              </a:solidFill>
              <a:latin typeface="Arial"/>
              <a:ea typeface="宋体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914400" y="76320"/>
            <a:ext cx="175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打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2567160" y="609588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468360" y="907920"/>
            <a:ext cx="8300520" cy="4567680"/>
            <a:chOff x="468360" y="907920"/>
            <a:chExt cx="8300520" cy="4567680"/>
          </a:xfrm>
        </p:grpSpPr>
        <p:sp>
          <p:nvSpPr>
            <p:cNvPr id="204" name="Rectangle 3"/>
            <p:cNvSpPr/>
            <p:nvPr/>
          </p:nvSpPr>
          <p:spPr>
            <a:xfrm>
              <a:off x="468360" y="907920"/>
              <a:ext cx="8300520" cy="4567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四害之一，接电话来了，好哇。前些日子消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四害你没敢出来吧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嗯，我是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是谁你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知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知道你猜猜。猜不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猜不着使劲猜。呃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猜不着我告诉你。我姓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方正楷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我叫    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对，是我，我找小王讲话，我的未婚妻，她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女的呀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4" descr="01"/>
            <p:cNvPicPr/>
            <p:nvPr/>
          </p:nvPicPr>
          <p:blipFill>
            <a:blip r:embed="rId2"/>
            <a:stretch/>
          </p:blipFill>
          <p:spPr>
            <a:xfrm>
              <a:off x="4749840" y="3701880"/>
              <a:ext cx="399600" cy="4298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206" name="Picture 5" descr="01"/>
            <p:cNvPicPr/>
            <p:nvPr/>
          </p:nvPicPr>
          <p:blipFill>
            <a:blip r:embed="rId3"/>
            <a:stretch/>
          </p:blipFill>
          <p:spPr>
            <a:xfrm>
              <a:off x="6156360" y="3701880"/>
              <a:ext cx="399600" cy="4298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07" name="Rectangle 6"/>
          <p:cNvSpPr/>
          <p:nvPr/>
        </p:nvSpPr>
        <p:spPr>
          <a:xfrm>
            <a:off x="2297160" y="5573880"/>
            <a:ext cx="4795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话和主题无关——啰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22-3"/>
          <p:cNvPicPr/>
          <p:nvPr/>
        </p:nvPicPr>
        <p:blipFill>
          <a:blip r:embed="rId4"/>
          <a:stretch/>
        </p:blipFill>
        <p:spPr>
          <a:xfrm>
            <a:off x="6372360" y="115920"/>
            <a:ext cx="2518920" cy="11505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492120" y="836640"/>
            <a:ext cx="8327520" cy="5207400"/>
            <a:chOff x="492120" y="836640"/>
            <a:chExt cx="8327520" cy="5207400"/>
          </a:xfrm>
        </p:grpSpPr>
        <p:sp>
          <p:nvSpPr>
            <p:cNvPr id="210" name="Rectangle 3"/>
            <p:cNvSpPr/>
            <p:nvPr/>
          </p:nvSpPr>
          <p:spPr>
            <a:xfrm>
              <a:off x="492120" y="836640"/>
              <a:ext cx="8327520" cy="5207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喂，小王，我是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方正楷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唆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正找你呢。今天晚上有什么事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学习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学习呀。开会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 ······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开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讨论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 ·····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讨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太好了，我请你听戏好不好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票都买好了。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安大戏院，楼下十排三号五号，咱俩挨着。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价八毛一张的，我买了两张，一块六。是一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六，我给了他五块，他找了我三块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4" descr="01"/>
            <p:cNvPicPr/>
            <p:nvPr/>
          </p:nvPicPr>
          <p:blipFill>
            <a:blip r:embed="rId2"/>
            <a:stretch/>
          </p:blipFill>
          <p:spPr>
            <a:xfrm>
              <a:off x="3727440" y="1063800"/>
              <a:ext cx="399600" cy="429840"/>
            </a:xfrm>
            <a:prstGeom prst="rect">
              <a:avLst/>
            </a:prstGeom>
            <a:ln w="9525">
              <a:noFill/>
            </a:ln>
          </p:spPr>
        </p:pic>
      </p:grpSp>
      <p:pic>
        <p:nvPicPr>
          <p:cNvPr id="212" name="Picture 5" descr="22-3"/>
          <p:cNvPicPr/>
          <p:nvPr/>
        </p:nvPicPr>
        <p:blipFill>
          <a:blip r:embed="rId3"/>
          <a:stretch/>
        </p:blipFill>
        <p:spPr>
          <a:xfrm>
            <a:off x="6372360" y="115920"/>
            <a:ext cx="2518920" cy="11505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39640" y="1066680"/>
            <a:ext cx="8026200" cy="214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什么戏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猜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嗯，京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——对。嗯，评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——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越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——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事语言不精练——啰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8920" cy="11505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68360" y="2441520"/>
            <a:ext cx="8300520" cy="96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甲这样打电话，听电话的小王会是什么感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你此时站在甲的旁边，正等着打电话，你心里会怎么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会怎么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按钮"/>
          <p:cNvPicPr/>
          <p:nvPr/>
        </p:nvPicPr>
        <p:blipFill>
          <a:blip r:embed="rId2"/>
          <a:srcRect l="36197" t="10674" r="34190" b="53418"/>
          <a:stretch/>
        </p:blipFill>
        <p:spPr>
          <a:xfrm>
            <a:off x="1251000" y="2751120"/>
            <a:ext cx="302760" cy="275760"/>
          </a:xfrm>
          <a:prstGeom prst="rect">
            <a:avLst/>
          </a:prstGeom>
          <a:ln w="9525">
            <a:noFill/>
          </a:ln>
        </p:spPr>
      </p:pic>
      <p:pic>
        <p:nvPicPr>
          <p:cNvPr id="217" name="Picture 4" descr="按钮"/>
          <p:cNvPicPr/>
          <p:nvPr/>
        </p:nvPicPr>
        <p:blipFill>
          <a:blip r:embed="rId3"/>
          <a:srcRect l="36197" t="10674" r="34190" b="53418"/>
          <a:stretch/>
        </p:blipFill>
        <p:spPr>
          <a:xfrm>
            <a:off x="1251000" y="3441600"/>
            <a:ext cx="302760" cy="275760"/>
          </a:xfrm>
          <a:prstGeom prst="rect">
            <a:avLst/>
          </a:prstGeom>
          <a:ln w="9525">
            <a:noFill/>
          </a:ln>
        </p:spPr>
      </p:pic>
      <p:pic>
        <p:nvPicPr>
          <p:cNvPr id="218" name="Picture 5" descr="22-3"/>
          <p:cNvPicPr/>
          <p:nvPr/>
        </p:nvPicPr>
        <p:blipFill>
          <a:blip r:embed="rId4"/>
          <a:stretch/>
        </p:blipFill>
        <p:spPr>
          <a:xfrm>
            <a:off x="611280" y="907920"/>
            <a:ext cx="1944360" cy="888480"/>
          </a:xfrm>
          <a:prstGeom prst="rect">
            <a:avLst/>
          </a:prstGeom>
          <a:ln w="9525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1150920" y="1935000"/>
            <a:ext cx="219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想一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22-3"/>
          <p:cNvPicPr/>
          <p:nvPr/>
        </p:nvPicPr>
        <p:blipFill>
          <a:blip r:embed="rId5"/>
          <a:stretch/>
        </p:blipFill>
        <p:spPr>
          <a:xfrm>
            <a:off x="6372360" y="115920"/>
            <a:ext cx="2518920" cy="11505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宋体"/>
              </a:rPr>
              <a:t>思一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我们在生活中打电话时要注意什么问题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04920" y="380880"/>
            <a:ext cx="8457840" cy="3565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打电话应该注意：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拨清楚电话号码，注意用礼貌用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要把话说清楚明白、简明扼要。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要注意自我介绍 ，讲究礼貌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听到嘟！嘟！的忙音时，要呆会再打。 </a:t>
            </a:r>
            <a:br>
              <a:rPr sz="1800"/>
            </a:b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5.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生活中常用的电话号码：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报警报案电话要打“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110”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交通事故要打“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112 ”</a:t>
            </a:r>
            <a:br>
              <a:rPr sz="1800"/>
            </a:b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病人急救要打“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120”</a:t>
            </a:r>
            <a:br>
              <a:rPr sz="1800"/>
            </a:b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发生火灾要打“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119”</a:t>
            </a:r>
            <a:br>
              <a:rPr sz="1800"/>
            </a:b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不知道号码要打“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114”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向电话局查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540280" cy="151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3399"/>
              </a:solidFill>
              <a:latin typeface="Arial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40280" cy="472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宋体"/>
              </a:rPr>
              <a:t>13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打电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啰嗦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宋体"/>
              </a:rPr>
              <a:t>----------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误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宋体"/>
              </a:rPr>
              <a:t>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说话要简洁明了、意思表达清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956040" y="5675400"/>
            <a:ext cx="2057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www.yisaih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540280" cy="640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模拟练习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宋体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小华星期天去外婆家，路上遇到有两个年轻人正在向一个学生模样的人要钱，刚好不远处有一个电话亭，小华该怎样打电话向公安局报警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宋体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你本来约好同学星期六去书店，可是周六的早上妈妈突然病了，你要陪妈妈去医院，你该如何打电话向同学说明原因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宋体"/>
              </a:rPr>
              <a:t>现场模拟打电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54028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如果你今天身体不舒服，想要给老师打电话请个假，你会怎么打这个电话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2" name="Picture 4" descr="040730100911motorola_a835"/>
          <p:cNvPicPr/>
          <p:nvPr/>
        </p:nvPicPr>
        <p:blipFill>
          <a:blip r:embed="rId1"/>
          <a:stretch/>
        </p:blipFill>
        <p:spPr>
          <a:xfrm>
            <a:off x="1143000" y="3352680"/>
            <a:ext cx="1211040" cy="243792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5" descr="040728114919nokia_76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34320" y="3276720"/>
            <a:ext cx="1117080" cy="2285640"/>
          </a:xfrm>
          <a:prstGeom prst="rect">
            <a:avLst/>
          </a:prstGeom>
          <a:ln w="9525">
            <a:noFill/>
          </a:ln>
        </p:spPr>
      </p:pic>
      <p:sp>
        <p:nvSpPr>
          <p:cNvPr id="174" name="Text Box 6"/>
          <p:cNvSpPr/>
          <p:nvPr/>
        </p:nvSpPr>
        <p:spPr>
          <a:xfrm>
            <a:off x="2590920" y="3429000"/>
            <a:ext cx="7934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486400" y="3429000"/>
            <a:ext cx="7934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809880" y="3124080"/>
            <a:ext cx="945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458960" y="3657600"/>
            <a:ext cx="409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宋体"/>
              </a:rPr>
              <a:t>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Ban-01_16"/>
          <p:cNvPicPr/>
          <p:nvPr/>
        </p:nvPicPr>
        <p:blipFill>
          <a:blip r:embed="rId1"/>
          <a:srcRect l="44166" t="10000" r="46371" b="79999"/>
          <a:stretch/>
        </p:blipFill>
        <p:spPr>
          <a:xfrm>
            <a:off x="380880" y="4038480"/>
            <a:ext cx="1472760" cy="220932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3" descr="Ban-09_122"/>
          <p:cNvPicPr/>
          <p:nvPr/>
        </p:nvPicPr>
        <p:blipFill>
          <a:blip r:embed="rId2"/>
          <a:srcRect l="74200" t="78527" r="16336" b="11130"/>
          <a:stretch/>
        </p:blipFill>
        <p:spPr>
          <a:xfrm>
            <a:off x="7238880" y="4038480"/>
            <a:ext cx="1218960" cy="1904760"/>
          </a:xfrm>
          <a:prstGeom prst="rect">
            <a:avLst/>
          </a:prstGeom>
          <a:ln w="9525">
            <a:solidFill>
              <a:srgbClr val="ffffff"/>
            </a:solidFill>
            <a:miter/>
          </a:ln>
        </p:spPr>
      </p:pic>
      <p:sp>
        <p:nvSpPr>
          <p:cNvPr id="180" name="AutoShape 4"/>
          <p:cNvSpPr/>
          <p:nvPr/>
        </p:nvSpPr>
        <p:spPr>
          <a:xfrm>
            <a:off x="0" y="304920"/>
            <a:ext cx="3123720" cy="533160"/>
          </a:xfrm>
          <a:prstGeom prst="wedgeRoundRectCallout">
            <a:avLst>
              <a:gd name="adj1" fmla="val -31708"/>
              <a:gd name="adj2" fmla="val 572917"/>
              <a:gd name="adj3" fmla="val 16667"/>
            </a:avLst>
          </a:prstGeom>
          <a:solidFill>
            <a:schemeClr val="accent1"/>
          </a:solidFill>
          <a:ln w="9525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你好！是刘老师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629400" y="457200"/>
            <a:ext cx="2209320" cy="837720"/>
          </a:xfrm>
          <a:prstGeom prst="wedgeRoundRectCallout">
            <a:avLst>
              <a:gd name="adj1" fmla="val 10343"/>
              <a:gd name="adj2" fmla="val 373676"/>
              <a:gd name="adj3" fmla="val 16667"/>
            </a:avLst>
          </a:prstGeom>
          <a:solidFill>
            <a:schemeClr val="accent1"/>
          </a:solidFill>
          <a:ln w="9525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我是刘老师，你是谁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1295280" y="1371600"/>
            <a:ext cx="4343040" cy="837720"/>
          </a:xfrm>
          <a:prstGeom prst="wedgeRoundRectCallout">
            <a:avLst>
              <a:gd name="adj1" fmla="val -49125"/>
              <a:gd name="adj2" fmla="val 291856"/>
              <a:gd name="adj3" fmla="val 16667"/>
            </a:avLst>
          </a:prstGeom>
          <a:solidFill>
            <a:schemeClr val="accent1"/>
          </a:solidFill>
          <a:ln w="9525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刘老师，我是王龙，今天身体不舒服，向你请半天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4419720" y="2514600"/>
            <a:ext cx="2742840" cy="837720"/>
          </a:xfrm>
          <a:prstGeom prst="wedgeRoundRectCallout">
            <a:avLst>
              <a:gd name="adj1" fmla="val 70833"/>
              <a:gd name="adj2" fmla="val 164583"/>
              <a:gd name="adj3" fmla="val 16667"/>
            </a:avLst>
          </a:prstGeom>
          <a:solidFill>
            <a:schemeClr val="accent1"/>
          </a:solidFill>
          <a:ln w="9525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刘老师知道了，你好好在家休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2362320" y="3352680"/>
            <a:ext cx="685440" cy="2057040"/>
          </a:xfrm>
          <a:prstGeom prst="wedgeRoundRectCallout">
            <a:avLst>
              <a:gd name="adj1" fmla="val -155556"/>
              <a:gd name="adj2" fmla="val 18903"/>
              <a:gd name="adj3" fmla="val 16667"/>
            </a:avLst>
          </a:prstGeom>
          <a:solidFill>
            <a:schemeClr val="accent1"/>
          </a:solidFill>
          <a:ln w="9525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刘老师再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267080" y="3505320"/>
            <a:ext cx="533160" cy="2514240"/>
          </a:xfrm>
          <a:prstGeom prst="wedgeRoundRectCallout">
            <a:avLst>
              <a:gd name="adj1" fmla="val 585713"/>
              <a:gd name="adj2" fmla="val 6375"/>
              <a:gd name="adj3" fmla="val 16667"/>
            </a:avLst>
          </a:prstGeom>
          <a:solidFill>
            <a:schemeClr val="accent1"/>
          </a:solidFill>
          <a:ln w="9525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王龙同学再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0"/>
          <p:cNvSpPr/>
          <p:nvPr/>
        </p:nvSpPr>
        <p:spPr>
          <a:xfrm>
            <a:off x="3549600" y="2895480"/>
            <a:ext cx="661680" cy="360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596880" y="1125360"/>
            <a:ext cx="656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同学们平时最喜欢的电视节目有哪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返回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62680" y="5856120"/>
            <a:ext cx="1669680" cy="525240"/>
          </a:xfrm>
          <a:prstGeom prst="rect">
            <a:avLst/>
          </a:prstGeom>
          <a:ln w="9525">
            <a:noFill/>
          </a:ln>
        </p:spPr>
      </p:pic>
      <p:pic>
        <p:nvPicPr>
          <p:cNvPr id="189" name="Picture 4" descr="13-03"/>
          <p:cNvPicPr/>
          <p:nvPr/>
        </p:nvPicPr>
        <p:blipFill>
          <a:blip r:embed="rId4"/>
          <a:stretch/>
        </p:blipFill>
        <p:spPr>
          <a:xfrm>
            <a:off x="1547640" y="1773360"/>
            <a:ext cx="5200200" cy="390024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5" descr="13-01"/>
          <p:cNvPicPr/>
          <p:nvPr/>
        </p:nvPicPr>
        <p:blipFill>
          <a:blip r:embed="rId5"/>
          <a:stretch/>
        </p:blipFill>
        <p:spPr>
          <a:xfrm>
            <a:off x="1547640" y="1773360"/>
            <a:ext cx="5200200" cy="3900240"/>
          </a:xfrm>
          <a:prstGeom prst="rect">
            <a:avLst/>
          </a:prstGeom>
          <a:ln w="9525">
            <a:noFill/>
          </a:ln>
        </p:spPr>
      </p:pic>
      <p:pic>
        <p:nvPicPr>
          <p:cNvPr id="191" name="Picture 6" descr="13-02"/>
          <p:cNvPicPr/>
          <p:nvPr/>
        </p:nvPicPr>
        <p:blipFill>
          <a:blip r:embed="rId6"/>
          <a:stretch/>
        </p:blipFill>
        <p:spPr>
          <a:xfrm>
            <a:off x="1547640" y="1773360"/>
            <a:ext cx="5200200" cy="390024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7" descr="22-3"/>
          <p:cNvPicPr/>
          <p:nvPr/>
        </p:nvPicPr>
        <p:blipFill>
          <a:blip r:embed="rId7"/>
          <a:stretch/>
        </p:blipFill>
        <p:spPr>
          <a:xfrm>
            <a:off x="6372360" y="115920"/>
            <a:ext cx="2518920" cy="11505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xit" presetID="7" presetSubtype="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xit" presetID="7" presetSubtype="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517680" y="1182600"/>
            <a:ext cx="840708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相声    相声是所有说唱艺术之中最为人们熟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品种，起源于北京，流行于全国各地。相声是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言的艺术，也是幽默的艺术，运用说学逗唱的技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织包袱逗观众哈哈一笑，并有针砭世俗、寓教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乐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8920" cy="11505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宋体"/>
              </a:rPr>
              <a:t>相声的特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单口相声（一人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对口相声（二人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群口相声（多人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语言风趣幽默、寓意深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既能说又能唱，形式多样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3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" dur="3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3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" dur="3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3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49360" y="1182600"/>
            <a:ext cx="8381520" cy="184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阅读提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相声，想想相声主要说了一件什么事，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事里的甲说话有什么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篇相声对你有什么启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8920" cy="11505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宋体"/>
              </a:rPr>
              <a:t>想一想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280" cy="419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这则相声中打电话的那个人说话有什么特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49360" y="1182600"/>
            <a:ext cx="8415000" cy="272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6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····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····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怎么不说话，哎呀，拿倒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!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喂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的电话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678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这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3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喂，你贵姓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哦，老胡呀。呃，不是老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张呀。哎呀，我没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····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呃，不是老张，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刘呀。呃，不是老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耗子呀。这人外号叫耗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8920" cy="11505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诗情画意">
  <a:themeElements>
    <a:clrScheme name="诗情画意 1">
      <a:dk1>
        <a:srgbClr val="007a77"/>
      </a:dk1>
      <a:lt1>
        <a:srgbClr val="ffffff"/>
      </a:lt1>
      <a:dk2>
        <a:srgbClr val="003399"/>
      </a:dk2>
      <a:lt2>
        <a:srgbClr val="c0c0c0"/>
      </a:lt2>
      <a:accent1>
        <a:srgbClr val="ebf7ff"/>
      </a:accent1>
      <a:accent2>
        <a:srgbClr val="3366ff"/>
      </a:accent2>
      <a:accent3>
        <a:srgbClr val="ffffff"/>
      </a:accent3>
      <a:accent4>
        <a:srgbClr val="006765"/>
      </a:accent4>
      <a:accent5>
        <a:srgbClr val="f3faff"/>
      </a:accent5>
      <a:accent6>
        <a:srgbClr val="2d5ce7"/>
      </a:accent6>
      <a:hlink>
        <a:srgbClr val="dc5900"/>
      </a:hlink>
      <a:folHlink>
        <a:srgbClr val="7979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诗情画意">
  <a:themeElements>
    <a:clrScheme name="诗情画意 1">
      <a:dk1>
        <a:srgbClr val="007a77"/>
      </a:dk1>
      <a:lt1>
        <a:srgbClr val="ffffff"/>
      </a:lt1>
      <a:dk2>
        <a:srgbClr val="003399"/>
      </a:dk2>
      <a:lt2>
        <a:srgbClr val="c0c0c0"/>
      </a:lt2>
      <a:accent1>
        <a:srgbClr val="ebf7ff"/>
      </a:accent1>
      <a:accent2>
        <a:srgbClr val="3366ff"/>
      </a:accent2>
      <a:accent3>
        <a:srgbClr val="ffffff"/>
      </a:accent3>
      <a:accent4>
        <a:srgbClr val="006765"/>
      </a:accent4>
      <a:accent5>
        <a:srgbClr val="f3faff"/>
      </a:accent5>
      <a:accent6>
        <a:srgbClr val="2d5ce7"/>
      </a:accent6>
      <a:hlink>
        <a:srgbClr val="dc5900"/>
      </a:hlink>
      <a:folHlink>
        <a:srgbClr val="7979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诗情画意">
  <a:themeElements>
    <a:clrScheme name="诗情画意 1">
      <a:dk1>
        <a:srgbClr val="007a77"/>
      </a:dk1>
      <a:lt1>
        <a:srgbClr val="ffffff"/>
      </a:lt1>
      <a:dk2>
        <a:srgbClr val="003399"/>
      </a:dk2>
      <a:lt2>
        <a:srgbClr val="c0c0c0"/>
      </a:lt2>
      <a:accent1>
        <a:srgbClr val="ebf7ff"/>
      </a:accent1>
      <a:accent2>
        <a:srgbClr val="3366ff"/>
      </a:accent2>
      <a:accent3>
        <a:srgbClr val="ffffff"/>
      </a:accent3>
      <a:accent4>
        <a:srgbClr val="006765"/>
      </a:accent4>
      <a:accent5>
        <a:srgbClr val="f3faff"/>
      </a:accent5>
      <a:accent6>
        <a:srgbClr val="2d5ce7"/>
      </a:accent6>
      <a:hlink>
        <a:srgbClr val="dc5900"/>
      </a:hlink>
      <a:folHlink>
        <a:srgbClr val="7979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Pages>0</Pages>
  <Words>1031</Words>
  <Characters>0</Characters>
  <CharactersWithSpaces>0</CharactersWithSpace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1601-01-01T00:00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cp:lastPrinted>1601-01-01T00:00:00Z</cp:lastPrinted>
  <dcterms:modified xsi:type="dcterms:W3CDTF">2021-07-29T12:11:02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PresentationFormat">
    <vt:lpwstr>全屏显示(4:3)</vt:lpwstr>
  </property>
  <property fmtid="{D5CDD505-2E9C-101B-9397-08002B2CF9AE}" pid="4" name="Slides">
    <vt:r8>18</vt:r8>
  </property>
  <property fmtid="{D5CDD505-2E9C-101B-9397-08002B2CF9AE}" pid="5" name="Version">
    <vt:r8>1</vt:r8>
  </property>
</Properties>
</file>