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23B-7C83-462E-862F-89F72C3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55C-FDE4-4E29-ADC0-90218B7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1DD-DD70-4359-94F0-4954E73C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416-B971-4A2C-9F14-2E5A450F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F627-69C3-40CE-B56B-68D465B0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EC4B-1419-415A-9C2C-544AD95A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3213-FF8B-44F7-87B6-BD62A90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584D-F96C-4FB2-A308-E5F53DB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E854-AE06-4C5F-A9E4-39B17E70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17E1-C720-4DB2-9EF4-01F8B488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E6AD-10FC-450A-B627-F0E0BF8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A2B-D02F-4271-B443-9DB8ED0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E194-9DA0-4141-9F8F-130EEF86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BA0-46F8-4D89-BAB7-30EEB59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009-2E0A-4DFD-A5E8-9C877A39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889-E9C1-46FB-AD05-7D3908C0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4C3A-C257-487D-A13C-A7D22C4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4B0-DC96-4A6D-ADC4-48299B8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AC4-0A09-4AC5-8E6A-8C646AE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22A-952B-422D-B99F-034073C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DC0-AF82-450B-B63E-D4A0D75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1FC-0B6C-4B56-A6E9-41A5CCF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169-F421-4E93-A033-2FF05A8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A32-8248-474E-B695-B40580F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D2E9FA-9A26-4D04-93A5-BC467A1EEC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p>
            <a:pPr marL="314280" indent="-314280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6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20952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67000" indent="-2095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86040" indent="-2095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E8894A-BDAD-4E73-8015-8B9B5AFA94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989440" y="5624280"/>
            <a:ext cx="36302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多特软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619640" y="2180520"/>
            <a:ext cx="46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打 电 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:\Program Files\Microsoft Office\MEDIA\CAGCAT10\j0332268.wmf"/>
          <p:cNvPicPr/>
          <p:nvPr/>
        </p:nvPicPr>
        <p:blipFill>
          <a:blip r:embed="rId1"/>
          <a:stretch/>
        </p:blipFill>
        <p:spPr>
          <a:xfrm>
            <a:off x="6998400" y="2061000"/>
            <a:ext cx="15998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189000"/>
            <a:ext cx="83530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甲：那位也是这么一点儿事，他不是这样打，我给他算了算，连来带去他打了两个多小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就这点儿事打了两个多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就是呀。我给你学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怎么打的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拿起电话来。“嗞嗞…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这是干什么呢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拨号啦。喂……喂……喂……，“嗞嗞…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喂……喂……，怎么不说话，哎呀，拿倒了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喂，你的电话是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4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5678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我这是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1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2345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。喂，你贵姓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哦，老胡呀。呃，不是老胡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没听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老张呀。哎呀，我没听……呃，不是老张，是老刘呀。呃，不是老刘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还不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是耗子呀。这人外号叫耗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怎么这么个外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四害之一，接电话来了，好哇。前些日子消灭四害你没敢出来吧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嗯，我是谁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我是谁你不知道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那他怎么知道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打电话的人打电话东拉西扯，先问对方电话号码，又自报电话号码，再猜接电话的人是谁。最后又叫人外号，拿外号取笑人。用夸张的手法说明他不但废话连篇，还没有礼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9640" y="260280"/>
            <a:ext cx="8424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甲：不知道你猜猜。猜不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猜不着使劲猜。呃，猜不着我告诉你。我姓啰，我叫啰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是够啰唆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对，是我，我找小王讲话，我的未婚妻，她是女的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废话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可不是女的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你别搞错了。嘚儿啷……你们几位怎么回事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等着打电话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可不是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哎呀，你们到别的地方打行不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坐电车三站，那边还有个公用电话，我这还早着呢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我这要四个钟头差不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好家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他全包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喂，小王，我是啰唆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甭提这名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我正找你呢。今天晚上有什么事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学习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不学习呀。开会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……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不开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废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讨论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……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不讨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人家没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写啰唆打电话约小王看戏，但是和小王说的话与看戏没有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189000"/>
            <a:ext cx="8642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甲：太好了，我请你听戏好不好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票都买好了。长安大戏院，楼下十排三号五号，咱俩挨着。票价八毛一张的，我买了两张，一块六。是一块六，我给了他五块，他找了我三块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他在这报账呢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什么戏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你猜猜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怎么又让别人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嗯，京戏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不——对。嗯，评戏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不——对。越剧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哎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对了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不——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不对你乐什么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写啰唆不直接告诉小王看的是什么戏，而是让她猜，真是没话找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50920" y="189000"/>
            <a:ext cx="8497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甲：真猜不着了，我告诉你，歌剧，《刘三姐》，没看过吧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看看吧，好极了。腔调美着呢，其中有一段我可喜欢了，就那段，小王，你现在不是没事嘛，你拿着电话，你注意，我给你学一学。你们几位再等一会儿。小王，我现在开始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唱山歌来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这边唱来那边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山歌好比春江水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不怕滩险弯又多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小王，你看我表情怎么样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那怎么看得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什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没听见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还没吃饭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我给你准备吧。我买十二块饼干，我吃四块，给你留八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还行，挺照顾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长安大戏院，从你家出来，坐六路公共汽车，往前坐三站，车上有座你就坐着，人多你就站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尽是废话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下车之后你往对面走，从西边数第三个电线杆子，我在那儿等你。七点一刻开演，我七点等你。七点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哎，小王，你别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怎么不来啦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现在都八点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戏七点一刻开演，啰唆打电话打到八点半。这一笑点夸张地写出啰唆误人，误己，更误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35880" y="1196640"/>
            <a:ext cx="8424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中心思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《打电话》是一段惹人发笑、发人深省的相声，它讽刺了一个在公用电话亭打电话、缺乏公共道德的年轻人。一句话就能说清楚的小事，结果被这个人东拉西扯，说了两个多小时，既误了自己的事，又耽误了别人的时间。这段相声告诉人们：打电话与人交流要言简意赅，这样不仅节省时间，也是对别人的尊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照样子在括号里填上合适的词语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表情（复杂）      剧情 （     ）       品行（     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歌剧 （     ）         工具（     ）       感情（     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二、修改病句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相声语言因为简明扼要，所以很风趣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______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打电话与人交流，既言简意明，又是对别人的尊重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_______________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三、我会填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相声是语言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)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，深受人们的喜爱。　　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《打电话》这篇课文告诉我们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书海冲浪。</a:t>
            </a:r>
            <a:endParaRPr b="0" lang="en-US" sz="4000" spc="-1" strike="noStrike">
              <a:solidFill>
                <a:srgbClr val="000000"/>
              </a:solidFill>
              <a:latin typeface="华文楷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要善问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许多人在学习方面的重要体会是：不仅要问，而且要善问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人们把“有知识”说成“有学问”，这是没有道理的。学问学问，学要肯问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学常有疑，问则可解疑。解其一疑，便长一智。学既不可缺，问也不可少。不因疑难细小而忽视问，不因问题“浅易”而不屑于问，更不因怕失身份而耻于问。在学中发问，在问中求学，边学边问，才有“学问”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要得“学问”，不仅要肯问，还要善问。学可犯难不急于问人，要先知己，后问人，问己，应反复思考；问人，会受到启发。问，要问的准，问的深。因为学习不仅要知其“然”还要知其“所以然”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找出本文的中心句，画上波浪线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2. “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问”有什么好处？要问什么问题？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---------------------------------------------------------------------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4280" indent="-31428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什么叫善问？善问的要领是什么？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782080" y="1917000"/>
            <a:ext cx="36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再 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840" y="1772640"/>
            <a:ext cx="892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相声是一种中国曲艺表演艺术，相声一词，古作像生，原指模拟别人的言行，后发展为象声。象声又称隔壁象声。相声起源于华北地区的民间说唱曲艺，在明朝即已盛行。经清朝时期的发展直至民国初年，相声逐渐从一个人摹拟口技发展成为单口笑话，名称也就随之转变为相声。一种类型的单口相声，后来逐步发展为多种类型的单口相声、对口相声、群口相声，综合为一体。相声在两岸三地有不同的发展模式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69280" y="1556640"/>
            <a:ext cx="8642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马季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1934-2006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），生于北京，原名马树槐，祖籍天津宝坻。中国新相声的代表人物，著名相声大师和表演艺术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,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近现代相声艺术承前继后的关键人物。他师从侯宝林边学习边表演，善于表演反映现实生活的新相声作品，在相声艺术长于讽刺的传统之外，开启了以赞美新生活和新的英雄人物为主题的“歌颂型”对口相声的新生面，其中以《白骨精现形记》、《画像》和《找舅舅》等节目影响为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郭启儒 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1900-1969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），北京人，满族。幼时读过六年私塾，酷爱相声，二十三岁曾在北京鸿奎社学演文明戏，二十五岁拜刘德智为师学说相声。他的表演捧逗俱佳，台风潇洒，沉着稳健，趣味文雅。代表节目有《熬柿子》《改行》、《打电话》等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333360"/>
            <a:ext cx="828000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学习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呃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è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）  耗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hào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）耗子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啰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luō)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啰嗦    唆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suō)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唆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嘚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dē)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儿啷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lāng)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甭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béng)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甭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杆   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gān)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旗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gǎn)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秤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16000" y="4868640"/>
            <a:ext cx="792000" cy="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华文楷体"/>
              <a:ea typeface="华文楷体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1042920" y="4868640"/>
            <a:ext cx="100800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华文楷体"/>
              <a:ea typeface="华文楷体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1187280" y="4797360"/>
            <a:ext cx="720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8360" y="333360"/>
            <a:ext cx="7848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学习重点词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浓厚  四害  报账  歌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1280" y="1700280"/>
            <a:ext cx="806400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词语理解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浓厚：兴趣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四害：原指老鼠、麻雀、苍蝇、蚊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报账：把领用或经手的款项的使用情况附上有关单据报告主管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歌剧：综合诗歌、音乐、舞蹈等艺术而以歌唱为主的戏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333360"/>
            <a:ext cx="849744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近义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联系【联络】  方便【便利】  浓厚【深厚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消灭【毁灭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反义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现代【古代】  方便【麻烦】  节约【浪费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浓厚【淡薄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11640" y="1211760"/>
            <a:ext cx="81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自由读课文，想一想课文分为几段，写了哪些内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9760" y="1989000"/>
            <a:ext cx="777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1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、电话方便但应节约时间，约人看戏（半分钟），引出下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2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、约人看戏啰唆（两个多小时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3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、啰唆的后果：不用看了，七点一刻开演，现在都八点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3280" y="836640"/>
            <a:ext cx="8496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甲：电话人人都会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可不是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电话是现代通话的一个工具，联系工作办点儿事都比较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是比较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但是打电话的时候要注意一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什么问题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尽量地节约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先从电话的作用上谈起，说明电话为办事提供了方便，然后笔锋一转，谈论打电话注意“节约时间”，为下文啰唆浪费时间埋下伏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24000" y="189000"/>
            <a:ext cx="8280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甲：是吧。不要打起来没完。有个别人好像跟电话有浓厚的感情，只要拿起来，他就说个没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还真有这样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是呀，可真有这样的人。那天我在长安街上碰到了一位，这位拿起电话打个没完没了，打的是公用电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就是呀，那就更不应该时间长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其实是一点儿小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什么事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约他的朋友看戏，这点儿事，让我们打电话一分钟就可以解决问题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那可不是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拿起电话来，拨通了号。喂，你是广播文工团吧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郭先生在不在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就是我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哎，郭老呀，我是小马，我给您买了戏票了。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6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点半钟您在剧院门口等我，就这样呀，不见不散呀。回见回见。完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甲：不到半分钟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　　乙：就是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写约朋友看戏这件事，正常通话半分钟就能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  <Pages>0</Pages>
  <Words>1018</Words>
  <Characters>0</Characters>
  <CharactersWithSpaces>0</CharactersWithSpaces>
  <Paragraphs>1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03-03-24T11:00:58Z</dcterms:created>
  <dc:creator>第一PPT模板网-WWW.1PPT.COM</dc:creator>
  <dc:description>第一PPT模板网-WWW.1PPT.COM_x005F_x000d_
</dc:description>
  <cp:keywords>第一PPT模板网-WWW.1PPT.COM</cp:keywords>
  <dc:language>en-US</dc:language>
  <cp:lastModifiedBy>微软用户</cp:lastModifiedBy>
  <cp:lastPrinted>1899-12-30T00:00:00Z</cp:lastPrinted>
  <dcterms:modified xsi:type="dcterms:W3CDTF">2015-10-29T07:02:55Z</dcterms:modified>
  <cp:revision>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PresentationFormat">
    <vt:lpwstr>全屏显示(4:3)</vt:lpwstr>
  </property>
  <property fmtid="{D5CDD505-2E9C-101B-9397-08002B2CF9AE}" pid="4" name="Slides">
    <vt:r8>18</vt:r8>
  </property>
</Properties>
</file>