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ECA1F4-05D8-4042-AD12-DB20177E0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word/" TargetMode="External"/><Relationship Id="rId8" Type="http://schemas.openxmlformats.org/officeDocument/2006/relationships/hyperlink" Target="http://www.1ppt.com/excel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om/jianli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FF9A680-84B8-462E-9A7A-6268E3A5CC5E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C986AED-3805-4B88-9004-84CDC3618526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FFA72E2-64F4-4AEC-B6F9-ED8111954F68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word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 Excel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excel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个人简历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om/jianl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 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3860188-375F-4D4F-A52F-CBD80F305F61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BA115FC-7B0D-4F88-A43A-75023FAA5B8E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080BDF1-BF49-4CE5-B3B4-3EB52DCFBBAA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273F7D1-024A-4F8D-906C-0D5DA01C4A9F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86F02D2-F31F-4A35-BDFB-B4BC5C0809F5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3FFC786-DA02-4E2D-8852-F0D07056526B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350280" y="1917000"/>
            <a:ext cx="734760" cy="2408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个人简历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jianli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手抄报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shouchaobao/          PPT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lish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椭圆 6"/>
          <p:cNvSpPr/>
          <p:nvPr/>
        </p:nvSpPr>
        <p:spPr>
          <a:xfrm>
            <a:off x="220320" y="200880"/>
            <a:ext cx="412920" cy="412920"/>
          </a:xfrm>
          <a:prstGeom prst="ellipse">
            <a:avLst/>
          </a:prstGeom>
          <a:solidFill>
            <a:schemeClr val="bg1"/>
          </a:solidFill>
          <a:ln>
            <a:solidFill>
              <a:srgbClr val="07ad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255600" y="293040"/>
            <a:ext cx="1696680" cy="412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7adf0"/>
                </a:solidFill>
                <a:latin typeface="思源黑体 CN Bold"/>
                <a:ea typeface="思源黑体 CN Bold"/>
              </a:rPr>
              <a:t>01     </a:t>
            </a:r>
            <a:r>
              <a:rPr b="0" lang="zh-CN" sz="1500" spc="-1" strike="noStrike">
                <a:solidFill>
                  <a:srgbClr val="07adf0"/>
                </a:solidFill>
                <a:latin typeface="思源黑体 CN Bold"/>
                <a:ea typeface="思源黑体 CN Bold"/>
              </a:rPr>
              <a:t>输入标题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形状"/>
          <p:cNvSpPr/>
          <p:nvPr/>
        </p:nvSpPr>
        <p:spPr>
          <a:xfrm flipV="1">
            <a:off x="0" y="3533400"/>
            <a:ext cx="9144000" cy="1609200"/>
          </a:xfrm>
          <a:custGeom>
            <a:avLst/>
            <a:gdLst>
              <a:gd name="textAreaLeft" fmla="*/ 0 w 9144000"/>
              <a:gd name="textAreaRight" fmla="*/ 9144360 w 9144000"/>
              <a:gd name="textAreaTop" fmla="*/ 360 h 1609200"/>
              <a:gd name="textAreaBottom" fmla="*/ 1609920 h 1609200"/>
            </a:gdLst>
            <a:ahLst/>
            <a:rect l="textAreaLeft" t="textAreaTop" r="textAreaRight" b="textAreaBottom"/>
            <a:pathLst>
              <a:path w="12192000" h="5717168">
                <a:moveTo>
                  <a:pt x="0" y="0"/>
                </a:moveTo>
                <a:lnTo>
                  <a:pt x="12192000" y="0"/>
                </a:lnTo>
                <a:lnTo>
                  <a:pt x="12192000" y="2679701"/>
                </a:lnTo>
                <a:cubicBezTo>
                  <a:pt x="12192000" y="2679701"/>
                  <a:pt x="10993722" y="3927486"/>
                  <a:pt x="9598902" y="3656539"/>
                </a:cubicBezTo>
                <a:cubicBezTo>
                  <a:pt x="8204081" y="3385591"/>
                  <a:pt x="7956818" y="5353527"/>
                  <a:pt x="6828281" y="5510391"/>
                </a:cubicBezTo>
                <a:cubicBezTo>
                  <a:pt x="5699744" y="5667256"/>
                  <a:pt x="5534902" y="4576335"/>
                  <a:pt x="4526827" y="4740330"/>
                </a:cubicBezTo>
                <a:cubicBezTo>
                  <a:pt x="3518752" y="4904324"/>
                  <a:pt x="2738921" y="5966724"/>
                  <a:pt x="1857647" y="5574563"/>
                </a:cubicBezTo>
                <a:cubicBezTo>
                  <a:pt x="976374" y="5182402"/>
                  <a:pt x="0" y="5717168"/>
                  <a:pt x="0" y="5717168"/>
                </a:cubicBez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1c46f2"/>
              </a:gs>
            </a:gsLst>
            <a:lin ang="189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  <p:pic>
        <p:nvPicPr>
          <p:cNvPr id="85" name="图片 1" descr=""/>
          <p:cNvPicPr/>
          <p:nvPr/>
        </p:nvPicPr>
        <p:blipFill>
          <a:blip r:embed="rId1"/>
          <a:stretch/>
        </p:blipFill>
        <p:spPr>
          <a:xfrm>
            <a:off x="1546920" y="730440"/>
            <a:ext cx="1864800" cy="3674160"/>
          </a:xfrm>
          <a:prstGeom prst="rect">
            <a:avLst/>
          </a:prstGeom>
          <a:ln w="0">
            <a:noFill/>
          </a:ln>
        </p:spPr>
      </p:pic>
      <p:sp>
        <p:nvSpPr>
          <p:cNvPr id="86" name="形状"/>
          <p:cNvSpPr/>
          <p:nvPr/>
        </p:nvSpPr>
        <p:spPr>
          <a:xfrm flipH="1">
            <a:off x="0" y="0"/>
            <a:ext cx="9144000" cy="123480"/>
          </a:xfrm>
          <a:custGeom>
            <a:avLst/>
            <a:gdLst>
              <a:gd name="textAreaLeft" fmla="*/ 360 w 9144000"/>
              <a:gd name="textAreaRight" fmla="*/ 9144720 w 9144000"/>
              <a:gd name="textAreaTop" fmla="*/ 0 h 123480"/>
              <a:gd name="textAreaBottom" fmla="*/ 123840 h 123480"/>
            </a:gdLst>
            <a:ahLst/>
            <a:rect l="textAreaLeft" t="textAreaTop" r="textAreaRight" b="textAreaBottom"/>
            <a:pathLst>
              <a:path w="12192000" h="5717168">
                <a:moveTo>
                  <a:pt x="0" y="0"/>
                </a:moveTo>
                <a:lnTo>
                  <a:pt x="12192000" y="0"/>
                </a:lnTo>
                <a:lnTo>
                  <a:pt x="12192000" y="2679701"/>
                </a:lnTo>
                <a:cubicBezTo>
                  <a:pt x="12192000" y="2679701"/>
                  <a:pt x="10993722" y="3927486"/>
                  <a:pt x="9598902" y="3656539"/>
                </a:cubicBezTo>
                <a:cubicBezTo>
                  <a:pt x="8204081" y="3385591"/>
                  <a:pt x="7956818" y="5353527"/>
                  <a:pt x="6828281" y="5510391"/>
                </a:cubicBezTo>
                <a:cubicBezTo>
                  <a:pt x="5699744" y="5667256"/>
                  <a:pt x="5534902" y="4576335"/>
                  <a:pt x="4526827" y="4740330"/>
                </a:cubicBezTo>
                <a:cubicBezTo>
                  <a:pt x="3518752" y="4904324"/>
                  <a:pt x="2738921" y="5966724"/>
                  <a:pt x="1857647" y="5574563"/>
                </a:cubicBezTo>
                <a:cubicBezTo>
                  <a:pt x="976374" y="5182402"/>
                  <a:pt x="0" y="5717168"/>
                  <a:pt x="0" y="5717168"/>
                </a:cubicBez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1c46f2"/>
              </a:gs>
            </a:gsLst>
            <a:lin ang="81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  <p:sp>
        <p:nvSpPr>
          <p:cNvPr id="87" name="文本框 3" hidden="1"/>
          <p:cNvSpPr/>
          <p:nvPr/>
        </p:nvSpPr>
        <p:spPr>
          <a:xfrm>
            <a:off x="0" y="112320"/>
            <a:ext cx="15714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BY YUS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5" descr=""/>
          <p:cNvPicPr/>
          <p:nvPr/>
        </p:nvPicPr>
        <p:blipFill>
          <a:blip r:embed="rId2"/>
          <a:stretch/>
        </p:blipFill>
        <p:spPr>
          <a:xfrm flipH="1">
            <a:off x="470160" y="582840"/>
            <a:ext cx="3450600" cy="4560120"/>
          </a:xfrm>
          <a:prstGeom prst="rect">
            <a:avLst/>
          </a:prstGeom>
          <a:ln w="0">
            <a:noFill/>
          </a:ln>
        </p:spPr>
      </p:pic>
      <p:grpSp>
        <p:nvGrpSpPr>
          <p:cNvPr id="89" name="组合 25"/>
          <p:cNvGrpSpPr/>
          <p:nvPr/>
        </p:nvGrpSpPr>
        <p:grpSpPr>
          <a:xfrm>
            <a:off x="4567320" y="730440"/>
            <a:ext cx="3805560" cy="2471760"/>
            <a:chOff x="4567320" y="730440"/>
            <a:chExt cx="3805560" cy="2471760"/>
          </a:xfrm>
        </p:grpSpPr>
        <p:grpSp>
          <p:nvGrpSpPr>
            <p:cNvPr id="90" name="组合 10"/>
            <p:cNvGrpSpPr/>
            <p:nvPr/>
          </p:nvGrpSpPr>
          <p:grpSpPr>
            <a:xfrm>
              <a:off x="4567320" y="969480"/>
              <a:ext cx="3805200" cy="2232720"/>
              <a:chOff x="4567320" y="969480"/>
              <a:chExt cx="3805200" cy="2232720"/>
            </a:xfrm>
          </p:grpSpPr>
          <p:sp>
            <p:nvSpPr>
              <p:cNvPr id="91" name="椭圆 11"/>
              <p:cNvSpPr/>
              <p:nvPr/>
            </p:nvSpPr>
            <p:spPr>
              <a:xfrm>
                <a:off x="6909120" y="1418400"/>
                <a:ext cx="885600" cy="885600"/>
              </a:xfrm>
              <a:prstGeom prst="ellipse">
                <a:avLst/>
              </a:prstGeom>
              <a:solidFill>
                <a:schemeClr val="bg1"/>
              </a:solidFill>
              <a:ln>
                <a:solidFill>
                  <a:srgbClr val="07adf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思源黑体 CN Bold"/>
                  <a:ea typeface="思源黑体 CN Bold"/>
                </a:endParaRPr>
              </a:p>
            </p:txBody>
          </p:sp>
          <p:sp>
            <p:nvSpPr>
              <p:cNvPr id="92" name="任意多边形: 形状 13"/>
              <p:cNvSpPr/>
              <p:nvPr/>
            </p:nvSpPr>
            <p:spPr>
              <a:xfrm>
                <a:off x="4721040" y="2717640"/>
                <a:ext cx="460800" cy="484560"/>
              </a:xfrm>
              <a:custGeom>
                <a:avLst/>
                <a:gdLst>
                  <a:gd name="textAreaLeft" fmla="*/ 0 w 460800"/>
                  <a:gd name="textAreaRight" fmla="*/ 461160 w 460800"/>
                  <a:gd name="textAreaTop" fmla="*/ 0 h 484560"/>
                  <a:gd name="textAreaBottom" fmla="*/ 484920 h 484560"/>
                </a:gdLst>
                <a:ahLst/>
                <a:rect l="textAreaLeft" t="textAreaTop" r="textAreaRight" b="textAreaBottom"/>
                <a:pathLst>
                  <a:path w="495300" h="520700">
                    <a:moveTo>
                      <a:pt x="0" y="0"/>
                    </a:moveTo>
                    <a:lnTo>
                      <a:pt x="0" y="520700"/>
                    </a:lnTo>
                    <a:lnTo>
                      <a:pt x="495300" y="520700"/>
                    </a:lnTo>
                  </a:path>
                </a:pathLst>
              </a:custGeom>
              <a:noFill/>
              <a:ln w="28575">
                <a:solidFill>
                  <a:srgbClr val="000000">
                    <a:lumMod val="65000"/>
                    <a:lumOff val="35000"/>
                  </a:srgbClr>
                </a:solidFill>
                <a:prstDash val="dash"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ffffff"/>
                  </a:solidFill>
                  <a:latin typeface="思源黑体 CN Bold"/>
                  <a:ea typeface="思源黑体 CN Bold"/>
                </a:endParaRPr>
              </a:p>
            </p:txBody>
          </p:sp>
          <p:pic>
            <p:nvPicPr>
              <p:cNvPr id="93" name="图片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7071480" y="2052000"/>
                <a:ext cx="967320" cy="27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矩形 35"/>
              <p:cNvSpPr/>
              <p:nvPr/>
            </p:nvSpPr>
            <p:spPr>
              <a:xfrm>
                <a:off x="4567320" y="969480"/>
                <a:ext cx="288108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3600" spc="222" strike="noStrike">
                    <a:solidFill>
                      <a:srgbClr val="00c6ff"/>
                    </a:solidFill>
                    <a:latin typeface="胡晓波男神体"/>
                    <a:ea typeface="胡晓波男神体"/>
                  </a:rPr>
                  <a:t>“</a:t>
                </a:r>
                <a:r>
                  <a:rPr b="0" lang="zh-CN" sz="3600" spc="222" strike="noStrike">
                    <a:solidFill>
                      <a:srgbClr val="00c6ff"/>
                    </a:solidFill>
                    <a:latin typeface="胡晓波男神体"/>
                    <a:ea typeface="胡晓波男神体"/>
                  </a:rPr>
                  <a:t>口语交际”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矩形 35"/>
              <p:cNvSpPr/>
              <p:nvPr/>
            </p:nvSpPr>
            <p:spPr>
              <a:xfrm>
                <a:off x="4831920" y="2730960"/>
                <a:ext cx="35406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404040"/>
                    </a:solidFill>
                    <a:latin typeface="方正中倩简体"/>
                    <a:ea typeface="方正中倩简体"/>
                  </a:rPr>
                  <a:t>部编版语文课件 一年级下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矩形 35"/>
              <p:cNvSpPr/>
              <p:nvPr/>
            </p:nvSpPr>
            <p:spPr>
              <a:xfrm>
                <a:off x="4872240" y="1520280"/>
                <a:ext cx="2881080" cy="85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5000" spc="222" strike="noStrike">
                    <a:solidFill>
                      <a:srgbClr val="00c6ff"/>
                    </a:solidFill>
                    <a:latin typeface="胡晓波男神体"/>
                    <a:ea typeface="胡晓波男神体"/>
                  </a:rPr>
                  <a:t>打电话</a:t>
                </a:r>
                <a:endParaRPr b="0" lang="en-US" sz="5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97" name="直接连接符 21"/>
            <p:cNvCxnSpPr/>
            <p:nvPr/>
          </p:nvCxnSpPr>
          <p:spPr>
            <a:xfrm flipH="1">
              <a:off x="7677000" y="765000"/>
              <a:ext cx="538920" cy="551160"/>
            </a:xfrm>
            <a:prstGeom prst="straightConnector1">
              <a:avLst/>
            </a:prstGeom>
            <a:ln>
              <a:solidFill>
                <a:srgbClr val="07adf0"/>
              </a:solidFill>
            </a:ln>
          </p:spPr>
        </p:cxnSp>
        <p:cxnSp>
          <p:nvCxnSpPr>
            <p:cNvPr id="98" name="直接连接符 22"/>
            <p:cNvCxnSpPr/>
            <p:nvPr/>
          </p:nvCxnSpPr>
          <p:spPr>
            <a:xfrm flipH="1">
              <a:off x="7926840" y="730440"/>
              <a:ext cx="446400" cy="456480"/>
            </a:xfrm>
            <a:prstGeom prst="straightConnector1">
              <a:avLst/>
            </a:prstGeom>
            <a:ln>
              <a:solidFill>
                <a:srgbClr val="07adf0"/>
              </a:solidFill>
            </a:ln>
          </p:spPr>
        </p:cxnSp>
      </p:grpSp>
      <p:sp>
        <p:nvSpPr>
          <p:cNvPr id="99" name="矩形 20"/>
          <p:cNvSpPr/>
          <p:nvPr/>
        </p:nvSpPr>
        <p:spPr>
          <a:xfrm>
            <a:off x="5324040" y="4338720"/>
            <a:ext cx="275868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marL="257040" indent="-257040">
              <a:lnSpc>
                <a:spcPct val="11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多特软件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-WWW.DUO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1"/>
          <p:cNvSpPr/>
          <p:nvPr/>
        </p:nvSpPr>
        <p:spPr>
          <a:xfrm>
            <a:off x="871200" y="1259280"/>
            <a:ext cx="75369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）到同学家玩，同学的爸爸妈妈留你吃饭，打电话告诉家里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）因为生病请假，不知道当天的作业，打电话问同学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）有一个阿姨打电话找妈妈，妈妈不在家，阿姨请你转告妈妈一些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）老师打电话来，说晚上要来家访，你不知晚上父母能否准时回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55600" y="293040"/>
            <a:ext cx="1696680" cy="412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7adf0"/>
                </a:solidFill>
                <a:latin typeface="思源黑体 CN Bold"/>
                <a:ea typeface="思源黑体 CN Bold"/>
              </a:rPr>
              <a:t>04    </a:t>
            </a:r>
            <a:r>
              <a:rPr b="0" lang="zh-CN" sz="1500" spc="-1" strike="noStrike">
                <a:solidFill>
                  <a:srgbClr val="07adf0"/>
                </a:solidFill>
                <a:latin typeface="思源黑体 CN Bold"/>
                <a:ea typeface="思源黑体 CN Bold"/>
              </a:rPr>
              <a:t>课堂小结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1" name="矩形: 圆角 43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07ad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  <p:sp>
        <p:nvSpPr>
          <p:cNvPr id="172" name="文本框 44"/>
          <p:cNvSpPr/>
          <p:nvPr/>
        </p:nvSpPr>
        <p:spPr>
          <a:xfrm>
            <a:off x="1023840" y="3184920"/>
            <a:ext cx="6907320" cy="387720"/>
          </a:xfrm>
          <a:prstGeom prst="rect">
            <a:avLst/>
          </a:prstGeom>
          <a:noFill/>
          <a:ln w="0">
            <a:solidFill>
              <a:srgbClr val="07adf0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小朋友们表演得真棒，表扬一下自己。其他的小朋友还没有看过我们的表演，我们回去表演给其他的小朋友看，好吗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形状"/>
          <p:cNvSpPr/>
          <p:nvPr/>
        </p:nvSpPr>
        <p:spPr>
          <a:xfrm flipH="1">
            <a:off x="0" y="0"/>
            <a:ext cx="9144000" cy="123480"/>
          </a:xfrm>
          <a:custGeom>
            <a:avLst/>
            <a:gdLst>
              <a:gd name="textAreaLeft" fmla="*/ 360 w 9144000"/>
              <a:gd name="textAreaRight" fmla="*/ 9144720 w 9144000"/>
              <a:gd name="textAreaTop" fmla="*/ 0 h 123480"/>
              <a:gd name="textAreaBottom" fmla="*/ 123840 h 123480"/>
            </a:gdLst>
            <a:ahLst/>
            <a:rect l="textAreaLeft" t="textAreaTop" r="textAreaRight" b="textAreaBottom"/>
            <a:pathLst>
              <a:path w="12192000" h="5717168">
                <a:moveTo>
                  <a:pt x="0" y="0"/>
                </a:moveTo>
                <a:lnTo>
                  <a:pt x="12192000" y="0"/>
                </a:lnTo>
                <a:lnTo>
                  <a:pt x="12192000" y="2679701"/>
                </a:lnTo>
                <a:cubicBezTo>
                  <a:pt x="12192000" y="2679701"/>
                  <a:pt x="10993722" y="3927486"/>
                  <a:pt x="9598902" y="3656539"/>
                </a:cubicBezTo>
                <a:cubicBezTo>
                  <a:pt x="8204081" y="3385591"/>
                  <a:pt x="7956818" y="5353527"/>
                  <a:pt x="6828281" y="5510391"/>
                </a:cubicBezTo>
                <a:cubicBezTo>
                  <a:pt x="5699744" y="5667256"/>
                  <a:pt x="5534902" y="4576335"/>
                  <a:pt x="4526827" y="4740330"/>
                </a:cubicBezTo>
                <a:cubicBezTo>
                  <a:pt x="3518752" y="4904324"/>
                  <a:pt x="2738921" y="5966724"/>
                  <a:pt x="1857647" y="5574563"/>
                </a:cubicBezTo>
                <a:cubicBezTo>
                  <a:pt x="976374" y="5182402"/>
                  <a:pt x="0" y="5717168"/>
                  <a:pt x="0" y="5717168"/>
                </a:cubicBez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1c46f2"/>
              </a:gs>
            </a:gsLst>
            <a:lin ang="81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  <p:sp>
        <p:nvSpPr>
          <p:cNvPr id="174" name="形状"/>
          <p:cNvSpPr/>
          <p:nvPr/>
        </p:nvSpPr>
        <p:spPr>
          <a:xfrm flipV="1">
            <a:off x="0" y="3533400"/>
            <a:ext cx="9144000" cy="1609200"/>
          </a:xfrm>
          <a:custGeom>
            <a:avLst/>
            <a:gdLst>
              <a:gd name="textAreaLeft" fmla="*/ 0 w 9144000"/>
              <a:gd name="textAreaRight" fmla="*/ 9144360 w 9144000"/>
              <a:gd name="textAreaTop" fmla="*/ 360 h 1609200"/>
              <a:gd name="textAreaBottom" fmla="*/ 1609920 h 1609200"/>
            </a:gdLst>
            <a:ahLst/>
            <a:rect l="textAreaLeft" t="textAreaTop" r="textAreaRight" b="textAreaBottom"/>
            <a:pathLst>
              <a:path w="12192000" h="5717168">
                <a:moveTo>
                  <a:pt x="0" y="0"/>
                </a:moveTo>
                <a:lnTo>
                  <a:pt x="12192000" y="0"/>
                </a:lnTo>
                <a:lnTo>
                  <a:pt x="12192000" y="2679701"/>
                </a:lnTo>
                <a:cubicBezTo>
                  <a:pt x="12192000" y="2679701"/>
                  <a:pt x="10993722" y="3927486"/>
                  <a:pt x="9598902" y="3656539"/>
                </a:cubicBezTo>
                <a:cubicBezTo>
                  <a:pt x="8204081" y="3385591"/>
                  <a:pt x="7956818" y="5353527"/>
                  <a:pt x="6828281" y="5510391"/>
                </a:cubicBezTo>
                <a:cubicBezTo>
                  <a:pt x="5699744" y="5667256"/>
                  <a:pt x="5534902" y="4576335"/>
                  <a:pt x="4526827" y="4740330"/>
                </a:cubicBezTo>
                <a:cubicBezTo>
                  <a:pt x="3518752" y="4904324"/>
                  <a:pt x="2738921" y="5966724"/>
                  <a:pt x="1857647" y="5574563"/>
                </a:cubicBezTo>
                <a:cubicBezTo>
                  <a:pt x="976374" y="5182402"/>
                  <a:pt x="0" y="5717168"/>
                  <a:pt x="0" y="5717168"/>
                </a:cubicBez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1c46f2"/>
              </a:gs>
            </a:gsLst>
            <a:lin ang="189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  <p:sp>
        <p:nvSpPr>
          <p:cNvPr id="175" name="文本框 3" hidden="1"/>
          <p:cNvSpPr/>
          <p:nvPr/>
        </p:nvSpPr>
        <p:spPr>
          <a:xfrm>
            <a:off x="0" y="112320"/>
            <a:ext cx="15714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BY YUS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25"/>
          <p:cNvGrpSpPr/>
          <p:nvPr/>
        </p:nvGrpSpPr>
        <p:grpSpPr>
          <a:xfrm>
            <a:off x="4567320" y="730440"/>
            <a:ext cx="3805560" cy="2471760"/>
            <a:chOff x="4567320" y="730440"/>
            <a:chExt cx="3805560" cy="2471760"/>
          </a:xfrm>
        </p:grpSpPr>
        <p:grpSp>
          <p:nvGrpSpPr>
            <p:cNvPr id="177" name="组合 10"/>
            <p:cNvGrpSpPr/>
            <p:nvPr/>
          </p:nvGrpSpPr>
          <p:grpSpPr>
            <a:xfrm>
              <a:off x="4567320" y="969480"/>
              <a:ext cx="3186000" cy="2232720"/>
              <a:chOff x="4567320" y="969480"/>
              <a:chExt cx="3186000" cy="2232720"/>
            </a:xfrm>
          </p:grpSpPr>
          <p:sp>
            <p:nvSpPr>
              <p:cNvPr id="178" name="任意多边形: 形状 13"/>
              <p:cNvSpPr/>
              <p:nvPr/>
            </p:nvSpPr>
            <p:spPr>
              <a:xfrm>
                <a:off x="4721040" y="2717640"/>
                <a:ext cx="460800" cy="484560"/>
              </a:xfrm>
              <a:custGeom>
                <a:avLst/>
                <a:gdLst>
                  <a:gd name="textAreaLeft" fmla="*/ 0 w 460800"/>
                  <a:gd name="textAreaRight" fmla="*/ 461160 w 460800"/>
                  <a:gd name="textAreaTop" fmla="*/ 0 h 484560"/>
                  <a:gd name="textAreaBottom" fmla="*/ 484920 h 484560"/>
                </a:gdLst>
                <a:ahLst/>
                <a:rect l="textAreaLeft" t="textAreaTop" r="textAreaRight" b="textAreaBottom"/>
                <a:pathLst>
                  <a:path w="495300" h="520700">
                    <a:moveTo>
                      <a:pt x="0" y="0"/>
                    </a:moveTo>
                    <a:lnTo>
                      <a:pt x="0" y="520700"/>
                    </a:lnTo>
                    <a:lnTo>
                      <a:pt x="495300" y="520700"/>
                    </a:lnTo>
                  </a:path>
                </a:pathLst>
              </a:custGeom>
              <a:noFill/>
              <a:ln w="28575">
                <a:solidFill>
                  <a:srgbClr val="000000">
                    <a:lumMod val="65000"/>
                    <a:lumOff val="35000"/>
                  </a:srgbClr>
                </a:solidFill>
                <a:prstDash val="dash"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ffffff"/>
                  </a:solidFill>
                  <a:latin typeface="思源黑体 CN Bold"/>
                  <a:ea typeface="思源黑体 CN Bold"/>
                </a:endParaRPr>
              </a:p>
            </p:txBody>
          </p:sp>
          <p:sp>
            <p:nvSpPr>
              <p:cNvPr id="179" name="矩形 35"/>
              <p:cNvSpPr/>
              <p:nvPr/>
            </p:nvSpPr>
            <p:spPr>
              <a:xfrm>
                <a:off x="4567320" y="969480"/>
                <a:ext cx="2881080" cy="64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3600" spc="222" strike="noStrike">
                  <a:solidFill>
                    <a:srgbClr val="00c6ff"/>
                  </a:solidFill>
                  <a:latin typeface="胡晓波男神体"/>
                  <a:ea typeface="胡晓波男神体"/>
                </a:endParaRPr>
              </a:p>
            </p:txBody>
          </p:sp>
          <p:sp>
            <p:nvSpPr>
              <p:cNvPr id="180" name="矩形 35"/>
              <p:cNvSpPr/>
              <p:nvPr/>
            </p:nvSpPr>
            <p:spPr>
              <a:xfrm>
                <a:off x="4872240" y="1627560"/>
                <a:ext cx="2881080" cy="85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5000" spc="222" strike="noStrike">
                    <a:solidFill>
                      <a:srgbClr val="00c6ff"/>
                    </a:solidFill>
                    <a:latin typeface="胡晓波男神体"/>
                    <a:ea typeface="胡晓波男神体"/>
                  </a:rPr>
                  <a:t>谢谢观看</a:t>
                </a:r>
                <a:endParaRPr b="0" lang="en-US" sz="5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81" name="直接连接符 21"/>
            <p:cNvCxnSpPr/>
            <p:nvPr/>
          </p:nvCxnSpPr>
          <p:spPr>
            <a:xfrm flipH="1">
              <a:off x="7677000" y="765000"/>
              <a:ext cx="538920" cy="551160"/>
            </a:xfrm>
            <a:prstGeom prst="straightConnector1">
              <a:avLst/>
            </a:prstGeom>
            <a:ln>
              <a:solidFill>
                <a:srgbClr val="07adf0"/>
              </a:solidFill>
            </a:ln>
          </p:spPr>
        </p:cxnSp>
        <p:cxnSp>
          <p:nvCxnSpPr>
            <p:cNvPr id="182" name="直接连接符 22"/>
            <p:cNvCxnSpPr/>
            <p:nvPr/>
          </p:nvCxnSpPr>
          <p:spPr>
            <a:xfrm flipH="1">
              <a:off x="7926840" y="730440"/>
              <a:ext cx="446400" cy="456480"/>
            </a:xfrm>
            <a:prstGeom prst="straightConnector1">
              <a:avLst/>
            </a:prstGeom>
            <a:ln>
              <a:solidFill>
                <a:srgbClr val="07adf0"/>
              </a:solidFill>
            </a:ln>
          </p:spPr>
        </p:cxnSp>
      </p:grp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"/>
          <p:cNvSpPr/>
          <p:nvPr/>
        </p:nvSpPr>
        <p:spPr>
          <a:xfrm>
            <a:off x="3063960" y="1221120"/>
            <a:ext cx="5083560" cy="4708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just"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你打过电话吗？应该怎样打电话呢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5600" y="293040"/>
            <a:ext cx="1696680" cy="412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7adf0"/>
                </a:solidFill>
                <a:latin typeface="思源黑体 CN Bold"/>
                <a:ea typeface="思源黑体 CN Bold"/>
              </a:rPr>
              <a:t>01    </a:t>
            </a:r>
            <a:r>
              <a:rPr b="0" lang="zh-CN" sz="1500" spc="-1" strike="noStrike">
                <a:solidFill>
                  <a:srgbClr val="07adf0"/>
                </a:solidFill>
                <a:latin typeface="思源黑体 CN Bold"/>
                <a:ea typeface="思源黑体 CN Bold"/>
              </a:rPr>
              <a:t>课前导读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2" name="矩形: 圆角 58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07ad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  <p:sp>
        <p:nvSpPr>
          <p:cNvPr id="103" name="文本框 59"/>
          <p:cNvSpPr/>
          <p:nvPr/>
        </p:nvSpPr>
        <p:spPr>
          <a:xfrm>
            <a:off x="3063960" y="2052720"/>
            <a:ext cx="5008680" cy="92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看一看：认真观察图画，图上都有谁？他们在干什么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读一读：读一读泡泡中的语言，他们打电话时都说了些什么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练一练：两个小朋友一组练习打电话，一个人扮演阿姨，一个人扮演李中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图片 62"/>
          <p:cNvSpPr/>
          <p:nvPr/>
        </p:nvSpPr>
        <p:spPr>
          <a:xfrm>
            <a:off x="859680" y="964440"/>
            <a:ext cx="1830240" cy="3681000"/>
          </a:xfrm>
          <a:custGeom>
            <a:avLst/>
            <a:gdLst>
              <a:gd name="textAreaLeft" fmla="*/ 0 w 1830240"/>
              <a:gd name="textAreaRight" fmla="*/ 1830600 w 1830240"/>
              <a:gd name="textAreaTop" fmla="*/ 0 h 3681000"/>
              <a:gd name="textAreaBottom" fmla="*/ 3681360 h 3681000"/>
            </a:gdLst>
            <a:ahLst/>
            <a:rect l="textAreaLeft" t="textAreaTop" r="textAreaRight" b="textAreaBottom"/>
            <a:pathLst>
              <a:path w="2440940" h="4921250">
                <a:moveTo>
                  <a:pt x="136923" y="0"/>
                </a:moveTo>
                <a:lnTo>
                  <a:pt x="2304017" y="0"/>
                </a:lnTo>
                <a:cubicBezTo>
                  <a:pt x="2379517" y="0"/>
                  <a:pt x="2440940" y="60960"/>
                  <a:pt x="2440940" y="135890"/>
                </a:cubicBezTo>
                <a:lnTo>
                  <a:pt x="2440940" y="4786630"/>
                </a:lnTo>
                <a:cubicBezTo>
                  <a:pt x="2440940" y="4842828"/>
                  <a:pt x="2406389" y="4891167"/>
                  <a:pt x="2357263" y="4911824"/>
                </a:cubicBezTo>
                <a:lnTo>
                  <a:pt x="2310339" y="4921250"/>
                </a:lnTo>
                <a:lnTo>
                  <a:pt x="130601" y="4921250"/>
                </a:lnTo>
                <a:lnTo>
                  <a:pt x="83678" y="4911824"/>
                </a:lnTo>
                <a:cubicBezTo>
                  <a:pt x="34551" y="4891167"/>
                  <a:pt x="0" y="4842828"/>
                  <a:pt x="0" y="4786630"/>
                </a:cubicBezTo>
                <a:lnTo>
                  <a:pt x="0" y="135890"/>
                </a:lnTo>
                <a:cubicBezTo>
                  <a:pt x="0" y="60960"/>
                  <a:pt x="61424" y="0"/>
                  <a:pt x="136923" y="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1"/>
          <p:cNvSpPr/>
          <p:nvPr/>
        </p:nvSpPr>
        <p:spPr>
          <a:xfrm>
            <a:off x="1064520" y="1568160"/>
            <a:ext cx="626436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讲一讲：说一说打电话应该注意些什么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99"/>
          <p:cNvSpPr/>
          <p:nvPr/>
        </p:nvSpPr>
        <p:spPr>
          <a:xfrm>
            <a:off x="1064520" y="2174400"/>
            <a:ext cx="6568920" cy="1346760"/>
          </a:xfrm>
          <a:prstGeom prst="roundRect">
            <a:avLst>
              <a:gd name="adj" fmla="val 0"/>
            </a:avLst>
          </a:prstGeom>
          <a:solidFill>
            <a:schemeClr val="bg1"/>
          </a:solidFill>
          <a:ln>
            <a:solidFill>
              <a:srgbClr val="07adf0"/>
            </a:solidFill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chemeClr val="dk1"/>
                </a:solidFill>
                <a:latin typeface="等线"/>
              </a:rPr>
              <a:t>（</a:t>
            </a:r>
            <a:r>
              <a:rPr b="0" lang="en-US" sz="1400" spc="-1" strike="noStrike">
                <a:solidFill>
                  <a:schemeClr val="dk1"/>
                </a:solidFill>
                <a:latin typeface="等线"/>
              </a:rPr>
              <a:t>1</a:t>
            </a:r>
            <a:r>
              <a:rPr b="0" lang="zh-CN" sz="1400" spc="-1" strike="noStrike">
                <a:solidFill>
                  <a:schemeClr val="dk1"/>
                </a:solidFill>
                <a:latin typeface="等线"/>
              </a:rPr>
              <a:t>）打电话要先拨号，号码要拨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chemeClr val="dk1"/>
                </a:solidFill>
                <a:latin typeface="等线"/>
              </a:rPr>
              <a:t>（</a:t>
            </a:r>
            <a:r>
              <a:rPr b="0" lang="en-US" sz="1400" spc="-1" strike="noStrike">
                <a:solidFill>
                  <a:schemeClr val="dk1"/>
                </a:solidFill>
                <a:latin typeface="等线"/>
              </a:rPr>
              <a:t>2</a:t>
            </a:r>
            <a:r>
              <a:rPr b="0" lang="zh-CN" sz="1400" spc="-1" strike="noStrike">
                <a:solidFill>
                  <a:schemeClr val="dk1"/>
                </a:solidFill>
                <a:latin typeface="等线"/>
              </a:rPr>
              <a:t>）如果是忙音，可过几分钟再拨打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chemeClr val="dk1"/>
                </a:solidFill>
                <a:latin typeface="等线"/>
              </a:rPr>
              <a:t>（</a:t>
            </a:r>
            <a:r>
              <a:rPr b="0" lang="en-US" sz="1400" spc="-1" strike="noStrike">
                <a:solidFill>
                  <a:schemeClr val="dk1"/>
                </a:solidFill>
                <a:latin typeface="等线"/>
              </a:rPr>
              <a:t>3</a:t>
            </a:r>
            <a:r>
              <a:rPr b="0" lang="zh-CN" sz="1400" spc="-1" strike="noStrike">
                <a:solidFill>
                  <a:schemeClr val="dk1"/>
                </a:solidFill>
                <a:latin typeface="等线"/>
              </a:rPr>
              <a:t>）电话拨通后，要先自我介绍，再讲事情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chemeClr val="dk1"/>
                </a:solidFill>
                <a:latin typeface="等线"/>
              </a:rPr>
              <a:t>（</a:t>
            </a:r>
            <a:r>
              <a:rPr b="0" lang="en-US" sz="1400" spc="-1" strike="noStrike">
                <a:solidFill>
                  <a:schemeClr val="dk1"/>
                </a:solidFill>
                <a:latin typeface="等线"/>
              </a:rPr>
              <a:t>4</a:t>
            </a:r>
            <a:r>
              <a:rPr b="0" lang="zh-CN" sz="1400" spc="-1" strike="noStrike">
                <a:solidFill>
                  <a:schemeClr val="dk1"/>
                </a:solidFill>
                <a:latin typeface="等线"/>
              </a:rPr>
              <a:t>）如果对方不是你要找的人，要告诉对方你找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5960" y="293040"/>
            <a:ext cx="1696320" cy="412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7adf0"/>
                </a:solidFill>
                <a:latin typeface="思源黑体 CN Bold"/>
                <a:ea typeface="思源黑体 CN Bold"/>
              </a:rPr>
              <a:t>01    </a:t>
            </a:r>
            <a:r>
              <a:rPr b="0" lang="zh-CN" sz="1500" spc="-1" strike="noStrike">
                <a:solidFill>
                  <a:srgbClr val="07adf0"/>
                </a:solidFill>
                <a:latin typeface="思源黑体 CN Bold"/>
                <a:ea typeface="思源黑体 CN Bold"/>
              </a:rPr>
              <a:t>课前导读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8" name="矩形: 圆角 59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07ad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</p:spTree>
  </p:cSld>
  <p:transition spd="slow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文本框 99"/>
          <p:cNvSpPr/>
          <p:nvPr/>
        </p:nvSpPr>
        <p:spPr>
          <a:xfrm>
            <a:off x="927360" y="2716200"/>
            <a:ext cx="7562880" cy="1027080"/>
          </a:xfrm>
          <a:prstGeom prst="round2DiagRect">
            <a:avLst>
              <a:gd name="adj1" fmla="val 0"/>
              <a:gd name="adj2" fmla="val 0"/>
            </a:avLst>
          </a:prstGeom>
          <a:noFill/>
          <a:ln w="57150">
            <a:solidFill>
              <a:srgbClr val="07adf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）无论接打电话，都要听清主要内容，把话说清楚，使用礼貌用语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6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）打电话时常用的礼貌用语有：你好；请问……；谢谢；再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）打电话时要先说自己是谁，没听清楚时，可以请对方重复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2"/>
          <p:cNvSpPr/>
          <p:nvPr/>
        </p:nvSpPr>
        <p:spPr>
          <a:xfrm>
            <a:off x="3461760" y="1648440"/>
            <a:ext cx="6872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讲一讲：说一说打电话应该注意些什么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5960" y="293040"/>
            <a:ext cx="1696320" cy="412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7adf0"/>
                </a:solidFill>
                <a:latin typeface="思源黑体 CN Bold"/>
                <a:ea typeface="思源黑体 CN Bold"/>
              </a:rPr>
              <a:t>01    </a:t>
            </a:r>
            <a:r>
              <a:rPr b="0" lang="zh-CN" sz="1500" spc="-1" strike="noStrike">
                <a:solidFill>
                  <a:srgbClr val="07adf0"/>
                </a:solidFill>
                <a:latin typeface="思源黑体 CN Bold"/>
                <a:ea typeface="思源黑体 CN Bold"/>
              </a:rPr>
              <a:t>课前导读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2" name="矩形: 圆角 44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07ad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99"/>
          <p:cNvSpPr/>
          <p:nvPr/>
        </p:nvSpPr>
        <p:spPr>
          <a:xfrm>
            <a:off x="1178280" y="1317240"/>
            <a:ext cx="6787080" cy="198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5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打电话儿歌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打电话，先拨号，电话号码要拨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拿起电话说“您好”，告诉对方我是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明明白白说事情，要点一定要说清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认真倾听对方话，主要内容记心内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通话结束说“再见”，注意电话要归位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5960" y="293040"/>
            <a:ext cx="1696320" cy="412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7adf0"/>
                </a:solidFill>
                <a:latin typeface="思源黑体 CN Bold"/>
                <a:ea typeface="思源黑体 CN Bold"/>
              </a:rPr>
              <a:t>01    </a:t>
            </a:r>
            <a:r>
              <a:rPr b="0" lang="zh-CN" sz="1500" spc="-1" strike="noStrike">
                <a:solidFill>
                  <a:srgbClr val="07adf0"/>
                </a:solidFill>
                <a:latin typeface="思源黑体 CN Bold"/>
                <a:ea typeface="思源黑体 CN Bold"/>
              </a:rPr>
              <a:t>课前导读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5" name="矩形: 圆角 43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07ad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</p:spTree>
  </p:cSld>
  <p:transition spd="slow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棱台 2"/>
          <p:cNvSpPr/>
          <p:nvPr/>
        </p:nvSpPr>
        <p:spPr>
          <a:xfrm>
            <a:off x="768240" y="1988640"/>
            <a:ext cx="2150280" cy="693000"/>
          </a:xfrm>
          <a:prstGeom prst="bevel">
            <a:avLst>
              <a:gd name="adj" fmla="val 12500"/>
            </a:avLst>
          </a:prstGeom>
          <a:solidFill>
            <a:schemeClr val="bg1"/>
          </a:solidFill>
          <a:ln w="3175">
            <a:solidFill>
              <a:srgbClr val="07ad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等线"/>
              </a:rPr>
              <a:t>情景一约同学踢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棱台 3"/>
          <p:cNvSpPr/>
          <p:nvPr/>
        </p:nvSpPr>
        <p:spPr>
          <a:xfrm>
            <a:off x="3218040" y="1480320"/>
            <a:ext cx="2343600" cy="1261800"/>
          </a:xfrm>
          <a:prstGeom prst="bevel">
            <a:avLst>
              <a:gd name="adj" fmla="val 12500"/>
            </a:avLst>
          </a:prstGeom>
          <a:solidFill>
            <a:schemeClr val="bg1"/>
          </a:solidFill>
          <a:ln w="3175">
            <a:solidFill>
              <a:srgbClr val="07ad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51480" rIns="51480" tIns="25560" bIns="25560" anchor="ctr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等线"/>
              </a:rPr>
              <a:t>情景二：有一位叔叔打电话找爸爸，但是爸爸不在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缺角矩形 5"/>
          <p:cNvSpPr/>
          <p:nvPr/>
        </p:nvSpPr>
        <p:spPr>
          <a:xfrm>
            <a:off x="878400" y="3247920"/>
            <a:ext cx="2040120" cy="345960"/>
          </a:xfrm>
          <a:prstGeom prst="plaque">
            <a:avLst>
              <a:gd name="adj" fmla="val 16667"/>
            </a:avLst>
          </a:prstGeom>
          <a:solidFill>
            <a:schemeClr val="bg1"/>
          </a:solidFill>
          <a:ln w="0">
            <a:solidFill>
              <a:srgbClr val="07adf0"/>
            </a:solidFill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任选其中一个情景，和同桌演一演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缺角矩形 7"/>
          <p:cNvSpPr/>
          <p:nvPr/>
        </p:nvSpPr>
        <p:spPr>
          <a:xfrm>
            <a:off x="3542760" y="3247200"/>
            <a:ext cx="1694520" cy="345960"/>
          </a:xfrm>
          <a:prstGeom prst="plaque">
            <a:avLst>
              <a:gd name="adj" fmla="val 16667"/>
            </a:avLst>
          </a:prstGeom>
          <a:solidFill>
            <a:schemeClr val="bg1"/>
          </a:solidFill>
          <a:ln w="0">
            <a:solidFill>
              <a:srgbClr val="07adf0"/>
            </a:solidFill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可以勇敢到讲台上向大家展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缺角矩形 8"/>
          <p:cNvSpPr/>
          <p:nvPr/>
        </p:nvSpPr>
        <p:spPr>
          <a:xfrm>
            <a:off x="6010200" y="3247920"/>
            <a:ext cx="1694520" cy="345960"/>
          </a:xfrm>
          <a:prstGeom prst="plaque">
            <a:avLst>
              <a:gd name="adj" fmla="val 16667"/>
            </a:avLst>
          </a:prstGeom>
          <a:solidFill>
            <a:schemeClr val="bg1"/>
          </a:solidFill>
          <a:ln w="0">
            <a:solidFill>
              <a:srgbClr val="07adf0"/>
            </a:solidFill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评一评：评出最优小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棱台 9"/>
          <p:cNvSpPr/>
          <p:nvPr/>
        </p:nvSpPr>
        <p:spPr>
          <a:xfrm>
            <a:off x="5930280" y="1480320"/>
            <a:ext cx="2343600" cy="1261800"/>
          </a:xfrm>
          <a:prstGeom prst="bevel">
            <a:avLst>
              <a:gd name="adj" fmla="val 12500"/>
            </a:avLst>
          </a:prstGeom>
          <a:solidFill>
            <a:schemeClr val="bg1"/>
          </a:solidFill>
          <a:ln w="3175">
            <a:solidFill>
              <a:srgbClr val="07ad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51480" rIns="51480" tIns="25560" bIns="25560" anchor="ctr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等线"/>
              </a:rPr>
              <a:t>情景二：有一位叔叔打电话找爸爸，但是爸爸不在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5960" y="293040"/>
            <a:ext cx="1696320" cy="412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7adf0"/>
                </a:solidFill>
                <a:latin typeface="思源黑体 CN Bold"/>
                <a:ea typeface="思源黑体 CN Bold"/>
              </a:rPr>
              <a:t>02    </a:t>
            </a:r>
            <a:r>
              <a:rPr b="0" lang="zh-CN" sz="1500" spc="-1" strike="noStrike">
                <a:solidFill>
                  <a:srgbClr val="07adf0"/>
                </a:solidFill>
                <a:latin typeface="思源黑体 CN Bold"/>
                <a:ea typeface="思源黑体 CN Bold"/>
              </a:rPr>
              <a:t>交际指导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3" name="矩形: 圆角 47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07ad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35"/>
          <p:cNvGrpSpPr/>
          <p:nvPr/>
        </p:nvGrpSpPr>
        <p:grpSpPr>
          <a:xfrm>
            <a:off x="5596200" y="1153800"/>
            <a:ext cx="2129760" cy="1487160"/>
            <a:chOff x="5596200" y="1153800"/>
            <a:chExt cx="2129760" cy="1487160"/>
          </a:xfrm>
        </p:grpSpPr>
        <p:sp>
          <p:nvSpPr>
            <p:cNvPr id="125" name="云形标注 36"/>
            <p:cNvSpPr/>
            <p:nvPr/>
          </p:nvSpPr>
          <p:spPr>
            <a:xfrm>
              <a:off x="5596200" y="1153800"/>
              <a:ext cx="2129760" cy="1487160"/>
            </a:xfrm>
            <a:prstGeom prst="cloudCallout">
              <a:avLst>
                <a:gd name="adj1" fmla="val -42966"/>
                <a:gd name="adj2" fmla="val 80198"/>
              </a:avLst>
            </a:prstGeom>
            <a:solidFill>
              <a:schemeClr val="bg1"/>
            </a:solidFill>
            <a:ln w="3175">
              <a:solidFill>
                <a:srgbClr val="07adf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126" name="矩形 37"/>
            <p:cNvSpPr/>
            <p:nvPr/>
          </p:nvSpPr>
          <p:spPr>
            <a:xfrm>
              <a:off x="5855400" y="1408680"/>
              <a:ext cx="1611360" cy="334440"/>
            </a:xfrm>
            <a:prstGeom prst="rect">
              <a:avLst/>
            </a:prstGeom>
            <a:noFill/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思源黑体 CN Bold"/>
                  <a:ea typeface="思源黑体 CN Bold"/>
                </a:rPr>
                <a:t>喂，你好！是明明吗？我是肖珂。下午我们一起去踢球，好吗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38"/>
          <p:cNvGrpSpPr/>
          <p:nvPr/>
        </p:nvGrpSpPr>
        <p:grpSpPr>
          <a:xfrm>
            <a:off x="5979600" y="3051360"/>
            <a:ext cx="1362960" cy="1020600"/>
            <a:chOff x="5979600" y="3051360"/>
            <a:chExt cx="1362960" cy="1020600"/>
          </a:xfrm>
        </p:grpSpPr>
        <p:sp>
          <p:nvSpPr>
            <p:cNvPr id="128" name="云形标注 39"/>
            <p:cNvSpPr/>
            <p:nvPr/>
          </p:nvSpPr>
          <p:spPr>
            <a:xfrm>
              <a:off x="5979600" y="3051360"/>
              <a:ext cx="1362600" cy="1020600"/>
            </a:xfrm>
            <a:prstGeom prst="cloudCallout">
              <a:avLst>
                <a:gd name="adj1" fmla="val -70069"/>
                <a:gd name="adj2" fmla="val 16685"/>
              </a:avLst>
            </a:prstGeom>
            <a:solidFill>
              <a:schemeClr val="bg1"/>
            </a:solidFill>
            <a:ln w="3175">
              <a:solidFill>
                <a:srgbClr val="07adf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129" name="矩形 40"/>
            <p:cNvSpPr/>
            <p:nvPr/>
          </p:nvSpPr>
          <p:spPr>
            <a:xfrm>
              <a:off x="6163200" y="3289320"/>
              <a:ext cx="1179360" cy="577800"/>
            </a:xfrm>
            <a:prstGeom prst="rect">
              <a:avLst/>
            </a:prstGeom>
            <a:noFill/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思源黑体 CN Bold"/>
                  <a:ea typeface="思源黑体 CN Bold"/>
                </a:rPr>
                <a:t>那就这样说好啦！再见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3"/>
          <p:cNvGrpSpPr/>
          <p:nvPr/>
        </p:nvGrpSpPr>
        <p:grpSpPr>
          <a:xfrm>
            <a:off x="1406520" y="1276560"/>
            <a:ext cx="1811520" cy="964080"/>
            <a:chOff x="1406520" y="1276560"/>
            <a:chExt cx="1811520" cy="964080"/>
          </a:xfrm>
        </p:grpSpPr>
        <p:sp>
          <p:nvSpPr>
            <p:cNvPr id="131" name="云形标注 43"/>
            <p:cNvSpPr/>
            <p:nvPr/>
          </p:nvSpPr>
          <p:spPr>
            <a:xfrm flipH="1">
              <a:off x="1406520" y="1276560"/>
              <a:ext cx="1811520" cy="96408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chemeClr val="bg1">
                <a:alpha val="21000"/>
              </a:schemeClr>
            </a:solidFill>
            <a:ln w="3175">
              <a:solidFill>
                <a:srgbClr val="07adf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132" name="矩形 44"/>
            <p:cNvSpPr/>
            <p:nvPr/>
          </p:nvSpPr>
          <p:spPr>
            <a:xfrm flipH="1">
              <a:off x="1492200" y="1615320"/>
              <a:ext cx="1611360" cy="334440"/>
            </a:xfrm>
            <a:prstGeom prst="rect">
              <a:avLst/>
            </a:prstGeom>
            <a:solidFill>
              <a:schemeClr val="bg1">
                <a:alpha val="21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思源黑体 CN Bold"/>
                  <a:ea typeface="思源黑体 CN Bold"/>
                </a:rPr>
                <a:t>喂，你好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5"/>
          <p:cNvGrpSpPr/>
          <p:nvPr/>
        </p:nvGrpSpPr>
        <p:grpSpPr>
          <a:xfrm>
            <a:off x="1406520" y="2551680"/>
            <a:ext cx="1811520" cy="964080"/>
            <a:chOff x="1406520" y="2551680"/>
            <a:chExt cx="1811520" cy="964080"/>
          </a:xfrm>
        </p:grpSpPr>
        <p:sp>
          <p:nvSpPr>
            <p:cNvPr id="134" name="云形标注 46"/>
            <p:cNvSpPr/>
            <p:nvPr/>
          </p:nvSpPr>
          <p:spPr>
            <a:xfrm flipH="1">
              <a:off x="1406520" y="2551680"/>
              <a:ext cx="1811520" cy="96408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chemeClr val="bg1">
                <a:alpha val="21000"/>
              </a:schemeClr>
            </a:solidFill>
            <a:ln w="3175">
              <a:solidFill>
                <a:srgbClr val="07adf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135" name="矩形 47"/>
            <p:cNvSpPr/>
            <p:nvPr/>
          </p:nvSpPr>
          <p:spPr>
            <a:xfrm flipH="1">
              <a:off x="1492200" y="2756880"/>
              <a:ext cx="1611360" cy="334440"/>
            </a:xfrm>
            <a:prstGeom prst="rect">
              <a:avLst/>
            </a:prstGeom>
            <a:solidFill>
              <a:schemeClr val="bg1">
                <a:alpha val="21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思源黑体 CN Bold"/>
                  <a:ea typeface="思源黑体 CN Bold"/>
                </a:rPr>
                <a:t>太好了，正好我今天下午有空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7"/>
          <p:cNvGrpSpPr/>
          <p:nvPr/>
        </p:nvGrpSpPr>
        <p:grpSpPr>
          <a:xfrm>
            <a:off x="1791360" y="3746880"/>
            <a:ext cx="1041480" cy="650520"/>
            <a:chOff x="1791360" y="3746880"/>
            <a:chExt cx="1041480" cy="650520"/>
          </a:xfrm>
        </p:grpSpPr>
        <p:sp>
          <p:nvSpPr>
            <p:cNvPr id="137" name="云形标注 49"/>
            <p:cNvSpPr/>
            <p:nvPr/>
          </p:nvSpPr>
          <p:spPr>
            <a:xfrm flipH="1">
              <a:off x="1827720" y="3746880"/>
              <a:ext cx="1005120" cy="650520"/>
            </a:xfrm>
            <a:prstGeom prst="cloudCallout">
              <a:avLst>
                <a:gd name="adj1" fmla="val -70069"/>
                <a:gd name="adj2" fmla="val 16685"/>
              </a:avLst>
            </a:prstGeom>
            <a:solidFill>
              <a:schemeClr val="bg1">
                <a:alpha val="21000"/>
              </a:schemeClr>
            </a:solidFill>
            <a:ln w="3175">
              <a:solidFill>
                <a:srgbClr val="07adf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138" name="矩形 50"/>
            <p:cNvSpPr/>
            <p:nvPr/>
          </p:nvSpPr>
          <p:spPr>
            <a:xfrm flipH="1">
              <a:off x="1791000" y="3899880"/>
              <a:ext cx="896040" cy="334440"/>
            </a:xfrm>
            <a:prstGeom prst="rect">
              <a:avLst/>
            </a:prstGeom>
            <a:solidFill>
              <a:schemeClr val="bg1">
                <a:alpha val="21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思源黑体 CN Bold"/>
                  <a:ea typeface="思源黑体 CN Bold"/>
                </a:rPr>
                <a:t>再见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5960" y="293040"/>
            <a:ext cx="1696320" cy="412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7adf0"/>
                </a:solidFill>
                <a:latin typeface="思源黑体 CN Bold"/>
                <a:ea typeface="思源黑体 CN Bold"/>
              </a:rPr>
              <a:t>03    </a:t>
            </a:r>
            <a:r>
              <a:rPr b="0" lang="zh-CN" sz="1500" spc="-1" strike="noStrike">
                <a:solidFill>
                  <a:srgbClr val="07adf0"/>
                </a:solidFill>
                <a:latin typeface="思源黑体 CN Bold"/>
                <a:ea typeface="思源黑体 CN Bold"/>
              </a:rPr>
              <a:t>交际示范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" name="矩形: 圆角 58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07ad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  <p:sp>
        <p:nvSpPr>
          <p:cNvPr id="141" name="图片 59"/>
          <p:cNvSpPr/>
          <p:nvPr/>
        </p:nvSpPr>
        <p:spPr>
          <a:xfrm>
            <a:off x="3559320" y="900720"/>
            <a:ext cx="1830240" cy="3681000"/>
          </a:xfrm>
          <a:custGeom>
            <a:avLst/>
            <a:gdLst>
              <a:gd name="textAreaLeft" fmla="*/ 0 w 1830240"/>
              <a:gd name="textAreaRight" fmla="*/ 1830600 w 1830240"/>
              <a:gd name="textAreaTop" fmla="*/ 0 h 3681000"/>
              <a:gd name="textAreaBottom" fmla="*/ 3681360 h 3681000"/>
            </a:gdLst>
            <a:ahLst/>
            <a:rect l="textAreaLeft" t="textAreaTop" r="textAreaRight" b="textAreaBottom"/>
            <a:pathLst>
              <a:path w="2440940" h="4921250">
                <a:moveTo>
                  <a:pt x="136923" y="0"/>
                </a:moveTo>
                <a:lnTo>
                  <a:pt x="2304017" y="0"/>
                </a:lnTo>
                <a:cubicBezTo>
                  <a:pt x="2379517" y="0"/>
                  <a:pt x="2440940" y="60960"/>
                  <a:pt x="2440940" y="135890"/>
                </a:cubicBezTo>
                <a:lnTo>
                  <a:pt x="2440940" y="4786630"/>
                </a:lnTo>
                <a:cubicBezTo>
                  <a:pt x="2440940" y="4842828"/>
                  <a:pt x="2406389" y="4891167"/>
                  <a:pt x="2357263" y="4911824"/>
                </a:cubicBezTo>
                <a:lnTo>
                  <a:pt x="2310339" y="4921250"/>
                </a:lnTo>
                <a:lnTo>
                  <a:pt x="130601" y="4921250"/>
                </a:lnTo>
                <a:lnTo>
                  <a:pt x="83678" y="4911824"/>
                </a:lnTo>
                <a:cubicBezTo>
                  <a:pt x="34551" y="4891167"/>
                  <a:pt x="0" y="4842828"/>
                  <a:pt x="0" y="4786630"/>
                </a:cubicBezTo>
                <a:lnTo>
                  <a:pt x="0" y="135890"/>
                </a:lnTo>
                <a:cubicBezTo>
                  <a:pt x="0" y="60960"/>
                  <a:pt x="61424" y="0"/>
                  <a:pt x="136923" y="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7"/>
          <p:cNvGrpSpPr/>
          <p:nvPr/>
        </p:nvGrpSpPr>
        <p:grpSpPr>
          <a:xfrm>
            <a:off x="1061280" y="1573560"/>
            <a:ext cx="2560680" cy="1598040"/>
            <a:chOff x="1061280" y="1573560"/>
            <a:chExt cx="2560680" cy="1598040"/>
          </a:xfrm>
        </p:grpSpPr>
        <p:sp>
          <p:nvSpPr>
            <p:cNvPr id="143" name="圆角矩形标注 10"/>
            <p:cNvSpPr/>
            <p:nvPr/>
          </p:nvSpPr>
          <p:spPr>
            <a:xfrm>
              <a:off x="1061280" y="1590120"/>
              <a:ext cx="2560680" cy="1581480"/>
            </a:xfrm>
            <a:prstGeom prst="wedgeRoundRectCallout">
              <a:avLst>
                <a:gd name="adj1" fmla="val 51818"/>
                <a:gd name="adj2" fmla="val 34538"/>
                <a:gd name="adj3" fmla="val 16667"/>
              </a:avLst>
            </a:prstGeom>
            <a:solidFill>
              <a:srgbClr val="ffffff"/>
            </a:solidFill>
            <a:ln w="3175">
              <a:solidFill>
                <a:srgbClr val="07adf0">
                  <a:alpha val="39000"/>
                </a:srgbClr>
              </a:solidFill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144" name="矩形 1"/>
            <p:cNvSpPr/>
            <p:nvPr/>
          </p:nvSpPr>
          <p:spPr>
            <a:xfrm>
              <a:off x="1232640" y="1573560"/>
              <a:ext cx="2382120" cy="363960"/>
            </a:xfrm>
            <a:prstGeom prst="rect">
              <a:avLst/>
            </a:prstGeom>
            <a:noFill/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思源黑体 CN Bold"/>
                  <a:ea typeface="思源黑体 CN Bold"/>
                </a:rPr>
                <a:t>您好，请问是李老师吗？我是秀秀，我生病发烧了，要去医院，需要请一天假，请您批准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11"/>
          <p:cNvGrpSpPr/>
          <p:nvPr/>
        </p:nvGrpSpPr>
        <p:grpSpPr>
          <a:xfrm>
            <a:off x="5850360" y="1551600"/>
            <a:ext cx="2060280" cy="1098720"/>
            <a:chOff x="5850360" y="1551600"/>
            <a:chExt cx="2060280" cy="1098720"/>
          </a:xfrm>
        </p:grpSpPr>
        <p:sp>
          <p:nvSpPr>
            <p:cNvPr id="146" name="圆角矩形标注 12"/>
            <p:cNvSpPr/>
            <p:nvPr/>
          </p:nvSpPr>
          <p:spPr>
            <a:xfrm flipH="1">
              <a:off x="5850000" y="1551600"/>
              <a:ext cx="2060280" cy="1098720"/>
            </a:xfrm>
            <a:prstGeom prst="wedgeRoundRectCallout">
              <a:avLst>
                <a:gd name="adj1" fmla="val 28325"/>
                <a:gd name="adj2" fmla="val 68484"/>
                <a:gd name="adj3" fmla="val 16667"/>
              </a:avLst>
            </a:prstGeom>
            <a:solidFill>
              <a:srgbClr val="ffffff"/>
            </a:solidFill>
            <a:ln w="3175">
              <a:solidFill>
                <a:srgbClr val="07adf0">
                  <a:alpha val="39000"/>
                </a:srgbClr>
              </a:solidFill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147" name="矩形 1"/>
            <p:cNvSpPr/>
            <p:nvPr/>
          </p:nvSpPr>
          <p:spPr>
            <a:xfrm flipH="1">
              <a:off x="5850000" y="1784880"/>
              <a:ext cx="1903320" cy="363960"/>
            </a:xfrm>
            <a:prstGeom prst="rect">
              <a:avLst/>
            </a:prstGeom>
            <a:noFill/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思源黑体 CN Bold"/>
                  <a:ea typeface="思源黑体 CN Bold"/>
                </a:rPr>
                <a:t>好的，那你要多注意休息哦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14"/>
          <p:cNvGrpSpPr/>
          <p:nvPr/>
        </p:nvGrpSpPr>
        <p:grpSpPr>
          <a:xfrm>
            <a:off x="1061280" y="3539880"/>
            <a:ext cx="2560680" cy="763200"/>
            <a:chOff x="1061280" y="3539880"/>
            <a:chExt cx="2560680" cy="763200"/>
          </a:xfrm>
        </p:grpSpPr>
        <p:sp>
          <p:nvSpPr>
            <p:cNvPr id="149" name="圆角矩形标注 22"/>
            <p:cNvSpPr/>
            <p:nvPr/>
          </p:nvSpPr>
          <p:spPr>
            <a:xfrm>
              <a:off x="1061280" y="3539880"/>
              <a:ext cx="2560680" cy="763200"/>
            </a:xfrm>
            <a:prstGeom prst="wedgeRoundRectCallout">
              <a:avLst>
                <a:gd name="adj1" fmla="val 50458"/>
                <a:gd name="adj2" fmla="val -48662"/>
                <a:gd name="adj3" fmla="val 16667"/>
              </a:avLst>
            </a:prstGeom>
            <a:solidFill>
              <a:srgbClr val="ffffff"/>
            </a:solidFill>
            <a:ln w="3175">
              <a:solidFill>
                <a:srgbClr val="07adf0">
                  <a:alpha val="39000"/>
                </a:srgbClr>
              </a:solidFill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150" name="矩形 1"/>
            <p:cNvSpPr/>
            <p:nvPr/>
          </p:nvSpPr>
          <p:spPr>
            <a:xfrm>
              <a:off x="1229040" y="3562920"/>
              <a:ext cx="2284200" cy="363960"/>
            </a:xfrm>
            <a:prstGeom prst="rect">
              <a:avLst/>
            </a:prstGeom>
            <a:noFill/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思源黑体 CN Bold"/>
                  <a:ea typeface="思源黑体 CN Bold"/>
                </a:rPr>
                <a:t>我会的，谢谢您的关心，再见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24"/>
          <p:cNvGrpSpPr/>
          <p:nvPr/>
        </p:nvGrpSpPr>
        <p:grpSpPr>
          <a:xfrm>
            <a:off x="6119640" y="3037320"/>
            <a:ext cx="1054080" cy="594720"/>
            <a:chOff x="6119640" y="3037320"/>
            <a:chExt cx="1054080" cy="594720"/>
          </a:xfrm>
        </p:grpSpPr>
        <p:sp>
          <p:nvSpPr>
            <p:cNvPr id="152" name="圆角矩形标注 27"/>
            <p:cNvSpPr/>
            <p:nvPr/>
          </p:nvSpPr>
          <p:spPr>
            <a:xfrm flipH="1">
              <a:off x="6119640" y="3037320"/>
              <a:ext cx="1054080" cy="594720"/>
            </a:xfrm>
            <a:prstGeom prst="wedgeRoundRectCallout">
              <a:avLst>
                <a:gd name="adj1" fmla="val 70949"/>
                <a:gd name="adj2" fmla="val 4040"/>
                <a:gd name="adj3" fmla="val 16667"/>
              </a:avLst>
            </a:prstGeom>
            <a:solidFill>
              <a:srgbClr val="ffffff"/>
            </a:solidFill>
            <a:ln w="3175">
              <a:solidFill>
                <a:srgbClr val="07adf0">
                  <a:alpha val="39000"/>
                </a:srgbClr>
              </a:solidFill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153" name="矩形 1"/>
            <p:cNvSpPr/>
            <p:nvPr/>
          </p:nvSpPr>
          <p:spPr>
            <a:xfrm flipH="1">
              <a:off x="6119640" y="3120840"/>
              <a:ext cx="892800" cy="363960"/>
            </a:xfrm>
            <a:prstGeom prst="rect">
              <a:avLst/>
            </a:prstGeom>
            <a:noFill/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思源黑体 CN Bold"/>
                  <a:ea typeface="思源黑体 CN Bold"/>
                </a:rPr>
                <a:t>再见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55960" y="293040"/>
            <a:ext cx="1696320" cy="412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7adf0"/>
                </a:solidFill>
                <a:latin typeface="思源黑体 CN Bold"/>
                <a:ea typeface="思源黑体 CN Bold"/>
              </a:rPr>
              <a:t>03    </a:t>
            </a:r>
            <a:r>
              <a:rPr b="0" lang="zh-CN" sz="1500" spc="-1" strike="noStrike">
                <a:solidFill>
                  <a:srgbClr val="07adf0"/>
                </a:solidFill>
                <a:latin typeface="思源黑体 CN Bold"/>
                <a:ea typeface="思源黑体 CN Bold"/>
              </a:rPr>
              <a:t>交际示范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5" name="矩形: 圆角 56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07ad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  <p:sp>
        <p:nvSpPr>
          <p:cNvPr id="156" name="图片 57"/>
          <p:cNvSpPr/>
          <p:nvPr/>
        </p:nvSpPr>
        <p:spPr>
          <a:xfrm>
            <a:off x="3858840" y="900720"/>
            <a:ext cx="1830240" cy="3681000"/>
          </a:xfrm>
          <a:custGeom>
            <a:avLst/>
            <a:gdLst>
              <a:gd name="textAreaLeft" fmla="*/ 0 w 1830240"/>
              <a:gd name="textAreaRight" fmla="*/ 1830600 w 1830240"/>
              <a:gd name="textAreaTop" fmla="*/ 0 h 3681000"/>
              <a:gd name="textAreaBottom" fmla="*/ 3681360 h 3681000"/>
            </a:gdLst>
            <a:ahLst/>
            <a:rect l="textAreaLeft" t="textAreaTop" r="textAreaRight" b="textAreaBottom"/>
            <a:pathLst>
              <a:path w="2440940" h="4921250">
                <a:moveTo>
                  <a:pt x="136923" y="0"/>
                </a:moveTo>
                <a:lnTo>
                  <a:pt x="2304017" y="0"/>
                </a:lnTo>
                <a:cubicBezTo>
                  <a:pt x="2379517" y="0"/>
                  <a:pt x="2440940" y="60960"/>
                  <a:pt x="2440940" y="135890"/>
                </a:cubicBezTo>
                <a:lnTo>
                  <a:pt x="2440940" y="4786630"/>
                </a:lnTo>
                <a:cubicBezTo>
                  <a:pt x="2440940" y="4842828"/>
                  <a:pt x="2406389" y="4891167"/>
                  <a:pt x="2357263" y="4911824"/>
                </a:cubicBezTo>
                <a:lnTo>
                  <a:pt x="2310339" y="4921250"/>
                </a:lnTo>
                <a:lnTo>
                  <a:pt x="130601" y="4921250"/>
                </a:lnTo>
                <a:lnTo>
                  <a:pt x="83678" y="4911824"/>
                </a:lnTo>
                <a:cubicBezTo>
                  <a:pt x="34551" y="4891167"/>
                  <a:pt x="0" y="4842828"/>
                  <a:pt x="0" y="4786630"/>
                </a:cubicBezTo>
                <a:lnTo>
                  <a:pt x="0" y="135890"/>
                </a:lnTo>
                <a:cubicBezTo>
                  <a:pt x="0" y="60960"/>
                  <a:pt x="61424" y="0"/>
                  <a:pt x="136923" y="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组合 24"/>
          <p:cNvGrpSpPr/>
          <p:nvPr/>
        </p:nvGrpSpPr>
        <p:grpSpPr>
          <a:xfrm>
            <a:off x="5516280" y="1354680"/>
            <a:ext cx="2743200" cy="2117160"/>
            <a:chOff x="5516280" y="1354680"/>
            <a:chExt cx="2743200" cy="2117160"/>
          </a:xfrm>
        </p:grpSpPr>
        <p:sp>
          <p:nvSpPr>
            <p:cNvPr id="158" name="云形标注 27"/>
            <p:cNvSpPr/>
            <p:nvPr/>
          </p:nvSpPr>
          <p:spPr>
            <a:xfrm flipH="1">
              <a:off x="5516280" y="1354680"/>
              <a:ext cx="2743200" cy="2117160"/>
            </a:xfrm>
            <a:prstGeom prst="cloudCallout">
              <a:avLst>
                <a:gd name="adj1" fmla="val 20677"/>
                <a:gd name="adj2" fmla="val 60352"/>
              </a:avLst>
            </a:prstGeom>
            <a:solidFill>
              <a:srgbClr val="ffffff"/>
            </a:solidFill>
            <a:ln>
              <a:solidFill>
                <a:srgbClr val="07adf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159" name="矩形 1"/>
            <p:cNvSpPr/>
            <p:nvPr/>
          </p:nvSpPr>
          <p:spPr>
            <a:xfrm flipH="1">
              <a:off x="5990760" y="1630440"/>
              <a:ext cx="177300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思源黑体 CN Bold"/>
                  <a:ea typeface="思源黑体 CN Bold"/>
                </a:rPr>
                <a:t>您好，叔叔，我是蒙蒙，爸爸不在家，待会他回来了我转告他，让他打给您好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30"/>
          <p:cNvGrpSpPr/>
          <p:nvPr/>
        </p:nvGrpSpPr>
        <p:grpSpPr>
          <a:xfrm>
            <a:off x="1252080" y="1537200"/>
            <a:ext cx="1668600" cy="1220400"/>
            <a:chOff x="1252080" y="1537200"/>
            <a:chExt cx="1668600" cy="1220400"/>
          </a:xfrm>
        </p:grpSpPr>
        <p:sp>
          <p:nvSpPr>
            <p:cNvPr id="161" name="云形标注 31"/>
            <p:cNvSpPr/>
            <p:nvPr/>
          </p:nvSpPr>
          <p:spPr>
            <a:xfrm flipH="1">
              <a:off x="1251720" y="1537200"/>
              <a:ext cx="1668600" cy="122040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ffffff"/>
            </a:solidFill>
            <a:ln>
              <a:solidFill>
                <a:srgbClr val="07adf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162" name="矩形 1"/>
            <p:cNvSpPr/>
            <p:nvPr/>
          </p:nvSpPr>
          <p:spPr>
            <a:xfrm flipH="1">
              <a:off x="1395360" y="1775160"/>
              <a:ext cx="14526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思源黑体 CN Bold"/>
                  <a:ea typeface="思源黑体 CN Bold"/>
                </a:rPr>
                <a:t>你好，请问是王大哥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33"/>
          <p:cNvGrpSpPr/>
          <p:nvPr/>
        </p:nvGrpSpPr>
        <p:grpSpPr>
          <a:xfrm>
            <a:off x="1320840" y="3120840"/>
            <a:ext cx="1005120" cy="650520"/>
            <a:chOff x="1320840" y="3120840"/>
            <a:chExt cx="1005120" cy="650520"/>
          </a:xfrm>
        </p:grpSpPr>
        <p:sp>
          <p:nvSpPr>
            <p:cNvPr id="164" name="云形标注 34"/>
            <p:cNvSpPr/>
            <p:nvPr/>
          </p:nvSpPr>
          <p:spPr>
            <a:xfrm flipH="1">
              <a:off x="1320840" y="3120840"/>
              <a:ext cx="1005120" cy="650520"/>
            </a:xfrm>
            <a:prstGeom prst="cloudCallout">
              <a:avLst>
                <a:gd name="adj1" fmla="val -70069"/>
                <a:gd name="adj2" fmla="val 16685"/>
              </a:avLst>
            </a:prstGeom>
            <a:solidFill>
              <a:srgbClr val="ffffff"/>
            </a:solidFill>
            <a:ln>
              <a:solidFill>
                <a:srgbClr val="07adf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165" name="矩形 35"/>
            <p:cNvSpPr/>
            <p:nvPr/>
          </p:nvSpPr>
          <p:spPr>
            <a:xfrm flipH="1">
              <a:off x="1320480" y="3299760"/>
              <a:ext cx="896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思源黑体 CN Bold"/>
                  <a:ea typeface="思源黑体 CN Bold"/>
                </a:rPr>
                <a:t>好的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5960" y="293040"/>
            <a:ext cx="1696320" cy="412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7adf0"/>
                </a:solidFill>
                <a:latin typeface="思源黑体 CN Bold"/>
                <a:ea typeface="思源黑体 CN Bold"/>
              </a:rPr>
              <a:t>03    </a:t>
            </a:r>
            <a:r>
              <a:rPr b="0" lang="zh-CN" sz="1500" spc="-1" strike="noStrike">
                <a:solidFill>
                  <a:srgbClr val="07adf0"/>
                </a:solidFill>
                <a:latin typeface="思源黑体 CN Bold"/>
                <a:ea typeface="思源黑体 CN Bold"/>
              </a:rPr>
              <a:t>交际示范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7" name="矩形: 圆角 53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07ad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  <p:sp>
        <p:nvSpPr>
          <p:cNvPr id="168" name="图片 54"/>
          <p:cNvSpPr/>
          <p:nvPr/>
        </p:nvSpPr>
        <p:spPr>
          <a:xfrm>
            <a:off x="3341520" y="900720"/>
            <a:ext cx="1830240" cy="3681000"/>
          </a:xfrm>
          <a:custGeom>
            <a:avLst/>
            <a:gdLst>
              <a:gd name="textAreaLeft" fmla="*/ 0 w 1830240"/>
              <a:gd name="textAreaRight" fmla="*/ 1830600 w 1830240"/>
              <a:gd name="textAreaTop" fmla="*/ 0 h 3681000"/>
              <a:gd name="textAreaBottom" fmla="*/ 3681360 h 3681000"/>
            </a:gdLst>
            <a:ahLst/>
            <a:rect l="textAreaLeft" t="textAreaTop" r="textAreaRight" b="textAreaBottom"/>
            <a:pathLst>
              <a:path w="2440940" h="4921250">
                <a:moveTo>
                  <a:pt x="136923" y="0"/>
                </a:moveTo>
                <a:lnTo>
                  <a:pt x="2304017" y="0"/>
                </a:lnTo>
                <a:cubicBezTo>
                  <a:pt x="2379517" y="0"/>
                  <a:pt x="2440940" y="60960"/>
                  <a:pt x="2440940" y="135890"/>
                </a:cubicBezTo>
                <a:lnTo>
                  <a:pt x="2440940" y="4786630"/>
                </a:lnTo>
                <a:cubicBezTo>
                  <a:pt x="2440940" y="4842828"/>
                  <a:pt x="2406389" y="4891167"/>
                  <a:pt x="2357263" y="4911824"/>
                </a:cubicBezTo>
                <a:lnTo>
                  <a:pt x="2310339" y="4921250"/>
                </a:lnTo>
                <a:lnTo>
                  <a:pt x="130601" y="4921250"/>
                </a:lnTo>
                <a:lnTo>
                  <a:pt x="83678" y="4911824"/>
                </a:lnTo>
                <a:cubicBezTo>
                  <a:pt x="34551" y="4891167"/>
                  <a:pt x="0" y="4842828"/>
                  <a:pt x="0" y="4786630"/>
                </a:cubicBezTo>
                <a:lnTo>
                  <a:pt x="0" y="135890"/>
                </a:lnTo>
                <a:cubicBezTo>
                  <a:pt x="0" y="60960"/>
                  <a:pt x="61424" y="0"/>
                  <a:pt x="136923" y="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  <Words>1076</Words>
  <Paragraphs>9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5T01:58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20-09-15T08:34:23Z</dcterms:modified>
  <cp:revision>2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  <property fmtid="{D5CDD505-2E9C-101B-9397-08002B2CF9AE}" pid="3" name="Notes">
    <vt:r8>9</vt:r8>
  </property>
  <property fmtid="{D5CDD505-2E9C-101B-9397-08002B2CF9AE}" pid="4" name="PresentationFormat">
    <vt:lpwstr>全屏显示(16:9)</vt:lpwstr>
  </property>
  <property fmtid="{D5CDD505-2E9C-101B-9397-08002B2CF9AE}" pid="5" name="Slides">
    <vt:r8>12</vt:r8>
  </property>
</Properties>
</file>