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4.png" ContentType="image/png"/>
  <Override PartName="/ppt/media/image8.jpeg" ContentType="image/jpeg"/>
  <Override PartName="/ppt/media/image1.png" ContentType="image/png"/>
  <Override PartName="/ppt/media/image2.png" ContentType="image/png"/>
  <Override PartName="/ppt/media/audio1.wav" ContentType="audio/x-wav"/>
  <Override PartName="/ppt/media/image11.jpeg" ContentType="image/jpeg"/>
  <Override PartName="/ppt/media/image9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E8574F-5FA5-4119-9653-B7BF815D7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289558-36E0-4E24-946A-8AF942537F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957C93-4967-4900-B9CC-F3C85EED86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F1B-284E-4A9F-B962-0D22B4D6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586-2D4E-4BDE-A918-AA1C5A36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79A-C81C-46A5-AD11-DC473850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07C-0F2B-46CB-B3F7-3DF63AD9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335-2248-44B2-9EC0-5F2D488A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0254-D9CD-48D1-9E61-E74A51EF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DC74-73D8-4F5F-AA62-2AA25809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97FE-2977-4B29-A329-544C2A1A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A289-CE78-49BC-9AEE-503CF261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4AF7-6BF6-40F8-9B92-DBD5F02C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A0E-ABA7-42AA-9001-4351F6B1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CEAD-6AB3-43D2-AA34-DC864045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9FAF-2B2E-484F-8DBD-55BAB734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3BAA-A209-47DC-A5E5-24682E95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9635-4648-4988-A69C-2EE83DB5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5C77-5B00-403B-BCBC-5ED6A224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1EBF-C22B-41E4-9BC2-C8A55269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3F95-BF10-4EBC-B79D-48194400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477-E5CF-4CBC-BB74-037DF0BF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ED6-47E2-4D9C-9BBE-9C72C770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909-DA6A-4982-B200-DDD0314F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792-7CB0-48D5-97B9-F2B587B8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449-E904-4FD4-9E5C-AFF7EFCB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226-4A58-4EA3-A551-A114420C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-9360" y="895320"/>
            <a:ext cx="6105240" cy="3701520"/>
          </a:xfrm>
          <a:prstGeom prst="rect">
            <a:avLst/>
          </a:prstGeom>
          <a:ln w="0">
            <a:noFill/>
          </a:ln>
        </p:spPr>
      </p:pic>
      <p:sp>
        <p:nvSpPr>
          <p:cNvPr id="2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3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4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5548320" y="281160"/>
            <a:ext cx="241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北京师范大学出版社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二年级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  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7" name="图片 28" descr=""/>
          <p:cNvPicPr/>
          <p:nvPr/>
        </p:nvPicPr>
        <p:blipFill>
          <a:blip r:embed="rId4"/>
          <a:srcRect l="0" t="0" r="0" b="-88"/>
          <a:stretch/>
        </p:blipFill>
        <p:spPr>
          <a:xfrm>
            <a:off x="-9360" y="895320"/>
            <a:ext cx="6105240" cy="3701520"/>
          </a:xfrm>
          <a:prstGeom prst="rect">
            <a:avLst/>
          </a:prstGeom>
          <a:ln w="0">
            <a:noFill/>
          </a:ln>
        </p:spPr>
      </p:pic>
      <p:sp>
        <p:nvSpPr>
          <p:cNvPr id="8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9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0" name="图片 6" descr=""/>
          <p:cNvPicPr/>
          <p:nvPr/>
        </p:nvPicPr>
        <p:blipFill>
          <a:blip r:embed="rId5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0">
            <a:noFill/>
          </a:ln>
        </p:spPr>
      </p:pic>
      <p:sp>
        <p:nvSpPr>
          <p:cNvPr id="11" name="矩形 8"/>
          <p:cNvSpPr/>
          <p:nvPr/>
        </p:nvSpPr>
        <p:spPr>
          <a:xfrm>
            <a:off x="5548320" y="281160"/>
            <a:ext cx="241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北京师范大学出版社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二年级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  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1342C6-5EEC-44C1-8250-52192905B37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4"/>
          <p:cNvSpPr/>
          <p:nvPr/>
        </p:nvSpPr>
        <p:spPr>
          <a:xfrm>
            <a:off x="0" y="171720"/>
            <a:ext cx="9143640" cy="52128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54" name="图片 21" descr=""/>
          <p:cNvPicPr/>
          <p:nvPr/>
        </p:nvPicPr>
        <p:blipFill>
          <a:blip r:embed="rId2"/>
          <a:stretch/>
        </p:blipFill>
        <p:spPr>
          <a:xfrm>
            <a:off x="1675080" y="190440"/>
            <a:ext cx="7468560" cy="5202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8" descr=""/>
          <p:cNvPicPr/>
          <p:nvPr/>
        </p:nvPicPr>
        <p:blipFill>
          <a:blip r:embed="rId3"/>
          <a:stretch/>
        </p:blipFill>
        <p:spPr>
          <a:xfrm>
            <a:off x="8504640" y="252360"/>
            <a:ext cx="392400" cy="363240"/>
          </a:xfrm>
          <a:prstGeom prst="rect">
            <a:avLst/>
          </a:prstGeom>
          <a:ln w="0">
            <a:noFill/>
          </a:ln>
        </p:spPr>
      </p:pic>
      <p:sp>
        <p:nvSpPr>
          <p:cNvPr id="56" name="矩形 8"/>
          <p:cNvSpPr/>
          <p:nvPr/>
        </p:nvSpPr>
        <p:spPr>
          <a:xfrm>
            <a:off x="5548320" y="281160"/>
            <a:ext cx="241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北京师范大学出版社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二年级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  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4"/>
          <p:cNvSpPr/>
          <p:nvPr/>
        </p:nvSpPr>
        <p:spPr>
          <a:xfrm>
            <a:off x="0" y="171720"/>
            <a:ext cx="9143640" cy="52128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96" name="图片 21" descr=""/>
          <p:cNvPicPr/>
          <p:nvPr/>
        </p:nvPicPr>
        <p:blipFill>
          <a:blip r:embed="rId2"/>
          <a:stretch/>
        </p:blipFill>
        <p:spPr>
          <a:xfrm>
            <a:off x="1675080" y="190440"/>
            <a:ext cx="7468560" cy="5202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8" descr=""/>
          <p:cNvPicPr/>
          <p:nvPr/>
        </p:nvPicPr>
        <p:blipFill>
          <a:blip r:embed="rId3"/>
          <a:stretch/>
        </p:blipFill>
        <p:spPr>
          <a:xfrm>
            <a:off x="8504640" y="252360"/>
            <a:ext cx="392400" cy="363240"/>
          </a:xfrm>
          <a:prstGeom prst="rect">
            <a:avLst/>
          </a:prstGeom>
          <a:ln w="0">
            <a:noFill/>
          </a:ln>
        </p:spPr>
      </p:pic>
      <p:sp>
        <p:nvSpPr>
          <p:cNvPr id="98" name="矩形 8"/>
          <p:cNvSpPr/>
          <p:nvPr/>
        </p:nvSpPr>
        <p:spPr>
          <a:xfrm>
            <a:off x="5548320" y="281160"/>
            <a:ext cx="241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北京师范大学出版社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二年级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  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0" y="171720"/>
            <a:ext cx="9143640" cy="52128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00" name="图片 21" descr=""/>
          <p:cNvPicPr/>
          <p:nvPr/>
        </p:nvPicPr>
        <p:blipFill>
          <a:blip r:embed="rId4"/>
          <a:stretch/>
        </p:blipFill>
        <p:spPr>
          <a:xfrm>
            <a:off x="1675080" y="190440"/>
            <a:ext cx="7468560" cy="5202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8" descr=""/>
          <p:cNvPicPr/>
          <p:nvPr/>
        </p:nvPicPr>
        <p:blipFill>
          <a:blip r:embed="rId5"/>
          <a:stretch/>
        </p:blipFill>
        <p:spPr>
          <a:xfrm>
            <a:off x="8504640" y="252360"/>
            <a:ext cx="392400" cy="363240"/>
          </a:xfrm>
          <a:prstGeom prst="rect">
            <a:avLst/>
          </a:prstGeom>
          <a:ln w="0">
            <a:noFill/>
          </a:ln>
        </p:spPr>
      </p:pic>
      <p:sp>
        <p:nvSpPr>
          <p:cNvPr id="102" name="矩形 8"/>
          <p:cNvSpPr/>
          <p:nvPr/>
        </p:nvSpPr>
        <p:spPr>
          <a:xfrm>
            <a:off x="5548320" y="281160"/>
            <a:ext cx="241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北京师范大学出版社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二年级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  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BA17361-96F2-4299-8FDB-7F8A60339E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audio" Target="../media/audio1.wav"/><Relationship Id="rId12" Type="http://schemas.openxmlformats.org/officeDocument/2006/relationships/audio" Target="../media/audio1.wav"/><Relationship Id="rId13" Type="http://schemas.openxmlformats.org/officeDocument/2006/relationships/audio" Target="../media/audio1.wav"/><Relationship Id="rId14" Type="http://schemas.openxmlformats.org/officeDocument/2006/relationships/audio" Target="../media/audio1.wav"/><Relationship Id="rId15" Type="http://schemas.openxmlformats.org/officeDocument/2006/relationships/audio" Target="../media/audio1.wav"/><Relationship Id="rId16" Type="http://schemas.openxmlformats.org/officeDocument/2006/relationships/audio" Target="../media/audio1.wav"/><Relationship Id="rId17" Type="http://schemas.openxmlformats.org/officeDocument/2006/relationships/audio" Target="../media/audio1.wav"/><Relationship Id="rId18" Type="http://schemas.openxmlformats.org/officeDocument/2006/relationships/audio" Target="../media/audio1.wav"/><Relationship Id="rId19" Type="http://schemas.openxmlformats.org/officeDocument/2006/relationships/audio" Target="../media/audio1.wav"/><Relationship Id="rId2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grpSp>
        <p:nvGrpSpPr>
          <p:cNvPr id="151" name="组合 8"/>
          <p:cNvGrpSpPr/>
          <p:nvPr/>
        </p:nvGrpSpPr>
        <p:grpSpPr>
          <a:xfrm>
            <a:off x="1477440" y="1807560"/>
            <a:ext cx="3240360" cy="1799640"/>
            <a:chOff x="1477440" y="1807560"/>
            <a:chExt cx="3240360" cy="1799640"/>
          </a:xfrm>
        </p:grpSpPr>
        <p:sp>
          <p:nvSpPr>
            <p:cNvPr id="152" name="矩形 16"/>
            <p:cNvSpPr/>
            <p:nvPr/>
          </p:nvSpPr>
          <p:spPr>
            <a:xfrm>
              <a:off x="1733760" y="1807560"/>
              <a:ext cx="2842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二单元</a:t>
              </a:r>
              <a:r>
                <a:rPr b="1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妈妈</a:t>
              </a:r>
              <a:r>
                <a:rPr b="1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二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2"/>
            <p:cNvSpPr/>
            <p:nvPr/>
          </p:nvSpPr>
          <p:spPr>
            <a:xfrm>
              <a:off x="1477440" y="2603160"/>
              <a:ext cx="324036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6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儿子们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图片 5" descr="探究式教学【素材】《儿子们》课文插图（北师大）.png"/>
          <p:cNvPicPr/>
          <p:nvPr/>
        </p:nvPicPr>
        <p:blipFill>
          <a:blip r:embed="rId1"/>
          <a:stretch/>
        </p:blipFill>
        <p:spPr>
          <a:xfrm>
            <a:off x="5992560" y="3849120"/>
            <a:ext cx="3151080" cy="2356920"/>
          </a:xfrm>
          <a:prstGeom prst="rect">
            <a:avLst/>
          </a:prstGeom>
          <a:ln w="0">
            <a:noFill/>
          </a:ln>
        </p:spPr>
      </p:pic>
      <p:sp>
        <p:nvSpPr>
          <p:cNvPr id="155" name="矩形 6"/>
          <p:cNvSpPr/>
          <p:nvPr/>
        </p:nvSpPr>
        <p:spPr>
          <a:xfrm>
            <a:off x="1455480" y="56091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3"/>
          <p:cNvSpPr/>
          <p:nvPr/>
        </p:nvSpPr>
        <p:spPr>
          <a:xfrm>
            <a:off x="0" y="2558880"/>
            <a:ext cx="9143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那儿子唱起歌来赛过黄莺，谁都没他嗓子好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33200" y="126360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2833560" y="1722600"/>
            <a:ext cx="307260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二个儿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849120" y="4302000"/>
            <a:ext cx="294660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唱歌好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8" descr="探究式教学【素材】《儿子们》黄莺（北师大）.jpg"/>
          <p:cNvPicPr/>
          <p:nvPr/>
        </p:nvPicPr>
        <p:blipFill>
          <a:blip r:embed="rId1"/>
          <a:stretch/>
        </p:blipFill>
        <p:spPr>
          <a:xfrm>
            <a:off x="341640" y="3735360"/>
            <a:ext cx="33476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3"/>
          <p:cNvSpPr/>
          <p:nvPr/>
        </p:nvSpPr>
        <p:spPr>
          <a:xfrm>
            <a:off x="1007280" y="3195720"/>
            <a:ext cx="76852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啥可说的？他没什么出奇的地方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33200" y="126360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2961000" y="2203560"/>
            <a:ext cx="303948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三个儿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3195720" y="5008680"/>
            <a:ext cx="294516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没什么特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3"/>
          <p:cNvSpPr/>
          <p:nvPr/>
        </p:nvSpPr>
        <p:spPr>
          <a:xfrm>
            <a:off x="498960" y="3224160"/>
            <a:ext cx="8229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妈妈打了水，提着水桶回家，那个老爷爷也站起身，跟在后面。一桶水可重啦！三个妈妈走走停停，手都痛了，腰也累得直不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133200" y="126360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498960" y="1911240"/>
            <a:ext cx="818280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妈妈们在干什么？（从哪些词语可以看出妈妈们特别需要帮助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202320" y="5361120"/>
            <a:ext cx="149616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969200" y="5430960"/>
            <a:ext cx="209880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走走停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4545720" y="5437080"/>
            <a:ext cx="92484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5923440" y="5465880"/>
            <a:ext cx="286668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累得直不起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3"/>
          <p:cNvSpPr/>
          <p:nvPr/>
        </p:nvSpPr>
        <p:spPr>
          <a:xfrm>
            <a:off x="513000" y="2930400"/>
            <a:ext cx="78710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忽然，迎面跑来三个孩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个孩子跑到妈妈跟前，翻着跟头，像车轮子在转，真好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二个孩子跑到妈妈跟前，唱起歌来，像黄莺一样，真好听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三个孩子跑到妈妈跟前，接过妈妈手里沉甸甸的水桶，提着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妈妈得意地对老爷爷说：“您看见了吧，这就是我们的三个儿子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哦，有三个儿子？”老爷爷说，“我怎么好像只看见一个儿子呢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33200" y="126360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133200" y="1974960"/>
            <a:ext cx="892800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默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——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，三个儿子是怎么做的？（用喜欢的符号勾画出来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"/>
          <p:cNvSpPr/>
          <p:nvPr/>
        </p:nvSpPr>
        <p:spPr>
          <a:xfrm>
            <a:off x="498960" y="2808360"/>
            <a:ext cx="8229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翻着跟头，像车轮子在转，真好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33200" y="126360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2837160" y="1995480"/>
            <a:ext cx="303804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个儿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5470920" y="4530600"/>
            <a:ext cx="137124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比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7" descr="探究式教学【素材】《儿子们》翻跟头（北师大）.jpg"/>
          <p:cNvPicPr/>
          <p:nvPr/>
        </p:nvPicPr>
        <p:blipFill>
          <a:blip r:embed="rId1"/>
          <a:stretch/>
        </p:blipFill>
        <p:spPr>
          <a:xfrm>
            <a:off x="619200" y="3911760"/>
            <a:ext cx="2840400" cy="25300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8"/>
          <p:cNvSpPr/>
          <p:nvPr/>
        </p:nvSpPr>
        <p:spPr>
          <a:xfrm>
            <a:off x="3662280" y="5638680"/>
            <a:ext cx="548136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翻着的跟头比作车轮子在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3"/>
          <p:cNvSpPr/>
          <p:nvPr/>
        </p:nvSpPr>
        <p:spPr>
          <a:xfrm>
            <a:off x="1668240" y="2600280"/>
            <a:ext cx="6420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唱起歌来，像黄莺一样，真好听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33200" y="126360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2868120" y="1766880"/>
            <a:ext cx="303804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二个儿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4503960" y="4094280"/>
            <a:ext cx="134028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比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8" descr="探究式教学【素材】《儿子们》黄莺（北师大）.jpg"/>
          <p:cNvPicPr/>
          <p:nvPr/>
        </p:nvPicPr>
        <p:blipFill>
          <a:blip r:embed="rId1"/>
          <a:stretch/>
        </p:blipFill>
        <p:spPr>
          <a:xfrm>
            <a:off x="271440" y="3597120"/>
            <a:ext cx="3347640" cy="29700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0"/>
          <p:cNvSpPr/>
          <p:nvPr/>
        </p:nvSpPr>
        <p:spPr>
          <a:xfrm>
            <a:off x="3727800" y="5240160"/>
            <a:ext cx="473724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唱歌好听比作黄莺在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3"/>
          <p:cNvSpPr/>
          <p:nvPr/>
        </p:nvSpPr>
        <p:spPr>
          <a:xfrm>
            <a:off x="747720" y="2351160"/>
            <a:ext cx="79959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接过妈妈手里沉甸甸的水桶，提着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33200" y="126360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3039840" y="1517760"/>
            <a:ext cx="303804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三个儿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7" descr="探究式教学【素材】《儿子们》课文插图（北师大）.png"/>
          <p:cNvPicPr/>
          <p:nvPr/>
        </p:nvPicPr>
        <p:blipFill>
          <a:blip r:embed="rId1"/>
          <a:stretch/>
        </p:blipFill>
        <p:spPr>
          <a:xfrm>
            <a:off x="2786040" y="3378240"/>
            <a:ext cx="3291840" cy="30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"/>
          <p:cNvSpPr/>
          <p:nvPr/>
        </p:nvSpPr>
        <p:spPr>
          <a:xfrm>
            <a:off x="0" y="3452760"/>
            <a:ext cx="9143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老爷爷只看到一个懂事的、孝敬父母的孩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133200" y="126360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437040" y="1954080"/>
            <a:ext cx="804096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老爷爷说：“我怎么好像只看见一个儿子呢！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2"/>
          <p:cNvSpPr/>
          <p:nvPr/>
        </p:nvSpPr>
        <p:spPr>
          <a:xfrm>
            <a:off x="604800" y="1565280"/>
            <a:ext cx="799956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想一想，我们怎样做才算是孝敬父母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225000" y="92232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协作交流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7" descr="探究式教学【素材】《儿子们》帮忙摘菜（北师大）.jpg"/>
          <p:cNvPicPr/>
          <p:nvPr/>
        </p:nvPicPr>
        <p:blipFill>
          <a:blip r:embed="rId1"/>
          <a:stretch/>
        </p:blipFill>
        <p:spPr>
          <a:xfrm>
            <a:off x="2914560" y="2751120"/>
            <a:ext cx="3431160" cy="27284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8" descr="探究式教学【素材】《儿子们》给妈妈捶背（北师大）.jpg"/>
          <p:cNvPicPr/>
          <p:nvPr/>
        </p:nvPicPr>
        <p:blipFill>
          <a:blip r:embed="rId2"/>
          <a:stretch/>
        </p:blipFill>
        <p:spPr>
          <a:xfrm>
            <a:off x="5423400" y="3719520"/>
            <a:ext cx="3301200" cy="26604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9" descr="探究式教学【素材】《儿子们》给妈妈洗脚（北师大）.jpg"/>
          <p:cNvPicPr/>
          <p:nvPr/>
        </p:nvPicPr>
        <p:blipFill>
          <a:blip r:embed="rId3"/>
          <a:stretch/>
        </p:blipFill>
        <p:spPr>
          <a:xfrm>
            <a:off x="636840" y="2378160"/>
            <a:ext cx="1835640" cy="40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2"/>
          <p:cNvSpPr/>
          <p:nvPr/>
        </p:nvSpPr>
        <p:spPr>
          <a:xfrm>
            <a:off x="721440" y="2060640"/>
            <a:ext cx="7794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到这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师想起了《三字经》里的一句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孝于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所当执。老师希望我们班的同学都做一个孝敬父母的孩子，不要等到父母老了再来想着孝敬父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225000" y="92232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总结提高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0" y="107316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创设情境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"/>
          <p:cNvSpPr/>
          <p:nvPr/>
        </p:nvSpPr>
        <p:spPr>
          <a:xfrm>
            <a:off x="358200" y="2093760"/>
            <a:ext cx="805320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歌曲中的小朋友多疼爱自己的父母哇！你们喜欢？今天我们课堂上来了三位小朋友，他们又是怎样做的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225000" y="92232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课外延伸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9"/>
          <p:cNvSpPr/>
          <p:nvPr/>
        </p:nvSpPr>
        <p:spPr>
          <a:xfrm>
            <a:off x="1262160" y="1792800"/>
            <a:ext cx="59932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游子吟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唐】孟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慈母手中线，游子身上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临行密密缝，意恐迟迟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谁言寸草心，报得三春晖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2"/>
          <p:cNvSpPr/>
          <p:nvPr/>
        </p:nvSpPr>
        <p:spPr>
          <a:xfrm>
            <a:off x="1872720" y="1612800"/>
            <a:ext cx="528588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妈妈和儿子们之间会发生什么有趣的事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170280" y="1028880"/>
            <a:ext cx="409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启发思考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5" descr="探究式教学【素材】《儿子们》课文插图（北师大）.png"/>
          <p:cNvPicPr/>
          <p:nvPr/>
        </p:nvPicPr>
        <p:blipFill>
          <a:blip r:embed="rId1"/>
          <a:stretch/>
        </p:blipFill>
        <p:spPr>
          <a:xfrm>
            <a:off x="2964240" y="3574440"/>
            <a:ext cx="3914280" cy="29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53720" y="1168560"/>
            <a:ext cx="534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初读课文，学习生字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"/>
          <p:cNvSpPr/>
          <p:nvPr/>
        </p:nvSpPr>
        <p:spPr>
          <a:xfrm>
            <a:off x="0" y="2308680"/>
            <a:ext cx="8883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歇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着       黄莺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ī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  嗓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ǎ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子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啥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   井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ǐ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边      第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一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桶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ǒ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 孩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疼痛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ó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沉甸甸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ià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走走停停 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í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BAM010488"/>
          <p:cNvPicPr/>
          <p:nvPr/>
        </p:nvPicPr>
        <p:blipFill>
          <a:blip r:embed="rId1"/>
          <a:stretch/>
        </p:blipFill>
        <p:spPr>
          <a:xfrm>
            <a:off x="1069200" y="693720"/>
            <a:ext cx="6066000" cy="616392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4"/>
          <p:cNvGrpSpPr/>
          <p:nvPr/>
        </p:nvGrpSpPr>
        <p:grpSpPr>
          <a:xfrm>
            <a:off x="3070800" y="799920"/>
            <a:ext cx="1100160" cy="1191960"/>
            <a:chOff x="3070800" y="799920"/>
            <a:chExt cx="1100160" cy="1191960"/>
          </a:xfrm>
        </p:grpSpPr>
        <p:pic>
          <p:nvPicPr>
            <p:cNvPr id="165" name="Picture 5" descr="未标题-1"/>
            <p:cNvPicPr/>
            <p:nvPr/>
          </p:nvPicPr>
          <p:blipFill>
            <a:blip r:embed="rId2"/>
            <a:stretch/>
          </p:blipFill>
          <p:spPr>
            <a:xfrm rot="4834800">
              <a:off x="3094560" y="925560"/>
              <a:ext cx="1052280" cy="9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6"/>
            <p:cNvSpPr/>
            <p:nvPr/>
          </p:nvSpPr>
          <p:spPr>
            <a:xfrm>
              <a:off x="3290040" y="1143720"/>
              <a:ext cx="8136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嗓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7"/>
          <p:cNvGrpSpPr/>
          <p:nvPr/>
        </p:nvGrpSpPr>
        <p:grpSpPr>
          <a:xfrm>
            <a:off x="5198400" y="2729160"/>
            <a:ext cx="1692000" cy="1546200"/>
            <a:chOff x="5198400" y="2729160"/>
            <a:chExt cx="1692000" cy="1546200"/>
          </a:xfrm>
        </p:grpSpPr>
        <p:pic>
          <p:nvPicPr>
            <p:cNvPr id="168" name="Picture 8" descr="未标题-1"/>
            <p:cNvPicPr/>
            <p:nvPr/>
          </p:nvPicPr>
          <p:blipFill>
            <a:blip r:embed="rId3"/>
            <a:stretch/>
          </p:blipFill>
          <p:spPr>
            <a:xfrm rot="17754000">
              <a:off x="5517360" y="2817360"/>
              <a:ext cx="1053720" cy="13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9"/>
            <p:cNvSpPr/>
            <p:nvPr/>
          </p:nvSpPr>
          <p:spPr>
            <a:xfrm>
              <a:off x="5569200" y="3282480"/>
              <a:ext cx="1105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沉甸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5535360" y="1448640"/>
            <a:ext cx="1273680" cy="1414440"/>
            <a:chOff x="5535360" y="1448640"/>
            <a:chExt cx="1273680" cy="1414440"/>
          </a:xfrm>
        </p:grpSpPr>
        <p:pic>
          <p:nvPicPr>
            <p:cNvPr id="171" name="Picture 11" descr="未标题-1"/>
            <p:cNvPicPr/>
            <p:nvPr/>
          </p:nvPicPr>
          <p:blipFill>
            <a:blip r:embed="rId4"/>
            <a:stretch/>
          </p:blipFill>
          <p:spPr>
            <a:xfrm rot="4834800">
              <a:off x="5545080" y="1613880"/>
              <a:ext cx="1253880" cy="10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2"/>
            <p:cNvSpPr/>
            <p:nvPr/>
          </p:nvSpPr>
          <p:spPr>
            <a:xfrm>
              <a:off x="5904360" y="1870560"/>
              <a:ext cx="7117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水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3"/>
          <p:cNvGrpSpPr/>
          <p:nvPr/>
        </p:nvGrpSpPr>
        <p:grpSpPr>
          <a:xfrm>
            <a:off x="2147400" y="1623960"/>
            <a:ext cx="1141920" cy="1349280"/>
            <a:chOff x="2147400" y="1623960"/>
            <a:chExt cx="1141920" cy="1349280"/>
          </a:xfrm>
        </p:grpSpPr>
        <p:pic>
          <p:nvPicPr>
            <p:cNvPr id="174" name="Picture 14" descr="未标题-1"/>
            <p:cNvPicPr/>
            <p:nvPr/>
          </p:nvPicPr>
          <p:blipFill>
            <a:blip r:embed="rId5"/>
            <a:stretch/>
          </p:blipFill>
          <p:spPr>
            <a:xfrm rot="4834800">
              <a:off x="2112480" y="1820880"/>
              <a:ext cx="12092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5"/>
            <p:cNvSpPr/>
            <p:nvPr/>
          </p:nvSpPr>
          <p:spPr>
            <a:xfrm>
              <a:off x="2436120" y="1964520"/>
              <a:ext cx="853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黄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6"/>
          <p:cNvGrpSpPr/>
          <p:nvPr/>
        </p:nvGrpSpPr>
        <p:grpSpPr>
          <a:xfrm>
            <a:off x="3244680" y="2076120"/>
            <a:ext cx="1180800" cy="1209960"/>
            <a:chOff x="3244680" y="2076120"/>
            <a:chExt cx="1180800" cy="1209960"/>
          </a:xfrm>
        </p:grpSpPr>
        <p:pic>
          <p:nvPicPr>
            <p:cNvPr id="177" name="Picture 17" descr="未标题-1"/>
            <p:cNvPicPr/>
            <p:nvPr/>
          </p:nvPicPr>
          <p:blipFill>
            <a:blip r:embed="rId6"/>
            <a:stretch/>
          </p:blipFill>
          <p:spPr>
            <a:xfrm rot="4834800">
              <a:off x="3306240" y="2170080"/>
              <a:ext cx="1056960" cy="10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8"/>
            <p:cNvSpPr/>
            <p:nvPr/>
          </p:nvSpPr>
          <p:spPr>
            <a:xfrm>
              <a:off x="3413880" y="2414520"/>
              <a:ext cx="798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疼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2"/>
          <p:cNvGrpSpPr/>
          <p:nvPr/>
        </p:nvGrpSpPr>
        <p:grpSpPr>
          <a:xfrm>
            <a:off x="2963160" y="3112920"/>
            <a:ext cx="1785600" cy="1527840"/>
            <a:chOff x="2963160" y="3112920"/>
            <a:chExt cx="1785600" cy="1527840"/>
          </a:xfrm>
        </p:grpSpPr>
        <p:pic>
          <p:nvPicPr>
            <p:cNvPr id="180" name="Picture 23" descr="未标题-1"/>
            <p:cNvPicPr/>
            <p:nvPr/>
          </p:nvPicPr>
          <p:blipFill>
            <a:blip r:embed="rId7"/>
            <a:stretch/>
          </p:blipFill>
          <p:spPr>
            <a:xfrm rot="17754000">
              <a:off x="3293280" y="3187440"/>
              <a:ext cx="1028880" cy="137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24"/>
            <p:cNvSpPr/>
            <p:nvPr/>
          </p:nvSpPr>
          <p:spPr>
            <a:xfrm>
              <a:off x="3490920" y="3566160"/>
              <a:ext cx="125784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得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5"/>
          <p:cNvGrpSpPr/>
          <p:nvPr/>
        </p:nvGrpSpPr>
        <p:grpSpPr>
          <a:xfrm>
            <a:off x="1554120" y="2813760"/>
            <a:ext cx="1724760" cy="1494360"/>
            <a:chOff x="1554120" y="2813760"/>
            <a:chExt cx="1724760" cy="1494360"/>
          </a:xfrm>
        </p:grpSpPr>
        <p:pic>
          <p:nvPicPr>
            <p:cNvPr id="183" name="Picture 26" descr="未标题-1"/>
            <p:cNvPicPr/>
            <p:nvPr/>
          </p:nvPicPr>
          <p:blipFill>
            <a:blip r:embed="rId8"/>
            <a:stretch/>
          </p:blipFill>
          <p:spPr>
            <a:xfrm rot="17754000">
              <a:off x="1823040" y="2932920"/>
              <a:ext cx="105120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27"/>
            <p:cNvSpPr/>
            <p:nvPr/>
          </p:nvSpPr>
          <p:spPr>
            <a:xfrm>
              <a:off x="1993320" y="3245040"/>
              <a:ext cx="1285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扇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28"/>
          <p:cNvGrpSpPr/>
          <p:nvPr/>
        </p:nvGrpSpPr>
        <p:grpSpPr>
          <a:xfrm>
            <a:off x="4150080" y="1002600"/>
            <a:ext cx="1816920" cy="1684800"/>
            <a:chOff x="4150080" y="1002600"/>
            <a:chExt cx="1816920" cy="1684800"/>
          </a:xfrm>
        </p:grpSpPr>
        <p:pic>
          <p:nvPicPr>
            <p:cNvPr id="186" name="Picture 29" descr="未标题-1"/>
            <p:cNvPicPr/>
            <p:nvPr/>
          </p:nvPicPr>
          <p:blipFill>
            <a:blip r:embed="rId9"/>
            <a:stretch/>
          </p:blipFill>
          <p:spPr>
            <a:xfrm rot="17754000">
              <a:off x="4474440" y="1118520"/>
              <a:ext cx="1167840" cy="14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30"/>
            <p:cNvSpPr/>
            <p:nvPr/>
          </p:nvSpPr>
          <p:spPr>
            <a:xfrm>
              <a:off x="4765680" y="1561320"/>
              <a:ext cx="1047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歇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1"/>
          <p:cNvGrpSpPr/>
          <p:nvPr/>
        </p:nvGrpSpPr>
        <p:grpSpPr>
          <a:xfrm>
            <a:off x="4210560" y="3169800"/>
            <a:ext cx="1394280" cy="1238040"/>
            <a:chOff x="4210560" y="3169800"/>
            <a:chExt cx="1394280" cy="1238040"/>
          </a:xfrm>
        </p:grpSpPr>
        <p:pic>
          <p:nvPicPr>
            <p:cNvPr id="189" name="Picture 32" descr="未标题-1"/>
            <p:cNvPicPr/>
            <p:nvPr/>
          </p:nvPicPr>
          <p:blipFill>
            <a:blip r:embed="rId10"/>
            <a:stretch/>
          </p:blipFill>
          <p:spPr>
            <a:xfrm rot="17754000">
              <a:off x="4499640" y="3211560"/>
              <a:ext cx="816120" cy="11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3"/>
            <p:cNvSpPr/>
            <p:nvPr/>
          </p:nvSpPr>
          <p:spPr>
            <a:xfrm>
              <a:off x="4622400" y="3432240"/>
              <a:ext cx="8103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停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delay="0" evt="onClick">
                    <p:tgtEl>
                      <p:spTgt spid="167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delay="0"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delay="0" evt="onClick">
                    <p:tgtEl>
                      <p:spTgt spid="17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delay="0"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delay="0" evt="onClick">
                    <p:tgtEl>
                      <p:spTgt spid="173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delay="0"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3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delay="0" evt="onClick">
                    <p:tgtEl>
                      <p:spTgt spid="176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delay="0"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delay="0" evt="onClick">
                    <p:tgtEl>
                      <p:spTgt spid="179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delay="0"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delay="0" evt="onClick">
                    <p:tgtEl>
                      <p:spTgt spid="182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delay="0"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delay="0" evt="onClick">
                    <p:tgtEl>
                      <p:spTgt spid="185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delay="0" evt="onClick">
                    <p:tgtEl>
                      <p:spTgt spid="164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delay="0"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8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delay="0" evt="onClick">
                    <p:tgtEl>
                      <p:spTgt spid="188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delay="0"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9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2"/>
          <p:cNvSpPr/>
          <p:nvPr/>
        </p:nvSpPr>
        <p:spPr>
          <a:xfrm>
            <a:off x="1294200" y="2181240"/>
            <a:ext cx="668628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一共有几个自然段？课文讲了一件什么事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133200" y="126360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9"/>
          <p:cNvSpPr/>
          <p:nvPr/>
        </p:nvSpPr>
        <p:spPr>
          <a:xfrm>
            <a:off x="810720" y="3557520"/>
            <a:ext cx="7558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妈妈在（               ），她们一边（           ）一边（                      ）。当母亲（拎着一桶很重的水回家）的时候，三个儿子都来了，但是只有（                           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111840" y="3546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井边打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075360" y="35337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164600" y="4173480"/>
            <a:ext cx="1858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夸自己的儿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403600" y="456012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儿子接过妈妈的水桶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1"/>
          <p:cNvSpPr/>
          <p:nvPr/>
        </p:nvSpPr>
        <p:spPr>
          <a:xfrm>
            <a:off x="452520" y="1743120"/>
            <a:ext cx="841608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默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——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，三位妈妈是怎样评价自己的儿子的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701280" y="2890800"/>
            <a:ext cx="811980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妈妈说：“我那儿子灵巧，又有力气，谁都比不过他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二个妈妈说：“我那儿子唱起歌来赛过黄莺，谁都没他嗓子好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三个妈妈呢，什么也没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爷爷问她：“你怎么不说说你的儿子呀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三个妈妈说：“有啥可说的？他没什么出奇的地方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225000" y="92232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自主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3"/>
          <p:cNvSpPr/>
          <p:nvPr/>
        </p:nvSpPr>
        <p:spPr>
          <a:xfrm>
            <a:off x="623880" y="2308320"/>
            <a:ext cx="811980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妈妈说：“我那儿子灵巧，又有力气，谁都比不过他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二个妈妈说：“我那儿子唱起歌来赛过黄莺，谁都没他嗓子好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三个妈妈呢，什么也没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爷爷问她：“你怎么不说说你的儿子呀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三个妈妈说：“有啥可说的？他没什么出奇的地方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133200" y="126360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3"/>
          <p:cNvSpPr/>
          <p:nvPr/>
        </p:nvSpPr>
        <p:spPr>
          <a:xfrm>
            <a:off x="498960" y="2808360"/>
            <a:ext cx="8229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那儿子灵巧，又有力气，谁都比不过他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133200" y="126360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2900520" y="1585800"/>
            <a:ext cx="415332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个儿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675680" y="5049720"/>
            <a:ext cx="2945160" cy="36396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灵巧力气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7" descr="探究式教学【素材】《儿子们》翻跟头（北师大）.jpg"/>
          <p:cNvPicPr/>
          <p:nvPr/>
        </p:nvPicPr>
        <p:blipFill>
          <a:blip r:embed="rId1"/>
          <a:stretch/>
        </p:blipFill>
        <p:spPr>
          <a:xfrm>
            <a:off x="619200" y="3911760"/>
            <a:ext cx="2840400" cy="25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 ">
  <a:themeElements>
    <a:clrScheme name="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 ">
  <a:themeElements>
    <a:clrScheme name="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  <Words>1005</Words>
  <Paragraphs>1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03:05:00Z</dcterms:created>
  <dc:creator>第一PPT模板网-WWW.1PPT.COM</dc:creator>
  <dc:description/>
  <cp:keywords>第一PPT模板网-WWW.1PPT.COM</cp:keywords>
  <dc:language>en-US</dc:language>
  <cp:lastModifiedBy>USER</cp:lastModifiedBy>
  <dcterms:modified xsi:type="dcterms:W3CDTF">2019-06-15T08:16:57Z</dcterms:modified>
  <cp:revision>10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  <property fmtid="{D5CDD505-2E9C-101B-9397-08002B2CF9AE}" pid="3" name="Notes">
    <vt:r8>3</vt:r8>
  </property>
  <property fmtid="{D5CDD505-2E9C-101B-9397-08002B2CF9AE}" pid="4" name="PresentationFormat">
    <vt:lpwstr>全屏显示(4:3)</vt:lpwstr>
  </property>
  <property fmtid="{D5CDD505-2E9C-101B-9397-08002B2CF9AE}" pid="5" name="Slides">
    <vt:r8>21</vt:r8>
  </property>
</Properties>
</file>