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22458PICkZz_1024"/>
          <p:cNvPicPr/>
          <p:nvPr/>
        </p:nvPicPr>
        <p:blipFill>
          <a:blip r:embed="rId2"/>
          <a:stretch/>
        </p:blipFill>
        <p:spPr>
          <a:xfrm>
            <a:off x="0" y="0"/>
            <a:ext cx="9143640" cy="24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22458PICkZz_1024"/>
          <p:cNvPicPr/>
          <p:nvPr/>
        </p:nvPicPr>
        <p:blipFill>
          <a:blip r:embed="rId3"/>
          <a:stretch/>
        </p:blipFill>
        <p:spPr>
          <a:xfrm>
            <a:off x="0" y="4912560"/>
            <a:ext cx="9143640" cy="2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D:/&#35821;&#25991;&#25945;&#23398;&#35838;&#20214;/&#20154;&#25945;&#19971;&#35821;&#19979;/&#35838;&#22806;&#21476;&#35799;&#35789;&#35829;&#35835;/&#12298;&#36898;&#20837;&#20140;&#20351;&#12299;&#65288;&#23697;&#21442;&#65289;.mp3" TargetMode="External"/><Relationship Id="rId3" Type="http://schemas.microsoft.com/office/2007/relationships/media" Target="file:///D:/&#35821;&#25991;&#25945;&#23398;&#35838;&#20214;/&#20154;&#25945;&#19971;&#35821;&#19979;/&#35838;&#22806;&#21476;&#35799;&#35789;&#35829;&#35835;/&#12298;&#36898;&#20837;&#20140;&#20351;&#12299;&#65288;&#23697;&#21442;&#65289;.mp3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35"/>
          <p:cNvSpPr/>
          <p:nvPr/>
        </p:nvSpPr>
        <p:spPr>
          <a:xfrm>
            <a:off x="-1440" y="1870560"/>
            <a:ext cx="9143640" cy="1458360"/>
          </a:xfrm>
          <a:prstGeom prst="rect">
            <a:avLst/>
          </a:prstGeom>
          <a:solidFill>
            <a:schemeClr val="bg1">
              <a:lumMod val="95000"/>
              <a:alpha val="6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1" name="文本框 4130"/>
          <p:cNvSpPr/>
          <p:nvPr/>
        </p:nvSpPr>
        <p:spPr>
          <a:xfrm>
            <a:off x="2387520" y="1951920"/>
            <a:ext cx="436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逢入京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37"/>
          <p:cNvCxnSpPr/>
          <p:nvPr/>
        </p:nvCxnSpPr>
        <p:spPr>
          <a:xfrm>
            <a:off x="2908080" y="2746080"/>
            <a:ext cx="333252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43" name="文本框 4130"/>
          <p:cNvSpPr/>
          <p:nvPr/>
        </p:nvSpPr>
        <p:spPr>
          <a:xfrm>
            <a:off x="3243960" y="2928960"/>
            <a:ext cx="2652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七年级语文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429912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70661"/>
          <p:cNvSpPr/>
          <p:nvPr/>
        </p:nvSpPr>
        <p:spPr>
          <a:xfrm>
            <a:off x="433440" y="1097640"/>
            <a:ext cx="389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袖龙钟泪不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557280" y="1631160"/>
            <a:ext cx="802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乡之泪怎么也擦不干，以至于把两支袖子都擦湿了，可眼泪就是止不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句运用了夸张的修辞手法表现思念亲人之情，也为下文写捎书回家“报平安”做了一个很高的铺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954000" y="1181160"/>
            <a:ext cx="723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上相逢无纸笔，凭君传语报平安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70671"/>
          <p:cNvSpPr/>
          <p:nvPr/>
        </p:nvSpPr>
        <p:spPr>
          <a:xfrm>
            <a:off x="519120" y="1838160"/>
            <a:ext cx="810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逢”字点出了题目，在赶赴安西的途中，遇到作为入京使者的故人，正好托故人带封平安家信回去，可偏偏又无纸笔，也顾不上写信了，只好托故人带个口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70671"/>
          <p:cNvSpPr/>
          <p:nvPr/>
        </p:nvSpPr>
        <p:spPr>
          <a:xfrm>
            <a:off x="519120" y="552240"/>
            <a:ext cx="8105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一句诗，处理得很简单，收束得很干净利落，但简净之中寄寓着诗人的一片深情，寄至味于淡薄，颇有韵味。岑参此行是抱着“功名只向马上取”的雄心的，此时，心情是复杂的。他一方面有对帝京、故园相思眷恋的柔情，一方面也表现了诗人渴望建功立业的豪迈胸襟，柔情与豪情交织相融，感人至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"/>
          <p:cNvSpPr/>
          <p:nvPr/>
        </p:nvSpPr>
        <p:spPr>
          <a:xfrm>
            <a:off x="1088280" y="7905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家点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463680" y="1366920"/>
            <a:ext cx="8214840" cy="2228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汝询评曰：“叙事真切，自是客中绝唱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《唐诗解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徐增评曰：“‘马上相逢无纸笔’，此句人人道好，惟在玉关故妙，若在近处则不为妙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《而庵说唐诗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沈德潜评：“人人胸臆中语，却成绝唱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《唐诗别裁集》卷十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571680" y="978840"/>
            <a:ext cx="8000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诗语言朴素自然，充满了浓郁边塞生活气息，既有生活情趣，又有人情味，诗人善于把许多人心头所想、口里要说的话，用艺术手法加以提炼和概括，使之具有典型的意义。在平易之中而又显出丰富的韵味，自能深入人心，历久不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"/>
          <p:cNvSpPr/>
          <p:nvPr/>
        </p:nvSpPr>
        <p:spPr>
          <a:xfrm>
            <a:off x="571680" y="1178640"/>
            <a:ext cx="80006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诗是写诗人在西行途中，偶遇前往长安的东行使者，勾起了诗人无限的思乡情绪，也表达了诗人欲建功立业而开阔豪迈、乐观放达的胸襟。旅途的颠沛流离，思乡的肝肠寸断，在诗中得到了深刻的揭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85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主旨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8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诵诗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1"/>
          <p:cNvSpPr/>
          <p:nvPr/>
        </p:nvSpPr>
        <p:spPr>
          <a:xfrm>
            <a:off x="696960" y="1414440"/>
            <a:ext cx="70974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自己的体会有感情地朗读诗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找出岑参的其他诗歌读一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图片 3"/>
          <p:cNvSpPr/>
          <p:nvPr/>
        </p:nvSpPr>
        <p:spPr>
          <a:xfrm>
            <a:off x="5713200" y="2670840"/>
            <a:ext cx="2657160" cy="187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2"/>
          <p:cNvSpPr/>
          <p:nvPr/>
        </p:nvSpPr>
        <p:spPr>
          <a:xfrm>
            <a:off x="392040" y="1092960"/>
            <a:ext cx="8203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岑参】（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15—7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），唐代边塞诗人，南阳人，太宗时功臣岑文本重孙，后徙居江陵。代宗时，曾官嘉州刺史（今四川乐山），世称“岑嘉州”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4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6039000" y="3011040"/>
            <a:ext cx="2285640" cy="17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2"/>
          <p:cNvSpPr/>
          <p:nvPr/>
        </p:nvSpPr>
        <p:spPr>
          <a:xfrm>
            <a:off x="569880" y="834480"/>
            <a:ext cx="80038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岑参工诗，长于七言歌行，代表作是《白雪歌送武判官归京》。现存诗三百六十首。对边塞风光，军旅生活，以及少数民族的文化风俗有亲切的感受，故其边塞诗尤多佳作。风格与高适相近，后人多并称“高岑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5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作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"/>
          <p:cNvSpPr/>
          <p:nvPr/>
        </p:nvSpPr>
        <p:spPr>
          <a:xfrm>
            <a:off x="507960" y="1173960"/>
            <a:ext cx="8127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刘开扬《岑参诗集编年笺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岑参年谱》，此诗作于公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4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（天宝八载）诗人赴安西（今新疆维吾尔自治区库车县）上任途中。这是岑参第一次远赴西域，充安西节度使高仙芝幕府书记。此时诗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前半生功名不如意，无奈之下，出塞任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2"/>
          <p:cNvSpPr/>
          <p:nvPr/>
        </p:nvSpPr>
        <p:spPr>
          <a:xfrm>
            <a:off x="507960" y="844200"/>
            <a:ext cx="8127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告别了在长安的妻子，跃马踏上漫漫征途，西出阳关，奔赴安西。岑参也不知走了多少天，就在通西域的大路上，他忽地迎面碰见一个老相识。立马而谈，互叙寒温，知道对方要返京述职，不免有些感伤，同时想到请他捎封家信回长安去安慰家人，报个平安。此诗就描写了这一情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57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读诗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"/>
          <p:cNvSpPr/>
          <p:nvPr/>
        </p:nvSpPr>
        <p:spPr>
          <a:xfrm>
            <a:off x="541440" y="1194120"/>
            <a:ext cx="636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朗读诗歌，读准字音，注意节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2409840" y="1798920"/>
            <a:ext cx="4323960" cy="214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逢入京使  岑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东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路漫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龙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泪不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纸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凭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传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报平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13600" y="4225680"/>
            <a:ext cx="49500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"/>
          <p:cNvSpPr/>
          <p:nvPr/>
        </p:nvSpPr>
        <p:spPr>
          <a:xfrm>
            <a:off x="422280" y="910800"/>
            <a:ext cx="5847840" cy="363960"/>
          </a:xfrm>
          <a:prstGeom prst="rect">
            <a:avLst/>
          </a:prstGeom>
          <a:noFill/>
          <a:ln w="12700">
            <a:solidFill>
              <a:srgbClr val="385d8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读诗歌，结合注释了解大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811080" y="2263320"/>
            <a:ext cx="752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园东望路漫漫，双袖龙钟泪不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上相逢无纸笔，凭君传语报平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"/>
          <p:cNvSpPr/>
          <p:nvPr/>
        </p:nvSpPr>
        <p:spPr>
          <a:xfrm>
            <a:off x="1305000" y="1788480"/>
            <a:ext cx="31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路途遥远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5551560" y="3639600"/>
            <a:ext cx="169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捎口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8"/>
          <p:cNvSpPr/>
          <p:nvPr/>
        </p:nvSpPr>
        <p:spPr>
          <a:xfrm>
            <a:off x="2722680" y="3639600"/>
            <a:ext cx="247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求，烦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4956120" y="1788480"/>
            <a:ext cx="317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泪流纵横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2"/>
          <p:cNvSpPr/>
          <p:nvPr/>
        </p:nvSpPr>
        <p:spPr>
          <a:xfrm>
            <a:off x="511200" y="849960"/>
            <a:ext cx="62449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7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向东遥望长安家园路途遥远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想的泪沾湿双袖模糊面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马上匆匆相逢没有纸和笔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托你给我的家人报个平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图片 1"/>
          <p:cNvSpPr/>
          <p:nvPr/>
        </p:nvSpPr>
        <p:spPr>
          <a:xfrm>
            <a:off x="6816240" y="2895120"/>
            <a:ext cx="1748520" cy="1160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70661"/>
          <p:cNvSpPr/>
          <p:nvPr/>
        </p:nvSpPr>
        <p:spPr>
          <a:xfrm>
            <a:off x="509760" y="1364400"/>
            <a:ext cx="396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园东望路漫漫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9"/>
          <p:cNvGrpSpPr/>
          <p:nvPr/>
        </p:nvGrpSpPr>
        <p:grpSpPr>
          <a:xfrm>
            <a:off x="160200" y="369000"/>
            <a:ext cx="2319120" cy="573480"/>
            <a:chOff x="160200" y="369000"/>
            <a:chExt cx="2319120" cy="573480"/>
          </a:xfrm>
        </p:grpSpPr>
        <p:pic>
          <p:nvPicPr>
            <p:cNvPr id="72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369000"/>
              <a:ext cx="231912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文本框 2"/>
            <p:cNvSpPr/>
            <p:nvPr/>
          </p:nvSpPr>
          <p:spPr>
            <a:xfrm>
              <a:off x="696960" y="4262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品诗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"/>
          <p:cNvSpPr/>
          <p:nvPr/>
        </p:nvSpPr>
        <p:spPr>
          <a:xfrm>
            <a:off x="509760" y="1943280"/>
            <a:ext cx="8056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的是眼前的实际感受。诗人已经离开“故园”多日，正行进在去往西域的途中，回望东边的家乡长安城当然是漫漫长路，思念之情不免袭上心头，乡愁难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Pages>0</Pages>
  <Words>1531</Words>
  <Characters>0</Characters>
  <CharactersWithSpaces>0</CharactersWithSpaces>
  <Paragraphs>6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29T05:12:03Z</dcterms:modified>
  <cp:revision>27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  <property fmtid="{D5CDD505-2E9C-101B-9397-08002B2CF9AE}" pid="3" name="MMClips">
    <vt:r8>1</vt:r8>
  </property>
  <property fmtid="{D5CDD505-2E9C-101B-9397-08002B2CF9AE}" pid="4" name="Notes">
    <vt:r8>3</vt:r8>
  </property>
  <property fmtid="{D5CDD505-2E9C-101B-9397-08002B2CF9AE}" pid="5" name="PresentationFormat">
    <vt:lpwstr>全屏显示(16:9)</vt:lpwstr>
  </property>
  <property fmtid="{D5CDD505-2E9C-101B-9397-08002B2CF9AE}" pid="6" name="Slides">
    <vt:r8>17</vt:r8>
  </property>
</Properties>
</file>