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5E90F0-75D0-448B-84C0-9361DEEE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F23E9-E9EC-4FB4-8FAE-87CE046948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B0130E-A27F-4315-9308-040BE6B58D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8D34F4-4B1D-426C-AA58-9B8AAD33F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E3F4B1-9A11-452A-B450-2737C9DD3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2C4091-8AF3-4C7A-930E-9EF4459E3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15FDD9-2FA0-4E52-A2F7-6CE79EAF8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633FE4-0109-41F8-97F4-9F76326F27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CEDD03-F2D1-497C-99DD-0487E8B3E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0268B9-964B-4E8D-8877-D2BC3E8272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9FA6C4-8E0D-4AE3-8173-6891E514F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7362B7-B184-4038-9471-3EBD2E2D1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A6FA2-91BA-4B9E-832E-7CB4E8E00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9449FB-3D23-4FAA-BB76-70434673D9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48D-42AB-4A4D-9522-6A3364BF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515-BD68-429B-BAA9-BC5C35C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6C8-C427-4048-8BFB-004EBE89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DBE-F619-4426-BD39-07E77772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C75-13FF-41F6-86BF-30F04420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80B3-CDED-4889-A8D8-559575F6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D13F-790E-400A-99C8-622DB5D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628-1F7A-436F-ADCB-223437F3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A5E7-47B4-4D30-967A-ED09F0C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B2B6-C92A-476A-B9BB-5BB84E9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6137-E32D-419B-A4CC-96067068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4BB-E3FE-472A-92DB-18F2E76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B945-5450-4420-BFC1-F683020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B62E-58A6-418C-A982-67514D4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6D0-DF6C-40D1-BA92-721CCF0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708-7DA4-44CC-94D2-BFA0237F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6009-9C46-43C7-9BE8-009A4D1A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D0DC-E72B-49F5-BE44-6659328A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1F7F-5245-4B30-BEE2-3337A11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118B-66F5-4711-8128-86C13D11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56CC-E5EC-40B7-AB0A-30913276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BAC8-45C0-4D39-A551-38A1059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449-A775-4893-A30F-06C9C827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7DEF-5054-45F4-9784-713401E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B83A-9520-4B0D-9570-0D61ECF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F634-8DA3-43B0-9834-577032D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E5C8-2630-429F-B714-2889E27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BDD3-6A20-4895-B979-75C3F6D3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A4AE8-F70D-4127-A081-5DD45FB3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5C0A-8C76-4BDF-9D3D-DB0A86C0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8E6-DC02-41B3-8374-2E89C8E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445-39E1-4C6E-8194-6D5EBD9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91B-D4A4-49FF-AFD8-B27653D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627-BF40-4F39-AAD4-38B11B1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F10-96AB-4A44-AEFA-52F1586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272-056B-4331-B884-07EB252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B778A-1EBE-4F82-B3A1-BB0DB5AE632B}" type="slidenum">
              <a:rPr b="0" lang="en-US" sz="9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8c8f3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4d4d4d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600" y="214200"/>
            <a:ext cx="8214840" cy="79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52600" y="1152360"/>
            <a:ext cx="8214840" cy="5203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单击此处编辑母版文本样式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lvl="1" marL="361800" indent="-361800" algn="just">
              <a:lnSpc>
                <a:spcPct val="120000"/>
              </a:lnSpc>
              <a:spcAft>
                <a:spcPts val="1199"/>
              </a:spcAft>
              <a:buClr>
                <a:srgbClr val="d2d49d"/>
              </a:buClr>
              <a:buFont typeface="幼圆"/>
              <a:buChar char=" "/>
            </a:pPr>
            <a:r>
              <a:rPr b="0" lang="zh-CN" sz="1600" spc="-1" strike="noStrike">
                <a:solidFill>
                  <a:srgbClr val="4d4d4d"/>
                </a:solidFill>
                <a:latin typeface="幼圆"/>
                <a:ea typeface="幼圆"/>
              </a:rPr>
              <a:t>第二级</a:t>
            </a:r>
            <a:endParaRPr b="0" lang="en-US" sz="1600" spc="-1" strike="noStrike">
              <a:solidFill>
                <a:srgbClr val="4d4d4d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</a:pPr>
            <a:r>
              <a:rPr b="0" lang="zh-CN" sz="1500" spc="-1" strike="noStrike">
                <a:solidFill>
                  <a:srgbClr val="4d4d4d"/>
                </a:solidFill>
                <a:latin typeface="Calibri"/>
                <a:ea typeface="幼圆"/>
              </a:rPr>
              <a:t>第三级</a:t>
            </a:r>
            <a:endParaRPr b="0" lang="en-US" sz="1500" spc="-1" strike="noStrike">
              <a:solidFill>
                <a:srgbClr val="4d4d4d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</a:pPr>
            <a:r>
              <a:rPr b="0" lang="zh-CN" sz="1300" spc="-1" strike="noStrike">
                <a:solidFill>
                  <a:srgbClr val="4d4d4d"/>
                </a:solidFill>
                <a:latin typeface="Calibri"/>
                <a:ea typeface="幼圆"/>
              </a:rPr>
              <a:t>第四级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</a:pPr>
            <a:r>
              <a:rPr b="0" lang="zh-CN" sz="1300" spc="-1" strike="noStrike">
                <a:solidFill>
                  <a:srgbClr val="4d4d4d"/>
                </a:solidFill>
                <a:latin typeface="Calibri"/>
                <a:ea typeface="幼圆"/>
              </a:rPr>
              <a:t>第五级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08CF88-C84A-4670-952E-AECDAD27991F}" type="slidenum">
              <a:rPr b="0" lang="en-US" sz="9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2727360"/>
            <a:ext cx="5217840" cy="73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FCB87F-3F42-4620-A5AE-3333DADA1B23}" type="slidenum">
              <a:rPr b="0" lang="en-US" sz="9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8c8f3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4d4d4d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4d4d4d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2"/>
          <p:cNvSpPr/>
          <p:nvPr/>
        </p:nvSpPr>
        <p:spPr>
          <a:xfrm>
            <a:off x="0" y="54262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0" y="1412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咕 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3960" y="404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认一认，读一读，写一写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52600" y="1152360"/>
            <a:ext cx="8214840" cy="5203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咕    咚    熟    掉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吓    鹿    逃    拦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命    象    野    领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pic>
        <p:nvPicPr>
          <p:cNvPr id="199" name="Picture 5" descr="图片2"/>
          <p:cNvPicPr/>
          <p:nvPr/>
        </p:nvPicPr>
        <p:blipFill>
          <a:blip r:embed="rId1"/>
          <a:stretch/>
        </p:blipFill>
        <p:spPr>
          <a:xfrm>
            <a:off x="755640" y="278136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图片2"/>
          <p:cNvPicPr/>
          <p:nvPr/>
        </p:nvPicPr>
        <p:blipFill>
          <a:blip r:embed="rId2"/>
          <a:stretch/>
        </p:blipFill>
        <p:spPr>
          <a:xfrm>
            <a:off x="4284720" y="148428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图片2"/>
          <p:cNvPicPr/>
          <p:nvPr/>
        </p:nvPicPr>
        <p:blipFill>
          <a:blip r:embed="rId3"/>
          <a:stretch/>
        </p:blipFill>
        <p:spPr>
          <a:xfrm>
            <a:off x="2556000" y="141300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图片2"/>
          <p:cNvPicPr/>
          <p:nvPr/>
        </p:nvPicPr>
        <p:blipFill>
          <a:blip r:embed="rId4"/>
          <a:stretch/>
        </p:blipFill>
        <p:spPr>
          <a:xfrm>
            <a:off x="6012000" y="148428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图片2"/>
          <p:cNvPicPr/>
          <p:nvPr/>
        </p:nvPicPr>
        <p:blipFill>
          <a:blip r:embed="rId5"/>
          <a:stretch/>
        </p:blipFill>
        <p:spPr>
          <a:xfrm>
            <a:off x="755640" y="155736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图片2"/>
          <p:cNvPicPr/>
          <p:nvPr/>
        </p:nvPicPr>
        <p:blipFill>
          <a:blip r:embed="rId6"/>
          <a:stretch/>
        </p:blipFill>
        <p:spPr>
          <a:xfrm>
            <a:off x="2556000" y="278136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图片2"/>
          <p:cNvPicPr/>
          <p:nvPr/>
        </p:nvPicPr>
        <p:blipFill>
          <a:blip r:embed="rId7"/>
          <a:stretch/>
        </p:blipFill>
        <p:spPr>
          <a:xfrm>
            <a:off x="4356000" y="270828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图片2"/>
          <p:cNvPicPr/>
          <p:nvPr/>
        </p:nvPicPr>
        <p:blipFill>
          <a:blip r:embed="rId8"/>
          <a:stretch/>
        </p:blipFill>
        <p:spPr>
          <a:xfrm>
            <a:off x="6084720" y="270828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图片2"/>
          <p:cNvPicPr/>
          <p:nvPr/>
        </p:nvPicPr>
        <p:blipFill>
          <a:blip r:embed="rId9"/>
          <a:stretch/>
        </p:blipFill>
        <p:spPr>
          <a:xfrm>
            <a:off x="684360" y="400536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图片2"/>
          <p:cNvPicPr/>
          <p:nvPr/>
        </p:nvPicPr>
        <p:blipFill>
          <a:blip r:embed="rId10"/>
          <a:stretch/>
        </p:blipFill>
        <p:spPr>
          <a:xfrm>
            <a:off x="2484360" y="407664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图片2"/>
          <p:cNvPicPr/>
          <p:nvPr/>
        </p:nvPicPr>
        <p:blipFill>
          <a:blip r:embed="rId11"/>
          <a:stretch/>
        </p:blipFill>
        <p:spPr>
          <a:xfrm>
            <a:off x="4211640" y="4005360"/>
            <a:ext cx="1655280" cy="124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图片2"/>
          <p:cNvPicPr/>
          <p:nvPr/>
        </p:nvPicPr>
        <p:blipFill>
          <a:blip r:embed="rId12"/>
          <a:stretch/>
        </p:blipFill>
        <p:spPr>
          <a:xfrm>
            <a:off x="6012000" y="3933720"/>
            <a:ext cx="1655280" cy="124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832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1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木瓜熟了。一个木瓜从高高的树上掉进湖里，“咕咚”！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2" name="Picture 5" descr="http://p0.so.qhmsg.com/bdr/_240_/t01d881d05bd6160eca.jpg"/>
          <p:cNvPicPr/>
          <p:nvPr/>
        </p:nvPicPr>
        <p:blipFill>
          <a:blip r:embed="rId1"/>
          <a:stretch/>
        </p:blipFill>
        <p:spPr>
          <a:xfrm>
            <a:off x="826920" y="2565360"/>
            <a:ext cx="7057800" cy="4032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00818145918963_2"/>
          <p:cNvPicPr/>
          <p:nvPr/>
        </p:nvPicPr>
        <p:blipFill>
          <a:blip r:embed="rId1"/>
          <a:stretch/>
        </p:blipFill>
        <p:spPr>
          <a:xfrm>
            <a:off x="0" y="1989000"/>
            <a:ext cx="9143640" cy="4868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280" y="0"/>
            <a:ext cx="9072360" cy="1987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1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兔子吓了一跳，拔腿就跑。小猴子看见了，问他为什么跑。兔子一边跑一边叫：“不好啦， ‘咕咚’可怕极了”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072360" cy="261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小猴子一听，就跟着跑起来，他一边跑，一边大叫：“不好啦，不好啦，‘咕咚’来了，大家快跑哇！”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360" y="404640"/>
            <a:ext cx="8675280" cy="198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这一下可热闹了。狐狸呀，山羊啊，小鹿哇，一个跟着一个跑起来。大伙一边跑一边叫：“快逃命啊，‘咕咚’来了！”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7" name="Picture 3" descr="8776030"/>
          <p:cNvPicPr/>
          <p:nvPr/>
        </p:nvPicPr>
        <p:blipFill>
          <a:blip r:embed="rId1"/>
          <a:stretch/>
        </p:blipFill>
        <p:spPr>
          <a:xfrm>
            <a:off x="899640" y="2575080"/>
            <a:ext cx="7561080" cy="428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339966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大象看见了，也跟着跑起来。野牛拦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他，问：“‘咕咚’在哪里，你看见了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大象说：“没看见，大伙都说‘咕咚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来了。”野牛拦住大伙问，大伙都说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看见。最后问兔子，兔子说：“是我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见的，‘咕咚’就在那边的湖里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水印logo"/>
          <p:cNvPicPr/>
          <p:nvPr/>
        </p:nvPicPr>
        <p:blipFill>
          <a:blip r:embed="rId1"/>
          <a:stretch/>
        </p:blipFill>
        <p:spPr>
          <a:xfrm>
            <a:off x="7164360" y="6215040"/>
            <a:ext cx="1979280" cy="64260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-181080" y="0"/>
            <a:ext cx="9143640" cy="7754400"/>
            <a:chOff x="-181080" y="0"/>
            <a:chExt cx="9143640" cy="7754400"/>
          </a:xfrm>
        </p:grpSpPr>
        <p:pic>
          <p:nvPicPr>
            <p:cNvPr id="221" name="Picture 4" descr="儿童 读物预览图 点击看大图"/>
            <p:cNvPicPr/>
            <p:nvPr/>
          </p:nvPicPr>
          <p:blipFill>
            <a:blip r:embed="rId2"/>
            <a:stretch/>
          </p:blipFill>
          <p:spPr>
            <a:xfrm>
              <a:off x="-181080" y="0"/>
              <a:ext cx="9143640" cy="77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AutoShape 5"/>
            <p:cNvSpPr/>
            <p:nvPr/>
          </p:nvSpPr>
          <p:spPr>
            <a:xfrm>
              <a:off x="2230560" y="366120"/>
              <a:ext cx="6119280" cy="2213280"/>
            </a:xfrm>
            <a:prstGeom prst="wedgeRoundRectCallout">
              <a:avLst>
                <a:gd name="adj1" fmla="val 1829"/>
                <a:gd name="adj2" fmla="val 113935"/>
                <a:gd name="adj3" fmla="val 16667"/>
              </a:avLst>
            </a:prstGeom>
            <a:solidFill>
              <a:schemeClr val="accent1"/>
            </a:solidFill>
            <a:ln w="9525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52d05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2000" spc="-1" strike="noStrike">
                  <a:solidFill>
                    <a:srgbClr val="f52d05"/>
                  </a:solidFill>
                  <a:latin typeface="Arial"/>
                  <a:ea typeface="楷体_GB2312"/>
                </a:rPr>
                <a:t>兔子领着大家来到湖边。正好又有一个木瓜从高高的树上掉进湖里，“咕咚”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52d05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000" spc="-1" strike="noStrike">
                  <a:solidFill>
                    <a:srgbClr val="f52d05"/>
                  </a:solidFill>
                  <a:latin typeface="Arial"/>
                  <a:ea typeface="楷体_GB2312"/>
                </a:rPr>
                <a:t>大伙你看看我，我看看你，都笑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54028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遇事先问个为什么，弄清事实真相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思考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064000" cy="49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咕咚指的是什么？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咕咚是木瓜掉进湖里发出的声音。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木瓜掉进湖里的声音怎样？从哪可以看出来？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这声音很大很重。因为木瓜熟了，从高高的树上掉进湖里的。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兔子为什么跑？  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兔子听见这又大又响的咕咚声很害怕，吓跑了。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</p:spTree>
  </p:cSld>
  <p:transition>
    <p:comb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3640" y="764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总结提高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7640" y="2421000"/>
            <a:ext cx="748800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我懂得做什么事，不应该盲目的跟别人跑，听信谣传，而要问个为什么，弄清事实真相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c8f3f"/>
                </a:solidFill>
                <a:latin typeface="幼圆"/>
              </a:rPr>
              <a:t>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0920" y="404640"/>
            <a:ext cx="8642160" cy="475272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全文共有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个自然段，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幅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讲了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听到“咕咚”的声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没有弄明白，拔腿就跑，后来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也跟着跑，只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没有跟着跑。帮助大伙儿弄清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真相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898560" y="5229360"/>
            <a:ext cx="1872720" cy="1628280"/>
            <a:chOff x="898560" y="5229360"/>
            <a:chExt cx="1872720" cy="1628280"/>
          </a:xfrm>
        </p:grpSpPr>
        <p:pic>
          <p:nvPicPr>
            <p:cNvPr id="137" name="Picture 4" descr="卡通图片（2）"/>
            <p:cNvPicPr/>
            <p:nvPr/>
          </p:nvPicPr>
          <p:blipFill>
            <a:blip r:embed="rId1"/>
            <a:stretch/>
          </p:blipFill>
          <p:spPr>
            <a:xfrm>
              <a:off x="898560" y="5229360"/>
              <a:ext cx="1872720" cy="162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5"/>
            <p:cNvSpPr/>
            <p:nvPr/>
          </p:nvSpPr>
          <p:spPr>
            <a:xfrm>
              <a:off x="1187280" y="5453280"/>
              <a:ext cx="15109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想一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411640" y="1772640"/>
            <a:ext cx="3888000" cy="115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复述故事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c0d1864a88cc11ec83025ce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004d82ed1ceb013b63d09fcc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684360" y="0"/>
            <a:ext cx="7310160" cy="3916080"/>
          </a:xfrm>
          <a:prstGeom prst="cloudCallout">
            <a:avLst>
              <a:gd name="adj1" fmla="val -44787"/>
              <a:gd name="adj2" fmla="val 62972"/>
            </a:avLst>
          </a:prstGeom>
          <a:solidFill>
            <a:srgbClr val="ff99cc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楷体_GB2312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836640"/>
            <a:ext cx="4608000" cy="191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咕咚是什么呀？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755640" y="4221000"/>
            <a:ext cx="1872720" cy="2303280"/>
            <a:chOff x="755640" y="4221000"/>
            <a:chExt cx="1872720" cy="2303280"/>
          </a:xfrm>
        </p:grpSpPr>
        <p:pic>
          <p:nvPicPr>
            <p:cNvPr id="142" name="Picture 5" descr="卡通图片（2）"/>
            <p:cNvPicPr/>
            <p:nvPr/>
          </p:nvPicPr>
          <p:blipFill>
            <a:blip r:embed="rId1"/>
            <a:stretch/>
          </p:blipFill>
          <p:spPr>
            <a:xfrm>
              <a:off x="755640" y="4221000"/>
              <a:ext cx="1872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6"/>
            <p:cNvSpPr/>
            <p:nvPr/>
          </p:nvSpPr>
          <p:spPr>
            <a:xfrm>
              <a:off x="1044720" y="4538160"/>
              <a:ext cx="15109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60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1547640" y="981000"/>
            <a:ext cx="7272000" cy="3338280"/>
          </a:xfrm>
          <a:prstGeom prst="cloudCallout">
            <a:avLst>
              <a:gd name="adj1" fmla="val -51639"/>
              <a:gd name="adj2" fmla="val 47671"/>
            </a:avLst>
          </a:prstGeom>
          <a:solidFill>
            <a:srgbClr val="339966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故事中的“咕咚”是什么？故事中讲了哪几种动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755640" y="4702320"/>
            <a:ext cx="1844280" cy="1821960"/>
            <a:chOff x="755640" y="4702320"/>
            <a:chExt cx="1844280" cy="1821960"/>
          </a:xfrm>
        </p:grpSpPr>
        <p:pic>
          <p:nvPicPr>
            <p:cNvPr id="146" name="Picture 4" descr="卡通图片（2）"/>
            <p:cNvPicPr/>
            <p:nvPr/>
          </p:nvPicPr>
          <p:blipFill>
            <a:blip r:embed="rId1"/>
            <a:stretch/>
          </p:blipFill>
          <p:spPr>
            <a:xfrm>
              <a:off x="755640" y="4702320"/>
              <a:ext cx="184428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5"/>
            <p:cNvSpPr/>
            <p:nvPr/>
          </p:nvSpPr>
          <p:spPr>
            <a:xfrm>
              <a:off x="1040040" y="4952880"/>
              <a:ext cx="1487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思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课文主要讲了一件什么事情？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chemeClr val="accent1"/>
                </a:solidFill>
                <a:latin typeface="幼圆"/>
                <a:ea typeface="幼圆"/>
              </a:rPr>
              <a:t>学习目标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6323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en-US" sz="2400" spc="-1" strike="noStrike">
                <a:solidFill>
                  <a:srgbClr val="8c8f3f"/>
                </a:solidFill>
                <a:latin typeface="幼圆"/>
                <a:ea typeface="幼圆"/>
              </a:rPr>
              <a:t>1.</a:t>
            </a: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凭借汉语拼音和插图读懂课文内容，懂得做什么事，不应该盲目地跟别人跑，而要问个为什么，弄清事实真相。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en-US" sz="2400" spc="-1" strike="noStrike">
                <a:solidFill>
                  <a:srgbClr val="8c8f3f"/>
                </a:solidFill>
                <a:latin typeface="幼圆"/>
                <a:ea typeface="幼圆"/>
              </a:rPr>
              <a:t>2.</a:t>
            </a: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朗读课文，并用自己的话讲述这个故事。 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55640" y="98100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Group 3"/>
          <p:cNvGraphicFramePr/>
          <p:nvPr/>
        </p:nvGraphicFramePr>
        <p:xfrm>
          <a:off x="826920" y="1052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Group 14"/>
          <p:cNvGraphicFramePr/>
          <p:nvPr/>
        </p:nvGraphicFramePr>
        <p:xfrm>
          <a:off x="2916360" y="1052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Group 25"/>
          <p:cNvGraphicFramePr/>
          <p:nvPr/>
        </p:nvGraphicFramePr>
        <p:xfrm>
          <a:off x="5076720" y="1052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36"/>
          <p:cNvSpPr/>
          <p:nvPr/>
        </p:nvSpPr>
        <p:spPr>
          <a:xfrm>
            <a:off x="2916360" y="1052640"/>
            <a:ext cx="108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Group 37"/>
          <p:cNvGraphicFramePr/>
          <p:nvPr/>
        </p:nvGraphicFramePr>
        <p:xfrm>
          <a:off x="755640" y="321300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Group 48"/>
          <p:cNvGraphicFramePr/>
          <p:nvPr/>
        </p:nvGraphicFramePr>
        <p:xfrm>
          <a:off x="7380360" y="1052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2920"/>
                <a:gridCol w="5047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Group 59"/>
          <p:cNvGraphicFramePr/>
          <p:nvPr/>
        </p:nvGraphicFramePr>
        <p:xfrm>
          <a:off x="2843280" y="321300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Group 70"/>
          <p:cNvGraphicFramePr/>
          <p:nvPr/>
        </p:nvGraphicFramePr>
        <p:xfrm>
          <a:off x="755640" y="5300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Group 81"/>
          <p:cNvGraphicFramePr/>
          <p:nvPr/>
        </p:nvGraphicFramePr>
        <p:xfrm>
          <a:off x="5076720" y="3284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2920"/>
                <a:gridCol w="5047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Group 92"/>
          <p:cNvGraphicFramePr/>
          <p:nvPr/>
        </p:nvGraphicFramePr>
        <p:xfrm>
          <a:off x="7380360" y="3284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Group 103"/>
          <p:cNvGraphicFramePr/>
          <p:nvPr/>
        </p:nvGraphicFramePr>
        <p:xfrm>
          <a:off x="2843280" y="5300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Group 114"/>
          <p:cNvGraphicFramePr/>
          <p:nvPr/>
        </p:nvGraphicFramePr>
        <p:xfrm>
          <a:off x="5003640" y="530064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Group 125"/>
          <p:cNvGraphicFramePr/>
          <p:nvPr/>
        </p:nvGraphicFramePr>
        <p:xfrm>
          <a:off x="7380360" y="5373720"/>
          <a:ext cx="1007640" cy="1034640"/>
        </p:xfrm>
        <a:graphic>
          <a:graphicData uri="http://schemas.openxmlformats.org/drawingml/2006/table">
            <a:tbl>
              <a:tblPr/>
              <a:tblGrid>
                <a:gridCol w="504720"/>
                <a:gridCol w="5029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4d4d4d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4d4d4d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4d4d4d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36"/>
          <p:cNvSpPr/>
          <p:nvPr/>
        </p:nvSpPr>
        <p:spPr>
          <a:xfrm>
            <a:off x="5076720" y="1052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7"/>
          <p:cNvSpPr/>
          <p:nvPr/>
        </p:nvSpPr>
        <p:spPr>
          <a:xfrm>
            <a:off x="7380360" y="1052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8"/>
          <p:cNvSpPr/>
          <p:nvPr/>
        </p:nvSpPr>
        <p:spPr>
          <a:xfrm>
            <a:off x="755640" y="321300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9"/>
          <p:cNvSpPr/>
          <p:nvPr/>
        </p:nvSpPr>
        <p:spPr>
          <a:xfrm>
            <a:off x="2843280" y="3213000"/>
            <a:ext cx="93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0"/>
          <p:cNvSpPr/>
          <p:nvPr/>
        </p:nvSpPr>
        <p:spPr>
          <a:xfrm>
            <a:off x="5148360" y="3284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1"/>
          <p:cNvSpPr/>
          <p:nvPr/>
        </p:nvSpPr>
        <p:spPr>
          <a:xfrm>
            <a:off x="7380360" y="328464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2"/>
          <p:cNvSpPr/>
          <p:nvPr/>
        </p:nvSpPr>
        <p:spPr>
          <a:xfrm>
            <a:off x="755640" y="5300640"/>
            <a:ext cx="93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3"/>
          <p:cNvSpPr/>
          <p:nvPr/>
        </p:nvSpPr>
        <p:spPr>
          <a:xfrm>
            <a:off x="2916360" y="5300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4"/>
          <p:cNvSpPr/>
          <p:nvPr/>
        </p:nvSpPr>
        <p:spPr>
          <a:xfrm>
            <a:off x="5076720" y="5300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5"/>
          <p:cNvSpPr/>
          <p:nvPr/>
        </p:nvSpPr>
        <p:spPr>
          <a:xfrm>
            <a:off x="7380360" y="537372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6"/>
          <p:cNvSpPr/>
          <p:nvPr/>
        </p:nvSpPr>
        <p:spPr>
          <a:xfrm>
            <a:off x="900000" y="33336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7"/>
          <p:cNvSpPr/>
          <p:nvPr/>
        </p:nvSpPr>
        <p:spPr>
          <a:xfrm>
            <a:off x="2771640" y="33336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dō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8"/>
          <p:cNvSpPr/>
          <p:nvPr/>
        </p:nvSpPr>
        <p:spPr>
          <a:xfrm>
            <a:off x="5219640" y="404640"/>
            <a:ext cx="11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s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9"/>
          <p:cNvSpPr/>
          <p:nvPr/>
        </p:nvSpPr>
        <p:spPr>
          <a:xfrm>
            <a:off x="7164360" y="333360"/>
            <a:ext cx="129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d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0"/>
          <p:cNvSpPr/>
          <p:nvPr/>
        </p:nvSpPr>
        <p:spPr>
          <a:xfrm>
            <a:off x="684360" y="2565360"/>
            <a:ext cx="129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i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1"/>
          <p:cNvSpPr/>
          <p:nvPr/>
        </p:nvSpPr>
        <p:spPr>
          <a:xfrm>
            <a:off x="2627280" y="256536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2"/>
          <p:cNvSpPr/>
          <p:nvPr/>
        </p:nvSpPr>
        <p:spPr>
          <a:xfrm>
            <a:off x="4788000" y="256536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3"/>
          <p:cNvSpPr/>
          <p:nvPr/>
        </p:nvSpPr>
        <p:spPr>
          <a:xfrm>
            <a:off x="7020000" y="263700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mì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4"/>
          <p:cNvSpPr/>
          <p:nvPr/>
        </p:nvSpPr>
        <p:spPr>
          <a:xfrm>
            <a:off x="611280" y="4581360"/>
            <a:ext cx="15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i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5"/>
          <p:cNvSpPr/>
          <p:nvPr/>
        </p:nvSpPr>
        <p:spPr>
          <a:xfrm>
            <a:off x="2771640" y="4581360"/>
            <a:ext cx="13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y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6"/>
          <p:cNvSpPr/>
          <p:nvPr/>
        </p:nvSpPr>
        <p:spPr>
          <a:xfrm>
            <a:off x="4716360" y="450864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7"/>
          <p:cNvSpPr/>
          <p:nvPr/>
        </p:nvSpPr>
        <p:spPr>
          <a:xfrm>
            <a:off x="7380360" y="4653000"/>
            <a:ext cx="131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lǐ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95280" y="620640"/>
            <a:ext cx="8424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生字宝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324000" y="256536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2484360" y="256536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716360" y="256536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6804000" y="256536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324000" y="414972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2484360" y="414972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4716360" y="4149720"/>
            <a:ext cx="1944360" cy="86472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956360" cy="439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61800" indent="-361800" algn="ctr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玩耍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ctr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慌张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  <a:p>
            <a:pPr marL="361800" indent="-361800" algn="ctr">
              <a:lnSpc>
                <a:spcPct val="110000"/>
              </a:lnSpc>
              <a:spcBef>
                <a:spcPts val="1199"/>
              </a:spcBef>
              <a:buClr>
                <a:srgbClr val="869d59"/>
              </a:buClr>
              <a:buSzPct val="50000"/>
              <a:buFont typeface="Wingdings 2" charset="2"/>
              <a:buChar char=""/>
            </a:pPr>
            <a:r>
              <a:rPr b="0" lang="zh-CN" sz="2400" spc="-1" strike="noStrike">
                <a:solidFill>
                  <a:srgbClr val="8c8f3f"/>
                </a:solidFill>
                <a:latin typeface="幼圆"/>
                <a:ea typeface="幼圆"/>
              </a:rPr>
              <a:t>好奇</a:t>
            </a:r>
            <a:endParaRPr b="0" lang="en-US" sz="2400" spc="-1" strike="noStrike">
              <a:solidFill>
                <a:srgbClr val="8c8f3f"/>
              </a:solidFill>
              <a:latin typeface="幼圆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611280" y="404640"/>
            <a:ext cx="3889080" cy="1152000"/>
          </a:xfrm>
          <a:prstGeom prst="ellipse">
            <a:avLst/>
          </a:prstGeom>
          <a:solidFill>
            <a:srgbClr val="ffff00"/>
          </a:solidFill>
          <a:ln w="952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词语花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第一PPT模板网-WWW.1PPT.COM">
  <a:themeElements>
    <a:clrScheme name="A000120150601A13PWBG 1">
      <a:dk1>
        <a:srgbClr val="4d4d4d"/>
      </a:dk1>
      <a:lt1>
        <a:srgbClr val="ffffff"/>
      </a:lt1>
      <a:dk2>
        <a:srgbClr val="4d4d4d"/>
      </a:dk2>
      <a:lt2>
        <a:srgbClr val="ffffff"/>
      </a:lt2>
      <a:accent1>
        <a:srgbClr val="869d59"/>
      </a:accent1>
      <a:accent2>
        <a:srgbClr val="b4b75c"/>
      </a:accent2>
      <a:accent3>
        <a:srgbClr val="ffffff"/>
      </a:accent3>
      <a:accent4>
        <a:srgbClr val="404040"/>
      </a:accent4>
      <a:accent5>
        <a:srgbClr val="c3ccb5"/>
      </a:accent5>
      <a:accent6>
        <a:srgbClr val="a3a653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A000120150601A13PWBG 1">
      <a:dk1>
        <a:srgbClr val="4d4d4d"/>
      </a:dk1>
      <a:lt1>
        <a:srgbClr val="ffffff"/>
      </a:lt1>
      <a:dk2>
        <a:srgbClr val="4d4d4d"/>
      </a:dk2>
      <a:lt2>
        <a:srgbClr val="ffffff"/>
      </a:lt2>
      <a:accent1>
        <a:srgbClr val="869d59"/>
      </a:accent1>
      <a:accent2>
        <a:srgbClr val="b4b75c"/>
      </a:accent2>
      <a:accent3>
        <a:srgbClr val="ffffff"/>
      </a:accent3>
      <a:accent4>
        <a:srgbClr val="404040"/>
      </a:accent4>
      <a:accent5>
        <a:srgbClr val="c3ccb5"/>
      </a:accent5>
      <a:accent6>
        <a:srgbClr val="a3a653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A000120150601A13PWBG 1">
      <a:dk1>
        <a:srgbClr val="4d4d4d"/>
      </a:dk1>
      <a:lt1>
        <a:srgbClr val="ffffff"/>
      </a:lt1>
      <a:dk2>
        <a:srgbClr val="4d4d4d"/>
      </a:dk2>
      <a:lt2>
        <a:srgbClr val="ffffff"/>
      </a:lt2>
      <a:accent1>
        <a:srgbClr val="869d59"/>
      </a:accent1>
      <a:accent2>
        <a:srgbClr val="b4b75c"/>
      </a:accent2>
      <a:accent3>
        <a:srgbClr val="ffffff"/>
      </a:accent3>
      <a:accent4>
        <a:srgbClr val="404040"/>
      </a:accent4>
      <a:accent5>
        <a:srgbClr val="c3ccb5"/>
      </a:accent5>
      <a:accent6>
        <a:srgbClr val="a3a653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fffff"/>
      </a:lt2>
      <a:accent1>
        <a:srgbClr val="869d59"/>
      </a:accent1>
      <a:accent2>
        <a:srgbClr val="b4b75c"/>
      </a:accent2>
      <a:accent3>
        <a:srgbClr val="ffffff"/>
      </a:accent3>
      <a:accent4>
        <a:srgbClr val="404040"/>
      </a:accent4>
      <a:accent5>
        <a:srgbClr val="c3ccb5"/>
      </a:accent5>
      <a:accent6>
        <a:srgbClr val="a3a653"/>
      </a:accent6>
      <a:hlink>
        <a:srgbClr val="0070c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40</Template>
  <TotalTime>419</TotalTime>
  <Application>LibreOffice/7.4.7.2$Linux_X86_64 LibreOffice_project/40$Build-2</Application>
  <AppVersion>15.0000</AppVersion>
  <Words>1122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36:2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18T03:31:59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4:3)</vt:lpwstr>
  </property>
  <property fmtid="{D5CDD505-2E9C-101B-9397-08002B2CF9AE}" pid="4" name="Slides">
    <vt:r8>23</vt:r8>
  </property>
</Properties>
</file>