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695E7D-8BE7-404D-A423-4E58EE614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ftr" idx="5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" descr="图片1332.t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标题 1"/>
          <p:cNvSpPr/>
          <p:nvPr/>
        </p:nvSpPr>
        <p:spPr>
          <a:xfrm>
            <a:off x="950760" y="700200"/>
            <a:ext cx="4438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 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副标题 2"/>
          <p:cNvSpPr/>
          <p:nvPr/>
        </p:nvSpPr>
        <p:spPr>
          <a:xfrm>
            <a:off x="792000" y="2028960"/>
            <a:ext cx="48096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部编本人教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八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直接连接符 4"/>
          <p:cNvCxnSpPr/>
          <p:nvPr/>
        </p:nvCxnSpPr>
        <p:spPr>
          <a:xfrm>
            <a:off x="815760" y="1881000"/>
            <a:ext cx="4707360" cy="360"/>
          </a:xfrm>
          <a:prstGeom prst="straightConnector1">
            <a:avLst/>
          </a:prstGeom>
          <a:ln w="38100">
            <a:solidFill>
              <a:srgbClr val="000000"/>
            </a:solidFill>
            <a:round/>
          </a:ln>
        </p:spPr>
      </p:cxnSp>
      <p:sp>
        <p:nvSpPr>
          <p:cNvPr id="48" name="矩形 7"/>
          <p:cNvSpPr/>
          <p:nvPr/>
        </p:nvSpPr>
        <p:spPr>
          <a:xfrm>
            <a:off x="1464840" y="4335480"/>
            <a:ext cx="364392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7"/>
          <p:cNvGrpSpPr/>
          <p:nvPr/>
        </p:nvGrpSpPr>
        <p:grpSpPr>
          <a:xfrm>
            <a:off x="625320" y="1332000"/>
            <a:ext cx="1536480" cy="2115720"/>
            <a:chOff x="625320" y="1332000"/>
            <a:chExt cx="1536480" cy="2115720"/>
          </a:xfrm>
        </p:grpSpPr>
        <p:sp>
          <p:nvSpPr>
            <p:cNvPr id="89" name="AutoShape 8"/>
            <p:cNvSpPr/>
            <p:nvPr/>
          </p:nvSpPr>
          <p:spPr>
            <a:xfrm>
              <a:off x="625320" y="1801800"/>
              <a:ext cx="1279080" cy="1350720"/>
            </a:xfrm>
            <a:custGeom>
              <a:avLst/>
              <a:gdLst>
                <a:gd name="textAreaLeft" fmla="*/ 0 w 1279080"/>
                <a:gd name="textAreaRight" fmla="*/ 1279440 w 127908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9"/>
            <p:cNvSpPr/>
            <p:nvPr/>
          </p:nvSpPr>
          <p:spPr>
            <a:xfrm>
              <a:off x="1895400" y="1332000"/>
              <a:ext cx="266400" cy="2115720"/>
            </a:xfrm>
            <a:prstGeom prst="leftBrace">
              <a:avLst>
                <a:gd name="adj1" fmla="val 49371"/>
                <a:gd name="adj2" fmla="val 50000"/>
              </a:avLst>
            </a:prstGeom>
            <a:solidFill>
              <a:srgbClr val="00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32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91" name="Text Box 10"/>
          <p:cNvSpPr/>
          <p:nvPr/>
        </p:nvSpPr>
        <p:spPr>
          <a:xfrm>
            <a:off x="2244600" y="1282680"/>
            <a:ext cx="5608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流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57560" y="2725560"/>
            <a:ext cx="438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道阻且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"/>
          <p:cNvSpPr/>
          <p:nvPr/>
        </p:nvSpPr>
        <p:spPr>
          <a:xfrm>
            <a:off x="2109960" y="3970440"/>
            <a:ext cx="198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采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2138400" y="5351400"/>
            <a:ext cx="228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蒹葭采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3879720" y="1289160"/>
            <a:ext cx="344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名词，右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3827520" y="3944880"/>
            <a:ext cx="3611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动词，采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3654360" y="5327640"/>
            <a:ext cx="539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形容词，茂盛鲜明的样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3745080" y="3405240"/>
            <a:ext cx="75960" cy="101160"/>
          </a:xfrm>
          <a:prstGeom prst="flowChartConnector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3174840" y="4659480"/>
            <a:ext cx="75960" cy="101160"/>
          </a:xfrm>
          <a:prstGeom prst="flowChartConnector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3203640" y="6051600"/>
            <a:ext cx="75960" cy="101160"/>
          </a:xfrm>
          <a:prstGeom prst="flowChartConnector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1044360" y="208080"/>
            <a:ext cx="63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词多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582480" y="3981600"/>
            <a:ext cx="1546200" cy="2115720"/>
            <a:chOff x="582480" y="3981600"/>
            <a:chExt cx="1546200" cy="2115720"/>
          </a:xfrm>
        </p:grpSpPr>
        <p:sp>
          <p:nvSpPr>
            <p:cNvPr id="103" name="AutoShape 8"/>
            <p:cNvSpPr/>
            <p:nvPr/>
          </p:nvSpPr>
          <p:spPr>
            <a:xfrm>
              <a:off x="582480" y="4436640"/>
              <a:ext cx="1279080" cy="1350720"/>
            </a:xfrm>
            <a:custGeom>
              <a:avLst/>
              <a:gdLst>
                <a:gd name="textAreaLeft" fmla="*/ 0 w 1279080"/>
                <a:gd name="textAreaRight" fmla="*/ 1279440 w 127908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00"/>
            </a:solidFill>
            <a:ln w="9525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9"/>
            <p:cNvSpPr/>
            <p:nvPr/>
          </p:nvSpPr>
          <p:spPr>
            <a:xfrm>
              <a:off x="1862280" y="3981600"/>
              <a:ext cx="266400" cy="2115720"/>
            </a:xfrm>
            <a:prstGeom prst="leftBrace">
              <a:avLst>
                <a:gd name="adj1" fmla="val 49371"/>
                <a:gd name="adj2" fmla="val 50000"/>
              </a:avLst>
            </a:prstGeom>
            <a:solidFill>
              <a:srgbClr val="00ffff"/>
            </a:soli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3200" spc="-1" strike="noStrike">
                <a:solidFill>
                  <a:srgbClr val="000000"/>
                </a:solidFill>
                <a:latin typeface="楷体"/>
                <a:ea typeface="楷体"/>
              </a:endParaRPr>
            </a:p>
          </p:txBody>
        </p:sp>
      </p:grpSp>
      <p:sp>
        <p:nvSpPr>
          <p:cNvPr id="105" name="Text Box 14"/>
          <p:cNvSpPr/>
          <p:nvPr/>
        </p:nvSpPr>
        <p:spPr>
          <a:xfrm>
            <a:off x="4089240" y="2706840"/>
            <a:ext cx="417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动词，向右迂曲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7"/>
          <p:cNvSpPr/>
          <p:nvPr/>
        </p:nvSpPr>
        <p:spPr>
          <a:xfrm>
            <a:off x="2894040" y="1981080"/>
            <a:ext cx="75960" cy="101160"/>
          </a:xfrm>
          <a:prstGeom prst="flowChartConnector">
            <a:avLst/>
          </a:prstGeom>
          <a:solidFill>
            <a:srgbClr val="ff0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1060560" y="528480"/>
            <a:ext cx="95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词类活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750960" y="1649520"/>
            <a:ext cx="799740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流之（名词做状语，在左右两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琴瑟友之（琴瑟，名词做动词，弹琴鼓瑟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友，名词做动词，向某人表示亲近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钟鼓乐之（使动用法，使……快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3"/>
          <p:cNvGrpSpPr/>
          <p:nvPr/>
        </p:nvGrpSpPr>
        <p:grpSpPr>
          <a:xfrm>
            <a:off x="466560" y="920880"/>
            <a:ext cx="2062080" cy="725040"/>
            <a:chOff x="466560" y="920880"/>
            <a:chExt cx="2062080" cy="725040"/>
          </a:xfrm>
        </p:grpSpPr>
        <p:pic>
          <p:nvPicPr>
            <p:cNvPr id="110" name="图片 1" descr=""/>
            <p:cNvPicPr/>
            <p:nvPr/>
          </p:nvPicPr>
          <p:blipFill>
            <a:blip r:embed="rId1"/>
            <a:stretch/>
          </p:blipFill>
          <p:spPr>
            <a:xfrm>
              <a:off x="540000" y="931320"/>
              <a:ext cx="19886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2"/>
            <p:cNvSpPr/>
            <p:nvPr/>
          </p:nvSpPr>
          <p:spPr>
            <a:xfrm>
              <a:off x="466560" y="92088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5"/>
          <p:cNvSpPr/>
          <p:nvPr/>
        </p:nvSpPr>
        <p:spPr>
          <a:xfrm>
            <a:off x="960480" y="2476440"/>
            <a:ext cx="7480080" cy="4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听课文朗读，疏通生字词，体会诗歌的音律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标题 1"/>
          <p:cNvSpPr/>
          <p:nvPr/>
        </p:nvSpPr>
        <p:spPr>
          <a:xfrm>
            <a:off x="225360" y="236520"/>
            <a:ext cx="28141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朗读课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247680" y="2822760"/>
            <a:ext cx="438120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关雎鸠，在河之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君子好逑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荇菜，左右流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寤寐求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求之不得，寤寐思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直接连接符 1"/>
          <p:cNvCxnSpPr/>
          <p:nvPr/>
        </p:nvCxnSpPr>
        <p:spPr>
          <a:xfrm>
            <a:off x="4424040" y="922320"/>
            <a:ext cx="360" cy="5382000"/>
          </a:xfrm>
          <a:prstGeom prst="straightConnector1">
            <a:avLst/>
          </a:prstGeom>
          <a:ln w="31750">
            <a:solidFill>
              <a:srgbClr val="00b050"/>
            </a:solidFill>
            <a:round/>
          </a:ln>
        </p:spPr>
      </p:cxnSp>
      <p:sp>
        <p:nvSpPr>
          <p:cNvPr id="116" name="Rectangle 2"/>
          <p:cNvSpPr/>
          <p:nvPr/>
        </p:nvSpPr>
        <p:spPr>
          <a:xfrm>
            <a:off x="4545000" y="2859480"/>
            <a:ext cx="4195440" cy="18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悠哉悠哉，辗转反侧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荇菜，左右采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琴瑟友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荇菜，左右芼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钟鼓乐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2087640" y="1437840"/>
            <a:ext cx="498132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关雎鸠，在河之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君子好逑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接连接符 1"/>
          <p:cNvCxnSpPr/>
          <p:nvPr/>
        </p:nvCxnSpPr>
        <p:spPr>
          <a:xfrm>
            <a:off x="477720" y="2576160"/>
            <a:ext cx="8069400" cy="13320"/>
          </a:xfrm>
          <a:prstGeom prst="straightConnector1">
            <a:avLst/>
          </a:prstGeom>
          <a:ln w="28575">
            <a:solidFill>
              <a:srgbClr val="00b050"/>
            </a:solidFill>
            <a:round/>
          </a:ln>
        </p:spPr>
      </p:cxnSp>
      <p:sp>
        <p:nvSpPr>
          <p:cNvPr id="119" name="Rectangle 2"/>
          <p:cNvSpPr/>
          <p:nvPr/>
        </p:nvSpPr>
        <p:spPr>
          <a:xfrm>
            <a:off x="654120" y="3012840"/>
            <a:ext cx="78721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关雎鸠：雎鸠鸟不停地鸣叫。关关，拟声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雎鸠，一种水鸟，一般认为就是鱼鹰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4761000" y="608760"/>
            <a:ext cx="32094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洲：水中的陆地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662040" y="4264560"/>
            <a:ext cx="80402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：窈窕，指文静美好的样子。淑，美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美好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652320" y="5537520"/>
            <a:ext cx="80719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1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君子好逑：君子，当时对贵族男子的统称。好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好配偶。逑，配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标题 1"/>
          <p:cNvSpPr/>
          <p:nvPr/>
        </p:nvSpPr>
        <p:spPr>
          <a:xfrm>
            <a:off x="285840" y="201600"/>
            <a:ext cx="289224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疏通文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7"/>
          <p:cNvSpPr/>
          <p:nvPr/>
        </p:nvSpPr>
        <p:spPr>
          <a:xfrm>
            <a:off x="372960" y="2919240"/>
            <a:ext cx="8465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运用了比兴的写作手法，以成双成对的雎鸠来象征人间的爱情。以“窈窕淑女，君子好逑”为纲目，统摄全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/>
          <p:cNvSpPr/>
          <p:nvPr/>
        </p:nvSpPr>
        <p:spPr>
          <a:xfrm>
            <a:off x="343080" y="1074600"/>
            <a:ext cx="81230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文：雎鸠鸟不停地鸣叫，立在那河中沙洲上。文静美好的少女，是小伙子好的配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892160" y="702360"/>
            <a:ext cx="5333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荇菜，左右流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寤寐求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直接连接符 2"/>
          <p:cNvCxnSpPr/>
          <p:nvPr/>
        </p:nvCxnSpPr>
        <p:spPr>
          <a:xfrm>
            <a:off x="563400" y="2043000"/>
            <a:ext cx="8069760" cy="12960"/>
          </a:xfrm>
          <a:prstGeom prst="straightConnector1">
            <a:avLst/>
          </a:prstGeom>
          <a:ln w="28575">
            <a:solidFill>
              <a:srgbClr val="00b050"/>
            </a:solidFill>
            <a:round/>
          </a:ln>
        </p:spPr>
      </p:cxnSp>
      <p:sp>
        <p:nvSpPr>
          <p:cNvPr id="128" name="Rectangle 2"/>
          <p:cNvSpPr/>
          <p:nvPr/>
        </p:nvSpPr>
        <p:spPr>
          <a:xfrm>
            <a:off x="703440" y="2317320"/>
            <a:ext cx="30841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：长短不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959280" y="2374200"/>
            <a:ext cx="399852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荇菜：一种可食的水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712800" y="3117240"/>
            <a:ext cx="2085480" cy="4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流：捞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959280" y="3213000"/>
            <a:ext cx="4855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寤寐：这里意思是日日夜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寤，醒时。寐，睡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561960" y="4357800"/>
            <a:ext cx="804024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文：水中长短不齐的荇菜，在船的左右两边捞取。文静美好的少女，日日夜夜想追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800360" y="799200"/>
            <a:ext cx="5333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求之不得，寤寐思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悠哉悠哉，辗转反侧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连接符 5"/>
          <p:cNvCxnSpPr/>
          <p:nvPr/>
        </p:nvCxnSpPr>
        <p:spPr>
          <a:xfrm>
            <a:off x="471240" y="2103120"/>
            <a:ext cx="8069760" cy="13320"/>
          </a:xfrm>
          <a:prstGeom prst="straightConnector1">
            <a:avLst/>
          </a:prstGeom>
          <a:ln w="28575">
            <a:solidFill>
              <a:srgbClr val="00b050"/>
            </a:solidFill>
            <a:round/>
          </a:ln>
        </p:spPr>
      </p:cxnSp>
      <p:sp>
        <p:nvSpPr>
          <p:cNvPr id="135" name="Rectangle 2"/>
          <p:cNvSpPr/>
          <p:nvPr/>
        </p:nvSpPr>
        <p:spPr>
          <a:xfrm>
            <a:off x="458640" y="2391120"/>
            <a:ext cx="308412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思服：思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875040" y="2376720"/>
            <a:ext cx="399852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悠：忧思的样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93560" y="3385440"/>
            <a:ext cx="827676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辗转反侧：形容心中有事，躺在床上翻来覆去地不能入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2"/>
          <p:cNvSpPr/>
          <p:nvPr/>
        </p:nvSpPr>
        <p:spPr>
          <a:xfrm>
            <a:off x="431640" y="4294080"/>
            <a:ext cx="81864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文：追求没能如心愿，日夜牵挂在心头。长夜漫漫不到头，翻来覆去难成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23"/>
          <p:cNvSpPr/>
          <p:nvPr/>
        </p:nvSpPr>
        <p:spPr>
          <a:xfrm>
            <a:off x="698400" y="2004840"/>
            <a:ext cx="7967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动作描写：“辗转反侧”，运用动作描写，突出其内心的不平静。形象逼真地表现了主人公深深的思念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884240" y="662760"/>
            <a:ext cx="5333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荇菜，左右采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琴瑟友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直接连接符 5"/>
          <p:cNvCxnSpPr/>
          <p:nvPr/>
        </p:nvCxnSpPr>
        <p:spPr>
          <a:xfrm>
            <a:off x="448920" y="2049120"/>
            <a:ext cx="8069760" cy="13320"/>
          </a:xfrm>
          <a:prstGeom prst="straightConnector1">
            <a:avLst/>
          </a:prstGeom>
          <a:ln w="28575">
            <a:solidFill>
              <a:srgbClr val="00b050"/>
            </a:solidFill>
            <a:round/>
          </a:ln>
        </p:spPr>
      </p:cxnSp>
      <p:sp>
        <p:nvSpPr>
          <p:cNvPr id="142" name="Rectangle 2"/>
          <p:cNvSpPr/>
          <p:nvPr/>
        </p:nvSpPr>
        <p:spPr>
          <a:xfrm>
            <a:off x="1616040" y="2302200"/>
            <a:ext cx="597960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琴瑟友之：弹琴鼓瑟对她表示亲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2"/>
          <p:cNvSpPr/>
          <p:nvPr/>
        </p:nvSpPr>
        <p:spPr>
          <a:xfrm>
            <a:off x="352440" y="2808360"/>
            <a:ext cx="8486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文：水中长短不齐的荇菜，在船的左右采摘。文静美好的少女，我弹奏着琴瑟和你亲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"/>
          <p:cNvSpPr/>
          <p:nvPr/>
        </p:nvSpPr>
        <p:spPr>
          <a:xfrm>
            <a:off x="393840" y="4402080"/>
            <a:ext cx="8461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设想姑娘已经答应自己的请求，便兴奋地弹琴、鼓瑟以亲近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3"/>
          <p:cNvGrpSpPr/>
          <p:nvPr/>
        </p:nvGrpSpPr>
        <p:grpSpPr>
          <a:xfrm>
            <a:off x="184320" y="311040"/>
            <a:ext cx="2061720" cy="725400"/>
            <a:chOff x="184320" y="311040"/>
            <a:chExt cx="2061720" cy="725400"/>
          </a:xfrm>
        </p:grpSpPr>
        <p:pic>
          <p:nvPicPr>
            <p:cNvPr id="50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321840"/>
              <a:ext cx="19886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文本框 2"/>
            <p:cNvSpPr/>
            <p:nvPr/>
          </p:nvSpPr>
          <p:spPr>
            <a:xfrm>
              <a:off x="184320" y="3110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4"/>
          <p:cNvSpPr/>
          <p:nvPr/>
        </p:nvSpPr>
        <p:spPr>
          <a:xfrm>
            <a:off x="173160" y="1093680"/>
            <a:ext cx="88182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了解有关《诗经》的文学常识，有感情地朗读并背诵古诗，把握这两首诗的内容及其思想感情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216000" y="2496960"/>
            <a:ext cx="8459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学习《诗经》中赋、比、兴的创作手法及其章法节奏的特点；分析诗歌的语言特色，体会诗歌的音韵美、意境美、含蓄美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272880" y="4514760"/>
            <a:ext cx="8511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受诗歌的艺术魅力，正确认识古代劳动人民对美好爱情的追求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85880" y="930960"/>
            <a:ext cx="533376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差荇菜，左右芼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，钟鼓乐之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连接符 5"/>
          <p:cNvCxnSpPr/>
          <p:nvPr/>
        </p:nvCxnSpPr>
        <p:spPr>
          <a:xfrm>
            <a:off x="555480" y="2217600"/>
            <a:ext cx="8069760" cy="12960"/>
          </a:xfrm>
          <a:prstGeom prst="straightConnector1">
            <a:avLst/>
          </a:prstGeom>
          <a:ln w="28575">
            <a:solidFill>
              <a:srgbClr val="00b050"/>
            </a:solidFill>
            <a:round/>
          </a:ln>
        </p:spPr>
      </p:cxnSp>
      <p:sp>
        <p:nvSpPr>
          <p:cNvPr id="147" name="Rectangle 2"/>
          <p:cNvSpPr/>
          <p:nvPr/>
        </p:nvSpPr>
        <p:spPr>
          <a:xfrm>
            <a:off x="992160" y="2441880"/>
            <a:ext cx="190296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芼：挑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973080" y="3445560"/>
            <a:ext cx="76276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5000" anchor="ctr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钟鼓乐之：敲击钟鼓使她快乐。乐，形容词的使动用法，使……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"/>
          <p:cNvSpPr/>
          <p:nvPr/>
        </p:nvSpPr>
        <p:spPr>
          <a:xfrm>
            <a:off x="289080" y="4351320"/>
            <a:ext cx="84355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译文：水中长短不齐的荇菜，在船的左右挑选。文静美好的少女，我敲击着钟鼓使你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23"/>
          <p:cNvSpPr/>
          <p:nvPr/>
        </p:nvSpPr>
        <p:spPr>
          <a:xfrm>
            <a:off x="574560" y="3054240"/>
            <a:ext cx="8156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四句反复叠唱：描写姑娘在水边一左一右采摘、捞取荇菜，就眼前之景起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612720" y="1263600"/>
            <a:ext cx="79671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句设想与女子结婚时鼓乐齐鸣的欢乐场面，表现男子的强烈愿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652320" y="660240"/>
            <a:ext cx="2285640" cy="231120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  <p:sp>
        <p:nvSpPr>
          <p:cNvPr id="153" name="WordArt 5"/>
          <p:cNvSpPr txBox="1"/>
          <p:nvPr/>
        </p:nvSpPr>
        <p:spPr>
          <a:xfrm>
            <a:off x="2948040" y="5029200"/>
            <a:ext cx="2285640" cy="12949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en-US" sz="3600" spc="-1" strike="noStrike">
              <a:ln w="0">
                <a:noFill/>
              </a:ln>
              <a:solidFill>
                <a:srgbClr val="729fcf"/>
              </a:solidFill>
              <a:latin typeface="宋体"/>
              <a:ea typeface="宋体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2033280" y="3403440"/>
            <a:ext cx="1219320" cy="1727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cxnSp>
        <p:nvCxnSpPr>
          <p:cNvPr id="155" name="AutoShape 9"/>
          <p:cNvCxnSpPr/>
          <p:nvPr/>
        </p:nvCxnSpPr>
        <p:spPr>
          <a:xfrm>
            <a:off x="2160360" y="3573360"/>
            <a:ext cx="1219680" cy="1727640"/>
          </a:xfrm>
          <a:prstGeom prst="straightConnector1">
            <a:avLst/>
          </a:prstGeom>
          <a:ln w="0">
            <a:noFill/>
          </a:ln>
        </p:spPr>
      </p:cxnSp>
      <p:sp>
        <p:nvSpPr>
          <p:cNvPr id="156" name="Line 10"/>
          <p:cNvSpPr/>
          <p:nvPr/>
        </p:nvSpPr>
        <p:spPr>
          <a:xfrm flipH="1">
            <a:off x="3100320" y="5333760"/>
            <a:ext cx="15228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5462280" y="2692080"/>
            <a:ext cx="1752840" cy="2946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8" name="Line 12"/>
          <p:cNvSpPr/>
          <p:nvPr/>
        </p:nvSpPr>
        <p:spPr>
          <a:xfrm flipV="1">
            <a:off x="5005080" y="2387520"/>
            <a:ext cx="1413000" cy="2844720"/>
          </a:xfrm>
          <a:prstGeom prst="line">
            <a:avLst/>
          </a:prstGeom>
          <a:ln w="5715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2338200" y="2387520"/>
            <a:ext cx="1146240" cy="2844720"/>
          </a:xfrm>
          <a:prstGeom prst="line">
            <a:avLst/>
          </a:prstGeom>
          <a:ln w="5715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352440" y="254160"/>
            <a:ext cx="6108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人思想感情变化的过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7"/>
          <p:cNvSpPr/>
          <p:nvPr/>
        </p:nvSpPr>
        <p:spPr>
          <a:xfrm>
            <a:off x="349200" y="1492200"/>
            <a:ext cx="365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渴望与追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4545000" y="1487520"/>
            <a:ext cx="365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欢聚和成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9"/>
          <p:cNvSpPr/>
          <p:nvPr/>
        </p:nvSpPr>
        <p:spPr>
          <a:xfrm>
            <a:off x="2744640" y="5435640"/>
            <a:ext cx="283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忧思与烦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4871880" y="3726000"/>
            <a:ext cx="283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1668600" y="3576600"/>
            <a:ext cx="139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受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2"/>
          <p:cNvSpPr/>
          <p:nvPr/>
        </p:nvSpPr>
        <p:spPr>
          <a:xfrm>
            <a:off x="209520" y="2922480"/>
            <a:ext cx="566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左大括号 1"/>
          <p:cNvSpPr/>
          <p:nvPr/>
        </p:nvSpPr>
        <p:spPr>
          <a:xfrm>
            <a:off x="755640" y="1962000"/>
            <a:ext cx="228240" cy="3341160"/>
          </a:xfrm>
          <a:prstGeom prst="leftBrace">
            <a:avLst>
              <a:gd name="adj1" fmla="val 96904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8" name="文本框 2"/>
          <p:cNvSpPr/>
          <p:nvPr/>
        </p:nvSpPr>
        <p:spPr>
          <a:xfrm>
            <a:off x="1866240" y="193824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章：爱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"/>
          <p:cNvSpPr/>
          <p:nvPr/>
        </p:nvSpPr>
        <p:spPr>
          <a:xfrm>
            <a:off x="1542600" y="32828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二章：思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1598040" y="462744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三章：愿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左大括号 35"/>
          <p:cNvSpPr/>
          <p:nvPr/>
        </p:nvSpPr>
        <p:spPr>
          <a:xfrm rot="10800000">
            <a:off x="7074000" y="1670400"/>
            <a:ext cx="234720" cy="3839760"/>
          </a:xfrm>
          <a:prstGeom prst="leftBrace">
            <a:avLst>
              <a:gd name="adj1" fmla="val 96904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7157880" y="3143160"/>
            <a:ext cx="180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追求爱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左大括号 7"/>
          <p:cNvSpPr/>
          <p:nvPr/>
        </p:nvSpPr>
        <p:spPr>
          <a:xfrm>
            <a:off x="3263760" y="1747800"/>
            <a:ext cx="75960" cy="823680"/>
          </a:xfrm>
          <a:prstGeom prst="leftBrace">
            <a:avLst>
              <a:gd name="adj1" fmla="val 96904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74" name="文本框 37"/>
          <p:cNvSpPr/>
          <p:nvPr/>
        </p:nvSpPr>
        <p:spPr>
          <a:xfrm>
            <a:off x="3311640" y="1471680"/>
            <a:ext cx="4269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窈窕淑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8"/>
          <p:cNvSpPr/>
          <p:nvPr/>
        </p:nvSpPr>
        <p:spPr>
          <a:xfrm>
            <a:off x="3768120" y="2101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君子好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左大括号 41"/>
          <p:cNvSpPr/>
          <p:nvPr/>
        </p:nvSpPr>
        <p:spPr>
          <a:xfrm>
            <a:off x="3241800" y="3200400"/>
            <a:ext cx="75960" cy="823680"/>
          </a:xfrm>
          <a:prstGeom prst="leftBrace">
            <a:avLst>
              <a:gd name="adj1" fmla="val 96904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77" name="文本框 42"/>
          <p:cNvSpPr/>
          <p:nvPr/>
        </p:nvSpPr>
        <p:spPr>
          <a:xfrm>
            <a:off x="3745800" y="29034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寤寐思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43"/>
          <p:cNvSpPr/>
          <p:nvPr/>
        </p:nvSpPr>
        <p:spPr>
          <a:xfrm>
            <a:off x="3753720" y="35352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辗转反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左大括号 47"/>
          <p:cNvSpPr/>
          <p:nvPr/>
        </p:nvSpPr>
        <p:spPr>
          <a:xfrm>
            <a:off x="3295800" y="4470480"/>
            <a:ext cx="75960" cy="823680"/>
          </a:xfrm>
          <a:prstGeom prst="leftBrace">
            <a:avLst>
              <a:gd name="adj1" fmla="val 96904"/>
              <a:gd name="adj2" fmla="val 50000"/>
            </a:avLst>
          </a:prstGeom>
          <a:noFill/>
          <a:ln w="28575">
            <a:solidFill>
              <a:srgbClr val="00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80" name="文本框 48"/>
          <p:cNvSpPr/>
          <p:nvPr/>
        </p:nvSpPr>
        <p:spPr>
          <a:xfrm>
            <a:off x="3782160" y="42544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琴瑟友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9"/>
          <p:cNvSpPr/>
          <p:nvPr/>
        </p:nvSpPr>
        <p:spPr>
          <a:xfrm>
            <a:off x="3790080" y="48848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钟鼓乐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3"/>
          <p:cNvGrpSpPr/>
          <p:nvPr/>
        </p:nvGrpSpPr>
        <p:grpSpPr>
          <a:xfrm>
            <a:off x="390600" y="431640"/>
            <a:ext cx="2061720" cy="725400"/>
            <a:chOff x="390600" y="431640"/>
            <a:chExt cx="2061720" cy="725400"/>
          </a:xfrm>
        </p:grpSpPr>
        <p:pic>
          <p:nvPicPr>
            <p:cNvPr id="183" name="图片 1" descr=""/>
            <p:cNvPicPr/>
            <p:nvPr/>
          </p:nvPicPr>
          <p:blipFill>
            <a:blip r:embed="rId1"/>
            <a:stretch/>
          </p:blipFill>
          <p:spPr>
            <a:xfrm>
              <a:off x="463680" y="442440"/>
              <a:ext cx="19886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文本框 2"/>
            <p:cNvSpPr/>
            <p:nvPr/>
          </p:nvSpPr>
          <p:spPr>
            <a:xfrm>
              <a:off x="390600" y="4316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结构梳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文本框 23"/>
          <p:cNvSpPr/>
          <p:nvPr/>
        </p:nvSpPr>
        <p:spPr>
          <a:xfrm>
            <a:off x="5054760" y="1487520"/>
            <a:ext cx="21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联想到爱情真诚（起兴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24"/>
          <p:cNvSpPr/>
          <p:nvPr/>
        </p:nvSpPr>
        <p:spPr>
          <a:xfrm>
            <a:off x="5067360" y="2922480"/>
            <a:ext cx="21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苦闷与焦灼（实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5"/>
          <p:cNvSpPr/>
          <p:nvPr/>
        </p:nvSpPr>
        <p:spPr>
          <a:xfrm>
            <a:off x="5046840" y="4284720"/>
            <a:ext cx="21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谐与欢乐（虚写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77720" y="1674720"/>
            <a:ext cx="558288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40000"/>
              </a:lnSpc>
              <a:spcBef>
                <a:spcPts val="26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关雎》写一个男子对女子的思念、追求的过程，写求之不得的焦虑和幻想求而得之的喜悦，反映了古代劳动人民对美好爱情的向往和执着的追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2" descr="5e883faf812763a2-93a8d304c188a7a3-0fb082aa615b048edea4494ce1efafa1"/>
          <p:cNvPicPr/>
          <p:nvPr/>
        </p:nvPicPr>
        <p:blipFill>
          <a:blip r:embed="rId1"/>
          <a:stretch/>
        </p:blipFill>
        <p:spPr>
          <a:xfrm>
            <a:off x="6292800" y="1766880"/>
            <a:ext cx="2569680" cy="3911400"/>
          </a:xfrm>
          <a:prstGeom prst="rect">
            <a:avLst/>
          </a:prstGeom>
          <a:ln w="0">
            <a:noFill/>
          </a:ln>
        </p:spPr>
      </p:pic>
      <p:grpSp>
        <p:nvGrpSpPr>
          <p:cNvPr id="190" name="组合 3"/>
          <p:cNvGrpSpPr/>
          <p:nvPr/>
        </p:nvGrpSpPr>
        <p:grpSpPr>
          <a:xfrm>
            <a:off x="347760" y="550800"/>
            <a:ext cx="2061720" cy="725400"/>
            <a:chOff x="347760" y="550800"/>
            <a:chExt cx="2061720" cy="725400"/>
          </a:xfrm>
        </p:grpSpPr>
        <p:pic>
          <p:nvPicPr>
            <p:cNvPr id="191" name="图片 1" descr=""/>
            <p:cNvPicPr/>
            <p:nvPr/>
          </p:nvPicPr>
          <p:blipFill>
            <a:blip r:embed="rId2"/>
            <a:stretch/>
          </p:blipFill>
          <p:spPr>
            <a:xfrm>
              <a:off x="420840" y="561600"/>
              <a:ext cx="19886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文本框 2"/>
            <p:cNvSpPr/>
            <p:nvPr/>
          </p:nvSpPr>
          <p:spPr>
            <a:xfrm>
              <a:off x="347760" y="55080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主旨概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247680" y="1130400"/>
            <a:ext cx="8625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声叠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双声叠韵的联绵词来增强诗歌音调的和谐美和描写人物的生动性。如“窈窕”，是叠韵；“参差”，是双声；“辗转”，既是双声又是叠韵。用各类词语修饰动作，如“辗转反侧”；摹拟形象，如“窈窕淑女”；描写景物，如“参差荇菜”，无不活泼逼真、声情并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3"/>
          <p:cNvGrpSpPr/>
          <p:nvPr/>
        </p:nvGrpSpPr>
        <p:grpSpPr>
          <a:xfrm>
            <a:off x="466560" y="420840"/>
            <a:ext cx="2062080" cy="726480"/>
            <a:chOff x="466560" y="420840"/>
            <a:chExt cx="2062080" cy="726480"/>
          </a:xfrm>
        </p:grpSpPr>
        <p:pic>
          <p:nvPicPr>
            <p:cNvPr id="195" name="图片 1" descr=""/>
            <p:cNvPicPr/>
            <p:nvPr/>
          </p:nvPicPr>
          <p:blipFill>
            <a:blip r:embed="rId1"/>
            <a:stretch/>
          </p:blipFill>
          <p:spPr>
            <a:xfrm>
              <a:off x="540000" y="431280"/>
              <a:ext cx="19886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2"/>
            <p:cNvSpPr/>
            <p:nvPr/>
          </p:nvSpPr>
          <p:spPr>
            <a:xfrm>
              <a:off x="466560" y="42084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写法借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685800" y="952560"/>
            <a:ext cx="79452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偶句入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种偶韵式支配着两千多年来我国古典诗歌谐韵的形式，而且全篇三次换韵，又有虚字脚“之”字不入韵，而以虚字的前一字为韵。这种在用韵方面的参差变化，极大地增强了诗歌的节奏感和音乐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501480" y="1049400"/>
            <a:ext cx="83005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起兴手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起兴，作为《诗经》中经常使用的一种表现手法，就是触景生情，因事寄兴。一般用于一首诗的开头，先用一两句话写一下周围景物，以引起下面的诗句。比如这首诗写雎鸠鸣叫，让人联想到男女欢爱，引出下文追求淑女的诗句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组合 3"/>
          <p:cNvGrpSpPr/>
          <p:nvPr/>
        </p:nvGrpSpPr>
        <p:grpSpPr>
          <a:xfrm>
            <a:off x="184320" y="351000"/>
            <a:ext cx="2061720" cy="726480"/>
            <a:chOff x="184320" y="351000"/>
            <a:chExt cx="2061720" cy="726480"/>
          </a:xfrm>
        </p:grpSpPr>
        <p:pic>
          <p:nvPicPr>
            <p:cNvPr id="56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361440"/>
              <a:ext cx="19886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文本框 2"/>
            <p:cNvSpPr/>
            <p:nvPr/>
          </p:nvSpPr>
          <p:spPr>
            <a:xfrm>
              <a:off x="184320" y="35100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作品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409680" y="1308240"/>
            <a:ext cx="8124480" cy="46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《诗经》是我国最早的一部诗歌总集，收录了从西周到春秋时期的诗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。按照音乐的特点，分为“风”“雅”“颂”三个部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风”又叫“国风”，是各地的歌谣。计有“周南”“召南”等十五国风，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6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其中大部分为周代民歌，是《诗经》中的精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588960" y="1123920"/>
            <a:ext cx="7695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雅”是西周王畿地区的雅乐，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又分为“大雅”“小雅”。“大雅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用于诸侯朝会；“小雅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用于贵宾宴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0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颂”是统治阶级宗庙祭祀的舞曲歌辞，其中“周颂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“鲁颂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“商颂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，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组合 3"/>
          <p:cNvGrpSpPr/>
          <p:nvPr/>
        </p:nvGrpSpPr>
        <p:grpSpPr>
          <a:xfrm>
            <a:off x="184320" y="351000"/>
            <a:ext cx="2061720" cy="726480"/>
            <a:chOff x="184320" y="351000"/>
            <a:chExt cx="2061720" cy="726480"/>
          </a:xfrm>
        </p:grpSpPr>
        <p:pic>
          <p:nvPicPr>
            <p:cNvPr id="61" name="图片 1" descr=""/>
            <p:cNvPicPr/>
            <p:nvPr/>
          </p:nvPicPr>
          <p:blipFill>
            <a:blip r:embed="rId1"/>
            <a:stretch/>
          </p:blipFill>
          <p:spPr>
            <a:xfrm>
              <a:off x="257400" y="361440"/>
              <a:ext cx="1988640" cy="7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文本框 2"/>
            <p:cNvSpPr/>
            <p:nvPr/>
          </p:nvSpPr>
          <p:spPr>
            <a:xfrm>
              <a:off x="184320" y="351000"/>
              <a:ext cx="17139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70c0"/>
                  </a:solidFill>
                  <a:latin typeface="黑体"/>
                  <a:ea typeface="黑体"/>
                </a:rPr>
                <a:t>文体知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矩形 4"/>
          <p:cNvSpPr/>
          <p:nvPr/>
        </p:nvSpPr>
        <p:spPr>
          <a:xfrm>
            <a:off x="403200" y="1503360"/>
            <a:ext cx="815796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体诗：指的是唐代以前形成的较少格律限制的诗歌形式，有四言体、五言体、六言体和七言古代诗歌体等，大致押韵，不讲究平仄，句数不限。古体诗的发展轨迹：《诗经》→楚辞→汉赋→汉乐府→魏晋南北朝民歌→建安诗歌→陶诗等文人五言诗→唐代的古风、新乐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"/>
          <p:cNvSpPr/>
          <p:nvPr/>
        </p:nvSpPr>
        <p:spPr>
          <a:xfrm>
            <a:off x="2860560" y="584280"/>
            <a:ext cx="384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体诗和近体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"/>
          <p:cNvSpPr/>
          <p:nvPr/>
        </p:nvSpPr>
        <p:spPr>
          <a:xfrm>
            <a:off x="473040" y="963720"/>
            <a:ext cx="831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近体诗：隋唐出现的新诗体，有绝句和律诗两种。律诗通常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句（超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句的称为排律或长律），律诗分为首联、颔联、颈联和尾联。绝句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句。根据每句字数，可分为五律、七律、五绝、七绝，讲究韵律平仄，律诗还讲究对仗。除排律外，句数都有限定。结构整齐、讲究押韵、规定平仄是近体诗的最大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4"/>
          <p:cNvSpPr/>
          <p:nvPr/>
        </p:nvSpPr>
        <p:spPr>
          <a:xfrm>
            <a:off x="380880" y="1461960"/>
            <a:ext cx="8275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诗歌是最早出现的文学体裁，有着和其他体裁截然不同的特点。归结为五个方面：抒情性是诗歌的最基本特点；诗歌通过形象典型地反映生活；诗歌通过意境表达思想感情；古典诗歌具有精练和含蓄的特征；古代诗歌具有音乐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2"/>
          <p:cNvSpPr/>
          <p:nvPr/>
        </p:nvSpPr>
        <p:spPr>
          <a:xfrm>
            <a:off x="874080" y="588960"/>
            <a:ext cx="95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词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77920" y="1454040"/>
            <a:ext cx="87166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雎鸠（      ）   窈窕（        ） 逑（    ）   参差（      ）   荇菜（    ）   琴瑟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寤寐（      ）     芼（    ）   蒹葭（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溯洄（      ）   萋萋（    ）     晞（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湄（   ） 跻（   ） 坻（   ） 涘（   ） 沚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6"/>
          <p:cNvSpPr/>
          <p:nvPr/>
        </p:nvSpPr>
        <p:spPr>
          <a:xfrm>
            <a:off x="6454800" y="4986360"/>
            <a:ext cx="91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7"/>
          <p:cNvSpPr/>
          <p:nvPr/>
        </p:nvSpPr>
        <p:spPr>
          <a:xfrm>
            <a:off x="7283520" y="2406600"/>
            <a:ext cx="63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8"/>
          <p:cNvSpPr/>
          <p:nvPr/>
        </p:nvSpPr>
        <p:spPr>
          <a:xfrm>
            <a:off x="8158320" y="4978440"/>
            <a:ext cx="106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h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0"/>
          <p:cNvSpPr/>
          <p:nvPr/>
        </p:nvSpPr>
        <p:spPr>
          <a:xfrm>
            <a:off x="7040520" y="3297240"/>
            <a:ext cx="191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iān ji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1"/>
          <p:cNvSpPr/>
          <p:nvPr/>
        </p:nvSpPr>
        <p:spPr>
          <a:xfrm>
            <a:off x="7072200" y="1536840"/>
            <a:ext cx="106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2"/>
          <p:cNvSpPr/>
          <p:nvPr/>
        </p:nvSpPr>
        <p:spPr>
          <a:xfrm>
            <a:off x="7377480" y="4102200"/>
            <a:ext cx="35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5"/>
          <p:cNvSpPr/>
          <p:nvPr/>
        </p:nvSpPr>
        <p:spPr>
          <a:xfrm>
            <a:off x="4394160" y="2411280"/>
            <a:ext cx="1018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xìn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6"/>
          <p:cNvSpPr/>
          <p:nvPr/>
        </p:nvSpPr>
        <p:spPr>
          <a:xfrm>
            <a:off x="4546440" y="4122720"/>
            <a:ext cx="92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7"/>
          <p:cNvSpPr/>
          <p:nvPr/>
        </p:nvSpPr>
        <p:spPr>
          <a:xfrm>
            <a:off x="4575240" y="4960800"/>
            <a:ext cx="1107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h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8"/>
          <p:cNvSpPr/>
          <p:nvPr/>
        </p:nvSpPr>
        <p:spPr>
          <a:xfrm>
            <a:off x="2991240" y="498636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4100400" y="1555920"/>
            <a:ext cx="2209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ǎo ti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2"/>
          <p:cNvSpPr/>
          <p:nvPr/>
        </p:nvSpPr>
        <p:spPr>
          <a:xfrm>
            <a:off x="4495680" y="3232080"/>
            <a:ext cx="91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3"/>
          <p:cNvSpPr/>
          <p:nvPr/>
        </p:nvSpPr>
        <p:spPr>
          <a:xfrm>
            <a:off x="1374840" y="4122720"/>
            <a:ext cx="1447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ù h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4"/>
          <p:cNvSpPr/>
          <p:nvPr/>
        </p:nvSpPr>
        <p:spPr>
          <a:xfrm>
            <a:off x="1322280" y="1568520"/>
            <a:ext cx="151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ū ji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5"/>
          <p:cNvSpPr/>
          <p:nvPr/>
        </p:nvSpPr>
        <p:spPr>
          <a:xfrm>
            <a:off x="1332000" y="2411280"/>
            <a:ext cx="136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ēn c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7"/>
          <p:cNvSpPr/>
          <p:nvPr/>
        </p:nvSpPr>
        <p:spPr>
          <a:xfrm>
            <a:off x="1405080" y="3252960"/>
            <a:ext cx="150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ù mè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6"/>
          <p:cNvSpPr/>
          <p:nvPr/>
        </p:nvSpPr>
        <p:spPr>
          <a:xfrm>
            <a:off x="1020600" y="4995720"/>
            <a:ext cx="925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é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2"/>
          <p:cNvSpPr/>
          <p:nvPr/>
        </p:nvSpPr>
        <p:spPr>
          <a:xfrm>
            <a:off x="1416240" y="1106640"/>
            <a:ext cx="959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古今异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"/>
          <p:cNvSpPr/>
          <p:nvPr/>
        </p:nvSpPr>
        <p:spPr>
          <a:xfrm>
            <a:off x="1266840" y="2425680"/>
            <a:ext cx="690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流之（古义：捞取    今义：流动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道阻且右（古义：艰险    今义：阻挡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  <Pages>0</Pages>
  <Words>2609</Words>
  <Characters>0</Characters>
  <CharactersWithSpaces>0</CharactersWithSpaces>
  <Paragraphs>15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第一PPT模板网-WWW.1PPT.COM</dc:creator>
  <dc:description/>
  <cp:keywords>第一PPT模板网-WWW.1PPT.COM</cp:keywords>
  <dc:language>en-US</dc:language>
  <cp:lastModifiedBy/>
  <dcterms:modified xsi:type="dcterms:W3CDTF">2018-10-17T05:52:21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28</vt:r8>
  </property>
  <property fmtid="{D5CDD505-2E9C-101B-9397-08002B2CF9AE}" pid="5" name="来源">
    <vt:lpwstr>状元成才路系列</vt:lpwstr>
  </property>
</Properties>
</file>