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50D-0D86-4AF6-A112-2569581F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C66-D4F3-423C-B2F3-C9A09707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987-4EAD-4B48-AEAC-A7278F0D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026-86C0-40AA-9D71-B2FDA163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FE3-324D-40B3-A4BA-A1CD2BE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2D2-A0E4-47F0-9702-BF0CEC6D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061-184C-4AED-9D0B-601DDAF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ADA-FEAF-4A36-94E9-6FA6DDC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67A-2D3A-418B-8138-7CE4BE8C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103-F84D-440F-9243-0D0FEB7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8F4-A4E3-4ED1-A8DF-D64FD43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FC1-5285-4D0C-B256-A22C0AC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A1F04A-A73F-4EC5-A7FD-B30D1AA6DFE7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0800" y="538200"/>
            <a:ext cx="3993120" cy="37332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1" lang="en-US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4722840" y="2116440"/>
            <a:ext cx="4420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荷花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291960" y="1280520"/>
            <a:ext cx="4430520" cy="290916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5827320" y="816120"/>
            <a:ext cx="221148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配人教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075640" y="388080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696600" y="1240560"/>
            <a:ext cx="776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忽然觉得自己仿佛就是一朵荷花，穿着雪白的衣裳，站在阳光里。一阵微风吹来，我就翩翩起舞，雪白的衣裳随风飘动。不光是我一朵，一池的荷花都在舞蹈。风过了，我停止舞蹈，静静地站在那儿。蜻蜓飞过来，告诉我清早飞行的快乐。小鱼在脚下游过，告诉我昨夜做的好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94480" y="1983240"/>
            <a:ext cx="4017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过了好一会儿，我才记起我不是荷花，我是在看荷花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rcRect l="-38" t="0" r="0" b="4870"/>
          <a:stretch/>
        </p:blipFill>
        <p:spPr>
          <a:xfrm>
            <a:off x="4459680" y="1304280"/>
            <a:ext cx="4235760" cy="33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027680" y="2366640"/>
            <a:ext cx="4919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 （花瓣）（豆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美丽的花瓣漂浮在河面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49520" y="902160"/>
            <a:ext cx="2701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91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2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93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4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95" name="文本框 2"/>
          <p:cNvSpPr/>
          <p:nvPr/>
        </p:nvSpPr>
        <p:spPr>
          <a:xfrm>
            <a:off x="1026360" y="21240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104120" y="812160"/>
            <a:ext cx="2437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407960" y="16088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236240" y="166032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3957840" y="1986120"/>
            <a:ext cx="52214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莲蓬）（乱蓬蓬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在无数荷叶之中，盛开着许多荷花，有的地方还长出了小莲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02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06" name="文本框 2"/>
          <p:cNvSpPr/>
          <p:nvPr/>
        </p:nvSpPr>
        <p:spPr>
          <a:xfrm>
            <a:off x="952200" y="190116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952200" y="901080"/>
            <a:ext cx="2586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à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407960" y="16088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36240" y="166032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7"/>
          <p:cNvSpPr/>
          <p:nvPr/>
        </p:nvSpPr>
        <p:spPr>
          <a:xfrm>
            <a:off x="3948480" y="2071080"/>
            <a:ext cx="49878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热胀冷缩）（胀痛）（腹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今天吃的太多了，肚子都有点胀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13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6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17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45320" y="902160"/>
            <a:ext cx="23392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7"/>
          <p:cNvSpPr/>
          <p:nvPr/>
        </p:nvSpPr>
        <p:spPr>
          <a:xfrm>
            <a:off x="4039560" y="225000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破裂）（裂开）（四分五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步子跨得太大，把裤子撕裂了一道口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23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4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27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427400" y="879480"/>
            <a:ext cx="1359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7"/>
          <p:cNvSpPr/>
          <p:nvPr/>
        </p:nvSpPr>
        <p:spPr>
          <a:xfrm>
            <a:off x="4093560" y="236736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姿势）（姿态万千）（雄姿英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花儿千姿百态，非常漂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34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36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7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38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427400" y="879480"/>
            <a:ext cx="1359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7"/>
          <p:cNvSpPr/>
          <p:nvPr/>
        </p:nvSpPr>
        <p:spPr>
          <a:xfrm>
            <a:off x="4048560" y="2134080"/>
            <a:ext cx="49046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势力）（ 形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权势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王楠同学写字的姿势很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45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46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47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48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49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971640" y="8794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7"/>
          <p:cNvSpPr/>
          <p:nvPr/>
        </p:nvSpPr>
        <p:spPr>
          <a:xfrm>
            <a:off x="4039560" y="207396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 （仿佛）（仿写 ）（仿照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雾气仿佛一阵阵轻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56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57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58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59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60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28560" y="8866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7"/>
          <p:cNvSpPr/>
          <p:nvPr/>
        </p:nvSpPr>
        <p:spPr>
          <a:xfrm>
            <a:off x="4075560" y="2366640"/>
            <a:ext cx="46976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仿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他和我仿佛年纪，只是个子高了一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67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70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71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834280" y="3511440"/>
            <a:ext cx="3504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南水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rcRect l="0" t="0" r="-98" b="4121"/>
          <a:stretch/>
        </p:blipFill>
        <p:spPr>
          <a:xfrm>
            <a:off x="1594440" y="1047240"/>
            <a:ext cx="595476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44760" y="8866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7"/>
          <p:cNvSpPr/>
          <p:nvPr/>
        </p:nvSpPr>
        <p:spPr>
          <a:xfrm>
            <a:off x="4030560" y="2190240"/>
            <a:ext cx="4692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随从）（随处 ）（随便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桂花开了，一阵阵清香随风飘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78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80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81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82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743040" y="8866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7"/>
          <p:cNvSpPr/>
          <p:nvPr/>
        </p:nvSpPr>
        <p:spPr>
          <a:xfrm>
            <a:off x="4030560" y="2190240"/>
            <a:ext cx="4692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舞蹈）（赴汤蹈火 ）（手舞足蹈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活动课，小芳又跳起欢快的舞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89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90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91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92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93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44760" y="886680"/>
            <a:ext cx="231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7"/>
          <p:cNvSpPr/>
          <p:nvPr/>
        </p:nvSpPr>
        <p:spPr>
          <a:xfrm>
            <a:off x="4030560" y="2190240"/>
            <a:ext cx="46926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停止）（游客止步）（截止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任何时候我们都不能停止前进的脚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200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201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202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203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204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45240" y="3975120"/>
            <a:ext cx="649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音字辨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296320" y="2903400"/>
            <a:ext cx="32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表格 4"/>
          <p:cNvGraphicFramePr/>
          <p:nvPr/>
        </p:nvGraphicFramePr>
        <p:xfrm>
          <a:off x="686880" y="1761480"/>
          <a:ext cx="5618880" cy="1938960"/>
        </p:xfrm>
        <a:graphic>
          <a:graphicData uri="http://schemas.openxmlformats.org/drawingml/2006/table">
            <a:tbl>
              <a:tblPr/>
              <a:tblGrid>
                <a:gridCol w="352080"/>
                <a:gridCol w="2379960"/>
                <a:gridCol w="721440"/>
                <a:gridCol w="2164680"/>
              </a:tblGrid>
              <a:tr h="1938960">
                <a:tc>
                  <a:txBody>
                    <a:bodyPr lIns="51120" rIns="511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Left Brace 81"/>
          <p:cNvSpPr/>
          <p:nvPr/>
        </p:nvSpPr>
        <p:spPr>
          <a:xfrm>
            <a:off x="918360" y="2285640"/>
            <a:ext cx="275400" cy="890640"/>
          </a:xfrm>
          <a:prstGeom prst="leftBrace">
            <a:avLst>
              <a:gd name="adj1" fmla="val 51761"/>
              <a:gd name="adj2" fmla="val 51732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upright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4"/>
              </a:solidFill>
              <a:latin typeface="华文楷体"/>
              <a:ea typeface="华文楷体"/>
            </a:endParaRPr>
          </a:p>
        </p:txBody>
      </p:sp>
      <p:sp>
        <p:nvSpPr>
          <p:cNvPr id="216" name="Left Brace 81"/>
          <p:cNvSpPr/>
          <p:nvPr/>
        </p:nvSpPr>
        <p:spPr>
          <a:xfrm>
            <a:off x="942120" y="3700800"/>
            <a:ext cx="275400" cy="890640"/>
          </a:xfrm>
          <a:prstGeom prst="leftBrace">
            <a:avLst>
              <a:gd name="adj1" fmla="val 51761"/>
              <a:gd name="adj2" fmla="val 51732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upright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4"/>
              </a:solidFill>
              <a:latin typeface="华文楷体"/>
              <a:ea typeface="华文楷体"/>
            </a:endParaRPr>
          </a:p>
        </p:txBody>
      </p:sp>
      <p:sp>
        <p:nvSpPr>
          <p:cNvPr id="217" name="文本框 11"/>
          <p:cNvSpPr/>
          <p:nvPr/>
        </p:nvSpPr>
        <p:spPr>
          <a:xfrm>
            <a:off x="2030040" y="3558240"/>
            <a:ext cx="9324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仿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大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2"/>
          <p:cNvSpPr/>
          <p:nvPr/>
        </p:nvSpPr>
        <p:spPr>
          <a:xfrm>
            <a:off x="506880" y="2419920"/>
            <a:ext cx="27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3"/>
          <p:cNvSpPr/>
          <p:nvPr/>
        </p:nvSpPr>
        <p:spPr>
          <a:xfrm>
            <a:off x="2356920" y="2142720"/>
            <a:ext cx="11930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ā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挨挨挤挤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á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挨打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标题 1"/>
          <p:cNvSpPr/>
          <p:nvPr/>
        </p:nvSpPr>
        <p:spPr>
          <a:xfrm>
            <a:off x="116640" y="438120"/>
            <a:ext cx="2409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及运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3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aphicFrame>
        <p:nvGraphicFramePr>
          <p:cNvPr id="224" name="表格 4"/>
          <p:cNvGraphicFramePr/>
          <p:nvPr/>
        </p:nvGraphicFramePr>
        <p:xfrm>
          <a:off x="686880" y="1761480"/>
          <a:ext cx="5618880" cy="1938960"/>
        </p:xfrm>
        <a:graphic>
          <a:graphicData uri="http://schemas.openxmlformats.org/drawingml/2006/table">
            <a:tbl>
              <a:tblPr/>
              <a:tblGrid>
                <a:gridCol w="352080"/>
                <a:gridCol w="2379960"/>
                <a:gridCol w="721440"/>
                <a:gridCol w="2164680"/>
              </a:tblGrid>
              <a:tr h="1938960">
                <a:tc>
                  <a:txBody>
                    <a:bodyPr lIns="51120" rIns="511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文本框 99"/>
          <p:cNvSpPr/>
          <p:nvPr/>
        </p:nvSpPr>
        <p:spPr>
          <a:xfrm>
            <a:off x="231120" y="901440"/>
            <a:ext cx="8912520" cy="281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挨挨挤挤：一个挨着一个地靠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李爷爷的庭院里开满了各式各样的花，挨挨挤挤的，真是春色满园呀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莲蓬：莲花开过后的花托，倒圆锥形，里面有莲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池塘里的荷花张开了笑脸，露出了嫩黄色的小莲蓬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饱胀：饱满而膨胀。文中形容即将绽开的花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池塘里，荷花的花骨朵儿饱胀得快要裂开了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破裂：①开裂；破损开裂。②破坏，分裂感情破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破裂的水管喷了一屋子的水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翩翩起舞：形容轻快地跳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金黄的落叶在秋风中翩翩起舞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8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3" name="文本框 99"/>
          <p:cNvSpPr/>
          <p:nvPr/>
        </p:nvSpPr>
        <p:spPr>
          <a:xfrm>
            <a:off x="520560" y="1623240"/>
            <a:ext cx="8081640" cy="281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香——幽香    姿势——姿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忽然——突然    仿佛——好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本领——本事    挨挨挤挤——密密麻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姿势——姿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：都有“身姿、样子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异：“姿势”指身体呈现的样子；而“姿态”除指姿势、样子外，还可以形容人的风格、态度、气度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体育老师耐心纠正同学们做操的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学们个个准备以全新的姿态迎接新学期的到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6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0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1" name="文本框 99"/>
          <p:cNvSpPr/>
          <p:nvPr/>
        </p:nvSpPr>
        <p:spPr>
          <a:xfrm>
            <a:off x="520560" y="1623240"/>
            <a:ext cx="8286840" cy="253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香——幽香    姿势——姿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忽然——突然    仿佛——好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本领——本事    挨挨挤挤——密密麻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挨挨挤挤——密密麻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：都有“一个接挨一个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异：“挨挨挤挤” 挤来挤去。亦用以形容人多杂乱。“密密麻麻” 形容又多又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香蕉总是几个几个挨挨挤挤地长在一起，远处一看，密密麻麻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4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49" name="文本框 99"/>
          <p:cNvSpPr/>
          <p:nvPr/>
        </p:nvSpPr>
        <p:spPr>
          <a:xfrm>
            <a:off x="399960" y="1747440"/>
            <a:ext cx="8571600" cy="230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早——傍晚    展开——收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破裂——完整    停止——继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饱胀——干瘪    挨挨挤挤——稀稀疏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饱胀——干瘪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饱胀：①饱满鼓胀：②充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干瘪：干枯收缩；不丰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干瘪的豆子被雨水浸泡过后，像胖子一样饱胀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97800" y="1107360"/>
            <a:ext cx="81968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荷叶挨挨挤挤的，像一个个碧绿的大圆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473400" y="238608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挨挨挤挤”形象生动地体现了荷叶一个挨一个，一层盖一层的状态。作者又将荷叶形象生动地比喻成碧绿色的大圆盘，让整个荷塘展现在读者面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397800" y="110736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看看这一朵，很美；看看那一朵，也很美。如果把眼前的这一池荷花看做一大幅活的画，那画家的本领可真了不起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513360" y="3342600"/>
            <a:ext cx="8098920" cy="479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画家”是指大自然。这句话既赞美了荷花的美，又表达了作者对美妙神奇的大自然的赞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834280" y="3511440"/>
            <a:ext cx="3504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南水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1709640" y="1103400"/>
            <a:ext cx="5724000" cy="37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97800" y="81216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果把眼前的一池荷花看作一大幅活的画，那画家的本领可真了不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495360" y="2488680"/>
            <a:ext cx="8098920" cy="479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把一池荷花比作画，从而说明荷花如画一般美丽，自然能画出这样一幅栩栩如生的活画的画家本领很高了。也就是说，这荷花真的很美，画家本领了不起也是在说这荷花画得好，也就是荷花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97800" y="90216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风过了，我停止了舞蹈，静静地站在那儿。蜻蜓飞过来，告诉我清早飞行的快乐。小鱼在脚下游过，告诉我昨夜做的好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"/>
          <p:cNvSpPr/>
          <p:nvPr/>
        </p:nvSpPr>
        <p:spPr>
          <a:xfrm>
            <a:off x="473400" y="257364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拟人在于使事物获得人的属性，便于抒发感情，使人感到亲切、易受感染。拟人，还可使抽象的事物具体化，使无生命的东西活跃起来，这就使语言的形象性、生动性、感染力。本段就完美的把蜻蜓，小鱼拟人化了。作者以轻松欢快的笔调，写蜻蜓、小鱼跟荷花自由快乐地交谈，向我们展示了一幅和谐美丽的大自然的“活的画”。省略号则让这种美好的想象延展开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0" y="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114480" y="11448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66" name="文本框 99"/>
          <p:cNvSpPr/>
          <p:nvPr/>
        </p:nvSpPr>
        <p:spPr>
          <a:xfrm>
            <a:off x="231120" y="1202400"/>
            <a:ext cx="19029960" cy="166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看拼音，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ǔ dǎo     yī fú huà   táo huā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hǎo mèng     bǎo zh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3"/>
          <p:cNvSpPr/>
          <p:nvPr/>
        </p:nvSpPr>
        <p:spPr>
          <a:xfrm>
            <a:off x="1383480" y="2283480"/>
            <a:ext cx="1832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舞 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4"/>
          <p:cNvSpPr/>
          <p:nvPr/>
        </p:nvSpPr>
        <p:spPr>
          <a:xfrm>
            <a:off x="3655800" y="2283480"/>
            <a:ext cx="2207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  幅  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5"/>
          <p:cNvSpPr/>
          <p:nvPr/>
        </p:nvSpPr>
        <p:spPr>
          <a:xfrm>
            <a:off x="6329520" y="2283480"/>
            <a:ext cx="1832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桃  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6"/>
          <p:cNvSpPr/>
          <p:nvPr/>
        </p:nvSpPr>
        <p:spPr>
          <a:xfrm>
            <a:off x="2759040" y="3840480"/>
            <a:ext cx="1832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好  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7"/>
          <p:cNvSpPr/>
          <p:nvPr/>
        </p:nvSpPr>
        <p:spPr>
          <a:xfrm>
            <a:off x="5452920" y="3840480"/>
            <a:ext cx="1832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饱    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标题 1"/>
          <p:cNvSpPr/>
          <p:nvPr/>
        </p:nvSpPr>
        <p:spPr>
          <a:xfrm>
            <a:off x="513000" y="438120"/>
            <a:ext cx="1729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标题 1"/>
          <p:cNvSpPr/>
          <p:nvPr/>
        </p:nvSpPr>
        <p:spPr>
          <a:xfrm>
            <a:off x="513000" y="438120"/>
            <a:ext cx="1729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698760" y="1042200"/>
            <a:ext cx="75016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文精彩片段阅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么多的白荷花，一朵有一朵的姿势。看看这一朵，很美；看看那一朵，也很美。如果把眼前的这一池荷花看作一大幅活的画，那画家的本领可真了不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文中画横线的句子意思是（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么多的荷花，其中有两朵很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么多的荷花，每一朵都很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那么多的荷花，有两朵最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剧中的“画家”指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画的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表达了作者对美妙的神奇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赞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为什么说这幅画是活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4"/>
          <p:cNvSpPr/>
          <p:nvPr/>
        </p:nvSpPr>
        <p:spPr>
          <a:xfrm>
            <a:off x="3212280" y="3531960"/>
            <a:ext cx="982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自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"/>
          <p:cNvSpPr/>
          <p:nvPr/>
        </p:nvSpPr>
        <p:spPr>
          <a:xfrm>
            <a:off x="5071680" y="3540960"/>
            <a:ext cx="839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荷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1183320" y="3871440"/>
            <a:ext cx="1698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自然发出由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7"/>
          <p:cNvSpPr/>
          <p:nvPr/>
        </p:nvSpPr>
        <p:spPr>
          <a:xfrm>
            <a:off x="960120" y="4533120"/>
            <a:ext cx="4138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因为它会动，就像活的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1"/>
          <a:srcRect l="408" t="0" r="0" b="5404"/>
          <a:stretch/>
        </p:blipFill>
        <p:spPr>
          <a:xfrm>
            <a:off x="1731600" y="1008360"/>
            <a:ext cx="5880960" cy="38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1634760" y="55296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初读全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99"/>
          <p:cNvSpPr/>
          <p:nvPr/>
        </p:nvSpPr>
        <p:spPr>
          <a:xfrm>
            <a:off x="4243680" y="1692000"/>
            <a:ext cx="3809520" cy="61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音乐声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生自由读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图片 12"/>
          <p:cNvSpPr/>
          <p:nvPr/>
        </p:nvSpPr>
        <p:spPr>
          <a:xfrm>
            <a:off x="782640" y="2591280"/>
            <a:ext cx="2085480" cy="1571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标题 1"/>
          <p:cNvSpPr/>
          <p:nvPr/>
        </p:nvSpPr>
        <p:spPr>
          <a:xfrm>
            <a:off x="475920" y="4399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43"/>
          <p:cNvGrpSpPr/>
          <p:nvPr/>
        </p:nvGrpSpPr>
        <p:grpSpPr>
          <a:xfrm>
            <a:off x="441000" y="1699200"/>
            <a:ext cx="1366560" cy="2281680"/>
            <a:chOff x="441000" y="1699200"/>
            <a:chExt cx="1366560" cy="2281680"/>
          </a:xfrm>
        </p:grpSpPr>
        <p:sp>
          <p:nvSpPr>
            <p:cNvPr id="60" name="Oval 15"/>
            <p:cNvSpPr/>
            <p:nvPr/>
          </p:nvSpPr>
          <p:spPr>
            <a:xfrm>
              <a:off x="441000" y="2802240"/>
              <a:ext cx="1316520" cy="117072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61" name="Picture 17" descr="xiuxianyule2_0313"/>
            <p:cNvPicPr/>
            <p:nvPr/>
          </p:nvPicPr>
          <p:blipFill>
            <a:blip r:embed="rId1"/>
            <a:stretch/>
          </p:blipFill>
          <p:spPr>
            <a:xfrm>
              <a:off x="441000" y="1699200"/>
              <a:ext cx="1366560" cy="11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42"/>
            <p:cNvSpPr/>
            <p:nvPr/>
          </p:nvSpPr>
          <p:spPr>
            <a:xfrm>
              <a:off x="958680" y="2886120"/>
              <a:ext cx="432720" cy="109476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12"/>
          <p:cNvSpPr/>
          <p:nvPr/>
        </p:nvSpPr>
        <p:spPr>
          <a:xfrm>
            <a:off x="3219840" y="2746800"/>
            <a:ext cx="790200" cy="6397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6018840" y="2746800"/>
            <a:ext cx="801000" cy="6613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5793840" y="1756800"/>
            <a:ext cx="1251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ā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380680" y="3703320"/>
            <a:ext cx="2121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挨挨挤挤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383800" y="3703320"/>
            <a:ext cx="2309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翩翩起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2939400" y="1829520"/>
            <a:ext cx="1351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21"/>
          <p:cNvGrpSpPr/>
          <p:nvPr/>
        </p:nvGrpSpPr>
        <p:grpSpPr>
          <a:xfrm>
            <a:off x="446400" y="1694520"/>
            <a:ext cx="1354320" cy="2281320"/>
            <a:chOff x="446400" y="1694520"/>
            <a:chExt cx="1354320" cy="2281320"/>
          </a:xfrm>
        </p:grpSpPr>
        <p:sp>
          <p:nvSpPr>
            <p:cNvPr id="70" name="Oval 15"/>
            <p:cNvSpPr/>
            <p:nvPr/>
          </p:nvSpPr>
          <p:spPr>
            <a:xfrm>
              <a:off x="446400" y="2797200"/>
              <a:ext cx="1304640" cy="117072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71" name="Picture 17" descr="xiuxianyule2_0313"/>
            <p:cNvPicPr/>
            <p:nvPr/>
          </p:nvPicPr>
          <p:blipFill>
            <a:blip r:embed="rId2"/>
            <a:stretch/>
          </p:blipFill>
          <p:spPr>
            <a:xfrm>
              <a:off x="446400" y="1694520"/>
              <a:ext cx="1354320" cy="11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矩形 24"/>
            <p:cNvSpPr/>
            <p:nvPr/>
          </p:nvSpPr>
          <p:spPr>
            <a:xfrm>
              <a:off x="959760" y="2881080"/>
              <a:ext cx="432720" cy="109476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5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464040" y="1786320"/>
            <a:ext cx="3898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晨，我到公园去玩，一进门就闻到一阵清香。我赶紧往荷花池边跑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4442760" y="1241640"/>
            <a:ext cx="4109760" cy="30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5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374760" y="973080"/>
            <a:ext cx="5295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荷花已经开了不少了。荷叶挨挨挤挤的，像一个个碧绿的大圆盘。白荷花在这些大圆盘之间冒出来。有的才展开两三片花瓣儿。有的花瓣儿全都展开了，露出嫩黄色的小莲蓬。有的还是花骨朵儿，看起来饱胀得马上要破裂似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5756040" y="1061640"/>
            <a:ext cx="30452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374760" y="417600"/>
            <a:ext cx="2729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走进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4574880" y="1252080"/>
            <a:ext cx="42825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么多的白荷花，一朵有一朵的姿势。看看这一朵，很美；看看那一朵，也很美。如果把眼前的这一池荷花看作一大幅活的画，那画家的本领可真了不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433800" y="1544760"/>
            <a:ext cx="3578040" cy="27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2272</Words>
  <Paragraphs>2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15T07:39:24Z</dcterms:modified>
  <cp:revision>4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PresentationFormat">
    <vt:lpwstr>全屏显示(16:9)</vt:lpwstr>
  </property>
  <property fmtid="{D5CDD505-2E9C-101B-9397-08002B2CF9AE}" pid="4" name="Slides">
    <vt:r8>34</vt:r8>
  </property>
</Properties>
</file>