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4E7-8966-4492-8B2E-675B9306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5D1-93CB-4986-BD9C-627C580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31D-4F03-4C8F-B6DC-4A494B58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CFD-4236-4322-B1CC-DC6DD564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CB28-F603-4E45-82DA-7F285CD8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7C3-3392-495E-9C42-79036F8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4FC9-6EF0-4964-8297-40B3C568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C709-61E2-4A07-8240-C446466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5797-0FCD-4BA6-9A77-F367F7A3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B5E-C1AC-40DD-ACC7-3709ABC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4557-14E3-4DA7-91A2-6E322BA6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C9A-680D-4141-9B35-4A5C8D7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5939-0B5A-4931-8A08-04A1FB4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F404-FC61-44D7-8D3A-82F36DED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673-9EAF-4F63-99DE-0D70FF2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14F-1E8C-474B-8C54-77A9C67F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4BF-3170-4C09-9A59-5E1A389F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305-3C31-4D7F-91A0-B75CC87F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470-F792-439A-97D0-8FEE1F30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15D-6C13-493B-ADA9-CFA26361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768-D8EC-4E80-B451-6C600CA0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61B-24CA-407E-B4AE-B86ADF6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A12-640F-4002-9428-01C33E2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C53-04AD-4096-90D6-F911BBD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5943600"/>
            <a:ext cx="1828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4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7375BC-E481-46A5-98BD-D2E70953DA3C}" type="slidenum"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  <a:ea typeface="宋体"/>
              </a:rPr>
              <a:t>单击此处编辑母版标题样式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c1c1c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c1c1c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c1c1c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5943600"/>
            <a:ext cx="1828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67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294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4F8289-436E-4EC4-966E-BEE02FC0E2B8}" type="slidenum"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D:/&#35821;&#25991;&#25991;&#20214;/&#26191;&#27530;&#12298;&#28003;&#28330;&#27801;&#12299;&#19968;&#26354;&#26032;&#35789;&#37202;&#19968;&#26479;.mp3" TargetMode="External"/><Relationship Id="rId2" Type="http://schemas.microsoft.com/office/2007/relationships/media" Target="file:///D:/&#35821;&#25991;&#25991;&#20214;/&#26191;&#27530;&#12298;&#28003;&#28330;&#27801;&#12299;&#19968;&#26354;&#26032;&#35789;&#37202;&#19968;&#26479;.mp3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4099"/>
          <p:cNvSpPr/>
          <p:nvPr/>
        </p:nvSpPr>
        <p:spPr>
          <a:xfrm>
            <a:off x="3419640" y="3062160"/>
            <a:ext cx="228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晏 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101"/>
          <p:cNvSpPr/>
          <p:nvPr/>
        </p:nvSpPr>
        <p:spPr>
          <a:xfrm>
            <a:off x="19080" y="151776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《浣溪沙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740320" y="56386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195"/>
          <p:cNvSpPr/>
          <p:nvPr/>
        </p:nvSpPr>
        <p:spPr>
          <a:xfrm>
            <a:off x="3961080" y="1752480"/>
            <a:ext cx="1278360" cy="63828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无可奈何花落去，</a:t>
            </a:r>
            <a:br>
              <a:rPr sz="1800"/>
            </a:b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似曾相识燕归来，小园香径独徘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6"/>
          <p:cNvSpPr/>
          <p:nvPr/>
        </p:nvSpPr>
        <p:spPr>
          <a:xfrm>
            <a:off x="1066680" y="3505320"/>
            <a:ext cx="723852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无可奈何之中，春花正在凋落。而去年似曾见过的燕子，如今又飞回到旧巢来了。 （自己不禁）在小花园中落花遍地的小径上惆怅地徘徊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8"/>
          <p:cNvSpPr/>
          <p:nvPr/>
        </p:nvSpPr>
        <p:spPr>
          <a:xfrm>
            <a:off x="2895480" y="609480"/>
            <a:ext cx="297144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品词明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7489440" cy="20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体会名句“无可奈何花落去，似曾相识燕归来。” 中的“无可奈何“和“似曾相识”？从“花落去”到“燕归来”，作者想要表达的是怎样的感情？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文本框 11266"/>
          <p:cNvSpPr/>
          <p:nvPr/>
        </p:nvSpPr>
        <p:spPr>
          <a:xfrm>
            <a:off x="684360" y="2492280"/>
            <a:ext cx="79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花落去”、“燕归来”是现实生活中的常见现象，但与“无可奈何”、“似曾相识”的有机组合，普通的花和燕就不普通了，而变为某种美好、熟悉的事物或感情的象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1240" y="762120"/>
            <a:ext cx="822924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整首词作者书写了：花的凋落，春的消逝，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暗喻：时光的流逝 一切必然要消逝的美好事物都无法阻止其消逝，但在消逝的同时仍然有美好事物的再现，生活不会因消逝而变得一片虚无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86018"/>
          <p:cNvSpPr/>
          <p:nvPr/>
        </p:nvSpPr>
        <p:spPr>
          <a:xfrm>
            <a:off x="1295280" y="1676520"/>
            <a:ext cx="639396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曲新词酒一杯，去年天气旧亭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6019"/>
          <p:cNvSpPr/>
          <p:nvPr/>
        </p:nvSpPr>
        <p:spPr>
          <a:xfrm>
            <a:off x="380880" y="2743200"/>
            <a:ext cx="8422920" cy="7146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只身一人，新词“一曲”，清酒“一杯”，孤单冷寂，引起对往事的回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新——唱新词，旧——唱词喝酒的环境（旧亭台），新词旧景对比，抒发了今是昨非的惆怅情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86020"/>
          <p:cNvSpPr/>
          <p:nvPr/>
        </p:nvSpPr>
        <p:spPr>
          <a:xfrm>
            <a:off x="3124080" y="457200"/>
            <a:ext cx="259056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诗词赏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87042"/>
          <p:cNvSpPr/>
          <p:nvPr/>
        </p:nvSpPr>
        <p:spPr>
          <a:xfrm>
            <a:off x="2286000" y="1600200"/>
            <a:ext cx="397476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夕阳西下几时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7043"/>
          <p:cNvSpPr/>
          <p:nvPr/>
        </p:nvSpPr>
        <p:spPr>
          <a:xfrm>
            <a:off x="990720" y="2895480"/>
            <a:ext cx="730368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既写景，又是对心情的反映，倾吐了满腔的沉郁，抒发不尽的幽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7044"/>
          <p:cNvSpPr/>
          <p:nvPr/>
        </p:nvSpPr>
        <p:spPr>
          <a:xfrm>
            <a:off x="2819520" y="380880"/>
            <a:ext cx="274608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难点赏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88066"/>
          <p:cNvSpPr/>
          <p:nvPr/>
        </p:nvSpPr>
        <p:spPr>
          <a:xfrm>
            <a:off x="3266640" y="1477800"/>
            <a:ext cx="237564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无可奈何花落去，似曾相识燕归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8067"/>
          <p:cNvSpPr/>
          <p:nvPr/>
        </p:nvSpPr>
        <p:spPr>
          <a:xfrm>
            <a:off x="533520" y="2362320"/>
            <a:ext cx="8152920" cy="9126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花落”是伤春，“似曾相识”是伤别，“去”是花落去，“来”是燕归来。再次形成对比，增加了对时光流逝的惋惜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赏析：通过对易逝的自然春光的描写，将自然现象与人的感受巧妙结合，抒发了青春易逝，伤别怀旧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千古奇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8068"/>
          <p:cNvSpPr/>
          <p:nvPr/>
        </p:nvSpPr>
        <p:spPr>
          <a:xfrm>
            <a:off x="3124080" y="378000"/>
            <a:ext cx="289512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难点赏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89090"/>
          <p:cNvSpPr/>
          <p:nvPr/>
        </p:nvSpPr>
        <p:spPr>
          <a:xfrm>
            <a:off x="2362320" y="2133720"/>
            <a:ext cx="411444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小园香径独徘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9091"/>
          <p:cNvSpPr/>
          <p:nvPr/>
        </p:nvSpPr>
        <p:spPr>
          <a:xfrm>
            <a:off x="1066680" y="3733920"/>
            <a:ext cx="740520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个“独”字写出了词人的落寞孤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9092"/>
          <p:cNvSpPr/>
          <p:nvPr/>
        </p:nvSpPr>
        <p:spPr>
          <a:xfrm>
            <a:off x="3124080" y="685800"/>
            <a:ext cx="243792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难点词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90113" descr="bba7e30ae97b3026b1351d8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90114"/>
          <p:cNvSpPr/>
          <p:nvPr/>
        </p:nvSpPr>
        <p:spPr>
          <a:xfrm>
            <a:off x="838080" y="2590920"/>
            <a:ext cx="7619760" cy="63828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思想感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作者由自然规律的变迁更替，透露出对美好景物及难以忘怀事情的流连，同时也不免流露出对时光易逝的无限惆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90115"/>
          <p:cNvSpPr/>
          <p:nvPr/>
        </p:nvSpPr>
        <p:spPr>
          <a:xfrm>
            <a:off x="2743200" y="682560"/>
            <a:ext cx="304776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诗词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51201"/>
          <p:cNvSpPr/>
          <p:nvPr/>
        </p:nvSpPr>
        <p:spPr>
          <a:xfrm>
            <a:off x="457200" y="1295280"/>
            <a:ext cx="7924320" cy="9468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此词虽含伤春惜时之意，却实为感慨抒怀之情。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词之上片：因今思昔，追忆难忘的欢聚，感叹流光的易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下片则巧借眼前景物（落花、归燕），着重抒发伤春怀人的感慨。全词语言圆转流利，通俗晓畅，清丽自然，意蕴深沉，启人神智，耐人寻味。词中对宇宙人生的深思，给人以哲理性的启迪和美的艺术享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1203"/>
          <p:cNvSpPr/>
          <p:nvPr/>
        </p:nvSpPr>
        <p:spPr>
          <a:xfrm>
            <a:off x="2971800" y="228600"/>
            <a:ext cx="3047760" cy="3639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总  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92161"/>
          <p:cNvSpPr/>
          <p:nvPr/>
        </p:nvSpPr>
        <p:spPr>
          <a:xfrm>
            <a:off x="2819520" y="1219320"/>
            <a:ext cx="342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《浣溪沙》晏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2162"/>
          <p:cNvSpPr/>
          <p:nvPr/>
        </p:nvSpPr>
        <p:spPr>
          <a:xfrm>
            <a:off x="914400" y="1981080"/>
            <a:ext cx="76197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曲新词酒一杯，去年天气旧亭台。夕阳西下几时回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?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无可奈何花落去，似曾相识燕归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小园香径独徘徊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2163"/>
          <p:cNvSpPr/>
          <p:nvPr/>
        </p:nvSpPr>
        <p:spPr>
          <a:xfrm>
            <a:off x="3200400" y="457200"/>
            <a:ext cx="236196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品读背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02403"/>
          <p:cNvSpPr/>
          <p:nvPr/>
        </p:nvSpPr>
        <p:spPr>
          <a:xfrm>
            <a:off x="3200400" y="609480"/>
            <a:ext cx="281916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教学目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2404"/>
          <p:cNvSpPr/>
          <p:nvPr/>
        </p:nvSpPr>
        <p:spPr>
          <a:xfrm>
            <a:off x="380880" y="3207240"/>
            <a:ext cx="8381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在自由诵读中感受本词的语言清丽自然的特色。（课前温习内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体会词的意思，感悟作者所表达的深刻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理解词中“夕阳西下几时回”、“无可奈何花落去，似曾相识燕归来。”所蕴含的深刻内涵。 （重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95235"/>
          <p:cNvSpPr/>
          <p:nvPr/>
        </p:nvSpPr>
        <p:spPr>
          <a:xfrm>
            <a:off x="4159440" y="430200"/>
            <a:ext cx="72972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5238"/>
          <p:cNvSpPr/>
          <p:nvPr/>
        </p:nvSpPr>
        <p:spPr>
          <a:xfrm>
            <a:off x="685800" y="2309760"/>
            <a:ext cx="769572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【练习】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．这首词的哪些意象表现了时间的流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去年天气、夕阳西下、花落去、燕归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．所写的季节是什么时候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暮春。从花落去可以看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．“无可奈何花落去，似曾相似燕归来”两句告诉我们怎样的生活哲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切必然要消逝的美好事物都无法阻止其消逝，但在消逝的同时仍然有美好事物的再现，生活不会因消逝而变得一片虚无。只不过这种重现毕竟不等于美好事物的原封不动地重现，它只是“似曾相识”罢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．这首词传达了作者的什么思想情感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面对美好事物的流逝，作者表现出对美好景物情事的流连，对时光流逝的怅惘，以及对美好事物重现的微茫的希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96257"/>
          <p:cNvSpPr/>
          <p:nvPr/>
        </p:nvSpPr>
        <p:spPr>
          <a:xfrm>
            <a:off x="4208400" y="363600"/>
            <a:ext cx="72972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6258"/>
          <p:cNvSpPr/>
          <p:nvPr/>
        </p:nvSpPr>
        <p:spPr>
          <a:xfrm>
            <a:off x="609480" y="2524680"/>
            <a:ext cx="7695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【练习】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全诗思绪都围绕“独”字来抒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“去年天气旧亭台”的意思是：天气亭台都与去年一样，暗含着：物是人非，时光不再的悲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结句“小园香径独徘徊”言尽而意无穷，请略作鉴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答：结句直接抒发寂寞和忧伤之情。“独”字突出了凄凉寂寞之感。“徘徊”将词人对美丽春天，大好年华以及美好事物的无限依恋之情表现得淋漓尽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被称为“天然奇偶”的诗句是：无可奈何花落去，似曾相识燕归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04449"/>
          <p:cNvSpPr/>
          <p:nvPr/>
        </p:nvSpPr>
        <p:spPr>
          <a:xfrm>
            <a:off x="4238640" y="887400"/>
            <a:ext cx="72972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课外拾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4450"/>
          <p:cNvSpPr/>
          <p:nvPr/>
        </p:nvSpPr>
        <p:spPr>
          <a:xfrm>
            <a:off x="457200" y="3224520"/>
            <a:ext cx="830556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正确、有感情的吟诵《浣溪沙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、结合今天的授课内容，重温该词，完成目标。对该课讲解的重点加以记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91137"/>
          <p:cNvSpPr/>
          <p:nvPr/>
        </p:nvSpPr>
        <p:spPr>
          <a:xfrm>
            <a:off x="2743200" y="1371600"/>
            <a:ext cx="342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《浣溪沙》晏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1138"/>
          <p:cNvSpPr/>
          <p:nvPr/>
        </p:nvSpPr>
        <p:spPr>
          <a:xfrm>
            <a:off x="762120" y="2362320"/>
            <a:ext cx="76197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曲新词酒一杯，去年天气旧亭台。夕阳西下几时回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?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无可奈何花落去，似曾相识燕归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小园香径独徘徊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1141"/>
          <p:cNvSpPr/>
          <p:nvPr/>
        </p:nvSpPr>
        <p:spPr>
          <a:xfrm>
            <a:off x="3048120" y="304920"/>
            <a:ext cx="289512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品读诗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59600" y="5632560"/>
            <a:ext cx="1103040" cy="77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16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5123"/>
          <p:cNvSpPr/>
          <p:nvPr/>
        </p:nvSpPr>
        <p:spPr>
          <a:xfrm>
            <a:off x="533520" y="1905120"/>
            <a:ext cx="8076960" cy="7146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晏殊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991-1055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），字同叔，北宋临川人（今江西杭州）。景德初年，报刚十四岁，就以 “神童”的才名应殿试考中进士。浣溪沙，唐教坊曲名，后用为词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晏殊是一名著名的文学家，擅长词令（长短句），尤擅小令。风格婉转，历有 “此宗令词之专精者，首推晏殊”的评价。他的名作《浣溪沙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124"/>
          <p:cNvSpPr/>
          <p:nvPr/>
        </p:nvSpPr>
        <p:spPr>
          <a:xfrm>
            <a:off x="3276720" y="685800"/>
            <a:ext cx="205704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作  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1200" y="175248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作者一生历居显官要职，仕途平坦，但政绩平平。作品在歌酒风月、闲情逸致吟咏中，也常流露出官僚文人由精神空虚而产生的年华易逝、迟暮落寞的感伤。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矩形 19458"/>
          <p:cNvSpPr txBox="1"/>
          <p:nvPr/>
        </p:nvSpPr>
        <p:spPr>
          <a:xfrm>
            <a:off x="539640" y="404640"/>
            <a:ext cx="6686280" cy="1060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5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你们知道作者的写作背景吗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95,-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95,-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2800" y="973080"/>
            <a:ext cx="7619400" cy="43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）一曲新词酒一杯。  一曲：一首。新词：刚填好的词，意同新歌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）去年天气旧亭台。  去年天气：是说跟去年此日相同的天气。旧亭台：曾经到过的或熟悉的亭台楼阁。 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）夕阳西下几时回？夕阳：落日。西下：向西方地平线落下。几时回：什么时候回来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矩形 13315"/>
          <p:cNvSpPr txBox="1"/>
          <p:nvPr/>
        </p:nvSpPr>
        <p:spPr>
          <a:xfrm rot="5400000">
            <a:off x="5689080" y="2456280"/>
            <a:ext cx="5111280" cy="100764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字词解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320" y="152640"/>
            <a:ext cx="8229240" cy="58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）无可奈何花落去。无可奈何：不得已。花落去：花谢，点明节令是暮春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）似曾相识：意思是好像曾经认识。形容见过的事物再度出现。燕归来：燕子从南方飞回来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） 小园香径独徘徊。  香径：花间小路。徘徊：来回走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6147"/>
          <p:cNvSpPr/>
          <p:nvPr/>
        </p:nvSpPr>
        <p:spPr>
          <a:xfrm>
            <a:off x="990720" y="3657600"/>
            <a:ext cx="761976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听一曲以新词谱成的歌，饮一杯酒。去年这时节的天气、旧亭台依然存在。但眼前的夕阳西下了，不知何时会再回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148"/>
          <p:cNvSpPr/>
          <p:nvPr/>
        </p:nvSpPr>
        <p:spPr>
          <a:xfrm>
            <a:off x="3654000" y="1752480"/>
            <a:ext cx="2375640" cy="63828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曲新词酒一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去年天气旧亭台。夕阳西下几时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149"/>
          <p:cNvSpPr/>
          <p:nvPr/>
        </p:nvSpPr>
        <p:spPr>
          <a:xfrm>
            <a:off x="4361040" y="506520"/>
            <a:ext cx="729720" cy="36396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品词明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280000" cy="20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作者故地重临，怀旧自不可免，文中作者的感受是怎样的？仔细体会思考“夕阳西下几时回？”这句句子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文本框 20484"/>
          <p:cNvSpPr/>
          <p:nvPr/>
        </p:nvSpPr>
        <p:spPr>
          <a:xfrm>
            <a:off x="533520" y="2666880"/>
            <a:ext cx="79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一样的暮春天气，一样的楼台亭阁，一样的清歌美酒，但人事却和去年大不相同了。“夕阳西下”是无法阻止的，只能寄希望它东升再起，而时光的流逝、人事的变更，却再也无法重复。细味“几时回”三字，所折射出的似乎是一种期盼其返却又情知难返的细腻心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1c1c1c"/>
      </a:dk1>
      <a:lt1>
        <a:srgbClr val="523e26"/>
      </a:lt1>
      <a:dk2>
        <a:srgbClr val="654a1d"/>
      </a:dk2>
      <a:lt2>
        <a:srgbClr val="2d2015"/>
      </a:lt2>
      <a:accent1>
        <a:srgbClr val="b1a59d"/>
      </a:accent1>
      <a:accent2>
        <a:srgbClr val="8f5f2f"/>
      </a:accent2>
      <a:accent3>
        <a:srgbClr val="b3afab"/>
      </a:accent3>
      <a:accent4>
        <a:srgbClr val="161616"/>
      </a:accent4>
      <a:accent5>
        <a:srgbClr val="d4cfcc"/>
      </a:accent5>
      <a:accent6>
        <a:srgbClr val="805529"/>
      </a:accent6>
      <a:hlink>
        <a:srgbClr val="f4d700"/>
      </a:hlink>
      <a:folHlink>
        <a:srgbClr val="e7ebe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">
      <a:dk1>
        <a:srgbClr val="1c1c1c"/>
      </a:dk1>
      <a:lt1>
        <a:srgbClr val="523e26"/>
      </a:lt1>
      <a:dk2>
        <a:srgbClr val="654a1d"/>
      </a:dk2>
      <a:lt2>
        <a:srgbClr val="2d2015"/>
      </a:lt2>
      <a:accent1>
        <a:srgbClr val="b1a59d"/>
      </a:accent1>
      <a:accent2>
        <a:srgbClr val="8f5f2f"/>
      </a:accent2>
      <a:accent3>
        <a:srgbClr val="b3afab"/>
      </a:accent3>
      <a:accent4>
        <a:srgbClr val="161616"/>
      </a:accent4>
      <a:accent5>
        <a:srgbClr val="d4cfcc"/>
      </a:accent5>
      <a:accent6>
        <a:srgbClr val="805529"/>
      </a:accent6>
      <a:hlink>
        <a:srgbClr val="f4d700"/>
      </a:hlink>
      <a:folHlink>
        <a:srgbClr val="e7ebe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  <Pages>0</Pages>
  <Words>2137</Words>
  <Characters>0</Characters>
  <CharactersWithSpaces>0</CharactersWithSpace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05:21:54Z</dcterms:created>
  <dc:creator>第一PPT模板网-WWW.1PPT.COM</dc:creator>
  <dc:description/>
  <cp:keywords>第一PPT模板网-WWW.1PPT.COM</cp:keywords>
  <dc:language>en-US</dc:language>
  <cp:lastModifiedBy/>
  <dcterms:modified xsi:type="dcterms:W3CDTF">2018-10-15T04:50:45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MMClips">
    <vt:r8>1</vt:r8>
  </property>
  <property fmtid="{D5CDD505-2E9C-101B-9397-08002B2CF9AE}" pid="4" name="Notes">
    <vt:r8>1</vt:r8>
  </property>
  <property fmtid="{D5CDD505-2E9C-101B-9397-08002B2CF9AE}" pid="5" name="PresentationFormat">
    <vt:lpwstr>全屏显示(4:3)</vt:lpwstr>
  </property>
  <property fmtid="{D5CDD505-2E9C-101B-9397-08002B2CF9AE}" pid="6" name="Slides">
    <vt:r8>23</vt:r8>
  </property>
  <property fmtid="{D5CDD505-2E9C-101B-9397-08002B2CF9AE}" pid="7" name="Version">
    <vt:r8>1</vt:r8>
  </property>
</Properties>
</file>