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AC2CC2-8040-4713-9B21-A22DA17F0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word/" TargetMode="External"/><Relationship Id="rId8" Type="http://schemas.openxmlformats.org/officeDocument/2006/relationships/hyperlink" Target="http://www.1ppt.com/excel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om/jianli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word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Excel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excel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个人简历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om/jian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CD0B8F-84A3-469C-A3A1-CB7804F6EB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B89-3AF6-4A61-92B4-952A1468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56F7-A08B-4C92-BCC4-F4B385B3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628-34DA-4098-9187-4F2A24B8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3396-BD0E-480E-83CC-B4CA3964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586C-A2F5-45CC-81D6-E19B5A72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E09B-4B42-4573-9902-1B798918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2A4-59C1-453B-9715-3B5EFB49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D61-BB18-486E-8741-E0267EEF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4833-471F-421A-AAE3-48FEA8A8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B3AF-F3C8-4336-A6BA-DB9A01A3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54CB-CC7E-4866-92CC-2749F17F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239-5CE7-4268-9869-EF7FE848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3"/>
          <p:cNvSpPr/>
          <p:nvPr/>
        </p:nvSpPr>
        <p:spPr>
          <a:xfrm>
            <a:off x="7467480" y="1143000"/>
            <a:ext cx="734760" cy="240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黑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黑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黑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黑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黑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黑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黑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www.1ppt.com/word/      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黑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www.1ppt.com/excel/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黑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www.1ppt.com/shiti/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黑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黑体"/>
              </a:rPr>
              <a:t>个人简历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www.1ppt.com/jianli/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黑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黑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黑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黑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黑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黑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黑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黑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黑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黑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黑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黑体"/>
              </a:rPr>
              <a:t>www.1ppt.com/kejian/lish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楷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A3CD136-29BE-4158-B1D1-1E40E61C98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楷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just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9219"/>
          <p:cNvSpPr/>
          <p:nvPr/>
        </p:nvSpPr>
        <p:spPr>
          <a:xfrm>
            <a:off x="838080" y="914400"/>
            <a:ext cx="72878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四单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湖心亭看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0" y="563868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74680" y="1082520"/>
            <a:ext cx="8830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凇沆砀天与云与山与水，上下一白。湖上影子，惟长堤一痕、湖心亭一点，与余舟一芥、舟中人两三粒而已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81000" y="2779560"/>
            <a:ext cx="9129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翻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湖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白气弥漫，白茫茫一片，天与云与山与水，浑然一体，都是白的。湖上（比较清晰的）影子，只有像一条印记似的长堤、像一个墨点似的湖心亭，和我那如同小草一般的船、船中像米粒一般大小的两三个人罢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95280" y="1192320"/>
            <a:ext cx="8748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到亭上，有两人铺毡对坐，一童子烧酒，炉正沸。见余，大喜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41120" y="2633760"/>
            <a:ext cx="91436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翻译：到了亭子里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两个人铺好毡子面对面坐着，一个书童在温酒，酒烧开了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见我，非常高兴地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39760" y="4119480"/>
            <a:ext cx="8903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精析：此时此地此景，能够遇见游人，作者意外而惊喜，但作者不说自己惊喜，反写两位客人“见余，大喜”，反客为主，足见其用笔之独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835640" y="763560"/>
            <a:ext cx="1552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湖中焉得更有此人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419200" y="1428840"/>
            <a:ext cx="4380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翻译：“在湖中怎么还能碰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闲情雅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人呢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82520" y="2030400"/>
            <a:ext cx="8664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精析：这一惊叹虽由两位客人发出，实亦为作者心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4339080" y="2624040"/>
            <a:ext cx="514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拉余同饮。余强饮三大白而别。问其姓氏，是金陵人，客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04760" y="3497400"/>
            <a:ext cx="89722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翻译：就拉着我一同饮酒。我尽力喝了三大杯酒，然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和他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道别。问他们的姓氏，得知他们是金陵人，在此地客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31840" y="4646520"/>
            <a:ext cx="8845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精析：亭中游人的回答语意不详，可见这两位湖上知己，原是他乡游子，言外有后期难约之意。这一补叙之笔，透露出作者的无限怅惘：茫茫人海，知己难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783160" y="1171440"/>
            <a:ext cx="36374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及下船，舟子喃喃曰：“莫说相公痴，更有痴似相公者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49200" y="2095560"/>
            <a:ext cx="8633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翻译：等到下船，船夫小声念叨说：“不要说相公您痴，还有像您一样痴的人呢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24000" y="3470400"/>
            <a:ext cx="8580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精析：“喃喃”二字，形容舟子的自言自语、大惑不解之状，生动形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045320" y="81900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考变式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68200" y="1403280"/>
            <a:ext cx="8672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湖南邵阳中考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赏析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段中“大雪三日，湖中人鸟声俱绝”一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句妙在不以视觉写大雪，而通过听觉来写。一个“绝”字，表现出冰天雪地中万籁无声的凛冽寒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68200" y="1403280"/>
            <a:ext cx="867204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河南中考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结合具体内容，说说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段在文中的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凇沆砀”形容湖上寒气弥漫；连用三个“与”字，生动地写出了天空、云层、湖水之间浑然难辨的茫茫景象；“一痕”“一点”“一芥”“两三粒”使用白描手法，写出视线的移动和景物的变化，使人不禁感叹：人在天地间不过是沧海一粟。这一段为读者描绘了一幅水墨朦胧的湖山夜雪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47760" y="1254240"/>
            <a:ext cx="85896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怎样理解下船时舟子所说的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舟子说作者“痴”，是俗人之见，但“痴”字又是对作者最确切的评价。作者痴迷于“天人合一”的山水之乐，痴迷于世俗之外的闲情雅致。作者引用舟子的话，说明了他对“痴”字的欣赏，同时也以天涯遇知音的愉悦化解了心中的淡淡愁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233475" descr=""/>
          <p:cNvPicPr/>
          <p:nvPr/>
        </p:nvPicPr>
        <p:blipFill>
          <a:blip r:embed="rId1"/>
          <a:stretch/>
        </p:blipFill>
        <p:spPr>
          <a:xfrm>
            <a:off x="204840" y="865080"/>
            <a:ext cx="2226960" cy="74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806400" y="2190600"/>
            <a:ext cx="731628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61795" descr=""/>
          <p:cNvPicPr/>
          <p:nvPr/>
        </p:nvPicPr>
        <p:blipFill>
          <a:blip r:embed="rId1"/>
          <a:stretch/>
        </p:blipFill>
        <p:spPr>
          <a:xfrm>
            <a:off x="195120" y="1069920"/>
            <a:ext cx="1910880" cy="533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203040" y="1801800"/>
            <a:ext cx="87102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文以清新淡雅的笔墨，描绘了雪后西湖宁静清绝的景象，表现了游湖人的雅趣和作者的志趣，同时含蓄地表达了作者对故国往事的怀念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62819" descr=""/>
          <p:cNvPicPr/>
          <p:nvPr/>
        </p:nvPicPr>
        <p:blipFill>
          <a:blip r:embed="rId1"/>
          <a:stretch/>
        </p:blipFill>
        <p:spPr>
          <a:xfrm>
            <a:off x="250920" y="844560"/>
            <a:ext cx="1847520" cy="5378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28440" y="1330200"/>
            <a:ext cx="920232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于张岱的这种行为，文中舟子用“痴”来评价，谈谈他“痴”的表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痴人：在农历的十二月，西湖经历三天大雪后，人声、鸟声俱绝，天地间呈现出一股肃杀的冷寂来。在当时当地漫游西湖，实是“痴人”所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痴景：此时湖上寒气弥漫，天与云与山与水，一片混沌，只有雪能带来微微的亮色。映入作者眼帘的“惟长堤一痕、湖心亭一点，与余舟一芥、舟中人两三粒而已”，宛如中国画中的写意山水，人与自然共同构成富有意境的艺术画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66915"/>
          <p:cNvSpPr/>
          <p:nvPr/>
        </p:nvSpPr>
        <p:spPr>
          <a:xfrm>
            <a:off x="3295800" y="1062000"/>
            <a:ext cx="186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习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47600" y="1809720"/>
            <a:ext cx="88196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阅读课文，感受作者遗世独立的高洁情怀和不随流俗的生活态度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重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习本文白描手法的运用，赏析课文融叙事、写景、抒情为一体的写作方法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难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04920" y="1330200"/>
            <a:ext cx="8608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痴心：在湖心亭，作者遇到两人，那两人也都“大喜”，感叹“湖中焉得更有此人”，三人痛饮而别。本是故国难觅，知音难求，偶遇同道中人当然是大喜过望，豪气冲天，而转眼即到的离别又让作者喜极而悲，但想到天涯遇知音又转悲为喜。其间悲悲喜喜，起起落落，均集中于作者一人身上，怎是一个“痴”字了得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65891" descr=""/>
          <p:cNvPicPr/>
          <p:nvPr/>
        </p:nvPicPr>
        <p:blipFill>
          <a:blip r:embed="rId1"/>
          <a:stretch/>
        </p:blipFill>
        <p:spPr>
          <a:xfrm>
            <a:off x="250920" y="930240"/>
            <a:ext cx="1877760" cy="499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314280" y="1403280"/>
            <a:ext cx="882936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叙事、写景、抒情融为一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叙事是行文的线索，如文中“崇祯五年十二月，余住西湖”“是日更定矣，余一小舟，拥毳衣炉火，独往湖心亭看雪”“到亭上”“及下船”等语句，把作者的游览路线交代得清清楚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景是游记的重点，作者抓住景色的特点，先写天、云、山、水，上下白茫茫一片，再俯瞰西湖全景，“一痕”“一点”“一芥”“两三粒”，使人如同置身于图画之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57320" y="812880"/>
            <a:ext cx="8829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湖心亭奇遇虽是叙事，但重在抒情。作者因偶遇两个赏雪人而惊喜，短暂的相处中彼此都觉得很愉快，随之而来的分别不免使人伤感，但能够遇到志趣相投的人又让作者释怀。情绪的变化一波三折，但都与“看雪”有关，是“看雪”行动的延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74600" y="1190520"/>
            <a:ext cx="8829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独特的白描手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白描手法的运用是本文的一大特点。全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字，写湖、写雪、写人，又交代游湖的始末，文字极其简练。特别是作者能抓住景物的特征来描写，“一痕”“一点”“一芥”“两三粒”，用词具有高度的概括性，宛如中国画中的写意山水，寥寥数笔便描绘出景物的形与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23561" descr=""/>
          <p:cNvPicPr/>
          <p:nvPr/>
        </p:nvPicPr>
        <p:blipFill>
          <a:blip r:embed="rId1"/>
          <a:stretch/>
        </p:blipFill>
        <p:spPr>
          <a:xfrm>
            <a:off x="2355840" y="696960"/>
            <a:ext cx="4478040" cy="64116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3564" descr=""/>
          <p:cNvPicPr/>
          <p:nvPr/>
        </p:nvPicPr>
        <p:blipFill>
          <a:blip r:embed="rId2"/>
          <a:stretch/>
        </p:blipFill>
        <p:spPr>
          <a:xfrm>
            <a:off x="237960" y="1201680"/>
            <a:ext cx="1890360" cy="526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4680" y="1646280"/>
            <a:ext cx="929304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南江看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罗荣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高原的冬天不能没有雪，有雪就有孩子们的笑声，有雪便有冬的灵气和迷人的神韵。于是，雪孩子、白雪公主纷纷从童话中走来，寻找洁白的梦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那是去年腊月下旬，天空灰蒙蒙的，一望无际的空荡，一片两片……雪便来了。如鹅毛，如轻盈飞翔的蝶。下雪的日子，把大地装扮成一片银亮的世界。我和几位朋友相约到南江看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38240" y="693720"/>
            <a:ext cx="8830800" cy="20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雪的南江，如深闺淑女般的恬静，峡谷幽幽，更显几分诗情画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洁白的雪花，绽放于九天之上，似碧空之仙女，苍穹之公主，宇宙之天使，飘飘洒洒到人间，轻轻盈盈铺地而来，犹如女儿依偎母亲般地紧贴大地，倾听土地的心音，感受春的脚步和旋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坦荡的雪花。它的下落不仅仅是生命的升华，而是包容万物的覆盖。放眼望去，苗岭山脉“山舞银蛇，原驰蜡象”；巍巍香火岩及南江河畔的草木“千树万树梨花开”；苗岭新都，山乡田畴“万亩麦苗雪中青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38240" y="693720"/>
            <a:ext cx="883080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翔舞的雪花。如满江飞舞的蝶，朦胧一江春水，这一幅圣洁的雪帘，把洁白的天地相连。是在传递浓浓的春意？是在倾吐柔柔的衷情？是在播报心声的呐喊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南江雪，悄悄飘。不经意间，枝叶、树梢披上洁白的盛妆，晶莹透亮，纤尘不染。似串串珍珠？像粒粒玛瑙？若锭锭白银？这分明是一颗心，一团火，一把燃烧的雪焰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南江的雪，就这般深沉、含蓄、空灵。让人倍感你的坦荡与豪迈，火红而热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雪，涤荡我生命中的阴暗，给我带来灵魂深处的朴实与真诚，充实我对美好事物的向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38240" y="693720"/>
            <a:ext cx="883080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命如歌，岁月如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满江飞扬的雪花，不正是冬天吹奏的一支无声而动听的歌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南江的雪啊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有删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67941"/>
          <p:cNvSpPr/>
          <p:nvPr/>
        </p:nvSpPr>
        <p:spPr>
          <a:xfrm>
            <a:off x="641520" y="746280"/>
            <a:ext cx="729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且读且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39760" y="1504800"/>
            <a:ext cx="8645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湖心亭看雪》和本文都借雪抒情，两者表达的感情有什么不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提示】《湖心亭看雪》一文中，作者通过描绘雪后西湖宁静清绝的景象，含蓄地表达了对故国往事的怀念之情；本文中，作者通过对南江雪景的描绘，表达了对南江雪的喜爱与赞美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43013" descr=""/>
          <p:cNvPicPr/>
          <p:nvPr/>
        </p:nvPicPr>
        <p:blipFill>
          <a:blip r:embed="rId1"/>
          <a:stretch/>
        </p:blipFill>
        <p:spPr>
          <a:xfrm>
            <a:off x="2165400" y="779400"/>
            <a:ext cx="4451040" cy="6710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3014" descr=""/>
          <p:cNvPicPr/>
          <p:nvPr/>
        </p:nvPicPr>
        <p:blipFill>
          <a:blip r:embed="rId2"/>
          <a:stretch/>
        </p:blipFill>
        <p:spPr>
          <a:xfrm>
            <a:off x="250920" y="1963800"/>
            <a:ext cx="1785600" cy="5202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3602520" y="1503360"/>
            <a:ext cx="1827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言文阅读之划分朗读节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03040" y="2459160"/>
            <a:ext cx="878328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湖心亭看雪》一文以清新淡雅的笔墨，对雪后西湖宁静清绝的景象进行了极其生动的描绘。要想背诵这篇文章，首先应熟读，所以我们理应掌握句子的朗读节奏。文言文的朗读，涉及文字、词义、语法及古代文化等多方面的知识，掌握古诗文的朗读知识，并诵读一定量的文言文，能够提高自己的语文素养。近年的中考中，给句子划分朗读节奏也是常考的考点之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8244" descr=""/>
          <p:cNvPicPr/>
          <p:nvPr/>
        </p:nvPicPr>
        <p:blipFill>
          <a:blip r:embed="rId1"/>
          <a:stretch/>
        </p:blipFill>
        <p:spPr>
          <a:xfrm>
            <a:off x="2384280" y="712800"/>
            <a:ext cx="4192200" cy="5997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8252" descr=""/>
          <p:cNvPicPr/>
          <p:nvPr/>
        </p:nvPicPr>
        <p:blipFill>
          <a:blip r:embed="rId2"/>
          <a:stretch/>
        </p:blipFill>
        <p:spPr>
          <a:xfrm>
            <a:off x="204840" y="1647720"/>
            <a:ext cx="1847520" cy="47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369720" y="2540160"/>
            <a:ext cx="8773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湖心亭”指浙江杭州西湖的湖心亭，这是赏雪的地点。“看”是“欣赏，观赏”的意思，“看雪”点明了事件。文题概括了文章所要表述的内容，简洁明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46086" descr=""/>
          <p:cNvPicPr/>
          <p:nvPr/>
        </p:nvPicPr>
        <p:blipFill>
          <a:blip r:embed="rId1"/>
          <a:stretch/>
        </p:blipFill>
        <p:spPr>
          <a:xfrm>
            <a:off x="166680" y="858960"/>
            <a:ext cx="2039400" cy="541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157320" y="1227240"/>
            <a:ext cx="88293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古人云：“熟读唐诗三百首，不会作诗也会吟。”这句话说的是朗读在学习文言文中的重要性。正确的朗读停顿，是理解文言文基本内容的第一步。近年来，在全国各地的中考语文试题中，出现了大量关于文言文朗读停顿的考题。一般情况下，对这一考点有以下两种考法：①标示句子朗读时的正确停顿。②选出朗读节奏标示有误或者正确的一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握文言语句的朗读节奏，主要有以下几种方法：①根据文言句子的语法结构确定朗读节奏；②根据句首的语气词来确定朗读节奏；③根据句中起舒缓语气作用的“之”字确定朗读节奏；④根据句首的连词或者总结的词语来确定朗读节奏；⑤根据语句内在的逻辑意义来确定朗读节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64867" descr=""/>
          <p:cNvPicPr/>
          <p:nvPr/>
        </p:nvPicPr>
        <p:blipFill>
          <a:blip r:embed="rId1"/>
          <a:stretch/>
        </p:blipFill>
        <p:spPr>
          <a:xfrm>
            <a:off x="250920" y="746280"/>
            <a:ext cx="1874520" cy="482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343080" y="1292400"/>
            <a:ext cx="8672040" cy="20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江西中考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）阅读下面文言文，完成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游大林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唐）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余与河南元集虚、范阳张允中……凡十七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遗爱草堂①，历东西二林②，抵化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憩峰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登香炉峰，宿大林寺。大林穷远，人迹罕到。环寺多清流苍石，短松瘦竹。寺中唯板屋木器，其僧皆海东人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山高地深，时节绝晚。于时孟夏，如正、二月天，山桃始华，涧草犹短；人物风候，与平地聚落④不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58840" y="879480"/>
            <a:ext cx="867204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初到恍然，若别造一世界者。因口号绝句云：“人间四月芳菲尽，山寺桃花始盛开。长恨春归无觅处，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知转入此中来。”既而周览屋壁，见萧郎中存、魏郎中弘简、李补阙渤三人姓名文句。因与集虚辈叹且曰：此地实匡庐间第一境。由驿路至山门，曾无半日程，自萧、魏、李游，迨⑤今垂二十年，寂寥无继来者。嗟乎！名利之诱人也如此！时元和十二年四月九日，太原白乐天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自《全唐文》，有删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77920" y="746280"/>
            <a:ext cx="86720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注】①遗爱草堂：白居易贬江州后，在庐山遗爱寺自己营建的草堂。②东西二林：指东林寺、西林寺。后文的“化城”指化城寺。③海东人：新罗国人，新罗国地处朝鲜半岛。④聚落：村庄。⑤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dài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等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下面句子朗读节奏划分正确的一项是（    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地实匡庐间第一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地实匡庐间第一境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实匡庐间第一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地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匡庐间第一境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地实匡庐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释文中加点词的意思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    )(2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       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7315560" y="3065400"/>
            <a:ext cx="33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183400" y="58723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开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426560" y="5921280"/>
            <a:ext cx="1031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到（或“往”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77920" y="746280"/>
            <a:ext cx="867204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翻译文中画线句子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环寺多清流苍石，短松瘦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自己的话说说白居易一行游大林寺的行踪。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843120" y="1835280"/>
            <a:ext cx="79102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寺院周围有许多清澈的溪流，苍色的岩石，矮小的松树，清瘦的竹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25520" y="4175280"/>
            <a:ext cx="8830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白居易一行从遗爱草堂出发，经过了东林、西林二寺，到达化城寺，在峰顶上稍事休息，便登上香炉峰，住在大林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39760" y="730080"/>
            <a:ext cx="84974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林寺景色优美却游人甚少，其原因是什么？请用文中语句回答。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401560" y="2270160"/>
            <a:ext cx="31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大林穷远；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名利之诱人也如此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31840" y="1255680"/>
            <a:ext cx="869904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同河南人元集虚、范阳人张允中……共十七人，从遗爱草堂出发，经过东林寺和西林寺，来到化城寺，在峰顶休息后，登上香炉峰，投宿于大林寺中。大林寺十分偏僻，很少有人到这里来。寺院周围有许多清澈的溪流，苍色的岩石，矮小的松树，清瘦的竹子。寺里只有木制的房屋和器物。寺僧都是海东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里山势高峻，地形深幽，因而季节变换非常缓慢。这时候正是初夏，这里却如山外的正月、二月的天气，山中的桃树刚刚开花，山涧绿草还很短浅；人事景致，风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141920" y="763560"/>
            <a:ext cx="44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参考译文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31840" y="711360"/>
            <a:ext cx="86990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物候，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山外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平地村庄一点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同。刚到这里，恍惚间仿佛到了另一个世界。于是随口吟出一首绝句：“人间四月芳菲尽，山寺桃花始盛开。长恨春归无觅处，不知转入此中来。”不久，我们环顾大林寺的屋壁，只见屋壁上有萧存、魏弘简、李渤三人题写的诗句。为此，我和元集虚等人无不感叹说：这里实在是庐山第一胜境。从交通大道走到山门，还不到半天的路程，自萧、魏、李这三人游览大林寺后，到现在将近二十年了，冷落萧条，再没有知名人士承袭他们游览题诗的雅事了。唉！功名利禄对人们的诱惑竟然到了这种地步啊！元和十二年四月九日，太原白乐天作序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0247" descr=""/>
          <p:cNvPicPr/>
          <p:nvPr/>
        </p:nvPicPr>
        <p:blipFill>
          <a:blip r:embed="rId1"/>
          <a:stretch/>
        </p:blipFill>
        <p:spPr>
          <a:xfrm>
            <a:off x="250920" y="806400"/>
            <a:ext cx="2058480" cy="574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39760" y="1782720"/>
            <a:ext cx="87008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张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597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679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明末清初文学家，字宗子，号陶庵，山阴（今浙江绍兴）人。作品多写山水景物、日常琐事，部分作品表现出明亡之后的怀旧感伤情绪。文学创作以小品文见长。文笔清新，饶有情趣，风格独特。主要作品有《陶庵梦忆》《西湖梦寻》《琅嬛文集》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3354" descr=""/>
          <p:cNvPicPr/>
          <p:nvPr/>
        </p:nvPicPr>
        <p:blipFill>
          <a:blip r:embed="rId1"/>
          <a:stretch/>
        </p:blipFill>
        <p:spPr>
          <a:xfrm>
            <a:off x="231840" y="855720"/>
            <a:ext cx="1893600" cy="487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30040" y="1550880"/>
            <a:ext cx="875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白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白描原是中国绘画的传统技法之一。在文学创作上，白描作为一种表现手法，是指用最简练的笔墨，不加烘托，刻画出鲜明生动的形象。用白描手法绘景，只用简笔作粗线勾画，就能形成生动的画面；用白描手法刻画人物，三言两语就能描绘出人物的外貌、神态，使读者如见其人；用白描手法叙事，条理清晰，言简意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83973" descr=""/>
          <p:cNvPicPr/>
          <p:nvPr/>
        </p:nvPicPr>
        <p:blipFill>
          <a:blip r:embed="rId1"/>
          <a:stretch/>
        </p:blipFill>
        <p:spPr>
          <a:xfrm>
            <a:off x="250920" y="806400"/>
            <a:ext cx="1848960" cy="4917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572400" y="1397160"/>
            <a:ext cx="592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难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706320" y="2131920"/>
            <a:ext cx="7259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定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ēn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                      毳衣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u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凇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ōn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                       沆砀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àng dàn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802800" y="3600360"/>
            <a:ext cx="40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词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434880" y="5021280"/>
            <a:ext cx="38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285920" y="4597560"/>
            <a:ext cx="3315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余一小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数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下一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副词，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1147680" y="4900680"/>
            <a:ext cx="210600" cy="728280"/>
          </a:xfrm>
          <a:prstGeom prst="leftBrace">
            <a:avLst>
              <a:gd name="adj1" fmla="val 28759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703760" y="5060880"/>
            <a:ext cx="38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5499000" y="4681440"/>
            <a:ext cx="3435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下一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位名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及下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动词，离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1"/>
          <p:cNvSpPr/>
          <p:nvPr/>
        </p:nvSpPr>
        <p:spPr>
          <a:xfrm>
            <a:off x="5418000" y="4968720"/>
            <a:ext cx="210600" cy="728280"/>
          </a:xfrm>
          <a:prstGeom prst="leftBrace">
            <a:avLst>
              <a:gd name="adj1" fmla="val 28759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5065920" y="50576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820800" y="50133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486080" y="2879640"/>
            <a:ext cx="3582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日更定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代词，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金陵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判断动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547920" y="1589040"/>
            <a:ext cx="577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454040" y="949320"/>
            <a:ext cx="706392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日更定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古代夜间计时单位，一夜分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五更，每更约两个小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湖中焉得更有此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副词，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1219320" y="1298520"/>
            <a:ext cx="258480" cy="1184040"/>
          </a:xfrm>
          <a:prstGeom prst="leftBrace">
            <a:avLst>
              <a:gd name="adj1" fmla="val 38139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52600" y="3214800"/>
            <a:ext cx="577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1241280" y="3149640"/>
            <a:ext cx="304560" cy="685440"/>
          </a:xfrm>
          <a:prstGeom prst="leftBrace">
            <a:avLst>
              <a:gd name="adj1" fmla="val 1875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369720" y="4811760"/>
            <a:ext cx="8773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省略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见余大喜（省略主语“两人”，应为“（两人）见余大喜”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557280" y="4029120"/>
            <a:ext cx="729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特殊句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20491" descr=""/>
          <p:cNvPicPr/>
          <p:nvPr/>
        </p:nvPicPr>
        <p:blipFill>
          <a:blip r:embed="rId1"/>
          <a:stretch/>
        </p:blipFill>
        <p:spPr>
          <a:xfrm>
            <a:off x="2095560" y="749160"/>
            <a:ext cx="4306680" cy="59508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20493"/>
          <p:cNvSpPr/>
          <p:nvPr/>
        </p:nvSpPr>
        <p:spPr>
          <a:xfrm>
            <a:off x="3105000" y="1501920"/>
            <a:ext cx="209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原文精解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953160" y="2178000"/>
            <a:ext cx="175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崇祯五年十二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余住西湖。大雪三日，湖中人鸟声俱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09680" y="2752560"/>
            <a:ext cx="873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翻译：崇祯五年十二月，我住在西湖边。接连下了三天的大雪，西湖中人、飞鸟的声音都消失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480960" y="4148280"/>
            <a:ext cx="86054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精析：“崇祯五年”，表示作者不忘故国。开头两句从时间、地点两个方面不着痕迹地引出下文湖上赏雪的情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864880" y="1317600"/>
            <a:ext cx="3747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日更定矣，余挐一小舟，拥毳衣炉火，独往湖心亭看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09680" y="2228760"/>
            <a:ext cx="87530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翻译：这天报更的鼓声停了，我划着一叶小舟，穿着细毛皮衣，带着炉火，独自往湖心亭看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68280" y="3925800"/>
            <a:ext cx="86324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精析：一个“独”字，充分展示了作者遗世独立的高洁情怀和不随流俗的生活态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模板网-WWW.1PPT.COM">
  <a:themeElements>
    <a:clrScheme name="Default Design 1">
      <a:dk1>
        <a:srgbClr val="000000"/>
      </a:dk1>
      <a:lt1>
        <a:srgbClr val="ffffff"/>
      </a:lt1>
      <a:dk2>
        <a:srgbClr val="cc3300"/>
      </a:dk2>
      <a:lt2>
        <a:srgbClr val="808080"/>
      </a:lt2>
      <a:accent1>
        <a:srgbClr val="ff6161"/>
      </a:accent1>
      <a:accent2>
        <a:srgbClr val="ffc319"/>
      </a:accent2>
      <a:accent3>
        <a:srgbClr val="ffffff"/>
      </a:accent3>
      <a:accent4>
        <a:srgbClr val="000000"/>
      </a:accent4>
      <a:accent5>
        <a:srgbClr val="ffb7b7"/>
      </a:accent5>
      <a:accent6>
        <a:srgbClr val="e7b016"/>
      </a:accent6>
      <a:hlink>
        <a:srgbClr val="a8d02a"/>
      </a:hlink>
      <a:folHlink>
        <a:srgbClr val="5cb1f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cc3300"/>
      </a:dk2>
      <a:lt2>
        <a:srgbClr val="808080"/>
      </a:lt2>
      <a:accent1>
        <a:srgbClr val="ff6161"/>
      </a:accent1>
      <a:accent2>
        <a:srgbClr val="ffc319"/>
      </a:accent2>
      <a:accent3>
        <a:srgbClr val="ffffff"/>
      </a:accent3>
      <a:accent4>
        <a:srgbClr val="000000"/>
      </a:accent4>
      <a:accent5>
        <a:srgbClr val="ffb7b7"/>
      </a:accent5>
      <a:accent6>
        <a:srgbClr val="e7b016"/>
      </a:accent6>
      <a:hlink>
        <a:srgbClr val="a8d02a"/>
      </a:hlink>
      <a:folHlink>
        <a:srgbClr val="5cb1f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主题23</Template>
  <TotalTime>7</TotalTime>
  <Application>LibreOffice/7.4.7.2$Linux_X86_64 LibreOffice_project/40$Build-2</Application>
  <AppVersion>15.0000</AppVersion>
  <Words>5361</Words>
  <Paragraphs>1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第一PPT模板网-WWW.1PPT.COM</dc:creator>
  <dc:description/>
  <cp:keywords>第一PPT模板网-WWW.1PPT.COM</cp:keywords>
  <dc:language>en-US</dc:language>
  <cp:lastModifiedBy>123</cp:lastModifiedBy>
  <cp:lastPrinted>1601-01-01T00:00:00Z</cp:lastPrinted>
  <dcterms:modified xsi:type="dcterms:W3CDTF">2019-07-15T08:58:39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38</vt:r8>
  </property>
  <property fmtid="{D5CDD505-2E9C-101B-9397-08002B2CF9AE}" pid="5" name="Version">
    <vt:r8>1</vt:r8>
  </property>
</Properties>
</file>