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CB9C9-46C1-4EEA-A53F-293879BC9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377FF2-C01E-4F57-BD79-F7C6265ED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27E3D9-D63F-483A-B871-A975374D03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99CFD6-C265-41A6-9184-EF5F302995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EE0771-4B16-49CA-869A-F93713FD6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7F8B16-D927-409F-8A73-6A72E5DF4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37E695-40E7-48D2-99E1-2DAB036378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0379A6-E625-4C6E-BD81-FAF92FF2FF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DC9607-5443-4257-A736-1AFB520B68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2C015B-DAF0-478E-B08C-C647B109AC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5F1806-0461-4AF2-A8F7-B716A58DFD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F27-DAA1-42DF-A863-185A103C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EE8-76D7-4D9A-84BD-F9682083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0BA-56D8-46B8-9385-F16DECFE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46E-8A31-4EE1-A382-5BA56B23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D8CF-41EC-4666-994B-D4AFEEFD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0CD-CF4D-4361-A219-04D18EC1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787-6E88-472E-A74C-FAFEDF16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536C-9115-4E4A-A042-76622306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866-D126-4DDC-B24A-B8D0D161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9930-69FF-4B39-A3D3-A683D57C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D53E-AE84-4D73-89DF-3D28E6B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7F9-1CBE-47DF-947C-B09A2D77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37A1-3239-449E-9AB9-56B9C4B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2C7F-018F-418C-9D34-0C897DD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EAC-8899-437D-A29E-D0B6A346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ED87-CB89-4398-8CAC-CEA10694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9EB9-C43E-4C6B-A15C-07749701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7EA-DBAE-4037-9ED0-79FC1997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04E-C256-4889-B3A3-2D60F0B9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623-6AAA-4D37-8FC1-2B185884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994-F70D-49BE-B426-81497D21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04D-85D2-4E0B-8F91-7912DBD8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44E-2FA1-4908-9730-8C8A12F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174-8E42-4A0E-A49C-0F75495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D36569-39CE-4E8B-902A-86470F87BA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CC3B1C-1175-4547-BD2F-493D8AB3BA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3640" y="1989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换  一  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2894400" y="5373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换一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5800" y="3479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139120" y="2895480"/>
            <a:ext cx="1410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诀 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决 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927000" y="3111480"/>
            <a:ext cx="72720" cy="1549080"/>
          </a:xfrm>
          <a:prstGeom prst="leftBrace">
            <a:avLst>
              <a:gd name="adj1" fmla="val 100783"/>
              <a:gd name="adj2" fmla="val 48713"/>
            </a:avLst>
          </a:pr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4926960" y="3479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6534720" y="2824200"/>
            <a:ext cx="14702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颗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5319720" y="3111480"/>
            <a:ext cx="45720" cy="1549080"/>
          </a:xfrm>
          <a:prstGeom prst="leftBrace">
            <a:avLst>
              <a:gd name="adj1" fmla="val 100032"/>
              <a:gd name="adj2" fmla="val 48713"/>
            </a:avLst>
          </a:pr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44" name="矩形 16"/>
          <p:cNvSpPr/>
          <p:nvPr/>
        </p:nvSpPr>
        <p:spPr>
          <a:xfrm>
            <a:off x="3106800" y="28954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7"/>
          <p:cNvSpPr/>
          <p:nvPr/>
        </p:nvSpPr>
        <p:spPr>
          <a:xfrm>
            <a:off x="3125520" y="44226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决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8"/>
          <p:cNvSpPr/>
          <p:nvPr/>
        </p:nvSpPr>
        <p:spPr>
          <a:xfrm>
            <a:off x="7772040" y="289548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颗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7544520" y="4302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1136520" y="2895480"/>
            <a:ext cx="56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1025640" y="4338720"/>
            <a:ext cx="78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5384880" y="283356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3"/>
          <p:cNvSpPr/>
          <p:nvPr/>
        </p:nvSpPr>
        <p:spPr>
          <a:xfrm>
            <a:off x="5548680" y="42130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换一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05800" y="3479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139120" y="2895480"/>
            <a:ext cx="1410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虹 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扛 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927000" y="3111480"/>
            <a:ext cx="72720" cy="1549080"/>
          </a:xfrm>
          <a:prstGeom prst="leftBrace">
            <a:avLst>
              <a:gd name="adj1" fmla="val 100783"/>
              <a:gd name="adj2" fmla="val 48713"/>
            </a:avLst>
          </a:pr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4926960" y="3479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534720" y="2824200"/>
            <a:ext cx="14702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娃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桂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5319720" y="3111480"/>
            <a:ext cx="45720" cy="1549080"/>
          </a:xfrm>
          <a:prstGeom prst="leftBrace">
            <a:avLst>
              <a:gd name="adj1" fmla="val 100032"/>
              <a:gd name="adj2" fmla="val 48713"/>
            </a:avLst>
          </a:pr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59" name="矩形 16"/>
          <p:cNvSpPr/>
          <p:nvPr/>
        </p:nvSpPr>
        <p:spPr>
          <a:xfrm>
            <a:off x="3105000" y="28954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彩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3265200" y="44226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扛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7545960" y="28954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娃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7545960" y="4302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桂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4"/>
          <p:cNvSpPr/>
          <p:nvPr/>
        </p:nvSpPr>
        <p:spPr>
          <a:xfrm>
            <a:off x="977760" y="289548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5"/>
          <p:cNvSpPr/>
          <p:nvPr/>
        </p:nvSpPr>
        <p:spPr>
          <a:xfrm>
            <a:off x="1166040" y="43610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6"/>
          <p:cNvSpPr/>
          <p:nvPr/>
        </p:nvSpPr>
        <p:spPr>
          <a:xfrm>
            <a:off x="5421240" y="278928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7"/>
          <p:cNvSpPr/>
          <p:nvPr/>
        </p:nvSpPr>
        <p:spPr>
          <a:xfrm>
            <a:off x="5502960" y="43117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换一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2336040" y="34686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969720" y="2884320"/>
            <a:ext cx="1410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逃 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 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7"/>
          <p:cNvSpPr/>
          <p:nvPr/>
        </p:nvSpPr>
        <p:spPr>
          <a:xfrm>
            <a:off x="2757600" y="3100320"/>
            <a:ext cx="72720" cy="1549080"/>
          </a:xfrm>
          <a:prstGeom prst="leftBrace">
            <a:avLst>
              <a:gd name="adj1" fmla="val 100783"/>
              <a:gd name="adj2" fmla="val 48713"/>
            </a:avLst>
          </a:pr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4937040" y="288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逃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4957560" y="44118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2840040" y="285444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>
            <a:off x="3009240" y="43322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拓展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240" cy="345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制汉字卡片和偏旁卡片，试着换一换汉字的偏旁。看看换了偏旁的字你还认识吗？把自己认识的字放在一旁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7767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朋友们，请你们认读本课的生字并且用生字口头扩词语，看谁扩得最多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小恐龙"/>
          <p:cNvPicPr/>
          <p:nvPr/>
        </p:nvPicPr>
        <p:blipFill>
          <a:blip r:embed="rId1"/>
          <a:stretch/>
        </p:blipFill>
        <p:spPr>
          <a:xfrm>
            <a:off x="324000" y="692280"/>
            <a:ext cx="1584000" cy="213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2484360" y="1628640"/>
            <a:ext cx="3817440" cy="2970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PerspectiveTopLeft"/>
              <a:lightRig dir="r" rig="legacyNormal3"/>
            </a:scene3d>
            <a:sp3d extrusionH="201600" prstMaterial="legacyMetal">
              <a:extrusionClr>
                <a:srgbClr val="ffffff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再见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读 一 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3360" y="206064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uàn            jué              kē              xī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换      诀     颗     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è                táng           hóng          cǎ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      堂     虹     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káng           wá              guì             t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扛      娃     桂     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3204000" y="29970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认  一  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229240" cy="30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决         诀       颗        星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堂         虹       彩        娃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挂         逃       桃        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写 一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4"/>
          <p:cNvGrpSpPr/>
          <p:nvPr/>
        </p:nvGrpSpPr>
        <p:grpSpPr>
          <a:xfrm>
            <a:off x="3059280" y="2637000"/>
            <a:ext cx="2819160" cy="2844360"/>
            <a:chOff x="3059280" y="2637000"/>
            <a:chExt cx="2819160" cy="2844360"/>
          </a:xfrm>
        </p:grpSpPr>
        <p:graphicFrame>
          <p:nvGraphicFramePr>
            <p:cNvPr id="97" name="Object 3"/>
            <p:cNvGraphicFramePr/>
            <p:nvPr/>
          </p:nvGraphicFramePr>
          <p:xfrm>
            <a:off x="3059280" y="2662560"/>
            <a:ext cx="2819160" cy="2818800"/>
          </p:xfrm>
          <a:graphic>
            <a:graphicData uri="http://schemas.openxmlformats.org/presentationml/2006/ole">
              <p:oleObj progId="Paint.Picture" r:id="rId1" spid="">
                <p:embed/>
                <p:pic>
                  <p:nvPicPr>
                    <p:cNvPr id="9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2662560"/>
                      <a:ext cx="281916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Text Box 8"/>
            <p:cNvSpPr/>
            <p:nvPr/>
          </p:nvSpPr>
          <p:spPr>
            <a:xfrm>
              <a:off x="3404520" y="2637000"/>
              <a:ext cx="1523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9"/>
                </a:spcBef>
              </a:pPr>
              <a:r>
                <a:rPr b="1" lang="zh-CN" sz="1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西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6912000" y="3273480"/>
            <a:ext cx="1752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西方西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900000" y="23302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写 一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4"/>
          <p:cNvGrpSpPr/>
          <p:nvPr/>
        </p:nvGrpSpPr>
        <p:grpSpPr>
          <a:xfrm>
            <a:off x="3059280" y="2637000"/>
            <a:ext cx="2819160" cy="2844360"/>
            <a:chOff x="3059280" y="2637000"/>
            <a:chExt cx="2819160" cy="2844360"/>
          </a:xfrm>
        </p:grpSpPr>
        <p:graphicFrame>
          <p:nvGraphicFramePr>
            <p:cNvPr id="104" name="Object 3"/>
            <p:cNvGraphicFramePr/>
            <p:nvPr/>
          </p:nvGraphicFramePr>
          <p:xfrm>
            <a:off x="3059280" y="2662560"/>
            <a:ext cx="2819160" cy="2818800"/>
          </p:xfrm>
          <a:graphic>
            <a:graphicData uri="http://schemas.openxmlformats.org/presentationml/2006/ole">
              <p:oleObj progId="Paint.Picture" r:id="rId1" spid="">
                <p:embed/>
                <p:pic>
                  <p:nvPicPr>
                    <p:cNvPr id="10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2662560"/>
                      <a:ext cx="281916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Text Box 8"/>
            <p:cNvSpPr/>
            <p:nvPr/>
          </p:nvSpPr>
          <p:spPr>
            <a:xfrm>
              <a:off x="3404520" y="2637000"/>
              <a:ext cx="1523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9"/>
                </a:spcBef>
              </a:pPr>
              <a:r>
                <a:rPr b="1" lang="zh-CN" sz="1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诀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5"/>
          <p:cNvSpPr/>
          <p:nvPr/>
        </p:nvSpPr>
        <p:spPr>
          <a:xfrm>
            <a:off x="6912000" y="3273480"/>
            <a:ext cx="1752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诀秘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900000" y="2330280"/>
            <a:ext cx="15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写 一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"/>
          <p:cNvGrpSpPr/>
          <p:nvPr/>
        </p:nvGrpSpPr>
        <p:grpSpPr>
          <a:xfrm>
            <a:off x="3059280" y="2637000"/>
            <a:ext cx="2819160" cy="2844360"/>
            <a:chOff x="3059280" y="2637000"/>
            <a:chExt cx="2819160" cy="2844360"/>
          </a:xfrm>
        </p:grpSpPr>
        <p:graphicFrame>
          <p:nvGraphicFramePr>
            <p:cNvPr id="111" name="Object 3"/>
            <p:cNvGraphicFramePr/>
            <p:nvPr/>
          </p:nvGraphicFramePr>
          <p:xfrm>
            <a:off x="3059280" y="2662560"/>
            <a:ext cx="2819160" cy="2818800"/>
          </p:xfrm>
          <a:graphic>
            <a:graphicData uri="http://schemas.openxmlformats.org/presentationml/2006/ole">
              <p:oleObj progId="Paint.Picture" r:id="rId1" spid="">
                <p:embed/>
                <p:pic>
                  <p:nvPicPr>
                    <p:cNvPr id="11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2662560"/>
                      <a:ext cx="281916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Text Box 8"/>
            <p:cNvSpPr/>
            <p:nvPr/>
          </p:nvSpPr>
          <p:spPr>
            <a:xfrm>
              <a:off x="3404520" y="2637000"/>
              <a:ext cx="1523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9"/>
                </a:spcBef>
              </a:pPr>
              <a:r>
                <a:rPr b="1" lang="zh-CN" sz="1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挑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6912000" y="3273480"/>
            <a:ext cx="1752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水挑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900000" y="2330280"/>
            <a:ext cx="15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写 一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"/>
          <p:cNvGrpSpPr/>
          <p:nvPr/>
        </p:nvGrpSpPr>
        <p:grpSpPr>
          <a:xfrm>
            <a:off x="3059280" y="2637000"/>
            <a:ext cx="2819160" cy="2844360"/>
            <a:chOff x="3059280" y="2637000"/>
            <a:chExt cx="2819160" cy="2844360"/>
          </a:xfrm>
        </p:grpSpPr>
        <p:graphicFrame>
          <p:nvGraphicFramePr>
            <p:cNvPr id="118" name="Object 3"/>
            <p:cNvGraphicFramePr/>
            <p:nvPr/>
          </p:nvGraphicFramePr>
          <p:xfrm>
            <a:off x="3059280" y="2662560"/>
            <a:ext cx="2819160" cy="2818800"/>
          </p:xfrm>
          <a:graphic>
            <a:graphicData uri="http://schemas.openxmlformats.org/presentationml/2006/ole">
              <p:oleObj progId="Paint.Picture" r:id="rId1" spid="">
                <p:embed/>
                <p:pic>
                  <p:nvPicPr>
                    <p:cNvPr id="11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2662560"/>
                      <a:ext cx="281916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Text Box 8"/>
            <p:cNvSpPr/>
            <p:nvPr/>
          </p:nvSpPr>
          <p:spPr>
            <a:xfrm>
              <a:off x="3404520" y="2637000"/>
              <a:ext cx="1523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9"/>
                </a:spcBef>
              </a:pPr>
              <a:r>
                <a:rPr b="1" lang="zh-CN" sz="1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逃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文本框 5"/>
          <p:cNvSpPr/>
          <p:nvPr/>
        </p:nvSpPr>
        <p:spPr>
          <a:xfrm>
            <a:off x="6912000" y="3273480"/>
            <a:ext cx="1752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逃跑逃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900000" y="2330280"/>
            <a:ext cx="15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写 一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3059280" y="2637000"/>
            <a:ext cx="2819160" cy="2844360"/>
            <a:chOff x="3059280" y="2637000"/>
            <a:chExt cx="2819160" cy="2844360"/>
          </a:xfrm>
        </p:grpSpPr>
        <p:graphicFrame>
          <p:nvGraphicFramePr>
            <p:cNvPr id="125" name="Object 3"/>
            <p:cNvGraphicFramePr/>
            <p:nvPr/>
          </p:nvGraphicFramePr>
          <p:xfrm>
            <a:off x="3059280" y="2662560"/>
            <a:ext cx="2819160" cy="2818800"/>
          </p:xfrm>
          <a:graphic>
            <a:graphicData uri="http://schemas.openxmlformats.org/presentationml/2006/ole">
              <p:oleObj progId="Paint.Picture" r:id="rId1" spid="">
                <p:embed/>
                <p:pic>
                  <p:nvPicPr>
                    <p:cNvPr id="12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2662560"/>
                      <a:ext cx="281916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Text Box 8"/>
            <p:cNvSpPr/>
            <p:nvPr/>
          </p:nvSpPr>
          <p:spPr>
            <a:xfrm>
              <a:off x="3404520" y="2637000"/>
              <a:ext cx="1523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9"/>
                </a:spcBef>
              </a:pPr>
              <a:r>
                <a:rPr b="1" lang="zh-CN" sz="1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桂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文本框 5"/>
          <p:cNvSpPr/>
          <p:nvPr/>
        </p:nvSpPr>
        <p:spPr>
          <a:xfrm>
            <a:off x="6912000" y="3273480"/>
            <a:ext cx="1752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桂花桂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900000" y="2330280"/>
            <a:ext cx="15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u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1600" y="7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写 一 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"/>
          <p:cNvGrpSpPr/>
          <p:nvPr/>
        </p:nvGrpSpPr>
        <p:grpSpPr>
          <a:xfrm>
            <a:off x="3059280" y="2637000"/>
            <a:ext cx="2819160" cy="2844360"/>
            <a:chOff x="3059280" y="2637000"/>
            <a:chExt cx="2819160" cy="2844360"/>
          </a:xfrm>
        </p:grpSpPr>
        <p:graphicFrame>
          <p:nvGraphicFramePr>
            <p:cNvPr id="132" name="Object 3"/>
            <p:cNvGraphicFramePr/>
            <p:nvPr/>
          </p:nvGraphicFramePr>
          <p:xfrm>
            <a:off x="3059280" y="2662560"/>
            <a:ext cx="2819160" cy="2818800"/>
          </p:xfrm>
          <a:graphic>
            <a:graphicData uri="http://schemas.openxmlformats.org/presentationml/2006/ole">
              <p:oleObj progId="Paint.Picture" r:id="rId1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2662560"/>
                      <a:ext cx="281916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Text Box 8"/>
            <p:cNvSpPr/>
            <p:nvPr/>
          </p:nvSpPr>
          <p:spPr>
            <a:xfrm>
              <a:off x="3404520" y="2637000"/>
              <a:ext cx="1523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9"/>
                </a:spcBef>
              </a:pPr>
              <a:r>
                <a:rPr b="1" lang="zh-CN" sz="16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颗</a:t>
              </a:r>
              <a:endParaRPr b="0" lang="en-US" sz="1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5"/>
          <p:cNvSpPr/>
          <p:nvPr/>
        </p:nvSpPr>
        <p:spPr>
          <a:xfrm>
            <a:off x="6912000" y="3273480"/>
            <a:ext cx="1752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颗粒一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900000" y="2330280"/>
            <a:ext cx="15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蓝白色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蓝白色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蓝白色</Template>
  <TotalTime>278</TotalTime>
  <Application>LibreOffice/7.4.7.2$Linux_X86_64 LibreOffice_project/40$Build-2</Application>
  <AppVersion>15.0000</AppVersion>
  <Words>814</Words>
  <Paragraphs>1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9:33:48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21T01:24:13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全屏显示(4:3)</vt:lpwstr>
  </property>
  <property fmtid="{D5CDD505-2E9C-101B-9397-08002B2CF9AE}" pid="4" name="Slides">
    <vt:r8>16</vt:r8>
  </property>
</Properties>
</file>