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10B75-A565-4B9B-AF96-4424693C2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FC9BDA-17E9-4BDF-874A-448453B7F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4F0-2D2E-409A-9E67-68B8306D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B8D-0451-490D-B568-69A0294A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618-E986-4F44-83C6-C77939BA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A26-6822-438E-9F8A-02ED4D12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1FD3-BE49-4A87-AE52-6FC77D71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DCD2-0F2C-48F0-ABCE-1564E3C6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A907-8590-4F14-A2C0-DB5EF6AE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9E90-E638-4F69-8393-A8A73EC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FD8E-BABB-4E2F-A0A3-FF2841D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009A-962D-4A5A-BFB3-DFD2433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871-F8CC-432B-A2AB-1A4B770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62D-45C0-4A63-9C9A-94C0F44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FF4-AC76-4998-B7F3-A5E3C3C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C678-3C6F-41D1-B404-E7003C3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85C4-BDEC-4698-B10A-BBDC4B9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1710-77FA-47D3-86F7-B1CC8B31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8EF-5B99-4730-8A35-8C0DB23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0138-298D-4890-A30F-DF17EE3A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C0F3-58BF-4468-9BF7-261800A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EF9E-1CE4-486E-A2A0-AE565FC3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D0BD-C07F-43C4-9AF2-9C312C0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5D3D-ACE6-4FD4-8DBA-F262C612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7B4-37C3-485D-A1FF-737601D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895C-6017-429D-9461-0E22320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E789-7BEF-40AA-BF70-B767A49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DACC-01BB-4E94-A2A9-E49F472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E148-7FBE-4DF2-9A23-59A9011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F9EE-C696-448D-9A6E-EF31112D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217A-24BF-443C-A24E-DB0D195B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EC6F-7480-4FED-8606-ACABEB47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E03-66F3-4FD6-B078-B8A86C88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773-AA60-469D-A9CA-307A15A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57E-18BC-4055-9A07-25C0277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B1E-903E-489A-BD91-BBDB1D5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CC4-44CE-4A7E-8EA7-4BC94AE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F78-ADB9-47B1-B433-6F500F8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4FC83-B24F-4C16-9464-0E92E39376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208D8-59DE-4EF1-840E-433CC89E9C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3386B-4D67-41A4-AFEA-E149885047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627280" y="2060640"/>
            <a:ext cx="482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换 一 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2894400" y="465804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857160" y="228276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214280" y="228276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右箭头 3"/>
          <p:cNvSpPr/>
          <p:nvPr/>
        </p:nvSpPr>
        <p:spPr>
          <a:xfrm>
            <a:off x="1928880" y="1285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214" name="右箭头 4"/>
          <p:cNvSpPr/>
          <p:nvPr/>
        </p:nvSpPr>
        <p:spPr>
          <a:xfrm>
            <a:off x="1928880" y="364320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2714760" y="94788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2857680" y="100008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"/>
          <p:cNvSpPr/>
          <p:nvPr/>
        </p:nvSpPr>
        <p:spPr>
          <a:xfrm>
            <a:off x="2949840" y="3354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"/>
          <p:cNvSpPr/>
          <p:nvPr/>
        </p:nvSpPr>
        <p:spPr>
          <a:xfrm>
            <a:off x="3000240" y="335448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4255920" y="1071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逃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294080" y="335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挑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yyshi\桌面\西南师大一年级下册\识字二\换一换\u=1246810647,3118452832&amp;fm=23&amp;gp=0.jpg"/>
          <p:cNvPicPr/>
          <p:nvPr/>
        </p:nvPicPr>
        <p:blipFill>
          <a:blip r:embed="rId1"/>
          <a:stretch/>
        </p:blipFill>
        <p:spPr>
          <a:xfrm>
            <a:off x="5786280" y="428760"/>
            <a:ext cx="2999880" cy="1999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yyshi\My Documents\Downloads\4aaf2c058e9261576ae5b2b2cc69009a.jpg"/>
          <p:cNvPicPr/>
          <p:nvPr/>
        </p:nvPicPr>
        <p:blipFill>
          <a:blip r:embed="rId2"/>
          <a:stretch/>
        </p:blipFill>
        <p:spPr>
          <a:xfrm>
            <a:off x="5675400" y="2928960"/>
            <a:ext cx="3142800" cy="228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Group 2"/>
          <p:cNvGraphicFramePr/>
          <p:nvPr/>
        </p:nvGraphicFramePr>
        <p:xfrm>
          <a:off x="135720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Group 2"/>
          <p:cNvGraphicFramePr/>
          <p:nvPr/>
        </p:nvGraphicFramePr>
        <p:xfrm>
          <a:off x="349236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74"/>
          <p:cNvSpPr/>
          <p:nvPr/>
        </p:nvSpPr>
        <p:spPr>
          <a:xfrm>
            <a:off x="1490760" y="50007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4"/>
          <p:cNvSpPr/>
          <p:nvPr/>
        </p:nvSpPr>
        <p:spPr>
          <a:xfrm>
            <a:off x="3571920" y="50277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0"/>
          <p:cNvSpPr/>
          <p:nvPr/>
        </p:nvSpPr>
        <p:spPr>
          <a:xfrm>
            <a:off x="1571760" y="42861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á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0"/>
          <p:cNvSpPr/>
          <p:nvPr/>
        </p:nvSpPr>
        <p:spPr>
          <a:xfrm>
            <a:off x="3643200" y="42861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ā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1080" y="62064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给下列的字换个偏旁组成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饥（    ） 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拍（    ） 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洒（    ） 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4067280" y="32130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2050920" y="32130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2050920" y="42210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4067280" y="4233960"/>
            <a:ext cx="76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2043000" y="508644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087800" y="5091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问题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856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朋友们，请给“地”换个偏旁组成新字，看谁组得最多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2548080" y="4076640"/>
            <a:ext cx="3615840" cy="24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口语交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640836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朋友们，你们会不会背关于认汉字的儿歌，快来背给大家听听吧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1"/>
          <a:stretch/>
        </p:blipFill>
        <p:spPr>
          <a:xfrm>
            <a:off x="179280" y="3908520"/>
            <a:ext cx="199980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856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熟读课文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将本课生词抄写两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完成课后练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2" descr=""/>
          <p:cNvPicPr/>
          <p:nvPr/>
        </p:nvPicPr>
        <p:blipFill>
          <a:blip r:embed="rId1"/>
          <a:stretch/>
        </p:blipFill>
        <p:spPr>
          <a:xfrm>
            <a:off x="6875640" y="3357720"/>
            <a:ext cx="199980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76720" y="2276640"/>
            <a:ext cx="410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谢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8483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孩子们，我们认识新朋友除了加一加的方法外，还可以采用换一换的方法。我们换掉汉字原有的偏旁，给汉字娃娃另加上一个偏旁也可以组成一个新的汉字娃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文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认识本课生字，会写课后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会观察、区分形近字的异同，掌握换偏旁识字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能用词语口头说话，积累词语，丰富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3060000" y="4149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àn            jué              kē              xī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换      诀     颗     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è                táng           hóng          cǎ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课      堂     虹     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áng           wá              guì             tiā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扛      娃     桂     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词语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口诀       决心       课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彩虹       娃娃       桂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逃跑       挑水       一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857160" y="228276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071720" y="228276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 6"/>
          <p:cNvSpPr/>
          <p:nvPr/>
        </p:nvSpPr>
        <p:spPr>
          <a:xfrm>
            <a:off x="1857240" y="135720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643120" y="1143000"/>
            <a:ext cx="214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/>
          <p:cNvSpPr/>
          <p:nvPr/>
        </p:nvSpPr>
        <p:spPr>
          <a:xfrm>
            <a:off x="2949840" y="1139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 9"/>
          <p:cNvSpPr/>
          <p:nvPr/>
        </p:nvSpPr>
        <p:spPr>
          <a:xfrm>
            <a:off x="1857240" y="3571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2878560" y="3354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2571840" y="3357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3989520" y="1179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口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3936960" y="335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决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yyshi\My Documents\Downloads\11154a932579583b79bfe4fe2950e09a.jpg"/>
          <p:cNvPicPr/>
          <p:nvPr/>
        </p:nvPicPr>
        <p:blipFill>
          <a:blip r:embed="rId1"/>
          <a:stretch/>
        </p:blipFill>
        <p:spPr>
          <a:xfrm>
            <a:off x="5986440" y="3102120"/>
            <a:ext cx="2285640" cy="278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yyshi\My Documents\Downloads\f46db0a3a12a9e7ac4616d8ef8b50a96.gif"/>
          <p:cNvPicPr/>
          <p:nvPr/>
        </p:nvPicPr>
        <p:blipFill>
          <a:blip r:embed="rId2"/>
          <a:stretch/>
        </p:blipFill>
        <p:spPr>
          <a:xfrm>
            <a:off x="5643720" y="539640"/>
            <a:ext cx="2857320" cy="20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Group 2"/>
          <p:cNvGraphicFramePr/>
          <p:nvPr/>
        </p:nvGraphicFramePr>
        <p:xfrm>
          <a:off x="1357200" y="482112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Group 2"/>
          <p:cNvGraphicFramePr/>
          <p:nvPr/>
        </p:nvGraphicFramePr>
        <p:xfrm>
          <a:off x="3349800" y="482112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74"/>
          <p:cNvSpPr/>
          <p:nvPr/>
        </p:nvSpPr>
        <p:spPr>
          <a:xfrm>
            <a:off x="1490760" y="4929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3490920" y="488484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0"/>
          <p:cNvSpPr/>
          <p:nvPr/>
        </p:nvSpPr>
        <p:spPr>
          <a:xfrm>
            <a:off x="1571760" y="42022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0"/>
          <p:cNvSpPr/>
          <p:nvPr/>
        </p:nvSpPr>
        <p:spPr>
          <a:xfrm>
            <a:off x="3571920" y="42022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857160" y="228276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右箭头 3"/>
          <p:cNvSpPr/>
          <p:nvPr/>
        </p:nvSpPr>
        <p:spPr>
          <a:xfrm>
            <a:off x="1928880" y="1285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60" name="右箭头 4"/>
          <p:cNvSpPr/>
          <p:nvPr/>
        </p:nvSpPr>
        <p:spPr>
          <a:xfrm>
            <a:off x="1928880" y="3571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3186360" y="10717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2714760" y="107172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949480" y="32828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2949840" y="3282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4519440" y="107172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一颗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172040" y="3282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课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yyshi\My Documents\Downloads\0933f76315253b43306d4c69eb932702.jpg"/>
          <p:cNvPicPr/>
          <p:nvPr/>
        </p:nvPicPr>
        <p:blipFill>
          <a:blip r:embed="rId1"/>
          <a:stretch/>
        </p:blipFill>
        <p:spPr>
          <a:xfrm>
            <a:off x="6143760" y="534960"/>
            <a:ext cx="2428560" cy="1787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Documents and Settings\yyshi\My Documents\Downloads\2465c729dc9b5fe15883aa2183a5587c.jpg"/>
          <p:cNvPicPr/>
          <p:nvPr/>
        </p:nvPicPr>
        <p:blipFill>
          <a:blip r:embed="rId2"/>
          <a:stretch/>
        </p:blipFill>
        <p:spPr>
          <a:xfrm>
            <a:off x="5643720" y="2928960"/>
            <a:ext cx="3214440" cy="235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Group 2"/>
          <p:cNvGraphicFramePr/>
          <p:nvPr/>
        </p:nvGraphicFramePr>
        <p:xfrm>
          <a:off x="135720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Group 2"/>
          <p:cNvGraphicFramePr/>
          <p:nvPr/>
        </p:nvGraphicFramePr>
        <p:xfrm>
          <a:off x="3421080" y="485784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74"/>
          <p:cNvSpPr/>
          <p:nvPr/>
        </p:nvSpPr>
        <p:spPr>
          <a:xfrm>
            <a:off x="1490760" y="4956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3571920" y="4956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1633680" y="42022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0"/>
          <p:cNvSpPr/>
          <p:nvPr/>
        </p:nvSpPr>
        <p:spPr>
          <a:xfrm>
            <a:off x="3705120" y="42022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Documents and Settings\yyshi\My Documents\Downloads\5dc355eb0ce769dc59eebf4e9f66455c.jpg"/>
          <p:cNvPicPr/>
          <p:nvPr/>
        </p:nvPicPr>
        <p:blipFill>
          <a:blip r:embed="rId1"/>
          <a:stretch/>
        </p:blipFill>
        <p:spPr>
          <a:xfrm>
            <a:off x="5715000" y="2928960"/>
            <a:ext cx="3071520" cy="2428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857160" y="228276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1071720" y="228276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右箭头 3"/>
          <p:cNvSpPr/>
          <p:nvPr/>
        </p:nvSpPr>
        <p:spPr>
          <a:xfrm>
            <a:off x="1928880" y="1285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79" name="右箭头 4"/>
          <p:cNvSpPr/>
          <p:nvPr/>
        </p:nvSpPr>
        <p:spPr>
          <a:xfrm>
            <a:off x="1928880" y="3571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2714760" y="107172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3071880" y="110664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2949840" y="3282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000240" y="32828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4255920" y="1071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彩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4455720" y="32148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扛东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yyshi\桌面\西南师大一年级下册\识字二\换一换\u=4291899536,2979740126&amp;fm=21&amp;gp=0.jpg"/>
          <p:cNvPicPr/>
          <p:nvPr/>
        </p:nvPicPr>
        <p:blipFill>
          <a:blip r:embed="rId2"/>
          <a:stretch/>
        </p:blipFill>
        <p:spPr>
          <a:xfrm>
            <a:off x="5857920" y="711360"/>
            <a:ext cx="2785680" cy="185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Group 2"/>
          <p:cNvGraphicFramePr/>
          <p:nvPr/>
        </p:nvGraphicFramePr>
        <p:xfrm>
          <a:off x="135720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Group 2"/>
          <p:cNvGraphicFramePr/>
          <p:nvPr/>
        </p:nvGraphicFramePr>
        <p:xfrm>
          <a:off x="3564000" y="485784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74"/>
          <p:cNvSpPr/>
          <p:nvPr/>
        </p:nvSpPr>
        <p:spPr>
          <a:xfrm>
            <a:off x="1490760" y="4956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4"/>
          <p:cNvSpPr/>
          <p:nvPr/>
        </p:nvSpPr>
        <p:spPr>
          <a:xfrm>
            <a:off x="3714840" y="495612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0"/>
          <p:cNvSpPr/>
          <p:nvPr/>
        </p:nvSpPr>
        <p:spPr>
          <a:xfrm>
            <a:off x="1357200" y="4286160"/>
            <a:ext cx="144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ó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0"/>
          <p:cNvSpPr/>
          <p:nvPr/>
        </p:nvSpPr>
        <p:spPr>
          <a:xfrm>
            <a:off x="3562200" y="4286160"/>
            <a:ext cx="144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á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857160" y="228276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000080" y="228276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右箭头 3"/>
          <p:cNvSpPr/>
          <p:nvPr/>
        </p:nvSpPr>
        <p:spPr>
          <a:xfrm>
            <a:off x="1928880" y="128592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96" name="右箭头 4"/>
          <p:cNvSpPr/>
          <p:nvPr/>
        </p:nvSpPr>
        <p:spPr>
          <a:xfrm>
            <a:off x="1928880" y="3643200"/>
            <a:ext cx="8568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楷体"/>
              <a:ea typeface="楷体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2714760" y="107172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3078000" y="1068480"/>
            <a:ext cx="42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"/>
          <p:cNvSpPr/>
          <p:nvPr/>
        </p:nvSpPr>
        <p:spPr>
          <a:xfrm>
            <a:off x="2949840" y="3354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3146400" y="335448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255920" y="1071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娃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4222800" y="3286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桂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yyshi\桌面\西南师大一年级下册\识字二\换一换\u=947113692,4287293212&amp;fm=21&amp;gp=0.jpg"/>
          <p:cNvPicPr/>
          <p:nvPr/>
        </p:nvPicPr>
        <p:blipFill>
          <a:blip r:embed="rId1"/>
          <a:stretch/>
        </p:blipFill>
        <p:spPr>
          <a:xfrm>
            <a:off x="5603760" y="552600"/>
            <a:ext cx="2857320" cy="2071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yyshi\My Documents\Downloads\e8568fbbbf69fa5931dbf0ae7a9cb3a0.jpg"/>
          <p:cNvPicPr/>
          <p:nvPr/>
        </p:nvPicPr>
        <p:blipFill>
          <a:blip r:embed="rId2"/>
          <a:stretch/>
        </p:blipFill>
        <p:spPr>
          <a:xfrm>
            <a:off x="5807160" y="3035160"/>
            <a:ext cx="2785680" cy="249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Group 2"/>
          <p:cNvGraphicFramePr/>
          <p:nvPr/>
        </p:nvGraphicFramePr>
        <p:xfrm>
          <a:off x="135720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Group 2"/>
          <p:cNvGraphicFramePr/>
          <p:nvPr/>
        </p:nvGraphicFramePr>
        <p:xfrm>
          <a:off x="3349800" y="4892760"/>
          <a:ext cx="1079280" cy="10368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74"/>
          <p:cNvSpPr/>
          <p:nvPr/>
        </p:nvSpPr>
        <p:spPr>
          <a:xfrm>
            <a:off x="1490760" y="50277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4"/>
          <p:cNvSpPr/>
          <p:nvPr/>
        </p:nvSpPr>
        <p:spPr>
          <a:xfrm>
            <a:off x="3500280" y="50007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0"/>
          <p:cNvSpPr/>
          <p:nvPr/>
        </p:nvSpPr>
        <p:spPr>
          <a:xfrm>
            <a:off x="1562040" y="42861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0"/>
          <p:cNvSpPr/>
          <p:nvPr/>
        </p:nvSpPr>
        <p:spPr>
          <a:xfrm>
            <a:off x="3500280" y="42861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u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  <Words>943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123</cp:lastModifiedBy>
  <dcterms:modified xsi:type="dcterms:W3CDTF">2019-06-21T01:31:31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