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FBA448-9DDB-4816-BAD5-5EF87BD7A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37E92B-FF35-434E-9D0B-DAE32E9CDA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111C32-D413-4346-951C-11663041EDC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5CF-EC6C-47E9-A035-CB35BFAB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B0A-1324-4086-BA67-51C6DA5D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EC3-4D29-4825-84F4-C9841496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790-9F2E-4DCB-9324-3F8978E2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793-98DF-4C23-9542-D2F058C9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99E-303F-451E-A0D2-64B000C6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37B-2677-43D6-B8C4-C944BF85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D2D-007A-4DCB-AF73-5DC3634F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591-2AF9-4A68-9DA9-1BE67793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C75-19F4-4326-B2AF-5C8EB40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DA0-A490-44DE-903B-4A879B73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986-E01B-4AD8-938D-F46E085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直接连接符 3"/>
          <p:cNvCxnSpPr/>
          <p:nvPr/>
        </p:nvCxnSpPr>
        <p:spPr>
          <a:xfrm>
            <a:off x="428400" y="714240"/>
            <a:ext cx="8287200" cy="1800"/>
          </a:xfrm>
          <a:prstGeom prst="straightConnector1">
            <a:avLst/>
          </a:prstGeom>
          <a:ln w="31750">
            <a:solidFill>
              <a:srgbClr val="4a7ebb"/>
            </a:solidFill>
            <a:round/>
          </a:ln>
        </p:spPr>
      </p:cxnSp>
      <p:cxnSp>
        <p:nvCxnSpPr>
          <p:cNvPr id="1" name="直接连接符 11"/>
          <p:cNvCxnSpPr/>
          <p:nvPr/>
        </p:nvCxnSpPr>
        <p:spPr>
          <a:xfrm>
            <a:off x="428400" y="6356160"/>
            <a:ext cx="8287200" cy="1800"/>
          </a:xfrm>
          <a:prstGeom prst="straightConnector1">
            <a:avLst/>
          </a:prstGeom>
          <a:ln w="19050">
            <a:solidFill>
              <a:srgbClr val="4a7ebb"/>
            </a:solidFill>
            <a:round/>
          </a:ln>
        </p:spPr>
      </p:cxnSp>
      <p:sp>
        <p:nvSpPr>
          <p:cNvPr id="2" name="TextBox 4"/>
          <p:cNvSpPr/>
          <p:nvPr/>
        </p:nvSpPr>
        <p:spPr>
          <a:xfrm>
            <a:off x="7429680" y="357120"/>
            <a:ext cx="1213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6CCE765-4DF8-48B4-AE9E-AD531A30331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717640" y="2493000"/>
            <a:ext cx="574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截竿进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395640" y="2853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709640" y="1680840"/>
            <a:ext cx="572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年级  语文  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844000" y="734040"/>
            <a:ext cx="345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语文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直线连接符 8"/>
          <p:cNvCxnSpPr/>
          <p:nvPr/>
        </p:nvCxnSpPr>
        <p:spPr>
          <a:xfrm>
            <a:off x="1438920" y="1556640"/>
            <a:ext cx="6121800" cy="3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55" name="矩形 7"/>
          <p:cNvSpPr/>
          <p:nvPr/>
        </p:nvSpPr>
        <p:spPr>
          <a:xfrm>
            <a:off x="4412160" y="522936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00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0" y="4149720"/>
            <a:ext cx="2985840" cy="2087280"/>
          </a:xfrm>
          <a:prstGeom prst="rect">
            <a:avLst/>
          </a:prstGeom>
          <a:ln w="0">
            <a:noFill/>
          </a:ln>
        </p:spPr>
      </p:pic>
      <p:sp>
        <p:nvSpPr>
          <p:cNvPr id="101" name="矩形 6"/>
          <p:cNvSpPr/>
          <p:nvPr/>
        </p:nvSpPr>
        <p:spPr>
          <a:xfrm>
            <a:off x="2610000" y="1197000"/>
            <a:ext cx="65336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道理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“执长竿入城门者”鲁人，做事不会思考，死板的循规蹈矩，不知变通 。事实可以一手拿着竹竿的一头，把竹竿的另一头放在地上，成一个斜坡，进入城门，如果把竹竿放平进去，容易扎瞎别人的眼睛，有害他人身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04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0" y="4076640"/>
            <a:ext cx="2985840" cy="2088720"/>
          </a:xfrm>
          <a:prstGeom prst="rect">
            <a:avLst/>
          </a:prstGeom>
          <a:ln w="0">
            <a:noFill/>
          </a:ln>
        </p:spPr>
      </p:pic>
      <p:sp>
        <p:nvSpPr>
          <p:cNvPr id="105" name="矩形 6"/>
          <p:cNvSpPr/>
          <p:nvPr/>
        </p:nvSpPr>
        <p:spPr>
          <a:xfrm>
            <a:off x="2268360" y="2060640"/>
            <a:ext cx="6389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54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个故事说明了两点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局限自己的思维，会导致有些事情，即使不是无法解决，也是解决得不那么完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08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0" y="4076640"/>
            <a:ext cx="2985840" cy="2088720"/>
          </a:xfrm>
          <a:prstGeom prst="rect">
            <a:avLst/>
          </a:prstGeom>
          <a:ln w="0">
            <a:noFill/>
          </a:ln>
        </p:spPr>
      </p:pic>
      <p:sp>
        <p:nvSpPr>
          <p:cNvPr id="109" name="矩形 6"/>
          <p:cNvSpPr/>
          <p:nvPr/>
        </p:nvSpPr>
        <p:spPr>
          <a:xfrm>
            <a:off x="2195640" y="2421000"/>
            <a:ext cx="655272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54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 有些时候，看似无法解决的问题，其实分而治之是可以解决的，也就是把大问题化为小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图解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12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364440" y="765000"/>
            <a:ext cx="277920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684360" y="2492280"/>
            <a:ext cx="79920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截竿进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拿长竿        进城         进不去          截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两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接箭头连接符 8"/>
          <p:cNvCxnSpPr/>
          <p:nvPr/>
        </p:nvCxnSpPr>
        <p:spPr>
          <a:xfrm>
            <a:off x="1979280" y="3789360"/>
            <a:ext cx="72108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15" name="直接箭头连接符 10"/>
          <p:cNvCxnSpPr/>
          <p:nvPr/>
        </p:nvCxnSpPr>
        <p:spPr>
          <a:xfrm>
            <a:off x="3635280" y="3789360"/>
            <a:ext cx="72108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16" name="直接箭头连接符 12"/>
          <p:cNvCxnSpPr/>
          <p:nvPr/>
        </p:nvCxnSpPr>
        <p:spPr>
          <a:xfrm>
            <a:off x="5724360" y="3789360"/>
            <a:ext cx="71964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概括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19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732720" y="765000"/>
            <a:ext cx="2028600" cy="1418760"/>
          </a:xfrm>
          <a:prstGeom prst="rect">
            <a:avLst/>
          </a:prstGeom>
          <a:ln w="0">
            <a:noFill/>
          </a:ln>
        </p:spPr>
      </p:pic>
      <p:sp>
        <p:nvSpPr>
          <p:cNvPr id="120" name="矩形 5"/>
          <p:cNvSpPr/>
          <p:nvPr/>
        </p:nvSpPr>
        <p:spPr>
          <a:xfrm>
            <a:off x="1403280" y="2924280"/>
            <a:ext cx="633708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54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则寓言让我们学会变通要善于改变自己的思维定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写法点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23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280" cy="1460160"/>
          </a:xfrm>
          <a:prstGeom prst="rect">
            <a:avLst/>
          </a:prstGeom>
          <a:ln w="0">
            <a:noFill/>
          </a:ln>
        </p:spPr>
      </p:pic>
      <p:sp>
        <p:nvSpPr>
          <p:cNvPr id="124" name="矩形 5"/>
          <p:cNvSpPr/>
          <p:nvPr/>
        </p:nvSpPr>
        <p:spPr>
          <a:xfrm>
            <a:off x="684360" y="2637000"/>
            <a:ext cx="77036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54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只要我们不拒绝变化，并且善于变化自己的思维习惯，善于改变自己的观念，我们就能走出困境，进入新的天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拓展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27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16720" y="4437000"/>
            <a:ext cx="2368080" cy="1655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1116000" y="3068640"/>
            <a:ext cx="58320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类似的寓言故事，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给同学或家长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心灵感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31" name="Picture 2" descr="F:\七彩课堂插图板式封面\排版用图标、页眉页脚\标题图（终-排版用）共29个\我会说.jpg"/>
          <p:cNvPicPr/>
          <p:nvPr/>
        </p:nvPicPr>
        <p:blipFill>
          <a:blip r:embed="rId1"/>
          <a:stretch/>
        </p:blipFill>
        <p:spPr>
          <a:xfrm>
            <a:off x="0" y="4653000"/>
            <a:ext cx="2231640" cy="165528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1619280" y="1916280"/>
            <a:ext cx="720072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560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截竿入城》皆在告诉人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作聪明的人常常是愚蠢的，决不能做自作聪明。好为人师的人。另外，虚心求教的人同样也应积极动脑筋，决不能盲从别人的意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35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6767640" y="836640"/>
            <a:ext cx="2376000" cy="1661760"/>
          </a:xfrm>
          <a:prstGeom prst="rect">
            <a:avLst/>
          </a:prstGeom>
          <a:ln w="0">
            <a:noFill/>
          </a:ln>
        </p:spPr>
      </p:pic>
      <p:sp>
        <p:nvSpPr>
          <p:cNvPr id="136" name="矩形 5"/>
          <p:cNvSpPr/>
          <p:nvPr/>
        </p:nvSpPr>
        <p:spPr>
          <a:xfrm>
            <a:off x="1122120" y="2355840"/>
            <a:ext cx="41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1140840" y="28605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1982520" y="28605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太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4332600" y="2205000"/>
            <a:ext cx="35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3660840" y="27874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4430520" y="27874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对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1167840" y="3795840"/>
            <a:ext cx="47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1284480" y="4371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2054160" y="43718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发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3691080" y="3724200"/>
            <a:ext cx="46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3733200" y="42292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4646520" y="42292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还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6708240" y="2205000"/>
            <a:ext cx="62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8"/>
          <p:cNvSpPr/>
          <p:nvPr/>
        </p:nvSpPr>
        <p:spPr>
          <a:xfrm>
            <a:off x="6108840" y="27874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9"/>
          <p:cNvSpPr/>
          <p:nvPr/>
        </p:nvSpPr>
        <p:spPr>
          <a:xfrm>
            <a:off x="6951600" y="28605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站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0"/>
          <p:cNvSpPr/>
          <p:nvPr/>
        </p:nvSpPr>
        <p:spPr>
          <a:xfrm>
            <a:off x="6117480" y="3579840"/>
            <a:ext cx="50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1"/>
          <p:cNvSpPr/>
          <p:nvPr/>
        </p:nvSpPr>
        <p:spPr>
          <a:xfrm>
            <a:off x="6253200" y="41562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2"/>
          <p:cNvSpPr/>
          <p:nvPr/>
        </p:nvSpPr>
        <p:spPr>
          <a:xfrm>
            <a:off x="6968880" y="4156200"/>
            <a:ext cx="78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看着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cxnSp>
          <p:nvCxnSpPr>
            <p:cNvPr id="57" name="直线连接符 21"/>
            <p:cNvCxnSpPr/>
            <p:nvPr/>
          </p:nvCxnSpPr>
          <p:spPr>
            <a:xfrm flipV="1">
              <a:off x="268200" y="1688760"/>
              <a:ext cx="2256120" cy="6840"/>
            </a:xfrm>
            <a:prstGeom prst="straightConnector1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58" name="同侧圆角矩形 23"/>
            <p:cNvSpPr/>
            <p:nvPr/>
          </p:nvSpPr>
          <p:spPr>
            <a:xfrm>
              <a:off x="452520" y="112536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7023240" y="4797360"/>
            <a:ext cx="2120400" cy="1482480"/>
          </a:xfrm>
          <a:prstGeom prst="rect">
            <a:avLst/>
          </a:prstGeom>
          <a:ln w="0">
            <a:noFill/>
          </a:ln>
        </p:spPr>
      </p:pic>
      <p:sp>
        <p:nvSpPr>
          <p:cNvPr id="60" name="矩形 5"/>
          <p:cNvSpPr/>
          <p:nvPr/>
        </p:nvSpPr>
        <p:spPr>
          <a:xfrm>
            <a:off x="611280" y="2349360"/>
            <a:ext cx="756108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54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鲁有执长竿入城门者，初竖执之，不可入；横执之，亦不可入。计无所出。俄有老父至，曰：“吾非圣人，但见事多矣！何不以锯中截而入？”遂依而截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同侧圆角矩形 1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线连接符 21"/>
          <p:cNvCxnSpPr/>
          <p:nvPr/>
        </p:nvCxnSpPr>
        <p:spPr>
          <a:xfrm flipV="1">
            <a:off x="468000" y="192384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6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59280" y="825480"/>
            <a:ext cx="2007720" cy="1402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1116000" y="2708280"/>
            <a:ext cx="72007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自读课文，查字典，为生字注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齐读课文，熟读成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2"/>
          <p:cNvSpPr/>
          <p:nvPr/>
        </p:nvSpPr>
        <p:spPr>
          <a:xfrm>
            <a:off x="1698480" y="3078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5"/>
          <p:cNvGrpSpPr/>
          <p:nvPr/>
        </p:nvGrpSpPr>
        <p:grpSpPr>
          <a:xfrm>
            <a:off x="468000" y="1268280"/>
            <a:ext cx="2071800" cy="662040"/>
            <a:chOff x="468000" y="1268280"/>
            <a:chExt cx="2071800" cy="662040"/>
          </a:xfrm>
        </p:grpSpPr>
        <p:cxnSp>
          <p:nvCxnSpPr>
            <p:cNvPr id="67" name="直线连接符 21"/>
            <p:cNvCxnSpPr/>
            <p:nvPr/>
          </p:nvCxnSpPr>
          <p:spPr>
            <a:xfrm flipV="1">
              <a:off x="468000" y="1923840"/>
              <a:ext cx="2072160" cy="6840"/>
            </a:xfrm>
            <a:prstGeom prst="straightConnector1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68" name="同侧圆角矩形 7"/>
            <p:cNvSpPr/>
            <p:nvPr/>
          </p:nvSpPr>
          <p:spPr>
            <a:xfrm>
              <a:off x="468360" y="126828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69" name="同侧圆角矩形 9"/>
          <p:cNvSpPr/>
          <p:nvPr/>
        </p:nvSpPr>
        <p:spPr>
          <a:xfrm>
            <a:off x="444600" y="12556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3240"/>
            <a:ext cx="2520720" cy="1763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1332000" y="2924280"/>
            <a:ext cx="72720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竹 竿            左  思 右   想             发 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àn duō shí  ɡuǎ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见  多  识    广                  发  愁        进  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"/>
          <p:cNvSpPr/>
          <p:nvPr/>
        </p:nvSpPr>
        <p:spPr>
          <a:xfrm>
            <a:off x="1116000" y="234936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ú ɡ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1"/>
          <p:cNvSpPr/>
          <p:nvPr/>
        </p:nvSpPr>
        <p:spPr>
          <a:xfrm>
            <a:off x="3967560" y="2421000"/>
            <a:ext cx="1651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uǒ sī yòu xiǎ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7095240" y="2492280"/>
            <a:ext cx="69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ā dā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5741280" y="3860640"/>
            <a:ext cx="86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ā chó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7438320" y="3860640"/>
            <a:ext cx="104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ìn ché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79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0" y="4149720"/>
            <a:ext cx="2985840" cy="2087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987640" y="1628640"/>
            <a:ext cx="5471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843640" y="1912320"/>
            <a:ext cx="5400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截竿进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古时候，有一个人拿着一根长竹竿，要进城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到了城门口，他把竹竿竖起来拿着，城门没有那么高，进不去。他又把竹竿横过来拿着，城门没有那么宽，还是进不去。这个人左思右想没办法，站在城门口呆呆地发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84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0" y="4149720"/>
            <a:ext cx="2985840" cy="208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Administrator\桌面\2.png"/>
          <p:cNvPicPr/>
          <p:nvPr/>
        </p:nvPicPr>
        <p:blipFill>
          <a:blip r:embed="rId2"/>
          <a:stretch/>
        </p:blipFill>
        <p:spPr>
          <a:xfrm>
            <a:off x="2700360" y="1052640"/>
            <a:ext cx="5586120" cy="47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88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0" y="4149720"/>
            <a:ext cx="2985840" cy="2087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2928960" y="1500120"/>
            <a:ext cx="518760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92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0" y="4149720"/>
            <a:ext cx="2985840" cy="208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Administrator\桌面\3.png"/>
          <p:cNvPicPr/>
          <p:nvPr/>
        </p:nvPicPr>
        <p:blipFill>
          <a:blip r:embed="rId2"/>
          <a:stretch/>
        </p:blipFill>
        <p:spPr>
          <a:xfrm>
            <a:off x="2700360" y="1484280"/>
            <a:ext cx="572904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96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0" y="4076640"/>
            <a:ext cx="2985840" cy="208872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2195640" y="1989000"/>
            <a:ext cx="66956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6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执长竿入城门者”蠢人，做事不会思考，死板的循规蹈矩，不知变通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  <Words>1183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cp:contentStatus>第一PPT模板网-WWW.1PPT.COM</cp:contentStatus>
  <dc:creator>第一PPT模板网-WWW.1PPT.COM</dc:creator>
  <dc:description>第一PPT模板网-WWW.1PPT.COM</dc:description>
  <cp:keywords>第一PPT模板网-WWW.1PPT.COM</cp:keywords>
  <dc:language>en-US</dc:language>
  <cp:lastModifiedBy>123</cp:lastModifiedBy>
  <dcterms:modified xsi:type="dcterms:W3CDTF">2017-03-27T07:42:45Z</dcterms:modified>
  <cp:revision>1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19</vt:r8>
  </property>
</Properties>
</file>