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490-0974-4E26-8C9C-C2E07AD8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3EE-E049-4223-AE5D-7309CBFF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F22-3918-4C4E-8652-34C08B57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A34D-C724-4E5C-96E4-D9B02A87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8CB-9C50-4FF6-8651-DD91ECE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6E68-B48E-4389-894A-297C7F20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3F5-2B01-48A7-B203-32B4926F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A89-CFDD-48CD-AE4A-8DE4191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8EF-9361-4BE9-906C-4E957D4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CE3-BFFB-47E4-A00B-7FBDAA9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FF2-AF5D-4371-BB3E-EE8B14D7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BBA6-F7FB-4406-AC96-B9E9778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8B7E-A5C9-4D2C-B318-878DFFB899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0"/>
          <p:cNvSpPr/>
          <p:nvPr/>
        </p:nvSpPr>
        <p:spPr>
          <a:xfrm>
            <a:off x="3465360" y="32446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特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9"/>
          <p:cNvSpPr/>
          <p:nvPr/>
        </p:nvSpPr>
        <p:spPr>
          <a:xfrm>
            <a:off x="3465360" y="32446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特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6:17:03Z</dcterms:created>
  <dc:creator>雨林木风</dc:creator>
  <dc:description/>
  <dc:language>en-US</dc:language>
  <cp:lastModifiedBy>雨林木风</cp:lastModifiedBy>
  <dcterms:modified xsi:type="dcterms:W3CDTF">2011-04-19T05:05:18Z</dcterms:modified>
  <cp:revision>7</cp:revision>
  <dc:subject/>
  <dc:title>幻灯片 1</dc:title>
</cp:coreProperties>
</file>