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843650-E27A-49DC-8978-86A9BA584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defRPr b="0" lang="en-US" sz="12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fld id="{19F7644E-EA70-4E5F-8A0E-186555A873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BD2-28AA-40C9-97F3-3D1273C6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764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103-1C8B-4A4E-B67F-81DFDE92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764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F51-476F-43CB-BEAF-EA3536E1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764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267-869E-4122-9581-CECA075A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764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325-4C26-4310-9A13-A7BB7760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764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FF5-DB98-4D14-A595-18140A73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764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A85-0423-4BD1-A0B5-8A1FEE1C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764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F0F-A894-4ADE-B37E-A35B7FB2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7640"/>
            <a:ext cx="822924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496-31E6-4B72-9FC9-F7BBBE9E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764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1FE-AE58-476A-9E87-FFE07F7D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764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4B6-BFBF-4FA7-8176-89D48C5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764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49B-74E8-4F54-9A56-89B9EAE1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7640"/>
            <a:ext cx="8229240" cy="92664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ffffff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  <a:ea typeface="黑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F45766F-6420-4F36-8DED-2CBC6A8E35A6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just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8"/>
          <p:cNvGrpSpPr/>
          <p:nvPr/>
        </p:nvGrpSpPr>
        <p:grpSpPr>
          <a:xfrm>
            <a:off x="0" y="1565640"/>
            <a:ext cx="9143640" cy="1945080"/>
            <a:chOff x="0" y="1565640"/>
            <a:chExt cx="9143640" cy="1945080"/>
          </a:xfrm>
        </p:grpSpPr>
        <p:sp>
          <p:nvSpPr>
            <p:cNvPr id="48" name="矩形 9"/>
            <p:cNvSpPr/>
            <p:nvPr/>
          </p:nvSpPr>
          <p:spPr>
            <a:xfrm>
              <a:off x="0" y="1565640"/>
              <a:ext cx="914364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2000" spc="-1" strike="noStrike">
                  <a:solidFill>
                    <a:schemeClr val="accent1">
                      <a:lumMod val="75000"/>
                    </a:schemeClr>
                  </a:solidFill>
                  <a:latin typeface="微软雅黑"/>
                  <a:ea typeface="微软雅黑"/>
                </a:rPr>
                <a:t>第四单元 </a:t>
              </a:r>
              <a:r>
                <a:rPr b="1" lang="en-US" sz="2000" spc="-1" strike="noStrike">
                  <a:solidFill>
                    <a:schemeClr val="accent1">
                      <a:lumMod val="75000"/>
                    </a:schemeClr>
                  </a:solidFill>
                  <a:latin typeface="微软雅黑"/>
                  <a:ea typeface="微软雅黑"/>
                </a:rPr>
                <a:t>· </a:t>
              </a:r>
              <a:r>
                <a:rPr b="1" lang="zh-CN" sz="2000" spc="-1" strike="noStrike">
                  <a:solidFill>
                    <a:schemeClr val="accent1">
                      <a:lumMod val="75000"/>
                    </a:schemeClr>
                  </a:solidFill>
                  <a:latin typeface="微软雅黑"/>
                  <a:ea typeface="微软雅黑"/>
                </a:rPr>
                <a:t>第十六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"/>
            <p:cNvSpPr/>
            <p:nvPr/>
          </p:nvSpPr>
          <p:spPr>
            <a:xfrm>
              <a:off x="0" y="2506680"/>
              <a:ext cx="91436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6000" spc="299" strike="noStrike">
                  <a:solidFill>
                    <a:schemeClr val="accent1">
                      <a:lumMod val="75000"/>
                    </a:schemeClr>
                  </a:solidFill>
                  <a:latin typeface="微软雅黑"/>
                  <a:ea typeface="微软雅黑"/>
                </a:rPr>
                <a:t>济南的冬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4"/>
          <p:cNvSpPr/>
          <p:nvPr/>
        </p:nvSpPr>
        <p:spPr>
          <a:xfrm>
            <a:off x="0" y="551412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2802240" y="2765520"/>
            <a:ext cx="210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济南的冬天的总的特点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1747800" y="117144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读课文，概括大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2321640" y="201780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读课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6507360" y="276372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温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81120" y="2440080"/>
            <a:ext cx="3564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</a:pPr>
            <a:endParaRPr b="0" lang="en-US" sz="11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606320" y="3502080"/>
            <a:ext cx="6080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总的特点：温晴—无风声 、无重雾、 无毒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606320" y="4286160"/>
            <a:ext cx="632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文章描写了济南的山、水、城、雪等景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606320" y="4896000"/>
            <a:ext cx="6455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作者绘山景，描水色，寓情于景，既表现济南冬天之美，又寄寓对祖国山河真挚的爱。“济南真得算个宝地！”、“这一圈小山在冬天特别可爱”、“那些小山太秀气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3895560" y="4286160"/>
            <a:ext cx="993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</a:pPr>
            <a:endParaRPr b="0" lang="en-US" sz="11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382760" y="29750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756080" y="2543040"/>
            <a:ext cx="399600" cy="1676160"/>
          </a:xfrm>
          <a:prstGeom prst="leftBrace">
            <a:avLst>
              <a:gd name="adj1" fmla="val 26176"/>
              <a:gd name="adj2" fmla="val 50000"/>
            </a:avLst>
          </a:prstGeom>
          <a:noFill/>
          <a:ln cap="sq" w="508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840760" y="232740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阳光朗照下的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40760" y="304812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薄雪覆盖下的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670120" y="379404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城外的远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4456440" y="2614320"/>
            <a:ext cx="571320" cy="360"/>
          </a:xfrm>
          <a:prstGeom prst="line">
            <a:avLst/>
          </a:prstGeom>
          <a:ln cap="sq"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4510080" y="3406680"/>
            <a:ext cx="513000" cy="360"/>
          </a:xfrm>
          <a:prstGeom prst="line">
            <a:avLst/>
          </a:prstGeom>
          <a:ln cap="sq"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4510080" y="4055760"/>
            <a:ext cx="571320" cy="360"/>
          </a:xfrm>
          <a:prstGeom prst="line">
            <a:avLst/>
          </a:prstGeom>
          <a:ln cap="sq" w="381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436000" y="23274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可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5436000" y="31194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秀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436000" y="37670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淡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1215720" y="1127160"/>
            <a:ext cx="7498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文中选取了哪些具有代表性的景物来描写济南的冬天？你能讲出文中每幅画里的景物的突出特点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328040" y="5064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756080" y="4343400"/>
            <a:ext cx="342720" cy="1728360"/>
          </a:xfrm>
          <a:prstGeom prst="leftBrace">
            <a:avLst>
              <a:gd name="adj1" fmla="val 35694"/>
              <a:gd name="adj2" fmla="val 50000"/>
            </a:avLst>
          </a:prstGeom>
          <a:noFill/>
          <a:ln cap="sq" w="508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011040" y="429084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反在绿萍上冒着点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5698080" y="4775040"/>
            <a:ext cx="571680" cy="360"/>
          </a:xfrm>
          <a:prstGeom prst="line">
            <a:avLst/>
          </a:prstGeom>
          <a:ln cap="sq"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5698080" y="6072120"/>
            <a:ext cx="571680" cy="360"/>
          </a:xfrm>
          <a:prstGeom prst="line">
            <a:avLst/>
          </a:prstGeom>
          <a:ln cap="sq"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6458400" y="44146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137400" y="4938840"/>
            <a:ext cx="182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把终年贮蓄的绿色全拿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3052080" y="581040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整个的是块空灵的蓝水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6513120" y="51354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6513120" y="57834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822600" y="444600"/>
            <a:ext cx="1403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128520" y="876240"/>
            <a:ext cx="197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问题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5698080" y="5408280"/>
            <a:ext cx="571680" cy="360"/>
          </a:xfrm>
          <a:prstGeom prst="line">
            <a:avLst/>
          </a:prstGeom>
          <a:ln cap="sq"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03760" y="1498680"/>
            <a:ext cx="831024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85800" indent="-68580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个老城有山有水，全在天底下晒着阳光，暖和安适地睡着，只等春风来把它们唤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88320" y="2743200"/>
            <a:ext cx="7825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运用一连串相关的拟人手法，将老城人格化，使之带有生命的感觉与意味，生动地表现了济南“暖和安适”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表达了作者的喜爱与赞美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2720" y="896760"/>
            <a:ext cx="14306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03760" y="1036800"/>
            <a:ext cx="197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品味语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"/>
          <p:cNvSpPr/>
          <p:nvPr/>
        </p:nvSpPr>
        <p:spPr>
          <a:xfrm>
            <a:off x="605880" y="11714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情景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3956400" y="1920960"/>
            <a:ext cx="264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同学们，济南的冬天到底是什么样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3" descr=""/>
          <p:cNvPicPr/>
          <p:nvPr/>
        </p:nvPicPr>
        <p:blipFill>
          <a:blip r:embed="rId1"/>
          <a:stretch/>
        </p:blipFill>
        <p:spPr>
          <a:xfrm>
            <a:off x="1324800" y="2777760"/>
            <a:ext cx="6481440" cy="381888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3082680" y="2010240"/>
            <a:ext cx="264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是从哪几个方面来写济南的冬天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605880" y="11714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1606320" y="3527280"/>
            <a:ext cx="452160" cy="17348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济南的冬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2165760" y="3197160"/>
            <a:ext cx="268560" cy="2393640"/>
          </a:xfrm>
          <a:prstGeom prst="leftBrace">
            <a:avLst>
              <a:gd name="adj1" fmla="val 48561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349760" y="3152880"/>
            <a:ext cx="298440" cy="2244240"/>
          </a:xfrm>
          <a:prstGeom prst="rightBrace">
            <a:avLst>
              <a:gd name="adj1" fmla="val 41599"/>
              <a:gd name="adj2" fmla="val 48685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7806960" y="3348000"/>
            <a:ext cx="447480" cy="17092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冬天的济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4480" y="1962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5" name="矩形 10"/>
          <p:cNvSpPr/>
          <p:nvPr/>
        </p:nvSpPr>
        <p:spPr>
          <a:xfrm>
            <a:off x="2340720" y="3603600"/>
            <a:ext cx="51580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阳光下的小山：温晴——拟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山： 小雪后的小山：秀气——比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城外远山：淡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1"/>
          <p:cNvSpPr/>
          <p:nvPr/>
        </p:nvSpPr>
        <p:spPr>
          <a:xfrm>
            <a:off x="3595680" y="2967120"/>
            <a:ext cx="322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总特点：温晴（宝地）——对比（突出特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2817360" y="5300640"/>
            <a:ext cx="789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水： 温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605880" y="11714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4274280" y="1773360"/>
            <a:ext cx="205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说到北方的冬天，会想到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706680" y="2905560"/>
            <a:ext cx="4003920" cy="333648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54" name="图片 4" descr=""/>
          <p:cNvPicPr/>
          <p:nvPr/>
        </p:nvPicPr>
        <p:blipFill>
          <a:blip r:embed="rId2"/>
          <a:stretch/>
        </p:blipFill>
        <p:spPr>
          <a:xfrm>
            <a:off x="4804200" y="2979000"/>
            <a:ext cx="3880080" cy="323316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605880" y="11714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4274280" y="1773360"/>
            <a:ext cx="205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说到北方的冬天，会想到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1"/>
          <a:stretch/>
        </p:blipFill>
        <p:spPr>
          <a:xfrm>
            <a:off x="758520" y="3061080"/>
            <a:ext cx="3853800" cy="321156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58" name="图片 6" descr=""/>
          <p:cNvPicPr/>
          <p:nvPr/>
        </p:nvPicPr>
        <p:blipFill>
          <a:blip r:embed="rId2"/>
          <a:stretch/>
        </p:blipFill>
        <p:spPr>
          <a:xfrm>
            <a:off x="4781160" y="3090240"/>
            <a:ext cx="3680640" cy="30672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605880" y="11714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3161160" y="1781280"/>
            <a:ext cx="187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今天我们要学习的是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6165720" y="1762200"/>
            <a:ext cx="39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济南的冬天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4" descr=""/>
          <p:cNvPicPr/>
          <p:nvPr/>
        </p:nvPicPr>
        <p:blipFill>
          <a:blip r:embed="rId1"/>
          <a:stretch/>
        </p:blipFill>
        <p:spPr>
          <a:xfrm>
            <a:off x="2381760" y="2414520"/>
            <a:ext cx="4254480" cy="425448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685800" y="2651040"/>
            <a:ext cx="78073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读准字音，读通课文。把易读错的字音和难写的生字记在预习本上，并想办法记住它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了解文章大意，想想济南的冬天的特点是什么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搜集有关老舍的资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605880" y="11714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预习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2349000" y="1413000"/>
            <a:ext cx="161640" cy="1079280"/>
          </a:xfrm>
          <a:prstGeom prst="leftBrace">
            <a:avLst>
              <a:gd name="adj1" fmla="val 4164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349000" y="3500280"/>
            <a:ext cx="161640" cy="2736360"/>
          </a:xfrm>
          <a:prstGeom prst="leftBrace">
            <a:avLst>
              <a:gd name="adj1" fmla="val 10557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5320800" y="1268280"/>
            <a:ext cx="161640" cy="3671640"/>
          </a:xfrm>
          <a:prstGeom prst="leftBrace">
            <a:avLst>
              <a:gd name="adj1" fmla="val 14164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5604840" y="1125360"/>
            <a:ext cx="87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和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u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2728440" y="3181320"/>
            <a:ext cx="95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着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2695320" y="3989520"/>
            <a:ext cx="1123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着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同“招数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2669760" y="5095800"/>
            <a:ext cx="83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135720" y="1038240"/>
            <a:ext cx="164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音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782360" y="1700280"/>
            <a:ext cx="568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4725720" y="2928960"/>
            <a:ext cx="595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1782360" y="4127400"/>
            <a:ext cx="48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2565720" y="1130400"/>
            <a:ext cx="226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才济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 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2587320" y="2308320"/>
            <a:ext cx="188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济贫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2587320" y="5970600"/>
            <a:ext cx="21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着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u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5482800" y="2184480"/>
            <a:ext cx="21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和稀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u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5480280" y="3112920"/>
            <a:ext cx="145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和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5480280" y="3943440"/>
            <a:ext cx="204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应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482800" y="4727520"/>
            <a:ext cx="2752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和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ú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打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00400" y="2806560"/>
            <a:ext cx="80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温和，合乎人心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183840" y="1312920"/>
            <a:ext cx="80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很晴朗，晴朗无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70040" y="2092320"/>
            <a:ext cx="80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很明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854080" y="3521160"/>
            <a:ext cx="80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存放，储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168280" y="5021280"/>
            <a:ext cx="6070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灵活而不可捉摸，文中指清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377880" y="5878440"/>
            <a:ext cx="80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中国画中纯用水墨的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00120" y="13082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响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491480" y="20988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响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418040" y="2806560"/>
            <a:ext cx="183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慈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418040" y="3521160"/>
            <a:ext cx="151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贮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1418040" y="5021280"/>
            <a:ext cx="128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空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560240" y="58784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水墨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1418040" y="4307040"/>
            <a:ext cx="1939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秀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2854080" y="4307040"/>
            <a:ext cx="80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美丽而柔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1232280" y="639720"/>
            <a:ext cx="24843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61920" y="942840"/>
            <a:ext cx="364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掌握以下字词的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1512000" y="2657520"/>
            <a:ext cx="6457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小组学习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号同学当小组长负责组织轮读课文，互相倾听，汇集预习中读音、生字词问题，并互助解决，解决不了的由组长负责记录在预习本中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605880" y="11714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组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4042080" y="2166840"/>
            <a:ext cx="4952160" cy="4470840"/>
          </a:xfrm>
          <a:prstGeom prst="rect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222080" y="2760840"/>
            <a:ext cx="4631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字舍予，满族正红旗人，本名舒庆春，生于北京，中国现代小说家、著名作家，杰出的语言大师、人民艺术家，新中国第一位获得“人民艺术家”称号的作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211280" y="4402440"/>
            <a:ext cx="4642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著有长篇小说《小坡的生日》、《猫城记》、《牛天赐传》、《骆驼祥子》等，短篇小说《赶集》等。老舍的文学语言通俗简易，朴实无华，幽默诙谐，具有较强的北京韵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4599360" y="21668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517320" y="2347560"/>
            <a:ext cx="2740320" cy="3533760"/>
          </a:xfrm>
          <a:prstGeom prst="rect">
            <a:avLst/>
          </a:prstGeom>
          <a:ln w="0">
            <a:noFill/>
          </a:ln>
          <a:effectLst>
            <a:outerShdw algn="ctr" dir="2700000" dist="35638" rotWithShape="0">
              <a:schemeClr val="bg2"/>
            </a:outerShdw>
            <a:softEdge rad="127080"/>
          </a:effectLst>
        </p:spPr>
      </p:pic>
      <p:sp>
        <p:nvSpPr>
          <p:cNvPr id="106" name="矩形 7"/>
          <p:cNvSpPr/>
          <p:nvPr/>
        </p:nvSpPr>
        <p:spPr>
          <a:xfrm>
            <a:off x="605880" y="11714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者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Default Design 1">
      <a:dk1>
        <a:srgbClr val="000000"/>
      </a:dk1>
      <a:lt1>
        <a:srgbClr val="ffffff"/>
      </a:lt1>
      <a:dk2>
        <a:srgbClr val="cc3300"/>
      </a:dk2>
      <a:lt2>
        <a:srgbClr val="808080"/>
      </a:lt2>
      <a:accent1>
        <a:srgbClr val="ff6161"/>
      </a:accent1>
      <a:accent2>
        <a:srgbClr val="ffc319"/>
      </a:accent2>
      <a:accent3>
        <a:srgbClr val="ffffff"/>
      </a:accent3>
      <a:accent4>
        <a:srgbClr val="000000"/>
      </a:accent4>
      <a:accent5>
        <a:srgbClr val="ffb7b7"/>
      </a:accent5>
      <a:accent6>
        <a:srgbClr val="e7b016"/>
      </a:accent6>
      <a:hlink>
        <a:srgbClr val="a8d02a"/>
      </a:hlink>
      <a:folHlink>
        <a:srgbClr val="5cb1f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c3300"/>
      </a:dk2>
      <a:lt2>
        <a:srgbClr val="808080"/>
      </a:lt2>
      <a:accent1>
        <a:srgbClr val="ff6161"/>
      </a:accent1>
      <a:accent2>
        <a:srgbClr val="ffc319"/>
      </a:accent2>
      <a:accent3>
        <a:srgbClr val="ffffff"/>
      </a:accent3>
      <a:accent4>
        <a:srgbClr val="000000"/>
      </a:accent4>
      <a:accent5>
        <a:srgbClr val="ffb7b7"/>
      </a:accent5>
      <a:accent6>
        <a:srgbClr val="e7b016"/>
      </a:accent6>
      <a:hlink>
        <a:srgbClr val="a8d02a"/>
      </a:hlink>
      <a:folHlink>
        <a:srgbClr val="5cb1f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0</Pages>
  <Words>1224</Words>
  <Characters>0</Characters>
  <CharactersWithSpaces>0</CharactersWithSpace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7-12T07:17:39Z</dcterms:modified>
  <cp:revision>2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15</vt:r8>
  </property>
</Properties>
</file>