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8F2-6A6B-48B2-8263-DA3F8045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6CD-54E0-41E2-B60F-D9B7AB38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6D19-4F83-4B51-AE23-6652CDF9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F0C8-7E3E-4B88-A70A-804845DD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6E1F-CB7B-4F2D-AE9D-24AE350F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EC1-A610-46F7-AD76-17D8961D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521-5333-4ADA-B609-7A48D41A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2222-938B-40A3-9961-D5006ED5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F30B-AD2B-4C32-A2EC-1EB430A5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4DB-7785-4DA6-B5C3-DE2B9589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F24-1936-4356-9F80-6890D974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2AD-CC38-47CD-92D1-4653D4E8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81F2-8167-4266-B127-FC2E5C323B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BD%CC&#678;%BD&#1717;%C4&#892;&#428;&amp;in=19258&amp;cl=2&amp;lm=-1&amp;pn=12&amp;rn=1&amp;di=23740110090&amp;ln=2000&amp;fr=ala0&amp;fmq=&amp;ic=&amp;s=&amp;se=&amp;sme=0&amp;tab=&amp;width=&amp;height=&amp;face=&amp;is=&amp;istype=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19920"/>
            <a:ext cx="2530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0199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43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制作人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全体同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0592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09680" y="28954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.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个特殊的日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350532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让我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0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送上这个最温馨的祝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411480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看！世界各地的人都说着同一句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checke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343400" cy="586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00600" y="1219320"/>
            <a:ext cx="3733920" cy="99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教师节快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(∩_∩)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哈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3808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非洲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03848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洲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24480" y="1447920"/>
            <a:ext cx="2819520" cy="914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教师节快乐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checke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6324480" cy="5791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29200" y="1752480"/>
            <a:ext cx="3657600" cy="12193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教师节快乐哦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checke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95480" y="198108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真心的祝愿每位老师快乐幸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26668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最后送上一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checker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09680" y="914400"/>
            <a:ext cx="54864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九月，献给老师 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九月，如期而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世界因此灿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们歌唱九月，因为这是您永恒的节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们牢记九月，因为这是我们真诚的表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九月，是只情满四溢的杯子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们用双手高高地举起 一片真诚的祝福声中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请您干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九月的乐章已经奏响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请接受我们九月的献礼吧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有拼搏在教育战线的老师们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52480" y="14479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希望老师们喜欢这份礼物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    w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checker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9-10T02:10:0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